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81B0-2FBE-4B15-B730-CBA927B7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360-3FF5-477A-B479-C407D019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A8F-C3F4-4B79-BF04-909716AC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184-3FCB-4B4D-B727-0048E7D0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CC64-5809-4A17-AF2B-1AECF3B5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7639-0642-4FC9-AB62-AF4F9934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54E5-56D0-4A41-9B83-A01E7BB1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3D22-0A6D-43E8-9E33-3A941DB4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A277-ADA0-4CBA-84C4-540A0CEB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9C8E-C96D-4626-BE6C-9E786B64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3D12-C0EE-4997-B713-936254D3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FCF-3798-425D-AE63-E48DECA0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1829-34A1-4E31-8652-7E847D2B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14FD-AF7B-4B23-9E08-BBE21B6E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2604-D0D6-4300-AB73-A85B6708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6103-3C38-431D-B7F8-0085BE17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7AF2-1DBC-47AB-9C13-A4DBFBDB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BD834-1E98-4E47-968A-535D1D2D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DBE6C-753B-4465-9633-B5A0D4E5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6A041-3CEC-4F2D-B532-87DDFE0A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E4BC-3798-4244-93C4-D981DD2B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87DA7-2811-4F38-9F27-E1E31383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186-7B80-49A1-B885-5B88D52C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30904-93AE-4B34-B0B7-46942F4F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0693A-4962-44D4-B9EF-BC6670D7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2F5AB-6335-49FC-9D55-9B5F8FF7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0B2DA-3290-45EF-BC63-DC6204B9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5DCB2-59F5-408F-BE60-332F34E6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98D60-3E10-49C7-9881-D1A04E09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992AA-D839-48C2-A00A-D3C09288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E69-DD81-47B8-8A92-449CE76E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8E06-99F3-4307-A4B8-0D866210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8B9-918F-45B5-BBBC-CE64B091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825-5D87-4617-8EBB-8FEAEB7F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F2C4-5A54-4AFC-BB57-03D3A507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AA36-5C39-4874-8BD3-6DF6B0E7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0460-FCF3-430C-8646-BA1E56E82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D206-C26F-43CB-8F4B-211139C79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C81C-9031-405C-9719-4A8428F44A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 SERVICE OF WORD AND TABLE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9144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523880"/>
            <a:ext cx="868680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3808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ad us not into tempt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deliver us from evi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ine is the kingd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the power, and the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forever.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32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IVING THE BREAD AND C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99072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WOR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TABLE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600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20968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137160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God of power and m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full of your glo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9480" y="2362320"/>
            <a:ext cx="853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137016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51055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Lord’s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99072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8600" y="6858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ING THE BREAD AND C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219320"/>
            <a:ext cx="868680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152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1276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God of power and might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aven and earth are Full of your glory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" y="212760"/>
            <a:ext cx="876312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And so, in remembrance of these your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30492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809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Lord’s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2286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676520"/>
            <a:ext cx="899172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Father, who art in heaven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hallowed be thy name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Thy kingdom come, thy will be d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on earth as it is in heav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Former Methodist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15000" y="838080"/>
            <a:ext cx="49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FROM THE RITUAL OF THE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FORMER METHODIST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67480" y="380880"/>
            <a:ext cx="13716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89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2872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ive us this da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ur daily brea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give us our trespass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s we forgive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who trespass against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7-10T14:11:38Z</dcterms:modified>
  <cp:revision>12</cp:revision>
  <dc:subject/>
  <dc:title>PowerPoint Presentation</dc:title>
</cp:coreProperties>
</file>