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606-20B3-4A80-99F4-40C307C1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CBE-5968-4876-A323-944A8FF3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F57-EDFA-4F21-BEC7-4825B26B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609-5B68-4CCB-B6E5-3375F32E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CA17-62FD-416C-AA7E-9F396613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8B40-EC60-41A2-9D73-A32DC9A2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E0CC-07EC-4038-BFE6-96E0AE41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06C7-42A8-433E-89E0-2AEA2C9D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5446-2FBB-49A3-955A-EE5674F8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FA51-7DA8-4400-876B-0CB5F045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9A87-F540-4DD2-BBAE-FAFA275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80E-E987-48B7-8675-F5AF9E08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B7F-24D0-43B6-BB18-954CE47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2180-7864-4068-9794-ECB64DA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789C-D960-4C1A-92DE-09CCFE58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4985-4E11-4951-856B-0F765ADF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34D8-35B3-46F0-BFA5-9226BF56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59A5-7264-41E1-B0F9-CAC73F25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3DB8-4270-4E00-AB14-684D9A51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03193-95B5-4C59-BDD8-C738FA5B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F470-D6BC-4020-B386-DD6D3BAF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D4F0-4F8C-40D1-BF28-963724A3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2E3-AB62-4757-BAC4-F2610FDA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D2BE-C5F5-42B2-B135-21E385BB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B061-0DE9-4D0B-AA5A-B8C724D3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5106-9406-4AC8-BE93-62F51C4B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1487-9361-4FE6-86D9-82937DA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AC51-0CFD-40F8-A485-B32B7C90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E820-8C65-43CE-8DDD-BECE7963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F099-30E2-4EAE-8AF4-6D46E225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6F99-1F39-4BA8-ACCB-50D7E0B0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2D0C-2E0F-4750-A51E-811CF81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90561-6E35-4324-901F-C0A13D44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F7D-54F6-479C-BD52-7C1F13E7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5C48-F4C1-44F4-8B6E-1C72F345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4E4D-639C-4B2F-BA7F-B685EA59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027A-896C-4FFF-B4A8-3EE44AC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AFFCA-EB13-4D23-B4CB-7C91940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2260-45DB-4708-9D69-B5332C31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80E8A-22B7-400B-AE37-3B0BBEE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C0F5-BF4C-4239-8A47-E29F66C1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67F2-9B2D-4DD8-BC80-39C4D88B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2C3E-3BB7-43E3-8333-C634F96C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1A7-9932-4354-909E-1E2D76BB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2B6-0304-43B2-AE7F-C8143A2B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9FF-232B-4152-B916-38A44D76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4D2-B29C-453C-ADE4-BF495734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C0B-853F-4DE4-910B-14F9B62E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168E-B2E5-4956-A429-47D37660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879-C48C-45A8-B642-20FED6D2D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FA0F-BF5C-44D0-8DB3-6505F436E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C33C-00F6-415C-871F-1D27A3853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76520"/>
            <a:ext cx="86868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hrist the Lord invites to his table all who love him, who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earnestly repent of their sin and seek to live in peace with one anothe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&amp;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447920"/>
            <a:ext cx="91440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8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990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990720"/>
            <a:ext cx="86868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57200"/>
            <a:ext cx="8991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et us give thanks to the Lord our Go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8088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right, and a good and joyful thing, always and everywhere to give thanks to you, Father Almighty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reator of heaven and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3808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all the company of heaven we praise your name and join their unending hym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8088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God of power and might, heaven and earth are full of your glor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04920"/>
            <a:ext cx="914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lessed is he who comes 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ame of the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ly are you, and blessed is your Son Jesus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320" y="76320"/>
            <a:ext cx="8991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death, and resurrection you gave birth to your church, delivered us from slavery to sin and death, and made with us a new covenant by water and the Spirit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438120"/>
            <a:ext cx="899172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n the night in which he gave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himself up for us, he took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bread gave thanks to you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broke the bread, gave it to his disciples and said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3808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942840"/>
            <a:ext cx="8991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he took the cup, gave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anks to you, gave it to his disciples, and said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320" y="152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611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175280"/>
            <a:ext cx="839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rciful God, we conf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5158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is is my blood of the new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covenant, poured out for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you and for man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10666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76320"/>
            <a:ext cx="87631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so, in remembrance of these your mighty acts in Jesus Christ, we offer ourselves in praise and thanksgiving as a holy and living sacrifice, in union with Christ’s offering for u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304920"/>
            <a:ext cx="876312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83808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6094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ake them be for us the body and blood of Christ, 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at we may be for the world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e body of Christ, 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redeemed by his blo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53352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83808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280" y="152280"/>
            <a:ext cx="876312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rough your Son Jesus Christ, with the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in your holy church, all honor and glory is yours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lmighty Father, now and forever.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04920"/>
            <a:ext cx="8686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d  now, with the confidence of children of God, let us pray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2286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we have not loved you with our whole heart. We have failed to be an obedient church. We have not done your will, we have broken your law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676520"/>
            <a:ext cx="89917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Father, who art in heaven, hallowed be thy name. Thy kingdom come, thy will be done on earth as it is in heav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517680"/>
            <a:ext cx="853416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ive us this day our daily bread.  And forgive us our trespasses, as we forgive those who trespass against u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lead us not into temptation, but deliver us from evil.  For thine is the kingdom, and the power, and the glory, forever.  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90720"/>
            <a:ext cx="91440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90560"/>
            <a:ext cx="89154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Go forth in peace. The grace of the Lord Jesus Christ, and the love of God, and the communion of the Holy Spirit be with you all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1249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9033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 his t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who love him, wh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arnestly repent of their sin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&amp;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2280" y="3808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k to live in peace with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1430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 we confess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 We have failed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 against your love, we have not loved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ighbors, and we have not heard the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15228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rebelled against your love, we have not loved our neighbors, and we have not heard the cry of the need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53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15228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228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6765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533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2952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676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48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04920" y="457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 and joyfu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ng,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5335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ee us for joyful obedience, through Jesus Christ our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75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 you g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irth to your church, deli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s from slavery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 new covenant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 g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280" y="3808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2280" y="45720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28600" y="10666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 in remembrance of these your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ourselves in prais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giving as a holy and living sacrifice,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30492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6858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8380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2280" y="609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600" y="5335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28600" y="8380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 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990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n earth as it is in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trespass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orever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52480"/>
            <a:ext cx="914400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272880"/>
            <a:ext cx="8686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the name of Jesus Christ, you are forgive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21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 The grace of the Lord Jesus Christ, and the love of God, 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 be with you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600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1337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table all who lov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earnestl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ir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ek to live in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ailed to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62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neighbo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not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118584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10666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2860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76520"/>
            <a:ext cx="8686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21337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480" y="1371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16765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22096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260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11872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533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295280"/>
            <a:ext cx="86868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people, let us offer ourselves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2:09:10Z</dcterms:modified>
  <cp:revision>13</cp:revision>
  <dc:subject/>
  <dc:title>PowerPoint Presentation</dc:title>
</cp:coreProperties>
</file>