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187-DD80-4D26-81FF-06E6E940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E4E-DE37-4832-9109-08D19C07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7A2-42C2-4F0D-B2E0-CF3665DC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9C6-EB61-4482-B00C-E5647651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E5E-0F8F-447D-BA14-17A301DB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5D6-E1DB-402A-98A0-4FD7EAA1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2B6-3F17-44B3-8F71-CCE0CCD2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E12-9C26-49C7-9F4C-4354AAE5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B67-C545-4A0E-9098-A4512078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63F-A565-4C09-8FF6-9A335D60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6B5-EEA3-4F7D-A485-8AF07CF7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09F-CA0E-4E2F-83D2-5E3582E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B9E-20CA-4F1E-81A2-78FD6F6D2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Setting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68360"/>
            <a:ext cx="8686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ift them up to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ICAL SETTING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3520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give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Lord our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s right to give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and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r people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praise your nam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oin their unending hym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, holy, holy Lor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power and might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en and earth are fu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ull of your glo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is he who com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name of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sanna in the high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576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membrance of these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ighty acts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offer ourselves in pra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anksgiving as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y and living sacrif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union with Christ’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fering for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43000"/>
            <a:ext cx="8763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proclaim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stery of fai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has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 will come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735200"/>
            <a:ext cx="8763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onor and glory is you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Fathe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(God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, amen, amen,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18T14:45:28Z</dcterms:modified>
  <cp:revision>13</cp:revision>
  <dc:subject/>
  <dc:title>PowerPoint Presentation</dc:title>
</cp:coreProperties>
</file>