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91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3C22-AE2A-4401-B5C5-2C3BF5348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D559-8E08-4890-8A06-E127CE96A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D9C3-C803-4B34-A286-1150A0664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2377-EBFC-4DE7-8B98-A00DEA0D3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91904-24C0-465A-B940-A61255304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D2492-91F0-4D91-AB32-61AA375D3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E9471-8951-48F8-AFAE-CC2370F41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B0B4F-C045-4DEB-8B87-96143594A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6EB3D-50EC-497B-A934-F5BFE8970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D8186-6C52-4E1B-9559-50674CE94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B9DF7-6487-4225-9159-4802B38DC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4C7A-15FB-4E71-BC16-1EDD5A9B1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F6FAC-89F2-4418-B9DD-01BF89C8D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34191-6FE6-4F21-A8CB-96DF92E2C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B4293-D404-4D51-ADE3-B0676F3B0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50B29-18CC-4405-9897-4F75C7FFF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D6699-F300-41FC-AA1B-6E928E39B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591B-6C33-4052-B69A-051D1666A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A9BE-9D4B-4C24-A0E9-E22A481FF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B605-03C5-4D22-BCFF-08A368A45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1035-C5AB-4615-B3D6-8412F54E8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C854-F041-469E-AE74-88240616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069A-B1A0-428B-B25E-CDB23820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ED2E-B6F1-4119-9D83-5D601DFA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AA082-9ED9-4690-858B-14131950EB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174BD-253D-4282-B2AC-E18246EA52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14480" y="152280"/>
            <a:ext cx="8915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THANKSGIVING AND COMMUN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Great Thanksgiv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1386000"/>
            <a:ext cx="8686800" cy="35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be with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also with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ift up your heart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lift them up to the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4480" y="76212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E GREAT THANKSGI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52280" y="152280"/>
            <a:ext cx="876312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set at liberty those who ar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ppressed, and to announc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at the time had come whe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you would save your peopl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 healed the sick, fed the hungr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ate with sinner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6320" y="76320"/>
            <a:ext cx="90676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y the baptism of his suffering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death, and resurrecti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you gave birth to your churc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delivered us from slaver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to sin and deat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made with us a new covenan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by water and the Spiri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28600" y="762120"/>
            <a:ext cx="8763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n the Lord Jesus ascende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e promised to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be with us alway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the power of your Wo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Holy Spiri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52280" y="393840"/>
            <a:ext cx="8763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n the night in which 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gave himself up for u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e took brea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gave thanks to you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broke the brea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gave it to his disciples, and said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52280" y="762120"/>
            <a:ext cx="8763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ake, eat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is is my body which i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given for you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Do thi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remembrance of me.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2280" y="609480"/>
            <a:ext cx="8763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n the supper was ov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e took the cup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gave thanks to you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gave it to his disciple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said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52280" y="380880"/>
            <a:ext cx="8763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rink from this, all of you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is is my bloo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 the new covenan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poured out for you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for man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for the forgiveness of sin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52280" y="1065240"/>
            <a:ext cx="8763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o this as ofte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s you drink i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remembrance of me.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52280" y="76320"/>
            <a:ext cx="87631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so, in remembrance of thes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your mighty acts in Jesus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e offer ourselves in prais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thanksgiving as 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oly and living sacrific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union with Christ’s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fering for u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52280" y="380880"/>
            <a:ext cx="8610840" cy="46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we proclaim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mystery of fai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Christ has died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Christ is risen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Christ will come again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914400"/>
            <a:ext cx="8686800" cy="36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us give thank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the Lord our Go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t is right to give our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hanks and prais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914400"/>
            <a:ext cx="8763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our out your Holy Spiri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n us gathered her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on these gifts o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bread and win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28600" y="744480"/>
            <a:ext cx="8763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ke them be for us the bod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blood of Christ,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at we may be for the worl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e body of Christ,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redeemed by his bloo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52280" y="668160"/>
            <a:ext cx="8991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y your Spirit make u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ne with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ne with each oth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one in ministr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 all the worl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52280" y="942840"/>
            <a:ext cx="8763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until Christ comes i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final victor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we feast at hi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eavenly banque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52280" y="393840"/>
            <a:ext cx="8763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rough your Son Jesus Christ,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the Holy Spiri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your holy churc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l honor and glory is your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mighty Father, now and forever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52280" y="15228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E LORD’S PR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he Lord’s Praye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2280" y="609480"/>
            <a:ext cx="8991720" cy="46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now, with the confidenc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children of God, let us pray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ur Father in heaven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   hallowed be your name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   your kingdom come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76320" y="101520"/>
            <a:ext cx="90676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your will be done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on earth as in heave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Give us today our daily bread.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Forgive us our sins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as we forgive those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who sin against u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53352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ave us from the time of trial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and deliver us from evil.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For the kingdom, the power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and the glory are yours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now and forever. Ame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76320" y="10620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BREAKING THE BR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Breaking the Brea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2280" y="6094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cause there is one loaf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, who are many, are one bod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we all partake of the one loaf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bread which we break is 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haring in the body of Chri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28600" y="1143000"/>
            <a:ext cx="8686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cup over which w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ive thanks is a sharing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blood of Chri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28600" y="304920"/>
            <a:ext cx="86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t is right, and a goo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joyful thing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lways and everywher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 give thanks to you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Father Almight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creator of heaven and ear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52280" y="10620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GIVING THE BREAD AND C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Giving the Brea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320" y="533520"/>
            <a:ext cx="8839080" cy="46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body of Christ, given for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blood of Christ, given for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52280" y="304920"/>
            <a:ext cx="8763120" cy="45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Eternal God, we give you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   thanks for thi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   holy mystery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   in which you have given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   yourself to us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76320" y="152280"/>
            <a:ext cx="9067680" cy="45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Grant that we may go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   into the world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   in the strength of your Spirit, to give ourselves for others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52280" y="1143000"/>
            <a:ext cx="876312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n the name of Jesus Christ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   our Lord.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76320" y="120600"/>
            <a:ext cx="8915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DISMISSAL WITH BLESS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Dismissal with Bless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52280" y="609480"/>
            <a:ext cx="8991720" cy="39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o forth in peace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grace of the Lord Jesus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e love of God, and the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mmunion of the Holy Spiri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 with you all.             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 SERVICE OF WORD AND TABLE 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190512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GR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Greet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" y="2895480"/>
            <a:ext cx="868680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grace of the Lo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Jesus Christ be with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also with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60880" y="1241280"/>
            <a:ext cx="261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ENTR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495360" y="2467080"/>
            <a:ext cx="8153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risen Christ is with u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raise the Lor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38088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OPENING PR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Opening Praye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15526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mighty Go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you all hearts are ope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l desires know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from you no secret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re hidd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57200" y="1187280"/>
            <a:ext cx="86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leanse the thoughts of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ur heart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y the inspiration of you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ly Spiri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t we may perfectl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ove you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457200" y="191916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worthily magnify you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ly nam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rough Christ our Lord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52280" y="393840"/>
            <a:ext cx="86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formed us in your imag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breathed into u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e breath of life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n we turned awa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our love faile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your love remained steadfa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380880"/>
            <a:ext cx="8915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PROCLAMATION AND RESPON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Prayer for Illuminat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236232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ord, open our heart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mind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y the power of you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ly Spirit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4480" y="129528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PRAYER FOR ILLUM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57200" y="15526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t, as the Scriptures are rea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your Word proclaime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may hear with jo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you say to us today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38088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RESPONSE TO THE W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to the Wor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" y="1919160"/>
            <a:ext cx="8686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believe in God,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Father Almighty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creator of heaven and ear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57200" y="15526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believe in Jesus Chris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his only Son, our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who was conceived b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Holy Spiri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born of the Virgin Mary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457200" y="820800"/>
            <a:ext cx="86868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uffered unde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Pontius Pilat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was crucified, die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was buried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he descended to the dead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On the third da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he rose again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457200" y="15526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 ascended into heave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s seated at the right han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of the Father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will come again to judg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living and the dea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457200" y="820800"/>
            <a:ext cx="86868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believe in the Holy Spiri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holy catholic church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communion of saint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forgiveness of sin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resurrection of the body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the life everlasting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38088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INVI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Invitat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" y="1187280"/>
            <a:ext cx="86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hrist the Lord invites to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is table all who love him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ho earnestly repen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 their si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seek to live in peac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ith one anoth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457200" y="2284560"/>
            <a:ext cx="8686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refore, let us confes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ur sin before Go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one anoth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457200" y="1600200"/>
            <a:ext cx="86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erciful Go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confess that we have no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oved you with ou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le heart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have failed to b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 obedient chur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76212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ONFESSION AND PARD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8600" y="6094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delivered us from captivit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made covenant to be ou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sovereign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spoke to us throug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your prophet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457200" y="455760"/>
            <a:ext cx="8686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have not done your will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have broken your law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have rebell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gainst your lov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have not lov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our neighbor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we have not heard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cry of the need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57200" y="191916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give us, we pray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ree us for joyful obedienc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rough Jesus Christ our Lord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57200" y="15526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ar the good news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Christ died for us whil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e were yet sinners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at proves God’s lov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ward u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57200" y="1185840"/>
            <a:ext cx="8686800" cy="45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name of Jesus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are forgiven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the name of Jesus Chris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are forgiven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lory to God. 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114300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E PE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Peac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2284560"/>
            <a:ext cx="8686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us offer one anoth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igns of reconciliati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lov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91440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OFF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Offer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191916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forgiven and reconcil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eopl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us offer ourselv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our gifts to Go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4480" y="380880"/>
            <a:ext cx="8915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THANKSGIVING AND COMMUN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Great Thanksgiv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" y="2133720"/>
            <a:ext cx="868680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be with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also with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ift up your heart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lift them up to the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4480" y="137160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E GREAT THANKSGI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457200" y="1735200"/>
            <a:ext cx="868680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us give thank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the Lord our Go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t is right to give ou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nks and prais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457200" y="1187280"/>
            <a:ext cx="86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t is right, and a goo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joyful thing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lways and everywher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 give thanks to you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Father Almight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creator of heaven and ear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457200" y="820800"/>
            <a:ext cx="86868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formed us in your imag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breathed into u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e breath of life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n we turned awa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our love faile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your love remained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steadfa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04920" y="59220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so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ith your people on ear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all the company of heave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e praise your name 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join their unending hymn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57200" y="15526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delivered us from captivit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made covenant to be ou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sovereign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spoke to us throug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your prophet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457200" y="15526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so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ith your people on ear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all the company of heave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e praise your name 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join their unending hymn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457200" y="1219320"/>
            <a:ext cx="84582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ly, holy, holy Lord,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God of power and migh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aven and earth ar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full of your glory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Hosanna in the highe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09480" y="2286000"/>
            <a:ext cx="8534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lessed is he who com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in the name of the Lord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Hosanna in the highe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57200" y="265104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ly are you, and bless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s your Son Jesus Chri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80880" y="820800"/>
            <a:ext cx="87631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r Spirit anointed hi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 preach good news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 the poo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 proclaim releas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 the captive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recovery of sight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 the blin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80880" y="1187280"/>
            <a:ext cx="8763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set at liberty thos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ho are oppresse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to announce that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ime had com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hen you would sav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your peopl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80880" y="2284560"/>
            <a:ext cx="8763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 healed the sick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fed the hungr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ate with sinner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80880" y="455760"/>
            <a:ext cx="87631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y the baptism of his suffering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death, and resurrecti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you gave birth to your churc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delivered us from slaver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to sin and deat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made with us 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new covenan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by water and the Spiri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1552680"/>
            <a:ext cx="8763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n the Lord Jesus ascende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e promised to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be with us alway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the power of your Wo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Holy Spiri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04920" y="533520"/>
            <a:ext cx="8458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Holy, holy, holy Lord,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God of power and might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heaven and earth are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full of your glory.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Hosanna in the highes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80880" y="820800"/>
            <a:ext cx="87631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n the night in which 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gave himself up for u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e took brea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gave thanks to you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broke the brea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gave it to his disciple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said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80880" y="1187280"/>
            <a:ext cx="8763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ake, eat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is is my body which i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given for you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Do thi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remembrance of me.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80880" y="1552680"/>
            <a:ext cx="8763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n the supper was ov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e took the cup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gave thanks to you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gave it to his disciple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said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80880" y="1187280"/>
            <a:ext cx="8763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rink from this, all of you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is is my bloo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 the new covenan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poured out for you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for man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for the forgiveness of sin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380880" y="2284560"/>
            <a:ext cx="8763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o this as ofte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s you drink i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remembrance of me.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80880" y="455760"/>
            <a:ext cx="87631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so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remembrance of these your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mighty acts in Jesus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e offer ourselves in prais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thanksgiving as 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oly and living sacrific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union with Christ’s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fering for u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533520" y="1370160"/>
            <a:ext cx="86104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we proclaim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mystery of fai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rist has died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rist is risen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rist will come agai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380880" y="1919160"/>
            <a:ext cx="8763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our out your Holy Spiri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n us gathered her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on these gifts o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bread and win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80880" y="1552680"/>
            <a:ext cx="8763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ke them be for us the bod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blood of Christ,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at we may be for the worl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e body of Christ,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redeemed by his bloo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80880" y="1552680"/>
            <a:ext cx="8763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y your Spirit make u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ne with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ne with each oth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one in ministr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 all the worl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04920" y="1295280"/>
            <a:ext cx="8534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Blessed is he who comes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in the name of the Lord.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Hosanna in the highes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380880" y="1919160"/>
            <a:ext cx="8763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until Christ comes i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final victor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we feast at hi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eavenly banque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80880" y="455760"/>
            <a:ext cx="87631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rough your Son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Jesus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the Holy Spiri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your holy churc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l honor and glory is your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mighty Fath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w and forever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0" y="38088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E LORD’S PR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he Lord’s Praye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990720"/>
            <a:ext cx="868680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now, with the confidenc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children of God, let us pray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ur Father in heave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hallowed be your nam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your kingdom com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your will be don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on earth as in heav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80880" y="1552680"/>
            <a:ext cx="8763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ive us toda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our daily bread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give us our sin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s we forgive thos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who sin against u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380880" y="1187280"/>
            <a:ext cx="8763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ave us from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ime of trial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deliver us from evil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the kingdom, the power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the glory are your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now and forever. 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38088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BREAKING THE BR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Breaking the Brea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" y="990720"/>
            <a:ext cx="86868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cause there is one loaf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, who are man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re one bod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we all partake of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ne loaf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bread which we break is 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haring in the body of Chri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457200" y="2284560"/>
            <a:ext cx="8686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cup over which w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ive thanks is a sharing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blood of Chri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38088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GIVING THE BREAD AND C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Giving the Brea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57200" y="990720"/>
            <a:ext cx="8686800" cy="56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body of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iven for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blood of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iven for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80880" y="1552680"/>
            <a:ext cx="8763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ternal God, we give you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anks for thi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holy myster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n which you have give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yourself to u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80880" y="1919160"/>
            <a:ext cx="8763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rant that we may g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nto the worl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n the strength of your Spiri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o give ourselves for other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6320" y="76320"/>
            <a:ext cx="86868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ly are you, and bless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s your Son Jesus Chri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r Spirit anointed hi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 preach good news to the poo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 proclaim release to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captives, and recovery of sight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 the blin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380880" y="2284560"/>
            <a:ext cx="8763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the name of Jesus Chris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our Lord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380880"/>
            <a:ext cx="8915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DISMISSAL WITH BLESS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Dismissal with Bless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990720"/>
            <a:ext cx="86868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o forth in peace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grace of the Lo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Jesus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e love of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e communi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the Holy Spiri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 with you all.       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</cp:lastModifiedBy>
  <dcterms:modified xsi:type="dcterms:W3CDTF">2011-02-05T23:36:48Z</dcterms:modified>
  <cp:revision>12</cp:revision>
  <dc:subject/>
  <dc:title>PowerPoint Presentation</dc:title>
</cp:coreProperties>
</file>