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040-C5FB-444F-94E8-F28DCE81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477-8B40-46B8-B2DB-11A0191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F23-58CF-4EA5-8265-3649B831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1D7-0958-413E-AE67-5D82C2C0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D0B-9BEC-4898-9DD0-57554C1F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C08-7132-4C04-99A4-D452442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1A27-07F3-4A06-ACB3-F42CB5F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19E-3AA6-49E9-B7AD-91DEC40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08BA-E192-4FEB-A6B8-7EF7ED62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87DC-1432-4705-9692-E808420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9DF-622B-40F8-B4E8-C9C4BD8F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B7B-E878-4F33-8AEF-B39CD405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194-331A-4174-865B-D513703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7EA-0AE7-4217-9B27-FB5F244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980-BA92-448F-8164-F5205739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F5D-FEE5-4EE8-A3FF-885A315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85F-3A77-45A2-A2AC-9CBF7F03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DA38-9AF0-4DC2-8D8C-3C1EF268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B4A7-7341-4E4A-8D67-40D6B23B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8CF8-C586-4F4D-A38A-98556E1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621A-4A38-49A2-850A-429D4D0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DD2E-92A2-45C2-8C4F-D3881F88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D0C-6BA3-4EC9-A2CF-26CC762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3CF7-3A8A-4D70-A3C5-9A664F0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2E44-AE95-4110-93BA-2552848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DBE0-C0FC-43CE-A524-C0598DFC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BC1E-84A1-4F10-8C63-83FA7FD8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5453-88D8-4D55-8AD9-CE5B98D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332C-216D-41C6-96F8-DF140AB6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6D11-DB76-4186-BEF7-85985EC3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FB75-3EE4-4B2D-B32E-8488A144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1A23-1C92-4F61-8FE2-D9961DCB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B8C4-650C-40DE-B2F4-DF95843F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862-140A-4E30-9FF6-F92A70D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DCAB-64C4-4A12-A895-8967F65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CF4E-7854-482A-9FFD-3043706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E421-9443-4037-8CF1-BB751E9F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C719-F895-4A2D-8B97-E857F79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359B-8DDE-49F0-9A88-5C6409A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4478-9BD5-44D5-925E-502781A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11C8-4B9F-45B9-940E-BCDB65C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F927-BF6A-4E9A-98BD-AF74CE3B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03BB-0ED0-424D-A7EC-06821B0C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284-F49C-40A8-A400-3472AB6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5E2-A652-410D-B1B5-B1B41A0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C43-4A8E-4E5D-BBEB-B3B9F38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EA5-C014-4AB0-BEA2-DAB2603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D94-B21C-42BE-9CF6-20DC0EE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1F3E-1BD1-4740-B2BB-6CEF7786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FA3-9A27-4D85-88E7-A7B64FB91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1E9-476C-44C4-A1F9-3CA4FB925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6569-589A-497D-B7AB-316FDE852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hrist the Lord invites to his table all who love him, who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earnestly repent of their sin and seek to live in peace with one anothe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447920"/>
            <a:ext cx="9144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80" y="7621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990720"/>
            <a:ext cx="86868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99072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57200"/>
            <a:ext cx="8991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give thanks to the Lord our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80880"/>
            <a:ext cx="8915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t is right, and a good and joyful thing, always and everywhere to give thanks to you, Father Almighty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nd all the company of heaven we praise your name and join their unending hym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808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God of power and might, heaven and earth are full of your glor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4920"/>
            <a:ext cx="914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essed is he who comes 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ame of the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ly are you, and blessed is your Son Jesus Chri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320" y="76320"/>
            <a:ext cx="8991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   death, and resurrection you gave birth to your church, delivered us from slavery to sin and death, and made with us a new covenant by water and the Spirit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438120"/>
            <a:ext cx="899172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himself up for us, he took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ead gave thanks to you,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  broke the bread, gave it to his disciples and said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380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942840"/>
            <a:ext cx="8991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 took the cup, gav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nks to you, gave it to his disciples, and said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320" y="152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611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175280"/>
            <a:ext cx="839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rciful God, we conf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5158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is is my blood of the new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covenant, poured out for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you and for man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10666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76320"/>
            <a:ext cx="87631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 we offer ourselves in praise and thanksgiving as a holy and living sacrifice, in union with Christ’s offering for u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304920"/>
            <a:ext cx="876312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60948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ke them be for us the body and blood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at we may be for the worl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e body of Christ, 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redeemed by hi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533520"/>
            <a:ext cx="87631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83808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152280"/>
            <a:ext cx="876312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rough your Son Jesus Christ, with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in your holy church, all honor and glory is yours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lmighty Father, now and forever.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04920"/>
            <a:ext cx="8686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 now, with the confidence of children of God, let us pray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2286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we have not loved you with our whole heart. We have failed to be an obedient church. We have not done your will, we have broken your law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676520"/>
            <a:ext cx="89917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517680"/>
            <a:ext cx="853416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lead us not into temptation, but deliver us from evil.  For thine is the kingdom, and the power, and the glory, forever. 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90720"/>
            <a:ext cx="91440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90560"/>
            <a:ext cx="8915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 of the Holy Spirit be with you all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249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9033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 his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love him, wh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arnestly repent of their sin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 &amp;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280" y="380880"/>
            <a:ext cx="86868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o live in peace with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1430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 we confes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 We have failed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, and we have not heard the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5228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rebelled against your love, we have not loved our neighbors, and we have not heard the cry of the need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53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6765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952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480" y="1522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676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480" y="9907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920" y="457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 and joyfu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g,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808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533520"/>
            <a:ext cx="8686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ee us for joyful obedience, through Jesus Christ our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75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 you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irth to your church, delive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s from slavery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 new covenant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 g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3808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280" y="45720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10666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 in remembrance of these your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ourselves in prais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giving as a holy and living sacrifice,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6858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280" y="609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600" y="53352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28600" y="8380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152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 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342900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now, with th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children of God, let us pra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52480"/>
            <a:ext cx="914400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 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272880"/>
            <a:ext cx="8686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name of Jesus Christ, you are forgiv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21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forth in peace. The grace of the Lord Jesus Christ, and the love of God, 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 be with you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vi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1337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the Lord invites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table all who lov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earnestl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ir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ek to live in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fore, let us conf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in befor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an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d you with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le hear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ailed to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bedient chu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62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ESSION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45576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done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roken your l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bel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gainst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neighbo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not heard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ry of the nee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us, we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us for joyful obedi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r the good new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died for us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were yet sinn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proves God’s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war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1185840"/>
            <a:ext cx="8686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forgi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0666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228456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8380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offer our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6094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8686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Let us offer one another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gns of reconciliation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love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4480" y="380880"/>
            <a:ext cx="891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SGIVING AND COMM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21337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480" y="13716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right, and a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joyful th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and everyw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gi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6765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57200" y="2651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22096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260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are you, and bl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your Son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baptism of his suffe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ath,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gave birth to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d us from sla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o sin a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de with u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ew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water and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night in which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himself up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 the b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11872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, ea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ody which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n for you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533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fer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95280"/>
            <a:ext cx="8686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s forgiven and reconciled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eople, let us offer ourselves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nd our gifts to God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supper was ov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took the c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thanks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ave it to his disci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ai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nk from this, all of you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is my bl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new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ured out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m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0880" y="22845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this, as of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you drink 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 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ur out your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us gathered 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 these gift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ad and w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em be for us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ood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be for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ody of Christ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deemed by his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Spirit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ne in minist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wor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Christ com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al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e feast at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banqu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your S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holy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2:09:10Z</dcterms:modified>
  <cp:revision>13</cp:revision>
  <dc:subject/>
  <dc:title>PowerPoint Presentation</dc:title>
</cp:coreProperties>
</file>