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187-EEA2-4B07-B9B7-059A9DED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6F1-5D2F-4443-9396-1D4E95D9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F5B-A68A-4624-B2FB-A8172F70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C41-6147-4D19-9446-5C319E5E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487-2404-45E3-8AF8-5002E1E7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B72A-90C8-4AFE-B4CA-F4FD111B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8815-DA0A-414A-86B9-C2468490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353B-2630-47FA-8AA9-43B1D04B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AFB6-8689-4EFF-BC3B-B685773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B08-4323-45CD-9E94-29BF231A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5A1F-D136-4E84-8E38-DD0B2C0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1E7-FDFD-4C9C-B50F-E559EAD1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55BB-1F72-4126-8171-E06127E5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C422-D629-4193-8B1A-BEE02651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9B72-12CC-4CD4-87E1-B5ED6FFE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85F2-D6AB-481B-B88A-D1F1F6F5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3EC-6C22-4644-B70C-B6695479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B6E7-A3DA-4766-B037-8D21163B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5066-A4B9-4788-9CA7-9503E0F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8F72-E948-42CA-9468-012714D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5CD7-21B7-43AF-A3BC-A76F6F10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9673-2999-4A77-85DD-299E9971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A2B-1279-4236-868C-1F613624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48BD-0B22-4413-AF0D-1AAC1D5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E145-A862-4978-8DAA-7ED17BE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E586-3A4C-4911-BF3C-7312A3E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46A6-A120-4D32-A4BD-7319052C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1639-46FC-494A-97CB-24DFD1C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1272-9E13-4B74-9D8A-32A55AEB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EC66-7472-44D7-A6C8-ADE452C2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B42-1DA9-456F-9156-DA00CDA9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BA9-AF44-4E55-B561-8DAB697A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C21-DB7A-4E4E-A380-EA136AC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8D7-EDBB-463A-B285-D16590B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BCD-045F-4020-B172-F72AFF5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5B9-96C4-495D-BDA2-E51488C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893-012D-40C2-B566-06CE935E1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832-2971-4779-9A98-8966F8D2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F3D3-2150-41E2-AD94-A4F0FC658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 SERVICE OF WORD AND TABLE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144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3880"/>
            <a:ext cx="86868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orever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0" y="1522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990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W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ABLE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002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GREAT THANKSG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at Thanksgiv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20968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3716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236232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10552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990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6858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80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ING THE BREAD AND C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iving the Bre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219320"/>
            <a:ext cx="86868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ody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lood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for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152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127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God of power and migh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ven and earth are Full of your glory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Hosanna in the high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212760"/>
            <a:ext cx="87631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And so, in remembrance of these your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30492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988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Of Word and Table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Lord’s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286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n earth as it is in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ER METHODIST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trespass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4:11:38Z</dcterms:modified>
  <cp:revision>12</cp:revision>
  <dc:subject/>
  <dc:title>PowerPoint Presentation</dc:title>
</cp:coreProperties>
</file>