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8CD-916B-4402-9E13-CEE72AF6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3FD-AD53-4145-B76A-12DB33C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B4-237A-4471-BBD8-3293DB6E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BEC-134A-4D73-ACE2-1966DE6B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34A-6E25-4260-A45E-007B12B6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C2B-2AB5-4794-ADF3-72ED8F2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F1C-50F7-4DC9-BB8D-D5A031B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CD9-084B-449A-A89C-371AA1FE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3D9-1405-464A-A224-CA30BD6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9FA-C437-4BA4-A75D-1842562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116-1DAF-4401-984E-209F996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6E7-3F78-4CD1-B891-95FCF72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F817-DD3C-44C9-BF7B-A19994E9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219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mbers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sehold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o your love and c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s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we this day recogn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memb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amily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endeavor so to lo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grow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knowledge and love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our Savior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7800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ith God’s help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we will so order our liv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after the example of Christ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600" spc="-1" strike="noStrike">
                <a:solidFill>
                  <a:srgbClr val="000000"/>
                </a:solidFill>
                <a:latin typeface="Times New Roman"/>
              </a:rPr>
              <a:t>this child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, surround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by steadfast love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may be established in fait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confirmed an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strengthene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in the way that lead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    to life eternal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9:48Z</dcterms:modified>
  <cp:revision>18</cp:revision>
  <dc:subject/>
  <dc:title>PowerPoint Presentation</dc:title>
</cp:coreProperties>
</file>