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E69-782A-4D97-90D5-E950EA8B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094-D97A-43AD-94E9-11FA22E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B6C-ABD3-4660-A802-15ED9AAD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1FB-F4E2-41A8-91DE-7326548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1A6-A318-461E-817A-96B519D9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958-A4A2-4F87-B7D7-25FF8A1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BAEF-FAF2-40FA-B56F-F9A3305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55C-CF57-46ED-8761-C192FE6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A620-EA3A-49CF-93F3-75EC8C70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B3E8-D8FA-4F44-9F74-9A315E2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3B0-04A3-4F2C-86B0-75F4B5E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D8F-FF29-440D-9A78-1042458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9A6-061D-4EDF-9874-C58BBC92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09A0-3544-4403-8979-9274FAC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A481-7B90-4757-9CF2-4D0690F6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160-936B-444E-A06A-150D3BE4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DBD0-D4DE-4943-BF6D-9A3829E0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EE5-CFA1-4A1D-A293-609BACC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4F5-6577-4D8B-82C1-C63B73F9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C23-211D-4598-8943-09D8164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479-7863-4AE7-A5D0-CFC2BBF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B14-0463-45D2-B117-81ABF91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98D-7856-4C13-8271-28FE8B9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FFF-12FA-4106-9C9C-CF4B9D5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3427-47D6-4E0A-8590-3FF8CBFE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349-B58D-4424-84BF-AFE6643DF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Savior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ut your whole tru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824040"/>
            <a:ext cx="8991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of this congregation, will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you faithfully participate in its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ministries by your prayers, your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resence, your gifts, and your service?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152280"/>
            <a:ext cx="90676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219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762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441360"/>
            <a:ext cx="88394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renew our covenant faithful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o participate in the minist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990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228600"/>
            <a:ext cx="883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e God of all grace, who has called us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o eternal glory in Chris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establish you and strengthen you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057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y your teaching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xample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may be guid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accept God’s grac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mselv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rofess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1440"/>
            <a:ext cx="8686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faithful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member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representativ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, as Christ’s bod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1772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you saw your peopl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slaves in Egyp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led them to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Jorda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the land whi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promis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ent Jes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1772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Holy Spirit wo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thin you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eing born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may be a faithfu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ur new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4382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Holy Spiri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a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1016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f Christ’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versal church,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ll you be loyal to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ted Methodist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do all in your power to   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its ministrie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686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this congregation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will you faithfully participat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in its ministries by your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prayers, your presence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your gifts, and your service?</a:t>
            </a:r>
            <a:br>
              <a:rPr sz="46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LOCAL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9796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295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469800"/>
            <a:ext cx="868680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God of all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o has called us 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ternal glory in Chris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stablish you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you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4000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we are initia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762120"/>
            <a:ext cx="8686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r baptism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eaffirm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af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gregation from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____________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81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 reject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evil powers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8839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Do you accept the freedom and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ower God gives you to resist evil,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justice and oppression in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whatever forms they present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872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 a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r Savior, put your whol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rust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9889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76320"/>
            <a:ext cx="899172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hat by your teaching and example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may be guided to accept God’s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God’s grace for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mselves, 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o 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profess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141120"/>
            <a:ext cx="88394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faithful member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hrist’s holy church and serve and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and serve as Christ’s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representative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50920"/>
            <a:ext cx="86868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Do you, as Christ’s body, the churc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681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forgiveness, that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may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ow in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50004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60948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as conceived by the Holy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pirit, born of the Virgin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210960"/>
            <a:ext cx="899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 i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ated at the right hand of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ject the evil power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2286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28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868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hen you saw your people as slaves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in Egypt, you led them to freedom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Jordan to the l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hich you promis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3808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 you sent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,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380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accept the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ower God gives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resist evil, injusti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oppress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whatever forms they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esent themsel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11736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 and clo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ith you and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12680"/>
            <a:ext cx="89917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,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in the name of the Father, and of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the Son, and of the Holy Spiri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82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250920"/>
            <a:ext cx="89154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 Holy Spirit work within you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at being born through water 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e Spirit, you may be a faithful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2280" y="152280"/>
            <a:ext cx="899172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Now it is our joy to welcome our new</a:t>
            </a:r>
            <a:br>
              <a:rPr sz="4500"/>
            </a:b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baptism, you ar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corporated by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1522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5238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Holy Spirit 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in you, that having been born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ough water and the Spirit, you m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e as a faithful disciple of Jesus Chr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8380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1143000"/>
            <a:ext cx="883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of Christ’s universal church 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will you be loyal to The United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Methodist Church, and do all in your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power to strengthen its ministries?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763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3T03:11:52Z</dcterms:modified>
  <cp:revision>19</cp:revision>
  <dc:subject/>
  <dc:title>PowerPoint Presentation</dc:title>
</cp:coreProperties>
</file>