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20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79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2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1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32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83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24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8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98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99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E01-7D91-4AFD-98D0-827751D5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15E-1F98-4FF1-BDF3-4505B61F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0C0-944C-4138-9235-3B777FAE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40D-7623-4D13-A515-49A79120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9DCA-FB69-4E95-B84E-E21937B3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A56D-0843-4AA6-A69B-B333D6EA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E49E-77FA-4AA0-BD84-0383FD6D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4D8A-5318-406F-8C4A-353A98CC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19F8-1C91-4374-9837-6C6305E6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CFCF-2490-4ACC-A560-D901C361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9A21-C303-4965-B28E-65C8F38A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503-0087-45C3-896F-A2850A4D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9318-923D-451E-8D00-6102CA8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D2A6-86E8-439A-B401-54DD4A6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0ECC-AF5C-436F-87FB-378C1D69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7AB3-0A86-4E22-9C5B-3BCA66A4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6BAD-82A9-4EF5-B555-EADB8A5E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F3E-89F9-4FA4-B584-2A5DDC39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6D3-F382-495A-A65C-607BAF19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5EC-358F-4EEC-ABEA-752E7B18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F55-0AEB-4A1D-94BE-14961003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ABD-B3A4-495E-BCDF-C9EA442D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01F-7D9C-4F89-9ECC-C982F44A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16A-8521-412E-82BF-E06165E8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1D3A-66D9-44C7-8903-C31EB900C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6222-C44A-4FFF-BD23-B5432FC90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Baptism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3828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y your teaching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example they may be guid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accept God’s grac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 themsel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rofess their faith openly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lead a Christian lif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920" y="380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7142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92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572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0492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228600"/>
            <a:ext cx="86868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Holy Spirit, born of th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Virgin Mary, suffered under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Pontius Pilate, was crucified, die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15228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he ascended into heaven,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seated at the right hand of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ther, and will come again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00332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16992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" y="5335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saw your people as sla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Egypt, you led them to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ir children you brought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e Jordan to the land whi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1936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121932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n, and clo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237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to you, Eternal Fat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your Son Jesus Chri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9907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annah Lynn Sutton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the name of the Father,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the Son, and of the Holy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7000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 water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Spirit,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457200"/>
            <a:ext cx="91440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Now it is our joy to welcome our new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sisters and brother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rough baptism, you are incorporated by the Holy Spiri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0492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e welcome you a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amily of Chri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114300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28600" y="685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572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828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28600" y="15552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in the ministries of the churc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28600" y="914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ll grace, who has call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us to eternal glory in Chris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 you and strengthen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y the power of the Holy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94464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164772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Sacrament of Baptis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4920" y="152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9810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Joshua Bernstein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228600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04920" y="17784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52280" y="152280"/>
            <a:ext cx="89917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accept the freedom and power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 gives you to resist evil, injustice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8380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22860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57200" y="91440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childen (persons)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at by your teaching and exampl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y may be guided to accept God’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’s grace for themselve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profess their faith openl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to lead a Christian lif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380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57200" y="71424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92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28600" y="228600"/>
            <a:ext cx="86868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the Holy Spirit, born of th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Virgin Mary, suffered under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Pontius Pilate, was crucified, die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28600" y="15228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he ascended into heaven,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seated at the right hand of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ther, and will come again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57200" y="60948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04920" y="169920"/>
            <a:ext cx="86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457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28600" y="5335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saw your people as sla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Egypt, you led them to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ir children you brought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e Jordan to the land whi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4920" y="1936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86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04920" y="121932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n, and clo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237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to you, Eternal Fat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your Son Jesus Chri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9907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shua Bernstein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the name of the Father,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the Son, and of the Holy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28600" y="27000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 water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Spirit,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457200"/>
            <a:ext cx="91440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Now it is our joy to welcome our new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brother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rough baptism, you are incorporated by the Holy Spiri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0492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we welcome you a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memb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the family of Chri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003320"/>
            <a:ext cx="86868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114300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049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28600" y="6858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572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8600" y="15552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in the ministries of the churc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28600" y="9144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ll grace, who has call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us to eternal glory in Chris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 you and strengthen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y the power of the Holy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94464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64772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Sacrament of Baptis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04920" y="152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19810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rey Kevin Whitehead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28600" y="82548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hing existed but cha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28600" y="5335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you saw your people as sla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Egypt, you led them to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ir children you brought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e Jordan to the land whi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04920" y="1936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28600" y="45720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685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04920" y="121932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28600" y="2286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n, and clo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37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opl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to you, Eternal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ther, through your Son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esus Christ, who with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nd the Holy Spir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" y="82548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your Lord and Savior, put your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le trust in his grace, an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to serve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your Lor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FFIRMATION AND PROMISE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28600" y="804960"/>
            <a:ext cx="868680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Jesus Chris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ents: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04920" y="3808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r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n Christ’s holy church,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y your teaching and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xample he may be guided to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ccept God’s grace for himself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8600" y="944640"/>
            <a:ext cx="86868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o profess his faith openl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d to lead a Christian lif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arents: We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9907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ey Kevin Whitehead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the name of the Father,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f the Son, and of the Holy Spi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28600" y="27000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 water an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Spirit,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76212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household of fait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commend to your love and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are, this child, whom we thi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ay recognize as a member of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family of Go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06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GREGATIONAL P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52280" y="3049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endeavor so to live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re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y grow in th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owledge and love of God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our Savior Jesu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52280" y="76320"/>
            <a:ext cx="883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ople: With God’s help, we wi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order our lives after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xample of Christ,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re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 surrounded by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eadfast lov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e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71424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 be established in the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th, and confirmed and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ngthened in the way that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ads to life etern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judge the l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735200"/>
            <a:ext cx="8686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91772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slaves in Egyp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led them to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sea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 the Jorda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the land whi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promise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552680"/>
            <a:ext cx="8686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362320"/>
            <a:ext cx="868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Name(s)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33028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576360"/>
            <a:ext cx="86868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si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clothe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righteousnes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may share i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5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raise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with you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917720"/>
            <a:ext cx="86868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I baptize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the name of the Fathe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Son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f the Holy Spiri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858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72864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Holy Spirit work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ithin you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being born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you may be a faithfu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682560"/>
            <a:ext cx="868680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Now it is our joy to welcom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ur new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sisters and brothers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baptis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incorpora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Hol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God’s new cre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ade to shar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’s royal priesthoo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all one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rist Jes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mil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979640"/>
            <a:ext cx="8686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8954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body of Chris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is congregation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nited Methodist Chur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ministri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chur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our pray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pres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gifts, and our servi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927000"/>
            <a:ext cx="86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e God of all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o has called us to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eternal glory in Chris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stablish you and strengthen you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y the power of the Holy Spiri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at you may liv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grace and pea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907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8288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rough the Sacramen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Baptism we are initiated  into Christ’s holy churc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362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Nathaniel Jay Javorski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4382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 behalf of the whole church, I ask you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152280"/>
            <a:ext cx="868680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003320"/>
            <a:ext cx="8686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52280"/>
            <a:ext cx="9144000" cy="64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accept the freedom an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ower God gives you to resi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evil, injustice, and oppression  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0492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609480"/>
            <a:ext cx="86868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21932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se children (persons)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152280"/>
            <a:ext cx="8686800" cy="58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at by your teaching an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example they may be guide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o accept God’s grace fo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emselves, to profess their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faith openly, and to lead a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hristian lif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152280"/>
            <a:ext cx="868680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7491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ill you nurture one anoth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the Christian fai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life and includ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now before you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your ca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89856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God’s help we wi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proclaim the good new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and live accord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example of Chri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3808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will surround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with a community of lov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nd forgivene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may grow i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their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service to 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76212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will pray for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he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at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may be tru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iscipl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who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alk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in the w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at leads to lif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38280"/>
            <a:ext cx="86868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accept the freedo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ower God gives you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resist evil, injusti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76212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t us join together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professing the Christian fai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contained in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Scriptures of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ld and New Testamen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152280"/>
            <a:ext cx="86868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believe in Go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Fath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creator of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heaven and earth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838080"/>
            <a:ext cx="868680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Jesus Chris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ly Spirit, born of th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irgin Mary, suffere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der Pontius Pilate, wa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rucified, died, and wa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uried; he descended to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descended to the dea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289080"/>
            <a:ext cx="8915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On the third day he rose 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gain; he ascended into heaven, is seated at the right hand of the Father, and will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will come again to judge the living and the dead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762120"/>
            <a:ext cx="868680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you believe 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e Holy Spir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believe in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e resurrec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of the bod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anksgiving Over the Water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447920"/>
            <a:ext cx="86868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ANKSGIVING OVER THE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3808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ternal Father: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nothing exist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but chao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swept across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dark water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brought forth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90180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the days of Noa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saved those on the ark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rough water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fter the flood you se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the clouds a rainbow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187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152280"/>
            <a:ext cx="8686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hen you saw your peop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as slaves in Egypt, you led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them to freedom through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the sea.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ir children you brought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through the Jordan to the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land which you promised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 to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 earth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ll of God’s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ach d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3808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the fullness of tim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sent Jesu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nurtured in the wat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a womb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 was baptized by Joh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anointed by your Spir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8380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 called his disciple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share in the baptis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his death and resurrec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to make disciple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f all na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990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clare his work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the natio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s glory amo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 peop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12952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our out your Holy Spiri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bless this gift of wat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t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38088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 wash away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sin, an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clothe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n righteousnes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hroughout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 lives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t, dying, and being raised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ith Christ,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may shar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his final victo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praise to you, Eternal Father, through your S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s Christ, who with you and the Holy Spiri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ves and reigns for ever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aptism with Laying On of Hand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023840"/>
            <a:ext cx="86868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Nathaniel Jay Javorski,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 baptize you in the name of the Father, and of the Son, and of the Holy Spir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28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APTISM WITH LAYING ON OF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320" y="152280"/>
            <a:ext cx="899136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Holy Spirit work withi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, that being born throug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ater and the Spiri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you may be a faithfu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disciple of Jesus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37016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152280"/>
            <a:ext cx="9144000" cy="57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w it is our joy to welcom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our new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brother</a:t>
            </a: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rough baptism, you ar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corporated by the Holy Spirit into God’s new creation and made to share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4604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Christ’s royal priesthood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are all one in Christ Jesus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ith joy and thanksgiv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welcome you as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of the family of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 and Welcom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97964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mbers of th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household of God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 commend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se person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to your love and ca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OMMENDATION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8600" y="1371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all in your power to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crease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faith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confirm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hope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perfect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n lov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2280" y="53352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give thanks for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at God has alread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given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and we welcome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in Christian lov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members toge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you in the body of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and in this congregation of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ed Methodist Church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renew our coven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faithfully to participat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 the ministries of the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church by our pray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our presence, our gift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and our servi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13716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in everything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may be glorifi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rough Jesus Chri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God of all grace, who ha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lled us to eternal glory in Christ, establish you and strengthen you by the power of the Holy Spirit that you may live in grace and pea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94464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RODUCTION TO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duction of Servic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64772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thers and sisters in Chri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Sacrament of Baptis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we are initiated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Christ’s holy chur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PTISMAL COVENANT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9f3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28456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children (persons)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152280"/>
            <a:ext cx="8686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e are incorporated into God’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mighty acts of salvation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and given new birth throug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ater and the Spirit.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All this is God’s gift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offered to us without price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sentation of Candidat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98108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 present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Hannah Lynn Sutton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for baptis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ESENTATION OF CANDI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al Covenant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fession of Faith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286000"/>
            <a:ext cx="8686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 behalf of the whole church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I ask you: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8580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NUNCIATION OF SIN AND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FESSION OF 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17784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renounce the spiritual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forces of wickednes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ject the evil powers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this world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repent of your sin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89917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 accept the freedom and power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 gives you to resist evil, injustice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oppress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in whatever forms they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present themselv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" y="1522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confess Jesus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Savior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put your whole tru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in his gra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nd promise to serve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s your Lor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28600"/>
            <a:ext cx="8686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union with the church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which Christ has opened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to people of all ages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nations, and races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914400"/>
            <a:ext cx="8686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ill you nurture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these children (persons)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n Christ’s holy church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at by your teaching and exampl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y may be guided to accept God’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God’s grace for themselves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profess their faith openl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and to lead a Christian lif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ee9fe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152280"/>
            <a:ext cx="86868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o you, as Christ’s body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he church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reaffirm both your rejecti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of sin and your commitment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  to Christ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e d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4-17T16:17:59Z</dcterms:modified>
  <cp:revision>21</cp:revision>
  <dc:subject/>
  <dc:title>PowerPoint Presentation</dc:title>
</cp:coreProperties>
</file>