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24.xml.rels" ContentType="application/vnd.openxmlformats-package.relationships+xml"/>
  <Override PartName="/ppt/slides/_rels/slide196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95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94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75.xml.rels" ContentType="application/vnd.openxmlformats-package.relationships+xml"/>
  <Override PartName="/ppt/slides/_rels/slide180.xml.rels" ContentType="application/vnd.openxmlformats-package.relationships+xml"/>
  <Override PartName="/ppt/slides/_rels/slide6.xml.rels" ContentType="application/vnd.openxmlformats-package.relationships+xml"/>
  <Override PartName="/ppt/slides/_rels/slide176.xml.rels" ContentType="application/vnd.openxmlformats-package.relationships+xml"/>
  <Override PartName="/ppt/slides/_rels/slide99.xml.rels" ContentType="application/vnd.openxmlformats-package.relationships+xml"/>
  <Override PartName="/ppt/slides/_rels/slide2.xml.rels" ContentType="application/vnd.openxmlformats-package.relationships+xml"/>
  <Override PartName="/ppt/slides/_rels/slide168.xml.rels" ContentType="application/vnd.openxmlformats-package.relationships+xml"/>
  <Override PartName="/ppt/slides/_rels/slide40.xml.rels" ContentType="application/vnd.openxmlformats-package.relationships+xml"/>
  <Override PartName="/ppt/slides/_rels/slide177.xml.rels" ContentType="application/vnd.openxmlformats-package.relationships+xml"/>
  <Override PartName="/ppt/slides/_rels/slide3.xml.rels" ContentType="application/vnd.openxmlformats-package.relationships+xml"/>
  <Override PartName="/ppt/slides/_rels/slide120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8.xml.rels" ContentType="application/vnd.openxmlformats-package.relationships+xml"/>
  <Override PartName="/ppt/slides/_rels/slide14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89.xml.rels" ContentType="application/vnd.openxmlformats-package.relationships+xml"/>
  <Override PartName="/ppt/slides/_rels/slide166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99.xml.rels" ContentType="application/vnd.openxmlformats-package.relationships+xml"/>
  <Override PartName="/ppt/slides/_rels/slide27.xml.rels" ContentType="application/vnd.openxmlformats-package.relationships+xml"/>
  <Override PartName="/ppt/slides/_rels/slide179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22.xml.rels" ContentType="application/vnd.openxmlformats-package.relationships+xml"/>
  <Override PartName="/ppt/slides/_rels/slide156.xml.rels" ContentType="application/vnd.openxmlformats-package.relationships+xml"/>
  <Override PartName="/ppt/slides/_rels/slide178.xml.rels" ContentType="application/vnd.openxmlformats-package.relationships+xml"/>
  <Override PartName="/ppt/slides/_rels/slide17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18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83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21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131.xml.rels" ContentType="application/vnd.openxmlformats-package.relationships+xml"/>
  <Override PartName="/ppt/slides/_rels/slide17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149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53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51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9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132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02.xml.rels" ContentType="application/vnd.openxmlformats-package.relationships+xml"/>
  <Override PartName="/ppt/slides/_rels/slide25.xml.rels" ContentType="application/vnd.openxmlformats-package.relationships+xml"/>
  <Override PartName="/ppt/slides/_rels/slide197.xml.rels" ContentType="application/vnd.openxmlformats-package.relationships+xml"/>
  <Override PartName="/ppt/slides/_rels/slide93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85.xml.rels" ContentType="application/vnd.openxmlformats-package.relationships+xml"/>
  <Override PartName="/ppt/slides/_rels/slide13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125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83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24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95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94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2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50.xml" ContentType="application/vnd.openxmlformats-officedocument.presentationml.slide+xml"/>
  <Override PartName="/ppt/slides/slide149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8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29.xml" ContentType="application/vnd.openxmlformats-officedocument.presentationml.slide+xml"/>
  <Override PartName="/ppt/slides/slide197.xml" ContentType="application/vnd.openxmlformats-officedocument.presentationml.slide+xml"/>
  <Override PartName="/ppt/slides/slide157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98.xml" ContentType="application/vnd.openxmlformats-officedocument.presentationml.slide+xml"/>
  <Override PartName="/ppt/slides/slide158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99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47.xml" ContentType="application/vnd.openxmlformats-officedocument.presentationml.slide+xml"/>
  <Override PartName="/ppt/slides/slide146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9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16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  <p:sldId id="449" r:id="rId197"/>
    <p:sldId id="450" r:id="rId198"/>
    <p:sldId id="451" r:id="rId199"/>
    <p:sldId id="452" r:id="rId200"/>
    <p:sldId id="453" r:id="rId201"/>
    <p:sldId id="454" r:id="rId20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slide" Target="slides/slide194.xml"/><Relationship Id="rId198" Type="http://schemas.openxmlformats.org/officeDocument/2006/relationships/slide" Target="slides/slide195.xml"/><Relationship Id="rId199" Type="http://schemas.openxmlformats.org/officeDocument/2006/relationships/slide" Target="slides/slide196.xml"/><Relationship Id="rId200" Type="http://schemas.openxmlformats.org/officeDocument/2006/relationships/slide" Target="slides/slide197.xml"/><Relationship Id="rId201" Type="http://schemas.openxmlformats.org/officeDocument/2006/relationships/slide" Target="slides/slide198.xml"/><Relationship Id="rId202" Type="http://schemas.openxmlformats.org/officeDocument/2006/relationships/slide" Target="slides/slide199.xml"/><Relationship Id="rId20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4DB7-417E-48B1-BE66-80818FA12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9177-8ACF-4F63-9EF3-286F05750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16B6-8E55-4DC8-939F-9831FC5A5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E86A-0C13-4513-BA99-1A0B426DB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2271A-6EC2-4636-AB94-CF372BB4A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FFA35-7E45-4E6B-9D91-BAEC78B3C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77799-296F-49FF-A087-1BDBD431B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48D06-A38E-403C-83FA-3DFD50C5C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E55C1-155C-4FEC-A712-0A5739D52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5A041-CF00-461B-9DBB-0BA745A61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FEE9A-54C4-4A2E-89E6-B81A4CD7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03C7-6D4A-4A30-989B-4517ED87E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28800-3DD8-4541-A806-6FD129B1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35EB7-C790-441F-A70E-463EE4F0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32896-9C70-4AAE-AD70-08DB62569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50A8A-9B6D-4335-909F-2009DC7E4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B5663-CA92-4FBD-A32E-BBDC58BDA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D062-47EC-49A1-BC94-7F9BA1317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9583-9192-4142-9831-4DA66A013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29C5-F7F9-4D1F-A912-304697BFE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2F03-261E-4F12-968F-A97D90629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6FC0-3905-4CFF-95D7-9D6C343B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6F69-A938-40F1-88F4-28410DDF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FBBA-C50C-4B64-8617-1942F7C7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38FF1-5DCB-4D2C-93E1-D986D8922D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C02B9-7733-462E-98BD-C4513FF4CE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14300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INTRODUCTION TO THE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Introduction of Service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22096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rothers and sisters in Christ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the Sacramen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Baptism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e are initiated int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hrist’s holy chur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BAPTISMAL COVENANT 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638280"/>
            <a:ext cx="8686800" cy="54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hat by your teaching and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example they may be guided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o accept God’s grac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for themselves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o profess their faith openly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to lead a Christian life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wil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04920" y="380880"/>
            <a:ext cx="868680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Will you nurture one another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n the Christian faith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life and includ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these persons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now before you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n your care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457200" y="71424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God’s help we wi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proclaim the good new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live according t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example of Chri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457200" y="152280"/>
            <a:ext cx="8686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e will surround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ese person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with a community of lov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and forgivenes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that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ey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may grow i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their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service to other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04920" y="3808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will pray for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m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at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y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may be tru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discipl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who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walk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in the wa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at leads to lif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457200" y="457200"/>
            <a:ext cx="868680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Let us join together in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professing the Christian faith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s contained in th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Scriptures of th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ld and New Testaments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304920" y="152280"/>
            <a:ext cx="868680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Do you believe in God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the Father?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I believe in God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   the Father Almighty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   creator of 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   heaven and earth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7200" y="609480"/>
            <a:ext cx="8686800" cy="33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Do you believe in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Jesus Christ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believe in Jesus Chris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is only Son, our Lor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228600" y="228600"/>
            <a:ext cx="8686800" cy="40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who was conceived by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   the Holy Spirit, born of the 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   Virgin Mary, suffered under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   Pontius Pilate, was crucified, died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   and was buried;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   he descended to the dead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228600" y="152280"/>
            <a:ext cx="86868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n the third day he rose again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he ascended into heaven, i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seated at the right hand of th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Father, and will come again to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judge the livi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and the dea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457200" y="609480"/>
            <a:ext cx="8686800" cy="33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Do you believe in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e Holy Spirit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believe in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Holy Spirit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200" y="1003320"/>
            <a:ext cx="8686800" cy="47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Do you, as Christ’s body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e church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reaffirm both your rejection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f sin and your commitment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o Christ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d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04920" y="169920"/>
            <a:ext cx="86868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holy catholic church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the communion of saint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the forgiveness of sin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the resurrectio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of the body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and the life everlastin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hanksgiving Over the Water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" y="1295280"/>
            <a:ext cx="8686800" cy="29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he Lord be with you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also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Let us pray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52280" y="45720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ANKSGIVING OVER THE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228600" y="228600"/>
            <a:ext cx="8686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ternal Father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nothing exist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but chaos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you swept across th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dark wat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and brought forth ligh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228600" y="533520"/>
            <a:ext cx="868680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In the days of Noah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you saved those on the ark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rough water.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After the flood you set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n the clouds a rainbow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228600" y="228600"/>
            <a:ext cx="8686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you saw your people as slav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in Egypt, you led them to freedo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through the sea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ir children you brought throug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the Jordan to the land whic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you promis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0" y="68580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ing to the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the earth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ell of God’s merc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ach 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04920" y="193680"/>
            <a:ext cx="8686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fullness of ti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you sent Jesus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nurtured in the wat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of a womb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was baptized by Joh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and anointed by your Spiri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228600" y="457200"/>
            <a:ext cx="868680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He called his disciple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o share in the baptism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f his death and resurrection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to make disciple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f all nations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0" y="68580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eclare his work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the nation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is glory amo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the peopl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304920" y="1219320"/>
            <a:ext cx="86868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Pour out your Holy Spirit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o bless this gift of water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those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who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it,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1552680"/>
            <a:ext cx="868680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Will you nurture one another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n the Christian faith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life and includ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these persons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now before you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n your care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228600" y="228600"/>
            <a:ext cx="8686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wash away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hei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in, and cloth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he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n righteousn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throughout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heir lives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, dying, and being rais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with Christ,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he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may share 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in his final victo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0" y="23796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l praise to you, Eternal Father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rough your Son Jesus Christ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 with you an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Holy Spiri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ves and reigns for ever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-1905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Baptism with Laying On of Hands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" y="990720"/>
            <a:ext cx="86868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Hannah Lynn Sutton,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 baptize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in the name of the Father, 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of the Son, and of the Holy Spiri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22860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BAPTISM WITH LAYING ON OF H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228600" y="270000"/>
            <a:ext cx="8686800" cy="40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he Holy Spirit work within you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hat being born through water and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e Spirit, you may be a faithful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disciple of Jesus Christ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0" y="457200"/>
            <a:ext cx="914400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Now it is our joy to welcome our new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4200" spc="-1" strike="noStrike">
                <a:solidFill>
                  <a:srgbClr val="000000"/>
                </a:solidFill>
                <a:latin typeface="Times New Roman"/>
              </a:rPr>
              <a:t>sisters and brothers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in Christ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Through baptism, you are incorporated by the Holy Spirit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   into God’s new creatio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304920" y="228600"/>
            <a:ext cx="8686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made to share i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Christ’s royal priesthood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e are all one in Christ Jesus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ith joy and thanksgivi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we welcome you a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member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of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the family of Chris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Commendation and Welcome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" y="1143000"/>
            <a:ext cx="868680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Members of the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household of God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 commend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these person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o your love and care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30492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OMMENDATION AND WEL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228600" y="68580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o all in your power to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creas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ei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fai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onfirm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ei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hop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perfect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em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n lo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457200" y="3808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give thanks for a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at God has alread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given you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we welcome you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n Christian lo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228600" y="30492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s members togethe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with you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n the body of Christ 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n this congregation of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United Methodist Church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57200" y="182880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God’s help we wi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proclaim the good new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live according t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example of Chri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228600" y="155520"/>
            <a:ext cx="8686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e renew our covenan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faithfully to participat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in the ministries of the church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by our prayer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our presenc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our gifts, and our service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228600" y="914400"/>
            <a:ext cx="8686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t in everything Go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may be glorifi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rough Jesus Chri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228600" y="228600"/>
            <a:ext cx="8686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od of all grace, who has call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us to eternal glory in Christ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ablish you and strengthen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by the power of the Holy Spiri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 you may liv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in grace and pe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94464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INTRODUCTION TO THE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Introduction of Service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57200" y="1647720"/>
            <a:ext cx="8686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others and sisters in Chris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ough the Sacrament of Baptis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we are initiated int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Christ’s holy church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BAPTISMAL COVENANT 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304920" y="152280"/>
            <a:ext cx="868680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We are incorporated into God’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mighty acts of salvation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given new birth through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water and the Spirit.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All this is God’s gift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ffered to us without price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resentation of Candidates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920" y="1981080"/>
            <a:ext cx="86868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I present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Joshua Bernstein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for baptism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76212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RESENTATION OF CANDI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rofession of Faith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57200" y="2286000"/>
            <a:ext cx="86868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On behalf of the whole church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 ask you: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685800"/>
            <a:ext cx="8915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RENUNCIATION OF SIN AND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ROFESSION OF FA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304920" y="177840"/>
            <a:ext cx="868680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Do you renounce the spiritual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forces of wickedness,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reject the evil powers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of this world,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and repent of your sin?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I do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52280" y="152280"/>
            <a:ext cx="899172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Do you accept the freedom and power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God gives you to resist evil, injustice,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and oppression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in whatever forms they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present themselves?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I do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228600" y="152280"/>
            <a:ext cx="8686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 you confess Jesus Chris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as your Savior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put your whole trus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in his grac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and promise to serve hi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as your Lord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57200" y="83808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will surround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se person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with a community of lov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forgivenes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at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y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may grow i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their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service to othe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457200" y="228600"/>
            <a:ext cx="8686800" cy="40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in union with the church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which Christ has opened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o people of all ages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nations, and races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d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457200" y="914400"/>
            <a:ext cx="86868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Will you nurture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these childen (persons)</a:t>
            </a:r>
            <a:br>
              <a:rPr sz="4600"/>
            </a:br>
            <a:r>
              <a:rPr b="0" lang="en-US" sz="46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in Christ’s holy church,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28600" y="152280"/>
            <a:ext cx="868680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hat by your teaching and example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they may be guided to accept God’s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God’s grace for themselves,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to profess their faith openly,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and to lead a Christian life?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I will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457200" y="152280"/>
            <a:ext cx="868680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Do you, as Christ’s body,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the church,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reaffirm both your rejection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of sin and your commitment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to Christ?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We do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304920" y="380880"/>
            <a:ext cx="868680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Will you nurture one another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n the Christian faith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life and includ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these persons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now before you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n your care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457200" y="71424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God’s help we wi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proclaim the good new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live according t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example of Chri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57200" y="152280"/>
            <a:ext cx="8686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e will surround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ese person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with a community of lov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and forgivenes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that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ey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may grow i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their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service to other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04920" y="3808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will pray for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m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at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y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may be tru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discipl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who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walk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in the wa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at leads to lif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457200" y="457200"/>
            <a:ext cx="868680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Let us join together in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professing the Christian faith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s contained in th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Scriptures of th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ld and New Testaments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304920" y="152280"/>
            <a:ext cx="868680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Do you believe in God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the Father?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I believe in God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   the Father Almighty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   creator of 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   heaven and earth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will pray for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m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at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y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may be tru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discipl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who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walk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in the wa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at leads to lif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457200" y="609480"/>
            <a:ext cx="8686800" cy="33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Do you believe in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Jesus Christ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believe in Jesus Chris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is only Son, our Lor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228600" y="228600"/>
            <a:ext cx="8686800" cy="40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who was conceived by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   the Holy Spirit, born of the 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   Virgin Mary, suffered under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   Pontius Pilate, was crucified, died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   and was buried;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   he descended to the dead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228600" y="152280"/>
            <a:ext cx="86868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n the third day he rose again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he ascended into heaven, i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seated at the right hand of th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Father, and will come again to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judge the livi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and the dea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457200" y="609480"/>
            <a:ext cx="8686800" cy="33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Do you believe in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e Holy Spirit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believe in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Holy Spirit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304920" y="169920"/>
            <a:ext cx="86868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holy catholic church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the communion of saint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the forgiveness of sin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the resurrectio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of the body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and the life everlastin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hanksgiving Over the Water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57200" y="1295280"/>
            <a:ext cx="8686800" cy="29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he Lord be with you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also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Let us pray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52280" y="45720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ANKSGIVING OVER THE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228600" y="228600"/>
            <a:ext cx="8686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ternal Father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nothing exist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but chaos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you swept across th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dark wat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and brought forth ligh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228600" y="533520"/>
            <a:ext cx="868680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In the days of Noah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you saved those on the ark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rough water.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After the flood you set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n the clouds a rainbow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8600" y="228600"/>
            <a:ext cx="8686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you saw your people as slav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in Egypt, you led them to freedo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through the sea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ir children you brought throug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the Jordan to the land whic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you promis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0" y="68580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ing to the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the earth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ell of God’s merc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ach 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57200" y="1552680"/>
            <a:ext cx="868680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Let us join together in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professing the Christian faith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s contained in th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Scriptures of th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ld and New Testaments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304920" y="193680"/>
            <a:ext cx="8686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fullness of ti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you sent Jesus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nurtured in the wat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of a womb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was baptized by Joh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and anointed by your Spiri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228600" y="457200"/>
            <a:ext cx="868680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He called his disciple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o share in the baptism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f his death and resurrection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to make disciple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f all nations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0" y="68580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eclare his work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the nation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is glory amo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the peopl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304920" y="1219320"/>
            <a:ext cx="86868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Pour out your Holy Spirit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o bless this gift of water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those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who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it,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228600" y="228600"/>
            <a:ext cx="8686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wash away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hei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in, and cloth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he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n righteousn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throughout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heir lives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, dying, and being rais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with Christ,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he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may share 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in his final victo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0" y="23796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l praise to you, Eternal Father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rough your Son Jesus Christ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 with you an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Holy Spiri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ves and reigns for ever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-1905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Baptism with Laying On of Hands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57200" y="990720"/>
            <a:ext cx="86868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Joshua Bernstein,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 baptize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in the name of the Father, 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of the Son, and of the Holy Spiri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22860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BAPTISM WITH LAYING ON OF H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228600" y="270000"/>
            <a:ext cx="8686800" cy="40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he Holy Spirit work within you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hat being born through water and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e Spirit, you may be a faithful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disciple of Jesus Christ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0" y="457200"/>
            <a:ext cx="914400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Now it is our joy to welcome our new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4200" spc="-1" strike="noStrike">
                <a:solidFill>
                  <a:srgbClr val="000000"/>
                </a:solidFill>
                <a:latin typeface="Times New Roman"/>
              </a:rPr>
              <a:t>brother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in Christ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Through baptism, you are incorporated by the Holy Spirit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   into God’s new creatio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304920" y="228600"/>
            <a:ext cx="8686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made to share i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Christ’s royal priesthood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e are all one in Christ Jesus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ith joy and thanksgivi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we welcome you a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a member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of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the family of Chris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003320"/>
            <a:ext cx="8686800" cy="48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Do you believe in God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e Father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believe in G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Father Almight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creator of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eaven and ear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Commendation and Welcome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28600" y="1143000"/>
            <a:ext cx="868680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Members of the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household of God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 commend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these person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o your love and care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30492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OMMENDATION AND WEL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228600" y="68580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o all in your power to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creas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ei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fai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onfirm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ei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hop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perfect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em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n lo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457200" y="3808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give thanks for a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at God has alread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given you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we welcome you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n Christian lo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228600" y="30492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s members togethe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with you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n the body of Christ 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n this congregation of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United Methodist Church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228600" y="155520"/>
            <a:ext cx="8686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e renew our covenan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faithfully to participat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in the ministries of the church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by our prayer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our presenc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our gifts, and our service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228600" y="914400"/>
            <a:ext cx="8686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t in everything Go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may be glorifi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rough Jesus Chri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228600" y="228600"/>
            <a:ext cx="8686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od of all grace, who has call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us to eternal glory in Christ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ablish you and strengthen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by the power of the Holy Spiri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 you may liv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in grace and pe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0" y="94464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INTRODUCTION TO THE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Introduction of Service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57200" y="1647720"/>
            <a:ext cx="8686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others and sisters in Chris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ough the Sacrament of Baptis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we are initiated int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Christ’s holy church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BAPTISMAL COVENANT 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04920" y="152280"/>
            <a:ext cx="868680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We are incorporated into God’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mighty acts of salvation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given new birth through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water and the Spirit.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All this is God’s gift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ffered to us without price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resentation of Candidates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1981080"/>
            <a:ext cx="86868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I present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Trey Kevin Whitehead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for baptism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0" y="76212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RESENTATION OF CANDI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1735200"/>
            <a:ext cx="8686800" cy="33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Do you believe in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Jesus Christ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believe in Jesus Chris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is only Son, our Lor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228600" y="825480"/>
            <a:ext cx="86868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ternal Father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nothing existed but chaos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you swept across th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dark wat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and brought forth ligh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52280" y="1522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ANKSGIVING OVER THE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228600" y="533520"/>
            <a:ext cx="868680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In the days of Noah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you saved those on the ark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rough water.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After the flood you set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n the clouds a rainbow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228600"/>
            <a:ext cx="8686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you saw your people as slav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in Egypt, you led them to freedo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through the sea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ir children you brought throug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the Jordan to the land whic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you promis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0" y="68580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eople: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ing to the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the earth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ell of God’s merc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ach 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304920" y="193680"/>
            <a:ext cx="8686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fullness of ti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you sent Jesus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nurtured in the wat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of a womb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was baptized by Joh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and anointed by your Spiri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228600" y="457200"/>
            <a:ext cx="868680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He called his disciple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o share in the baptism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f his death and resurrection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to make disciple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f all nations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0" y="68580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eople: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eclare his work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the nation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is glory amo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the peopl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304920" y="1219320"/>
            <a:ext cx="86868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Pour out your Holy Spirit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o bless this gift of water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those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who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it,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228600" y="228600"/>
            <a:ext cx="8686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wash away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hei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in, and cloth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he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n righteousn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throughout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heir lives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, dying, and being rais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with Christ,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he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may share 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in his final victo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0" y="23796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eople: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l praise to you, Eternal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ther, through your Son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Jesus Christ, who with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you and the Holy Spiri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ves and reigns for ever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455760"/>
            <a:ext cx="8686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was conceived b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Holy Spiri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born of the Virgin Mar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suffered unde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Pontius Pilat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was crucified, die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was buried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e descended to the dea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228600" y="825480"/>
            <a:ext cx="86868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 you confess Jesus Chris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 your Lord and Savior, put your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le trust in his grace, and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mise to serve hi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 your Lord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52280" y="1522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FFIRMATION AND PROMISE OF FA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228600" y="804960"/>
            <a:ext cx="8686800" cy="26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in union with the church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f Jesus Christ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arents: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d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304920" y="380880"/>
            <a:ext cx="868680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Will you nurture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Trey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in Christ’s holy church,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hat by your teaching and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example he may be guided to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accept God’s grace for himself,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228600" y="944640"/>
            <a:ext cx="8686800" cy="23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o profess his faith openly,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and to lead a Christian life?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Parents: We will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-1905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Baptism with Laying On of Hands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57200" y="990720"/>
            <a:ext cx="86868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rey Kevin Whitehead,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 baptize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in the name of the Father, 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of the Son, and of the Holy Spiri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0" y="22860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BAPTISM WITH LAYING ON OF H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28600" y="270000"/>
            <a:ext cx="8686800" cy="40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he Holy Spirit work within you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hat being born through water and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e Spirit, you may be a faithful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disciple of Jesus Christ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Commendation and Welcome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28600" y="762120"/>
            <a:ext cx="868680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Members of the household of faith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I commend to your love and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care, this child, whom we this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day recognize as a member of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he family of God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0" y="10620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ONGREGATIONAL PLE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152280" y="30492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ll you endeavor so to live,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rey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may grow in the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knowledge and love of God,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our Savior Jesus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ris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152280" y="76320"/>
            <a:ext cx="88394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eople: With God’s help, we will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o order our lives after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example of Christ,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rey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, surrounded by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teadfast love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152280" y="714240"/>
            <a:ext cx="8839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ay be established in the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aith, and confirmed and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trengthened in the way that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ads to life etern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57200" y="1187280"/>
            <a:ext cx="868680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We are incorporated into God’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mighty acts of salvation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given new birth through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water and the Spirit.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All this is God’s gift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ffered to us without price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7200" y="455760"/>
            <a:ext cx="8686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n the third da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e rose again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e ascended into heave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s seated at the righ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and of the Father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will come again t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judge the liv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the dea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1735200"/>
            <a:ext cx="8686800" cy="33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Do you believe in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e Holy Spirit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believe in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Holy Spirit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57200" y="118728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holy catholic church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communion of saint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forgiveness of sin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resurrecti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f the bod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the life everlastin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hanksgiving Over the Water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1917720"/>
            <a:ext cx="8686800" cy="29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he Lord be with you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also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Let us pray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76212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ANKSGIVING OVER THE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1187280"/>
            <a:ext cx="868680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Eternal Father: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When nothing existed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but chaos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you swept across th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dark water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brought forth light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57200" y="1552680"/>
            <a:ext cx="868680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In the days of Noah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you saved those on the ark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rough water.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After the flood you set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n the clouds a rainbow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576360"/>
            <a:ext cx="8686800" cy="57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When you saw your peopl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s slaves in Egypt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you led them to freedom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rough the sea.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heir children you brought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rough the Jordan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o the land which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you promised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91916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ing to the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the earth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ell of God’s merc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ach 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1187280"/>
            <a:ext cx="868680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In the fullness of tim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you sent Jesus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nurtured in the water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f a womb.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He was baptized by John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anointed by your Spirit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1552680"/>
            <a:ext cx="868680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He called his disciple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o share in the baptism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f his death and resurrection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to make disciple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f all nations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resentation of Candidates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2362320"/>
            <a:ext cx="86868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I present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Name(s)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for baptism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212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RESENTATION OF CANDI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91916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eclare his work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the nation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is glory amo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the peopl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57200" y="2330280"/>
            <a:ext cx="86868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Pour out your Holy Spirit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o bless this gift of water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those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who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it,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576360"/>
            <a:ext cx="8686800" cy="57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o wash away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their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sin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clothe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them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n righteousnes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roughout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their lives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hat, dying, and being raised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with Christ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they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may share in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n his final victory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455760"/>
            <a:ext cx="914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praise to you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ternal Father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rough your S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esus Chris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with you 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Holy Spiri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ives and reigns for ever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1905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Baptism with Laying On of Hands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1917720"/>
            <a:ext cx="8686800" cy="40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Name,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I baptize you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n the name of the Father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of the Son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of the Holy Spirit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8580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BAPTISM WITH LAYING ON OF H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728640"/>
            <a:ext cx="8686800" cy="54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he Holy Spirit work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within you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hat being born through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water and the Spirit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you may be a faithful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disciple of Jesus Christ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57200" y="682560"/>
            <a:ext cx="8686800" cy="55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Now it is our joy to welcom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ur new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sisters and brothers</a:t>
            </a:r>
            <a:br>
              <a:rPr sz="4600"/>
            </a:br>
            <a:r>
              <a:rPr b="0" lang="en-US" sz="46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in Christ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rough baptism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are incorporat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by the Holy Spiri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nto God’s new cre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57200" y="455760"/>
            <a:ext cx="8686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made to share i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Christ’s royal priesthood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are all one i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Christ Jesus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joy and thanksgiv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we welcome you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s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members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of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family of Chri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Commendation and Welcome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1979640"/>
            <a:ext cx="868680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Members of the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household of God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 commend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these person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o your love and care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8380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OMMENDATION AND WEL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57200" y="191916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o all in your power to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creas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ei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fai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onfirm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ei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hop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perfect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em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n lo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rofession of Faith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2895480"/>
            <a:ext cx="86868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On behalf of the whole church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 ask you: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685800"/>
            <a:ext cx="8915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RENUNCIATION OF SIN AND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ROFESSION OF FA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give thanks for a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at God has alread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given you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we welcome you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n Christian lo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s members togethe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with you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n the body of Christ 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n this congregation of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United Methodist Church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820800"/>
            <a:ext cx="86868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renew our covenan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faithfully to participat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n the ministri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f the churc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by our prayer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ur presenc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ur gifts, and our servic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57200" y="2284560"/>
            <a:ext cx="8686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t in everything Go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may be glorifi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rough Jesus Chri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57200" y="927000"/>
            <a:ext cx="8686800" cy="50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he God of all grace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who has called us to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eternal glory in Christ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establish you and strengthen you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by the power of the Holy Spirit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hat you may liv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n grace and peace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99072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INTRODUCTION TO THE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Introduction of Service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2280" y="1828800"/>
            <a:ext cx="868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Brothers and sisters in Christ: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rough the Sacrament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of Baptism we are initiated  into Christ’s holy church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BAPTISMAL COVENANT 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30492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e are incorporated into God’s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mighty acts of salvation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and given new birth through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water and the Spirit.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ll this is God’s gift,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offered to us without pric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resentation of Candidates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236232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 present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Nathaniel Jay Javorski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for baptism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76212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RESENTATION OF CANDI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rofession of Faith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243828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On behalf of the whole church, I ask you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685800"/>
            <a:ext cx="8915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RENUNCIATION OF SIN AND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ROFESSION OF FA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28600" y="152280"/>
            <a:ext cx="8686800" cy="55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Do you renounce the spiritual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forces of wickedness,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reject the evil powers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of this world,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and repent of your sin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 do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57200" y="1003320"/>
            <a:ext cx="8686800" cy="47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Do you renounce the spiritual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forces of wickedness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reject the evil powers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f this world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repent of your sin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d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152280"/>
            <a:ext cx="9144000" cy="64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Do you accept the freedom and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power God gives you to resist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evil, injustice, and oppression  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in whatever forms they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present themselve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 do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28600" y="304920"/>
            <a:ext cx="8686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Do you confess Jesus Christ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as your Savior,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put your whole trust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in his grace,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and promise to serve him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as your Lord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52280" y="609480"/>
            <a:ext cx="8686800" cy="47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n union with the church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which Christ has opened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to people of all ages,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nations, and race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 do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28600" y="1219320"/>
            <a:ext cx="8686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ill you nurture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these children (persons)</a:t>
            </a:r>
            <a:br>
              <a:rPr sz="5400"/>
            </a:br>
            <a:r>
              <a:rPr b="0" lang="en-US" sz="54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n Christ’s holy church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52280" y="152280"/>
            <a:ext cx="8686800" cy="581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that by your teaching and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example they may be guided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to accept God’s grace for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themselves, to profess their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faith openly, and to lead a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Christian lif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 will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28600" y="152280"/>
            <a:ext cx="8686800" cy="55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Do you, as Christ’s body,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the church,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reaffirm both your rejection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of sin and your commitment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to Christ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 do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74916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ill you nurture one another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in the Christian faith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and life and include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these persons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now before you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in your care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28600" y="898560"/>
            <a:ext cx="8686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ith God’s help we will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proclaim the good new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and live according to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the example of Christ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28600" y="380880"/>
            <a:ext cx="8686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We will surround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these persons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with a community of love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and forgiveness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that </a:t>
            </a: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they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may grow in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 their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service to other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28600" y="762120"/>
            <a:ext cx="86868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 will pray for 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them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that 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they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may be tru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disciple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who 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walk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in the way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that leads to lif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638280"/>
            <a:ext cx="8686800" cy="54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Do you accept the freedom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power God gives you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o resist evil, injustice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oppression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n whatever forms they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present themselves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d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28600" y="762120"/>
            <a:ext cx="8686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et us join together in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professing the Christian faith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as contained in the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Scriptures of the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Old and New Testament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28600" y="152280"/>
            <a:ext cx="8686800" cy="57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Do you believe in God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the Father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 believe in God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the Father Almighty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creator of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heaven and earth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52280" y="838080"/>
            <a:ext cx="8686800" cy="40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Do you believe in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Jesus Christ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 believe in Jesus Christ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his only Son, our Lord,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152280"/>
            <a:ext cx="9144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who was conceived by the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Holy Spirit, born of the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Virgin Mary, suffered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under Pontius Pilate, was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rucified, died, and was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buried; he descended to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he descended to the dead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52280" y="289080"/>
            <a:ext cx="8915400" cy="51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On the third day he rose </a:t>
            </a:r>
            <a:br>
              <a:rPr sz="5500"/>
            </a:b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again; he ascended into heaven, is seated at the right hand of the Father, and will</a:t>
            </a:r>
            <a:br>
              <a:rPr sz="5500"/>
            </a:b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and will come again to judge the living and the dead.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28600" y="762120"/>
            <a:ext cx="8686800" cy="40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Do you believe in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the Holy Spirit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 believe in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the Holy Spirit,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15228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 holy catholic church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the communion of saints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the forgiveness of sins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the resurrection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of the body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and the life everlasting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hanksgiving Over the Water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1447920"/>
            <a:ext cx="86868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 Lord be with you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nd also with you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Let us pray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304920"/>
            <a:ext cx="8915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THANKSGIVING OVER THE WA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8600" y="380880"/>
            <a:ext cx="8686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Eternal Father: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hen nothing existed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but chaos,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you swept across the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dark waters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and brought forth ligh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52280" y="901800"/>
            <a:ext cx="8686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n the days of Noah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you saved those on the ark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through water.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fter the flood you set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in the clouds a rainbow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57200" y="1187280"/>
            <a:ext cx="868680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Do you confess Jesus Christ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s your Savior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put your whole trust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n his grace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promise to serve him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s your Lord,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28600" y="152280"/>
            <a:ext cx="868680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When you saw your people</a:t>
            </a:r>
            <a:br>
              <a:rPr sz="5200"/>
            </a:b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   as slaves in Egypt, you led </a:t>
            </a:r>
            <a:br>
              <a:rPr sz="5200"/>
            </a:b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   them to freedom through</a:t>
            </a:r>
            <a:br>
              <a:rPr sz="5200"/>
            </a:b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   the sea.</a:t>
            </a:r>
            <a:br>
              <a:rPr sz="5200"/>
            </a:b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heir children you brought</a:t>
            </a:r>
            <a:br>
              <a:rPr sz="5200"/>
            </a:b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   through the Jordan to the </a:t>
            </a:r>
            <a:br>
              <a:rPr sz="5200"/>
            </a:b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   land which you promised.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83808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ing to the Lord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ll the earth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ell of God’s mercy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each day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52280" y="380880"/>
            <a:ext cx="8686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n the fullness of time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you sent Jesus,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nurtured in the water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of a womb.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He was baptized by John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and anointed by your Spiri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52280" y="838080"/>
            <a:ext cx="8686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He called his disciples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to share in the baptism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of his death and resurrection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and to make disciples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of all nation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99072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Declare his work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o the nations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is glory among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ll the peopl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28600" y="1295280"/>
            <a:ext cx="8686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our out your Holy Spirit,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o bless this gift of water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and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those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who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it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52280" y="380880"/>
            <a:ext cx="8915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o wash away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their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sin, and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clothe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them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in righteousness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throughout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their lives,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at, dying, and being raised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with Christ,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they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may share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in his final victory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30492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ll praise to you, Eternal Father, through your Son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Jesus Christ, who with you and the Holy Spirit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lives and reigns for ever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-1905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Baptism with Laying On of Hands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1023840"/>
            <a:ext cx="8686800" cy="46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Nathaniel Jay Javorski,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I baptize you in the name of the Father, and of the Son, and of the Holy Spiri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280" y="22860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BAPTISM WITH LAYING ON OF H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76320" y="152280"/>
            <a:ext cx="8991360" cy="55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Holy Spirit work within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you, that being born through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water and the Spirit,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you may be a faithful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disciple of Jesus Chris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" y="1370160"/>
            <a:ext cx="8686800" cy="40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in union with the church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which Christ has opened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o people of all ages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nations, and races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d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152280"/>
            <a:ext cx="9144000" cy="57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Now it is our joy to welcome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our new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brother</a:t>
            </a:r>
            <a:r>
              <a:rPr b="0" lang="en-US" sz="5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n Chris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rough baptism, you ar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ncorporated by the Holy Spirit into God’s new creation and made to share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46044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n Christ’s royal priesthood.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We are all one in Christ Jesus.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With joy and thanksgiving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we welcome you as </a:t>
            </a: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5400"/>
            </a:b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member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of the family of Chris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Commendation and Welcome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8600" y="1979640"/>
            <a:ext cx="868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embers of the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household of God,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I commend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these persons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to your love and car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8380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COMMENDATION AND WEL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28600" y="1371600"/>
            <a:ext cx="868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Do all in your power to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increase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their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faith,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confirm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their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hope,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and perfect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them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in lov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52280" y="533520"/>
            <a:ext cx="86868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 give thanks for all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that God has already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given you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and we welcome you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in Christian lov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533520"/>
            <a:ext cx="9144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s members together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ith you in the body of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Christ and in this congregation of Th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United Methodist Church,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228600"/>
            <a:ext cx="914400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e renew our covenant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   faithfully to participat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   in the ministries of the 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   church by our prayer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   our presence, our gift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   and our service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28600" y="1371600"/>
            <a:ext cx="8686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at in everything God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may be glorified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through Jesus Christ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3808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God of all grace, who has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alled us to eternal glory in Christ, establish you and strengthen you by the power of the Holy Spirit that you may live in grace and peac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94464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INTRODUCTION TO THE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Introduction of Service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1647720"/>
            <a:ext cx="8686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others and sisters in Chris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ough the Sacrament of Baptis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we are initiated int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Christ’s holy church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BAPTISMAL COVENANT 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2284560"/>
            <a:ext cx="86868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Will you nurture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these children (persons)</a:t>
            </a:r>
            <a:br>
              <a:rPr sz="4600"/>
            </a:br>
            <a:r>
              <a:rPr b="0" lang="en-US" sz="46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in Christ’s holy church,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04920" y="152280"/>
            <a:ext cx="868680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We are incorporated into God’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mighty acts of salvation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given new birth through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water and the Spirit.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All this is God’s gift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ffered to us without price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resentation of Candidates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920" y="1981080"/>
            <a:ext cx="86868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I present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Hannah Lynn Sutton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for baptism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76212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RESENTATION OF CANDI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rofession of Faith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2286000"/>
            <a:ext cx="86868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On behalf of the whole church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 ask you: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685800"/>
            <a:ext cx="8915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RENUNCIATION OF SIN AND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ROFESSION OF FA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04920" y="177840"/>
            <a:ext cx="868680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Do you renounce the spiritual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forces of wickedness,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reject the evil powers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of this world,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and repent of your sin?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I do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52280" y="152280"/>
            <a:ext cx="899172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Do you accept the freedom and power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God gives you to resist evil, injustice,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and oppression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in whatever forms they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present themselves?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I do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228600" y="152280"/>
            <a:ext cx="8686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 you confess Jesus Chris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as your Savior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put your whole trus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in his grac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and promise to serve hi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as your Lord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457200" y="228600"/>
            <a:ext cx="8686800" cy="40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in union with the church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which Christ has opened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o people of all ages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nations, and races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d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457200" y="914400"/>
            <a:ext cx="86868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Will you nurture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these children (persons)</a:t>
            </a:r>
            <a:br>
              <a:rPr sz="4600"/>
            </a:br>
            <a:r>
              <a:rPr b="0" lang="en-US" sz="46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in Christ’s holy church,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28600" y="152280"/>
            <a:ext cx="868680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hat by your teaching and example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they may be guided to accept God’s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God’s grace for themselves,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to profess their faith openly,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and to lead a Christian life?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I will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457200" y="152280"/>
            <a:ext cx="868680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Do you, as Christ’s body,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the church,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reaffirm both your rejection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of sin and your commitment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to Christ?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We do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4-17T16:17:59Z</dcterms:modified>
  <cp:revision>21</cp:revision>
  <dc:subject/>
  <dc:title>PowerPoint Presentation</dc:title>
</cp:coreProperties>
</file>