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329-7DC8-47C7-9CA4-8667E7CF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4D8-70B6-40DE-BFC2-EA5F82F8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D6-FA79-4EC5-A4C4-F9E0FB66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4C0-3B02-4410-A26A-3A479D87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E75-4CE6-4C24-A22A-70A0A15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F37-0FD2-4E5A-A231-58D07A9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823-7F7E-4099-B5D6-FFCC6D8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C78-463C-4D58-A9D8-0C8C7431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9A5-20FE-4C7E-BFBB-D2EBFAA1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767-DFD7-4955-8D3C-0105E79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0FC-1D96-49C1-9C83-8F534BD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B1B-C6AB-4E87-B795-4D50F32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A8C-8232-4123-8887-97F8D9DA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90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that do truly and earnestly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 of y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in love and charit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neighbo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mercy upon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rdon and deliver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si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and strength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all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Jesus Chri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ORDS OF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ds of Assura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what comfortable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criptures say to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ruly turn to the Lor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35200"/>
            <a:ext cx="868680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all who la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heavy lad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 will give you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03320"/>
            <a:ext cx="868680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o loved the world that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s only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oever believes in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ould not perish bu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0160"/>
            <a:ext cx="8686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righteousne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 one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have an advoc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the righteo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t for ours onl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hole worl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From 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2952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end to lead a new lif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llowing the commandmen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alking from hencefor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his holy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73520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et and right so to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very meet,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t bounden du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should at all ti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all pla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thanks un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Father,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with ange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ch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all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ny of heav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aud and magn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gloriou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more prais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ying (singing)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God of host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thy glory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the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133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that come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of thy tender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st give thine onl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cross for our redemp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there, by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of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full, perfect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ufficient sacrif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sins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hole wor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id instit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his holy Gosp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mand us to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perpetual mem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precious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il his coming aga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us, O merciful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most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y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se thy gifts of bre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aw near with faith,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ake this Holy Sacrament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 your humble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ession to almight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, receiv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ccording to th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institu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,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be partak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vine nature through hi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, in the same nigh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as betrayed, took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roke it, and gav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his disciples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6765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for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wise after supp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took the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gave it to them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ye all of thi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is 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for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e forgiveness of si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20574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 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e shall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e, thy humble serva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esire thy father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odness merciful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praise and thanksgiv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humbly beseech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e to grant tha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the merits and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thy So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through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his 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nd thy whol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obt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orgiveness of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all other benef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his pa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 Father of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Lord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ker of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udge of all 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cknowledge and bewail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manifold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wicke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re we off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present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Lord, ourselve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souls and bod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be a reasonable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lively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;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bly beseeching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at all we who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partakers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ly Commun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be fill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y gr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eavenly benedi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thoug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e unworth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rough our manifold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offer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y sacrif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we beseech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bound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uty and serv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not weighing our mer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ut pardo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offens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whom, and with wh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unit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onor and glory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AYER OF HUMB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Humble Acc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presu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ome to this thy tab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merciful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sting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wn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in thy manif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reat merc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not wor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o gather up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y crumb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der thy tabl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art the sam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se property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ways to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, therefo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ciou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to partake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acrament of thy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walk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wness of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grow into his lik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ay ever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in him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e in us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we from time to 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ost griev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committ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ought, w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thy divine majes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nt us thy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 and Cu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given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and eat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d on him in th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faith with thanksgiv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th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God, whic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passeth all understand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keep your hearts and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knowledg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of his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Jesus Christ our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bless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Father,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 among you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remain with you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earnestly rep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re heartily sorry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se our misdo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remembrance of them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s grievous un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ost merciful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y Son our Lor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esus Christ’s sak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all that is p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 that we ma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ever hereaft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and please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newness of lif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onor and glor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y na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PARD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of thy great mercy ha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mised forgiveness of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m that with hear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ance and true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urn to the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5:04:00Z</dcterms:modified>
  <cp:revision>13</cp:revision>
  <dc:subject/>
  <dc:title>PowerPoint Presentation</dc:title>
</cp:coreProperties>
</file>