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6CC0-35B8-42E9-B4A9-D83BC72B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913-11C8-4405-9888-324DBE5D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83A-0833-4B00-82D5-93E2EF45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5D77-6771-4F4F-859D-E192B726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2CA-E87B-434B-9860-493527BF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90E-D928-45BC-B17E-CAF9EED9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40B-B82A-438B-BA0D-612CA0E2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3E9-9724-4ED5-980F-769F2072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4A3-A91D-4055-90EE-A6890D83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BA3-981C-41F2-8355-215F4B44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383-F6C2-444F-B68D-84E24B83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F06-57B7-42C6-A476-62A398BC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157B-76D5-4C43-A2CC-7BC053054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36836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ICAL SETTING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438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90512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981080"/>
            <a:ext cx="7925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11744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484280"/>
            <a:ext cx="876312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4:50:17Z</dcterms:modified>
  <cp:revision>15</cp:revision>
  <dc:subject/>
  <dc:title>PowerPoint Presentation</dc:title>
</cp:coreProperties>
</file>