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493-40FF-486F-93CD-5844100E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647-5266-44F5-996E-9F0EFAD3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168-CC6F-425B-A0E4-04AE5498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67D-9248-45B8-8F52-B8A356AC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F02F-203B-48FE-B4AF-D7CD5681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F36D-06E0-4956-A602-B840ED04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6D95-8D4F-49C3-8ACD-8D616493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CB6E-BB4F-4D9E-A933-E185E82C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9894-8CDD-4BE8-928F-66FB794D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A793-93EF-44EA-9BA9-0D38593B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7AB8-E284-4306-8F1F-172BD782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CF6-D409-4023-9795-DA0D333B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B9EF-07E9-4B13-8095-9FA8A196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B98C-C815-4B4A-943A-8520F1F3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1DF3-FEDD-42B1-825F-FD27DA00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4E35-DEA0-42F7-B2D0-BEA9BC36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443F-ED74-4241-B465-4CBB9D90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1ED-BB03-4E06-AAF3-7FCE84BC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275-B5C9-4C79-B436-9E2F5F5B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333-42C1-4316-B36E-90FEBD9E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88D-C385-436F-A351-4F85F9E1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6FD-61D5-4333-A1C3-F60F5F28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501-AEFB-48D7-AE2D-F79484DA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9A3-3D03-492C-9852-D0C08816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3A6E-96F7-4D72-A4EF-E62E9D824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6160-3117-4E32-AE62-C5FD42B55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8097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rough the Sacrame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71440"/>
            <a:ext cx="9144000" cy="49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ccording to the grace given to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ll you remain faithful member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Christ’s holy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serve as Christ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presentatives in the worl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76320"/>
            <a:ext cx="906768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457200"/>
            <a:ext cx="868680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320" y="152280"/>
            <a:ext cx="899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o was conceived by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oly Spirit, born of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irgin Mary, suffered under Pontius Pilate, was crucified, died, and was buried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descended to the dea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n the third day he rose again; he ascended into heaven, is seated at the righ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hand of the Father, and will come again to judge the living and the dead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685800"/>
            <a:ext cx="868680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320" y="7632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3880"/>
            <a:ext cx="8686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3049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457200"/>
            <a:ext cx="8686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68580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320" y="76320"/>
            <a:ext cx="88390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When you saw your peopl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s slaves in Egypt,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you led them to freedom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ir children you brough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rough the Jordan to the land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which you promi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907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38088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91440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907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83808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by this gift of wate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call to our remembran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grace declared to u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our baptis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38088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For you have washed away our sins, and you clothe us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with righteousness throughout our lives, that dying and rising with Christ we may share i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his final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8892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praise to you, Eternal Father, through your So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with you and the Holy Spirit lives and reigns for ever. 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affirmat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600200"/>
            <a:ext cx="8686800" cy="32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Remember your baptism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be thankfu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858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AFFIRMAT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809640"/>
            <a:ext cx="86868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Through the reaffirmation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of our faith,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we renew the covenant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declared at our baptism,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152280"/>
            <a:ext cx="868680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oly Spirit work withi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having been bor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water and the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may live as faith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sciples of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752480"/>
            <a:ext cx="8686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Let us rejoice in th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faithfulness of ou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covenant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286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give thanks for all tha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God has already given us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 members of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body of Christ a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we will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faithfully participat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in the ministries of th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church by our prayer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our presence, our gift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  and our service,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1371600"/>
            <a:ext cx="8686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21276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God of all grace, who has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alled us to eternal glory in Christ, establish and strengthen you by the power of the Holy Spirit, that you may live in grace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209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rough the Sacrame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rough the reaffirm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our fait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renew the covena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eclared at our baptism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91916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cknowledge what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s doing for u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affirm our commitme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Christ’s holy church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320" y="682560"/>
            <a:ext cx="89154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acknowledge what God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is doing for us,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and affirm our commitment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to Christ’s holy church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74320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PROFESS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00332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63828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accept the freedo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ower God gives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resist evil, injusti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ppress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1370160"/>
            <a:ext cx="8686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to people of all ag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nations, and ra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271440"/>
            <a:ext cx="868680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ccording to the grac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given to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ill you remain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embers of Christ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ly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serve as Christ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presentatives in the world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1003320"/>
            <a:ext cx="86868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uffered 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43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PROFESS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91772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en you saw your peopl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slaves in Egyp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led them to freedo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ir children you brough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the Jorda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the land whi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76320"/>
            <a:ext cx="883944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forces of wickedness, rejec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e evil powers of this world,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15238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y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all to our remembranc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grace declared to us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ou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or you have washed away our sin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you clothe u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righteousn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out our li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 dying and rising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Chri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e may share i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455760"/>
            <a:ext cx="891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raise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your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affirmat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438280"/>
            <a:ext cx="86868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Remember your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e thankful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858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AFFIRMAT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72864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ork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 having been bor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 and the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may live as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s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233028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rejoice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aithfulness of ou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ovenant Go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ithfully particip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ministr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chur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320"/>
            <a:ext cx="899172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Do you accept the freedom and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power God gives you to resist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evil, injustice, and oppression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914400"/>
            <a:ext cx="8686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God of all gra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o has called us 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eternal glory in Chris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stablish and strengthen you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y the power of the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you may liv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grace and pea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15228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228600"/>
            <a:ext cx="8686800" cy="47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to people of all age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nations, and rac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08T23:54:10Z</dcterms:modified>
  <cp:revision>17</cp:revision>
  <dc:subject/>
  <dc:title>PowerPoint Presentation</dc:title>
</cp:coreProperties>
</file>