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F77-9572-4F58-AAC3-8F2E40B5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C9AC-F563-4147-9D1C-D85CB369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992-5506-4F29-AA23-9E8D4B27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C35-7A6B-405F-9086-D01AE934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ABD2-8A4D-4223-A9AB-7EE49DB1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831E-8D26-4267-B9E1-90C5FBD7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8681-1045-46E3-95C6-113D90C3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E2F1-8479-4453-9D2C-41312526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752C-B747-44CB-A920-1DF7FC46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368C-ADC1-4359-AA0F-3B939520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CE3C-179E-4034-8E37-3A1E253D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BB3-D529-45EE-BAEB-480568A5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B16D-8030-42CA-A549-4CA5F645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088E-F118-415A-B38B-E8FD5047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C231-CCD4-4FA6-9C2E-E343E395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B40A-EDFF-4767-98EB-C474D118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677B-2C79-4FE7-A10C-C8AF0245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EE6-7CFD-4AC0-A7F2-924BEBCA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619-1D34-4E76-AA30-ACD86B1D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B68-97E5-4F80-9448-373D201E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0D6-5529-4A96-959E-D612AF75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D50-6B47-4076-8F29-D20A973D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18E-82C8-49AE-ABDD-CC08339E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DBF-C662-477F-B2E2-66534CF0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5879-FEA0-41D8-B575-18DF547ED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F60C-23CF-49DC-B5CD-E05AB31E1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0020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ICAL SETTING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00200" y="990720"/>
            <a:ext cx="62485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7632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380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0"/>
            <a:ext cx="87631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n remembrance of these your mighty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cts in Jesus Christ, we offer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urselves in praise and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anksgiving as a holy and living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sacrifice, in union with Christ’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22860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380880"/>
            <a:ext cx="876312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137016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1255680"/>
            <a:ext cx="876312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1371600"/>
            <a:ext cx="70102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(Musical Setting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160" y="76320"/>
            <a:ext cx="9067680" cy="1447560"/>
            <a:chOff x="38160" y="76320"/>
            <a:chExt cx="9067680" cy="144756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38160" y="76320"/>
              <a:ext cx="95256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8153280" y="76320"/>
              <a:ext cx="952560" cy="14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09-30T18:15:25Z</dcterms:modified>
  <cp:revision>13</cp:revision>
  <dc:subject/>
  <dc:title>PowerPoint Presentation</dc:title>
</cp:coreProperties>
</file>