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4F2A-D861-4A00-80EF-870D2592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18AE-4635-4A8F-8B6B-30183566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512B-5BC2-4526-89C8-4E94EEB0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A158-EDDF-4B32-93D5-E23A0B00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8BB0-FA41-4924-A58A-77E0F9DD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1FF-C53C-4F78-8C71-379C3B59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182-B2FF-4B2A-BCC6-B8E1BDF7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803-5657-4A13-9FD0-A10431AF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FC2-89E9-48B6-8CCA-C2C626C7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18D-DFCA-4419-8102-C8A33D0B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266-5956-459A-B499-11E5134C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C27-F7BC-4477-BFF1-FD6C3793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9A0E-24BD-4F8F-B95E-B4CE497BC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GREGATIONAL PLEDGE 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09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you as a congreg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ccept the responsibility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sisting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se paren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fulfillment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baptismal vow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ONGREGATIONAL PLEDG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187280"/>
            <a:ext cx="868680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nd do you undertake to provid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facilities and opportuniti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for Christian nurture an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   fellowship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We will, by the grace of Go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5:28:43Z</dcterms:modified>
  <cp:revision>16</cp:revision>
  <dc:subject/>
  <dc:title>PowerPoint Presentation</dc:title>
</cp:coreProperties>
</file>