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469-7D40-47B6-ACB0-E9BCA790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7BC-3470-4554-9AAC-F7BDB670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15C-C756-48C8-BF09-A472DAB6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FDB-318F-4637-8492-ED000ED8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A78-8D52-41D1-B38F-2E4D2A2F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3DF-5649-4103-9BD5-6DFC901C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DEF-FC2D-4E7E-8CC9-533BA687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604-F3D3-4C34-B42C-2DD1F085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08D-BA2F-4863-A8ED-3A45FFC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E7D-E48F-4CF1-B623-C0AD0760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2B0-0B25-4544-9E36-AEC1953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4C3-5F4F-43B9-961A-0405C9A4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7F4D-FC0A-47B5-907B-85E037393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EGATIONAL PLED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193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mber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usehold of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end to your love and c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is chi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m we this day recogniz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memb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family of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ONGREGATIONAL PLEDG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endeavor so to lo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is child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grow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knowledge and love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our Savior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27800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ith God’s help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we will so order our live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after the example of Christ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600" spc="-1" strike="noStrike">
                <a:solidFill>
                  <a:srgbClr val="000000"/>
                </a:solidFill>
                <a:latin typeface="Times New Roman"/>
              </a:rPr>
              <a:t>this child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, surrounde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by steadfast love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may be established in fait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confirmed an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strengthene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in the way that lead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to life eternal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5:29:48Z</dcterms:modified>
  <cp:revision>18</cp:revision>
  <dc:subject/>
  <dc:title>PowerPoint Presentation</dc:title>
</cp:coreProperties>
</file>