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9D6E-5EFA-45B9-810C-597DF0E9A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8FD4-C79A-41B5-BF70-0818F1EB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0669-0860-4693-82E5-5F76FF41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809C-187E-49DB-B0F3-6CD57CDA1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67FD-D5C3-47B9-BD17-BB0F9BF8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9E06-4C65-4D45-BCA9-C201E55F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6D84-1C06-48DC-AC4F-6CC3AB62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6C69-8A22-4F84-8149-5C7C3A5A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612F-83AE-4DAE-931F-2768C5C8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A567-F85D-42B6-A116-3A66D38A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2B9E-EE08-43F8-9B1F-759CD5B6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D03F-967E-44A7-9EBA-4CAD5996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1A28-FAE8-4269-8B06-C689BF549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sical Setting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368360"/>
            <a:ext cx="86868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ft up your hear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lift them up to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USICAL SETTING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173520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give than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Lord our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s right to give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s and prai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your people on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ll the compan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heav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praise your nam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oin their unending hym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5909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, holy, holy Lord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of power and m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98108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ven and earth a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ull of your glory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13372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d is he who com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name of the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45576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remembrance of these your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ighty acts in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offer ourselves in prai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anksgiving as 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oly and living sacrifi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union with Christ’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fering for 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1370160"/>
            <a:ext cx="87631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e proclaim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stery of fai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has di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is ris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will come agai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484280"/>
            <a:ext cx="86868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honor and glory is you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Fathe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(God)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w and for e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, amen,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18T14:47:34Z</dcterms:modified>
  <cp:revision>14</cp:revision>
  <dc:subject/>
  <dc:title>PowerPoint Presentation</dc:title>
</cp:coreProperties>
</file>