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6AF-04F5-4BBF-B849-100EE86B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DAC-D3E9-4080-808F-87726621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AAB-854C-45D8-A555-05E4CFD1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2B0-8CE3-4E95-94BE-1ABE62C8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7B8E-0A6C-42EF-838C-D6E6B29E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FDD3-A0C0-4324-92C4-A23C01EE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7B78-A2AB-4F56-9653-598383B3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5A85-4A11-410D-BC9A-466AF291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9246-EB3E-4936-96C9-C073911C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3B0B-74C8-4BBD-9E38-16FB902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F4F7-D5D1-42F8-8C0A-A4F7FD25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C07-7A82-4EA9-B272-8DA69C87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BDC9-0409-4CF2-B5E0-DFEC96F8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A1E6-E823-4C1F-AD2A-E5A07E9A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18A7-C5E1-40BE-ABD8-2A7720F7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0AA6-54F3-432A-8180-62BA8DEA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79D6-5837-42BB-A339-8E219D62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80E-930B-4373-A5F4-90EF78C3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B98-0294-4BD8-AB31-53AC46BD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CF3-6A69-4FD6-A7F6-CE9EB4AF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EB3-77F7-40B5-A356-263B2184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0DF-A264-479E-B7F9-38E16056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3A8-BE94-452E-838E-2D69B59D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B64-5086-4E59-9922-246E80F6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EAE5-CD2C-422D-A5F9-8B118538A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9368-9D14-4165-A739-931521FCC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0020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0200" y="990720"/>
            <a:ext cx="62485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763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80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0"/>
            <a:ext cx="8763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n remembrance of these your mighty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cts in Jesus Christ, we offer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urselves in praise and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anksgiving as a holy and living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sacrifice, in union with Christ’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22860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380880"/>
            <a:ext cx="876312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1255680"/>
            <a:ext cx="876312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371600"/>
            <a:ext cx="70102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(Musical Setting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160" y="76320"/>
            <a:ext cx="9067680" cy="1447560"/>
            <a:chOff x="38160" y="76320"/>
            <a:chExt cx="9067680" cy="14475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38160" y="76320"/>
              <a:ext cx="95256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8153280" y="76320"/>
              <a:ext cx="952560" cy="14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09-30T18:15:25Z</dcterms:modified>
  <cp:revision>13</cp:revision>
  <dc:subject/>
  <dc:title>PowerPoint Presentation</dc:title>
</cp:coreProperties>
</file>