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D27-4622-4C6F-A325-C7A8DB4E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AC1-68AE-4FA7-BFF4-FA1AE509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BE54-B4E6-4E80-89D2-E1501E12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3C35-A69A-4593-825C-DEF16C46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DA1-DD1E-4987-B7BC-CB068DAF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064-66AD-423B-B13A-7A4CEA39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4EA-C009-4D60-A7AB-1ADE97A8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EC3-D958-4D8D-A806-015C368C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8A9-3850-4C3D-B23A-AF74DEFC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47D-D10F-4055-892F-EA01B843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C8B-AC83-4E76-8879-797BD71B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45D-45D8-4FFB-A1AF-A5966F75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02FF-EF7E-457D-B450-554CCE304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al Setting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36836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SICAL SETTING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90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810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1337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37016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484280"/>
            <a:ext cx="86868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, amen,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18T14:47:34Z</dcterms:modified>
  <cp:revision>14</cp:revision>
  <dc:subject/>
  <dc:title>PowerPoint Presentation</dc:title>
</cp:coreProperties>
</file>