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490-5476-4907-A486-5A1ED59B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022-221D-46A1-8D88-9A80199A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DBB-FD24-49FD-ABC0-DBE8464E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3C0-BE7E-41A0-B9E7-A4B31E7F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ACC-79B7-404B-A9E7-2E87E285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659-E6B8-449E-B7A5-28FCEB67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06A-FC0C-45A8-8D02-BA463C91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D6B-597A-4556-A3E2-DA683865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F7F-ADF3-4187-B1D0-EA4F88EE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289-F138-4973-9C52-44B9B1B9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7B2-15B8-4B27-8699-FBFAC784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18C-654C-4FD5-9D3F-A93C2CA8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26A1-AAD8-4E03-8721-8FC0857BD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6836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ICAL SETTING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438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9051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981080"/>
            <a:ext cx="7925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11744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484280"/>
            <a:ext cx="876312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4:50:17Z</dcterms:modified>
  <cp:revision>15</cp:revision>
  <dc:subject/>
  <dc:title>PowerPoint Presentation</dc:title>
</cp:coreProperties>
</file>