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30F-1A3A-4B87-A715-D5621E19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BE3-457E-4230-B4B3-545E76C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5D3-988A-466D-AED5-D04A9346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082-11D5-4FE8-AA64-D53269B4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136B-194C-45E6-AD92-9F06D9BB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561B-BE3F-47CC-9633-BC0023A9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CD02-09A5-4A05-A60A-CC63FA8B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E537-321B-4DA7-9164-C3D5063E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49A-91F8-4B76-8486-234163B1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0308-0370-49B6-BE16-3ED12FF0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4030-8CDA-4AEB-B871-17EE371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A94-4CF1-4BFA-BE11-A85A92C6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3581-8689-4A73-B45D-A52ECCE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7E0E-B5A2-4F37-AC74-38567FE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C4C9-3128-4AB6-850F-727774AD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7FAC-34B5-426A-933E-01F90BE9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BD90-3832-46EF-9368-2955C77A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9BB-8C8E-4A37-A3D5-C65AB53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6E7-46AA-45FD-B970-9E6D130E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046-FD63-41AD-843B-DE97711B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D0F-DDEE-4622-BC8C-F78B8FD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FE3-E27A-4213-A91F-83DA60A5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786-C5D2-425C-920C-4A04C6A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8B7-4128-47A6-8DA4-C066798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AC0E-D3CE-4700-BD60-CCF972550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E6E-E96E-4BF9-B489-261D576F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386000"/>
            <a:ext cx="8686800" cy="35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52280"/>
            <a:ext cx="87631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at liberty those who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ppressed, and to annou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e time had come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would save your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ealed the sick, fed the hung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te with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76320"/>
            <a:ext cx="9067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7621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Jesus asce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promise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with us alwa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power of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393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7621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609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3808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06524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7632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 in remembrance of the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80880"/>
            <a:ext cx="861084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914400"/>
            <a:ext cx="868680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9144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744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668160"/>
            <a:ext cx="8991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94284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393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Jesus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 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09480"/>
            <a:ext cx="8991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101520"/>
            <a:ext cx="906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your will be don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ive us today our daily brea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give us our s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335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ave us from the time of tria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now and forever. Am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REAKING THE B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reak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094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there is one loa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, who are many, are on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all partake of the one loaf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ead which we break i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ring in the bod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1430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p over which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anks is a sha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blood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3049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533520"/>
            <a:ext cx="88390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30492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 God, we give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anks for t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oly myster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which you have giv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yourself to u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320" y="152280"/>
            <a:ext cx="90676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rant that we may g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to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the strength of your Spirit, to give ourselves for other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1143000"/>
            <a:ext cx="87631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e name of Jesus Chri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2060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609480"/>
            <a:ext cx="899172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 and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union 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AND TABLE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905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8954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0880" y="124128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95360" y="246708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sen Christ is with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pening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 all hearts are op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desires know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you no secre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hidd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eanse the thoughts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inspiration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perfect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yo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orthily magnify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39384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formed us in your im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thed in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th of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turned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r love fai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love remained steadf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CLAMATION AND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Illum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3623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open 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i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power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480" y="1295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ILLU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, as the Scriptures are r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Word proclaim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may hear with jo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you say to us tod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SPONSE TO TH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to the Wor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9191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 jud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iving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table all who lov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earnestl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ir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ek to live in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6002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ailed to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62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6094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livered us from captiv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de covenant to be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vereig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poke to u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neighbo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not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118584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144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1337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480" y="1371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formed us in your im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thed in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th of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turned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r love fai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love remaine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teadf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92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livered us from captiv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de covenant to be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vereig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poke to u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21932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228600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65104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pirit anoint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ach good new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oclaim relea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capti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covery of s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bli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at liberty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are oppr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o announce tha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me had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en you would s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ealed the si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ed the hung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te with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Jesus asce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promise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with us alwa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power of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5335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11872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29528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in the name of the Lor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99072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will b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to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 our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ve us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ime of tria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ow and forever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REAKING THE B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reak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there is one loa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, who are man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on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all partak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loaf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ead which we break i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ring in the bod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p over which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anks is a sha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blood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990720"/>
            <a:ext cx="86868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God, we giv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nks for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myste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which you have gi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self to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that we may g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wor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strength of your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give ourselves for oth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pirit anoint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ach good news to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oclaim release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ptives, and recovery of s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bli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05T23:36:48Z</dcterms:modified>
  <cp:revision>12</cp:revision>
  <dc:subject/>
  <dc:title>PowerPoint Presentation</dc:title>
</cp:coreProperties>
</file>