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52E-A799-4886-AD44-2A205F41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9FA-1EF1-4EAE-A3FB-5DEB59F8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594-1E2C-4967-AFAC-4172BB5D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3C3-C248-4DC7-94FA-61016079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540-BEBA-47B4-969F-9772B2ED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0E9-D84A-466B-A1C5-7BC876D5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8DA-B04A-4B8B-B0E9-08DA1886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1C4-8005-44CF-BAF5-D9DC6F8C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1D6-569B-422C-9F97-C73E6DE2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3F2-0F8D-4D02-9224-134E45A7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21A-BC98-4CEE-A6D1-91DA1A83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9CA-02D0-41AD-85CB-F6CA7346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F595-6134-4FCA-88AB-F015D327B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096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church is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will be preserv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end of tim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r the conduct of worship an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due administration of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God’s Word and Sacraments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13192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truly and earnestly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pent of your sin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003320"/>
            <a:ext cx="86868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07964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receive and prof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 Scriptur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e Old an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ew Testament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promise, according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grace give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keep God’s holy wil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commandme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43028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walk in the sa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ll the days of your lif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faithful member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hrist’s holy church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62864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aintenance of Christi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ellowship and discipli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edification of believ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convers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13192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desire to b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aptized in this faith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43028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name of the Fathe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Holy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aying on of Hands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8686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333399"/>
                </a:solidFill>
                <a:latin typeface="Times New Roman"/>
              </a:rPr>
              <a:t>Name,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the Lord defend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his heavenly grac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by his Spirit confirm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faith and fellowship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true disciples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08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AYING ON OF HANDS, CONFIRMATION, OR REAFFIRMAT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United Methodist Chur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45728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those persons who a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embers of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ther communi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Christ’s holy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who now desire to en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to fellowship of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is congregation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NITED METHODIST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62864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resent themselv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be received in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membership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e Unite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ethodist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07964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be loyal to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uphold it by your prayers,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r presence, your gift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your servic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Local Congreg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83808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those who are memb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other congregations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United Methodist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now desire to en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to the fellowship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is congregati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esent themselves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be welcome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286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RECEPTION INTO THE LOCAL CONGREGATION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06668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Brothers and sisters,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commend to you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love and car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m w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is day recei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to the membership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is congregation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91916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joice to recogniz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f Christ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id you welcom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, of every age and stati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tand in need of the mea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grace which i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lone supplie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82080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renew our vows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phold it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will so order our li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fter the example of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, surround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teadfast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 may be establis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fai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onfirmed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trengthened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eternal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10160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God the Father, God the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od the Holy Spiri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less, preserv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keep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ow and evermo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for Those to be Baptize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2700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rasmuch as all have sin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fallen short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glory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ur Savior Christ sai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“Unless one is bor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water and the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ne cannot enter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kingdom of God.”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FOR THOSE TO BE BAPT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803240"/>
            <a:ext cx="86868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mighty and everlasting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call upon the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 these thy servants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27800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they, coming to th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ly baptism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ay receive remiss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eir si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e filled w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27800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Receive them, O Lor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thou hast prom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y thy well-beloved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grant that the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ay be faithful to the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ll the days of their lives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45260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inally come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ternal king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thou hast promis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in the presence of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his congreg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new the solemn vow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romis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ade at your baptism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9:26:46Z</dcterms:modified>
  <cp:revision>18</cp:revision>
  <dc:subject/>
  <dc:title>PowerPoint Presentation</dc:title>
</cp:coreProperties>
</file>