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AC6C-F9EC-4828-8597-D0420F12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DCB-1FDD-42C8-9B4C-91DE6314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B51-2A40-44EB-99CB-7EC6094E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336-078E-4177-A6B8-75E03815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995F-8DD4-408D-AF1E-BEC948FA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002-A332-4C3D-B231-048FF8EA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05F-19D8-412C-A600-AA5B5473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BED4-CE74-4A82-B8AF-D4B9120F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0DB-E74E-41CE-9226-A0C03F8C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F1AB-40DD-4F34-AFB1-1B9880C3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C081-39F9-4A38-B28D-C69C2D3E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3B7-BB5E-4833-96D2-C704ECA9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72BB-447B-4A21-9749-9C932488D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143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096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church is of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will be preserv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the end of tim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for the conduct of worship and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due administration of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God’s Word and Sacraments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131920"/>
            <a:ext cx="868680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truly and earnestly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pent of your sin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003320"/>
            <a:ext cx="86868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73520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as conceived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orn of the Virgin Ma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uffered und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ontius Pilat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as crucified,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third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rose agai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ascended into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seated at the r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nd of the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ill come again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judge the l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73520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079640"/>
            <a:ext cx="8686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receive and profes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contained in the Scriptur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the Old and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ew Testament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197964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promise, according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the grace given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keep God’s holy wil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commandment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430280"/>
            <a:ext cx="86868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nd walk in the sam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ll the days of your lif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faithful member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of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Christ’s holy church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62864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aintenance of Christi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ellowship and discipli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edification of believ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convers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131920"/>
            <a:ext cx="868680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desire to b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aptized in this faith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8380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430280"/>
            <a:ext cx="86868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Name,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name of the Father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of the So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of the Holy Spiri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aying on of Hands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523880"/>
            <a:ext cx="8686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333399"/>
                </a:solidFill>
                <a:latin typeface="Times New Roman"/>
              </a:rPr>
              <a:t>Name,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the Lord defend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 his heavenly grac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nd by his Spirit confirm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faith and fellowship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ll true disciples of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Jesus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088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LAYING ON OF HANDS, CONFIRMATION, OR REAFFIRMAT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ception into the United Methodist Churc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457280"/>
            <a:ext cx="86868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those persons who ar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embers of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ther communion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Christ’s holy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nd who now desire to en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to fellowship of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is congregation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0492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CEPTION INTO THE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UNITED METHODIST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162864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resent themselv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be received into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membership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The United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ethodist Church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079640"/>
            <a:ext cx="8686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be loyal to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uphold it by your prayers,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r presence, your gift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your servic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ception into the Local Congreg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83808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those who are member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other congregations of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United Methodist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nd now desire to en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to the fellowship of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is congregatio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esent themselves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be welcome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286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RECEPTION INTO THE LOCAL CONGREGATION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066680"/>
            <a:ext cx="86868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Brothers and sisters,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 commend to you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love and car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m w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is day receiv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to the membership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this congregation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049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91916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rejoice to recogniz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of Christ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oly chur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id you welcome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97964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l, of every age and statio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stand in need of the mean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grace which i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lone supplie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82080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e renew our vows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phold it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our pray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pres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gifts, and our serv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od’s help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e will so order our liv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fter the example of Chri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, surrounded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teadfast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 may be establish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fai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confirmed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trengthened in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leads to eternal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101600"/>
            <a:ext cx="8686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God the Father, God the So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God the Holy Spiri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less, preserv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keep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ow and evermor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 for Those to be Baptize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2700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Forasmuch as all have sinn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fallen short of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glory of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ur Savior Christ sai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“Unless one is bor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water and the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ne cannot enter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kingdom of God.”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 FOR THOSE TO BE BAPT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803240"/>
            <a:ext cx="86868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pray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mighty and everlasting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call upon the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or these thy servants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27800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they, coming to thy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holy baptism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ay receive remiss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their sin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be filled w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Holy Spiri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27800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Receive them, O Lor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thou hast promis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y thy well-beloved So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nd grant that they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ay be faithful to the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ll the days of their lives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45260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inally come to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ternal kingd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ich thou hast promis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0492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686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in the presence of Go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his congreg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new the solemn vow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promis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ade at your baptism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18T19:26:46Z</dcterms:modified>
  <cp:revision>18</cp:revision>
  <dc:subject/>
  <dc:title>PowerPoint Presentation</dc:title>
</cp:coreProperties>
</file>