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7AD-BC78-4518-8489-C508694E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747-1EAF-4FDB-A1C2-BAB2A2B8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79B-5202-4C77-9C08-FD61728D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85F-35FA-41DD-835F-9992B6B9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AC9-4989-46EB-B36C-278CE8A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B8A-13C6-4937-A3BB-2B42B55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8A3-F31C-46DB-80B3-69C616E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77F-854D-45C6-99BB-38A4BA0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D56-3295-4859-9D0A-4CC1A17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82D-250F-4288-B1CB-6B11ECA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B97-A2CD-4C08-B157-7868FD0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04D-3F54-48D8-B8F2-BA0D6CC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E0EA-AC37-41EA-863F-DAA309130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EGATIONAL PLEDG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you as a congreg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cept the responsibility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sisting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se par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fulfillment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baptismal v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ONGREGATIONAL PLEDG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187280"/>
            <a:ext cx="868680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nd do you undertake to provi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acilities and opportuniti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Christian nurture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fellowship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will, by the grace of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5:28:43Z</dcterms:modified>
  <cp:revision>16</cp:revision>
  <dc:subject/>
  <dc:title>PowerPoint Presentation</dc:title>
</cp:coreProperties>
</file>