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288-B13B-459B-AF3B-A5656349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F5B-CF60-46FA-8446-14BD84E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D7E-FC69-47B5-B59E-C531E557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A9F-9EC4-4040-AC37-01A11671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7A86-4A60-4A3C-BCED-127BD1B8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7DC4-2B26-4D29-B629-5FCE7B0D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FDA0-7696-4E05-83D1-18E68B7D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1615-D740-4639-9967-ADBE483A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5D92-AF8E-4925-94D5-4F22CD64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28EA-201C-4373-B768-4072F04C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0931-B9CF-4228-9F3D-02B6401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BFD-2DDE-41F7-81F2-0ECCC21C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B02-8252-407D-A34C-3F78BFDF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D467-0724-48D3-AD6C-777E142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19E2-86C5-4E25-AE4A-3A4CE027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76AD-726C-45CC-8446-4DD96BC3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6422-757E-4469-873B-D67E878C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17F-1528-4199-A35F-C2F8840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648-A9F9-4907-94BD-8C01EA2A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848-58B6-405D-BA05-CE8143AB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A10-39E1-4E73-961F-ADDE7A1B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41C-52D5-4150-8767-0574373A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4DD-FACA-46F3-8F54-A9CFB1F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776-D617-4EEE-B1D2-C76BE95A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E9A9-5711-4AF0-995D-5416D4ACD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3D73-ED3B-4ACD-A516-526B30DE0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Brothers and sisters in Christ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the Sacra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Baptism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e are initiated into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confess Jesus Chris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your Savior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ut your whole trus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his gra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promise to serve hi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y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Local Congregation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" y="824040"/>
            <a:ext cx="8991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of this congregation, will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you faithfully participate in its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ministries by your prayers, your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presence, your gifts, and your service?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152280"/>
            <a:ext cx="90676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Times New Roman"/>
              </a:rPr>
              <a:t>RECEPTION INTO THE LOCAL CONGREG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2193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Members of the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household of Go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comme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o your love and ca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609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4572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7621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280" y="441360"/>
            <a:ext cx="88394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renew our covenant faithfull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o participate in the ministri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by our prayers, our pres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9907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2280" y="228600"/>
            <a:ext cx="883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The God of all grace, who has called us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to eternal glory in Christ,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establish you and strengthen you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by the power of the Holy Spirit,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that you may live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in grace and peac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37016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union with the churc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hich Christ has open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people of all age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nations, and r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057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urture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hildren (persons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63828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at by your teaching an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example </a:t>
            </a:r>
            <a:r>
              <a:rPr b="0" i="1" lang="en-US" sz="4800" spc="-1" strike="noStrike">
                <a:solidFill>
                  <a:srgbClr val="003300"/>
                </a:solidFill>
                <a:latin typeface="Times New Roman"/>
              </a:rPr>
              <a:t>they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may be guid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accept God’s grac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for </a:t>
            </a:r>
            <a:r>
              <a:rPr b="0" i="1" lang="en-US" sz="4800" spc="-1" strike="noStrike">
                <a:solidFill>
                  <a:srgbClr val="003300"/>
                </a:solidFill>
                <a:latin typeface="Times New Roman"/>
              </a:rPr>
              <a:t>themselve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profess </a:t>
            </a:r>
            <a:r>
              <a:rPr b="0" i="1" lang="en-US" sz="4800" spc="-1" strike="noStrike">
                <a:solidFill>
                  <a:srgbClr val="0033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faith openly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o lead a Christian lif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1440"/>
            <a:ext cx="8686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ording to the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ill you remai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faithful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member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rist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chu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rve as Christ’s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representativ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worl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37016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ponso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andidates,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rt and encourag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ian lif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, as Christ’s body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reaffirm  both your rejec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sin and your commit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ill you nurture one anoth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life and inclu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now before you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your ca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676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the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rust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be found faithful in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the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e are incorporated into God’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mighty acts of salva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given new birth throug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ater and the Spirit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ll this is God’s gif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fered to us without pr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 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walk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join together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rofessing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contained in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criptures of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ld and New Testame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Go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Fa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Jesus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Holy Spir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917720"/>
            <a:ext cx="8686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ternal Father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hen nothing exist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but chao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wept across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ark water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rought forth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confirmation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hrough the reaffirma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our fait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e renew the covena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eclared at our baptis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days of Noa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aved those on the ark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water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fter the flood you se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louds a rainb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hen you saw your peopl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slaves in Egyp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led them to freedo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the sea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ir children you brough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the Jorda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the land whic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promis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fullness of tim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ent Jesu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nurtured in the wat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 womb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was baptized by Joh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nointed by your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called his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share in the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o make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ll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3302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si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clothe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, dying and being ra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455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raise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1772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name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f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f the Hol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cknowledge what Go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s doing for u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ffirm our commit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72864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Holy Spirit work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ithin you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at being born throug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ater and the Spiri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may be a faithful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isciple of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682560"/>
            <a:ext cx="868680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Now it is our joy to welcome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our new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sisters and brothers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in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baptis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incorpora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all on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 Jes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mil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irmation and Reaffirmat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4382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IRMATION AND REAFFI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72864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Holy Spiri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k with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having been bor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water and the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may live as a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1016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United Methodist Churc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3716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of Christ’s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universal church,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ill you be loyal to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United Methodist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do all in your power to   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trengthen its ministries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UNITED METHODIS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Local Congregation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6868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this congregation,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will you faithfully participate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in its ministries by your 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prayers, your presence,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your gifts, and your service?</a:t>
            </a:r>
            <a:br>
              <a:rPr sz="46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049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LOCAL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9796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Members of the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household of Go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comme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o your love and ca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8108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828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1295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ministr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469800"/>
            <a:ext cx="868680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God of all gra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ho has called us to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eternal glory in Christ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stablish you an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trengthen you</a:t>
            </a: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003300"/>
                </a:solidFill>
                <a:latin typeface="Times New Roman"/>
              </a:rPr>
              <a:t>   by the power of the Holy Spirit,</a:t>
            </a:r>
            <a:br>
              <a:rPr sz="46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at you may liv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grace and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4000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Brothers and sisters in Christ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the Sacra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Baptism we are initiat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to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1522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We are incorporated into God’s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mighty acts of salvation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and given new birth through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water and the Spirit.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All this is God’s gift,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offered to us without pri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rough confirmation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hrough the reaffirma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our fait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e renew the covena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eclared at our baptis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609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cknowledge what Go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s doing for u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ffirm our commitmen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762120"/>
            <a:ext cx="8686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Makenzie Lynn Huber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or baptism.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Pat Koleszar, Debbie Morkunas, Dan and Jen McCay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reaffirm 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fai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3716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af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presen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gregation from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____________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981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On behalf of the whole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ask you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1522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renounce the spiritual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forces of wickedness, reject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evil powers of this worl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repent of your s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52280"/>
            <a:ext cx="8839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Do you accept the freedom and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power God gives you to resist evil,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injustice and oppression in 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whatever forms they present</a:t>
            </a:r>
            <a:br>
              <a:rPr sz="4200"/>
            </a:b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   themselv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2872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confess Jesus Christ as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r Savior, put your whole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rust in his gra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promise to serve hi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y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1522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union with the churc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which Christ has opened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people of all age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nations, and r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9889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urture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hildren (persons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280" y="76320"/>
            <a:ext cx="899172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that by your teaching and example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i="1" lang="en-US" sz="4300" spc="-1" strike="noStrike">
                <a:solidFill>
                  <a:srgbClr val="003300"/>
                </a:solidFill>
                <a:latin typeface="Times New Roman"/>
              </a:rPr>
              <a:t>they</a:t>
            </a: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may be guided to accept God’s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God’s grace for </a:t>
            </a:r>
            <a:r>
              <a:rPr b="0" i="1" lang="en-US" sz="4300" spc="-1" strike="noStrike">
                <a:solidFill>
                  <a:srgbClr val="003300"/>
                </a:solidFill>
                <a:latin typeface="Times New Roman"/>
              </a:rPr>
              <a:t>themselves, </a:t>
            </a: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to 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profess </a:t>
            </a:r>
            <a:r>
              <a:rPr b="0" i="1" lang="en-US" sz="4300" spc="-1" strike="noStrike">
                <a:solidFill>
                  <a:srgbClr val="003300"/>
                </a:solidFill>
                <a:latin typeface="Times New Roman"/>
              </a:rPr>
              <a:t>their</a:t>
            </a: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faith openly,</a:t>
            </a:r>
            <a:br>
              <a:rPr sz="4300"/>
            </a:br>
            <a:r>
              <a:rPr b="0" lang="en-US" sz="4300" spc="-1" strike="noStrike">
                <a:solidFill>
                  <a:srgbClr val="003300"/>
                </a:solidFill>
                <a:latin typeface="Times New Roman"/>
              </a:rPr>
              <a:t>   and to lead a Christian lif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2280" y="141120"/>
            <a:ext cx="88394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ccording to the grace given to you,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will you remain</a:t>
            </a: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 faithful members 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of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hrist’s holy church and serve and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and serve as Christ’s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Times New Roman"/>
              </a:rPr>
              <a:t> representatives 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in the world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1522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ponso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se candidates,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rt and encourag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the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ian lif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250920"/>
            <a:ext cx="868680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Do you, as Christ’s body, the church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reaffirm  both your rejection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of sin and your commitment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o Christ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681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On behalf of the whole church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 ask you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ill you nurture one anoth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life and inclu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now before you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your ca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685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1522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forgiveness, that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may</a:t>
            </a:r>
            <a:br>
              <a:rPr sz="4500"/>
            </a:b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ow in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trust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be found faithful in</a:t>
            </a:r>
            <a:br>
              <a:rPr sz="4500"/>
            </a:b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  their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533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 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walk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4572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join together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rofessing the Christian fait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s contained in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Scriptures of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ld and New Testame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50004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God the Fa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60948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Jesus 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1522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was conceived by the Holy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Spirit, born of the Virgin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suffered under Pontius Pilat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320" y="210960"/>
            <a:ext cx="8991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 i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ated at the right hand of th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ther,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6858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believe in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e Holy Spir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renounce the spiritual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forces of wickednes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reject the evil powers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this world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repent of your s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8600" y="22860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143000"/>
            <a:ext cx="8686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2286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ternal Father: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When nothing existed but chaos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wept across the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dark water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rought forth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days of Noah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you saved those on the ark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hrough water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After the flood you set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the clouds a rainb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2280"/>
            <a:ext cx="86868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When you saw your people as slaves 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in Egypt, you led them to freedom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hrough the sea.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Their children you brought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hrough the Jordan to the land 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which you promise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8380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280" y="38088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In the fullness of time you sent 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Jesus, nurtured in the water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 womb.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was baptized by Joh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anointed by your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He called his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share in the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to make disciples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of all n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144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8380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3828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Do you accept the freedo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power God gives you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to resist evil, injustice,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oppression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in whatever forms they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present themsel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2280" y="11736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sin, and clo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, dying and being ra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praise to you, Eternal F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with you and the Holy Spiri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12680"/>
            <a:ext cx="899172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Makenzie Lynn Huber,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  in the name of the Father, and of 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  the Son, and of the Holy Spiri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82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250920"/>
            <a:ext cx="891540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The Holy Spirit work within you,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that being born through water and 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the Spirit, you may be a faithful</a:t>
            </a:r>
            <a:br>
              <a:rPr sz="4500"/>
            </a:b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   disciple of Jesus Chri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2280" y="152280"/>
            <a:ext cx="899172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Now it is our joy to welcome our new</a:t>
            </a:r>
            <a:br>
              <a:rPr sz="4500"/>
            </a:b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sisters and brothers </a:t>
            </a:r>
            <a:r>
              <a:rPr b="0" lang="en-US" sz="4500" spc="-1" strike="noStrike">
                <a:solidFill>
                  <a:srgbClr val="003300"/>
                </a:solidFill>
                <a:latin typeface="Times New Roman"/>
              </a:rPr>
              <a:t>in Chri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baptism, you ar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corporated by the Holy Spiri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15228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we welcome you as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the family of Chri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irmation and Reaffirmat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5238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286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IRMATION AND REAFFIRMA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152280"/>
            <a:ext cx="86868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at Koleszar, Debbie Morkunas, Dan and Jen McCay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Holy Spirit wor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in you, that having been born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ough water and the Spirit, you m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ve as a faithful disciple of Jesus Chr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8380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Remember your baptism</a:t>
            </a:r>
            <a:br>
              <a:rPr sz="4800"/>
            </a:b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ception into the United Methodist Churc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1143000"/>
            <a:ext cx="883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of Christ’s universal church  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will you be loyal to The United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Methodist Church, and do all in your 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power to strengthen its ministries?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320" y="763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CEPTION INTO THE UNITED METHODIS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23T03:11:52Z</dcterms:modified>
  <cp:revision>19</cp:revision>
  <dc:subject/>
  <dc:title>PowerPoint Presentation</dc:title>
</cp:coreProperties>
</file>