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0B9-F70A-4A4A-99B2-2D8C15EC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610-A676-4F53-AEC8-B151ACC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462-D405-4FDB-A796-01112252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B4C-B9C2-40A4-A4E6-E1EE610B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0DF-8A53-4C7D-8108-16668941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06C4-BC8F-4C22-9BA7-FA6766FA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F0A-87EA-426C-97F9-9E5A9A3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E41A-BF54-4BF6-A24A-A93F5B46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7ADE-A246-4ED7-AD5F-B1EA8548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0AD2-1C78-42D7-B23E-A7F9EBF3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5CE-F962-47EB-A6BB-C21B102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6A1-6758-4ECC-9496-D5D60DD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63FF-F819-4BBB-996B-BD09829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8482-B0E4-4074-B7C7-E74C4F3A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4383-AD78-4A9B-8A84-13FA3A4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4B7-8CE3-4669-8DEE-2FF7C8B6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672B-A33C-440B-87BB-E31DC10E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5F3-5B58-45A3-B7C6-CB03763B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855-7EEB-4562-9D42-EFC2571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021-858C-4DB1-98C1-AEC99483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861-462A-4DA1-891A-CA98026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02D-6D91-4680-BC9C-BD384E52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36C-154B-4C26-A7D4-72240E2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714-6965-4F04-AAC7-45972E6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4F38-3115-44AF-878C-FEFA035A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D89-5129-4A4C-900E-91B1C9ED5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097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71440"/>
            <a:ext cx="914400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ording to the grace given to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ll you remain faithful memb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Christ’s holy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resentatives in the worl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76320"/>
            <a:ext cx="90676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457200"/>
            <a:ext cx="86868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15228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 Spirit, bor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rgin Mary, suffered under Pontius Pilate, was crucified, died, and was burie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n the third day he rose again; he ascended into heaven, is seated at the ri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hand of the Father, and will come again to judge the living and the dead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685800"/>
            <a:ext cx="86868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7632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3880"/>
            <a:ext cx="8686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304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457200"/>
            <a:ext cx="8686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6858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320" y="76320"/>
            <a:ext cx="883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s slaves in Egypt,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the Jordan to the lan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hich you promi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38088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9144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by this gift of wate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all to our remembr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race declared to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our baptis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38088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you have washed away our sins, and you clothe us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ith righteousness throughout our lives, that dying and rising with Christ we may share 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his final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89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praise to you, Eternal Father, through your S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with you and the Holy Spirit lives and reigns for ever. 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ffirmat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600200"/>
            <a:ext cx="868680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Remember your baptism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809640"/>
            <a:ext cx="86868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rough the reaffirmation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of our faith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we renew the covenant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declared at our baptism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52280"/>
            <a:ext cx="868680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may live as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sciples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75248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t us rejoice in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faithfulness of ou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ovenant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give thanks for all tha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God has already given us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 members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body of Christ 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faithfully participat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in the ministries of th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church by our prayer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our presence, our gift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and our service,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37160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21276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od of all grace, who has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alled us to eternal glory in Christ, establish and strengthen you by the power of the Holy Spirit, that you may live in grac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209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reaffirm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our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renew the covena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eclared at our baptism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91916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knowledge what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s doing for 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ffirm our commit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682560"/>
            <a:ext cx="8915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acknowledge what God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is doing for us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and affirm our commitment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to Christ’s holy church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7432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PROFES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accept the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ower God gives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resist evil, injusti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37016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71440"/>
            <a:ext cx="86868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ording to the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iven to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ill you remain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mbers of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ly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resentatives in the worl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PROFES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91772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slaves in Egyp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Jorda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land whi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76320"/>
            <a:ext cx="883944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forces of wickedness, rej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evil powers of this world,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1523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y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all to our remembranc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race declared to us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ou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 you have washed away our sin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you clothe u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out ou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dying and ris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45576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ffirmat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43828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Remember your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2864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may live as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s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rejoice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aithfulness of 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ovenant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89917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Do you accept the freedom an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power God gives you to resist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evil, injustice, and oppress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91440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od of all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o has called us 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ternal glory in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stablish and strengthen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e power of the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228600"/>
            <a:ext cx="8686800" cy="47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to people of all ag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nations, and ra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08T23:54:10Z</dcterms:modified>
  <cp:revision>17</cp:revision>
  <dc:subject/>
  <dc:title>PowerPoint Presentation</dc:title>
</cp:coreProperties>
</file>