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9B-D893-4621-87AE-D9DB9929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494-F963-413B-9884-3F0E88F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397-AB4F-4BEB-B7BA-C5E1BDED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03E-CE54-4135-99EB-ACBEE477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335-F570-4501-A35B-7FF1D67C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E46-9A26-40F5-96D6-ECD3B796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631-FA6D-4971-A8D7-EB8599E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61F-9BF0-4A3C-9FA4-8D92ADF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E28-F2B5-4F74-BD8C-EEB52401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512-A7A5-442B-8AFA-B66DFDD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F61-2E9A-4E95-AD17-0B90EFD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B12-335A-4D2B-B70D-FBEC52B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C3D-20AB-45D2-ABAB-16760FAB3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7652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820800"/>
            <a:ext cx="8686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7631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, holy, holy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85800"/>
            <a:ext cx="914400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95280"/>
            <a:ext cx="9144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6510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3:57Z</dcterms:modified>
  <cp:revision>13</cp:revision>
  <dc:subject/>
  <dc:title>PowerPoint Presentation</dc:title>
</cp:coreProperties>
</file>