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17B-0C91-41E8-B7E9-F34A4907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926-65BC-4EDA-8509-B6CCDAA1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6D7-B058-4973-9E41-AA244810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F25-AAF3-4811-9F5D-7BE65D09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F78-60CE-48E5-949A-DF3425C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B07-7A60-404E-939D-28C8F1AE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9C6-0C8B-4AAE-B883-951FEDAE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FF2-E9C8-452C-9B24-7DC0B03B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CF8-B687-4176-A4AE-E23AA7D3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4CB-C36B-4611-9DCD-FA95D9BB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9C3-CC96-4CAE-8A25-3C49E56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86C-C6FA-432F-BF07-E7504E14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C34-75F2-4666-8A66-F823EEB9B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6836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 fu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4300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735200"/>
            <a:ext cx="8763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45:28Z</dcterms:modified>
  <cp:revision>13</cp:revision>
  <dc:subject/>
  <dc:title>PowerPoint Presentation</dc:title>
</cp:coreProperties>
</file>