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CAE-D407-404E-B34E-17B1AAB2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F60-2217-4A4E-A055-1B1D968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435-FB14-4EF0-85E6-98E69B6F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966-3E80-4C05-B653-66E486EF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574-2761-4B52-9213-13917C1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E48-0289-442E-B4FD-0750E11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DC3-ACB9-418A-95C6-D2FD4D4E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442-93FD-46E2-8E2E-F0A3B3EE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1CC-0059-4D61-B5B9-9F3B33F5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F0F-E635-44CA-86E0-5B477D19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A9E-2B89-42C8-9061-B82E8AD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4E7-7548-41D2-8676-1BF7AE5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F99E-36CE-43DC-9BA7-0752FFDB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765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820800"/>
            <a:ext cx="8686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7631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, holy, holy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85800"/>
            <a:ext cx="914400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9528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3:57Z</dcterms:modified>
  <cp:revision>13</cp:revision>
  <dc:subject/>
  <dc:title>PowerPoint Presentation</dc:title>
</cp:coreProperties>
</file>