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6D6-53B4-4E3A-8935-4E712623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136-5F7F-4F25-BB93-D79283BE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C44-3DA5-441E-BFD3-A6ABCF6B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BF0-8E83-4D10-BF55-59DE8D1A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A4F-63EF-41C5-AEB6-DF6A5082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D0A9-D67A-4F34-A9EC-071458EF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B966-D3F6-4960-9967-458B1F43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4E6F-3BD0-4B9B-BBA8-9DAF31B3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5076-9686-40EE-B469-76479AB4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F0E0-C3BE-461D-8CEA-8FB98FFB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9192-4AF3-4A62-A79E-70EAF11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E24-5224-448D-BE56-CDFE53AE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22B9-A7FA-4FAD-9925-D5B5AEE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13CE-DDBF-4C8E-A10A-E2C2871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8F65-58C9-4CF8-AE9F-CC32D25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353E-A885-43EA-8765-59CE5D31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E375-9C29-4015-ABC6-815719F4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87B-855D-4FEF-8214-0F7834A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DBF-B3CA-45C7-BC71-FD4F3626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B77-DF72-44ED-818F-A487DF78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141-304A-48BD-82DC-278FC739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6A7-6164-406A-827D-2A6285C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681-0EA4-448A-BA82-E790847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0E7-08F7-42DB-B37F-88B1587C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8BAA-7172-4C57-9652-5EDF14B7C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A49A-D334-4E44-9A2A-21BADC31B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6960" y="114300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6960" y="76212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14T21:50:44Z</dcterms:modified>
  <cp:revision>53</cp:revision>
  <dc:subject/>
  <dc:title>PowerPoint Presentation</dc:title>
</cp:coreProperties>
</file>