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310-4B00-419A-BE96-6D96B796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F10-E3D5-4213-98A7-60C00C5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33A-C625-40A2-A5F9-BE4DB125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8E2-D7BD-4D4C-A20F-F7EBF846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FE9-CB1E-40E7-AC75-E7CF1AE0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1CB-0CA0-42B9-A033-D0B5D20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B5E-CC3A-43BA-8A47-77B7F214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07F-46DF-4644-AA9B-52B19DDD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52B-22CD-46E5-898A-AE65ED7A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6B3-F4DF-4185-99CF-DF32F46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87D-C28A-4C7C-85D8-2599631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5BC-C9EB-468C-97B1-38E7251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C934-BFC8-4203-B790-5663FBC8E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My Hope Is Firmly Gr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9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l my hop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mly g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eat and living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whe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ost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ails to keep his word.</a:t>
            </a:r>
            <a:br>
              <a:rPr sz="5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6880" y="1066680"/>
            <a:ext cx="668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achim Neander, 1680; trans. by Fred Pratt Green, 198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m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ly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and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l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trust our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,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secu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iry ca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the hurricane end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on 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can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our earth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i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and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lov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ndant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us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 of lif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ho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 o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nk, O tha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God’s only Son this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po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out of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h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in 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f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6:47Z</dcterms:modified>
  <cp:revision>51</cp:revision>
  <dc:subject/>
  <dc:title>PowerPoint Presentation</dc:title>
</cp:coreProperties>
</file>