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532-3D95-4678-9E17-619C11B2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27F-6EBA-4C7A-B051-B816E49D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0C6-30EF-458D-ADD4-630FAC22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C2F2-0C8D-4BAB-9312-D46AFBC0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474C-7FF0-4E42-A31B-63E4EC93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B920-1DB5-48E0-B1EF-F6502D3B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AF83-190F-46CB-A484-A07495E7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2B57-C0CF-47AB-8E24-29C275D4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2D43-2645-4BF4-A800-6F2214B0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C0B0-CCED-45E7-B8DF-522D0F3B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0CDD-3CE5-4EF5-A3F4-082EBAF6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29D2-40C4-4314-9FBB-B1631725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8F7C-D996-45D4-B924-F9F51B26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18CA-D42E-4BC6-82C0-C879ADCD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CA00-DB6A-4BC2-8588-F84FFF07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56E9-6056-4932-8DF4-2F2D96BE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BE45-DD46-451C-8933-B2DF3182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D6E-79FC-4C13-86A3-1524C91A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12E5-81F5-48FE-B2F9-DDECA531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4917-1F8E-4E24-9849-860F5119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BAC-6413-4669-990A-734197AD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65A7-CB08-49D1-9A0A-9159EFB1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D5C-B01B-43E5-894F-BB2A9687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6B14-99FD-45F7-B1B2-F18AE108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C02A-123B-4A97-8A95-DCF6535B3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480A-9944-4B1B-8B8C-E96039A26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We All Get to He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 the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of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his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3000" y="85248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liza E. Hewitt, 18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808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We All Get to He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 the wondr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of Jes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his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33000" y="106668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Eliza E. Hewitt, 18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mans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nd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ll prep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a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44792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ing that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si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 the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ile we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ilgrim path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uds will oversp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k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hen trave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s are o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shad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a s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4792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ing that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si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 the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t us t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rue and faith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sting, ser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 one glimps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in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the toi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rep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mans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nd bl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ll prep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a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67652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ing that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si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 the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nward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ze before 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his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beho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the pear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es will op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hall t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eets of g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60020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ing that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ll see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sing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t the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2280"/>
            <a:ext cx="9144000" cy="448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joicing that will be!                 When we all see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’ll sing and shout the victor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While we walk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pilgrim pathw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louds will overspread the sky;     but when traveling days are ov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t a shadow, not a sigh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448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joicing that will be!                 When we all see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’ll sing and shout the victor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838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Let us then be true and faithfu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rusting, serving every day;          just one glimpse of him in glo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ll the toils of life repa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52280"/>
            <a:ext cx="9144000" cy="448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joicing that will be!                 When we all see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’ll sing and shout the victor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094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Onward to the prize before u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oon his beauty we’ll behold;     soon the pearly gates will open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shall trea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streets of gol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52280"/>
            <a:ext cx="9144000" cy="448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we all get to heave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 a day of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joicing that will be!                 When we all see Jes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’ll sing and shout the victor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2-28T20:08:53Z</dcterms:modified>
  <cp:revision>45</cp:revision>
  <dc:subject/>
  <dc:title>PowerPoint Presentation</dc:title>
</cp:coreProperties>
</file>