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E38-2A47-4CDE-B49E-A5CC03C6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246-BB89-49F5-8B96-C8B0D79C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35A-93B7-4D04-8EC2-D3D7439C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EA4-92B8-406C-9BC3-DD75286C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B9C-244F-49FA-A758-312360F3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6F5-A942-4240-9E7C-409C39D5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960-584C-4852-8917-0E4E6B5C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A17-DBD3-4EC2-A182-DF25B06E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5BB-87AD-4DAD-94D7-CE6120DE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8C3-25CB-4141-8DF3-1E907687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50A-FB6D-486C-A7FE-92EFE6C1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4A8-0EF3-4021-B6C6-FF788AF4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DB54-5CD8-49FA-A6D8-20FC4D31D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ise to the Lo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Almigh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49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Praise 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of cre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sts. 2 and 4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7520" y="1600200"/>
            <a:ext cx="78847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achim Neander, 1680; sts. 1, 3, 5 trans. by Catherine Winkworth, 1863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. 2 by S. Paul Schilling, 1986; st. 4 by Rupert E. Davies, 1983 (Ps. 103:1-6; 1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Praise to the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all tha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 adore hi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hath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now with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him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am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nd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 ag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ly forever ador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y soul, prais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 is thy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lv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ye who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o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le draw n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me in glad ador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Praise 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o’er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ondrously reig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s thee on eagle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gs, e’er i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ing mainta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care enfo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, whos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he uphold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t thou not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ustaini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Praise 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oth pro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fen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his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rcy here da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ten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nder an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he Almighty can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th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th befrien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Praise 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oth nouris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and rest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tting thee 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tasks that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before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o thy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s a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th sp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ing the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race o’e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9:36Z</dcterms:modified>
  <cp:revision>58</cp:revision>
  <dc:subject/>
  <dc:title>PowerPoint Presentation</dc:title>
</cp:coreProperties>
</file>