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B5FF1-DD9D-49C8-A7F5-2304CC604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4AE30-7FC3-49A9-B6CD-2609A7DBC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9D5C1-A094-4093-9EA4-22FC887F8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B99DB-C647-4392-9B28-39F6A9B6C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9238F-36B9-4B46-B901-95E6B779E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4EFAC-1CE7-4F0B-9D82-EB75BCA72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EB731-FBB4-4659-BDE9-AE7DC82B2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F18FD-F916-4334-B062-5DA787AFE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7E23A-9A0C-4C80-85EB-06C5F3CE2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D948C-D310-495A-BDB4-C28602CCB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4FC0B-EBDC-4F61-B1B6-4D753EE92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DF10E-E647-4A28-B3D3-0A03B2352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C5286-B02C-4236-9244-6D5CFBCD0D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Through It Al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50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981080"/>
            <a:ext cx="9144000" cy="4375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Through it all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through it all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I’ve learned to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trust in Jesus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I’ve learned to trust in God;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© 1971 Manna Music, In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rough It Al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99072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Andra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é Crouch, 197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90720"/>
            <a:ext cx="9144000" cy="3080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through it all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through it all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I’ve learned to depend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upon God’s word.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0T16:05:47Z</dcterms:modified>
  <cp:revision>40</cp:revision>
  <dc:subject/>
  <dc:title>PowerPoint Presentation</dc:title>
</cp:coreProperties>
</file>