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391A-D2BF-4D82-BA9F-89980AAB7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1859-4475-444F-BB6B-5CCB704D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EE05-ACAD-4E3C-A958-DC68F4084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13DA-A27A-4086-A88E-90454EE2D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CD96-1E1E-4FF2-AA4D-07BBA894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BF2C-965D-4A94-B551-A0F3017B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9F15-F848-491A-998F-0049AB8F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DB58-899B-4139-B7AB-9B8F8D8A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3BAE-9C36-4182-9DDE-9C8A028C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D8E3-BB2B-43C2-BF25-6E9965D1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06AA-3697-421B-B4A5-004C25F9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954E-BBAC-4949-BA1E-1A6F2562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ABCD-25AB-41BF-827A-3A9996EA8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piph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5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828800"/>
            <a:ext cx="8839080" cy="449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made of one blood all natio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, by a star in the Ea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revealed to all people hi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se name is Emmanu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iph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89200" y="1092240"/>
            <a:ext cx="55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aurence Hull Stookey, USA, 20th cent. (Mt 2:1-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nable us who know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your presence with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so to proclaim 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unsearchable rich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hat all may come to his ligh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and bow before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brightness of his rising,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2284560"/>
            <a:ext cx="853452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lives and reigns with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e 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now and for ever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09:32Z</dcterms:modified>
  <cp:revision>12</cp:revision>
  <dc:subject/>
  <dc:title>PowerPoint Presentation</dc:title>
</cp:coreProperties>
</file>