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E92-7D0D-44C0-870C-751CB945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CE0-B320-4C9F-9014-69B6D96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45C-2753-4AD2-976D-A5FA32CF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57F-4888-4A5C-B5D6-2B6671D2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A12-2F0F-469C-9315-9734E7E1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894-FA0E-49B3-81DC-EBE96511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1CA-CCF6-4C4C-9F9A-31B30406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DD7-A169-4311-A76D-95A6C8AF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EB9-8C84-45C9-93B8-74892C8F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502-7D89-47CC-BF7D-50291DC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961-32CE-4FDB-8EA3-3CF4EF75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416-4916-4D4E-AB07-E7E737C9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6363-C97A-4C87-A467-44193D384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Dimitri of Rostov, Russia, 17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523880"/>
            <a:ext cx="86104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illumine my darknes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Lif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revive me from dea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my Physicia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heal my wou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A. R. Mowbray &amp; Co.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me, Flame of divine lov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burn up the thorn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my sins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kindling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ith the flame of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06480"/>
            <a:ext cx="8839080" cy="506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ome, my King, sit upon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the throne of my heart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reign there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thou alone art my King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1:41Z</dcterms:modified>
  <cp:revision>155</cp:revision>
  <dc:subject/>
  <dc:title>PowerPoint Presentation</dc:title>
</cp:coreProperties>
</file>