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09A-B787-46A8-8704-F16B27D2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9E4-103D-4B38-B257-AD14AFD2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1FDE-0411-4178-8076-2896B399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B00-8CAA-411C-BF1D-762348AB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B82-F945-4E6B-9C96-2F74267D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AC5-E917-410E-9A89-33B65429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312-3EB8-4DCD-B47C-11C3E54F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0D0-0B5C-418B-BA9B-7CFD977B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A70-094D-49F9-A173-877AA7B3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D67-E7B0-4141-9DD4-64E17695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3E4-DBC5-46CE-B2EA-AD89F2E9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198-B008-47E3-999A-534099AA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B4D4-5B63-4A38-B0D3-CD874EA33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Are We Yet A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And are we yet aliv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see each other’s face?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lory and thank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Jesus gi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his almighty grace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Preserved by power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ull salvation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 in Jesus’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we jo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his sight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at troub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we s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mighty conflicts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ghtings wit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ars with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we assembled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et out of all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brough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he d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elp aff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des our lif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n l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our bo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redeeming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ave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utterm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can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et us take up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the crown ob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adly reck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l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e may Jesus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9:16Z</dcterms:modified>
  <cp:revision>58</cp:revision>
  <dc:subject/>
  <dc:title>PowerPoint Presentation</dc:title>
</cp:coreProperties>
</file>