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526-A267-4D8F-A878-73388E2C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418-F3CC-4139-8203-697B533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3C4-3CE0-4AE2-B2D6-7D07AB69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5C8-7755-44E0-833F-F060CD83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9C2-2560-4C72-B2AF-3F2EC74B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07E-87A9-40A8-980A-892643F3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29F-3442-4F29-891D-4397E6B1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4AF-5E70-46F1-BD03-685DBBCD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828-1770-403E-A361-98756979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90D-1DD7-4E50-ADAD-E4009994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B12-7A8C-4919-ADF9-3E00478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AE0-B4B0-45FD-BECF-A44F6BC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770-61CF-406A-BC17-A391789B2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Back Quickl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Young Taik Chun, 1943; trans. by Sang E. Chun and Ivy G. Chun, 1988 (Lk. 15:11-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how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ins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how burden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no sin he cannot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sinner not accep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o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loving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much gre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waits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do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pt open w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anxious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day and every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 chil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gone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you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 have sin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ren’t fit to be his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ll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big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repen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you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, come back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pen 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3:06Z</dcterms:modified>
  <cp:revision>99</cp:revision>
  <dc:subject/>
  <dc:title>PowerPoint Presentation</dc:title>
</cp:coreProperties>
</file>