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3AEA-9C77-431D-975A-AE5DB1ED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93F4-7DD5-4C41-8A19-89065570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292D-2A5E-494D-8282-BFA027F9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A28A-9637-47E7-87E6-11E3729E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52DC-1649-437D-9512-6BA98462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9D52-EC04-4D00-BCF5-913D12E0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5F1B-C3F8-459D-9593-B70FC799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CCBC-9851-404C-9B8B-691A33DB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F1F0-2332-42C1-91EC-C70402A2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B888-0965-47A3-BE77-77B92ED1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FD75-BF66-4CD2-9125-D689D09D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EEE0-5C26-4017-97AA-622B0053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5EB6-2D1D-4C1A-8DC7-3490C9E47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ind Who Make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Winds That B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82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Wind who makes all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nds that blow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gusts that be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sapling low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3 Thomas H. Troeger, by permission of Oxford University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 Who Makes All Winds That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49200" y="1676520"/>
            <a:ext cx="484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homas H. Troeger, 1983 (Acts 2)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 altar py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dle them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own fi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the and b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at blaz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our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deeds, and way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that tong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every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your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underst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les that he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ea in wa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rrings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d’s deep cave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im your br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teady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your chu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day,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se, renew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we’ve l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enteco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ire who fu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fires that bu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s around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anets tur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 Who Makes All Winds That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cons mar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efs and shoa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ing truth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our soul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 us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ce you ca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rst in tongu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acred fl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and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ght and Streng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your chu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breadth and leng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oly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nd and fl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withi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tal fr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66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nd Who Makes All Winds That Blow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4:36Z</dcterms:modified>
  <cp:revision>10</cp:revision>
  <dc:subject/>
  <dc:title>PowerPoint Presentation</dc:title>
</cp:coreProperties>
</file>