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27E-CAF2-437E-A5D9-368CBD6D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2E8-275B-4066-ADC2-0711E2BC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B9C-AB0B-498B-B1AE-E9B9715F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A5C-D5A1-4242-B378-BC891EF8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F9D-CEDC-414D-8F8C-A9020740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1DF-0157-4345-AA17-845FE27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A05-A66D-4D97-BEFB-B6FD4FB7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27C-E5A6-4637-904E-3618394A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5D1-B9F6-4F74-A0F2-8065901F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722-4A5D-48B2-843F-B2853E3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D07-7E04-4938-9C95-03FA6715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FA9-3C96-41A0-BB59-CF844E45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585D-0E4D-4F1B-88A2-8CB19779D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gels from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alms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ngels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lms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ng your f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ea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5080" y="1562040"/>
            <a:ext cx="66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mes Montgomery, 1816 (Lk. 2:8-20; Mt. 2:1-12; Mal. 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aints, bef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b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ope and f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ddenl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appe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who sa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eation’s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ssiah’s bir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hepherds,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eld ab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o’er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cks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now res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nder shi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fant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ages, le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contempl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er vi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m af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ire of nat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have 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tal st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9:21Z</dcterms:modified>
  <cp:revision>67</cp:revision>
  <dc:subject/>
  <dc:title>PowerPoint Presentation</dc:title>
</cp:coreProperties>
</file>