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7B84-EBD1-40EF-84EC-54835BCC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882-AD91-464C-9DAA-BA7B1F32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BA2-8B6A-4000-8208-8B418724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8B1-E785-4274-86B1-7805C292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296-2C11-42C8-AA2F-E895E943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021A-33DD-4C68-86DD-980789EA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4212-72AC-4ED3-9FBE-2652B5C2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59D-8B5C-4FBF-A058-26AC111C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93F-A49E-40D2-A005-5E5CB07A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5DE-2F35-4090-9A18-B64FB38B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567-7E66-4663-8C0F-51499C3C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9B7-AC79-4031-8EBF-805BC2BC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CCAA-396B-46B6-A1A2-6AE142785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e Is Glad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n thee is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id all s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sun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e Is Glad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3440" y="1092240"/>
            <a:ext cx="77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ann Lindemann, 1598; trans. by Catherine Winkworth, 18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e are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ifts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er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thou mak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onds thou break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rusts thee sur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built secur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ands forev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are pi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y shi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ying or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are cleav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ught can us sev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f God be 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fear no pow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sin or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e Is Glad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ees and bles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orst distres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n chan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m in a br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fore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of God’s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and voic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eaven rej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forev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t for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o’er s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 and prai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ices still ra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 hymns forev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7:59Z</dcterms:modified>
  <cp:revision>31</cp:revision>
  <dc:subject/>
  <dc:title>PowerPoint Presentation</dc:title>
</cp:coreProperties>
</file>