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899-2A44-483B-82B2-54EAF984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B68-C564-465B-B74E-2694B93A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3C0-EC94-428F-9E45-181B0BF1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E62-81D8-42A9-ACDF-B9EE7817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364-BE63-4E7E-B44F-97794FCC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343-0323-4373-9463-45B58A17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391-287F-4ED9-B5F3-67893B56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3ED-572D-4467-94ED-A482ADBE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858-740B-402C-A2E6-86379F76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3ED-2C86-4577-AD80-18F933EA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434-F476-4009-A839-4786016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1FD-F8B2-4D05-82E4-C3E3D759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2ED9-1BAF-41D0-8455-926622CC4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e Depth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depth of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fathomable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hall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to us conveys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5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lesh imp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mits his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s his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’s heart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f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isest m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how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rece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ble elements best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ower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explain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rous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rough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rtue ca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the virt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convey,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remain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ward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earthly matter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her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ine suppl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t immortal br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 the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h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ho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ans ord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roun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tars b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 it out, in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 and r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nner be un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me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rfect us in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thing mo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to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only our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 and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2:28Z</dcterms:modified>
  <cp:revision>129</cp:revision>
  <dc:subject/>
  <dc:title>PowerPoint Presentation</dc:title>
</cp:coreProperties>
</file>