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769-41DB-4271-A4CE-E1FDF338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5AC-E2F2-4A30-B2FD-7D03D37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4C6-C711-4D02-B21C-B0BB8E61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589-286D-45F0-A52A-8AB9F8B8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718-6F82-4E50-8D72-96492B07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B14-1B3C-4EEF-BA73-DC8AF15F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BA8-B962-40A1-BCCF-2A211DDE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FA9-89B6-4EEC-9CE5-A18A7173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3C3-9D8F-4FAD-A247-97BB79BA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E8F-40AC-495C-BA35-4A6C173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A5D-F9B3-4C27-B158-D033DD2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3D8-E7E8-47F2-BF3F-11DCD7D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DD0C-1CBC-4E74-AB47-3EC9AE04B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Created Heaven and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2544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d creat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nd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ught to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3 Boris and Clare A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7120" y="1092240"/>
            <a:ext cx="57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Taiwanese hymn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oris and Clare Anderson, 1983 (Gen. 1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eat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de dark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revol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u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ercy gre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n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ove awa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ho fash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ch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blessing g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i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ever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ol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e v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ndmade go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od and c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not hel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ut God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yond com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s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eath’s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arth’s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mall and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for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st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11Z</dcterms:modified>
  <cp:revision>12</cp:revision>
  <dc:subject/>
  <dc:title>PowerPoint Presentation</dc:title>
</cp:coreProperties>
</file>