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40A-4B50-4ED8-AF02-BDCC3B1C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04F-70C3-4D25-9B8B-3BC8716D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F8B-E19C-418C-A29F-C6C18186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ED3-2BE9-4863-A456-9A42DF51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853-E541-46DF-A44F-D69B6585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03F-A5F4-4AEB-87F0-D4116481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F62-BB31-4F8E-88D4-AF885C94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75A-EE10-4CD2-AF6B-042B73DC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0BC-4045-4871-9B6C-17823422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49F-B7C6-4224-98C4-18E42357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7D7-B2C5-418C-AF58-DD0AC1C9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171-9DF4-4C62-9845-05AB9D86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0767-255F-4E43-AAEC-3753BE723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Jesus’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Perronet, 1779; alt. by John Rippon,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7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 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ophies 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crown him, crown him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,)</a:t>
            </a:r>
            <a:br>
              <a:rPr sz="36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9:24Z</dcterms:modified>
  <cp:revision>18</cp:revision>
  <dc:subject/>
  <dc:title>PowerPoint Presentation</dc:title>
</cp:coreProperties>
</file>