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336-2870-4DAC-9157-89221388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FA2-6C50-4909-95AB-990843A2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55A-3B6E-41CD-90BA-94A2B8EF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0E9-FB0D-48C2-BB40-4B5E448E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8EF-DCC3-4CA7-8F84-B351F21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1AAF-44C3-4AAC-A7A6-0ACFFB85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37B-2F80-4F1A-B5DA-D2EE502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93C-3F1A-4906-AED2-F3AA8400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8D8-7FFF-4627-8D04-5B12BB5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9A9-E323-411E-A500-642CDDA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DDC-CE7E-4169-9859-EA10C990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09C-3EC1-485F-BF13-F5B6C66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0A86-E2FE-4D8B-BD2A-D54B64C8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cious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H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on, let me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ired, I am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orn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8 Hill &amp; Range Songs, Inc., renewed Unichappell Music, In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52640" y="163836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A. Dorsey, 19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tor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on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ght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0" y="160020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my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dr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 linger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almost gone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my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my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y hand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I fall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7524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app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night draws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y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 and gone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river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y hand: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6"/>
          <p:cNvSpPr/>
          <p:nvPr/>
        </p:nvSpPr>
        <p:spPr>
          <a:xfrm>
            <a:off x="0" y="1523880"/>
            <a:ext cx="91440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21:21Z</dcterms:modified>
  <cp:revision>18</cp:revision>
  <dc:subject/>
  <dc:title>PowerPoint Presentation</dc:title>
</cp:coreProperties>
</file>