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642-2740-44AE-8C28-78E0DBB6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C2D-D7DC-4088-A332-892F815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5C4-358D-4FE6-99B1-CDD580AB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30B-DE18-4C45-9F2B-416E8995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38F-4BAB-415D-B043-BD92EC8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05FA-2486-443E-ADF5-29FFBDE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337-59A6-4848-979A-CABDE3D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46C5-9298-427C-9BAA-43B6ADA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2B74-DF74-4FFE-AC0B-F8789E93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1F5-D9D4-40F1-BD1D-9F72E83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BA08-8DD8-4086-BDFB-8AFE643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E02-A8CF-43B4-ABCC-CA9D967F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72F-7739-412A-B6EF-1168991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311A-0F8D-4C93-9F99-C2DBFBA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46DA-8CAD-4DF9-ABD4-A1BA8BC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2D7C-9AD5-41BB-8378-18A22D43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4E0-0CBC-4FED-9A5F-16152DD3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67E-2D4B-416E-869C-6705742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6E2-6712-483F-B58F-4FC3676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394-94DF-428B-9F63-FC6B38C4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63E-8C73-4452-8875-30E40FDA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F24-BC74-4B6F-BAAB-4468C8D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5DA-E391-42EF-B3A9-6CD0657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739-4491-4BD4-A655-3E2C805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2258-1A2A-4ACB-9664-8D132E32A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21C2-551B-4E67-BFE5-57B465708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6668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hush their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ga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14300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d sta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rden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be f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bids m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is ca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21932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48:38Z</dcterms:modified>
  <cp:revision>73</cp:revision>
  <dc:subject/>
  <dc:title>PowerPoint Presentation</dc:title>
</cp:coreProperties>
</file>