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FCB-05CE-4D55-A908-1F95D83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426-2DCA-47C5-909E-533B397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F36-6C7A-441C-9556-DA01F627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8E3-9B14-4A60-BFC9-243142D1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14A-053A-4950-B4D7-00F02D74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9C8-9C05-452D-80B0-C29F1339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EC0-5448-4163-A7C4-8224B58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A68-1D41-4D51-9A97-3B47C64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C4A-530C-415E-AF30-15FDFA50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D26-DAB9-4941-A971-81A84F1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ABE-6E06-44D5-811E-505C510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543-9833-4CF2-9AE0-9579521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26F-A5EF-4843-BF25-89D45AD6A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Shall M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ing Soul 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re shall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ondering soul beg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shall I all to heaven aspir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slave redee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from death and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brand plucked from eternal fir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lls you n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vites you hom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thren,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For you the pur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current f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pardo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s wounded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angui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you the Prince of Glory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, and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uilt’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believ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yours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97964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hall I equ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riumphs 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g my gre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r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O how shall I the goodness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ather, which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o me hast showe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I, a child of wrath and h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ould be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a child of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know, should fe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in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t with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tepast of hea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And shall I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my Father’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r basely fear his gifts to ow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Unmindful of his favors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hall I, the hal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cross to shu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use hi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ding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my hear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78000"/>
            <a:ext cx="88394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Outcast of men, to you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arlots and public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iev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spreads his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embrace you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inners alone his grace rece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need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ighteous ha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the lo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ek and s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brethren,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roaning ben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load of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bleeding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hall make you ro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open side shall take you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2:43Z</dcterms:modified>
  <cp:revision>26</cp:revision>
  <dc:subject/>
  <dc:title>PowerPoint Presentation</dc:title>
</cp:coreProperties>
</file>