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DC2-3916-4177-9A3B-80A61689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93A-3F56-4E53-A58A-D091C0B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795-0510-4856-8896-2D9C716C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A62-5FB3-419C-A9F8-D0CA8942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70D-B152-4799-A4FF-E10081DD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BD0-DD44-40C2-A18D-9465C43A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C37-A4E0-4A01-BCF3-87E8A624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D68-FC23-40F5-BC53-1707B4F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8E6-00BB-469E-9504-118E8261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86A-7A7F-483A-9174-2F7BE27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E18-C3FC-4F18-858D-8D777DCB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84C-A5B0-4A2F-9475-E8DB8C1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E523-28F7-42B8-9983-B197B103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emp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uplif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roslav J. Vajda, 19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kne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l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in welc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h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vess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mmed for pour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joyful celeb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wed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n leap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pirit’s visi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on’s epiph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Father’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Now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0:31Z</dcterms:modified>
  <cp:revision>121</cp:revision>
  <dc:subject/>
  <dc:title>PowerPoint Presentation</dc:title>
</cp:coreProperties>
</file>