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E5DA-7666-43CD-A101-AB932D2C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C220-20E4-497D-B499-C6846467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0817-8A3D-4EBE-95AB-7A9F4F43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B9F5-C862-4ADF-B818-B492B36B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ADB9-9E73-4E55-98C7-0836D92C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B726-99AA-4336-BE1B-EC5DA6EB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0FA4-6399-40B8-8268-E20D133F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CA8D-58C0-4B77-9AE1-367DADC1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A97B-CCF0-47B5-BFB3-753BAC42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DBD6-073B-4629-9A3D-2C56316C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3876-8C05-47B9-95E6-3D2C7590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4980-ED60-4B06-9F9D-F18B3098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BC0D-32CF-4165-BC5B-A5F86AE6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9799-0126-4F1F-9000-3B4F0E47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77C1-85C5-4C94-9BA1-74996635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8A68-9F36-48F9-B050-C3954FE0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AF42-D6DA-4310-A8BC-A90AB56CE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BF46-C866-4552-BF96-68CFC900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6851-FBB6-4367-AFD0-4E3F3877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CA89-0474-4457-A5C9-94CBB250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64E8-0AC3-4D57-8880-96ABB325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ADB3-D54C-445A-B982-B5BFAD78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45A0-3471-45E6-A15A-827BBAB8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4147-CA24-4DE1-A784-6BB0E850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0FE7-F24F-4E05-9894-69CADFB81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8BC3-D2D1-4070-AFC5-9CE72D9A3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ay Is Dying in the W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8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y is dying in the w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is touc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with r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1143000"/>
            <a:ext cx="45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Mary A. Lathbury, 1878 (Is. 6: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st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veil thy f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asc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477800"/>
            <a:ext cx="9144000" cy="403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, holy,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God of Host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ull of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66760" y="2239920"/>
            <a:ext cx="8610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praising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 most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hen for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our s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ss the st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ay, the n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of ange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eternal morning r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dows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477800"/>
            <a:ext cx="9144000" cy="403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, holy,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God of Host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ull of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66760" y="2239920"/>
            <a:ext cx="8610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praising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 most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ay Is Dying in the W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8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8288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y is dying in the w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is touc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with r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1143000"/>
            <a:ext cx="45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Mary A. Lathbury, 1878 (Is. 6: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4920" y="228600"/>
            <a:ext cx="86104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it and worshi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the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ts the eve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mps a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all the sk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304920"/>
            <a:ext cx="9144000" cy="403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, holy,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God of Host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ull of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66760" y="1477800"/>
            <a:ext cx="86104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it and worshi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the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ts the eve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mps a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all the sk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990720"/>
            <a:ext cx="8610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praising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 most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974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ord of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the d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univer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o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 us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 thy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f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y emb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ou art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304920"/>
            <a:ext cx="9144000" cy="403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, holy,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God of Host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ull of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2280" y="1295280"/>
            <a:ext cx="86108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praising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 most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ile the deepe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dows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folding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st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veil thy f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asc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457200"/>
            <a:ext cx="9144000" cy="403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, holy,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God of Host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ull of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8600" y="1219320"/>
            <a:ext cx="8610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praising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 most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hen for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our s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ss the st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ay, the n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477800"/>
            <a:ext cx="9144000" cy="403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, holy,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God of Host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ull of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of ange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eternal morning r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dows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228600"/>
            <a:ext cx="9144000" cy="403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, holy,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God of Host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ull of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04920" y="1143000"/>
            <a:ext cx="8610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praising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 most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66760" y="2239920"/>
            <a:ext cx="8610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praising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 most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ord of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the d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univer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o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 us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 thy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f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y emb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ou art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477800"/>
            <a:ext cx="9144000" cy="403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, holy,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God of Host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ull of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66760" y="2239920"/>
            <a:ext cx="8610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praising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 most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ile the deepe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dows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folding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9-15T02:19:44Z</dcterms:modified>
  <cp:revision>26</cp:revision>
  <dc:subject/>
  <dc:title>PowerPoint Presentation</dc:title>
</cp:coreProperties>
</file>