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296A-EDEE-47BC-ABAC-4CB21882E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1C9A-BF35-4B14-920A-902ACA8D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4BA7-D92E-410A-8634-3CAC47C3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E3A5-0392-4C98-B061-32527144C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51DF-F4B7-481C-B8D4-F1B3C8E3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9DB1-DC6C-45F4-86C0-24063AC6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7C21-DB50-4726-BABF-E1AF4BAF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2BBA-CCBB-4EA6-B276-25B8E601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3450-BF86-4CD6-ABB7-EBD0CB17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568A-549C-46DD-96A9-5315FE5D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46F4-5D1B-4D47-9271-29A8D78F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BF5C-741E-4188-8658-8BE359BA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C19C-6FD0-478B-B766-A8F0B303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0EBE-014B-4548-851A-ACF6903A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2FFE-89A0-4A25-9B98-881F10A2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D9D3-3D33-4CA0-BA9F-9927C98CE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E7E4-1FF8-4F16-84B9-639A13B3C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158B-37CE-4EC6-B650-1885997A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9850-43AC-4F0B-9110-70F6E935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77BC-9860-486F-BB9B-120FB384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7394-C13A-40F9-93D5-8845EFB8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BBBF-8C4B-4480-A997-1F859127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7657-5C21-4DCB-BDEB-71079572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1464-C039-4CAC-B4A8-8F273501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E2C2-0F9B-40FD-BCF5-B733BE468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4D07-E0CD-44F0-9D22-833B32CE7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tanding on the Promi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914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R. Kelso Carter, 1886 (Eph. 6:14-1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21932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1. Standing on the promise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f Christ my King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eternal age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et his praises ring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4320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vercoming dail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the Spirit’s swor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 of Go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52280"/>
            <a:ext cx="9144000" cy="55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56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56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 promises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 my Savior;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304920"/>
            <a:ext cx="9144000" cy="527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6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6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’m standing on the promises of God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tanding on the Promi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914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R. Kelso Carter, 1886 (Eph. 6:14-1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50804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Standing on the promis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f Christ my K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eternal ag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let his praises ring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746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hout and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52280"/>
            <a:ext cx="914400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 promis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 my Savior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30492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’m standing on the promis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cannot fa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howling sto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doubt and fear assai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the living Word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hall preva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52280"/>
            <a:ext cx="914400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 promis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 my Savior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99072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in the highes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hout and sing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 of Go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30492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’m standing on the promis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Christ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und to him eternal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love’s strong c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vercoming dai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the Spirit’s s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52280"/>
            <a:ext cx="914400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 promis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 my Savior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30492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’m standing on the promis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annot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stening every mom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Spirit’s c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sting in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my all in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52280"/>
            <a:ext cx="914400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 promis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 my Savior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30492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4500"/>
            </a:b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’m standing on the promis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tanding on the Promi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14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R. Kelso Carter, 1886 (Eph. 6:14-1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Christ my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eternal ag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his praises r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52280"/>
            <a:ext cx="9144000" cy="55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56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56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 promises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 my Savior;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hout and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03200"/>
            <a:ext cx="9144000" cy="570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 my Savi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716040"/>
            <a:ext cx="9144000" cy="492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m stand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cannot fa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howling sto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doubt and fear assai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the living Word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hall preva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403200"/>
            <a:ext cx="9144000" cy="570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 my Savi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04920" y="716040"/>
            <a:ext cx="8610480" cy="492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m stand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Christ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und to him eternal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love’s strong c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vercoming dai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the Spirit’s s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03200"/>
            <a:ext cx="9144000" cy="570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 my Savi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304920"/>
            <a:ext cx="9144000" cy="527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6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6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’m standing on the promises of God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04920" y="716040"/>
            <a:ext cx="8610480" cy="492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m stand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annot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stening every mom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Spirit’s c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sting in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my all in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403200"/>
            <a:ext cx="9144000" cy="570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 my Savi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04920" y="716040"/>
            <a:ext cx="8610480" cy="492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m stand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0948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2. Standing on the promise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cannot fai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howling storm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f doubt and fear assail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2034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by the living Word of Go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shall prevai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 of Go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52280"/>
            <a:ext cx="9144000" cy="55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56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56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on the promises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 my Savior;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304920"/>
            <a:ext cx="9144000" cy="527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 </a:t>
            </a:r>
            <a:br>
              <a:rPr sz="6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 - - - ing,</a:t>
            </a:r>
            <a:br>
              <a:rPr sz="6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(standing on the promises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’m standing on the promises of God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0948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3. Standing on the promise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f Christ the Lor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bound to him eternall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by love’s strong cord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11-13T13:40:00Z</dcterms:modified>
  <cp:revision>122</cp:revision>
  <dc:subject/>
  <dc:title>PowerPoint Presentation</dc:title>
</cp:coreProperties>
</file>