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A4C-CA27-4ED5-98DF-CC9414B1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638-5A45-49E5-B9BF-65192C4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2BE-FA3F-492A-A756-25D9131C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326-0701-4DD8-BF3C-74C29D1B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B319-F2BC-4EDA-8700-B2CFC1B8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4A87-3888-4F44-B28B-2B477A5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E085-8628-441E-A825-95AC71A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CB50-667C-4D48-A9ED-22098DCF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B386-6877-4635-B8EC-1869E9E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80EB-42E3-4A62-AA8E-0854CCD1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A4D0-9A73-418D-8439-E2AB200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5B1-8FF7-4C2E-8DB0-50E181BC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5EFD-028F-4F70-9E29-967A1E8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12C-9805-4A1D-A404-278391D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C2F1-9D51-4D27-9B6E-3D8316BF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815-A421-4BE9-B84A-948A6E11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462-211F-452D-8B97-5929D483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406-3DDC-4932-A4EF-EF08C77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594-EF1A-4920-BEDA-03569F1D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F83-3239-4258-8822-CEAEB8E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33-1A00-4A07-A3B5-2F57D95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438-F3B5-4ECA-A0C0-57EC7D68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93C-5EB8-4CF2-9E7D-C90DF74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8D9-3ADF-41C7-9234-1E103A5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465C-658E-4205-A17C-41AAEACD6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E8FF-635B-4355-934A-A26F236ED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74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25T14:23:06Z</dcterms:modified>
  <cp:revision>152</cp:revision>
  <dc:subject/>
  <dc:title>PowerPoint Presentation</dc:title>
</cp:coreProperties>
</file>