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B81D-CDF8-470F-8DA1-4BCE4C374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393C-2D11-4E38-8DCF-EF209E12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3D0F-B513-4F6A-AF47-0D860AC61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3F74-E438-4813-B98A-A8337D039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FD5B-48C6-4B65-A622-5CCF53B0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F504-C7C8-4493-A350-B5374373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CDED-93B2-4414-B8DB-56DA4C99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94FD-58B0-4164-82CA-181FC20C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384F-137D-477E-A8D5-6560EB38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97C2-647A-411B-89C7-0D4F5FE2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666A-B319-4563-BAD1-224626B4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4162-01C6-4551-8F03-326BEE8C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0EC6-2719-44A8-B278-BD443CC9B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n the Da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Resurr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e Day of Resurre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60020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Michael Peterson, 1984 (Lk. 24:13-35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38280"/>
            <a:ext cx="9144000" cy="386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n the day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resurrec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Emmaus we retur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7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ing b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lessing, brea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himse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Opened ey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newed convicti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urney ba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cenes of p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e Day of Resurrec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ing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hrist is rise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through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97360" y="1879560"/>
            <a:ext cx="6749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confu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azed, and frighte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comes to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n this stra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ks a ques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What is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troubles you?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e Day of Resurrec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859040"/>
            <a:ext cx="8153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ets u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pain and suffer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walks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 our trou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s come from h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rning fi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our heart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e Day of Resurrec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s to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cripture’s mean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speaks to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n we n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destinatio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as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ranger 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e Day of Resurrec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yie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our urg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stays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Day of sorr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forgott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gu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omes the ho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e Day of Resurrec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06:59Z</dcterms:modified>
  <cp:revision>64</cp:revision>
  <dc:subject/>
  <dc:title>PowerPoint Presentation</dc:title>
</cp:coreProperties>
</file>