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EE8-8242-4206-8FA1-D1D9A999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9D8-BE39-44E3-968B-A912101E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092-B0EF-4771-BCC7-4B8512F2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BA6-11AA-4FF1-9D9F-E7960717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371D-5236-4D5C-8F1B-117BFDA0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A784-8622-42CD-B8B3-878E55C9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F774-A15C-46F2-9F86-C514B997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2622-A006-4959-B784-7CE9B6F3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53C2-49DE-44B4-BF97-134D72C6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92E3-9DFA-4C1E-9F31-EC05C0A9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2E41-1C4F-4949-A2F2-73759B27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DB7-A5B0-4A35-9125-883B385E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98B4-5DEA-462C-A7D9-DAA7B252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5EE7-86E0-46F9-B78C-B792B59F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6810-E798-45F7-8664-CBD760B1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D09F-1D32-491F-A98F-5BEA0C17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2B2E-346F-4610-9F73-438A904A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3AE1-8151-4388-9F7B-18B57DB0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964-A9B4-447B-9AEC-4597835B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C49-63CB-452B-885C-C5598AA6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F34-D256-4EFB-A688-D3BEE9AA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B81-50A2-4DCD-8473-6FD47436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F01-1615-4142-8486-16BA1B63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2DC-2753-4F13-8922-2E9E76E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C3ED-F825-465D-8617-939467035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108D-5721-4C57-A70C-4B605620D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pen My Eyes, That I May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14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lara H. Scott, 18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4479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Open my eyes, that I may se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glimpses of tru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or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1604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my 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oices of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sendest cl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ile the wave-not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o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thing fal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dis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1604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ars, illumin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pen my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t m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adly the w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th everyw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1604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heart, illumine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ith thy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pen My Eyes, That I May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914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lara H. Scott, 18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52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pen my eyes, that I may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impses of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8222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 in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erful k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unclas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t me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98280"/>
            <a:ext cx="9144000" cy="430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2224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place in my hand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 wonderful ke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at shall unclasp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and set me fre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my ears, that I may hea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voices of truth thou sendest clear;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while the wave-note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all on my 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verything false will disappe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98280"/>
            <a:ext cx="9144000" cy="430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5720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Open my mouth and let me bea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gladly the warm truth everywhere;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pen my heart and let me prepa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ove with thy childre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us to sha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8280"/>
            <a:ext cx="9144000" cy="430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98280"/>
            <a:ext cx="914400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8600"/>
            <a:ext cx="9144000" cy="484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my ears, that I may hear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  <a:ea typeface="Arial"/>
              </a:rPr>
              <a:t>voices of truth thou sendest clear;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and while the wave-notes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fall on my ear,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everything false will disappear.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8280"/>
            <a:ext cx="914400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7760"/>
            <a:ext cx="9144000" cy="553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imes New Roman"/>
                <a:ea typeface="Arial"/>
              </a:rPr>
              <a:t>3. Open my mouth and let me bear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Times New Roman"/>
                <a:ea typeface="Arial"/>
              </a:rPr>
              <a:t>gladly the warm truth everywhere; </a:t>
            </a: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open my heart and let me prepare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love with thy children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thus to share.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8280"/>
            <a:ext cx="914400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pen My Eyes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I May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lara H. Scott, 18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pen my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impses of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 in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erful k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unclas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t me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2T12:55:59Z</dcterms:modified>
  <cp:revision>156</cp:revision>
  <dc:subject/>
  <dc:title>PowerPoint Presentation</dc:title>
</cp:coreProperties>
</file>