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5BD-E095-4620-98C4-CDB23B4B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A0F-06D2-415D-8493-955240BB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AA6-9E07-44AC-9157-1A224F97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895-192C-45E4-893A-4F4A693C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FC0-E1F0-4ABB-9BD4-67076B33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726-B76C-4F0E-A4DE-B60EF74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37B-46D7-4AAD-B534-ED70407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278-FE45-4856-84F8-0A1EEE31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427-8A22-400E-929B-E35B55FE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DD0-DDA3-4CA8-AB83-F3AF1C7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20F-9310-4489-AD27-C70B466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597-DBE6-490C-96B0-A8D1870D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7EA8-1ACD-4F0B-84EB-CAEF78AC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was in the Moo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Wint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’Twas in the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ter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the birds had f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ighty Gitchi Manit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angels choirs inst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Frederick Harris Music Co.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8840" y="1649520"/>
            <a:ext cx="71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an de Brebeuf, ca. 1643; trans. by Jesse Edgar Middleton, 1926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rest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eed of Manit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rn today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kneel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t b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ring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y, peace,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i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s grew d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nters heard the hym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thin a lo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ken b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nder babe was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agged ro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abbit sk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wrapped his beauty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e hu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s drew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g loud and hig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earliest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ter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so round and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as the 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less infa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efs from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s of fox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ver pe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5:28Z</dcterms:modified>
  <cp:revision>9</cp:revision>
  <dc:subject/>
  <dc:title>PowerPoint Presentation</dc:title>
</cp:coreProperties>
</file>