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9B71-1AE1-4333-BBF5-0B4B1D77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ACA-79AD-4C68-AC69-F86BC45E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166-FF53-458E-B933-E8905963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417-84DB-46C0-B6DF-879C4675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B3A0-EF68-44A4-8AA8-D07748C1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F33B-3679-4DBE-AFC8-32B329A0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047-CCA2-4AFE-816B-092589E9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D4A-8EC7-41CC-B3E8-FBBB9BC6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963-F574-4A05-8726-63805D91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AE5-D1C8-481C-9D01-D37D5814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A78-F982-497F-8BFD-276996E0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AAD-8172-4FA8-885B-65B22B6A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8705-CFFD-4BED-8767-C4736385A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ke Me a Captive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Make me a captive,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then I shall be free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ce me to rende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up my sw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I shall conqueror b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Me a Captive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57320" y="990720"/>
            <a:ext cx="523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George Matheson, 1890 (Eph. 3: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ink in life’s al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by myself I sta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prison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thine ar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ong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my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1776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My heart is weak and poo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until it master find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t has no spring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action sur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t varies with the win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Me a Captive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cannot freely m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ou h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ought its ch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slave it with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tchles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athless it shall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1776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My power is faint and low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ill I have learned to serv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t lacks the need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ire to glow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t lacks the breeze to nerv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Me a Captive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cannot drive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itself be dri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flag can only be unfur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ou sha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e from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1776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My will is not my ow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ill thou hast made it thin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f it would reac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 monarch’s thron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t must its crown resig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Me a Captive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only stands unb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id the clashing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on thy bos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has le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und in thee its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6:52Z</dcterms:modified>
  <cp:revision>11</cp:revision>
  <dc:subject/>
  <dc:title>PowerPoint Presentation</dc:title>
</cp:coreProperties>
</file>