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98DF-D170-45CE-99FF-A87C2BD18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7F38-64D0-4D43-9088-7B0247827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73C9-19A7-4803-A4C9-FECDD1716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FACB-99F0-4C17-97E5-1D68B41D2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E438-702F-4D5C-A462-6B371851D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62A3-4B6E-4DB9-8898-175B52640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F446-DA33-4EC7-954C-641F31F57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A9EE-A996-4400-9B09-9ACCFE769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1B4A-7B3B-42E7-B269-867B3D94A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FD6A-FAD6-4C45-9644-9563C796D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0C0A-BCD9-4E8D-B3D8-DA43613C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834B-D1CA-47D7-85AF-60417EEB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08BBF-716A-4C34-BAE8-B2DEF20470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et Us Now Depart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n Thy Pea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6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Us Now Depart in Thy Pe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5238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New Mexican folk song, adapt. by Lee Hastings Bristol, Jr., 1961 (Lk. 2:2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133720"/>
            <a:ext cx="9144000" cy="44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now dep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y pe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essed Jesu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nd us to our hom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God’s love in our heart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dapt. © 1961 Concordia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not the busy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laim all our loyaltie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eep us ever mindf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ar Lord, of thee. Am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9:20:48Z</dcterms:modified>
  <cp:revision>162</cp:revision>
  <dc:subject/>
  <dc:title>PowerPoint Presentation</dc:title>
</cp:coreProperties>
</file>