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4AB-90E0-4842-839D-07AA5663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560-E73C-42E2-BCF9-EE71C926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7D6-7EC8-4920-A01F-F6AB9387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08F-A6EE-4BF6-94DC-F5EF2C9F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BE9-88B9-45D6-8906-1A6CBE93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429-B228-4735-87A1-D18495D0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EF3-6D31-4F75-92A1-599A796C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AB7-8A0A-4409-B385-4817DB87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E4F-0B43-4D3C-BED0-8F2BBCA3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7DF-47B8-4BC0-AF98-14E926E5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157-1424-45C5-ACBF-DE5319C6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050-7098-4E2F-B22E-EF4254A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E7B7-5639-4EE8-B85B-DBB8A201E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om to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om to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lsie S. Eslinger, 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 to you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, my frien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od’s full merc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you, my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y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your lo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e your shal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e your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9:05Z</dcterms:modified>
  <cp:revision>159</cp:revision>
  <dc:subject/>
  <dc:title>PowerPoint Presentation</dc:title>
</cp:coreProperties>
</file>