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BA5-EDF4-477D-989A-B354E1B3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6FB-9BE4-4EFE-A0B7-5F191E4E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7CC-8E31-49DB-B8EA-54E7B94D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4A5-9DCF-432F-8A82-211B48E6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3A55-0F77-4F36-A619-17DB786D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6D66-E304-4338-8632-A815A27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97F0-1DC4-468C-9B1C-727330BC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3C09-EEF2-4030-BA17-8C40D1C5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E9B7-24D7-4E56-98B3-E3C856E7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3CE3-E16E-4F6D-B1C6-D440DE09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1A97-FDC7-4861-95F9-1FEBFD97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5D0-0DBA-4A18-8683-63D3E697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5C0A-9C53-4477-8E8B-172060C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388A-C46E-4F28-A574-AE4AC22B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B2B5-6C2E-4BC2-8874-128DFA55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1F60-0E05-4C22-8FB2-BCDD6D56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36EF-02D6-4527-9497-CAE1465E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7F6-25AF-4C33-8A48-6F423008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E0B-9065-4AB2-95B4-D504C7B7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179-C266-431A-8B59-E600FEBD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3A6-7693-4A1D-964B-BBD1545F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5F2-3CB3-4BCE-A4C7-1CB14B2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33B-E75B-41FB-B81B-64721E90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E0F-988C-4C82-A254-F332A13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9A81-08F4-43A4-97B3-59C1817A1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3193-B5DA-43D6-BBF1-61D2BF22F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First Noe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first No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 did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o cer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ields as they lay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589400" y="1066680"/>
            <a:ext cx="598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English carol (Luke 2:8-14; Mt. 2:1-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is star drew n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northw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took its rest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it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stop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over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lay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n enter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ise Men th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reveren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kne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fered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gold and myrr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ankincens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228600"/>
            <a:ext cx="480060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1. The first Noel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e angel did sa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as to certai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poor shepherd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n fields as they lay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52280"/>
            <a:ext cx="48769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n fields where the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lay keeping their sheep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on a cold winter’s night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as so deep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320" y="228600"/>
            <a:ext cx="4876560" cy="33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60948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2. They looked up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saw a star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shining in the eas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eyond them far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ields whe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 keeping their sh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cold winter’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 so deep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68580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the earth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t gave great ligh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it continue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oth day and night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228600"/>
            <a:ext cx="480060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3. And by the light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of that same star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ree Wise Men came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from country far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52280"/>
            <a:ext cx="48769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o seek for a king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as their inten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follow the star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herever it went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60948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4. This star drew nigh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northwes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Bethlehem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t took its rest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68580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it di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oth stop and stay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right over the place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Jesus lay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609480"/>
            <a:ext cx="495288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5. Then entered i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ise Men three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full reverentl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e knee,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68580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fered there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presence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gold and myrrh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frankincense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looked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w a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in the 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m far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gave great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 it continu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day and nigh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by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at same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e Wise Men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country far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k for a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heir int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follow the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it wen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18-12-19T03:04:11Z</dcterms:modified>
  <cp:revision>10</cp:revision>
  <dc:subject/>
  <dc:title>PowerPoint Presentation</dc:title>
</cp:coreProperties>
</file>