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6A9-71A6-407E-8C23-96BB2725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FB9-B235-43FE-9BA6-22F7031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955-B07F-4520-BC34-83144321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A8C-329D-44D6-8B2B-47AB9D13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487-9EE4-48E9-B61E-AB65A767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844-E590-4A92-872C-F31D185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3F2-7AD0-482F-9F96-29998485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6D7-6AB5-499D-B8E3-414C597B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2F3-0220-427E-B1FD-9125C11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290-8E4C-4B36-BFF9-9328ACD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9A7-E23C-4BE1-BFF4-DAB5A57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449-040C-4AD9-B779-5B3C2C7D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17F-19D1-4CC8-A132-136F8716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cerning the Scriptures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Blessed Lord, you have caus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ll holy Scriptures to be written for our learning. Grant us so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o hear them, read, mark, lear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inwardly digest the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rning the Scrip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mbra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old fast the blessed hope of everlast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if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you have given us in our Savior Jesus Christ, who lives and reigns with you and the Holy Spirit, One God, forever and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16Z</dcterms:modified>
  <cp:revision>14</cp:revision>
  <dc:subject/>
  <dc:title>PowerPoint Presentation</dc:title>
</cp:coreProperties>
</file>