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711-87F0-4C25-8C69-8609F71D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31F-AF73-44DE-96AA-AECC97DB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069-F520-4306-8BDE-83C32AD0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B6C-C2B9-4168-BC63-48E3082D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31E-DDC4-412B-819D-319B1E29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173-320E-4219-AFE4-68C64267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39E-D04B-481A-9DB4-802E8EDF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C4D-5824-4857-BF1F-C0FC9B3F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2F0-4EF8-4937-A944-45176A55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1F2-AC3A-4EC8-A089-01B69870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4DB-5FA1-4FA6-9F49-18F012A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294-DF6B-4CA9-ACD3-6CB8A241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3464-71EA-417A-9BBC-F6A5F4E45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eaves of Summer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Una Espig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pes in bunches cut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Ediciones Musical PAX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79840" y="25718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body and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ves of Summer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ves of Summer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ves of Summer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02Z</dcterms:modified>
  <cp:revision>142</cp:revision>
  <dc:subject/>
  <dc:title>PowerPoint Presentation</dc:title>
</cp:coreProperties>
</file>