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41A-DFD5-4055-9B35-328D9F25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A5D-858B-4E4B-9401-ADBEB638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21A-49FB-4F4B-8A33-2B164C60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D6D-3DE0-4FD2-9717-BD3855F9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39F-C5E9-4004-AE3F-9216C879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0E8-2A17-4CE0-A2AA-CFDFAFF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B59-5D77-46A1-88D5-04CCACA8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7F3-4B27-4E78-8C01-B154EA3E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737-F6FA-4FEB-8F2F-6DF65AE0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4CE-E0EF-4192-AA92-0CF29786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47D-59F2-4DFF-B4CC-8EE4C136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D9F-CF67-4E87-BFBB-9678BE73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912-25BD-4CCE-B383-664FC4F89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Wondrous Sight!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Vision F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wondrous si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vision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lory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urch shall sh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9520" y="1549440"/>
            <a:ext cx="71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Sarum Breviary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1495; trans. by John Mason Neale, 1851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Mt. 17:1-8; Mk. 9:2-8; Lk. 9:28-3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ich in joy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ains we 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oice of pray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ymn of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Christ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untain sh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brighter t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un he glow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rom age to a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le decla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e disciples the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Mose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ijah m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holds conver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and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law and proph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have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o chosen witnes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ather’s v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t the c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claims his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a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ith shining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ght ar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deign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ifest that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glory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eirs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joy in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erfec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And faithful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raised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s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’s myste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0:19Z</dcterms:modified>
  <cp:revision>15</cp:revision>
  <dc:subject/>
  <dc:title>PowerPoint Presentation</dc:title>
</cp:coreProperties>
</file>