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4DE-739C-4C47-899A-D3DFD0D9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1DA-798F-4E19-996C-16E8B52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E1D-4684-4140-91CA-CB2552E2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9DC-34EC-4F49-A253-EC7C47AD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803-F56C-4A5B-84CD-9C2AC5B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4A8-49E8-4706-8765-D0FAC4ED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B34-08F3-4F7F-BC3D-5B03C2E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815-B4A6-4D32-AFB4-7BA869D8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0B8-D88F-4A43-8581-96F4378D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AEF-D69C-4930-B98E-C1D4228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64A-6E74-4C38-9682-22207D1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593-2FD1-48B2-B04E-10BBB5D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79DB-C5B0-450A-8054-0A10DFC5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for a New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ve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me a pur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e th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arking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© 1962 Alfred A. Knopf, Inc. and Faber &amp; Faber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for a New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3920" y="990720"/>
            <a:ext cx="572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ag Hammerskj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ld, Sweden, 20th cent. (Mt. 5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3828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umbl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hear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abide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4:53Z</dcterms:modified>
  <cp:revision>14</cp:revision>
  <dc:subject/>
  <dc:title>PowerPoint Presentation</dc:title>
</cp:coreProperties>
</file>