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8E5-76DE-4DAD-BCFB-4734819C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944-6D9C-4D56-9706-A4547431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C8B-712F-4F18-BCDE-0CDF6E5B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DDC-56F4-4F9C-A0B0-73232354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B2E-F84A-4129-B97E-5D24716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F8B-6761-4F52-9ED5-155D761A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4D6-2307-44EB-821A-BB1F0038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C05-8770-452D-9D63-FD6726FE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5C4-3AEC-4BE8-AAE5-888AB27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D3E-26BF-4ED0-8CCB-4D32876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6F8-0DA8-4058-B2E1-98EC318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538-27A4-4479-9F2C-693DE23B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9105-39F0-44F0-9ED4-63278757C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Father’s Love Bego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763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f the Father’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ve begott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re the worlds began to b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is Alpha and Omega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e the source, the ending 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85800"/>
            <a:ext cx="77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urelius Clemins Prudentius; trans. by John Mason Neale, 185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Henry W. Baker, 185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76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e things that 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have bee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at futu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ears shall s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524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O ye height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aven, adore him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gel hosts, his praises sing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s, domini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ow before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xtol our God &amp; King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0948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no tongu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earth be silen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y voice 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ncert r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5228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3. Christ, to the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with God the Father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, O Holy Ghost, to thee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ymn and chant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high thanksgiving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unwearied praises be: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nor,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domin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eternal victor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vermore and evermore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1T03:36:55Z</dcterms:modified>
  <cp:revision>34</cp:revision>
  <dc:subject/>
  <dc:title>PowerPoint Presentation</dc:title>
</cp:coreProperties>
</file>