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5EA9-0623-4421-BD52-8155B75C3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8E26-591F-4DCF-8256-943F055F8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8189-3B1E-4012-9481-8E346689E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6A92-42BF-44C9-810E-8CB92B766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ECE9-A13F-4F8E-A13E-785986848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9B4C-382A-42EE-914B-C773FC076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36CD-153C-4B57-BCFD-82B403E08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AF9F-D417-4D57-8497-354A6DD7C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D084-3D74-400F-8E0F-5AB2280AF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DB02-71F2-4EB7-B99F-110714EEB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2935-6311-4251-B03E-1C01A3C3D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5DBA-5FB3-4A94-AE4F-CCD591633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E107-2D3C-4419-AFB3-B9AE2B3DD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C495-410E-44B3-8A60-CB1D01E9C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AFD9-EDD2-47C1-8DE8-A8E627976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1F2D-A348-4604-A45F-4CAD2AC7B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7F04-45DF-489B-B6BC-4C86D47F6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0EF1-595C-4751-B7AF-5646C5567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E2AE-DCA0-409A-938B-15D5F456C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1671-0796-41D9-9FE6-99CC139F1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4899-3B1D-49BB-B551-974A6413D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59EB-A396-40CB-8680-A1D39C260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A2D3-81B1-49F1-929D-67C4A688E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FFAD-05B2-42E4-9C9E-7BC3D0CDD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C02A-AF5E-4BA2-B155-FC01BCE39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B4D6-46BC-4E5F-BB51-458819173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2427-A9F2-456C-8BFB-1C1FDB57D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F157-12FD-41BC-8547-6443E5C3B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57B2-19EB-4807-9030-CA9DC4C26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C7B1-2E6F-4E32-8CC6-1F91CE521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961E-4684-4AFC-A748-40948991E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6F1A-9D80-4208-8981-3935F0F19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1F01-C96D-43FB-8B25-9129DBD98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7DF6-8FEB-41DA-A822-AF08B57FC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3938-DE90-47AE-9667-0F04A2B41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08D7-7939-49AC-AB92-ACC62FC4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83B5-2B6B-4D34-A5DC-5CE2AE21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81A-44EB-4E7E-84B8-8AFEB643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385-4D2B-40D9-B379-BDF01787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19F6-0115-476E-81CD-F2192F07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CCAF-CF8A-409A-94C2-4A54952E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2B02-1EFF-4F20-B2D8-079FC13E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9658-DADD-40BC-8134-63DD5629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90E6-89DF-4195-A13B-25B32627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31FF-FCB9-434E-B617-B268A62E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2509-7A8A-4B51-95A9-2A929F16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560-5DC6-4F37-9208-02296A0C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D816-58BE-439D-9CFD-E841DBF9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0635-37A6-4632-B9B4-C9220BB6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B39A-E9E4-46F9-BA0A-95DBA9A9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0380-5E6B-40EF-B4C7-2017D2E1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76A9-558E-4221-866F-159C28AE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A06D-C131-42D4-A226-0F19DE24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2FF-E446-47A5-9F85-87B59EEC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E18C-8B7A-4ADF-AF64-41D2712E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138E-7EE2-4954-B8BB-879B4060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CFB9-1B64-4C70-9960-23220810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4C43-1E62-441F-A413-2B47F311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FABE-28D8-45C8-90DA-004CFAF4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3C6D-1C96-48CB-A8CA-7DAA36D18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14F8-4C95-40BB-A0C1-EDF0E038C7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Here I Am, Lor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9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137160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1. I, the Lord of sea and sky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heard my people cry.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ll who dwell in dark and sin 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my hand will save.</a:t>
            </a:r>
            <a:endParaRPr b="1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68580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Dan Schutte, 1981 (Is. 6:8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1, 1983, 1989 Daniel L. Schutte and NAL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3. I, the Lord of wind and flame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tend the poor and lame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t a feast for them.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My hand will save.</a:t>
            </a:r>
            <a:endParaRPr b="1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7632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inest bread I will provid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their hearts are satisfie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give my life to them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all I send?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249120"/>
            <a:ext cx="9144000" cy="40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am, Lor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s it I, Lord?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heard you calling in the night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76320"/>
            <a:ext cx="9144000" cy="40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go, L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lead me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hold your people in my heart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re I Am, Lor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1676520"/>
            <a:ext cx="9144000" cy="473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, the Lord of sea and sk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heard my people cr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dwell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 and si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and will sav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1, 1983, 1989 Daniel L. Schutte and NAL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Dan Schutte, 1981 (Is. 6:8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ho mad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s of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make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ness brigh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ill bear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to them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I am,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it I, Lor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hear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ing in the night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g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lead 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eople in my heart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, the Lor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now and r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bor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eople’s pai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wept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of the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turn awa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br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hearts of st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hem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love alon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speak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to the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76320"/>
            <a:ext cx="91440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I who made the stars of night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make their darkness bright.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Who will bear my light to them?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all I send?</a:t>
            </a: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I am,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it I, Lor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hear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ing in the night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g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lead 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eople in my heart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,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wind and f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ten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or and 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set a feast for the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and will sav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est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ov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ei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satisfie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give my life to the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11430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I am,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it I, Lor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hear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ing in the night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g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lead 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eople in my heart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Here I Am, Lor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9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0" y="167652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1. I, the Lord of sea and sky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heard my people cry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All who dwell in dark and si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my hand will save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0" y="68580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Dan Schutte, 1981 (Is. 6:8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1, 1983, 1989 Daniel L. Schutte and NAL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7160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who made the stars of night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make their darkness bright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Who will bear my light to them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all I send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0" y="76320"/>
            <a:ext cx="9144000" cy="442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am, Lord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s it I, Lord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heard you calling in the night.       I will go, Lor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lead me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hold your people in my heart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7621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I, the Lord of snow and r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borne my people’s pain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wept for love of them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y turn away.                                         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76320"/>
            <a:ext cx="9144000" cy="40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am, Lor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s it I, Lord?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heard you calling in the night. 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685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break their hearts of sto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ive them hearts for love alone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peak my word to them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all I send?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76320"/>
            <a:ext cx="9144000" cy="442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am, Lord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s it I, Lord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heard you calling in the night.       I will go, Lor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lead me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hold your people in my heart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0" y="9144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I, the Lord of wind and fla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tend the poor and la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t a feast for them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y hand will save.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10969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inest bread I will provid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ill their hearts are satisfied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give my life to them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all I send?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76320"/>
            <a:ext cx="9144000" cy="442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am, Lord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s it I, Lord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heard you calling in the night.       I will go, Lor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lead me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hold your people in my heart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76320"/>
            <a:ext cx="9144000" cy="40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go, L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lead me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hold your people in my heart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31680"/>
            <a:ext cx="9144000" cy="59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2. I, the Lord of snow and rain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borne my people’s pain.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wept for love of them.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They turn away.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48096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break their hearts of ston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them hearts for love alon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4906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peak my word to them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all I send?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173160"/>
            <a:ext cx="9144000" cy="40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am, Lor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s it I, Lord?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heard you calling in the night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76320"/>
            <a:ext cx="9144000" cy="40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go, L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lead me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hold your people in my heart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10-08T13:15:30Z</dcterms:modified>
  <cp:revision>101</cp:revision>
  <dc:subject/>
  <dc:title>PowerPoint Presentation</dc:title>
</cp:coreProperties>
</file>