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376-A848-410A-97C4-A4DEF5C8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FB1-C8C7-4580-A3A5-FD5183A4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924-614A-4304-8B60-ABB9254B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333-811F-4CBD-A927-01A6ADC5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4E5-364D-48EA-A374-7CB5768C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946-927C-42D2-8C92-E333FB4B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5743-E03A-45C3-A442-1B85679D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4AF-4D6D-4102-B9C5-6C9324C9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731-EDBE-4E08-8A82-3B843FD8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2C6-C96F-43A2-AE65-348F6C0F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411-7200-49CB-904F-264DA0B8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C46-5635-4891-B5C3-6E7E90E3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276A-7FB4-467B-85DC-0DF0698A9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ary of All Trump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ary of all trumpe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ry of all ki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ry of all songs that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mise, non-fulfi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Inter-Lutheran Commission on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ry of All Trump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83000" y="1077840"/>
            <a:ext cx="4019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Martin Franzmann, 1971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uld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hrist, one s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uld join in s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reat mus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and st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with heaven is r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aptain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wl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ant King, your d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de us shea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oolish s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de us cease deny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ry of All Trumpe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mpe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pirit’s br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ach he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your self-giving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 us all to fol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o the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mmon all the li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mmon us to live by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ining all by giv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ry of All Trumpe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ering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ay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in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ing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ay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tners in your splen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2:42Z</dcterms:modified>
  <cp:revision>11</cp:revision>
  <dc:subject/>
  <dc:title>PowerPoint Presentation</dc:title>
</cp:coreProperties>
</file>