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DAD-BADB-4AB3-99BF-B0ABD93D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AA5-0B8F-4BA8-8693-55D6AB0D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2A3-0E4D-462F-B7A6-1BA1ABE9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97D-2CC8-45CB-A1BE-77A6E0BC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211-5218-4C23-BDA5-FF179736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516-25ED-48FF-BC09-C40411D6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628-C3F4-40E0-BC4C-F16DDF92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EC5-69B3-4D3A-9119-C69599E4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F5E-9779-40A9-8B5D-D78B4989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9DE-4011-48B5-85A6-8A23A229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7CC-F10A-479A-B249-8F4B7313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845-5379-4C88-B504-CC6C15A3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CF49-6E55-4C3A-9533-3A675DA3E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ar, O Lor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r Servants G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73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Here, O Lor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r servants gather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hand we link with han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8 The United Methodist Publishing House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tic 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okuo Yamaguchi, 1958; trans. by Everett M. Stowe, 1958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honetic transcription from the Japanese by I-to Loh, 19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1. Sekai no tomo to</a:t>
            </a:r>
            <a:br>
              <a:rPr sz="4900"/>
            </a:b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te o tsunagi,</a:t>
            </a:r>
            <a:br>
              <a:rPr sz="4900"/>
            </a:b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Jyujika no moto ni</a:t>
            </a:r>
            <a:br>
              <a:rPr sz="4900"/>
            </a:br>
            <a:r>
              <a:rPr b="1" i="1" lang="en-US" sz="4900" spc="-1" strike="noStrike">
                <a:solidFill>
                  <a:srgbClr val="000000"/>
                </a:solidFill>
                <a:latin typeface="Times New Roman"/>
              </a:rPr>
              <a:t>tatsu warera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apanese Phonetic Trans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Kami no mikuni o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me a te to shi,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Shu Yesuno michi o</a:t>
            </a:r>
            <a:br>
              <a:rPr sz="5000"/>
            </a:b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susumi yuk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ing to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avior’s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ed in love we st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we see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ealm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unite to pr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ide our step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 are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any are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ngues we sp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cattered are the l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et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one in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in love’s dema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’en in dark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pe app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ling age and youth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t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 are the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Nature’s secre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w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anges never ceas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, oh w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weary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nd the source of peac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all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re distres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rn by endless strif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hea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ing your bal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 are the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rant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 age renew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ed with deathless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ork and p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d us from abo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 and cour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th and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eded in our strif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, M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ur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ur Truth, our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19:05Z</dcterms:modified>
  <cp:revision>59</cp:revision>
  <dc:subject/>
  <dc:title>PowerPoint Presentation</dc:title>
</cp:coreProperties>
</file>