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E2B-7A1E-4AAF-B406-AB05970B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0CF-ED90-428A-8FB8-0B0434B5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2F4-87B2-4315-ACA7-1C20A0CC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25C-0249-4AD9-8DB7-9AF15A62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37DC-560B-4D32-87E5-54457851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144C-D604-467B-A094-DA5A0EDF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64B6-F276-43D1-8B00-E5589062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2CD4-FE1E-4289-B59F-41D635CE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BBCB-CFAB-43E2-A039-B6A8D232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95AE-7F81-423A-B7BB-52EE1075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FDB2-DFAC-4AB9-B98D-B89CBC00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6DC-60BA-4995-B290-29D0BA6A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BA22-AA8C-4B05-8D9F-2A905B14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78F3-4E38-42A7-9E08-9FAD4AB3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572D-1277-4C2D-8573-3941E131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00B0-4045-49A3-8C56-FC8A7DF5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358F-AD4B-4D2A-B1A9-2B5FA873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755-E220-4ECF-8414-F8F9E4A8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E02-02B6-4825-B906-61F19445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000-2ADE-4CEA-BF49-F421593E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550-E970-4D34-A197-65ED070D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F69-571D-4866-8139-410FC8AE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F51-204F-4813-BFB3-83893D4D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81F-E3DB-4A06-922C-1929D147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DBE6-8569-44F3-A6FC-41AD7CADD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780F-F8D6-4A17-BE12-8A2BEAD10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2120"/>
            <a:ext cx="769608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Lloyd Stone, st. 3, Georgia Harkness, ca. 19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s. 1, 2 © 1962 Lorenz Publishing Co; st. 3 © 1964 Lorenz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my so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God of all the nation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 song of pe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or lands afar and mi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Lloyd Stone, st. 3, Georgia Harkness, ca. 19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133720"/>
            <a:ext cx="9144000" cy="432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God of all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ong of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lands afar and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s. 1, 2 © 1962 Lorenz Publishing Co; st. 3 © 1964 Lorenz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untry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are my hop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dreams, my holy shr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thers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ther lands are bea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opes and dr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rue and high 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My country’s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luer than the oce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unlight b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cloverleaf and p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ther l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sunlight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kies are every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lue 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ar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od of all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ong of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ir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is is my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’s kingdom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kingdom c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thy will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hrist be lif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till all shall serv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rts uni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to live as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ar my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o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nat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 give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will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522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2120"/>
            <a:ext cx="769608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Lloyd Stone, st. 3, Georgia Harkness, ca. 19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s. 1, 2 © 1962 Lorenz Publishing Co; st. 3 © 1964 Lorenz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765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my so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God of all the nation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song of pea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or lands afar and m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is my ho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country whe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 heart i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re are my hope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 dreams, my holy shrine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untry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are my hop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dreams, my holy shr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936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thers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ther lands are bea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opes and dr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rue and high 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My country’s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luer than the oce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unlight b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cloverleaf and p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ther l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sunlight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kies are every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lue 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ar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od of all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ong of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ir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is is my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’s kingdom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kingdom c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thy will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hrist be lif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till all shall serv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rts uni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to live as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ar my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o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nat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 give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will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1430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ut others heart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other lands are beat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hopes and dream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s true and high as mi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9856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My country’s ski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luer than the ocea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unlight beam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 cloverleaf and pine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6996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ut other land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ve sunlight too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clo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skies are everywhe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s blue as mi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9364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hear my so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ou God of all the nation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song of pe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or their lan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for mi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6996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is is my pray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a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’s kingdoms: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y kingdom com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thy will be do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666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t Christ be lift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p till all shall serv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hearts unit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arn to live as o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hear my pray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ou God of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the nation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self I give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t thy will be do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29T22:34:23Z</dcterms:modified>
  <cp:revision>149</cp:revision>
  <dc:subject/>
  <dc:title>PowerPoint Presentation</dc:title>
</cp:coreProperties>
</file>