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00D-0D8D-4BE1-9831-16DA053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2D7-542D-41ED-AEDC-B33C296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F22-F31F-4699-8002-B112D9EC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FAE-A719-4A25-8C8A-50820869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85A-67C1-4C4B-BE4D-F024861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0F6-5167-4016-B77A-34DA77D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324-2D98-43FF-8DB9-D5AD56C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E1D-1E3B-4A6E-BBAD-F1016ED9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3BD-CEF1-4794-8BF5-D63128E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7FD-9C21-4D6A-95DB-BD696B93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99A-AEFC-4B2D-84AE-6852CFA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CBC-8CD2-4586-9EF9-54C4648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390-4CFB-491A-A21F-2F4B7D9A1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i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</a:t>
            </a:r>
            <a:br>
              <a:rPr sz="4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hild So Love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520" y="152388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í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6:52Z</dcterms:modified>
  <cp:revision>69</cp:revision>
  <dc:subject/>
  <dc:title>PowerPoint Presentation</dc:title>
</cp:coreProperties>
</file>