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E488-E6DB-44F1-806A-89CBD281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7C91-86D7-4ED8-B359-AA7B6CF3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6ADC-149E-4F9D-8579-C55947A2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ACC9-70E0-449D-98A5-0A184F15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647A-556F-49B4-ABFE-923FB1AE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F36D-56D7-4A83-94A6-F088526C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4C18-9240-4E31-823F-A70842CA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76DC-A964-4DD2-8900-646E7947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2B5E-0C20-41DF-930D-387ED05A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B333-8981-4C02-A767-2DB0F1B5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B8A0-1EF8-4AE4-B455-BE7D422F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A49C-A53A-4885-9667-C260EA7B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3B47-E4C8-4834-9DF0-4A1EC21B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0E82-F07C-40D8-B787-1E596977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365F-1E2E-4924-8822-36C26817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D55B-73E6-45BD-95F5-3468C966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F7B9-89DB-4155-BF91-DA0AF256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EB92-DB56-455B-9820-3FDB42E7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A8DE-B62D-4524-8340-99085B6D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9EEE-9752-4048-9090-3388B078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8F05-BE77-4A3A-9ED8-A9995232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E756-276D-4873-A617-8A839B2B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BB3D-BD9E-4AA8-B760-F806F24E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0637-25CD-4D7E-BD10-3852D845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60B3-5825-49C0-87D2-50AC5DD78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439A-3A3D-4B2D-8C99-111DF178C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, Speak to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Speak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ances R. Havergal, 1872 (Rom. 14: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9810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1. Lord, speak to 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 may speak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in living echoe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of thy tone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thy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ce I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rest, thy j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glory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, Speak to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Speak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ances R. Havergal, 1872 (Rom. 14: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5238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1. Lord, speak to 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 may speak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in living echoe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of thy tone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80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ou hast sou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let me seek t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rring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t and 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Speak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04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 strengthen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hile I 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rm on the ro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trong in th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228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may stretch 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oving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restlers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oubled s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Speak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28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O teach m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 may t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ecious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dost impar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52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ng my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y may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idden dept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any a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Speak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O fill me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fullnes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my 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 o’erflow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28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kindling th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lowing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love to t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praise to sh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Speak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28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O use m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se even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st as thou wil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en, and whe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ou hast sou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let me seek t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rring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t and 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thy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ce I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rest, thy j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glory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Speak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 strengthen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hile I 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rm on the ro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trong in th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may stretch 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oving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restlers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oubled s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Speak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O teach m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 may t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ecious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dost impar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ng my w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y may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idden dept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any a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Speak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O fill me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fullnes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my 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 o’erflow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kindling th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lowing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love to t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praise to sh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Speak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O use m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se even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st as thou wil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en, and whe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7-28T18:41:24Z</dcterms:modified>
  <cp:revision>159</cp:revision>
  <dc:subject/>
  <dc:title>PowerPoint Presentation</dc:title>
</cp:coreProperties>
</file>