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669C-964A-459F-8BA7-51B411017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A47E-5634-4965-B386-EF4A63F3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D6A8-5409-47C4-970B-5BE60FBD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5A75-765B-42E7-B918-B8CB8B7F3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9F41-9B35-4A5B-9EA2-78E19FC0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43C1-6EE3-4B93-979B-6AD5C216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EC19-D7E4-44D7-819F-B36CB5B0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E53B-9884-4798-B655-6F416844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7811-40CE-45C2-A8FC-549A824D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14A5-8F2B-447D-BC76-F4398552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40AA-1C1A-4651-8B60-6C17E6C2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71DE-7613-4399-A06F-49702DCD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B662-BC7B-4F90-BABA-56B24F889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Holy City, Seen of Joh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39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holy ci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n of Joh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amb, doth reig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ly City, Seen of Joh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95040" y="1066680"/>
            <a:ext cx="533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Walter Russell Bowie, 1909 (Rev. 21:1–22: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, how 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lendor challeng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ouls that greatly da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a, bids us seiz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hole of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uild its glory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3716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 whose foursqu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ls shall 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night, nor need, nor p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here the t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wiped from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hall not weep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ark, how from m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se lives are he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e chea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n merchandi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ly City, Seen of Joh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women strugg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re for br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little children’s cr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swells the sobb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uman plai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ids thy walls ar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shame to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rest cont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lust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ed for gai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ly City, Seen of Joh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treet and sho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enem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ring gold from human p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itter lip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lind despair c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Christ hath died in vain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Give us, 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rength to bui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ity that hath stoo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ly City, Seen of Joh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o long a dre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se laws are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se crown is servanth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here the s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hinet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grace for human good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Already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nd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ity riseth fair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ly City, Seen of Joh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21:16:29Z</dcterms:modified>
  <cp:revision>56</cp:revision>
  <dc:subject/>
  <dc:title>PowerPoint Presentation</dc:title>
</cp:coreProperties>
</file>