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2F4-FB67-405D-B144-847FE399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7E3-810C-4B68-B733-6FA34F3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4FA-736C-4B14-AE04-148DA546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239-6841-4859-8543-907EA45C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E7C-AD0B-4080-9D9E-68BA30A5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0DB-6D61-4BDB-914A-9B59094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542-E120-4857-B59C-180D5B7F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BF2-B142-44E6-AF4E-CE656BFC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76F-BFAE-4FAB-8649-E55F56F8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E1B-712F-4D3D-B21A-7FCE33E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FD1-5AB9-4497-9BBF-A11304AF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B8D-DA63-4541-9D99-F3F1FD6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FC8A-0B83-4FA9-96F9-9BD03125A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e Is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 thee is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d all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3440" y="1092240"/>
            <a:ext cx="77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Lindemann, 1598; 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 ar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r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hou mak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nds thou break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s thee sur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built secur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nds for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re p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 shi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ying o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are clea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can us s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f God be 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fear no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 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ees and ble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st distr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n ch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in a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fore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of God’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 v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aven rej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forev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t for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’er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and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s still 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hymns forev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59Z</dcterms:modified>
  <cp:revision>31</cp:revision>
  <dc:subject/>
  <dc:title>PowerPoint Presentation</dc:title>
</cp:coreProperties>
</file>