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9176-A3AC-41BE-BC9F-15C1EA0AB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1A14-77F7-4139-AFD5-9673A1B63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9BB7-29A6-4BE4-A2F4-0FC59A257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F59E-0015-40EA-95A6-9280B6A0A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1FC5-5967-4619-9478-244A10CC4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A4F3-9186-4DD3-9A7A-8A329872B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B7E8-EF85-4A57-B9D7-7D71BE0B3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DFA8-BC62-42D6-9D37-8D2749C90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5A95-53DD-4FDC-95EB-BADA0ABFC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623B-772C-4A05-B775-15C6954FC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1806-864F-4DB1-9C67-028123F10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2ED9-7413-4CF2-B30B-19D51E468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7DE8C-EFA5-4B3D-BDF4-BE11844A26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oftly and Tenderly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Jesus Is Call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4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ly and Tenderly, Jesus is Calling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6765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Will L. Thompson, 1880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4382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Softly and tender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 is call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alling for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for 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adows are gather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eathbeds are com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ing for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for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ly and Tenderly, Jesus is Calling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287360"/>
            <a:ext cx="9144000" cy="412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home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Come home,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home;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come home;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who are wea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ho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arnestly, tender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 is call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alling, O sinn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ho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ly and Tenderly, Jesus is Calling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O for the wonderf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ve he has promis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omised for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for 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gh we have sinn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has mercy and pard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ardon for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for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ly and Tenderly, Jesus is Calling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287360"/>
            <a:ext cx="9144000" cy="412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home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Come home,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home;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come home;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who are wea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ho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arnestly, tender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 is call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alling, O sinn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ho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e, on the portals he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iting and watch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tching for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for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ly and Tenderly, Jesus is Calling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287360"/>
            <a:ext cx="9144000" cy="412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home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Come home,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home;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come home;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who are wea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ho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arnestly, tender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 is call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alling, O sinn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ho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ly and Tenderly, Jesus is Calling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Why should we tar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Jesus is plead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leading for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for m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y should we ling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heed not his merci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ercies for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for m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ly and Tenderly, Jesus is Calling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287360"/>
            <a:ext cx="9144000" cy="412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home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Come home,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home;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come home;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who are wea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ho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arnestly, tender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 is call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alling, O sinn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ho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ly and Tenderly, Jesus is Calling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Time is now fleet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moments are pas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assing from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from 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0:19:22Z</dcterms:modified>
  <cp:revision>104</cp:revision>
  <dc:subject/>
  <dc:title>PowerPoint Presentation</dc:title>
</cp:coreProperties>
</file>