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3AD-F1FD-4C60-ABB8-514C764D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5E1-02C6-420B-8111-E034F0C0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6C2-3D71-4F12-A965-2929402F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A44-CA4F-4352-962B-F7683126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1A7-F9B2-45A6-8C42-E4D5C7C5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E3F-E9DC-4C23-AB97-4BF35BD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37C-0EA8-4B7A-96C8-584BDD57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36B-39B5-4346-812C-53253D3E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E7A-FE2E-4789-9F74-3962EEA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7A1-AA4F-4FEB-8A3F-286DA29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5F7-7E54-4110-8D71-3B1B50B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61F-BFAB-47ED-8F1D-5809FCF3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2D3-812E-4795-8CF5-F6F08AC30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 My Cup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cup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ift it up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que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irsting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9 by Richard Blanchard, assigned to Sacred Songs © 1964 Sacred So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My Cup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ichard Blanchard, 1959 (Jn. 4:5-15; 6: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it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51:42Z</dcterms:modified>
  <cp:revision>124</cp:revision>
  <dc:subject/>
  <dc:title>PowerPoint Presentation</dc:title>
</cp:coreProperties>
</file>