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160-5A5B-465E-8D12-015AB55F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187-CE4B-4DC2-9844-87B54C4E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74C-0A43-498C-B697-AF22C9A5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3CA-9133-4502-9D74-67B5855C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DF7B-CF70-43F8-9965-C73CF79C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DBDB-8D73-40FF-B675-25524654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9237-79EA-4DEA-87C6-3491E0D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0D6C-96D6-464E-B26B-A6E9A234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A700-C4A2-4113-98CF-AF3C87A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CA43-8925-44B7-8062-7F2A40A4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CE4A-8BE9-4FD7-8686-58CEE0B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EE9-0565-4099-831E-3E7C0CD1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94D-014F-4AA0-B6C1-677C7FF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5248-78AD-49A6-976E-5DB4546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3DC7-ADD4-4554-9F4E-E6836BAC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049D-8491-4BF2-9248-E80F2BF4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C091-3712-4723-8666-190CC2C4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E8E-8958-468E-BA7F-5E32B34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2A4-C609-43EE-8906-EBC259F7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C35-3830-4E41-A99E-50DEC4E1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68B-CDB8-4FB8-832E-97542015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F44-93EF-45B8-B4CC-8649C65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858-27B2-4EF6-9031-02D1FEE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754-59FE-44C4-B9A8-5B9D17F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C805-DD3D-439D-B369-1F288AA97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DAAE-81C4-45DE-8D4B-5959A0733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rk! the Herald Angels Sing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born King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482120" y="1116000"/>
            <a:ext cx="62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39; alt. by George Whitefield, 1753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and others (Lk 2: 8-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il the heaven-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nce of Pe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ighteousness!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he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with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ing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ld he l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y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 may di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o rais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econd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ark! the Herald Angels Sing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24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819520" y="1812960"/>
            <a:ext cx="6324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born King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82120" y="914400"/>
            <a:ext cx="62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39; alt. by George Whitefield, 1753,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Arial"/>
              </a:rPr>
              <a:t>and others (Lk 2: 8-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0" y="914400"/>
            <a:ext cx="2946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8120" y="990720"/>
            <a:ext cx="6095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erc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and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nciled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429000" y="91440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ful, all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in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ki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’angel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t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Christ i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ethlehem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nd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onciled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76720" y="380880"/>
            <a:ext cx="58672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hrist, by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 ad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Lor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76720" y="106668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te in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fspr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virgin’s womb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76720" y="11430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eiled in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Godhead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’incarnate Deity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352680" y="990720"/>
            <a:ext cx="5791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ease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flesh to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76720" y="304920"/>
            <a:ext cx="58672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276720" y="609480"/>
            <a:ext cx="58672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ail the heaven-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nce of Pe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!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429000" y="83808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ght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he br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n with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wing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76720" y="914400"/>
            <a:ext cx="5867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ld he l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glory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more may di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429000" y="1066680"/>
            <a:ext cx="5715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ais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second birth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, all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ions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the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kies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429000" y="380880"/>
            <a:ext cx="5715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29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’angel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 is b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thlehem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King!”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hrist, by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d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or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te in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him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fspri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virgin’s womb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6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iled in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head s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’incarnate Deity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ase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lesh to dwe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1-12-21T17:57:29Z</dcterms:modified>
  <cp:revision>17</cp:revision>
  <dc:subject/>
  <dc:title>PowerPoint Presentation</dc:title>
</cp:coreProperties>
</file>