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0E286-5E4A-41B6-A767-324580998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20DDA-657C-4346-8AFC-F4ED0F81A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63CB3-6BFB-453F-BEC7-9C6AE23A8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5C20F-4DE6-4486-A1D8-B4133043F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B0CEB-E9CF-4F6B-B148-366C9FA64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5E84B-DCE1-4E2E-BCEA-56B2BF90A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7A1C8-8A4A-4BA6-8F1E-099447EA8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5C9DA-085B-4207-89D3-93C444EFD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25E47-55BF-4E30-9CAB-D35AB7BC0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F98E7-F75D-4104-B38D-92434E1AB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51EB5-9145-42C5-AF7D-0025CF1D7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997A3-5B29-40B7-AE67-1837C67B9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1EE98-A10D-443E-AFEA-4D6DDA872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FF626-78B1-4566-9FFD-C45C8DB66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9BE73-7368-42A8-9A35-0960732D5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E543C-9945-4D96-8418-3DA0CF2D4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16E6D-BE56-467A-A2F9-E87FFB4F9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908D6-D6C1-4897-B076-D8227E721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B3B43-C9DD-4C59-B191-806407AED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E35F1-AE8B-4025-BC18-8315D138A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FEFA0-2E5A-47DB-9D08-C57C20497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2546D-1A2A-4DC6-9BA9-F1DEC191C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44661-E8ED-4825-95BB-63B368BB6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5CE98-25D9-4CEC-980D-FCA4150DA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3B302-BD7F-45CF-9BBE-1B4C6185B4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49C95-D23A-4A17-8C5D-D188224772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Lead On, O King Etern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58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2286000"/>
            <a:ext cx="9144000" cy="301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1. Lead on, O King eternal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 day of march has come;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henceforth in fields of conquest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y tents shall be our hom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ad On, O King Eternal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0" y="1066680"/>
            <a:ext cx="91440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99"/>
                </a:solidFill>
                <a:latin typeface="Times New Roman"/>
              </a:rPr>
              <a:t>WORDS: Ernest W. Shurtleff, 1887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21276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not wi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words loud clash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r roll of stirring drums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deeds of love and merc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heavenly kingdom come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2286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Lead on, O King eterna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follow, not with fear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gladness break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ike morn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re’er thy face appear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ad On, O King Eternal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21276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cross is lifted o’er 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journey in its light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crown await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conquest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ad on, O God of migh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137160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rough days of preparatio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grace has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ade us strong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now, O King eterna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lift our battle so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Lead on, O King eterna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sin’s fierce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ar shall ceas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holiness shall whisp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sweet amen of peac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ad On, O King Eternal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129528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not wi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words loud clash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r roll of stirring drums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deeds of love and merc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heavenly kingdom come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Lead on, O King eterna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follow, not with fear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gladness break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ike morn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re’er thy face appear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ad On, O King Eternal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144792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cross is lifted o’er 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journey in its light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crown await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conquest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ad on, O God of migh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Lead On, O King Etern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58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1600200"/>
            <a:ext cx="9144000" cy="283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1. Lead on, O King eternal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the day of march has come;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henceforth in fields of conquest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thy tents shall be our home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ad On, O King Eternal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0" y="1066680"/>
            <a:ext cx="91440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99"/>
                </a:solidFill>
                <a:latin typeface="Times New Roman"/>
              </a:rPr>
              <a:t>WORDS: Ernest W. Shurtleff, 1887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22860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rough days of preparatio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grace has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ade us strong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now, O King eterna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lift our battle so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4267080"/>
            <a:ext cx="9144000" cy="2590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2286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Lead on, O King eterna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sin’s fierce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ar shall ceas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holiness shall whisp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sweet amen of peac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ad On, O King Eternal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nnifer McCay</cp:lastModifiedBy>
  <dcterms:modified xsi:type="dcterms:W3CDTF">2007-03-03T19:59:34Z</dcterms:modified>
  <cp:revision>86</cp:revision>
  <dc:subject/>
  <dc:title>PowerPoint Presentation</dc:title>
</cp:coreProperties>
</file>