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4F5-BFA2-499C-89D3-5CD90763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884-DF94-44A4-A56B-4470CCCE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FA3-DBD9-4810-8117-8A1952E2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804-2646-4AA3-BC5D-9183BE0B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117-3664-42E8-BE6A-BC5AB286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218-7BE3-4EAE-9B37-EF6F031D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694-1C61-4886-9AB2-B228714B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3AF-0387-48BB-BAC5-31087509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7CA-5ED4-4C2A-A887-BE3318E8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A34-0C7C-4A15-8BF7-CE979EC2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481-AD15-46B4-9A1C-E0ED5E1F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3FC-87E6-4D19-913D-68720DD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4B9B-2CAA-4B24-90FB-86F240822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Are the Se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ois la Sem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672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571840"/>
            <a:ext cx="8686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4160" y="1523880"/>
            <a:ext cx="7173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85800"/>
            <a:ext cx="914400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0120" y="1219320"/>
            <a:ext cx="6995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1880" y="1752480"/>
            <a:ext cx="7401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3680" y="1828800"/>
            <a:ext cx="5443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5560" y="1752480"/>
            <a:ext cx="5497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3480" y="1752480"/>
            <a:ext cx="6644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762120"/>
            <a:ext cx="853416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6800" y="1219320"/>
            <a:ext cx="6677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5720" y="1752480"/>
            <a:ext cx="685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752480"/>
            <a:ext cx="8534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6840" y="1905120"/>
            <a:ext cx="6218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4160" y="1828800"/>
            <a:ext cx="6980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1600"/>
            <a:ext cx="91440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4880" y="1981080"/>
            <a:ext cx="704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4760" y="1676520"/>
            <a:ext cx="5423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1920" y="1676520"/>
            <a:ext cx="4861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1760" y="1828800"/>
            <a:ext cx="5776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1920" y="1752480"/>
            <a:ext cx="7012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371600"/>
            <a:ext cx="89154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1160" y="1905120"/>
            <a:ext cx="7403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4880" y="1523880"/>
            <a:ext cx="704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6280" y="1752480"/>
            <a:ext cx="5604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8960" y="1600200"/>
            <a:ext cx="4630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9200" y="1523880"/>
            <a:ext cx="5209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7160" y="1828800"/>
            <a:ext cx="666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447920"/>
            <a:ext cx="868680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88560" y="1523880"/>
            <a:ext cx="7049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6080" y="1752480"/>
            <a:ext cx="660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33520"/>
            <a:ext cx="853452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0640" y="1905120"/>
            <a:ext cx="80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the See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9440" y="1828800"/>
            <a:ext cx="6502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828800"/>
            <a:ext cx="6375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000000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8:30Z</dcterms:modified>
  <cp:revision>91</cp:revision>
  <dc:subject/>
  <dc:title>PowerPoint Presentation</dc:title>
</cp:coreProperties>
</file>