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85B-719A-4E30-9A9A-C9C2112F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094-E4AF-46F5-A4B4-5F1B64E8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A72-3C67-486A-84D7-0B16FA15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6C9-16DA-4DBB-802B-A3BA262A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177-5B05-4285-A678-69CC393A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4C4-FDAF-41A7-90B3-BF9E3BF1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7E0-11FE-4E30-8DF2-DF6BCD9E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B1B-2B7B-4337-A96C-05561516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D34-CFBD-4777-8AE6-1447DE0E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485-CCC5-4353-ABF1-2DD3721D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5BF-98F3-407B-ABCE-88860EE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201-D401-41C7-89ED-3DBF46C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86D4-A3F8-42BB-9CCA-26EA1071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o Mock Your Reign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earest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o mock your 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dearest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made 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of thor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7652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2 (Mt. 27:27-31; Mk. 15:16-20; Jn. 19:1-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you with tau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g that ro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one ret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lorious is that crow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rns wou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ower upon your b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sorrows heal ou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mock ac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rac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natch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purple clo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assion tur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y ca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a soldier’s j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ough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rit b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will your ro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ercy th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ound our naked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 sceptered r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atient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th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cted 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grim char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its appointed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empires rise and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dom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cease to g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 embrace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0:51Z</dcterms:modified>
  <cp:revision>45</cp:revision>
  <dc:subject/>
  <dc:title>PowerPoint Presentation</dc:title>
</cp:coreProperties>
</file>