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A5DB-29F1-4C76-9054-1E5C93EE8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19DC-6B94-484B-9B59-67860DA7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EECA-90CD-451D-9153-46DAC056B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6BD7-8D05-4174-A09A-09659D720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73BA-4AAD-4A3D-AC02-388391D5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503C-FD0D-4551-B315-CB4079C2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D111-0CEE-4D27-9323-0F2CC5E3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D3BA-5909-47C2-B9A1-D32C471D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42CD-C5BB-4108-B222-D32CF0F7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C00F-9970-4DCD-A35D-FAEFB5A6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FD96-2A7A-4043-A045-DE89806E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8549-A944-47DA-A70D-0C4C743A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FE0E-5EE0-4984-9C6B-B36054123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Jesus the Healer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assed Through Galil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6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en Jesus the heal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ssed through Galil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9 Stainer &amp; Bell,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the Healer Passed Through Galil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90440" y="1600200"/>
            <a:ext cx="33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Peter D. Smith, 19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bent woman straighte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augh and to shout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Jesu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The twelve w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issio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ent out in tw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the Healer Passed Through Galil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ake the sick who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sp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ood new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Jesu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7. There’s still s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uch sic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uffering toda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the Healer Passed Through Galil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gather toge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healing and pra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Jesu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eaf came to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lind came to se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Jesu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 paralyzed man w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down through a roof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the Healer Passed Through Galil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ins were forgi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walking the proof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Jesu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death of his daugh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used Jairus to weep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the Healer Passed Through Galil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took her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raised 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sleep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Jesu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hen blind Bartimae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ied out to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the Healer Passed Through Galil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faith made him who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is sight was restore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Jesu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he lepers were hea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demons cast out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the Healer Passed Through Galil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12:09Z</dcterms:modified>
  <cp:revision>18</cp:revision>
  <dc:subject/>
  <dc:title>PowerPoint Presentation</dc:title>
</cp:coreProperties>
</file>