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472-8B06-48DF-977B-D1F7F518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88F-CA88-4E84-8117-2303DEA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FB7-514A-4212-A8E0-B9776935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51C-3FC7-42CF-97B1-B1EED6FE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03A-1AB8-488B-92CF-1BD2C18A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306-BB4B-43AD-B088-34D89933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F0F-A8D6-452E-AC6D-E01475C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E94-1577-4B6B-BC46-7D6790D7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7F5-CFE8-41C8-B8E2-10CC21C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8C5-D50A-4F80-9EB7-EC906B24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C7C-AE9A-4CB7-9A83-7035D85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605-A714-4333-BAAA-A5CA91E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D2F-2823-43E2-8351-4A54E840A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ose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por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9160" y="1066680"/>
            <a:ext cx="38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for 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orldly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for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rayer sha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w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 and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m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ale of sh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me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fitfu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g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e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0:23Z</dcterms:modified>
  <cp:revision>22</cp:revision>
  <dc:subject/>
  <dc:title>PowerPoint Presentation</dc:title>
</cp:coreProperties>
</file>