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902-9B44-4D14-BF97-A00BD3D7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12E-CF28-44F4-A0CF-1031C561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048-4DC5-419E-801F-478DE21D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126-8597-4F29-AB62-0E890045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4B4-AEA0-4758-A767-F4C7C374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D08-6FCD-4B53-A7E2-124CA3D8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4A2-52B4-4C39-A0E5-17D716EA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2B3-0766-4533-8102-6C7ED3D2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119-1E6A-49BE-A593-D925D89A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7CC-2AF4-4115-BE99-6E850702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D25-4DCB-4573-A5A6-6237AF6B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C17-0B05-4A1F-8AF7-AEA7F05C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4F04-7327-4892-A5DF-308AE8D91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Grace to La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82880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hings, good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pray f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us the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labor f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race to Lab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0200" y="1066680"/>
            <a:ext cx="41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homas More, England, 16th ce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4T20:50:46Z</dcterms:modified>
  <cp:revision>24</cp:revision>
  <dc:subject/>
  <dc:title>PowerPoint Presentation</dc:title>
</cp:coreProperties>
</file>