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6E1-8A66-40AB-83D8-E2038A5D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C42-D32D-446F-BBAB-1CFB4EA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211-6460-4B58-B031-5F04573C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262-66FD-4707-B76B-C5DDF15E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3D9-190E-4EED-B6E9-868482B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4EA-475E-4192-944E-8E3BC820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911-371A-42FD-8049-A22629C2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FEB-F9A3-4D95-AE9C-81B3DAB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203-31EA-4C3E-8CA9-A60B60CB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088-686C-4465-8964-6D9FF29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E9E-5D6E-4926-B3E8-BB19562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A8E-C9C1-4864-AED8-A49EDF0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21C7-D5AD-445B-A2FB-C31C01DA3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S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The Book of Common Prayer;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lt. by Laurence Hull Stoo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8191440" cy="453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od of compassio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source of life and health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trengthen and relie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your servant(s)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me(s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05740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give your power of hea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ose who minist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i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need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60020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se for who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ur prayers are offer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ay find help in weaknes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onfide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your loving car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him wh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healed the si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is the physici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our soul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even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06Z</dcterms:modified>
  <cp:revision>151</cp:revision>
  <dc:subject/>
  <dc:title>PowerPoint Presentation</dc:title>
</cp:coreProperties>
</file>