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1C6-C99A-4D43-8626-D67F347C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F32-DD56-4CD4-BCEC-9D11D9B4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8BE-CC14-4BF9-A7B0-97E23096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6B3-FBB9-4D98-A6BB-55A1EBD0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588-750D-4471-983F-71A4F890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C4D-F0E4-4519-A74D-17F42015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A7E-0D11-49E3-9DFF-0790348D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20E-2982-418A-83D5-31A76A68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4F7-A3ED-43FD-8D2B-176108F2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9E0-1974-48EF-9A40-DFDDA616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B45-2839-436D-9C47-DEFD1BB2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6DC-3A28-43AC-ADC6-0A7B688E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2753-73A2-44D8-A1C3-7BF066F52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ve Thine Ow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y, Lo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447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delaide A. Pollard, 1902 (Jer. 18:6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the pott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the cl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ld me and mak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ter th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I am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ielded and sti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rch me and try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 today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me just now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me just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thy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y I bow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nded and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e I pray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, all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is th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 me and heal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divine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d o’er my be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solute sw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with th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shall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only, al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in me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1:03:39Z</dcterms:modified>
  <cp:revision>130</cp:revision>
  <dc:subject/>
  <dc:title>PowerPoint Presentation</dc:title>
</cp:coreProperties>
</file>