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813-FE32-425B-9508-C6873846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A31-2462-4ECC-A4E1-996FBF93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2A5-AC2A-4E31-AD85-C886D21F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FBF-E561-4B45-82D7-F426F68C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BF9-93CD-41DE-BC22-E0910E5A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9E2-43D3-4276-89D1-3A831C0B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208-4466-42F6-AA33-E975EF59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9F5-C8E7-44E7-B3AB-BA8EFB1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A99-44AB-41DC-8210-E2B8782A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7C7-6223-4A07-B68C-37452E0A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4AE-57B5-4B62-BFAC-8E4057D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E84-D731-42A7-A764-E414931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4542-7686-4DBE-805E-328587D80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ar Lord, Lead M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by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ancisca Asuncion, 19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ar Lord, lea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 steadf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se and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h up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nder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ympath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mos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o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y dear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Dear Lord, lead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be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w with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ous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ur G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1:37Z</dcterms:modified>
  <cp:revision>136</cp:revision>
  <dc:subject/>
  <dc:title>PowerPoint Presentation</dc:title>
</cp:coreProperties>
</file>