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E13-94FF-46E4-8966-E700661D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B41-A45B-46FF-83DB-0FD09917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4C3-8B4D-40D0-9F3A-E0580DC7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53E-B767-4F56-ADC3-4968508E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07A-A5BD-463B-8B3E-04DAE530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6C2-09BD-462F-9A8F-5A9A7F78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F8A-BD32-4CBF-8481-7AEB0D81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1A4-F6EA-434D-AF8A-4ABB3DFC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FC8-CCF3-4C51-80AC-FD8EC28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A4E-1263-41B8-B565-1953827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1E5-2BB6-4631-80DD-194BC55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57D-2DA7-4314-B425-BEB8CDA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F3AC-BF1E-4B7F-901B-B487939A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Spirit, Now I Pr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aw-Kee, Aim Daw-Tsi-T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562720"/>
            <a:ext cx="9144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600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7920" y="260028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760" y="1905120"/>
            <a:ext cx="75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47Z</dcterms:modified>
  <cp:revision>91</cp:revision>
  <dc:subject/>
  <dc:title>PowerPoint Presentation</dc:title>
</cp:coreProperties>
</file>