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81CE-0182-465A-800D-24B25591F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F0D9-BD31-4547-AFFE-7D7198262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3E8C-41F2-43F3-9E99-5DBE959D5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684B-288E-4ADC-AFBB-931F3CE98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C3E02-C346-4B0A-9C2F-8CA24BDE0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52985-F666-4641-8770-8BBC5513B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3E268-BFDC-425B-AC9D-B2FCDDCFF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C722D-0D35-43A3-B0FB-4C42D0EB3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0259D-6354-4C7F-9E76-9C616AD21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94189-2FA0-4F62-9B5A-9A521D079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4C6C9-D2D8-4B13-8622-741BEE033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B5A0-FEF1-4595-8B64-86356472D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12198-25AD-4432-8BE3-BE26ED148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BB920-2EE8-4FB1-A1AF-C48F9C9D3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5C6BE-59E2-4AEB-A22C-5EF28F47D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DEF8E-149B-4B2C-9110-D8F3DB2F5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2A0DD-76C5-4725-8528-7B900C283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A638-2368-43A4-A43F-2B3AB2D4B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2545-03CE-47E0-98EC-DE15430B5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E3AC-E23E-43F4-8CCD-231F7AF9D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50BE-9D1D-4B32-B3D9-B38D9F60F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77BE-DE24-423E-8E0D-F95B52BC3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281E-A976-4099-8E9C-7302FE41C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8EF3-A211-4198-8820-A7E56115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A33A2-BCE2-40F0-BA1F-D16AF65201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9F0F3-6037-498F-B843-73C138B1EF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52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sk Ye What Great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ing I Kn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6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98108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1. Ask ye what great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thing I know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that delights and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stirs me so?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k Ye What Great Thing I Know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371240" y="1371600"/>
            <a:ext cx="639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Johann C. Schwedler, 1741; 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trans. by Benjamin H. Kennedy, 1863 (1 Cor. 2:2; Gal. 6:1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 the hi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ward I win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se the n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glory in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Chri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rucifi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Who defea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fiercest foes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 consol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saddest woes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k Ye What Great Thing I Know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revives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inting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ling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s hidden smart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Chri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rucifi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Who is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life to me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 the dea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death will b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k Ye What Great Thing I Know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will pl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e on his r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 countl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sts of light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Chri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rucifi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This is that gre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ing I know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is delights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irs me so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k Ye What Great Thing I Know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ith in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died to sa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m who triumph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’er the grave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Chri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rucifi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76320"/>
            <a:ext cx="9144000" cy="57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What the high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reward I win?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Whose the name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I glory in?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Jesus Christ,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the crucified.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96192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2. Who defeats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my fiercest foes?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Who consoles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my saddest woes?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k Ye What Great Thing I Know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52280"/>
            <a:ext cx="9144000" cy="57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Who revives my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fainting heart,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healing all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its hidden smart?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Jesus Christ,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the crucified.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99072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3. Who is lif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in life to me?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Who the death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of death will be?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k Ye What Great Thing I Know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52280"/>
            <a:ext cx="9144000" cy="57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Who will place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me on his right,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with the countless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hosts of light?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Jesus Christ,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the crucified.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76212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4. This is that great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thing I know;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this delights and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stirs me so: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k Ye What Great Thing I Know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152280"/>
            <a:ext cx="9144000" cy="57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faith in him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who died to save,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him who triumphed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o’er the grave: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Jesus Christ,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the crucified.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3808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sk Ye What Great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ing I Kn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6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2819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Ask ye what gre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ing I kn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delights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irs me so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k Ye What Great Thing I Know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371240" y="1778040"/>
            <a:ext cx="639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Johann C. Schwedler, 1741; 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trans. by Benjamin H. Kennedy, 1863 (1 Cor. 2:2; Gal. 6:1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10-10-02T01:36:16Z</dcterms:modified>
  <cp:revision>25</cp:revision>
  <dc:subject/>
  <dc:title>PowerPoint Presentation</dc:title>
</cp:coreProperties>
</file>