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D5D-B381-4591-A33B-334AF5E6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FFD-E926-4EFB-B4E5-49DCA2D4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67C-2A5E-4ECC-A2B0-E46D0938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151-D016-4C87-BE35-D0F92D49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418-89CE-4DD5-BB24-CB242C6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027-1654-4FA8-88DC-0C6F3AC7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546-8C6F-4B8E-9F71-D42BEAC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15E-0687-4CCF-87F6-1FB66013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887-DC49-4B21-9EF1-70363023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894-F33A-4E7B-9BB8-9EC2D66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061-3C1C-471D-97D6-3C44D85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525-90B2-46A3-9228-0053103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525E-66CE-4395-BFA4-052AACFA0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e La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La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9th cent. campmeeting song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Ellen Jane Lorenz,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ing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of Calva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that was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lives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nterced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49Z</dcterms:modified>
  <cp:revision>56</cp:revision>
  <dc:subject/>
  <dc:title>PowerPoint Presentation</dc:title>
</cp:coreProperties>
</file>