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863B-D6BD-43DF-A631-FBB74B721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3439-F868-4A7B-99E3-724D030D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5A88-14A9-43E8-A2DF-C229E56A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B392-5530-49C9-818C-E1406D22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369F-6022-49D0-BCAC-3CB00564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FC5C-3A22-4715-89C0-1FA99622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DDC3-A181-4FAF-9BAC-96273CF9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ACE0-0336-4C70-BE69-6CAD37D5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DB4C-5ED9-4EBE-B8B2-5B5FC09A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152A-A23A-47C1-AEB4-819EFAF6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1A2D-E559-41ED-9575-5610EA5C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5316-0DA1-4BA6-8603-4E32AB92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DD91-8403-4BC5-B2F6-AFB10FEC3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our Love, O Go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s Called Us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, Has Called Us 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Russell Schultz-Widmar, 198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9144000" cy="38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Your love, 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called us 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ll love fi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source in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2 Russell Schulz-Wid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erfect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asts out f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ve that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s ever n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racious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consecra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at is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od, and tru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, Has Called Us 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 those who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presence wa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y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love ren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od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spire our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eal your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we do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, Has Called Us 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every husb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w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utual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for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8:55:37Z</dcterms:modified>
  <cp:revision>148</cp:revision>
  <dc:subject/>
  <dc:title>PowerPoint Presentation</dc:title>
</cp:coreProperties>
</file>