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8CD-0583-4537-8B25-3A16220C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C08-756A-486E-891C-65B59634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5A1-99DA-478A-B3B7-BCF3C4A6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E1A-CF51-40FA-BC94-DD16AC43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17E-90EB-4896-88EA-EB2452DA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515-F235-4EE9-B25C-996879FA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F96-C4F3-4EE1-82A0-A94ADDE1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280-3507-4393-8C81-773D2E1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A24-0ED3-42F6-8651-512A15A6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C6C-4A46-4692-BE7A-0C8C4989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4D1-4CB2-4188-8A54-8BD75DF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B18-B791-45C6-BB4B-C7E9FAEA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593E-6FA1-49FE-A4BA-18B170301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Hym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Jaya H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1840" y="1461960"/>
            <a:ext cx="688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Hindi; trans. by Katherine R. Rohrbough, 1958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Hindi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43828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1430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2952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82880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3040" y="2209680"/>
            <a:ext cx="88520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let us se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us a 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27640" y="20048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s and denial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ar Lord, 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7524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240" y="1752480"/>
            <a:ext cx="9119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us and keep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in thy strong protection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safe in thy refug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we will sing thy prais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193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33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60020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388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95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288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209680"/>
            <a:ext cx="88390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re sana muk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ham hain 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am hain 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676520"/>
            <a:ext cx="914400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120" y="2133720"/>
            <a:ext cx="8732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 ra no may h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sha 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60020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2133720"/>
            <a:ext cx="8839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m hain g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5120" y="1143000"/>
            <a:ext cx="867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002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523880"/>
            <a:ext cx="8915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600200"/>
            <a:ext cx="89154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1752480"/>
            <a:ext cx="88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h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800" y="1676520"/>
            <a:ext cx="912204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come before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O Great and Ho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752480"/>
            <a:ext cx="8915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ow our h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Great and Ho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eat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0512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75248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w at thy feet 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bow in quiet reverenc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n sing thy prais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evermore repea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1430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1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71600"/>
            <a:ext cx="914400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8:47Z</dcterms:modified>
  <cp:revision>21</cp:revision>
  <dc:subject/>
  <dc:title>PowerPoint Presentation</dc:title>
</cp:coreProperties>
</file>