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91E-0C8B-4576-B244-DEA791B6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0FA-E24F-48E9-B2BD-3252A829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B91-111F-4371-8CBF-7B575852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5DB-A2BB-4E5A-BF54-0BDAF4A6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A66-B896-412A-8797-05AA2F82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EF1-1EEC-4524-95BC-5BA8A672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B6B-52A1-4DC1-A1C7-54332E5B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5C7-C6E6-4099-B3AB-2E88A67A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B76-749D-470A-9208-871E30C4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8283-CBBB-4251-B650-E1CD3844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AFA-FEC2-4924-B64B-6FF7D187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77B-BD4A-4322-BD6F-EE57CB89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4B6B-BD4F-4D37-9DF1-400418672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hrist, the Hea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Christ, the hea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ve co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for heal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lead for fri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92520" y="11685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oleness th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riching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reach the who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can we fa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resto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reached b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never end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rom every ail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esh end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odies clam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fre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in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ould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holeness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eepest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ow strong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our desi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eak our knowled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selv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lease in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se healing tru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onscious pr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ists or shel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conflict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troy our heal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recogniz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’s dis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ommon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clares our ill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ere no c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, for thes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Grant that we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one in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unity may fi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2:37Z</dcterms:modified>
  <cp:revision>21</cp:revision>
  <dc:subject/>
  <dc:title>PowerPoint Presentation</dc:title>
</cp:coreProperties>
</file>