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549-5DD8-4FDF-9FE5-84B6EA49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AEE-BA69-490C-A7A2-2C9B68D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A80-D448-4E9E-ACA2-9CC3941E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BD6-B036-43ED-A1F7-D52D3C83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B48-3356-4E86-A180-20C26C57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4072-7216-469B-9308-1E93F40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114-6724-4B79-8F93-0ACFCBF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477-68C9-452D-B095-30B4D6E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3B6-D86B-48EA-B200-3D50A47E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8DC-3A3A-41FD-82F6-08C1686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B34-E27E-4CBC-A77E-D2904986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057-CC56-4DE0-A430-B8AF325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90B2-5461-4F70-BA6A-AD1EC9A0A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204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, Kyrie,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8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12Z</dcterms:modified>
  <cp:revision>24</cp:revision>
  <dc:subject/>
  <dc:title>PowerPoint Presentation</dc:title>
</cp:coreProperties>
</file>