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8B4-3728-424A-88D5-8A36AE65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7B3-1B22-4481-AC54-5FB4ED27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66B-DF4A-4FAF-87AD-D949E490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40A-75D7-4ED1-A4DC-1C4A42A0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306-7363-44E3-8B80-42B3836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C03-0A7A-406A-9484-FB90AC2B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4DC-329B-4AA4-8B90-5830F029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BE7-C6D4-46C1-BE5A-56E279D6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2C4-D27D-4838-9FCF-27877FA3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ED1-6E31-47FB-9A9A-0B39760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C41-9A54-4077-9C76-4C586AC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B23-7DB0-42B8-83F1-4F83891D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5C21-61E9-47EB-BD15-02ECF7CB1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Lord, We Look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Jesus, Lord, w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ok to th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et us in thy name agre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ow thyself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rince of Pea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id our strife forever cea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y thy reconciling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stumbling block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o 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te, end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and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anner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ake us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ntle, courteous, and 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wly, m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ought and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together like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for each other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the other’s burdens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ttern g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r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ree from 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pr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hus in God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exp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eights of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then with joy re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amily ab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f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how true believers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6:36Z</dcterms:modified>
  <cp:revision>67</cp:revision>
  <dc:subject/>
  <dc:title>PowerPoint Presentation</dc:title>
</cp:coreProperties>
</file>