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95F1-01F0-4573-ADAF-DA7288CC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C5A2-7B62-41A8-84B1-9AD126A8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8BAB-81C7-4BB8-A166-E328FA82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A0AF-4702-45DB-98B3-38D15E94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C41F-34F8-415A-8392-41269B5A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C3FB-5A3A-468C-B630-1AA0B61F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8165-D70D-4A02-88E0-866601BC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FB9B-D945-4BCC-8B28-54A40459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B65C-CDEA-48C2-BCF2-FAC54AFB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A715-8C18-491B-A2BF-095B8D5F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FFD7-15DD-468D-A4D4-005F68F5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F021-A00B-44CC-81BD-5188F97E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5EE7-74C1-41B7-A4E7-D6C006D3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82AC-F2C3-4839-98CD-DA35DBCD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142A-27E9-4595-963A-D776C0A4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EE6D-E8A1-4451-A064-7B6285C5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4DD4-62C0-4CC5-84F1-A66F4E0D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B399-7EA0-40AA-BBE7-0ED9A61A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8DF4-3EB2-4103-B06C-68746BB2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B600-548B-481A-97F0-CDA50231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7EFB-EA4C-4BD3-AEF8-8B817174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F7D2-7212-49E7-B338-F180F9B6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DCAE-6B7E-4906-929C-C32E82BA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4183-B792-4590-9B3F-FE22249A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C5F0-0811-4377-A1EC-5756465F8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CFF5-B7FF-4BF8-8CBC-F0AF43476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rown Him with Many Crow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n Him with Many Crow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440" y="609480"/>
            <a:ext cx="75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atthew Bridges, 1851, and Godfrey Thring, 1874 (Rev. 19:1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914400"/>
            <a:ext cx="9144000" cy="329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1. Crown him with many crown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upon his throne.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Hark! how the heavenly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anthem drowns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all music but its own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114800"/>
            <a:ext cx="9144000" cy="2743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wake, my soul, and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m who died for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ail him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matchless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 eternity.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n Him with Many Crow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triumphed o’er the gr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rose vict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str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ose he came to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glories now we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ied, and rose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ied, etern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to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may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n Him with Many Crow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of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power a scepter s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pole to po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ars may c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 be prayer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reign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w no 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ound his pierced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r flow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adise ext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fragrance ever sw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n Him with Many Crow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of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old his hands and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se wou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t visible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beauty glor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hail, Redeemer, hai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ou h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ed for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raise and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not fa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eter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0492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wake, my soul, and s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f him who died for the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ail him a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y matchless K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ough all eternity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n Him with Many Crow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8088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Crown him the Lord of lif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o triumphed o’er the grav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rose victoriou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strif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ose he came to sa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30492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glories now we s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 died, and rose on hig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 died, eternal life to br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lives tha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ath may d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n Him with Many Crow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6828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Crown him the Lord of peac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power a scepter sway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from pole to pol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ars may ceas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 be prayer and prai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0492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reign shall know no en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round his pierced fee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ir flowers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adise exte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ir fragrance ever swee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n Him with Many Crow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2860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Crown him the Lord of lov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ehold his hands and sid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ose wound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yet visible abov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n beauty glorifi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286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hail, Redeemer, hail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thou hast died for m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y praise and glor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all not fai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oughout eternit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rown Him with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ny Crow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n Him with Many Crow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440" y="15238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atthew Bridges, 1851, and Godfrey Thring, 1874 (Rev. 19:1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9810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Crown him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many crow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upon his thron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Hark! how the heaven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them drow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ll music but its ow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10-25T23:34:13Z</dcterms:modified>
  <cp:revision>88</cp:revision>
  <dc:subject/>
  <dc:title>PowerPoint Presentation</dc:title>
</cp:coreProperties>
</file>