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73E-589E-4EDD-8504-0849F482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BB5-8F1C-4E7C-8F4C-74E2E3E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858-3DA5-4322-9346-C31634F7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FD8-D761-4889-862F-49CE374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A03-2DF1-4AF5-8C83-D0770B0A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F66-D10B-47E0-826D-CF423E16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54B-6E7A-42B2-A293-A7FB49FD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10B-D275-4CF0-B693-9AB22378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D88-15CA-43DA-836D-24C0453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BF3-95EE-46DD-A00A-2F8C952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050-CD19-4947-9857-1328F42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B27-519D-4803-AAF9-1546535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4C8-8E38-454A-8804-4D22BEDA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78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lory will be our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ight shall be no more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8 S T Kimbrough, J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H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5160" y="1143000"/>
            <a:ext cx="74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21:1-6, 23-24; 22:5, 12, 20, adapt. by S T Kimbrough, J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, Revelation 21:23; 22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peak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ma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ings n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begin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en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r Lord testif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se th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I am coming soon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Jesus! Come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8572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see a ne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 and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old will pas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shall see a new Jerusal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ity desc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ity shall n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sun or mo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God’s glo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be its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God’s Lamb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its lamp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by its light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ations shall walk.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hall hear a lou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voice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hold, God’s dwel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s with mort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deed, God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dwell with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y w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e God’s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shall wipe aw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our tea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re shall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o more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urning, cr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ain shall ceas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all former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ll pass away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23:08Z</dcterms:modified>
  <cp:revision>31</cp:revision>
  <dc:subject/>
  <dc:title>PowerPoint Presentation</dc:title>
</cp:coreProperties>
</file>