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CBD-9327-4305-B08E-94B3BE02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285-6D1F-4076-9946-207EA90F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C37-676C-4F3B-BCB2-5D0B3EAF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C7F-DEDC-432F-A0CA-BD1C00D2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AF8-667F-47E7-BD54-4A1ECFFE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688-5018-4426-B65C-69D941E5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71C-7E2F-4374-A285-B2AD4BA9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367-890D-4173-951B-1A751AA8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DFD-FAE6-4BD1-A93C-99B35B52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254-50E8-43B7-9A89-BDEB278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AA1-2313-427E-B64F-980893FB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A75-9A23-4BFE-8A89-14FD865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955D-5775-4D51-8F22-1C05203C9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ather, we thank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you pla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holy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in our heart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eek, 2nd cent.; 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ns. by F. Bland Tucker and others, 1939, 1982 al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6:48Z</dcterms:modified>
  <cp:revision>70</cp:revision>
  <dc:subject/>
  <dc:title>PowerPoint Presentation</dc:title>
</cp:coreProperties>
</file>