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B849-16AF-4E38-92A6-F6529DFA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34B4-70F7-4E14-B2C4-47A957A8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BD46-86B1-4667-8A63-A95D9561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2337-109A-4E2A-BC35-ECBCCEE5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345F-C078-48BD-95DA-A63194EC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278E-F4FF-4CD4-8422-39C996F8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2FE7-D1EE-4CA5-B48E-0BABC0A3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475B-B201-4068-A7F1-9259E483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8935-50D5-443F-93DF-69CE36F9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B102-AA09-41D0-B59B-D0E494AF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EA02-CBC2-425E-BF12-1802E8EC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54E6-A061-4292-A20E-B92A8A9F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9221-23C2-4656-ADCB-C22B87541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Meet You, O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e meet you, O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any a gui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image we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imple and w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8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Meet You, O Chri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14000" y="1092240"/>
            <a:ext cx="294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Kaan,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live in a pal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xist in a shack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ee you, the garden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tree on your bac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millions a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way and abroa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volved in our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live down the ro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Meet You, O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mprisoned in system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long to be fr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ee you,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bearing your t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 hear you, O m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gony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freedom you ma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riots you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Meet You, O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face in the pap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read and we se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ee must be plan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uman dec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You choose to be ma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one with the ear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ark of the g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pares for your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Meet You, O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dea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ri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eative your w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ee springs to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hope is resto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09:59Z</dcterms:modified>
  <cp:revision>13</cp:revision>
  <dc:subject/>
  <dc:title>PowerPoint Presentation</dc:title>
</cp:coreProperties>
</file>