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336-8AA1-491B-A6FF-AC639845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AA5-2EEF-4694-B2CC-D2B4766D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B09-88E8-4D36-B85A-63D25ED8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907-D4EF-4548-B805-F4EB4490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4CA-E8CC-494B-908A-336E9F4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4E9-B5C2-4DFE-A4BC-6590172A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DB6-7B90-4D47-A01A-38AD8EC6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DA8-579E-4063-95E4-27D7FB9F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7D1-DD2B-4EB1-AF12-E40DBFE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8C0-3DAD-4EE6-8EEA-B7C4C1E4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2CC-AB58-4B2D-8D61-CA9E50C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2D1-6E91-462C-954F-2EE5383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EF72-0C60-49E5-87FE-3E2BE0B0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or of the Stars of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or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4640" y="1143000"/>
            <a:ext cx="74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 Latin, 9th cent.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1940 (Phil. 2:10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avior of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us when we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gre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knees must b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earts must b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gs celesti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shall 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ings terrestri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alo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1:48Z</dcterms:modified>
  <cp:revision>29</cp:revision>
  <dc:subject/>
  <dc:title>PowerPoint Presentation</dc:title>
</cp:coreProperties>
</file>