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451-0F0B-41DB-85CA-47BC2A91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DFE-9ACF-4DA6-AE65-B16B9C3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843-ECF6-411B-AD5D-359B7CA0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FFD-3D0F-416E-8E79-3E893BC7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7E24-764A-4FA2-BCF0-3E713E35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7066-1D63-46ED-BC63-9D1927F3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A4BD-081D-45CD-B858-09CC3485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40C9-EC2F-4182-A7A8-E1DA5685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792F-B7C2-4D00-9E21-31BEF599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E27F-DC21-4F7A-B1EF-49A68E24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398-51F4-4171-B3BF-0F35A231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555-6A2F-4446-9CF7-6B8255F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6793-1102-4CAD-B222-AF8BEB8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A7F-EA50-49BC-A225-6A7A8EB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2D85-C1FA-4F2D-88C2-807B1A55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064C-BE77-4E8D-95BD-6D35AE4E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0480-8F90-4EDC-875D-5A95A1DB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4D6-8946-472E-80DE-2A38AE35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AE0-3EAA-4896-8170-1228F62C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E54-2FED-4D91-8235-C4A9A040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BC1-EACE-43B9-A433-053F1CBB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310-14CA-469A-912B-96312713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0CB-7FD9-4F54-89FC-2A68A94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F49-7301-4E85-9DD9-D4B68D0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DF43-9CC7-48E8-8052-0524F5FD1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9FE5-FC70-41A4-B8EA-98A4045C1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6960" y="114300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09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6960" y="76212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14T21:50:44Z</dcterms:modified>
  <cp:revision>53</cp:revision>
  <dc:subject/>
  <dc:title>PowerPoint Presentation</dc:title>
</cp:coreProperties>
</file>