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380-152E-4405-8573-86655380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325-0790-4115-AD43-8CE40CAD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F2F-5B50-45E8-9AAF-2436B772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898-380A-40F7-B60B-2830F53D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D9E-55D2-4569-8FD8-2BAEF465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B9D-1440-4DBE-966D-038EADE8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388-CFDA-4EF2-B3B2-AA038803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724-960A-473A-ABDE-BBA239C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95A-B862-4098-90EF-9EA178F1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380-55A0-401C-BF33-E9D5CE1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CED-A79A-40AE-B893-07BB302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BCF-5235-4F31-909A-8A77D1D6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6FF7-ED9D-4DB0-B76C-1880935FC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to us, and among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as the wi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leanse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as the fire, and bu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ome as the dew, and refresh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990720"/>
            <a:ext cx="4382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Eric Milner-White, England, 20th c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71440"/>
            <a:ext cx="883908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vict, conve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onsec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ny hearts an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our great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o thy greater glor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is we as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Jesus Christ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7:40Z</dcterms:modified>
  <cp:revision>24</cp:revision>
  <dc:subject/>
  <dc:title>PowerPoint Presentation</dc:title>
</cp:coreProperties>
</file>