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3A694-EEF5-400A-9ACB-6BA7BE38D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1A231-6CEE-49EE-B420-A001B94EC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A178F-1777-4154-A852-704DDA1D1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24EEB-79E3-4C5B-8C71-52FD44C86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1B1BD-AC98-4896-AC49-F02A9A664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BF15F-66CF-435B-8C22-1675C9172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C7542-9BE1-4058-BBA7-3BBD07A03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74C40-C37A-4229-BD57-A4B42FCE7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BB226-8204-427A-AE4F-B150518CC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E4462-C388-494A-919C-431794D2C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55C6E-1E33-456E-B896-CE124C025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927E6-41FE-49C5-9CA6-A18001ADF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53250-E711-41E7-83D4-AA6EBA946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E4376-1404-40B9-94CD-867853327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63BBE-4B6F-4E7E-BFC2-4C903AF10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7EEBC-A375-4CF5-A920-7E9D4AE69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A1BB8-D80E-4B3E-B27D-577BE5D4A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D3399-FAA1-4D1C-9736-5050A683D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F6A60-0B3B-4A81-8AA5-34C47E486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0E85C-DB8A-4EB9-A77E-FCAF73BB3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38E1F-B7CA-4490-A2E8-E950EE5E6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EDFA2-E0B2-4ED5-BA94-D2CFFAE36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6433A-BCF6-4582-9617-D43AE6B2B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C89CA-DB0A-4D76-9721-3E7602FA4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649FA-1BFF-4DE9-A0C7-87B633AF78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19A17-CE63-4FD6-9F18-BC73517D02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Trust and Obe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46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20574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When we walk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the Lor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the light of his w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at a glory 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heds on our way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ust and Obe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036880" y="1066680"/>
            <a:ext cx="5087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WORDS: John H. Sammis, 1887 (1 Jn. 1:7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Then in fellowship swee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will sit at his fee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r we’ll walk by his sid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the way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ust and Obe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916560" y="1863720"/>
            <a:ext cx="732816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at he says we will do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re he sends we will go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ever fear, onl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rust and obe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128736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rust and obe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there’s no other wa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be happy in Jes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ut to trust and obe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ust and Obe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Trust and Obe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46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1600200"/>
            <a:ext cx="9144000" cy="283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1. When we walk with the Lord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in the light of his word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what a glory he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sheds on our way!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ust and Obe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036880" y="1066680"/>
            <a:ext cx="5087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WORDS: John H. Sammis, 1887 (1 Jn. 1:7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7621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ile we do his good wil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abides with us stil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o all who wi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rust and obe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22860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rust and obe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there’s no other wa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be happy in Jes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ut to trust and obe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ust and Obe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0" y="152280"/>
            <a:ext cx="9144000" cy="4208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2. Not a burden we bear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not a sorrow we share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but our toil he doth richly repay; not a grief or a loss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not a frown or a cross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but is blest if we trust and obey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ust and Obe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0" y="30492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rust and obe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there’s no other wa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be happy in Jes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ut to trust and obe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ust and Obe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76320"/>
            <a:ext cx="9144000" cy="4115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3. But we never can prove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e delights of his love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ntil all on the altar we lay;            for the favor he shows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or the joy he bestows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re for them who will trust and obey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ust and Obe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15228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rust and obe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there’s no other wa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be happy in Jes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ut to trust and obe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ust and Obe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ile we do his good wil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abides with us stil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o all who wi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rust and obe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152280"/>
            <a:ext cx="9144000" cy="4208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4. Then in fellowship sweet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we will sit at his feet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or we’ll walk by his side in the way; what he says we will do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where he sends we will go;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never fear, only trust and obey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ust and Obe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0" y="22860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rust and obe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there’s no other wa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be happy in Jes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ut to trust and obe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ust and Obe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128736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rust and obe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there’s no other wa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be happy in Jes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ut to trust and obe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ust and Obe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Not a burden we bea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t a sorrow we shar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ut our toil he do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ichly repay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ust and Obe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444320" y="1863720"/>
            <a:ext cx="625392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t a grief or a los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t a frown or a cros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ut is blest if w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rust and obe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128736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rust and obe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there’s no other wa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be happy in Jes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ut to trust and obe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ust and Obe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But we never can pro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delights of his lo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until all on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tar we lay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ust and Obe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405800" y="1863720"/>
            <a:ext cx="634212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the favor he show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the joy he bestow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re for them who wi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rust and obe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128736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rust and obe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there’s no other wa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be happy in Jes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ut to trust and obe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ust and Obe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nnifer McCay</cp:lastModifiedBy>
  <dcterms:modified xsi:type="dcterms:W3CDTF">2007-03-10T22:20:52Z</dcterms:modified>
  <cp:revision>8</cp:revision>
  <dc:subject/>
  <dc:title>PowerPoint Presentation</dc:title>
</cp:coreProperties>
</file>