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345-2A60-43C1-8243-9DD6BA37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275-552B-47D5-8672-D6892BF9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DD8-4C8A-46C3-9FF7-D9BC50D0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4C2-927F-4A35-805B-A4049495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F90-D0A1-40D0-82F4-D16FF7C0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9A2-1FD3-4798-852F-254A0915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FFB-D58D-4384-BF89-CBDC09F6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8F9-0A7E-4F39-9DB4-05FF129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697-8A4A-45D6-8E0F-40165DBF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4DF-0F89-4967-B96F-4651880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092-6202-4D42-850B-9026F3A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B43-3DA0-4EC4-9BFF-3020EC8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C85D-6FD3-49F1-9313-E6E6B16EA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pe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ri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our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by conflict r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1066680"/>
            <a:ext cx="378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ia Harkness, 195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b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ospel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, thy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nsuming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ims are sp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if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st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ing to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bread of l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u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l earth’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all bitte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oot on dusty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o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he path of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thou bes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tempting by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re us awa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endless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gu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nder back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y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ou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se them as thou w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ope 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this sign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grief and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57Z</dcterms:modified>
  <cp:revision>10</cp:revision>
  <dc:subject/>
  <dc:title>PowerPoint Presentation</dc:title>
</cp:coreProperties>
</file>