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565-A06F-42C2-BB2A-34D88C07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769-CECE-4804-8468-043EC66C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D33-93D4-4766-A2C8-B4C56091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0C4-1A56-4E65-8010-3D9D4318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D4EF-6A6C-461E-91FE-0B5BB22A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911E-4707-4CF4-92C0-57D8B929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5DBE-C748-4B50-9592-04F97281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3FA1-95F1-4F3D-A4F8-4FC131BD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B3D7-99DE-4E36-949C-D15CD42F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6AF3-4D78-4A59-8AA2-87C321DF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8803-2E3D-4D13-B4DC-114124FA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054-4097-4A98-A36F-3F990971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A215-E0EE-409C-B276-31F494F4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1BB9-4659-4DB2-A92D-97DEFA5F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96E7-C88B-41A4-B83D-16F25F67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686B-C3CA-47F6-8DB9-9BB126BC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9E98-2A85-4A8F-84D0-29923467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CD3-8355-49F1-A514-FF9A1701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6D4-DA8D-44E3-BD1C-9C044104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2C1-3E8A-4E08-B2BC-5EC75B8B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829-5B01-4742-9BF8-547354B9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6B7-DE20-4CBD-9070-14583476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CA6-6BE6-459B-9766-7C9BC16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E2C-A005-4277-BD0A-0188C95E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8E6D-9DAE-4757-8F48-3180BFDA0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44F1-4C54-42FC-8178-993448282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00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p from the Grave He A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000" y="6858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ORDS: Robert Lowry, 187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Low in the grave he l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the coming d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699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1440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700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p from the Grave He A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00" y="12193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Lowry, 187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w in the grave he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the coming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16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3992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Vainly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his b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inly they seal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44792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492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 he arose,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3992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Death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its p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tore the b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1932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3992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6668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Vainly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his b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inly they seal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3808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Death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its p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tore the b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4-10T16:35:01Z</dcterms:modified>
  <cp:revision>79</cp:revision>
  <dc:subject/>
  <dc:title>PowerPoint Presentation</dc:title>
</cp:coreProperties>
</file>