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A1A-E216-40F3-B91D-F56BA97A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607-24F9-4ECF-B004-EA43CCE0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07B-411C-4E05-9368-431A2AD7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9A1-A30C-49CC-8051-F231DC6A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49C6-82C2-4BAB-8736-1C8DCFFE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5E3-E1A4-464C-A299-C1CCA92C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E2A9-5E8F-4DE3-8118-0CF14B78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0F7-8228-4D7C-8CE7-79ADF766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E55-E7CC-4D6D-AB1B-AA0B4606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E44-EFEE-4FD0-8703-E2A811CE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031-2A20-4813-9B8C-95BA78C6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813-68D5-4769-8BA4-50205B0C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695F-0DF4-42AD-B620-810E12E83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 Is a Balm in Gil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(Jer. 8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ometimes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l discourag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ink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k’s in vai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n the Hol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ives my soul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1477800"/>
            <a:ext cx="861048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on’t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l discourag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Jesus is your fri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f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for know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’ll ne’er refuse to l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760" y="1477800"/>
            <a:ext cx="861048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f you can’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ach like Pe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can’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 like Pa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tell the love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y he die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760" y="1477800"/>
            <a:ext cx="861048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2:47Z</dcterms:modified>
  <cp:revision>117</cp:revision>
  <dc:subject/>
  <dc:title>PowerPoint Presentation</dc:title>
</cp:coreProperties>
</file>