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2747-F35A-4296-A671-2F2AB969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668C-FF7D-46C0-B5E8-1B29D233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A770-8319-4582-B3A1-77B9B666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9AF7-CE47-4C2C-AD64-102555B5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E385-2E2E-4347-AB53-795946EF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A29F-CD68-4A44-BE97-61797542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5350-0CE3-467D-84BE-F280ACE2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4066-267D-445A-88F8-1EA37C3F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61E9-934B-4359-B4E0-D7235E5B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FD5D-CE40-45D0-9C59-692ECF49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5EF9-A5D3-4954-8863-555896D5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80F0-0CD5-4B76-AEF5-CBE7E5D9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3E23-A60D-411C-93B6-331CE13E4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My Peopl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ek Their Free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67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“Let m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their free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wilderness awhi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My People Seek Their Free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. Herbert O’Driscoll, 1971 (Dt. 8:14-1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mi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ancient bond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, wan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the ro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yield its wa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man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 by n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 vis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 fu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we ma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ward the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 the maelst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n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journe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sp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My People Seek Their Freed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la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ener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hung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gr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ago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ca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newer way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tomorr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earth’s tod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slave pe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elt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ghett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Nile”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God spo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ut of Sinai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God spo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t was d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ssed the wat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ward the ri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“Let m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their free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wilderness awhi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My People Seek Their Freed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ag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rines and structu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cloi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aisle”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the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 has spo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storm clou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unfurl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God’s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ust be scatt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servants in the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 we murm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mount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gyptian plai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My People Seek Their Freed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3:11Z</dcterms:modified>
  <cp:revision>94</cp:revision>
  <dc:subject/>
  <dc:title>PowerPoint Presentation</dc:title>
</cp:coreProperties>
</file>