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F1E-94A9-4C9B-95C6-19C4611E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A46-7149-4AD1-9C60-DCCFED5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21F-0FB8-476A-92C8-26572C06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C37-1D71-474E-8678-71D786D9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DB7-BC2D-48BF-8604-4E3CD09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09E-DAD3-464B-82A6-5A6D83E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57D-8831-4344-854C-EC1BFBAE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5AC-FA25-494C-9394-CCB2E41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27E-A020-4851-BB40-0F477C80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84E-AB23-43C5-9244-E24E0DC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1C2-BD78-4BB5-97F9-8C5B5AB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5ED-402D-4668-85AF-85D2550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D48-4D75-41CF-9E59-89145B9C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 Distant H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e Tierra Lejana Ven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1523880"/>
            <a:ext cx="78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 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 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6212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91440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4:46Z</dcterms:modified>
  <cp:revision>20</cp:revision>
  <dc:subject/>
  <dc:title>PowerPoint Presentation</dc:title>
</cp:coreProperties>
</file>