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23C-C009-4DDC-A2BA-8298A28B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C90-254F-4DFA-AB6C-461F6104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353-BB46-4F96-84FC-EA93C930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A53-E16A-434A-B241-6FD07123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8A0-40E6-4121-9857-256CE03F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E9A-6C07-433D-B832-6CBE5247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EF5-8E22-40F2-BCD1-0F11DC47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D54-FFD9-4A75-AB2E-8F83D02B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CCD-6F84-4A53-BE37-362348EF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BBA-EA8B-4699-BA89-CE40F8BD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7D7-D7CE-4DC6-AA0E-04CB462B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997-2C74-47F8-BCF4-7C75AEAC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16AA-AEB2-489D-95CC-4249C97EF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Can We Name a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w can we name a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kens heart and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dwelling al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know or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do or seek or fi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6040" y="109224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our daily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human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echoes 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is f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 in the common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we awoke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t on a rock of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sked no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ward but fir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sured, was simply t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n, with parents’ na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ribe, and thus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unconf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ather 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other strong and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people share a tas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ills un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rojects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new,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do with shared de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tner’s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tter underst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ll should sh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e, and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now that life is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 in a hundred na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da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an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resence, sen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n at wor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home, or in the str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every name we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s in a brighter su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Love full g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and hope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9:31Z</dcterms:modified>
  <cp:revision>27</cp:revision>
  <dc:subject/>
  <dc:title>PowerPoint Presentation</dc:title>
</cp:coreProperties>
</file>