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1C3-5E10-46D5-84E0-A6B047A6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90A-040A-4E41-90EF-09399A23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91F-7B1C-4DFC-907A-3EDD4C8E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025-B256-4E41-9E1C-E99D247F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820-279D-40B9-A841-5F3C4B9E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549-76FB-4D8E-BE8F-9EA6C40E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645-3727-4A6A-A6AB-51668900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60B-F4A8-442E-A5C6-22B0BB50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476-6A9C-4AD9-925E-2DD59FA4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914-33BE-48C8-8928-0873876E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63D-D1E4-419A-98CD-C1722CDD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898-A14D-4601-9BE7-243F86B8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8B7C-1833-491E-A171-3E13CB7CA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nely the Bo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nely the bo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ling at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ssed on a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rmy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7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066680"/>
            <a:ext cx="82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elen Kim; trans. by Hae Jong Kim; para. by Linda and Doug Sugano; 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versed by Hope Omachi-Kawashima, 1987 (Mt. 8:23-27; Mk. 4:35-41; Lk. 8:22-2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“Storms in our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el and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will aris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eatening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eatenin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life’s wil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ful and gr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hand is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mly in contro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calm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from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comes to my lone soul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el the se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eemed so w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aves so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single 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led the deep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ght into the gal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e per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gers to all ass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trong winds ar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their 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ssing the tiny lone boa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s billowing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ssing the bo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and aflo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ilor st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ing what to d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helpless was 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ering what to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rembling with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 in desp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for help all a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ilor s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from abo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elp can be f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od is 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small bo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ing by my s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trust in the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n my life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Pleading for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y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 a sinner lik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and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 to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Galil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save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d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a peaceful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l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erciful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imes of calm and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5:39Z</dcterms:modified>
  <cp:revision>17</cp:revision>
  <dc:subject/>
  <dc:title>PowerPoint Presentation</dc:title>
</cp:coreProperties>
</file>