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895-FD23-4872-B3D9-A0734709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9BB-7D33-45DC-9026-4A8C734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C02-599E-4168-A29D-BF92FDED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4CD-DB16-4347-A1BD-26743C58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E420-0176-4F43-BD0C-884B919E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4F97-3FA0-4097-BFF4-7615BC2D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4D37-214D-42B7-B412-A1B16B0E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0A29-E90F-4585-89E7-5D9A81A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1FA3-B5BA-4648-B54F-0275A5A8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71E3-AF15-4F0C-95BC-07071E26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EF54-9573-49E4-B32C-5D499DC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D3F-F824-4D24-8901-BD7BC2A8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6B4B-B36B-4E9E-AEDE-B1317D07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ACA9-BAC2-446A-A1E5-0B5245CD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907F-4E5D-4597-B0F6-98DAC945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5CC6-78BB-4179-BA74-944B1698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AB50-10F3-420E-B1F4-56995DD9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CDD-C8EE-4322-BC50-4953D5A3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7D0-03E3-4112-9BA1-3302C013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625-9154-4860-B96D-23187286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15A-B5C9-4B2E-80F7-CEE7D172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B0D-7863-4DC9-803A-8774C1D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236-13C9-4EFA-ACA6-4BCFA189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127-B0C5-4C6A-899C-6675228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C945-EA5F-4444-A675-78A72DC31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3A11-F56C-4378-AA10-17AC29FB7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child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aid to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ary’s lap is sleep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869480" y="11811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9652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child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, laid to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Mary’s lap is sleep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869480" y="118116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858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lies he in such mean estat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x and ass are feeding?    Good Christians, f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nners 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 Word is pleading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22860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bring him incen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old, and myrr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peasant, king, to own him;   the King of king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t loving hearts enthrone him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228600"/>
            <a:ext cx="9144000" cy="427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Child Is Th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3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1676520"/>
            <a:ext cx="5943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1. What child is this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who, laid to rest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on Mary’s lap is sleeping?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299520" y="990720"/>
            <a:ext cx="54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RDS: William C. Dix, 1865 (Lk. 2:6-20; Mt. 2:1-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000840" y="22860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762120"/>
            <a:ext cx="5791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 are keeping? 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152280"/>
            <a:ext cx="6095880" cy="41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2. Why lies he in such mean estate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ox and ass are feeding?   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Good Christians, fear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for sinners here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lent Word is pleading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228600"/>
            <a:ext cx="5867280" cy="41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3. So bring him incense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gold, and myrrh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peasant, king, to own him;   the King of kings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brings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let loving hearts enthrone him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5886360" y="76320"/>
            <a:ext cx="3257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31"/>
            </a:gs>
            <a:gs pos="50000">
              <a:srgbClr val="00236a"/>
            </a:gs>
            <a:gs pos="100000">
              <a:srgbClr val="00103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152280"/>
            <a:ext cx="6019920" cy="41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810400" y="76320"/>
            <a:ext cx="325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hy lies he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mean est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ox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s are feeding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Christians,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sinners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l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d is pleading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o bring him incen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ld, and myrr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peas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, to own him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s enthrone him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abe, the Son of Mar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1-12-21T17:51:13Z</dcterms:modified>
  <cp:revision>71</cp:revision>
  <dc:subject/>
  <dc:title>PowerPoint Presentation</dc:title>
</cp:coreProperties>
</file>