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665-AC31-42ED-8018-0A09C8E7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8A2-DDB7-4B77-9A2D-0A3CEC18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F66-D0D6-4801-977D-0C100E85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B56-49C6-4BAD-AA4D-5EADD704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991-01C2-4B7D-9A71-DBA42970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521-FC27-48EA-8571-8DE77061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1E1-B44C-437E-A446-F5E7B4F2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61B-1A6D-4681-BFF4-F155C951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486-FCE1-4B23-A04C-E70D8D14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71A-D1DC-42B8-A233-E67DDBF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207-3AAB-4E34-BF0E-AAB1E04C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EE2-2427-47E1-AA64-4C4944AD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0C25-B590-4FB0-8952-1CEAC5834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, How a Rose E’er Blo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Lo, how a R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’er bloom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ender stem hath sprung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lineage com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se of old have su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.  3 © 1940, 1942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0200" y="990720"/>
            <a:ext cx="66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2, 15th cent. German; trans. by Theodore Baker 1894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3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came a floweret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d the cold of wi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lf sp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saiah ’twas foretol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ose I have in m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ary we behold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rgin Mother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God’s love a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bore to us a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alf sp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Flowe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fragrance te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the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pel in glorious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rkness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e man yet ver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sin and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sa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are our every l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7:56Z</dcterms:modified>
  <cp:revision>60</cp:revision>
  <dc:subject/>
  <dc:title>PowerPoint Presentation</dc:title>
</cp:coreProperties>
</file>