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9C0B-A9F1-4E73-AB13-C5B71A9E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F00-AFC5-4196-B753-760734B8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E25A-1931-45BE-BDC8-C2D7BDF89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5F62-57CA-44F1-8E6B-2657BEDF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8126-D96F-4A76-8D44-2FBAFB49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2453-C403-4E64-80C5-B94CCD75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22C4-DBE5-4FE0-B99A-F18F30D5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5A5C-6716-4852-9838-B07EF7C3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E366-E167-4BF2-8892-CD5E04F8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4DFA-3A85-40E9-93D2-92AF69CE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2051-84BA-4208-BB1B-764B6E2E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DECB-3F2F-4272-9F51-FF5E03A7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9794-5DE2-4A47-B8C3-F3A2A6339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ou Hidden Love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Love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Gerhard Tersteegen, 1729; trans. by John Wesley, 1749 (Gal. 2: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ou hidden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, whose he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depth unfatho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one know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Lov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O Love, thy sovereig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id imp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save me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w-thoughted c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se this self-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ll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ll its hid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zes the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me thy dute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ild that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aseless m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Abba, Father” c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Lov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Each moment dra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earth a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heart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wly waits thy c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 to my inm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and s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I am thy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od, thy all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eel thy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 hear thy v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aste thy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all my ch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ee from f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beauteous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ly s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y repo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is pai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can it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rest, till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nds rest in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Lov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’Tis mercy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thou has br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mind to see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s peace in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while I see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find thee n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peace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ndering soul shall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when shall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wanderings 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my step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-ward ten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Lov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s there a t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neath the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strives with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heart to shar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h, tear it th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eign al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of e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tion the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shall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arth be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t hath f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pose in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2:28Z</dcterms:modified>
  <cp:revision>139</cp:revision>
  <dc:subject/>
  <dc:title>PowerPoint Presentation</dc:title>
</cp:coreProperties>
</file>