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528A-6C95-429D-8A22-6C8D9903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5161-7104-4E4F-A4E5-771FD6D6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4EE-40C2-4A9C-8133-15A6CF9D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2177-6AB7-450E-8DB8-2426294F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963-1174-4228-8771-D7E53AD6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6D4-76A8-4084-8656-06A233F7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F92-2312-4941-BBE2-2EC0EDFB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181-9D87-4EF8-879F-73ED3C45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A1A8-618C-4EAE-B261-A449DDCE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B8F-88FB-452E-9416-C94E2B59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AF3F-81B1-4A5C-8267-AB642134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FDE9-ACCA-4130-8C13-98027C9B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FB9E-0550-49D1-89D7-5B4C4ECA7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Jesus, I Lov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My Jesus, I lov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know thou art m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ee all the foll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sin I res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Jesus, I Love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85360" y="1015920"/>
            <a:ext cx="43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William R. Featherstone, 18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gracious Redeem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avior art th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ever I lov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Jesus, ’tis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lov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th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t first lov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purcha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pard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Calvary’s t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Jesus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hee for we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horns on thy b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ever I lov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Jesus, ’tis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n mansions of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ndless de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ever ador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eaven so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Jesus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’ll sing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ittering cr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my b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ever I lov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Jesus ’tis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8:43Z</dcterms:modified>
  <cp:revision>34</cp:revision>
  <dc:subject/>
  <dc:title>PowerPoint Presentation</dc:title>
</cp:coreProperties>
</file>