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6D1E-9CD8-4228-AD4C-DD67418E2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D4F0-7699-4FF5-BC46-55D51C3E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BBD6-3873-4B6F-8CF4-1342E14F0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DC24-7EB1-4286-897C-0EF642CFA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0B4E-1A27-48F2-BF7D-9A19FC05F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D5B7-D6F7-4901-B391-19060881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E6DB-013B-4F4D-A711-737384A2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7109-0D07-4B36-A666-0C54C776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E6BE-1341-42E3-B4ED-2AD83E9D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512A-DFE4-436D-AEFA-191FD303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3DD1-7300-4454-8821-48C67B42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E7D7-2538-4FB8-B22B-8209D673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589E-944C-418F-802E-77D7CE23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7152-51B9-4648-92E9-0DD73E6C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2960-4B30-4641-A3FD-65F356FA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8BD8-5CAA-4679-A55C-EBE1559C4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4076-65BA-40B1-AF96-AFAD0ED04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7263-6F31-40BB-9979-8D7A84C4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C3FE-3C96-4783-92A2-78502480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88D3-EECE-41BE-AB83-5B1DB602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772F-B36C-4667-9007-B5C1A965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DB9C-FA61-44B8-B918-2C36F5FC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1E56-9599-4A59-83F9-D8EB9186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9ECC-3DE2-47B4-BDAE-55E1FA47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CACA-76D8-456D-ADA5-D4209BD7E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6915-DC99-4237-AEA2-473D01182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Happy Day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at Fixed My Cho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66688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O happy day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at fixed my choic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n thee, my Savior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my God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42600" y="1549440"/>
            <a:ext cx="606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Philip Doddridge, 1755;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refrain from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Wesleyan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Sacred Harp,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1854 (2 Chr. 15:15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t’s done: the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ansaction’s don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the Lor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is m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drew m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followed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rmed to conf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oice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aught me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tch and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 rejoic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Now rest,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ng-divided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xed on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issful center,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have I f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obler p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heavenly pleasu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 my bre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aught me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tch and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 rejoic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ll may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wing heart rej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ell 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ptures all abro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High heaven, that he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olemn v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vow renew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daily he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in lif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test hour I b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less in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bond so d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aught me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tch and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 rejoic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763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Happy Day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at Fixed My Cho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209680"/>
            <a:ext cx="9144000" cy="21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O happy da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at fixed my choic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n thee, my Savior and my God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42600" y="1279440"/>
            <a:ext cx="606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Philip Doddridge, 1755;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refrain from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Wesleyan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Sacred Harp,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1854 (2 Chr. 15:15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ll may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wing heart rej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ell 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ptures all abro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22860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aught me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tch and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 rejoic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89856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happy bo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eals my vo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im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rits all my lo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cheer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thems fill his hou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to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cred shrine I m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22860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aught me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tch and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 rejoic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974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t’s done: the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ansaction’s don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the Lor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is m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drew m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followed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rmed to conf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oice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22860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aught me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tch and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 rejoic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aught me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tch and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 rejoic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0666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Now rest,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ng-divided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xed on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issful center,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have I f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obler p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heavenly pleasu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 my bre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30492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aught me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tch and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 rejoic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High heaven, that he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olemn v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vow renew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daily he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in lif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test hour I b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less in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bond so d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38088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89856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aught me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tch and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 rejoic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happy bo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eals my vo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im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rits all my lo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cheer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thems fill his hou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to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cred shrine I m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aught me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tch and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 rejoic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7-28T18:33:46Z</dcterms:modified>
  <cp:revision>15</cp:revision>
  <dc:subject/>
  <dc:title>PowerPoint Presentation</dc:title>
</cp:coreProperties>
</file>