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9E3-1B91-4F80-A113-149561A2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B5A-51F2-4BC2-8B76-5AC4429D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4BC-B239-4923-A511-039BF750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979-3020-4F38-A0E2-C1E1026C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792-C5F5-44F0-AA81-3641C50B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673-EA63-4930-8548-8C20442C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194-CA54-4A3F-8D50-F3731993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03DC-F10A-4E02-A0C2-67FB652D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EF0-B6FE-4A8A-A710-F32D5CFF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E7C-7E2D-4EBD-966B-FE313659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06A-FCAB-433A-8ADD-1556E3E9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C55-4A04-4938-8BD2-974DD291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6B08-EDAA-4AB4-ADAC-8D250D921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Day of God, Draw N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day of God, draw n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auty and in p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with thy tim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dgment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tch our present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78000" y="114300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. B. Y. Scott, 19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ring to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oubled mi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ertain and afr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quiet of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dfast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 of a call obey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ring justice to our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ll may dwell sec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nely bu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days to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dations that end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ring to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of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overeign word of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r may hau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arth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solation c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 day of God, draw n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t creation’s bi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, and s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dgments on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9:07Z</dcterms:modified>
  <cp:revision>52</cp:revision>
  <dc:subject/>
  <dc:title>PowerPoint Presentation</dc:title>
</cp:coreProperties>
</file>