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2F2-1E6C-45FC-91B0-CCED0804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CFD-EEFD-4499-B036-1B7AB69C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E04-D66A-43F5-A6DC-5D8AF095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FB0-7D3E-4369-8FE2-82764F8F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E70E-81DD-46A3-BAC6-643B89C6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D939-22C1-4146-978D-B4F96B76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F6B7-0A2C-4181-BB13-25E6F0AD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24EA-3F6F-4268-80A0-212BBF9E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3EA5-BECD-45E7-8420-499ECC93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1404-22F2-4F55-AC7C-14B04314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70A6-8F9B-4C31-A81A-D8F78487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456-A693-48E3-A571-BA5ECF9B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10A4-2248-45E6-AE95-4DCC8E59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B92F-756A-43EF-9286-B5C351A8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B905-0127-4FBD-8CD9-36E56B4D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8EB4-2A26-499D-84D5-D062DB07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B7AD-46B3-4040-9DAE-8F3921BA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32B-63E2-4B5E-8FA0-0F5574A2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376-92B2-4D9D-9ECE-17E1A6E6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FFD-C321-4BFC-83FB-E80DE17C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51F-49A4-4AA4-8EB6-992984D3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655-11C1-4C5D-94CE-FEC23911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E2B-CD6C-4C34-A897-E1C6BF53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B26-F307-4C74-B358-076628A4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B8F2-B5AE-48A2-ADD0-0B52E8849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7C49-D9D4-4C99-9DFE-A7A40968E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King of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hepherd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King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hepherd i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leth n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1752480"/>
            <a:ext cx="378936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Henry W. Baker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43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 Where streams of living water flow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my ransomed sou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e leadeth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where the verdan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astures grow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ith food celestial feede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 Perverse and foolish, oft I straye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ut yet in love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e sought m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on his shoulder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ently laid, and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ome, rejoicing, brought m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. In death’s dark vale I fear no i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ith thee, dear Lor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side m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rod and staff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my comfort sti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cross before to guide m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049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. Thou spreadst a table in my sight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unction grace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stoweth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oh, what transpor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of delight from th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ure chalice floweth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 And so through al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length of day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goodness faileth never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ood Shepherd, may I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ing thy praise within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house forever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othing l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am 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re streams of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 f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ansomed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re the verd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ures g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ood celestial feed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verse and fool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t I str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yet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 his shoul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ntly laid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, rejoicing, brough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death’s dark va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ear no 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, dear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rod and staf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mfort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oss before to guide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ou spreadst a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s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unction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tow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h, what transpo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elight from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chalice flowe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nd so throug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ength of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leth n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Shepherd, may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thy praise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us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King of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hepherd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6524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 King of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hepherd is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se goodness faileth nev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1371600"/>
            <a:ext cx="378936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Henry W. Baker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95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othing l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am 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8-03T00:43:59Z</dcterms:modified>
  <cp:revision>58</cp:revision>
  <dc:subject/>
  <dc:title>PowerPoint Presentation</dc:title>
</cp:coreProperties>
</file>