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4B1A-3595-453A-A2C4-ACCAC766F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620D-D438-418B-88DF-3AE1306B1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2774-7A91-435E-9A74-E13E8225E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E403-4294-4584-B23B-B66B4FE37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22D8-070D-45F0-8E56-04CF147C1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7B83-60A0-4398-B519-FB881117E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603D-4216-460B-896B-52EF4F5CA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48B7-5A06-4EDB-BEEC-BA0DF3384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2956-2999-48DB-8E60-6424F9BDA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FAE8-26EC-4F80-8BAC-8B634B075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8C87-D318-4B9D-BF1D-366EB61B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8C72-63AB-42FD-A104-B1B05C86D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E2855-E4D4-4F7B-8A96-627C85EE58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ow Shall They Hear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Word of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4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Shall They Hear the Word of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765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Michael  Perry, 1982 (Rom. 10:14-1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286000"/>
            <a:ext cx="9144000" cy="41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i="1" lang="en-US" sz="4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shall they h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ord of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less the truth is told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shall the sinful be set fr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orrowful console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2 Jubilate Hymns, Lt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all who spea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truth to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mpart your Spir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we pr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shall they c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God for hel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less they have believed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shall the po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given hop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risoner reprieve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Shall They Hear the Word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ose who hel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lind to s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e light and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lari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shall the gosp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proclaim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sinners may repent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shall th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nd peace at la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f heralds are not sent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Shall They Hear the Word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send us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we rejoi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peak of Chri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life and voi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49:15Z</dcterms:modified>
  <cp:revision>151</cp:revision>
  <dc:subject/>
  <dc:title>PowerPoint Presentation</dc:title>
</cp:coreProperties>
</file>