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AC4-6FD8-4394-8182-BDACD986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187-93B3-4FF9-9B39-5B920B07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2850-B1D0-4D35-B864-410E5A5C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9B5-8DFB-4D5F-BB7A-F94DF240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3897-8CCD-4B04-8D31-D49ECBC8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C10F-FBC1-4D2E-8106-2C5CC36D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F822-6AC2-4E47-9471-36C720DB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526A-ECF6-4903-84F0-D678C2B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55CC-41F3-4C6B-A606-EEB4EC19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336-3892-4652-BF8B-283F4794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FC8F-2DD1-4356-BC0B-22CDCAE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1FA-F28F-46A4-A2CC-7B42A40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3CAF-D4A3-4A63-8677-E61263E9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329-9CAF-4897-8B68-A6A411E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F2DD-A6A7-4938-BD41-F41A3DF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58A-EDF9-40CD-943C-E5B6810E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82C9-1022-45E5-8193-FDBB18A1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D93-F326-42F5-BEDC-3DC01F5B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2EA-F9F2-4B20-AC3F-92A8D4A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E0F-AA8E-439C-939C-69656566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42D-729E-49D3-B269-4FA5F1B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0D8-81C3-41D7-BECD-A0B6CF7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6A8-E88A-486B-8EEE-8E66ABA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43F-FA7F-4EE1-A892-858BEAD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B4A6-FDEC-406D-8054-3AA491099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BC2-D94C-41D5-A50A-DF489811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50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66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02T15:14:36Z</dcterms:modified>
  <cp:revision>56</cp:revision>
  <dc:subject/>
  <dc:title>PowerPoint Presentation</dc:title>
</cp:coreProperties>
</file>