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629D-5983-488C-B2C9-C4B007EB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13DC-558D-407A-A618-D43CDB33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A8D9-742A-4EA6-A283-FC4C328D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6D6D-2128-4565-8FDE-A48550A31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4379-E5EB-4AFD-AD63-D5B4C70A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10FD-DB9E-46EE-A6D4-C0AAC4E5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88FE-8408-4ED6-A7C1-2470562E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BEB4-CB23-4782-950F-B84C0E99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F429-0E9B-4C0A-8B30-65A92E2F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960A-5E0F-45CE-94E3-2A01F872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9BE9-EFD5-4C43-B2D8-CFE13773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A045-790F-4AF3-A3C1-121B8830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6B84-7CE1-4C6C-B5FF-286F0BB56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Mary, Don’t You We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n’t you mou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n’t you mour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ry Don’t You Wee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52240" y="1066680"/>
            <a:ext cx="6269040" cy="383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African American spiritual (Jn. 20:11-18; Ex. 15:21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haraoh’s ar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t drow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en I get to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’a put on my sho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’a run abo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pread the new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ry Don’t You Wee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haraoh’s ar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t drow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52388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n’t you mou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n’t you mour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ry Don’t You Wee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haraoh’s ar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t drow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haraoh’s ar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t drow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ne of these morn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 and fai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’a take my w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leave the ai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ry Don’t You Wee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haraoh’s ar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t drow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52388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n’t you mou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n’t you mour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ry Don’t You Wee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haraoh’s ar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t drow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en I get to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’a sing and shou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in’t nobody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’a turn me ou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ry Don’t You Wee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haraoh’s ar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t drow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52388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n’t you mou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n’t you mour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ry Don’t You Wee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8:34Z</dcterms:modified>
  <cp:revision>55</cp:revision>
  <dc:subject/>
  <dc:title>PowerPoint Presentation</dc:title>
</cp:coreProperties>
</file>