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812-8247-4DE5-A8D8-9659AC42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74D-51B4-4EB4-AA30-EAD54CA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C65-0DF2-4C59-BBD0-00496571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35C-CDD4-4DB1-815F-713CFBC2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E7CB-64D5-4E27-BF57-391EAEE3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3CD6-FD9A-4C08-9197-191B2A43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A903-E6D0-440D-A2C7-F39AF04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CA08-CCF6-489E-9244-EFF952F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C2A2-C089-4DB7-8439-992C0CC6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087-6934-49B8-9B01-D1DEE1C6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A6CA-D2F9-4672-AF45-509FE32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059-EC80-41A7-9F80-D11EE8C3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86E-20AA-4981-8003-AA0AAAE8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5C80-08BF-412F-B62D-5048F9C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1DCA-0E4D-44BC-A8BB-3AC3FF20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1935-508B-4F32-9D0B-9D7365A9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8C6B-BB53-4E95-A770-BE60C62D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51A-E208-47FA-95A4-A69976D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B6B-5D73-4882-9A17-A517F581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573-CDFF-4D77-BBB0-3DD3C679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6C0-0117-4268-9CD1-75FE029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BC9-58DE-4216-ACA0-DDF61A0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A78-59F4-4AB3-82C7-EB22C5C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FD2-FC1E-4C2C-BB66-36050F0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77F0-376D-485B-ABEC-11F838BE2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982-D195-4ECA-ADC9-3B648260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Young and 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06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O young and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fearless Prophet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of ancient Galilee,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5080" y="838080"/>
            <a:ext cx="381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O young an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arless Proph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need thy presence here, amid our prid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glor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y face appear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ce more to hea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y challeng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bove our noisy day,   again to lea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s forwar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ong God’s holy 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Young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you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less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cient Galil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5080" y="1600200"/>
            <a:ext cx="381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f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 summ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hum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s pron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the crow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n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e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unc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marv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ld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our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to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med the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teadfast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ty sh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bet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life i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till a summ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serve humanity; to make our thought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actions less prone to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please the crowd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help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nswer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wa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ate and l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lse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back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bid fal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oun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l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ift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ity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tir up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a pro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d for weal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others sta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u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lea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and heal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mes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ou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ck of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live their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burd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omy dread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you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less Proph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nce 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our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e app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7796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stand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umble courag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 truth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arts uncowe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more to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alle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our nois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to 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800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We marvel at the purpose that held the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thy course               while ever on the hilltop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fore the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oomed the cross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y steadfast face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set forward where love and duty shone,           while we betray so quickly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and leave thee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ere alone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O help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and unswerv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gainst war’s bloody way, where hate and lu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falsehood hold back Christ’s holy sway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800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orbid false love of countr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blinds us to his call, who lifts abo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unity of all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4. Stir up in us a protest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gainst ou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eed for wealth, while others star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hunger and plead fo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ork and health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ere homes wi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ttle childr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ry out for lack of bread, who live their year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ore burden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neath a gloomy dread</a:t>
            </a: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18T01:44:48Z</dcterms:modified>
  <cp:revision>15</cp:revision>
  <dc:subject/>
  <dc:title>PowerPoint Presentation</dc:title>
</cp:coreProperties>
</file>