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2B0D-1DDA-464F-B1E8-190535B9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B427-4297-40E8-9A3E-A79C75E4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4BEB-D56A-43A0-83F9-FEC78675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3E30-57F5-4914-9F01-980C2F56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7EB7-B7EB-4316-851F-E2F926BA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B6D9-D98B-4439-9F3F-13A0C165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E89-7278-402E-88ED-DAEA136B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EE08-DAF7-49DC-B772-F3EAC7BC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1005-37DE-4BEF-82A7-76C066BB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3205-D0E1-4F58-9084-3BD7ACA4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29D8-3E17-4AD8-883D-F4E2AD95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0BA0-900A-43F3-9B7C-AC0719E1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15EF-3F00-416D-B45A-76CD5E735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ift High the Cro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54380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5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1371600"/>
            <a:ext cx="9144000" cy="4166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Lift high the cros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Christ proclaim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ill all the worl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adore his sacred name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3240" y="762120"/>
            <a:ext cx="8239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ORDS: George William Kitchin and Michael Robert Newbolt, 1916, al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© 1974 Hope Publishing C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ift High the Cro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5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0" y="1600200"/>
            <a:ext cx="9144000" cy="49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high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Christ pro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ore his sacred name.</a:t>
            </a:r>
            <a:br>
              <a:rPr sz="5000"/>
            </a:b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4 Hope Publishing C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515880" y="1143000"/>
            <a:ext cx="82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ORDS: George William Kitchin and Michael Robert Newbolt, 1916, al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Christians, fol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triumphant sig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sts of God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ity combin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high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Christ pro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ore his sacred na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Each newborn serv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rucif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ars on the brow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l of him who died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026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high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Christ pro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ore his sacred na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O Lord, once lif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glorious t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thou hast prom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raw the world to the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high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Christ pro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ore his sacred na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So shall our song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iumph ever b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ucified for victory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high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Christ pro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ore his sacred na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8380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Christians, follow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is triumphant sign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sts of God i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unity combin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304920"/>
            <a:ext cx="9144000" cy="44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ift high the cros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Christ proclaim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ill all the worl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dore his sacred nam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7621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2. Each newborn servan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rucifi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bears on the brow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eal of him who died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026"/>
          <p:cNvSpPr/>
          <p:nvPr/>
        </p:nvSpPr>
        <p:spPr>
          <a:xfrm>
            <a:off x="0" y="304920"/>
            <a:ext cx="9144000" cy="44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ift high the cros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Christ proclaim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ill all the worl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dore his sacred nam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6858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3. O Lord, once lift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glorious tre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s thou hast promise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draw the world to the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304920"/>
            <a:ext cx="9144000" cy="44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ift high the cros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Christ proclaim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ill all the worl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dore his sacred nam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7621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4. So shall our song of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riumph ever be: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o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Crucified for victory!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228600"/>
            <a:ext cx="9144000" cy="44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ift high the cros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Christ proclaim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ill all the worl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dore his sacred nam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2-25T15:34:03Z</dcterms:modified>
  <cp:revision>23</cp:revision>
  <dc:subject/>
  <dc:title>PowerPoint Presentation</dc:title>
</cp:coreProperties>
</file>