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5BC-6698-439A-87C5-6672391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E17-2163-4E7E-8903-02BB5989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531-E86F-4925-9FB1-06F0E636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6AE-6B6F-40F6-BC99-F9656D54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A71-72AB-492A-A46B-4DED8A1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313-1311-452B-9AEA-1A8CA2BA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D36-F913-4673-8628-70B7488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5EE-BDC1-4041-9A7F-8BA148D1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377-AEFD-4B71-9681-634FD30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540-4358-4B57-BE38-947128C4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F1C-6211-4041-8011-4CF2887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D92-DC78-47E2-8BC7-E6165451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C917-092D-466E-B294-ACB11780B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Balm in Gi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Jer. 8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metime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n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k’s in v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n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ives my soul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on’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Jesus is your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f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o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ll ne’er refuse to l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like Pe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 like Pa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ell 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y he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2:47Z</dcterms:modified>
  <cp:revision>117</cp:revision>
  <dc:subject/>
  <dc:title>PowerPoint Presentation</dc:title>
</cp:coreProperties>
</file>