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A9A-2285-4562-BC6B-E0285822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F71-5B90-40BE-BCE7-26EA00A4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BAB-18B7-4831-AA1E-7BE4C770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B03-54D0-4D9F-A2E6-FD2BE501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5FB2-E61A-4DAC-AAE5-CBFC79DF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01CB-277C-4F60-8450-8975E500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2002-C55B-4C09-A706-27B2B601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6CD6-5383-4955-9231-DE0C46FF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2586-50AC-4398-BC9B-6D59C213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E2AE-AABB-4714-AAE9-D0C9C9DC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F2D9-9F56-4CDD-B94E-C837CC9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30A-3693-4984-BE40-03ADA4B4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B327-C8F9-4B73-8126-33431A6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CAE0-2F7E-4018-92CC-68090776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1919-B77E-4DB6-AB00-59F094C9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8FC3-4FE9-4A17-AFFE-648F6672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F3B7-48FE-46C1-9C60-6188176F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2D6-E4FB-41D9-A96E-46977B3B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431-9CAB-477A-B12D-5F887F2A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46F-FDB4-4764-A2FD-FD204D65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D3D-C5B5-4088-8834-BB25BFA1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ED5-178D-4E0C-A7A6-E2F84086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5A8-F33C-4710-B488-08632CEF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83D-5244-4EF6-9390-9FF1D92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C333-D98A-486A-AAB7-16D2CF472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EFCF-6164-425C-B57E-9B2A1ABF5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Mad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ur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96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Christ is mad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re foundati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the head and cornerston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95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7th cent. Latin; trans. by John Mason Neale, 1851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(Eph. 2:20-22; 1 Pet. 2:4-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sen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c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nding all the church in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Zion’s help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 confidenc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this tem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cal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ost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y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fullest benedi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 within its walls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vouchsaf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blessed to re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eafter in thy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 with the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three and ever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unending 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sen of the Lor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precio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ding all the church in on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ly Zion’s help forev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r confidence al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this tem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e cal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ost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y faithful loving kindn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r thy peopl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they pr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y fullest benedic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d within its walls al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re vouchsaf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y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blessed to re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reafter in thy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 with the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ud and honor to the Spiri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 three and ever on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in mi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one in glo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le unending ages ru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Mad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ur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954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rist is mad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ure foundati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the h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cornersto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6765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7th cent. Latin; trans. by John Mason Neale, 1851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(Eph. 2:20-22; 1 Pet. 2:4-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25T00:27:00Z</dcterms:modified>
  <cp:revision>65</cp:revision>
  <dc:subject/>
  <dc:title>PowerPoint Presentation</dc:title>
</cp:coreProperties>
</file>