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0DC-BBA1-4040-BBE5-0A2720C2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D4B-27A7-421B-BD21-2E93A1F1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0A6-321C-4197-9396-3FF6F6A7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5BE-32A9-46A0-A14C-F1F00F3B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FEB-06E6-4B66-922D-F73063CF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3BA-2CD6-43AD-93BD-27EC761B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6C6-57B6-43D0-8282-F545FFA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578-6D6F-463D-A0BD-3D1D26FA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B5D-72F5-47B2-B40C-4EE73861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315-5B69-45F7-A3ED-F2440D2D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5D9-567B-4BD4-B571-09DDBEC6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B69-E2EA-418F-91AC-85A3A565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D90C-9025-4BDF-894A-161FFCDD0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om a Distant Ho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De Tierra Lejana Venim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9132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. © 1963, 1980 Walter Ehret and George K. Evan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permission of Walton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1523880"/>
            <a:ext cx="78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Puerto Rican carol; trans. by George K. Evans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1337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From a distant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vior we come see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ing as our gu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ar so brightly bea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Bitter myrrh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infan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the pain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he 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76212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 tierra lejan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venimos a vert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s sirve de guí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estrella de Orien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914400"/>
            <a:ext cx="8610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 rec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én nacid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es Rey de los r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o le rega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ara ornar sus sien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o es Dios e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inciens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erfume con alm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su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sta 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9051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76520"/>
            <a:ext cx="8915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l Ni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ño del ciel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bajó a la tierr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 regalo mir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que inspira trist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144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lowing gold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ewborn ba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his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ign above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0948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ankincense I b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hild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own choo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ken of our pray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eaven ev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5800"/>
            <a:ext cx="91440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 Distant Hom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4:46Z</dcterms:modified>
  <cp:revision>20</cp:revision>
  <dc:subject/>
  <dc:title>PowerPoint Presentation</dc:title>
</cp:coreProperties>
</file>