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B8E-E0F1-42D6-B05C-8D0F1A47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6BE-6C39-4A15-86AE-6B9B26FF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701-6808-4EEC-B08F-1A77A7CD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12B-DB9E-419A-9217-3E9EABE1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8A8-B130-4791-BF91-7345CD20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63A-AEA1-4DDC-A6BB-27F4FCA0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CCB-E611-43AB-97CF-A24A8C70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3D2-486E-4125-B06B-369F779B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9E4-E13A-48AD-A227-3F2D0F79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F47-C01E-4712-9BD4-274D9AD0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EC9-3C1D-4AE0-85EC-01A209E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350-04FD-4528-A27B-4232F00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BE5E-F45A-4465-ABAB-FF58D94D2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Out the Wilder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87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880"/>
            <a:ext cx="8686800" cy="595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ell me, how did you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25600"/>
            <a:ext cx="914400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 me, how did you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8686800" cy="595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id you love every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25600"/>
            <a:ext cx="914400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d you love everybod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80880"/>
            <a:ext cx="8686800" cy="595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Did your soul feel happ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25600"/>
            <a:ext cx="9144000" cy="54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d your soul feel happ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you come 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out the wilder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4:15Z</dcterms:modified>
  <cp:revision>141</cp:revision>
  <dc:subject/>
  <dc:title>PowerPoint Presentation</dc:title>
</cp:coreProperties>
</file>