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073-1E55-4DB9-8EF9-590C72DB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426-0064-4477-9FEC-3BCB1720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160-E47B-4205-8220-CCD9B7CB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297-91EF-46FA-8DC5-A5ECA74E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122-839B-44DE-B495-BF10CA63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2DD-25D0-400B-B7CE-CBAB95F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EF8-F572-4A3D-9B4D-7AEB23E7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BCF-C0B1-4191-9C86-1303F60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BAB-C9A0-49BE-A176-FFFD1719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F75-9B24-4276-97C5-5685FF2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1D2-3DB1-4E07-9170-3BBC768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F77-26B6-4D57-8A4A-3ECC722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956-6BB7-4613-8902-D39514884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 Church of God, Uni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52480"/>
            <a:ext cx="910764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hurch of God, uni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rve one common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o all one messag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s in glad accor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9144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rederick B. Morley, 1953 (Acts 2:5-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ever goes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ro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er foot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e upward w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ever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rdered ranks 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liant lea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me from far and nea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hant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onf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raise one living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ac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 depen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his saving wor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cr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ngues may di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of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y 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ne people b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ma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leness of 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 to al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redeeming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ay thy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 ans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all b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God’s blessed Son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a single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hwa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pe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 the one true l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808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ever goes before u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day by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trong 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ger footstep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upward way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-316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every l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t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rdered ranks appea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rve one valiant lead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me from far and near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hant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e conf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praise one living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place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ure depende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pon his saving wor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gh cree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ngues may diff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peak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 Christ, of the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 loving spiri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one people b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may 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ful servi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leness of ai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o all the pow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redeeming nam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824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May thy gre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be answer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ay all be 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ou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 uni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, God’s blessed Son: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54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a single witnes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pathway bright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ouls which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grope in darknes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may find the one true light.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hurch of God, Uni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church of God, uni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erve one common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oclaim to all one messag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earts in glad accord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4, renewed 1982 The Hymn Society of Ame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B. Morley, 1953 (Acts 2:5-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7-14T15:57:13Z</dcterms:modified>
  <cp:revision>19</cp:revision>
  <dc:subject/>
  <dc:title>PowerPoint Presentation</dc:title>
</cp:coreProperties>
</file>