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C5A-A008-4670-A72D-F2DE7E51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1F8-8B0E-46B3-BE20-8AA519C9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447-25E5-4B3F-90CB-1C16A2F3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2F2-AE0C-4476-B70B-D900E9F8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F905-1D23-4E76-9853-D672C03E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7D23-DFC9-49A9-BAAE-3FFD8C0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53D0-AC06-4F23-9EC9-66F4C3B6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7A54-CDB2-4177-88AA-69831511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B742-35C0-430C-888C-0B5DD5DC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4264-1079-4BC2-A9FF-1441C829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7FE6-596E-4DD1-AD2C-76348403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528-33E9-41B7-B43C-FABB9E24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9081-283E-455D-A67C-EE98EA85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D76C-C058-4761-9112-150666BC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6515-7FF7-40FE-A815-8DC9AF30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EC21-60C3-497C-A459-D55BCE07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DD23-3992-490A-B783-3BC2837D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E45-075B-4993-8930-C3BF7A82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804-669D-442B-9FBD-9B985BF2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718-9DB4-4450-AABE-9B20A75E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F2E-39A7-4449-8DA4-D7CD6DD4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3E5-307A-4989-A33C-19AA23A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6D0-838D-41C7-9DAC-0EF69FEE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716-B7C8-4EFF-9258-68544FC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32C7-0594-4797-9382-0F8936528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95F9-8839-4620-9F4C-DB78262F2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Came Down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ve ca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m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ll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6840" y="1092240"/>
            <a:ext cx="40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na G. Rossetti, 1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orship we 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esu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wherewith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sacred sig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522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shall b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ut token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be yours 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be min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to Go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all m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for ple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gift and s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a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m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and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ship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ere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acred 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ve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o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be your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for pl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ft and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ve Came Down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99360" y="1143000"/>
            <a:ext cx="40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DS: Christina G. Rossetti, 1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765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came dow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t Christma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all lovely,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divi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286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was bor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t Christma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tar and angels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ave their s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8819" t="0" r="1863" b="2950"/>
          <a:stretch/>
        </p:blipFill>
        <p:spPr>
          <a:xfrm>
            <a:off x="6095880" y="44280"/>
            <a:ext cx="3035520" cy="4604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orship w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odhea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incarnat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ve div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06T22:53:04Z</dcterms:modified>
  <cp:revision>16</cp:revision>
  <dc:subject/>
  <dc:title>PowerPoint Presentation</dc:title>
</cp:coreProperties>
</file>