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7B3-6CD3-40A9-8C11-6E2933BC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CE2-91B6-45A4-BF64-43D5646D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A33-D87E-4354-89B6-CE4B13BA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8DF-2896-4ABD-B775-C117AEF7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6DA-8115-4EBE-9D16-58173B66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B54-8D1A-4957-B84B-62F8D886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23C-6941-4D66-9C4D-1DA0C55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B74-5E1F-4C13-8C77-19A777AA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784-20A4-445B-80CA-0F0F0B8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336-A590-4EFC-8A64-F782720F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C30-F318-4509-8818-8F514194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ED2-8C64-4381-8BE1-8D3F433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D4E9-4C0B-4EB6-870B-1466722B2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You Gi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eat Com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you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mmiss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eal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Jeffery Rowthorn, 1978 (Lk. 9:2; Mt. 28:19-20; Lk. 23:3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earth’s tru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lift life heavenw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arou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’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you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love’s true measu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Father,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do, forg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e ho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private tr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your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just soci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rd, you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ords assur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sto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 int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amid the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laim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in mind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glect its 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unhe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renewed integ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you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to your servi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n m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 and teac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rust your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bun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ant for ea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ervor, dra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r in commu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you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mmon ho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his my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y bloo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2:35Z</dcterms:modified>
  <cp:revision>89</cp:revision>
  <dc:subject/>
  <dc:title>PowerPoint Presentation</dc:title>
</cp:coreProperties>
</file>