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08F-CCDD-4409-BE0A-4147983C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684-9ACF-4872-9671-CBFD8384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D66-FC6D-453E-9528-73986311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1E0-5259-4D32-A212-4A5552EB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612-288B-474A-8000-2271BA5C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F573-DB03-4C0C-BD9F-2F8337E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7FEA-86C4-4044-88A4-DF01D070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425-0C93-4C0A-A861-E802CBB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21F-14D6-4A38-BBDF-957A1495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06F0-16FD-4FB4-ADCF-1B25513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0A5D-DBFA-4F07-88DE-F82FFE8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3B1-1304-4D3E-BF5A-05021783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D8EF-F0F5-4753-A88A-590EFF2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8874-FEE9-4F8C-937F-1515D94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698B-AFC7-482C-98E6-5252EF3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04CC-4732-45CD-857A-C0AE5BBA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2BE5-5712-434E-81E7-756E1994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0F0-0906-4DBE-91B9-C1B6325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1CA-C1D2-4A46-A569-59884C5D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441-9EA8-4D02-BAE6-5867F51D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203-74D9-4511-8EE0-356CDE36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B30-7426-48CB-8874-75AF156F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16F-BA22-4DDD-90EB-ABDC3A5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3D3-0129-4337-9E25-B0EEE69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CC3-837A-486F-BDE7-CFF10291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E51-7F4F-4284-9BAA-C694E576F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and let us sweetly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ymns di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we all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to our common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9520" y="12952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nds and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dear expected Gu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bidden to the f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self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prep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nd s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anque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nctif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and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th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y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yself within u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feast a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3644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66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ome, and let us sweetly jo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to prai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ymns divin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we all with one acc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ry to our common L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9520" y="7621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nds and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esus, dear expected Gu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 art bidden to the feas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yself 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ts prepa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, and s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banquet the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anctify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, and bl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eathe thy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thy pea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 thyself within us m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ke our feast a feast of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10T02:16:46Z</dcterms:modified>
  <cp:revision>42</cp:revision>
  <dc:subject/>
  <dc:title>PowerPoint Presentation</dc:title>
</cp:coreProperties>
</file>