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CCC-E6A7-40BB-85BD-0721B2A9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71E-F6C4-4499-A1D7-B8CFEAE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5C0-A8CB-488B-B547-5A6E9F36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7FF-A812-4E2E-8B79-D152E0F9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D469-0587-4A50-B515-BE3DDE14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F10-49C0-4B36-91F8-DD5ACA0B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776C-4672-4F27-9C47-439D5F6D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2E71-73C8-4A7F-8F9A-D23B10EE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A957-329F-464D-85D3-4F05B1F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0439-2664-4E59-86E1-9C212C5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F099-563C-4294-B0B9-2A435F1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9E2-D649-4210-A77E-51A6036D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CB53-C535-470A-9C5C-F938A2F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F0C9-24A4-4723-BF4C-591C2D9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82E-64B9-40E6-8FCE-2FF2192C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3EA8-E970-4084-95EA-2B5E1C61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D8D4-E312-45E6-AEA8-42E891BB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183D-46A9-4461-83CB-0F32829C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E8FA-9DC1-4A00-A59C-4F249E3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3260-27EF-4A47-82ED-1F558439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316E-0611-4CC8-90DE-13D00A82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D85D-697F-48B1-B159-C20E912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C04-E12D-49A4-B618-872F5411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B00D-0B3F-40CB-BC2B-7D362BCA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1759-A981-44B1-988F-11DED4B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36DE-8EF2-45C8-8EC8-37BC6EC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9E4FF-60D4-480F-B183-FAF022CB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1050-6886-4A98-B91E-AEB5491F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E304-87F2-4927-8CF3-E9AA8012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B03C-C294-44A4-97FD-0DC8EBC9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273-DC93-4A71-8DE3-28B8829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2B4-0368-4D19-B296-2B17ADAD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DBB-24E8-4398-912D-C9F057BA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FB1-9F7B-4E1E-9ED9-5F7E06A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EE2-2F52-4D35-A300-D5463F5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6BA-9490-4C68-A788-AFE32D8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CC7D-8D9D-4672-8840-A0C19DF1A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9C5F-AC0C-4633-BCDB-70C3321EC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649-A8F0-4AA3-BF3F-BFB4AE536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11430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6858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11430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685800"/>
            <a:ext cx="7620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3049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Before our Father’s thron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pour 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rdent prayers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fears, our hop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aims are on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mforts and our cares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sh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’s wo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mutual burdens bea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ten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ther flow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ympathizing tear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5335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we asunder p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t gives us inward pai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ut we shall st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 joined in he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pe to meet again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0" y="25909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lest be the tie that bind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hearts in Christian lov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fellow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kindred mind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like to that above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fore our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our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dent praye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ears, our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ims ar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forts and our care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w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utual burdens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ten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f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ympathizing tea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we asunder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ives us inward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 shall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ined i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to meet ag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Blest Be the Tie That Bi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5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12063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t be the tie that b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hearts in Christian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llowshi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kindred min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like to that ab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8827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Fawcett, 178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12T01:04:21Z</dcterms:modified>
  <cp:revision>68</cp:revision>
  <dc:subject/>
  <dc:title>PowerPoint Presentation</dc:title>
</cp:coreProperties>
</file>