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5B2-0DFE-471C-974B-D00607DE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D6A-BBD3-471A-88C8-B73F7FAF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FF6-4DBC-4A6B-B0D7-6E49CF07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615-0DFB-44E9-8498-3DE893BC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E063-D18D-4131-817D-B811CB7C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B398-9EBF-4306-AFBE-B0D0D092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E3CC-542C-4C80-AEF7-F6464425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7F59-60ED-41F9-B6AB-C9FECB17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D4B9-FC78-4F2A-BE1B-B5EDF25C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A137-367F-43F0-A5EC-D187B1FF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E99D-8CE6-4924-A610-90C12FAD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E86-6C15-42DB-AF69-0311988F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132E-FFCB-49BC-81F9-57D73553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91F4-B62B-4626-843D-C9F909CE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D6E3-6097-4D8C-8108-9449ACB0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D82A-3F22-48E4-AD1B-887AC545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AFCB-ADB7-4B87-9DD7-4DA12064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CD6-B87C-46C2-AA7E-1A7042EF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94F-99A3-4D00-8D62-245BA332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E7A-3BE0-4883-A127-43F398C2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959-0232-4BAE-BC27-A39E4432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F80-48AD-4DB1-8522-09944623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5EC-6A98-48EC-97D6-A1C24A5A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8C8-FDBF-415F-B1E5-2BDE8023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54B8-DC59-47FE-BCFA-201BD1A16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10E6-B59B-4D65-92B8-B9162DB24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60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I Surrender A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3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09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. W. Van Deventer, 1896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144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to Jesus I surrender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im I freely giv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ev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trust him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presence daily live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152280"/>
            <a:ext cx="9144000" cy="5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urrender A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. W. Van Deventer, 1896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im I freely g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presence daily liv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mbly at his feet I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ly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forsak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e me, Jesus, take me now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lly t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feel the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ly know 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min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self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me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p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y blessing fall on 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27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feel the sacred fla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ull salvati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name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0"/>
            <a:ext cx="9144000" cy="58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2286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to Jesus I surrend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humbly at his feet I bow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orldly pleasur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forsaken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ake me, Jesus, take me now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52280"/>
            <a:ext cx="9144000" cy="5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3. All to Jesus I surrend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,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holly thine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feel the Holy Spiri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ruly know  tha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mine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152280"/>
            <a:ext cx="9144000" cy="5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15228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4. All to Jesus I surrend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I give myself to thee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fill me with th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pow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y blessing fall on me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152280"/>
            <a:ext cx="9144000" cy="5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0" y="2286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5. All to Jesus I surrend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feel the sacred flame.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 the jo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full salvation!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glory to his name!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17T14:39:56Z</dcterms:modified>
  <cp:revision>114</cp:revision>
  <dc:subject/>
  <dc:title>PowerPoint Presentation</dc:title>
</cp:coreProperties>
</file>