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8C2-4107-4630-93BE-4FE2EF2B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69E-599E-4B76-ABB7-EB3A4A78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3C1-6D1E-4590-8297-EFC16F26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84A-1C85-4593-AC70-D74DB50A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139-61DB-4266-84ED-272C5471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5FA-7D26-4623-92BB-DDCD9046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E4F-51FB-4E04-B6A0-5B6A17F5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113-9511-4101-9110-B648996D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DBE-C925-4762-ABDD-2BB993E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9B5-4390-4C40-B0D4-A3FF5524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C7F-5AE5-49E7-98C1-8BEC4AD5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5EC-5240-4406-883D-84AAC50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839E-BA91-4C43-8A8F-A7D93A838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Mock Your Reign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earest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o mock your 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dearest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made 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of thor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7652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2 (Mt. 27:27-31; Mk. 15:16-20; Jn. 19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you with tau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that ro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ne ret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lorious is that cr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rns w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er upon your b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orrows heal ou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mock ac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a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natch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urple clo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assion tur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y ca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a soldier’s j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it b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ill your ro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ercy th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our naked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 sceptered r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atient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th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ted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grim char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its appointed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empires rise and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dom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cease to g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 embrace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0:51Z</dcterms:modified>
  <cp:revision>45</cp:revision>
  <dc:subject/>
  <dc:title>PowerPoint Presentation</dc:title>
</cp:coreProperties>
</file>