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03F8-6634-4565-A0D7-9DE8957D7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C754-640E-4FCC-97F1-BEB0BF742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F045-7F8C-4198-AFE6-F8880BD1F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6A75-EFE5-4F64-97C1-AD6C0A57B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05E5-84BB-4843-8F8A-199B94409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EDC3-3717-41FE-88A8-2E3060A26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62B0-99C5-40B5-B183-6FD74458B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1F03-E126-4901-BBE2-82B174E62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57E4-A151-4BBD-8594-6F372A5BD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BDC7-9A05-46F8-A7C2-5C4E2E3B0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7A91-5EDB-4C38-BEEE-B349FAC44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32BC-431E-4485-8BD1-683D83E0E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7FBAA-E793-4FF1-83C4-A971476869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07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anticle of Christ’s Obedie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6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86000"/>
            <a:ext cx="9144000" cy="408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 1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(General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this mind be in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ch was als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Christ Jesu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dapt. and Response 1 © 1989 The United Methodist Publishing Hou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ticle of Christ’s Obedien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78960" y="990720"/>
            <a:ext cx="688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Philippians 2:5-11, adapt.; Response 1, Philippians 2:5, adapt.;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Response 2, Caroline M. No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981080"/>
            <a:ext cx="9144000" cy="2623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 2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(General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the name of Jes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very knee shall bow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ticle of Christ’s Obedienc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1477800"/>
            <a:ext cx="8610480" cy="3688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 </a:t>
            </a:r>
            <a:br>
              <a:rPr sz="30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hrist Jesus, though he wa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in the form of Go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did not count equality with Go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 thing to be grasped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191916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ut emptied himself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aking the form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of a servant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being born in our likenes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33520" y="1187280"/>
            <a:ext cx="861048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being foun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in human form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he humbled himself an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became obedien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unto death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even death on a cros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33520" y="1552680"/>
            <a:ext cx="86104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refore God has highl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exalted him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and bestowed on him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e name which i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above every name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33520" y="1919160"/>
            <a:ext cx="861048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at at the name of Jesu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every knee shall bow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in heaven and on earth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under the earth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33520" y="182736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every tongue confes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at Jesus Christ is Lor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o the glor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of God the Father.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5:17:38Z</dcterms:modified>
  <cp:revision>29</cp:revision>
  <dc:subject/>
  <dc:title>PowerPoint Presentation</dc:title>
</cp:coreProperties>
</file>