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22F-6269-47EE-BAD6-384579DE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496-B2DF-4EA8-9177-1A7236A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400-E435-41CA-A32A-BFEFA6AE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5D5-9E2C-4C46-844C-43EE098D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0F5E-97DB-4362-8357-26353620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1312-8AE2-4427-B3D6-DD273E02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2704-C90A-4C29-8FDF-959D21A7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DC62-696A-46D7-8DFC-CF185B18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FB0B-3CF8-4FBC-B465-0B2D50CC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4BB5-2C05-40C2-915C-DAB83FF9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62B4-4B5D-4DAF-A555-5670AA0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B8E-5F1A-4BC1-B5C4-680DF73C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E569-6D6A-41C7-ADB5-1819CFB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EB0A-5FE4-4B38-95E9-B79ABFD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545-C2FC-4B39-80D0-FBE2FCC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B707-C3FA-446C-85AF-875755D8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B45E-DBD0-496F-A16B-9F00010A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172-716E-4FE1-B0BE-DC01176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86C-8D4F-4B90-BE17-C29D068F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804-509B-4F0B-964A-79C6E6CC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639-8A52-4FDE-89F9-D83CEDA2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366-518F-4866-908F-07DE3384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247-2657-4CA8-A108-67BA3F2F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EB7-D874-41CF-9D88-ACAA5B5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6983-F5D5-4E30-9783-B599298B7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B9D-7014-48E3-AB21-0E675D52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O sacred Head, now wound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me weighed dow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40" y="137160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Latin; trans. by Paul Gerhardt, 1656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James W. Alexander, 1830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pale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at thou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 suff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ll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’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, min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ansgre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dly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, here I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I de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f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uchsaf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languag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b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n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est fri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ying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fore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ould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nting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le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,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liv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cornfully sur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rns, thine only crown:  how pale thou art with angui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sore 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What thou, my Lor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st suffer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all for sinners’ gain;             mine, mine was the transgressi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hine the deadly p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, here I fall, my Savior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Tis I deserve thy place;                look on me with thy favo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uchsafe to me thy gr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21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What language shall I borr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thank thee, dearest friend,          for this thy dying sorr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ity without e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make me thine foreve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hould I fainting be,             Lord, let me never, ne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ve my love for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sacr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weighe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440" y="152388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on. Latin; trans. by Paul Gerhardt, 1656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James W. Alexander, 1830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cornful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rou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nly cr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4-10T01:19:41Z</dcterms:modified>
  <cp:revision>47</cp:revision>
  <dc:subject/>
  <dc:title>PowerPoint Presentation</dc:title>
</cp:coreProperties>
</file>