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247-9CA2-47D4-A8EC-F4C1C9A6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097-4451-42AC-8DE5-47D10DD0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4E84-E915-4578-89AA-25941AFD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139-3180-402E-8C5A-19AC7A05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FE3F-1C11-4B02-947B-43EA58EA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F856-F31D-4A5F-A918-4B47A126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B1BD-4299-4467-9016-16C5EEC2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32F9-ADEA-44EC-AF91-4D7D63AC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C89B-1658-4DB2-AEB7-8FE7A8F9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F1E9-CC5B-42D0-BF6D-69014B8A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CE91-DBA9-4E3F-A5B8-5D474724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FACB-F52B-4471-90F1-07BE2F84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ECB1-508C-4B56-ABFA-BCF7BF4B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7D2D-53D7-4776-919C-D0BE28CA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AB23-F2BB-498E-B337-03987944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5FD4-6A4B-4222-86E6-BBDE74AA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E95A-B521-4E97-BDDD-CF1AF8CD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A5E-E94A-4B50-AA54-AB79D3BA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8FA-83BD-4CB4-BCDB-0669141F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941F-843C-4F56-A3EA-DF510C50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DDF-52E7-4E7C-89B8-7684EF11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B02-06D7-43F3-9F10-416150E1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67E-A4CC-4D79-A6DF-47E26B1B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944-0D3B-4C47-B1BB-C76602BF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A794-9CC7-4CDE-9B95-6DED7F0D6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492D-42A5-4DDD-9C30-CEA1B7113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Mary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Magnifica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3880"/>
            <a:ext cx="9144000" cy="396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RESPONSE SU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glory of the Lor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hall be reveale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flesh shall see it together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58760" y="685800"/>
            <a:ext cx="698868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uke 1:46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55, ICET, rev. ELLE; Response, Isaiah 40:5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546120"/>
            <a:ext cx="8610480" cy="553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oul proclaims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reatness of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y spirit rejoices 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od my Savior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has looked with favo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n me, a lowly serv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100332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is day all genera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all call me bless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Almighty has d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reat things for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holy is the na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se mercy is 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ose who fear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rom gener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gener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00332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arm of the Lord is str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has scattered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roud in their conce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has cast down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ighty from their thro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lifted up the low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638280"/>
            <a:ext cx="861048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has filled the hung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good th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ent the ri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mpty aw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has come to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id of Israe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chosen servan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9586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membering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promise of merc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promise ma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our forebear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Abraham and hi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children for ever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320"/>
            <a:ext cx="9144000" cy="555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soul proclaims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reatness of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y spirit rejoices in God my Savior, who has looked with favor on me, a lowly servant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466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is day all generati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all call me bless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Almighty has done great things for me and holy is the name of the Lor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ose mercy is 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hose who fear Go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from generatio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to gener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76320"/>
            <a:ext cx="9144000" cy="539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arm of the Lord is stro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has scattered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roud in their conce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od has cast down the mighty from their thrones and lifted up the lowly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38280"/>
            <a:ext cx="9144000" cy="378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d has filled the hungry with g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ngs and sent the rich empty aw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od has come to the aid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   Israel, the chosen servan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572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remembering the promise of mercy, the promise made to our forebears, to Abraham and his children for ever.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09480"/>
            <a:ext cx="9144000" cy="396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RESPONSE SU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glory of the Lor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hall be reveale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ll flesh shall see it together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Mary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Magnifica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286000"/>
            <a:ext cx="9144000" cy="412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(Advent &amp; 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y of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reveal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lesh shall see it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77840" y="1623960"/>
            <a:ext cx="69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uke 1:46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-55, ICET, rev. ELLE; Response, Isaiah 40:5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0-12-19T01:17:39Z</dcterms:modified>
  <cp:revision>32</cp:revision>
  <dc:subject/>
  <dc:title>PowerPoint Presentation</dc:title>
</cp:coreProperties>
</file>