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8B1B-57F1-41E3-8793-083C8DEB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DD67-2987-4852-B48B-604B89C6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6B9-B680-481A-B0B9-0B7433B8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8372-1D9A-4C21-BB94-3B974F85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9265-C7E1-41C3-8900-A5EB4747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B828-232A-4187-A1A7-AF3F3460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727E-4B3B-42BA-A5EF-E2D629BB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B23A-81A4-47CE-A9AB-FBCB0232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0B64-C494-4EDE-A455-40AFD516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06E8-88C9-49F6-9C77-E5378E09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7313-F48B-4DAA-BF1A-B088F14F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BF5-B841-4705-A51B-F46A71C9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C56A-96A5-4ACA-8604-7EBF2706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49CA-0208-44A5-915E-F94B5E02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095E-95DB-400D-86C9-A01C05B6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F189-317D-4885-9C9B-845B0720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2C58-755B-470B-AE3F-7D407927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2B1-C2AF-4BAF-9F0E-04FBD93A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20D-2D0F-497B-9680-B1DE33D1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FD7-A21C-49C5-9E96-EBA9A936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91DC-095F-4862-9955-41BA2D53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72C-41D7-4E88-8D8D-4FE4C042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A50-E2AB-41DF-BB96-ED627E80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6C8-318C-4473-A422-5921E459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8165-5A44-4303-AD14-229A2C925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20E4-AA19-4A58-84BC-C6940A384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’ Hands Were Kind H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06400"/>
            <a:ext cx="9144000" cy="473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’ hands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ing good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ing pain and sic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ing children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A. S. Hopki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’ Hands Were Kind Ha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17640" y="939960"/>
            <a:ext cx="37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garet Cropper, 19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ing tired feet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ng those who f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hands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ing good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ake my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m work for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them st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ent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 in all I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’ Hands Were Kind Ha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watch you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’m gentle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kind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ick to work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22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’ Hands Were Kind H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751040"/>
            <a:ext cx="9144000" cy="290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Jesus’ hands were kind hand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ing good to all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aling pain and sicknes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lessing children small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A. S. Hopki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’ Hands Were Kind Ha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17640" y="762120"/>
            <a:ext cx="37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garet Cropper, 19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ing tired feet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ng those who f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hands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d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ing good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4320"/>
            <a:ext cx="914400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2. Take my hands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Lord Jesus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let them work for you;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make them strong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and gentle,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kind in all I do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’ Hands Were Kind Ha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watch you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I’m gentle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kind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ick to work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5-03T23:54:54Z</dcterms:modified>
  <cp:revision>30</cp:revision>
  <dc:subject/>
  <dc:title>PowerPoint Presentation</dc:title>
</cp:coreProperties>
</file>