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EE9-8EDF-48E2-83CE-5345ABE5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FFC-47DE-4A88-AF2E-967E67D8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0B9-713F-4FB8-B78A-B217A7AB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110-37BE-4838-B66B-7C707FF5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8732-8810-48B4-AFB4-C854CC5C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C2EE-A616-4B3A-88AE-36D646B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FDF-F5D4-4AE1-B803-1C98622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DA09-6FBE-4BD3-82C1-F6AE29A5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438F-D086-4163-8882-B4C268A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FCA0-AC1A-4D42-9F6C-49AC876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4960-B457-4DDD-938A-3D1927E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A10-9EE4-497E-8A7F-46A357AA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80CA-68A8-49AC-AD0D-AE46EA6D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F992-255B-4B45-B3C6-0862920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296-0C16-425E-8596-084CA79A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916-797D-4045-9DF6-F5891AEC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975-04C8-4A6A-A2CA-EE3A432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746-3F3D-47CA-8832-8B02650D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B7C-CBEC-42C0-89B2-3134BFE2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428-234B-47E0-A512-E448B8E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E3E-6B0C-4C7B-B0EF-F6ED9631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B1E-E6BD-4C0C-B3AB-91E553B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F26-5E80-4A7E-B837-0F5F8829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1A5-D061-4EC0-9DA9-A1688B3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782F-6CA7-4349-A8A4-9364BB25C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738-59F4-47AB-80B8-2A033C0FC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371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066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5884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066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5884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92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cp:lastPrinted>2001-10-29T20:41:57Z</cp:lastPrinted>
  <dcterms:modified xsi:type="dcterms:W3CDTF">2007-09-15T01:34:51Z</dcterms:modified>
  <cp:revision>112</cp:revision>
  <dc:subject/>
  <dc:title>PowerPoint Presentation</dc:title>
</cp:coreProperties>
</file>