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5FF-6EA8-4854-A2A0-F552D5A6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6B2-1EEE-458B-A91B-5232BCD9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318-2D09-41A6-9EDC-42CB92DD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BCE-E112-4A8F-8DE0-97E96D77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15CB-EA7E-4D50-8FC7-971851E3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36A1-C918-4F2F-8966-408BD8E7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21D9-D319-4BD0-ACEB-53E1EEB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C2B4-C764-493C-B5B7-1F56F07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325B-7197-488F-89E6-C3A42530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3315-1DCD-4EAE-B3F8-6F38906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925-BD4B-4D56-A968-B56E6E1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EDE-D629-485D-BAD5-AB9607CA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FF54-25C4-4159-926C-F6CC149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59D4-650F-4023-B08E-ADF4758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2BF7-C965-41CA-8F2F-BD8A81A7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8C7-CA8E-4764-A056-4B30AA8E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5E8-C341-42F1-B31E-3AA6F63D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8E0-803B-4EAF-8622-75C01FAD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F2D-6BAF-42C3-B5CD-83EBC17F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3A3-2C30-45DE-9947-C18B95F8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055-BB5A-4F9F-BB01-FA2178CA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85D-D89D-4915-AD66-29489235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690-5A46-41E8-BFFD-9A5E2BA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57F-F2F1-4B02-9497-0BE5BD4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690A-5D79-47E5-B4E9-51C595890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F42F-C958-416F-A4E2-40FE1D982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19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Tell me the stories of Jesus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ngs I would ask him to tell m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6800" y="7300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295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in the lovelight of Jesus’ f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ell me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tories of Jesu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ings I would ask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im to tell 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46800" y="10396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irst let m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the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hall fan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n the love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’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First let me hear how the childr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I shall fancy his blessing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46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ds full of kindnes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eds full of grac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ll in the lovelight of Jesus’ fa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17680"/>
            <a:ext cx="9144000" cy="466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. Into the city I’d follo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hildren’s ban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aving a branc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f the palm tr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igh in my han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ne of his herald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yes, I would sing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udest hosanna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“Jesus is King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Tell me the stories of Je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love to hear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gs I would ask him to tell m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f he were he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46800" y="730080"/>
            <a:ext cx="54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H. Parker, 1885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(Mt. 19:13-15; 21:8-9; Mk. 10:13-16; 11:8-10; Jn. 12:13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61920"/>
            <a:ext cx="914400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First let me hear how the childr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od round his kn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 shall fancy his bles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ting on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4-16T15:27:15Z</dcterms:modified>
  <cp:revision>37</cp:revision>
  <dc:subject/>
  <dc:title>PowerPoint Presentation</dc:title>
</cp:coreProperties>
</file>