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6FF-6109-4A94-8DB1-DE11314B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63D-BDF0-43D9-8DCA-3C8ED4AC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BBD-CD02-44F6-B49B-A3500901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EDB-D00E-43B4-8ADD-65E48BA0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E62-E60C-4C9C-BC1C-19DBFCC6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3AF-6234-4250-AE15-2CD649F1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009-024E-4132-97FB-927D341D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A28-91F8-4EEC-BC56-7D63F63E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EDE-99AB-4815-82C2-708F46AF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E0B-B9BF-4873-BDE0-D55464BF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8F7-58EF-46B1-84DC-8E1EF628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94E-9F11-4294-9883-F85A3230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6455-AB1E-4E6D-964C-674665F08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ictory Hym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Jaya H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588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onetic transcription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1840" y="1461960"/>
            <a:ext cx="688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on. Hindi; trans. by Katherine R. Rohrbough, 1958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honetic transcription from the Hindi by I-to Loh, 19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43828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14300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129528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182880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98108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3040" y="2209680"/>
            <a:ext cx="88520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let us see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rant us a v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us a v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27640" y="200484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133720"/>
            <a:ext cx="9144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s and denial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ar Lord, forgiv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ar Lord, forgiv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75248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240" y="1752480"/>
            <a:ext cx="9119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us and keep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in thy strong protectio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safe in thy refug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we will sing thy prais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219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3302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160020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523880"/>
            <a:ext cx="89154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95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288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2209680"/>
            <a:ext cx="883908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re sana muk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ham hain 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Ham hain a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676520"/>
            <a:ext cx="9144000" cy="8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120" y="2133720"/>
            <a:ext cx="87328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 ra no may h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sha nav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sha  nav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600200"/>
            <a:ext cx="9144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133720"/>
            <a:ext cx="883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teri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m hain gat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teri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m hain g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5120" y="1143000"/>
            <a:ext cx="86788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002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152388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1600200"/>
            <a:ext cx="89154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175248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716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7524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8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800" y="1676520"/>
            <a:ext cx="912204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come before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 Great and Hol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reat and Ho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1752480"/>
            <a:ext cx="8915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ow our head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, Great and Ho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reat and Ho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0512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75248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w at thy feet 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bow in quiet rever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en sing thy prais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evermore repeating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1143000"/>
            <a:ext cx="8915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3716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8:47Z</dcterms:modified>
  <cp:revision>21</cp:revision>
  <dc:subject/>
  <dc:title>PowerPoint Presentation</dc:title>
</cp:coreProperties>
</file>