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D44-3E44-4C2D-84EC-AC0EF5F1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B92-917F-44B3-9892-E54B0B60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520-FEE2-4829-AA6D-F5F9667B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69E-DBCF-4176-82AF-0340FE49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2C2-0A02-4FD1-A95A-D69CEE37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B80-E5C7-446F-BA74-7F2A945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1FF-2710-4E75-BC88-EFDC2FA6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590-F1F7-4A67-9D94-D180DF4E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CBB-8512-4B1B-8F1A-474B10A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EDF-BFD9-4941-A304-7D05015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45E-41E2-4A21-907A-5BBE4736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621-1B56-4004-B8DC-57F7C05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52A-07DE-4FC0-AF34-1AE55A5D9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ed be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080" y="1066680"/>
            <a:ext cx="32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Matthew 6:9-13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ill be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as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aily br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giv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respa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forgive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espass agains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u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eliver us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lory 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44Z</dcterms:modified>
  <cp:revision>24</cp:revision>
  <dc:subject/>
  <dc:title>PowerPoint Presentation</dc:title>
</cp:coreProperties>
</file>