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D1B-5CCD-4903-8AD1-7EF097F1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0E6-1BD2-4454-9AE3-DC1EAF35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F28-8DFD-4AEF-A722-52CEAA76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D1B-311F-4C00-8BFC-FA608B67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5AC-8F14-435E-A5B6-159B8C8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671-CBAA-4C36-84C9-502A4A71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5FC-FB9B-45E4-B640-3B9A8F6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F10-E438-4889-9E1B-777A173D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02D-AB8B-4B33-BD15-0BC759D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0D2-CB39-45FA-8AAA-BEDBE726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DD2-DFB0-475D-901E-9F952A5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976-65AA-4105-BDCD-75A478FA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17BF-65D2-4FF5-A156-677E4ED9B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80880"/>
            <a:ext cx="8077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99"/>
                </a:solidFill>
                <a:latin typeface="Times New Roman"/>
              </a:rPr>
              <a:t>On Jordan’s Stormy Banks I Stand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077320" y="304920"/>
            <a:ext cx="10666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 Jordan’s stor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ks I st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ast a wishful e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anaan’s f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ppy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my possessions li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973600" y="11430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amuel Stennett, 178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I shall r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appy pl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be forever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I shall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Father’s f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bosom rest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28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’er all those w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xtended plai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s one eternal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God the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catters night aw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 chilling w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poisonous breath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that healthful sh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ckness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felt and feared no mor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5541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omised la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8:08Z</dcterms:modified>
  <cp:revision>55</cp:revision>
  <dc:subject/>
  <dc:title>PowerPoint Presentation</dc:title>
</cp:coreProperties>
</file>