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737-D7E4-4EB1-8268-B28DBF4C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927-917B-4016-8C51-C3207E4F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9CF-4059-42CE-9978-6376C080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03A-5A08-470E-A5A1-4072DBE0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D34-829F-4D14-8E1E-02F19030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54B-4C6B-411E-AB65-A3D74E01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532-114C-4600-9F86-669E39AC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B19-C115-44FB-86E1-D300D1D3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A1E0-FF2F-4AA1-847A-2BED075F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F4F-6198-47E3-A5B3-BA672C52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E7F-07ED-4863-853A-F2737D3F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434C-60A0-4FDE-8774-407ECCF5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7D2A-09E6-4445-B901-9377F3A0A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Many Na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36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of many na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ed into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mee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, endlessly beco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© 1986 Hope Publishing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8400" y="109224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many na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ed into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ly we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, endlessly becom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sh, hu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,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,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God 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hovering w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b and birth of ti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ly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your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peop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sh, hu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,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,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God 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of Jewish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xodus and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mee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of Miriam and Mos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bbi of the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ly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your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c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ive fore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sh, hu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,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,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God 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of wounded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b and loom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mee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penter of new crea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47:06Z</dcterms:modified>
  <cp:revision>21</cp:revision>
  <dc:subject/>
  <dc:title>PowerPoint Presentation</dc:title>
</cp:coreProperties>
</file>