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99D-CDC4-476C-853A-0DEC5DAA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C8D-8F11-475B-9D9C-E2DB2B2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82F-9B1D-4F66-B4E8-78B8F4A2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96E-81CA-467F-AAFD-1D8C8EE3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36E4-457A-4C33-AC6B-C84C39B2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7ED2-E866-47EB-AA0F-1A7C2140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28EA-19EF-4BF7-9299-0B7659BB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627-6520-4550-B0AF-A475C173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08F9-9F9A-498A-8648-B589D405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9194-A93B-4C85-9EF4-5162D992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004F-0233-4E7E-A8D7-AA339F7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F6F-A867-465B-B5A2-33EF47F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5E8-8812-4089-8FF9-1FC4319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CA23-E67F-4D24-B1C4-7CAB48E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01A2-F363-4543-9CED-114BC71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E5A0-BAA6-4949-A1A9-86A9F49A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4CB6-BBD5-46A0-95BB-2DDBD899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79C-26A3-4A58-B4F8-B31F243D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C62-7C65-4FC1-B829-73CDF8A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D81-EC8F-43DA-A463-6C8E95DB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356-9549-4DE2-B358-42D7CE75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C94-3FC4-47C6-90F9-D71E3B2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676-52D0-471B-B7F0-1FA6CC8A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F80-A257-4FCA-9740-BFFD388A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664-D44B-4388-887D-BBFC585CA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DF09-BA4A-469E-9EDA-D3667FEEB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01800"/>
            <a:ext cx="91440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neighbors we have from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60" y="609480"/>
            <a:ext cx="793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om Colvin, 1969 (Jn. 13:1-17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Kneel at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et of our frien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lently wash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447920"/>
            <a:ext cx="9144000" cy="484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5720" y="990720"/>
            <a:ext cx="491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om Colvin, 1969 (Jn. 13:1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Kneels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of his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lently was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ster who ac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slave to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and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ck and whi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 and far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se are th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ser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are the o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se are neighbo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ving put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kne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as th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l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364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Kneels at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eet of his friend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lently washes their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ster who act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s a slave to th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Kneel a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 of 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lently was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06480"/>
            <a:ext cx="9144000" cy="44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6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. 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ich and po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lack and whit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ighbors a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 and far a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These are the on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ser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se are the on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ov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these ar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us and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Loving puts u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n our kne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erving as thoug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are slave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is is the wa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should live with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541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, Jesu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ll us with your lov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how us how to ser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ighbor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 have from you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08T23:39:06Z</dcterms:modified>
  <cp:revision>23</cp:revision>
  <dc:subject/>
  <dc:title>PowerPoint Presentation</dc:title>
</cp:coreProperties>
</file>