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111-3118-41B1-8E77-CAA354CC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8D7-9B8B-4ECE-B747-4597ACD3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D56-26A2-4DB8-8ABE-05CF4EBA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F77-3183-4798-9F18-BE6E7DF3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BF3-39B1-4B3A-9E54-F8B0E845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244-97B4-4C94-B58B-E187EFA1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379-B452-4AC7-814D-1C3466F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01A-E539-4CC4-A702-1F5D07E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72A-B0E0-4B45-BCF5-340C715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20E-06BC-44F2-8628-DB193F3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46B-1681-4618-8204-C828B2F3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27D-78D5-4F0A-9E4C-471D28B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B6D-3B9F-4F37-91EF-A39AFFD19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Jesus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36232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8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y trial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trials,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hear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ost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75248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’m troubled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’m troubled,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wed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alk with m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3:04:55Z</dcterms:modified>
  <cp:revision>49</cp:revision>
  <dc:subject/>
  <dc:title>PowerPoint Presentation</dc:title>
</cp:coreProperties>
</file>