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14C-DF32-4FC0-BBCD-A284C456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B77-139D-4B6A-B716-5B935690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F5F-0FB0-4250-8AA6-9312EAC2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647-80DC-4E47-B794-EC5BD36E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3AE-8486-4C48-817D-B1DC3083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D6C-370A-474F-ACCD-D90269A0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4EF-84EF-4AC3-A88A-FBBC4214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A97-93CA-4CA7-BD95-8E5668EE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FB7-7998-4CFB-B4A9-0777C78B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1B8-AFF5-4497-BF4C-983B719E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37B-BDE4-40CF-8175-AB8F4E98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EDF-CBA9-481E-897B-4868F759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9F8F-5B6B-422A-B69D-F8C66B740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to the Holy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reat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se breath gives lif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e wor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hose voice 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rd in the soft breez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to the Holy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2880" y="990720"/>
            <a:ext cx="340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Trad. Native American pray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need your streng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wisdom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use us to walk in beaut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us eyes ever to beh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red and purple suns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us wise so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e may underst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at you have taught u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lp us learn the les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have hidd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every leaf and r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 us always read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come to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clean ha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steady ey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hen life fad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ike the fading sunse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spirits may co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you without sh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5:00Z</dcterms:modified>
  <cp:revision>22</cp:revision>
  <dc:subject/>
  <dc:title>PowerPoint Presentation</dc:title>
</cp:coreProperties>
</file>