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B6CD-D706-47CB-8D56-30A071DD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F5B-6748-4F6F-82DB-B11D9F95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B06-08A5-4E73-8212-5A4A3CE9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B23-CAA8-4107-8181-96667FC5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7C7-DCDE-4811-A95E-549845A8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104-416B-418F-AFDF-CAC01D56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2ED-BAC7-440F-B7DD-C5261D90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A97-71B1-421A-8284-041CD504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F15-E97B-4940-8DEB-03844B36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3759-ECBD-4410-A314-CA4A31AA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BC4-2F3B-430B-BB4E-D00A7065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F0B-F559-42E2-A55C-CE2314A6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08BF-F963-47E9-9648-E75998EAC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Day of Resurr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of Damascus; trans. by John Mason Neale, 1862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day of resurrectio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, tell it out abroa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assover of gl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assover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th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arth unto the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hrist h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ught us o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ymns of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ur hearts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from ev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ay see a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n rays et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esurrection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s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acce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hear, so calm and pl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own “All hail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, he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raise the victor str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w let the heav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joyfu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arth the song begi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keep triump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at is there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n and uns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note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ness bl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Chris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hath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joy that hath no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5:42Z</dcterms:modified>
  <cp:revision>60</cp:revision>
  <dc:subject/>
  <dc:title>PowerPoint Presentation</dc:title>
</cp:coreProperties>
</file>