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D03-20BE-4365-8E99-14235FE8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2F1-382D-4867-8E2F-C420AD1C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605-A3A0-4353-BA45-E5926348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5AD-5AC8-4E6A-8256-85C7CFDC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CD2B-A56F-42F5-AF9E-3077EEDD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B6B-03AD-4B5C-9CC6-94CFE8FC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A07-3A86-4F2E-A138-24D71177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9B2-93D7-449A-8AFA-0BDB0AC7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A72-92E7-48E5-8F7C-02B64E25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7B8-6837-42C2-897E-EF9A3B4A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7A4B-A1D6-4076-AE51-A3DB092C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63B-5FED-459B-B8D4-03C22125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4C34-60B7-415E-83B4-45BFBF1AC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ill Trust in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 (Ps. 37: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I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1:15Z</dcterms:modified>
  <cp:revision>160</cp:revision>
  <dc:subject/>
  <dc:title>PowerPoint Presentation</dc:title>
</cp:coreProperties>
</file>