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4D9-C076-4EA9-B533-24297A82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7E0-A1BE-413C-9E4E-777E0E4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79B-17A0-48CD-8184-7AC69586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35D-4979-4737-A63A-B9BD5995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C30-0C42-4E3A-BBD8-027497A8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AA5A-0769-44A3-BC3D-6CC719B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8E7-CD56-4CFC-89D0-30E0D7B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5E4C-09BD-4ECD-B9C3-A9AD14C6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12D-6698-4B5C-AD01-EA37042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65DD-AE2B-4EBA-B13F-DAB71089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EF47-223B-4562-8297-37A4F42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C7D-DA9D-4BA9-9E8C-272C439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31FA-59C0-44CB-9844-2FFA66F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948-0983-40B5-B57D-619841F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36B2-A22A-455A-8071-25FE455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59F-7ADC-4308-B4CD-A5FEB40C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EFA8-724A-466F-8004-AE8061DD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3F7-3D4D-47E9-A211-A163A86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CC2-5840-4ECD-AE41-F246F697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8C1-3EF0-4DDD-B698-A40AAD4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1CE-0E8E-4D02-8816-D66524D7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0B7-4D49-4728-A8AC-B5DE023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FC3-BC35-4EF9-B84C-D610E3E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4DE-FD14-4464-91E0-5FBAFD2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F1C5-39E5-4F8B-9092-0A45E25A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64C8-CE56-464A-B1CA-4FB679A3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1440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6200" y="68580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80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652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820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432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1452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6504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5280"/>
            <a:ext cx="9144000" cy="467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5:39:23Z</dcterms:modified>
  <cp:revision>36</cp:revision>
  <dc:subject/>
  <dc:title>PowerPoint Presentation</dc:title>
</cp:coreProperties>
</file>