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775-F472-4104-88CF-66CCA3D6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00B-6485-494C-A736-AFB51BF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664-9D61-4CB2-94EF-09EEC35A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F71-9FF3-4E07-B727-B9BF9F0F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2A5-E228-4154-98E3-51AD284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41D-8917-4185-BFCA-11C8B24D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E02-CE34-482B-84ED-BCF69DEB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77E-FF79-4E79-A7ED-0C002FB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430-8B56-4758-BDB4-2B082C6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FC4-F99D-4EA2-8356-64A96E3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B08-5013-4C13-99C3-F1893F7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EA0-7121-48B1-A465-DBEBF1F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3B8A-373F-496D-A37B-13705A41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d You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73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Send your Wor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r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down upon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 endless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7 The Hymnal Committee of the United Church of Christ in Jap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480" y="10922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Yasushige Imakoma, 1965; trans. by Nobuaki Hanaoka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ul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nger and thi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rrow and agoniz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ould 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your guiding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wing down up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rou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nes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ects all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y persist and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plete vic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us all free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d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gently upon the hill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 end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if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ffers in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dversities and hu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long for your new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34Z</dcterms:modified>
  <cp:revision>45</cp:revision>
  <dc:subject/>
  <dc:title>PowerPoint Presentation</dc:title>
</cp:coreProperties>
</file>