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1ACE-805B-4512-9CC2-48BC469C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EBD-9DDD-471D-8073-32E23707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70C5-50C2-4C15-BF17-788887A6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40A1-A2D2-40B7-B78F-45070182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4FE-CD89-42CD-9BB3-82169B31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A77-A17B-47FA-A779-CB624477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C6FB-C402-4406-A97C-E9D44AD5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A25-2D52-47D8-B4D8-A9D96B66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FD3-495D-4B5F-BC23-2AB71909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8AE-407D-40B2-AEF1-AA78AF41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2BB9-04A8-40D3-95A7-C2823B6B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0D40-9A3B-4D6F-829B-EE6E21EB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C0A9-9D90-40F3-B36B-52B1807AE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Master, See,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Time Has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y Master,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ime has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rvant lea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By permission of A. P. Watt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Master, See, the Time Has 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86520" y="1638360"/>
            <a:ext cx="23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uke 2:29-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o in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ng waited f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fulfil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I have s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lvation,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a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le world se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Master, See, the Time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light whic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Israel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ast enligh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47:43Z</dcterms:modified>
  <cp:revision>71</cp:revision>
  <dc:subject/>
  <dc:title>PowerPoint Presentation</dc:title>
</cp:coreProperties>
</file>