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CD7-50C3-4184-B5C2-3AA5E290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893-D868-40DB-ADA9-0F1AAE4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7CD-28CA-4DD1-9829-23083F3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AFC-7369-43DE-B4D6-ECB39D9B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A92-F637-4C50-A3E7-E183B93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CB8-BCCA-4FE0-B3F0-9467FBE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C75-D92C-4F77-97A5-D2B2E100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C33-997B-4908-AF1D-544B4684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432-CCB9-4514-8305-AF152E3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841-29D7-47F1-95EA-A1A8CFB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AC8-4E94-412F-A7FF-E49980E6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DEC-5D2B-46C2-AF3D-AB77C86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523-1CA8-4EC9-BE0A-EDFA32293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Our Friend and Br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by Mennonite Leaders’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Our Friend and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6160" y="109044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Ova’hehe; trans. by David Graber and others, 1982 (Jn. 15:14-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ge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alls u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1:03Z</dcterms:modified>
  <cp:revision>16</cp:revision>
  <dc:subject/>
  <dc:title>PowerPoint Presentation</dc:title>
</cp:coreProperties>
</file>