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2FB-5F1B-4E03-9839-3F58A49D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8EB-5253-4E83-961B-97F63071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48E-FB9B-4DAA-904B-87CB0036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078-511F-4BB0-B995-01FE192A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DEC-939D-45EB-9706-930DCD37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3EB-A87A-4E7D-A17E-DC860E91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69F-EA62-4A00-AB22-645D2D08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D0D-1BAF-47A5-8E45-EE22CF31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BCD-D592-41D1-8762-67151B81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522-810C-4740-99BE-90B96B26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8FB-E0D7-4877-85C5-59A3DB8C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34A-D3B4-4B5F-B74F-3D77C2EB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EFAD-723D-49B4-92AE-CBB7B88FC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A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ian Wren, 1968, al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 is ali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Christians s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ross stands emp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earth and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eation 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joy, with just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streets and ho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raises 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 shall n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hrist is ali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longer b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istant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Palest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comes to 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re and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wel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place and t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throned a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motely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uched, unm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uman p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daily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idst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avior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odhead reig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every insu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ft, and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color, sc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ealth divi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suffer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loves the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ives,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hrist is a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mes to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news to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 ag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5:13Z</dcterms:modified>
  <cp:revision>76</cp:revision>
  <dc:subject/>
  <dc:title>PowerPoint Presentation</dc:title>
</cp:coreProperties>
</file>