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43F-9ACE-447A-804E-516F0D3A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420-1FA5-4062-A79B-73AD0EB6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F2F-F227-4BC8-8A1D-AEE657CC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ED0-A2F0-45C8-B55F-9D324431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313-821B-415F-8240-BFD39C0A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946-D7F6-4E15-9E33-E2A2F9FB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5CE-F590-47AD-8E7E-98E4D474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B2C-27AA-4C97-8C8B-3FEFA626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8AA-0C70-48BA-B256-FC9E54A5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4D9-60F0-4DD0-9C13-EACBB9AA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FC6-14A3-4D6F-B8C4-F549216B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949-F0FA-4B70-B3C6-A4005083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0FF8-86DD-4AAB-9DF9-EE081EE2D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Hope Is Buil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y hope is b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nothing 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Jesus’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ighteousness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953080" y="1168560"/>
            <a:ext cx="32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Mote, 183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he sha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rumpet s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I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m be found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ssed 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ness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ultless to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throne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are not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weetest fr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olly le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Jesus’ nam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darkness ve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ovel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o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hanging gr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ormy ga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anchor ho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e veil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026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is oath, his coven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pport m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elming floo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ll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gives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hen i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ope and st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26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inking s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0:55:49Z</dcterms:modified>
  <cp:revision>21</cp:revision>
  <dc:subject/>
  <dc:title>PowerPoint Presentation</dc:title>
</cp:coreProperties>
</file>