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8B7-08A1-4159-BA63-2D39BAF4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991-A68C-4EBE-99BC-45471286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D3D-20B3-4F50-B84C-F25DDDB8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9F2-04FB-4EBB-AB03-3C32F1B5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DE8-2AE4-428D-84DB-BB40978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636-ACB1-44F7-88E5-8D8614F3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F40-C376-47BC-9E51-83373C3A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77F-2A0E-4C9A-B0CD-E88A9FE9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B2C-374F-47DF-80CF-11014B3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20A-C0C4-4F98-9723-D839CA9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75D-D174-4C98-A9A7-70931D6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094-1B0D-48E9-914A-7A210A5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3F9F-BBF9-44F9-9920-9D63370A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Day 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ohn of Damascus; trans. by John Mason Neale, 1862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day of resurrec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, tell it out abroa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lad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assover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th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arth unto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Christ h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ought us ov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ymns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ur hearts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e may see a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n rays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resurrectio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ste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his accen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hear, so calm and p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own “All hail!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, hea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aise the victor s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ow let the heav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joyfu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arth the song begi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 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ld keep triump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at is there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n and unse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note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ness bl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Christ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rd hath ris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joy that hath no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55:42Z</dcterms:modified>
  <cp:revision>60</cp:revision>
  <dc:subject/>
  <dc:title>PowerPoint Presentation</dc:title>
</cp:coreProperties>
</file>