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E99-5A6F-40E0-B5FC-DD3A1994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ADF-53D0-4888-99D2-58C458A8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06C-6375-4197-A2C5-6E0BA0C8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572-2C69-485B-B66E-8D268FA4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FFCB-752A-4D31-83B0-1DBFF91C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47D4-259A-42D2-84C5-61E02671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0485-1422-4015-8616-69E5B004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6E20-7EC6-4A4C-9768-4BA3F97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2CC2-1879-46FA-949F-57845345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983A-C379-4BE3-8758-5B18FC20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9C2B-E9E5-4299-9E21-3B546324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D09-F1D6-46E1-A6BD-7345D4DA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9DCE-ED55-4E18-BF32-76D192B5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BE65-C761-4FEB-9FC3-568F4298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F015-EA31-4B06-B52F-BDD264BB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9978-4535-4656-9DC3-7646B7DA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62D7-EFE6-4502-A3E3-F872FEB4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D9E-0644-4E56-8199-94C21E6C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F56-49F6-47CA-AE59-28A0CEB7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12F-8AD8-46A1-957D-C501F348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EE3-C056-4BBD-9AAA-610D4735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01A-2FA4-44C5-B58A-553C9365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3B4-AC60-422A-A7D7-B3E6C8EB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8AA-3F9D-48EC-ABAE-C05C0302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CDDB-38D9-441C-8079-1EFBD5ABC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2EAE-1C52-4AE8-A4E9-6F7FD85CA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e Now of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sing we her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grateful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babe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47080" y="1092240"/>
            <a:ext cx="56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French carol (Lk. 2:8-20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e Now of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7366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Sing we now of Christma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el, sing we here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r our grateful pra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he babe so d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7080" y="1092240"/>
            <a:ext cx="56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French carol (Lk. 2:8-20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Angels call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shepherd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“Leave your flocks at r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ourney fo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nd the child so blest.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ound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seph and Mar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ted by the m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the holy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667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From the eastern count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me the kings af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ring gif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uided by a st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699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Gold and myrr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y took the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fts of greatest pric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was nev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stable so like paradis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ngels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eave your flocks at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urney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the child so blest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ound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seph and Mar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ted by the m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the holy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stern coun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he kings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ing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d by a s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old and myrr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took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of greatest pr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was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ike parad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9T03:51:46Z</dcterms:modified>
  <cp:revision>12</cp:revision>
  <dc:subject/>
  <dc:title>PowerPoint Presentation</dc:title>
</cp:coreProperties>
</file>