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57D6-21CB-43D0-A858-A3C0A544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759E-68E3-4F08-ADCD-B74B1E02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F2B4-4AA7-4D2B-9308-FA14EC00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7F1-CE11-4476-80BF-AA86A6B0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CC34-2338-4F7B-B8C7-D52D67FA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74E1-8F23-460D-A1A2-1DF3F48B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166-83F6-4D80-972A-392A7D37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5893-A07A-4F3D-801D-39C23413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7A4F-1E03-49AC-8C15-40766358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FEE1-1D92-4E6E-A2DB-DE2650B5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03D-64D3-4CCA-AC5D-2C855158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04A-1D0E-4AFB-9480-7CBD41E7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FD9E-C88E-453B-AA8A-169858232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he Bread Whic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 Have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For the bread whic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have broke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the wine whic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have poured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Louis F. Benson, 1924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you have sp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e give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ks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By this pledg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you do love 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y your gift of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eace restored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aven abo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 all our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With our saint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nes in glor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eated at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avenly board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he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waiting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love’s t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broken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In your servic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rd, defend 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our heart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keep watch and wa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world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have sent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your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30:08Z</dcterms:modified>
  <cp:revision>118</cp:revision>
  <dc:subject/>
  <dc:title>PowerPoint Presentation</dc:title>
</cp:coreProperties>
</file>