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7FB-CE39-403D-8185-C06BF226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0B0-B5FE-4D20-891E-ADCA6A0C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EC4-EDAA-4D46-8F6B-3ED3D13F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105-C849-4271-8BBE-C434C451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72D-C8DF-415A-91E9-E5AF096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064-19C6-462B-AC88-5187F3CF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DA6-EA7E-4EA2-BBA2-B5AC5826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BB4-3FCE-4A8A-8B94-ED01301E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724-9E05-48C3-9988-94ECEF11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0C2-90C4-4D6C-A12A-A57E88F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F21-24FF-489A-ADD3-4E4A460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F37-E173-4B67-928D-236B90CA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DCB-D962-402A-8A84-6D0254086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w-Kee, Aim Daw-Tsi-Taw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Great Spirit, Now I Pr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404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 hea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5:12Z</dcterms:modified>
  <cp:revision>90</cp:revision>
  <dc:subject/>
  <dc:title>PowerPoint Presentation</dc:title>
</cp:coreProperties>
</file>