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3CD-5460-4839-8ADB-2D452AFC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159-7DC4-4917-8C5A-5CEC14EB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914-89B1-4D17-9791-E096FE17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C18-A206-4FF9-A8DB-5B746ECC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522-519C-4CFF-ACE8-9AC24163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263-A492-43FF-8E6F-CA9D7E95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821-45DD-44B2-B2D9-C38E967A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4F5-17D1-400E-9EAF-1B87F67A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997-5C6F-4738-8275-59B908BF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4ED-5C07-497E-9E8A-352AEC08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798-25C5-4B8F-A9CF-CA4B5462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8CC-2E93-4682-BA0E-41A01C5D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CC24-36EB-423A-950A-E8B84C8D3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Old Rugged Cros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n a hill far aw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ood an old rugged cros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emblem of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uffering and shame;</a:t>
            </a:r>
            <a:endParaRPr b="1" lang="en-US" sz="4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943280" y="1244520"/>
            <a:ext cx="52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Bennard, 1913 (1 Cor. 1:22-25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’twa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ld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uffered and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 m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5238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 the old rugged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 be tr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ha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roach gladly bear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he’ll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som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y home far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i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I’ll shar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12952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love that old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dea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 world of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 was slai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2952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spised by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a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traction for m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b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ft his glory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ark Calvary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the  old rugged cross,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I lay dow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44792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day for a crow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ined with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y I se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6T15:38:08Z</dcterms:modified>
  <cp:revision>18</cp:revision>
  <dc:subject/>
  <dc:title>PowerPoint Presentation</dc:title>
</cp:coreProperties>
</file>