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B16-E03E-4A76-A48B-97053733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D2E-4773-4C82-92AC-86EAC673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C5A-2C62-41A8-99F8-0C0E71E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3D8-1B89-4A50-812F-C12DD7D2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82F-A967-4277-8183-BC68DE0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8A1-B23A-4A70-855E-EE5BC89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1DF-34E1-4839-B38F-DA268DE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FDE-BC6D-47CF-942C-E1374BF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BC5-2438-4D0D-AC17-04D599F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CCB-8C99-405D-862E-D11842AF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A30-41E5-4B4E-82C7-98F0FFD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019-1158-4954-9E83-9803D81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0827-D5CB-4F3D-845A-46171001A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rucified Redee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fe-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sp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Community of Resurrection,  Mirfield,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7800" y="990720"/>
            <a:ext cx="361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Rees, 19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y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come in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you we rais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guilty h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umb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wn our guil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we see your passio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open to our gaz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ded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Calvary displ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hea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f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outpour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attlef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 red with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eighbors’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ight is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i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rn-crowned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ro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ung ou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uis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llio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eak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mb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04Z</dcterms:modified>
  <cp:revision>15</cp:revision>
  <dc:subject/>
  <dc:title>PowerPoint Presentation</dc:title>
</cp:coreProperties>
</file>