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53E-29B8-4129-AB5F-AD32CA0B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150-4BB2-4D2A-B31D-DB85B09D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6E6-5C63-4117-9655-B3840931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7C6-B1E3-4466-B337-ACA0370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FC7-ACCA-4891-99CF-21B1477A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A4F-6478-44E1-A00A-E69A5F1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4F2-6D1E-4003-AB35-7D74C95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77B-F328-420C-8BE2-8989F9B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A07-DD6D-4D67-BB38-FC56BC3C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C2E-33FE-4AB2-B185-FD1D5A0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71A-A4D2-4BFA-A05A-0E6ABBC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A5D-D3A0-40C2-B56B-3977877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DDE7-2413-495D-92B3-C51326F1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Sinners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sinners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ins on earth forgiven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m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show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nscribed in heave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8520" y="10666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we have felt and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fidence we t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gns infalli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ho in Christ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for us hath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his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rece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his blood appl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by his Spirit p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e thing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hings which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th on us best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 meek and lowl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Savior w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that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th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ns us with his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ur nature’s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formed in all its pow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es are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of God with 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30Z</dcterms:modified>
  <cp:revision>23</cp:revision>
  <dc:subject/>
  <dc:title>PowerPoint Presentation</dc:title>
</cp:coreProperties>
</file>