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D30-4509-4D5E-B43A-6FB25DDD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45F-7A7D-4C2D-85A7-95F7CA58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A73-7E5F-4884-BAED-ECB1ACF2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4A9-6ECC-4260-88C7-836E11F7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A911-EAFF-45FC-B7F7-3E5612E4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7261-6D2A-4BD1-80EA-8A74CC7C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170-3107-499E-A55B-1B0775E6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5C3-2AC1-4211-9D8F-021CF062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D89B-5635-4E2B-9A38-21A0A6B0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49C4-CC59-4342-BAAC-4C59C1FD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6270-56BD-454C-9DEF-90C9B8A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9AC-AA86-43C7-9D06-E1E7E5EF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2866-C76D-443D-9C0E-7804556D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BBE5-6C32-4989-8D96-E5476603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39BD-2A7D-49E6-911D-13A9C14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95A-9244-42C4-B2C4-C627F9B2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31DD-5C58-4BBF-8BA4-A9659B4E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A69-AF48-463D-A368-32366C79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A5A-271D-4A0D-95ED-52D155DA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FFA-79F7-4D34-B509-8D0EF933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C95-C7A5-4A4A-AD0A-921CFDB0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9BD-57CF-42EB-B1B4-629EA34F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BFA-535D-49A5-A003-FAA9F745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4A0-8A86-497C-B551-7A01004B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387-77C4-48F6-BDB0-6C296511C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BA0D-F193-4B12-8371-5EC2601B3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2680" y="63972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2680" y="63972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2680" y="106668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19T15:37:12Z</dcterms:modified>
  <cp:revision>19</cp:revision>
  <dc:subject/>
  <dc:title>PowerPoint Presentation</dc:title>
</cp:coreProperties>
</file>