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071-F80B-44C4-969F-6DA675A8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72F-2444-4DA2-B677-A4437F5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AC4-3DA7-4AC9-A51B-37FDA3A7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A16-AA17-40ED-BE94-725074B4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5A9-F180-4C7A-8B77-F3F20D5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D90-1C43-4CE1-A344-FF17643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B55-44C5-4C86-A7A1-47BC3202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D4B-F812-4870-8C43-35181091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41B-7CB4-4B4E-B0B7-E217BEB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65E-C99F-4B20-A11B-F79C7A46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B1A-5316-41A7-A8C8-C8EFD70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53C-AFC8-4577-96AB-AB11EBD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20E6-523D-415B-9E04-6A991BEF9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 in God’s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,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8480" y="11430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aith in acqu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bit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epth of ad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lp 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 march with ev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them God’s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need to withd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tter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 carry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ld is their pa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urpose is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 in thos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praised and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someone’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houlder thei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hame our compla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forts, our car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patience in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rage, is thei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, in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prove it is tru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 of self-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ads us 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3:05Z</dcterms:modified>
  <cp:revision>51</cp:revision>
  <dc:subject/>
  <dc:title>PowerPoint Presentation</dc:title>
</cp:coreProperties>
</file>