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404-145C-4B98-9179-21DC3958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634-2767-4F3E-A115-F52B4219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53D-1432-44D2-AFC4-17D6598E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587-0CAB-4EF9-8486-62F7FFB7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3D9A-D888-43E4-B5D4-975F464A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E64F-9825-4DA4-A678-5B7C23DD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6136-58B1-4932-89D3-AA45D491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1FD7-8124-4BA3-A3BD-0E6EEA74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15F1-A2CA-4776-B1FF-5F6867DC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723E-140E-4F2A-A2AA-8DCC1D47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3911-17EE-4FDA-B026-99C6B13F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099-0D2B-47F6-B6A3-8BDC8DCB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6A77-E369-4C2F-91E6-23278278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EC30-CD83-4796-9AC0-1C724167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D1AE-EE1D-4331-B014-273F260B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80B-3C71-47EF-A378-D1747C89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0E57-7822-4388-83B9-1F339DFE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BA6-281C-42B1-933A-71E3AA9E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898-9773-41E0-A50E-86BB6136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FD3-1D20-4965-9CAE-3BD99685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441-660E-4357-8D5A-5AFB1809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88E-1F98-476B-BA69-C9BD532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EB4-651A-429A-90C3-332D563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4C0-8258-4913-9437-05ADF3D2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AC38-6EAA-4804-8B38-E5837F684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5948-5A57-4EB2-BAA4-6CD707EF9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the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or all the sai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their labors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e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world conf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2760" y="1143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W. How, 1864 (Heb. 12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952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are b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, and arms are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From earth’s wide bou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cean’s farthest c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gates of pear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60020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to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Holy G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644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the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93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For all the sai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from their labors re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thee by fa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fore the world confe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2760" y="6858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W. How, 1864 (Heb. 12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forever blest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hou wast their rock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 fortr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ir migh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ou, Lord, their capta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well-fought figh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335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i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r, their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may thy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, true, and b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ght as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obly fought of ol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 with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’s crown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47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forever blest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nd when the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ier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rfare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s on the 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istant triumph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335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are b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, and arms are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From earth’s wide bou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cean’s farthest c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gates of pear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094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to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Holy G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 wast their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or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ir m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, their cap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ell-fought f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47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i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r, their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may thy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, true, and b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ght as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obly fought of ol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38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 with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’s crown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38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nd when the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ier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rfare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s on the 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istant triumph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03T00:22:24Z</dcterms:modified>
  <cp:revision>55</cp:revision>
  <dc:subject/>
  <dc:title>PowerPoint Presentation</dc:title>
</cp:coreProperties>
</file>