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B7EB-CF30-4E35-836A-F6822636E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E7FF-DC61-42EE-B9FE-B7E825BC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65A3-229F-481D-AF24-BADCD55DF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0DC3-8DF1-4644-81EB-DD85184FC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FD08-6547-4DBC-9A6F-57784339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0011-58EF-4315-895A-ADE5F3C9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CCC5-413E-4D21-A412-15CE1D02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A9AC-6884-4A86-98A5-3C9AA8EA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75E4-CCC5-44C4-8172-F655457B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9098-7116-478C-8DF8-D874EB9B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E701-406C-498E-B289-EA322C35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13C2-39A5-4C3F-AAA4-439956DE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409C-D8BA-49EC-A7E2-F0448A333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i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ño Lindo</a:t>
            </a:r>
            <a:br>
              <a:rPr sz="4000"/>
            </a:b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Child So Lovel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25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 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 Lind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520" y="1523880"/>
            <a:ext cx="60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Trad. Venezuelan; trans. by George Lockwood, 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Adiós, tierno infan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iós, niño, adió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iós, dulce aman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adiós, dulce, aman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adiós, niño, adió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 Li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87360"/>
            <a:ext cx="9144000" cy="39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 Lind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287360"/>
            <a:ext cx="9144000" cy="39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my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You h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’s beau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od’s puri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ealing my devo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ealing my affec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ealing all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287360"/>
            <a:ext cx="9144000" cy="39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my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All my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dar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my soul, as we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is what I off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fer joyous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lling at your fe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287360"/>
            <a:ext cx="9144000" cy="39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my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Adiós, tender bab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iós, child, adió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iós, sweet belov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iós, sweet belov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iós, child, adió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287360"/>
            <a:ext cx="9144000" cy="39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my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Esa tu hermosura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e tu cand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l alma me rob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l alma me rob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 roba el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 Li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287360"/>
            <a:ext cx="9144000" cy="39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 Lind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La vida, bien mí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el alma tambié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 ofrezco, gustos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 ofrezco, gustos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ndido a tus p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 Li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287360"/>
            <a:ext cx="9144000" cy="39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 Lind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46:52Z</dcterms:modified>
  <cp:revision>69</cp:revision>
  <dc:subject/>
  <dc:title>PowerPoint Presentation</dc:title>
</cp:coreProperties>
</file>