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CFF-0EE0-4E99-8C3F-7BF05104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F91-88F0-4598-8093-9A15523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958-2256-4680-8C6A-7A86F220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820-1B5F-4F06-AE6B-0B29A8DE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7673-4E23-408F-A097-7F2CF3F8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11AD-B1A7-4651-A2A2-71E339E6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B19B-714F-4434-AC40-BE10FC1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081D-FFCB-45AA-9F99-17937613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6C3F-F1BF-48BA-90FB-7F409251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0DA0-0B7F-4BA6-AD66-3F3AB0EA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4EF5-858F-4065-AA15-A5CD159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A0F-9345-415F-A02F-B2AEADC0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D7C5-CF92-445C-A121-BB905C7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37C-2BBA-40D6-96C2-ADEF988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A8B-F256-483F-BBC5-3BD17F30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9FDA-F791-4480-92C6-EAB0FCD2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3CBC-3F16-494E-9F85-918725CE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F68-BE80-43AF-9FE6-CCC90609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049-E0AD-401D-9346-2F8827B5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1EB-7C5B-43E5-9797-D4AA5FD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BB7-546F-44B3-8160-F0A90F5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0A1-F56C-4E22-84D9-D2F684B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C86-43DC-45E3-AEEC-B27DFB3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928-11A1-4F80-836B-8CE4781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9A08-0FD4-413F-901A-D709A5407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DB32-D706-481A-B10E-01A45F490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beautif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go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my confus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understo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6360" y="838080"/>
            <a:ext cx="58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, 1971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1337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beautiful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omething goo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my confus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 understoo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080" y="101592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loria Gaither, 197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25T01:14:55Z</dcterms:modified>
  <cp:revision>16</cp:revision>
  <dc:subject/>
  <dc:title>PowerPoint Presentation</dc:title>
</cp:coreProperties>
</file>