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C3E-63BB-4115-BC83-536D52F4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9C5-5C6F-4E09-BDDD-FC876B8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787-3141-4C41-8561-ADA70985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78E-9002-446F-AA1C-51E91DD3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707-5915-40CB-AD22-19D31D0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F40-75C4-4863-A714-7EB9BC73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465-D38D-4340-ACC8-CBBD8F50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FD7-D02B-4869-9047-CE45107A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4AA-B06A-42C8-96C9-6F8BBC24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967-7F41-472B-8052-E9EBF23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8F3-EBF4-4FEA-9459-715E960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401-9EDD-4CC9-B8F6-752F4CE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0E1-87D1-4A79-B58B-73F5A20C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01T21:42:30Z</dcterms:modified>
  <cp:revision>53</cp:revision>
  <dc:subject/>
  <dc:title>PowerPoint Presentation</dc:title>
</cp:coreProperties>
</file>