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76A-E007-4588-BCCD-9EAB1A6D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D19-E032-4DEE-8949-1246933F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71C-34E5-404E-B368-3EC252DC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6EB-4844-40F4-8FEB-746EC67B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C5D-CEC1-4E1B-AC55-925EB01D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0A7-2FF3-453C-8727-0D3F7945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3BB-1C7A-4B89-9B53-EC6DDD39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72E-2C00-44D4-9EC3-C683D665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584-B9FE-431F-8A10-1721B2D2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BC1-CCC3-4EAF-B5E9-AA7A520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7D3-FDF7-4611-AE63-D4F02BB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362-405C-4C56-B97F-E6479DF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FA59-5F22-4969-B8B8-3C37B9E01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se to Greet the S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to greet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dening in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rior-like and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ly as a gr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5 Bliss W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0480" y="1143000"/>
            <a:ext cx="80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zu-ch’en, Chao, 1931; trans. by Mildred A. Wiant and Bliss Wiant, 194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ds pass high in f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agrant flowers now bloo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iou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y toil resu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ather, I im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keep this chi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my conduct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tions calm and mil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erating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y teaching yo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serv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ing thy rich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ay this day be bl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ing Jesus’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’s freed from 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blue sky’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for cotton co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in food satisfi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countless nee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kind hand su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1:46Z</dcterms:modified>
  <cp:revision>14</cp:revision>
  <dc:subject/>
  <dc:title>PowerPoint Presentation</dc:title>
</cp:coreProperties>
</file>