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0FB0-8A08-4160-B5B1-A1678AE2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5114-6145-4FA1-8D1D-FBFE217A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23F-950E-42DA-990D-A04DC53C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E099-9A66-4A7D-8AC6-A1E9E214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3AB7-5B18-4162-A0AE-1C7A3C2B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7D65-D118-485A-802D-49F7C5E5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B11C-5500-443C-81D4-C2955D11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7798-E96B-4757-B291-4D08CD9D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AE9B-7252-47B4-9D93-5C1CBB04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318A-55F7-4754-8F90-8395E001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C75D-8413-4F31-9E52-C0110502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B29C-E86D-46F9-9D52-98F9A4D7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1D16-6EE8-4917-8FD4-A56CF45F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D9B6-B726-4C21-B07A-D2FC3F5F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1618-74E1-4F84-BB4C-D797F046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D752-A12D-4D01-928A-B99B2865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9172-9440-48C1-8941-719ED111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2EFA-47C5-47BB-9B00-23DA09A7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C60E-EB6D-41FD-90F1-D1C9308B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66B5-F6AA-4B62-8959-9D26E3E3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29D5-BA0A-4A98-987A-3520BB04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433-FACB-4AB4-AF3A-0B42445A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C6ED-D8B1-4CE0-94C0-DA21A716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5BB6-DFFF-4441-B7FD-AFCCEA3B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D332-FF9D-4F0D-AA6A-0B061093F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C700-E084-4D22-BC5B-712FC0110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522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on and Very So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676520"/>
            <a:ext cx="914400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1. Soon and very soon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we are going to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n and Very So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52920" y="838080"/>
            <a:ext cx="5439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ndra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é Crouch, 1978 (Rev. 21:3-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© 1978 Communiqué Music, Inc. &amp; Crouch Music Co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 dying ther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 the K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! 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going to see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522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 more crying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llelujah!)          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 crying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e are go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n and Very So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 crying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 the K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! 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going to see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808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on and Very So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86000"/>
            <a:ext cx="9144000" cy="388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oon and very so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8 Communiq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 Music, Inc. &amp; Crouch Music Cor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n and Very So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73480" y="1143000"/>
            <a:ext cx="43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ndra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é Crouch, 1978 (Rev. 21:3-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28600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on and very so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on and very so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 the K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! 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going to see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905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o more dying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n and Very So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8600" y="1905120"/>
            <a:ext cx="89154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 dying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e are go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 dying ther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 the K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! 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going to see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905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 more crying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n and Very So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oon and very so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e are going to see the King;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Hallelujah!)               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oon and very so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e are going to see the King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allelujah! Hallelujah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e’re going to see the K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" y="2286000"/>
            <a:ext cx="8686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 crying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e are go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 crying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 the K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! 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going to see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. No more dying ther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are going to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Hallelujah!)       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o more dying ther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we are going to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n and Very So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o more dying there,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are go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see the King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allelujah! Hallelujah!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’re going to see the King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 No more crying ther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are going to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Hallelujah!)      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o more crying ther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we are going to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n and Very So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1276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o more crying ther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are go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see the King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allelujah! Hallelujah!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’re going to see the King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522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on and Very So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905120"/>
            <a:ext cx="9144000" cy="304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oon and very so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n and Very So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52920" y="838080"/>
            <a:ext cx="5439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ndra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é Crouch, 1978 (Rev. 21:3-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© 1978 Communiqué Music, Inc. &amp; Crouch Music Co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soon and very soon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we are going to see the King;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(Hallelujah!)                                 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soon and very soon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we are going to see the King.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Hallelujah! Hallelujah!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We’re going to see the King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522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o more dying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llelujah!)           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 dying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e are go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n and Very So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5-02T00:50:23Z</dcterms:modified>
  <cp:revision>51</cp:revision>
  <dc:subject/>
  <dc:title>PowerPoint Presentation</dc:title>
</cp:coreProperties>
</file>