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BB1-F1B1-481D-97C2-6A2D7F8F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9EC8-28CB-42FE-86BE-60908C33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2757-7A4F-4CD5-8F49-7E3DC73F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8B9-34B4-4DE9-9789-F425D421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54BC-9683-41A5-B5CE-BA666198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61D3-1DAF-42BE-ADBF-687791F8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6C39-AB39-4194-9E55-6D66E807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610E-7BA6-4FE9-8317-06CDAB70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988B-330D-4C26-B45E-1E42E876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CC89-E7F7-4625-A593-8291BFAA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D8A4-E654-4C26-B13B-EE95E417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DD5F-9BCD-42F6-9901-DB30D5A3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B513-276A-4C02-B747-E289633A4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ne Be the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e Be The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Edmond L. Budry, 1904; trans. by R. Birch Hoyle, 192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ine be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n, conquering S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less is the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o’er death hast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by permission of The World Student Christian Fe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in bright rai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lled the stone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pt the folded grave-cloth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y body l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be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n, conquering S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less is the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o’er death hast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e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o! Jesus meets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n from the tomb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ly he greets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atters fear and glo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e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church with gla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ymns of triumph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ur Lord now live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hath lost its st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be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n, conquering S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less is the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o’er death hast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e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 more we doubt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ous Prince of lif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is na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out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id us in our str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e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us 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 conquero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y deathles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us safe through Jord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home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be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n, conquering S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less is the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o’er death hast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e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06:38Z</dcterms:modified>
  <cp:revision>64</cp:revision>
  <dc:subject/>
  <dc:title>PowerPoint Presentation</dc:title>
</cp:coreProperties>
</file>