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0A17-7E43-4F79-9B62-94F69C808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C28F-2FE1-48DC-843D-357BB55F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A6EC-07F9-4F76-9D96-A105B12DD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B6E-E467-404B-A65A-79FD2DC1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ABAA-9D47-4107-90CE-81D0B7AE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7974-32A8-4B1B-9A23-7C4B8DC4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1B72-5342-4E3C-814F-74C38F5D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9EAF-C063-4413-A3D8-D70BD857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CF22-7E80-4138-84A3-8E4253D8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AAB0-05BF-4C17-AEA5-A9A42F2D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3391-9D10-45E6-89FA-77C1A485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98FA-32C0-4F0D-BCE3-863293C6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CF5C-712E-41DE-A640-EFE79789B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Glory, Laud, and Hon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lory, laud, and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, Redeemer,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hom the lips of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sweet hosannas 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440" y="1066680"/>
            <a:ext cx="908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heodulph of Orleans, 8-9th cent.; trans. by John Mason Neale,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851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Mt. 21:8-9; Mk. 11:8-10; Lk. 19:36-38; Jn. 12:12-1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ou didst accep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prais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cept the prayers we br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in all good delight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goo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ious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lory, laud, and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, Redeemer,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hom the lips of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sweet hosannas 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ou art the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Isra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David’s royal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in the Lor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 com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and Blessed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lory, laud, and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, Redeemer,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hom the lips of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sweet hosannas 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 company of ange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prai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 with all cre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orus make rep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lory, laud, and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, Redeemer,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hom the lips of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sweet hosannas 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people of the Hebre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pal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ee wen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prayer and p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nthe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ee we presen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lory, laud, and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, Redeemer,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hom the lips of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sweet hosannas 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o thee, before thy pa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ang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ymns of prai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, now high exal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melody we 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lory, laud, and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, Redeemer,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hom the lips of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sweet hosannas 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49:41Z</dcterms:modified>
  <cp:revision>44</cp:revision>
  <dc:subject/>
  <dc:title>PowerPoint Presentation</dc:title>
</cp:coreProperties>
</file>