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0BA-2A66-421F-BFAE-C33F1796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FA2-A2F5-4068-8229-39E401C9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21F-4968-4A1E-9B35-1EEF7079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EDE-E499-451C-96C1-4BB90D42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00D-541B-4150-839B-BB493D93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86F-C9D4-4B3F-9BE1-AFE1C4D3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CDE-5254-4E52-9F01-ED64C82F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FCF-27BA-4207-9258-42B2504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1F7-FC16-461B-841C-4FDBCEC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BEA-9883-4FD3-AE55-E40C5FC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E96-AB5C-4193-B524-250D37A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9DE-DD05-4179-8EF0-947B4B1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91EB-D363-4434-9299-05B4E5C33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ussell Schultz-Widma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love f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in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Russell Schulz-Wid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rfec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sts ou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aciou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onsec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s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, and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se who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ve re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y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e d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every hus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w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utua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55:37Z</dcterms:modified>
  <cp:revision>148</cp:revision>
  <dc:subject/>
  <dc:title>PowerPoint Presentation</dc:title>
</cp:coreProperties>
</file>