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9A0-1C04-4FA8-A98D-FF394D01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DAA-E32E-4BE8-9634-CF09846F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58A-C923-41A1-ACC8-94DA4EA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FDB-E25E-4720-B388-F7032AF6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748-9C37-4236-8F49-106C06E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1E2-7C49-4102-9314-6A40A3B3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F06-0A6E-411D-88A1-6506291C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DD6-8FC3-40C7-8ED1-00D03B16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354-22BD-4252-AE97-9FA2F9F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510-DADB-4CE0-809F-EA0F63E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DD6-5F36-4204-ACD1-6F7DD6A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56C-D2DB-4F39-9FE6-959FD13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8EB-7AF8-4644-A785-6463FC9EF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ray 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Let us pray to the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ray to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1880" y="1295280"/>
            <a:ext cx="868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Christ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75248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Let us pray to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24Z</dcterms:modified>
  <cp:revision>27</cp:revision>
  <dc:subject/>
  <dc:title>PowerPoint Presentation</dc:title>
</cp:coreProperties>
</file>