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DAA9-DC46-4C6F-94C2-E4C92001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25A-7C9D-41CE-8387-D18CF1DA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904-57C5-470A-BE61-5CF462D4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7C40-9448-4708-BEBF-7D7E446B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FF5-5ADC-43F2-9B0A-E4E6E6EF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2E1-DFE7-45BA-8041-F2DB795E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9833-FDCB-49A8-8F94-C66A59FB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DCE-7B56-4794-A254-68F5CBAB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B5F-7B92-4717-9598-598E47F4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1AD-2BEB-48B4-AA10-3AC6664D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220-1C13-415A-B568-03233B1F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4F13-4790-4AC0-A65C-7E65BC40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13CF-FA45-4698-85B4-2205750B5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H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7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lory will be our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ight shall be no more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© 1988 S T Kimbrough, Jr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e 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Hop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5160" y="1143000"/>
            <a:ext cx="74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evelation 21:1-6, 23-24; 22:5, 12, 20, adapt. by S T Kimbrough, J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sponse, Revelation 21:23; 22:5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hall hear 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peak from the thron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hold, I mak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ll things ne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am Alpha and Omega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beginn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end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1919160"/>
            <a:ext cx="8610480" cy="26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Lord testif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ese thing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hold, I am coming soon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65888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s with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 Co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Lord Jesus! Come!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8572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56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56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hall see a ne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aven and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he old will pass aw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28456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shall see a new Jerusal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city descen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rom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ity shall ne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 sun or mo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God’s gl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ll be its ligh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84320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God’s Lamb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e its lamp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by its light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nations shall walk.  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hall hear a lou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voice from the thron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hold, God’s dwell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s with mortal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deed, God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dwell with 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y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e God’s peopl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shall wipe aw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l our tea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re shall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 more de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urning, cry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pain shall cea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 all former th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ll pass away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23:08Z</dcterms:modified>
  <cp:revision>31</cp:revision>
  <dc:subject/>
  <dc:title>PowerPoint Presentation</dc:title>
</cp:coreProperties>
</file>