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F03-721D-4C5E-9EF7-2302D14F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867-0FDE-425E-B10F-82119F0B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D59-C85A-4798-826F-92188AF4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D18-251B-4B70-AF59-B1E99704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FAE-F03F-4D44-951E-4D869326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993-968A-43B0-987E-5937440F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082-0F21-41E6-A39B-B266BE7D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548-B555-4304-A32E-CA267E7A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049-71D3-450F-87F0-3D298087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195-6054-46BC-8419-239367AF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C60-1633-4F21-B7DE-B09844FB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C68-6FE8-4D64-8F7F-622F706A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FFE3-CF28-4511-8892-B11DF8EBA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eams of Heaven as I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Beams of heaven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I go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rough thi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lderness belo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Charles Albert Tindley, ca. 19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its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ets of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behold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Harder y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be the f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 may oft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ield to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cke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while may reig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tan’s ca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seem to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a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rules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and of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eart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I am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’ll fight my batt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have peac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urdens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crush me d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appointmen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my fee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aceful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 my midnigh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oubles spea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ournful s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row throu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tear-stained ey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is a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pleasure re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mourning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roam its pl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at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ace and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ant to go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n the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would grop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lways s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ar of hop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on from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grief and d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be fre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ftentimes m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ky is cl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ab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a t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bright beg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may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morrow’s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ll be a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always b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day that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ields to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1:08Z</dcterms:modified>
  <cp:revision>51</cp:revision>
  <dc:subject/>
  <dc:title>PowerPoint Presentation</dc:title>
</cp:coreProperties>
</file>