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FC23-2F71-4509-924E-6804EFEE8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90D6-4F02-47D6-AFCA-24E51BB9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BFC0-2BF5-4D55-B1A2-F07A13BC4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6190-79CE-4BB4-81B4-E7AAC2B0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2B1B-1EBA-499E-A7E4-A28DCCF8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9FC0-6250-4262-9AAA-FC6CCEA0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CBBF-EECF-42C0-B694-D5B51FDF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7035-C36B-4029-A2C8-F7614262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7AFB-A462-4896-BA5D-54AB589A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3C94-9ACA-4ABC-859A-57564859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BAFC-3203-4D2B-BEE4-24BC1512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31E6-0A78-4A8C-BCAA-882CEC97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0806-DB9C-4F0E-9441-12EB0B998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reating Go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our Fingers Trace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09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243828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reating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fingers t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old design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thest space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9 The Hymn Society of America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od, Your Fingers Tr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2736000" y="1701720"/>
            <a:ext cx="366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effery Rowthorn, 1974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027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sun and mo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ars and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hat lies hid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your might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ustaining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hands uph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’s mysteries kn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yet untold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od, Your Fingers T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water’s fragi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nd with ai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abling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claim your car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Redeeming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arms emb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now despi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creed or race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od, Your Fingers T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peace, desce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a d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known on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healing lov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ndwelling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gospel clai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family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illion names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od, Your Fingers T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every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ouched by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il we praise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ce to fac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2-06-12T10:54:01Z</dcterms:modified>
  <cp:revision>25</cp:revision>
  <dc:subject/>
  <dc:title>PowerPoint Presentation</dc:title>
</cp:coreProperties>
</file>