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8473-EA41-4870-97F8-C65944BD0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2BF1-7C21-43FD-9184-E0EBD616D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B263-1F77-40C3-A14E-7C04A6014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2CCD-C98A-4F7B-AC1F-7B2DB350E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5006-5150-4824-938F-A48A1A2AD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D71F-235E-4121-B0F9-CBC1463C4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7469-6BD1-4C50-9DAD-F7BB4438E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5ED4-6146-462D-8B48-07F3C1426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B82C-376A-4856-88D3-A68A711E0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B9FF-9845-4E08-89A4-881A2A573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D6FC-D1D9-4CD7-92B3-E1870CC7D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D903-FCC4-41E0-9E25-3B5B93797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BBB5-D363-479C-9360-611224AA0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0B0E-DA5B-4CA2-B9D5-834781116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3FBE-DF84-4438-8534-EE0E59139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B177-F8EB-4F12-AAD0-D5A308EEE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58CE-A6F3-4AEB-9DD1-7C52FB369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7B6-2310-4DF6-A3D2-6F12ED4F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62A-2547-4B84-B37B-3FDB281A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6A8-E424-4E23-9390-BE999D1F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8639-BFDD-4A87-88D7-1E64F9CF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C666-C7FB-436F-AC6C-03D8ACBD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B841-A739-4C4B-ABA2-2FDEB423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C24C-9BE5-46D0-AE1C-45BFE353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2193-9999-4989-97E7-CF10E2F8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7F2A-0256-4B30-B982-FD94620E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C4F4-02BF-4AA2-9B33-27A40503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D8E3-4E1A-447F-81D2-002D4027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131A-935E-476D-873B-FD2B4158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F828-0290-4DD0-8DE4-5F74E063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9336-5C35-4D77-8782-8972ADD1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AEE2-573F-4DAA-9562-93AB5904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56D9-897E-4DAD-B69C-9E1579D7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AB0B-D582-4327-B3EE-C1B78694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D89B-3691-4751-973C-08FB972E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4942-9123-4273-9AB7-0AB61723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DBD-B1E7-4496-99F4-98552AA3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8597-908D-4BD1-BF84-FF5BB059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CB4-1FC7-4290-9EB9-D158A643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22F-C015-420D-81FF-166E9202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6C75-808B-4647-A49F-0BC3C758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656F-A9C8-4297-A442-953EDF534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2A7E-A7E3-46EC-8138-C07D4E3E4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Us Break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d Togeth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0" y="228600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et us break bread together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break bread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1600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 (Acts 2:4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763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I fall on my kne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f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rising su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have merc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n me.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on me)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163440"/>
            <a:ext cx="9144000" cy="49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Let us drink wine together on our knees,      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drink wine togeth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knees.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9216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I fall on my kne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f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rising su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have merc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n me.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on me)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3. Let us praise God together on our knees,      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praise God togeth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knees.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763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I fall on my kne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f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rising su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have merc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n me.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on me)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Let us praise God together on our knees,       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praise God togeth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knees.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763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en I fall on my knee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fa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rising su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have merc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please.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(if you please)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026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fall on my kn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rising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have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m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0" y="166860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 us drink wine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drink wine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fall on my kn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rising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have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m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166860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t us praise God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praise God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fall on my kn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rising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have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m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166860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et us praise God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praise God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fall on my kn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rising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have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pleas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f you pleas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Let Us Break Bread Togeth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61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0" y="1219320"/>
            <a:ext cx="9144000" cy="455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1. Let us break bread together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knees,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break bread togethe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knees,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838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African American spiritual (Acts 2:4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2-22T01:57:08Z</dcterms:modified>
  <cp:revision>124</cp:revision>
  <dc:subject/>
  <dc:title>PowerPoint Presentation</dc:title>
</cp:coreProperties>
</file>