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C63A-E77C-471D-9F71-3F91CE1F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787C-1672-40D3-AE21-0321FDAB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5EB5-81F4-43B9-859E-491383D2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A5FC-BECE-4E4F-834D-3608ED77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7B61-7A6D-47B6-B742-D24B732F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E30F-8957-4404-854A-CE3056A3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3539-A917-46BD-B4C5-D17A4943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4CDA-2048-42F4-B64D-62F87C32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2EFD-4505-4F89-817A-3A0BB54C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679E-9D7E-486D-B64C-EAB48A05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23E-6833-485F-87F3-DFC1DD1B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73B2-E234-4D75-B169-CC16EA94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08B9-3A02-4EC8-99AC-D3624E4DB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e the Morning Sun Asce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e the morn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n ascend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adiant in the eastern sky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the ange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oices blend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ir praise to God on high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Morning Sun Ascend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44480" y="990720"/>
            <a:ext cx="594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Parkin, 1953 (Rev. 5:11-14; 7:11-1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b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o may w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owly st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the choristers ab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hole cre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thee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reat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Morning Sun A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b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b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or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d upon our earthly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y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asing n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y blessing day by day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Morning Sun A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b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l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“Wisdom,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, and blessing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angelic host we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und thy thr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 conf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e wou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draw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Morning Sun A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b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28:32Z</dcterms:modified>
  <cp:revision>12</cp:revision>
  <dc:subject/>
  <dc:title>PowerPoint Presentation</dc:title>
</cp:coreProperties>
</file>