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05B-6FF0-490B-B1AD-B6CDA5F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849-4797-414C-8EEC-3FC4D7D9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57A-1C32-4A07-B558-B0440ACE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36F-4043-4B18-84CA-E1CB1DD4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42C2-B84C-448F-AFAF-3AA88A4C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11C9-1506-48E6-8952-52F59806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E223-C098-4213-B204-08DE75BC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1309-3CA9-4752-B0B5-7668799C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94D8-0716-4E3C-827F-C0B38E6D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F63A-9379-46D1-A596-A6114519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332-623C-4DF6-BE32-0D5C9566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F8E-404D-4FB9-8C03-D6E4BD0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9C99-C63F-4F4C-A56A-97D33BC1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06FD-155F-460F-A7A0-812CEBBA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A679-14F6-4B22-8F08-93C1961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D2F6-158D-4A23-A3CC-B53A8F1A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55F5-AA39-4A88-9440-3927CCEE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42F-5816-4666-A1C1-442F3535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7CC-5C6F-43E6-A364-D9C84E72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985-F643-42A0-89FD-310F63F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9DB-722B-47C7-A7F4-A7A77847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895-9E11-4A53-ABA4-68A9275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F05-F3E4-49DE-A0E2-ECF9B69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078-39E5-4DF7-9FB4-A1BFED7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897C-4A5B-4DBD-8DAF-58ADD06F4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5737-696B-4B9E-8DD2-CBAABE676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Up Your Head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Mighty 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ift up your hea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mighty gat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lory wait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8640" y="1676520"/>
            <a:ext cx="73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org Weissel, 1642; trans. by Catherine Winkworth, 1855 (Ps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rawing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s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ing wide the p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it a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ap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ly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aven’s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Redeemer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u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pen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thy i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r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rev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y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al is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offere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rawing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s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ing wide the p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it a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ap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ly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aven’s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Redeemer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u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pen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thy i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r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rev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y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al is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offere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Up Your Head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Mighty 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Lift up your hea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 mighty gat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e 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glory wait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8640" y="1447920"/>
            <a:ext cx="73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org Weissel, 1642; trans. by Catherine Winkworth, 1855 (Ps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29T00:15:44Z</dcterms:modified>
  <cp:revision>58</cp:revision>
  <dc:subject/>
  <dc:title>PowerPoint Presentation</dc:title>
</cp:coreProperties>
</file>