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E80-80FF-496A-9716-05C92633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031-D97B-4707-9534-7CDE1BC5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E33-1D3A-43A3-8813-77C46C36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494-D5C2-41F2-BD3B-F1A58702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A25-97C4-4519-80B9-6A2EBEC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C0C-3F08-4CC2-A360-B338933D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110-6CB8-4AB2-B0F8-337D633F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2E9-B71C-4A17-AC7A-5BEBA3E9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23D-BF58-4A91-A2AA-A11CA82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C7A-D56C-4C12-88C7-4935F214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638-4AEF-4EA5-AF12-A77E157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347-EAF1-49C7-BC28-D9A2B8E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AD20-332E-4930-92BF-36B8DB371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ke, O Slee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Awake, O sleep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ise from deat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ive you ligh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. Bland Tucker, 1980 (Rom. 13:11-14; Eph. 4:4-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in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you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arn h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length and bread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ful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, and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us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y b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is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pir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baptis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walk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Christ has 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ight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kind and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forg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or us Christ l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nqu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7:40Z</dcterms:modified>
  <cp:revision>22</cp:revision>
  <dc:subject/>
  <dc:title>PowerPoint Presentation</dc:title>
</cp:coreProperties>
</file>