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527-D01F-42EA-BAC6-DA828E12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033-6D3F-4FD4-AFCA-2179D189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3C3-3CA7-46B5-A3A4-604AE4B1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04A-EAD1-4668-9325-89587904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FD4-9653-4ACB-9A35-47ECF849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C71-9008-45D7-84C4-AE064233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E6C-FBAC-459A-97D3-6D60CE97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AF8-9B26-4DEE-BCE1-491CEB16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2EF-6E85-4306-BB52-B6FF636F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F51-E306-4F97-91F5-0E9ED466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B3D-CA56-455E-9A51-A834035C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F43-8834-4D3B-A525-C7DC450A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6902-66C7-4021-B149-A3487F6B2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Zion, H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Zion, has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ission high fulfi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ell to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is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ary A. Thomson, 1894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ve of thine own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the message glorio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f thy w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e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ur out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victorio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Zion, has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the brighter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who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ations is not wi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oul should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shades of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hold how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sands still are l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und in the dark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son-house of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none to tell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avior’s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of th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ied for them to w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roclaim to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, tongue, and 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, in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live and move, is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how he stoope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his lost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ed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ight liv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9:06Z</dcterms:modified>
  <cp:revision>79</cp:revision>
  <dc:subject/>
  <dc:title>PowerPoint Presentation</dc:title>
</cp:coreProperties>
</file>