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3DF-884F-4D87-9567-23DC61B6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2A7-5D7F-48D5-BF72-1C4BD822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867-17A5-4B55-A9EF-15F0235E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2A9-A93F-479F-B1FB-9C4E6FD9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403-B9C9-46FF-B515-E1611F32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E19-E787-427B-883E-9D598428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DBE-E11F-46FA-82B4-DB3B55E0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267-8F9B-40F8-8271-765D7763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9DF-52FE-44CD-8E45-FD77366A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53A-650A-451E-AEAD-E2C249C5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7AD-C8DD-434E-A36D-B16191D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D87-492F-4D52-87A3-FC79A24A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BBD2-F104-4D21-9FEB-ECCE3E307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 New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98108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give you hearty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rest of the past n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the gift of a new d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its opportunitie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leasing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New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97520" y="1219320"/>
            <a:ext cx="27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astern Orthodox Prayer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003320"/>
            <a:ext cx="876312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we may so pass 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urs in the perfect free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serv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at eventide we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gain give thanks un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9:27Z</dcterms:modified>
  <cp:revision>14</cp:revision>
  <dc:subject/>
  <dc:title>PowerPoint Presentation</dc:title>
</cp:coreProperties>
</file>