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031-29E7-4E24-A67F-75BB922C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E72-0383-4E4F-BAC5-F3F47F3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6F0-87B8-4909-9BE7-B1A0EE22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0E8-B54F-45DA-BDAD-07C07CF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8CC3-0B8D-431F-913A-F6D2818D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37C2-6248-4DA8-B275-05C8202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ED6B-6FDE-40D3-957D-4D60C2C5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768-F1CA-4FE5-8C5C-59338BB1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88CE-4649-4460-9EE3-DC55F606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A365-783C-41B8-A550-B3E5A96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9146-8FF1-4BF1-9797-99D1A0A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304-A18B-455F-B3A6-00DE49E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6EB1-70D7-4A81-A1FB-4B77306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35AE-B11C-4896-B71B-9820FF0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37A3-A301-4819-9ACB-64A2FD55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66E-A168-444A-AAE3-B99B20FD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8B9-7FE7-440F-8F87-C13AFDF1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6BC-5333-4D74-8CFF-43C589F3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3D4-F57E-438D-9349-35FC6A1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B52-67D2-44D4-88A2-8141E62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42A-6593-4A05-9AE7-B43D4960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5EA-B9C6-4EC1-A2E6-32283CB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DE3-CFBF-4725-8613-951FC59C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C32-6C23-49E3-A5AB-905A3BA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DA4-4C16-4F44-B207-634A25D9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44C0-B3E8-4691-AE35-C39AE7BDF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e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your God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ou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forth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tand up and bless the Lord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 people of his choic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 up and bles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rd your Go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heart and soul and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ough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pra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bove all blessing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would not f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holy na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laud and magnify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for the living fl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his own altar brou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ouch our lip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minds insp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ing to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ven our thought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is 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ength and so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is salvation our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be his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Christ proclaim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our ransomed powe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21T00:22:52Z</dcterms:modified>
  <cp:revision>155</cp:revision>
  <dc:subject/>
  <dc:title>PowerPoint Presentation</dc:title>
</cp:coreProperties>
</file>