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738-8AC6-444C-B26B-7CBBC373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6AC-5F32-41B4-B041-EDD48546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950-2B53-49C3-9E05-64ECAE1D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5A7-8A15-4B9F-8CE5-7415C5DD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DC48-DE24-407F-9B13-0F14AD77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C54F-6004-4DA8-BAAC-34B99483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8B31-24B6-4F50-AA0C-47603689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4CEC-5E20-46DB-8DEB-0AF2AFA5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D39F-BCED-4042-8169-33F43384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1CDA-C06F-4842-BBAF-71A8AC29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62BD-1861-48B8-A2C1-EADC5EA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D83-5D28-4701-85F6-13D85657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FABB-D0DA-4763-8205-51446E66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95BA-2F8F-41BF-9816-8F4DB833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0914-B2C9-4D59-AD95-27661106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01C0-EC14-44BA-8B45-19A5DDFB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025E-FB15-4DE8-AF64-D3B574B1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606-76FD-47B5-A15B-6268D45B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C82-CF3B-4FB0-861E-D5DE00A7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041-6FB2-4CD0-8899-27E6DA2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C8D-F04C-42EE-BC9C-EC59E6AB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0B4-7D49-4139-8CEC-B8F452CC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613-8A8B-425F-817C-36AE31E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CE7-EB25-42BC-9C16-CA373EF4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E04A-7C2F-4EAF-BBB0-846C9F3FF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F01D-4149-4BA6-BA59-99982F59B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06400" y="16765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752480"/>
            <a:ext cx="9144000" cy="21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by his counsels guide, uphold you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6400" y="1447920"/>
            <a:ext cx="39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44136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3352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73240"/>
            <a:ext cx="9144000" cy="433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8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ill we meet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g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04T03:23:38Z</dcterms:modified>
  <cp:revision>12</cp:revision>
  <dc:subject/>
  <dc:title>PowerPoint Presentation</dc:title>
</cp:coreProperties>
</file>