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873C-900B-4355-BC41-B03E8949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FEE8-1C00-4011-986C-F92EFAD5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AA68-AE8C-48C0-97E7-4D322C8F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FD2-55E3-401F-BF76-9B49E624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ABF-74B7-4567-97E6-24080A79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89E6-2366-44E1-A9F3-C20675DA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DA3-1A89-4544-B502-06F32084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D4CF-9712-484B-AE30-1751B636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AE3-C9EC-4249-B323-17D1C085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2D5E-7A57-45DB-97AD-A4ED0281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42D8-2E97-428B-B0A4-5EFBD9A2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F0C-7C91-4F47-AF9A-1F9C28D2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723B-7CE2-41C1-8FA5-CDBC2EC99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a Spirit in the 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04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re’s a Spirit in the 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ing Christian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wher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76080" y="1092240"/>
            <a:ext cx="24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hrist revea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ing, wor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our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May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 our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uide our thou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hange our way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come to st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e tomorrow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7. There’s a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ing Christian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wher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hrist revea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ing, wor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our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hrist revea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ing, wor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our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ose your shy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nd your tongu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God has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come to st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e tomorrow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en believ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 the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a hung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is f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hrist revea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ing, wor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our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Stil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ds the f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ing w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tting righ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come to st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e tomorrow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When a strang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home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nd a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8:59Z</dcterms:modified>
  <cp:revision>44</cp:revision>
  <dc:subject/>
  <dc:title>PowerPoint Presentation</dc:title>
</cp:coreProperties>
</file>