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B0C-002B-44B0-BBE5-D68123E4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4DB-E53A-4F6B-B6CA-826DB20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8EA-C599-4400-BF04-341AF18C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EDA-1066-4875-BC07-3079354A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026-ED34-49BF-9F17-67A886E6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EE5-56AD-4989-8C36-6383D1AB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28C-5EB7-4481-BCFD-D01F4E5F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161-12C6-4AF9-A55F-F466894A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5D4-AE39-448F-991F-DB94810E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017-7BFE-40E8-966F-062449FA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DFA-F590-41C6-9200-F99E3FA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5D4-C536-4432-BB79-3FAA38B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1EA0-B6A2-41ED-A808-646BB6106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body Know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Troubl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43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metimes I’m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’m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imes I’m al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g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though you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going long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my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be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makes old Sat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e me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 he got me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8428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body knows but Jes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h, nobody kn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ouble I s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halleluja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9:33Z</dcterms:modified>
  <cp:revision>46</cp:revision>
  <dc:subject/>
  <dc:title>PowerPoint Presentation</dc:title>
</cp:coreProperties>
</file>