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0C4-3370-42A7-BDC6-DC22E8E2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2CF-AF25-494F-AAA1-7F09AB0B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8A8-0917-4EA9-82AF-9EE9F698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D2B-F74B-454D-B4FA-D3D07C25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62EA-84ED-4223-A7F1-88CC1E43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5438-0DFC-4FDD-BE9F-5D3A87E5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25E3-457C-4577-9051-A1F729D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1EF5-0A2D-4252-BB8F-F53DB0CA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7CF-26FC-446B-A409-335AB449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F66-35D6-4B0F-B0F5-A0A3CC4E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FF90-5AB2-431E-9FF7-B23C91B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A80-CF2A-4DC3-A76A-A742292A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DDA7-54EB-4790-B7BD-4592010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B0F-978A-49E7-B5C0-F63E85C7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47BA-E36A-407F-ADA5-5844BAD8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B64B-F717-40C0-AC57-A0BCBF3E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7E30-54AB-4BCC-822D-4B45EBAE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4F2-1AF3-4492-AB5F-A634DAC7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B83-7B48-441B-8C02-DCD1011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470-9488-4898-883A-C887BA97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BF2-FC57-4F41-BDCC-61975A35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038-725B-498C-B593-A3DCE8A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65F-A867-4E2B-8BA8-1B39AF5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FCF-B5D5-4BB1-821C-C1FDAFD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3DDA-951C-4094-8BFB-44A0D5DF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1578-042A-4866-9AE2-155525EE2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71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1. In the bulb there is a flower; in the seed, an apple tree; in cocoons, a hidden promise: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75120" y="6094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ho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yste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beg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20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n the bulb there is a flow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seed, an apple tr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cocoons, a hidden promise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5120" y="6858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c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now of wi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pring that waits to b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936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ere’s a song in every sil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nging hope to you and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it holds, a myste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n the end is our beginn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the cold and snow of winter,    there’s a spring that waits to b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ere’s a song in every sil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inging hope to you &amp; 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the pa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ll come the futur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it holds, a myste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 the end is our beginn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time, infinity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doub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e is believ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life, etern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ur deat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resurrectio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t the last, a victo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bul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fl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eed, an apple t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oco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idden promis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terflies will soon be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75120" y="114300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now of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its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revealed until its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God 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s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word and melod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ing hope to you a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05T23:47:33Z</dcterms:modified>
  <cp:revision>53</cp:revision>
  <dc:subject/>
  <dc:title>PowerPoint Presentation</dc:title>
</cp:coreProperties>
</file>