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79F-3A96-4A1B-8E84-006406D7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7E0-257D-4D2A-B679-3B6DE37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1C7-51F5-4E4E-8AE5-64C85839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5A1-D4BC-48E9-9C7B-5D115EC7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7E5-F865-4A6F-9C43-43F6DE82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11A-291B-4CD7-99A3-A2595FE5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076-5D69-4DE5-9148-D9251EC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CC3-CDA6-4EE2-A011-A24622A4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25F-51EB-4575-91B1-6DC9989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1D3-07A3-4992-A187-2657C8D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814-10DA-4168-937A-86ABC5D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E66-2D9D-42D2-9902-4E0D2C1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23AE-E983-4EA1-BBF9-6B499359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34Z</dcterms:modified>
  <cp:revision>28</cp:revision>
  <dc:subject/>
  <dc:title>PowerPoint Presentation</dc:title>
</cp:coreProperties>
</file>