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3C9-9ED3-48BD-9766-BE685565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B6A-3E9F-4467-A9FE-DCAD5DF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C4A-4106-4504-9F0F-2C6A90A6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3F8-B433-40EB-92A6-4FB3DFA3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688-03D7-4FFB-84B3-095D8E06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02B-CFE5-4DE9-BD92-211062A3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953-3A2D-4B0E-9A87-953D2FB2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FD1-5749-4EEB-994C-8CCCBDFF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188-B3A2-4DB7-B3D5-9AAE83C6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04B-CBBA-4CF9-B502-DF0DDB8B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456-6061-40E8-BDCB-24F8F891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65E-D8EE-415D-BEDA-3FC5227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13BE-3BE4-4B17-AE77-DEA6B8FB9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Blest Are The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Trust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blest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ust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nd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ove must 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2920" y="1600200"/>
            <a:ext cx="36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yield them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 they m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do not 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from our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ripened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harvest reap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gone from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th or pri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they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leased fro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nds of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, who tas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fo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ise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natural gr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nes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ricken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ngth and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l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05:49Z</dcterms:modified>
  <cp:revision>12</cp:revision>
  <dc:subject/>
  <dc:title>PowerPoint Presentation</dc:title>
</cp:coreProperties>
</file>