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E4EB-13C0-4E4A-BFBC-A09923D7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EE2E-9EE8-42F5-8D86-72A2838A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9EE6-B2A9-40A5-8727-2311CA62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5ADF-34EB-453A-BF3B-B31F44FA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E365-EB6A-4FCE-909E-2974C2C8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5447-BD77-45F6-81E8-A76C4B5A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1176-D225-4394-A370-45F67C68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441E-F802-40B3-ACA1-5EEC0D1C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0E8D-B83B-4476-AE6D-0D114A1D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BD00-E055-437B-8AC2-9F688F34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CF5F-0F01-4677-A2D6-78867165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8B03-38D8-4FD2-8982-D510CCBB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A49A-9055-4FAD-8E49-C75EB032E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aising God of Many Na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burning Mountain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chosen Sun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perfect Moon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fathomless We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ing God of Many N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8480" y="1066680"/>
            <a:ext cx="5025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echthild of Magdeburg, Germany, 13th cent.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unattainable Height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Clearness beyond measure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Wisdom without end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Mercy without limi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Strength beyond resistance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Crown beyond all majesty: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The humblest thing you created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  sings your praise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3T14:52:05Z</dcterms:modified>
  <cp:revision>19</cp:revision>
  <dc:subject/>
  <dc:title>PowerPoint Presentation</dc:title>
</cp:coreProperties>
</file>