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4009-C85C-4D72-9D2A-D26391BDA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99A5-0098-46E1-8055-60BE84A2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0DF7-E9FF-45B6-A4C0-3503B16DD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A913-0A92-4F1A-BFD3-783B5772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0177-9C82-4D65-BB55-3E094AA9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AB8A-66FA-473F-8B08-8FA98CAE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0809-B2AE-41F7-918F-78790B50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20A3-23A8-4D04-9DBC-1389201C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F40F-3C65-4DF7-BBC3-4D996434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090B-AE2E-4BB3-9AEB-23C286A3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67A7-2301-43A9-91E2-1B053CBB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A329-D040-4786-83CF-C728FC06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1104-3C15-486F-8EE9-C8711F0E7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ust Jesus Bear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Cross Al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954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Must Jesus b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ross al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the world go fre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st Jesus Bear the Cross Alo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32120" y="1523880"/>
            <a:ext cx="528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Thomas Shepherd and others, 185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, there’s a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every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re’s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ss fo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ow happy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ints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once w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rrowing he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st Jesus Bear the Cross Al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now they tas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mingled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without a t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 consecra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ss I’ll b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death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t me fr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st Jesus Bear the Cross Al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n go h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crown to w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re’s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wn fo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07:45Z</dcterms:modified>
  <cp:revision>14</cp:revision>
  <dc:subject/>
  <dc:title>PowerPoint Presentation</dc:title>
</cp:coreProperties>
</file>