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EC48-3294-4E1B-865A-D122CF4B2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968B-D713-428A-8EF1-2B2C25F8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55BF-F307-4FEB-8F10-DE9795FD1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4C44-4362-4859-BD72-E3903BD13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EF53-6728-4DC1-ADE7-B887E2F8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46D6-47CB-4EC4-BD9D-F105D103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699D-76CC-48DD-90F7-CC5975CC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83A0-5B77-4C86-9366-3EBA46A8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FBAB-0487-46E7-AA81-4493F9DB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418C-67BB-49CE-A5B0-FC853ECE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C819-CEEF-44ED-8A9C-76D4A45B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BC8E-AE2A-472F-8AC0-99A55A7A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B8AF-88F0-48F1-A5C1-BF308BA60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alk On, O People of Go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Camina, Pueblo de Di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lk On, O People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1447920"/>
            <a:ext cx="908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esareo Gabara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ín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rans. by George Lockwood, 19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9436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7 Ediciones Paulinas; 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514600"/>
            <a:ext cx="914400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 O people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 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04948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057400"/>
            <a:ext cx="91440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s he destroys them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e brings u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ife’s abundanc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ife’s new joy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85904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br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concili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ll t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eople with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28600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ture bursts in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w flowe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ion is rebor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18908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eople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lk On, O People of God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04948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371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ew la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new alli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ion is rebor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Walk on, O people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 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85904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embrac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ur sou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nd pardon at l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lk On, O People of God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heaven’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es are reope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sinn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us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05740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rael walks a journe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we l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lvation’s our s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8600" y="1676520"/>
            <a:ext cx="89154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’s resurrec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freed u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are new worl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expl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29528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eople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lk On, O People of God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5238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ew la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new alli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ion is rebor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Walk on, O people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 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523880"/>
            <a:ext cx="88390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ew la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new alli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ion is rebor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Walk on, O people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 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2057400"/>
            <a:ext cx="914400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ina, Pueblo de Dios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eva ley, nueva alianz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la nueva crea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mina, Pueblo de Dio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Mira all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á en el Calvari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roca hay una cruz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uerte que egendra la vid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vos hombres, nueva luz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isto nos ha salva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 su muerte y resurrec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das las cosas renac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nueva creaci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209680"/>
            <a:ext cx="914400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ina, Pueblo de Dios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eva ley, nueva alianz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la nueva crea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mina, Pueblo de Dio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risto toma en su cuerp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l pecado, la esclavitu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 destruirlos, nos tra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a nueva plenitu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ne en paz a los hombr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las cosas y al Creado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do renace a la vid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la nueva crea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mina, Pueblo de Dios 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133720"/>
            <a:ext cx="914400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Look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vary’s summi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ro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towers a cros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lk On, O People of God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eva ley, nueva alianz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la nueva crea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Cielo y tierra se abraz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estra alma halla el perd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uelven a abrirse los ciel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ara el hombre pecad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ina, Pueblo de Dios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rael peregrin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ive y canta tu reden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y nuevos mundos abiert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nueva creaci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mina, Pueblo de Dios 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905120"/>
            <a:ext cx="914400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eva ley, nueva alianz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la nueva crea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that gi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irth to new l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ew peop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ew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828800"/>
            <a:ext cx="91440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rist has brought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us salvatio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th his death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rising again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04948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05740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Everything come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new birthing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ll creation is reborn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49400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eople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lk On, O People of God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6765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ew la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new alli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ion is rebor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Walk on, O people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 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057400"/>
            <a:ext cx="91440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2. Christ take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to his bod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ll our sin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enslavement, and pain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lk On, O People of God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7:03:53Z</dcterms:modified>
  <cp:revision>65</cp:revision>
  <dc:subject/>
  <dc:title>PowerPoint Presentation</dc:title>
</cp:coreProperties>
</file>