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090B-51FC-4813-BC32-2BAD8BE7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0E4-AC68-41F8-9E1E-DEF72E83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62B-0857-4FDA-8378-361B17DD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86FF-C82E-49EC-B57D-FF6F5773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0C0-5421-437D-9A10-AF129F86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D196-88C8-4EC3-9FFB-D03613DE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CB8-F7E1-465D-A5D3-26C8EEB9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8706-1DA7-4883-ADCB-280DD353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AA0-FD16-45D4-8974-C74F1A6C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C2C-A9E3-431B-968F-E56AFE63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9940-5C81-4030-B870-2FB352F0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4549-8D6F-4046-9631-752D0174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C41A-E83D-4EA7-B90C-363D39F12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the Depth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ve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depth of lov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unfathomable grac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hall s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bread and w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nto us conveys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Depth of Love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5 (Jn. 6:35-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the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lesh imp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the w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nsmits his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s his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ople’s heart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lif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wisest mort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 how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ce recei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ble elements best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ower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s to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Depth of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explain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rous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through the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rtue cam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se the virt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d convey,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remain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can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ward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earthly matter f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nk her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vine suppl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t immortal br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Depth of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k the Fath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dom h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who d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eans ord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round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tars bow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rch it out, in v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 and r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e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nner be unkn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ly mee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rfect us in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Depth of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tas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pow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thing mor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to bl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only our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 and ad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2:28Z</dcterms:modified>
  <cp:revision>129</cp:revision>
  <dc:subject/>
  <dc:title>PowerPoint Presentation</dc:title>
</cp:coreProperties>
</file>