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F0F1-2882-45CC-8C63-3DAFD5FC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9BE1-AB3C-495F-B4F3-C02D5557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681B-C21D-452F-A545-FEE1470F1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85B0-8385-43E2-B9DE-9F9BA5EAB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2E42-2DFB-4F1B-B2A4-28E3C13F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15FD-CFC5-4B62-AEB7-DD5B816F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38BA-E3D0-4006-99A0-6CD8B0F1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B512-3BF6-4566-A5ED-18BC3FDE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7A3B-84C8-4DE9-AC68-C41FA5A7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9B62-DFE0-481B-A6D7-D20040A6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34D0-2906-444E-8384-FD7B72E4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EC65-94F6-4E05-A5F9-C9E8A2B9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6FAB-EEC5-4FBE-A7EE-1831A4656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 Now in Pe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6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Now in Pe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Natalie Sleeth, 1976 (Lk. 2:2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1600200"/>
            <a:ext cx="655344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now in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now in peace,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the lov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surround you,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6 Hinshaw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809880"/>
            <a:ext cx="1066680" cy="9907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1600200"/>
            <a:ext cx="1066680" cy="1066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52480" y="2209680"/>
            <a:ext cx="73915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where, every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may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133720"/>
            <a:ext cx="1066680" cy="1066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18:08Z</dcterms:modified>
  <cp:revision>158</cp:revision>
  <dc:subject/>
  <dc:title>PowerPoint Presentation</dc:title>
</cp:coreProperties>
</file>