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9B3-8441-452F-92E4-C6F8540F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188-51DF-4219-A23C-8E0CDBAE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E6D-B8F2-47A0-A33F-6B03EFF4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A73-8CB4-4F64-A0F8-48F4EC42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B15-20B9-4C7F-9E7F-9BA6E35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E97-F2B0-474B-B6F2-42D068E9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E6A-2188-4E8A-A379-C76D2C1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E06-1FF4-43DE-82C2-C9D56E12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5E6-01FF-4246-9F32-172E687E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F8-2092-4161-ABBC-4657558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591-659B-4082-88AB-4780147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999-99EB-4705-BFA5-F7F0274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32AB-A9EB-4C28-A662-C49E459F4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Pea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Dimly S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day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imly shin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our hop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yers and dream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5840" y="1600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 P. Daw, Jr., 1982 (Is. 11:6-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us to justi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, and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livered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elfish sche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words of h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from our h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heart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vy fin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by God’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arring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see Christ’s promi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ig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n shall the wo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the la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shall the fier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vour the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beasts and catt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ly gra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little chi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lead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enemie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rn to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creature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tru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pe of pe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fulfill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21:18:35Z</dcterms:modified>
  <cp:revision>59</cp:revision>
  <dc:subject/>
  <dc:title>PowerPoint Presentation</dc:title>
</cp:coreProperties>
</file>