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026-28D1-47AF-9DC2-16F3E8BD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94E-85CC-4679-A85E-697BBFD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200-5D88-46C7-8CA4-56233906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E3D-1F11-4D0F-953E-713C6537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341-BEF6-44E8-87DA-EA1B8FC3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2EA6-583B-410F-880E-11930F74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790-1ED2-42DA-96A5-E80864CA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574-5FFD-40B5-827E-1942ED3B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C61-285E-4988-9819-AC7D6C99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D9E-A035-475E-B487-9C99C376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FC6-A8E2-47F7-A928-F91FA715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3EA-B40E-48FA-8C4C-FD1B47ED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0B80-EBA4-4F8E-A206-7A3DCFF36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Ascen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enantius Honorius Fortunatus; trans.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English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06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3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6765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0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e who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iled to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Ruler and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peop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ings crea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238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ail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liness g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ned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of bloss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tes unb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inging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of l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479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6:26Z</dcterms:modified>
  <cp:revision>82</cp:revision>
  <dc:subject/>
  <dc:title>PowerPoint Presentation</dc:title>
</cp:coreProperties>
</file>