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A61-0E8C-492D-85F2-A78558E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C90-CA48-4204-AA66-FEEEB029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AEF-B4C6-4D69-ADF2-158BEA30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E2B-190B-43FF-AE4B-46F9D46F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463D-D8C7-4A38-98C5-8595AFA0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5003-3E6D-4F1B-AEAF-74FEAE6F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4DD-E338-4BFF-9C65-7EAA5C0A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A194-16A7-4562-ADC2-57B47D8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1FAD-0C5B-4F08-BCB1-24C1B689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C79F-DC18-48C6-944A-4763E20A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57D3-87DE-427E-A2FF-8AFDC029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731-3E9D-44A7-9FA6-D77F908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B227-F1A0-4012-8F4F-549814F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12B8-6E99-4C2E-ACE9-11CAEECD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1AB6-9080-4947-96F0-E944F3D0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503C-B68E-4E14-8D58-05934752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EDB2-0E52-45C8-ABCB-D9E6F671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61C-D3C5-462F-AB39-B7B5C9B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7A7-1786-4D64-BE4D-8B84D75E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D7C-11A8-43DF-AF08-725B8EB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DF5-CCD9-4441-BDCC-6AF0C506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831-F0A0-4BC0-87B4-A20C618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1D4-9E7B-4CE0-A33C-537F954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533-BCFF-46E4-BDE1-6EA7F7D0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9484-38AF-40FB-AA97-81FC508E2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2AE7-1DE6-4363-B05E-EAADAFAF1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Parent, by Whos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Parent, by whos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enthood is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your love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amily your 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1040" y="1077840"/>
            <a:ext cx="4245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. Bland Tucker, 1939; alt.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children bl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they may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hold your f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knowing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grow in gr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lest Spirit, who can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so to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from self set fre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all our he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uch love increa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every h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is relea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e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welling place of pe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rect all par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ng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entin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s in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who, a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n earth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still undef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to adulthood co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ildren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your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ing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row in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lest Spirit, who can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so to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from self set fre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love incr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ver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rel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pla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Parent, by Whos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Parent, by whos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enthood is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your love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amily your 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0" y="685800"/>
            <a:ext cx="49327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. Bland Tucker, 1939; alt.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irect all paren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arding we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constant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sentine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omes in whi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people dwe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who, a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n earth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still undef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to adulthood co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0T22:16:09Z</dcterms:modified>
  <cp:revision>16</cp:revision>
  <dc:subject/>
  <dc:title>PowerPoint Presentation</dc:title>
</cp:coreProperties>
</file>