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16E-FF3F-4ADB-8020-7EF4C177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A5B-C971-4A1C-B08E-B2B932C3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43B-3DD2-4E99-8B61-3B522145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44B-5621-4A5A-B1E5-78C20912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09A-846E-4FBB-BAFB-4B63447E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6A8-96C3-4972-91D2-23B3E0B4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4B5-4CB8-4FCF-BDBF-0351F3DD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97E-D5A3-4488-B4CA-FE1F6C67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3CC-FEE6-4EA6-81BA-6042E7EA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D8C-BF33-46AA-AEF5-EB8BAA89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9D8-D9E2-41D0-8F21-29B6976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665-2C84-4602-8C76-3C2BF1F3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64D7-C623-4D6C-8140-E4D2078AC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ld December Flies Away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En el Fr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o Inve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15000"/>
            <a:ext cx="9144000" cy="75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78 Lutheran Book of Worship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panish trans. © 1987 Skinner Chávez-M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538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carol; trans. by Howard Hawhee, 1978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panish by Skinner Ch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ávez-Melo, 1987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4600" y="2438280"/>
            <a:ext cx="824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ld December flies a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ose red splendo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pril’s crowning glory brea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whole world wond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Inverna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n el frío inv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mes de diciemb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apullo del ro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ta en un pese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calor primaver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ce al mundo desper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ragante ol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tan bella fl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sa anh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ja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 d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Invern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s tinieblas del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yen prontame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mañana deja 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 resplandecient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nocturna oscur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 el mundo cla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elic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a Navid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z divi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ilumin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Inverna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Va el capullo a flo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a blanca y pu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fragancia va a of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oda criatur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0600" y="1676520"/>
            <a:ext cx="6770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aroma sin ig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a vida da al 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de Dios el 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mo galardó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do ha d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su Hijo ama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46720" y="1295280"/>
            <a:ext cx="1839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040" y="1523880"/>
            <a:ext cx="7346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holy unseen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bears the flow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blessed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eddest fl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41960" y="1523880"/>
            <a:ext cx="1839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n love’s own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and strong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0" y="1066680"/>
            <a:ext cx="7787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n the hop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deep had falle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y undern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yes were closed in sl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December Flies Awa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, when all see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in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golden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unending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the endless jo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e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beloved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w the bu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blo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orld awaken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lil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st flower dwe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wondrous fragr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December Flies A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ts b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s beauty l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 it li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its heavenly brigh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perfume delightf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3:08Z</dcterms:modified>
  <cp:revision>81</cp:revision>
  <dc:subject/>
  <dc:title>PowerPoint Presentation</dc:title>
</cp:coreProperties>
</file>