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F15-E0AE-498E-8196-6848F099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174-32C0-4265-9D1B-F31BD9F8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86C-0630-420C-BFD1-46F9BAA6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F5E-0840-47B6-9062-03083FC1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788-023E-4D0C-A6C6-D2C761B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B42-C676-497F-935C-82EB340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0A8-9E44-4884-A89A-91D5472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4FB-DCF3-4D28-8C88-1C77910C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D89-D504-42ED-8E87-2EF5713C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F9C-64A4-429E-9E97-6F8AB5D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490-B0B5-4299-B110-75FDB73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744-9DE6-4FBB-91B9-9171A0A6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2B4A-DFAB-4581-9448-11B500A36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Love I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rian Wren, 1978 (Gen. 1:27; Jn. 2:1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love is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comes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nd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wo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love be f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eath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roke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explo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’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has flo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both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may d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ach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’s warmth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and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and 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d ones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still to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ll seems stran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se retu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grow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pened ey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strength 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rments f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r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core of w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 throug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aster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 or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sband, w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47:36Z</dcterms:modified>
  <cp:revision>145</cp:revision>
  <dc:subject/>
  <dc:title>PowerPoint Presentation</dc:title>
</cp:coreProperties>
</file>