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7E54-321E-43E4-988C-25BBBBC2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FFE1-AD0F-48A8-877B-47AB2092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45A1-6ECC-428E-BBE0-9B37CA2C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2DFF-825A-4264-A6F0-488F27DF1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7B21-C672-4AE5-8FA3-85E7BEF7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4440-1432-4C4F-811F-2EF66BFA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BBB3-6FF0-41CA-8B75-8521EB30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B8C2-1A3E-4E0D-97E8-A9419563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D5A3-7378-4A1E-AB4A-64CDC482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0900-F9BE-4ACA-B0A0-FDA53222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2C7D-E6AD-43A8-B793-17C059AE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E7AD-0ADF-494E-9C76-95B2B572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F088-D5FE-4579-8CF7-D3FE5566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B0B5-4A4F-43E4-BC49-DD6C1873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C0F5-0718-4542-BF71-75908118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D541-1FFD-41AB-8996-067AB5F4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0834-6E79-4303-A987-AB26E1750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6EB1-4531-435A-A6E7-0F04B69A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4EF7-B186-4CD0-86CC-BFB5BF29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9A65-DCA7-4A33-B78D-EB64D84F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3719-B674-4554-8CBD-FEA3BF04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335F-8E28-4AF7-A276-E5D1A0AF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29BE-764D-4B1D-B1EF-9D5E8B2F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04C0-0EC8-42A7-89B3-70BA9529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0AA6-3CBD-42E1-963C-47584DF03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8118-910B-4CB3-ADEA-F90CE056B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 Touched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143000"/>
            <a:ext cx="9144000" cy="412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 Shackled by a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eavy burden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eath a load of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guilt and shame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3  William J. Gai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685800"/>
            <a:ext cx="7619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William J. Gaither, 1963 (Mt. 8:3; Mk. 1:41; Lk. 5:1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the hand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tou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 I 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longer the s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2873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ou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e tou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 the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floods my sou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thing happe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 I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ouched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de me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ince I m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blessed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ce he clean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de me whol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never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aise h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shout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eternity roll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2873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ou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e tou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 the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floods my sou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thing happe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 I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ouched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de me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 Touched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143000"/>
            <a:ext cx="9144000" cy="338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Shackled by a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vy burd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eath a load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uilt and sham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3  William J. Gai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320" y="685800"/>
            <a:ext cx="7619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William J. Gaither, 1963 (Mt. 8:3; Mk. 1:41; Lk. 5:1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the hand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tou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 I 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longer the s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5228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ou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e tou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 the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floods my sou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6858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n the hand of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Jesus touched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now I am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o longer the sam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thing happe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 I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ouched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de me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ince I m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blessed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ce he clean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de me whol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never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aise h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shout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eternity roll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9044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ou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e tou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 the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floods my sou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thing happe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 I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ouched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de me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52280"/>
            <a:ext cx="9144000" cy="465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e touched m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he touched m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O the jo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at floods my soul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876920"/>
            <a:ext cx="9144000" cy="2743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858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omething happened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now I know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touched m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made me whol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858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. Since I me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is blessed Savio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ince he cleanse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made me whole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8380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 will never ceas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o praise him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’ll shout i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ile eternity roll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90440"/>
            <a:ext cx="9144000" cy="491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touched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 he touched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O the jo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at floods my soul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6858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omething happened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now I know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touched m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made me whol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 Touched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057400"/>
            <a:ext cx="9144000" cy="46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hackled by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y burd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th a load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lt and sha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3  William J. Gai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1430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William J. Gaither, 1963 (Mt. 8:3; Mk. 1:41; Lk. 5:1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3-19T01:25:40Z</dcterms:modified>
  <cp:revision>18</cp:revision>
  <dc:subject/>
  <dc:title>PowerPoint Presentation</dc:title>
</cp:coreProperties>
</file>