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533-8706-4B3F-8A50-6AE1D5D1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235-D416-478D-9964-F54F6FE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52B-39A2-4FDF-80C0-9951B2F4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412-E353-4634-85AF-8E9ADB61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D04-D994-4F46-87F6-2D58461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EFF-78E0-4EFD-86B0-309DFC3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02D-9711-4597-B58D-28EB847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015-3BAD-4959-9DF4-1706ADE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6B3-DF80-4626-AA94-A683DE1C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F85-5A5F-40B3-A80C-97F804F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C43-8185-43EC-A642-30CED14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65E-E408-4B49-9E31-2481A29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D46-E70D-4E58-AC94-684738A3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Present a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Tabl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table, L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he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where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Present at Our Tabl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Cennick, 1741,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eatures b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eas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7:39:03Z</dcterms:modified>
  <cp:revision>122</cp:revision>
  <dc:subject/>
  <dc:title>PowerPoint Presentation</dc:title>
</cp:coreProperties>
</file>