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ACF8-E226-4F49-83C9-B03E2693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C9D7-1C6F-4F16-AC95-49563D6B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A47-40E4-4E50-9A0B-0E97C080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A00E-111D-4537-8366-4F00E0C3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0BAB-133A-4337-A68E-0D54CE3F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193C-7341-4821-91C8-5AB3A396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1E44-31AA-4CE5-A7DE-1CC7DBB3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19DD-34E2-488D-AE4F-F7F587F4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E2AC-33FE-495A-A3F9-E65849DD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B712-03FC-4B5B-8D93-5E0E4549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9A91-4A35-41F9-B199-07B424CF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BD41-DB8E-4441-9856-33B14118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E793-69E5-48FC-A070-A058B10A0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Praise to The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Thou, O King Div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prais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ou, O King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dst yield the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of right was t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40, 1943, renewed 1971 The Church Pension F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for Thou, O King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51120" y="1600200"/>
            <a:ext cx="543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F. Bland Tucker, 1938 (Phil. 2:5-1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the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by all adore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n our darke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might shin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ou cam’st to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lowliness of thou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ee the outc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poor were sou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for Thou, O King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y thy death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salvation wrought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Let this mind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us which was in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wast a serv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e might be f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for Thou, O King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mbling thy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eath on Calvar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Wherefore, by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ternal purpose, th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t high exal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ll creatures n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for Thou, O King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n th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hich all kn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ow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Let every tong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fess with one acc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eaven and earth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Christ is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for Thou, O King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7:28Z</dcterms:modified>
  <cp:revision>30</cp:revision>
  <dc:subject/>
  <dc:title>PowerPoint Presentation</dc:title>
</cp:coreProperties>
</file>