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8E0-45E9-43C7-8E81-2CB70EE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4B7-6A00-4509-BC1F-BD0B454F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6AF-BCF8-4ED0-8B26-ECA63457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8C1-C6E0-41CF-984B-1AAD3583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1C3-0456-459D-AEC2-53F12F8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10F-E155-4645-8C8C-296B7875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567-A858-4693-A71A-A972A20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EF3-467C-4C8F-B3A6-CDFD70EF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77E-CB09-4D07-9BA0-569ABAC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260-B745-4974-8B5A-BD9B14A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AF9-9D57-4052-850E-B9D0E49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0E1-38FE-4D23-B070-93965D0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253-F457-4EF0-81A2-5B77AD0E9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Eas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he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y of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ter ari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 of the y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returns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89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Rise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ve 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th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eading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7:44Z</dcterms:modified>
  <cp:revision>81</cp:revision>
  <dc:subject/>
  <dc:title>PowerPoint Presentation</dc:title>
</cp:coreProperties>
</file>