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180-8795-441C-9169-6C23BCB8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1EE-314B-4CDA-8A35-CAFF7109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703-8340-408F-A7BB-6A9D958C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8FA-E9AB-4DC6-B1BF-ECBDEA02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887-E674-4844-9495-2EE948EF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C92-BCBE-4CDE-B186-62A4918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C17-F2B3-4A6D-9699-4299EF67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DC2-9D17-4661-B13B-034B042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8A4-AF8B-4C87-BB78-1978CDA3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E00-9271-4680-96F4-E34B6B8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B07-98E1-4D32-B021-51A5479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2CE-A2C5-472B-8BDB-FC12151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A939-0ED8-4CA2-9827-E62D3721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O Th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veler Unkn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O th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raveler unkn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whom still I hol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but cannot s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every sin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unstru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my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ou shalt not f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 I will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at though m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shrinking flesh compla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and murmur to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contend so 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rise superior to my pain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am w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n I am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en my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strength shall fai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hall wit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-man preva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My strength is gon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my nature die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sink beneat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hy weighty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nt to revive, and fall to ri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all, and yet by faith I st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tand and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8. Yield to me now—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for I am w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but confid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in self-despai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eak to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blessing 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onquered b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instant pray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nce shalt m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ll me if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9. ’Tis Love! ’tis Lov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thou diedst fo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hear thy whisp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i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rning brea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hadows fl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e, Universal Love thou ar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mercies move—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0. My prayer hath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ith God;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unspeak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I now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company before is g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am left alone with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e all n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mean to st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k of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faith I s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e face to f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ee thee face to face and liv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vain I have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pt and strove—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1. I know thee, Sav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ho thou 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Jesus, the fee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sinner’s frie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wilt th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night de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stay and love me to the en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mercies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rem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2. The Sun of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on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ath risen with hea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in his w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ered my nature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trength; from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its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uccor bring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lp is all laid up abo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82880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3. Contented now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upon my thig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I halt, till life’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short journey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, O Thou Traveler Unknown (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83808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elplessness, all weakness I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thee alone for streng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pe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have I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e to mov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4. Lame as I 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I take the pre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ell, earth, and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ith ease over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eap for jo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ursue my 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a boun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rt fly h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all eternity to pr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hee who I am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my miser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self hast cal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e by m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 on thy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ad it ther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o, I ask thee, who art thou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ell me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vain thou struggles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get fre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never wil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unloose my 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 thou the 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died for m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cret of thy love unfo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, I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ilt thou not ye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me revea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y new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unutterable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ll me, I st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seech thee, t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know it now resolved I a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, I wi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thee g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’Tis all in va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hold thy tongu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or touch the hollow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of my th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1:49Z</dcterms:modified>
  <cp:revision>140</cp:revision>
  <dc:subject/>
  <dc:title>PowerPoint Presentation</dc:title>
</cp:coreProperties>
</file>