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CC0-A478-46F2-B938-CABF59A9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BF2-04B9-4C3A-83A4-27AFBECA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091-D3D7-4AB8-95F2-453D3B3F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2B8-3DE9-4AC4-98E5-428E8EB6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D3A-AB67-4D26-98B7-765E7B3F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0364-C0C6-495E-B590-CE2AA21A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106D-BF72-4D1C-86C1-145F87E8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F7FC-6FDF-466F-BF3E-FE90C36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5A89-989E-41C1-8E52-10D9BFB9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D99B-89FB-445A-8B62-FF494367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4D4-F38D-4639-9FD3-2B57D88C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2AC-B4B3-4681-AF39-C2F2C9F1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515C-5D3E-4B4D-92B6-A9953A4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8908-5ABC-44A0-8A25-2511007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C19C-AD39-4893-A7D1-0E5B072F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F3D5-6583-417B-A567-4D0E5553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CB81-EA39-4EEC-9D58-B1E52D44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80E-B45B-445C-94C1-56AB30C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0D8-7B64-451D-8AF9-DBDA93F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C15-0009-4934-BAD5-C6CE27F6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E39-1282-4B36-A20B-FAB55EE0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8B8-7D2C-4D1F-AE39-718487E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DB6-0BD1-41DD-92C0-83D753A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FCF-DB87-467D-8F3D-E067D8AD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5CEB-DE15-4FCC-9BB6-FED7DD48A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D63-59F2-42F9-A093-EF88CBE61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ash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ns and daught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your clean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s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uth Duck, 1987 (Jn. 3:3-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r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glory, hono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rship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your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befor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er-wa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irit-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we off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reat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transfor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606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Wash, O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sons and daughte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your cleans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ters flow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Ruth Duck, 1987 (Jn. 3:3-8)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ave them garmen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right and sparkling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ompass them with love and light. Fill, anoint them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end your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oly dove and heart’s deligh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We who bring t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ng for nurt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your milk may we be fed.         Let us jo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feast, partak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up of blessing, living bread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, renew u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uide our footsteps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ee from sin and all its snares,     one with Chri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living, dy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y your Spirit, children, heirs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how deep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holy wisdom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nimagined, all your ways!            To your na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 glory, hono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 our lives we worship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your peopl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tand before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ater-washed and Spirit-born. By your gr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lives we offer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create us; God, transform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ve them gar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 and sparkl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pass them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, anoint the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dov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’s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e who bring t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for nurt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mi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b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feast, parta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up of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ing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renew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footstep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 from s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its snar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ith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,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, hei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how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holy wisdom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imagined, all your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24T01:22:11Z</dcterms:modified>
  <cp:revision>107</cp:revision>
  <dc:subject/>
  <dc:title>PowerPoint Presentation</dc:title>
</cp:coreProperties>
</file>