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CF4-5ECC-4657-9CD0-E8031973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D39-10EA-417E-87E6-B1211271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E3C-3BAD-4427-AFE5-EE6304B2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976-B0E7-446D-B723-1CBCAE38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B8E-CBE9-4129-98E2-BA8AD588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56C-92F3-4869-9CDF-6AF052CC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FE4-302B-4734-B8AF-E83789CF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86F-39D4-477D-938F-D25C5F1E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FF9-27B9-46A4-B4AE-2BCEB5AC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04F-3CC3-4877-B992-653E70CF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98E-D5E6-4AC3-8226-7CC491FE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DCB-EA86-48CD-B32A-D4679AFE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2197-1444-4A18-8125-C1A2905A1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tos y Palma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Filled with Excit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antos y palm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sparciendo, 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ueblo aleg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, 1979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73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ub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n Ruiz Avila, 1972; trans. by Gertrude C. Suppe, 1979, 1987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n the dis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begin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ding on a don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he Son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in that ent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rusal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ing hosan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hrist, our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iving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till calls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ing us to follow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193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a lo le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 empieza a mi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un pollino 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j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mo en la entra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dos cant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Jesús el Re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Cristo viv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nos llama h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 seguirle c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r y 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illed with excite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happy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 cloaks and bran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city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49:06Z</dcterms:modified>
  <cp:revision>44</cp:revision>
  <dc:subject/>
  <dc:title>PowerPoint Presentation</dc:title>
</cp:coreProperties>
</file>