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7FF-13AC-4C11-B002-BA7F1E23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D7A-CD00-490C-86A4-63941D46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7D0-280F-4705-929F-F9B43920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26E-F571-4FB9-8145-7A70E609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579-5358-4A15-BF96-8CACE862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A2D-313B-4714-A24B-99635F21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F1E-ADA7-4A44-9A6B-CD27A6DC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199-3630-445D-BA55-3E90E9A5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C99-2F67-416C-9D3E-92E6C69E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2C7-9DD6-4949-8A8E-81E2CFB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3C2-B01D-4591-81D5-033C9AC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6F8-4891-4DD6-AC23-0B43138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C84-2DFB-41FD-8A16-1C832AC1D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My W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Truth, My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uth, my L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gives us br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7000" y="1600200"/>
            <a:ext cx="458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Herbert, 1633 (Jn. 14: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ends all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killeth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my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Feast, my Streng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shows a f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ends in l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akes his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my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e, my Hear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 joy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ne can m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none can 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joys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00Z</dcterms:modified>
  <cp:revision>25</cp:revision>
  <dc:subject/>
  <dc:title>PowerPoint Presentation</dc:title>
</cp:coreProperties>
</file>