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B64F-8952-4B6F-8B22-F87B12D5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3F2A-1496-4BD0-9FD7-7CDF18E4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CFE9-62A7-4389-B40B-5AC7B2CE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803-AFF6-46E4-B7DF-6105519E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4A4-0698-4B2C-BCB1-D9194C37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BA91-6B88-4373-BFF6-7BC2E5FE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F888-8C2F-4768-BA2D-8A5BAE7A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3AE4-0D01-4544-B0F2-F2FAB6C5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E71-7626-4400-9749-1B48A2BD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747-E8FA-454C-89AC-954F39D0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D47-A0DD-463C-86DF-8D6F67D7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EA8-2992-4A43-ABB7-0F170130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93C2-5865-48C0-94B8-D4F74F070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yer Is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ul’s Sincere Des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Prayer is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’s sincere des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uttered or expr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tion of a hidden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rembles in the bre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6920" y="1600200"/>
            <a:ext cx="42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ames Montgomery, 18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Prayer is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den of a s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lling of a t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upward glan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 ey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none but God is n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rayer is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mplest form of spee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fants lips can t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the sublim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ins that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jesty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Prayer is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trite sinners’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ing from their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angels in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s rejoice and cry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Behold, they pra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Prayer is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ians’ vital br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ristians’ native ai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watchword a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of dea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enter heaven with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O Thou, by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ome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fe, the Truth, the W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ath of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self hast tr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teach us how to pray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5:43Z</dcterms:modified>
  <cp:revision>35</cp:revision>
  <dc:subject/>
  <dc:title>PowerPoint Presentation</dc:title>
</cp:coreProperties>
</file>