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B67-7D7E-4266-8231-09AE6050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FD4-4C6E-4FA2-9ACA-55534CB2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7DD-6A34-4F73-972F-D4BD9563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391-EF71-4C6F-A9F7-55B66F22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FA8-7841-4312-AF3B-06743D1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3A3-2A5D-4B1E-B134-7621DE2A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E33-F7EA-4AA3-8443-9DE7C817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002-C110-4DCD-B67A-EA67C6C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B15-D48A-47AA-A64D-B9DF2FD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3D0-107C-4BCA-842E-D49082D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E44-5A17-4EAE-893B-429BD51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B79-3348-47DB-BCEA-690010E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21A-C3AB-4A3D-A4E8-329D3D5DE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mina, Pueblo de Di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Walk On, O People of G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. by George Lockwood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424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8736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7:25Z</dcterms:modified>
  <cp:revision>66</cp:revision>
  <dc:subject/>
  <dc:title>PowerPoint Presentation</dc:title>
</cp:coreProperties>
</file>