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E1F-420A-4AB5-B047-9C7A70C6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D98-9211-442F-A366-A9BD9AB2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B99-8938-40F1-B07D-A9B5E232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BAE-6D2F-4C40-9BA1-F03B6207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960-216A-42DF-905C-6E9B3A55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6DF-E93A-4882-B80A-3C5214B4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BBE-B4F0-4A6A-8CCF-F5BBA68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D5E-2DBA-433B-B110-352E742D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00C-E82D-4398-B61D-BF17868D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F5C-FBFD-488D-873C-680287C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FE6-7998-47E9-A5DF-096B8F0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EC8-B86B-4EA2-BBDB-C1CBC68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BC69-24F4-4624-A8CE-3AF392CBC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Lover of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lover of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to thy bosom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ea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s ro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tempest still i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8920" y="990720"/>
            <a:ext cx="5126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0 (Wis. 11:26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me,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,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e st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is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into the haven gu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receive my soul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ther refuge have I n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gs my help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on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, ah! lea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support and comfor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trust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s st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help from thee I b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ver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fenseless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shadow of thy 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all I w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all in thee I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fallen, cheer the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 the si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the bl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and holy is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all unrighteous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se and full of sin I a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full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lenteous grac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s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cover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nd keep me pur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 let me take of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 thou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to all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02Z</dcterms:modified>
  <cp:revision>19</cp:revision>
  <dc:subject/>
  <dc:title>PowerPoint Presentation</dc:title>
</cp:coreProperties>
</file>