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CCD-8261-437B-B654-4E55AADB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CE9-4BA2-4C70-B2F1-AEC1064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546-102C-4967-BDFC-2049D81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8A9-944F-4A02-85FA-28D44048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22E-21D9-4B3B-827E-2F6F5C9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392-D566-43BE-8C65-90A5EE3B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408-8CE2-47B9-9AA1-5A5C25E4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025-B5FA-4CA4-9A89-AB73055E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308-CCFD-4081-82C8-C808D2EB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250-EE8A-439B-9B8F-EE4DE36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358-3E77-4EA4-B09E-FE428A9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29C-3A66-4EC4-BF54-B46DC87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0C6-BF76-4EE3-8FF4-780383C0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ather, we praise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he night is ov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tive and watchfu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nd we all before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89560" y="1243080"/>
            <a:ext cx="74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Attr. to Gregory the Great, 6th cent.; trans. by Percy Dearmer, 190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, we off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and medita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we ad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onarch of all th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t us for thy mansion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nish our weak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lth and wholeness s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us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y saints unit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 without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hol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n, and equal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inity bl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thy salv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is the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eaming and resoun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2:49Z</dcterms:modified>
  <cp:revision>16</cp:revision>
  <dc:subject/>
  <dc:title>PowerPoint Presentation</dc:title>
</cp:coreProperties>
</file>