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5CC-CF33-4363-A8E6-79BC7A88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1BC-1854-42A1-97C1-80F4657E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444-212C-4CD7-B970-4D91F5AB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E1A-A4BE-4FE6-9A07-4FCCE747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7114-DD1D-4340-9CAF-129C1223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1EDC-6747-4686-9041-39B17D0E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4800-53F8-496F-90FA-5D85162F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701B-8C35-486E-8D77-2485134F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FFCC-C849-4254-86FC-A04BB090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7145-657F-4EFA-81FE-A96E60C7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917E-045E-458A-9CCE-C5438387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2E6-5F1A-49A2-8F26-EF892554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5960-66BA-4445-951E-FF0F3A87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E8A3-EA43-476F-BB5F-5E14E32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67E2-D3C4-452D-96EC-ED4F8520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8601-B44E-49CB-8E23-6D0F7C4C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7D58-95A0-489C-80B5-0DB0371C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C33-1A61-4BA7-B692-DB1D8B04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D71-ECC7-4803-8AE2-6E6DCC5F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13F-92FC-49E3-88A8-504F6AF3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8E4-F185-404D-BE80-07D396CF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10C-95AD-4927-8236-C3B1824F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87D-3A8D-42EA-9DAA-D1DD96ED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C5E-AAC6-4349-969C-94D55EFD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680B-E9DA-4F33-ADD6-1353D45B1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EF70-3580-42D5-AD1E-F44459705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Am Thin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am thin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thy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t told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89280" y="990720"/>
            <a:ext cx="536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anny J. Crosby, 1875 (Heb. 1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kneel in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thee, m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mune a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iend with frie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28736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re are depth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can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rrow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heights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may not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re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28736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Am Thin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828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am thin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heard thy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t told thy love to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9280" y="990720"/>
            <a:ext cx="536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anny J. Crosby, 1875 (Heb. 1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long to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arms of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clos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long to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arms of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clos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nsecrate 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servi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ow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soul look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 steadfast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wi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2860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he pure de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single h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efor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I sp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kneel in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thee, m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mune a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iend with frie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2860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re are depths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can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rrow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heights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may not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re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nsecrate 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servi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ow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y soul look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 steadfast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wi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in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287360"/>
            <a:ext cx="9144000" cy="417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nearer, nearer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he pure de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single h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efor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I sp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1-02T23:56:35Z</dcterms:modified>
  <cp:revision>10</cp:revision>
  <dc:subject/>
  <dc:title>PowerPoint Presentation</dc:title>
</cp:coreProperties>
</file>