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DD25-D3E5-4C55-9DC7-CE0C6041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5332-1BCB-4E17-A82D-2878D3EB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2D3A-FC09-4C8B-9484-E6858AB5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D4D9-3684-455E-978B-2F2A5EE9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2072-5871-435F-9C20-FA10C033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704E-1778-4E0F-806F-1016D8DA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AEB8-96DA-44F3-B71C-E749D8BA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21E6-D67E-4299-AD9A-DEBF6130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4413-5E37-4EC4-AD6F-AAEBF087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ABC7-B602-4B99-86CC-748631E7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95CE-7353-4FF4-AB65-E23D4745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EBEF-350F-43E1-839C-83AABF43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35F6-5647-4411-91CA-7BEF63114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Kingdom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64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e kingdom of God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a grain of mustard see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t is s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the smallest s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7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dom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87440" y="1015920"/>
            <a:ext cx="638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Gracia Grindal, 1985 (Mt. 13:31-32; Mk. 4:30-3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668600"/>
            <a:ext cx="9144000" cy="31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li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dom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myste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dom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or when it is s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grows in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argest pl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er than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herb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ows into a t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dom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668600"/>
            <a:ext cx="9144000" cy="31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li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dom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myste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dom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t grows so birds ca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t inside 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wn of lea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ep in its shad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way from a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il pr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dom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668600"/>
            <a:ext cx="9144000" cy="31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li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dom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myste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dom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And so we can li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to seeds wh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a t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rger than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tre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just the smallest s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dom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668600"/>
            <a:ext cx="9144000" cy="31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li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dom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myste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dom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15:36Z</dcterms:modified>
  <cp:revision>32</cp:revision>
  <dc:subject/>
  <dc:title>PowerPoint Presentation</dc:title>
</cp:coreProperties>
</file>