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19E-1138-4CD8-ABD2-BE0D5E13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54D-69D5-4C38-AF2A-358895AB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CBF-A819-4FCD-8787-EAD12DCF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382-BE5F-469D-B350-4E7B40CF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819-36C0-45F7-8173-619D7ED5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D61-6136-4D78-AFBE-43CFAF8F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9B5-0D6E-4CDB-9396-4BBA0878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6CD-C23C-42FE-ABBC-2EC620D4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269-E324-4859-940C-D6592FBE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594-733A-435E-A5F7-D8D935CB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7FD-53A9-4409-AF48-C79FAA24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247-2AE2-4FC5-890D-1E8727ED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99A2-DA98-4B4F-8360-FC3A16DED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o  Oo 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Sun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come Sun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6, renewed G. Schirmer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4440" y="106668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uke Ellington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believe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sun and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in the sk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n’t mind the gray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use they’re j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passing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907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aven is a goodness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righter light on high.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Do unto others as you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would have them do un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a brigh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believ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w, was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ways will b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n mak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907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8:02Z</dcterms:modified>
  <cp:revision>59</cp:revision>
  <dc:subject/>
  <dc:title>PowerPoint Presentation</dc:title>
</cp:coreProperties>
</file>