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84F-73C3-40F4-9B03-E7225750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75B-4C55-41E9-BFAE-03517B30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5EB-A4A1-4C81-ABA8-6D0C46B1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0A5-292D-466B-8850-ADAD0C37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F18-2A9C-4F58-B61A-91F86BC2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4DA-9DF2-4B77-91D8-73201D5F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1AA-83B3-4F4E-9464-C8616CB5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694-865B-4414-A8E9-87AB260B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421-B690-4127-A68E-0D45ED40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C3B-88A4-47B6-A70D-90F121C3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011-5A29-4AA1-9000-412CA29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AE3-69E9-4D3E-9D53-DD519CE4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4B11-978C-4640-A695-817F4E7A3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e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37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sabbath rest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Galilee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calm of hills abov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e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1120" y="1066680"/>
            <a:ext cx="473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Greenleaf Whittier, 18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ilence of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erpreted by lo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 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8:30Z</dcterms:modified>
  <cp:revision>9</cp:revision>
  <dc:subject/>
  <dc:title>PowerPoint Presentation</dc:title>
</cp:coreProperties>
</file>