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87A-D95E-4C59-A563-A3C5BED0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D3B-7338-44FD-9EAD-83D44882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ED7-6C9D-4421-A18F-5AE6C2FF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47D-966E-47C3-ACB3-D7A128E3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91D5-1FAE-4628-A29B-DE56152B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0966-11F0-4496-8BE8-1961E5AD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646D-3B2C-4DC3-8189-396BB22F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A488-1A52-4277-99F7-785CC91E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71AB-EF07-4A7C-8841-F871D3FD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FB7E-9FE3-4660-8B78-89D58033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E0CA-E484-461D-A944-2C8D7C9F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FDD-DA7A-4BCC-A4D4-79F85AFA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3396-F6D7-4626-BBAF-D7BED8F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8C7A-A14C-4849-ADBE-16FBA7C7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7F47-3BF8-4654-968F-15696F25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7AC5-F7EC-4E9E-BB11-8BC23BD9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6468-0A22-4D3E-A796-B959069D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283-8731-4B9D-A7FB-F9D62290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485-F56A-4D4C-A89E-B16A4A39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E42-31DE-41BD-95E8-BC345EBE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0D1-701B-4867-A4F3-BABB2EC0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C2A-E4CE-4B22-909D-B74AFFD1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74C-8001-46C2-8B90-2C97CAE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B17-81FD-4E40-BBB8-F190EC80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84BD-25D3-4D62-A578-3C46B5528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2302-D2E5-4206-93AD-8C4F15362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Up Your Head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Mighty 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ift up your hea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mighty gat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lory wait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8640" y="1676520"/>
            <a:ext cx="73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Georg Weissel, 1642; trans. by Catherine Winkworth, 1855 (Ps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drawing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s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ling wide the p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it a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t ap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earthly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aven’s empl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ned with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Redeemer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us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pen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thy i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race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rev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y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d u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our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al is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offered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drawing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s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ling wide the p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it a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t ap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earthly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aven’s empl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ned with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Redeemer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us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pen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thy i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race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rev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y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d u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our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al is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offered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Up Your Head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Mighty 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288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Lift up your hea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 mighty gate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the 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glory wait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8640" y="1447920"/>
            <a:ext cx="73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Georg Weissel, 1642; trans. by Catherine Winkworth, 1855 (Ps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2-29T00:15:44Z</dcterms:modified>
  <cp:revision>58</cp:revision>
  <dc:subject/>
  <dc:title>PowerPoint Presentation</dc:title>
</cp:coreProperties>
</file>