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969-5951-41AB-BEA8-F897A22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877-5DBF-4D50-9D8B-1F2358BA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994-069F-4EE2-B879-24752742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023-F38D-48BE-A784-6FF6E3E8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D58-9731-4BD4-85AA-7B921F7C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F0A-A769-44DC-AAC8-6963E5C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669-1EFE-432D-AA63-F2AEDF7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6FE-7306-492A-B2A6-C4D7F1D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F89-ECB9-44D4-A028-F102A8D5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0A1-D62A-4491-8873-0357D80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A16-9EF5-42E5-93B5-8427577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7B7-292B-487A-A067-CF69B21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BFE-9E45-4FE4-B421-BC0C02485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m Shall I S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om shall I sen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 cr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y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ear God’s v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ed Pratt Green, 1970 (Is. 6: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ure wher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cation l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any sh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uch a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o can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od so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laim t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uch a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doub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ep un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conf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ai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23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yet,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ho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what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may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st defea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ture f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are to answ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se who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r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aily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ength to b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oughts, our sk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erg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s on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37Z</dcterms:modified>
  <cp:revision>88</cp:revision>
  <dc:subject/>
  <dc:title>PowerPoint Presentation</dc:title>
</cp:coreProperties>
</file>