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3EF-9A7F-418D-B467-82F28164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91C-9456-405E-93B2-9DFA3869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93B-88B2-4CF2-B853-2FCFB87E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52E-955B-41E9-8D63-B035F03F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455-02B4-437F-AA77-F661A55D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17C-6635-414D-AEDA-917A1BE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001-AA95-43A2-AC4A-8E59A4EA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E41-F2D6-49F0-884A-E4E5CC1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CC8-866D-4212-A88D-9523759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84D-BBE7-490C-8576-B469A9D2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7B5-A7D6-4349-BA30-9260BCBA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AC7-BB06-4B5B-B4EB-322F2443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6609-2780-4AC1-AF0F-EBE37DDF3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il, Thou Once Despis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John Bakewell, 1757, and Martin Madan, 1760, alt. (Rev. 4:2-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Hail, thou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nce despised Jesus!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Hail, thou Galilean King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e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ts ador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ted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Father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for sinn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plead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thou d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place prep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for sai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t interce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in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orship, hon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,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udest prais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ght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u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, y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ic spi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your swee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blest l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meri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to ch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’s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dst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leas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dst fre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,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versal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hast bor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in and sh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y mer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find favo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is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Pascal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God app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our s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e were l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al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u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onement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be for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virt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y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ed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te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conciled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esus, hai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hroned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b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8:09:48Z</dcterms:modified>
  <cp:revision>84</cp:revision>
  <dc:subject/>
  <dc:title>PowerPoint Presentation</dc:title>
</cp:coreProperties>
</file>