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B97-412F-422F-8DEC-6A5CF4BEE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DC4-0142-4C69-984F-9BE2ACBF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296-0C88-4374-9C0E-5910C36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0B4-20D8-4115-B8CE-90E17FC8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88D-8E50-4E36-B409-4A6132E2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F831-C99D-4B2E-8427-AEAA1345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AF2-A5E5-4E53-B344-CD72226B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D5F4-29E0-4698-9F3E-D1F00D5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DB5-9C12-44C4-B2D5-9E32DAE9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9801-122F-4C6B-AC91-585BA27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C5A1-C669-4176-9B1A-B6F192A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ED44-23DE-4EF5-84A9-2E513D3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232-A397-4913-BB4A-1008A89E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37BF-E113-4EF6-A895-BE7B1839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703-EBB6-4CB2-9D2C-990E59F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1285-25A6-4009-A46A-E4FFA9A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E55A-B26F-4DE6-AA81-33C7AFF5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16C3-BE2E-4918-A673-40AAA65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D84-C8C3-440A-A83F-C456ACA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177-802E-4A75-8F97-9C5F43A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E71-42B4-47ED-B109-1177A69D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AA0-2F9F-47BB-9EC4-B7B824C2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8C0-464B-412A-9F25-4B2A5DF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46C-1005-4E47-9288-F8F020B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2CB-C736-4615-9D7D-B6BD55B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9C7-858C-4DA0-BDFA-40BF4E185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AD4-F512-4840-9BF5-D3C732559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47920"/>
            <a:ext cx="9144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 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 Father, we are yours, we are you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05T01:16:12Z</dcterms:modified>
  <cp:revision>138</cp:revision>
  <dc:subject/>
  <dc:title>PowerPoint Presentation</dc:title>
</cp:coreProperties>
</file>