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17D-EDF8-474A-84D7-8B4A0D51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868-2FE1-40F1-97DA-7A3B0A5D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1D50-8CEB-459F-BBF8-746A07AD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874-74AC-49FD-A647-975CF4CA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7AB-FA04-4153-A89D-D7AB3F1C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E5E6-A4D4-4062-B5E3-22C41389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B2A-4F69-4580-9CF2-114E5CA2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B6F-492F-47BA-84A3-4E5A675D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1F0B-DF4C-4E92-B242-9CE32587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11D-BDFA-4998-A2F5-82D2688A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62F-C04D-42DA-99A6-AC6841D1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B50-5F92-42D5-A58E-20537FBA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49BE-DA37-4D56-B6C5-957947A23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man in the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oman in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nt from giving bi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 our precious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is on the eart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35520" y="101592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Women on the r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comed and resto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vel far and w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ness to the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7. Women on the h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when men have fle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needs loving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your hope is d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8. Women in the da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and spices br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liest to mour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liest to s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oman in the crow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eping up beh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ing is allow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and you will f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oman at the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stion the Messia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your friends and te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nk your heart’s desi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oman at the f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righteous sta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go in peac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him with your hai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oman in the hou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rtured to be mee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your second pl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sten, think, and speak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5:14Z</dcterms:modified>
  <cp:revision>31</cp:revision>
  <dc:subject/>
  <dc:title>PowerPoint Presentation</dc:title>
</cp:coreProperties>
</file>