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6E6-98B3-4A1F-8545-93D98BB3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591-BF6C-47DA-BDA6-D9C8D6E7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B6F-94B1-4D6B-9A89-13DCDDAA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B83-D735-440C-BD22-AE3153CC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7EF6-DEDB-4C60-B3AB-FB90DE29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7CC7-EB2C-4F3D-94BB-DEDD9A0D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3153-3063-407B-BFE1-7541A263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EBEE-21AA-4BA9-A326-46EF5E8F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5A85-556C-4B0A-B8D0-9F087B7A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5DD4-8994-4571-BDED-659C2E6C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570B-D1A6-46BF-921D-44283A2C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AA1-C54D-493B-8482-FB694E3F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DB34-B806-436E-84FA-9FA362AE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6005-6732-472D-8A10-0FA9FCE1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817A-11DC-419D-AB8E-2985E3FA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C845-E40A-4450-AED9-67174300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6E97-F19A-451C-AD9C-B96678A8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317-AE35-4C45-881E-DCE59998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EB9-BFF5-469A-B108-5F2E7D13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E12-CBF6-4AA1-B1AF-1E379409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1B3-BC0C-4424-93DF-550C1055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91D-FF81-4528-ABA4-063DA3A7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334-89DB-45F7-A371-A370CF5F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A9C-8615-49EE-944E-DDBA4E31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9FFE-1F01-4ACF-820B-152D04F61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2A17-9464-4D79-B10D-FDBE5BB80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848720" y="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336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in in a song 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join in a song with sweet accor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779840" y="70020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Isaac Watts, 1707; refrain by Robert Lowry; 18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-30240" y="10666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let our songs aboun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 tear be dry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990720"/>
            <a:ext cx="91440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o fair  -  er    worlds</a:t>
            </a:r>
            <a:br>
              <a:rPr sz="5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fair - 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worlds   on high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high, to fairer</a:t>
            </a:r>
            <a:br>
              <a:rPr sz="4400"/>
            </a:br>
            <a:r>
              <a:rPr b="0" lang="en-US" sz="4400" spc="-1" strike="noStrike" baseline="16000">
                <a:solidFill>
                  <a:srgbClr val="000000"/>
                </a:solidFill>
                <a:latin typeface="Times New Roman"/>
                <a:ea typeface="Arial"/>
              </a:rPr>
              <a:t>to      fair    -  er   worl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orlds   on   high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on  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high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83808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– on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924680" y="-3024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-30240" y="25304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we that love the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our joys be known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join in a song with sweet acc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join in a song with sweet acc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79840" y="106668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Isaac Watts, 1707; refrain by Robert Lowry; 18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325520"/>
            <a:ext cx="914400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us   sur - round</a:t>
            </a:r>
            <a:br>
              <a:rPr sz="4500"/>
            </a:br>
            <a:r>
              <a:rPr b="1" lang="en-US" sz="45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us surround the throne,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rone, and thus</a:t>
            </a:r>
            <a:br>
              <a:rPr sz="4500"/>
            </a:b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and      thus           sur - round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urround the thron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e                 thron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124920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98108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those refuse to sing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o never knew our God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 may 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1447920"/>
            <a:ext cx="914400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eak their joys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speak  their  joys abroa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road may speak</a:t>
            </a:r>
            <a:br>
              <a:rPr sz="50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may  speak   their       joys</a:t>
            </a:r>
            <a:r>
              <a:rPr b="0" lang="en-US" sz="50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joys abroa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broa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52388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20430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hill of Zion yiel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sacred swee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15840" y="1371600"/>
            <a:ext cx="9144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us   sur - round</a:t>
            </a:r>
            <a:br>
              <a:rPr sz="5400"/>
            </a:br>
            <a:r>
              <a:rPr b="1" lang="en-US" sz="45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us surround the throne,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rone, and thus</a:t>
            </a:r>
            <a:br>
              <a:rPr sz="4500"/>
            </a:b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and      thus           sur - round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urround the thron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45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the                 thron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67652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r walk     the   gold - en</a:t>
            </a:r>
            <a:br>
              <a:rPr sz="4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the  golden  streets, 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,     or </a:t>
            </a:r>
            <a:br>
              <a:rPr sz="4400"/>
            </a:b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          t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alk  the  golden street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gold        -       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streets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24920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37304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let our songs abou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 tear be d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hroug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ground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67652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fair  -  er    worlds</a:t>
            </a:r>
            <a:br>
              <a:rPr sz="4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fair - 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worlds   on high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n high, to fairer</a:t>
            </a:r>
            <a:br>
              <a:rPr sz="4400"/>
            </a:br>
            <a:r>
              <a:rPr b="0" lang="en-US" sz="4400" spc="-1" strike="noStrike" baseline="16000">
                <a:solidFill>
                  <a:srgbClr val="000000"/>
                </a:solidFill>
                <a:latin typeface="Times New Roman"/>
                <a:ea typeface="Arial"/>
              </a:rPr>
              <a:t>to      fair    -  er   worl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orlds   on   high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on  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high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249200"/>
            <a:ext cx="91440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779840" y="1066680"/>
            <a:ext cx="57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; refrain by Robert Lowry; 186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716040"/>
            <a:ext cx="914400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  sur - round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thus surround the throne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rone, and thus</a:t>
            </a:r>
            <a:br>
              <a:rPr sz="50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and      thus           sur - roun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round the thro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the                 thron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8288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26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 may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9684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1066680"/>
            <a:ext cx="914400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eir joys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speak  their  joys abroa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oad may speak</a:t>
            </a:r>
            <a:br>
              <a:rPr sz="50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may  speak   their       joys</a:t>
            </a:r>
            <a:r>
              <a:rPr b="0" lang="en-US" sz="5000" spc="-1" strike="noStrike" baseline="20000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s abroad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</a:rPr>
              <a:t>broa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6002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26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716040"/>
            <a:ext cx="9144000" cy="58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alk     the   gold - en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walk  the  golden  streets, to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ets,     or </a:t>
            </a:r>
            <a:br>
              <a:rPr sz="5000"/>
            </a:b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walk            th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 the  golden street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gold        -       en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</a:rPr>
              <a:t>streets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8288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26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716040"/>
            <a:ext cx="9144000" cy="57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air  -  er    worlds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fair - 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worlds   on high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, to fairer</a:t>
            </a:r>
            <a:br>
              <a:rPr sz="5000"/>
            </a:br>
            <a:r>
              <a:rPr b="0" lang="en-US" sz="5400" spc="-1" strike="noStrike" baseline="16000">
                <a:solidFill>
                  <a:srgbClr val="000000"/>
                </a:solidFill>
                <a:latin typeface="Times New Roman"/>
              </a:rPr>
              <a:t>to      fair    -  er   world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s   on   high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on 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</a:rPr>
              <a:t>high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4479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, beautiful Zion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88884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those refuse to s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 never knew our God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ut children of the heavenly King may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185904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Zion, 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city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066680"/>
            <a:ext cx="9144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eak their joy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 baseline="18000">
                <a:solidFill>
                  <a:srgbClr val="000000"/>
                </a:solidFill>
                <a:latin typeface="Times New Roman"/>
                <a:ea typeface="Arial"/>
              </a:rPr>
              <a:t>speak  their  joys abroad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broad may speak</a:t>
            </a:r>
            <a:br>
              <a:rPr sz="5400"/>
            </a:br>
            <a:r>
              <a:rPr b="0" lang="en-US" sz="5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may  speak   their       joys</a:t>
            </a:r>
            <a:r>
              <a:rPr b="0" lang="en-US" sz="50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joys abroa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5400" spc="-1" strike="noStrike" baseline="40000">
                <a:solidFill>
                  <a:srgbClr val="000000"/>
                </a:solidFill>
                <a:latin typeface="Times New Roman"/>
                <a:ea typeface="Arial"/>
              </a:rPr>
              <a:t>broa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8580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– on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21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hill of Zion yield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sacred sweet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we reach the heavenly fields,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914400"/>
            <a:ext cx="91440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r walk     the   gold - en</a:t>
            </a:r>
            <a:br>
              <a:rPr sz="5400"/>
            </a:b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the  golden  streets, 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,     or </a:t>
            </a:r>
            <a:br>
              <a:rPr sz="4400"/>
            </a:b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walk            t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alk  the  golden streets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gold        -       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400" spc="-1" strike="noStrike" baseline="20000">
                <a:solidFill>
                  <a:srgbClr val="000000"/>
                </a:solidFill>
                <a:latin typeface="Times New Roman"/>
                <a:ea typeface="Arial"/>
              </a:rPr>
              <a:t>streets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840" y="91440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e’re marching to Z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eautiful, beautiful Zion;                     we’re march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to Zi - on,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Zion,  Zion,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city of Go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18-11-03T13:04:12Z</dcterms:modified>
  <cp:revision>62</cp:revision>
  <dc:subject/>
  <dc:title>PowerPoint Presentation</dc:title>
</cp:coreProperties>
</file>