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743-D875-422D-B1BA-24826ADB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DE8-7A72-493C-9707-31FBE6A2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979-69B3-4E7B-BA37-61668CD8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D8C-99F0-4231-BBAE-166CCF10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A95-7898-461F-A3CF-1B5EE3F7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2DC-BED7-4E70-93AB-5B13BBE6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9E3-5FF8-46DE-9CA9-25BCCCF6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817-67EC-46FC-8019-73D3331F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DB3-E676-47B7-B5A1-4607005A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0F7-E9AF-4209-8755-3F39A7D4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3BD-F0E7-4085-B31D-01A68170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2BB-0827-4E37-8125-C57A1F41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DE40-54A0-4DE2-88D4-65A9858D9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All the Spirit’s Gifts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Of all the Spirit’s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gifts to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 pray that I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may never ceas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learest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o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and tr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these thre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Spirit show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the r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t from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fl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fru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Spirit sh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poss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love no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destr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ever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di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is i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gh what’s a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myste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ours on 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da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s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o forth in peac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e go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made aw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, in a n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like thi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8:08Z</dcterms:modified>
  <cp:revision>93</cp:revision>
  <dc:subject/>
  <dc:title>PowerPoint Presentation</dc:title>
</cp:coreProperties>
</file>