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F8C-1383-4741-BB3D-EF4D4756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C77D-1CAC-421E-B5C5-352E3E94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95CA-146E-4556-A101-7AE2E1EC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B4BF-69F2-469A-9D91-6DBC0A28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AB5-06C5-4B09-A595-25A42134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FD0A-0950-441B-B16B-5AC09284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4C7-2B62-4B42-9B9D-1F43AF0C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00D-42C4-47FC-A6D0-8949541F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012-CBE9-47DD-ACC6-FCAD00B4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C5F3-193E-43E9-870C-C9426C97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C900-04A2-4605-B33A-525B820D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4760-4D0A-4454-803E-3FD2F60C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865C-13E9-4EE7-B694-920B3336A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Jesus Came to Jord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me to Jord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be baptized by Joh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did not come for pard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as the sinless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0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Came to Jord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0680" y="1092240"/>
            <a:ext cx="76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73 (Mt. 3:13-17; Mk. 1:9-11; Lk. 3:21-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ca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re repent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all who mourn their si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peak the vital sente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which good news beg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e cam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re tempta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utmost woe and l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us and our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ie upon the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Came to Jorda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whe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ve desce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him, the Son of Ma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idden years had e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ge of grace beg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Come, Hol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id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keep the vows we mak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very day invade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 bondage brea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Came to Jorda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e, giv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es direct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ift we covet most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re the resurrec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eads to Penteco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6:08:41Z</dcterms:modified>
  <cp:revision>10</cp:revision>
  <dc:subject/>
  <dc:title>PowerPoint Presentation</dc:title>
</cp:coreProperties>
</file>