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F1F-D425-4B12-9075-3D4421CA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ECB-39EC-4CC3-9279-C774FF11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7AA-7E34-460C-B370-F4968F76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73B-C4BD-4D7B-93F7-DE99AA27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ABB-F45B-41DA-B99B-8F9CE84B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37D9-2CBB-4293-A2C4-77F1D902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29C2-E8D8-4520-B3BF-EC7ECFBA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83F6-036E-4226-92BC-BF5EFFB8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2D96-931B-43DE-8A69-8100DDBE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FD0C-6496-4480-9FF5-264F40F8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C45B-2969-4AA2-81CE-977AC642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EAE-47E1-4E5C-A38A-5795F0E4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F93B-533F-44EF-A606-55432649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A56A-9B95-4811-93D4-AFB61C6E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5B77-3FA8-4383-B42D-F8F7471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74C6-24E7-47D5-AA46-B8824E2E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D29F-BC64-4BCE-A17C-55C07495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DD0-1BDF-4158-B0B1-37944142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D05-183A-472A-9867-847B5BB7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E85-1CC3-4B72-B118-3585C48F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4DA-223C-47A8-A6AB-239504C4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44A-69C1-4466-97EA-C9B9C189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39C-A8FC-476B-B6B7-514D367C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EB5-60F6-4D56-8BE7-AA9C6694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E17B-2113-46D0-9329-946FF4EE6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C3A-767C-46C0-9235-32B7B3BEB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Gifts, On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change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ime and sp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fear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us 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Al Car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99072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l Carmines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we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shadows 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great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Gifts, On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6120"/>
            <a:ext cx="9144000" cy="388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God of change and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f time and sp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fear the futu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ve to us your gr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760320"/>
            <a:ext cx="31813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l Carmines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Al Car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6094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midst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nging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st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race to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320"/>
            <a:ext cx="914400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God of many colo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f many sig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 have made us differen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essing many kinds. As the old ways disapp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your love cast out our f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76320"/>
            <a:ext cx="914400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midst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nging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st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race to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Freshness of the mor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ewness of each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 are still creat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ndless love and light.                  This we see, as shadows p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 from one great he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76320"/>
            <a:ext cx="914400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of many col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ny s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diffe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 many ki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old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st out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eshness of the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ness of each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still cre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20T13:23:03Z</dcterms:modified>
  <cp:revision>31</cp:revision>
  <dc:subject/>
  <dc:title>PowerPoint Presentation</dc:title>
</cp:coreProperties>
</file>