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992-D933-4758-A5E4-E738E0C2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EB2-BC66-48BB-9AE9-B5756E59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250-1AAB-4FC3-853D-B0F511E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A69-FFC7-48A7-97F1-1CAF099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1FD-8D94-4D6A-B798-E2907058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7C2-E927-437D-9116-1CABA68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2E7-536A-460F-8682-AD72340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E56E-DEE9-4368-A260-E180D35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B32-C30E-43D6-BF9C-B7FF8DBA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E35B-E82C-41D0-A853-D1837DE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DB7-3EFD-45F2-8167-9C1D5FB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151-AA53-4F7D-BF7A-13696393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B873-6E86-40FC-9B59-C45A055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A85-5892-401E-86D5-C0987CE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2464-2B9C-400C-B256-C32B7D0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065-E466-4BD3-842B-71F89E71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79A-D4F2-4FF7-9015-14C96F99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53-477C-405F-AE1F-F20FC8A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F40-0256-4D45-B77B-4F95510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995-9548-45CC-A8DA-134C163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71E-4DAC-42E3-9B27-B032FA3C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8EF-D200-4CAA-9514-60ED8A8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B93-4021-4BA3-9E7B-5329E0C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94C-52B4-435A-9B89-B9BA8A5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4A1C-96E1-4DAF-91DA-DC4AD04B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D4C-7AE3-4A7D-AA4D-898F3667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8800" y="116856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5084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748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13:45Z</dcterms:modified>
  <cp:revision>20</cp:revision>
  <dc:subject/>
  <dc:title>PowerPoint Presentation</dc:title>
</cp:coreProperties>
</file>