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12A-FE7A-4CC2-910A-F710444B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A09-211C-47FD-A22B-4EEC6AE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441-E921-49DC-A59C-77CFD9E9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8D0-7869-4174-85B3-1618873D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159-F376-4757-B1D7-8C39B6E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C47-6E87-4664-9405-1970E472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B45-51B4-471F-987B-B391835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505-D25A-42D2-A933-8C7F37A1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3E2-3522-4B02-8F19-143EBD47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137-63AA-4058-9528-6CB2F5C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91B-AD4B-4BEB-BEEC-905AA59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FF5-30F3-4D90-B365-3D7A666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A27-4EDA-4BDA-B9C7-14C5C141F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me, O Thou Traveler Unkn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2 (Gen. 32:24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O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veler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till I hol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annot s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lessing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onquer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instant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i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i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’Tis Love! ’t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eds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ear thy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brea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adows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, Univer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p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is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am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k of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k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ho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mis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hast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by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ad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ield to me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I am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onfid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elf-desp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9:37Z</dcterms:modified>
  <cp:revision>136</cp:revision>
  <dc:subject/>
  <dc:title>PowerPoint Presentation</dc:title>
</cp:coreProperties>
</file>