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FB0-0899-47EB-899C-155A67F6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EF7-D7BA-4179-A9B6-E31D034B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D28-B425-4BCE-AAAC-93E2E5A5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5CC-C167-41EF-8902-4B5DADF3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640-8D5B-4249-945A-5DD1FF51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B8A-D1AB-44FF-8827-FF7309A0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5F1-53A9-43C6-9ABD-5EEC5D15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D71-5FE9-4F44-843E-F7BD7753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9F8-EDCA-44EB-B4F2-39F486E3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AB2-3CEC-44CC-B001-217A1483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C0D-7B9F-45EB-80BF-7E4FBD66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607-F5C2-427D-915D-DC23D78F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4933-355F-4ED5-87C1-354F1002C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6868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lmighty and everlasting Go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t is your will to restor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ll things to Christ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whom you have anointed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priest forever and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ruler of creatio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8640" y="106668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235160"/>
            <a:ext cx="86868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Grant that all the peopl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of the earth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now divided by the power of sin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may be united under th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glorious and gentl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rule of Jesus Christ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128680"/>
            <a:ext cx="8686800" cy="261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ho lives and reigns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for ever and ev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0:31Z</dcterms:modified>
  <cp:revision>22</cp:revision>
  <dc:subject/>
  <dc:title>PowerPoint Presentation</dc:title>
</cp:coreProperties>
</file>