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1FE-0D8C-45FF-A7FB-8869624C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5891-5022-4862-9130-2B9D07398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513-8BB2-4219-BCEC-E14F918F1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F055-D319-4E07-BF5C-80EA827EC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DCAF-48FF-453C-B966-B5027D92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3A1-851E-4A9F-9689-352D2E12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DC76-B648-4FCE-B7C3-6F01F9461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08B7-B4AE-4C09-91CE-592D5FA33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68F-E7DE-4701-AE9D-DD4ECA9C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DCB4-3947-425B-BB3D-BF3FDE46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2FD-B8E5-41A7-AFA3-1D880E66A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5BB4-EFC9-4E3E-A32D-5A0D5DC7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DC3C-A8C5-4D74-A3D0-A056DB7D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8AAE-1528-43A0-BFF7-6424DF39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F3D-FF38-4397-AAB1-200439327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93E6-25CC-4EE1-A431-4332279F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121-7B41-4352-8394-6FA9DF4C6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FE-13C6-4633-BCC8-321F99C0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31F-10C1-4072-8921-68CDBC58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2CD-4D5E-44A3-B5E4-F94554DE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6D0-7BC9-471C-B093-E8CF26C0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6C4-76DB-4017-A257-4D0ABF10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A049-8EC6-42E3-B518-29FE31A5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836A-5701-4804-BFA8-A06AF88C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B8EF-D346-43F3-AE40-D0EBAFC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104-B7D7-46BA-908D-99DB8945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A482-E940-4F73-8A83-67CFEFD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6D3-5E5F-4BAB-973D-E181CAE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C4E-B5F9-4BA6-98D2-33224A9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7397-BF17-4543-A393-026D7894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3C6-86F3-42EF-8D41-49CD8726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B8A-7FB3-4B65-8FEC-36A8F9A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AA79-3658-4E3F-805E-14C7061D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14AD-3EBD-4DAA-B00E-5F93C53E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24A-469A-4846-8CFF-5B29244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269-4362-4810-A0D4-9A66C152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06B-A572-418E-8EFB-7A303B77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819-B402-424C-8060-99A3717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DF2-171A-45B8-9C75-35D1126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0EB-B03B-44C4-8E6F-D15C1AF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2B8-D15D-4DCA-8461-1536921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F01B-DB8D-4668-8813-D97939F8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B2C4-2654-424D-BA31-BC3C402E4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Break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22860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 us break bread togethe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break brea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6344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us drink wine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drink wine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9216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praise God together on our knees,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76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 me.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(on me)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76320"/>
            <a:ext cx="9144000" cy="49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us praise God together on our knees,       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praise God toge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 fall on my knee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rising su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, have merc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pleas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(if you please)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m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n our knee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pleas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f you pl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t Us Break Bread Toge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6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219320"/>
            <a:ext cx="9144000" cy="455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break bread together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break bread toge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n our knees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(on our knees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African American spiritual (Acts 2:4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2T01:57:08Z</dcterms:modified>
  <cp:revision>124</cp:revision>
  <dc:subject/>
  <dc:title>PowerPoint Presentation</dc:title>
</cp:coreProperties>
</file>