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912-C30A-4C3A-8C60-0ADE6C5C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508-1E5D-499C-9E26-348AF43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ED0-726E-4297-BB5F-B64BBDC8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EBC-C958-4607-BB25-0B53FF22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F87D-15DA-44D1-9A36-8117B08E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829-49BA-4A9A-ACEE-EAED5CD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79D3-CDEE-4F09-BFB7-A4E9FA3C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06F0-C922-42E8-97A2-6BC22E57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DC86-F3E7-4811-B4B2-3CC8899D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EE1E-8935-47F2-9343-143109B4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4A52-2523-4D3A-98B3-74D37B62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D88-9CD4-4E35-91ED-0759DDD0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6692-6AB5-4642-9D49-9F1E1AF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0E7B-74AF-4D48-95FD-D8992B3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F7B-B503-4E92-8518-58D8B390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A89-621A-4FF3-AFB2-0CBBA874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F9CD-F619-4398-A620-566154BF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1CA-6F95-43AB-8321-BA71D40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F5D-D54F-4985-B236-B41E7F44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753-55FF-476E-83F5-A268A393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396-40FF-4685-A2BE-77E81B1A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50D-1733-446D-B004-2598E4E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D24-CBE4-4E03-ADFC-8D2BC7C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EEA-68A5-4493-9153-DC9033F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71AC-599B-4369-9275-F51908031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FAC-8A39-435E-8883-A8887FF1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re is a pl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full relea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place where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joy and pe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2520"/>
            <a:ext cx="9144000" cy="546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re is a place of quiet r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place where s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annot mole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9160" y="1066680"/>
            <a:ext cx="404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leland B. McAfee, 19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mfort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lace whe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47:12Z</dcterms:modified>
  <cp:revision>12</cp:revision>
  <dc:subject/>
  <dc:title>PowerPoint Presentation</dc:title>
</cp:coreProperties>
</file>