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2F5-98EB-476C-A12E-C9118F8E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9E9-2B93-4D1B-9231-564FBE43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734-B773-421B-A1E3-857FF90E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429-9FB1-4FF9-85FF-AEBA0731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956-D7F9-43B9-A358-7173187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C52-2FA1-4C8E-A304-5DCAA285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1BF-46E6-44A8-9F95-02A4E906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F6F-46AD-4BF7-A1A3-667C3093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C7C-0455-471D-8164-C68622D6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60B-A47F-434F-A20A-E7F07A28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9B2-54BD-4761-93E8-7EB6265F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B39-8C21-4B0A-8A51-B8BA7EF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1FD6-4536-423D-8772-ED655C4CF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 New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98108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give you hearty thank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the rest of the past n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or the gift of a new da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its opportunitie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leasing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New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97520" y="1219320"/>
            <a:ext cx="27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astern Orthodox Prayer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003320"/>
            <a:ext cx="876312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we may so pass 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urs in the perfect free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your servi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at eventide we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gain give thanks un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9:27Z</dcterms:modified>
  <cp:revision>14</cp:revision>
  <dc:subject/>
  <dc:title>PowerPoint Presentation</dc:title>
</cp:coreProperties>
</file>