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F09C-EEE0-4637-89AD-5796C9EA4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B663-E4F7-4FBB-A1B1-543F96E53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E881-F65E-42C0-993A-3D9E02168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EAD1-CC91-4612-A08D-4AB0CC778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F32C-12E9-4BB5-95D7-1FEFE38E1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1B7D-7001-4CB4-BB45-F59DB589C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E876-A683-4697-AB86-1B6638DFF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6D69-FB32-417C-9076-9EE52174E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8399-1F89-41EC-92B6-7040036EF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D45C-AB61-42CC-A638-CCBB2C38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5F32-2B66-4B2A-90A7-BDA60FA9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D2C3-9C51-4EE3-A83C-BC74C948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41003-B948-4D70-9F43-D52517288C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oly Spirit, Come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nfirm 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3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ly Spirit, Come, Confirm 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5440" y="1676520"/>
            <a:ext cx="908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Brian Foley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51460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Holy Spirit,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nfirm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the truth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 makes know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1 Faber Music, Limi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have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understand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rough your help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ifts al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ly Spirit, Come, Confirm 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Holy Spirit,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nsole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as advocat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plea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ving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the Fa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rant in Chri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help we ne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ly Spirit, Come, Confirm 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Holy Spirit,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new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yoursel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make us li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ly thr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r loving prese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ly thr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gifts you gi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ly Spirit, Come, Confirm 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Holy Spirit,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ossess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the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ree in O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ly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Fa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ly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S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9:56:05Z</dcterms:modified>
  <cp:revision>91</cp:revision>
  <dc:subject/>
  <dc:title>PowerPoint Presentation</dc:title>
</cp:coreProperties>
</file>