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E71-A8C9-4553-9CF8-CFAC1A4A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455-B034-477D-B1D2-3B714D3A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67E-8DCA-4F45-8B4A-C03830FB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42D-1ACA-4FC1-8331-C4AF4166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053-8CF1-4A65-B1C3-519B0810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942-B96B-4E05-B47A-6228F6E3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8B1-7721-4895-86E2-255754CA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96-26F6-4241-A532-BFD5D2BD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D2D-F7F3-48AA-B22A-73C5854D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EF7-6E4A-4B9E-9687-D0198EC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FDE-B787-4BF0-B86A-200853B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127-D7D6-40C5-B474-A392B01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CBBE-B6C1-49D0-BD0D-81650F844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ck Thyself, My Soul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Deck thyself, my so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gladnes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ave the gloom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unts of sadne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ann Franck, 1649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, 1863 (Jn. 6:35-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rt invi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requi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is banqu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ow v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ep its treasu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ere dost giv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y gu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receiv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light’s splend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s re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grace unb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this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quet fou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o’e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he reign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to d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he deign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n, wh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 dost bright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, who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enlight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, the b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ny know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t, whenc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eing flow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t thy fee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cry, my Mak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me be a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t partak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d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,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, brea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pra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e gla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 obey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44Z</dcterms:modified>
  <cp:revision>113</cp:revision>
  <dc:subject/>
  <dc:title>PowerPoint Presentation</dc:title>
</cp:coreProperties>
</file>