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7F9C-5981-479D-9A5A-44DBA7E8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F7A-FA6C-4BEF-B937-CF6A5D46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6ACB-63E9-4C9E-9B44-294BC9E9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70F0-1AF3-455C-B3C9-DC103FDE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8D5C-B6F4-4353-804E-8D8D363C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75B7-F336-4C7F-A794-7FBE544D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66D2-93C7-4F1C-A033-0287963F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FC34-371C-41F6-BC8C-C58FA3E3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ECF8-4F40-4D3E-BF6D-EB631F2C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6683-BAA0-4592-9D22-A82BC83C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FF81-91CE-40F1-86CC-FEE1487F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1848-F683-4854-BD0B-BD8BB3CC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3974-92DB-4846-B60F-7622F7F1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801A-3495-42A6-995B-B3D3D730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D553-3E9B-4CB8-8C12-80201CA0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AF63-0384-47B0-80A9-7D023A3B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558D-5D15-495E-BCD4-DF5C9641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8F4B-32BC-4EC2-A2E2-59CABADD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6317-D1A6-4851-8C00-B39E01F3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E3C-1077-4C54-AC0F-CDF1C97D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E218-6AC0-4174-ADC8-E35B2D3D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DEF-A02D-40BF-9489-D937F26C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E33C-FA5A-4C84-AA4F-5EBEFFC2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2A20-5543-40D0-B9F2-3E080840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B806-A326-478D-A7CD-2A99FDF18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D4EE-4CE1-44AD-ADA3-5A04DE330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’s a Wideness in God’s Mer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24680" y="152280"/>
            <a:ext cx="121932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3716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1. There’s a widenes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 God’s merc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ike the wideness of the sea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40600" y="669960"/>
            <a:ext cx="38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erick W. Faber, 18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re is wel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sinn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ore gra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goo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s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Savi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s healing in hi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or the lov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broa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 the meas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m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Etern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most wonderfully 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f our love w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more sim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ould r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God’s w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uld be illumi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presence of 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794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re’s a kindnes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 God’s justic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ich is more than liberty. 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748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2. There is welcom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r the sinne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more grace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r the good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0508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re is merc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ith the Savior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re is healing in his blood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160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For the love of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God is broad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an the measur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our mind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098720"/>
            <a:ext cx="914400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the hear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the Eterna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s most wonderfully kind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7160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4. If our love wer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ut more simpl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e should res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upon God’s word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8859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our live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ould be illumine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the presence of our Lord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228600" y="228600"/>
            <a:ext cx="937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’s a Widenes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God’s Mer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9810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There’s a wide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God’s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ke the wideness of the sea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e’s a kind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God’s justi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ich is more than liberty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40600" y="1447920"/>
            <a:ext cx="38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erick W. Faber, 18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6-27T01:43:43Z</dcterms:modified>
  <cp:revision>38</cp:revision>
  <dc:subject/>
  <dc:title>PowerPoint Presentation</dc:title>
</cp:coreProperties>
</file>