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796D-0A83-40E4-8A27-A3D86465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8599-E2F2-48DF-A738-349DA93A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777C-D03D-4462-996C-A76BDAA5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B3D4-CED7-4969-8C62-50809948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6CB5-407B-4285-BB69-3A947630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C124-70A6-4C37-A9AC-4C1C1310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0CF3-65F6-4C7C-8BA1-DDD75DA0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6DC0-B521-49A4-8E18-EB8EBB22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53DD-9156-4B0F-BEF6-3ED3AD28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30EA-870A-495E-83A5-948537EE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E5F8-968D-4F04-A41A-A158DAC8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BF8C-11AF-44F9-BF45-D30445E0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B841-665C-4CF1-BB68-DF9CBFC2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1CF1-E70C-4F3E-AF52-F284461B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1BB5-10C7-4B56-A3C1-30DE3C57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5119-F84C-41CB-9B01-386B6772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361A-6A1E-4AD7-9099-C3983089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F061-F16E-4E9A-96C0-A874997B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975B-86FD-42FB-A199-B221697A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FA0C-FD50-42E3-B612-65E875A8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D0DE-952B-4A80-B308-F286FDE0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488E-3F4A-4607-8041-AC9037D6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E80-32CE-4D4A-9748-E2D5DACE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97ED-26D1-4157-96E5-4BCDDE0C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5A76-A5D1-49C4-8F82-F1DB0F3BD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9881-A988-4BEC-A726-9A8BC8067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rust and Ob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we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light of his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a glory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ds on our 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36880" y="1066680"/>
            <a:ext cx="50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H. Sammis, 1887 (1 Jn. 1: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 in fellowship sw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sit at his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we’ll walk by his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16560" y="1863720"/>
            <a:ext cx="7328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he says we will 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he sends we will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 fear,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re’s no other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happy in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o 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rust and Ob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6002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When we walk with the Lor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the light of his wor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at a glory h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heds on our way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1066680"/>
            <a:ext cx="50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H. Sammis, 1887 (1 Jn. 1: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we do his good w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abides with us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all who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28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re’s no other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happy in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o 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Not a burden we bea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t a sorrow we shar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ut our toil he doth richly repay; not a grief or a los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t a frown or a cros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ut is blest if we trust and obe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304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re’s no other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happy in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o 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763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But we never can prov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delights of his lov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til all on the altar we lay;            for the favor he show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the joy he bestow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e for them who will trust and obe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522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re’s no other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happy in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o 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we do his good w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abides with us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all who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Then in fellowship swee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will sit at his fee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r we’ll walk by his side in the way; what he says we will do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re he sends we will go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ever fear, only trust and obe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28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re’s no other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happy in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o 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re’s no other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happy in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o 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ot a burden we b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sorrow we sh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our toil he do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chly rep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44320" y="1863720"/>
            <a:ext cx="625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grief or a l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frown or a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is blest if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re’s no other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happy in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o 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But we never can pr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elights of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il all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tar we l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05800" y="1863720"/>
            <a:ext cx="63421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favor he sh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joy he best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or them who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re’s no other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happy in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o 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3-10T22:20:52Z</dcterms:modified>
  <cp:revision>8</cp:revision>
  <dc:subject/>
  <dc:title>PowerPoint Presentation</dc:title>
</cp:coreProperties>
</file>