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1285-0B34-47CF-BD9F-59B91B0B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1D0A-14D1-4A4C-AF07-1A41F4DD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BB59-90C6-4250-B70D-5FCA7514A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C757-8A65-4C80-8498-66CCF93B4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56A6-996E-402E-8521-D9A83ECF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E754-7DF6-485E-B077-5230F175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52B9-0134-4C6B-949A-3607696B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453A-F6DC-4209-8F01-245399E4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47D8-3CD0-45C8-BD9D-5EEB2D6C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97BE-1A3C-4759-9380-97E3BE5D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FFE9-B388-4400-AF23-2D6AF497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68A0-3CFE-40A7-B9C3-8713556B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D6F9-65AE-46AC-8BBE-67BFEE597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’ll Understand I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tter By and B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We are tossed and drive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n the restless sea of time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omber skies an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owling tempest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t succeed a bright sunshine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ll Understand It Better By and B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23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Albert Tindley, ca. 1906 (1 Cor. 13: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he guide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is ey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’ll fol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di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e’ll under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better by and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and b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morning com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 are gathered ho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ll Understand It Better By and B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tell the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e’ve over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e’ll understand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tter by and by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y and b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emptations, hidden sna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ten take us unawar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made to bl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 thought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or de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ll Understand It Better By and B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 won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y the t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t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do our b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we’ll under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better by and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and b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morning com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 are gathered ho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ll Understand It Better By and B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tell the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e’ve over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e’ll understand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tter by and by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y and b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at land of perfect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mists h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lled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under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better by and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and b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morning com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 are gathered ho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ll Understand It Better By and B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tell the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e’ve over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e’ll understand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tter by and by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y and b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 are often destitu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life dem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nt of f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ant of shel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rsty hills and barren land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ll Understand It Better By and B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trus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ccor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od’s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under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better by and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and b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morning com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 are gathered ho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ll Understand It Better By and B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tell the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e’ve over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e’ll understand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tter by and by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y and b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rials dar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every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 cannot under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w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God would lead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at blessed promised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ll Understand It Better By and B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1:36Z</dcterms:modified>
  <cp:revision>52</cp:revision>
  <dc:subject/>
  <dc:title>PowerPoint Presentation</dc:title>
</cp:coreProperties>
</file>