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68B-4428-4349-8DCA-0BF78D2F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C44-A5F7-406B-91CA-20C0832F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BB4B-C64D-4E40-91F3-7FD44E54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F7EF-5529-4F8A-9F42-EAC2B337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9B06-EAEE-4A20-A0D3-DCBD5414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00B4-59FA-4838-AD00-1609DD1F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A30F-7526-4DC0-AA9A-DF111A01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F638-5FB0-447C-BF2E-6D76D97E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5174-8A20-445D-BF21-42E33C7E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9D29-853A-4AFD-BB10-EF1C0562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8230-1322-4D23-A916-29DF08D4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470C-6D1A-402F-B23E-747C2D33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CD0C-5EB2-453B-87BC-3B29FC0C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8723-0CC1-466A-9500-2D506250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9F03-7B87-4BFC-BC74-78AD658C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B69E-9C92-4022-BF26-45E54192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9BED-C03E-4F1D-96EE-D7F86319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9C98-A971-40DB-BD8C-BE6A7E91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CE54-1BDC-4391-915B-4F4ADC0A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1FCE-BCC9-4EA1-9970-542398EC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0D5-EAEF-4722-99DB-B9A68F4C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D78-85D7-47F4-9441-551E0F9A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3B47-097A-4ACE-91F5-C0BC6D06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594-5F6B-4CDD-8C80-A27C47A7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1E14-356E-4F12-95F5-0EAB3490D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CE82-78DE-4F19-B424-4BD7C6B6E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sed Assu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4792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1. Blessed assurance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Jesus is mine!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O what a foretaste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of glory divine!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8800" y="838080"/>
            <a:ext cx="35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anny J. Crosby, 1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watching and waiting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looking above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filled with his goodness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lost in his love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04920"/>
            <a:ext cx="9144000" cy="52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sed Assu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380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lessed assur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i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what a foretas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lory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8800" y="838080"/>
            <a:ext cx="35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anny J. Crosby, 1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ir of salv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chase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f his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ed in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Perfect submi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fect de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sions of rap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burst on my s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desc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from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choes of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spers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3808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6212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Heir of salvation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purchase of God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born of his Spirit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washed in his blood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erfect submi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s at r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in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 happy and ble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ing and wai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ing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his goo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in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sed Assu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lessed assur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i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what a foretas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lory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8800" y="1168560"/>
            <a:ext cx="35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anny J. Crosby, 1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ir of salv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chase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f his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ed in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Perfect submi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fect de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sions of rap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burst on my s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920"/>
            <a:ext cx="9144000" cy="52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desc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from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choes of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spers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erfect submi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s at r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in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 happy and ble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ing and wai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ing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his goo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in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5084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1440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2. Perfect submission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perfect delight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visions of rapture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now burst on my sight;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1440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ngels descending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bring from above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echoes of mercy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whispers of love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52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ll the day long;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1440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tory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this is my song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praising my Savior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ll the day long.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97488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3. Perfect submission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ll is at rest;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I in my Savior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am happy and blest,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6-18T01:13:45Z</dcterms:modified>
  <cp:revision>20</cp:revision>
  <dc:subject/>
  <dc:title>PowerPoint Presentation</dc:title>
</cp:coreProperties>
</file>