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0C62-D8D7-4F8B-ADEC-4FFEC5172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CA44-D71C-4526-9DF8-B7E212CF8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BA52-EDA5-446B-A130-DAD54AF44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E72F-280C-4E8B-AB11-869E43220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AB460-1FD7-47F4-AA51-9187859F6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6BD34-7673-4ADE-ACD3-C7F9354BD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A353D-0047-4399-9D53-634BE81AA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7B00C-A468-476F-90D2-E397996FF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20A43-E68F-416E-8DE9-3A8E58373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30F42-0508-4341-BD85-64818AE83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53698-2BE1-4D63-9768-593DDACAA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E79D-8BF4-40F2-A52A-3695DCF41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B5C4C-20E7-4385-8F71-CC1E893CE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103A6-90BA-4389-8BCF-C149AEBB8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E9009-5511-4776-8C23-7A151C59F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C2726-1959-408A-948F-A03D05A92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22494-A924-4020-A707-41473C2C2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09DE-AA9B-4488-8B2A-E80D8484F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2C43-D5E7-4108-9D8C-48C21EB4A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4D31-3F6B-4277-88A9-47BF32217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FE9E-C7A9-44D5-B72C-80FA4DD07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7D31-E1C5-41BC-AF40-A9DFDE746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CE69-460E-4CA8-AE2E-7D82C2FC6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F9D5-EC1A-41C1-9622-05C8650C3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439A7-9299-4BB3-A379-1E64DB3A8C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54887-3042-41B4-B1CD-48348353D1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ome, Let Us Us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Grace Div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0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981080"/>
            <a:ext cx="9144000" cy="301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1. Come, let us us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he grace divin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nd all with one accord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Let Us Use the Grace Divi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60020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Charles Wesley, 1762 (Jer. 50:5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0666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ve up ourselves,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Jesus’ pow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name to glorif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romi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is sacred hou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God to live and di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he covenant w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moment mak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ever kept in min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will no mo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God forsak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r cast these words behi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Let Us Use the Grace Divi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never w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w off the f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God who hears our vow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f thou 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ll pleased to h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 down and meet us n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hee, Father, S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oly Gho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all our hearts recei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esent with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elestial ho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peaceful answer gi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Let Us Use the Grace Divi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each covena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lood app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ch takes our sins aw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regist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names on hi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keep us to that 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53352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in a perpetual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covenant join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ourselves to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Christ the Lord;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79200"/>
            <a:ext cx="9144000" cy="503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Give up ourselves,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hrough Jesus’ power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his name to glorify;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nd promise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n this sacred hour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for God to live and di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79200"/>
            <a:ext cx="9144000" cy="503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2. The covenant we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his moment make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be ever kept in mind;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we will no more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our God forsake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or cast these words behind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Let Us Use the Grace Divi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76320"/>
            <a:ext cx="9144000" cy="503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We never will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hrow off the fear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of God who hears our vow;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nd if thou art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well pleased to hear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ome down and meet us now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76320"/>
            <a:ext cx="9144000" cy="503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3. Thee, Father, Son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nd Holy Ghost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let all our hearts receive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esent with thy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elestial host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he peaceful answer give;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Let Us Use the Grace Divi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155520"/>
            <a:ext cx="9144000" cy="503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o each covenant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he blood apply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which takes our sins away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nd register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our names on high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nd keep us to that day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ome, Let Us Us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Grace Div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0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590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Come, let us u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grace div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ll with one accor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Let Us Use the Grace Divi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160020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Charles Wesley, 1762 (Jer. 50:5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a perpetua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venant jo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selves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the Lor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</cp:lastModifiedBy>
  <dcterms:modified xsi:type="dcterms:W3CDTF">2010-12-31T02:34:44Z</dcterms:modified>
  <cp:revision>108</cp:revision>
  <dc:subject/>
  <dc:title>PowerPoint Presentation</dc:title>
</cp:coreProperties>
</file>