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B176-169E-4F8E-8035-2D6887423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F829-E40E-40CC-A8F0-59D35E33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587A-F089-4136-82E0-8BCA6FEB9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FC5A-7478-401E-99AE-D3EB88B5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4245-22B1-488B-8B59-133E8D79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788F-8C88-46D2-8B24-465B17AA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A85D-D900-4361-969A-5375B6F8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9031-B247-431D-885B-96ECF9DF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FBAF-BF70-48F8-8398-CAEEA280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B039-9755-4304-AAEE-48E15CEB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066D-EC7C-41F3-8D60-27BC7893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3FC4-0628-4F82-A786-2DCFFECA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CADE-C2EF-49AF-8871-39E595932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Christ, the Heal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6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Christ, the heal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ave co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 for heal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lead for frien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hrist, the Heal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92520" y="116856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 Pratt Green, 19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holeness tha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riching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reach the who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umank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can we fa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resto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reached by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never ends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rom every ailm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esh endu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bodies clam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fre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hrist, the Hea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in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ould conf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holeness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deepest n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ow strong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our desir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weak our knowled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selve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hrist, the Hea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lease in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se healing truth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conscious pr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ists or shel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n conflict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stroy our heal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recogniz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’s disea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hrist, the Hea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common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clares our ill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there no c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hrist, for thes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Grant that we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one in fai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munity may fin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hrist, the Hea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12:37Z</dcterms:modified>
  <cp:revision>21</cp:revision>
  <dc:subject/>
  <dc:title>PowerPoint Presentation</dc:title>
</cp:coreProperties>
</file>