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1EFE-6F12-43DA-B5D8-F5517E98A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F804-F2CD-45D4-9D18-2BF4E751A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5467-B162-442F-ADD6-4517FB15B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ACB6-4BB3-469D-A993-0EBA739D6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616F-D446-493B-BDB6-3A083F40E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6138-E4A3-4D94-B7D0-EC1405981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3F66-DD34-4FF8-B5A9-9970D94CA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E736-A33C-40E4-8C82-6B5C5A368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8E11-CECB-4C7B-976F-27F293990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26C1-4BF5-460B-B5C6-41162D810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D2DC-BA30-45BA-A4B7-703C2182C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8100-D714-4A4A-A667-176F4AF88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401B6-5B82-4B72-9583-574E8C7D61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re’s Something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bout That Na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7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819520"/>
            <a:ext cx="9144000" cy="3770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, Jesus, Jesu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re’s just someth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bout that na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© 1970 William J. Gai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Something About That Na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01720" y="1473120"/>
            <a:ext cx="573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Gloria Gaither and William J. Gaither, 197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09480" y="1050840"/>
            <a:ext cx="792504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ster, Savior, Jesu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the fragra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fter the rain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, Jesus, Jesu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all heav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earth proclaim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09480" y="1859040"/>
            <a:ext cx="79250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ings and kingdom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all pass aw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there’s someth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bout that na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18:29Z</dcterms:modified>
  <cp:revision>34</cp:revision>
  <dc:subject/>
  <dc:title>PowerPoint Presentation</dc:title>
</cp:coreProperties>
</file>