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657-270F-46B6-9AB5-B741D117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0F8-EA4D-460E-BBC8-E0B1BEBC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2B7-7AC8-4CF5-95AA-8032D5EF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A8A-F6F4-41B5-9F7D-479F123E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3B5-E91D-475B-9995-739BFFF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EEC-574B-43EC-9B8E-3BEF9695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B62-198A-4179-A195-BA8CC610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E35-C1BD-4182-B69F-CA543DE1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35C-8B27-40F6-AF28-F70CFC9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42C-7152-48CE-AA2D-CB4D6F2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86A-A771-4893-B3C3-A4E85F8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F78-4FF8-4BA7-9C2E-520EAEA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CC05-3BC5-4005-AC53-D3C2F938A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ing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Fingers Trac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reat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ingers t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ld desig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thest spac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The Hymn Society of America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736000" y="170172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ffery Rowthorn, 197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7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r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lies hid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your m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stain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ands up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mysteries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yet untol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water’s frag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abling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 your car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deem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rms emb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ow desp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reed or rac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,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know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ling lov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dwell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spel clai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mily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illion nam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uched b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prais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e to fac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06-12T10:54:01Z</dcterms:modified>
  <cp:revision>25</cp:revision>
  <dc:subject/>
  <dc:title>PowerPoint Presentation</dc:title>
</cp:coreProperties>
</file>