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A69-EACA-4688-91F8-01C54506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4FD-EE16-4B06-A2DD-D33E6919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9F1-CA36-4F85-B0D1-619E9163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B57-9B67-4448-8A2D-1C567891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40A-ACEC-4919-A55D-3CE1F1A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C2F-9DE8-4901-9982-3C561265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7DA-4AF6-4E89-9736-040B41FD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6BB-A903-4516-9B25-8CA530D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999-BF35-4FF8-9AA1-0E4AC6AE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8DC-B29C-46F7-8BE1-44CAA5B9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84A-E1AF-4BDD-AD6F-27ED168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62A-1BBC-4058-8AF4-9BD7FC3A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2C2-0880-4000-927E-2E03B345B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Spirit’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try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6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is is the Spirit’s entry now: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water and the w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cross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your br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eal both felt and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omas E. Herbra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E. Herbranson, 1972 (Rom. 6:3-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water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ust die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i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ollowers of his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newing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baptismal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hes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cleanse again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8:50Z</dcterms:modified>
  <cp:revision>108</cp:revision>
  <dc:subject/>
  <dc:title>PowerPoint Presentation</dc:title>
</cp:coreProperties>
</file>