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7BF-7DD7-40F2-BD3B-3C393A7C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E45-677A-4D50-8A0A-CDB5ABB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7A4-17E9-433D-A835-14A6E69B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5F7-2021-42D3-913A-79399C69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23A-CA96-4487-B819-CD19DA9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1E2-6F19-490D-83DE-E3FEDDA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D90-0519-4C5F-9613-A32C364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A4A-7FAF-4752-A2CA-2FC424C5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896-6F72-4849-BA6B-2A4E220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C59-6C0B-49CD-B171-F83E3C4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BD6-E894-420A-A0F5-B7DC399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93E-A267-4E88-A549-7DA1A66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6A3-D21F-40D0-A54A-94EE4C411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od to Pilgrims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food to pilgrims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nna from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intzich Gesangbuch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661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hn Athelstan, Laurie Riley, 1906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nger;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l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y de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ream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t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urest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ing from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’s 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 with thir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e need prov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bid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den in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ead and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when the ve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be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untenan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20Z</dcterms:modified>
  <cp:revision>133</cp:revision>
  <dc:subject/>
  <dc:title>PowerPoint Presentation</dc:title>
</cp:coreProperties>
</file>