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C8CC-63B3-4AA7-BF46-067BD8C8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1AA8-6CC9-4671-91FA-9DF16920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9761-889C-4E42-9AC1-EE9BE271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666D-A877-4797-8AA8-435232E0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D67C-9AB7-4B47-A630-F9D39B8D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CE99-FE53-45FF-940C-9CD26221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3E7C-F0B2-4D65-8827-2BB26D39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B71E-2CA9-491C-9CC6-4E2A2AB2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FAEE-8A64-4053-ACBB-514942D6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A9BA-407F-4114-AC97-4A0BDF89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0793-7F86-441F-8268-90D67475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81B1-F0B9-4588-AE19-2A9848AA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271C-999F-4F24-B0C1-0DA1003B3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ive Me the Faith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ich Can Rem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ive me the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can rem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k the mount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 pl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Me The Faith Which Can Rem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8640" y="1600200"/>
            <a:ext cx="51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9 (Mk. 11:20-2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large, inf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ill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bound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rity div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Me The Faith Which Can Rem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shall I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trength exe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them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zeal like th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ad them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open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heep for wh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hepherd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me the childli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ing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longs to bu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ouse a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ve, let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o’er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y sim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devour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would the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me rede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nger l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is al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Me The Faith Which Can Rem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pend an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pent for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have not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avior kn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lly on the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mission pr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ly breat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reathe thy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talents, gif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ce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thy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nds rece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Me The Faith Which Can Rem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me l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each thy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lory l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every sac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ment sp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ublis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inner’s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9:28Z</dcterms:modified>
  <cp:revision>9</cp:revision>
  <dc:subject/>
  <dc:title>PowerPoint Presentation</dc:title>
</cp:coreProperties>
</file>