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A8E-898D-4255-82F0-CB54B424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4DB-F079-48C7-B9B0-98B9913C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0D5-CC07-4522-B9F9-A41E41FF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09F3-C492-42AE-AC3E-2307D246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276C-2BA0-4F22-B41F-D6E27201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9B9-73DC-401F-B881-7F7723E3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9EC-97B1-4808-8B63-47635FAF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EDA-FF90-47A5-AE36-8581944C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0F8-7138-4BD8-80D8-25EE4D3C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0B7-244E-4111-B58F-DFE8C58A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A37-65F8-4577-9391-4AE9D5ED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1C7-15FD-435E-AF73-189EDE40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0CF9-48E4-4BB2-B5AF-CAF979EF5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Asc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86000"/>
            <a:ext cx="8839080" cy="412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rlasting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eternal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ce dwelt on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fined by time and sp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sc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09760" y="990720"/>
            <a:ext cx="4521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Laurence Hull Stookey, USA, 20th cent.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(Lk. 24:51; Acts 1:9-11; Eph. 1:16-2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us faith to disce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every time and pl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presence among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im who is head ov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l things and fills a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ascended Lord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8:04:36Z</dcterms:modified>
  <cp:revision>22</cp:revision>
  <dc:subject/>
  <dc:title>PowerPoint Presentation</dc:title>
</cp:coreProperties>
</file>