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3E5-BC06-48F9-BC8C-0D1915C5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F58-50B4-42A7-B406-069C499E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66A-B875-402D-B24D-6ECA5F75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3EC-811F-484D-B86B-AAB6D7F7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0561-49B2-4B24-BDBD-99B21FE2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97CA-1A19-410A-A661-BF1CC5B1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7FD1-0BA1-41D0-8835-DF6B77E1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D17D-5463-4F0E-A3BE-DE0BD97D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4046-1862-4038-9BCA-DD3902E8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972B-865C-46B7-A86A-DC52D99A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38C5-78BA-4649-8C77-489A14EE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0F1-BB3A-4422-A3F1-AE1D0813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1F85-FD32-4236-B1EC-B75C33F9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3563-4679-45ED-980B-63776E4B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9CD5-F49A-4CB4-ACA9-438CDC24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4B95-1EDC-4B25-9F30-6C660DFC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C2EE-54E2-4F9B-AA3D-E534ACA3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F09-904D-484E-B641-FF6E602E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7C0-BB3B-4FB4-820A-CE3C5203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F55-33DC-4991-8CA7-B1FA768A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13C-744C-4166-82A6-D271F1EF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671-9FAB-43B4-B803-AD289EF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7B8-CFAC-4BDA-B76F-7F5B8B98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A1C-5AFD-47C0-A2B1-3606E541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3BC5-229D-44B4-A88A-62DA2198B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892C-F350-4D55-9F1E-A1A1B66E8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Faith Look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p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ay Palmer, 18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faith loo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Lamb of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hear me while I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all my guilt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 from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wholly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ay thy rich grace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zeal insp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died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my love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, warm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les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living f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ile life’s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ze I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ound me sp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ou my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id darkness turn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pe sorrow’s te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let me ever st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e a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ends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ansient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death’s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llen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o’er me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Savior, then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ar and distrust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ear me safe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ransomed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hear me while I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all my guilt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 from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wholly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ay thy r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zeal insp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died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my love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, warm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les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living f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ile life’s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ze I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ound me sp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ou my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id darkness turn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pe sorrow’s te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let me ever st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e a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ends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ansient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death’s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llen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o’er me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Savior, then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ar and distrust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ear me safe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ransomed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Faith Looks Up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1440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ay Palmer, 18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32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faith loo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Lamb of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0-21T00:51:52Z</dcterms:modified>
  <cp:revision>152</cp:revision>
  <dc:subject/>
  <dc:title>PowerPoint Presentation</dc:title>
</cp:coreProperties>
</file>