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E43-2653-4D01-9AD3-AAE880FD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F1C-36F3-4858-ADF0-F642146A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BB3-3473-4877-A5C2-CBE87CB6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782-AAA9-4AED-9BF0-CEFFDF0A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E0A-86FF-471A-AF00-565300C0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FFC-5DAB-42B5-819B-98C1A2B7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D46-39C3-484D-97DA-8B271B15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BDC-BC5F-41CA-B914-B4063EF4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F27-EAF5-4810-BA0B-7BA7CF69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58C-5553-4D26-8205-88B84DE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EB1-B346-491A-828B-88B6101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68D-ED8C-49EF-886C-79F2C5FF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739-1BEC-4951-98C8-4C38E78A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439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4 © 1972 Contemporary Worship 4: Hymns for Baptism and Communion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sts. 1-3 by permission of Lutheran World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3.  Billema Kwilila, 1970; trans. by Margaret D. Miller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4, Gilbert E. Doan, 1972; alt. (1 Cor. 5:7-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621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e, let us dri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dri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meet and r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meet a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6212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ise, then,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, then,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3808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00Z</dcterms:modified>
  <cp:revision>128</cp:revision>
  <dc:subject/>
  <dc:title>PowerPoint Presentation</dc:title>
</cp:coreProperties>
</file>