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E6C-1FE0-4775-A321-E94CC624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502-7114-4A0B-8E05-4B53D121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9D2-B2B0-44B8-93FE-35E61ED4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AC9-F740-4B02-BFF9-027F2D2C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3E35-5C17-4B8F-8A76-6B8A02BD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BCB-A065-4DC5-8CE2-90C40AC7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CC2-FE12-4B18-B9B0-B67B34E6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BC86-9285-445D-BB4D-F8D59B81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31DA-9083-4ADF-9C79-146CAEF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0DC7-654F-425B-8C72-A6A44453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A70A-F93D-4C60-9C16-2816B55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46E-3B91-4A20-BCA8-351944B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EF5-70B9-4E42-9F65-0E42D9E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A5E6-B717-4E02-9C41-13B742C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9A34-E346-4781-A9CB-AC332DF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21D3-BB8A-40FC-B63A-BD444098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32D7-A393-422D-AEFA-55F99860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617-CD48-42CB-88EC-AB3EE376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73F-6ECA-4E90-A6E0-AFAA0E5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19D-53C2-42EA-9780-24BCB3DE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131-500D-4950-9DC9-A794FBB0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EDC-0977-4D9A-868B-FACAE85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107-0FB8-457A-A3DE-452DCB8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D0A-2DD6-4263-8BE8-E47675C8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22E-8388-491E-BD5C-4E879BAA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4C5-FEBA-4173-B1B9-9A740956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4400" y="106668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60948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8580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7621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4400" y="77616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676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60948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68580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76212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4400" y="77616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10T02:41:47Z</dcterms:modified>
  <cp:revision>41</cp:revision>
  <dc:subject/>
  <dc:title>PowerPoint Presentation</dc:title>
</cp:coreProperties>
</file>