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8F5-C310-424B-BB7E-171B806C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EE6-4CC5-4B00-885F-642346E7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ABB-EF35-405F-A40B-C3FCC386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C1A-D50F-47B4-BEC8-747A0DB1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CFD7-FB15-42AE-B4F4-FE723B21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DC21-D12D-4F07-8FBE-A3AB04CF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9DD7-DB00-44F7-8992-F705E58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C1D9-A1FE-4EA2-B0BD-4DB54D6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157-EC0D-4CC2-8575-E090854E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6388-AC9A-4E65-B35D-D595C20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7876-CA0F-43B9-951E-0E85C5F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6CA-0100-4790-A0C3-458F92B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FFCA-1806-4004-823A-5691F04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A7A-8414-4254-9FC8-2CC6C9E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9F95-7249-4DE7-B2AE-94A74C3C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FFA3-8A94-4C4A-808B-2A1BEAA9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9FD-B11D-4396-9D39-FE50E03A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D24-C871-428E-956D-148BCA2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7CA-0982-475F-9296-28F962E2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B0C-7A1C-4AD3-A5E6-E52768A5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8C4-29C0-475F-82AC-9767BB8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A2B-4258-49B0-BCFE-D8D7325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208-E6DA-44D1-BA4C-B5C11B01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542-392B-4252-AB36-FB0EE43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480-C393-4EC5-A183-3CBCFDB6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0BC-D589-4772-BD77-1FEE46A7B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3520" y="609480"/>
            <a:ext cx="465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ob McGee, 1976 (Mt. 1: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ed in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2920" y="110484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ob McGee, 1976 (Mt. 1: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ed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04T14:34:41Z</dcterms:modified>
  <cp:revision>54</cp:revision>
  <dc:subject/>
  <dc:title>PowerPoint Presentation</dc:title>
</cp:coreProperties>
</file>