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02C-27F0-445A-8B8E-E5F39899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4C9-7263-4CA9-B01E-279081EA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840-0EBE-4F7F-AA7A-A1D0F710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43B-5484-4D96-BE18-A6F0EE26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765-9DEC-47FC-B20A-6A51906E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2BF-400D-455C-BBD7-44BBDFDD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BCD-9EF9-4BD8-987D-1367104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574-6F58-4366-AB17-6692432A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EFE-E498-4FD8-857C-5D580E0D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849-AE91-4F52-9BD8-D671C9E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483-6E70-4390-BF20-61A8D6BD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3CC-E5D6-44DA-9FE1-AB824307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853E-8B44-4651-BBA4-31B99829E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bide with 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70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700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m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ast falls the eventid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rkness deepen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with me abid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512080" y="1219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Henry F. Lyte, 1847 (Lk. 24:29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38088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morning break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arth’s vai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fl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life, in death, O L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bide with 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with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st falls the event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rkness deepe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ith me abid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512080" y="1219320"/>
            <a:ext cx="409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nry F. Lyte, 1847 (Lk. 24:29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ther help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l and comforts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of the help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 to its c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bbs out life’s little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’s joys grow d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glories pass away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 and dec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around I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ou who changest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y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passing hou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but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foil the tempter’s power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, like thy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uide and stay can b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ns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fear no fo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t hand to bl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lls have no we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rs no bitternes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s death’s st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, grave, thy victory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riumph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thou thy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my closing ey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 through the gl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int me to the skie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other helpe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ail and comforts fl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of the helple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morning brea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’s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s fl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, in death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ide with 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wift to its clo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bbs out life’s little day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’s joys grow d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ts glories pass away;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31680" y="8380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 and dec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around I s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Thou who changest no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3049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need thy presen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passing hour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but thy gr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an foil the tempter’s power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600" y="3049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, like thyself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y guide and stay can be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clou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unshi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-12600" y="685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fear no fo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e at hand to bles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lls have no weigh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ars no bitterness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is death’s sting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, grave, thy victory?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triumph sti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f thou abide with me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-4680" y="7858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5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old thou thy cro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my closing eyes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through the gloom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oint me to the skies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6-25T14:23:11Z</dcterms:modified>
  <cp:revision>45</cp:revision>
  <dc:subject/>
  <dc:title>PowerPoint Presentation</dc:title>
</cp:coreProperties>
</file>