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E1C-61DA-408D-AD50-615E2D34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B77-4FF0-4793-9381-77BB8286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1BF-8C81-4982-B6E5-6349A923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DCC-9C1A-4E02-B5B0-B4BF7586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22F-6491-47E7-8423-83D7B466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3CF-11D1-47C2-BC18-C45EAE3F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6E5-20D6-4CF3-A7FF-78AE5CC3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41E-962B-4DB1-A97A-3DCAF6A6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91E-B687-4102-9BCB-55254F0A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ABA-3450-4494-932D-BA198D41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3D0-F15C-4C69-8D36-42B7A56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BAF-8DCF-4A61-B59A-BCF916BE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359D-512F-48F7-A2DA-40EEDC33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Thou But Suff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o Guid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f thou but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o gu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y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3520" y="1495440"/>
            <a:ext cx="701604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Georg  Neumark, 1657;  trans. by Catherine Winkworth, 1863 (Ps. 55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give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tid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r the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vil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61240" y="1863720"/>
            <a:ext cx="6221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 in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s 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aught can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nly b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 God’s lei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eerful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cont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whate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aker’s pl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-disce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hath sen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43120" y="1863720"/>
            <a:ext cx="5671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know our in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s are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God’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ng, pray, and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ays unswerv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o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 faithful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God’s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undeser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yet shalt fi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7160" y="1863720"/>
            <a:ext cx="5636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never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ook at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 that tru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0:40Z</dcterms:modified>
  <cp:revision>61</cp:revision>
  <dc:subject/>
  <dc:title>PowerPoint Presentation</dc:title>
</cp:coreProperties>
</file>