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795-002F-4E92-94C5-3BA1BEA0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5B9-97A0-40BC-81D9-895293CB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6D9-0958-48AD-BB71-260506F7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269-BC74-4503-9BFF-64F764F6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8F7-1F33-470C-9546-7769E233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ED2-72AF-473D-8BDE-9C7E3F2E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37D-9459-4D6E-8CB9-C19ADBD9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24D-8AEF-4549-854F-76DA5C1C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BD2-5E29-46A0-A4FB-BAF9D9A1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909-F9EB-4D49-B6A5-95B2118A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C69-1C1F-41C7-B0B3-EF730A5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5A0-745D-4E8F-BA75-E3BBFF7B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F618-F66C-4F9B-BFCC-B9082F84F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ther, We Prais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ather, we prais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night is o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tive and watch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we all before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9560" y="1243080"/>
            <a:ext cx="740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ttr. to Gregory the Great, 6th cent.; trans. by Percy Dearmer, 190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, we o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and medit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we ador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onarch of all th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t us for thy mans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ish our wea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th and wholeness send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u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saints unit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without 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hol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, and equal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nity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us thy salv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is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eaming and resou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2:49Z</dcterms:modified>
  <cp:revision>16</cp:revision>
  <dc:subject/>
  <dc:title>PowerPoint Presentation</dc:title>
</cp:coreProperties>
</file>