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2D6-5549-4989-9602-3562E4E0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2C9-20E9-4D0D-844F-0CD0FFDC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0EC-435F-40E4-902D-0B6D6D95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C1F-0C26-4A4B-B75D-56B0F84C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645-242D-48A0-8F0F-7E20427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45C-B1AD-4CDC-B5A0-03FF262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714-3CD8-46CF-807A-EF06A34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5D5-9D40-4C26-93B8-D36A945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E7B-DAF0-4B27-A06E-AC5D5CD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3D0-9D38-4066-A72D-90A2493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AC7-7319-4F0A-A0CE-646B7F3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26E-271B-4782-B1C1-7857FEE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6C9-4ADD-43C8-BCA7-4697FA285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ver of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lover of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to thy bosom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ea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tempest still i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8920" y="990720"/>
            <a:ext cx="512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0 (Wis. 11:26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,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into the haven gu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ceive my soul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ther refuge have I n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my help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, ah! lea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upport and comfor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trust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st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help from thee I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seless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hadow of thy 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 w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 in thee I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fallen, cheer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si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 bl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and holy is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all un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and full of sin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fu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lenteous grac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over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nd keep me pur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let me take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 th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all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02Z</dcterms:modified>
  <cp:revision>19</cp:revision>
  <dc:subject/>
  <dc:title>PowerPoint Presentation</dc:title>
</cp:coreProperties>
</file>