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1CC-02FE-4974-9601-62B1BADD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602-EFEA-4B7D-944C-7A68D410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EC9-F5F9-4179-B3DE-F8E44B8F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220-3DAD-4093-9876-293D75EA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1B3-E0BB-4495-88A3-98AF36A1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75F-70A4-4785-A15C-FC43FADF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1AA-019A-4EA0-9025-EB1F122D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FCC-E2E1-4AD9-A223-F8A9EC7D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0CB-E264-442D-9F8A-545CB3B3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CF9-36F6-4A5D-82DC-BC559A44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444-E587-46B7-B10C-D8FC8F5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031-B3C4-4D91-8335-13F18E61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F5CF-2586-4020-89FB-726FA07CD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Like a Gentl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ow like a gen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deep with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reins our ferv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ions day b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7960" y="1143000"/>
            <a:ext cx="34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. Eric Lincoln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nsce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yle and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 id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tions we purs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1916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s us streng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llenge and to w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pite the per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 God b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life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tongu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ness to the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umankin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y God’s dec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God be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God be Go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like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gle hovers n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mighty wi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 manif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like a gen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pherd stills our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fort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st a peaceful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in our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tensions we consp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pe God’s im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ee our 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 to the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our base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the sculp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he broken st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rough all our fret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aims of sex and 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iver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God shines throug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1:23Z</dcterms:modified>
  <cp:revision>33</cp:revision>
  <dc:subject/>
  <dc:title>PowerPoint Presentation</dc:title>
</cp:coreProperties>
</file>