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DD9-B66F-4EAC-ABA2-C8EAFCFA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D50-C7D6-42D2-ABD8-8ACAC67A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3B4-D174-4DCA-8CBC-4E9416A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ADE-1DBB-4682-8709-CD365844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0B2-D6E5-4680-AC85-80561D7C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862-0415-46A9-8AAB-86AF74B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076-5895-4928-9D02-5FD9488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84B-2EE8-44F8-8973-E86BCC4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EEE-B0FC-4FD5-AD4C-0E20E5E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B4B-2477-48D9-990E-20F027E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8D2-1EC0-4647-A521-4237611B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E75-A0B5-4F94-A922-A6508E9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C6E3-E49B-4727-BCC1-20B3DB739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there b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understa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nations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be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2000" y="1077840"/>
            <a:ext cx="325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rances W. Davis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pen our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minds to p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the door of con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ing into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ish the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angry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mbs and hu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fight for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allow ou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deaths of marty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ir holy free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 be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Your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turn to langu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speak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never f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there b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hearts to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way of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8:01Z</dcterms:modified>
  <cp:revision>10</cp:revision>
  <dc:subject/>
  <dc:title>PowerPoint Presentation</dc:title>
</cp:coreProperties>
</file>