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CA0-8F3D-4C7B-B3BB-68B544B4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74F-E257-42F2-B377-B880A459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5E9-0B86-4DE3-ABF2-8C2E1EB6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F25-6602-46DC-9455-EA6F4501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AE6-B727-48F3-AE4C-9C5F86B7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25A-EE45-479B-9F39-95F4106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82B-A882-4211-8D3B-A2204B4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1F6-8346-4081-9D21-856689DA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061-98AA-4984-A261-4D3C061A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B13-0991-4273-B8DF-619B31D2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F16-65E5-48D7-9F48-D3B7113E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19A-EAAF-423A-B82E-386ACDDB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2919-A597-4FA5-AAE9-409E441F0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Still, My Sou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on your sid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patie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grief and pain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273760" y="1092240"/>
            <a:ext cx="461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Katharine von Schlegel, 1752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Jane Borthwick, 1855 (Ps. 46:10)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to your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rder and prov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cha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faithful will remain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b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venl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orny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to a joyful en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od will under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uide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ages p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nothing sh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now myste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bright at l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v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nds st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 who ru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while he dwelt below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 is hastening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shall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with the Lord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disappoint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f, and fear are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purest joys restore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chang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rs ar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safe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meet at las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2-18T00:09:57Z</dcterms:modified>
  <cp:revision>10</cp:revision>
  <dc:subject/>
  <dc:title>PowerPoint Presentation</dc:title>
</cp:coreProperties>
</file>