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10C7-3A8D-4920-A6EF-FAE85B84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247D-3E3C-4688-88AF-514B33D7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F666-30CF-4A49-AD4F-A2B53757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728B-3554-410F-9A10-993F40B63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01F3-7718-4A83-B9AD-768677F9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7769-4922-400B-975A-3D63CC0C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8B72-2E48-4E90-9D61-788A66CD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D47E-74E7-4A7C-9FDC-10CFE7BF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6614-6FB1-463E-B505-E288765B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9927-5A00-417A-9106-7FAEDB9D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CE61-7796-4E05-8516-4AB5380E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B652-4A8C-4EE6-ABE6-CC340938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1EA7-E919-4579-AA99-65CB1A0E9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Perfect L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Perfect L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Dorothy B. Gurney, 188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051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perfect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hu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t transce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wly we kneel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er before thy thr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irs may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ve wh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nows no e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thou forever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st join in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rfect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ou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ull assur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ender char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eadfast fai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Perfect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atient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qui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ave endur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childlike trust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rs nor pain nor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them the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brighte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ly sorr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them the peace wh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ms all earthly strif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Perfect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life’s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l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known morr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dawns up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love and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8:09Z</dcterms:modified>
  <cp:revision>148</cp:revision>
  <dc:subject/>
  <dc:title>PowerPoint Presentation</dc:title>
</cp:coreProperties>
</file>