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B14-DDE5-4A15-8968-CF2341E1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6F8-8C7A-4134-93E3-47669492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ECF-E1D9-47C5-A935-517F5F03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C7B-4946-4FD0-96E1-DF6B1BF6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549-67CF-4FBC-BB9E-FAAB296A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F8C-608B-48C7-BE91-20C64D4D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5F5-070C-4E4F-8569-4CE7127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41C8-37F7-4344-9B5B-089C1896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9B5-7E9B-4D56-82AE-98211C9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AE3-D92B-4AFE-8CEB-A2FF07F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F21-126C-4E37-8942-1C7A8A1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BD3-5899-4ECD-9195-F96F1CD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F52F-86D5-4D22-9E1D-79BFEFED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God, Draw N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auty and in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with thy time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dgment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tch our prese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8000" y="11430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. B. Y. Scott, 19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d mi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ertain and afr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quiet of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dfast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 of a call obe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ring justice to our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may dwell 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nely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days to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ndations that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ring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of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vereign w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r may ha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arth no m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esolation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t creation’s bi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, and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judgments on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9:07Z</dcterms:modified>
  <cp:revision>52</cp:revision>
  <dc:subject/>
  <dc:title>PowerPoint Presentation</dc:title>
</cp:coreProperties>
</file>