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71A-1F66-45CE-925D-A65854D6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7CD-77FD-413C-90DD-EA86158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1F3-37A4-4C3C-9F61-12729848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63C-397A-462F-A6A3-3D81742D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2BC-021E-4E9D-B9B8-6CD44B76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BC1-B529-43B9-B05B-6796AC05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420-5A1E-4DF0-80FD-D7C00E7A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F56-5353-47C3-8B51-D945CDD4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602-2400-44EC-BD3D-D50BFF67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A22-4B49-4DFF-8732-A40C651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39B-9752-4C3F-BE6B-8E237EAD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04C-B6F5-4616-9624-2B47FF91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DBC8-501A-44D7-9254-40C5F2C46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Keep Me Near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anny J. Crosby, 186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kee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he cro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 precious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to all, a healing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vary’s mounta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1522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Near the cross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trembling sou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ve and mercy found m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re the brigh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morning sta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eds its beams around m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0"/>
            <a:ext cx="9144000" cy="503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st beyond the riv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ear the cro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ts scenes befor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y to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 shadow o’er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1522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Near the cros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’ll watch and wai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ping, trusting 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ll I reac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golden str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just beyond the riv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76320"/>
            <a:ext cx="9144000" cy="50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30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ear the cros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rembling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mercy found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th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orning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s its b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ear the cro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amb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ts scenes befor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m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y to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 shadow o’er 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ear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watch and wa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ing, trusting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lden str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ross, i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beyond the river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52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Keep Me Near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7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anny J. Crosby, 186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12794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kee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the cro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 precious foun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to all, a healing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s from Calvary’s mounta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31T20:15:06Z</dcterms:modified>
  <cp:revision>59</cp:revision>
  <dc:subject/>
  <dc:title>PowerPoint Presentation</dc:title>
</cp:coreProperties>
</file>