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03B-BE72-478D-9B40-D9184122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E31-FFC9-4FD9-A4DF-3EC6E77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138-3CCB-4199-8C28-CC18BD66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BD5-FEC2-424C-8D07-C26ED48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752-5410-4FA6-868A-0B74D77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423-B301-4CEC-AC0F-66B75C96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AD9-5111-4B10-A2F8-53353D0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8FD-42BD-41C1-946E-EB8022B0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7BB-E132-4DE8-9FD6-BCBD31D4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1BE-639E-475E-81F0-110CFCB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206-445C-4137-8D90-49CDF75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59E-45E5-4258-A7F8-2E2DE62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183-6207-4B51-867C-B5F83460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ly, Fre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forgave m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ve been born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9120" y="1066680"/>
            <a:ext cx="595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arol Owens, 1972 (Mt. 10:8; 28:18-20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power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40Z</dcterms:modified>
  <cp:revision>12</cp:revision>
  <dc:subject/>
  <dc:title>PowerPoint Presentation</dc:title>
</cp:coreProperties>
</file>