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352A-18E0-4549-962D-CF60FE26E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6019-BD56-4FF4-A38A-132C80B6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77E0-297B-4AAA-899E-E4EDE9FCB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162B-B560-436F-B048-BB5C716A3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D4E1-25DF-477E-B1DA-CA5EC7FB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EE8F-3DD7-4230-A814-FB7F7DFB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AB3F-1E74-46D8-A219-AF383ED9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9AE6-E385-4627-9F62-35391A1A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DB75-00B0-4AF7-AF20-111E64B0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6417-B939-4048-95A5-476A856E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6501-2C0A-44D3-9D60-996CECF1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F776-29DE-4A1F-A10E-594DCB5F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BCD0-9072-436F-AF7C-140F22D11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antemos al Se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ñor</a:t>
            </a:r>
            <a:br>
              <a:rPr sz="40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Let’s Sing unto the L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antemos a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 himno de alegrí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 cántico de am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 nacer el nuevo día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6 Resource Publications, Inc.; 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emos a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67600" y="1473120"/>
            <a:ext cx="741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arlos Rosas; trans. by Roberto Escamilla, Elise S. Eslinger,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nd George Lockwood, 1983, 1987 (Ps. 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et’s sing unto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hymn of ador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shows our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hope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re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Sing Unto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all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 been ma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rd is prai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great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o we sing to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bestows su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ly blessing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’s sing unto the L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’s sing unto the L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Sing Unto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l hizo el cielo, el m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l sol y las estrell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vio en ellos bond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ues sus obras eran bell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668600"/>
            <a:ext cx="9144000" cy="314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Aleluya! ¡Aleluy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temos a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Aleluy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emos a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antemos a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 himno de alabanz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exprese nuestro am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a fe 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a esperanz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emos a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toda la creació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egona su grandez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í nuestro cant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 anunciando su bellez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9064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Aleluya! ¡Aleluy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temos a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¡Aleluya!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temos a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Aleluya! 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emos a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Let’s sing unto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hymn of glad rejoic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’s sing a hymn of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new day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sh beginn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Sing Unto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made the sky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tars, the su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ocea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God saw it was g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those works w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ed with beau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668600"/>
            <a:ext cx="9144000" cy="32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’s sing unto the L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Sing Unto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03:54Z</dcterms:modified>
  <cp:revision>13</cp:revision>
  <dc:subject/>
  <dc:title>PowerPoint Presentation</dc:title>
</cp:coreProperties>
</file>