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4D1B-852A-4A1F-BC52-2EDE3DD3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2C1D-B429-45C9-A849-D49476C8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3555-771C-4D83-9F68-211350BF9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1AF8-5859-4932-AF89-326C42E8A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542F-DAB3-4625-B807-D5454C39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9753-A34B-4817-BA75-C734495E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CB23-88FA-4F8D-ACBF-97528942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D3B2-4908-41D1-BBF9-4A15A5EB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1935-481B-4B8C-9ADD-F35857F5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A047-FB5B-434D-9564-F8F0FCE5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913A-6620-4144-A235-31776578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358D-2EEA-4489-BC63-FA9ECE1C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BB05-E114-4078-94C0-B33FD3B93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60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nce in Royal David’s City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54380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50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10098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. Once in royal David’s city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ood a lowly cattle shed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ere a mother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aid her baby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a manger for his bed;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e in Royal David’s Ci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1859760" y="609480"/>
            <a:ext cx="543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ecil Frances Alexander, 1848 (Lk. 2:7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y, lo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ther m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 little child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e came d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earth from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is God and Lord of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is shel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a sta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is cradle was a stall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e in Royal David’s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po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corned, the low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ved on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avior holy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Jesus is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ildhood’s patter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y by day, like us he gre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was litt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ak, and helpl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rs and smile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us he knew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e in Royal David’s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feele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our sa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share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gladness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And our ey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last shall see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his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deeming l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at chi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dear and gentle is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in heaven above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e in Royal David’s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 lea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children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pl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he is gon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3808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ary, loving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other mild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Jesus Christ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er little child.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6048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2. He came dow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o earth from heave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ho is God and Lord of all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his shelter was a stabl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his cradle was a stall.</a:t>
            </a:r>
            <a:endParaRPr b="1" lang="en-US" sz="5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e in Royal David’s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53352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ith the poor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scorned, the lowly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lived on earth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ur Savior holy.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7632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3. Jesus is ou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childhood’s pattern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day by day, like us he grew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e was littl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eak, and helpless,</a:t>
            </a:r>
            <a:endParaRPr b="1" lang="en-US" sz="5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e in Royal David’s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7632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ears and smiles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ike us he knew; 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d he feeleth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or our sadnes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d he shareth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our gladness.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5572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. And our eyes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t last shall see him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rough his own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redeeming love;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e in Royal David’s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324000"/>
            <a:ext cx="9144000" cy="43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for that child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so dear and gentle is our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Lord in heaven above;</a:t>
            </a:r>
            <a:endParaRPr b="1" lang="en-US" sz="5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and he leads his children on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o the place where he is gone.</a:t>
            </a:r>
            <a:endParaRPr b="1" lang="en-US" sz="5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nce in Royal David’s City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50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nce in royal David’s c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ood a lowly cattle sh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a m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id her ba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 manger for his bed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e in Royal David’s Ci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1859760" y="1066680"/>
            <a:ext cx="543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ecil Frances Alexander, 1848 (Lk. 2:7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1-12-18T01:38:24Z</dcterms:modified>
  <cp:revision>9</cp:revision>
  <dc:subject/>
  <dc:title>PowerPoint Presentation</dc:title>
</cp:coreProperties>
</file>