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04CB-C888-4758-B74A-26BB3D2B9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4D82-E05B-4805-A64E-01A346C20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3AEF-76C5-4710-AA21-123CA4FA7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913D-7424-4BA2-B14D-D844EC8C9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1652-FDE4-4AB4-ACB0-89BD3798D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81C7-74A9-4CA9-A086-A611D111F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DDB4-076C-4657-A6C5-1172A7BC3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BA89-F073-4B05-A6D7-325C9B83B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E783-6C8A-4730-96EA-76978734F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82CF-D049-42EE-9962-179574E2A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BFED-F32B-4791-A0DF-B0BE9044C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8D45-16E6-4EFB-B3FD-D7EFD237F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9663B-12BA-4F5F-8AF8-D0A576A99C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Where Charity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nd Love Prevai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4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666880"/>
            <a:ext cx="9144000" cy="382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1. Where charity and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love prevail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there God is ever found;</a:t>
            </a:r>
            <a:br>
              <a:rPr sz="4900"/>
            </a:b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rans. © 1961 World Library Publications, In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Charity and Love Prevai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7524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9th cent. Latin; trans. by Omer Westendorf, 1961 (1 Jn. 4:1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rought here togeth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Christ’s l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love are we thus bou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With grateful jo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oly fe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rue charity we lear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us with hear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mind and streng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w love Christ in retur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Charity and Love Prevai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Forgive we n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ach other’s faul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we our faults confes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et us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ach other we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Christian holines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ere Charity and Love Prevail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Let strife among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unknow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all contention ceas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Christ the glo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we seek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ours his holy pe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Charity and Love Prevai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Let us rec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in our mid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wells God’s begotten So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members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body join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are in him made o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Charity and Love Prevai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6. Love can exclud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 race or cre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f honored be God’s nam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common lif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mbraces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se Maker is the sa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Charity and Love Prevai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6:16:58Z</dcterms:modified>
  <cp:revision>20</cp:revision>
  <dc:subject/>
  <dc:title>PowerPoint Presentation</dc:title>
</cp:coreProperties>
</file>