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0D6-9D6F-4E47-8E96-152D541C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684-D234-4498-A388-52DD14B6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231-FD40-4E9B-9295-7AD65A1C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0E6-0E8C-4C92-ACBA-595AD650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531-C9F2-4684-8601-F36AC026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9E2-AD05-468E-B78E-01489BB2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84F-C71B-42EB-A29A-0BE734A6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34F-A93F-4F07-90E9-96A2CA0A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33A-E1AA-43BD-AA14-488FE20E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268-91E3-438A-B385-EEDAB775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37E-333E-4998-887F-0926A88B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D04-6E49-4DDE-8FE7-43484CC7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AC53-39E0-4D9C-8D0C-05A72700A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lence, Frenzie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nclean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Silence, frenz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lean spiri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d God’s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2640" y="1701720"/>
            <a:ext cx="66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4 (Mt. 1:21-28; Lk. 4:31-3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your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hen we hear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e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e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 our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m our fee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fract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ng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, an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your rant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sh can’t bear 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 a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su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’s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mon tr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its vict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ly ru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crow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assem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in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unned and hu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the de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re th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ay c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i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yrant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rill and dr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sted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ip and b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s that st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rt to pan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distor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son’s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 that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ving frant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s that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 with f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len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clean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he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26Z</dcterms:modified>
  <cp:revision>21</cp:revision>
  <dc:subject/>
  <dc:title>PowerPoint Presentation</dc:title>
</cp:coreProperties>
</file>