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7D4-D9EA-4563-A985-2C16853E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052-75AF-4908-B0F2-E2CE64C0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DA2-4D77-4D9E-BA5F-FB465217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56C-2602-4C0A-A76F-6E5116EB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D38-B0DF-407C-B417-A6605348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DA5-AA8F-4727-92C0-6889C1DD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81C-A217-4297-BBC5-FBE63073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77F-D82A-470B-8778-1163DBC1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AA8-7285-45DB-8807-D6DA7A8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9FC-A68A-433E-80EA-AAC7342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8EB-2C02-413A-A80C-3BC4F59F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EAD-6CD5-4693-A53A-B777184B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C42B-CFE5-4F89-AD6F-57BFCA7C8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God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God,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because I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aven there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yet because, if I love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ust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5000" y="106668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Latin 17th cent.; trans. by Edward Caswall, 18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, O my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cross emb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didst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ils and s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nifold dis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n why, O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I not love thee well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for the s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inning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of escaping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t with th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aining a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seeking a rew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y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lov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everlasting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o would I 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s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thy praise will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ing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eternal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3:20Z</dcterms:modified>
  <cp:revision>10</cp:revision>
  <dc:subject/>
  <dc:title>PowerPoint Presentation</dc:title>
</cp:coreProperties>
</file>