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F847-8936-448C-BA05-B32FA539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1F4D-A350-434C-B87A-2E3AFC5C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1DB1-863D-464D-8849-2A2C9375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571-5F32-4797-B78A-A918ADF7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978-C83A-4426-AD74-F701B680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EDF5-89BF-4A11-A799-429C6941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0089-6413-4EB1-B073-43601573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DFFD-14A3-408E-97DC-2814E6BA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B62-5B9A-47B4-A240-4A7C6253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D271-20BA-48AA-9733-C91EFC40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5096-B09D-43DE-BEBD-C39EFA6D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2D1-6F2F-4C12-9D2C-858B0F41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32CC-FC64-45C6-AD4F-A030783D0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Love Divin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at Hast Thou D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Lov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hast thou do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immortal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died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Divine, What Hast Thou D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40" y="16002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th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eternal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e all my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t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immortal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e hath di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ve, is crucifi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s crucifie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and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ring us reb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ck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Divine, What Hast Thou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lieve,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ecord tru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all are b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esus’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don for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s from his sid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ve, is crucifi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ehol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ye that pass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leeding Pri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and pea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Divine, What Hast Thou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sinn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your Savior d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y, “Was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ief like his?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feel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ood appli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ve, is crucifi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1:16Z</dcterms:modified>
  <cp:revision>46</cp:revision>
  <dc:subject/>
  <dc:title>PowerPoint Presentation</dc:title>
</cp:coreProperties>
</file>