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33F-62DE-4FA7-8150-17BDA7E0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FC1-76CD-44F7-931F-209FD9D5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A99-3296-489F-90DE-89C0F017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533D-CC05-40E9-ABBA-5EC4EB28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B36F-30D5-44A3-8699-3CBBE725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A7FD-CFE8-44E0-8BB5-A2273CC7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8FCA-4EDF-4AE8-8901-FA47889D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9E7E-339E-414A-AD44-C87C4546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7A79-8726-4B8E-AF06-BBD0D460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93A7-D90A-4E37-BAA8-F991F9BF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0AB4-CE9D-4BBA-9F90-68D064FE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FB1-7AAA-4902-B42E-1039E4C8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3224-8A04-415B-A4DA-48D4AA20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BB6D-D914-4B86-896C-4EA13B76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0146-8E70-46D4-BC57-66AE738B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A328-AE9F-4854-ADEF-FFA437DE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11CB-56AC-497A-A90F-31073A6D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8481-636B-4E29-B059-361A96ED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A129-3B01-491E-AACB-42F3CCB5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7FD-93D7-4871-923C-38C13F75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2B6-D431-4FA0-9514-823097CD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BBB-88AF-4AB7-9511-2DEC0AF8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574-D088-460F-88EF-E71556C5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243-2EBA-4571-81DC-9DFDCD53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7EA7-BB68-4D61-962C-1DBD47C76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33D2-D6DE-40BA-97A2-8C1EE7105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Cross of Christ I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000" y="9144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Bowring, 18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n the cros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ering o’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ecks of ti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s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ead subl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Cross of Christ I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000" y="9144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Bowring, 18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n the cros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ering o’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ecks of ti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s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ead subl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the w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o’ertak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s d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ars anno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sha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forsak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! it gl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eace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liss is be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m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adiance stre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dds more lu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ane and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and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sanctifi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is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knows no m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s that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ime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n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 I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ering o’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ecks of ti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s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ead subl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s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ead subl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the w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o’ertak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s d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ars anno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sha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forsak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! it gl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eace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liss is be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m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adiance stre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dds more lu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ane and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and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sanctifi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is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knows no m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s that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ime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n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 I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ering o’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ecks of ti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3-07T01:44:54Z</dcterms:modified>
  <cp:revision>51</cp:revision>
  <dc:subject/>
  <dc:title>PowerPoint Presentation</dc:title>
</cp:coreProperties>
</file>