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5C9-AF49-44B1-8B5D-8FF874B0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13F-30A7-4CAB-B07B-5B26E86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5FA-5ACA-4B35-9B62-EFF8D70A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D45-C62F-4068-A5F0-D907BACD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5B4-2F3C-486C-939D-E98B76F6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E00-3734-4196-A196-782BE37A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31F-E08E-47C2-9282-D52EE0FA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B0A-D5FA-4824-B211-29E38AA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9C4-0448-4633-A961-0298E46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3CB-BB2C-470F-A35F-3633D3F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6DE-140D-464C-BD61-EDAF4A10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7DA-75C9-45B7-A471-7E18A5F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7C9A-EB31-4EF4-BBA9-D4DBE348E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upon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untain Pe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, up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s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lory blaz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480" y="1549440"/>
            <a:ext cx="68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62 (Mt. 17:1-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e to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ain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prais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embling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we s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ijah spe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ru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ful greet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ift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c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roclai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thu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by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,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is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oved S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w and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de before h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and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dor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43Z</dcterms:modified>
  <cp:revision>21</cp:revision>
  <dc:subject/>
  <dc:title>PowerPoint Presentation</dc:title>
</cp:coreProperties>
</file>