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F3D7-3964-4CBD-BEB8-8AF50146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D6E-C3B7-4254-B6E8-51376E03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CB2-FFD4-4750-9651-E25D1858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CD38-58A3-48A8-8DE9-A4E6CB46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83DB-E24E-4236-8639-FDB5AE22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E08E-0EBC-4C4D-ABC7-FF0AE155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FE76-38B3-4570-B36C-CEBD5B29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4B96-819D-4C69-A3DC-A988D38B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6A4F-760F-41B2-87D5-83D6FACB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7E3D-BA55-4AAE-9BE5-5EF102C8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82AE-4EC1-42F8-9557-FC0B3F0E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DFA-0185-484F-8B15-DFB98355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3865-6506-477D-9C09-C71F6619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FDC9-2BD7-4556-9132-E1B2EFF8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C073-CE25-43A9-AFB5-BE235B8A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3D33-DDA6-4CAF-A963-48195D29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11DF-4344-4926-8BEA-C5030E28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CBA8-7B71-4148-A8C2-58836B48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0C2F-17F6-4512-8157-B0B56601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D3D0-6B9B-4F9D-9B04-BCFBE6F4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2511-FB54-430A-9252-DDACF8F7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9395-EE40-4DAA-B11C-96DC9B48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D87B-3F13-49AF-946C-11B94A51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F008-81FF-4F0A-A604-F428E2D8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6FFD-3DC3-4313-8CEF-EE3B558C5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1881-C18B-4534-B461-CD81DE599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a Da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New Beginn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29528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, 1978; alt. 1987 (Rev. 21:5)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© 1983, 198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5238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is is a da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new beginning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ime to remember and move on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668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is is a day of new beginnings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God is mak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things new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a Da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New Beginn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, 1978; alt. 1987 (Rev. 21: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is is a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new beginn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me to rememb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ove 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3, 198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me t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love is bri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ying to r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ain that’s g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by the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ath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might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as the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make fo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orld of differ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faith and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born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n let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Spirit d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ep from the p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eave behi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isappointme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lt, and grie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ing new path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ure to f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Christ is a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es befor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show and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love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a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new beginning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is ma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In faith we’ll g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und the t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aste and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love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094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ime to belie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hat love is bring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aying to res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pain that’s go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a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new beginning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is ma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a Da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New Beginn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29528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, 1978; alt. 1987 (Rev. 21:5)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© 1983, 198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82736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is is a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new beginn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me to remember and move 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me t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love is bri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ying to r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ain that’s g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by the life and death of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mighty Spirit,                      now as then,                 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an make for u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 world of differen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s faith and hope are born again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n let us, with the Spirit dar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tep from the past                           and leave behind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disappointment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uilt, and griev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eking new paths, and sure to fi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555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Christ is alive, and goes before 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 show and sha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love can do.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God is mak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ings ne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5. In faith we’ll gath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ound the tabl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 taste and share what love can do.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God is mak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ings ne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82224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by the life and death of Jesu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mighty Spirit,                      now as then,                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380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an make for u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 world of differenc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s faith and hope are born agai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4284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n let us, with the Spirit dar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tep from the past                           and leave behind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8668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disappointment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uilt, and griev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eeking new paths, and sure to fin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9056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Christ is alive, and goes before u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show and shar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at love can do.                           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01916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is is a day of new beginnings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God is mak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things new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668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5. In faith we’ll gath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ound the tabl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taste and share what love can do.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3-19T01:04:52Z</dcterms:modified>
  <cp:revision>133</cp:revision>
  <dc:subject/>
  <dc:title>PowerPoint Presentation</dc:title>
</cp:coreProperties>
</file>