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798-C7EA-4614-B968-FF6A3F68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843-3A9E-4F5C-BC3F-23A985BC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3A6-524F-49EB-B679-DA6CE7CB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E9C-B46F-40D0-A68D-32A11FA3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E7F-D7B0-4F77-8899-BFBA0B93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774-C783-4955-9DFB-D5B4D1DE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621-0E62-4385-873E-C97ACC4D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D79-17B0-4EA6-ADC9-292EAE12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CF0-5515-4976-BEB7-0B89A47B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8EC-D15C-4968-A336-9685769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806-5E60-4652-A6E9-6747AA1B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4B4-14BB-4618-B5EE-0105168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A67C-685B-4B8E-A408-87821B0DB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in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O God in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to thy childr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y and bless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ngs never ceas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Christian Conferen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f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16880" y="1143000"/>
            <a:ext cx="65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na G. Maquiso 1961; trans. by D. T. Niles, 19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unit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redeem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ord,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,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rememb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acious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resurrec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 we br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e shall 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pirit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is the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h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for the need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ed in our kin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our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ad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2:46Z</dcterms:modified>
  <cp:revision>37</cp:revision>
  <dc:subject/>
  <dc:title>PowerPoint Presentation</dc:title>
</cp:coreProperties>
</file>