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A546-5646-4357-9818-B887094CE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4E2B-EEBD-4468-B3EC-C305EB15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267C-26AF-42BD-AD31-EC1902645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CAF5-0595-42C7-AB91-DA57F60B5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274D-FC84-46BD-B0B3-988638C7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2F4F-3315-48DA-83EE-484E7FF7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517B-F8D6-4777-B3EF-61ECD389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840D-14E7-49F9-B812-A5C22F39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FDC6-1A2A-4668-A305-03D177E2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0B44-5F34-4954-96C9-08C34EF8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006E-C475-44A0-89DE-75CDC6AA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D0E7-9BC3-405D-B863-3372FB23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AFF1-B45F-4A11-8DE5-F999AC07A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rayer of Ignatius of Loy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67652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each us, good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to serve you as you deserv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to give and no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count the cost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to fight and no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heed the wound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of Ignatius of Loy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42960" y="990720"/>
            <a:ext cx="4268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Ignatius of Loyola, Spain, 16th c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638280"/>
            <a:ext cx="8839080" cy="559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oil and not to seek for rest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to labor and no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o ask for any reward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except that of know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at we do your will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38:16Z</dcterms:modified>
  <cp:revision>13</cp:revision>
  <dc:subject/>
  <dc:title>PowerPoint Presentation</dc:title>
</cp:coreProperties>
</file>