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F60-921D-4BD3-A2B2-B11FEFD5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1F0-4708-489E-A618-2097BAE9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467-AEF0-4D10-ABD6-CB17E104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B03-8D0F-45A7-BF94-08DBD57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870-7E52-4001-8891-C9FB78D2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DDD-9365-4565-8313-C29DDAC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35B-77EA-4B8C-9E63-1999CF9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A94-F5F0-4039-9D5B-4341D710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9F8-3C50-4102-B9E3-5D2E4A3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2EA-5016-4F1D-91F4-914BC07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620-B64E-42EB-87D7-2E6AA41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053-2726-49BA-897C-C728085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30D-CD79-495D-8F33-E887A8E5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 Hath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the hours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the Lord Hath M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600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118:2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eaven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b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sur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0:37Z</dcterms:modified>
  <cp:revision>14</cp:revision>
  <dc:subject/>
  <dc:title>PowerPoint Presentation</dc:title>
</cp:coreProperties>
</file>