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9F2-158B-402D-9270-26CB51AE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955-E058-452B-A4C8-00D6671F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4E1-FBC3-41B5-9299-5584577F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933-74ED-482D-8ECC-E7908323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5B5F-D2A7-4ACB-8357-CA5A1B1C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9340-C5B2-468C-9BF9-1F50BD8B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516D-95CF-454D-9C72-12D9C1C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011D-FD60-436E-B62B-125D0453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5BB2-A7CD-4E9F-98A5-EAE99E1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3C19-131F-4219-86D9-41EB5A6F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BC3F-F6CB-4700-9F45-7688521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A04-18C5-46C3-B143-0AA3F2B0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BDCA-7C1E-40FC-B492-5A44D6B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9FEC-2F3D-45EC-A2BA-49421E8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B7A7-134E-4EE4-99B7-8607755E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9BD1-60C0-4829-8DA9-B789AE00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B05-1D7D-4848-A98F-E497DCB5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06B7-6E30-41DD-965C-61DCFC0B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A1DF-E606-424B-ABD1-EDB95840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DA58-8353-403E-93AC-8AC440CF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1212-B610-4547-8E58-EB6B0E14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06AB-A75F-49D0-8823-DFCEEF8E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5A2-DDAE-461B-824F-6335809C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1B03-3392-40F2-89A4-DF7370F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CA3D-E769-4FC1-A68E-0F3FA55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903F-4C9B-4DC6-BA27-A42E343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EC77-BF85-4D71-8D83-293A687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9FEC-D6E3-49A5-A1F0-8CD0ADBF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F6E0-13CF-4C33-80AB-98704ECF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0C51-8639-4089-9B5F-1A6E99B0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256-9CFF-47D2-A274-51B8C4CB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E07-707F-41DA-8D16-D25DB901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17C-7E8D-4D02-8E29-3DEAB69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39F-F00D-49ED-A1F8-B959DA2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901-C19B-4C9F-A982-85402063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333-A49B-4ED4-AABC-FE078E85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0E9E-1DB7-4295-B064-95BCDCF94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6336-846E-4A8A-9C85-DFF4B6388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E6F6-BC12-4A08-96FE-22E75235B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4479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989000" y="10159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166680"/>
            <a:ext cx="9144000" cy="387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shepherd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eared and tremb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o! above the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ang out the angel chor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ailed the Savior’s birth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152280"/>
            <a:ext cx="9144000" cy="43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Down in a lowly mang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mble Christ was b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ent us salv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bless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m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152280"/>
            <a:ext cx="9144000" cy="43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894800" y="304920"/>
            <a:ext cx="1249200" cy="657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251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482920" y="1447920"/>
            <a:ext cx="6661080" cy="473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989360" y="10159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46160" y="1285920"/>
            <a:ext cx="6875640" cy="3476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1. While shepherds kept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ir watching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’er silent flocks by night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behold throughout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heaven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re shown a holy light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839960" y="906480"/>
            <a:ext cx="7304040" cy="359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68360" y="1096920"/>
            <a:ext cx="6875640" cy="3476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2. The shepherd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feared and trembled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when lo! above the earth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rang out the angel choru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haile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Savior’s birth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00160" y="906480"/>
            <a:ext cx="7143840" cy="370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ile shepherds ke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wat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silent flocks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throug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shown a holy l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946160" y="1477800"/>
            <a:ext cx="7197840" cy="291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3. Down in a lowly manger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humble Christ was bor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God sent us salvation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blesse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Christmas m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214720" y="1179360"/>
            <a:ext cx="6518160" cy="359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152280"/>
            <a:ext cx="8305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 kep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watch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silent flocks by night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roughout the heave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own a holy light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58752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epherds feared and tremble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lo! above the earth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ang out the angel chor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ailed the Savior’s birth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51768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own in a lowly mang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umble Christ was bor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sent us salvatio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blessed Christmas m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ed and tr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! above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g out the angel chor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a lowly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umble Christ wa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sent us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mas m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5228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5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43000"/>
            <a:ext cx="9144000" cy="326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 and everywhe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989000" y="7621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ile shepherds kep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silent flocks by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roughout the heave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shown a holy light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12-31T14:34:47Z</dcterms:modified>
  <cp:revision>14</cp:revision>
  <dc:subject/>
  <dc:title>PowerPoint Presentation</dc:title>
</cp:coreProperties>
</file>