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419-63B0-4ED4-B872-67C998F7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37A-1636-47D0-898F-B4AE8B15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1A6-6C72-4B7C-8E12-530813BA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FA8-C22C-4E39-9527-34CCF634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B1D-F809-45E9-969D-28D8237A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1C9-D2D3-4CDF-9C68-8502FD71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352-9DBB-424A-AD4A-97BC2107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F73-BA13-498D-936A-A780A136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8B0-D770-47E4-B258-42B49672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BC3-EA5E-4FA6-B5FF-F84B3727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7C8-3497-487B-95D9-CC2F8857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8A1-90AB-42C2-AE20-52282AE1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7173-FBA6-44C2-B751-CE8CD9891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, How a Rose E’er Blo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Lo, how a R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’er bloom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ender stem hath sprung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lineage com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se of old have su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.  3 © 1940, 1942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0200" y="990720"/>
            <a:ext cx="66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2, 15th cent. German; trans. by Theodore Baker 1894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3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came a floweret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d the cold of wi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lf sp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saiah ’twas foretol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ose I have in m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ry we behol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rgin Mother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God’s love a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bore to us a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lf sp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Flowe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fragrance t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the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pel in glorious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rkness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e man yet ver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sin and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sa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are our every l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7:56Z</dcterms:modified>
  <cp:revision>60</cp:revision>
  <dc:subject/>
  <dc:title>PowerPoint Presentation</dc:title>
</cp:coreProperties>
</file>