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D800-72BF-4B06-B2A7-3AEBD2ED2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C435-EA16-4ECD-8B3F-04406D7A5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5A3F-EEFF-4E47-8FA5-054608676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C2A8-439C-4FA5-93BB-EEDA6C3BA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87881-764B-478F-924B-235BBEA37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70A3C-0890-4A7B-B7DF-D6ABFBBE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FB1E9-1710-410D-8766-2057D2DB6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A8A6F-55CE-44FE-994F-A09C289B5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24932-ABD5-4D7D-84DE-88470AC5E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E37E7-7A9C-4903-AB69-08DA484C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E4E23-BC5E-4CC0-8825-7C4EA74F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0E9F-B718-4518-9A36-CE39C9D08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86B73-C281-423F-AFFC-5974246E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D182B-9800-4504-8722-19327243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B94E1-0DFC-4C03-806E-38D455034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C84BE-518E-4704-9CEB-774AEFCBA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BF030-BBE8-4465-89B2-E33CBF3C9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7560-1005-469F-A65A-75F623CE6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7F9C-E161-48D9-B5BD-C13EB216E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700A-6CEC-4C70-8D15-1D4EF1A1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6E96-5FAD-4823-B5B9-13B1B9CA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B189-9100-4F95-8A31-E3595392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8635-0178-4153-BE18-015F77BA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3B90-35CB-434C-ACBC-E4361108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ACFDA-E39B-4B53-A6B9-FADA2E594E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08A7C-8EAA-4CA2-B17E-4E04B01AA4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airest Lord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8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Fairest Lord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uler of all nat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thou of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man the So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rest Lord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0160" y="1092240"/>
            <a:ext cx="78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ünster Gesangbuch,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1677; trans. by Joseph August Seiss, 18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e will I cheris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e will I hon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, my soul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lory, joy, and cr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Fair are the meadow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airer still the woodla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obed in the bloom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arb of spring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rest Lord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is fair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is pur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makes the woe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rt to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Fair is the sunsh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airer still the moon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all the twink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rry host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rest Lord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shines brigh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shines pur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n all the ange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ven can boa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Beautiful Savior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 of all the nation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n of God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n of Ma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rest Lord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lory and hon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aise, ador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and foreverm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 th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e will I cheris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e will I hon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, my soul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lory, joy, and cr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Fair are the meadow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airer still the woodla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obed in the bloom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arb of spring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rest Lord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is fair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is pur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makes the woe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rt to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Fair is the sunsh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airer still the moon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all the twink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rry host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rest Lord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shines brigh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shines pur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n all the ange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ven can boa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Beautiful Savior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 of all the nation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n of God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n of Ma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rest Lord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lory and hon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aise, ador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and foreverm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 th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2127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airest Lord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8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52388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1. Fairest Lord Jesu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ruler of all natur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 thou of Go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man the Son,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rest Lord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0160" y="974880"/>
            <a:ext cx="78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ünster Gesangbuch,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1677; trans. by Joseph August Seiss, 18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01-12T23:09:24Z</dcterms:modified>
  <cp:revision>41</cp:revision>
  <dc:subject/>
  <dc:title>PowerPoint Presentation</dc:title>
</cp:coreProperties>
</file>