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62B9-26B3-4563-8280-7C5221F0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D66F-F7F4-466A-B1B1-772EE28B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99A5-BD07-4052-8CFB-FD3C98362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7E35-0747-482E-B9EF-FF03B4B60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3D1A-7A8A-4F1A-845C-727D27BB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9E40-7E5D-41FE-99B9-0B858F2A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81C1-DB1D-422D-93B5-6A3240FF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26B9-134A-4DE8-9785-54803739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321E-F979-4CF5-A42F-CF6C74B3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75ED-1F18-4956-B0A1-92ECED3F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5E15-320E-4809-B6CC-B9ED8B17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D53F-8A70-41C3-97DB-5F08778B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48B6-F840-4CF6-96C2-6BA8D6044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! the Name High over 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002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Jesus! the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gh over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ell or earth or sk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gels and morta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strate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devils fear and f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! the Name High over 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0840" y="1092240"/>
            <a:ext cx="49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9 (Phil. 2:9-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Jesus! the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sinners d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ame to sinners giv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scatters all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uilty f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turns their hell to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! the Name High ove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O that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ght taste and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riches of his grac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arms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compas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uld all the world emb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! the Name High ove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hee I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stantly procla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ll oppo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bold to conf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glorious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a world of fo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! the Name High ove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His only righteous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h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saving truth procla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all my busi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be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cry, “Behold the Lamb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! the Name High ove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Happy, if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latest br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may but gasp his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each him to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y in d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Behold, behold the Lamb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! the Name High ove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29:14Z</dcterms:modified>
  <cp:revision>43</cp:revision>
  <dc:subject/>
  <dc:title>PowerPoint Presentation</dc:title>
</cp:coreProperties>
</file>