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068-3F7F-4FB2-BFC6-E13CDDDA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818-4CCF-481C-BAA2-D9CDD18B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D7E-125E-4424-B077-00B03A7D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09A-3121-4EDF-9C7F-801E8BE4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FEE-95FC-4EE7-81C2-C82AC68C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1EB0-8E16-4F6A-9700-E2D236B4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A6E-5D0F-4406-A5AD-A6680FA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46A9-B106-4518-BAC6-C173AEB9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AB62-0AF6-488C-9AAB-693BA68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800B-5337-46CD-B063-5A3E6AF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11C-B61F-497B-8C48-E58F210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B94-1DFD-4DD2-9E08-51DD1F82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0516-5FE6-4FB1-944D-D10F1AE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7B7-C334-4AC1-B526-C1A9286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BD7-3E07-4721-B44A-E7B3BD4F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29A9-7089-4583-9B2D-786E7A99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A360-BEDA-40EB-9643-8FD9C47E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807-93D1-4AF5-9601-C218724F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240-DCBE-4A52-B427-EABBE329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7CC-4E0B-4257-ADB2-40E74600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C65-0053-4B08-BEBB-AE3F6E6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6FA-8A0B-443C-B038-8560120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272-15A0-4FAE-996B-462FE50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554-9B2A-4227-861B-055E49F4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FC2-6B20-4862-ACFF-E01377F0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3DB-9DB9-4035-8FB2-DE0181850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at that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98108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ORDS: J. M. C. Crum, 1928, alt.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Now the green blade riseth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the buried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at that in the dark earth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days has lain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365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the grave had lain;                  quick from the dead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our hearts are wint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ck to life again,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9144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8088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676520"/>
            <a:ext cx="9144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82880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752480"/>
            <a:ext cx="84582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orth he came at Ea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 risen gr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esus who for three d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grave had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438280"/>
            <a:ext cx="8305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quick from the d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risen Lord is 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600200"/>
            <a:ext cx="861048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4-14T01:35:40Z</dcterms:modified>
  <cp:revision>68</cp:revision>
  <dc:subject/>
  <dc:title>PowerPoint Presentation</dc:title>
</cp:coreProperties>
</file>