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9AC-D6A3-48BA-87F3-50F0C6E3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F9D-E6FB-4031-B2E5-0654C0C9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439-4009-4CEA-BABB-6D4795F5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9FB-C0DE-446E-9731-BB214BD6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FDE-30C2-49A8-A216-51AE4314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459-F367-499D-ACDB-28AD6BE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E6C-36A0-4C26-94B5-137C50A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A4B-E66E-4786-B309-AEB7DFC5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02B-7A33-4445-A595-F3E0A4F1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433-93AC-43E9-81AA-C1D0CC1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DC0-568B-40F4-B198-A71309C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6AD-0154-4FE0-B98E-70D2CDC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935B-D742-44BC-BECD-05025651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You Gi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eat Com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you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mmiss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eal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Jeffery Rowthorn, 1978 (Lk. 9:2; Mt. 28:19-20; Lk. 23:3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earth’s tru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lift life heavenw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arou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’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you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love’s true measu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Father,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do, forg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e ho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private tr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your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just soci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rd, you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ords assur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st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 int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amid the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laim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in mind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glect its 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unhe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renewed integ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you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to your servi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n m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 and teac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rust your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bun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ant for ea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ervor, dra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r in comm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you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mon ho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his my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bloo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2:35Z</dcterms:modified>
  <cp:revision>89</cp:revision>
  <dc:subject/>
  <dc:title>PowerPoint Presentation</dc:title>
</cp:coreProperties>
</file>