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354A-0B89-40FB-B076-4AE550A5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A39C-FFE4-4B5A-86AC-3DA97697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145F-FE6C-4A1C-A9AA-3C546715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4DB3-C245-4FE6-9D72-4BCF0453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7F1B-309A-4AF9-A388-FB9CC248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950C-9DA8-4DC5-9A80-853D3605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BBB4-FAE1-4C83-85AD-F0FD654A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A950-444B-4B6E-A363-9A3C1629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4B71-DCB9-48A2-B08D-28D68374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2A37-0A01-482E-84FE-6D7F36CE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7731-5DA0-43CB-8715-BFF5BDA9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9B94-7A08-4AB7-B312-7CFBCD90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29AE-F419-4B3D-BE8E-2C1194C7F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urce and Sovereign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ock and Clou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ource and Sovereig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ck and Clou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tress, F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lter, 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7 Oxford University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Sovereign, Rock and Clou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34840" y="1523880"/>
            <a:ext cx="38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homas H. Troeger,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udge, Defend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rcy, M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fe whose lif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life endowe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25600"/>
            <a:ext cx="9144000" cy="553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the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prayer rec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no single holy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truth beh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m all is the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we procla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Sovereign, Rock and Clou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ord and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ot and 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pherd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ant, Lamb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Sovereign, Rock and Clou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ll and Wat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read and Win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y who leads 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I AM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25600"/>
            <a:ext cx="9144000" cy="553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the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prayer rec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no single holy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truth beh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m all is the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we procla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Sovereign, Rock and Clou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torm and Stil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 and D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nder, Temp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rlwind, Fi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Sovereign, Rock and Clou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fort, Counselo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esence,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ergies tha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ever tir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25600"/>
            <a:ext cx="9144000" cy="553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the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prayer rec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no single holy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truth beh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m all is the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we procla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Sovereign, Rock and Clou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0:40Z</dcterms:modified>
  <cp:revision>29</cp:revision>
  <dc:subject/>
  <dc:title>PowerPoint Presentation</dc:title>
</cp:coreProperties>
</file>