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40B-766B-47D8-968C-8576E56E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1DD-C4A0-49CD-800B-C4AC9C77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B49-0A5F-476B-83A8-28BA2319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CE3-6B27-4549-9782-3B99C7AD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33F-5C0F-450A-9B44-DA6009E6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F6F-213E-4E50-9D3A-B740482C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780-7870-48F2-8978-8E768EE1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531-D140-481C-ABC3-B4772F5E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3A9-7BDB-49B5-A376-ACE2A2B2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778-28D1-4628-B579-06C25A3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A7A-84D5-49CE-966B-66A1CF12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14C-7C8A-46A3-9BB7-DF32A11C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8474-A8C5-4CEC-8FF1-C418E7580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 Is He in Yonder 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nder st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whose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hepherds fall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2680" y="1092240"/>
            <a:ext cx="39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enjamin R. Hanby, 18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s to h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p and sa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rom yon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les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light alon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o, at mid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s in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hseman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Calvary’s thr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ks for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is foe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8:03Z</dcterms:modified>
  <cp:revision>44</cp:revision>
  <dc:subject/>
  <dc:title>PowerPoint Presentation</dc:title>
</cp:coreProperties>
</file>