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C43C-6CB7-486E-B378-5CBA5754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F874-278C-4E3E-AE74-E74606B3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4AEB-F577-4E83-AC68-0C8A4F86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693-A96F-4423-9A3A-5937BE61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7FCC-8277-458C-93DB-612F5F8A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086-E1AE-4E6E-BB6E-389F2180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8FC-18FC-4CA3-9364-FEB9D9A1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FDD9-A1F3-444B-88F2-C954F861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463F-83AB-4EC8-89E2-50EC466A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BC3D-323D-4F43-86A8-5EE95D89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6B11-0DCD-4A8B-B159-8F3FF748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1A3E-41CC-4646-97A3-0BB49477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51FB-DA17-40F1-9407-CE3478B6E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Help for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thcoming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743200"/>
            <a:ext cx="83818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and everlasting God, you have safely brought us to the beginning of this day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Help for the Forthcoming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2440" y="1600200"/>
            <a:ext cx="73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; alt. Laurence Hull Stookey, 198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943600"/>
            <a:ext cx="85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54120" y="1752480"/>
            <a:ext cx="848988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fend us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with your mighty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power, and gran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at this da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fall into no sin, neither ru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o any kind of danger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676520"/>
            <a:ext cx="8534520" cy="405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that all our doings, ordered b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governance, may be alway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ighteous in your sight; throug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esus Christ our Lor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3:22Z</dcterms:modified>
  <cp:revision>16</cp:revision>
  <dc:subject/>
  <dc:title>PowerPoint Presentation</dc:title>
</cp:coreProperties>
</file>