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179-9D86-4670-987C-D0F5C707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7F4-0EC0-4489-A3DD-B7702C37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96C-EE67-482F-8DD6-DE60D22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722-5295-4292-A1E6-DE228209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678-C9D4-48D6-9CAA-B39856B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C2B-F05B-4D08-8404-889EDF4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ACD-A2E2-4032-AFBE-85C5AF1E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71E-8A00-426B-B333-C316DE6E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785-764E-49A2-BAA0-2F7C2F5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14E-FB09-45ED-99AE-B5EC898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C40-1785-4D81-B6B8-404D471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44F-5E7E-4C3C-A12A-9895045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A441-B13A-4DBC-AB89-27747426A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and Thanksgiv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and thanksg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our mak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rce of all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digal creat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. Francis Yard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. Francis Yardley, 1982 (Lk. 3:21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your 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come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our own ho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hat we have str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s us the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have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d and set a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e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and fav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 vis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the tr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, and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ptiz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, O Dove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never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Holy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ource of every me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now re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is water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peac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7:52Z</dcterms:modified>
  <cp:revision>104</cp:revision>
  <dc:subject/>
  <dc:title>PowerPoint Presentation</dc:title>
</cp:coreProperties>
</file>