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A90-1E31-44CC-AB62-37EC9A31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0E9-DDF1-406B-9EB3-A41F12AC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158-35F4-4ECB-ACBA-92ECD67E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E2E-3D5A-4782-9D17-C24E7432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924-F3A1-4D31-898F-79B5F85E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A56-9FD9-418B-8C6B-A5872086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3F5-0C27-4AF4-8F1A-E10C9E4C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B3C-D38D-4D34-88CD-FD4146C5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D01-18F1-4EBD-8E40-A64A32E5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74F-FA4F-483F-A8A7-8F534A37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9E5-64D4-4F5D-A36C-89CF9CCB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C3B-70D5-4F72-BB8C-6F27EB9C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BFD8-9F19-4FDF-8DB2-9FD9E5CF8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We Want to M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1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 we want to mee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and versification © 1964 Abingdon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We Want to Me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. T. Olajida Olude, 1949; trans. by Biodun Adebesin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versed by Austin C. Lovelace, 19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43000"/>
            <a:ext cx="9144000" cy="43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jo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victor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37160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grace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e sav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fl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be f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00200"/>
            <a:ext cx="9144000" cy="357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mind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ide in 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19320"/>
            <a:ext cx="9144000" cy="418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ur m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dedicat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We Want to Me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19320"/>
            <a:ext cx="9144000" cy="418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and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ecrat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52388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whol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e serm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pl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00200"/>
            <a:ext cx="9144000" cy="357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s we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,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be thine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66680"/>
            <a:ext cx="914400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thy thro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47920"/>
            <a:ext cx="9144000" cy="39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Fri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our pray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y asc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76520"/>
            <a:ext cx="9144000" cy="357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 into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and minds to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19320"/>
            <a:ext cx="914400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knee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e and f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We Want to Me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95280"/>
            <a:ext cx="914400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Go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he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47920"/>
            <a:ext cx="9144000" cy="39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eanse our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and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acts of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23880"/>
            <a:ext cx="9144000" cy="357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our faith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d to flower ra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95280"/>
            <a:ext cx="914400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y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seek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sus, We Want to Mee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4:39Z</dcterms:modified>
  <cp:revision>128</cp:revision>
  <dc:subject/>
  <dc:title>PowerPoint Presentation</dc:title>
</cp:coreProperties>
</file>