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AF9-0EB6-4146-BA94-F4FA7D5D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DD7-26CB-4FB7-BF74-B866652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E8F-4722-4834-967A-99290A8A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E98-5959-4112-A097-433DE59C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19A-7174-4F7C-9129-79DF262B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CAD-4378-47FE-88E9-D2B4102B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BE2-2DE8-4FCF-9259-DED9BE3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462-52EE-4305-82F8-78F0FC7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D0E-45E4-4FAB-BE27-DA424BC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7F5-B900-4046-8058-9C06DF2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C16-0F84-4797-BCAF-A6BC6D8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7F1-8EA5-4A42-8466-4D3DC1F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A3A3-D556-4476-B019-5B9BE4EE6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hy Kingdo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love thy kingdom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house of thine abod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church our bles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deemer sav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own precious blo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9400" y="1066680"/>
            <a:ext cx="365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imothy Dwight, 1801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love thy church, O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as the ap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ne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ven o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her my tears shall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 my prayers a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my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s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ils and care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eyond my highest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ize her heavenl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wee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emn v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hymns of lov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ure as thy truth shall la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Zion shall b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ghtest glo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can yie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er bliss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04Z</dcterms:modified>
  <cp:revision>12</cp:revision>
  <dc:subject/>
  <dc:title>PowerPoint Presentation</dc:title>
</cp:coreProperties>
</file>