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823-4C01-4A41-961E-59888740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266-D94D-4B42-B271-8F64726C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619-B718-471D-98DD-E28CFB71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BD9-2BC4-4A8F-9374-05BF0E5B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7C3-877A-4ADC-9304-30BB5AF4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643-4073-49A5-9064-BD6A4EAC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C4E-36E4-473A-A112-5A87281C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F2B-6205-4F06-8736-EDE4B1FB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517-4B5B-4108-9EC8-A7CBA1FA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9D4-057D-499B-B3F4-632262B1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826-9AAE-4773-A1B1-52DF32A3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3DF-56E9-4BED-BAB3-4E827ABB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2CC0-09A0-4C88-9843-C003162CD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Bread Whic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Have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86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or the bread whi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broke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the wine whi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pour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ouis F. Benson, 1924; phonetic transcription from the Taiwanes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-to Loh, 1988 (Mt. 26:26-29; Mk. 14:22-25; Lk. 22:15-20; 1 Cor. 11:23-2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Ūi Lí só kóng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oáh-miā ê oē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Chú goán kám-siā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sim lâi gî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you have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gi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y this p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do lo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resto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abo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all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ith our sain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s in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ted 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bo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waited for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t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broken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In your servi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 defend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our heart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eep watch and wa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orld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sen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your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1. M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í-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pau Ch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ú Lí</a:t>
            </a:r>
            <a:br>
              <a:rPr sz="4900"/>
            </a:b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 goán lâi peh,</a:t>
            </a:r>
            <a:br>
              <a:rPr sz="4900"/>
            </a:b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Phû-tô-chiú</a:t>
            </a:r>
            <a:br>
              <a:rPr sz="4900"/>
            </a:b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 goán lâi thî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aiwanese Phonetic Transcript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30:25Z</dcterms:modified>
  <cp:revision>118</cp:revision>
  <dc:subject/>
  <dc:title>PowerPoint Presentation</dc:title>
</cp:coreProperties>
</file>