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896-89ED-4769-860A-D7A12CDA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A07-2312-4FD2-A6A4-BC3E5921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B49-C6C9-4C27-84E7-D66A497D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BD3-F47F-4557-97E8-36119F24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51E-5279-4266-81F2-B5B914DD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4BE-DF3F-4EAB-B692-E1E81950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872E-390D-44D6-BB6E-1F6E59BD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33B-EA2F-4AFB-8EDE-46BCEBC3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576-D273-4BD2-8526-CCB81367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550-6FB3-4164-898F-513D5D12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E62-BCA3-4818-BD4A-A239B6F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238-1336-44BA-8191-2A24C38A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D02F-1D1E-4AA6-ABB3-D3B984E3B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eluia, 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5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 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The Word of 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5640" y="1168560"/>
            <a:ext cx="33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Donald Fishel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 is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ea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the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pread the good n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the ea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has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s ris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ave b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ucified with Chris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w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v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ome, let us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v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fully s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than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sen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6:39Z</dcterms:modified>
  <cp:revision>24</cp:revision>
  <dc:subject/>
  <dc:title>PowerPoint Presentation</dc:title>
</cp:coreProperties>
</file>