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68E8-A34E-41F5-B3B5-7C810E70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482-337D-4183-9A9E-6C51CCA0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9807-A43C-4233-8774-12DF3B0F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7136-16BB-4566-9617-3187A441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B812-68C8-41B6-8BB0-6537B7E4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A37-915C-4CAB-9CB3-4BFD6E92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0F06-A961-4A1C-9BC9-D6CC11AC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A56D-EB2A-4C9E-97CC-80E1E076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0BB2-7479-4EA1-99FA-B1D73981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2B24-2CF2-4260-BFCA-D35F4552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FC27-FE34-4CB0-A95B-D1E0C222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7BE7-23BD-4480-81EE-5B4AD15C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8D13-FC37-4865-AB25-967EAFE46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Let Us 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59040"/>
            <a:ext cx="9144000" cy="439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let us 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ow the feast is sp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. 4 © 1972 Contemporary Worship 4: Hymns for Baptism and Communion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sts. 1-3 by permission of Lutheran World Fe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Ea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ts. 1-3.  Billema Kwilila, 1970; trans. by Margaret D. Miller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t. 4, Gilbert E. Doan, 1972; alt. (1 Cor. 5:7-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81080"/>
            <a:ext cx="91440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let us 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ow the feast is sp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62120"/>
            <a:ext cx="9144000" cy="48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ord’s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take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ord’s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take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66680"/>
            <a:ext cx="9144000" cy="48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ome, let us drin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ow the wine is pou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let us drin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ow the wine is pou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E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14400"/>
            <a:ext cx="9144000" cy="48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blood po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drink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blood po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drink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90720"/>
            <a:ext cx="9144000" cy="599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his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e meet and re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e meet and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E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66680"/>
            <a:ext cx="9144000" cy="48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Lord we ga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Lord we ga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762120"/>
            <a:ext cx="9144000" cy="599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ise, then, to sp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road God’s might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, then, to sp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road God’s might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E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838080"/>
            <a:ext cx="9144000" cy="599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ris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bring in the kingd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ris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bring in the kingd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2:00Z</dcterms:modified>
  <cp:revision>128</cp:revision>
  <dc:subject/>
  <dc:title>PowerPoint Presentation</dc:title>
</cp:coreProperties>
</file>