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4D3-1E9F-468B-A2B2-66EA0A7E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165-596A-490E-9D71-54605A9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53E-BA26-409B-A791-ED8E3DF2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91F-8FB1-47BD-BCF6-5D431CA1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FAE-C2C8-4700-8675-FE3C63F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CD7-81B4-4FD9-8505-064CEF5D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97F-5B51-4F9E-8BC2-4B7E670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CFB-5E1F-4207-9AFE-E23FE885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345-7563-4552-8AF2-CD65CFF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245-ACE0-414C-B4F7-667C114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C5D-8760-45F8-A295-3769984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212-5F79-4F1F-AD3D-3FF32BE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D913-8D85-44DA-A79C-0488E4268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hing but th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can wa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my s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6600" y="1066680"/>
            <a:ext cx="361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Lowry, 18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is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ghteousn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aga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m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 s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 ple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 at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for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recious is the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3:05Z</dcterms:modified>
  <cp:revision>10</cp:revision>
  <dc:subject/>
  <dc:title>PowerPoint Presentation</dc:title>
</cp:coreProperties>
</file>