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124-FA38-47A7-B8E5-41CF95DB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05F-1C11-47CD-BF54-799C876A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081-4499-40A1-AAF6-AD624208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45F-FE19-4F53-AEB8-06C88BAD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3F1-ABE2-428C-A26A-B24E161D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F45-3DE3-4986-876B-2DFFEE41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B83-71AF-449C-914B-22235484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0EB-A583-457C-8108-9082310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B81-3A2C-4D51-92F8-24E56F7A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7E3-6552-4E2D-870B-97757F24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720-A5B0-4102-8205-47E072EC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89C-565D-4C75-AF20-66B2DE89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ACF8-76FF-4B58-857D-10E97846A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Overcoming Ad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1919160"/>
            <a:ext cx="8153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we pray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ranquill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r that our tribul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ceas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vercoming Ad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6920" y="100476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irolamo Savonarola, Italy, 15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ray for t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pirit and thy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ou grant us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grace to overcome adversit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01Z</dcterms:modified>
  <cp:revision>21</cp:revision>
  <dc:subject/>
  <dc:title>PowerPoint Presentation</dc:title>
</cp:coreProperties>
</file>