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76D-FEDF-4172-B7B5-BBEFE108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857-D071-4ACE-B9A0-A732C42E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62E-F629-4036-B11D-5341851A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8AF-AD58-4DF7-90F5-1932808B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A4F-8572-4177-8532-17AF5F70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F7B4-EEEF-43C2-9A7B-64FC310F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DA7-A421-444C-BF72-CA2F011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778-9B44-43D5-B36A-07DBDF7B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0B2-94B7-4982-A7B2-C594615F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140-4332-42CF-90D1-3A27F51D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50F-5906-4856-B511-8FF9CF8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75D-08C7-464F-B8F3-1DC70D9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A906-1C78-4616-8409-D8674590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to us, and among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wi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leanse u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e as the fire, and bur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ome as the dew, and refresh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990720"/>
            <a:ext cx="438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Eric Milner-White, England, 20th c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71440"/>
            <a:ext cx="883908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vict, conve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consecrat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ny hearts an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great go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o thy greater glor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is we as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Jesus Christ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9:57:40Z</dcterms:modified>
  <cp:revision>24</cp:revision>
  <dc:subject/>
  <dc:title>PowerPoint Presentation</dc:title>
</cp:coreProperties>
</file>