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66B-1587-4113-86EC-681F8DE2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935-C1FE-4E46-9D97-4F845C11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686-5488-4129-BFDB-38799E9E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D73-580F-4151-8FB1-E96D1115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6A1E-B9BF-458C-B22E-51F8E58A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0F5-2010-4B5F-A9C7-B1A3CEF5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633-CC49-49D1-9387-8C55D46D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3D3-86E9-4658-9641-F871B1B3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46AD-9FD9-44A3-A36A-0287A24C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7D5-74E5-44C9-A4E1-21A4AB48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612-D8E7-47FB-82CE-3F683264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DF53-BD17-40F5-84C3-957DEBEA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74CF-552F-40D9-B69D-3731F9C03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reator of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arth and S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Earth and S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Donald Hughes, 1964, 1969 al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3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reator of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whom all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ower bel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By permission of The Methodist Publishing House, Eng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us your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us w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us your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us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Earth and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e have not known you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sk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monu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folly so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our self-w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ser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made us tr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selves the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Earth and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have not loved you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r and w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reckag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hatred sprea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ils w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uman pr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coil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repentant hea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ator of the Earth and Ski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e long to 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worldwide strif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shall we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ur w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eak to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words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our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urn to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6:59Z</dcterms:modified>
  <cp:revision>149</cp:revision>
  <dc:subject/>
  <dc:title>PowerPoint Presentation</dc:title>
</cp:coreProperties>
</file>