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986-1C0F-49E7-9D7D-DF375AF3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9E7-6928-4257-868B-B66402E3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1B9-108B-4769-9A48-9167D834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389-F5E3-4DE7-8C53-389E0216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F2E-1816-4A0C-99B2-9FD9915F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8D5-8537-45C0-BF64-7AE5C27C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20F-702F-4682-887E-3D418838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AC1-AA96-4AA6-B1C1-340DE20D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F89-83C6-4F46-AE22-5FB58CEA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FFA-2F32-440A-B32A-F9CEC12C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F54-0A40-40C6-9DF4-49A8E56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474-F663-4D2E-8877-8E0A06B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4AF7-C3EE-422D-B755-5E1E5F8BF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My W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Truth, My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uth, my L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gives us br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7000" y="1600200"/>
            <a:ext cx="458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Herbert, 1633 (Jn. 14: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ends all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killeth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my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Feast, my Streng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shows a f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ends in l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akes his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my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e, my Hear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a joy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ne can m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none can 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joys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00Z</dcterms:modified>
  <cp:revision>25</cp:revision>
  <dc:subject/>
  <dc:title>PowerPoint Presentation</dc:title>
</cp:coreProperties>
</file>