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8BA-DEB3-482D-8A8C-EC19A7B0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269-F5DC-436B-8406-91C28F43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6AD-7C41-4DC3-BB3C-273819EF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642-1344-4AB6-A38F-1040E10A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644-899A-4326-95E3-8EC8B15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5CA-C05A-4459-B0E8-673C16CE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AAB-B1D6-46EA-941E-0517C1EC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FF4-E113-461D-A716-45C63FD3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7FB-C34B-41B7-81AF-FB4C8078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012-0B18-4616-92B4-DFC0BDFC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02B-9E9E-4726-893B-0B50E81D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796-6A8E-4DDC-9DD0-5E0357B9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DD55-DB27-4186-99F7-860144555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He Lead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. W. Blandy, 1890 (Mk. 8:34; Mt. 8: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 wi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e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ake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llow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he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judg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9:48Z</dcterms:modified>
  <cp:revision>95</cp:revision>
  <dc:subject/>
  <dc:title>PowerPoint Presentation</dc:title>
</cp:coreProperties>
</file>