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47CC-F973-4F74-A27D-20379068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D2C1-2A43-4354-88D9-A6C131A7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90D4-D91B-471C-8743-BBB0B4AF4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DE70-B9DF-4048-AB5B-783E6DF6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AAE4-28C0-4A98-9DC3-9634FF92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CC5C-6665-498C-8A11-1DC994C9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133E-8ED4-4319-A05D-8BA8A809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DF23-D818-42E7-A2EA-F6493CE5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44C3-0088-487A-BABA-D38A2255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FF67-1341-40A6-BB04-810AE6E8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8106-8F80-46B5-B967-A99CDCDC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BAE8-4C38-4080-BD98-227CC312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B5BF-46C2-4EDE-8905-5A252945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D76C-27E8-463D-82F5-020D8DCA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9347-B199-4C9F-9527-799E33CB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E942-D687-4261-98AB-7429C031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496F-A45C-4AC5-BEA1-CEC679147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0B25-7362-428F-ABE3-E0764599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35BC-73D7-46F4-B24A-565A010E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16CF-6C90-45C4-9F25-720992C8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9E3C-41D0-4267-8348-3CBC04C3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77E8-4140-4A6B-802F-27189DB8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2000-355B-43D7-90C5-1D66C363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8E00-9E8E-4943-9E70-867B865A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E887-92D1-4037-A632-C22D0048D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A32E-2712-4F40-813F-403B83B97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6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Christ There I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 East or W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36232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In Christ there i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o east or wes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n him no south or north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371600"/>
            <a:ext cx="914400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ts. 1, 2, 4, John Oxenham, 1913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t. 3, Laurence Hull Stookey, 1987 (Gal. 3:2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. 3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Christ is nei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w nor Gree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either slave nor fr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th male and fema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irs are ma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are kin to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n Christ now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th east and w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m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th and nor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hristly sou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one i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the who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de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36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Christ There I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 East or W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36232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In Christ there i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 east or wes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him no south or north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371600"/>
            <a:ext cx="914400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ts. 1, 2, 4, John Oxenham, 1913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t. 3, Laurence Hull Stookey, 1987 (Gal. 3:2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. 3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one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llowship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le wide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In Christ shall tru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arts everywher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ir high communion find;            his service i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golden cor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lose binding humankin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In Christ is neith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Jew nor Greek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neither slave nor free;          both male and femal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irs are mad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all are kin to 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21276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In Christ now mee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oth east and wes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him meet south and north;         all Christly soul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re one in hi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roughout the whole wide earth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83808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ut one grea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ellowship of lov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roughout th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ole wide earth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36600"/>
            <a:ext cx="9144000" cy="53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2. In Christ shall true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hearts everywhere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their high communion find;            his service is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the golden cord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close binding humankind.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. In Christ is neith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Jew nor Greek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neither slave nor free;          both male and femal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eirs are mad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all are kin to m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52280"/>
            <a:ext cx="9144000" cy="58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. In Christ now mee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oth east and west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him meet south and north;         all Christly soul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re one in him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roughout the whole wide eart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Christ There I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 East or W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743200"/>
            <a:ext cx="9144000" cy="363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In Christ there i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o east or west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him no south or north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. 3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6765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ts. 1, 2, 4, John Oxenham, 1913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t. 3, Laurence Hull Stookey, 1987 (Gal. 3:2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one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llowship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le wide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n Christ shall tr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every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union fi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ervic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lden c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 binding human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7-08T23:23:25Z</dcterms:modified>
  <cp:revision>21</cp:revision>
  <dc:subject/>
  <dc:title>PowerPoint Presentation</dc:title>
</cp:coreProperties>
</file>