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E06-D839-4EC2-91E2-BA7637BD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DF8-7428-483C-B00C-5B39854B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6F1-07CE-4E80-9CB3-DA71212D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508-EBA9-490A-B155-7F3B0227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94B3-A9E0-42E9-B686-94650A0D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D447-F50B-4917-9288-E555998B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BDDC-C0BB-4F28-ACE3-7D4100E0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77E9-9ABF-48A2-9219-DCFD2F71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F09E-BF5E-45BD-991C-BAF99525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0F5A-195A-43B8-BE95-3B034ACF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D3A9-406E-4FD1-9521-4F3023CF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A05-1B01-4DED-953C-7EC5F32C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F4CE-130F-4A76-8AF7-C25AE688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FFB2-B83C-49D4-9DBA-2FAC02B4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6645-9F05-4422-98A1-2B4FCE03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CF67-D497-4783-906E-943D0B41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9794-F8D6-4F6D-BF32-FCBA1156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9F7-CFA9-4BCF-92C8-EFC6F41C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672-CF65-4BFB-A382-1C24BFBC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D30-9EE0-476D-91CC-33F8D797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3C6-E94B-4710-BB06-E9FDAE25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360-5B81-4DC7-9022-53FE5EF7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CB7-145B-47CF-A4DE-95A81CC5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B32-D54F-4537-8784-BA47EC00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2839-CE84-4DE9-9629-2C2B8BA3A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409A-EBAC-4BC9-9C29-EA218714C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ank We All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thank we all 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s and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ondrous things ha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hom this world rejoic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6960" y="1092240"/>
            <a:ext cx="73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Rinkart, 1636; trans. by  Catherine Winkworth, 1858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Sir. 50:22-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us still in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perplex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ee us from all 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world and the nex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All praise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s to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Father now be give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im who reign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them in highest heaven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ne eternal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earth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us it was, is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rom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thers’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lesse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ountless gift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is ours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may this bounteous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nea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r joyful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ed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eer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us still in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perplex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ee us from all 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world and the nex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pra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 now be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m who reig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m in highest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one eternal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earth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us it was, is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b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6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ank We All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479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Now thank we all our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heart and hands and voic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wondrous things has d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whom this world rejoices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5360" y="685800"/>
            <a:ext cx="73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tin Rinkart, 1636; trans. by  Catherine Winkworth, 1858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Sir. 50:22-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rom our mothers’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lessed us on our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ountless gifts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is ours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O may this bounteous G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all our lif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 near 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ever joyful hear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blessed pea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cheer us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19T02:26:47Z</dcterms:modified>
  <cp:revision>18</cp:revision>
  <dc:subject/>
  <dc:title>PowerPoint Presentation</dc:title>
</cp:coreProperties>
</file>