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8282-8E2A-4CC5-B92E-00CCB2A0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2790-3A6C-4E22-8195-66663481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C826-8EB7-4435-8B19-EAF7BCD21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6C00-CD85-411E-B28D-1151C8B2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F081-DDB1-47A2-A742-70820D00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7D0C-D092-4C26-A577-580069B8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A421-9747-4EA7-BA67-44BEFFD2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E0D9-7888-420B-90E4-973634B9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2C76-2425-4707-9AB4-F5E9BFBD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647F-50ED-4102-8CEA-289D3A48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0B26-056B-4A21-8383-DD4487B7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6215-3246-4939-AFAD-8DF81F46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E477-7A44-44BE-B50D-26A742E0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7375-24CC-49B7-9CA5-533FED2B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31CC-B7FA-484D-AFC2-1B37B697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94F6-6DDA-4201-B5FB-D30C232A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BAD5-4D3B-4ED0-A47C-64C69FF18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66DE-6B0B-4AA8-8E96-732A5BC5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299E-5CD9-4F5B-9C16-B5D08D60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2967-83BD-4759-91D3-27E64169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8247-25B9-42B4-B4F2-5D294DF9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572D-B472-45EE-9F30-F895282E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4844-762B-4BDE-B14E-2F795422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66EC-C899-44B7-9AFB-FBB240A2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51C4-51A5-49C7-B407-648A3F6F0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4335-0973-441F-81C5-0C559C729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pirit of the Living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05120"/>
            <a:ext cx="9144000" cy="456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pirit of the living Go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all afresh on me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pirit of the living Go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all afresh on m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38, renewal © 1963 Birdwing 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the Living G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55840" y="990720"/>
            <a:ext cx="433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Daniel Iverson, 1926 (Acts 11:15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lt me, mol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me, use m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 of the living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ll afresh on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pirit of the Living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52388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pirit of the living Go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ll afresh on m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pirit of the living Go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ll afresh on 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the Living G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76212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Daniel Iverson, 1926 (Acts 11:15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38, renewal © 1963 Birdwing Music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lt me, mol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me, use m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 of the living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ll afresh on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1-19T21:22:25Z</dcterms:modified>
  <cp:revision>15</cp:revision>
  <dc:subject/>
  <dc:title>PowerPoint Presentation</dc:title>
</cp:coreProperties>
</file>