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263-A861-46E6-A428-D20E29B5D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F01-4404-4F73-9D9E-EF388A21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191-68C4-485F-BD45-90019F86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EBF-5A52-46E8-BEA7-1AAC8773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9FAC-E569-49C0-A57D-FC2493F1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5D2-758C-4E0E-BE95-8353FA1A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A94-351C-4904-B554-BB5A5C5B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AC15-63A3-48E5-A4E7-EDF5183B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3A8-2C89-4531-BB20-E663859B7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3D19-0FFD-449D-86E9-EDD6F55B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912-ED08-4C2A-A37A-44EC17609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1D1-BB71-48D0-AB5A-9FA0D97B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187-C581-4378-A6FB-86C5BA6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F0C-38F3-4DCA-BAA0-FDC3981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3B7-D08D-4F6E-A2E6-72C4B5CF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BBF-BDF9-4265-BDA9-7A735C67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EF4-4E16-4FCD-BB03-F9A3B43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F92-F544-40AC-869B-A1E24C4D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01A-CAB6-4F78-95D5-D5895EF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56A-F08D-4830-B9DB-0F21F92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C81-5A5F-4F33-8DAC-5ADEB485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0C6-AE27-43FD-88A9-6D6FBCC3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758-AA77-4BA9-9517-993AA1F9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DA34-1DD3-45CD-A5E0-2BDF11F83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ome, sinner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every soul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Jesus’ guest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the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you i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need not on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left behi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God hath bi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humankind.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Do not beg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ake excus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h! do no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ace refus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l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sures le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what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o giv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Come and partak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gospel fea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saved from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Jesus rest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ste the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t 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his b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See him set for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fore your eye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hold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leeding sacrifice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ffere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aved by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Ye who belie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record tru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all sup with hi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 with you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14:37Z</dcterms:modified>
  <cp:revision>118</cp:revision>
  <dc:subject/>
  <dc:title>PowerPoint Presentation</dc:title>
</cp:coreProperties>
</file>