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C687-6E63-469F-9199-7088F2FE0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698C-20C4-4578-BF43-B026A469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563E-9241-4015-9422-668BFB99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A419-126C-4E1A-B741-3075D43B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FCDB-5C7C-4419-8A56-240306C9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13D1-E4EB-4704-AF20-291B485B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EB6E-F149-4DC3-91DE-C5EDD4D4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05FE-7B35-4245-B6B9-28D4192B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55C2-D4C9-403E-A192-1750C615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8DC4-1E24-4CF6-B1A0-DA35DE0C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ACEA-843A-4925-87EB-9B603DF8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0D1C-2526-496E-8383-0F38BF41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0FBF-9D9B-41C0-964C-A4C83573C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God’s Gif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God’s Gif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Howard Thurman, USA, 20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187308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 Hol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pen unto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light for my darkne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courage for my fea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hope for my despai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477800"/>
            <a:ext cx="88390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loving God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open unto me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   wisdom for my confusion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   forgiveness for my sins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   love for my h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477800"/>
            <a:ext cx="88390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God of peace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open unto me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   peace for my turmoil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   joy for my sorrow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   strength for my weak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668600"/>
            <a:ext cx="883908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generous God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open my heart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   to receive all your gif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20:59Z</dcterms:modified>
  <cp:revision>157</cp:revision>
  <dc:subject/>
  <dc:title>PowerPoint Presentation</dc:title>
</cp:coreProperties>
</file>