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478-1D25-4D9C-A71C-586FEAF7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3AE-D5CC-4316-BA94-05EFB8C3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B66-438B-4A31-A020-141C1AFF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647-8B11-4EF5-8D5D-2640F352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C84-2831-4D3A-B972-70D631EC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D16-7FDA-4442-8157-99EF0E47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74C-437B-43E2-B189-DA84DF06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F4F-593C-48B8-9D34-F5B45280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EB9-1B18-4D75-8972-41F95163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408-BAF3-467F-998F-44F015B8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6465-1EED-49EE-967D-8BB5F9A3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361-A654-42AC-95D5-AFDCC72A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8F5A-6D05-471D-9DDE-7358F7FD8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Breath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Breath of Lif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ome sweeping through 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revive your chur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life and power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Breath of Lif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87960" y="1143000"/>
            <a:ext cx="586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essie Porter Head, 1920 (Acts 2; Jn. 20:22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reath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cleanse, renew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t your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et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Win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bend us, break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humbly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ess our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Breath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in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derness remak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ive, rest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we pl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Breath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breathe withi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ing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and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Breath of Lif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ove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fresh to win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ive your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5:40Z</dcterms:modified>
  <cp:revision>14</cp:revision>
  <dc:subject/>
  <dc:title>PowerPoint Presentation</dc:title>
</cp:coreProperties>
</file>