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0A162-4981-4F93-9A60-047029580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71FFA-3B94-4AFE-AFBB-0E91F6FCC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48CD7-687A-488E-9174-ECEA96E4D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14452-3128-4D69-ABA5-BE3CD33CB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EBC0C-400A-4C85-95BA-9885B3BA8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96862-BF50-44E0-B072-8D4C8E97A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85F92-C5D1-42C4-8830-F0A1480BA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825BB-40A1-4684-B180-BEC8AFF44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28B99-F10E-49AE-BAA4-A44FEADDD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A8B13-D91A-4117-8C23-B21239F81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4656A-996A-46F2-AC3A-2C03FE870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31A84-2193-403F-B5B9-4822211F6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53798-8EFF-4F15-9E73-4A50EAD250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And Can It Be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hat I Should G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6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5146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And can it b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I should gai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 interest i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Savior’s blood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d Can It Be that I Should Gain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35720" y="1676520"/>
            <a:ext cx="5270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WORDS: Charles Wesley, 1739 (Acts 16:26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mptied himsel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all but lov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bled for Adam’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lpless rac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s mercy al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mmense and fr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O my G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t found out m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593640"/>
            <a:ext cx="9144000" cy="507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s mercy all,</a:t>
            </a:r>
            <a:br>
              <a:rPr sz="50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’Tis mercy all,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mmense and free,</a:t>
            </a:r>
            <a:br>
              <a:rPr sz="50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immense and free,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O my God</a:t>
            </a:r>
            <a:br>
              <a:rPr sz="50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for O my God,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t found me out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Long my imprison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pirit l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ast bound in si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nature’s night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d Can It Be that I Should Gain 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ine eye diffus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 quickening ray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woke, the dungeo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lamed with light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chains fell off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heart was fr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rose, went fort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followed the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593640"/>
            <a:ext cx="9144000" cy="507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chains fell off,</a:t>
            </a:r>
            <a:br>
              <a:rPr sz="50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My chains fell off,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heart was free,</a:t>
            </a:r>
            <a:br>
              <a:rPr sz="50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my heart was free,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rose, went forth,</a:t>
            </a:r>
            <a:br>
              <a:rPr sz="50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I rose, went forth,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followed the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5. No condemnatio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w I dread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esus, and a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him, is min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d Can It Be that I Should Gain (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ive in hi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living Hea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clothed i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ighteousness divin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old I approac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’eternal thron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claim the crow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rough Christ my ow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ied he for me?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 caused his pain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me? who hi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death pursued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457200"/>
            <a:ext cx="9144000" cy="507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old I approach</a:t>
            </a:r>
            <a:br>
              <a:rPr sz="50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Bold I approach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’eternal throne,</a:t>
            </a:r>
            <a:br>
              <a:rPr sz="50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th’eternal throne,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claim the crown,</a:t>
            </a:r>
            <a:br>
              <a:rPr sz="50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and claim the crown,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rough Christ my ow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mazing love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w can it b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thou, my G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ouldst die for me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593640"/>
            <a:ext cx="9144000" cy="4945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mazing love!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Amazing love!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w can it be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How can it be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thou, my Go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that thou, my God,)</a:t>
            </a:r>
            <a:br>
              <a:rPr sz="36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ouldst die for me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’Tis mystery all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’Immortal dies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 can explo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is strange design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d Can It Be that I Should Gain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vain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irstborn seraph tri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sound the depth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love divin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s mercy all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earth ador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angel mind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quire no mo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593640"/>
            <a:ext cx="9144000" cy="529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s mercy all! </a:t>
            </a:r>
            <a:br>
              <a:rPr sz="50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’Tis mercy all!)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earth adore;</a:t>
            </a:r>
            <a:br>
              <a:rPr sz="50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Let earth adore;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angel minds </a:t>
            </a:r>
            <a:br>
              <a:rPr sz="50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let angel minds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quire no mo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He left his Father’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rone abo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(so free, so infinit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is grace!)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d Can It Be that I Should Gain 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20:34:04Z</dcterms:modified>
  <cp:revision>12</cp:revision>
  <dc:subject/>
  <dc:title>PowerPoint Presentation</dc:title>
</cp:coreProperties>
</file>