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7E4-C121-4416-A046-CBF6D92E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330-3DBD-4051-B2D4-12244722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E84-5520-4EB8-A1B0-4D4CBBC6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3F1-A4EB-4CDD-84E5-E12E12EA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C64-E335-4520-A7F3-73DF8E70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4F8-E4D8-43E0-8FC9-9E3C22B8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465-EBE5-42A3-8D63-014FE96D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FD7-CBDE-4886-90DC-9C361EA7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ED7-DA22-4CA7-B1A3-63C967B6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745-2AD6-4154-85BD-607E06A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484-09E3-4476-ADD1-330B7630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BF4-1E5E-487A-8D85-7999A4D8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7974-4F7F-4131-9E06-E7FF4FA3F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2296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ighteous and Just I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ord of Our Lord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La Palabra Del S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 Es Rec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1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Juan Luis Gar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ía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720" y="1981080"/>
            <a:ext cx="800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uan Luis Garc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a; trans by George Lockwoord, 1987 (Ps. 33:4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0648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051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79840" y="2590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ear God, all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peopl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w dow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ou nation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79760" y="1752480"/>
            <a:ext cx="1843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terpiece wor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d and wondr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ang to be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2590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ose addic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vi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l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od frustra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63920" y="12193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God’s judg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’s pl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confirm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ed foreve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82880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90720"/>
            <a:ext cx="9144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05320" y="137160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29160" y="137160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79840" y="2590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63920" y="1295280"/>
            <a:ext cx="1843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n su divina palab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eron creados los cielo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 aliento de su bo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formaron los lucer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como en odre reco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inquieto mar las agu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abismo h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estanq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os ríos las cañad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1608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male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óstrense tod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 pueblo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bras tan gran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xcels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u mandato surgier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2240" y="1219320"/>
            <a:ext cx="74196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ustra 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l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igni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os que en 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l se embriaga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ólo sus planes y juici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 confirman y procla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2100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9840" y="2590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0360" y="2057400"/>
            <a:ext cx="5159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y th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we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s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from God’s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great breat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ing the star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mo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athered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winesk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ocea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ut the d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cha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valle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riv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66680"/>
            <a:ext cx="9144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5:29Z</dcterms:modified>
  <cp:revision>24</cp:revision>
  <dc:subject/>
  <dc:title>PowerPoint Presentation</dc:title>
</cp:coreProperties>
</file>