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3CA-A126-4FAF-AB93-C19126C8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23E-CE51-4E5D-B6BB-25384CF7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A58-9A1F-45D3-B677-09C21D68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AC8-821E-419D-A586-16F8CFF2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ACD-C63C-4F49-BF26-EFB01668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021-E780-4ADC-A553-F9070B7D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AF6-F008-4B41-A499-BC1890C8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1C6-24FB-4316-AE60-27213A7B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510-E0BF-4794-9E09-6CC98B49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B0B-F3C9-42FF-8A0D-4BB624B6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761-5259-4974-8F6C-D5F3B8B2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1FC-AD96-441F-8D98-884AB424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FD2A-E963-496A-8A32-66B52FA8C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Satisfy the Hungr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510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Archdiocese of Philadelph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Omer Westendorf, 1977 (Jn. 6:34; 10:1-5; 1 Cor. 10:16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give your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, O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elfless let u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th and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hen the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s his sh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know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ed his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hen you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mily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and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ful li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ing t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ise and gratitu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hat you should cou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worthy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this heavenly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t the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ess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oo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utpour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one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af, decl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oneness i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yster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esen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tal tongue can t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con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in our hearts to d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2:58Z</dcterms:modified>
  <cp:revision>130</cp:revision>
  <dc:subject/>
  <dc:title>PowerPoint Presentation</dc:title>
</cp:coreProperties>
</file>