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85F-4FF5-4759-B5D0-E88126AD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F26-B346-433B-850D-6E32CA04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7DE-83BB-417D-B495-3E92D63D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DC5-B940-4192-ADDD-9518A6F8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FF7B-BF29-4931-BD9A-DB1695B3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100B-1090-4B2D-83C5-3B26E2A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396A-249F-4B0D-9B01-F7D1B542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7528-672D-4146-8485-C17DE27C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DE5D-B4AF-4529-8131-B9BFF04F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C72D-6C9B-424B-A03C-46CAAE06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0917-AD7D-4A84-ACAC-18DE1FFA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AAD-1023-4CB1-B49D-7A586516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0B19-13EA-4A4A-8291-FF327A83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ABA6-24EE-4245-960E-E06A73CD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3055-F52C-4E50-8FBC-45D9FCE4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8620-D722-4879-A2E6-09137049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5CE1-5E72-46D4-B6A4-F0DD604D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82E-71AA-411D-BC73-AED11447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18C-AB51-4A04-BDC7-DEE1E5C4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9DD-C35C-499D-A151-F8443D56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DE2-627A-4369-8663-7D1696B0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EA5-0A90-4E07-9827-E76A6739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AB0-766F-4F85-8C68-7DEAF639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3E0-7210-49B9-BC40-4CED0760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1B40-02E1-496F-9161-18A3AA2FD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EBB2-BA4C-4F3F-8787-B5EBCED1E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, Like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epherd Lead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Dorothy A. Thrupp, 1836 (Jn. 10:1-2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2880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1. Savior, like a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 lead 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much we ne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thy tender car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hast merc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relieve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race to clean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power to fr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e will earl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 We will earl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4. Early let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eek thy fav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arly let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do thy will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lessed Lor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nly Savi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thy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 bosoms fi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love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 Thou hast love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, Like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epherd Lead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Dorothy A. Thrupp, 1836 (Jn. 10:1-2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avior, like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 lea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ch we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tender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leas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ures fe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olds prep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thy pleasan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astures fee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our u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folds prepa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ar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befri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e guard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thy fl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def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us when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a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, O hea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Hear, O hea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 hast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nd sin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w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lie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clean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wer to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will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e will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arly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 thy fav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ly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thy w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l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osoms 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lov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ou hast lov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are th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befrien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 the guardia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way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keep thy flock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sin defen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ek us when w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 ast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ear, O hear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 Hear, O hear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 hast promis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nd sinfu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we b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22T01:56:19Z</dcterms:modified>
  <cp:revision>127</cp:revision>
  <dc:subject/>
  <dc:title>PowerPoint Presentation</dc:title>
</cp:coreProperties>
</file>