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730-F5FC-4AB3-AAE4-00D5D599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1B0-D033-4563-A04A-3313FCE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92D-FBEA-4375-A046-31FBEFBE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A5C-D27A-4005-BE2E-B8DE24F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7935-4E36-439A-92E3-88A56755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DD52-EA43-4A80-BCB4-B84C196D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6D9C-872F-4586-870E-E6D5EBAA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BA9-71D3-4A8C-9C13-E67436E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A1BE-93EC-4CD7-85E2-C82A7597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2FE6-BE2E-4C67-ACB3-200C81E3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1EE7-0134-4FFC-985C-C2E7C4F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68D-F384-491E-8F17-EF063F01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00ED-0FF9-4D97-9F72-1BC96EC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C4F-8D60-4033-AC4B-F876A32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78EC-3503-4A7C-9CED-AF5F8906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46DE-7513-4399-AC54-DAC08D9F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8FC5-6DB4-4E40-8F64-42D88E71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854-F49C-425B-B266-988F2B9A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87E-128B-4E12-BB2B-0A78283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7A4-5874-44B0-B68D-4C7A960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82B-196F-4160-9A7B-01827A60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ACB-6C18-4F7F-9783-3AC854E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C86-2DD1-402C-9F5D-446E232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E25-AA29-44BE-9546-9E2BC9C4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C0A8-A921-44B4-AC2F-B67E6C79F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900D-5A7E-4B1C-B321-D944479D3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rd, You Have C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the Lake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911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22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 come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akeshore looking nei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5720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rd, You Have C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the Lakesh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 co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ake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ing nei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371600"/>
            <a:ext cx="8915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76520"/>
            <a:ext cx="86868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4600" y="1676520"/>
            <a:ext cx="805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676520"/>
            <a:ext cx="7346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890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430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Venido a la Orilla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"/>
            <a:ext cx="91440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457200"/>
            <a:ext cx="8915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3:56:21Z</dcterms:modified>
  <cp:revision>104</cp:revision>
  <dc:subject/>
  <dc:title>PowerPoint Presentation</dc:title>
</cp:coreProperties>
</file>