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3AF8-08E0-42C1-8B78-4FCAC706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3074-957D-4FCF-90DA-D3530F6E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F8BD-A6CD-4AE6-AAE4-E5F5A965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DDC7-A211-484E-9F3E-EBF41467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F217-432F-472F-99B9-806000F4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4D6D-F557-4631-B747-E28DE0AE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A124-06F5-45D3-BEB6-06A45DF5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6475-5A1C-4DFC-82B2-BAEDE61B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775E-71CC-463C-8046-D3C55147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FC72-897B-49B5-BC30-FD49DBA8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1579-3ECC-4653-8535-9AAE178B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8CF8-F33E-45FA-81AE-2E294270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1162-C7DD-4F58-B25A-3A9FF2931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ú Has Venido a la Orilla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Lord, You Have Come to the Lakesho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6080" y="228600"/>
            <a:ext cx="144792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4479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WORDS: Cesareo Gabara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ín; trans. by Gertrude C. Suppe, George Lockwood,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nd Raquel Gutiérrez-Achon, 1987 (Mt. 4:18-22; Mk. 1:16-20; Lk. 5:1-1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66880"/>
            <a:ext cx="9144000" cy="380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Tú has venido a la orilla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no has buscad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ni a sabios ni a rico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an sólo quieres que yo te sig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9 Ediciones Paulinas;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872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4. Tú, pescado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e otros mar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sia eterna de alma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que espera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migo bueno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que así me llam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ñor, me h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rado a los oj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onrien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dicho mi nom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are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dejado mi barc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nto a t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scaré otro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Lord, you h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to the lakesh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oking nei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wealthy nor wise on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only asked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follow humb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with y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You know so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ll my possession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boat carr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gold and no weapon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will find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nets and lab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with y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You need my h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ull of ca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my labo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give others r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onstant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keeps on lov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ñor, me h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rado a los oj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onrien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dicho mi nom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with y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You, who h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shed other ocea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 longed for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uls who are wai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loving fri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thus you call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with y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are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dejado mi barc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nto a t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scaré otro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1872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ú sabes bi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 que tengo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mi barc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hay oro ni espada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an sólo red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mi trabaj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ñor, me h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rado a los oj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onrien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dicho mi nom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are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dejado mi barc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nto a t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scaré otro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5526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ú necesitas mis man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 cansanci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a otros descan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mor que quie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guir aman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ñor, me h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rado a los oj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onrien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dicho mi nom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are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dejado mi barc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nto a t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scaré otro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05:11Z</dcterms:modified>
  <cp:revision>103</cp:revision>
  <dc:subject/>
  <dc:title>PowerPoint Presentation</dc:title>
</cp:coreProperties>
</file>