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3E7-C6A3-48BE-A641-11FF9776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973-1E68-4D86-8559-2E63E261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77E-AD5D-4ED7-9BD6-41FC3C32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49B-FF27-41C8-892D-3159C8C9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D7A-73DD-400C-8CF7-C2298DA8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37B-33BC-418D-887A-00AF3147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9C1-3126-4D23-987E-2825C2F3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334-FEF3-4ADC-8419-7D51CDE7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96B-EAA1-4501-AB1D-4EAC136A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220-8BB7-4AF2-8BA6-E55EB528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5D0-C21A-470D-BDB3-5BA47D31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B5F-69F3-4168-9C1D-7A0E8DDA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22E0-29DC-49E8-B112-EF5FC6689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t the Birth of a Chi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76520"/>
            <a:ext cx="8763120" cy="42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ail the day on which a child,</a:t>
            </a:r>
            <a:br>
              <a:rPr sz="50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(name)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was born. Rejoice! </a:t>
            </a:r>
            <a:br>
              <a:rPr sz="2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) From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Masai, Herders of East Afric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y Sonia Bleek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3 Sonia Bleeker.  Reprinted by permission of Morrow Junior 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) © 1975 John S.  Mbiti,  by permission of SP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Birth of a Chi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096920"/>
            <a:ext cx="8839080" cy="39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Let us all sing and praise her that gave birth to a 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(son/daughter)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for whom she longed. Greet this day with joy. Our hearts are gla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The Masai people</a:t>
            </a:r>
            <a:br>
              <a:rPr sz="2200"/>
            </a:b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Kenya and Tanzania 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423720"/>
            <a:ext cx="8839080" cy="634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us pray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 Creator, who dost all hum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beings create,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ou hast a great worth on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ferre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y bringing us this little child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Akamba People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enya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Birth of a Chi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5:01:49Z</dcterms:modified>
  <cp:revision>8</cp:revision>
  <dc:subject/>
  <dc:title>PowerPoint Presentation</dc:title>
</cp:coreProperties>
</file>