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7B75-D9EF-4776-94A5-A3052C9AE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B5E0-65F2-481F-894F-9084A8A7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52E0-2E6E-45D6-A394-A1571D31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9221-4DFA-4F7B-BFB7-001134E25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4275-901C-40A2-B4F7-1F32B13C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A02E-3FE9-4263-B554-9999EFBC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6ACA-FFFF-4EA6-9B66-BBABBC08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E76C-2434-419C-8AC4-3FE48A00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8C75-723D-4E17-BBA1-AE107D3E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7046-669E-4312-8CCE-6D6C1341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BCE1-E5B6-48B3-B3D9-D80086B3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ACE5-AA06-4963-9310-BA110C18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E314-075A-4BB5-B1C7-4D1AF8266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 Forth for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forth fo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o the world in pe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of good cour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med with heavenly gr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Mildred Peac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Forth for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27080" y="1092240"/>
            <a:ext cx="35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hn R. Peacey, 197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God’s good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ily to increa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in the king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ee face to fac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forth fo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o the world in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forth fo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o the world in l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en the fai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courage to the weak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Forth for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the afflict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chly from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love supplie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and power we seek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forth fo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o the world in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forth fo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o the world in streng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 fast the g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urgent for the r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Forth for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nder to no one evi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at leng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over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darkness with his light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forth fo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o the world in streng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forth fo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o the world in jo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rve God’s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day and hou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Forth for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erving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every gift empl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Spirit’s powe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forth fo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o the world in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23:28Z</dcterms:modified>
  <cp:revision>10</cp:revision>
  <dc:subject/>
  <dc:title>PowerPoint Presentation</dc:title>
</cp:coreProperties>
</file>