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002-8597-4CC8-A936-A22F733E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B86-2C35-4372-920D-B97C1139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0A3-F798-4D15-A90B-220EE662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9C1-299D-4A79-BD44-D29B59C4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082-16FF-429E-8760-8AFFBC02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004-38EF-418B-87C4-E09E222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BA24-8E2A-4C30-B7EB-2815EEB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7A3A-8DF1-451C-BA8C-778241B1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C568-2E56-44E8-8EE9-1531816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7F9-4271-4DF6-8927-54EBD8A6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E8F6-E37B-4EA0-88B0-C0A1162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829-63C7-4A7F-858E-D1DF556C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F7DB-305E-445C-80DC-30DEE0C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9CE1-0701-444E-87BC-E831AE3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352A-E630-4DE9-BF38-EC987997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7B54-4E49-441F-B968-5E578844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172-882B-4BDA-B700-9972ECCD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FC5-AE85-4DFC-B8ED-98FD0A3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8B8-12D7-4259-B7C8-119BDA83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F58-FE39-48C8-95EF-0E9E6104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423-1043-460D-A0E5-7188AEB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798-AA96-4D96-8947-E577D87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84F-3C8F-4C6D-B0DE-0109587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4AF-9AE2-40B7-B80A-9FAC42B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09D-709A-4BA3-96B9-4F01232D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1BE2-E519-4012-A617-E155A9D9C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3440" y="838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3440" y="11430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3440" y="838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588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2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3036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3111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588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3036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90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98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7772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13T23:43:47Z</dcterms:modified>
  <cp:revision>55</cp:revision>
  <dc:subject/>
  <dc:title>PowerPoint Presentation</dc:title>
</cp:coreProperties>
</file>