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D54-5741-402E-B618-0B49CFE7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E58-591C-4F3C-A231-FFE7F54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1EE-8AF2-4229-ACAE-DDC2D5A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1E8-1640-453D-A655-BF245DD0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C4A4-D8D0-4526-9EE6-670BBECC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F94E-3D47-495C-B59A-B9B920DD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C925-0097-496B-88ED-5D919CF9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324-FB7F-46A1-8516-206B9EBD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4F27-A0F9-453A-8FBD-2552CC1D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1151-A948-48C9-BE2F-E98F1ED5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E5C8-7E7B-4991-928C-56CCB0B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E63-A00C-43EA-985E-81D0B0AB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A43-0166-43AD-B679-1AA32F0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DF2-BE5F-4B35-BD4F-B313841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486-93D0-4246-9CD8-3728CD1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72B5-DEA3-4CA5-BDA6-8860ADEB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D2BB-D5D6-45CE-B94B-42E8B414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548-AD68-4D2A-86B0-DCB846F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C23-42C4-4823-8954-402BF745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878-AF92-4174-B68E-6A5CD551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2BC-31FB-49B7-B4C8-6FFF65A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51F-4285-420E-83F6-70FD5D1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E46-837B-41F3-9A01-645E3EF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45D-34D4-4D21-ABDC-CA42254D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B9D6-66BE-4129-83CB-B83C29D6C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298-AB58-4C33-A263-C910AD7E9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41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2920" y="10666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8580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                                  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245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47920"/>
            <a:ext cx="9144000" cy="369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600200"/>
            <a:ext cx="9144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90720"/>
            <a:ext cx="9144000" cy="44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ader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All</a:t>
            </a:r>
            <a:r>
              <a:rPr b="0" i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828800"/>
            <a:ext cx="9144000" cy="244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2920" y="83808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Psalm 118:24; adapt. by Les Garrett, 196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71600"/>
            <a:ext cx="914400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 Lord hath made.  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9960"/>
            <a:ext cx="9144000" cy="329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rejoice                             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9-04T23:01:08Z</dcterms:modified>
  <cp:revision>16</cp:revision>
  <dc:subject/>
  <dc:title>PowerPoint Presentation</dc:title>
</cp:coreProperties>
</file>