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663-217B-4814-81C3-4B0383D4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572-863D-4084-99AA-7BB59335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5EC-0817-45E5-8E19-56F0A03D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256-C1C3-46E0-A59A-8EE8BE7C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00E3-E7B0-4550-9DFB-5B423D15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BB55-CEBB-4836-80F5-7B34296B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E61-D064-4092-B696-C2006861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13F-8F43-4725-B825-60F9703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8C16-9A05-48C9-BB71-F5751221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F222-3285-4BF9-9DBD-CC4E7747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C9CA-7240-4B84-A880-82FD195A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106-F539-445E-935A-19E314E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D411-A227-409E-A15A-5B04459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BB34-3941-4687-B925-D6CC9E98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9070-4DB1-4E83-9D5A-0630DEC7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7626-C8D5-40DD-A315-B179145B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10AC-C9F8-4C39-8F1D-10CF467F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D86-32B9-4E8C-84EF-793C2518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C76-B31A-474E-8BA6-A3E0FDB1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FA5-84E2-427F-AECE-734BFA63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0AE-CE32-4A2A-98FD-48A86E49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CEA-BEED-46E4-966B-DDAFAA9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D3C-269B-415E-87B1-FD11879C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857-F525-4F3C-9949-71E16DD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DA60-F58F-4AC5-8079-B40F90D71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AD9F-89C0-48A8-A1FF-37D456AAB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858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1440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 O gentle Savior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 thou art calling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0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9907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 O gentle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 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 throne of merc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7632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270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 throne of merc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7308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7632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0"/>
            <a:ext cx="9144000" cy="49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907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entl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15T00:42:34Z</dcterms:modified>
  <cp:revision>111</cp:revision>
  <dc:subject/>
  <dc:title>PowerPoint Presentation</dc:title>
</cp:coreProperties>
</file>