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1731D-36CE-413B-B2F6-BCF6F8542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67DBA-1776-48E6-B3C3-CDDA88BB1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BD1EA-6CB7-4CE0-8700-361843B5E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D8BE0-421D-4E04-9E68-1AF04C333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4F46B-1601-4E04-87B2-0DB797830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C3BD1-8242-4C4D-8BB4-ED21C0862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86833-A545-436C-A444-81CC55825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CAE6E-8579-425D-A6F0-B29D8D5F7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039BF-3B95-40C7-AA1C-6ECBA083F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85456-DE7A-4B07-A290-20157AC7A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E8A34-5074-45FF-8E56-FA5DA3C09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D9248-05CB-4501-BCCA-8830B0865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32127-A104-4E78-911B-4A5F1A1FB4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The Day Thou Gavest,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Lord, Is End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69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3623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day thou gaves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rd, is ended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darkness fall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t thy behest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Day Thou Gavest, Lord, Is Ende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981080" y="1600200"/>
            <a:ext cx="518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John Ellerton, 1879 (Ps. 113:2-3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66760" y="1859040"/>
            <a:ext cx="861048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thee our morn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ymns ascended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praise shall hallow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w our res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We thank thee tha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church, unsleeping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ile earth rolls onwar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to light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Day Thou Gavest, Lord, Is Ende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rough all the worl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r watch is keep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rests not now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y day or nigh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As o’er eac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ntinent and isl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dawn leads o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other day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Day Thou Gavest, Lord, Is Ende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voice of pray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s never silen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r die the strain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praise aw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So be it, Lord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throne shall nev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ike earth’s prou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mpires, pass aw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Day Thou Gavest, Lord, Is Ende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kingdom stand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grows forev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all thy creatur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wn thy sw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6T19:40:47Z</dcterms:modified>
  <cp:revision>28</cp:revision>
  <dc:subject/>
  <dc:title>PowerPoint Presentation</dc:title>
</cp:coreProperties>
</file>