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08DF-7224-483B-969F-24375C5B9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21F0-8A7C-4113-B193-04D566D4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FAD7-7D24-4983-A16E-DDED6301A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69C8-F945-4160-8425-150F8EFF2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2DE9-E03F-4CA1-BCF9-29C7AC39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D3A5-6CB4-48F1-802E-23BF1242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0C92-7140-4393-9A89-E5413363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6B42-1963-44DF-B99D-9E1A5E13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C24C-DE31-459E-89CB-9EB1CD0E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CC40-2153-4EC3-ACE6-6495B3F4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8918-1C75-4255-8C30-FE34C1C9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BB00-7DD5-4316-AA4F-C88D2A62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1396-E4FF-4FBA-AE23-F532865D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3146-2837-4138-B8F6-DF9DFA2B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9B03-0B55-4969-A18B-63C0B5EC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4CAF-6F92-4A77-95FB-D5B1E79A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9C94-0047-480D-9969-A33185B07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2EC7-81D4-455F-91C0-897119E9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85D5-202E-4EA4-A2FC-ED672DB8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AF2B-9D0A-452C-9085-67E4F050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DB8F-5E7E-4B5A-9EA2-0CD2B988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D477-EC91-4359-B811-93DE1975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A155-DE80-496D-A939-48197433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B1D2-22A4-4180-9FFB-71A41EEE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A039-DDFF-4117-81AD-E260D86EC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D636-4BA7-48B4-8E3F-76B56EC6A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Christians, Join to 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43028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Christians, join to sing: Alleluia! Amen!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oud praise to Christ our King: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Christians, Join to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55120" y="838080"/>
            <a:ext cx="447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ristian Henry Bateman, 18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our gu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rie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us he’ll condesce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love shall never en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Praise y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 again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 shall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d the strain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Christians, Join to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heaven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issful sh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goodness we’ll ad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nging forevermor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522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Christians, Join to 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2952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Christians, join to sing: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loud praise to Christ our King: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Christians, Join to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55120" y="838080"/>
            <a:ext cx="447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ristian Henry Bateman, 18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522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eart and v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his throne rej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is his gracious choic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038480"/>
            <a:ext cx="9144000" cy="281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52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Come, lift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ts on high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praises fill the sk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Christians, Join to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038480"/>
            <a:ext cx="9144000" cy="281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533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our guide and frie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us he’ll condesce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love shall never en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962520"/>
            <a:ext cx="9144000" cy="2892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4413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Praise yet the Lord again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 shall not end the strain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Christians, Join to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962520"/>
            <a:ext cx="9144000" cy="2892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380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heaven’s blissful sh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goodness we’ll ad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nging forevermor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962520"/>
            <a:ext cx="9144000" cy="2892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522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Christians, Join to 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2952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Christians, join to sing: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loud praise to Christ our King: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Christians, Join to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55120" y="838080"/>
            <a:ext cx="447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ristian Henry Bateman, 18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52280"/>
            <a:ext cx="914400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Let all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eart and voice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his throne rejoice;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is his gracious choice.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1522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eart and v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his throne rej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is his gracious choic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038480"/>
            <a:ext cx="9144000" cy="281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52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Come, lift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ts on high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praises fill the sk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Christians, Join to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038480"/>
            <a:ext cx="9144000" cy="281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533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our guide and frie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us he’ll condesce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love shall never en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962520"/>
            <a:ext cx="9144000" cy="2892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4413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Praise yet the Lord again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 shall not end the strain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Christians, Join to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962520"/>
            <a:ext cx="9144000" cy="2892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380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heaven’s blissful sh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goodness we’ll ad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nging forevermor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962520"/>
            <a:ext cx="9144000" cy="2892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52056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2. Come, lift you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hearts on high: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Let praises fill the sky: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Christians, Join to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533520"/>
            <a:ext cx="914400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our guide and friend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o us he’ll condescend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his love shall never end: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59688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3. Praise yet the Lord again: Alleluia! Amen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Life shall not end the strain: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Christians, Join to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596880"/>
            <a:ext cx="914400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n heaven’s blissful shor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his goodness we’ll ador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singing forevermore: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095880"/>
            <a:ext cx="9144000" cy="75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286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Christians, Join to 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Christia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join to sing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ud prais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our King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Christians, Join to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55120" y="990720"/>
            <a:ext cx="447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ristian Henry Bateman, 18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eart and v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his throne rej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is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acious choic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Come, lift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ts on high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pra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 the sk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Christians, Join to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1-29T12:30:51Z</dcterms:modified>
  <cp:revision>23</cp:revision>
  <dc:subject/>
  <dc:title>PowerPoint Presentation</dc:title>
</cp:coreProperties>
</file>