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FE9-C91E-4DA7-8D27-1FDA58F2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016-5BB1-4AA7-9215-CD249418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25C-595F-46CD-99AD-58F13503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AAF-2F9A-4651-8B10-1CE2F2FF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593-4960-44F8-8FED-C2AE358C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780-F9F5-4BCC-B071-DFCFA1CB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755-CD82-453E-B83D-5EBA76D8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BC3-91B6-48C4-999C-D099EFA9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D63-51B6-415B-AEE7-7761F6FE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E62-EE06-4FF2-A0C7-0E476F39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5D4E-A7BB-4C6D-A637-C003AF0A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D27-13A4-4F34-9082-36CED55C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9F4A-C3CE-45B3-AB32-7DCD82798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t the Close of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05120"/>
            <a:ext cx="8839080" cy="300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O Lord my God, I thank thee th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hast brought this day to i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ose. I thank thee that thou do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give rest to body and soul.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Close of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3720" y="1066680"/>
            <a:ext cx="45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ietrich Bonhoeffer, Germany, 20th c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100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printed with permission of Macmillan Publishing Company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etters and Papers from Prison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rev. edn. by Dietrich Bonhoeff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3, 1967, 1971 SCM Press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143000"/>
            <a:ext cx="8610480" cy="46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nd has been over m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uarding me and preserving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give my feeble faith and 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rong I have done this da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elp me to forgive all w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wronged me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8108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I may sleep in pe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neath thy care, and defend 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temptations of darkness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81040" y="1219320"/>
            <a:ext cx="8564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thy hands I commend m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ved one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ommend this household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ommend my body and soul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 thy holy name be praise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0:05Z</dcterms:modified>
  <cp:revision>17</cp:revision>
  <dc:subject/>
  <dc:title>PowerPoint Presentation</dc:title>
</cp:coreProperties>
</file>