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586-1318-4799-9093-5903774F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586-E06C-4282-AB84-E3B2AD33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F74-930F-4F3F-A4DC-416B7604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D27-F92A-4E89-B529-0ED7874B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9500-DB50-4293-8764-9FAF4B7A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8DF0-7489-4852-BCC4-1BF52C07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5095-86A6-4231-BBCA-B1EF1CE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BF8D-0C42-4CD8-9CB5-20C93FD0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D329-6811-4B4C-9B2A-96A9E3BE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BE97-3646-4F1E-AC59-B349903A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FC96-9F9E-4730-9A96-2FA0294D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DC1-39B1-4CDB-AFEB-319B5D06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3F62-0738-43A0-AB30-C162A105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49B0-F15F-4A57-8F94-1DC4FB4D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8BC0-7695-4F25-B5C3-74FC80D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6AC9-2383-4A13-BF5F-9FD81ADF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48AF-2961-49E7-B15C-E6BF779F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30A-614A-4DAA-AE07-A12FF6CC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19D-ECD0-4994-84C2-1FCACBC8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4E4-9701-4BE8-AAD0-BCB5EE46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2E0-5043-40F0-AB4A-7876E39C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656-D78B-4D89-B07F-460833AE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8C8-56FE-4EF7-A1CD-885706D7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101-8EDB-422B-A7A6-19053E50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8611-07A8-4EE2-A63F-0014A89D2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88D4-47E2-428C-A7B0-1C5AB78C2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080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Sweet hour of pray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calls me fr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world of car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8480" y="762120"/>
            <a:ext cx="39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alford, 18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aso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ress and gr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has of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d rel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t esca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mpter’s sn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ret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oys I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iss I sh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ose whose anx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b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trong desi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retu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uch I has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Go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s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adly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ation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ings sh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tition b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whos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ithfu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gage the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to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ce he bi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hi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 hi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his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cast o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every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034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bids me a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Father’s thro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ke all my wan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wishes know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lls 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car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8480" y="762120"/>
            <a:ext cx="39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alford, 18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ds me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ather’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ll my w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shes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seasons of distress and grief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oul has often found relief,     and oft escaped the tempter’s sna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thy retu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joys I feel, the bliss I share        of those whose anxious spirits bur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strong desires for thy return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such I hasten to the pla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God my Savio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ows his face,                                and gladly take my station the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wings shall my petition bear     to him whose truth and faithfuln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ngage the waiting soul to bles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74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ince he bids me seek his f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lieve his w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rust his grace,                         I’ll cast on him my every ca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n seasons of distress &amp; grief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y soul has often found relief,     and oft escaped the tempter’s sna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by thy return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6320"/>
            <a:ext cx="9144000" cy="57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2. Sweet hour of prayer!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the joys I feel, the bliss I share        of those whose anxious spirits burn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with strong desires for thy return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6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With such I hasten to the place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where God my Savior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shows his face,                                and gladly take my station ther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Sweet hour of prayer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y wings shall my petition bear     to him whose truth and faithfulnes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gage the waiting soul to bles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9144000" cy="642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since he bids me seek his fac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believe his word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trust his grace,                         I’ll cast on him my every car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lls 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car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8480" y="1066680"/>
            <a:ext cx="39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alford, 18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ds me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ather’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ll my w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shes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17T02:06:05Z</dcterms:modified>
  <cp:revision>10</cp:revision>
  <dc:subject/>
  <dc:title>PowerPoint Presentation</dc:title>
</cp:coreProperties>
</file>