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072-1826-4991-818F-CCE6B779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BDF-6E64-42B6-BAFB-6E9949C1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871-1EE3-4B16-8B23-E11AB5C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ADC-1029-4D75-8355-59DDD8B6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771-CA43-47EC-8227-67FD38E3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B9D-450E-4046-9657-04DCFC39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AC2-93AB-4520-A67B-233CA563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764-5DF0-4E27-A86B-C776FFBE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668-C8B1-4A49-8317-5D502A23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B99-633D-46A3-A0D4-162B625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78F-5A9B-4884-AE83-95D6E90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3AD-5F6D-4006-860F-232E7E3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988-558C-430C-8F8E-3F92BCC8D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, on L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Sea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n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peace pro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Longfellow, 18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s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ens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eternal stars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 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holy 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s d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et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ou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ur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urdens lea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’s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res for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6:31Z</dcterms:modified>
  <cp:revision>23</cp:revision>
  <dc:subject/>
  <dc:title>PowerPoint Presentation</dc:title>
</cp:coreProperties>
</file>