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53B8-BCED-4DD4-9FBF-4B1191A79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4E30-F6C5-4EAB-9545-B80B09EB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DB45-5E0C-4951-8563-3EAC15BBA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AB3F-9F39-464A-B6F9-DA100F9A8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E409-ABAF-4319-B67E-B579CFE6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43B1-F1FA-4E05-A647-12C79051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A361-5C2C-438C-BD81-4301CD6A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D81A-8812-477C-A726-05DB2CEA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F43C-E444-45F8-A06C-2F55ED07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5EE4-4865-4492-B37E-A7EAD840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431E-8125-420E-B4DF-7A863705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CEBE-C458-48C0-9B46-67D1CB4B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320D-3D23-41F0-8D65-251F1ACD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6E52-6235-4F3A-A7CE-B1D9470F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921C-DBD1-4E1E-870D-9950E20F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8C82-0F17-4F65-987A-2AD69EF5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CC9A-F64D-45E7-B0BD-8E9F3EAB5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858A-714B-4E3C-8EF6-894AE19D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DBEC-1060-4446-84BE-F7377D7D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0E87-91B1-43BA-8054-884DA835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D31C-F6E3-44C8-8FD7-A331D08B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A50E-FB25-4F1C-87E9-977C01DD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7CEB-2DA2-4CE2-A7F4-84F95E17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22D4-5B1D-4CF4-8147-A9116C10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77AD-5113-470F-88BD-ACB40B24A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18B4-0F94-4F04-84B9-1CFB86E5E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Shall Over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05740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We shall overcom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shall overcom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shall overcom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hall Over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14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deep in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he Lord will see us through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Shall Over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37160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We shall overcom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shall overcom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shall overcom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hall Over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838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deep in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over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’ll walk hand in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walk hand in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walk hand in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hall Over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deep in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walk hand in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0508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e shall all be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all be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all be f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hall Over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deep in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all be fre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e shall live in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live in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live in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hall Over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deep in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live in peac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0666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5. The Lord will see us through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Lord will see us through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Lord will see us through 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hall Over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deep in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over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974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deep in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he Lord will see us through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’ll walk hand in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walk hand in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walk hand in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hall Over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deep in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walk hand in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e shall all be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all be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all be f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hall Over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deep in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all be fre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e shall live in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live in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live in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hall Over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deep in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live in peac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5. The Lord will see us through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Lord will see us through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Lord will see us through 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hall Over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2-02T15:14:36Z</dcterms:modified>
  <cp:revision>56</cp:revision>
  <dc:subject/>
  <dc:title>PowerPoint Presentation</dc:title>
</cp:coreProperties>
</file>