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6CC-2E53-4839-BD9B-3099AFF2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10C-91BD-4622-BC19-8C92ABC3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B6E-AF9C-4E5B-8C52-5F824EE5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0E3-A283-4ED1-8D8D-6C04F21A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7AF-E8A0-4018-A0FD-C4328878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135-7CFA-4DFB-A299-EF9B172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F78-809A-414B-BF2A-DBB89C03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82E-05D1-4954-AF37-F5DFF0E0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375-3A12-41E4-A64B-FC942838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648-BF5D-4BFA-81EB-17D86D67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0BC-4536-4C4E-9B72-C3A3113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885-4D28-4CED-AE8E-9DCB764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5D6C-2695-4305-8905-F79F12EDF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 I a Soldier of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m I a soldi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4000" y="1092240"/>
            <a:ext cx="59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rmons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721-24 (1 Cor. 16:1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e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from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faith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When that illust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shall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ies sh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robes of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I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wn his cau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bl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his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ust I be car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flow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d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thers f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the pri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ile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y sea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there no f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to fac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I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m the flo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is vi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riend to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lp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ure I must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would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creas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ag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bear the t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ure the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ort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y saints i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glorious w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nqu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they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7:04Z</dcterms:modified>
  <cp:revision>9</cp:revision>
  <dc:subject/>
  <dc:title>PowerPoint Presentation</dc:title>
</cp:coreProperties>
</file>