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7E6-A9B3-424F-9E0A-8C7E6105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72C4-BFD8-4BA9-9033-A7D46AC3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3B5-D476-4CF6-86D5-3C2A1F5D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E60-F15B-4935-9B4C-8B16ABB8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53D4-EFE2-4425-8B16-E0BE8F5B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6DEC-812A-4940-86EC-E22E3A84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1EA9-D879-4302-8CD6-8F6B1426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8E25-5FC6-4AAF-94C6-CB2B80F1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8E30-FFE0-4B21-8BB8-78CCDE41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5305-7E4E-461C-A347-82E0BF90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DBC5-1550-4F94-A23B-90D3CCF7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F65-93A4-472F-8305-5B50C077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D596-E8DF-4843-A404-907E922C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AC55-D516-4AE8-B7C7-41A5262D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DB15-0621-4F53-B963-B02C1EF6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0422-0B7E-4C20-8407-F23768F9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D065-4EDD-4D2C-8B4D-7B8110AD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4C7-29E7-4A0D-8547-6D56BE12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B5D-5E00-43E8-8C69-274566B1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1C6-8D03-4B75-BE54-257DA9EE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1DA-B852-4193-814B-CF3D55B8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53B-F355-4A87-9C70-F318258D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64E-5AF6-4815-A5B6-641E44FE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50B-AC2C-4CF1-A1B4-36983418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77E3-89D9-45AC-84E7-28FF05F72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AF8F-9C76-4104-B498-ECE0C737D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re You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212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907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Were you there when the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04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re You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6765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44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096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0969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096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0969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096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969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096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0969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096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088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nailed him to the tre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8088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pierced him in the sid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8088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600"/>
            <a:ext cx="91440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860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laid him in the tomb?</a:t>
            </a:r>
            <a:br>
              <a:rPr sz="5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were you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3-25T21:20:26Z</dcterms:modified>
  <cp:revision>51</cp:revision>
  <dc:subject/>
  <dc:title>PowerPoint Presentation</dc:title>
</cp:coreProperties>
</file>