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080-1975-47A4-9E45-85FB69B7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502-AC97-4CDE-A777-73D462C7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D1D-A76E-480D-8849-80C004FD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859-79C0-4A58-8189-354ED706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813-B09C-4348-BB49-3ABE538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340-AB01-436E-A3F5-E5CFD8F7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4C5-2FF1-4525-AC1D-7E415650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0B3-318B-4450-B532-F9F5989E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AFE-4ED1-4C90-AE2E-C721234A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4EA-37BD-4958-B39A-8A71B59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687-64EF-4695-9243-477CCE5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2D2-A2D2-436B-80C0-7E430C4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5AFD-0E50-4AA2-B86A-BE8B4C54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ing Low, Sweet Char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9480" y="1143000"/>
            <a:ext cx="50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2 Kg. 2: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54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 brightest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can s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 looked over Jord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at did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band of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aft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54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f you get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all my frie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coming to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38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’m sometimes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I’m sometimes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till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ls heavenly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49:30Z</dcterms:modified>
  <cp:revision>48</cp:revision>
  <dc:subject/>
  <dc:title>PowerPoint Presentation</dc:title>
</cp:coreProperties>
</file>