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6E9-47D5-4B45-BF14-CBDFB2C3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F30-125A-4212-A350-4A4E29C4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032-077B-412F-A31D-B1F32DAD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61A-709B-41E7-85C9-1E17E3D1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A0F-A603-4C42-B175-993E9FE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111-F5E7-46DA-AD49-93600CF1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0F8-23DD-47ED-B5BB-C60228A7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EC9-3312-490C-AF0E-E932A6CA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459-5499-4A44-AA7C-6D5951D5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340-9361-406D-8DE4-5031DEA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19C-5B2C-439F-9415-1D8CAF2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375-A277-4C0E-ACC2-CC0DAB94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10BA-E39B-4207-8CA1-B54690810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ing Low, Sweet Char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9480" y="1143000"/>
            <a:ext cx="50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2 Kg. 2: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54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brightes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looked over Jord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did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and of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aft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4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you get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all my fri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coming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’m sometimes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’m sometimes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till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s heavenly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9:30Z</dcterms:modified>
  <cp:revision>48</cp:revision>
  <dc:subject/>
  <dc:title>PowerPoint Presentation</dc:title>
</cp:coreProperties>
</file>