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B73-EB28-4F71-9645-5720DE98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AA9-DBA5-4B48-B2C7-B4C87B6D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8EC-0C2A-4178-84A5-E19DAE46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20C-DD9D-4D1D-8BE4-9121AE09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A74-E7EA-44CF-82C9-E4C21EC3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2DB-7A15-4046-B58C-8F27BAC8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504-4812-4677-9131-792914F2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3B6-80A3-429E-BCFF-A1842937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2DC-71A8-46C5-A4AB-4FD5786F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444-95EE-49D7-9C69-2465DAFC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137-872A-491B-8FDE-A4AB6744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836-7DD8-41F7-981B-2F5AB0DE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3CE2-6D41-4C4C-9D41-723565BB8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Lord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ther of Man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ar Lord and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an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iv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olish way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67920" y="1676520"/>
            <a:ext cx="480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Greenleaf Whittier, 1872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ense be du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lesh ret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hroug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quake, wind, and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ill, small voice of cal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lothe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rightful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re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ervice f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ee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rence,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simple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irs who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the Syrian se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ious c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, lik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a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up and follow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sabbath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al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lls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 kne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lence of eter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erpreted b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Drop thy still d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quie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vings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from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and 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ord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s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y of th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reathe through the hea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es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ol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bal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1:00Z</dcterms:modified>
  <cp:revision>7</cp:revision>
  <dc:subject/>
  <dc:title>PowerPoint Presentation</dc:title>
</cp:coreProperties>
</file>