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6D3-C368-475F-A374-ED1A8BED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A4F-C0C9-4C35-9695-2CFA5D1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6DF-053C-4A02-9BBC-30B0CD99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06C-258E-43CD-96BF-F4087E42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DF2-301F-485F-8EC7-55C1E0AE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B9D-75B1-4A8D-A2F7-CEFFDA9B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E36C-55D3-469C-A790-68F11B27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A05C-749D-4699-9974-D3BD0048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1E26-A4D9-4B10-9B68-66F3312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ADF8-60E6-4E90-9D9F-39F7E08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A984-019B-4B57-9AC6-422E273A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333-FD2C-4ACD-A5D6-610FA869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6B2-58AA-4DBB-AFE3-8AAE88B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90C-2327-4F4A-9696-6370334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25D4-EB9B-41B3-A755-902DC1C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AE3F-F2DA-4A08-A1C0-046BD277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73AD-F7FF-4282-8F7B-85ED7B2C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E9E-66F6-47AD-9AA4-2625D5A2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EB7-B849-4219-AA67-76B4FDC3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365-C859-479A-8EFB-6489650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E8E-C4FF-413D-A128-AA72F11C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1E2-61AA-488A-8840-012C66A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818-ED48-4D23-9CD4-871489D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BF3-8490-4CA8-860F-BF09260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5805-CC39-4607-B53C-DBD8214E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F6C-78EA-42F8-9AF1-1E75C5F2F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12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338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n the hand of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Jesus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 longer the sa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904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46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Since I m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blessed Savi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ce he cleans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nd made me whol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ever cea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praise him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’ll shout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ile eternity roll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0440"/>
            <a:ext cx="9144000" cy="49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 he touched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 the jo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floods my sou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hing happen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now I know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made me whol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9144000" cy="46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hackled by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y bu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th a loa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lt and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J. Gaither, 1963 (Mt. 8:3; Mk. 1:41; Lk. 5:1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19T01:25:40Z</dcterms:modified>
  <cp:revision>18</cp:revision>
  <dc:subject/>
  <dc:title>PowerPoint Presentation</dc:title>
</cp:coreProperties>
</file>