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14F-B9AC-4092-93CD-318B537E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9F6-2566-4C69-AD7E-E0C985D9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E62-3D07-483A-BAC9-C83FB626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10D-1065-400B-8BF5-3D0353C8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D7F-8405-4415-96CC-6487A30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0B6-E26C-4541-AE42-EECCB353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4B3-19E8-4A09-9D56-85022F8B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019-4AE0-41A5-9868-01B0997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FA7-AF6A-4055-95B0-2EF5A9DC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4BF-1A07-489F-9B0A-88615A6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520-4697-499D-A1E7-8D23620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A86-3C09-458E-8E47-80A96D4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17D2-45FA-4060-BF7C-8236307E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ren of the Heavenly F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ildre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som g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25, renewed 1953 Augsburg/For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1560" y="1066680"/>
            <a:ext cx="777024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oline V. Sandell-Berg, 1855; trans. by Ernst W. Olson, 19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stling bird no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r wa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his own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 and nouris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ts they flouris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gs he spares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s he bears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either life 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sha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Lor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se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the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he show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ir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e know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ugh he giv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he tak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is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’er forsak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h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pose sol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serv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0:15Z</dcterms:modified>
  <cp:revision>60</cp:revision>
  <dc:subject/>
  <dc:title>PowerPoint Presentation</dc:title>
</cp:coreProperties>
</file>