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D15-980A-4CB3-BF5D-B026B937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064-5532-4DD2-8B26-81F8D4EB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A0F-5011-44A2-9AB8-55EDED4C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FB8-4FE0-4297-95D7-BB6B012A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20D-4E4F-4584-83D0-70B370E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59D-91DD-43D4-A713-90E4297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C4E-2654-4836-A674-4C3AEDFF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E3A-39BE-4882-B92A-84C1FAD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447-EEA2-4B8C-A4CD-4998AD91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72E-91EB-4F3A-95A4-CBF1E0A7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459-3AB0-4765-BFC9-A53E8A7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538-FE66-4516-BC61-AA1C369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D0E-0190-4364-9F17-082781273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r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Pues Si Viv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St. 1, anon., trans. by Elise S. Eslinger, 1983; sts. 2, 3, 4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berto Escamilla, 1983, trans. by George Lockwood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1987 (Rom. 14: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116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440" y="1295280"/>
            <a:ext cx="5600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9072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89120"/>
            <a:ext cx="184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2360" y="1371600"/>
            <a:ext cx="70005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4920" y="1447920"/>
            <a:ext cx="651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7524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7200" y="1295280"/>
            <a:ext cx="71348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1440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Arial"/>
              </a:rPr>
              <a:t>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30:14Z</dcterms:modified>
  <cp:revision>114</cp:revision>
  <dc:subject/>
  <dc:title>PowerPoint Presentation</dc:title>
</cp:coreProperties>
</file>