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7C6-8E61-4DFD-9681-2E60FBCD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314-2FA3-4645-8DBC-BA0CFF7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B10-79D9-4D91-8985-1FEB73D3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095-303E-4BED-B912-554FDB44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CAB1-507D-4024-9A09-1C94AC85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1A1-CB1F-43F6-A149-3DDA48F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C3A-0917-4C27-8037-2CAD4A46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3977-694E-4490-B003-6F43A4CA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169-4E57-42A7-A152-797AEC6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F7E3-D1A6-40A7-A380-1DFBEA4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F535-50D1-4988-AEA7-89A41F14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123-F030-4966-BE02-A4C8CC90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5DFB-9158-46B2-BCDA-519ABD7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5DCB-6959-41DE-B913-3E4A176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3D0-DE31-4341-800E-4B39A06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136-B9B9-47F5-A3A6-B1577112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F541-6092-4F30-88C1-60A70691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795-120C-4662-97CA-7132C4D8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246-9D0F-4680-91FC-7C3FE90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3DA-7488-4D99-8EDF-6FACE8F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94C-86A5-4F8B-8C7B-48D588E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BAF-4F99-442B-9781-780423D8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A90-496F-4DFC-B969-9019AAA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7B6-29FD-4CF9-A4C3-050B498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0E5-F46C-4C36-8339-92D719DB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146-2EA7-4F92-BBA9-50304C79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 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known waves before me ro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ing rock and treacherous shoal. Chart and compa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isterous waves obey thy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m, “Be still!”             Wondrous sovereig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wixt me and the peaceful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breast,                                may I hear thee say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Fear not, I will pilot thee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ing roc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cherous sh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t and comp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isterous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ey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m, “Be sti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xt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br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hea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ear not,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pilot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54:07Z</dcterms:modified>
  <cp:revision>43</cp:revision>
  <dc:subject/>
  <dc:title>PowerPoint Presentation</dc:title>
</cp:coreProperties>
</file>