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908-D6B4-4FB0-8442-B66C6AF8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508-3C5C-47FA-84F0-0E9E6D8B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05F-CAA2-4AC0-8AE4-52E9FFDC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A7F-76C4-4C57-98D9-8129B832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94D-D0F4-4778-A29C-EBF3EE0C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19F-F62D-44EF-8B7E-D838C1F6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14B-C913-4421-AC5C-3253B115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F17-960A-4BFA-AC4F-8C4019F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440-FF12-4D07-8CB7-17B2BE61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D4A-97F1-4C4A-B9CE-FF53B34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3AB-C788-493F-8DD8-9714B40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0F7-7974-4DCC-A335-8405955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7E25-89C7-4F23-AFFE-A35729526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t of the Depth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ry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3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ut of the depth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cry to you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Lord, now hear me calling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cline your ear to my distres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spite of my rebell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7040" y="1600200"/>
            <a:ext cx="70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Luther, 1524; trans. by Gracia Grindal (Ps. 130; 120:1-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reg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ful dee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me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pirit need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it I am not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All things you s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re full of grac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crown our lives with favor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good work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re done in va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out our Lord and Savio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gives us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s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ip of dea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k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It is in God tha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hop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ot in our own merit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rest our fea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God’s good W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rust the Holy Spiri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promise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trong and 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ru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ig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cribed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empl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 soul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who longs for m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watcher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eater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I for Christ’s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ope as Isra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nds redemp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16Z</dcterms:modified>
  <cp:revision>13</cp:revision>
  <dc:subject/>
  <dc:title>PowerPoint Presentation</dc:title>
</cp:coreProperties>
</file>