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7D69-97F9-487C-BAED-D47EA218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1FA-5E70-482E-A209-959104EE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D7C-2148-40A7-A50B-7359542B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313-902C-444D-8CFB-EBB1E912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2FC-A048-436B-9DA0-77C258E0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F9D-C659-4F11-AC2E-879180BC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8A50-FAAE-44E4-B38E-F5ADD74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C583-E515-4C48-91AB-62888657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173-73C7-4200-9B1D-C1448D69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F6D2-70E6-4705-A857-7ED636A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FC35-2201-480C-AF4B-C04D3D4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743-5455-46B4-A949-88E4D9B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71D8-2AA4-48B5-9AF5-205138A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C8F3-B172-42C8-8D32-5237AC2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962-524D-46C8-ABA7-9EF3BD57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EB55-13E5-4524-AD7F-A1312955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391B-7542-4D2A-9FAD-EA6E0C1E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314-800F-4756-ACBF-E2DCEDAB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9C9-4299-45E7-B47B-E3BE0CC9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3EA-A366-4904-A760-BF51269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1C0-6D15-4591-9326-D8D6C322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7EB-ACB0-4D0D-B747-D983C97C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333-7093-4D32-820A-B24F595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542-131D-4194-9903-2E1384F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4E7-688F-441E-A9D2-174378663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CA7-D93E-42B5-BDD5-EFD28143A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6400" y="16765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752480"/>
            <a:ext cx="9144000" cy="21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y his counsels guide, uphold you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6400" y="14479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4136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3352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04T03:23:38Z</dcterms:modified>
  <cp:revision>12</cp:revision>
  <dc:subject/>
  <dc:title>PowerPoint Presentation</dc:title>
</cp:coreProperties>
</file>