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9E2-6F62-418B-8BF6-1866BD54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779-14CF-4466-A061-27B48EF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446-DFCD-4266-A14F-9661F85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A5F-10C7-4E94-A593-81CEAC36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AD2-8940-427F-9423-596645EC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327-B58C-48D6-AC5A-779A3CB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5F6E-2665-4520-9298-7D12D80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0E20-E794-4199-8F77-84341662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45DD-9198-4672-9D1A-0BEA702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5B1C-948F-4D3A-9B00-2C4144D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19B-5F44-43F4-B1A7-CCCB2A5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BE1-4D99-45B2-A471-63466063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F93-FAF1-4B39-94B5-326312C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69E-AB6D-49C7-9A9D-9971E6A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0D9-DB03-4D3B-AC63-48BEB23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B4E2-58A3-4A7E-B995-51A2303B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7532-BD88-4CEA-B89C-ED03206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EBC-3DAA-4A6F-AF61-F291E34E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237-B796-44EF-A8EE-FD4289B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90F-A5C3-42DD-BE71-5B84096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45C-8627-4599-B660-D50E709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079-B203-402C-B1F6-AC89DBF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41A-FAFE-45EE-BAB8-39B7A1CE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535-791B-4402-AB85-D11894B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2A47-3629-445F-9E13-48B9B59A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A53-0B28-4994-85EE-BDF472E8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3600" y="1752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ton C. Buck, 1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07880" y="144792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Carlton C. Buck, 1961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14T15:12:16Z</dcterms:modified>
  <cp:revision>33</cp:revision>
  <dc:subject/>
  <dc:title>PowerPoint Presentation</dc:title>
</cp:coreProperties>
</file>