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EC8-BB2C-4E53-8E46-81EE5516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3FC-0E4E-431F-8DE7-F56B18A9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4C0-6508-4336-ABAE-F719E95B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36D-1969-4B3C-8FEB-99E6BFFB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497-95D7-4D9B-8794-E20B4FB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4BC-0DA8-4548-BCA8-10B1E53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8F6-7F97-4C3F-97F8-E681F8E5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4D6-FD1F-445D-A6FD-4685A75F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395-E60A-4425-8686-CC23D4BB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F13-E317-49D4-9145-9736EDA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6A4-E13D-4D7C-B6CE-D7C8800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B65-EEE2-4709-AA9C-4703E57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B652-445D-4C97-97C5-618458AF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lk On, O People of Go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amina, Pueblo de 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14600"/>
            <a:ext cx="91440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890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3880"/>
            <a:ext cx="883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05740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0968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337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051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5740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05740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3:53Z</dcterms:modified>
  <cp:revision>65</cp:revision>
  <dc:subject/>
  <dc:title>PowerPoint Presentation</dc:title>
</cp:coreProperties>
</file>