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7F10-63AD-4591-8EB2-3C87B0306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6398-9A7A-46B5-BE21-347DD7AC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C4A7-F1A0-4BC7-BD29-7FD96EDF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0D39-BD40-4DDA-AA8D-C6FFE2746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8F25-874E-4579-8762-093BD798B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A41A-3917-4E9F-85CA-8C9AB028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1EAB-726B-4A6C-BC65-BD25FBA4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F0E2-7645-469F-8C63-46A09627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465F-ABB8-45A1-86A9-DFE8D3DC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2666-BE3F-40ED-BA62-AD14F29B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4605-14A3-4AB0-A3F3-A6EE784E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6EDA-43B4-4180-AA07-CFD06335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95F6-7D2E-4343-AF2C-1A5BBDB8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912A-0123-4932-A9BD-1A8AF8A4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8646-8CAF-41FD-AB00-703CA0BF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7749-DE02-4232-95F0-5207B5AA1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0784-0E08-4437-845C-C0C09A4C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DE68-9334-4549-AE51-2B8095D8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12B6-53FE-4B5E-B7EF-5D8CA595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D39B-9685-40F0-A91C-EF9BE0BA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54B1-88DA-4EC6-9C4B-62E43811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C7E3-8F72-4873-A127-375246B2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AA4D-3E06-4F48-BAC6-EAF4430D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8F96-7F61-4B18-94B3-88F4F6D1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50FF-E146-48CA-B561-D617CEA50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C44B-9184-4E99-A723-6110117C0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gels We Hav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ard on Hi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743200"/>
            <a:ext cx="91440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Angels we have heard on hig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weetly singing o’er the plains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4479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Trad. French carol; trans.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Crown of Jesus,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1862, alt. (Lk 2:6-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gels We Hav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ard on Hi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ngels we h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d on h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ly sing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the plain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676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Trad. French carol; trans.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Crown of Jesus,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1862, alt. (Lk 2:6-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mounta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rep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choing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ous strai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99072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hephe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y this jubile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y your joy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ains prolong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the glads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dings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inspire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ly song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o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thlehem and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whose bi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ngels s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ad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bended kn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ewborn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ee him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anger lai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the choi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ngels prai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mounta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rep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choing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ous strai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y, Josep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nd your ai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ove we 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286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0948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Shepherds, why this jubilee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your joyous strains prolong? What the gladsome tidings b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ich inspire you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avenly so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2286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53352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Come to Bethlehem and se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rist whose birth the angels sing; come, adore on bended kne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rist the Lor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newborn K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286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53352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 See him in a manger lai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m the choirs of angels praise; Mary, Joseph, lend your ai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ile our heart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love we rai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286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 - - - - - ri – 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12-14T01:00:11Z</dcterms:modified>
  <cp:revision>15</cp:revision>
  <dc:subject/>
  <dc:title>PowerPoint Presentation</dc:title>
</cp:coreProperties>
</file>