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1EE-AE22-4CF2-89CB-E0AF389B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D8B-D0B1-4582-B748-EE1B6F04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A3A-3B67-4392-B0C5-4F87EAD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03F-AA91-4E3B-BE59-6EB8CCB9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4A2-8593-4F74-B832-4DD7AF2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585-8A97-4BD6-87D9-EC04B7BD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237-AD8B-4429-A789-5637593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88B-A6CC-4984-BA14-1390B471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9D8-1B48-486D-80F3-3E5CFF8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9D3-997F-4587-B2B8-3D2E42E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5B2-6E7B-4182-8F44-58B3358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88D-4528-49FE-9E3A-B7E3DFC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D425-C9AE-47EB-A4CA-93F9A825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se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Humbl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umble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 n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1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61,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pth and grea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quickened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ing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eds and burd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s us b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reless st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ed by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me we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outh, the 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to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and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sel,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we gi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upo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ed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of voic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ill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 home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for br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capt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gr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our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ep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ed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d the sou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kind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o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r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24Z</dcterms:modified>
  <cp:revision>86</cp:revision>
  <dc:subject/>
  <dc:title>PowerPoint Presentation</dc:title>
</cp:coreProperties>
</file>