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A1A-8693-44C5-B9C0-E33992A3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199-341F-4063-BE18-60F98AC5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E73-212A-40F0-B802-E318EA7E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338-080F-47E2-9F7A-8CF3B840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A27-E00E-4D07-9427-80CE1C68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ED9-44DE-4159-BEBB-069620CB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15C-7EC5-4DA4-AD6E-7A63F6B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210-FDA6-4169-82A0-FB8B059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A26-4433-49D0-9690-9804CE0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824-80F1-4218-9EE9-59BCD9B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B27-BE2F-4C57-8FBE-154C390B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E8D-5D98-475C-AD9C-9E3931A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4A90-30FB-4944-BAD6-7B7F2D1F7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Jesus Christ our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his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water and the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Laurence Hull Stookey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happy ones, and hol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s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ight ever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ving servant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lled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arter of salvat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name prof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t one table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n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pr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’s own Spirit 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o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ou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it 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now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ve 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r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comm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6:18Z</dcterms:modified>
  <cp:revision>18</cp:revision>
  <dc:subject/>
  <dc:title>PowerPoint Presentation</dc:title>
</cp:coreProperties>
</file>