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138-B2EE-4E7F-9DE1-41EEA4E6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1F7-9BAA-439A-9373-9B7639D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08A-1686-44C4-9A1A-E23970BC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066-04B6-4F14-8EE4-20652D16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775-5A7C-42A9-9FEE-F37F0388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0D7-3A59-40D5-A439-BCF6A4DD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01A-A358-4EB7-A315-085B717F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7B4-C844-4CD6-95E0-FDCB96D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193-B568-4009-9E29-5DEC4AFC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5AA-432A-48F8-A8A7-B2F83B2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E6C-793C-4593-BAE9-97821A7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779-DEB2-46C5-94AE-97749DB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43B-FD76-4D46-A5F1-CC09609F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x Me,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5760" y="1066680"/>
            <a:ext cx="60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Rev. 6:11; 7:9-1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ng white ro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arry cr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0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ying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1:01Z</dcterms:modified>
  <cp:revision>12</cp:revision>
  <dc:subject/>
  <dc:title>PowerPoint Presentation</dc:title>
</cp:coreProperties>
</file>