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693-A16A-4178-B233-7ADFA2FD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6DF-3287-4E1B-9540-CA86D760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4DA-31AA-4E5A-9A30-6799046A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A40-4177-4689-A72F-3E16401A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A323-5A0E-41DD-A33F-2E32E777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5F1D-CBB7-4B39-9E0C-61D29259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FC01-92E1-44FB-A093-90220595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9BB7-2B80-45FA-A297-8A949C43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CAF1-8463-44AF-8D96-E93EED7E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C5A1-8241-45E6-9C29-20716902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46B4-D189-4533-8756-364D67AF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4DC-8539-4994-B350-A4FD2BF4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69F4-559E-4B45-AF06-5A9365B5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8656-CB7D-4F96-9AFF-8FE065A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0E80-9A46-4F10-9109-C21AFD71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58E6-57A2-4B75-AA89-5A987201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1237-AC59-42C1-A882-89D158CB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054-5906-446E-85A0-CDDACDA1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2A2-C3EA-4678-8CF7-151E9710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63E-5D19-44FB-8482-E6B1D22A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4AE-2227-4E92-9EFF-B811305A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C95-3B6E-44FB-A0B9-FBCC8F99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3A24-F6AF-4E86-B2D7-C7D2BA1A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23F-A9B8-43ED-AD74-BF62B9BF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530B-1464-4AD1-BCBE-20F573616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3067-667F-4669-A67D-A91015ADC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Us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rac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1. Come, let us us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the grace divin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and all with one accor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62 (Jer. 50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up ourselves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Jesus’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name to glorif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omi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sacred hou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d to live and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 covenant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moment m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ever kept in m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ill no 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od forsak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cast these words beh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never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w off the f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God who hears our v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f thou 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 pleased to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 down and meet u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Thee, Father, S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ly Gho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our hearts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esent wit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stial ho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aceful answer g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each covena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lood app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takes our sins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gi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names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keep us to that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35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in a perpetual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ovenant joi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ourselves to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</a:rPr>
              <a:t>Christ the Lord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920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ive up ourselves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rough Jesus’ powe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is name to glorify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promis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 this sacred hou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 God to live and di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7920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The covenant w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is moment mak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 ever kept in mind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will no more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God forsak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r cast these words behin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 never will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row off the fea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f God who hears our vow;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if thou ar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ell pleased to hear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ome down and meet us now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Thee, Father, Son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Holy Ghost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t all our hearts receive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esent with th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elestial hos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peaceful answer give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5520"/>
            <a:ext cx="91440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o each covenan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blood appl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ich takes our sins away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register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r names on high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d keep us to that da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Us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Grac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Come, let us u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with one ac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6002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62 (Jer. 50: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 perpetu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venant jo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selve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31T02:34:44Z</dcterms:modified>
  <cp:revision>108</cp:revision>
  <dc:subject/>
  <dc:title>PowerPoint Presentation</dc:title>
</cp:coreProperties>
</file>