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BD3-6748-4F21-B76A-379B97A5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244-D04F-4239-BC33-59DDE3CE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1F8-B559-4096-BD30-4C6AD05A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9AD-3139-4665-BB0E-FF067A43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DD3E-053F-4C87-9745-EBB6358E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8938-2996-422E-B930-679FB32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3F3-1B41-4A5B-8F24-03473CB2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F5B6-643A-421F-BBC3-5C1F5029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A954-EF77-4317-854C-407D39C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51D8-3E87-4EC3-956C-AD54D51B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DF36-59CD-498F-9DD7-73F0FA6C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8CF-C8A0-430D-BFAC-2BD2E74E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9FC1-1E79-4D1F-8FE5-0B62046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E965-5386-4D16-B2BC-20FC209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68B3-F14D-43EC-A7E1-D5BBF96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025A-F1B7-43D5-A1A2-2E836172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ED49-2903-44C8-8DC8-2F685624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91AC-770A-4544-9821-BA19DAAD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0051-08B7-4FB4-8B7A-2ACAFA7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D367-8BF7-4780-8479-2DD2C9A5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1C9B-B26C-4336-AD4E-7E4739C9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A051-27D5-40BB-8471-A776DF00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2AE-2D8B-45A3-AE8E-D3CC4979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5F97-B86C-4FAF-AEB9-60A539A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9629-FBC9-474E-8FA0-D404E59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D777-A867-418B-AB79-182CF87F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EE35-2AA6-4886-9F26-B259221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C1EC-6E9B-4564-984D-D0EF9B13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59D0-76E0-4FA6-8E68-960E73F9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22B2-1D0F-4335-BB76-CBC2D7F1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109-58DE-4BCA-8412-31E7FA1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05C-B2BD-44D5-BB8B-1659608B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B1E-DAA3-43BB-B4BB-1B6C64F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89B-2368-4D36-A3BD-5EB2A5B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366-D076-4D38-9569-CBAF6F04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EA6-06F2-4214-B9C8-8DF5910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B7E5-AF9D-4E1E-B9DF-6A28E9DD8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7C49-6DCC-4CBD-97A0-F3E736EFF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7C2D-0E95-4F4F-8735-FF0FD0BCD9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O come all ye faith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oyful and triumphan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 y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 ye, to Bethleh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92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Child, for us sinne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oor and in the mang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would embrac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love and awe.         Who would not love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ving us  so dearl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. Yea, Lord, we greet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orn this happy morn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, to thee b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glory given.              Word of the Fath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w in flesh appearing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295280"/>
            <a:ext cx="54864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90720"/>
            <a:ext cx="5943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480"/>
            <a:ext cx="586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15884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me 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hold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orn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ing of angels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04920"/>
            <a:ext cx="57913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ther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295280"/>
            <a:ext cx="54864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990720"/>
            <a:ext cx="5943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09480"/>
            <a:ext cx="586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320" y="152280"/>
            <a:ext cx="579096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2. True God of true God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Light from Light Eternal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lo, he shuns not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the Virgin’s womb;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20348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0492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15884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457200"/>
            <a:ext cx="5791320" cy="36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4. See how the shepherds summoned to His cra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Leave their flocks draw night to gaz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oo will thither, bend our joyful footstep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0492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5. Child, for us sinner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oor and in the manger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e would embrace the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ith love and aw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would no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ve thee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ving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 dear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04920"/>
            <a:ext cx="57913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True God of true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ght from Light Eterna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, he shuns no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Virgin’s womb; Son of the Father,                   begotten, not create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ther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ome all ye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and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 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 ye, to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092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ue God of tru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Light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e shun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rgin’s wo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otte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1368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g, choirs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in exul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ing, all ye citiz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ven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368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 how the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ed to his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their floc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nigh to g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oo will th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d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footste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Child, for us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and in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embrac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uld no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l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Yea, Lord, we gree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is happ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o the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n fles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ea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Sing, choirs of angel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 in exultatio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sing, all ye citizen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heaven above!                  Glory to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glory in the highes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deste, fidel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eti triumphant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te, ve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ste, Fidele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533520"/>
            <a:ext cx="9144000" cy="56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tum vide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gem angelor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min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See how the shepher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ummoned to his cradl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aving their flock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raw nigh to gaze;           we too will thi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nd our joyful footsteps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9T02:03:06Z</dcterms:modified>
  <cp:revision>12</cp:revision>
  <dc:subject/>
  <dc:title>PowerPoint Presentation</dc:title>
</cp:coreProperties>
</file>