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786-2D42-4080-A4AB-FCCAA155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2CB-15FD-4317-B079-7AD0DD51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026-042A-4CE9-A4E4-46BE47DF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917-DA01-483D-9E41-53526D9E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4A9-8EE3-41ED-A20B-070CBE0B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25B-6EB9-4C59-AC83-1137771F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A49-D202-4487-8D0F-B26D3A1B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A56-9B65-4A4A-B5B1-75188E09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B5B-8EE7-4898-91D0-1D58B119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951-3624-4850-87D5-D865DDF1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1F0-45F1-444F-9A94-F421BEF0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C1A-E2BF-4752-98D8-2F860BC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F951-7B8B-47D1-A8C7-3BA6BB38B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Covenant Prayer 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esleyan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53416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 am no longer my own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but thine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ut me to what thou wilt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rank me with whom thou wilt.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ut me to doing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put me to suffer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venant Prayer in the Wesleyan Tra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82080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be employed by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laid aside for th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alted for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brought low for the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be full, let me be empt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me have all thing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have not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455760"/>
            <a:ext cx="861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freely and heart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ield all thing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thy pleasure and disposal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now, O glor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blessed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ther, Son, and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art mine, and I am thin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 be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760" y="1735200"/>
            <a:ext cx="86104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oven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ich I have made on ear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it be ratified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8:36Z</dcterms:modified>
  <cp:revision>14</cp:revision>
  <dc:subject/>
  <dc:title>PowerPoint Presentation</dc:title>
</cp:coreProperties>
</file>