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767E-0D26-4079-8702-E89C42B6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E414-3188-45C4-A231-1A6120F9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60B1-44AB-4C51-8C80-9E46BBA3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7590-F39D-4F80-9F5D-D6D4B685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D07B-35F1-4EDF-8243-013C1617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233B-37BD-4AC6-8BF3-77FE3CB5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A9FF-B74C-402A-865E-7729DF2E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137E-8531-44E4-A267-CC3A8B38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1BCC-4519-4212-9F4B-61E3BC99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3D47-D38E-4A60-9AE8-5DE33FD9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CDB9-2557-4BC7-8353-6938A56A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8135-A9E4-49F4-85FA-E9DEFD68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7FA4-7230-4FFD-A7E7-12DE8F2C8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ng, My Tongu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Glorious Bat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My Tongue, the Glorious Batt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Venantius Honorius Fortunatus, 6th cent.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trans. by Percy Dearmer, 19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ing, my tongu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lorious batt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the 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fr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My Tongue, the Glorious Batt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Faithful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sign of triump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fo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oblest t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ne in foli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ne in bloss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ne in fru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eer may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ymbol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’s redemp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we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ung on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My Tongue, the Glorious Batt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Unto God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and glor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S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’eternal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nor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d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and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high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un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es r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above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oph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nd the l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umphant lay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how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’s Redeem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a vict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My Tongue, the Glorious Batt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ell how, w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length the full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’appoin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me was c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born of wom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ft fo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heavenly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wed us hu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made perfec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ne as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id the glo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My Tongue, the Glorious Batt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us, with thir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ars accomplish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nt he f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Nazare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tined, dedica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ing, wr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work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t his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a lamb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umbly yiel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dying br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4:00Z</dcterms:modified>
  <cp:revision>51</cp:revision>
  <dc:subject/>
  <dc:title>PowerPoint Presentation</dc:title>
</cp:coreProperties>
</file>