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F05-31C8-485A-95D3-6C54279B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037-71C9-4F25-A0A9-BADAC8CA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B9F-25AC-4FD4-AE38-D7B34863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C39-D361-401C-AB0C-6738024B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884-6F23-4ABD-BAA1-615FB54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63E-5304-48B6-9A78-2001ADC8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884-2836-4B14-8D0D-FFF4272C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289-3980-4271-A031-9BFA7BB3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B01-68AB-41A8-8C6B-D9BA67FE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542-AFAE-4A85-BCE1-E8C0546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F5F-2B7C-4790-81D2-184A801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2B6-7983-4D50-813E-DE70DB1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1EF-75DE-4C26-945C-CD5A668B5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or of the Stars of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or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4640" y="114300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 Latin, 9th cent.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1940 (Phil. 2:10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avior of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us when w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gre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knees must b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arts must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gs celesti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shall 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gs terrestri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al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1:48Z</dcterms:modified>
  <cp:revision>29</cp:revision>
  <dc:subject/>
  <dc:title>PowerPoint Presentation</dc:title>
</cp:coreProperties>
</file>