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187-F44D-464A-9E93-85FD970F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59A-86EA-4607-A167-478FA3E6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0EA-5B3F-4E8C-A1D6-CE1DE84F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18A-954E-419B-866E-59B8B3C2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771-4C18-42CF-BA45-9AB4856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9FB-0B65-4461-8565-4671A934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DA6-9F88-42F3-B894-A6C514E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1DA-63DE-4AB8-8C1D-069A5499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022-099F-45C6-AFCC-BFE5E4F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C78-4F1E-4ABD-BB54-EE79FAE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3F9-7D16-4CE8-BD0C-5EF7099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F0F-D16B-40F5-A16A-F2EEDA3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AD61-BE79-430C-9A28-634B48080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he Spiri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and Guar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and guard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-sped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vering d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ing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and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ma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exal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teadfas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not overlook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faul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n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terious b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vided and diver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can fat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reeds rehear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aried call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ull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r ministries un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iv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 of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gn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ead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them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old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,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er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of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 of pr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all past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and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epherd’s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cour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n through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d an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best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beyo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’s re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54Z</dcterms:modified>
  <cp:revision>150</cp:revision>
  <dc:subject/>
  <dc:title>PowerPoint Presentation</dc:title>
</cp:coreProperties>
</file>