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5EE-DF87-476A-B211-91194AB3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1B6-6E62-4CAA-A0F4-BCD35E0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3BE-32B1-4B3E-A91B-96DB6DDC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BC4-C306-430E-8D31-65AA93E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C17-F232-411C-952F-A2E7F3E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9C2-1985-4734-9AE3-843C159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901-7450-46D1-A393-30B8B3C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079-7889-4C6A-8DF6-14094BA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22B-AB44-4B91-906E-9305280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FC0-38F6-44DD-90F5-5E0AF2D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CE1-0BA4-4BA7-A1B4-75B92CE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4BD-295B-4EA2-AE49-68BFEBF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BAC-79BA-453E-8B45-BB41BBF6E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ing the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orthy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rve those throughou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ld who live and di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verty or hu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8920" y="990720"/>
            <a:ext cx="577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Mother Teresa of Calcutta, Yugoslavi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4304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en, through 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day thei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y our understanding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peace and joy.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4:22Z</dcterms:modified>
  <cp:revision>13</cp:revision>
  <dc:subject/>
  <dc:title>PowerPoint Presentation</dc:title>
</cp:coreProperties>
</file>