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FD4-7328-4843-9288-36E263B5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D60-A687-498B-9AD2-4FE7B21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3B8-BC8B-41C9-B4C5-0E08365D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96B-849B-465C-A7A9-66BD9A64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B7E-E1D8-4769-B2E3-12273045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0FC-FAEB-4025-A296-C00C6177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CBC-A641-43EA-969B-77B4D0AE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63D-EB5A-4403-8FA3-89D0EC2C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82F-B7B4-4799-9794-5F96D869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314-EA54-48A4-A0B7-635F7DC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1CA-89A0-4B12-949B-E393B1B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F46-319C-4C1D-89F4-42F7504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79DE-9ED9-4D71-8736-03335409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Created Heaven and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2544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d creat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nd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ught to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3 Boris and Clare A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7120" y="1092240"/>
            <a:ext cx="57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Taiwanese hymn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oris and Clare Anderson, 1983 (Gen. 1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eat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de dark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revol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u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ercy gre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n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ove awa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ho fash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ch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blessing g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i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ever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ol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e v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ndmade go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od and c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not hel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ut God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yond com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s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eath’s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earth’s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mall and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for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st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11Z</dcterms:modified>
  <cp:revision>12</cp:revision>
  <dc:subject/>
  <dc:title>PowerPoint Presentation</dc:title>
</cp:coreProperties>
</file>