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4AA-11BB-4576-ADB1-90FF3AEE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203-2351-4CD9-8322-C7B8451E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D11-7B47-4902-9F6B-25C2D11B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C85-B92C-4B63-8DAE-842BB24A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AF8-D40B-462F-A013-5A4CBBC9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3DE-CE60-4BCA-94F0-4A31C27D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BE79-EF55-4EF9-BF2D-FBFEAA46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4C2-FAEF-4FE7-8789-0FD0E24C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9A2-1530-4A25-B12B-8F94EA57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CC8-3BA9-4855-98A5-1099D3E8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217-0619-469E-911A-1F88B061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DE7-DA7E-46DB-8A96-D5DA228C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5904-7088-4323-8553-C4102450B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l Shad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 Shaddai, El Shaddai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 Elyon na Adonai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ge to a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’re still the s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 power of the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Whole Armor Pub. Co.; administered by LITA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Shadd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39960" y="1066680"/>
            <a:ext cx="54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chael Card and John Thompson, 198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5268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 Shaddai, El Shaddai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rkahmka na Adonai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will prai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lift you hig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l Shadda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4:02Z</dcterms:modified>
  <cp:revision>40</cp:revision>
  <dc:subject/>
  <dc:title>PowerPoint Presentation</dc:title>
</cp:coreProperties>
</file>