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55E2-FC37-461C-B883-66685689C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1182-4793-4F87-9E0D-769E5703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A9AB-8E86-48C9-A918-7D49762F0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2747-C2FB-4A57-B289-605516622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CF07-B50F-4669-AD49-16E7A8852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EF19-4D79-4C31-8694-3D5ED1BF9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0B46-C672-428F-AC57-5B2CD7F24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3DE8-FAFD-49AA-A628-E7D48E29D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FFA0-10CF-44D7-ACD6-A4CDEBB69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3305-83D9-41BA-9362-554F006A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2CFE-1705-48AF-8367-2DF9E62A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8359-44DC-4A52-900D-CCEA8807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183FE-24D2-42CA-AE24-B6E5F67B83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Lord’s Pray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7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057400"/>
            <a:ext cx="9144000" cy="443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ur Father, whi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t in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owed-a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dapt. © 1981 Abingdon P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rd’s Pray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91440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Matthew 6:9-13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dapt. by J. Jefferson Cleveland and Verolga Nix, 1981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owed-a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6. Amen, am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owed-a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rd’s Pray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en, am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en, am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owed-a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0574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kingdom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will be d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owed-a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Done on earth 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is in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owed-a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rd’s Pray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 us this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daily br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owed-a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And forg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our deb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owed-a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rd’s Pray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we forg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debto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owed-a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Lead us no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to tempt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owed-a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rd’s Pray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deli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s from evi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owed-a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Thine is the kingdo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ower, and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owed-a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rd’s Pray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14:01Z</dcterms:modified>
  <cp:revision>26</cp:revision>
  <dc:subject/>
  <dc:title>PowerPoint Presentation</dc:title>
</cp:coreProperties>
</file>