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89F0-54CD-49EF-B373-0F108FFC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ABC-C6A3-4D0D-885C-1CB451AA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714-B682-4F9C-93F2-5823B99D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66C-723C-4712-BDDE-AE776DF3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67E-B09E-48D2-876A-B2A0B4F2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237-98D9-4078-9019-98DCC1FF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702-4EF3-4C49-9F57-42F90315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197-003C-42F0-AC5C-4B47BB69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6C2-1CD3-400F-B83A-94DF69B2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07F-5A3E-4293-A8E1-80549B69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CEA-C833-4A21-8F17-CF28055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B06-BFA1-44B7-9601-A3EF4E8B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A7F7-2A80-433D-919C-B72AAFFB1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Gu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915400" cy="4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just as we look into a mirr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see any soiled spo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n our f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2 Harper &amp; Row, Publisher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ui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1066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rea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456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let us look to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order to understan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ings we have done ami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are like a reed shak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n the wi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we are inexpressibly weak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Leave us not to ourselv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ut to dwell in out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guide our though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ction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6:12Z</dcterms:modified>
  <cp:revision>11</cp:revision>
  <dc:subject/>
  <dc:title>PowerPoint Presentation</dc:title>
</cp:coreProperties>
</file>