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2A99-4B7B-49D9-8886-B5C0C7A87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E2F8-4B58-4F59-A732-5E20F71A2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C671-98F7-4856-835E-86BDD5241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6E0E-3DF8-41A0-A676-23CA67DBA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35F99-E624-4F15-8CD6-E43A43B8F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8407C-F422-4B53-BBAB-75EB4A1FF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178ED-FAFF-4BFC-9413-C2FA97F22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6B834-F67F-491A-887C-5D2B59DA7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68FEB-7A2F-4677-8C06-A965D452E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3A688-3F2C-4B67-BBC2-B20C58073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6D771-5561-46AA-A447-C8BDCCD4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77C7-6DD9-47EA-8015-51AEBF83B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624B1-A8BD-45DA-93BF-6C8EC0B6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22339-58A5-4E14-96D7-0DDF40E8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6B7CE-10C1-4045-9C56-64D4BCA92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CDCB3-090A-4C5F-9F0E-9661720C8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65A53-2CF2-48D0-81CA-9D4973DBA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F9CE-669F-4326-8D32-B347BF7F7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A372-AFC3-4695-A125-A586C4201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31E6-B3EC-46D7-B4B3-FD8A5EFD8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BD0F-BD75-42B1-8B07-CC479458C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5609-2962-49FF-830F-F6653B2D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86E2-5CC4-4E13-9A58-457D78C2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5402-621A-4798-BAC3-E6A87EB7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B85F2-62E1-47BB-B973-1A71EE7A0B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17A31-DCB3-4C6F-95E0-9FCAF7E763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lessed Be the God of Isra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0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219320"/>
            <a:ext cx="9144000" cy="466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1. Blessed be the God of Israel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ho comes to set us fre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ho visits and redeems us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nd grants us liberty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ed Be the God of Isra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30840" y="654120"/>
            <a:ext cx="498600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Michael Perry, 1973 (Lk. 1:68-79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73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fore him go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hera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erunner in the 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prophet of salv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harbinger of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On prison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dark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sun begins to r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daw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forgive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pon the sinner’s eye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ed Be the God of Israe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guide the feet of pilgri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ong the paths of pea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bless our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avi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songs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ver ceas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52280"/>
            <a:ext cx="914400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e prophet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spoke of mercy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of freedom and release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God shall fulfill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e promis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o bring our people peac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533520"/>
            <a:ext cx="9144000" cy="481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  <a:ea typeface="Arial"/>
              </a:rPr>
              <a:t>2. Now from the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  <a:ea typeface="Arial"/>
              </a:rPr>
              <a:t>house of David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  <a:ea typeface="Arial"/>
              </a:rPr>
              <a:t>a child of grace is given;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  <a:ea typeface="Arial"/>
              </a:rPr>
              <a:t>a Savior comes among us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  <a:ea typeface="Arial"/>
              </a:rPr>
              <a:t>to raise us up to heaven.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ed Be the God of Israe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533520"/>
            <a:ext cx="9144000" cy="497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Before him goe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he herald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forerunner in the way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he prophet of salvation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he harbinger of day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533520"/>
            <a:ext cx="9144000" cy="466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3. On prisoners of darknes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e sun begins to ris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e dawning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of forgivenes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upon the sinner’s eyes,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ed Be the God of Israe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212760"/>
            <a:ext cx="914400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o guide the feet of pilgrim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long the paths of peace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O bless our God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avior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songs that never cease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30492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lessed Be the God of Isra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0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600200"/>
            <a:ext cx="9144000" cy="473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Blessed b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d of Isra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 comes to set us fr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 visits and redeems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grants us liber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73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ed Be the God of Isra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130840" y="1143000"/>
            <a:ext cx="4986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Michael Perry, 1973 (Lk. 1:68-79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prophe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poke of merc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freedom and releas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d shall fulf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prom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bring our people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Now from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use of Davi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 child of grace is give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 Savior comes among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raise us up to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ed Be the God of Israe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06-27T01:24:58Z</dcterms:modified>
  <cp:revision>53</cp:revision>
  <dc:subject/>
  <dc:title>PowerPoint Presentation</dc:title>
</cp:coreProperties>
</file>