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81C-EFB2-436A-9FD2-8E3A104F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86D-2256-46D9-B01A-F7BF1E14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832-9BA5-49DA-93C7-0C08B76B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0AB-1C78-4BFC-89E9-845BDE9D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2035-ED3A-4247-9DD7-A1D510A2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8EA5-0B0B-429E-BC99-0F9AA2C5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EAAB-6B54-4538-8545-12140A31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E929-36D8-42E1-8E19-22DF7B5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039C-BF4D-438D-A6BF-40C6BAEE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D318-F864-42F4-A667-E7ABC673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C678-0B66-4348-8CEC-19F2880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D01-362A-4BD8-A477-3853158A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DE8C-55D6-46C0-9259-D21842E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267C-424E-4884-B8EB-600CE33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ABF3-A633-4AEC-9C91-D9F3A196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20A3-6C97-4F95-897A-92455AFA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0EF8-5ACE-4EAE-A20C-47F31DCC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E48-ADF8-45D3-86F4-339C256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4B1-D5C7-4423-ACD2-B10AE5E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4B0-2ED0-4F59-96DA-488C2F0E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643-581E-4569-8485-C5987997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907-7155-439A-896E-56843336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BA2-93A6-491B-AE48-69ACB30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FDA-AD04-442E-897D-679C77CB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E5E8-493A-4EE4-B702-01E505C2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1092-51C5-455E-9DC1-C3C91988D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a Song of the Sai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 and brave and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0600" y="12193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esbia Scott, 19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joyous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esus’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meet them in sch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treet, in the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urch, by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use next d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ar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ther rich or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me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a Song of the Sai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 and brave and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80600" y="12193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esbia Scott, 19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oiled and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and k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doc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qu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hepherd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gr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all of them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and I m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l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ved thei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, so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followed the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’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lives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oldi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 fierce wild b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oiled and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and k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not any 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ot the l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I should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lived no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undr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usand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joyous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o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esus’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meet them in sch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treet, in the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urch, by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use next d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are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ther rich or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me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doc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qu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hepherd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gr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ere all of them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, and I m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l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ved thei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, so d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followed the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’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lives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soldi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a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 fierce wild b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’s not any 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ot the l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I should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y lived no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undr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ousand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07T14:29:52Z</dcterms:modified>
  <cp:revision>56</cp:revision>
  <dc:subject/>
  <dc:title>PowerPoint Presentation</dc:title>
</cp:coreProperties>
</file>