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B5AF-3340-41D5-9B30-FAD8F834A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9A99-74BA-439F-A63F-622EC533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B9FF-0974-4EF1-9EEF-1D81E8DBD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1A06-A11C-4DCF-9EF8-EF8F90703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F307-EEA3-4BDF-8269-0FB013EE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7C0E-4429-4624-AD48-82F46D62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CD8C-08D0-4ABF-BE4E-6FE19C8B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9EC6-0FA2-4BE4-90A3-A821E3D2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0476-6A1A-471D-A0FB-48AE5B62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C4F4-8586-4344-BC89-0A6FB620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68B2-C071-44A1-8CD4-06DE0FE8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5BD0-1AB3-4619-8C21-50F5C280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41F9-F38A-44B2-8BA2-56A517BDF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antemos al Se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ñor</a:t>
            </a:r>
            <a:br>
              <a:rPr sz="40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Let’s Sing unto the L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antemos a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 himno de alegrí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 cántico de am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 nacer el nuevo día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6 Resource Publications, Inc.; 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emos a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67600" y="1473120"/>
            <a:ext cx="741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arlos Rosas; trans. by Roberto Escamilla, Elise S. Eslinger,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nd George Lockwood, 1983, 1987 (Ps. 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et’s sing unto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hymn of ador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shows our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hope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re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Sing Unto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all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 been ma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rd is prai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great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o we sing to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bestows su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ly blessing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’s sing unto the L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’s sing unto the L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Sing Unto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l hizo el cielo, el m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l sol y las estrell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vio en ellos bond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ues sus obras eran bell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668600"/>
            <a:ext cx="9144000" cy="314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Aleluya! ¡Aleluy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temos a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Aleluy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emos a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antemos a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 himno de alabanz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exprese nuestro am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a fe 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uestra esperanz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emos a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toda la creació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egona su grandez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í nuestro cant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a anunciando su bellez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9064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Aleluya! ¡Aleluy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temos a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¡Aleluya!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temos a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¡Aleluya! 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emos a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Let’s sing unto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hymn of glad rejoic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’s sing a hymn of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new day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sh beginn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Sing Unto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made the sky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tars, the su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ocea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God saw it was g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those works w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ed with beau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668600"/>
            <a:ext cx="9144000" cy="32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’s sing unto the L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Sing Unto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03:54Z</dcterms:modified>
  <cp:revision>13</cp:revision>
  <dc:subject/>
  <dc:title>PowerPoint Presentation</dc:title>
</cp:coreProperties>
</file>