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9CC-459F-455B-B0A0-DA860D2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966-AD0C-4B66-BE03-C218D65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D95-8946-41AD-8F3B-94AEC7AA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889-0C4E-4E97-B057-39617EA9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258-A4DE-4BA4-B990-C87F84D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1AA-B581-42BE-932F-A78AB63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8F0-6348-4596-963C-9BB6DF3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BDF-CA02-4E0E-8993-C15475ED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273-7EE4-4386-AA1A-B64E709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566-C252-4758-8B82-607B610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6AE-63C2-4F00-9998-16520613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662-8C50-43DF-8023-AA94691A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B0F-33EA-4F7E-B5FD-85D202246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h 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7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every thing and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that you have ma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h Wedn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4440" y="91440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(Gen. 3:19; Ps. 51:10; 1 Th. 2: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form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rom the dust of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raise us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edemptiv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cro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e in us clean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t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new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ea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your call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2:42Z</dcterms:modified>
  <cp:revision>15</cp:revision>
  <dc:subject/>
  <dc:title>PowerPoint Presentation</dc:title>
</cp:coreProperties>
</file>