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296-DA1A-406A-AB31-F438ADD1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0F9-4A25-485B-9E46-FA52EE56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600-270B-4275-8A46-577BE291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8C5-5B29-4C7D-8223-A3F75DBE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F61-E323-4B54-8C50-2505ABC9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D94-1C38-4151-A61D-4D67A521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BBF-4863-4F02-8659-E05B911A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A75-B5BC-4F82-BEA0-84B8F96C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AF9-6C7C-4C91-A129-2965D8D0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013-9630-4175-B4EF-241262DE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348-5C18-4019-9A25-2E433BB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59A-E302-4B41-8473-BF5CEBB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05D5-1FE3-4EA2-BB35-1452B8D1B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Name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t the name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0120" y="109224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M. Noel, 1870 (Phil. 2:5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the Father’s pl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call him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e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umbled for a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lips of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whom he c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he bor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tless to the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it back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as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ore it up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ts human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r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central he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hrone of God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’s br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it wit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at perfec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y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hron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let him subd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is no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is not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ap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emptation’s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s will enfol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light and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48Z</dcterms:modified>
  <cp:revision>31</cp:revision>
  <dc:subject/>
  <dc:title>PowerPoint Presentation</dc:title>
</cp:coreProperties>
</file>