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9073-B2CE-4EE8-AD17-700C6710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5888-4D92-4E13-9D2B-6FEF5EF9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5FF8-B956-46B3-88E1-302E7BAB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BCAA-AE12-4691-BA08-B9972F35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FAA9-9E74-441B-83A3-A762B3AD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B1E3-6624-41A3-B252-171ACDFC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823D-29B4-4E8C-B1C6-BC08B5D0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B926-0F0C-4FED-BF5E-AE4B6036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EA27-B24E-4D3F-9429-95855601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93C0-6FEA-424E-BC65-F39CE01E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7E3-8E0C-4C82-89E1-E50B657F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65CE-AF40-43FA-9E63-4494289B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048D-CCAE-48FB-8B0A-5CF083C97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Dir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8686800" cy="367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Direct us, O Lord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in all our doings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with your most gracious favor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and further us with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your continual help,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Dir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08640" y="1066680"/>
            <a:ext cx="377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592280"/>
            <a:ext cx="8686800" cy="367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at in all our works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begun, continued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and ended in you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we may glorify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your holy name,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771560"/>
            <a:ext cx="8686800" cy="333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and finally, by your mercy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obtain everlasting life;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50:35Z</dcterms:modified>
  <cp:revision>20</cp:revision>
  <dc:subject/>
  <dc:title>PowerPoint Presentation</dc:title>
</cp:coreProperties>
</file>