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8A7B-C4BB-4FFE-AB1E-D24E8C8D3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D2A9-57C8-4A99-BFF8-16EDA816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E922-740F-4AF8-AF76-BBA7123AD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E30A-E1C7-4D46-B073-C05420E30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1FE6-08AA-41AB-9FEA-9DBA8C27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370D-0A51-4C98-9A74-F4172620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9579-EBB4-4F66-96FE-B31C36AC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25D9-51C2-4C9C-857A-763F65EC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04F1-C899-449E-A9DF-05AD70BA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F26A-26EC-4BAC-9790-F7B64233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D801-E6C1-42C7-9E65-CEFD090F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BA8A-D90D-4805-AAA1-BE208C29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B205-6C54-4EDC-912B-556186C0F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Day Is Past and O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8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ay is past and ov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anks, O Lord, to the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pray thee that offense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ours of dark may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y Is Past and O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40760" y="1143000"/>
            <a:ext cx="71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non., Greek, prob. 6th cent.; trans. by John Mason Neale, 185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Jesus, keep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y s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uard us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oming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 joys of day are ov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lift our hearts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all on thee that sin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ours of dark may be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y Is Past and O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Jesus, m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darkness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uard us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oming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 toils of day are ov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raise our hymn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sk that free from peri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ours of dark may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y Is Past and O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Jesus, keep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y s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uard us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oming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Be thou our souls’ preser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od, for thou dost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many are the peri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which we have to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y Is Past and O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Jesus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ear our c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uard and s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from them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34:49Z</dcterms:modified>
  <cp:revision>20</cp:revision>
  <dc:subject/>
  <dc:title>PowerPoint Presentation</dc:title>
</cp:coreProperties>
</file>