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B2FC-1B04-47FD-BAFC-428776B8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9C5C-2AEB-479B-9811-41365674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4F43-774D-4E24-A01D-888D16138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74B1-2647-4282-87EF-E2D547A13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AE1F-D311-4054-8816-91BB4D44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D166-80F2-48F8-91B5-745D7B6E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ECD3-BAC6-4BAE-B180-0D16D456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B5B9-9A00-469E-B440-75FC33C9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D58E-1A51-4066-8BC3-4953C9A0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F360-68B7-4A72-84BC-C3AD526F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D0CB-908B-4519-A06C-44147A97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9D35-2DD0-4249-A78A-70D68ACD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2BDD-4A63-432C-BAD5-FF3FD9FEF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 Jesus Lay i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eath’s Strong Ba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Jesus Lay in Death’s Strong Band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Martin Luther, 1524; trans. by Richard Massie, 185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66688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1. Christ Jesus la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in death’s strong band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for our offenses given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Jesus Lay in Death’s Strong Bands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Then let us fe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Easter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tr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ead of hea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ord of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th purged a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ol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cked l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al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souls will fe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our m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drink inde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ith lives up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other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now at Go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ight hand he st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bring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 from hea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fore let us joyful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 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ight thankful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ud songs of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Jesus Lay in Death’s Strong Band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t was a stran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dreadful str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lif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ath contend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vic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mained with lif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reign of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s end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ripped of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more it reig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 empty for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one remain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ath’s sting is lost foreve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Jesus Lay in Death’s Strong Band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So let us k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festiv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to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vites u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himsel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joy of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un that wa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ights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his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doth imp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ternal suns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he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ight of s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ended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7:15:52Z</dcterms:modified>
  <cp:revision>78</cp:revision>
  <dc:subject/>
  <dc:title>PowerPoint Presentation</dc:title>
</cp:coreProperties>
</file>