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253C-B6E4-437F-827B-D3B58A13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F00D-457C-443B-A472-387CEA43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0E03-3190-408D-AFEC-9ECEAB06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1B55-4335-4288-AEB6-FF7B832DF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0507-8830-4899-9915-1CE37D6C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5423-CDEA-415D-99CF-0304B50A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8B7C-1B1A-4F65-946D-733554C2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668C-0289-4F6F-83F6-129991C8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08C9-4CAA-44DE-B032-59BE6A42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817F-E66C-489B-B8E1-1A4B0FDA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3FC1-A5EA-4F9F-AF3B-D04916C5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1FDF-3398-4CBC-A5EB-EF0EEBD4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08FF-4B67-4679-9A3A-3548163A0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Crucified Redeem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90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crucified Redeem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life-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ave spil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ds by permission of Community of Resurrection,  Mirfield, U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rucified Redeem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37800" y="990720"/>
            <a:ext cx="361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Timothy Rees, 194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rucified Redeem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se are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ies of p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y they brea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elfish hear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come in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you we rais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ur guilty hand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humbl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wn our guilt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day we see your passio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ead open to our gaz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owded str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ountry ro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Calvary display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 hear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y of angui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ee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outpoure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rucified Redeem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battlefiel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un red with bl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neighbors’ bl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ther batt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ight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ily brea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might is 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elf is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ee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rn-crowned h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groa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re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rung out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in and ca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rucified Redeem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nguish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illion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reak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umb despai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8:04Z</dcterms:modified>
  <cp:revision>15</cp:revision>
  <dc:subject/>
  <dc:title>PowerPoint Presentation</dc:title>
</cp:coreProperties>
</file>