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3E0-B172-4AEB-B361-E58CFE3F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5A2-0332-4982-8F3C-A4E6041E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81F-FADF-47FD-A9E5-4BA092F6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58E-1CC5-4676-AB46-655826B8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094-7857-4E95-8358-C1714BD6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423-8EA4-4B7B-A912-59804E40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DB7-1C57-463C-9776-DDC91492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8C9-C505-4D51-B74B-F1F16DEB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4E5-DCA0-4313-8009-D688FAB3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C48-FAB2-4D1B-BEF1-340512DE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2B2-9387-41EB-ADF8-AE372967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B7F7-171B-4989-908B-24DB6ED4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8F01-A96E-4502-A642-BEB171122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the Feast of Vic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9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victory for our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 Lutheran Book of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Revelation 5:12-13; trans. by John W. Arthur, 19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a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as sl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egun his reig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37160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victory for our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thy i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mb who was sl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blood set us f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peopl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0020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victory for our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, rich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dom, and streng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nor,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 are hi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52388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victory for our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ople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in in the hym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60020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victory for our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ing,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, and m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o God and the La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60020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fe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victory for our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6:36Z</dcterms:modified>
  <cp:revision>142</cp:revision>
  <dc:subject/>
  <dc:title>PowerPoint Presentation</dc:title>
</cp:coreProperties>
</file>