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8E7-8690-4371-9825-12560C8E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7808-4927-4CBC-9E63-E26DD1A1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3601-5D2B-40BF-9A44-27D6FEF4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29C-D20E-4026-AF0E-DE273B3E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0EE6-F6F0-4491-AE6D-8D71E91D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B547-D249-4262-B759-306A870B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ABB3-AE84-485D-87B7-ADDD259D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B3E0-F346-4438-82F7-BC865F92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DDF8-7E0B-4B96-8955-B2D75F3D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69D5-B6C9-42E6-A307-49411AE0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BC23-DE31-43DC-875E-B7E19300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EFC-1C77-4A2B-AE77-0EDA8309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135C-2487-4DAB-BACE-4AEA522B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845A-BC43-4F03-B04A-C51C5D1A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C030-FA52-40CD-A71D-57C5B74B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3F0A-71C3-4C2A-BBCF-21ECE1F9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F00E-929A-4883-97E1-EB2E5A94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35F-740E-475B-82F8-4CE8791A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EE7-0E84-4295-B865-B057C16D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EA89-AA03-4C05-BE95-EBB75FC7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B3D-B53F-4710-82DB-146633F8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F7F-CCE1-4503-AB89-3A04FD86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ACA-8B6A-4114-9E22-245424A0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F17-EDBA-4A5C-857E-AF2AE8D7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1E0D-EE6A-4C9C-AEBE-5ABAE3B3F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A157-F9E2-485E-B452-932A4EE53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Mary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Magnifica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23880"/>
            <a:ext cx="9144000" cy="396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RESPONSE SU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glory of the Lor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hall be reveale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flesh shall see it together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58760" y="685800"/>
            <a:ext cx="698868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uke 1:46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55, ICET, rev. ELLE; Response, Isaiah 40:5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e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546120"/>
            <a:ext cx="8610480" cy="553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oul proclaims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reatness of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pirit rejoices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od my Savio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has looked with fav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n me, a lowly serva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100332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is day all generati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hall call me blesse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Almighty has d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reat things for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holy is the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se mercy is 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ose who fear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rom gener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gener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00332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arm of the Lord is str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has scattered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roud in their conce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has cast dow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ighty from their thron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lifted up the low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638280"/>
            <a:ext cx="861048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has filled the hung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good th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ent the ri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mpty aw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has come to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id of Israe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chosen servan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9586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membering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romise of merc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promise ma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our forebea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Abraham and 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hildren for ever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320"/>
            <a:ext cx="9144000" cy="555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oul proclaims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reatness of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y spirit rejoices in God my Savior, who has looked with favor on me, a lowly servant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9144000" cy="466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is day all generati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hall call me blesse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Almighty has done great things for me and holy is the name of the Lor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ose mercy is 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ose who fear Go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from generati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o gener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76320"/>
            <a:ext cx="9144000" cy="539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arm of the Lord is str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has scattered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roud in their conce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od has cast down the mighty from their thrones and lifted up the lowly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38280"/>
            <a:ext cx="9144000" cy="378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has filled the hungry with g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ngs and sent the rich empty aw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od has come to the aid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Israel, the chosen servan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4572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remembering the promise of mercy, the promise made to our forebears, to Abraham and his children for ever.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09480"/>
            <a:ext cx="9144000" cy="396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RESPONSE SU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glory of the Lor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hall be reveale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flesh shall see it together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Mary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Magnifica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286000"/>
            <a:ext cx="9144000" cy="412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(Advent &amp; Gene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y of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reveal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lesh shall see it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e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77840" y="1623960"/>
            <a:ext cx="69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uke 1:46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55, ICET, rev. ELLE; Response, Isaiah 40:5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0-12-19T01:17:39Z</dcterms:modified>
  <cp:revision>32</cp:revision>
  <dc:subject/>
  <dc:title>PowerPoint Presentation</dc:title>
</cp:coreProperties>
</file>