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DE9-F3D7-4368-A779-232B3519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B9B-4714-4723-AEA6-453D9B4B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342-35F1-4E42-A7BF-DC699E85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056-E966-46A3-A83E-890230A7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4E40-5B2D-4CDE-8EF1-5669E49E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2B79-7478-4FFD-888B-C8B8AAE5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0DE8-997B-419E-9C92-AB3EF662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BD25-CCCF-4841-841D-2AACB0D4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7F68-B192-44D6-97A5-394510D0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4658-9E75-47E4-B4F2-27F28EC2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3642-2DFE-4BFD-B6A7-CCFD5766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CD4-F614-4D58-8954-D26547E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9916-5E27-4168-A04E-6F12704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32AF-674B-42E0-8281-419C69B2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0BBB-1C39-4F3F-B17C-E03E7847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556D-30F7-4C73-996A-BE2DB462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586E-2DE7-433C-8F32-786F5F79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4E6-3307-4EB4-9FD1-47917A0E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1D7-54A1-4C48-90D2-84110EAA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57B-5D0B-41AF-9138-0E4A27F8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4A1-F7AC-4AC4-9BA5-0463A683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916-3D05-491B-8100-D9F3B812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540-8B11-4D12-82DA-B69668D0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BFA-FEBD-412F-8059-ED85DD86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3F0C-D07A-4963-B0FF-7222C82EE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69E6-114D-46DB-A34F-272C0AAEE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azing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Newton, 1779; st. 6 anon. (1 Chr. 17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431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1. Amazing grace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How sweet the sou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aved a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retch like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was grace that ta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ce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ars reliev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07440" y="2239920"/>
            <a:ext cx="6729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precious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grace app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ur I first belie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hrough many dang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ils, and sna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already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63680" y="1859040"/>
            <a:ext cx="64152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s grace hath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safe thus 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ace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 Lord has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word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pe secur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36040" y="2239920"/>
            <a:ext cx="6272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my shie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ortion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ng as life endu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Yea, when this fl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t shall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 shall c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62680" y="2239920"/>
            <a:ext cx="62204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poss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ve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ife of joy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When we’ve been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y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shi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e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88120" y="1859040"/>
            <a:ext cx="55666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ve no less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ing God’s pra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 wh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d first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1840" y="895320"/>
            <a:ext cx="86832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once was los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m found;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as blind, but now I se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85800"/>
            <a:ext cx="9144000" cy="544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HEROK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OH NAY THLA N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EE OO WAY GEE.’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E GAH GWO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YAH HAY 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erokee phonetic 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4840" y="1882800"/>
            <a:ext cx="675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AW GWOO JOE SA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 YOU LOW SAY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 GAH GWO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AH HO NA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Navaj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066680"/>
            <a:ext cx="9144000" cy="479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NAV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IZH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ÍGO JOOBA´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TTS´ A´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SDÁSHÍÍTÍNÍGÍ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avajo phonetic transcription by Albert Ts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63680"/>
            <a:ext cx="9144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H YÓÓÍÍYÁ, K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ÉNÁHOOSDZI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O EESH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ÍÍ DA ŃT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É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Kiow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3520"/>
            <a:ext cx="9144000" cy="5909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KIO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 K’EE DA HA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TSAHY 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SOW’HA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 K’EE DA HA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DAWTSAHY 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Kiowa phonetic 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4778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AY DAWTSAHY T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AW AYM 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H T’AW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W K’EE DA H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WTSAHY H’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ree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50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R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O YA FEK CHA 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LT AH T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H NON AH CHA PA K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reek phonetic tran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8590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 FEE KE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FUNNA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 K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M E HA TA LA Y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octa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066680"/>
            <a:ext cx="9144000" cy="533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CHOCT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HILOMBIS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OLITOPA MA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SHMMINTI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ULLA CH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hoctaw phonetic 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s sung in Oklahoma Indian Missionary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39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TAK ILBUSH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A HA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 PI YUKPALASH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was grace that taugh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fea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ce my fears relieved;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ow precious did that grace appea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hour I first believe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azing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Newton, 1779; st. 6 anon. (1 Chr. 17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mazing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weet the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ave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retch like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54880" y="1066680"/>
            <a:ext cx="6836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once was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m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blind, but now I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’Twas grace that tau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to fe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grace my fears relieved;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recious did that grace appea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hour I first belie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Through many dang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oils, and snar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already come;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’tis grace hath brough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 safe thus far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grace will lead me ho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 Lord has promis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good to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his word my hope secures;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 will my shiel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portion b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 long as life end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682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5. Yea, when this fles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t shall fai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rtal life shall cease,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shall possess, within the vei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life of joy and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522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6. When we’ve been the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yea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shining as the sun,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’ve no less d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sing God’s prai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 when we’d first begun.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3. Through many danger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oils, and snare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I have already come;                       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’tis grace hath brough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me safe thus fa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grace will lead me home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 Lord has promis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ood to 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word my hope secures;       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will my shie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portion b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s long as life endures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5. Yea, when this fles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art shall fai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ortal life shall cease,                   </a:t>
            </a: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 shall possess, within the vei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 life of joy and peac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7000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6. When we’ve been the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ten thousand year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bright shining as the sun,            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e’ve no less days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o sing God’s prais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an when we’d first begun.</a:t>
            </a:r>
            <a:r>
              <a:rPr b="1" lang="en-US" sz="5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azing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14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Newton, 1779; st. 6 anon. (1 Chr. 17:16-1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mazing grac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w sweet the s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saved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retch like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54880" y="2239920"/>
            <a:ext cx="6836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once was l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now am f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blind, but now I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19T00:34:56Z</dcterms:modified>
  <cp:revision>125</cp:revision>
  <dc:subject/>
  <dc:title>PowerPoint Presentation</dc:title>
</cp:coreProperties>
</file>