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D7E-A516-42B4-9756-46E88CFA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041-F3E4-43FC-90BC-67AB5A92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A04-1970-4BAB-A52B-E7C470EA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337-6705-4967-B819-2494B4C2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56E-1EDF-45D4-A261-A5224F3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C1E-B53C-42B8-9537-0B6B441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7B7-BAC3-45EA-A46C-01AA8642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9B2-637F-4AE6-8975-DBD825A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DBD-1D01-497A-822D-37C41B3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D7-655A-41B4-B19A-99A2C8D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FB5-5414-476D-BD16-11070C5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507-0408-4AD8-916F-72B8CDA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3CBB-FF9F-4DAC-ACD5-FBECF0E6B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Glory, Laud, and H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eodulph of Orleans, 8-9th cent.; trans. by John Mason Neale,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851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 didst acc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the prayers we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all good deligh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o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art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avid’s royal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com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and Blessed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mpany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orus make rep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people of the Hebr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 and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we pres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 thee, before thy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ang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now high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elody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9:41Z</dcterms:modified>
  <cp:revision>44</cp:revision>
  <dc:subject/>
  <dc:title>PowerPoint Presentation</dc:title>
</cp:coreProperties>
</file>