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6B6-CAA5-415C-9318-B43917E4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9C4-D562-4733-B8F4-3838EFE9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FF2-9C3F-4B1F-9217-F71DDE19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9A9-8D25-45A4-B496-DFCDBD35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D04-B59D-43EC-9AC5-0922FA19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141-B418-4B77-BB19-20430AFE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D35-1B35-40D8-A4DF-4A0A0102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D9C-2EE7-43AB-BEC9-DA673DE2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FA8E-F44B-46D2-B762-2D5E9D4E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17D-FCEF-40B3-8541-CF03728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E85-D63B-45CA-B3AF-6D74AA3D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630-B90D-4969-80F4-DB79AD53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624A-6658-46B5-B2C5-6EAE61A2F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 to Dark Gethsem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mes Montgomery, 1820, 1825, a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 to dar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ethsema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 that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empter’s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Early has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tomb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y la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breathless cl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s solitu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om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as ta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m aw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is ris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meets our ey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tea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so to 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Redeem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lict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tch with him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bitter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 not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riefs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o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ee him 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judgment h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ten, bou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iled, arraign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e wormw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gal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he pa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oul sustain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un not suffe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me, or los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ar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alvary’s mourn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untain climb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, ado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his fee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rk that mirac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i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crifice comple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finished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him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o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2:19Z</dcterms:modified>
  <cp:revision>49</cp:revision>
  <dc:subject/>
  <dc:title>PowerPoint Presentation</dc:title>
</cp:coreProperties>
</file>