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67F-5470-4852-BD65-EF079558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D82-A302-4EC9-B788-3E4BB8A4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6FD-365C-4C9C-94D7-B746F927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4B3-B679-4B3A-A812-AD331D3C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700-2290-4D16-8D57-320CAC94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AFF-CAC6-4661-87BE-72E638CF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C8E-53DF-4B20-B7F6-B56ED7EA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755-8483-4774-BB96-592ACA0D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F6D-7E4A-4D39-9791-6FA45342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14D-1687-47C8-8CA0-0266DDC6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70A-1B33-4A9A-8A40-7BD310F2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6AD-75CE-42DD-9193-FB031F6B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068B-1753-48B8-B949-4B211CE49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Christ’s Obed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08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is mind be in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as al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and Response 1 © 1989 The United Methodist Publishing Ho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hrist’s Obedi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960" y="990720"/>
            <a:ext cx="68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hilippians 2:5-11, adapt.; Response 1, Philippians 2:5, adapt.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ponse 2, Caroline M. N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26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name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knee shall b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hrist’s Obedi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477800"/>
            <a:ext cx="8610480" cy="368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Jesus, though he w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form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id not count equality with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thing to be grasp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emptied himself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aking the for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a serva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eing born in our like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ing fou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human for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 humbled himself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came obedi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nto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n death on a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fore God has high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exalted h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bestowed on h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name which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bove every na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at the name of Jes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y knee shall b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heaven and on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under the ear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8273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very tongue conf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Jesus Christ is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the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God the Fath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38Z</dcterms:modified>
  <cp:revision>29</cp:revision>
  <dc:subject/>
  <dc:title>PowerPoint Presentation</dc:title>
</cp:coreProperties>
</file>