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C97-ABA0-4D86-99F8-2DD97CA5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628-7BB8-4861-A6B3-A1036B48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A15-C64A-45DB-8D2E-CCE6DDEC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9A3-AE5C-42EA-88E9-387F8836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6AC-8521-484B-85D7-B5CA1B24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4A8-B859-4594-B07A-D818F805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0AC-7011-4F36-9B60-DD3BD267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C72-371C-4779-9EB1-85EF95AE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CA2-59D1-4864-BC58-6D258B01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3E4-47CF-4117-8431-819B8F4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122-B796-4AD1-A261-A579D04F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67B-B860-4E3F-A72D-CEDA7C7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AA44-A047-421C-8F9B-2A088C1D7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w Blest Are The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o Trust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5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w blest are th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trust in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we and th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love must 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7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2920" y="1600200"/>
            <a:ext cx="36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ORDS: Fred Pratt Green, 197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yield them up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go they mus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do not lo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m from our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ripened a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harvest reap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r gone from 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youth or pri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 they ha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leased from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onds of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Christ, who tast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 for 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rise ab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natural gr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itness to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 stricken worl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ength and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bel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9:05:49Z</dcterms:modified>
  <cp:revision>12</cp:revision>
  <dc:subject/>
  <dc:title>PowerPoint Presentation</dc:title>
</cp:coreProperties>
</file>