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7EFC-FF70-45D8-B9C8-5D517611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3D00-A4E2-4C13-B413-ACE05913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6A5-7084-451D-BA2A-4226F9CE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25C-9D50-4EE9-86B0-1818C737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10E1-A28D-43B2-8481-FDDDB904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E0BF-0139-41C0-A385-19D7D812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308-3D24-4499-A312-4D1A7E00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136-A184-4565-8BC6-E3F3252D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6B4-5979-48EA-8BFD-B04C5CAC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EAA-5774-4BC4-AC9E-84AC2DF9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4B3F-B369-436A-A182-30A2BE1B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2383-26B3-4357-BF9A-728926FD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CA1F-F10F-49C2-A01B-6AC6752AD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t the Name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t the name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knee shall b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ongue confess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 of glory n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Name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40120" y="1092240"/>
            <a:ext cx="51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roline M. Noel, 1870 (Phil. 2:5-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s the Father’s pleas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ld call him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from the begin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the might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Humbled for a s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eceive a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lips of sinn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 whom he c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Name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ly he bore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otless to the l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ught it back vict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from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pass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Bore it up triumph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its human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all ran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central he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Name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throne of God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ather’s bre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it with the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at perfect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n y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thron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let him subd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at is not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at is not tr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Name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your cap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emptation’s hou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his will enfol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ts light and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7:48Z</dcterms:modified>
  <cp:revision>31</cp:revision>
  <dc:subject/>
  <dc:title>PowerPoint Presentation</dc:title>
</cp:coreProperties>
</file>