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893-1CF3-4C2C-AA29-EAC09409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533-AD9D-4DD9-A9CE-4682F8FA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B22-7662-4C6B-83BE-5ECC5502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31E-2887-41E5-B38F-7635369C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533-FE98-482A-9D89-CC5663BE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B67-078B-48FB-BA8F-F7813007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97C-BAB3-4E4B-91B9-0E8B7902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3DF-72CF-4483-A495-12DDA898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E93-4C8F-467E-9CEB-8086B959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B7E7-5274-4229-BA24-2F4E4EEB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C6E-4DBC-4691-B13C-0762A171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73C-778C-48B7-9EA3-1B11B33A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B079-EC32-4717-BC28-3795AF7B5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 Man and Woma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Were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rian Wren, 1973 (Gen. 1:27; Jn. 2:1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s man and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er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ove be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begu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spread the 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 the h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eleb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ay is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peace go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ween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be sha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every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gh and make me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ever end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praise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made us tw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wo are on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ild or par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band, w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Jesus li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av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ing ne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celeb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m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ink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offers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the si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ment 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ange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w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esus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, come what m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bring the da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ear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s to wi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ears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us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at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ing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nnot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7:22Z</dcterms:modified>
  <cp:revision>140</cp:revision>
  <dc:subject/>
  <dc:title>PowerPoint Presentation</dc:title>
</cp:coreProperties>
</file>