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DDA2-957F-4908-B61E-D816221A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3D77-B49E-4E6E-976F-86405ECF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3CBA-D4B8-4D4C-9EDC-E65D840C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ED0D-5D83-4D42-BCA7-73BDA60B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F702-A4C7-434C-A169-DED01412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1900-71F6-43C5-8EAE-ADD1E476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B2A1-0983-4EDB-AAF5-20361BB1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024B-02AF-4CF4-B015-C4B5FAD0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4D13-68B3-4BE8-A6A0-842F5171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EB82-58DF-402E-8956-75168C7C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5B2D-6972-49D0-BA47-D0D5287C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624A-B23F-4400-84B1-74A43BD9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4C9A-8ABC-47B3-89A5-3E4C58D54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, That Mades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arth and Hea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, that made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rth and heav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arkness and l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the day for toil hast giv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rest the nigh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That Madest Earth and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2520" y="1523880"/>
            <a:ext cx="85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t. 1, Reginald Heber, 1827; st. 2, Frederick Lucian Hosmer, 1912 (Gen. 1:1-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716040"/>
            <a:ext cx="861048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thine ang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ards defen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umber sweet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rcy send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dream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s atten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live-long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en the const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 retu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seals our ey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we, b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ew like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abor 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That Madest Earth and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rd us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ask that call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not 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lf enthral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ong throug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e’er befal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 most w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9:23Z</dcterms:modified>
  <cp:revision>26</cp:revision>
  <dc:subject/>
  <dc:title>PowerPoint Presentation</dc:title>
</cp:coreProperties>
</file>