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58E-62D5-4E14-8081-EC9BAFE9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809-AD42-4694-8515-D826824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334-A5DE-4C8A-82D4-18202990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0D5-1D58-4EFE-8D0E-C2694766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99D-C64C-4696-85C0-B1AF0CF3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B56-EC5E-4618-9EB7-72A35A9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A71-9290-4076-9AD3-89A53698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6F-20D0-4C2B-BCA5-E3DB6D21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3AA-BA49-4FE1-8FF1-F2900898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58B-D29D-4C67-BD00-EC53B40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359-D024-4CB6-A426-1F52D57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9EE-ACCB-4748-9DEC-3681E8F2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5A8C-DBDC-424C-8551-D6233D6A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John Chrysos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John Chrysos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Common Prayer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Greek, 5th cent. (Mt. 18:19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91916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ou have give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grace at this ti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ith one accord to make 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common supplication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 have promi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rough your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ll-beloved S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when two or three a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gathered together in his na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you will be i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midst of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fill now,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desires and peti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may be best for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anting us in this wor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knowledge of your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and in the age to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life everlasting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49Z</dcterms:modified>
  <cp:revision>136</cp:revision>
  <dc:subject/>
  <dc:title>PowerPoint Presentation</dc:title>
</cp:coreProperties>
</file>