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67E-A548-4586-B87D-10ACAC9E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65A-FC74-47B5-A32C-3C369F7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D81-C897-4FB4-8C51-B555255F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56B-7331-43B3-8258-D57AEE17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07C-9F7E-44AF-9A2A-1F3FF13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5FA-69AC-466B-BBE9-FD0CEF2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0D7-1233-47F5-B7FB-D8A64FA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E94-A68B-48FF-98B1-F8CF24B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825-1F8B-49F2-AFE0-669CF8F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6F8-7A01-4363-BB51-34EBA7E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9D3-F4DF-4781-8ED8-AC4B258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CA8-8E45-4E75-9009-826B9B1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45CF-851F-418A-9BCB-6B7AC0E5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to Dark Gethsem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0, 1825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 to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thsem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that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er’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arly has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y l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reathless c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solitu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o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ta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eets our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o to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Redeem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with him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tter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no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ief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 him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udgment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en,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led, arraig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al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pa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oul sustain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un not suff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, or l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alvary’s mourn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cli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ado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k that mirac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finished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him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19Z</dcterms:modified>
  <cp:revision>49</cp:revision>
  <dc:subject/>
  <dc:title>PowerPoint Presentation</dc:title>
</cp:coreProperties>
</file>