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57A-E0F1-495D-86A8-AB16AC21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CBE-722C-4552-86AE-EE5F7DAF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709-89B4-4E8A-A01D-CB2F22F2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561-1159-4B5E-9833-460F3B93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784-42CB-488B-B8C2-B82A9476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51E-A44A-45F2-B241-954AE0A4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148-7D56-4675-99A8-A70EE184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E1B-5498-43FF-89BF-9C942975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3A0-62BB-4518-8839-8CD6296B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23D-3F06-4B9A-8A8D-0FA54770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315-F591-475A-A247-87CD2930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AFB-5B1E-4814-B07F-559A1C65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C4F8-04D4-44F1-B0A5-CB4FCA378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eaves of Summer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Una Espig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pes in bunches cut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Ediciones Musical PAX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79840" y="25718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body and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ves of Summer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ves of Summer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ves of Summer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02Z</dcterms:modified>
  <cp:revision>142</cp:revision>
  <dc:subject/>
  <dc:title>PowerPoint Presentation</dc:title>
</cp:coreProperties>
</file>