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477-7130-465F-89B3-EE5DD33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AD0-DB5F-4637-B9DE-4BCEA51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4EF-32D4-4FED-B648-9921CA7A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E2B-A13F-47ED-BD01-2E7820B8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08D9-1801-4792-8DAB-D8A617F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3493-9895-435B-AEF2-0EFFF42D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2480-221F-4630-8A0B-745A22F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F6FB-0458-4B34-AA71-608E5BB5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817-EA64-467E-8D9B-4248B2E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BD39-31AF-4AC9-A51D-C5E2F481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E506-FDCB-4779-BA73-793195BC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79C-7EA7-4ADE-B404-4E8BDA35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D8F7-4681-4F88-96E3-1EF5272D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D0EB-33B9-4300-8929-1562725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351-852A-4BC4-A326-06AC069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D293-2AE8-404E-A127-1447A2CD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EF71-4B7F-4762-A2D9-018EB597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FC9-0500-4317-A895-E6FE9B1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9F1-FE80-46BD-8CDE-E636F6B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98C-6D99-455D-A8C4-E9AAA68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2DC-1AD5-4A9A-B70C-FACA5239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B3D-CE74-443C-B27B-DDD6DEB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A74-4339-42C4-8D96-7F4075E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6C1-144D-43D5-81A2-95A14EBE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2F6-C971-4DF1-895D-E59A9EE5F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8E8-D4EE-492A-9701-F33FCC054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a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hat a fri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have in Jes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sins and griefs to bear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at a privilege to car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verything to God in prayer!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19160"/>
            <a:ext cx="914400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Can we find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a friend so faithful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who will all our sorrows share?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knows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our every weakness;</a:t>
            </a:r>
            <a:br>
              <a:rPr sz="5300"/>
            </a:br>
            <a:r>
              <a:rPr b="1" lang="en-US" sz="53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. Are we weak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vy lade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cumbered with a load of car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us Savio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our refug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52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friends despise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forsake thee?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!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arms he’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ake and shield the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find a solace there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often forfe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hat nee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we 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because we do not ca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to Go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ve we tri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mptations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re trouble anywhe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ould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iscourag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friend so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will all our sorrows sh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kn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y weak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re we w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vy lad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mbered with a load of car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our refug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thy friends despise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sak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it to the Lord in praye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arms he’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and shield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ilt find a solace the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What a FriendWe Have in Jes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2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066680"/>
            <a:ext cx="9144000" cy="405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riend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e have in Jesus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 and griefs to bear!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rivilege to carry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!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Joseph M. Scriven, ca. 18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7128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peac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often forfeit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O what needles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pain we b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ll because we do not carry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thing to Go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we trial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and temptations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re trouble anywhere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We should neve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e discouraged;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ake it to the Lord in prayer.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1-21T02:06:32Z</dcterms:modified>
  <cp:revision>54</cp:revision>
  <dc:subject/>
  <dc:title>PowerPoint Presentation</dc:title>
</cp:coreProperties>
</file>