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8A1-72DB-48F0-BE2D-66AE89F2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876-994F-47B5-A5CF-19123D2B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0D1D-33C2-44A2-BD26-92A93F8B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ADD5-D6B2-4F7F-9681-39EFEE8B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3DB6-679D-447A-AEC5-B6D05810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F150-5B25-45E5-A172-1ECEED1B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06E6-746A-401D-8691-4B729B80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9775-BAB9-430A-B800-C2C7B30A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4C8B-789E-4DD4-90F4-57E53824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A078-EBA5-4A73-9B73-8225ED69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BAD8-58C5-4A93-97EF-B66A4659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E9B4-BA20-48B0-82CF-6B850389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5B3C-FCAE-408D-8F13-BD34C3BA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26DB-C01F-4246-B20E-D22DC3ED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9B05-0EC6-4E2A-B1A1-4A077F4C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B687-D932-4F1C-B67A-5D6A2818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93A6-6CC9-4088-A01C-35FA6C32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5A1-34D0-4260-BD2E-538449C7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308-E360-4F1F-A9BD-4E6856E3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35C7-518E-4BA0-A461-69595511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022F-E753-4252-9ABF-0D174389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37C-FAD7-4A9D-B26B-B3A18E55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EA7-28D7-45B1-A269-94BCFA04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F20C-43AB-4A11-AC90-F175AF8B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1E23-8E79-4A1D-ADFE-ADD456D15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A7C3-442D-415B-AF9B-998302345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sanna, Loud Hosan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06668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1. Hosanna, loud hosanna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little children sang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rough pillared court and templ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lovely anthem rang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800" y="792000"/>
            <a:ext cx="786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anette Threlfall, 1873 (Mt. 21:8-9; Mk. 11:8-10; Jn. 12:12-13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de on in lowly st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scorned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ttle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 on his bidding wa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Hosanna in the highest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ncient song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Christ is our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y we ever praise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and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his blissful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ly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sanna, Loud Hosan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3716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Hosanna, loud hosanna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little children sa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pillared court and templ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lovely anthem ra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800" y="792000"/>
            <a:ext cx="786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anette Threlfall, 1873 (Mt. 21:8-9; Mk. 11:8-10; Jn. 12:12-13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, who had blessed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folded to his br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ildren sa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implest and the b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rom Olivet they follow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d an exultant crow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 p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anch wa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anting clear and lo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earth and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de on in lowly st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scorned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ttle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 on his bidding wa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Hosanna in the highest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ncient song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Christ is our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heaven 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y we ever praise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and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his blissful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ly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9200"/>
            <a:ext cx="91440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o Jesus, who had blessed them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close folded to his breast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children sang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ir praise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simplest and the best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92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2. From Olivet they followed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mid an exultant crowd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victor palm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branch waving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chanting clear and loud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76320"/>
            <a:ext cx="91440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e Lord of earth and heaven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rode on in lowly stat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nor scorned that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little children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should on his bidding wait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45720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“Hosanna in the highest!”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at ancient song we s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Christ is our Redeem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Lord of heaven our King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1096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may we ever praise hi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heart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ife and voic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in his blissful presen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ternally rejoic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sanna, Loud Hosan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osanna, loud hosann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ttle children sa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pillared cou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m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ly anthem ra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280" y="1066680"/>
            <a:ext cx="786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anette Threlfall, 1873 (Mt. 21:8-9; Mk. 11:8-10; Jn. 12:12-13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, who h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e folded to his br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ildren sa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implest and the b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rom Olivet they follow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d an exultant crow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 p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anch wa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anting clear and lo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4-16T15:39:38Z</dcterms:modified>
  <cp:revision>37</cp:revision>
  <dc:subject/>
  <dc:title>PowerPoint Presentation</dc:title>
</cp:coreProperties>
</file>