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050B-C4F4-4EE7-8B58-914CBE98B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0426-DD1C-424E-BA55-4118AA3C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763A-6908-4AA0-9E39-0B7DE6593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56AA-870F-4B8E-B0F0-58CA8E91C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9CC1-AD59-42D6-AAE6-B30B56F3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409C-7620-41C6-9715-C9C691E9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4322-5F2C-4314-A4AE-51C96F4B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7A9C-7494-4381-96A2-34FB0799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32B5-0E1B-45C7-B1C0-613715DD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2DEF-4F01-4CC2-BD7F-43A303BF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B375-F2BB-4197-9008-85D70757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8AAD-1284-464C-A789-A8A5B593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3630-EB0D-438C-B0F4-EBB9C92DE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My Hope Is Firmly Groun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76520"/>
            <a:ext cx="9144000" cy="490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All my hope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rmly groun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great and living L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, when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most need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ver fails to keep his word.</a:t>
            </a:r>
            <a:br>
              <a:rPr sz="50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© 1986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My Hope Is Firmly Ground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26880" y="1066680"/>
            <a:ext cx="66898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Joachim Neander, 1680; trans. by Fred Pratt Green, 198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 mu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lly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the 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od and ju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ell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can trust our nat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uman, wea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secur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of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iry castl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the hurricane endur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My Hope Is Firmly Ground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ild on s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ught can st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our earth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sdom plann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But in ev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me and sea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t of lov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undant st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susta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hole cre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unt of life for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My Hope Is Firmly Ground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ho sh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and a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nt on Go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failing c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ank, O than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great Creat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u God’s only Son this d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al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avenly pot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us out of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and cl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My Hope Is Firmly Ground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ick to he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ong in de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shall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eople f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56:47Z</dcterms:modified>
  <cp:revision>51</cp:revision>
  <dc:subject/>
  <dc:title>PowerPoint Presentation</dc:title>
</cp:coreProperties>
</file>