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178-70E7-41C0-9B9F-A530A9FC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201-131C-4A7F-98D5-3CA92019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8FC-F7F2-4A95-8F2E-26CC0055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92A-83AD-4395-91EB-CC06F089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B143-2971-4374-9DD8-345A0580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454B-65F4-44DA-B93A-BCF2D16B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E9CA-757F-4485-ABCA-92A9F742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DDB2-F9BB-45DA-97E9-0ADD4711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9DA3-B3B4-428D-BEF5-DDF5AE3E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486E-989B-4608-A36F-A19AAB15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6317-E93B-467C-9290-3594DCCC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B84-3680-4E58-A152-0BB82B6E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4088-EE0E-4DCA-BDE7-48B583A1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377F-A6FC-4EDF-AF68-5370DE13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46D9-F59E-438F-8673-69E7EF7F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B273-422C-4071-9E14-C091DE5B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3542-845E-474E-89B3-903A379A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E2D-C3BC-47DF-BF52-3B098535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4C7-5AD9-4027-9F17-25322BB4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3D1-CCC3-4068-8099-36C96130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25F-2151-43C0-8387-BFA74A5D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98F-DA34-43BC-8E5F-6C229D57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5EA-ED7A-43EC-A641-92552D8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278-F719-4CFE-B8D0-7521B39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2C94-F648-4198-996C-DE19D850D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5A13-9D2C-40B7-A258-C1A6F9D37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Little Light of M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Mt. 5:14-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Little Light of M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080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is little light of m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r>
              <a:rPr b="1" lang="es-MX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Mt. 5:14-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27T20:34:34Z</dcterms:modified>
  <cp:revision>91</cp:revision>
  <dc:subject/>
  <dc:title>PowerPoint Presentation</dc:title>
</cp:coreProperties>
</file>