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4B6A-E757-4109-99E8-A938670AF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EC2A-1DF3-4059-A4B0-D61C55BD8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A096-81C1-474A-B93D-E6EA2BC32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C5E9-AD81-4F47-B317-69CFADCAA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991E-4702-41D2-AB8F-1459953CE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CD34-47EC-4C19-AE94-D10F25B72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E931-04A0-42AE-B1D8-050A2A704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9969-4602-41F1-BEB1-F28D69957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8CDA-B579-4DC3-8444-247D7D668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76B6-D270-4843-9FC8-9A96BE05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5BC1-4E42-4726-BEE4-3DE4E08D6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AB86-388A-4410-B305-B82093EE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37693-CB91-4612-8149-775EEB2621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esus, Remember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8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711440"/>
            <a:ext cx="9144000" cy="457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Jesus, remember m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hen you com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nto your kingdom.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Jesus, remember m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hen you com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nto your kingdom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Remember 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33240" y="990720"/>
            <a:ext cx="25124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Luke 23:4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20:51Z</dcterms:modified>
  <cp:revision>31</cp:revision>
  <dc:subject/>
  <dc:title>PowerPoint Presentation</dc:title>
</cp:coreProperties>
</file>