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84B-07F6-4AB9-9A77-AE91D1C0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C11-DD81-4EA3-9187-92B778C9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021-35A9-480E-8A95-FD46D15F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2F0-F8DD-4976-9135-DC4A7C7D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6D9-0E39-4CAE-9D5C-C3D1E4A7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90C-0E05-4A8E-BDB7-8CAE46EC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07FA-D86B-4B42-BA6C-1404C1D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176-BE30-48A4-8F52-5997F0D8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A3A-9ED4-412D-A93A-0B8C8DE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DB8-69C7-4290-AE6C-39CF30B6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D11-2DF2-4A80-AFBE-5B4592A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8A7-0D79-4527-9B9B-BFBDC96C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EA89-7DEF-4F21-A8D2-6BA612B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DA1E-305F-4F76-9CB7-4DEE322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ED7A-6C83-4391-B979-6B5B97F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927-ED8F-4E3A-9D06-0E9A03BF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C6F6-608C-44ED-A3AB-343C3A8E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442E-2CC4-40D7-8121-A6D406D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9BC-E063-4EA3-8334-10AC1108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60B-92A1-4236-ACC1-BACE061F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E93-ED3A-4416-8B70-55F3CD0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CB4-0F79-4B62-BD34-595D974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D3D-CD9F-494F-AA0C-20ED2F4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B35-DBA0-4E88-B706-B65CBBED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9E8-C592-40E8-8287-D7E1768AF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29FE-C1E4-4BB3-BEDE-4F02F570F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0885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lfred H. Ackley, 19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3, renewed 1961 The Rodeheaver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I serve a risen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’s in the world tod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 he is li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ever foes may s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7760" y="38088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0016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32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0440" y="1482840"/>
            <a:ext cx="6781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52280"/>
            <a:ext cx="8915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other is so lo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52280"/>
            <a:ext cx="91440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alks with me and talks with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522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aroun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his loving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gh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never will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is l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tormy bl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com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e lives)</a:t>
            </a:r>
            <a:br>
              <a:rPr sz="32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5T00:10:41Z</dcterms:modified>
  <cp:revision>67</cp:revision>
  <dc:subject/>
  <dc:title>PowerPoint Presentation</dc:title>
</cp:coreProperties>
</file>