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9CA-92FF-4064-9515-D92C4D4C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AFB-75A1-4C0D-B603-6D3B73FB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E02-700E-421E-95FB-FE0D2D81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F30-9506-4CDC-BE30-2E19150C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2B1-D83C-43F6-A0EB-74324B0A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8A6-821A-4782-BC4F-228FE6C8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881-DD99-4E5D-82CB-7E89F54D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CC8-64A9-42A3-8A6E-D115EE24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ADA-043E-4BD2-B7A2-A9E30EEE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968-FCA0-4EE2-84BE-A9AA5B9C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05D-55CD-4590-AD66-A0E4DF03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27E-4DA1-441D-99B6-903B50F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C439-5701-46A5-B580-598B2D7AE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k Forth, O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auteous Heavenly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4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reak forth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eauteous heavenly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usher in the morn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st. 2, 3 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8520" y="171468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ann Rist, 1641; st. 1 trans. by John Troutbeck, ca. 1885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s. 2, 3 by Fred Pratt Green, 1986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is be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 life st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all who see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fi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you the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, and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all your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time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conqu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l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us,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not with aff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’s w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child,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k in infan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joy shal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w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tan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m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is night of wo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ight of j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born the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ighty to destro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i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each 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could he qu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ly st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uch a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reed and hat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ili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cur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’s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dearest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to 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v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b behind you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7:07Z</dcterms:modified>
  <cp:revision>68</cp:revision>
  <dc:subject/>
  <dc:title>PowerPoint Presentation</dc:title>
</cp:coreProperties>
</file>