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A37-AD19-4EA7-9929-2603A4A0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8F5-5D9B-4504-B11A-46F6458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0CD-18A7-4F52-9B7A-8FCF4235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F09-A364-4B13-A190-7FA7B589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98D-C0CE-402E-9198-6B48E35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30C-DB45-4756-9D2D-934FA54F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8E3-2EF3-4704-85AE-6440922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668-C035-454E-AD46-25B382C2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122-2051-49F3-916A-E7BA495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457-8585-454F-99EF-D6ABDD3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DB4-EE25-4551-A933-EA21136D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68B-00E0-46EF-B9FF-4571D03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D9C8-CB37-47F8-ACB8-0EC0A56D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da la Tierr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All Earth Is Wa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75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2000" y="156204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52Z</dcterms:modified>
  <cp:revision>57</cp:revision>
  <dc:subject/>
  <dc:title>PowerPoint Presentation</dc:title>
</cp:coreProperties>
</file>