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3EA-FA3E-428D-ACE1-0915AE8B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7BD-E54F-4FD6-9645-40E6457F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202-73E8-4B90-86BC-D8767785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B74-D66E-4463-B478-7ABDF844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940-9CE5-469A-8F6B-CA791BA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244-D3AF-4B5A-9119-2D3EB3C1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83A-49E8-4880-B025-FACDC49E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7A9-4618-4E12-B54A-862B165B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A12-0A43-4D09-9483-F6D51A5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397-CB7C-4E1B-97ED-F08038F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C0F-3C82-44B2-97D2-21C963E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47A-BCBB-4653-B1FE-241DACF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D68A-2950-49CE-9D4F-218706394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read of Lif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I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bread of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is broke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drank the c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Golgoth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Timothy Tingfang Lew, 1936; trans. by Walter Reginald Oxenham Taylor, 1943;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phonetic transcription from the Chinese by I-to Loh, 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grace we tr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read with rever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holy f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us rememb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ly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eek thy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distre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people’s gr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holy fac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ined with bitter tear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uman pain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rest thou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we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thou 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en our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ghtly app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joy un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fe with t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bl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Jiu shi zhi she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wei zhong-sheng boka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Zai Gu-lou d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tong in ku-bei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i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Meng en xin-zhong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feng ming chang ji-nia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Jing she sheng-yan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zhui-i dang ni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3:49Z</dcterms:modified>
  <cp:revision>134</cp:revision>
  <dc:subject/>
  <dc:title>PowerPoint Presentation</dc:title>
</cp:coreProperties>
</file>