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288-4AE0-434B-8355-742D9327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DE6-1E78-4B9B-956C-C59FE73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812-0782-47F8-91C2-D216AA27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880-E37E-4CC6-9626-C3F1B0A7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C50-7ADC-4CE6-B17C-86B2638E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610-1F33-4EF4-A481-4D967C19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256-BEA4-4B16-9229-2EB096B7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EB6-2645-4F7B-9BC9-C98C008A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E87-A666-4A5D-B5A4-5990BCB4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CC5-3C0F-4A39-9B69-7B066F5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34C-2155-4283-BEF9-661919E3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FCE-4366-4F24-A079-EFB89F96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56D7-44B4-4945-8A6D-CE78B71A0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Satisfy the Hungr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10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Archdiocese of Philadelp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Omer Westendorf, 1977 (Jn. 6:34; 10:1-5; 1 Cor. 10:16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your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, O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elfless let u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th and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hen the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s his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know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ed his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hen you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mily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and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ful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t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ise and gratitu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at you should co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worthy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this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the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ess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o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tpour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one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af, decl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oneness i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er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tal tongue can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co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in our hearts to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ift of finest wh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to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ng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of life to e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58Z</dcterms:modified>
  <cp:revision>130</cp:revision>
  <dc:subject/>
  <dc:title>PowerPoint Presentation</dc:title>
</cp:coreProperties>
</file>