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E8E-5522-4A92-B0B9-152524F6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72E-181F-48E8-9A4D-900529AD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0C0-3B75-4EFD-9E87-1766CB3A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60C-B306-4FA7-AE47-9460EDAD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6D7-B44A-4485-A46D-59ACED14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480-ACB9-4BAB-9960-7889CE4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031-8852-4D02-8D8C-B53CDA9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80D-F4AD-4030-9DAE-D97BE99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654-CDB2-4347-9E33-A400A42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6A6-A0B5-4406-8E06-BC1B013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D35-F4C3-4C62-A9E7-5DBDBBF4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05F-CD25-43B2-B16C-5F78D79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BA39-BA83-4631-A63E-4217F8FBC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Sparrow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Wh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53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od of the spa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the wha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the swirling st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3 Jaroslav J. Vaj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720" y="14479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roslav J. Vajda, 198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1924200"/>
            <a:ext cx="602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 A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 Pra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the earthqu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st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trumpet b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S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the rain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empty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Thank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of the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prodig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d of the neigh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pruning h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Pe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God of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near at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loving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H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3:48Z</dcterms:modified>
  <cp:revision>39</cp:revision>
  <dc:subject/>
  <dc:title>PowerPoint Presentation</dc:title>
</cp:coreProperties>
</file>