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FAA-66C7-48F8-BBA1-6558A492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FF6-4EAD-4305-87CC-07684EB3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C9A-58B1-4D0A-9504-82CB2949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AE3-1876-40D0-87C3-BF1A4847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1F6D-A723-48A4-9595-47BF991E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6F9F-6A13-4365-93C4-D10C1DC8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FEC2-C78D-4174-95F1-F9909B91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8485-5766-41AF-BD7D-7232D287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65B0-7621-487F-966C-3422B2F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9E0C-C85F-4B73-8E26-BB19FBEF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297C-D48D-488B-AAE5-3A5E9110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9C1-DBB9-436A-825E-06B265B1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7CCB-B15A-42DF-962A-353411A8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113A-4738-4083-B29A-2A5DFE42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D284-FFFC-4F53-8B4F-2DDE212C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560A-926D-4718-808B-3252E067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7B52-3A98-4C89-AD3A-57F18A08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659-5868-487E-BEC0-A5030363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064-E6E9-48F6-9600-32110C16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22F-7F9C-4C1D-93E8-3C208F8E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294-BF70-4B57-BF11-03A5B585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13E7-EB05-484E-B688-53B8C43E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3CA-A351-4A51-872E-B4A9007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0A6-3CA9-4A85-8388-391BC222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275E-D393-4E6E-BF08-DA885E79F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4F14-4D96-45DE-87B4-85592796C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Let Us fr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Table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let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able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in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, and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Kaan, 19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rist we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lfles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mad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inds al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read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eech and d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ep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ope and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each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use with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 of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an to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allen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Let Us fromThis Table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371600"/>
            <a:ext cx="9144000" cy="31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let us from this table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in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, and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2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Kaan, 19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rist we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lfles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mad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inds al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read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eech and d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rist we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lfles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mad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ep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ope and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each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use with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 of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an to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allen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inds al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read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eech and d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ep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ope and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each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use with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 of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an to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allen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Let Us fromThis Table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1600"/>
            <a:ext cx="9144000" cy="31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let us from this table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in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, and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Kaan, 19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4-05T15:35:03Z</dcterms:modified>
  <cp:revision>137</cp:revision>
  <dc:subject/>
  <dc:title>PowerPoint Presentation</dc:title>
</cp:coreProperties>
</file>