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F4F-926D-47EC-B527-57370842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64F-2F27-4ACD-903D-2A42E11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F49-2AF1-441D-9E96-79C1387F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248-892A-44A2-980E-8E15A02D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A8F-AF97-4470-9C66-84FC24E5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0FB-0E0A-4268-822A-2F3C2CC1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C03-F537-42B4-96B3-1E5380A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73A-1800-4D3C-979A-7E65F2A1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1D2-D43F-4FFE-8C7B-B7401776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2A5-BCD8-4A82-B229-C916031F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54B-41B8-4B14-B230-734B77B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CD4-261A-4DB4-9F73-5C40CB4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D769-1B84-4616-8B67-94886CC00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fficiency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fficiency of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Juliana of Norwich, England, 15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, of your goodness g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e yourself; for you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for me. I can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roperly ask anything l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worthy of you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05740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I were to ask less, I shou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ways be in want. In you al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I have all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6:54Z</dcterms:modified>
  <cp:revision>158</cp:revision>
  <dc:subject/>
  <dc:title>PowerPoint Presentation</dc:title>
</cp:coreProperties>
</file>