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D996-9E5B-47BB-887D-F2C1F379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DF03-020A-4B23-9398-65D3C2D9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9BB2-05E6-4E56-9F55-759A8EC3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0401-C5E9-4783-9AEE-02579B56E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D8D2-FEB6-4543-BD94-79951649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77C9-6BD5-4B7A-8BA7-A7BFAAAA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9809-FDF9-4EC2-AE12-6E81A301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D207-2415-48F9-9726-1A1CFC88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1FF5-43E2-4A48-A358-EB30C15F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B14-15A5-4FCB-9B29-7E828865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D036-39B0-42D7-A36F-1ECF3129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30CB-D056-496B-85AC-1D539A5E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5B74-C11A-4876-BCFF-DF89C4EBF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ncerning the Scriptures</a:t>
            </a:r>
            <a:br>
              <a:rPr sz="4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981080"/>
            <a:ext cx="8534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Blessed Lord, you have cause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ll holy Scriptures to be written for our learning. Grant us so 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o hear them, read, mark, learn,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nd inwardly digest them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rning the Scrip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455760"/>
            <a:ext cx="86104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we may embrac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r 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hold fast the blessed hope of everlasting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life,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you have given us in our Savior Jesus Christ, who lives and reigns with you and the Holy Spirit, One God, forever and 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7:16Z</dcterms:modified>
  <cp:revision>14</cp:revision>
  <dc:subject/>
  <dc:title>PowerPoint Presentation</dc:title>
</cp:coreProperties>
</file>