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53FB-A668-4A20-B983-28A0C419B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7274-CDC8-4862-BC06-BB6EECFD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6774-EE24-4E00-A0B4-ECEA4EE0B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BF67-C775-4CCB-A73F-79CFC20C9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0978-02E2-41DA-A423-3AE08646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5832-23A0-4065-B3EA-3E558816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19DA-B4A6-4A96-8CE4-05FD870F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66A0-A933-41BC-A9D7-E2907E32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EE6E-E980-4091-8A76-6F4C702E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B1E7-5715-4415-B6A8-B3A69167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99AF-E4F9-401B-9E9A-1F47F8E7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CF66-C6B5-4748-8896-5AF459A0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4741-48FF-4119-AE11-72CE86B18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Be with You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ill We Meet Ag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7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is counsels guide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hold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97920" y="1700280"/>
            <a:ext cx="35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eremiah E. Rankin, 188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is sh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curely fold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th his w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curely hide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ily mann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provide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life’s peri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ck confound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t his a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failing round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ep love’s bann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oating o’er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mite death’s threate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ve before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55:05Z</dcterms:modified>
  <cp:revision>13</cp:revision>
  <dc:subject/>
  <dc:title>PowerPoint Presentation</dc:title>
</cp:coreProperties>
</file>