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61D-A7D5-4679-8240-71EE7C58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DE2-3B8A-4C47-8E96-61A1B949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428-0CDF-43E5-920A-737FC2D6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0B6-AEB9-4365-A94E-7C5A3B51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FD9-8701-4CE5-BEF0-A78530DF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BC7-D406-4B6B-A7BD-E41B6C03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F03-46B0-4D91-AAF9-A76D6569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9A4-5E9C-4FE5-BEA1-DED4E0EE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80E-2550-48BD-A849-64BA9C4B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B09-27F7-409D-8852-7B445D4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EF6-9240-4264-B802-C332054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C60-94F7-4DD4-8AE2-DB3CC77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FCFB-CD89-4CEA-825A-E831733FA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ose Who Mo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ose Who M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urence Hull Stookey, USA, 20th cent. (Jn. 11:35; Mt. 5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905120"/>
            <a:ext cx="8610480" cy="45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s your Son wept with Mar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Martha at the tom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Lazar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look with compassion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ose who grie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[especially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Name(s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]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Grant them the assuran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your presence now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and faith in you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eternal goo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n them may b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ulfilled the prom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at those who mour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shall be comforted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9:51Z</dcterms:modified>
  <cp:revision>153</cp:revision>
  <dc:subject/>
  <dc:title>PowerPoint Presentation</dc:title>
</cp:coreProperties>
</file>