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EE5-1D29-4C74-BB0F-6767A66B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97A-F5DA-4117-A811-3C599758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3B6-8274-4596-BBE6-4A590CEA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FA1-B15F-4C55-A0D9-76D99722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526-CBEE-427A-BC12-2940FA50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033-D0E8-43EA-9218-8ED65B2E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09F-0D02-435F-B030-CD95CBCD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5DC-A11D-423F-AE01-9E663A77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0EB-2DA1-4926-B5A1-2D91BEF6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25E-CFE1-4D72-8CC1-747D0E60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0F9-63B0-4E43-B09F-75A48171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BF2-043C-4468-AC02-E035B041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7752-D88C-4AB7-BE96-99465B8B3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 How Gre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Flame Aspi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See how grea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flame aspire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indled by a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ark of grac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4320" y="1676520"/>
            <a:ext cx="646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Lk. 12:49; 1 Kg. 18:44-45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th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glorif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de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alon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hath wrou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thy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of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who sp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from na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aw ye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loud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a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an ha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t spr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gs o’e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irst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sh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ops al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shortly p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fi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s the kingdo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 blaz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ing fir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e c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led in 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it i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at all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tch the 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art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blis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he fir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k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all and fee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his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Word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ftly r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t wi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widening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and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spreads and g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vai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’s strongho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now o’erth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kes the tremb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avior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e do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opened w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18Z</dcterms:modified>
  <cp:revision>14</cp:revision>
  <dc:subject/>
  <dc:title>PowerPoint Presentation</dc:title>
</cp:coreProperties>
</file>