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60D9-753B-482A-A809-E1258964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B9F4-3D47-41C8-9188-CDEA2086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64F2-DC50-494D-8D8C-56FB8422F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B70A-4C41-44EB-9B0A-3A86E3336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8C33-ECA2-43FD-B2C7-B8349DC9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D464-A495-4799-8BFB-D4A4F34C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B4A9-BD7F-4F0F-B7FF-7459CB4A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F1EC-AB1E-4CCA-B29C-8F18F58E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9D3C-359D-4740-BE04-B08892FD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8C0A-D244-4702-99A8-6D898CC4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2C79-1DFC-4878-9213-6C106A62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C0FE-4D1E-4F64-9185-402CA2A9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D057-135B-460D-9612-2AC4ECC14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Our Coun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676520"/>
            <a:ext cx="883908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od, keep our country und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protection.  Wipe out s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is land; lift it up fr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depth of sorrow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r shining l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50 by Harper &amp; Brot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Our Coun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53760" y="990720"/>
            <a:ext cx="427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Toyohiko Kagawa, Japan, 20th c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ve us from deep grief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isfortune, Lord of all nation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ess us with your wisdo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that the poor may not b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ppressed and the rich m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t be oppresso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1919160"/>
            <a:ext cx="87631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 this a nation having n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uler except God, a na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ving no authority but th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Love.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9:49Z</dcterms:modified>
  <cp:revision>14</cp:revision>
  <dc:subject/>
  <dc:title>PowerPoint Presentation</dc:title>
</cp:coreProperties>
</file>