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A68-96F7-4F84-BA5B-01AD7FE9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CC8-1EC2-43E1-AD3C-CEF34C9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BA9-2C7B-4326-B22A-09C4E381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9D2-25DE-4734-8EF4-B68EF81E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8A6-F3CB-4AEB-9C42-9B51A49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27D-BD2A-4851-86E4-46D0694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913-4BB0-4E46-A6E8-904B5EF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F6C-60B3-4DAB-9312-7FCFDA8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229-006E-4875-976E-8AEE6D7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30D-A8D3-4C76-AA2F-9F9E435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EE0-A771-41F2-8C07-2784F8F0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DA7-3F27-4786-A193-5498BEB4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53A4-BE46-4B98-BE68-24DE67ED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Seek the L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o now is present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ray to One who is at hand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ease from sinning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ildoers change their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1520" y="91440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86 (Is. 55:6-11)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 sinful God has pit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se return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forgive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w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rd is sa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a world that dis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“Judge me no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human standards!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s the vault of heaven soa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igh above th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th, so high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my thoughts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ys than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 how rain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now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 earth bloss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ear fru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ing you, before retu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d for sow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d to ea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208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“So my wor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turns not fruitless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oes not from it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bors cea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ill it ha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chieved my purpos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a world of joy and pea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close the proph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at vit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spel word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Isaiah’s inspirat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is Jes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have hea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4:18Z</dcterms:modified>
  <cp:revision>40</cp:revision>
  <dc:subject/>
  <dc:title>PowerPoint Presentation</dc:title>
</cp:coreProperties>
</file>