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2BC-B228-4476-B515-0AD51FD3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51C-853F-4315-A9A5-14F68998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C7E-57A8-44EF-BB38-58928248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C40-C109-4AF1-88E8-FAA4B88E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ECC-17F5-42B7-9765-5D15E838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2AF-B264-4291-A6F1-328630FC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E12-DABC-4384-8EFD-BF17603B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FFA-4635-4D1B-B96B-1EA1EE41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E6E-0F31-44AF-BC76-8C23E7F3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608-B3A0-42BF-9DDC-43A10ADF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503-BB83-42B8-9845-D8733BED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1E2-316B-4A5C-ABE5-A12460B5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56DF-00E1-44D0-986B-E2CE18FD2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Would Se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would see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his star is sh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s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angels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3120" y="1092240"/>
            <a:ext cx="33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. Edgar Parks, 19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ea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ce scor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we ar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ive ourselve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n a m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hay recli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te, let us lay our gifts 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would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y’s son most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the vill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from day to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revealed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task most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rist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fe, the truth,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would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mountain teac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the lis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ople gathered 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birds and flow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k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are prea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essednes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mple trust ha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would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work of hea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event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sun was se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vine and hu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deep rev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made fles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oving service m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would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early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as of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lleth, “Follow m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9:49Z</dcterms:modified>
  <cp:revision>13</cp:revision>
  <dc:subject/>
  <dc:title>PowerPoint Presentation</dc:title>
</cp:coreProperties>
</file>