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A695-F7BD-417F-8E62-844F729A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8909-06E5-4BB6-A07B-F5BBBBC2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F3E7-AF07-4C98-8DFC-240A493C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31A6-681D-4124-A5D0-B3EE06E5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5E40-D369-406C-BFB1-21E367F3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A7BB-8EF8-4543-9E8C-385565BD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47D5-5965-4A05-AAD8-A5BF6AEF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000C-8A1E-4C66-B329-03AB6231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D406-5F95-4113-8EC7-EEA870BB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C745-87A4-42D8-AA33-6E2659A6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B134-D82F-481B-83B2-B078B173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E5AF-D73A-45D9-8D41-DCEBDBE1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78F8-2D74-4373-A0EF-E82B9B6BE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as! and Di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Savior Bl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las! and d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avior bl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id my Sovereign die?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20" y="1600200"/>
            <a:ext cx="726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Isaac Watts, 1707; refrain by Ralph E. Hudson, 188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God, the 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r,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is own creature’s s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ross, at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I first saw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as there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ceived m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all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us might I h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blushing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his d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ss appear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solve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ank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lt m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yes to tea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ross, at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I first saw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as there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ceived m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all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But drops of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ne’er rep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ebt of love I ow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, Lord, I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elf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tis all that I can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ross, at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I first saw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uld he devo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acred h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inners such as I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as there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ceived m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all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ross, at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I first saw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as there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ceived m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all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as it for crim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have 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groane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tr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azing pit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unknow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beyond degr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ross, at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I first saw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as there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ceived m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all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ll might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arkness h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ut its glories 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31:59Z</dcterms:modified>
  <cp:revision>8</cp:revision>
  <dc:subject/>
  <dc:title>PowerPoint Presentation</dc:title>
</cp:coreProperties>
</file>