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9A0E-2531-4631-A8B4-8829FCEBC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6D6A-3987-446E-9530-5226F560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4684-C03D-4257-B3FE-D9EF13011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DFDD-9261-4F89-855E-A8D79550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4A86-D617-4E02-989A-8A5502F4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5E12-EC0E-4E5A-847E-80B71892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E3BA-E42F-42A0-8740-C8EC5039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F201-5A9E-441A-A788-20BCBD56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655B-C6D0-4119-A215-5EAB1180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2339-AB61-497F-81CB-D5FEEE5D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4311-A50E-48CA-AC0C-8B52D7FC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2D06-2598-482C-9752-C092DD71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E6AE-EB89-40F5-B107-8F7E3C83E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Who Love an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erve Your 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Who Love and Serve Your Ci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Erik Routley, 1966 (Lk. 19:41; Ezk. 48:3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All who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erve your ci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who b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s daily stres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69 by Galliard,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to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Judge, our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its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The Lord is ther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8915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ho cry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peace and just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ho cur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who bless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Who Love and Serve Your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n your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loss and sor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your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helpless strif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nor,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retrea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is your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Who Love and Serve Your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In your day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alth and plen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sted wor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asted pl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l to mind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Work ye y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it is day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Who Love and Serve Your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For all d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days of judgm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waiting sti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rawing near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who spur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fering peace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lvary’s h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Who Love and Serve Your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Risen Lord,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t the c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the c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despair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11:47Z</dcterms:modified>
  <cp:revision>143</cp:revision>
  <dc:subject/>
  <dc:title>PowerPoint Presentation</dc:title>
</cp:coreProperties>
</file>