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875-E83A-42EA-A050-8F2271B7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7AA5-1EC7-4237-98A3-F67B5F8B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E4F-B83A-41DA-BB57-6E1EEA3A2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B106-E8F4-433B-A67D-AAB99DC9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A51-D9A6-4C67-A7D2-0D707BAA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FCD3-596E-408B-8B20-53D144191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D7C-BC12-4B75-BC25-DE652D3F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A54-9866-41DE-99CD-338A36BA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5F9C-ABCC-42A6-AD37-810A7386B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789B-79A6-40EE-B2A9-CFE7EC4A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7551-F295-45D1-9666-C97863BB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A5C6-88DB-450D-9F4C-F3BFA820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5E1-CA9A-44F1-9917-C32FBCFDD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965-2BA8-493F-A9B2-0921E2C5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924-B20B-4AA7-A23E-2E05E322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B9E1-677F-48D4-8BC0-37344BA7A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369-AAB4-4B86-BC1D-7F924173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C21-3D3C-4C7D-8EF3-98612A9F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26D-856F-4F75-AD62-E1E736A2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C93-65DE-41F8-88C3-F61CB7BC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43F-EFDC-4D4D-966F-E4F3FD9B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0918-2600-433A-B8A5-7CCC5F9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E28-61EF-44BF-A1D6-03FBDE18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E833-B344-40D0-934E-4597E857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121B-37E8-47DB-83F4-0347CBE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D7C-D75E-435F-BD06-1D7DCF1A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550-2E46-4855-B3D9-D8922AD9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3AB4-6A75-44B7-A97D-6480AE6F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29C-D82E-46AB-BD1C-087A0F3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F8A3-8B78-4D6A-AF20-1CDE4E7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C6C0-0D24-425B-9E40-ED683C5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7AB-1BAA-4010-BCD1-177822A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9D7F-8E40-4E6E-9C12-6D390802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C5F-851B-4756-8BFE-8FA5A18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1A5-B98F-443F-823D-E63733CF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4DB-2FFD-4806-878E-BAA625AD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19A-3C14-46D6-AAA5-31C107C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85D-875C-4C8D-B84F-4854BBA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772-B02F-4DD1-964E-D32D0B3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EB9-B730-4394-8BE1-201B864C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C37-58C4-482F-B850-95354B77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A7AF-7B16-42F8-8E4B-EEA92A1AD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B3E-9E54-4281-BF3B-FE8A45D3E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nt Forth b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205740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t fort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ue faith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dwelling take lea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rvice is end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now be extend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uits of our worship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who believ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of the t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receptive souls reach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blossom in ac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and for 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ace did invite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ve shall unite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work f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kingd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 the call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ever li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sk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day life we will fac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457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ur faith ever sh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ve ever ca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mbracing God’s childr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each tribe and rac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 feed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light now lea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e us as one in t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we shar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824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n may all the l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nksgiv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onor to Chri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we bear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rvice i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ow be ext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uits of our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ho belie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eed of the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ptive souls 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lossom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and for 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did inv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shall unit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k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nswer the cal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eve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we will f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ith ever sh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ever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ing God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ch tribe and 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light now lea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us as 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 we sha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may all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honor to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ea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ent Forth by God’s Bless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6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685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Omer Westendorf, 196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orth 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bl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ur true faith confes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of Go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is dwelling take leav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4 World Library Publication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2:05:04Z</dcterms:modified>
  <cp:revision>157</cp:revision>
  <dc:subject/>
  <dc:title>PowerPoint Presentation</dc:title>
</cp:coreProperties>
</file>