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A7C-64A5-40A6-BE16-67E9396C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F87-C709-46D5-B933-BDE9CC5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D6D-49FF-499C-B444-67A7F90F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33E-97AB-4C36-9DA3-82D752CB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C67-7F46-4583-9118-53935A4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289-F3FF-4549-A055-14B04CC9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FCA-A6F5-49E8-9980-62F5CBC2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E57-9191-4AB1-A356-400663B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B7D-CE38-42BB-A577-0E3D63C3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138-9D37-440F-A7CD-B15E7C45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362-08BA-40EC-A7FC-B7481C9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710-6B97-4429-917E-4B4B078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6DC4-D3AE-45AD-BB96-CEF692D1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Death My Frien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Me 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If death my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nd me div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ou dost not,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my sorrow ch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or frown my tears to s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Death My Friend and Me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1080" y="160020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6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trained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ionate exc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bidst me mo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calm distr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them that 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 feel a stro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immortal hop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bears my mourn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pirit u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eneath its mountain lo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deemed from dea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grief, and pai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soon shall f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friend a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in the arms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Pass a few fleet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moments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and death the bles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shall rest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ich death has snatched awa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me thou wil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summons s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ive me bac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y parted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at eternal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09:16Z</dcterms:modified>
  <cp:revision>13</cp:revision>
  <dc:subject/>
  <dc:title>PowerPoint Presentation</dc:title>
</cp:coreProperties>
</file>