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83E4-FA21-42BB-ACE7-331118149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F243-3747-44B2-B22C-BA2B269E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623F-8D3D-4733-9871-0BDCCAC6A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28D8-E25F-452D-B42C-50DF9AC14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0C8D-6DCC-4726-A1C2-E532BDA77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477A-0686-41AF-A6F8-CE0E4BD5A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0A99-A037-4192-B029-EAC7A6D02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735D-D21D-40FE-900E-5EC736901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6A70-8535-4DB8-9790-8FBC6DF24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5077-B7FD-4C17-84CC-6572738B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626C-FB6E-4B0C-8498-65B5C343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48A2-0BBD-427C-8996-5A625B0E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48699-FC96-4257-A91A-3EBD7C3810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any and Great, O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4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Many and great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God, are thy thing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r of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k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y and Great, O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47880" y="1092240"/>
            <a:ext cx="726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oseph R. Renville, ca. 1846; para. by Philip Frazier, 1929 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(Ps. 104:24-30; Jer. 10:12, 1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hands have s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eavens with star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fingers spr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ountains and plain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, at thy w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aters were form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ep seas obey thy voi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Grant unto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munion with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star abiding 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y and Great, O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unto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dwell with 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e are f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ifts of l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ss us with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has no e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 life with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02:26Z</dcterms:modified>
  <cp:revision>8</cp:revision>
  <dc:subject/>
  <dc:title>PowerPoint Presentation</dc:title>
</cp:coreProperties>
</file>