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B8F-4608-4FE1-9CC7-9878D626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AB8-B843-4D88-984E-E49106E3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7450-3E59-420F-829E-B673F86A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376C-487A-463B-A369-431D9E32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B614-8342-4CB0-8768-FC205129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7310-AF6F-4756-BFDF-403AF28F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5C8-012D-427B-98EB-6307DFEE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56B-B116-402D-B907-51CBA197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30E-1DF5-42F4-807A-4551FBA0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7891-B036-4406-B439-2DDF24B7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19B2-A116-4C5F-8FA9-C7D04598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4114-9826-48C9-B59D-28C9637C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04EB-2984-4DC4-A660-643D8840E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I Survey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ndrous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Isaac Watts, 1707 (Gal. 6: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I surv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ndrous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which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nce of Glory di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ichest 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unt but l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our contemp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ll my pr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bid it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should bo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in the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, my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vain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harm me m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crifice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ee, from his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ands, his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row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w mingled d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d e’er such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rrow m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thorns com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rich a crow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re the whole re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nature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re an off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too sm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so amaz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mands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ife, my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4:42Z</dcterms:modified>
  <cp:revision>54</cp:revision>
  <dc:subject/>
  <dc:title>PowerPoint Presentation</dc:title>
</cp:coreProperties>
</file>