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4855-322E-4868-8553-D242A8BC0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FEDA-16B8-4EA0-A6BF-BF4B57C0D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F65B-0DD0-420F-B978-A7DCECFCF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95C4-2019-4A95-A9E9-E2F9871A3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9A87-7041-416C-8CBF-1D733F4CD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DC48-A434-490C-A7A8-CA6AC1C75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2965-43BC-4EFE-BB7B-2BC5DAB83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94F5-A04A-43F1-B241-93ECBF42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6A7C-BFBC-4860-AD0A-D7AC482C9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788D-1B7B-4555-B243-8879C8AC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9953-6888-487C-90F0-C4CB68A4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236A-168A-473F-BFCB-CE5C1096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B8722-8753-4588-AE89-D855C417AF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 Courage to Do Just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5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Courage to Do Just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83808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Alan Paton, South Africa, 20th cen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600200"/>
            <a:ext cx="8305560" cy="500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ord,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  open my eyes that I may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  see the needs of others;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  open my ears that I may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  hear their cries;</a:t>
            </a:r>
            <a:br>
              <a:rPr sz="48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8, 1982 Seabury Press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2600280"/>
            <a:ext cx="87631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pen my heart so that they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   need not be without succo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187280"/>
            <a:ext cx="88390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let me not be afraid to defe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the weak because of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anger of the strong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nor afraid to defend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the poor because of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anger of the ri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Show me where love and hop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and faith are neede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and use me to bring the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to those plac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096920"/>
            <a:ext cx="883908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And so open my eyes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and my ears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that I may this coming day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be able to do some work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of peace for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08:48Z</dcterms:modified>
  <cp:revision>150</cp:revision>
  <dc:subject/>
  <dc:title>PowerPoint Presentation</dc:title>
</cp:coreProperties>
</file>