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C38-491C-4392-A409-45E62A13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5BDF-A503-4FA5-865B-12529603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FD1-AD1D-4FBF-8D84-A1ECE200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C45-B6AC-4189-885C-CA60896D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A8D-33A9-46DD-9185-B521FA94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A2A-8141-44AA-B134-FCCDE537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328-A826-4ADE-8116-8642C63D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265-8FA0-49DF-9249-A8066AF7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6B1-8DED-40B1-9AF4-CC20C367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0F2-D425-45F9-A2F4-6B81C1D7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867-0AEA-48B9-AA90-9BE3E040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34B-8061-4C04-979C-EB144C11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4E59-A0F6-4933-A719-92796E8D3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Jesus the Heal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ed Through Gali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Jesus the heal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ed through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Stainer &amp; Bell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0440" y="1600200"/>
            <a:ext cx="33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eter D. Smith, 1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nt woman straight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augh and to shou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The twelve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issi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nt out in tw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the sick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od new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7. There’s still 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ch sic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uffering tod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ather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aling and pr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af came to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lind came t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 paralyzed man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down through a roof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ins were for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walking the proof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death of his daugh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used Jairus to weep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took her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raised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leep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blind Bartimae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ed out 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 made him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sight was restore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 lepers were hea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emons cast ou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2:09Z</dcterms:modified>
  <cp:revision>18</cp:revision>
  <dc:subject/>
  <dc:title>PowerPoint Presentation</dc:title>
</cp:coreProperties>
</file>