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AC28-3415-465F-B42C-ED43B1051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EFB8-C3D0-46C8-9C4A-B9363A3F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8E3D-07BD-4746-9E76-288AF391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8D16-CBCE-4E4C-A09F-96AF186F0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51EE-FD88-4AE6-949B-3C2629F46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42CC-2BB8-4C3B-B7E3-0FAA31E0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B7CC-DE39-4851-AD43-0AF54383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25A1-DA4F-4D2E-ABF9-C05E4F50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2F3F-723E-4DAE-943A-0239A9C6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E756-9B77-4D04-9321-33F76F6F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B1BA-4F9A-41DE-9BCC-4F3F36AF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4590-5078-45E0-8387-FEDA2CAA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BC19-48EA-4569-854B-5799858F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1DFF-CCCB-4C7D-8527-6CD89A13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7516-674B-4792-91B4-AD0CB028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0342-12AB-4EDE-887F-BA1E4E529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E3AD-7817-494B-A244-20578013F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89FE-54A8-44FD-BAAA-0E6FD043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5FC5-34ED-4A96-86AE-A374AA7B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DF55-46FA-4E8B-9090-79542208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5616-6FBE-4855-989C-9F41ECC5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6023-4518-436E-AD1A-8356DA5E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1E4D-F69E-4B2C-8A7C-A1F7E7C3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2916-A61F-44E1-AEB6-347D9AE2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86C5-BFCC-4ABE-B9EB-BEDDC7F72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DE64-664D-44B0-8DAE-CD55114D8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152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Young and Fearless Proph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828800"/>
            <a:ext cx="9144000" cy="306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1. O young and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fearless Prophet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of ancient Galilee,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Young and Fearless Prophe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5080" y="838080"/>
            <a:ext cx="3810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S. Ralph Harlow, 1931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21276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5. O young an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earless Prophe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need thy presence here, amid our prid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glor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o see thy face appear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Young and Fearless Proph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nce more to hea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y challeng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bove our noisy day,   again to lea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s forwar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long God’s holy wa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Young an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earless Proph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young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rless Proph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ncient Galil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Young and Fearless Prophe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5080" y="1600200"/>
            <a:ext cx="3810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S. Ralph Harlow, 1931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lif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a summ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rve humanit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ake our though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ct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ss pron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ase the crow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tand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mble cour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ruth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uncow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 marv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purp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eld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cours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Young and Fearless Proph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hillto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med the cros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teadfast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t forw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lov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uty sh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we betr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quick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av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52280"/>
            <a:ext cx="914400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y life is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still a summons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o serve humanity; to make our thoughts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and actions less prone to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please the crowd,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help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nd unswer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gainst war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oody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Young and Fearless Proph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hate and lu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alseh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 back Chris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s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bid fals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count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lind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is c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lifts ab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at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unity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tir up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a prot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gainst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ed for wealt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Young and Fearless Proph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others star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u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lea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k and heal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homes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ttle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y out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ck of brea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live their y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re burde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omy dread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O young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rless Proph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need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sence he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Young and Fearless Proph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id our pr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e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ce app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777960"/>
            <a:ext cx="9144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o stand with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humble courage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for truth with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hearts uncowed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ce more to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challen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our noisy 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1477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gain to l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forw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ong Go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08000"/>
            <a:ext cx="9144000" cy="57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2. We marvel at the purpose that held thee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o thy course               while ever on the hilltop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before thee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loomed the cross;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Young and Fearless Proph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52280"/>
            <a:ext cx="914400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000000"/>
                </a:solidFill>
                <a:latin typeface="Times New Roman"/>
              </a:rPr>
              <a:t>thy steadfast face</a:t>
            </a:r>
            <a:br>
              <a:rPr sz="6100"/>
            </a:br>
            <a:r>
              <a:rPr b="1" lang="en-US" sz="6100" spc="-1" strike="noStrike">
                <a:solidFill>
                  <a:srgbClr val="000000"/>
                </a:solidFill>
                <a:latin typeface="Times New Roman"/>
              </a:rPr>
              <a:t>set forward where love and duty shone,           while we betray so quickly</a:t>
            </a:r>
            <a:br>
              <a:rPr sz="6100"/>
            </a:br>
            <a:r>
              <a:rPr b="1" lang="en-US" sz="6100" spc="-1" strike="noStrike">
                <a:solidFill>
                  <a:srgbClr val="000000"/>
                </a:solidFill>
                <a:latin typeface="Times New Roman"/>
              </a:rPr>
              <a:t>and leave thee</a:t>
            </a:r>
            <a:br>
              <a:rPr sz="6100"/>
            </a:br>
            <a:r>
              <a:rPr b="1" lang="en-US" sz="6100" spc="-1" strike="noStrike">
                <a:solidFill>
                  <a:srgbClr val="000000"/>
                </a:solidFill>
                <a:latin typeface="Times New Roman"/>
              </a:rPr>
              <a:t>there alone.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. O help u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tand unswerving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gainst war’s bloody way, where hate and lus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falsehood hold back Christ’s holy sway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Young and Fearless Proph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08000"/>
            <a:ext cx="914400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forbid false love of country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at blinds us to his call, who lifts above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e nations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e unity of all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52280"/>
            <a:ext cx="9144000" cy="57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4. Stir up in us a protest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against our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greed for wealth, while others starve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and hunger and plead for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work and health;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Young and Fearless Proph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52280"/>
            <a:ext cx="914400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where homes with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little children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cry out for lack of bread, who live their years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sore burdened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beneath a gloomy dread</a:t>
            </a:r>
            <a:r>
              <a:rPr b="1" lang="en-US" sz="6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6-18T01:44:48Z</dcterms:modified>
  <cp:revision>15</cp:revision>
  <dc:subject/>
  <dc:title>PowerPoint Presentation</dc:title>
</cp:coreProperties>
</file>