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3621-EBC8-41E1-9C6F-FDF777B00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48A8-A694-443F-81D3-D64B6E91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FD73-AFBB-431C-8C1D-AC8867223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D5D2-CAA4-4D79-8C7D-A83A74843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2BB8-BC19-4671-9817-59B123F5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0823-5022-4780-A5F6-DF2A02E3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ED23-F60B-447D-8380-A6DE57B6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4033-1BE5-458A-8498-864D7016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3854-C9AD-43B5-869E-D24012B5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B769-5DAC-4A0B-AFDE-49F4F93C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BDEB-1B67-4E3E-9D14-B9AAA96F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1DE2-9CA6-4581-91BB-B536D52A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0220-876A-4209-929C-C03AD2210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give Our Sin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s We Forgiv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9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2438280"/>
            <a:ext cx="9144000" cy="409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1. “Forgive our sins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as we forgive,”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you taught us,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Lord, to pray;</a:t>
            </a:r>
            <a:endParaRPr b="1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69, 1983 Rosamond Herklots, by permission of Oxford University Pres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give Our Sins as We Forg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1887120" y="1701720"/>
            <a:ext cx="53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Rosamond E. Herklots, 1966 (Mt. 6:12)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you al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grant us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ive the words we say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ow can your pard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ach and b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unforgiving heart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give Our Sins as We Forg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broods on wro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ll not l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ld bitterness depart?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n blazing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cross revea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truth w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mly knew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give Our Sins as We Forg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at trivial deb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owed to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great our debt to you!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19810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Lord, cleanse the depth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in our sou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id resentment cease;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give Our Sins as We Forg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, bound to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onds of l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lives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ead your peace.</a:t>
            </a:r>
            <a:endParaRPr b="1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mrsnaja najafabadi</cp:lastModifiedBy>
  <dcterms:modified xsi:type="dcterms:W3CDTF">2024-03-02T20:59:18Z</dcterms:modified>
  <cp:revision>15</cp:revision>
  <dc:subject/>
  <dc:title>PowerPoint Presentation</dc:title>
</cp:coreProperties>
</file>