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EE7E-A9BD-4873-A518-D8F49E58A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7035-8071-4BFF-972A-F9CD8533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C453-AFAA-4290-9DC7-FB371FA73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BD6B-C91B-4F87-B232-EE7EE44DF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B4D7-721A-4874-8280-50124E6D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998E-0C33-4F37-96E2-5292F7D0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827A-5E6B-450B-82A7-1A6616E9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C89C-FE81-4F61-B0F0-52AD8D07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1185-17BD-4764-9901-3BC30F26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DBEE-81FD-4060-9403-8EBC32E7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5C25-2DF0-4F0B-B9E5-8B71AC2C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6A14-CF44-43C1-BD72-B35B0671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EF10-49C8-4D88-BE14-6FE74E7C6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n Jesus Came to Jord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5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464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en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e to Jord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baptized by Joh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did not come for pard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as the sinless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0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Jesus Came to Jord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0680" y="1092240"/>
            <a:ext cx="76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 Pratt Green, 1973 (Mt. 3:13-17; Mk. 1:9-11; Lk. 3:21-2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cam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re repent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all who mourn their si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peak the vital sent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which good news begi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e cam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re tempt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utmost woe and l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us and our salv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die upon the cro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Jesus Came to Jorda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whe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ve descen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him, the Son of M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idden years had e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ge of grace bega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Come, Holy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id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keep the vows we mak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very day invad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very bondage break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Jesus Came to Jorda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give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ves direc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ift we covet most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hare the resurrec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leads to Penteco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08:41Z</dcterms:modified>
  <cp:revision>10</cp:revision>
  <dc:subject/>
  <dc:title>PowerPoint Presentation</dc:title>
</cp:coreProperties>
</file>