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C46-1E48-4E58-A918-ADDC6F57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B4E-91B3-4678-AC90-9493165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D7C-9879-4911-BDB0-CFEF975A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08F-9D64-4E00-8D3F-2110150B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BA1-2629-4C4C-9C72-6640B9D4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53F-225C-4A4D-A541-0BFF902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F54-02B3-403C-9531-8A25CBE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204-0D55-40A2-AC47-DE7DFB4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87D-47E8-4FD7-8311-B2658027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A6A-3EC3-4CAD-A625-0E68DB25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947-9981-4EE5-AE1C-90A1CC2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776-C8A9-4DDB-BAD1-2A4B0F0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0324-96A3-4AE3-8956-690CEDE8E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neath the Cross of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izabeth C. Clephane, 18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nea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ain would take my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ghty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 weary land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ome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est upo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n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ontide h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 of the 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pon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ye at times can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uffered there for m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my stric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with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wonders I confe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unworthine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take, O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abiding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sk no other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face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 to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go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now no gain nor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only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lory all the cros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24T22:53:51Z</dcterms:modified>
  <cp:revision>53</cp:revision>
  <dc:subject/>
  <dc:title>PowerPoint Presentation</dc:title>
</cp:coreProperties>
</file>