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4BF-0A26-49C2-8A46-E5C1A7B4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1A7-61E0-4368-A844-C9B9846B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FA2-E805-41A3-B295-D58B7B6D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BF3-FB20-4884-90EE-BD9B357B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750-F642-4917-A366-E72247C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743-C7F4-4B17-A4F2-DF7866CC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7D8-BAFC-4A3C-8739-65755C68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5E2-6CFF-4067-A9D8-EC175277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704-AF22-454D-9EFE-92064CE0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12F-27D3-40D1-94F3-E3898448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9A1-EFE5-40F7-9B91-3853795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645-F379-489B-887D-133322A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6E1-7485-4A14-9810-D85207DF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ift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gh I may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ravest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the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insp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0960" y="1066680"/>
            <a:ext cx="513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al Hopson, 1972 (1 Cor. 13:1-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no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words are v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ounding bra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les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I may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poss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ving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 prof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t b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fit s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s strangely 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ontr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ad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nwar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every d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we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re fr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0:37Z</dcterms:modified>
  <cp:revision>23</cp:revision>
  <dc:subject/>
  <dc:title>PowerPoint Presentation</dc:title>
</cp:coreProperties>
</file>