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C96-F967-4731-94F8-A82D9F8D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82C-C02A-4413-B08A-1E066A8E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ABC-547B-42CB-9D1D-C852E2F2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507-266C-49DA-85E2-0693D5B2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93F-D95D-4716-9633-1FDE77AE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F16-4759-41BC-AC30-25597FA2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D72-F99B-4093-ACEE-6631DC71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C09-5DC2-432B-99A3-95C1D921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DF3-F768-47CA-AB2D-12BFCCF1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94D-CDA4-460A-AC11-98AE6FDB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763-6FAB-4F82-9FB8-E1CCE71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17D-88CD-4D78-A863-DAC368A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97FD-B2A3-4B46-810C-0D61770A6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All the Spirit’s Gifts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9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Of all the Spirit’s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gifts to m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I pray that I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may never ceas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learest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o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and treas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st these thre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 Spirit shows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’s the r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t from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fl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fru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e Spirit sh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f I poss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love no 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destr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ever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di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his i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gh what’s a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myste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ours on 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day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s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Go forth in peac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e go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made aw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, in a nee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like thi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8:08Z</dcterms:modified>
  <cp:revision>93</cp:revision>
  <dc:subject/>
  <dc:title>PowerPoint Presentation</dc:title>
</cp:coreProperties>
</file>