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073-97D1-400A-8FA7-9C37BECA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BD1-E98F-4F5A-BEE8-4F2B4B53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4E6-3C32-4F15-825A-170C344D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817-0F96-4D45-9231-EF13900D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0FE-E825-4E54-852C-BFAD5F5C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417-94F9-4E1F-AF4B-13116806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093-60A6-4043-9F06-E15C81A3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B1C-B8CC-46D1-8344-EBD73A83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155-F3BA-49CA-91EB-90FD3138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0EA-3A3D-4178-91B8-9B730633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1D1-0F69-43A1-B3D1-4882280A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A3C-8304-4B0B-8298-930556F4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E146-41BD-4E33-8695-FB899A189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aya Ho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Victory Hym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588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onetic transcription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1840" y="1461960"/>
            <a:ext cx="688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on. Hindi; trans. by Katherine R. Rohrbough, 1958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honetic transcription from the Hindi by I-to Loh,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43828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14300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129528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82880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981080"/>
            <a:ext cx="9144000" cy="269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come before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 Great and Hol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reat and Ho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752480"/>
            <a:ext cx="9144000" cy="277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ow our head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, Great and Ho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reat and Ho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447920"/>
            <a:ext cx="89154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w at thy feet 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bow in quiet rever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en sing thy prais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evermore repeating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219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3302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60020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523880"/>
            <a:ext cx="8915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95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288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676520"/>
            <a:ext cx="914400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let us see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rant us a 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us a 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600200"/>
            <a:ext cx="914400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s and denial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ar Lord, 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ar Lord, 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6765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us and keep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in thy strong protectio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safe in thy refug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we will sing thy prais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5120" y="1143000"/>
            <a:ext cx="86788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6002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52388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1600200"/>
            <a:ext cx="8915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175248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716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524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272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re sana muk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ham hain 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Ham hain a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277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 ra no may h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sha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sha 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m hain gat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m hain g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143000"/>
            <a:ext cx="8915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3716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7:13Z</dcterms:modified>
  <cp:revision>21</cp:revision>
  <dc:subject/>
  <dc:title>PowerPoint Presentation</dc:title>
</cp:coreProperties>
</file>