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F5B-3485-40A8-B7FB-A92DF4A1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6A8-02EE-4CC3-B496-ADAF7624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A3D-96BE-49DA-B7A7-CC543921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011-9827-4AAB-905E-996EB6D0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006-2A5F-4C8F-9ECC-18C4E63B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D0A-56F6-4F2C-9DC6-0012101A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E9A-C497-4642-9176-027D9274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51C-2731-4404-AE16-35E5D229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16A-9C12-4A9B-A435-A45C602E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EF9-3ED1-47E1-9734-F110B4A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A16-18BC-4907-BA6B-339AE805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355-A7EB-4C2B-B331-CA604F5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8B1B-A2DD-4896-BE61-06F8CA7CD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 Church of God, Uni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4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752480"/>
            <a:ext cx="910764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hurch of God, uni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erve one common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o all one messag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s in glad accor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9144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rederick B. Morley, 1953 (Acts 2:5-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ever goes befor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tro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ger footst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the upward w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every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rdered ranks app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liant lea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me from far and nea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hant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onf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praise one living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ac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 depen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his saving wor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gh cr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ngues may di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of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y loving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one people b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may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leness of 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 to al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redeeming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ay thy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be answ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all b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ve uni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, God’s blessed Son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a single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hwa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ul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pe in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ind the one true ligh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3808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ever goes before u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 follow day by d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trong a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ager footstep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long the upward way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-316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From every l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tio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ordered ranks appea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erve one valiant lead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ome from far and near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hant thei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e confessio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praise one living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place thei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ure depende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pon his saving wor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gh creed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ngues may diff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peak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 Christ, of the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hy loving spiri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one people b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3049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may 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aithful servi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leness of ai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o all the pow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redeeming name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824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May thy grea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be answer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may all be 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boun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 uni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e, God’s blessed Son: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54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o bring a single witness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pathway bright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ouls which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grope in darkness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may find the one true light.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5415120"/>
            <a:ext cx="9144000" cy="144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4, renewed 1982 The Hymn Society of Ame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hurch of God, Unit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church of God, uni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erve one common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oclaim to all one messag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earts in glad accord.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4, renewed 1982 The Hymn Society of Ame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B. Morley, 1953 (Acts 2:5-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7-14T15:57:13Z</dcterms:modified>
  <cp:revision>19</cp:revision>
  <dc:subject/>
  <dc:title>PowerPoint Presentation</dc:title>
</cp:coreProperties>
</file>