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68EB-87B0-4683-A17D-D73BE4EF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DDBD-05D0-4AC5-AFB1-659A5623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F83B-5989-457B-9377-607A7020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A8D-90CB-4445-B838-B3869FB8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69E7-0471-48FD-860B-F636EE1A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95BE-62D4-4053-A08C-D4A0A5FC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51DC-069F-4077-BB16-94D15C7F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F965-BEE4-4295-A02A-65FD701E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2D0E-628D-45CD-9633-76CA0AB3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B6D3-56A8-4AE9-B87F-B5E0F242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4CA2-AEDA-4B80-B47B-9D4B08C0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5ADE-6046-4D37-B75D-3F6039C3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7ABA-F108-429D-AC0A-E6992DE7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AC84-33BF-4B9D-AE3C-2F4A8784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D76E-3DBC-4891-802E-34C981E6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72DB-92E1-4171-BDB4-F90EB861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EBB4-AE14-4E05-A625-CF5CCB4A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1836-3D5A-4C12-99D2-25D33898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6CE1-209D-42B9-B55F-B83D7392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EEAC-6231-4890-B6AF-2CE1C5E6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507-7A89-4D4E-85C8-F18EB772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7888-4E27-4DD4-B85E-B85C7D7F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815-A963-437A-86BE-D18B53D2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FF6B-D69C-4733-8E29-861295D3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3904-CCE2-4E38-9F0A-C7C69BA21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4177-16C4-4272-8C84-2E727734F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Master, Let M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alk with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Master, le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wly pa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ervice f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9520" y="1676520"/>
            <a:ext cx="44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ashington Gladden, 187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me thy secre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me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ain of to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ret of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lp me the s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eart to m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some clear, win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of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he way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t to st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ide them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meward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each me thy patien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los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er compan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ork that kee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sweet and st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rust that triump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wr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hope that s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hining 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down the futur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adening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ace that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canst g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, O Ma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me thy secre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me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ain of to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ret of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lp me the s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eart to m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some clear, win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of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he way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t to st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ide them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meward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each me thy patien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los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er compan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ork that kee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sweet and st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rust that triump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wr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hope that s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hining 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down the futur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adening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ace that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canst g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, O Ma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Master, Let Me Walk with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76320"/>
            <a:ext cx="121896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99072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O Master, let 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alk with the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lowly path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service fre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39280" y="3946680"/>
            <a:ext cx="403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Washington Gladden, 18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09-17T01:11:56Z</dcterms:modified>
  <cp:revision>21</cp:revision>
  <dc:subject/>
  <dc:title>PowerPoint Presentation</dc:title>
</cp:coreProperties>
</file>