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86E-048A-475A-8EB9-4F9CAB02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1D8-0D56-4EB3-9F88-AEAF4DC5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E4E-8EB4-425A-9E7A-5E90EEC4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596-B0BC-41E4-8F44-C30DDCC3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47E1-B210-4FB5-934B-54F0ED09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79C1-34D2-44A6-B6D4-AC14D76B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9797-5E5A-42DB-A65E-A4095C6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6C77-A6A4-46B0-9343-0A75E553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76CA-1EE8-4784-86CD-F99DC2C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9843-1438-4D74-84F7-35F01120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B7BF-2422-42ED-B159-9CCB4F5C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5AB-BA6D-4F81-B92E-9671782C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E679-173D-42F9-BE1B-941AC9C0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BC01-5D1A-4E38-9829-2768FD6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70A7-5857-471B-9177-3E35B7A5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EA5C-CF69-41DC-8E35-931B7572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EDBD-2FFF-482A-BB45-5D1ECFFF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359-EFA5-4320-9384-F0ECE098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3F9-B6AC-4436-A34C-378D50AE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FD4-E713-4B46-9DF7-F04FD220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BDB-EBDD-4F9D-B1DB-2F411818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3A9-92C0-4186-B56D-378D15BD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1F4-D875-4058-BFDF-D6B8DC75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410-EC98-492D-9796-80281D20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FD9F-89B6-4682-82E6-F252AD0A1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1799-D998-48B5-B81C-19FC0746E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ldiers of Christ, A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Soldiers of Christ, ar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put your armor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rong in the streng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ich God suppli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u his eternal S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4560" y="1004760"/>
            <a:ext cx="51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Eph. 6:13-1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rong in the Lord of Hos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in his mighty pow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in the streng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Jesus trus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more than conquero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Stand then in his great m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all his strength endu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take to arm y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fi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anoply 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having all things d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ll you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nflicts pass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e may o’erc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Christ alo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tand entire at la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Pray with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easing, pr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(your Captain gives the word)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summon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eerfully obe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call upon the Lor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od your every wan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instant prayer displ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y always, pr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never fain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y, without ceasing pr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2952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From strength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trength go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restle and fight and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read all the powe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darkness dow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in the well-fought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ill let the Spirit c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all his soldiers, “Come!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Christ the L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scends from hig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akes the conquerors h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Ho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mighty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the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tru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ore than conquer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Stand then 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great migh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all his strength endu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ut take to arm y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 fi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panoply of G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ving all thing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licts pa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may o’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nd entire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Pray withou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easing,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(your Captain gives the word)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summo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eerfully obe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call upon the L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your every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nstant prayer disp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lways,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fa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, without ceasing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952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From strength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trength go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restle and fight and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read all the powe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darkness dow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in the well-fought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t the Spirit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his soldiers, “Come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Christ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s from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ors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ldiers of Christ, A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Soldiers of Christ, arise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put your armor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ong in the streng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God suppl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u his eternal Son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4560" y="685800"/>
            <a:ext cx="51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Eph. 6:13-1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13T17:56:07Z</dcterms:modified>
  <cp:revision>13</cp:revision>
  <dc:subject/>
  <dc:title>PowerPoint Presentation</dc:title>
</cp:coreProperties>
</file>