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5AC-03EC-4658-BEDC-47FB1656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423-8736-4DCF-9DC0-7D280885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F68-B259-4D2A-8ADA-201B1C68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833-E690-4AED-B39D-A9DD744C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C16-A73A-40F1-A11E-455CE502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1F8-02A0-4449-911C-470A714D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419-F1EF-48E0-9207-87D36A70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B03-72C0-49B2-9A2B-FE98B500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37A-8F0A-4812-8597-EF6748EC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184-62C5-44B2-B064-9E3B3952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2B5-71E9-4487-B9D2-B7B33666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B82-EB6C-427C-B09F-07BDE770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164A-81B6-4B39-AF41-825B25913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hild So Lovely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Ni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 Lin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920" y="1447920"/>
            <a:ext cx="66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Venezuelan; trans. by George Lockwood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051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diós, tender ba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child, adió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sweet be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sweet belov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child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Esa tu hermosura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e tu cand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roba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a vida, bien mi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alma tambié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ndido a tus p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diós, tierno inf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niño, adió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iós, dulce am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diós, dulce, ama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diós, niño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You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’s beau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’s pur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my devo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my affe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aling all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So Lovely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my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ar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 soul, as w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s what I o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fer joyous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lling at y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So Lovely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5:53Z</dcterms:modified>
  <cp:revision>71</cp:revision>
  <dc:subject/>
  <dc:title>PowerPoint Presentation</dc:title>
</cp:coreProperties>
</file>