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7805-0DD7-4F04-97C6-4F1C8BEB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1A3C-7F11-452E-8D96-65F14F06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136F-B9BF-461F-B1B0-D8B2D3C1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E3F1-5F3C-4184-9E6E-7583DCCB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A2FF-CD47-4E51-B9A2-37D4762E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2A8C-3AAD-4B0D-86F7-D6D67535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6881-4CBD-4E67-BE0F-4C82544D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B544-10D5-4B53-BD94-1524FF9D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B5B0-FA97-45EE-8FCB-A5F3F967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C50-EB9E-45A1-8BB4-530E879B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F9B4-EE17-4E4D-BB48-678E1D30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E5E9-96CB-4EED-B7C7-F0837D3E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84E7-041F-4C6E-9E8D-90D2A97B4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Us Plead fo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ith Al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Plead for Faith Alo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4479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40 (Eph. 2:8-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Let us pl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faith al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aith which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works is sh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justif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ly fa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appl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Plead for Faith Al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Active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lives with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nquers h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death and s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s whom 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rst made who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ms the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Plead for Faith Al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Let us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faith cont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ure salv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the e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ven alrea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begu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lasting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s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Plead for Faith Al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Only l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us persev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ll we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ur Lord app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Rock re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d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works by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48:41Z</dcterms:modified>
  <cp:revision>133</cp:revision>
  <dc:subject/>
  <dc:title>PowerPoint Presentation</dc:title>
</cp:coreProperties>
</file>