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2AC-B88D-44FB-A11C-60156F62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D3E-4175-45F5-A277-07771299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BB7-4380-40A2-91B8-3BBC1118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AAF-B549-4E13-8486-DDD092E6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E81-1D12-466B-A195-256343C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0E8-28A3-4248-BAE7-F77CBD6C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363-7BBA-47C0-BCDC-E853488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2DE-6688-4153-8A3D-CAF7D2F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755-D8D0-4A23-AA58-E57C34B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F50-CC3C-4C45-9350-8AEFFA2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83-C0A8-425C-B090-2D72642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A0A-F664-4DAD-8420-6175D88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9CC-CD5B-4ECA-8F54-27B2C8B19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ope Is Buil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hope i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nothing 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Jesus’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eous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53080" y="116856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Mote, 183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he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I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be foun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ssed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ultless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est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lly l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’ na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darkness ve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l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ormy g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nchor 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oath, his coven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elming f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give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hen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and st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5:49Z</dcterms:modified>
  <cp:revision>21</cp:revision>
  <dc:subject/>
  <dc:title>PowerPoint Presentation</dc:title>
</cp:coreProperties>
</file>