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813-1926-419C-8551-E89C20A2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35E-FF1A-45C8-A932-B6993C3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F30-DFBF-4FB2-9879-6B5BF32A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A39-9DA2-4745-818E-592F0673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B25-D19D-407C-9548-66E39727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DC3-4B52-4F01-9ADF-C746B7C3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F765-D126-428A-AEB4-0CA323C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28D-3527-4EF0-A92D-39C5C83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DC1-CF2D-494B-9075-AD40554C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A9B-F6F5-4132-AE64-DBA4FBE7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501-DDE3-4C90-B7AE-FF8F878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C08-BA4B-4235-807F-B9C77F63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8986-23B0-467C-AB9B-6D45F3D04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6400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the Spirit of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ayer from Ke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cowardic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dares not face new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laziness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s contented with half-tru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pirit of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8288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arrogance tha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inks it knows all trut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ood Lord, deliver me.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10Z</dcterms:modified>
  <cp:revision>13</cp:revision>
  <dc:subject/>
  <dc:title>PowerPoint Presentation</dc:title>
</cp:coreProperties>
</file>