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EEB-C6FE-4D1B-B147-9A1C4C16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DA02-6E32-497C-A9A7-FB4CAFBF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5268-BF00-4171-A277-C3594E6E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6A0-0114-4990-8E33-2C26EFFB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36A2-80D5-45AF-9EE2-3E95ECF9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1E7-1EA0-4F94-AC57-96288611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1FD-051B-4BFB-B8E0-4FFC6AEE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403-B61B-4477-A8DC-1906DC53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57A2-B69A-4EEA-836A-FEC91A59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71C8-C41D-4729-AE27-38C59673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46F-856B-41F8-98C5-70F8451F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E4D-A406-4643-A609-BBF931FF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6632-6401-4CF5-9084-6DBEACEA4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ell Out,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ell out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eatness of the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numb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ings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pirit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6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Out,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1480" y="1004760"/>
            <a:ext cx="58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imothy Dudley-Smith, 1961 (Lk. 1:46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-5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der to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mise of God’s w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God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my heart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ell out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eatnes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na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known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ght, who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eds has d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Out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mercy 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age to age the sa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hol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mighty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ell out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eatnes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migh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wers and domin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y their glory b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Out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ud heart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ub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s are put to f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ungry f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umble lifted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ell out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lor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’s w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rm is the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d’s mercy 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Out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ut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eatness of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children’s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evermo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0:49Z</dcterms:modified>
  <cp:revision>50</cp:revision>
  <dc:subject/>
  <dc:title>PowerPoint Presentation</dc:title>
</cp:coreProperties>
</file>