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CC6-1A0D-4BD8-A09F-C0C75E01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71E-C4F4-41B0-A282-F28D5D35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E59-CF80-43B4-A5D9-50938962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7EB-E973-4DDC-B220-A2C2C040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8A6-460F-4752-94B1-A7703568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9FC-5391-4D67-90EC-FBA98B65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6D1-72B0-488D-8C39-2C030819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BEB-3DF0-4872-8FD1-35D33E3F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6DD-483C-4CF9-9976-3B3A3660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AC0-C969-4FC5-BB69-F0B492BE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214-CFE1-4B68-AB5E-7E4C3903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284-A0D1-4989-8148-C1E3AD1C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5241-A838-4192-82CA-4750AF94B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ve, How De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love, how d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broad, how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fills the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cstas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08160" y="1168560"/>
            <a:ext cx="67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15th cent. Latin; trans. by Benjamin Webb, 1854; a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e s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pirit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uide, to streng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che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All 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rd an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love so d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high, so broa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in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we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, the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, should 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ortal fo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ortal’s sak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us baptiz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e b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oly f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ungered so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tempt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p he kne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the temp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thr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 us he pray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e tau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is da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s he wrou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ords and sig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ctions th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seeking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self, but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or us to 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betr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ourged, mock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urple robe array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bore the sham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and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gave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dying br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For us he r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death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e w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igh to reig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3:03Z</dcterms:modified>
  <cp:revision>23</cp:revision>
  <dc:subject/>
  <dc:title>PowerPoint Presentation</dc:title>
</cp:coreProperties>
</file>