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EFF1-B779-4301-89FB-61409B06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201-7D2D-4546-8FE5-6A1891F6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8C0F-3C4E-438E-829F-87AE7770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54A2-8978-4C48-8D06-C42411E8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5E9E-7E87-45E4-A579-8670CAEA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FFF-EECE-4AB5-9BBD-12F2F4DF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C3B-99CA-41CF-9309-CDF733AE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9D9-A031-4713-AEC1-FBEC0026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8F32-FF77-44ED-B8CD-C6517B99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4C26-4EAE-4A87-99DC-3DB70B4A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6E4B-B653-430B-98E5-22F62D4E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442-CB6D-49E8-A781-B99F5D5D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2032-2545-4A26-B9EE-50D323750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Is Born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Il Est N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88360" y="1562040"/>
            <a:ext cx="49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rad. 19th cent. French carol, trans. an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Jesus,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ing a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among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nt 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heavenl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 divin Enf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uez hautbo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sonnez musett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 divin Enfan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antons tous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v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nemen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rough long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phets have foret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com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long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the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come at la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w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p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this perfec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of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p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cious gi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umanki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48:35Z</dcterms:modified>
  <cp:revision>76</cp:revision>
  <dc:subject/>
  <dc:title>PowerPoint Presentation</dc:title>
</cp:coreProperties>
</file>