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4DF-636D-4BF3-A0E0-69BC0784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CE5-A9BC-4EE5-9C05-16631C92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F5D-4DF4-44E8-9F06-94775BC0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7A2-9B99-4867-A0F8-24084477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8BB-387F-4F93-AB62-53ED0108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97E-7AAA-4497-9AFE-A2F1781C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8FE-A3D1-473B-A821-9E43E2B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390-9448-4C98-970B-5984DE4F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BCDD-595F-498D-8102-0C67FD4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FDCA-6B44-4E16-847C-EB9CDA0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F223-FF81-43EA-9CFA-375DDA8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DA5-FEA8-4A72-AEEE-533F8416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F9B-8587-484D-BE49-CE0172D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91AC-BDEE-466A-8FA4-3DF6FDA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B92C-E50A-4AF2-89B4-F8D2A0D0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915B-67C5-4D94-B5BD-0DA866D9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2F0-3A8F-4677-AF6A-AB52B482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968-A1E7-4251-B5CE-FE4A2AE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59C-C1A7-4970-AD84-143618E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71F-9799-43FD-8971-26E600E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B00-69AE-4761-9C9B-8A68CE93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CF1-A620-428E-84C0-E6A4F54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E54-66E1-439F-82A4-44433DA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F29-5E2B-4FB6-8269-BFA5740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5B8-C62F-4EA2-9B2A-D5521D6BD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9BC-2ACF-494E-8988-F88CE441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Climbing 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62680" y="990720"/>
            <a:ext cx="62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Gen. 28:10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Climbing 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9320"/>
            <a:ext cx="9144000" cy="319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e are climb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2680" y="762120"/>
            <a:ext cx="62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Gen. 28:10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19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3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Every round goes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round goes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round goes higher, high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inner, do you love my Jesus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ner, do you love my Jesus?   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ner, do you love my Jesus?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If you love him, why not serve him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                              If you love him, why not serve him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f you love him, why not serve him?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We are climbing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 higher, higher;  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 higher, higher;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71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03T21:29:07Z</dcterms:modified>
  <cp:revision>10</cp:revision>
  <dc:subject/>
  <dc:title>PowerPoint Presentation</dc:title>
</cp:coreProperties>
</file>