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EBD-45B2-45B9-A8DF-093255A4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95C-9984-43F4-9BE5-B9E7811E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C97-7C04-49F9-886F-BBB4EF5F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9D6-49FC-4A12-8E8B-57E17985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6AA-569A-44D2-AEF8-7FA80314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064-B1C7-40B1-8069-2C943CF3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F0C-0210-47C6-88AC-239245F4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4D7-A06C-4290-A4D6-8C274A21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D05-BE2E-405F-BF92-DDD3521D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ABF-BF06-457E-81F5-DC2EB5E8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A25-B0A1-45EC-BD61-8560F6DF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E65-D413-4C7B-B062-CDD1DB6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AE0D-F86D-4861-A1F2-59035D40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ree Things We Pr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Things We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ichard of Chichester, England, 13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18730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anks be to thee, O Lor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, for all th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benefits which thou hast give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us; for all the pains and insul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ich thou hast borne for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most merciful Redeemer, fri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brother, may we know the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re clearly, love thee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arly, and follow thee m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arly, for thine own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35:56Z</dcterms:modified>
  <cp:revision>158</cp:revision>
  <dc:subject/>
  <dc:title>PowerPoint Presentation</dc:title>
</cp:coreProperties>
</file>