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96D5-7BE8-4404-B423-9E6676DC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6088-4BFA-44C1-ACC2-35DFF6AE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C693-0A3F-4174-86B7-689D2654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2350-1210-4C2D-985A-10C76A7F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DE04-D925-4D4B-92CF-A38ECDB5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AF72-7B72-43B0-95F6-99490522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3F04-A906-472A-88D2-DB28BFE0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3DA0-826F-4143-966E-5EDFBD35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3042-BB0D-4FE2-A243-32853FFF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3174-C48F-4E50-9BAE-7385F6AF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BCE4-08C3-44AE-8598-CA71991C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DE5D-81A4-47D9-B8F4-ABAD89DD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669C-E409-4DF7-8BA9-A8ACD80ED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, Mighty S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3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4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might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of all cre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make the day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diant with the sunligh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2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Mighty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56960" y="990720"/>
            <a:ext cx="526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ozarabic hymn, 10th cent.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trans. by Alan G. McDougall; rev. Anne LeCroy, 198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ight or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shiping our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and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the night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ittering adorn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s in the heave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w comes the day’s 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sun is set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rror of daybr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dge of resurrecti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Mighty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in the heave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oirs of stars appea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 the night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refore we come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ning rites to off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fully chan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hymns to praise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Mighty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ll cre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ing hearts and voi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 your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ive heed, we pray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ur supplic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you may gran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don for offens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Mighty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for our weak hea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 for aching bod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othing the we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ough bodies slumb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shall keep their vig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res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peace of Jes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Mighty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5:37Z</dcterms:modified>
  <cp:revision>21</cp:revision>
  <dc:subject/>
  <dc:title>PowerPoint Presentation</dc:title>
</cp:coreProperties>
</file>