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C96-4E4C-42D1-8796-D043B7DF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1C8-FA7D-4CA7-855C-44FA2303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F63-765D-460D-A2F0-3345626A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8B3-EEE8-420B-94FF-600324CF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714-6993-4101-90A5-7F4437D0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466-8BAC-4381-BDE0-8CC9596A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643-E889-4926-ABDB-C6166374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F8A-1D7D-4D66-BC30-43CF6936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2CF-D2AD-4371-AEF2-51931145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55E-C9F0-4344-8F79-930F1345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9E0-6018-48A1-B2CB-8F3DF40C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225-53B2-4E60-AFC8-7B9627BB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5EFC-C445-4304-8AE9-BC7415805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Zion, H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Zion, has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ission high fulfi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ell to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 is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Mary A. Thomson, 1894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ive of thine own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the message glorio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of thy w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ed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ur out th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victorio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Zion, h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ing the brighter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who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nations is not wi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oul should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shades of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hold how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sands still are l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und in the dark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son-house of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none to tell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avior’s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of th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ied for them to w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roclaim to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, tongue, and 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, in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live and move, is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how he stoope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his lost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ed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ight liv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9:06Z</dcterms:modified>
  <cp:revision>79</cp:revision>
  <dc:subject/>
  <dc:title>PowerPoint Presentation</dc:title>
</cp:coreProperties>
</file>