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1F4B-3347-4F4D-862D-998B0AB3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2755-E480-472D-B904-CADF598E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F315-E798-4866-8D45-BBAE836F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A650-9236-4E81-9186-E728AC9B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FA8C-8BE5-4583-A806-1FC033DF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2896-185F-4C2B-90FF-34FF70A8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E711-F27B-4323-A37D-B6C90AA0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425E-3565-4A63-AD7A-E7AD5EE5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2BAC-766C-4CC7-9B04-D1272DE8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80F9-F0BC-4F68-8456-DAD68676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A18D-BE03-42C3-B47F-8AF06444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EA91-DDFF-48C2-AF63-A07D6AD2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52E9-E0DB-4E29-8B47-D8043478C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Love an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od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of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burning hou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Love and God of Po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 Gerald H. Kennedy, ca. 1939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od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of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us wor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is hou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Love and God of Po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fering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it’s thy w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ing free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s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of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calle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o ask the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fts of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ing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irits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of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calle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 are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irst to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nished by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s from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Love and God of Po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us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trump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nging cl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of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calle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ll our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long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our final loyalt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Love and God of Po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aves are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e’er we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devotion anyw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of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calle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40:54Z</dcterms:modified>
  <cp:revision>83</cp:revision>
  <dc:subject/>
  <dc:title>PowerPoint Presentation</dc:title>
</cp:coreProperties>
</file>