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59D-9719-408B-94AA-3C1319F7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EA8-FFD7-4BB7-8F83-610940F5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B94-FEAF-449E-A6BD-C6E3342F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C40-B1AC-4E4F-97C5-9BCAD856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44B-5472-44D0-B83A-C05A07ED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10D-93C8-44E3-B1F8-E5AB7740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865-83FA-4480-BAAC-EED985DC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998-FC5E-4B68-922E-4634471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4C1-51DE-4508-BEDC-31C09C99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2F3-BEA5-4A78-9B08-E63693E4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308-8F90-4191-9806-09C89ED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CD2-D85C-4248-848C-FD51945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AE42-F385-4A7D-9FDE-D6BFAA28C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ndays of Ea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451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give us the joy of celebrating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Lord’s resurre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days of E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0520" y="914400"/>
            <a:ext cx="4167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Lutheran Book of Worship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also the joys of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your serv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ing us at last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full joy of life eterna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6:07Z</dcterms:modified>
  <cp:revision>21</cp:revision>
  <dc:subject/>
  <dc:title>PowerPoint Presentation</dc:title>
</cp:coreProperties>
</file>