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907-131F-4BF2-B29B-A3769C09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B54-D8E7-4F80-B5BD-EC20E30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D41-08CD-42F1-90A3-6484F776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F3B-30B2-426E-83E2-9725D676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E02-94E0-4012-ADD0-3386E0A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CB6-4C6F-4C97-ABEF-92090B4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693-7B81-4B00-8AC2-E9FE614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6D6-25F0-4C64-A71D-FAD996B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A8F-D150-40C9-AF7A-1CEEDD1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A88-2FA9-49B5-A7B0-F32D5A8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8C6-0771-4CA7-A712-707749B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BD0-CB01-4A86-B91B-7E6632A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2A6-25EA-402F-AD32-E903D061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Our Friend and Br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by Mennonite Leaders’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Our Friend and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6160" y="109044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Ova’hehe; trans. by David Graber and others, 1982 (Jn. 15:14-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ls u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03Z</dcterms:modified>
  <cp:revision>16</cp:revision>
  <dc:subject/>
  <dc:title>PowerPoint Presentation</dc:title>
</cp:coreProperties>
</file>