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F8A-83A0-4A79-BFFE-2B5F920D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5E8-5DD8-4406-9CCC-84ACA1CD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882-8966-45A7-98D9-1515630F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DD6-E3F6-486C-9C52-24A233AC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0BD0-AFE7-4914-946B-63BD63FF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8877-ECD8-4831-A765-C4D531E5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A15-9715-4BE8-922D-CF0C296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C1E-2A8C-4E60-ACA5-5D1641B9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C324-B515-41FE-B050-E9854565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358F-33BD-489C-A28B-48BDEBE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C213-D701-4FA6-966E-3F8B9DC6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430-2B9C-4760-89D1-E4A0761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3988-219D-4A23-B298-05E0040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2FA9-B04E-4D61-B328-FB763A0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F415-601C-4E4D-AB32-3B80D178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4276-5D4B-4F59-9460-9211ECB3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5EDF-F7E2-4FF3-969F-5FABFC53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E34-0AAA-4725-BFB9-A7648528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02A-65F9-4C68-B2AB-87A8D89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218-C498-46C4-9EA2-0B2536A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EDD-F0E3-4015-9A06-B817963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BC4-AB1C-423E-9E74-376D510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C2F-5766-45E8-A57F-B6C39558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779-D38F-4B17-96BF-EB848188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F8DB-A744-461A-9D0A-3C28E9E87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75B-2D11-4C33-ACEC-FB3B937BE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475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Grant, 1984 (Ps. 119:1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160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a light unto my pa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85800"/>
            <a:ext cx="914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Grant, 1984 (Ps. 119:1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08T18:28:31Z</dcterms:modified>
  <cp:revision>104</cp:revision>
  <dc:subject/>
  <dc:title>PowerPoint Presentation</dc:title>
</cp:coreProperties>
</file>