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246-2253-4F82-B077-BD23D253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7F5-9CE2-455E-B940-9EE47D63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3070-55E4-4724-803C-7CE2936E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0F9-2D3A-4957-B45E-F4E1668D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3E08-46D4-4AD7-BC01-24462345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2DC6-B5F4-415A-A5BB-78D7D293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5C6A-00CC-4CF6-A93E-F6169B25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8C57-9DF6-4D1A-B7B3-1473C095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676F-824A-411B-BCD0-22B94037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4BB5-F87B-4F17-B9E3-98CDFFE8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0C6C-666C-49D9-A810-80D08815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813-8138-4A62-8100-515C78AD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F42D-A707-41AB-8F4F-552C9EE7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FD6C-C85E-446D-BDED-A0869252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428D-6967-40DA-8198-27234495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ED4E-ED19-4E5B-8F05-F8BA69F1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F010-0DA6-4914-9E05-21D59EA2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1CF9-8361-499D-9A0F-8717B99E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363-D6C3-428F-B280-4A7A6ABA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04D-9E87-452D-8F41-063F03DA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B60-3061-4F92-83FF-E17EF7EA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EB3-8202-4433-9C74-0E4344BF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BE89-40D3-46CF-B7CB-0F316BA3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FC2-AA94-44AE-8D19-4BBAEBD1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7491-FC26-4885-BD96-22D9051A7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0F46-244C-4ED1-817E-694B446BE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Ye Thankful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eople,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ye thank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ople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the song of harvest h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ll is safely gathered 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re the winter storms beg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58080" y="1752480"/>
            <a:ext cx="602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Henry Alford, 1844, alt. (Mk. 4:26-29; Mt. 13:36-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6760" y="457200"/>
            <a:ext cx="86104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our Maker doth provid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our wants to be supplied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me to God’s o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emple, co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aise the song of harvest h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the world 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’s own fiel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uit as praise to God we yield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at and tar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gether so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re to joy or sorrow grown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32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irst the blad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n the e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n the full corn shall appear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ord of harvest, grant that w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lesome grai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pure may b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Lo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God shall co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hall tak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harvest hom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the field shall in that da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offenses purge away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ing angels charge at 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fire the tares to c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fruit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s to st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garner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n so, Lord, quickly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thy final harvest h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thou thy people 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from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from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, forever puri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presence to ab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angels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the glorious harves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6760" y="1096920"/>
            <a:ext cx="86104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ur Maker doth prov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wants to be suppli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God’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le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the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arves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worl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own fie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uit as praise to God we yiel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at and ta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gether s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o joy or sorrow gr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st the bl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n the 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he full corn shall app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harvest, grant that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some gr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ure may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shall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t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arvest h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field shall in that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ffenses purge a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ing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rge at 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fire the tares to c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fruit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s to st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garner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n s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ickly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thy final harvest h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thou thy people 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from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from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, forever puri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presence to ab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angels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the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ves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Ye Thankful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eople,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477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ise the song of harvest hom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all is safely gathered i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re the winter storms beg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58080" y="1371600"/>
            <a:ext cx="602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Henry Alford, 1844, alt. (Mk. 4:26-29; Mt. 13:36-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1-20T13:36:52Z</dcterms:modified>
  <cp:revision>31</cp:revision>
  <dc:subject/>
  <dc:title>PowerPoint Presentation</dc:title>
</cp:coreProperties>
</file>