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91A-34D9-4E28-BDB3-B0901C4B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2C4-03BD-42EF-BFBD-E49344F5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878-92A3-44A8-A4B4-40782405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E92-C2C4-4455-BED0-7CB0C312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8DB1-A5EC-4439-AC73-4BDBA283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E6FA-6ADB-4041-A098-19A92F2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1718-51A8-449D-80F9-4B469B40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C003-EF1F-41AA-9CA0-46DAB87F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2AD2-E8E5-45B1-AA8A-748CDC20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F06E-8E5F-43B8-8125-01ACA328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B665-F73D-4CFE-998C-E28A6C9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F0A-4C78-4B48-8244-ED1C7809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BEAF-D86D-4382-8C69-00E0F2C9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E831-1388-4780-9083-65CC534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98C5-5EA3-4628-8BCC-B8EAE287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AA6C-A8E8-413B-9115-8E7F4C04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1556-6583-4517-8764-907D3276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D10-DBFC-4776-A0D8-F10D34E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69A-B1FD-4291-9EB4-489E7B09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266-5925-4FBB-8F64-6FF266F8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F26-19C8-4A2B-B5BA-268F8CA6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912-12D5-44D1-824F-FF3854C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A10-034D-4116-93F5-2967812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459-58D3-45BA-B6FE-A0B527C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353A-56D8-4EE2-8136-0E7AF862A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09CF-847F-4C64-AF97-E22B67676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320" y="13644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Does the Lord Requ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990720"/>
            <a:ext cx="9144000" cy="43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1. What does the Lord requir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 praise and offering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hat sacrifice, desir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or tribute bid you bring?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520" y="762120"/>
            <a:ext cx="7539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lbert F. Bayly, 1949; alt. (Mic. 6:6-8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9 Albert F. Bay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Rulers of earth, give ear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ould you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ustice know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God your pleading h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cri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uelty grow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All who g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alth by tra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om the worker toi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 not to win God’s ai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greed y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mmerce soi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How shall our life fulf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’s law s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d and high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Christ endue ou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race to fort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just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’ll humb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lk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2. Rulers of earth, give ear!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Should you not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justice know?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ill God your pleading hear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hile crime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and cruelty grow?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17360"/>
            <a:ext cx="9144000" cy="52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3. All who gain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wealth by trade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for whom the worker toils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think not to win God’s aid,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if greed your</a:t>
            </a:r>
            <a:br>
              <a:rPr sz="5600"/>
            </a:b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ommerce soils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Do justl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ove mercy;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your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63600"/>
            <a:ext cx="9144000" cy="45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4. How shall our life fulf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God’s law so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hard and high?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Let Christ endue our will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ith grace to fortify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86688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Then justl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in mercy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e’ll humbly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</a:rPr>
              <a:t>walk with Go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at Does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rd Requ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90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at does the Lord requ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raise and offering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sacrifice, des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tribute bid you br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49 Albert F. Bay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7840" y="1676520"/>
            <a:ext cx="5545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Albert F. Bayly, 1949; alt. (Mic. 6:6-8)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1-01-29T13:20:41Z</dcterms:modified>
  <cp:revision>11</cp:revision>
  <dc:subject/>
  <dc:title>PowerPoint Presentation</dc:title>
</cp:coreProperties>
</file>