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7C9-8FFE-47BC-B90E-96678C69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F1A-A2B1-48E8-8C2B-60669495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CD0-7045-4A97-A73A-493E0B05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1B2-2D2C-4B35-87A7-168FE06E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C6A-8C99-458E-831B-99D53C8C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F4B-662D-45C1-9306-A0A13BC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FEF-5D12-4EAD-94E7-8BBAB2FE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28F-5788-4ED0-85CB-75E2175E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BDF6-E95F-419A-BF7B-7ED610E5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4FD7-D297-45E0-BDEC-CDBB9080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065-6CA7-4C7E-83A7-4453B7E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5C8-77D7-4DBB-84F8-507A0E0B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4F38-3ED9-4164-AD12-C3975B5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981-E501-4C34-84DA-569FF5E8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16BE-66F4-4AC9-BD31-5A3F937B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F16-45D8-44FE-BE2B-DC12092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CAA-BF44-44C6-9D11-2C5D7BFC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58-BC4F-41E7-9A91-6A008B73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9B6-7098-4BFD-BA0C-A1EB8743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904-B97A-491F-A9D5-395FA49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120-E5DF-4EE8-801A-EDF6A070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4AA-A286-4210-B3DD-EBCA89E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0FD-D4E2-4FF2-9186-8EFF4A9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C18-C685-4336-9BE0-64E465B9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E0F6-D4C4-4DD6-ACBC-2ED49692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6436-2811-44CF-AD81-70A25CF9C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 God of Israel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0840" y="654120"/>
            <a:ext cx="49860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ver cea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go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eral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forerunner in the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 of salv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arbinger of d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3352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On prisoners of dark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begins to ris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dawn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forgivene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upon the sinner’s eyes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276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o guide the feet of pilgrim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long the paths of peac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less our G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avio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that never ceas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473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lessed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Isra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comes to set u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visits and redeems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nt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0840" y="1143000"/>
            <a:ext cx="498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Michael Perry, 1973 (Lk. 1:68-7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oke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reedom and rel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hall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ring our peopl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w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use of Dav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child of grace is gi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 comes amo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aise us up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6-27T01:24:58Z</dcterms:modified>
  <cp:revision>53</cp:revision>
  <dc:subject/>
  <dc:title>PowerPoint Presentation</dc:title>
</cp:coreProperties>
</file>