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481-D34F-47B7-A3FB-1D49A09E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11A-F32B-4357-89F0-3E516173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62B-64E4-4C48-B5D9-58CBE643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75E-3D74-4DBB-BE7C-A62DDF6A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56D-3A95-4405-BFCA-8777AB40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701-E748-456D-90A4-9A401484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143-C354-46C7-AE63-C75EEE28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E71-0BA6-4090-9A26-22304D43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C89-BDD7-4904-AB09-C735452D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3CC-0DB0-46CC-BA76-48860A4B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788-D91A-4BA9-B78D-E376634B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67D-A8E3-403F-B678-E733D1A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EB54-03CD-4331-9E0E-7A1BE6495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Have Put O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put on Chri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Christ y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ve been baptize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IC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Have Put On Chri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om the Rite of Baptism for Children, ICEL (Gal. 3:2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9:01Z</dcterms:modified>
  <cp:revision>109</cp:revision>
  <dc:subject/>
  <dc:title>PowerPoint Presentation</dc:title>
</cp:coreProperties>
</file>