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303B0-8F18-40BD-8987-A29813BDC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F8011-C04E-4A1D-9AB2-D1B8594C1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4EB6B-3F72-4A7D-98CB-519DAB17A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4A3D6-94DC-4BDA-94C3-2C77EC6E8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04E65-34C8-45C4-965F-29CF83433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6DC44-708E-4B04-AC59-52CA0EAD9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72693-5F8A-4F5F-B10E-30E5DA2D5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05FA7-9782-4D52-A340-03829BAA1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BD892-0197-4D76-9B82-C43D5E2AC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30919-32AF-4AA2-B239-3C4D53B23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E1A4D-017F-4AD9-979F-E41FB9706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F80D8-C337-407A-9806-C5F9098A2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58510-21AD-4BFB-A136-74D24ED267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8763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Who Is He in Yonder Stal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19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8288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1. Who is 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n yonder sta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t whose fee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shepherds fall?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Is He in Yonder Stal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632680" y="1092240"/>
            <a:ext cx="390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Benjamin R. Hanby, 186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4. Who is 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at from the gra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omes to hea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help and save?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Is He in Yonder Stal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128736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’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is the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 wondrous story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’Tis the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King of glory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Is He in Yonder Stall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t his fee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e humbly fal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rown him, crown hi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ord of all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5. Who is 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at from yon thron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rules the worl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f light alone?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Is He in Yonder Stal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0" y="128736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’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is the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 wondrous story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’Tis the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King of glory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Is He in Yonder Stall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t his fee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e humbly fal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rown him, crown hi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ord of all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28736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’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is the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 wondrous story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’Tis the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King of glory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Is He in Yonder Stall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t his fee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e humbly fal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rown him, crown hi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ord of all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2. Lo, at midnigh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ho is 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prays in dark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ethsemane?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Is He in Yonder Stal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28736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’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is the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 wondrous story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’Tis the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King of glory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Is He in Yonder Stall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t his fee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e humbly fal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rown him, crown hi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ord of all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3. Who is 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n Calvary’s thro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sks for blessing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n his foes?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Is He in Yonder Stal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28736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’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is the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 wondrous story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’Tis the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King of glory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Is He in Yonder Stall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t his fee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e humbly fal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rown him, crown hi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ord of all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15:28:03Z</dcterms:modified>
  <cp:revision>44</cp:revision>
  <dc:subject/>
  <dc:title>PowerPoint Presentation</dc:title>
</cp:coreProperties>
</file>