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B4A-6341-4B7A-90D0-3AE367B7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084-5F2B-4D89-A71B-149A55CA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34E-4D68-4A2D-B715-7D877358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324-6B58-4663-A4E0-73B43BA6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CAE8-A610-4249-9E27-EF45BDF5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1147-D425-4DA4-9097-69B3AE2D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2C21-97A7-4F9F-9720-71B6FCA0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0661-F1CF-408D-AD0F-6AA11416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32A3-5211-4CE0-9438-D8940137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5FC3-EFD2-4CB1-8A65-D45491BD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CC56-8635-47BA-B881-DD4F59A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2DB-E703-4573-828A-96F01074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414F-7EF1-4CCB-9F83-93A2711F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5125-1E12-4D3E-BF0F-7EF08CA9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7A0F-BCDE-4270-91DC-9DC24421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123D-E5BC-40BD-85C1-2763B767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7E72-D82F-4BFC-870A-AB9B4AFE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9AD-90CC-4586-9D78-1CEEFB4C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E8E-66AC-4E12-A74A-3465973B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082-B85C-498B-8A88-81F832C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D2D-8967-46E8-9A2D-0E59F07C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679-2D17-4DF8-A26E-BB205B6A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83A-26C0-43EF-AAB0-CFE0F045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28E-07A9-4128-B95C-FF549404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5D8E-D504-4EFB-930E-CFAD95991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20AF-9EC6-4BD2-B4A9-2F92219C1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Climbing Jacob’s Lad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62680" y="990720"/>
            <a:ext cx="621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Gen. 28:10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Are Climbing Jacob’s Lad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9320"/>
            <a:ext cx="9144000" cy="319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e are climb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acob’s ladd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2680" y="762120"/>
            <a:ext cx="621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Gen. 28:10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19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3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Every round goes higher, high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r>
              <a:rPr b="0" lang="en-US" sz="45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round goes higher, high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round goes higher, highe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Sinner, do you love my Jesus?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ner, do you love my Jesus?   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ner, do you love my Jesus?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If you love him, why not serve him?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                                If you love him, why not serve him?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f you love him, why not serve him?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We are climbing higher, higher;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climbing higher, higher;  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yes, Lord)     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climbing higher, higher;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acob’s lad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 round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nner, d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y Jesus?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71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f you love him,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rve him?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2-03T21:29:07Z</dcterms:modified>
  <cp:revision>10</cp:revision>
  <dc:subject/>
  <dc:title>PowerPoint Presentation</dc:title>
</cp:coreProperties>
</file>