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3C7E-71A3-463A-8B21-AA867CD2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4694-709F-4B14-9C30-B9C7A738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418C-F0B2-4C08-B5C3-E6266546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D576-6109-4CEA-B2C8-354D43C08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6021-D188-4195-8AE8-AF318DA5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EDE8-1511-4524-AF14-B74FA7A6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1DC8-5B7F-4308-8186-2F20075B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0435-6A7D-4E73-A694-EC208912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9246-2894-459F-AD5C-7F15A625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BE88-A8E3-424A-85B8-BAD786EE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D7E8-3B25-44E5-879A-64C5642C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3399-82C5-45D1-A615-7AE874A2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8364-9D96-4E63-88A5-6A7F6413C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re, O My Lord, I See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772400" y="304920"/>
            <a:ext cx="137160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, O my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ee thee face to f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would I touch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ndle things unse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, O My Lord, I Se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Horatius Bonar, 1857 (Rev. 19:6-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ing sweet foretas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festal j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amb’s great brid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st of bliss and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grasp with firm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nd eternal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my weari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thee le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is is the hou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nquet and of so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heaven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ble spread for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, O My Lord, I Se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let me feast,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sting, still prol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allowed hou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llowship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ere would I f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the bread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drink with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oyal wine of hea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, O My Lord, I Se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would I l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ide each earthly lo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taste afre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alm of sin forgi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oo soon we ri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ymbols disappe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east, though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ve, is past and g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, O My Lord, I Se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read and w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move; but thou art 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 than 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my shield and s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Feast after fe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us comes and passes b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, passing, po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glad feast abo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, O My Lord, I Se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1:33Z</dcterms:modified>
  <cp:revision>124</cp:revision>
  <dc:subject/>
  <dc:title>PowerPoint Presentation</dc:title>
</cp:coreProperties>
</file>