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26C-9351-4835-97B9-98FAD1EA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96D-C437-4580-ABAA-0E7B5381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CD8-72E4-43BA-8042-AB08686D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D52-1408-4B90-9146-30D467B8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16B-BF4D-4DD2-9EEA-B873F08D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C6B-0D0A-4476-A0D9-274A0938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4C7E-0C31-4A0F-87D9-2A020CF7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C99-FCAB-4C1D-AE4C-8F726396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C86-335D-45BD-9D57-2C4C7F6D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188-D472-42F4-8BD0-2E5C2242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91E-63B4-455F-A4F6-B74F6B26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074-88DF-42EE-A780-FA3FE198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9AE0-7B48-4386-8254-D4D6DEB26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 Now in 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Now in Pe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Natalie Sleeth, 1976 (Lk. 2:2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1600200"/>
            <a:ext cx="655344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now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now in peace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lov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urround you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6 Hinshaw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809880"/>
            <a:ext cx="1066680" cy="990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60020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52480" y="2209680"/>
            <a:ext cx="7391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, every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may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13372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8:08Z</dcterms:modified>
  <cp:revision>158</cp:revision>
  <dc:subject/>
  <dc:title>PowerPoint Presentation</dc:title>
</cp:coreProperties>
</file>