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7A0F-32EE-47E6-9544-9AABA5F5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145-140F-4437-BA74-ECF4BA4F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832-E8EF-402A-961A-72D6A805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A1E1-6699-4870-BD41-F927F85B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77D8-47B6-45FE-A576-1B658225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8D21-015A-45BF-AC16-D7F101D4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A100-BF7E-4FEE-A6B2-B127D3A4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F9A6-F14E-47A7-BE1F-75614875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2350-1553-4A22-B6E6-7BFB4986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998E-D4FF-4888-98F6-83218B04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9B5F-DA57-4163-AFA9-6BEC6FB3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130C-FE3A-44A2-BDC1-FBB8D75B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D514-4D69-43FC-9396-07A9EAA5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0C6E-ABF0-493B-82F4-2102CB08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8CE6-7A10-4A18-B803-B017E053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38B8-94A1-400C-9ED3-D458CF02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F6AD-ED42-4C84-B915-E1E5516E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482-6C35-4A64-A046-D37C20E5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E37F-DE1C-40C4-93E7-8429180B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6035-203C-49BE-ABA2-0607CFC8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7D96-9105-4A00-8B60-7A78C36A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660-C5BC-4E66-9779-E88AB8F4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EB8-E107-4041-8B2A-E5F01DA6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540F-D346-4A94-8281-3EA05951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0A80-C659-4D76-9A25-B81A04C4E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E701-D8D8-49B6-A5AB-4ADFB89B8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jesty, Worship His Majes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unto Jesus be al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honor, and prais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esty, Worship His Maj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8380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Jack Hayford, 1981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1 Rocksmith Music c/o Trust Music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jesty, Worship His Majes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905120"/>
            <a:ext cx="9144000" cy="43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 Jesus b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honor,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1 Rocksmith Music c/o Trust Music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esty, Worship His Maj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58120" y="1092240"/>
            <a:ext cx="32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ack Hayford, 1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author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ow from his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 his 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anthem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exal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up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ame of Jes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gnify, come glorif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Jesus,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who d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glori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 of all k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jesty, Worship His Majes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371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 Jesus b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honor,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esty, Worship His Maj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8380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Jack Hayford, 1981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1 Rocksmith Music c/o Trust Music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author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ow from his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 his 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anthem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exal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up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ame of Jes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gnify, come glorif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Jesus,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who d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glori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 of all k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3968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authorit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flow from his thron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unto his own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is anthem rais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36440"/>
            <a:ext cx="9144000" cy="504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So exalt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lift up on high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the name of Jesus.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Magnify, come glorify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Jesus, the King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5228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who die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now glorifie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King of all king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jesty, Worship His Majes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3716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unto Jesus be al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honor, and prais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esty, Worship His Maj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8380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Jack Hayford, 1981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1 Rocksmith Music c/o Trust Music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8088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authorit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flow from his thron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unto his own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is anthem rais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80880"/>
            <a:ext cx="9144000" cy="504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So exalt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lift up on high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the name of Jesus.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Magnify, come glorify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Jesus, the King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60948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who die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now glorifie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King of all king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2-26T13:21:53Z</dcterms:modified>
  <cp:revision>43</cp:revision>
  <dc:subject/>
  <dc:title>PowerPoint Presentation</dc:title>
</cp:coreProperties>
</file>