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10B-A146-4C99-9EF5-3F670136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3F0-9E23-4EE5-AE65-5DA6EDFF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9B1-F2ED-4F9A-8B64-CE8F8F8D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467-450C-4D9B-B686-CE4A3E4F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F6D-2B92-4D40-8814-AE06299F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81F-3204-436A-8A9D-8E747854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F08-DB18-4FFA-A83C-B5098E6C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252-9D73-4E9F-9124-4A0C5C56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99B-E09F-4BB9-B59F-D30327FB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209-458F-4BB2-A474-A535AF3E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C0F-BE24-4280-B421-4E72878D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F0E-FA41-445C-97E1-4D72B0DD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2024-7D54-4F2E-9F83-3778F716E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Our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90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our pray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our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Our Pr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42Z</dcterms:modified>
  <cp:revision>30</cp:revision>
  <dc:subject/>
  <dc:title>PowerPoint Presentation</dc:title>
</cp:coreProperties>
</file>