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959-743A-440D-B538-E35F43AA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375-1317-4D5D-AD62-ACE0BAA8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080-053C-43D8-B0E6-ED1B3C5B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77D-BECB-460F-9DAF-D8406845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9133-B3C7-4B87-9437-951E9CD3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D8AC-BF50-4608-ACFD-5B90BC5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F03-6474-4891-957B-042ECB2B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8BEC-7F7C-4E2D-8ED0-4390EA03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5DDF-3F20-464F-89B0-719F3C2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F74E-6949-480A-867E-245FE24F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B4B-40BD-4BAE-AC0B-F600D6E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FEA-2940-4455-BA39-7CA0FA08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AD5D-A40D-4784-A12D-FA05C3A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4B36-B299-47BF-9428-8D475AA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7BEF-9C50-441F-B8D4-A6DD6BB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8ED0-C234-4FF4-A66F-37D6E286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4133-F9D3-4FF4-A33E-3A241EB6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8BA-5057-43E8-B175-4F09D295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656-8FFA-4FE4-9138-AAEAE042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172-92D3-484F-BA5A-B97A57A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B83-1341-4F7B-9B9D-0236C34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3D9-B1CB-4787-893D-8EA61B37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A4C-3C38-48AA-8EA2-65AD461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1ED-72A4-4C2E-98C2-737CAD3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FF06-BC10-4787-9F1B-A013E77DB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CE23-49C0-490B-9061-EB2174FF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1. O come, O come, Emmanuel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nd ransom captive Israel, that mourns in lowly exile here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until the Son of God app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820800"/>
            <a:ext cx="8915400" cy="50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WISDOM, who came fo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the mouth of the M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igh, reaching from end to en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ordering all things mighti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sweetly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teach u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way of pru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the pat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ledge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s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82080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ADONAI and Leader of the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ouse of Israel, who appeared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Moses in the flames of the bus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gave him the law on Sinai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with your outstretched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rm redeem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Sinai’s he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ncient times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ve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87012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ROOT OF JESSE, who stands for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 ensign of the people, bef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m kings shall keep silence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whom the Gentiles shall mak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ir supplication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deliver us and tarry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eo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thee rul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45576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KEY OF DAVID and Scepter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house of Israel, who open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no one shuts, who shuts and no 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s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bring fo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prison the captive who s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darkness and in the shadow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avid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aptives from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so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ep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295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187280"/>
            <a:ext cx="8915400" cy="440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DAYSPRING, Brightness of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light eternal and Sun of justic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enlighten those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sit in darkness and in the shad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ice 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rse the gloo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ud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371600"/>
            <a:ext cx="89154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KING OF THE GENTIL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ir Desired One, Cornerst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makes both on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whom you forme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dust of the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heart and m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ust thou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ly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117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 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 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 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52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 far and nigh; to us the path of knowledge s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 ways to g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0492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 on Sinai’s height  in ancient times once gave the la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 and aw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 of Jesse’s t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 thy people be;       before thee rulers silent f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 mercy c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 of David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 heavenly home. The captives from their prison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 deep mise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0492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228600"/>
            <a:ext cx="8610480" cy="3522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2117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 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 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 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 far and nigh; to us the path of knowledge s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 ways to g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30492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 on Sinai’s height  in ancient times once gave the la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 and aw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808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 of Jesse’s t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 thy people be;       before thee rulers silent f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 mercy c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 of David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 heavenly home. The captives from their prison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 deep mise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0492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05120"/>
            <a:ext cx="8915400" cy="46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 EMMANUEL, our K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Lawgiver, the Expected of the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nations and their Savior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save us, O Lord, our G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3, 5ab, 6cd, 7ab © 1940, 1943, renewed 1981 The Church Pension Fund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sts. 4, 5cd, 6ab, 7cd © 1989 The United Methodist Publish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ouse; antiphons © 1962 Sisters of St. Bened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1:31:51Z</dcterms:modified>
  <cp:revision>65</cp:revision>
  <dc:subject/>
  <dc:title>PowerPoint Presentation</dc:title>
</cp:coreProperties>
</file>