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32D0-F78E-4981-A9AC-25FEF4E9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ADEC-D663-4952-A55B-0F617C30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640-37AC-41A8-AFB9-8CB6C571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31C-BA39-4EC9-B394-7725ACB0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3F0B-6C56-4C5D-86FE-D9A89EDA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F75-70CB-4F05-BB79-508E2A8E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905D-8ABD-43CE-9938-11153C0F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E08A-CA06-40F3-9696-E6B6A253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16B7-895E-4E43-B089-8A18DC9B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855B-E40C-4C71-A723-41C4DD73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27DA-EB9A-4531-B357-72309F03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959-E570-4237-8409-C86BDB52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19A5-1218-4F52-9674-0BA315896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et’s Sing unto the Lord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Cantemos al Se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ño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6836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et’s sing unto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hymn of glad rejoic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’s sing a hymn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new da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sh begin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6 Resource Publications, Inc.; 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2520" y="1625760"/>
            <a:ext cx="741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arlos Rosas; trans. by Roberto Escamilla, Elise S. Eslinger,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d George Lockwood, 1983, 1987 (Ps. 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himno de alaban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exprese nuestro a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a fe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a esperan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2952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toda la creació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gona su grande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í nuestro can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anunciando su belleza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 ¡Aleluy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371600"/>
            <a:ext cx="89154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made the sky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ars, the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ocea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d saw it was g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ose works w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ed with beau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668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523880"/>
            <a:ext cx="914400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t’s sing unto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hymn of ador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shows our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hop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212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all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been ma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is pra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grea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o we sing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bestows su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ly bless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06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06668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himno de alegrí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cántico de am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nacer el nuevo día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l hizo el cielo, el m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sol y las estrell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vio en ellos bond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es sus obras eran bell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 ¡Aleluy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7:39Z</dcterms:modified>
  <cp:revision>11</cp:revision>
  <dc:subject/>
  <dc:title>PowerPoint Presentation</dc:title>
</cp:coreProperties>
</file>