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2844-3D62-4A18-A013-BDCC68BD9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A207-17FC-4C33-A595-86E191BA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D5AE-2FAE-4FC8-9024-11335BC21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F7ED-3F48-4ADF-B3A8-BDEA766B1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31DF-A752-4AF1-97E3-7D5E7264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A8AF-4219-4A87-BCB1-ECE6F15E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0E5F-2A90-41A0-A3E8-6B671EC6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E65C-38C0-4E28-882E-EE725E07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7F52-9C8E-4E8A-A1D6-6EA9689A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AF46-A2E1-4951-86A8-AE60BF2F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1930-2439-47A6-9D71-0DBD9C4C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CD5F-9B8E-4F94-8C52-F56BD6C7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7660-8B58-413D-B3A6-F7BFF5871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icle of L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4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43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commandm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you love one an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I have loved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apt.  © 1988 S T Kimbrough, J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sponse 1 and 2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L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5600" y="1066680"/>
            <a:ext cx="805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Romans 12:9, 16; Song of Solomon 8:6-7; 1 Corinthians 13:4-8;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Colossians 3:12-14; 1 John 3:18; Tobit 8:7; Psalm 127:1, 34:8, adapt. by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S T Kimbrough, Jr.; Response 1, John 15:12, Response 2, Ephesians 5:30, 31b, adap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927000"/>
            <a:ext cx="86104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the Lord builds the hous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labor is never in v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ppy are those w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ake refuge in Go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ose who ser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Lord are redeemed.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1430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wo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ome one in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e are memb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Christ’s bod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L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49220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56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love be genuin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live in harmon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ate what is evi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old fast to what is go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tdo one ano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showing honor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e humb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never conceit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47636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ve is stronger than dea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jealousy is crue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s the grave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loods cannot drown lo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wealth cannot buy it.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5526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ut love above all els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let Christ’s pea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rule your heart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lways be forgiv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s Christ has forgiven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47636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ve is not jealous or boastfu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rrogant, rude, or stubbor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rritable, resentfu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r possessive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Love is patient and kind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609480"/>
            <a:ext cx="86104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not love in w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r speech onl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love also in deed and truth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Receive each o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sinceri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ind mercy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row old togeth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60020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ve rejoices in the right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t bears, believes, hop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endures all thing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or love is faithfu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endless. 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8:21Z</dcterms:modified>
  <cp:revision>30</cp:revision>
  <dc:subject/>
  <dc:title>PowerPoint Presentation</dc:title>
</cp:coreProperties>
</file>