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AF8-365A-4C86-B4EE-8346540E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749-83E7-4265-AD1F-DBBD40B0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C67-63AB-4F6C-9B1D-C2DA4425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A34-D207-4BBA-82FE-0AD54E16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E255-27EE-4182-938F-2FD7368F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05C4-4B1D-43E6-9D1F-400729FF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016B-08BB-4FAF-8FE3-A856C232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DD9D-4D69-4885-AD6C-D602698E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A3A2-1E83-4A2D-8B7E-ABE8CF90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54E8-0225-43B3-B62F-4CC8D139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1527-A7E4-47F4-AEC3-B388EB9A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915-84BF-4C7C-BF3B-26B630E0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D91A-77D4-44F8-A3AA-74BBC705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AAF0-8800-4DE0-87F4-9E7252BF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C22A-FAE4-490E-99AB-C3C655D6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7FB4-CA45-416A-9055-09219CB2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1E64-51B9-450F-83E5-70A3924B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9DC-42EF-4FF3-9A9A-29E5BDFE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100-2A9E-4EAB-A2BE-417297CF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3B5-091C-497B-A56A-64775A2E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9C1-27F6-48BB-8D99-D456CC10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3A2-9CA5-40E8-8122-20D36141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1103-4C9C-4C89-A848-FE91499E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0524-B446-4717-98FA-3BFB1AAB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76EC-07BF-4489-9F58-EE99D83CD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37F5-B952-48B0-9220-509EDC52F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Song in the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re’s a song in the ai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a star in the sk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’s a mother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ep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 baby’s low c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20880" y="109224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iah G. Holland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star rains 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manger of Bethle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’s a tumult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wonderful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virgi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b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 Lord of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6504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y! the star rains 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manger of Bethle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e light of that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 the ages impear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swept over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earth is a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eautiful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m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rejoice in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echo the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heavenly th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y! we shout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vangel they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cradl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Song in the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432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ere’s a song in the ai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star in the sky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mother’s deep pray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a baby’s low c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20880" y="83808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iah G. Holland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the star rains 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manger of Bethle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04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’s a tumult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wonderful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virgi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b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 Lord of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tar rains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m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6504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y! the star rains it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manger of Bethlehem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e light of that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 the ages impear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swept over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earth is a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eautiful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m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rejoice in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echo the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heavenly th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y! we shout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vangel they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cradl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re’s a tumult of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the wonderful bir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virgin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b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the Lord of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y! the star rains 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e while the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autiful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m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adles a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the light of that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 the ages impearle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at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af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swept over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earth is af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eautiful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home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nation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is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e rejoice in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echo the s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heavenly th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y! we shout to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ly evangel they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e gr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cradl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ior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re’s a Song in the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320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There’s a song in the air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star in the sky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’s a mother’s deep pray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a baby’s low cr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20880" y="83808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osiah G. Holland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02T00:34:31Z</dcterms:modified>
  <cp:revision>8</cp:revision>
  <dc:subject/>
  <dc:title>PowerPoint Presentation</dc:title>
</cp:coreProperties>
</file>