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C7B0-0DD6-495D-A682-7796FA35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88BF-8F48-4E68-A9C6-BC099AE8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7DCE-B443-468D-B7A1-1909798D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4FB1-745E-4D7B-A880-F9B25656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BCE1-D7EC-47F1-AE81-B8C8BB34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F29C-FE8C-46B2-A167-E1651161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C2DD-7F4D-4ED5-A543-8C1882B5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FDFD-FBF6-4B29-971E-01B73643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8815-104B-4166-ACF5-D3D30271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EF62-ABFD-4DDC-812A-C9933266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A688-7E71-4D89-81BB-911CE218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E2FC-4A4F-475A-A9D0-D0E56DAC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7E03-B93F-4046-AF63-333432E51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ar, O Lor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r Servants G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73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Here, O L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r servants gather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and we link with han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58 The United Methodist Publishing House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tic  transcription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Lord, Your Servants G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okuo Yamaguchi, 1958; trans. by Everett M. Stowe, 1958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honetic transcription from the Japanese by I-to Loh, 19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1. Sekai no tomo to</a:t>
            </a:r>
            <a:br>
              <a:rPr sz="4900"/>
            </a:b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te o tsunagi,</a:t>
            </a:r>
            <a:br>
              <a:rPr sz="4900"/>
            </a:b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Jyujika no moto ni</a:t>
            </a:r>
            <a:br>
              <a:rPr sz="4900"/>
            </a:b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tatsu warera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Lord, Your Servants G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apanese Phonetic Trans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Kami no mikuni o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me a te to shi,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Shu Yesuno michi o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susumi yuk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ing tow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avior’s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ed in love we st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see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ealm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unite to pra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our step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you are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Many a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ngues we sp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attered are the l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one in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in love’s dema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Lord, Your Servants G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’en in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app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ing age and yout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teac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well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you are the Tru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ature’s secre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pen w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nges never ceas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, oh w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weary sou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d the source of peac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Lord, Your Servants G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all th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re distre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rn by endless strif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heal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your bal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you are the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rant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 age renew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deathless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us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ork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 us from abov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Lord, Your Servants G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th and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and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eded in our strif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Ma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ur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ur Truth, our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9:05Z</dcterms:modified>
  <cp:revision>59</cp:revision>
  <dc:subject/>
  <dc:title>PowerPoint Presentation</dc:title>
</cp:coreProperties>
</file>