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95A-AAEB-4A47-8E54-70D3B6B1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7A6-E7D9-4207-A0A7-F53E2D5F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4B0-2307-4FA4-82E2-3B7D9837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203-A607-4C0C-95A1-2331FCF7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85F-8696-4DA5-8021-11BDD017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215-0606-4E36-8922-F593C02B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C95-EAA2-43AF-9E8E-D8933051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3591-A5D6-4731-918C-39D9E504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4C3-6A9E-4962-B17C-ADB710BB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750-A329-4F92-919B-8509E1E7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CA3-9901-4685-8BCC-A92898BC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888-25E9-4BC0-8260-C8DA075A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EB11-1B12-495A-90EC-E8AA43ED2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t the Close of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05120"/>
            <a:ext cx="8839080" cy="300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O Lord my God, I thank thee th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hast brought this day to i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ose. I thank thee that thou do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give rest to body and soul.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Close of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3720" y="106668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ietrich Bonhoeffer, Germany, 20th c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100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printed with permission of Macmillan Publishing Company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etters and Papers from Prison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rev. edn. by Dietrich Bonhoeff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3, 1967, 1971 SCM Press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143000"/>
            <a:ext cx="8610480" cy="4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nd has been over me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uarding me and preserving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give my feeble faith and 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wrong I have done this da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help me to forgive all w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ve wronged me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8108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I may sleep in pe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neath thy care, and defend 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temptations of darkness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81040" y="1219320"/>
            <a:ext cx="856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o thy hands I commend m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ved one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mmend this househol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mmend my body and soul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thy holy name be prais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0:05Z</dcterms:modified>
  <cp:revision>17</cp:revision>
  <dc:subject/>
  <dc:title>PowerPoint Presentation</dc:title>
</cp:coreProperties>
</file>