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35C-EBEC-4D72-BDA9-501C6129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286-AC30-4B8C-87D4-7DFFC02E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ED1-94EA-4CD4-AC7B-5E8DD2A3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D1D-CE3E-4C84-9DAB-913B035F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700-C373-4F3A-809C-23C2B401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68F-2C24-4846-A2E1-4F72DA3D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571-2943-4B6B-B1FF-00BBEAD4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320-1F9E-4021-ABCD-CDB31B0A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FAB-9E72-4F81-9AA1-785E1164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2BA-A526-4804-9250-E2A64C6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295-04BA-4379-9FC7-777C8B49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D90-53C1-42DC-A34E-8C4A08E2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116-7EEF-414C-9576-E3B8D8E8B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 God, Your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 God,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, b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ve were ma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Brian Wren, 197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take the tow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eak the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mbl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l us frie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 and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are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how grand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nten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k ti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on s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all wor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rown all th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ord God,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et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ife to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joy to sh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libe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urn from g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ull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fe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aith can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ove is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iving lik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we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marred, dishono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obey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ome, with al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all t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co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lf-inflicted p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oken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osen wr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f-free, half-b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inner ch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cial force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pt a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powers and syst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conf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seeking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 God,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ll our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recei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through some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, or 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by your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l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ain to glimp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mercy s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nd you knee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1:20Z</dcterms:modified>
  <cp:revision>85</cp:revision>
  <dc:subject/>
  <dc:title>PowerPoint Presentation</dc:title>
</cp:coreProperties>
</file>