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1BB-E190-4F16-A579-2401EF9F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1E4-81CA-45BA-8D3F-8BC37B25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B75-55F3-41EE-BC25-C9275C04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558-B33F-4A78-B109-32241DAF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989-A63B-4739-85AD-F51AB64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6DF-7EC2-4FD8-A200-7F8A38E7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BE3-5020-422C-A6BC-82188FCC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CD3-4EE0-4D5B-91D9-65CCE4D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FA9-CE14-432F-A22B-30317791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EFC-8A83-437F-BD88-202DDC7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70F-48D5-4D83-A8D4-D12B415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C11-A6D9-43E0-B57D-73FF314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BF69-261A-4EA0-8AE9-C6644EBFF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Present 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Tabl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able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he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Present at Our Tabl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Cennick, 1741,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eatures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ea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7:39:03Z</dcterms:modified>
  <cp:revision>122</cp:revision>
  <dc:subject/>
  <dc:title>PowerPoint Presentation</dc:title>
</cp:coreProperties>
</file>