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C56-41CC-4DF4-A299-2E758E9B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7B1-5158-4B62-BCC6-ECAE77B7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2B9-FBB9-40A9-91DC-B4618AF9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4A8-0B73-4EAD-B683-CEA85659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1E6-C9C7-4109-9B5F-5B61A94E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8AA-770D-41D4-85F4-7BE6B04D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FD5-EFBE-42CB-BEB4-8B8FFF3E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D78-6111-49EC-BF6C-D2B1B420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4EE-46E5-49F1-8429-74997B4F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063-7B62-42CE-A671-4E3305FF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E75-8F53-44A7-95CD-DB6B1E67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080-F37C-419F-94A8-6D90F27A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33E-EEF5-4A6E-8722-628A3999D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Jesus, I Have Prom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forever nea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0600" y="1143000"/>
            <a:ext cx="512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E. Bode, ca. 1866 (Lk. 9:5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not fear the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art by my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a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path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thou wilt be my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et me feel thee near 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is ever n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the sights that dazz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mpting sounds I h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oes are ever nea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me and with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Jesus, draw thou nea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iel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from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O let me hear thee speak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accents clear and stil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bove the storms of passi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murmurs of self-will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eak to reassur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asten or contro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peak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me list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guardian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O Jesus, th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st promis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all who follow the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where thou ar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glo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re shall thy servant b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ive me grace to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5:57Z</dcterms:modified>
  <cp:revision>18</cp:revision>
  <dc:subject/>
  <dc:title>PowerPoint Presentation</dc:title>
</cp:coreProperties>
</file>