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ADD-A12D-4007-B7B2-C2771A57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16A-9A0A-42D5-BA61-F2F2EEE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843-1BFA-4647-A4FD-88928A72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173-3D14-46EC-8D5A-313307BD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F958-21A8-42B8-B829-8AD1084B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BB55-39C7-45B1-A802-11CCDAFD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EF7F-7116-4BE4-A800-B87506A7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94A7-D715-42DB-8164-22A12EEB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C088-3BB4-443A-8064-B7D05E43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C10B-EFA4-4893-80C5-EAFB30FA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7B16-7A97-419A-8085-8F4F81A9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711-33B7-448D-84AD-1B2E8971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FA36-8B50-4327-8333-706286C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D2FE-B616-43BD-9842-32BFF74E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C43-8CD8-49D1-8395-56CC5B00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E08A-8845-4389-BA16-41BBF241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86E0-D34C-45C3-ADAB-B25742E4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B6DB-3A80-4096-8FC5-C7BCB006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70D2-20AB-42F1-B2F6-976CA0DA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0C50-A17C-4430-86F5-F695334D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41FA9-2BDB-4D8B-8F86-06220955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052B-407D-486A-9B8F-E40FC176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F4D-2DDE-4A96-AD1A-14C100FD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02E3-512A-4D16-B181-88E14EC7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49D3-1B44-4746-9F97-B1F8A510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F17D-3DAE-4527-81C8-6A921223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C80E-9E07-43F2-A1BF-633C8189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0D9F-2A05-44F8-B849-69C2DB9B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1F2F-7EDA-4FD5-95CB-865AB70C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41C2-38CC-4BC6-9994-DE9F0053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19FDF-61FE-4BC8-B04F-0F6398C7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2B69-38AA-4FCA-B2AF-DDB3065C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A082C-5637-4BAF-BBBC-5BD5F027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B95-9BEC-4A90-90F6-F8E7DA55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7D37-969A-4195-9FE2-0E6ECABD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8A70-E24B-4342-AF63-D0E36DB0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5ACF0-6E6E-412E-A8DD-1C5435B3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F1D1C-75BF-4B06-9F91-B16CFFA8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B1A3-50C7-4D28-8646-758C5060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32C3A-2F96-4593-BE8C-970F605B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49AA-D770-4F51-B1E1-D8F54AD9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4946-F6D1-4F08-A6D6-41C2982D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B4C4-BC50-4051-AE21-35EB8A9B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2EF-C9C0-4E97-ABEF-D47F768E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2F1-08A3-49EF-8339-C38A70E2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BCF-1917-40A4-9A19-7E8F31F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49C-CFF2-4A68-ABBA-675026B3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1C8-E8DB-42A7-8FAD-8FE33042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D807-EA8A-4B8F-9626-C82F1C7D9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12AE-9043-4FF2-8BED-55ACE4120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ABF3-EE9D-4B19-81B7-C93916F39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7C41-7A4B-4BAD-A907-5EE42152E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Leaning on the Everlasting A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3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0" y="1676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a fellowship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joy divin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123640" y="121932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lisha A. Hoffman, 1887 (Dt. 33:27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lessed pe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Lord so nea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0" y="0"/>
            <a:ext cx="9144000" cy="576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152280"/>
            <a:ext cx="9144000" cy="512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Leaning on the Everlasting A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3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0" y="19810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What a fellowship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joy div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;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123640" y="121932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lisha A. Hoffman, 1887 (Dt. 33:27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blesse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peac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304920"/>
            <a:ext cx="9144000" cy="346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838080"/>
            <a:ext cx="9144000" cy="273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is pilgrim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bright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ows from day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0" y="304920"/>
            <a:ext cx="9144000" cy="346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9619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blessed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 peace is m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838080"/>
            <a:ext cx="9144000" cy="273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at have I to d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ve I t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blesse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y Lord so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0" y="304920"/>
            <a:ext cx="9144000" cy="3462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838080"/>
            <a:ext cx="9144000" cy="273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ning on the Everlasting A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a fellow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joy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123640" y="121932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Elisha A. Hoffman, 1887 (Dt. 33:27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blesse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peace is m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0" y="685800"/>
            <a:ext cx="9144000" cy="54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974880"/>
            <a:ext cx="9144000" cy="471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how swee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pilgrim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0"/>
            <a:ext cx="9144000" cy="576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how bright the p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ows from day to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609480"/>
            <a:ext cx="9144000" cy="54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0" y="974880"/>
            <a:ext cx="9144000" cy="471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have I to d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have I t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?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ve blessed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my Lord so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0" y="762120"/>
            <a:ext cx="9144000" cy="544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ll alarms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974880"/>
            <a:ext cx="9144000" cy="471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 - - - ing, 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leaning on Jesus,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arms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52280"/>
            <a:ext cx="9144000" cy="512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how sweet to wal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is pilgrim w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;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 how bright the path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rows from day to day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.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0" y="0"/>
            <a:ext cx="9144000" cy="576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afe and secure from all alarms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152280"/>
            <a:ext cx="9144000" cy="512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.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 - - - ing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(leaning on Jesus,)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 everlasting arms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What have I to drea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have I to fear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eaning on th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arms?</a:t>
            </a:r>
            <a:endParaRPr b="1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5T15:18:29Z</dcterms:modified>
  <cp:revision>59</cp:revision>
  <dc:subject/>
  <dc:title>PowerPoint Presentation</dc:title>
</cp:coreProperties>
</file>