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86D-4ACF-4B3A-AA14-3D8EAB21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5B3-030A-4796-9E33-431851D4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2B5-2825-4B0E-9C33-F47D87DB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1D8-A95F-4DCC-9D16-F6373FD2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AC0-84F3-4611-90B4-EA0DDFED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E3B-94E0-4C0C-9FC5-4858DDD0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35D-5FED-49D5-83A6-1EEB1962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629-1DB4-4057-90E9-DA24F155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F1F-FD75-4932-B264-B7841FAB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305-412A-49A9-9A14-777D1732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BC3-CA92-4099-B580-F16C1DC0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5CA-1AA9-4259-A00A-C2B9E74A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7F3E-76A9-4FB0-A7D6-064B432FC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in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0600" y="109224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. Plumptre, 1865 (Ps. 20:4; 147:1; Phil. 4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flo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7652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6:11Z</dcterms:modified>
  <cp:revision>23</cp:revision>
  <dc:subject/>
  <dc:title>PowerPoint Presentation</dc:title>
</cp:coreProperties>
</file>