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0DE7-E586-4453-99E6-0009FB9D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63A8-757E-4F31-8440-B1C4C2C1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146-950B-4BE0-BA98-888E1185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F33F-62ED-40DB-8F41-B48469AB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7302-DDEB-4B38-9258-DCBD11D6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FEE-985F-4E3B-A081-A90355D8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26A9-C55D-481B-9671-5A00E95D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D058-4FF6-49A1-BE2D-F21E8FA9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6BF1-A5A0-437A-A312-75314631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A022-B9FB-422E-859F-472E838C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3A07-326C-47FE-98AE-1EBC52D8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2614-6426-4FB8-A335-179CBFAE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00F4-F54E-4AB4-B0D2-D103EBEAC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neath the Cross of Jesu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ath the Cross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1066680"/>
            <a:ext cx="90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lizabeth C. Clephane, 187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enea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fain would take my st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hadow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ighty ro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a weary land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home with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ilder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rest upon the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burning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oontide he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urden of the da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ath the Cros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Upon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e eye at times can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ery d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m of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uffered there for me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my stric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with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wo wonders I confes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nd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ing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unworthines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ath the Cros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 take, O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had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y abiding pl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sk no other suns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 the suns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face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tent to l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go 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know no gain nor l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ful 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only sh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glory all the cros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2-24T22:53:51Z</dcterms:modified>
  <cp:revision>53</cp:revision>
  <dc:subject/>
  <dc:title>PowerPoint Presentation</dc:title>
</cp:coreProperties>
</file>