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AD4-AFC5-4F3C-823D-AFCE1E31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376-538A-4FE6-91BB-D45FE48B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1D3-D8F5-4D49-9EAC-E880D26E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B42-BF08-49A9-AA31-127727BF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C6B9-7FBB-4304-AB73-70C6ABD8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229B-DC1D-4617-BC91-8DA356A0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CD6F-E08D-4D3F-8596-47E1B2D4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770C-1FA3-4B0F-AD03-8CC5271A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609B-ACF9-49A0-AEA0-5DF30F8E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FC09-A632-4627-BDDF-D2EF58A5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85A2-9CB0-45D9-8D96-B498898B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136-998A-4F37-AAED-DD293B79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8617-4C17-4759-A01F-03B95D5D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7B73-1EAC-4F04-8D36-814FE8EF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365E-4DE1-482B-B214-D2CF5AD2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9126-3D19-4B05-930D-587D97E9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E72D-233F-442A-A7CA-29452A21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628-61C2-4537-BCC4-E8BB3E5C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EB2-889F-424C-8985-B7B9A4BC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9D1-D49A-46EA-B066-E3F27B56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17B-9A2A-40F4-962A-6979656C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92F-BC7F-48A1-B2E7-42683E90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250-A125-464F-9436-BD1FF26E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0CE-7118-4855-A6D9-22BFB95D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52B2-EB5B-46EA-A580-13C479BD2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61B0-A708-4A81-9983-46A144AD0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 of Every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838080"/>
            <a:ext cx="472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W. Reid, Jr. 19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47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God of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every race and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deem your whole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your almighty h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8, renewed 1986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446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re hate and fear divid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bitter threats are hurl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love and mercy guid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al ou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ife-torn wor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From search f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alth and pow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corn of truth and righ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rust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ombs that show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estruction through the night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pride of 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indness to your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God,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Lord, strength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lab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all may find relea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fear of rattling sab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dread of war’s increas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op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age fal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let your voice be hea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aith that none can al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ervants undergi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Keep bright in 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sion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ays when war shall ceas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atred and divis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give way to love and peac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808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ll dawns the morning glorio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 truth and justice reig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Christ sha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ule victorio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’er all the world’s dom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ate and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v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itter threats are hur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and mercy gu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l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ife-torn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rom search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alth and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corn of truth and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ru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mbs that sh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truction through the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pride of 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indness to your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God,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Lord, streng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all may find rel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fear of rattling sa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dread of war’s incr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op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age fal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let your voice be hea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aith that none can al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ervants undergi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Keep bright in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sio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s when war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atred and divi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way to love and pe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dawn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ruth and justice re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le 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world’s dom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 of Every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760320"/>
            <a:ext cx="52578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W. Reid, Jr. 19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8, renewed 1986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002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O God of every natio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every race and l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deem your whole cre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your almighty hand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1-10T02:14:17Z</dcterms:modified>
  <cp:revision>146</cp:revision>
  <dc:subject/>
  <dc:title>PowerPoint Presentation</dc:title>
</cp:coreProperties>
</file>