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65299-6396-4E84-B56C-2B4091380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90FCA-39EB-44B7-B1E9-1E170A584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E77C2-83BA-4990-931F-877D21F00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12F0D-A66C-46A7-9148-8AFCEC74D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23D23-3B46-4D6B-AF46-D618E65DB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80749-D575-4582-8BB0-8A7DB4F3D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0C1B0-9C63-4492-899F-CC081C2E7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25F42-8437-4F4E-A137-181DC52D1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39099-B26B-4A3D-8B6F-70C8B89F8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C0494-CCE6-4BB4-81CA-79E1E77AF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1E0CD-C571-42FA-B210-4717D6F9A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3E868-3C00-4209-B5BC-0B9C67E34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28F9F-4DB4-457D-AA45-C12112EA9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D7F38-02A5-488B-9519-055CE6730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F9DFB-A765-4A60-B7D9-5931FC14B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4F7AB-04CA-4DE3-9643-410CEB501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88F19-4D7C-4C5D-A179-048AA23E7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D70E3-A3FE-4E8F-B2EA-C9FF3AB56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9807B-028D-4238-BA39-78FCD9FE4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48C96-B2DA-454A-94B7-4D83DB6B7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953DA-0552-4BA0-9720-6288D21DA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75B81-CDFC-419E-9D79-A905DAB34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21872-8B4C-4106-9D38-BCF753BEA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0B8DA-C7DA-4089-8EA5-7AF323F1A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A470A-0518-43D7-BE34-1F912F99A3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82F63-DD20-4D39-B3ED-9585E32954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13644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This Is My Father’s Worl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14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1219320"/>
            <a:ext cx="9144000" cy="405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0000"/>
                </a:solidFill>
                <a:latin typeface="Times New Roman"/>
              </a:rPr>
              <a:t>1. This is my Father’s world,</a:t>
            </a:r>
            <a:br>
              <a:rPr sz="5200"/>
            </a:br>
            <a:r>
              <a:rPr b="1" lang="en-US" sz="5200" spc="-1" strike="noStrike">
                <a:solidFill>
                  <a:srgbClr val="000000"/>
                </a:solidFill>
                <a:latin typeface="Times New Roman"/>
              </a:rPr>
              <a:t>and to my listening ears</a:t>
            </a:r>
            <a:br>
              <a:rPr sz="5200"/>
            </a:br>
            <a:r>
              <a:rPr b="1" lang="en-US" sz="5200" spc="-1" strike="noStrike">
                <a:solidFill>
                  <a:srgbClr val="000000"/>
                </a:solidFill>
                <a:latin typeface="Times New Roman"/>
              </a:rPr>
              <a:t>all nature sings,</a:t>
            </a:r>
            <a:br>
              <a:rPr sz="5200"/>
            </a:br>
            <a:r>
              <a:rPr b="1" lang="en-US" sz="5200" spc="-1" strike="noStrike">
                <a:solidFill>
                  <a:srgbClr val="000000"/>
                </a:solidFill>
                <a:latin typeface="Times New Roman"/>
              </a:rPr>
              <a:t>and round me rings</a:t>
            </a:r>
            <a:br>
              <a:rPr sz="5200"/>
            </a:br>
            <a:r>
              <a:rPr b="1" lang="en-US" sz="5200" spc="-1" strike="noStrike">
                <a:solidFill>
                  <a:srgbClr val="000000"/>
                </a:solidFill>
                <a:latin typeface="Times New Roman"/>
              </a:rPr>
              <a:t>the music of the spheres.</a:t>
            </a:r>
            <a:endParaRPr b="0" lang="en-US" sz="5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My Father’s Worl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574720" y="838080"/>
            <a:ext cx="4002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Maltbie D. Babcock, 1901</a:t>
            </a:r>
            <a:r>
              <a:rPr b="1" lang="en-US" sz="22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147780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is is my Father’s world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shines in all that’s fair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the rustling gras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hear him pass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speaks t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e everywher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This is my Father’s world.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let me ne’er forge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though the wro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eems oft so stro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 is the ruler ye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My Father’s Worl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is is my Father’s world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y should my heart be sad?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Lord is King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the heavens ring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 reigns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the earth be glad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0" y="13644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This Is My Father’s Worl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14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1447920"/>
            <a:ext cx="9144000" cy="3141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1. This is my Father’s world,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nd to my listening ears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ll nature sings,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nd round me rings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e music of the sphere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My Father’s Worl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574720" y="838080"/>
            <a:ext cx="4002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Maltbie D. Babcock, 1901</a:t>
            </a:r>
            <a:r>
              <a:rPr b="1" lang="en-US" sz="22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30492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is is my Father’s world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rest me in the though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rocks and tree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skies and seas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is hand the wonders wrough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38088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This is my Father’s worl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birds their carols rais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morning ligh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lily whit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eclare their maker’s prais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My Father’s Worl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38088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is is my Father’s world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shines in all that’s fair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the rustling gras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hear him pass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speaks to me everywher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4572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This is my Father’s world.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let me ne’er forge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though the wro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eems oft so stro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 is the ruler ye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My Father’s Worl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212760"/>
            <a:ext cx="9144000" cy="4208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This is my Father’s world: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why should my heart be sad?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The Lord is King;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let the heavens ring!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God reigns;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let the earth be glad!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0" y="13644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This Is My Father’s Worl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14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1447920"/>
            <a:ext cx="9144000" cy="3141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1. This is my Father’s world,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nd to my listening ears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ll nature sings,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nd round me rings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e music of the sphere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My Father’s Worl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574720" y="838080"/>
            <a:ext cx="4002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Maltbie D. Babcock, 1901</a:t>
            </a:r>
            <a:r>
              <a:rPr b="1" lang="en-US" sz="22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152280"/>
            <a:ext cx="9144000" cy="5215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000000"/>
                </a:solidFill>
                <a:latin typeface="Times New Roman"/>
              </a:rPr>
              <a:t>This is my Father’s world:</a:t>
            </a:r>
            <a:br>
              <a:rPr sz="5600"/>
            </a:br>
            <a:r>
              <a:rPr b="1" lang="en-US" sz="5600" spc="-1" strike="noStrike">
                <a:solidFill>
                  <a:srgbClr val="000000"/>
                </a:solidFill>
                <a:latin typeface="Times New Roman"/>
              </a:rPr>
              <a:t>I rest me in the thought</a:t>
            </a:r>
            <a:br>
              <a:rPr sz="5600"/>
            </a:br>
            <a:r>
              <a:rPr b="1" lang="en-US" sz="5600" spc="-1" strike="noStrike">
                <a:solidFill>
                  <a:srgbClr val="000000"/>
                </a:solidFill>
                <a:latin typeface="Times New Roman"/>
              </a:rPr>
              <a:t>of rocks and trees,</a:t>
            </a:r>
            <a:br>
              <a:rPr sz="5600"/>
            </a:br>
            <a:r>
              <a:rPr b="1" lang="en-US" sz="5600" spc="-1" strike="noStrike">
                <a:solidFill>
                  <a:srgbClr val="000000"/>
                </a:solidFill>
                <a:latin typeface="Times New Roman"/>
              </a:rPr>
              <a:t>of skies and seas;</a:t>
            </a:r>
            <a:br>
              <a:rPr sz="5600"/>
            </a:br>
            <a:r>
              <a:rPr b="1" lang="en-US" sz="5600" spc="-1" strike="noStrike">
                <a:solidFill>
                  <a:srgbClr val="000000"/>
                </a:solidFill>
                <a:latin typeface="Times New Roman"/>
              </a:rPr>
              <a:t>his hand the wonders wrought.</a:t>
            </a:r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0" y="30492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is is my Father’s world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rest me in the though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rocks and tree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skies and seas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is hand the wonders wrough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0" y="38088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This is my Father’s worl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birds their carols rais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morning ligh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lily whit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eclare their maker’s prais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My Father’s Worl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38088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is is my Father’s world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shines in all that’s fair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the rustling gras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hear him pass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speaks to me everywher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4572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This is my Father’s world.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let me ne’er forge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though the wro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eems oft so stro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 is the ruler ye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My Father’s Worl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0" y="212760"/>
            <a:ext cx="9144000" cy="4208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This is my Father’s world: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why should my heart be sad?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The Lord is King;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let the heavens ring!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God reigns;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let the earth be glad!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380880"/>
            <a:ext cx="9144000" cy="436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000000"/>
                </a:solidFill>
                <a:latin typeface="Times New Roman"/>
              </a:rPr>
              <a:t>2. This is my Father’s world,</a:t>
            </a:r>
            <a:br>
              <a:rPr sz="5600"/>
            </a:br>
            <a:r>
              <a:rPr b="1" lang="en-US" sz="5600" spc="-1" strike="noStrike">
                <a:solidFill>
                  <a:srgbClr val="000000"/>
                </a:solidFill>
                <a:latin typeface="Times New Roman"/>
              </a:rPr>
              <a:t>the birds their carols raise,</a:t>
            </a:r>
            <a:br>
              <a:rPr sz="5600"/>
            </a:br>
            <a:r>
              <a:rPr b="1" lang="en-US" sz="5600" spc="-1" strike="noStrike">
                <a:solidFill>
                  <a:srgbClr val="000000"/>
                </a:solidFill>
                <a:latin typeface="Times New Roman"/>
              </a:rPr>
              <a:t>the morning light,</a:t>
            </a:r>
            <a:br>
              <a:rPr sz="5600"/>
            </a:br>
            <a:r>
              <a:rPr b="1" lang="en-US" sz="5600" spc="-1" strike="noStrike">
                <a:solidFill>
                  <a:srgbClr val="000000"/>
                </a:solidFill>
                <a:latin typeface="Times New Roman"/>
              </a:rPr>
              <a:t>the lily white,</a:t>
            </a:r>
            <a:br>
              <a:rPr sz="5600"/>
            </a:br>
            <a:r>
              <a:rPr b="1" lang="en-US" sz="5600" spc="-1" strike="noStrike">
                <a:solidFill>
                  <a:srgbClr val="000000"/>
                </a:solidFill>
                <a:latin typeface="Times New Roman"/>
              </a:rPr>
              <a:t>declare their maker’s praise.</a:t>
            </a:r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My Father’s Worl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380880"/>
            <a:ext cx="9144000" cy="4512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This is my Father’s world: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he shines in all that’s fair;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in the rustling grass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I hear him pass;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he speaks to me everywhere.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5334120"/>
            <a:ext cx="9144000" cy="1523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457200"/>
            <a:ext cx="9144000" cy="436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000000"/>
                </a:solidFill>
                <a:latin typeface="Times New Roman"/>
              </a:rPr>
              <a:t>3. This is my Father’s world. </a:t>
            </a:r>
            <a:br>
              <a:rPr sz="5600"/>
            </a:br>
            <a:r>
              <a:rPr b="1" lang="en-US" sz="5600" spc="-1" strike="noStrike">
                <a:solidFill>
                  <a:srgbClr val="000000"/>
                </a:solidFill>
                <a:latin typeface="Times New Roman"/>
              </a:rPr>
              <a:t>O let me ne’er forget</a:t>
            </a:r>
            <a:br>
              <a:rPr sz="5600"/>
            </a:br>
            <a:r>
              <a:rPr b="1" lang="en-US" sz="5600" spc="-1" strike="noStrike">
                <a:solidFill>
                  <a:srgbClr val="000000"/>
                </a:solidFill>
                <a:latin typeface="Times New Roman"/>
              </a:rPr>
              <a:t>that though the wrong</a:t>
            </a:r>
            <a:br>
              <a:rPr sz="5600"/>
            </a:br>
            <a:r>
              <a:rPr b="1" lang="en-US" sz="5600" spc="-1" strike="noStrike">
                <a:solidFill>
                  <a:srgbClr val="000000"/>
                </a:solidFill>
                <a:latin typeface="Times New Roman"/>
              </a:rPr>
              <a:t>seems oft so strong,</a:t>
            </a:r>
            <a:br>
              <a:rPr sz="5600"/>
            </a:br>
            <a:r>
              <a:rPr b="1" lang="en-US" sz="5600" spc="-1" strike="noStrike">
                <a:solidFill>
                  <a:srgbClr val="000000"/>
                </a:solidFill>
                <a:latin typeface="Times New Roman"/>
              </a:rPr>
              <a:t>God is the ruler yet.</a:t>
            </a:r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My Father’s Worl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0" y="5181480"/>
            <a:ext cx="9144000" cy="1676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152280"/>
            <a:ext cx="9144000" cy="5031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This is my Father’s world: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why should my heart be sad?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The Lord is King;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let the heavens ring!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God reigns;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let the earth be glad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5181480"/>
            <a:ext cx="9144000" cy="1676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This Is My Father’s Worl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14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220968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This is my Father’s worl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o my listening ear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nature sing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round me ring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music of the sphere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My Father’s Worl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574720" y="1066680"/>
            <a:ext cx="4002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Maltbie D. Babcock, 1901</a:t>
            </a:r>
            <a:r>
              <a:rPr b="1" lang="en-US" sz="22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is is my Father’s world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rest me in the though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rocks and tree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skies and seas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is hand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onders wrough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This is my Father’s worl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birds their carols rais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morning ligh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lily whit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eclare their maker’s prais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My Father’s Worl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n</cp:lastModifiedBy>
  <dcterms:modified xsi:type="dcterms:W3CDTF">2011-01-22T12:43:27Z</dcterms:modified>
  <cp:revision>8</cp:revision>
  <dc:subject/>
  <dc:title>PowerPoint Presentation</dc:title>
</cp:coreProperties>
</file>