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C57-BB5A-4152-87C4-99B8F67E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5A2-14B3-425A-B68F-5255ADD6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514-5ADC-42E5-86FB-014862E1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684-08AE-4DB6-9D61-6D96BB2A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0EFD-2996-4EE8-A309-B1989486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D33-F075-4706-ABD8-9ECF66E8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8269-2396-4C3F-A4FB-1DF9D28A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233C-B95E-49A2-A145-794C4D9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61DE-35F1-40A2-83C3-B2733847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85AD-F8FA-4059-B0E3-D15E8E7C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9D97-A137-4791-AA81-8D327E39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BFD-9BFF-4956-9198-41B017CA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20DA-5F50-4925-A93B-9C09FD1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DADE-00B0-46AC-91E9-F3700464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0E8D-D2CB-4543-9B51-9D1F246D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D6E5-B769-49C2-B271-5420DE92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4658-7BEA-4928-8FEC-FC196E01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51F-72D8-41AF-B594-4B32F5B0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B4F-2DF4-4991-9CB5-3536A1DB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2C9-A8BF-4C3A-B109-0E05FA89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B9C-B489-4BA4-B6BE-958F8F5A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3A7-FAB9-476A-B7DF-D8DF3C90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12E-D1FA-426D-8D4E-85C4AC2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573-67FA-46BA-90C5-B8DEBC6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18AA-EEE6-4FC3-BA93-A34732E8B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DDD6-5579-455E-8525-9C233ADA9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96920"/>
            <a:ext cx="9144000" cy="33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the church togeth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300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Richard K. Avery and Donald S. Marsh, 197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t Pentecost some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d the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ld the Good N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who would hear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4000" cy="474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Richard K. Avery and Donald S. Marsh, 197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churc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buil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is not a stee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resting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is a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re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s of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any kinds of fa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olor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ges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times and plac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metim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is mar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ly bu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t’s r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h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it’s le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pr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laugh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crying someti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f it say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t Pentecost some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d the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ld the Good N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who would hear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 church is not a build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church is not a steepl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church is not a resting pl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church is a peopl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We’re many kinds of peopl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many kinds of fac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colors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ages, to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all times and place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Sometimes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urch is march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imes it’s bravely bur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imes it’s rid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imes hid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ways it’s learn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And when the people g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sing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re’s pray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laughing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crying sometim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of it saying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19T00:55:45Z</dcterms:modified>
  <cp:revision>67</cp:revision>
  <dc:subject/>
  <dc:title>PowerPoint Presentation</dc:title>
</cp:coreProperties>
</file>