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1F6-6DC6-4AF1-AE03-DAE1160E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B21-D770-42D6-A4E0-3671E373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430-050E-494B-8CEF-F5F9E8E0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693-332A-429A-BC40-DF1527B1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6B8-29F2-444C-8BFB-839BE753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D73-8DA1-4867-B124-6B2AAE12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C71-628E-45F4-BC14-1437DA2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A0B-BB54-4E4C-9018-A6D13DB8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A21-E636-49F4-87D7-CBD5AB9F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51D-1DDD-48BE-85D9-B8B8B7FD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7FC-14DF-4F3D-8B56-6CD31B64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838-20F2-497E-8D3D-356074AF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13A-C5EC-4154-99B8-4F9ECEF62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orning Star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air and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7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Morning Sta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fair and bri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ou beamest for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ruth and ligh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Sovereign meek and lowly!</a:t>
            </a:r>
            <a:br>
              <a:rPr sz="49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 st. 3 ©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6040" y="14968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 Nicolai, 1599; trans. by Catherine Winkworth, 1863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st. 3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Lutheran Book of Worship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oot of Jes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and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 w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to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sole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and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in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 and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poss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 heavenly Bright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eep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now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n alt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joined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falt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ing doth possess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and bless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s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 and heart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gladne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joy to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 i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rst and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n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g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one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loriou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port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pp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all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r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6:41Z</dcterms:modified>
  <cp:revision>13</cp:revision>
  <dc:subject/>
  <dc:title>PowerPoint Presentation</dc:title>
</cp:coreProperties>
</file>