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914-E40B-4A8F-BBC1-9F6E756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CA6-6825-467E-B01D-6754DEC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F56-F093-49F4-A99B-18761F8C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6A0-A2B2-411D-B86D-3049E8A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2A7-4847-4BEB-B6E8-E8E1C322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137-186B-4427-8C1B-459C9E3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7AF-F0CA-4490-BAED-52D92946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3C2-5178-45A7-A21A-F43311E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CD8-2484-4B30-AA2B-EDB6C816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22A-7167-4186-B6A9-19037BD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777-F909-4381-A83A-54B659A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396-4BBB-46A4-BE6B-DDBE5153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740C-1C86-4115-A691-7F8F6FE2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By M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01000" y="304920"/>
            <a:ext cx="11430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858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harles Albert Tindley, ca. 1906  (Mt. 8:23-27; Mk. 4:35-41; Lk. 8:22-25)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omes a bur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’m nea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illy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 thou Lily of the Valle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tossing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ship upon the sea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who rule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d and wa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700"/>
            </a:br>
            <a:r>
              <a:rPr b="0" i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the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hell ass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strength begins to f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n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st a batt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ve done the best I c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friends misundersta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knowe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l about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en my fo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war arra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undertake to stop my wa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ou who sav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Paul and Sila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. 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21:40Z</dcterms:modified>
  <cp:revision>12</cp:revision>
  <dc:subject/>
  <dc:title>PowerPoint Presentation</dc:title>
</cp:coreProperties>
</file>