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A61-9D4D-48F1-8A2B-55E12E30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B49-6E37-4CAF-A881-B607E509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E1E-DB02-493C-9707-4864F71D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4BF-E93D-43FC-AC88-565905BD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F39-391F-4C83-BC1D-F7D77D98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08F-9D0D-4623-9C32-C61E0705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A43-27A9-4671-96E0-5815870B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9F0-2E9D-419C-BC96-9AA24621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618-A55C-4588-B2B3-D23A3C89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D79-B023-4407-AF1F-1D4102D5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5FA-6FAA-44E4-A1D5-35BFF8BB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60C-A56F-485B-8C86-48036CE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F1C-9B60-46DC-9F4A-B495C0756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Thur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Anointed One, on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night before he suffer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stituted the sacra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his body and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Thur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41160" y="928800"/>
            <a:ext cx="61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Mt. 26:26-29; Mk. 14:22-25; Lk. 17-20; 1 Cor. 11:23-2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rcifully grant that w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y receive it thankful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remembranc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in these holy myster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s us a pledg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eternal life.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0:10Z</dcterms:modified>
  <cp:revision>16</cp:revision>
  <dc:subject/>
  <dc:title>PowerPoint Presentation</dc:title>
</cp:coreProperties>
</file>