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A91-65DE-4B64-9492-ED41BCE7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550-20FD-45D5-ACA7-1ED21DE2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F41-4320-4C39-9B21-495A825C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5AE-4338-485E-8DD2-D9A1E50B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A0BB-0E1F-4A0C-BFE9-D50DB2FB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D233-AE7C-4F56-9A5C-796176B3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953-AA0D-4C43-BBDD-FE88799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3ED1-CA79-40F9-90E1-483809E7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5E02-C359-4518-A15B-3E3253B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2D9-E494-43E2-BB7C-256ADCD9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BFD2-4E7D-4FBE-ABCF-3F5E21C0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9C5-9C4F-4106-AB02-9A26CCE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2C6-56F5-4D49-ACEE-66968C5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61AC-90D8-43BE-AAAE-8FE13E5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4F25-7673-436B-BC59-B338498E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234-D83A-4532-A67C-F490C2D5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1C52-4D34-4309-9838-2B27ABC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407-E6D3-4C7C-9406-C4F1A19F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08E-DA7D-4912-B65C-1D2736D5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239-1431-4057-9FFA-903FA54F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2BC-D226-4866-975B-B7ADEE1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6EB-1A7C-4963-A063-766B473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1BF-048D-47E6-8943-6B432D3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C7BE-62CB-4E95-BEB5-C7D78EE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EFC-D87B-490B-A5B6-02891B40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74DE-5E7A-43B0-B026-723E46B9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03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76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35576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 them flow in ceaseless pra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7600" y="639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17520"/>
            <a:ext cx="9144000" cy="49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silv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y gol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ot a mite would I withhol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intellect, and us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y power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halt choo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364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3. Take my will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make it thine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no longer mine.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ake my heart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is thine own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it shall be thy royal throne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Lord, I p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t thy feet it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reasure-store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ke myself, and I will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, only, all for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ake my life, and let it b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secrated, Lord, to the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my momen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my day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m fl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ceaseless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7600" y="990720"/>
            <a:ext cx="57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ces R. Havergal, 1873 (Rom. 12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impulse of thy lo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ft and beautifu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m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, only, for my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my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messages from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05T14:04:50Z</dcterms:modified>
  <cp:revision>22</cp:revision>
  <dc:subject/>
  <dc:title>PowerPoint Presentation</dc:title>
</cp:coreProperties>
</file>