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341-2079-4B9A-AE31-2BA8244E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AF0-B67F-4972-904E-B52F40F1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1CC-EF8A-4647-978A-3605BD43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A60-E1A1-48C5-859F-21DACA85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0B8-4BD6-429D-9736-C21C962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D84-90C0-4864-8CFF-B164273F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C10-1456-4A69-9F14-A9FC8C24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2CF-5801-400D-B81F-1D319BE3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095-A710-4B8F-83A2-DAC163C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6A2-7CA5-4072-88EE-DB795FA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BA5-FD97-457C-BB25-48A2193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E3B-9DEA-4614-8C7F-7091ABB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0503-38F1-417F-8095-9D10AEE07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Meet You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meet y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a gu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image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imple and w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4000" y="109224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ive in a pa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ist in a sh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, the garde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ree on your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illion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and abro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volved in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ive down the 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risoned in syst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ong to b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bearing your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hear you, O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ony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freedom you ma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iots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ce in the pa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ad and we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ee must be pla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uman dec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ou choose to b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 of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s for your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dea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r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ve your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ee spring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hope is rest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59Z</dcterms:modified>
  <cp:revision>13</cp:revision>
  <dc:subject/>
  <dc:title>PowerPoint Presentation</dc:title>
</cp:coreProperties>
</file>