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6C1-1063-4489-B739-87E5429A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441-BF58-4049-B9D8-092D5E7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4F1-6C32-47AD-93A5-EE573952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B30-6224-4AE5-9DD4-CA062F6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B5AB-BB6D-4D0C-85AE-FFB0385B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F364-1470-4D6C-B1DE-9ED12782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F3A-868C-4CFB-A86D-66022C1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8AAB-3A45-4EDB-A08F-8638125A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9224-A9A3-4E0E-A6C2-253CD767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AB4A-A063-4347-BD27-5114376D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E61B-81C1-49FE-9E2A-E0DF591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12F-132C-40D5-B88E-E25C8F7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9F2-F586-4A0A-99FE-9C81ADA3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8D2-AF5C-4581-B97E-698886C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079-AF6C-48A3-9188-73EEE4F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1856-5E42-4018-A9F2-31CC4DD3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458-A19E-4685-874B-C9B9AD6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E13-9EE8-45EB-97CF-FE10F573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D0B-8E19-4E60-9C0F-0E3D0CE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152-43C4-4210-875C-770160E1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B1F-C612-4D91-8C75-70FBF1A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6D1-0C7E-4057-8B74-D239BF8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C6E-A3FC-491D-A170-BB4B30B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429-083A-479D-823E-6055D043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5A68-48BD-437F-90CC-C985F09CB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AB33-D0B9-4E2F-AB7C-6F6856843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bl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holy name she bl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31T21:49:30Z</dcterms:modified>
  <cp:revision>17</cp:revision>
  <dc:subject/>
  <dc:title>PowerPoint Presentation</dc:title>
</cp:coreProperties>
</file>