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513-B53F-454D-A81D-9A1C587D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E11-B0F8-4A81-A24E-569AEA0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5A7-4E2B-4BB8-99D2-440D7C8D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4D4-75C0-499A-8B3C-D861945F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E71-4ED4-49E6-8F67-F3D3F3B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AA7-0B03-4B2B-A112-41CFBD3E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4F1-A5AD-4DEE-9EF3-1FD01D58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67E-B452-4207-B796-7F467AA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97F-BAED-4658-B9EB-551E67F0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C9C-37D7-4A46-81AD-03E0ABD4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5B7-2711-4F07-ACF6-F210FD3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DE0-969C-434B-A712-10E1B47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893-DE7E-4C29-9A5E-A3B58AEC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llspring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llspring of Wisdom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our c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way ahead 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arched and dr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a source to satisf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Medical Mission S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9000" y="1863720"/>
            <a:ext cx="7686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hirst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nctifying wa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for your faith-fi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s and daugh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wn of a New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t to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rro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nuclear n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r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1863720"/>
            <a:ext cx="5654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uddle clos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the lamp of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hig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arden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ifts a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cred sig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all ar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hole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holy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9000" y="1863720"/>
            <a:ext cx="6784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earn, from all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x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o grow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ing seeds of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Call to Com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urning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ur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empt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th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9600" y="1863720"/>
            <a:ext cx="5283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oclaim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am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36Z</dcterms:modified>
  <cp:revision>39</cp:revision>
  <dc:subject/>
  <dc:title>PowerPoint Presentation</dc:title>
</cp:coreProperties>
</file>