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507-7F68-4A06-8633-6CFE06E4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EF7-F344-478D-A3E6-CEEAB93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445-C451-4421-99A7-33B24196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899-42D2-4E64-B7B6-C8E64AD1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9CBB-52D6-479F-B8DE-36CF19B3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518C-DBB1-470F-BE2C-85FCFF93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3010-FF9C-4408-86DE-831D856B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1421-0217-443C-8DC9-956DCDAF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8B42-32AB-4FD9-87AC-72A9B545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48E8-771E-460F-AA39-6F09F925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29DC-300A-4806-89BA-4DE9613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787-9482-4051-B36D-031B4C55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331C-7754-44FA-8EB0-69D12D9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D302-8973-4E44-8850-5C54102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7E25-6E02-422D-BD0A-9B262AE3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6CDB-CF5C-4779-99D5-62061FC3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98E7-11F2-47C9-9EDF-F2D76FE9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797-1408-4810-89EC-C3E6B0D8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9A6-941B-4803-91D8-90CE30B3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D42-F246-489B-9841-29F5461F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05E-B416-475F-80BC-0246EE1C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71A-6FBA-4B0E-9C51-66B7785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98D-50D1-47BA-8992-D3B07DE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EBC-FF61-4F40-A0F3-8E4A2BA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B877-5F64-4292-82B8-DE37C765C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E3DC-48CC-4998-96B4-5406173BD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ome with J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400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come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eet 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given, loved and fr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 (1 Cor. 10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s his peopl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e worl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ome with J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46280"/>
            <a:ext cx="9144000" cy="270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come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eet 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given, loved and fr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92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 (1 Cor. 10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we and wo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rec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3716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I come with Christia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and near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find, as all are f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ommunity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s Christ break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bids us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rou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vision end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ma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u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 are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thus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meet our Lor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prese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ways near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205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in such friend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tter known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 praise him he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ogether me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gether bou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go o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fferent ways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we and wo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rec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4446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s his peopl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e worl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 and speak his prai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I come with Christia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and near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find, as all are f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ommunity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s Christ break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bids us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rou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vision end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ma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u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thus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meet our Lor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prese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ways near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in such friend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tter known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ogether me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gether bou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go o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fferent ways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2-03T04:35:03Z</dcterms:modified>
  <cp:revision>120</cp:revision>
  <dc:subject/>
  <dc:title>PowerPoint Presentation</dc:title>
</cp:coreProperties>
</file>