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1E57-3599-4C6B-B9C6-3E7C8E993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E5BA-5DFC-42F3-AF9D-45F9ACD4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24C7-D5B4-4421-A362-5F2988D43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2ADE-42D0-45AB-82C3-F9DA952D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C531-7A3B-4685-999E-CA19EC70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D801-6EEA-41B8-991C-ADA56902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5FCE-F22F-4A9F-9E10-BECCBF6C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B1A5-2070-4C97-BE07-9FF58010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1CD5-B7FE-4103-921F-702F7B07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C2A6-9C83-4EA7-A088-A9A80A1C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CF6A-648B-46A9-A551-0C0DAC2B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BFD2-C9B6-4481-8AA6-A78FF36C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546B-C7B2-4D1E-A3F1-37CF06FF1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Bread of Lif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All Is Bro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92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e bread of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ll is brok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drank the c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Golgoth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onetic transcription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ead of Life for All Is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Timothy Tingfang Lew, 1936; trans. by Walter Reginald Oxenham Taylor, 1943;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phonetic transcription from the Chinese by I-to Loh, 19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race we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pread with rever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holy fe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us rememb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odly f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eek thy prese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rts distr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people’s grief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ead of Life for All Is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oly fac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ined with bitter tear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uman pain s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rest thou wit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we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thou among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en our ey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ly appea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ead of Life for All Is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mmanu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’s joy unen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life with t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 blend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Jiu shi zhi shen,</a:t>
            </a:r>
            <a:br>
              <a:rPr sz="5000"/>
            </a:b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wei zhong-sheng bokai,</a:t>
            </a:r>
            <a:br>
              <a:rPr sz="5000"/>
            </a:b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Zai Gu-lou di,</a:t>
            </a:r>
            <a:br>
              <a:rPr sz="5000"/>
            </a:b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tong in ku-bei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ead of Life for All Is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hinese Phonetic Transcriptio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Meng en xin-zhong,</a:t>
            </a:r>
            <a:br>
              <a:rPr sz="5000"/>
            </a:b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feng ming chang ji-nian,</a:t>
            </a:r>
            <a:br>
              <a:rPr sz="5000"/>
            </a:b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Jing she sheng-yan,</a:t>
            </a:r>
            <a:br>
              <a:rPr sz="5000"/>
            </a:b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zhui-i dang ni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3:49Z</dcterms:modified>
  <cp:revision>134</cp:revision>
  <dc:subject/>
  <dc:title>PowerPoint Presentation</dc:title>
</cp:coreProperties>
</file>