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A57-80B9-444E-AEC5-83C09866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C8E-7CDA-48E6-B42E-FD7FC45D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9DA-8523-4BA0-8BE2-81CDCF7C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B72-9377-4CA5-816E-4378EDDD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C50-B520-454E-89D8-DD52818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C2F-84A3-4B81-8B93-FB121A2A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595-79FA-4CC3-8EDE-04F9DE10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997-F690-42A7-B053-59BE9E31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9C0-54A9-426D-B421-9D63CAA7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013-E34B-48B7-BCBB-BBE2D42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586-3465-4644-9A1E-ABDBD3D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079-97DD-4C59-8CE3-49C9395F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66C1-5EC0-46BA-B8D1-C4F492057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s Es Mi Rey Soberano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O Jesus, My King and My Sovereig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32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gozo es cantar su l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2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icente Mendoza, 1920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Esther Frances, 1982, and George Lockwood, 198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ft all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at my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 surrend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ve cual herm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jando su tro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gl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vino a sac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a esc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, ¿qué pud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dar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tanta bondad para mí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¿Me basta servirte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art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¿Es todo entregar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0:30Z</dcterms:modified>
  <cp:revision>11</cp:revision>
  <dc:subject/>
  <dc:title>PowerPoint Presentation</dc:title>
</cp:coreProperties>
</file>