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4E6-5EC3-4F4F-9102-A7E55291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002-7E07-49F4-A5C4-67A2E23A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C85-5A0D-450C-897C-FDBCC73B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79C-09D2-48DA-B9AD-A7B47522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E04-9D6B-44F8-9488-CF068A1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4D7-7ACF-4E88-8792-B75D562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B10-C861-4BAC-A75D-9D577E6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447-9FFE-456D-AFC9-978DC44E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372-14D0-45FE-B482-7F1593D7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72E-9B0A-4954-AF9F-BACAEB1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EDC-2D9C-45BF-95AC-687AC07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94-AFB1-4CAC-A409-D6314AB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1D8-00BA-486D-814E-E8C0DB0D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um Ba Yah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ome By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98320" y="1676520"/>
            <a:ext cx="434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55160" y="2239920"/>
            <a:ext cx="7032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03920" y="2239920"/>
            <a:ext cx="6534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4120" y="2239920"/>
            <a:ext cx="6395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7320" y="2239920"/>
            <a:ext cx="7209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62440" y="2239920"/>
            <a:ext cx="6819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4120" y="2239920"/>
            <a:ext cx="7296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6:46Z</dcterms:modified>
  <cp:revision>37</cp:revision>
  <dc:subject/>
  <dc:title>PowerPoint Presentation</dc:title>
</cp:coreProperties>
</file>