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8D4-2E6B-4FEA-BA49-9DD79B9D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47B-E286-4FEC-B24E-80687A23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874-C131-4F32-B2FE-DC0B4F99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C63-F8B2-45F5-9C1B-852B5869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B65-73FA-4057-AD02-A071922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7A9-EF94-44D0-880E-B2C664FA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B3E-D04F-4C3B-8EC7-DD439258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AEA-9A49-410B-90B5-BC677B04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4DF-A60A-411B-8116-886EE485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FAA-A127-46C4-885D-47DE77C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EC1-01B3-40BC-AF0C-CA09A9D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55D-9AF2-4D98-BBA7-E9B5D22B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D9A5-FA94-4A55-89DA-8CA897D63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Priceless Trea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priceless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purest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st friend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Franck, 1653; trans. by Catherine Winkworth, 18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my heart hath pa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t well-nigh fa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ing aft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 a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otless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to h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for n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ine arms I rest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es who would mole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reach me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earth be sh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 be qu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alms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 and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onflict f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ir heav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ms assail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not fail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nce, all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d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enters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ho love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ave peac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re must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in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purest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priceless treas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14Z</dcterms:modified>
  <cp:revision>59</cp:revision>
  <dc:subject/>
  <dc:title>PowerPoint Presentation</dc:title>
</cp:coreProperties>
</file>