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52C-10BA-4168-AE2E-ADA91E8E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044-B1E2-4DE5-A419-DAFAF881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D79-E241-4181-9BF7-F09286C1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9A3-991F-45CF-9D67-FAFE7A45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6E97-3E12-4B5A-BDE3-6361A262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13C0-6F59-400E-83AF-77681694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3B83-7565-4828-8038-B7482B8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2D8E-C17F-433B-8570-317AF6CD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ACF-42DE-4557-B9F8-393455C1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E927-E76F-4827-87AD-439432E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9F21-B06E-4B62-933F-E0CD229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DE9-9043-4417-8BDD-9B7BCCB4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E6B9-CA67-45B0-8C54-2AD9943D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C8A-7C73-4675-ACB1-A8029B8B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2EEC-C4DB-4B51-A027-988B2A7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925-5101-49E5-8857-02A3E113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6B89-D4D0-45C6-A7F4-894B04BC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868-0F19-4347-8D5C-52FD67BB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C62-62E4-4B19-BEB5-A3FDC41B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0A3-6298-456D-81EA-1008CB87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F94-B42F-4BDB-AD57-B7C03C7F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1A0-ED07-4B2D-92FB-BC602A3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E59-B8D3-4469-B3F9-2213315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A05-1AD5-4D83-9334-3F7CD80C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7CC-6397-451A-812B-689CBBE9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47A-6EE6-4332-8D38-7F79212AF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717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O Spirit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light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re divi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1000" y="1066680"/>
            <a:ext cx="46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Henry H. Tweedy, 1935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anguage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ay underst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love speak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ud and clear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 every age and 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ace and cli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all blend the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reeds in o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arth shall form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e fami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whom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ll is do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So shall we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power of Chris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o came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rld to sa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 shall we rai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him to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so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yond the gra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arth shall w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rue holi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makes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ildren whol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907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, perfect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e, we rea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reation’s glorious goa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Spirit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iving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ou ligh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re div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000" y="1066680"/>
            <a:ext cx="46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Henry H. Tweedy, 1935 (Acts 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 up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once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ly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it wit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righteous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escend upon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urch once mo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ke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ruly thi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Christ shall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an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low, wind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isdom b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our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mists of 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of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lin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, winged fir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p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ming love and ze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ach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good ne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onw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us to u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ruth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nguag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sp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and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very age an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ce and cl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lend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eds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shall f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m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shall we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ower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me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to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ll it with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joy and pow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righteous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eac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o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shall w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holi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make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whol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perfe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,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o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go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ill Christ shall dwe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human heart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in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rrow ceas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Blow, wind of God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wisdom bl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ntil our min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re fre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mists of err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louds of doub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blind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yes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21932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rn, winged fire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spire our lips 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laming love and zea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each to a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great good new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’s glorio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mmonwea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Teach us to utt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ving wor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ruth whi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may hea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0T00:47:02Z</dcterms:modified>
  <cp:revision>12</cp:revision>
  <dc:subject/>
  <dc:title>PowerPoint Presentation</dc:title>
</cp:coreProperties>
</file>