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24B-E4DC-4B0B-BEA2-2B33AFA4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A62-B334-458E-8424-DA9E1D86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D9B-9AEC-4163-91C4-B0520056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6D4-8F8F-4682-849B-2A8AB0FE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895-EE68-4313-9189-13D8EA1E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353-67BA-45A4-AA5B-C5CFF0F9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4BD-E0BE-40CD-997A-300DEFC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5D7-18F4-4BDA-BE41-5CBBBC79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95E-1799-4607-BD64-C6380B8C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3A9-FC3A-4C13-B391-875527E3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C9B-8C44-48D0-903F-71D7E03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A3C-FFAC-4A8D-83E4-575780D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86D4-5D9B-46C9-9F0A-6801B00D5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Head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Was Crow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Kelly, 1820 (Heb. 2:9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head that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crowned with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crowned with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65840" y="2239920"/>
            <a:ext cx="6412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of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ery 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e cross he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life and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sha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to h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79080" y="2239920"/>
            <a:ext cx="658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eople’s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eople’s w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everlasting the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oy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adem ad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ctor’s b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highest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eaven aff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ong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rd of l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joy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well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all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18880" y="1859040"/>
            <a:ext cx="510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ests h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to k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the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its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it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98080" y="1859040"/>
            <a:ext cx="4947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name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ey suffer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Lord be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ign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4T19:46:02Z</dcterms:modified>
  <cp:revision>84</cp:revision>
  <dc:subject/>
  <dc:title>PowerPoint Presentation</dc:title>
</cp:coreProperties>
</file>