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92A-6ED8-49BE-9376-1C0330BD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13D-109A-4FA4-BCBA-E518121D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165-835D-4C9E-917B-B6887C25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804-9B38-4CCA-8FC0-3DA95892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400-8425-45CB-87C9-5D924DE3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273-E922-4719-B165-483E0D77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7E2-33A7-4BCE-99FF-7473FDA3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485-C466-41A5-86BD-B4609932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3C7-F7BB-4FF0-B12E-6173D24E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137-67A4-402F-95EF-289DD282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EE8-E3E7-4F3B-804C-86C6CDF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FE8-6B85-4A25-BE95-89153128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49F8-84E3-40C3-8A50-60C2DCC1B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Are We Yet A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And are we yet aliv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see each other’s face?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Glory and thank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o Jesus giv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his almighty grace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Preserved by power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ull salvation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gain in Jesus’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we jo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his sight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hat troubl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we se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mighty conflicts p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ghtings withou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ars with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ce we assembled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et out of all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brough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his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he do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help aff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des our lif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n le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our bo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s redeeming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ave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utterm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can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et us take up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we the crown obt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adly reck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ings l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e may Jesus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9:16Z</dcterms:modified>
  <cp:revision>58</cp:revision>
  <dc:subject/>
  <dc:title>PowerPoint Presentation</dc:title>
</cp:coreProperties>
</file>