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D6C-538D-476C-AB3E-6292E4C3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5CE-20A9-4456-8FBF-A36ABD25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493-A363-447B-B614-60DA9951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035-93C3-4D11-965B-9C7CA4E5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19A-8A51-41BC-AEF3-96EAE73E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5CD-F779-4101-A2F1-2A3F9405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CA4-55BF-4947-B31A-52D0CAE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129-4834-4E86-8F39-64112AD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99F-DE4E-4B7D-853B-774E887D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952-F865-4BF8-B5C1-1116914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659-5782-4283-915D-C2FEA3D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297-966D-404C-AA54-8D7EAB8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8AB3-D210-4EB5-9BBB-42B573AB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Back Quickl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Young Taik Chun, 1943; trans. by Sang E. Chun and Ivy G. Chun, 1988 (Lk. 15:11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how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ins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how burden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 sin he cannot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r sinner not accep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bo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loving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uch gre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all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waits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is do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ept open w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anxious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day and every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a chil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gone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you thin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you have sin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ren’t fit to be his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ll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 big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s you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, come back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pen 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back quick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3:06Z</dcterms:modified>
  <cp:revision>99</cp:revision>
  <dc:subject/>
  <dc:title>PowerPoint Presentation</dc:title>
</cp:coreProperties>
</file>