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5A7-7B1F-4A00-9C31-015E3801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E77-FDF3-4632-AD13-2D5DABC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B9B-342C-40D5-9CD5-1FD10490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478-CCBD-4FFE-8BE9-1AD79076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136F-9BED-4D48-AEB5-7FBF9779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C499-D869-4CC8-BF71-04C9115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3624-7809-4D10-94ED-FC4AD46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D53-E7A5-45CB-9872-E32BAB8A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F588-B789-4C0E-82E2-A7AFA1E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A557-6923-45E0-91AA-B2FF5EA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EF4E-834F-4C61-A5EC-BC45147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C15-075E-4649-90EA-9E01E43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131-1E73-4C1B-BCE0-3DDB812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2ED-F583-4024-8162-5122266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9FC6-0A13-41D6-85E0-FC65CC3A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04D6-972D-4EF9-B69C-B7A25E93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4AB8-7878-4CD6-9790-67D6F26F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968-3F20-4B04-889E-2E2AC91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026-D6D9-4474-A574-27ACEBA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29E-A360-4C4B-83B9-AF3B5E6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574-EE56-4752-80C7-908DF95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475-7EB6-47F1-99FF-CA6D5BB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B4E-BC1A-4BDA-A93C-8273BED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8FE-CC77-49CD-9140-B619243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2BEA-B5CE-49F5-8907-80956C00A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1A69-59FB-44EC-969A-09C738B9E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45:48Z</dcterms:modified>
  <cp:revision>96</cp:revision>
  <dc:subject/>
  <dc:title>PowerPoint Presentation</dc:title>
</cp:coreProperties>
</file>