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7F8-96DE-45B3-9669-658E79D6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C86-AB9E-4F4B-9271-F6C65A88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34D-C251-44E2-A8EE-550338D3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B9A-2126-40A5-80D1-90AF3D56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EF6-80C8-4294-8321-F544AB4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ACB-890E-4F3D-B16C-80DF0FC2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D70-82DB-4592-BE8E-A1E6AD09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676-A759-4501-84E9-C84CE1E9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D45-A2A2-4F63-BA87-EF0D366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3E7-7B92-4170-B21A-08C286BE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55E-F4FB-413F-A508-2FFC61D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AFA-041A-4E92-98DE-0AE0AD2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CB2-70AA-48AC-8C97-519D4A88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8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 our deliverer, you 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of old through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and brought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promised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768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907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e now the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, following our Savio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walk thr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of this world,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the world to 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oly Spirit,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15Z</dcterms:modified>
  <cp:revision>14</cp:revision>
  <dc:subject/>
  <dc:title>PowerPoint Presentation</dc:title>
</cp:coreProperties>
</file>