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E60-F06C-412B-8310-EFD761E1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A3B-47A1-4CDD-A4A3-71574A99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339-488E-42BF-BB20-97101403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88F-105E-49C6-8C33-7541534B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8B2-CDE1-436E-BE51-C0EC17E8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732-CF42-4FE2-B16E-A09C9718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F15-A9D6-4CDC-8A05-BEE636A8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558-3701-487E-8B0D-1A74EDB3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B2D-ADBC-427C-8AEE-D4B53E8C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909-623B-4B98-9D58-8A886D70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58C-2722-458B-8161-18783D0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157-99F1-4419-977A-25A667C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1C3E-7655-413F-BE97-5BB67F5F7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76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o the Lord’s Anoin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219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 to the Lord’s Anoint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David’s greater Son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ail in the time appoint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is reign on earth begun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30920" y="7462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1 (Ps. 7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t the captiv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ake away transg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ule in equit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come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cor sp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suffer w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lp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id the weak be strong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them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g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darkness turn to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and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precious in his s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e shall co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h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fruitful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joy, and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fl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ring in his path to birth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m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eace, the herald,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f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ll to valley fl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him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un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aily vows a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incr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kingdom without en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de of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venan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ame to us is lo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brea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t the captive fre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ake away transgr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ule in equit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comes wi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uccor speed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suffer wro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help the poor and need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bid the weak be strong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731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them songs for sigh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darkness turn to ligh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soul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and dy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re precious in his sight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He shall come dow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howe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fruitful earth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joy, and hop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flower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ring in his path to birth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604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mounta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eace, the herald, go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ighteous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fountai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ll to valley flow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him sha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uncea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daily vows ascen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 still increa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kingdom without en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de of time shall nev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venant remov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foreve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ame to us is lov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o the Lord’s Anoin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David’s greater S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in the time app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reign on earth begun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30920" y="10047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1 (Ps. 7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2-04T00:55:44Z</dcterms:modified>
  <cp:revision>52</cp:revision>
  <dc:subject/>
  <dc:title>PowerPoint Presentation</dc:title>
</cp:coreProperties>
</file>