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43B-A0D7-4B0C-A3DB-CE569DE2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702-C485-40C4-A43B-93AE7573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FA2-34D1-4CE5-899A-93C2A77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3B5-2A3D-4D92-943A-C2E01BF9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6AE-A9A7-4078-A7AB-928F636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92D-156F-445C-8C93-138B5281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6E6-0403-4390-8AF1-BBD20F8C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4A1-A4CD-4A17-8DEA-8AB4CFB6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E16-8016-4DF3-9A7A-26220E94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DF1-344E-4033-B50F-9A266D0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9D0-F9B5-4ADD-B7C7-878FE32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6CA-3D5D-42FA-89EF-12AF261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C38-BCC8-4AB6-82AA-C6DC4C810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o, Lord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Do, Lord, do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do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Lk. 23: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t a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ook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2:03Z</dcterms:modified>
  <cp:revision>55</cp:revision>
  <dc:subject/>
  <dc:title>PowerPoint Presentation</dc:title>
</cp:coreProperties>
</file>