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A05-12B0-4F88-B7E3-EE6FCAE9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335-C64A-4BF8-A77A-7FFC87A1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A50-1EF2-423B-AD25-59BD47FB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156-49FA-4E60-9097-F7CB055D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A0C-AB50-47F9-B888-BF3D6905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3A7-C920-4EA8-A6FD-536210EB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AE9-E3F7-4D91-9BDD-58DDB621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8E7-D8D0-4C9F-87CA-2AA27A61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A05-A62F-4D2B-87AE-BD757EFF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BFF-E7A3-4151-929C-A9EFBCDB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FEC-2C20-449A-A766-4317AB59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0C0-D32F-4E42-8922-71238C9F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D4E9-683A-4522-B3FD-60D0DE195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trife Is O’er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ttle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7652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on. Latin, trans. by Francis Pott, 1861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strife is o’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attle d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y of life is w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ng of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gu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powers of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done their wor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rist their leg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dispers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shouts of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outburs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three sad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quickly sp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ises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risen Hea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by the strip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ound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th’s dread 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ervants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ay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 to the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5:39Z</dcterms:modified>
  <cp:revision>62</cp:revision>
  <dc:subject/>
  <dc:title>PowerPoint Presentation</dc:title>
</cp:coreProperties>
</file>