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3213-DD71-4C82-855D-00F4627C8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13D6-52E5-4767-B76A-3CA55363A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7FC2-9F96-4988-92C0-CCC569CB7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F377-642C-4A3E-8A13-BC19F2D21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449B-75A3-41E5-8A73-327E49A37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6B0A-6485-4968-9EE4-142B63BDE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B183-32E9-49CB-ABC9-0235E2A57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82B8-C9EF-46AF-80DA-97CF54258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BD78-91AA-4456-9AC1-1E5E4AFE2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2520-4929-4679-BEA6-DC61A2E7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B258-DC9C-4164-B49A-6B4BEAB4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063B-A1CD-416E-B5CB-33743E3D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F9403-F490-48F6-9065-5439E7E19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rayer to the Holy Spir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2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055960"/>
            <a:ext cx="88390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Great Spiri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hose breath gives lif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the worl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whose voice i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eard in the soft breeze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yer to the Holy Spir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82880" y="990720"/>
            <a:ext cx="3402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Trad. Native American praye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need your streng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wisdom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ause us to walk in beauty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ive us eyes ever to behol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 red and purple sunse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187280"/>
            <a:ext cx="88390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ke us wise so tha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e may underst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hat you have taught us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lp us learn the lesson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you have hidde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every leaf and roc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ke us always read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come to you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ith clean hand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steady eye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370160"/>
            <a:ext cx="8839080" cy="413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 when life fade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like the fading sunse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ur spirits may co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you without sha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9:55:00Z</dcterms:modified>
  <cp:revision>22</cp:revision>
  <dc:subject/>
  <dc:title>PowerPoint Presentation</dc:title>
</cp:coreProperties>
</file>