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2C5B-5580-4FB7-BF2A-19583A68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CB1-49A1-4024-9E53-1CEE23A6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D6DE-AE40-46E7-B6EE-F796CB9A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F5A3-BB04-457C-A126-BC0B58B6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1DC4-E658-485A-89D6-EEDE91D7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63CF-F18C-42EA-B53A-2AD9610A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96EB-C0F3-4119-9B60-0B460E8E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C657-24E9-402E-9A10-C4BD6C41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A257-531F-4A40-A6AA-F68C4637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E62D-4903-4B36-A1B2-0C1C0109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C835-D10D-4A8E-A88A-5A75CB0F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37C-14DC-4C0B-AD84-A0A53262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0F0F-DB9A-4E2F-98CE-2E7F1A2F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029B-AFFF-4B19-AEA4-BE2977FE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616B-0724-4E27-BC00-C67DF00C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8FE3-5891-46AB-AEC6-64885428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5993-9A0D-443C-80EF-86EC97FB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36D-DF8F-4E58-94E1-A4ED8ECB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A7D9-FBB2-49BD-8AD4-100C5C1F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973-2ECE-46C6-BC3C-1E3E9F43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66F-E4B1-45C3-9596-B0C639A7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893D-42D0-4A22-A3EC-6DBA9A18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A63-3349-4FD0-A978-DC20A553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3A0-7DE4-4A38-BB81-D8DE59DF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2B10-F9F8-4F72-9DE4-984D41E75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4EF7-F446-4BBE-8AB3-187F5A2C4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We All Get to He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 the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of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his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3000" y="85248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liza E. Hewitt, 18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808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We All Get to He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 the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of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his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33000" y="106668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liza E. Hewitt, 18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mans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nd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ll prep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a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44792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ing that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si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 the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ile we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ilgrim path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uds will oversp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k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hen trave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s are o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shad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s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4792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ing that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si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 the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t us 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rue and faith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ing, ser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one glimps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in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the to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rep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mans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nd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ll prep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a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67652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ing that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si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 the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nward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ze before 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his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beho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the pear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will op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t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eets of g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60020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ing that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si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 the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2280"/>
            <a:ext cx="9144000" cy="448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joicing that will be!                 When we all see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’ll sing and shout the victor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While we walk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pilgrim pathw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louds will overspread the sky;     but when traveling days are ov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t a shadow, not a sigh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448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joicing that will be!                 When we all see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’ll sing and shout the victor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838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Let us then be true and faithfu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rusting, serving every day;          just one glimpse of him in glo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ll the toils of life repa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52280"/>
            <a:ext cx="9144000" cy="448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joicing that will be!                 When we all see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’ll sing and shout the victor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094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Onward to the prize before u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on his beauty we’ll behold;     soon the pearly gates will open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shall trea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streets of gol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52280"/>
            <a:ext cx="9144000" cy="448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joicing that will be!                 When we all see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’ll sing and shout the victor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2-28T20:08:53Z</dcterms:modified>
  <cp:revision>45</cp:revision>
  <dc:subject/>
  <dc:title>PowerPoint Presentation</dc:title>
</cp:coreProperties>
</file>