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135-D28F-4A91-904D-FF9AAE01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BF7-03AF-4FEE-82C8-8A5ABC14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0BE-5752-4010-AAAE-65CA3E85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529-0DF2-4DFA-9FDC-C20C27CE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F250-0BD0-4E65-B974-45FD8BBF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6BE4-860E-4507-8838-723DCE76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7080-AEF3-4188-9778-162972D4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CD4C-888D-4C78-AC81-7AF5EDCA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31EF-A2AF-43E8-9A6A-41A28C56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92CB-FD1F-403D-AEA5-C68F5769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3FC8-2868-4B94-A939-5159C6CC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E3C-BC98-4ACA-84EB-20027A4A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F1CC-2851-4A1E-B27D-2F791E42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EB58-F0FF-4E7E-B218-2947D0BA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FBD2-1667-4F9F-9D8C-7CAB34C6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E090-9BB3-49B2-8102-62689561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30F6-628C-49AE-9819-0D7385A3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5F0-1E38-4B26-BDF1-A69F5971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820-83D9-4E49-AE37-35722A94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AFA-9355-4999-99F4-3386133F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4F8-0E48-4C3A-AB3A-D437AABE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D00-9132-4CB9-ADB6-D783EAFA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EAC-BA08-4AD0-967C-501812A0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7A2-C46A-4BD6-951F-18817123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CC1C-3782-4D66-8DF8-CA185E7E0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EB96-5727-4290-9204-5A0344853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Ha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683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1. Morning has brok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ke the first morning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lackbird has spok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ke the first bir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7360" y="838080"/>
            <a:ext cx="51354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31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David Higham Associate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et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ung in complet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is feet p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ine is the sunl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is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the on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den saw pl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ith e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ever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e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ew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Ha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Morning has brok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ke the first morn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ackbird has spok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ke the first bi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7360" y="838080"/>
            <a:ext cx="51354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31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David Higham Associate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ing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morn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m, spr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from the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weet the rain’s new 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lit 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dew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first gr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et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ung in complet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is feet p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ine is the sunl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is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the on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den saw pl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ith e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ever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e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ew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 singing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 morning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m, spring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esh from the Word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8580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2. Sweet the rain’s new fa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unlit from heaven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ke the first dewfa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n the first grass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 sweet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wet garde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prung in complete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re his feet pas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Mine is the sunlight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ine is the morn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orn of the on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den saw play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with elat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every morn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d’s recreatio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new day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Ha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orning has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mor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ackbird has sp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b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David Higham Associate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7360" y="1092240"/>
            <a:ext cx="51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31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ing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morn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m, spr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from the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weet the rain’s new 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lit 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dew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first gr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6T23:05:36Z</dcterms:modified>
  <cp:revision>10</cp:revision>
  <dc:subject/>
  <dc:title>PowerPoint Presentation</dc:title>
</cp:coreProperties>
</file>