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322-16FF-4D35-8EFB-241B5E72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048-D0D8-4AD3-8C69-9511807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D13-1A26-4ACA-9B43-59BE0CB5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61F-0E57-4CAB-AABD-D8545D4D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B80-8863-48C2-8278-786A4ADF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865-4188-47CA-9DA2-DA3EA5C1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2FF-32F9-4B7A-8B25-B238287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079-3A28-48EF-8E6A-AE405FBD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360-2E34-4EE4-BA90-6F9B649B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025-09C4-4CBA-8465-45D53C1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51D-7435-4BC1-8261-69D73259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454-70CC-4D15-8072-5510F17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16A8-2BE1-4A67-B286-7274B4E71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, Thou Once Despis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John Bakewell, 1757, and Martin Madan, 1760, alt. (Rev. 4:2-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,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nce despised Jesus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, thou Galilean King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t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ted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ther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for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plead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place prep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fo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interce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orship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,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est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u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, y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ic spi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your swee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blest l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me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to c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dst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leas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dst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,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versal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st bor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in and sh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y me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find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Pascal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God app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e were l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u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onement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b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virt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ed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te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nciled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hai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hroned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b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9:48Z</dcterms:modified>
  <cp:revision>84</cp:revision>
  <dc:subject/>
  <dc:title>PowerPoint Presentation</dc:title>
</cp:coreProperties>
</file>