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43C-6ABB-4F0B-BE8C-246ED525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806-DF34-4B49-A145-7F7AD81B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32C-B945-4A5A-8233-A6847164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4B9-DDB2-477D-B3B4-576FAD12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EBE-E71F-4994-A4C7-CE917430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9B8-A90A-40FA-BD5F-73EB7042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E05-EB0A-4235-B3E1-A24B1832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BAE-1A7A-45AC-A78C-C1929877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865-D5AA-4903-8CEC-72D07036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17E-544A-4668-BF89-FAAB504E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9EC-EE23-4561-AAE5-2B18E044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C0C-3EAE-43F1-8E28-B3D8C824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F0C9-8F9D-4781-81D6-0ADB2BA5C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from Wh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Christ, from whom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ll blessings flow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erfecting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aints be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0 (1 Cor. 12:4-31; Gal. 3:27-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nei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nd nor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le nor fema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ove, like de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all destro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dered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inctions vo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and sec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arties fal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, O Chri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t all in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r us, who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y nature shar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ho thy mystic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ody a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Join u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spirit jo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eive of t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for more 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e we c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who fil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Move and actu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u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verse gif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ch di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d accor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y wi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ork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Never from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ice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edful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e the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each bestow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mper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Many are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, and 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ho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ve put 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7:27Z</dcterms:modified>
  <cp:revision>21</cp:revision>
  <dc:subject/>
  <dc:title>PowerPoint Presentation</dc:title>
</cp:coreProperties>
</file>