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34A-F1C8-470F-99D6-A06ADD7F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310-C78D-4712-86E0-D8D3A4E3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34D-988A-44D7-8184-3758C17E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3D3-4B35-48A4-A00F-752D0D2E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99F-7CFB-4103-A1BE-9831264F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F23-E469-4193-9D09-DDB7ECFD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EE8-FC7D-4649-A415-FA03EBBE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E35-15AA-425B-A6A2-7BCB502A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C70-6FFE-4494-84E0-61FF1DF0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563-32EB-4C43-8F3E-12C401BC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D6A-AC7E-4136-AF51-9DC3CDBD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251-60D9-4BF2-83BD-5E1B6165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D0AF-6309-4F29-9412-3E9B7A674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Can We Name a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w can we name a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kens heart and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dwelling all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know or th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do or seek or fi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6040" y="109224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our daily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human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echoes s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is f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 in the common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we awoke to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t on a rock of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sked no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ward but fir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sured, was simply t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n, with parents’ na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cribe, and thus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unconf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father 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mother strong and 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people share a tas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kills uni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rojects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new, to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do with shared de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rtner’s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tter underst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ll should sh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e, and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now that life is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 in a hundred na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day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an m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resence, sen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wn at wor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home, or in the str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every name we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s in a brighter su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Love full gr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and hope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49:31Z</dcterms:modified>
  <cp:revision>27</cp:revision>
  <dc:subject/>
  <dc:title>PowerPoint Presentation</dc:title>
</cp:coreProperties>
</file>