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674-A465-470D-83A4-DE532D45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C32-E495-4FDF-B9F3-954C407D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8A6-879E-4BA2-9141-EF97B2D6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8F8-4D05-4FFE-A91A-4B974140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F0B3-7FC1-4C1A-8848-950A67D8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CB41-598E-4AC6-A400-CE27BA61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8B19-A07E-4A53-896B-5B392045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A55-C26A-4D2A-B6C6-8364B719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54A5-B38B-4FE6-B1AA-86913A56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2F97-18EE-40B7-88D7-A6F1AB83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EADF-6A9F-42E9-9371-7A651310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A0A-56E5-410F-B540-E315298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1780-BF3D-4942-91E1-CB09D6A8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6893-B0C3-4A9C-8587-F1759FC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9C53-F8E4-497D-9DE8-AC2534EB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5550-77F3-4638-9B75-8A3E87A1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D64F-4E59-4D39-967B-55019187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44C-3A91-47B7-8C4C-98875006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DE9-A792-4C09-9D4F-49558C9A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D26-B425-4365-AC81-EC055A36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307-EF1B-4E2B-AC6C-24C783CC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CE2-F71A-48FD-B4E3-427D5A18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322-F8F4-462A-8C42-76B8895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915-424D-44C2-A072-CA2B037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9EFD-4269-42A7-93C9-A9F2474BB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DDCF-858C-4BF3-BA75-CBA831DAA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the Almighty Power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sing the almighty power of Go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ade the mountains rise,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pread the flowing seas abroa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built the lofty ski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59640" y="76212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oon shines fu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God’s comm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s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sing the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ill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with f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ormed the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u the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nounced them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how thy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displ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my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ound I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gaze upon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re’s not a pl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flower be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make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ies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louds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mpests b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or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y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all that b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from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can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t prese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wisdom that ordain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to rule the day;                    the moon shines fu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t God’s comm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the stars obe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I sing the goodness of the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 filled the earth with food,       who formed the creatur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ru the W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n pronounced them g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how thy wond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display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I turn my eye,                      if I survey the ground I trea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r gaze upon the sk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re’s not a pla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r flower bel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ut makes thy glories known,         and clouds aris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mpests bl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y order from thy thron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all that borrow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fe from the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s ever in thy care;                           and everywhe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can b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, God, art present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the Almighty Power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sing the al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ad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untains 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59640" y="109224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pread the fl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s ab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uil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fty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 the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ordai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 the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6-13T19:38:29Z</dcterms:modified>
  <cp:revision>13</cp:revision>
  <dc:subject/>
  <dc:title>PowerPoint Presentation</dc:title>
</cp:coreProperties>
</file>