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FECD-B1E0-40E0-9B16-8E799FB0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A107-AAC1-4976-9C2A-36448CBB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1E18-42E1-4F30-B1D8-BC212FD3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211-D17C-428F-AF32-88FD80A2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6ADE-CBCC-48E2-BAC4-86C48A34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0E53-4D54-457E-A742-48DA482E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864F-0FD0-4FAF-9E0B-7DF912B6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C5FC-65D0-41C0-B4AD-B17022D9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080F-C389-4D21-BDFF-2C18E77E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BD00-CCE2-40E0-A3AC-FC97E61B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A1C-FEE3-4F74-B899-5F978704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618F-9955-4E4B-AFDE-4F1E61C5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5E88-59D9-4A00-A8A0-99D406388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ayer of John Chrysost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of John Chrysost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he Book of Common Prayer,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Greek, 5th cent. (Mt. 18:19-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919160"/>
            <a:ext cx="87631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lmight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given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grace at this ti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with one accord to make 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common supplication to you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you have promis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rough y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ll-beloved S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when two or three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gathered together in his 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you will be in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midst of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ulfill now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desires and petiti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may be best for u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ranting us in this wor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knowledge of your tru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and in the age to co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life everlasting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1:49Z</dcterms:modified>
  <cp:revision>136</cp:revision>
  <dc:subject/>
  <dc:title>PowerPoint Presentation</dc:title>
</cp:coreProperties>
</file>