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2E89-5EF0-47A0-896A-72B67B2D9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B6F3-BECF-4853-8E97-03D3C957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489A-8650-4551-B530-38016D133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36B0-207F-4F4F-8320-2431542B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7398-D866-406F-B7B2-70C7B2CD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C295-6F91-44FC-8EE4-B6FFF53E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5C16-4981-463E-A6E3-3308EECA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7BF2-79DE-4E17-9C01-240A4982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BD0A-9B24-44A2-8F7E-A4070531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D46E-4A56-4AF3-B28F-D4780694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4E2A-4564-47DF-A7B6-9BC8911D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E6B1-D3F9-4FA9-B4DA-DECC6266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29DE-C997-4363-B2FB-D454EA429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Hail the Power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Jesus’ 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5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ll hail the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’ na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angels prostrate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angels prostrate f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56120" y="1600200"/>
            <a:ext cx="63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dward Perronet, 1779; alt. by John Rippon,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17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Let every kind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tri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rrestrial b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rrestrial b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im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jesty ascri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crown him, crown him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 crown him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m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Crown him, ye marty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you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from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tar c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who from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tar c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096920"/>
            <a:ext cx="91440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xtol the St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se’s R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crown him, crown him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 crown him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m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O that with yon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cred thr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at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eet may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we at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eet may fa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096920"/>
            <a:ext cx="91440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’ll jo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crown him, crown him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 crown him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m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ng for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yal diad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crown him, crown him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 crown him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m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Ye chosen s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Israel’s 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 ranso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 ranso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f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il him who sa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by hi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crown him, crown him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 crown him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m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Sinners, whos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n ne’er forg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ormw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g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ormw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g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spread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ophies at his f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crown him, crown him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 crown him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m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09:24Z</dcterms:modified>
  <cp:revision>18</cp:revision>
  <dc:subject/>
  <dc:title>PowerPoint Presentation</dc:title>
</cp:coreProperties>
</file>