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E3B-E1F2-4A24-998E-C30F4585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C98-6FE6-48A2-BADD-02829DD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F87-37AA-4649-ACB8-9EEA913D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C98-000C-4A8F-B4F3-5296D5A3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CAA4-8F03-4419-89BF-CE6FE2B2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8109-C1F2-4336-9D60-A8338C45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88E0-04F9-48AB-A8EF-ABF54D21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689-CA37-4422-98C2-652F2BA3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E71-235A-40A2-B384-31986369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ADD3-6D79-4F83-BE1E-3B0A1E10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CD3-4EEC-40AA-8BFD-38EC5274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16D-2999-4D31-94C8-285978B9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B0B3-4686-4DFA-B0B1-A42EF82E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989A-46F9-452B-81D5-A32EA2D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35E-51A2-4EFA-BE30-145E1A56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7D99-6F3F-4AD6-9634-CFEC0BDB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5DB-2E7E-4869-A236-DB031CBD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41A-B4C7-47C1-80E4-E70E0806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2E5-54D2-41DA-A826-C683ACA2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59D-B2D8-4671-86A7-EA92402B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160-C9EE-48A9-BFB8-999AFA40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3C3-AA76-4AB2-9F98-B7CC941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DDA-895B-4C77-B878-2CE82D90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448-BC3B-4B98-9240-357C063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2E81-B3BC-4CFE-804B-895EE32D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AB39-3030-44C5-841F-0A91FD0C9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 God, our help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hope for years to co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shelter fro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stormy bla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our eternal ho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30520" y="83808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 thousand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like an evening g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rt as the wat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ends the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rising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ime, like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rolling str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s all who breathe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fly forgott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a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s at the open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 God, our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ope for years to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life shall las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Under the shad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thy thr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ill may we dwell secur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ufficient is thin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m alon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ur defense is sur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Before the hill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order sto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r earth received her fra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rom everlast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ou art Go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ndless years the sa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A thousand age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thy s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e like an evening gon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hort as the watc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ends the nigh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fore the rising sun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5. Time, like 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ever rolling strea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ars all who breathe awa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y fly forgotten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a drea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ies at the opening da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6. O God, our help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ur hope for years to come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e thou our guid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ile life shall last, 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our eternal ho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1916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O God, our hel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ges p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hope for years to com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 shelter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tormy blas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d our eternal h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30520" y="114300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Under the shad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thr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may we dwell se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fficient is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m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defense is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fore the h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rder st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earth received her fr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las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rt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ndless year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,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28T00:43:55Z</dcterms:modified>
  <cp:revision>35</cp:revision>
  <dc:subject/>
  <dc:title>PowerPoint Presentation</dc:title>
</cp:coreProperties>
</file>