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F566-5BDA-4526-BE56-0C9C0B0ED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71E9-827C-4B5D-AE3B-80603E89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5DBB-8944-4760-A0F9-91B68227B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B221-5452-4D40-99C3-71FF23CA7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3257-3E60-41C3-B17D-D4905E95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15B4-38E5-4BF9-A988-87BDDF22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F8BA-DD60-4377-8060-AE4C079D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0E91-84E3-45E8-863A-BC756084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52FE-EAB6-4139-8DBA-8AB87DBD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4E4C-1FFC-481D-9748-DC6853C7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09FE-27B7-48DE-8A4F-ED2DC5EF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2A6E-2F98-4597-9A9F-54E570A3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E6AB-AC35-441C-8871-3FADD0F72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merica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My Country ’Tis of The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county, ’tis of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land of liber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e I s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eric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54520" y="1676520"/>
            <a:ext cx="32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Samuel F. Smith, 18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85904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nd where my fathers d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nd of the pilgrim’s pr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every mountain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freedom r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My native country,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nd of the noble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 I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eric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1477800"/>
            <a:ext cx="86104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love thy rocks and ril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oods and templed hill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pture thril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at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usic swell the breez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ing from all the tre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freedom’s s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eric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185904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ortal tongues awak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that breathe partak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rocks their silence brea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ound pro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fathers’ God,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uthor of liber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we s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eric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760" y="185904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ng may our land be b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freedom’s holy li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tect us by thy m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God, our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44:32Z</dcterms:modified>
  <cp:revision>36</cp:revision>
  <dc:subject/>
  <dc:title>PowerPoint Presentation</dc:title>
</cp:coreProperties>
</file>