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1C6-600E-47B9-9822-1C320409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197-2287-4B49-9B9B-3BF0E740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B6A-90A0-4D1A-93BA-ABC62E44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B7E-E5AF-4255-94D3-C5F048A1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FE06-9D68-4DAA-895C-1749C42D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EC75-A0C8-460B-9573-B687CE21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ECC4-DC08-46CD-A549-DAB58210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4FF5-82AC-4A7E-852C-04B8E49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556C-6C0D-4221-80E8-5140409F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18FF-0777-4C38-A9DA-C6524C5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4887-B2F9-48A0-8B54-72E0056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245-9DD0-445D-ABEA-C67AA44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90E8-71C4-48F0-82DC-DE12FD2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945-20A3-4D83-B8C8-85C4629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8049-6353-49C2-BD8A-C84A8BA3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E223-0C1B-4A80-9A55-B65C64B0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1996-04FA-4859-A22E-A887A1A5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D0E-0DF5-40E9-9C14-CEBC7C5C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9B2-469E-41FF-8981-13C029C8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A19-91CE-490E-8108-9E3141BC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FBE-DB17-4496-A41A-73671E1E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B51-9715-4822-99F6-E353C64D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46E-9EF4-464D-9017-C335335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A85-93D6-499D-9A3F-EB87A005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B9C-F43E-45C4-A0F3-50DFFE34A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4BF9-66C3-45E1-A369-D8F7BE7A6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Tell me the stories of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ngs I would ask him to tell m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46800" y="7300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295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in the lovelight of Jesus’ f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ell m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ories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ings I would as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m to tell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46800" y="10396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irst let m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hall fan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n the lov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First let me hear how the childr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 shall fancy his bles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46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in the lovelight of Jesus’ f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176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Tell me the stories of Je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gs I would ask him to tell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46800" y="7300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61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First let me hear how the childr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 shall fancy his bles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4-16T15:27:15Z</dcterms:modified>
  <cp:revision>37</cp:revision>
  <dc:subject/>
  <dc:title>PowerPoint Presentation</dc:title>
</cp:coreProperties>
</file>