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167-10E7-45A8-9153-D5090161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745-1D9A-43EC-BFA7-05C9D27E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15A-DE0D-4158-AEAF-569A48E3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F50-599A-46AC-A51E-B02168A3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8A4-82E5-4B1C-BCF5-E7C04AD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5EA-BE5B-4D64-A87E-B611A5C8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D37-1667-4FAC-89D0-E810DE4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C7E-79F8-4987-B723-7BB5E269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E9A-425F-471A-9F79-86D4DE1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7F9-89E7-46D2-A140-1278360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7D0-816F-434D-AD88-E49C2CB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468-0708-4473-83D1-1C7492B5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C5A3-1EA5-4AF8-AE48-75DAA84B4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ighteous and Jus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ord of Our Lord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La Palabra Del S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 Es Rec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Juan Luis Gar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720" y="1981080"/>
            <a:ext cx="80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uan Luis Garc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a; trans by George Lockwoord, 1987 (Ps. 33:4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06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9760" y="17524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63920" y="12193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8288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05320" y="137160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29160" y="13716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12952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1608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2240" y="1219320"/>
            <a:ext cx="74196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10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0360" y="2057400"/>
            <a:ext cx="515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5:29Z</dcterms:modified>
  <cp:revision>24</cp:revision>
  <dc:subject/>
  <dc:title>PowerPoint Presentation</dc:title>
</cp:coreProperties>
</file>