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0B26-90FF-43E1-9961-B6B6A91A0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FE24-5DC7-49ED-B90B-7BA138D8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92D6-6FE8-470D-B633-3F0B812B9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0BD4-41AA-494B-8528-98A487DE3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0BCD-A1FB-4FB4-90DA-CBAD72E2C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B69E-767C-41B6-B522-D72538B7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3E06-D50F-4D03-B9B6-2C2A5296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8CE0-C725-4102-B362-B8B36EF7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0F6D-772B-4DB7-87C3-00B1BECB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DC0F-2D75-4D5E-A7C1-7ED8DB1E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9702-86E1-4FC4-93CC-009DD9A4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CB96-C5A3-4919-9ED3-AB9B54A0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822E-4F05-44F7-BD9F-C418B65E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E304-CB76-4D75-9902-D583A33D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F1FC-4D16-4A14-9EB8-E5AA1046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52F8-6528-4C63-BCA4-952D06BD4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F493-B4B6-4010-AE75-4938BB2A4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49BE-6A2A-4D85-89C9-EE03B042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1928-11CE-425D-B6DE-9B367F15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4457-E8D6-4089-9FFC-4BDE6986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0403-6E06-407D-ACA0-34560F7C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E9C7-016F-4E88-9317-960B3DC4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57C4-8EB6-45B7-98F7-03C58277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0C70-F286-476F-8DDA-78CE5FAC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9EE0-2D36-48DE-9A61-248D3E2AD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8551-0793-473D-ACB1-096113A6E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ow Firm a Foun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How firm a found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 saints of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laid for your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is excellent w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Firm a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9907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“K” in Rippon’s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Selection of Hymns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, 1787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2 Tim. 2:19; Heb. 13:5; Is. 43:1-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oul, though all he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uld endeavor to shak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never, no, n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, never forsak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ow Firm a Foun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5238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How firm a foundatio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ye saints of the Lor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s laid for your fait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his excellent word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Firm a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7621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“K” in Rippon’s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Selection of Hymns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, 1787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2 Tim. 2:19; Heb. 13:5; Is. 43:1-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more can he s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n to you he hath sai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you who for refu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Jesus have fle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“Fear not, I am with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be not dismay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I am thy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ll still give thee ai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Firm a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strength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lp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ause thee to st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held by my righteo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mnipotent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212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“When through fiery tria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athways shall li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-suffici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be thy suppl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Firm a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lame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hurt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only desig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dross to consu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y gold to ref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“The soul that on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leans for repo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not, I will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sert to its foe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Firm a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oul, though all he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uld endeavor to shak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never, no, n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, never forsak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more can he s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n to you he hath sai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you who for refu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Jesus have fle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“Fear not, I am with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be not dismay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I am thy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ll still give thee ai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Firm a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strength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lp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ause thee to st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held by my righteo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mnipotent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“When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eep wat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all thee to 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rivers of wo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 overfl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Firm a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I will be with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troubles to bl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anctify to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deepest distr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“When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ery tria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athways shall li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-suffici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be thy suppl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Firm a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lame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hurt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only desig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dross to consu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y gold to ref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“The soul that on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leans for repo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not, I will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sert to its foe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Firm a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4-20T00:54:35Z</dcterms:modified>
  <cp:revision>56</cp:revision>
  <dc:subject/>
  <dc:title>PowerPoint Presentation</dc:title>
</cp:coreProperties>
</file>