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307-EB83-4B74-93C5-0169DB7F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639-F9EA-47C0-AEE2-AD3E39A1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636-A678-4E65-8D8B-48ADE4D2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937-2815-4D4F-8EFB-73F3D931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E68D-DCCF-4891-B669-D5E44813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CB13-B7C8-449A-81F3-5D5E4BFF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1D80-0F9E-4F71-ACE0-6EB68AD0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7980-34DE-4F50-950E-008B4429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15F1-CF61-477B-BEBF-6F51A5D0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9518-3189-4072-92C4-71020E14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2B62-3E3D-4AA2-90E6-54CAD5B6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F2E-874A-405A-B4FD-2FE6DE9B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FC30-75EB-4465-8AC2-ABDC9424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997C-BA8B-43F7-A978-5823B6F2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3D3D-668A-4F29-B803-23A7F5A7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0A9D-2537-44F6-A0D4-7AEF546D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307D-808C-4416-A524-78D692D7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E21-6CEB-4BDA-A636-D8929978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FF9-E941-402A-B873-E2A889FD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CA6-1CDC-44FE-A4DB-49C87E8C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A33-361F-4E88-A559-097B26BE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1B9A-76D8-4BE7-B3AC-97EC1597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0FD-BE0C-4045-997E-49B075B2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F26-65FB-4D86-B84D-626A5C06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3414-08D0-435D-91BD-A15FA9E2C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2E8B-BD60-46F3-B341-26C9A6F2E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Time to Be Ho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952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1. Take time to be hol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peak oft with thy Lor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bide in him alway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feed on his wor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2680" y="639720"/>
            <a:ext cx="63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D. Longstaff, ca. 1882 (1 Pet. 1:16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frien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those who are w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etting in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essing to see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rushes 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nd much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ecr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esu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looking t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him thou shalt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riends in thy conduc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likeness shall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him be thy gu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un not bef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ver bet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oy or in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follow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, looking t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rust in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calm in th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ch mot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his contro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led by his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ountains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oon shall be f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ervic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Time to Be Ho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3716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ake time to be hol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peak oft with thy Lor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bide in him alw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feed on his wor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2680" y="639720"/>
            <a:ext cx="63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D. Longstaff, ca. 1882 (1 Pet. 1:16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frien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those who are w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etting in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essing to see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rushes 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nd much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ecr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esu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ake friends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’s childr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lp those who are weak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getting in noth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blessing to seek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looking t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him thou shalt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riends in thy conduc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likeness shall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him be thy gu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un not befor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ver bet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oy or in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follow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, looking to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trust in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2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calm in th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th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ch mot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his contro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led by his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ountains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oon shall be f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ervic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Take time to be hol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world rushes o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pend much ti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secre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Jesus alon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y looking to Jes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ke him thou shalt b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y friends in thy conduc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s likeness shall se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Take time to be hol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him be thy guid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run not before hi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atever betid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joy or in sorrow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ill follow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, looking to Jes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ill trust in his wor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Take time to be hol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 calm in thy sou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ach though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each moti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neath his contro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us led by his spiri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fountains of lov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soon shall be fitt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 service ab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ake Time to Be Ho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33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ake time to be hol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eak oft with thy Lor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bide in him alway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feed on his w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2680" y="1066680"/>
            <a:ext cx="636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William D. Longstaff, ca. 1882 (1 Pet. 1:16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2-19T15:37:12Z</dcterms:modified>
  <cp:revision>19</cp:revision>
  <dc:subject/>
  <dc:title>PowerPoint Presentation</dc:title>
</cp:coreProperties>
</file>