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ECD-2EE4-42BE-B500-F6C394A8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2D5-00CE-45E7-99E1-7FF0FB62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AFC-F965-4E3F-8AC5-29CCC331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DDF-205A-478A-9245-EB9B0610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C3B-361A-4659-B52E-CD13B4A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C8E-F3D5-472C-8E1C-4AD2C6A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8D2-C59C-4B36-9675-46433069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E12-41F3-4F8C-832E-CA94E911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BD8-3D3F-44AD-804A-D8F6533B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CD6-F03E-47A2-B5F9-43C9DFF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51E-2B0C-4246-9EB1-7C44A59C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C03-E282-4210-BA8B-2086669D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BED8-ECDE-4C6E-8B56-70CB32B16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Wh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ped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05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Go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ped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eart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otic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6520" y="1676520"/>
            <a:ext cx="632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William W. Reid, Jr. 1987 (Gen. 1:1-3, 26-27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e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i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some m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n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our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jo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abou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jo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ing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reasured c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God,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nkets tarn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their ch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, weari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and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k you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ed 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other-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ha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m emb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et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anqu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l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n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revea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nder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ouc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oken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hea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laim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trip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deful sh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d of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!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was g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ess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fram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im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into bi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blesse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ant footst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re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lendored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God, with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other s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chi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bark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dend pat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uring, but defi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oo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at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ust incr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orlds you birt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ur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urn way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to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though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 your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3:05Z</dcterms:modified>
  <cp:revision>13</cp:revision>
  <dc:subject/>
  <dc:title>PowerPoint Presentation</dc:title>
</cp:coreProperties>
</file>