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7FD-6F1C-429A-9FE9-551428A3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B82-5AC7-4F08-ABCB-EA9C6F43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B78-F3E0-4168-BB57-2DA6028C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558-E288-4B97-9429-84296E4E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DEE-2956-44A0-9F09-A80B2CBF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BE6-3CFD-49D0-9FB5-A6C3B820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B09-957C-4842-A5D8-3B0FEAC1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355-D355-4A06-9E92-D610A0C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AC1-C0C5-4972-B140-8EC5799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3961-8782-4767-BFF4-6B5C29D7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E16-2DD9-4E9A-A33A-C3E560A5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B25-85F5-4C2B-82F7-BE28503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642E-724E-4D43-BB18-7EBA696CF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ift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ough I may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ravest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the gi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ll insp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0960" y="1066680"/>
            <a:ext cx="513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Hal Hopson, 1972 (1 Cor. 13:1-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ve no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words are v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ounding bra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les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ough I may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 poss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riving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love prof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not be gi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love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fit so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s strangely 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Spirit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contr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pirits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mad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nwar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every de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is we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re fr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1:00:37Z</dcterms:modified>
  <cp:revision>23</cp:revision>
  <dc:subject/>
  <dc:title>PowerPoint Presentation</dc:title>
</cp:coreProperties>
</file>