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FB4-7D14-46B4-AB14-BF8D375F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401-430E-4E60-A536-CDD873F1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B32-B9B7-4779-BBFC-3B029500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F372-F241-4EB0-831C-43DAB163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B198-80A1-404A-8C59-90AD7FA7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938A-70C6-43DD-B2BE-F9A75FB8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1E04-8F70-4FAE-ADAA-679CEA4E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6238-5994-47BD-B629-8758CDCA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BD57-3F31-45CC-AC74-57919024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EDE3-C018-4A5B-AAFD-0DA75A1F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B8F4-A80B-483B-A75B-3A8F978C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638E-0C65-43AF-89DC-E7B32B03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E78A-4505-4CD0-8CB7-DDA7A308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5561-AD65-468C-8340-1A61AABB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BD16-048F-4810-876A-1F3E30A0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A578-DCD0-40BA-83D6-307A80F2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32BA-EAF9-4213-87D9-9AE12E0A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BE6-842D-4D56-9AE9-C9D45994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BFEF-BEFC-4E91-A6B4-4812EBC4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79A1-7A68-4C08-BD69-5B5C6CFA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B61-B4D5-4C45-AA09-71CB56E5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A07-C965-4D0A-BD26-2E87306B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EF3-CBAD-45CA-878F-37A25C49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0D0E-DBCE-454D-9E1A-8FF7D928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B7AC-6810-4ABA-A16D-7DF55CAA4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5C32-0E34-4B3C-BD57-9FCE1FF0A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Cross of Christ I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000" y="9144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Bowring, 18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n the cros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ering o’e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ecks of ti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acre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s 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head subl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n the Cross of Christ I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000" y="9144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Bowring, 18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In the cros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ering o’e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ecks of ti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acre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s 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head subl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n the w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o’ertak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s d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ars anno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shall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forsak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! it gl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peace and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liss is bea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my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adiance strea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dds more lu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ane and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in and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sanctifi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is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knows no m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s that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ime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In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 I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ering o’e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ecks of ti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acre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s 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head subl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acred st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s 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head subl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hen the w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o’ertak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s d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ars anno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shall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forsak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! it glo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peace and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en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liss is bea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and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my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adiance stream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dds more lu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ane and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in and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sanctifi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 is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knows no m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s that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ime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In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 I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wering o’er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recks of ti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3-07T01:44:54Z</dcterms:modified>
  <cp:revision>51</cp:revision>
  <dc:subject/>
  <dc:title>PowerPoint Presentation</dc:title>
</cp:coreProperties>
</file>