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EB3-AC65-4EA9-882D-BA3F807D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0D7-8420-41A5-B964-7A8A9E1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0D2-F40D-4590-9EC2-98995FCA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BAE-AD0C-4184-9447-83906CD6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D7AB-B861-4E1F-9AC2-543D8664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8DC-B15C-49D4-835C-4B3021E0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8BC-C312-4649-AA72-AB05969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E22-F3CF-420F-ADDD-3FCF5BA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086-1A7B-40A3-9DB1-530876C5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413-7F6C-43F1-9561-18A5B28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02A1-E94C-4C17-AE4C-5426913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0E0-31AE-4F77-858B-36B7610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0849-A59A-4004-8A9C-0E700E7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DCE-11B8-4738-ABE8-8D30B127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D04E-D559-44DA-8B92-FF2FE315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20D-8DF9-4724-B48E-8F410B71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E474-9CA1-4C56-BD01-B83AB10D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48B-09CE-44C3-8D23-757AF820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EC6-5A20-45A0-9703-DA9F1022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CC5-D47C-4541-B2E2-56E552B5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CB3-EC11-4F0B-A761-9A56E234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BD6-0A5E-4F50-A691-67CA8B5E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B0F-4ABE-4359-AD1E-BDF06E8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92F-77FB-48CD-88B6-1557D02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5F9-D1B4-474B-8804-9EE65231B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8E9E-EF3A-43D0-A992-C077DFA8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3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794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" y="11430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7462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0492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oratio G. Spafford, 18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uld buff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urance contro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2760"/>
            <a:ext cx="86104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gh Satan should buff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rials should c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lest assurance control,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has regar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less esta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th shed his own bl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28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685800"/>
            <a:ext cx="861048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My sin, oh, the bli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is glorious thou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, not in p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 whol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nailed to the cro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bear it no mo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It is well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soul,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with my soul,)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well with my sou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2T22:02:08Z</dcterms:modified>
  <cp:revision>122</cp:revision>
  <dc:subject/>
  <dc:title>PowerPoint Presentation</dc:title>
</cp:coreProperties>
</file>