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960C-CC0A-4660-AFA8-08C6D3F5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56D-A0D9-4263-9E22-27A695F8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D76-B79B-41C5-BD99-BE7981C4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C85-2C74-4714-89E1-35A8B3CD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D34A-0C2E-4E41-958B-D16C9E0E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5C2-6544-4210-AEF5-9D279071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C2EC-8D3A-46A5-B8E0-AF3E5B5E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F9C-1E11-4E20-9A13-38ADC987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01C-7FA6-4900-B035-AEB07214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122D-B912-4CBC-9629-FF8AADA5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A537-0E2E-45F1-B13D-DD47403D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72A-CD81-4DB7-BF58-D074D347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0D9E-90C8-41C8-9790-FB78E7355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Prayer of Saint Franc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ayer of Saint Franc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rancis of Assisi, Italy, 13th c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209680"/>
            <a:ext cx="82296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make me an instrum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thy peac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there is hatr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t me sow lo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82880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there is injury, pardo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there is doubt, faith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there is despair, hop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there is darkness, ligh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here there is sadness, jo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71604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Divine Mast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that I may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much see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be consoled as to consol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be understo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to understa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be loved, as to lo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t is in giv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 recei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in pardon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 are pardon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t is in dy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 are bo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eternal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9:26Z</dcterms:modified>
  <cp:revision>156</cp:revision>
  <dc:subject/>
  <dc:title>PowerPoint Presentation</dc:title>
</cp:coreProperties>
</file>