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7913-6E5E-465E-8CDD-C9832EDA1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3F21-04DB-4CB1-A550-E8887A84F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F8A5-4E1C-40FA-8C35-EAE6E3464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752F-877C-41AB-A308-F5FD2D6A3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61B0-1076-443E-BB07-58E3EB5B5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AA9E-4974-4896-96E9-962C21CC1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E27B-9494-4A37-A5F3-EBD0F7176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AC55-1353-4441-947F-E13521F12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2672-3282-400A-9799-B5713D895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0343-574B-4B6A-97B3-9D6E566D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67D1-E267-4933-9906-90711801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EDC7-CEB3-4411-B627-67DCBFC5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D0237-4BE2-4FD3-AD38-741F84FB3D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ll Praise to Our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Redeeming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5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 All praise to 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edeeming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joins u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y his grac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Praise to Our Redeeming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765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harles Wesley, 174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2209680"/>
            <a:ext cx="8382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bids us, eac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each restore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gether seek his fa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666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He bids us bui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ch other up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, gathered into o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our high calling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ious hop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hand in hand go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Praise to Our Redeeming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e gift which 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one bestow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ll delight to pr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race through eve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essel flow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purest streams of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Praise to Our Redeeming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E’en now we thin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peak the s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ordially ag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ncentered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Jesus’ n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perfect harmon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Praise to Our Redeeming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We all parta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joy of on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ommon peace we fe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peace to sensu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inds unknow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joy unspeakab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Praise to Our Redeeming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6. And if our fellowship bel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Jesus be so swe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height of rapt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we k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round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ne we mee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Praise to Our Redeeming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19:34Z</dcterms:modified>
  <cp:revision>61</cp:revision>
  <dc:subject/>
  <dc:title>PowerPoint Presentation</dc:title>
</cp:coreProperties>
</file>