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D4E-7BA5-4DC1-B725-EE198731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373-52B1-47D1-95DA-CC346836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F8B-8004-424B-83C9-B9E328D2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C2F-2F53-4C04-9D5A-2718151A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A86-BDDB-48A1-BA1B-F64289CC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BF1-51E4-434D-98D8-9FF5BE59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1B2-D97C-49DC-992C-06EC7A3F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B58-BFD7-4A11-A9E8-E0150C41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BD2-785B-4790-AF83-8123E19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69E-58A1-41E6-9B45-8299FEAE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D8D-8305-4935-A369-08EAD96E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0CB-1905-41B9-8B20-6A84FEDC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7FFC-075A-43AD-8B74-B4E5FE229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, Who Stretched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angled Heav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0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d, who stret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angled heave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finite in time and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1120" y="160020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therine Cameron, 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n the ecstas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w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untrave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lms of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bed the secr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at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iel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magined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i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life’s destru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our 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a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s each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rizon beck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t challe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ane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ve pur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ving o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noring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our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e rich with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endeav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gui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our go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rs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ung the sun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rning rad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sil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elds of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your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like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inven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s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Creat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rea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w us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yet may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Proudly ris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dern cit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tely buil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w on r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their win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ank, unfee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e on cany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lon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ft unnoti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i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 and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to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me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arcely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the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ven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undreame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ce the child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00Z</dcterms:modified>
  <cp:revision>12</cp:revision>
  <dc:subject/>
  <dc:title>PowerPoint Presentation</dc:title>
</cp:coreProperties>
</file>