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776-92A1-42C9-8412-2DE7DF27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630-F0A4-4373-9EB3-55C05F88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BBB-5548-4C23-B252-5E918F7E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F8B-0AC3-4572-B7B2-D49A269D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1EA-A935-4176-B17F-B0D7A0B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18E-67A1-47FD-86BC-823762B3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3CE-B55A-4C23-9DDD-8990808D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EC5-1745-405C-8B68-929FF8EB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9D0-4E87-4259-8F54-2782DCF3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F29-5D15-429F-BF61-23B11C5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3F3-6522-40DB-838F-3A8FE373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4AB-2334-483F-984A-DDEFEF2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3C7-777D-4EFF-8D5F-F64BC3FF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he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et to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urch and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n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ange and doub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osp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urpose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’s dedic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e have to give,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who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 without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dore you! We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uller m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i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a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arou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varied skills and 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the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open minds and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symbo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mi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nt, and pulp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entral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hone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silence, as in spee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in new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new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Spirit comes to ea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a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ephe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ck and f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s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e are ta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sustain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he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in worship to expl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me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 and to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1:58Z</dcterms:modified>
  <cp:revision>153</cp:revision>
  <dc:subject/>
  <dc:title>PowerPoint Presentation</dc:title>
</cp:coreProperties>
</file>