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E59-71C8-4575-B3F2-52973889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170-AF9C-4A6D-89B3-48BE75C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AB4-9BAB-4730-9EEB-9CFFFC34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066-08C8-4DC7-8766-C3D126F7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982-E8EF-431E-B76C-10033B7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1C5-91DE-4B06-A189-1924990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242-A630-4597-A071-3F09E27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136-AED5-4451-9A87-1B6D934A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8AF-CFF3-46CD-AED5-FBEE04E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77C-5001-460C-825B-07F1C5D7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461-E55A-411D-B933-56B12FCC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4C4-BB14-4C27-BB89-6A4F6D07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B980-73AD-4802-A866-14B3FEEB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Chari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Love Prev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ere charity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prevai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re God is ever found;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1 World Library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9th cent. Latin; trans. by Omer Westendorf, 1961 (1 Jn. 4: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her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are we thus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th gratefu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charity we lea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ith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ind 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love Christ in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give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faul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our faults conf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ian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strife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ontention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hrist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s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s his ho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et us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s God’s begotten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emb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ody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in him mad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ove can exclu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ace or cr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honored be God’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race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Maker i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6:58Z</dcterms:modified>
  <cp:revision>20</cp:revision>
  <dc:subject/>
  <dc:title>PowerPoint Presentation</dc:title>
</cp:coreProperties>
</file>