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C12-6E80-40F5-95EB-9E691DA2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7E1-524C-4DF6-A5C0-5D42CE2E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6B4-BACD-4213-8251-AE80375E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A67-BA96-4F92-B8C2-9DB8AD8E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E1B-094E-4649-988E-80138487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A55-1614-4395-8DA0-A83909E9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7D6-0BBF-4DFA-8279-4E7022AC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162-5DE0-4DCF-A203-3F12E5ED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288-2A6F-438A-B6A2-69E87B31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7D2-65AB-408B-A3CD-985D7EDE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F99-645C-401E-B15E-03945DDE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997-83ED-4FB8-A47C-556A6F0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D0B-401F-4C9F-8EF6-51EF7BFF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ndays of Ea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51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give us the joy of celebrating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Lord’s resurre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days of E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0520" y="914400"/>
            <a:ext cx="4167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also the joys of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your serv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ing us at last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full joy of life eterna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6:07Z</dcterms:modified>
  <cp:revision>21</cp:revision>
  <dc:subject/>
  <dc:title>PowerPoint Presentation</dc:title>
</cp:coreProperties>
</file>