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E3E-3AB0-45FA-A47A-A99831C8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C8E-A180-4634-8A74-D9BC3C73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305-5914-4C67-B26A-5ACDEF81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223-6944-452F-BE47-2851E960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9B5-B1FA-4591-AF3E-6896B86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A1C-CDB3-42C3-8B8A-1A704000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00A-9778-49B9-BBB1-77028620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48C-A69A-4624-800B-26DECC3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0E2-6D1F-4392-9CBC-7C1801BC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EA2-A610-477C-B121-B452B7E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CE6-5AAA-43F3-9329-275357AB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B29-690E-48E4-94F8-7DF33695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3750-DBCF-4189-8BE4-D4CF920EF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Di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Direct us, O Lor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all our doing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ith your most gracious favor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further us with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continual help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Di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9228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at in all our work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begun, continue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ended in you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e may glorify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holy name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771560"/>
            <a:ext cx="86868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finally, by your mercy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btain everlasting life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0:35Z</dcterms:modified>
  <cp:revision>20</cp:revision>
  <dc:subject/>
  <dc:title>PowerPoint Presentation</dc:title>
</cp:coreProperties>
</file>