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5820-ADF8-468F-BC12-5FD64E531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6DA5-E98C-476B-8C9F-9C5E3FFE9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28F9-1121-48DC-968D-71833676F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EF88-E879-448C-B8DF-E2CECA3F8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BDB9B-8B67-4A06-9C21-E3DFB082C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0C523-45C9-439D-8EBB-8857310F3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F82AF-871D-4597-BAC9-399151618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A34A1-6D48-44A2-B92B-2E21FF765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6266D-1F97-4F9B-A93A-899890677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15C50-BF8D-4F01-A583-77E50EB31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A2A1A-DE8E-4065-8230-7426B148D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98DC-9CFF-4FB7-9F62-35B8EAB9C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C696C-FAC3-4C07-A0C3-B8020B544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8A8CE-30FE-4FEA-9863-A8B165D5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4AECC-CCDF-4B3E-9F19-2D1E59A4D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D0D0B-5744-4C2F-B85E-0CBC0F2DA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E11C6-D362-4DD4-AB6C-23BDD26AA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F25F-37B6-4F9C-A261-A5A603390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B4CD-E62A-4187-B66F-2921755F5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C935-6017-4B4D-B8DF-834C19429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770E-712C-4293-8C97-C1429A9E3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0570-4410-4416-BEF7-F7BC478E2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967D-A3B9-44AB-BC43-A5AB6AF3F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9784-FEF8-45C4-88BE-F207D80E0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53904-F6C6-430E-9A14-A5810516B4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0F7B8-88D5-4296-8033-CE29C5A72C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Jesus Loves 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9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4382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Jesus loves m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is I kn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the Bib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ells me s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Loves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092240"/>
            <a:ext cx="811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St. 1 Anna B. Warner, 1860; Sts. 2-3 David Rutherford McGu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838080"/>
            <a:ext cx="9144000" cy="5534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Arial"/>
              </a:rPr>
              <a:t>CHEROK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sisa a ki ke yu h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Koh wel a khi no hih 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su nah sti ka Tsu tse li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 hli ni ki tih ye hn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Trans. by Robert Bushyhead, 1962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honetic transcription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Loves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Cheroke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sis a ki ke y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Tsis a ki ke y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Tsis a ki ke y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 khi no hih se h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Loves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Cherokee 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838080"/>
            <a:ext cx="9144000" cy="5476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Arial"/>
              </a:rPr>
              <a:t>GERM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 liebt mi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anz gewi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nn die Bib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agt mir die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Trans.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salter und Harfe,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187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Loves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Germa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 Kinder schwa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nd kle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äd’t Er herzli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zu sich e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a, Jesus liebt mic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a, Jesus liebt mic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a, Jesus liebt mic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ie Bibel sagt mir di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Loves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German 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838080"/>
            <a:ext cx="9144000" cy="520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Arial"/>
              </a:rPr>
              <a:t>JAPANE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u ware o ais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u wa tsuyo kere b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re yowaku-tom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sore wa araji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Japanese phonetic transcription, Mas Kawashima, 1988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Loves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Japanes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ga Shu Es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Waga Shu Es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Waga Shu Es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re o ais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Loves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Japanese 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5476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Arial"/>
              </a:rPr>
              <a:t>SPANIS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risto me am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ien lo sé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u palabr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e hace v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Trans.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Himnario Metodista,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196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Loves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Spanish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Que los niños s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 Aqué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Quien 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uestro Amigo fie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risto me am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risto me am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risto me am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a Biblia dice así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Loves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Spanish 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ttle on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him belo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y are weak, bu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is stro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152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Jesus Loves 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763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9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6606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Jesus loves m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is I kn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the Bible tells me s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Loves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320" y="762120"/>
            <a:ext cx="811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St. 1 Anna B. Warner, 1860; Sts. 2-3 David Rutherford McGu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ttle on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him belo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y are weak, bu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is stro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22860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es, Jesus loves m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es, Jesus loves m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es, Jesus loves m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Bible tells me s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Loves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2890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Jesus loves m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is I kn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s he loved so long ago,       taking children on his kn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aying, “Let them come to me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Loves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22860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es, Jesus loves m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es, Jesus loves m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es, Jesus loves m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Bible tells me s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Loves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228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Jesus loves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ill to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lking with me on my way, wanting as a friend to gi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ght and love to all who li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Loves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2127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es, Jesus loves m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es, Jesus loves m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es, Jesus loves m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Bible tells me s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Loves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es, Jesus loves m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es, Jesus loves m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es, Jesus loves m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Bible tells me s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Loves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Jesus loves m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is I kn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s he lov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 long ago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Loves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aking childr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his kn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aying, “Let th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to me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es, Jesus loves m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es, Jesus loves m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es, Jesus loves m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Bible tells me s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Loves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Jesus loves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ill to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lking with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my w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Loves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nting as 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iend to gi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ght and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all who li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es, Jesus loves m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es, Jesus loves m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es, Jesus loves m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Bible tells me s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Loves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02-10T18:36:30Z</dcterms:modified>
  <cp:revision>45</cp:revision>
  <dc:subject/>
  <dc:title>PowerPoint Presentation</dc:title>
</cp:coreProperties>
</file>