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37C-CE2E-4B18-ADB8-46D68950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524-8D4B-4FE4-9BDB-99D7CED0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663-4916-4957-8018-439ED87A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6F0-F582-402E-9138-CD7876DD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63E-A216-4E60-88C7-D2389B13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F48-548D-4B51-AF10-F64C68AE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FDE-C875-4519-B7F1-23F40EE6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906-BE5F-4239-B2F2-F369FBC3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AA3-AE9D-40D7-B831-3C2D8101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E86-AFB7-4AEB-B9FE-C70890D1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BD32-B9F4-465A-9FBE-D76AACD5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8DC-356B-4D2C-A087-9950284A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977E-223C-4B76-A51B-6CE5F8E30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, He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ith Clouds Desc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Lo, he comes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ouds descend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ce for favor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ners slai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e Comes with Clouds Descend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16002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3716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Yea, Amen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adore thee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on thy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thr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e Comes with Cloud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take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 and glory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aim the kingdom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ne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God, come dow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sand, thous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nts att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ll the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tr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0512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llelujah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appears 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rth to reig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Every ey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behol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be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adful majes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e Comes with Clou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8108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se who set a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aught and sold hi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erced and nailed h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the tre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ly wai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ly wai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ly wai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he tru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ssiah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dear token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passion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is dazzling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dy bear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137160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e Comes with Cloud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2880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use of endl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ult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his ransom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rshiper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873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hat rap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hat rap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hat rap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ze we on tho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ous scar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01:34Z</dcterms:modified>
  <cp:revision>56</cp:revision>
  <dc:subject/>
  <dc:title>PowerPoint Presentation</dc:title>
</cp:coreProperties>
</file>