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53F-31AD-46AB-9FB4-3C7A4301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442-C286-4ABB-A763-62D4E197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987-8032-4C61-8D2A-E997354A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F66-C6CC-4620-B98B-7143641E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BF9-A9C6-4CB3-9728-6B051FCC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222-9A56-431E-B146-7DBD5B3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A38-B342-4C0A-A39D-BBEB509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D92-75CA-4F52-AD2D-8EAF845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FF2-55D3-4CFA-A5C4-7586BE4E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D4C-08A1-45CA-A9FF-2C04F65A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79C-1844-44E7-955B-95D8FB9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81C-DC03-41E1-867F-A3847A9B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FA0C-7E77-4CD9-96BE-AC2289E2D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Priceless Tr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priceless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purest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st friend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Franck, 1653; trans. by Catherine Winkworth, 18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y heart hath pa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t well-nigh fa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ing aft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 a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otless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to h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for n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ine arms I rest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es who would mole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reach me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earth be sh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 be qu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alms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 and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onflict f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ir heav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ms assail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not fail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nce, all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d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enters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ho love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ave peac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re must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in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purest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priceless treas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14Z</dcterms:modified>
  <cp:revision>59</cp:revision>
  <dc:subject/>
  <dc:title>PowerPoint Presentation</dc:title>
</cp:coreProperties>
</file>