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495-8BE8-4F9E-B740-BA1794C0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767-F4B9-47AA-A781-BA1D51E8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AD1-8BEE-43BF-9291-1905D496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B4E-2DE3-415E-8091-814595AA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20B-6BCA-4714-BF70-4BDF1498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D96-25E3-45FF-A80A-954B8DC4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24F-7B9E-4A6A-88DC-D4F22F47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831-8C92-4632-8766-CB98C8BE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FFD-FB53-487E-959F-33FDB378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D21-61F0-4B01-9B46-8B432D7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CEE-A7B5-44EB-8A88-8E249671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CF6-29B4-447E-907A-EA98BE64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B8BB-E149-40A7-BF8D-A512322C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ues Si Vivim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hen We Are L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anon., trans. by Elise S. Eslinger, 1983; sts. 2, 3, 4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berto Escamilla, 1983, trans. by George Lockwoo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1987 (Rom. 14: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04948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14400"/>
            <a:ext cx="91440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5:06Z</dcterms:modified>
  <cp:revision>114</cp:revision>
  <dc:subject/>
  <dc:title>PowerPoint Presentation</dc:title>
</cp:coreProperties>
</file>