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51D-A63C-4309-AA17-369253F6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67B-24EF-44D0-A266-BDF7231E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3EE-C22E-4EEC-B43E-712D467D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C2E-EB98-4B68-8150-3EF7B8A7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284-AA47-4210-A14C-ECE290FE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8C7-1C08-45CD-A2A3-0078F369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E11-687B-47E1-8F23-A2D831F2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7AF-9F59-4DCD-B2FC-D4FD58F8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B84-491B-43B3-841D-160647F1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AC4-CF34-4928-A7F9-7D194750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DA6-A487-4E7A-A0BA-11529813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610-6747-42E4-9A1D-7E5BAEF0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B8C6-9901-4FF6-A275-A02BFDB72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ufficiency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fficiency of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Juliana of Norwich, England, 15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18730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od, of your goodness g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me yourself; for you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ufficient for me. I can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roperly ask anything l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worthy of you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05740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I were to ask less, I shou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ways be in want. In you al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I have all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6:54Z</dcterms:modified>
  <cp:revision>158</cp:revision>
  <dc:subject/>
  <dc:title>PowerPoint Presentation</dc:title>
</cp:coreProperties>
</file>