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A4D-EAF4-4359-98A9-E3B7F7BF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C34-3668-47AD-8ABA-5DDE918E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22F-A741-4A07-B41F-3F1CE8D1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18B-0CE7-4FBF-9696-E97B7814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770-4A5E-463E-9E97-78909988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8E8-5919-42FC-AB0F-89D180D2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DEC-C78D-4375-B43C-4BE89761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AFA-EF1D-4D18-88D8-F4909AFB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EAB-21F3-4FF2-BA3E-00C5B910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048-A830-480C-9DEF-A6E11A3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4F8-01AC-49C2-82AC-DEF1B8AA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5B4-3D7E-42CE-8011-B2211BD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87F-7862-4B0D-B49D-76C905D8C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and Thanksgiv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ise and 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 God our mak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all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digal creat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. Francis Yard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. Francis Yardley, 1982 (Lk. 3:21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your 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come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our own hol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at we have str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us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have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d and set a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and fav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in visi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pe, and ou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, O Dove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never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ise 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ource of every me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now re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is water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peac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52Z</dcterms:modified>
  <cp:revision>104</cp:revision>
  <dc:subject/>
  <dc:title>PowerPoint Presentation</dc:title>
</cp:coreProperties>
</file>