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A646-1298-499E-A9E2-9A66D4EAC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1C10-FC62-4A4B-AF56-F8D6C85D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1F54-FB25-451D-B437-993CD77D9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A8B0-9FD1-4361-9F1D-DF15EB8A8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BCC9-17D7-4FF6-9AEE-4FB7DB01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2FC0-18D4-4392-9F92-1E5608D0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8148-5C4B-4EDD-B450-D0A6751E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9078-65F0-4BDF-BF97-4153247C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0967-1AE5-4A57-9704-5962602D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8230-ABC8-4D48-8B1C-9E7535CC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DF41-E279-4EE5-8EAE-52328803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668B-CFA9-4F72-9860-CACA12E8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147B-8C2B-467D-A29B-B0A78F081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rise, Shine Out,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Your Light Has 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75080"/>
            <a:ext cx="9144000" cy="392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Arise, shine ou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ight has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folding ci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 dreams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9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se, Shine Out, Your Light Has Co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54360" y="1600200"/>
            <a:ext cx="38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Brian Wren, 1986 (Is. 60:1-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love shines ou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every f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good, our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e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distant hi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glory gleams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ew cre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begu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bove earth’s valle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ck with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gh on your wa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awn appear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se, Shine Out, Your Light Has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i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dry its tea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nations mar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ward your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From walls surpas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me and sp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numbered gat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open hand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se, Shine Out, Your Light Has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gather gif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ll the la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lcome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uman 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e sound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iolence shall c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dwelling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lvation ris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se, Shine Out, Your Light Has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parkle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sk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venue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and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The dancing a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glow with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un and mo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up their pl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se, Shine Out, Your Light Has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21:15:49Z</dcterms:modified>
  <cp:revision>55</cp:revision>
  <dc:subject/>
  <dc:title>PowerPoint Presentation</dc:title>
</cp:coreProperties>
</file>