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3FD-F988-4056-A9DC-1C7BE555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2CD-8ABA-4678-8413-96A72B1A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365-E566-44F6-A4C7-84716BF6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C82-F9ED-46E9-B108-FE20EFEC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EA2-0496-4E70-B3DC-9A78B334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61E-55BE-4AB9-8A2A-4102D427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CBB-4F8D-4619-BB4A-37E049F9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D80-DD31-4F25-9A04-EED2EDE9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9FA-8064-41A3-92A8-BF0743D8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CE7-876A-4C24-81D1-48ED669F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8B9-5F40-417F-B3C4-B0000C6A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471-B02F-4131-B6A1-7CFF42C4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43DC-D28A-4DD7-856E-32BC01EA7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ou Hidden Source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Calm Re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ou hidden sour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alm re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ll-suffici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4480" y="167652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want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entiful supp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wea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almighty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bo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perfect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igh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tan’s darkest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grief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 unspeak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ife in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ven in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lp and refu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my fo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cure I am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thou art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! from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ief and sh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id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in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y might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 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keep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ppy soul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fort it b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ower and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joy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e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r name are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iness and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, my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ll thou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rest in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ease in p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ali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roke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war m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loss my 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mile ben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yrant’s fr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shame my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8:30Z</dcterms:modified>
  <cp:revision>14</cp:revision>
  <dc:subject/>
  <dc:title>PowerPoint Presentation</dc:title>
</cp:coreProperties>
</file>