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E73-0F62-458D-B2E3-59320DB7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C66-F38A-4BA9-9A7C-A7F5335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BA8-0808-4005-8C9A-3BE462A6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FA6-981B-4ADE-95E4-8B681A3E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CEF-C6F2-4071-9896-6D11033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28B-E0FF-432A-82E5-E6EDAE6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EA7-0820-406A-922D-9BB8DB6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B92-98C6-4DFE-9D6B-CAA7E5D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F7C-A36D-4533-95E3-B94082EF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948-2EAE-4AF0-A50D-8EAE0FE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E54-2B46-46B1-814D-B221D96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281-D46F-4823-A45F-9A43E9F7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89A0-57A4-4F45-8242-EEAFC912D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Know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Is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know that Christ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aised and dies no more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mbraced by deat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oke its fearful h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John Brownlow Ge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hn Brownlow Geyer, 1969 (Rom. 6:3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our despai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turned to blazing jo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We share by wat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his saving death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eborn, we shar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m an Easter lif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living memb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a living Christ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A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omes to life and grow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’s new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akes on flesh and blood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universe restor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hole will sing: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9:15Z</dcterms:modified>
  <cp:revision>110</cp:revision>
  <dc:subject/>
  <dc:title>PowerPoint Presentation</dc:title>
</cp:coreProperties>
</file>