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C9D-08AE-4E31-AC4A-4DEA1175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096-88CB-4F18-9757-742E746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578-3230-43DE-9043-EBA8B319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405-FC23-47BC-9B76-11B9919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E74-8533-4F47-A97A-EBC4F10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F90-33BD-4E1D-A3E8-FEFC2384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DFE-4734-4E42-8ADA-C33E0E38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815-42FF-4696-A69C-9304FC6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427-0B74-4AA2-BA6D-3168BE31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356-528C-4FEB-84B5-73F1599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5C3-7F8E-4E65-BC1C-5D69716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009-F19D-49A6-9D00-21FB190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5CF-C18A-40AF-B2D8-215948DE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Can It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Should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d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inte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5720" y="1676520"/>
            <a:ext cx="527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39 (Acts 16:2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tied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bu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d for Ada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mmense and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or O my God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me 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ng my impris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bound in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eye diff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quickening 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ke, the dunge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ed with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chains fell off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heart was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 rose, went forth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No condem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d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,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he for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used his pa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? wh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pursu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old I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’eternal thron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claim the crown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93640"/>
            <a:ext cx="9144000" cy="494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mazing lov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ow can it b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at thou, my Go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mystery al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die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ange de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a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born seraph t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ound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3640"/>
            <a:ext cx="9144000" cy="52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!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earth adore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angel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left his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so free, so infi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!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4:04Z</dcterms:modified>
  <cp:revision>12</cp:revision>
  <dc:subject/>
  <dc:title>PowerPoint Presentation</dc:title>
</cp:coreProperties>
</file>