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ACB-1D20-4A01-9BEA-39EDF1E6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6A0-1730-4C9D-A582-F5AC5C82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6C2-32A3-4C19-9F77-D3031EAE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538-157B-4033-A4E5-A85BDE8B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70F-0DE9-44EC-AB22-94282946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F90-BBE9-4796-8CEA-85C49A11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DA5-CE9A-4CE6-B2F2-283D1939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1D5-E867-41AF-B7D9-9C414FD9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C89-0761-4B4E-9086-A7A09F9B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CED-3842-4A2A-81D3-287CF4E9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8C9-A532-41D6-A339-9D22BA59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985-BEE8-450E-BC08-E2712206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8739-0C2B-48AB-A20B-C4F158D3B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 I a Soldier of the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m I a soldi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4000" y="1092240"/>
            <a:ext cx="59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ermons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721-24 (1 Cor. 16:1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e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from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faith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When that illust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shall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ies sh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obes of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I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wn his ca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bl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ak his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ust I be car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flow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d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others f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in the pri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iled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y sea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re there no f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to fac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I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m the flo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is vi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riend to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l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G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ure I must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would reig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reas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ag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bear the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ure the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port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y saints in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glorious w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nqu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y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7:04Z</dcterms:modified>
  <cp:revision>9</cp:revision>
  <dc:subject/>
  <dc:title>PowerPoint Presentation</dc:title>
</cp:coreProperties>
</file>