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6AC-E700-4979-8A24-75A8758C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9A4-725F-416B-BE8E-D1A3D268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7D1-1D8D-46B7-BB70-7CC23F06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003-11FB-4074-97BF-87D4E63A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7D3-38AC-42E4-9F71-BF783AD5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C2C-908F-4FB6-93C2-6441EDB1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EC0-5ADD-4154-B0C8-831405E9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981-79E4-4ED4-9C21-7A349B8F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9BE-9766-4234-8CA8-02DF73E9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417-5103-4F9C-AB1A-49741F33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23E-C91D-4228-B749-EA8ED5DC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038-D84F-4C41-8D5D-DCA15B7D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0C5-A74A-42A3-9053-833AEC669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ise, Shine Out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ight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7508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rise, shine 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ight has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olding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ream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4360" y="1600200"/>
            <a:ext cx="38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Wren, 1986 (Is. 60:1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shines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od, our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distant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glory gleam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bove earth’s valle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with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on your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wn appea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ry its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nations ma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your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om walls surpa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and sp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numbered gat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open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gather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the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lcom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sou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olence shall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dwell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r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arkl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venu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 dancing 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glow with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n and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p thei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5:49Z</dcterms:modified>
  <cp:revision>55</cp:revision>
  <dc:subject/>
  <dc:title>PowerPoint Presentation</dc:title>
</cp:coreProperties>
</file>