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004-B2E4-45F9-8F53-35306565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BF0-14C6-4A09-AE27-BF78221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A92-E88F-4E51-80B6-FA5B88E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9E2-104B-4070-8F07-0819A57A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51F-42BD-4920-B2C7-5E6ABBE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4FE-1E0A-4E4E-8DB0-AAD4357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7AC-DEA5-4E1A-B0F7-8F83768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181-EA7C-47E5-AA10-28FA105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8D1-EF0D-4F31-90B8-5CD126E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D6D-7BA0-450F-9B04-3B12C24B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05F-AB71-4A58-BA39-C6E1DE1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40A-1F95-48C8-9267-D4E1252C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C0A-6488-4423-8B4D-F336DBDBA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harge to Keep I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Lev. 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 charge to keep I h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God to glorif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never-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it for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serve the present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alling to fulf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i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owers eng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my Master’s wi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rm me with jealous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thy sight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h, thy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rict account to gi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lp me 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hyself 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ed, if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st be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06Z</dcterms:modified>
  <cp:revision>137</cp:revision>
  <dc:subject/>
  <dc:title>PowerPoint Presentation</dc:title>
</cp:coreProperties>
</file>