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7486-BD81-4EBE-BB84-BB1120093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B392-F29D-465A-BD3D-886A86B16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46DF-4B43-46FB-BD33-82A169823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4A23-1DE2-4021-A333-24DFDFBF4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10D9-44EC-4527-AB52-43BA3B110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2A52-DD0C-4585-B805-5C63B3217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4BF9-6305-4E95-8F68-697B72CC4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10B7-5A9A-4511-B6FC-7786B8DF8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FDBC-48A1-477D-A9BA-9A7045CC8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1A16-3593-4BAC-AC3F-C7B596287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6E0E-3EBE-41AF-8C58-06C93786C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C81E-7EFE-4FD9-BD5D-413597A27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C2DB5-EB32-4A82-A690-E8BAFBA597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ather, We Thank Yo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6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66688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Father, we thank you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for you planted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your holy name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within our hearts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ther, We Thank You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990720"/>
            <a:ext cx="9144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Greek, 2nd cent.; </a:t>
            </a:r>
            <a:br>
              <a:rPr sz="2100"/>
            </a:b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trans. by F. Bland Tucker and others, 1939, 1982 alt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nowledge and fa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ife immorta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your S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us impart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Lord, you have made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your pleasu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iven us fo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all our day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ther, We Thank You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ving in Chri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read eternal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s is the pow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yours the p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Watch o’er your churc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Lord, in merc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ve it from evi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uard it stil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ther, We Thank You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erfect it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love, unite 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leansed and conform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to your wi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As grain, once scatter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the hillsid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as in the brok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ead made on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ther, We Thank You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from all lan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church be gather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to your kingd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your S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6:36:48Z</dcterms:modified>
  <cp:revision>70</cp:revision>
  <dc:subject/>
  <dc:title>PowerPoint Presentation</dc:title>
</cp:coreProperties>
</file>