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5EE1-9457-4EA0-920A-118ECC031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617B-4332-4E84-AD9F-99A237EB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B409-E0AA-4A8B-8892-F04FBD8D6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11E2-87DB-4D93-8F8B-94C074AD7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694F-AAEE-4289-BEF4-6E9C4D48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7BFB-E625-4BBB-B4BF-F3BC8220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4E72-1128-4567-A493-7012ECAE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BA77-371C-4FAB-9C9E-ADF2F4EA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612C-A2D7-4E22-A1EC-303DFF7E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9F1E-0F28-400B-80D9-5D49CF61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A402-3B33-4878-988B-DDDDAF7A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71B8-BF8B-440A-A6F6-1D5C600C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6322-A5CD-48D5-B8A8-032B308BF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Is Al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Aliv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Brian Wren, 1968, al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0512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hrist is aliv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Christians s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cross stands emp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sk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5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earth and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eation 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joy, with just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, and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streets and hom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praises r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love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ath shall never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Aliv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Christ is aliv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longer b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distant y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Palesti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comes to cla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ere and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dwell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place and ti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Aliv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Not throned af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motely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ouched, unmov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human pain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daily,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midst of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Savior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odhead reig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Alive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In every insul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ift, and w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color, sc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wealth divid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suffers st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t loves the m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ives, th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 crucif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Alive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Christ is al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omes to b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od news to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every ag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7:15:13Z</dcterms:modified>
  <cp:revision>76</cp:revision>
  <dc:subject/>
  <dc:title>PowerPoint Presentation</dc:title>
</cp:coreProperties>
</file>