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2EF-3050-4745-A319-B229C3BE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C84-E4D7-4976-8631-563DA15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11C-364E-4384-B748-D44EB83F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5E5-0C9C-43B8-8754-10198865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855-393A-4441-BBE3-B7A790D2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1C3-3BF2-4E4D-BAC2-C62BD52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B1B-8198-4983-BF6E-507C6B0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6D5-37C5-478B-9EEF-E7EB7CA1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390-724A-42EA-90EB-512ECC6F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266-C95D-4B64-A4A9-5ACD11B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CDD-FA19-43A2-9F4E-92ED672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649-8464-430A-9233-A1D295C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3621-CD7D-49D5-A779-64BD5B3D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ftly and Tenderl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 L. Thompson, 1880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oftly and tende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are gath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beds are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or the wond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he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d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have sin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s mercy and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don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, on the portals h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and wat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should we t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Jesus is p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ad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y should we li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ed not his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ies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come home;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ime is now flee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oments are pa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sing from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rom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22Z</dcterms:modified>
  <cp:revision>104</cp:revision>
  <dc:subject/>
  <dc:title>PowerPoint Presentation</dc:title>
</cp:coreProperties>
</file>