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BD5-E630-4734-B97D-561CFFD3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3D2-4B18-4988-BAB7-D65AA3F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3A8-7D0A-41B4-8CF1-3366663F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5E1-A39E-4BE2-B0DB-953E8C40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752-ED4F-471A-ACD7-10B17C01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F5E-BA9B-47B5-B98A-24D3B549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194-A711-4E7E-A36D-0DC9BB08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CE6-A347-4E98-8975-15345F3F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453-BAFE-46D3-9803-A4C21172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B6A-DBCF-4A7B-9319-00CBFDBE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402-4E57-48E2-AB3F-463EB7FE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903-1EF3-4513-86B0-66AE6918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9BB3-E683-4978-9C6D-49DA8876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memb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00240" y="1143000"/>
            <a:ext cx="3141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Trad. (Lk. 23:4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21:17Z</dcterms:modified>
  <cp:revision>34</cp:revision>
  <dc:subject/>
  <dc:title>PowerPoint Presentation</dc:title>
</cp:coreProperties>
</file>