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517-44D4-405A-92B9-C5DF205E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B36-6198-448D-BF84-7CC2E1C4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2AF-4E6C-42F5-9FB9-8B5705A3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B48-4CA0-4526-8ED0-C5E6E658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9637-6A47-4CC2-B027-C6D841C1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075E-74AF-44CF-ABB7-9B7789D2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9D10-904F-45DB-A0DB-AB5E6B55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BD53-3F07-48EF-95F3-6E9BAF2D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FEB9-18AA-46BA-A654-43A603F8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46FF-BF9C-49A6-B4DF-53962CA7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F87F-A56E-40A8-850A-36CC946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597-03DA-49D5-ACDC-59D38809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00A9-CEE7-4CD8-84F5-77C65FB6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0CEF-E213-43E9-9A4F-DD085538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8E82-988C-4008-AB4A-8F104808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A2F9-CCFE-4F3F-AA73-4E09097E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4075-FC2C-4FA7-BDAB-8368ACDA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6EC-F4B1-4B31-AA05-AA7E94CB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4B4-2C3C-4B3C-B920-284BE170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44D-ED5B-4F3A-A326-008711F5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1C1-7C2D-41D3-9E63-1EA36CA6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45C-C021-4D3E-B8FF-9581167D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759-C5B2-414D-AF88-5A1EE82F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34B-3952-495A-83BD-7FDF2BF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C3F4-79FA-4AC2-80F5-E8EAF9819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CF93-8164-4421-81B2-46BF6E337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40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1. This is my Father’s world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to my listening ears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ll nature sings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round me rings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the music of the spheres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74720" y="83808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hines in all that’s fai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ustling gr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m pa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peak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is is my Father’s world.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gh the w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oft so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the ruler y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should my heart be sa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K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heavens r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reig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earth be gl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479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This is my Father’s worl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o my listening ea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nature sing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round me ring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usic of the sphe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74720" y="83808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me in the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ocks and tre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kies and se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 the wonders wro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irds their carol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ly wh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 their maker’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hines in all that’s fai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ustling gr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m pa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peaks to m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is is my Father’s world.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gh the w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oft so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the ruler y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y should my heart be sad?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ord is K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 heavens ring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reign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 earth be gla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4479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This is my Father’s worl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o my listening ea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nature sing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round me ring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usic of the sphe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74720" y="83808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I rest me in the though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f rocks and tree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f skies and seas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his hand the wonders wrought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me in the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ocks and tre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kies and se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 the wonders wro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irds their carol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ly wh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 their maker’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hines in all that’s fai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ustling gr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m pa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peaks to m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is is my Father’s world.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me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gh the w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ms oft so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the ruler y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y should my heart be sad?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ord is K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 heavens ring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reign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the earth be gla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8088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2. This is my Father’s world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birds their carols rais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morning ligh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lily whit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declare their maker’s praise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8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shines in all that’s fai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the rustling gra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hear him pas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speaks to me everywher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572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3. This is my Father’s world. 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 let me ne’er forge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at though the wrong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eems oft so strong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God is the ruler yet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y should my heart be sad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Lord is King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t the heavens ring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d reigns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t the earth be glad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my listening 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nature s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ound me r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usic of the sphe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74720" y="106668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me in the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ocks and tre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kies and sea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s wro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irds their carol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ly wh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clare their maker’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2T12:43:27Z</dcterms:modified>
  <cp:revision>8</cp:revision>
  <dc:subject/>
  <dc:title>PowerPoint Presentation</dc:title>
</cp:coreProperties>
</file>