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472-CB28-4D52-8D6A-B0241A07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956-2CED-49FE-BD51-D4688A9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9E6-7147-4E4D-8C97-8F7F5FED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53A-1650-4CB3-A21D-2761FF7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21B4-B174-4F37-A58C-CD11AEE6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5B8-F147-4AAC-B204-8ECA473A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2E0-0886-45B9-A600-413CBC4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4197-660E-4EBB-B805-C92EF326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7745-26B7-4510-8D58-8D70D039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44C8-1E9A-4184-8CF7-12269415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11FF-732A-4E97-B001-CAD3405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B03-6A28-4DB1-AE38-1A6473C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24AD-9B4F-4E56-9E04-1CAD905E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9DD-24F0-4EED-B132-0FFF122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DC82-9284-4810-99FA-D436A8EA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229-E3A0-4981-B5A1-0F48CB38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108E-3C1B-4EF6-A8F9-C0AAEE39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E70-DC50-450D-877C-3B5DABDB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134-C1AD-4114-BC5B-41508A0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927-D863-41C3-AF9E-3B361EE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986-6931-4EDE-B65C-361F40E1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19D-2CBA-4DAC-83AB-EAF0E9FC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570-8389-417E-9458-2F1E4CDC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CF7-DFDE-4A6E-94B8-1A87E10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347-6FD7-4B88-AA58-4B0D642C8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BDB-8989-4FB2-A7C2-603EAF5B0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2160" y="14479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obtained the pri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2160" y="17524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ur spirits to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quick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ith glory crow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 the eagl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ngs of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joys celestial r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saints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ite to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ose to glory g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all the servants of our King in earth and heaven are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ne family w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well i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church above, beneath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gh now divid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e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narrow stream of death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e army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is command we b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rt of his ho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crossed the flo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part are crossing n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en thousand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endless ho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solemn moment fl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are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argin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e expect to di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E’en now by faith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e join our h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those that went befor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greet th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lood-besprinkled bands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on the eternal shore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Our spirits too shall quickly jo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ke theirs with glory crowned, and shout to s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Captain’s sig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hear his trumpet soun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w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ight grasp our Guide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at the word were giv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me, Lord of Hos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aves div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and us all in heav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05T23:28:46Z</dcterms:modified>
  <cp:revision>53</cp:revision>
  <dc:subject/>
  <dc:title>PowerPoint Presentation</dc:title>
</cp:coreProperties>
</file>