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BB2-CD4C-4373-8969-FAFF18E3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068-EB4B-4A24-8070-3D4CB251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23A-B58E-465F-8FE9-DB9BFE9B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E60-6BB3-4ECE-B095-8B3E2409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C27-B6E0-4B53-8D6B-502F51C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B4F-1FA1-4F30-8C24-9B50625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9A5-1FB4-405C-BE9D-9CA7FD4B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B4A-BA05-4BF8-922D-5A7D5880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955-05F3-46D8-A358-0F1DD192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7D3-E098-4612-8B89-96ADCBD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0DB-1298-4F2A-B9D3-67242DB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E87-C3A6-48B0-BF34-CB447DD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1B96-6FF8-40AA-A506-716E5EC55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the Poor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uando El Po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A. Olivar and Miguel Manzano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orge Lockwood  (Mt. 25:31-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the poor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ve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with strang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thirs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give unto us a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7000" y="1295280"/>
            <a:ext cx="7506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1040" y="2133720"/>
            <a:ext cx="558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04280" y="2576520"/>
            <a:ext cx="653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hermano 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6520" y="2576520"/>
            <a:ext cx="705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nque el odio 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13372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69240" y="2576520"/>
            <a:ext cx="6005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95280"/>
            <a:ext cx="86104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810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9200" y="2576520"/>
            <a:ext cx="6467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371600"/>
            <a:ext cx="86104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89154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0960" y="1295280"/>
            <a:ext cx="6487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65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8915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4880" y="1676520"/>
            <a:ext cx="7119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2640" y="2576520"/>
            <a:ext cx="667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5:59Z</dcterms:modified>
  <cp:revision>144</cp:revision>
  <dc:subject/>
  <dc:title>PowerPoint Presentation</dc:title>
</cp:coreProperties>
</file>