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492-C094-4B8F-AFA3-23496061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591-6A51-43AA-AE28-3B354FB2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E97-A620-4B26-AF96-E8072500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606-4629-4436-B3D1-2FE17E35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6D6D-EB0B-4DD3-9812-7F2D097F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5F83-525A-4D11-B608-07D3EBAE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62D4-4BE7-443A-A7DD-08BF2A09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9E1A-970D-4C8B-82D0-B3B2D849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E311-5081-4325-9C10-62B652D1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C714-5A33-428D-B141-4280C6A9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CCF6-4276-4ADD-863B-C2C9575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52D-B41F-4E4B-ABB6-EB9BA9F0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F87F-E1D1-43E9-BD26-6E97A839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3616-8120-470D-A829-6C2D5EC2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87B7-365B-478E-8D01-607899AC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D274-A019-427C-8916-BDA57A50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E84D-1531-4B3B-B1BC-9100DB86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615-F501-4B64-AE61-F38D6611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A7A-1983-413C-9894-09C6270A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338-84BC-44D8-BD0C-9C6629F5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F82-31AD-4AE0-9BAB-8F81D3CA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00A-F4FB-4A3C-B65E-17BBF4BB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860-53F2-4827-850D-D5345D1F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0BF-C053-406A-BECD-C98C3821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0387-3609-4268-BA02-75937158C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F177-30FF-49CC-A779-4E18D2630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the on Me, Breath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Breathe on me,    breath of Go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ll me with life anew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066680"/>
            <a:ext cx="47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dwin Hatch, 1878 (Jn. 2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6805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Breathe on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ill I am wholly thin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54080" y="2263680"/>
            <a:ext cx="70372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ill all this earthl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art of 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ws with thy fire divin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Breathe on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 shall I never di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93840" y="2263680"/>
            <a:ext cx="47574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ut live with the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perfect lif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thine eternit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the on Me, Breath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28800"/>
            <a:ext cx="9144000" cy="15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reathe on me, 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ll me with life ane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066680"/>
            <a:ext cx="47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dwin Hatch, 1878 (Jn. 2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7320" y="1066680"/>
            <a:ext cx="686952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I may lo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thou dost love,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 what thou wouldst do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286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Breathe on me, breath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til my heart is pure,                 until with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will one wi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do and to endu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6699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6805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Breathe on me, breath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ill I am wholly thine,                       till all this earthly part of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lows with thy fire divin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Breathe on me, breath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 shall I never die,                             but live with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perfect lif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thine eternit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7080" y="882720"/>
            <a:ext cx="8910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I may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at thou dost love,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o what thou wouldst do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Breathe on me, breath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til my heart is pure,                 until with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will one wi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do and to endur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6805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Breathe on me, breath of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ill I am wholly thine,                       till all this earthly part of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lows with thy fire divi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562720"/>
            <a:ext cx="9144000" cy="129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632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Breathe on me, breath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 shall I never die,                             but live with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perfect lif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thine eternit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638680"/>
            <a:ext cx="9144000" cy="1216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the on M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th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9092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reathe on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ll me with life ane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1600200"/>
            <a:ext cx="47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dwin Hatch, 1878 (Jn. 2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37960" y="2263680"/>
            <a:ext cx="686952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I may lo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thou dost love,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 what thou wouldst do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Breathe on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ntil my heart is pur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12240" y="2263680"/>
            <a:ext cx="55191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ntil with the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one wi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do and to endu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09T23:39:25Z</dcterms:modified>
  <cp:revision>13</cp:revision>
  <dc:subject/>
  <dc:title>PowerPoint Presentation</dc:title>
</cp:coreProperties>
</file>