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880-BAA8-45E2-8E27-410A1D78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BB4-F256-4972-BD11-02F5BC6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FBE-CA34-47F2-A530-70DCDF96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6CA-9AE8-4CBE-865B-4D87DFD4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D8D9-67DA-412D-BB77-CEAE0834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7A11-2475-41E9-938C-88FA94B3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C83E-7DFC-4B9C-B55D-077886D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7041-D819-4348-99B4-2C2CC8D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C42C-5127-4860-80E3-FDF4499B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9DE1-7EEF-489D-A040-4143C44B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858A-0B39-4B02-BEC3-8EC1A1D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963-84D6-43E8-B9AE-DAE5E10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A24-4FED-4F6D-9BF7-281DBA4B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1F88-7781-4CFB-979E-65BC746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3EB-CF85-46C9-AB53-D865FE2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F513-268E-473F-A7BD-37784EFF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B43B-7528-4E56-8798-0F93E55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642-DBE8-4027-8A0D-6E297551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39B-3FDE-4B74-8D46-43B97042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C17-C9EF-4609-A840-B280D84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93C-8153-4EDA-A98A-7674596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2DE-6154-4B6C-BE2A-DFC3E1F3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4F5-0D15-410D-95C5-6222B5D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203-FB43-419E-9195-8FDEAA3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5A73-B023-4F53-8B95-5C09C2490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870B-8B68-4CCE-B1B1-4CA4366B0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thank we all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and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ndrous things ha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m this world rejoic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6960" y="1092240"/>
            <a:ext cx="73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Rinkart, 1636; trans. by  Catherine Winkworth, 18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ll praise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 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Father now be give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im who reig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em in highest heaven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s’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less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may this bounteou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nea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 joyful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pra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 now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m who re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m in highest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Now thank we all our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eart and hands and voic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ondrous things has d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whom this world rejoice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5360" y="685800"/>
            <a:ext cx="73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Rinkart, 1636; trans. by  Catherine Winkworth, 18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our mothers’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lessed us on ou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O may this bounteous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our l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near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 joyful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lessed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cheer u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19T02:26:47Z</dcterms:modified>
  <cp:revision>18</cp:revision>
  <dc:subject/>
  <dc:title>PowerPoint Presentation</dc:title>
</cp:coreProperties>
</file>