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95D-D7DB-4DF2-95FC-A7C8ECC3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3D3-D1ED-4A1D-9F07-01AF573B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03D-562E-4600-89BD-3E3D6323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CD8-450F-4889-AC9D-0BC26F47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43AD-E202-479B-91FE-B19BA022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6C74-CDB4-4EF3-9862-A72791C2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0A3-BBF0-4ABA-9842-A145C9E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5CAD-B321-4264-8717-A39E06D2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9315-76CC-46E6-A88E-B849FC8C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49F6-8E5A-430E-9B98-68D906F0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4302-C773-41D6-8C66-4D44AA28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5C0-EE07-413B-B2DB-38AF9453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DCDD-B771-44E8-BCAE-94D1C4D2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6CED-7E7C-4284-A117-91671510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A72-E487-4F00-BF9C-8A3A6053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FA0C-1459-44B0-AA23-F3441CD7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027B-4643-49A5-BAEB-D6971315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28AE-F2CB-4699-9C48-69624531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D829-2589-4DC6-B0F8-8468AE50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6B81-7A1E-4D1C-93CA-A174C5D0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19B1-4696-4A61-BE39-B0FE123B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9DE9-2445-492D-83B7-518DD10F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6F6-2335-4B50-9EF3-352B8709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ACA5-DDD5-495A-A78D-F453D583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1B62-021C-4BC7-95D3-8E871FC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2D9C-2D8E-41F9-9E93-E0E2ECE0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B295-71B9-4215-BC40-6A3AD71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61A1-05D2-4DDB-9075-5DF14241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8165-1AAF-477C-8128-7EFDF7C1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7689-AD81-445B-8A0C-223E6CD7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5CD7D-910B-42D4-990C-F14016F8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5E4C-85E8-4F40-91D7-BA987B3B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8556-0ED0-410E-BEE3-1C5E8DAD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959-C13E-4F48-BAC2-E21AA927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ECBE-64CF-4415-AF15-CAFC049A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2D86A-F06C-4C30-9B92-5C296D7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6FA3-18A4-4773-8517-92957AD0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92DB8-9CE3-4D14-ADC3-CD6670D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0FA8-8856-486C-8A92-54FC07DC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3BAD-5C6A-4361-A4F1-CD6AEDD5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D2459-C05A-4C66-8A26-7F30A2E1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E16E-04B9-4787-96DA-D9AF320A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1D5F-E32B-49E1-854C-8C3B14F1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E62-9E59-4072-AB54-BFA136DC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0BD-CB3E-4A91-9CB9-4F287F5E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2BE-EF98-4406-BB52-E167A07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5A8-2484-464F-8984-A7EA76DE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53E-2CFB-45A0-8B78-11472C2B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0769-CEB1-46D0-9DD2-A31C228BF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7FAD-673A-4DBB-B45C-D018739F4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3D9C-0483-4B04-B33F-EEC9AFF5F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8B3-4B2A-4B9D-B044-8801D9A8C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Leaning on the Everlasting A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3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0" y="1676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a fellowship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joy divi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123640" y="121932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lisha A. Hoffman, 1887 (Dt. 33:27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lessed pe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Lord so nea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0" y="0"/>
            <a:ext cx="9144000" cy="576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152280"/>
            <a:ext cx="9144000" cy="512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Leaning on the Everlasting A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3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0" y="19810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a fellowship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joy div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;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123640" y="121932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lisha A. Hoffman, 1887 (Dt. 33:27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blesse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peac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304920"/>
            <a:ext cx="9144000" cy="346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838080"/>
            <a:ext cx="9144000" cy="273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is pilgrim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bright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ows from day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0" y="304920"/>
            <a:ext cx="9144000" cy="346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blessed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peace is m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838080"/>
            <a:ext cx="9144000" cy="273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at have I to d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ve I t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lesse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Lord so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0" y="304920"/>
            <a:ext cx="9144000" cy="346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838080"/>
            <a:ext cx="9144000" cy="273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ning on the Everlasting A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a fellow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joy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123640" y="121932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Elisha A. Hoffman, 1887 (Dt. 33:27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blesse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peac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0" y="685800"/>
            <a:ext cx="9144000" cy="54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974880"/>
            <a:ext cx="9144000" cy="471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how swee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pilgrim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0"/>
            <a:ext cx="9144000" cy="576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bright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s from day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609480"/>
            <a:ext cx="9144000" cy="54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0" y="974880"/>
            <a:ext cx="9144000" cy="471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have I to d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ave I t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lesse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Lord so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762120"/>
            <a:ext cx="9144000" cy="54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974880"/>
            <a:ext cx="9144000" cy="471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52280"/>
            <a:ext cx="9144000" cy="512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wal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is pilgrim w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;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bright the pa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rows from day to d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0" y="0"/>
            <a:ext cx="9144000" cy="576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152280"/>
            <a:ext cx="9144000" cy="512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What have I to drea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ve I to fea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?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5T15:18:29Z</dcterms:modified>
  <cp:revision>59</cp:revision>
  <dc:subject/>
  <dc:title>PowerPoint Presentation</dc:title>
</cp:coreProperties>
</file>