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139-2709-4A4D-A561-FEF1DC0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712-71F9-4108-AC29-C3B83C5F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54E-BF5E-48DE-9B95-4C330039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B53-EE47-453C-9773-15BA4F28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5CD1-25D0-40FE-8C38-7B596514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C6B4-CE71-4D6F-904F-5FB13260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33CC-AC50-4AD8-8AEF-52FD4FBA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6A85-19A2-4A21-90C9-929826D5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1EBE-5DD9-4096-861E-8B428659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416B-F1FE-4272-BF00-9622B548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91AE-DF55-4B45-91F0-C654E416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3E9-1B42-476E-841A-33D27789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1EF5-2F9D-4F7F-BD7B-185BCD9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65C6-A99C-47C5-AEB8-1EE2A5FD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BCA7-FF88-4A7D-86AA-A6BF32BE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D854-9B43-47E8-89B9-B7B0502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6273-8212-4155-94F6-61FABA70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380-480E-4EBC-B391-525527F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29C-8448-4ECE-AA06-903AA1EA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44C-8885-4A54-B2E4-90432BC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B65-16B2-4095-A7C1-31F7A01B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D2B-0A7F-43AE-9CC1-EAF79647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C60-BEDF-4C3C-9566-06564D0B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CB4-BB3E-49AE-A63D-7B26A22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DE6-1A32-4AEA-A76C-E10164B51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3993-8B86-4D55-812A-BA6A84460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683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07360" y="838080"/>
            <a:ext cx="51354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7360" y="838080"/>
            <a:ext cx="51354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8580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for the sweet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wet garde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prung in completenes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re his feet pas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Mine is the sunlight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ine is the morn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orn of the on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den saw pla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with elati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raise every morn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d’s recreatio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new da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orning has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m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ckbird has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b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 by permission of David Higham Associate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7360" y="1092240"/>
            <a:ext cx="51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06T23:05:36Z</dcterms:modified>
  <cp:revision>10</cp:revision>
  <dc:subject/>
  <dc:title>PowerPoint Presentation</dc:title>
</cp:coreProperties>
</file>