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1AC-BC99-4B98-8A56-35945986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D8C-5DA2-4891-9B88-7C78D829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97B-1F2D-4B56-8DC8-E5EE92B2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BCA-A268-4D99-8FE0-23A2AC41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137-7175-4461-A339-45695FF1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BE0-0493-4FB9-8B3C-55FD8209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555-E3C1-411B-8B02-3412434F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716-D0DB-49BA-BBE1-A561FC0B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177-6235-44FF-A6ED-8ECEAFFF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DA2-44A3-4652-9B16-252B51E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0C0-1A1D-4CCE-BE06-DEFEDDD8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824-939A-4188-8410-C2F90BA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3927-7014-449E-BC14-8FFA48461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Lord, What a Mo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0240" y="1066680"/>
            <a:ext cx="65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1 Cor. 15:51-52; Rev. 6:12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’ll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mpet 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ou’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nner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ou’ll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ian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08:55Z</dcterms:modified>
  <cp:revision>56</cp:revision>
  <dc:subject/>
  <dc:title>PowerPoint Presentation</dc:title>
</cp:coreProperties>
</file>