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1F25-55C4-45E4-B365-1DCF2E674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8F83-9E5C-4FFE-913C-334CB3B8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6B50-28DD-4A64-99DB-DCA471B70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EE9E-D025-4325-B3D6-1F9BFD992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E5AD-0000-4F4E-BF5F-C31F83A4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E66C-2D5F-4868-9811-81ED859B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54F8-F255-4CEB-B3F4-0EAC5380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0ABE-3513-477B-9D10-F90FF2F3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9397-B48A-4705-9111-40D34488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D772-9C76-4542-8363-A855B0A9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520F-6674-47C1-B305-58541150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C449-F01A-4B66-9586-F9D06EFA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BCE0-438C-4422-981B-5608F9181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n el Fr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ío Invernal</a:t>
            </a:r>
            <a:br>
              <a:rPr sz="40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Cold December Flies Awa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3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En el frío invern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l mes de diciemb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 capullo del ros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ota en un peseb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ans. © 1978 Lutheran Book of Worship; Spanish trans. © 1987 Skinner Chávez-M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el F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o Inverna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538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atalonian carol; trans. by Howard Hawhee, 1978;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Spanish by Skinner Ch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ávez-Melo, 1987 (Is. 35:1-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Cold December flies a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 the rose red splendo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pril’s crow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 break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the who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ld wonder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d December Flies Aw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 the holy unseen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t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ch bears the flowe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blessed t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ooms the reddest flow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t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ooms the r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n love’s own gard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ull and strong in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In the hope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me of s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dows deep had falle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ay undern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yes were closed in sleep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d December Flies Aw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, when all see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st in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e the su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se golden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ings unending jo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ings the endless jo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our hop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ghest hop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our hop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ight daw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n beloved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Now the bud h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to blo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world awaken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lily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rest flower dwe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wondrous fragran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d December Flies Aw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t spread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e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mom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its bir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ts beauty live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flower it live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fl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t sprea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its heavenly bright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weet perfume delightf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el calor primaver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ce al mundo despert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qué fragante ol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 tan bella flo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 esa ro-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 esa ro-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 esa rosa anhel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l jard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 del ciel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Las tinieblas del ay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uyen prontamen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a mañana deja 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l resplandecient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el F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o Invern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nocturna oscurid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sca el mundo clarid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qué felicid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ta Navid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a la lu-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a la lu-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a la luz divin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 mundo ilumin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Va el capullo a florec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sa blanca y pur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 fragancia va a ofrec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toda criatur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el F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o Invern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e aroma sin igu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va vida da al mort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 de Dios el d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mo galardó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al mun-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al mun-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al mundo ha da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 su Hijo ama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53:26Z</dcterms:modified>
  <cp:revision>79</cp:revision>
  <dc:subject/>
  <dc:title>PowerPoint Presentation</dc:title>
</cp:coreProperties>
</file>