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0E5B-A7CB-4395-BEEA-A8F3C75A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336C-5CA8-44EB-BCED-1E6A008B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FE47-1843-40A9-8875-3EE50B7D7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C0AB-3170-4937-A76F-AEBC4196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F21F-97CB-4E28-BF2F-62B6DC16D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A5E5-1013-44E5-9E4F-36AAFDDA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4964-1FCA-4BA3-BF66-674D04C6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1CBB-BFE2-4EA8-9D4C-CC6FAB44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CC8C-A222-4032-927B-C35747AB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8F5B-850E-40C6-856B-06EA02A0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B641-B62A-4598-A153-ACDA1848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711C-EB52-4F4D-BA5C-B9763132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78D7-8122-4DD7-8B8D-03C865B5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88A7-7B22-4D8E-BB48-C2FBE558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9FAB-FD35-479D-BF92-C72496E1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C678-3660-4CCE-A021-992CF07B3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AA7B-3C1C-4C5C-B1C9-1337724ED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67D0-486C-4AE5-90EE-A343DF94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AD1C-E794-458E-BA8B-21A29360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3B66-1683-40C9-8DD6-841A4523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65D2-308D-4541-82CA-5D4CFD94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FDE0-3DC5-4523-8C0D-6C2E796F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52C2-4520-4C9C-ABCC-8DD29D16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116E-A80D-46D2-AEE6-BDCFEAB4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E34B-0253-4CBF-9E4B-E80FB15C9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A2AA-9DDD-4D06-A3C2-737ADD1D1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aster People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aise Your Vo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ster People, Raise Your Voic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60020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William M. James, 1979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Easter peo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ise your voic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nds of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arth should 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our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mpowered u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iumph over every fo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o victory now w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Every day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is Eas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urrection s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ster People, Raise Your Voic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n in trouble move the faste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our Go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o rights the wrong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ee the powe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f heavenly throngs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has br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heaven’s choic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ly music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t r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ster people, let us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ear of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no more stop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our pres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be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ster People, Raise Your Voic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our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mpowered u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iumph over every fo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o vic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w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Every day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is Eas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urrection s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ster People, Raise Your Voic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76212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n troub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 the fas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our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rights the wro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e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eavenly thro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36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Easter People,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Raise Your Vo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ster People, Raise Your Voic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37160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WORDS: William M. James, 1979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057400"/>
            <a:ext cx="9144000" cy="21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Easter people, raise your voice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ounds of heave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earth should ring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7632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hrist has brough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us heaven’s choices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avenly music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it ring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Easter people, let us sing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ear of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no more stop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our pres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be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ster People, Raise Your Voic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4-07T22:04:11Z</dcterms:modified>
  <cp:revision>61</cp:revision>
  <dc:subject/>
  <dc:title>PowerPoint Presentation</dc:title>
</cp:coreProperties>
</file>