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088-1C09-4A90-9FC5-1B9A26C2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33E-6852-410D-A80D-A0DEA06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9C2-B4B0-438C-AFC6-BC9C4272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E0F-F9C3-4675-BA3E-9AEC99D0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22E-3F77-4DBC-9AD3-B002C74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8E8-E493-4234-96C7-14D64679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E3A-7306-4A6C-A501-E19CBBB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F6B-3460-4C27-9413-C24915B5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ADA-65D0-46C3-A860-957FDFF6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3FE-FCA0-4F40-A12A-6BE1538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372-484E-43C7-8512-3E717A0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C5F-BB59-42F7-8A28-381A8F6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AA41-C47B-4E71-A471-B594863F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uando El Pobre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the Poor 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096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19320"/>
            <a:ext cx="914400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337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3:02Z</dcterms:modified>
  <cp:revision>145</cp:revision>
  <dc:subject/>
  <dc:title>PowerPoint Presentation</dc:title>
</cp:coreProperties>
</file>