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2ED4-AC43-4B5F-8081-D3DEA67D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5414-858C-4A7D-A7FB-44D9EE61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3B60-827B-4D8C-957E-D3346F64C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2E7F-FBAE-4264-B294-E1643A4C5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54B7-9B17-455A-9436-18088E5E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B94B-7732-4058-9636-D5DCA5CA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DCBD-7BB2-4D5F-B1C5-1F323B78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EBF7-89DD-431D-84B6-0F03939B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CD1C-8A29-4FE5-BA64-F0F0ED24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2DCF-29EF-493E-9C10-F3A0D4A8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A78D-49FB-4C2D-9538-489688AC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C868-C7F2-4111-9B72-BEC6B9A0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37A0-FF78-4FA3-943B-DC10FA25F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eek Ye Fir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523880"/>
            <a:ext cx="9144000" cy="503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Seek ye fir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kingdom of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s righteous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these t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e added unto you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2 Maranatha! 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k Ye Fir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58680" y="914400"/>
            <a:ext cx="5429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Karen Lafferty, 1972 (Mt. 6:33; 7: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sk, and it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be given unto you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 and ye shall fi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nock, and the door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opened unto you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k Ye Fir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62120"/>
            <a:ext cx="9144000" cy="577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 baseline="-25000">
                <a:solidFill>
                  <a:srgbClr val="000000"/>
                </a:solidFill>
                <a:latin typeface="Times New Roman"/>
              </a:rPr>
              <a:t>Al        -        le            -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ek ye first th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 baseline="-25000">
                <a:solidFill>
                  <a:srgbClr val="000000"/>
                </a:solidFill>
                <a:latin typeface="Times New Roman"/>
              </a:rPr>
              <a:t>lu              –             i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ingdom of Go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en-US" sz="5000" spc="-1" strike="noStrike" baseline="-25000">
                <a:solidFill>
                  <a:srgbClr val="000000"/>
                </a:solidFill>
                <a:latin typeface="Times New Roman"/>
              </a:rPr>
              <a:t>Al       –        le         –         lu     –     i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is righteousnes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k Ye Fir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 with antiph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716040"/>
            <a:ext cx="9144000" cy="577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5000" spc="-1" strike="noStrike" baseline="-25000">
                <a:solidFill>
                  <a:srgbClr val="000000"/>
                </a:solidFill>
                <a:latin typeface="Times New Roman"/>
              </a:rPr>
              <a:t>Al               -              le        -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these thing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 baseline="-25000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en-US" sz="5000" spc="-1" strike="noStrike" baseline="-25000">
                <a:solidFill>
                  <a:srgbClr val="000000"/>
                </a:solidFill>
                <a:latin typeface="Times New Roman"/>
              </a:rPr>
              <a:t>lu                -         i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hall be added unto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5000" spc="-1" strike="noStrike" baseline="-25000">
                <a:solidFill>
                  <a:srgbClr val="000000"/>
                </a:solidFill>
                <a:latin typeface="Times New Roman"/>
              </a:rPr>
              <a:t>Al   -    le       -      lu  - i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elu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59:11Z</dcterms:modified>
  <cp:revision>24</cp:revision>
  <dc:subject/>
  <dc:title>PowerPoint Presentation</dc:title>
</cp:coreProperties>
</file>