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5E693-F5B4-481D-9740-B5B459DF7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7A49E-443C-4CC6-9535-83874D108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BC337-02D1-4BC2-A045-3C0999564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F35FA-1282-45C4-BCA4-6A4C6B045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786B7-B3A2-405D-9673-6CA68B2A3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079A4-A9C4-4827-B6AC-6ADF4497B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A8F60-585F-45A5-BD60-23A1057D5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23729-5635-4FB9-B6E9-765653B7B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87C4B-1499-407C-B2E3-C043C4A34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D4844-957D-4388-A4BF-500275D6B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96DD2-3520-44CA-B543-8A4E31D49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40B84-91C1-4FFA-80E2-05A1A4426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C6DB8-B348-4F1B-946E-8E724828D6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See How Great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a Flame Aspir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4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286000"/>
            <a:ext cx="9144000" cy="3080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1. See how great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a flame aspires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kindled by a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spark of grace.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e How Great a Flame Aspir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354320" y="1676520"/>
            <a:ext cx="6468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Charles Wesley, 1749 (Lk. 12:49; 1 Kg. 18:44-45)</a:t>
            </a: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hath giv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word of gra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esus’ wor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s glorifie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esus might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redee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 alone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ork hath wrought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orthy is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ork of hi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im who spak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 world from naugh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Saw ye no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cloud aris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ttle as 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uman hand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e How Great a Flame Aspir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w it spread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ong the skie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ngs o’er a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thirsty lan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! the promis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a show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rops alread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abov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ut the Lor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ll shortly pou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the spiri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his lo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esus’ lo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nations fire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ets the kingdom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 a blaz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bring fire o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arth he ca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kindled in so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arts it is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that all migh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atch the fla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partake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lorious bliss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When he firs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work begu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mall and feebl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as his day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e How Great a Flame Aspir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223992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w the Word do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wiftly ru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w it wins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ts widening way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ore and mo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t spreads and grow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ver might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prevail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in’s stronghold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t now o’erthrow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akes the trembl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ates of he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Saints of G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r Savior prais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 the doo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th opened wid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ee How Great a Flame Aspir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16:15:18Z</dcterms:modified>
  <cp:revision>14</cp:revision>
  <dc:subject/>
  <dc:title>PowerPoint Presentation</dc:title>
</cp:coreProperties>
</file>