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1F1-8CBF-46DC-B3A1-B55FEFE4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3B1-5BA8-4FEC-A33D-CB57BEE4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3D4-43F7-4127-ACE2-38EFA296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EB1-8E03-43C3-9C4C-B3F9F3B2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AFD-3E8A-417C-8CF5-068A2FBA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A56-596B-4B3C-99EB-662DE505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4C1-960D-44F3-8BAB-B6CB7999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723-E1C9-4801-9091-C1A9E4C6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523-1A4E-402A-B8AA-03C859E8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E3E-41B7-4655-9367-F7BA2003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CE4-CC30-4904-837C-1AD062E2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A98-1E43-405E-9F53-B38E107F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3EF3-0458-4217-A4B7-A5F8D7848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y Spirit, Truth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Samuel Longfellow, 186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oly Spirit, Truth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wn upon this soul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war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ke my spirit, clear my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oly Spirit,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w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heart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dle every high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ish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pure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oly Spirit, Power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and n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will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strongly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avely bear, and nobly str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oly Spirit, Righ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conscience reig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ly bound, forever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1:30Z</dcterms:modified>
  <cp:revision>160</cp:revision>
  <dc:subject/>
  <dc:title>PowerPoint Presentation</dc:title>
</cp:coreProperties>
</file>