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A99-5FD4-4B9C-9C6F-EE04C194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6C1-5732-4B49-B18A-C4C90AC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F2B-DEDD-4CC0-9024-04BBB9D7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A7B-C04B-41C4-BC94-F8DABAFE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0CE-2A9A-46D2-BA42-2A4E43B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7F-AF7D-4DFD-8F31-794092B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73D-E28F-4E0D-978F-9B8A0011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B26-CFA2-498D-9A01-EFC28E7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AF6-2C15-4FCF-975F-987A915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B06-AD31-4CC0-A0B6-6B80653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697-98A7-4D63-842C-A700CD0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D17-9765-4AA8-872C-B287DDA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A99-8173-405A-9540-575146C9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Cam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 who ca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ure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to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4480" y="1828800"/>
            <a:ext cx="53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Lev. 6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a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ean al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let i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extinguishable bla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embl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ble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rven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confi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and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k fo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me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stir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ady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rfect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ct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pea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thy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s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18Z</dcterms:modified>
  <cp:revision>12</cp:revision>
  <dc:subject/>
  <dc:title>PowerPoint Presentation</dc:title>
</cp:coreProperties>
</file>