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869-143C-49FF-A490-8BB9AEF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FA8-4A94-4BCC-8A78-99B86CA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3CE-8A16-4A38-AEFE-FC1DA84F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FFC-82F0-4D85-BEE4-518CAAE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EE35-3834-4706-9B1F-58B8F745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A2D6-37F5-4BB2-9F1F-E77EFBA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9C81-816F-4DDC-87C2-6CBDBF7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5BB-99CF-4F73-9F15-C3DF5E94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139-C411-4D5A-B490-367EE89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9F99-9D9C-46BC-87F5-4C80505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0AA-2CD0-4FCE-BB17-873E7D3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891-10AD-44B2-A31D-E7E34832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3A35-5C2A-4641-A9C7-165161E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F7A-E523-456A-80B7-2587E311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290-5FD3-4372-8E72-FAA1683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C0FA-B2E9-4CD6-8AD7-FC481B11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A18D-F105-444A-A422-758CD407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10F-0D87-4780-8B3E-B2B5A255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FEE-F989-451E-8FFE-FC725B3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47C-E607-4D78-B851-4410EC0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2CC-A490-4C38-845B-9FB20DE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ADC-DF15-4D9E-9127-8116417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BBA-2FE7-4914-B829-84C2A6C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BF3-5AB9-4249-BD3E-780382A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93E-1F52-4865-B983-2C39BFA9E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EB6-5D1F-4821-A6EF-A423D955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55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2320" y="9907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371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Galilean lake,    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ving all for Jesus’ sa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33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06T15:24:47Z</dcterms:modified>
  <cp:revision>22</cp:revision>
  <dc:subject/>
  <dc:title>PowerPoint Presentation</dc:title>
</cp:coreProperties>
</file>