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99F-4D1E-48F3-A8B6-83BDBCBC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224-A8D0-4BC8-946D-28C906FB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F45-0E9B-4E83-A781-CD40CB0F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36B-EC50-4A29-93F9-68456F37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14A7-241D-4F70-97C3-28575D49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E30A-41A7-4906-9904-12228E1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CD76-55CC-4364-81A6-3A6BD3BC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2BA8-4E4C-4872-AE6A-045D708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39A-10DA-4249-8794-413D300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7166-45A3-4B2A-B657-4E735B8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2960-5242-4C9D-9574-F30842E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A30-0CE2-471E-8248-D0435F9B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0083-6409-437D-8020-BCFF8E0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65C3-AA67-436B-B399-A736BB26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1711-77E5-4A9E-8E41-164CDC6C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898B-71F7-45D3-845A-E903D022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F70-ECF5-49A6-A64A-5F9D24D1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170-33FC-4C21-800C-075FD79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D62-1DC8-4EA7-A6AD-1442349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AEB-CCDF-4BC8-821E-F192AC1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1B0-D5EC-4A46-BF7C-40A4BDFB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19B-45AA-4105-9F16-5C027A4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D22-CA17-4E93-895B-296A7C91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92B-FF21-41B5-93B3-39BB67EC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AB78-2034-4DD6-A332-DB64F352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ABA-5F4B-4252-B828-EB8510BBE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Christi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9960" y="17146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Christian 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524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1280" y="8524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e heed to wha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x and ass before him b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nger now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soul and voice;     now ye hear of endless bliss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 born for this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 hath opened heaven’s do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e are bl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mor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soul and voice;      now ye need not fear the grave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 born to sav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lls you one and calls you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ain 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hall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e h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ha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nger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y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ndless bli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th 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d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e are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m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ye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fear the gra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s you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lls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a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h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23T00:32:44Z</dcterms:modified>
  <cp:revision>70</cp:revision>
  <dc:subject/>
  <dc:title>PowerPoint Presentation</dc:title>
</cp:coreProperties>
</file>