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471-6E61-45DA-BC8A-4FE41A57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ED2-F98C-4D37-ACBF-1651607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38F-B26C-4166-ADA5-CF602916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442-2C21-43EA-9F30-9D300DB3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263E-42F8-40EE-87C6-408E6766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693C-BC94-4183-8797-7065880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110F-01DC-41B8-8212-19D3930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8B3A-2E1C-40ED-974C-3C366B4D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17A0-9A8B-4839-84A6-D7D8FC23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693-3C1B-480D-8B2C-BCE4071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429-D518-4039-A3B2-E254B36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987-2F74-4530-904B-060F672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A89-CFFF-4AB3-9264-0B5D616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29D4-A8E5-4954-9452-9EA2CC8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6A0-1AFD-4E38-B66D-A7DB694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1FA5-768F-4568-8DD3-2A753505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B17-0C94-4F19-B42F-3D42F4D6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28D-2F02-4569-A01C-2E4B438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EB6-7ABE-4E14-9A79-1270E56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116-187A-4AC6-8417-AB13518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26A-10F3-4629-BAA2-FBD79949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75-3D46-468E-853E-8B362E5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2B5-AFF2-4F8B-838F-B1B24D8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BDB-6123-4A28-AF45-8A1F83B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E14-0058-4738-A728-B18944E8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CAD7-17A9-4827-B664-0B0C5F55F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Bleak Midw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 the bleak mid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sty wind made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stood hard as ir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like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9520" y="118116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ristina G. Rossetti, 1872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152280"/>
            <a:ext cx="4876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had falle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now on sn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bleak midwint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g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280" y="212760"/>
            <a:ext cx="563904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2. Our God, heaven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cannot hold him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nor earth sustai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heaven and earth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hall flee away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hen he comes to reig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320" y="152280"/>
            <a:ext cx="52578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In the bleak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midwinter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 stable place sufficed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the Lord God Almighty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 Chris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had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 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ur God,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earth sust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flee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come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bl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d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table place suff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gels and arch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have gath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ged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is mother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maiden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ed the be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k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can I gi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s I a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bring a la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were a Wise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ould do my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what I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giv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320" y="228600"/>
            <a:ext cx="5715000" cy="39344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1. In the bleak midwint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frosty wind made moa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earth stood hard as iron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ater like a ston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2:06:33Z</dcterms:modified>
  <cp:revision>68</cp:revision>
  <dc:subject/>
  <dc:title>PowerPoint Presentation</dc:title>
</cp:coreProperties>
</file>