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98BC-9D0D-4F34-8E6B-ECF51D39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A4C6-588F-4533-8B1D-99B60F1F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BF1A-2ACF-41E9-85F3-9903AD70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D894-A617-47BB-A1BF-A2E3ED64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D816-D1ED-4402-AAC4-5F6B74FD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60E2-DBFA-4A04-9089-8E5EEFF5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BC8D-A994-4F90-BD5E-B82E4531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F177-4628-4E58-838A-F854A600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BD77-E780-4500-881A-B8A2173F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DAA2-EC08-4981-BB73-47FD0DE5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D6A7-86A7-48CF-BA53-40284470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569D-DEB4-4CA7-B2F7-5BED7E7E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0DC8-3E1F-44DC-86D3-4A69B6633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ake Up Thy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Up Thy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. Everest, 1833 (Mt. 16:24-25; Mk. 8:34-35; Lk. 9:23-2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“Take up thy cross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avior s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if thou wouldst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isciple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ny thysel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forsak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umbly fol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fter m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Up Thy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ake up thy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not its we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 thy w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with alar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trength shall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pirit 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ace th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erve thine ar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Up Thy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ake up thy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heed the sh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let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olish pride rebe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ord for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oss endu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ave th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eath and h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Up Thy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ake up thy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llow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think till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ay it d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nly th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ear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hope to w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lorious c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2:42Z</dcterms:modified>
  <cp:revision>140</cp:revision>
  <dc:subject/>
  <dc:title>PowerPoint Presentation</dc:title>
</cp:coreProperties>
</file>