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AA7-9805-4F31-AD03-AC48A1EF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7CC-B3C4-47AD-A646-C4F8AFA9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986-7F89-44F1-BA7F-68697BAD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9B2-F402-4747-B3DF-3B771EF9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5BC9-CE18-4921-84FF-B0AE290A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EF3C-1022-4CA7-89DC-6D9E8CA3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10E1-E3F8-4726-A6E2-C9618C1A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0961-F015-461F-8882-A55F8282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374D-E81E-4C03-9870-0CFB4083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5D78-ED02-433D-BA09-B93F0712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09D2-1DF4-44EA-B15E-0653128A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9D2-F1A8-40AA-8924-F1C4FA79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61FC-18EC-43A6-8602-740D3FB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53D1-BA66-4B95-8D95-CAFA7C12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20A9-0F2A-4DE1-BF73-3D6B38B1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01B1-C1FA-4CF8-9E36-48B65FDD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81F4-FFA4-4439-82CE-740E0B77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F7F-944D-46B1-AB07-FA7D3416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16A-6B1E-4F04-96AA-48431CD7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0CE-5ED3-4BD2-902F-FC31D6EA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FC6-7293-44B9-9759-A635B440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042-CB9D-47D0-8E64-DE86C786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8A8-58A5-4B82-8876-EC903CFC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F22-F58D-4B5D-9A1A-6C77F315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5B47-08AC-4097-B4EF-1FBF50E49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DACE-EE89-4B72-953C-70BA96BDC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Is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Lord, he is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risen from the d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15720" y="109224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pians 2:9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knee shall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ongue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Is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Lord, he is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risen from the d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5720" y="109224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pians 2:9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295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knee shall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ongue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Lord, he is Lord!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risen from the dead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Lord!                          Every knee shall bow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ongue confes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Lor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2-07T15:52:58Z</dcterms:modified>
  <cp:revision>41</cp:revision>
  <dc:subject/>
  <dc:title>PowerPoint Presentation</dc:title>
</cp:coreProperties>
</file>