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D64-80D4-4021-9764-77A57A98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51B-87A5-4C0C-AE9A-D7EDC355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A77-0034-42E4-9215-38AD039B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6E1-43AD-4311-9834-18326123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B5E9-3899-40F0-B78F-4D9EE230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4F4E-CE76-4AF7-A470-0FDFDAD4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B9CF-DB7B-41F2-9598-882BAFB2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1D5E-F279-449F-8B4A-4C7E2B19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3336-F5BC-4390-9B38-70E1569F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CCA5-AA2E-4CA6-8646-D69D9133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EFD-9CFE-4CFA-9542-FB540DD8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FC3-BFAE-414F-A065-42853E31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E4E9-A982-4601-BCC8-2472F22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F70-F0B9-4554-9E17-D568A19D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B44B-87DE-4FEB-BFDC-E2726CD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AD4F-17FA-434A-A5BC-171F0243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FEFB-E797-4ADF-B2B2-55AE1A7A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F01-B4D9-46DE-A3FC-ACC22D2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93A-48B7-41FD-8C69-A327324E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187-BBEE-4C72-9728-E1B4C1F8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525-6EE1-4B8A-A85A-1DC1F985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5C7-F088-43B9-8787-F1FFB4D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921-9700-4758-AC86-459000CF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C77-7CDB-4B25-A52B-F7E79B6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B3D4-D739-480D-95CA-C9814A3EE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BB38-5CFF-40E7-ADD4-63A609D3C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477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477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096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96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968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26T13:46:53Z</dcterms:modified>
  <cp:revision>56</cp:revision>
  <dc:subject/>
  <dc:title>PowerPoint Presentation</dc:title>
</cp:coreProperties>
</file>