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2C3-5213-4862-9A46-5D2C2B27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D1A-D002-4DE3-835E-447E4958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4FA-F101-4C2D-8E8C-430ECCA2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6A9-799F-4E1A-8A11-104DC65D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E09-E2D8-4653-96E6-727C52D0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C73-F35B-49AF-92A0-86710FFD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724-7ED7-4759-987C-F5CBE85C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6D7-A93B-43F6-AF46-A90F4E95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E64-B1B0-4C14-BBF2-E91C193A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34F-94D8-4109-8CC5-7CB8BCF5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3C2-5F43-4268-A6FD-CA7AA412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9D3-CDD0-485D-A2E9-CF5DF559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B0C-FD42-44F4-972E-BCF9BA7B9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ona Nobis Pac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a Nobis Pac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072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WORDS: Trad. Lat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2286000"/>
            <a:ext cx="708660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,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4382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63720" y="2133720"/>
            <a:ext cx="728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096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57400" y="2438280"/>
            <a:ext cx="685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514600"/>
            <a:ext cx="8380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3:00Z</dcterms:modified>
  <cp:revision>117</cp:revision>
  <dc:subject/>
  <dc:title>PowerPoint Presentation</dc:title>
</cp:coreProperties>
</file>