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ADD-EA6D-4794-A04C-00253B87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E20-C12D-429B-BB50-303479D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2DD-847B-41C8-95C8-5EC35D82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EF5-09AF-4A39-A8C7-A9E315B1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C76-9EB0-441D-8826-7939DEFA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A89-F71D-4111-AEF7-1D76323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112-1FAE-49D3-A66A-C522EF7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FE3-83E7-4732-A28D-F666F31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C6D-7EB5-403D-A724-77B6FC6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4F3-8DA5-47F0-AD0D-7AF5C81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97C-BEC0-4B43-A310-8994708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728-306E-42D4-9443-C6916B5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804-5F88-490B-8EFB-F4632F6AC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Father,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1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tthew 6:9-13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J. Jefferson Cleveland and Verolga Nix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one on earth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b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bt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4:01Z</dcterms:modified>
  <cp:revision>26</cp:revision>
  <dc:subject/>
  <dc:title>PowerPoint Presentation</dc:title>
</cp:coreProperties>
</file>