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969-EAA1-435B-9521-50F2124F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2EE-5B29-4746-BEEC-FC1C425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156-1082-41A2-80C2-4BE65BDD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DD0-D4F9-4048-94A5-00FF535B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BA5-1888-45DB-97F7-C959F41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A81-16EE-4D7E-9D13-E251D154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130-C622-44D1-BD96-3541214A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EFE-EB76-4BF7-B462-C2A9CB5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712-7CA1-42D7-BFA8-C3D1E9F3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DD2-6C61-46BB-A7ED-6C13CC3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F01-9A35-4CEF-AFA8-FCEE208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7C4-7792-4696-B4E7-5727E57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0E3F-B890-4573-88F7-1816E0BC0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od of Abraham Pra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905120"/>
            <a:ext cx="9144000" cy="32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1. The God of Abraham praise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who reigns enthroned above;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cient of Everlasting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Days, and God of love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481400" y="1143000"/>
            <a:ext cx="62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om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Yigda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of Daniel ben Judah, ca. 1400;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ra. by Thomas Olivers, 1760;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hovah, great I AM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y earth and heaven confesse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bow and bl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sacred na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bless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The great I AM has swor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on this oath depend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, on eagl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ngs upborne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heaven ascen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9144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behold God’s fac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God’s power ado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ing the wond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God’s grace forevermor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5508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The heavenly land I s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peace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lenty bles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land of sacred libert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ndless rest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re milk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ney flow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il and wine aboun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trees of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rever gr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mercy crown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572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The God wh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igns on hig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reat archangels 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“Holy, holy, holy!”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ry, “Almighty King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53352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was, and is, the s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evermore shall be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hovah,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great I 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worship thee!”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13:07:28Z</dcterms:modified>
  <cp:revision>32</cp:revision>
  <dc:subject/>
  <dc:title>PowerPoint Presentation</dc:title>
</cp:coreProperties>
</file>