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97B-1043-48C4-B2D7-8EB53146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E7A-89FC-40A5-90A5-10554283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4DD-DEEA-4049-A4A9-2AF43310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4B1-DDE3-42A2-A905-CB42AA2C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81F-6CBB-4842-9949-AB8FB812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242-634B-47FA-AAF9-4CC0F1C3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482-E5DC-4030-A90A-6A6C50C6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8D2-B70E-4F26-B9B2-4058F54A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087-AD4E-40ED-BF1D-5A5C8515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A75-B41E-4ABE-A36F-B6AE37B4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087-E477-43C8-B522-67D1C76E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F89-8BFB-42EF-B749-1E59C808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B631-8E20-441F-83D2-E8DF022E0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urn Your Eyes upo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n Your Eyes upon Je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len H. Lemmel, 1922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445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full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ful face,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onderful fac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22, renewed 1950 Singspiration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thing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grow strangely d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light of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and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9:33Z</dcterms:modified>
  <cp:revision>105</cp:revision>
  <dc:subject/>
  <dc:title>PowerPoint Presentation</dc:title>
</cp:coreProperties>
</file>