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E392-E6D0-402F-9C62-228F2054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DF8F-DF9C-44B1-9785-83221827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04B8-90A6-4A9E-9ECC-89E7978F2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F9E5-9B49-444E-BDA3-B7D3661DB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58C1-315D-4989-80AF-40392529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FB78-521A-4068-AB2C-38683E63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2535-35A4-4D1B-9AD9-A9366EC0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CE9A-F65E-4582-9F18-8AB0F520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7076-4439-4B8B-AB8D-1F290224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C2C5-980B-4FEB-BD48-E8FB9EAF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52A3-55F9-4CFB-8762-FDD8AB84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C7C1-74B5-4B8B-A1E5-DF8535FF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F5C5-66A3-483E-B1E1-4D49C939D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055960"/>
            <a:ext cx="8839080" cy="412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Eternal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by the birth of Jesus Chri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you  gave yoursel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o the worl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lt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55080" y="1028880"/>
            <a:ext cx="543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he Book of Hymns,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1966; alt. by Laurence Hull Stoo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Grant that, being bor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in our heart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he may save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from all our si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restore within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he image and liken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of our Creato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o whom be everlast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praise and glor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world without e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50:35Z</dcterms:modified>
  <cp:revision>78</cp:revision>
  <dc:subject/>
  <dc:title>PowerPoint Presentation</dc:title>
</cp:coreProperties>
</file>