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C706-FDD5-4AF0-8DDB-768DC5BC2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72D7-513C-4720-9E91-12F9A1BA6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FBE4-27C5-4CD5-8B8F-093CAF0B9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CD10-4818-41CD-96EE-787697337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C791-4892-454E-B9A8-27432F5D9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549C-BB90-41BC-8572-190A8EF6B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4096-7E70-4DA8-A20F-3E45A8D91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5F3D-B23C-4809-8BAA-FA1921344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49C1-D928-4D8C-9C67-ABC1615F6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4391-D832-49C6-93C1-6796F712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B82D-194D-4807-A56B-2F35A72E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672F-80EC-40CA-9153-38A78D0E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51233-5B9B-449D-BCC7-8FAEE854E4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, Ye Sinners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oor and Needy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40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Sinners, Poor and Needy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0" y="1523880"/>
            <a:ext cx="908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Joseph Hart, 1759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Come, ye sinn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oor and need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ak and wound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ick and sore;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f you tar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ll you’re bet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will n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at all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Sinners, Poor and Needy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027"/>
          <p:cNvSpPr/>
          <p:nvPr/>
        </p:nvSpPr>
        <p:spPr>
          <a:xfrm>
            <a:off x="0" y="128736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arise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 to Jesu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will embrace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is arms;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the ar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my dear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there 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n thousand charms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Sinners, Poor and Needy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Let not conscie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ke you ling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r of fit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ndly dream;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the fit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require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s to feel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him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Sinners, Poor and Needy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027"/>
          <p:cNvSpPr/>
          <p:nvPr/>
        </p:nvSpPr>
        <p:spPr>
          <a:xfrm>
            <a:off x="0" y="128736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arise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 to Jesu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will embrace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is arms;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the ar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my dear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there 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n thousand charms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rea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s to sav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ull of pi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ve, and power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Sinners, Poor and Needy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0" y="128736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arise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 to Jesu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will embrace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is arms;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the ar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my dear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there 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n thousand charms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Sinners, Poor and Needy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0" y="2263680"/>
            <a:ext cx="9144000" cy="233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2. Come, ye thirsty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come, and welcom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God’s free bounty glorify;</a:t>
            </a:r>
            <a:endParaRPr b="1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rue belief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rue repenta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y grace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ings you nigh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Sinners, Poor and Needy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027"/>
          <p:cNvSpPr/>
          <p:nvPr/>
        </p:nvSpPr>
        <p:spPr>
          <a:xfrm>
            <a:off x="0" y="128736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arise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 to Jesu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will embrace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is arms;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the ar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my dear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there 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n thousand charms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Sinners, Poor and Needy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Come ye wea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vy lad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st and ruin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the fall;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mrsnaja najafabadi</cp:lastModifiedBy>
  <dcterms:modified xsi:type="dcterms:W3CDTF">2024-02-24T22:44:00Z</dcterms:modified>
  <cp:revision>97</cp:revision>
  <dc:subject/>
  <dc:title>PowerPoint Presentation</dc:title>
</cp:coreProperties>
</file>