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DAB-4347-4815-A873-9F80BBAF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9C1-0184-4632-A61B-57092B70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0C8-0DF2-47F0-86ED-BF2F1635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CA1-E3C6-4786-84F0-A74EC0E4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022-2AF1-4D3F-BBEE-04CC00D9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C75-E775-4982-BA81-6140CD8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0E4-EA95-4E41-9B90-CB0D5012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4E5-3239-4E76-B8ED-FDE964C0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218-A435-448E-AA4A-1563589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51A-196B-479F-8A9F-636C412D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303-4C88-4539-BF01-DED21CB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E0D-48CB-47B1-B534-BFD54CB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746-0B56-4D93-8926-0C26D8DE8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87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 our deliverer, you l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people of old through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and brought the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he promised la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7680" y="914400"/>
            <a:ext cx="4167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Lutheran Book of Worship</a:t>
            </a: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99072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uide now the peo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your churc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, following our Savio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may walk through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lderness of this world, towa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glory of the world to 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512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Holy Spirit, One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w and forever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3:15Z</dcterms:modified>
  <cp:revision>14</cp:revision>
  <dc:subject/>
  <dc:title>PowerPoint Presentation</dc:title>
</cp:coreProperties>
</file>