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EE1-B2C1-4228-91D4-92BBD4E0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187-1689-4BCD-9C7A-2D7C0AB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A59-A5A1-4FA7-8525-3E3F941B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BE1-D0C3-4A40-92DD-2FB7BC0A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00F-D14E-4C66-8DDE-A9012A4C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A07-36E5-41A2-A1CC-DE39087E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770-D1E6-4C71-9997-FF187E0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436-2905-42CB-8F60-8B1C38B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D65-C03B-400D-84CA-8856769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B2-1DD9-4839-9AA5-5DD540B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937-94AE-44E4-949B-0AB84B6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886-C7A2-4779-8FE4-11E66C67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76F3-7A17-499F-8D52-2A7BF3093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ralds of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rald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com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ortal tid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mortal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ura S. Copenhaver, 1915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on and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he news you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stra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way of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esert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fen, and deep mo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ungles, slugg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s, and mountain pa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now the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ter not, nor st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’s high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give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ad to bu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 fulf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ar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hig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rin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7:19Z</dcterms:modified>
  <cp:revision>72</cp:revision>
  <dc:subject/>
  <dc:title>PowerPoint Presentation</dc:title>
</cp:coreProperties>
</file>