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AF9-8CDD-489D-86B7-CB816242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F91-5F45-4A1B-B413-AB55E07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C27-65B8-43DC-ABA7-8954597C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08D-9B5F-44D1-880D-9435264D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64F-D92A-4904-91BD-7F72B25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0D2-695C-48C4-8433-30C741F3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889-7424-4F2E-9CD3-F485C11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5DD-F249-4C3A-ABA0-BD0D8B04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6B0-17A9-4273-A500-7A0DA07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6EE-3C55-4B41-BA31-3C2BBF8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963-1F2D-42D9-8EBF-52DFC4D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0A5-4079-481D-9576-9DF0962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AF2-DBC6-41F9-A0A4-5B49A25E0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d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rcifu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sent your messe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roph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preach repentan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epare the w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4440" y="1004760"/>
            <a:ext cx="63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lt. by Laurence Hull Stoo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969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race to h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warn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orsake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we may celeb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right the commemo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e nativi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y await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the coming in glor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Jesus Christ our Redeem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One God, forever and ev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59Z</dcterms:modified>
  <cp:revision>52</cp:revision>
  <dc:subject/>
  <dc:title>PowerPoint Presentation</dc:title>
</cp:coreProperties>
</file>