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7494-5F40-4BB7-8E9F-8F440EB08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5CF-9057-4076-9A9C-E63BC1B0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1B4E-8184-4D4F-83FC-152A8882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3AF4-C7CE-40A9-84C3-772618172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9838-84C5-428E-A001-63B1D0E7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42C5-6F1C-435C-94B9-04CF94B7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BB64-6B00-442E-84B8-48F7AA2F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E6AA-0665-4656-AF1D-0672A248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E0A0-E7DF-4C11-9979-264817E8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A19C-E481-43AC-A8E5-6EB570F1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E49C-2D6A-4F94-A326-16D86841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15CB-0368-4936-B98F-AD18FC7F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07AB-8494-4908-B8FC-903741B67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ree Things We Pr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Things We Pr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Richard of Chichester, England, 13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187308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anks be to thee, O Lord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Christ, for all th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benefits which thou hast given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us; for all the pains and insul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hich thou hast borne for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most merciful Redeemer, frien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rother, may we know the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re clearly, love thee mo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arly, and follow thee mo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early, for thine own sak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35:56Z</dcterms:modified>
  <cp:revision>158</cp:revision>
  <dc:subject/>
  <dc:title>PowerPoint Presentation</dc:title>
</cp:coreProperties>
</file>