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A5D-7E8E-43ED-ABEC-AA6EBF3A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3FE-5C4B-4D36-B70E-205025E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2D6-5485-4CEA-880B-A379D13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AD5-18EB-43F4-AD57-673C863D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F13-117D-485C-B07A-F9D1071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424-1EE0-4EBB-88C0-FE575F82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60B-7F83-42F9-8064-10C5CA4B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F94-77AF-4134-A3CD-13E007B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8BA-D7A2-4EC7-B922-7B8C1142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C28-8D9B-452E-84B9-AE23D180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184-9707-4C2D-A076-F2E5CFC5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499-550D-43E2-95E7-F9B2D93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D7F-EAA4-4C69-9614-018935F1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ke the Murmur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ove’s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Like the murm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dove’s so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ke the challen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her fligh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39640" y="1676520"/>
            <a:ext cx="446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1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vig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ind’s r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ew flam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er mi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aith ass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ift and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th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i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eas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we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compa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54Z</dcterms:modified>
  <cp:revision>15</cp:revision>
  <dc:subject/>
  <dc:title>PowerPoint Presentation</dc:title>
</cp:coreProperties>
</file>