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43C7-267B-4E1A-8D3E-10356D837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FF53-58D4-4185-87BF-65B3E0B7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E9E5-9A2A-4DC1-933D-397281D99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3646-8A35-4E15-930F-C973C7E54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7D6F-1732-44A5-952D-0EF7C62E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4D60-A1EE-423A-A9CB-DC00F7EE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D639-C312-44FD-B649-43A51FB4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89ED-8C12-49A6-976F-773FD520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4C3D-2459-4FA8-A0A3-A6BE1DC3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BCA8-039E-49A5-A9D2-98E2261C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4B9C-8F3B-476D-9B6A-8DD6ADE9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76D5-84F2-404C-AEC0-F43904A9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D831-623C-401F-964E-E8446F29F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 Is Ris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Ris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440" y="99072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Brian Wren, 1984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81080"/>
            <a:ext cx="9144000" cy="456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Christ is risen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hout Hosanna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elebrate thi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day of days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6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k the b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new cre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the world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still in p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its gr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monic chorus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Christ is rise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et you gone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the Fir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ast is with u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Hosanna everyo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6368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hrist is risen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ush in wonder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ll creation is amaze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dese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surroun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, a sprea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e has gr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ing lea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race aboun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 a taste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un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hrist is rise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ise your spir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caver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despai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Ris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with gla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morn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what love c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 and d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ink the w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resurrec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serv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a frie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ong companio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 and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never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74880"/>
            <a:ext cx="914400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Christ is rise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and heaven</a:t>
            </a:r>
            <a:br>
              <a:rPr sz="50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nevermore shall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e the sam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Ris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7:06:01Z</dcterms:modified>
  <cp:revision>62</cp:revision>
  <dc:subject/>
  <dc:title>PowerPoint Presentation</dc:title>
</cp:coreProperties>
</file>