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174-C8A7-4640-B4D3-A0DDD1A8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580-B22D-4725-94AD-569AB791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DDD-C806-4997-96DA-8FD8E1F0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E38-F0AC-4ADF-BCE5-9E357F30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74D2-0462-478F-A46F-4FEDCB17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249E-1A98-435C-A69B-D04A3A79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6255-5904-4D94-BC4C-AD0E4F69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0476-C490-473C-9EF9-160F8BC8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28A3-1DB5-46BA-B052-457B750E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CF40-4F92-44D5-A71F-CFBA29E7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AF82-1F48-4016-AABD-064686E3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763-A76C-40CA-A3D4-0CAE520D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F3D7-C8C6-4243-BCB4-2756FF31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B3D6-4F6B-42D7-A859-E4391CDE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5779-AC2B-4014-9714-1CACA79A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874A-6287-4341-8B34-1836AC33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25A4-E27E-4BD4-A65F-8B825AD1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AC59-5D21-43B1-9DB1-B6E272B4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A71-72A0-40C0-91E3-25B48C4B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561-6373-4538-A1D0-947D2754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2CD-D0B3-40C4-9FCA-7124C26E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3AC-DA3C-4CC0-8451-CBF8667A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B4E6-21A6-44E3-A0E1-1229BF64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81F-6084-450B-982A-D28490AD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B9E3-3364-4D97-B057-AD0AAEB71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9ADA-CE82-4295-B3D1-FC374CD90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We That Love the Lor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19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we that lov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joys be kn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in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weet acc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us surround the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93200" y="76212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Isaac Watts, 17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 those refuse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never knew our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childr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speak their joys ab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09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hill of Zion yie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sacred swe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we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fie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walk the golden stree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let our songs a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tear be d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’s g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airer worlds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808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We That Love the Lor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we that lov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joys be kn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in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weet acc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us surround the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93200" y="106668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Isaac Watts, 17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 those refuse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never knew our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childr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speak their joys ab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hill of Zion yie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sacred swe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we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fie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walk the golden stree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let our songs a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tear be d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marching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’s g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airer worlds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2-26T01:35:25Z</dcterms:modified>
  <cp:revision>55</cp:revision>
  <dc:subject/>
  <dc:title>PowerPoint Presentation</dc:title>
</cp:coreProperties>
</file>