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876B-06F6-47F8-B90E-9999AB96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CD47-A5EA-466A-9611-F789F641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DDFD-E554-418D-8273-5BA7ADFD8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F786-8722-41BD-BD69-83E938E61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D6FD-B425-4C6E-8548-91F41E3D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44E4-ED6D-4296-8C67-BFBB18B7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6EEB-7FF9-48B3-A540-49843B68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42F4-D44D-4712-A908-1FBBBC72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E745-1D82-4DCD-A48F-8E80D9BB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5F61-6A39-488B-9984-5A05DB2F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ECE1-FACB-4F36-8707-42A192A9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722F-74AA-4B7B-950C-7CAF9849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037E-E26B-4AA0-B337-A1600261C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e R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Ros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08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African American spiritu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They crucified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nailed him to the t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they crucified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nailed him to the tr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ster M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e came run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-looking for my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piri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096920"/>
            <a:ext cx="9144000" cy="39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 from the d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 from the d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Ros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 from the d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bear my spiri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Rose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An ang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e from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rolled the stone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an ang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e from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rolled the stone a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 ange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me from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rolled the stone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piri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096920"/>
            <a:ext cx="9144000" cy="39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 from the d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 from the d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Ros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 from the d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bear my spiri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y crucified my Savi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nailed him to the t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piri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39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 from the d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 from the d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Ros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 from the d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bear my spiri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Ros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en Jose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gged his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aid it in the tomb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then Jose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gged his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aid it in the tomb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n Josep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gged his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aid it in the tomb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l bear my spiri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39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 from the d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 from the d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Rose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rose from the dea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bear my spiri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Rose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Sister M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e came run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-looking for my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Sister Ma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e came run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-looking for my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17:13:27Z</dcterms:modified>
  <cp:revision>72</cp:revision>
  <dc:subject/>
  <dc:title>PowerPoint Presentation</dc:title>
</cp:coreProperties>
</file>