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E2A-E66F-4E41-8C1F-4F653CB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040-22B8-4E47-A496-89530F2B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D8C-5704-4A25-B294-446E410B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2CF-D9B9-4417-952B-38FA6B8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A4C-0EB6-4B86-B3AA-91ECBA1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6EB-0C74-464D-AA5B-E34FBA9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1FA-7F55-4DD6-953E-7F5C397D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45B-0775-4022-B7D7-3C6FD45D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B3A-24FC-4CBB-9613-B6D288E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E2F-F30A-47ED-B360-C6A1F55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C2D-1434-4361-A21E-1624E62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F0A-9812-4BD8-B50D-ACBE3CD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30C-9027-442D-9A7C-692B9BDF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dom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33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ke me sensit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evide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 in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800" y="1066680"/>
            <a:ext cx="377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I, trusting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ee myself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or of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l free to l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tensely and happ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ife you have give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2:15Z</dcterms:modified>
  <cp:revision>9</cp:revision>
  <dc:subject/>
  <dc:title>PowerPoint Presentation</dc:title>
</cp:coreProperties>
</file>