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6E1-CA86-43DB-B76F-E004B5D9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C25-06B1-42B6-A686-C13B8108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9492-BEC9-4A3C-8FF7-47F399CC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915C-9D5F-4EE9-A510-99313CC4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1F8B-E8AB-4611-8A1B-4837C7D4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D03B-E23E-4078-A439-F1912B2E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BD01-27FE-485D-A865-F6279996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F00B-8272-489F-AF1A-BF9CB130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F471-7962-4665-8414-047A120C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B72D-785C-4B8E-9845-523281D4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7564-683F-4EB9-BE81-2297BE18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D146-8446-4EBB-9E08-0904A06B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D357-F196-46E3-87B4-7A2AAB6A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F0CE-A74A-421F-BDE3-F5C912C7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5612-79E1-434E-AB8B-3970385A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567C-AE52-4419-B2F1-30150EBF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2E14-36AA-487D-AEB7-C362CAEB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2A0-9596-40E9-94F2-1C69D5F2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33A0-086A-4266-B3F5-5801B8A6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54A-373F-47AD-85DF-B82060F2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29DC-E9E7-4EDD-8769-E910A9AE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B843-B9CC-4C56-AE0B-6C84C1F8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D0E-A68B-442C-AF89-2ABD1423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5B3-E6A5-4B5B-8BB3-389B1C01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7A47-D7D5-4C95-885D-2ED6EF3C4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44C8-C4FF-413B-B7CB-A23FAD803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Leadeth Me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Blessed Thou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1296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1. He leadeth me: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O blessed thought!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O words with heavenly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comfort fraught!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5200" y="1295280"/>
            <a:ext cx="4467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Joseph H. Gilmore, 1862 (Ps. 23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ontent, whatev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ot I se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ince ’tis my Go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01760"/>
            <a:ext cx="9144000" cy="48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914400"/>
            <a:ext cx="81536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9748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4. And when my task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n earth is don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n by thy grac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victory’s won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33520"/>
            <a:ext cx="9144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e’en death’s cold wav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ill not fle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ince God through Jorda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01760"/>
            <a:ext cx="9144000" cy="48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838080"/>
            <a:ext cx="81536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Leadeth Me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Blessed Thou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He leadeth m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lessed though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words with heave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fort fraugh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5200" y="1676520"/>
            <a:ext cx="4467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Joseph H. Gilmore, 1862 (Ps. 23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’er I 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I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’tis God’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11456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ate’er I do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here’er I b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till ’tis God’s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1859040"/>
            <a:ext cx="815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91916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Sometimes mid scen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deepest gloo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times whe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den’s bowers bloo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aters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roubled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’tis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1859040"/>
            <a:ext cx="815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rd, I would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and in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ever murm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rep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tent, what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t I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’tis m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0880" y="1859040"/>
            <a:ext cx="815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nd when my t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arth is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by th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y’s w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01760"/>
            <a:ext cx="9144000" cy="48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’en death’s cold w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not f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God through Jord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0880" y="1859040"/>
            <a:ext cx="815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76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Leadeth Me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Blessed Thou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55268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He leadeth me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blessed thought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words with heaven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fort fraugh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5200" y="1295280"/>
            <a:ext cx="4467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Joseph H. Gilmore, 1862 (Ps. 23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’er I 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I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’tis God’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838080"/>
            <a:ext cx="8153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1440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Sometimes mid scene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f deepest gloom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times whe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den’s bowers bloo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waters st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roubled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’tis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838080"/>
            <a:ext cx="81532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0880" y="762120"/>
            <a:ext cx="815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ord, I would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and in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ever murm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rep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tent, what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t I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’tis m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0492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914400"/>
            <a:ext cx="815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nd when my t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arth is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by th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y’s w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’en death’s cold w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ill not f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God through Jord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28600"/>
            <a:ext cx="914400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0880" y="838080"/>
            <a:ext cx="8153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9144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Sometimes mid scene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deepest gloom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ometimes wher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Eden’s bowers bloom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waters still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’er troubled sea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till ’tis his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at 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77720"/>
            <a:ext cx="9144000" cy="48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his own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762120"/>
            <a:ext cx="81536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is faithful followe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 would b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r by his han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e leadeth 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Lord, I would plac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y hand in thin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or ever murmu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nor repine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0-02T02:01:29Z</dcterms:modified>
  <cp:revision>47</cp:revision>
  <dc:subject/>
  <dc:title>PowerPoint Presentation</dc:title>
</cp:coreProperties>
</file>