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8C5F-688B-45B7-B958-697EB442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6EF4-6FA7-489A-97FD-B9542090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6686-3B13-428B-9FBF-B057D582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2EB9-5A28-45CB-8561-90B8458C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E38D-AE4F-4F5B-8625-223CE3D4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8EE8-9324-4B2D-83C4-63655083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2FCC-AB2B-4CAE-9649-178DC365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4BB0-FBA5-437D-9A76-4C2FF190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137D-B911-4BA1-88FD-62EE140D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EC3E-F986-408C-B209-AE2FB101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39CE-2411-4E8A-BA4A-E4EB9214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8B2E-4517-48D2-8E77-AABD22B8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6A73-DD8E-4120-AFB7-3EDE90B7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4B8E-574D-402F-93DA-6EADDF39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F947-E406-4951-80FD-26059B11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91F9-124F-4445-927D-42865D97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EFF1-8BA8-42AD-B92A-0F983ABB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470-F9F1-4902-988C-4498A991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2E35-7A4F-4214-9DA8-E367CC43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60A-F2E1-4713-8017-977C367E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33FB-5B1C-4D2C-B8C3-34499F9D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2697-79AE-4AB6-828B-21C88859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BB6F-6181-4785-9B4D-F02E4E62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181-E8DC-43F5-B8DD-7C4AD025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F3DC-183D-4050-8F29-9B07E436C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CE95-0D39-441C-B89D-E46857860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fant Holy, Infant Low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nfant holy, infant low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his bed a cattle st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xen lowing, little know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the bab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ant Holy, Infant Low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2040" y="1181160"/>
            <a:ext cx="65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olish carol; trans. by Edith M. G. Reed, 1925 (Lk. 2:6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ift are wi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s si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els ri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dings bringi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the bab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locks are slee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pherds keep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igil till the morning ne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w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d the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dings of a gospel tr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ant Holy, Infant Low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us rejoic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ee from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s voic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et the morrow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the babe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fo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fant Holy, Infant Low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32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Infant holy, infant lowl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or his bed a cattle stall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xen lowing, little know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the babe is Lord of al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ant Holy, Infant Low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2040" y="685800"/>
            <a:ext cx="65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olish carol; trans. by Edith M. G. Reed, 1925 (Lk. 2:6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wift are wing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gels sing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oels ring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idings bringing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the babe 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Flocks are sleep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hepherds keep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vigil till the morning ne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aw the gl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eard the st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idings of a gospel tru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ant Holy, Infant Low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us rejoic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ree from sorrow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s voic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reet the morrow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the babe wa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orn for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2-23T00:43:22Z</dcterms:modified>
  <cp:revision>76</cp:revision>
  <dc:subject/>
  <dc:title>PowerPoint Presentation</dc:title>
</cp:coreProperties>
</file>