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D32F-26F6-42A5-8C4F-BD4CC8B2C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935E-5050-47B5-9093-381EDF1A2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6948-6196-4359-A7A6-661BB81C1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FE55-14AA-46C6-88E8-2D06C835E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89D30-D927-4027-B491-559342F4A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8C20D-413F-4F6D-A41C-9767DAC02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EB989-CABC-49C1-8EEC-A413A39FA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DAF93-C9E8-43B4-8741-369B62C58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37FAD-D7BA-4C90-98B4-073F16E47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178A7-BDDB-4EE1-96EA-CF02A800E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F370C-099F-48C5-98E9-E46B7F88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6CFB-1359-4AC1-BE47-57ADF7908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7F658-3D74-42A3-B6E2-F84094D14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52ED9-8147-471C-B09E-D3CADD894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7FF12-2DE9-4C15-A132-0FA587728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2CEC5-69D0-4738-9FFB-B693E91B3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295D5-33E1-4BBD-9A4E-D9C05A7EF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6E87-F2BA-4627-9DF0-6D8B8DA61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2A46-25CC-4B5B-B62A-3D4B49197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D681-A085-4898-80EA-C2F346AD9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182B-5B82-4EBC-A784-61DE4E143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FA18-0B33-416E-98F0-591F733A0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CC36-6BFF-4485-945B-FAA981EBF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CD46-E9F9-4B0E-B0EC-97C97E558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51070-600A-4652-BD5A-16BEAB4A5C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54597-0680-4E10-A46C-57AEDCE33F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52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eal Me, Hands of Jes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15228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6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495440"/>
            <a:ext cx="9144000" cy="277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. Heal me, hands of Jesu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search out all my pain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store my hope,  remove my fear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bring me peace agai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al Me, Hands of Jes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754280" y="762120"/>
            <a:ext cx="567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Michael Perry, 1982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2 Jubilate Hymns, Lt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304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Cleanse me, blood of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ake bitterness awa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me forgi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one forgiv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ring me peace to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al Me, Hands of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228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Know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ind of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how me all my si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ispel the memories of guil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ring me peace with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al Me, Hands of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2890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Fill me, joy of Jesu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xiety shall cea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eaven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renity be m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Jesus brings me peac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al Me, Hands of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eal Me, Hands of Jes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6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2057400"/>
            <a:ext cx="9144000" cy="427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Heal me, hands of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earch out all my pai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store my hop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move my f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ring me peace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2 Jubilate Hymns, Lt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al Me, Hands of Jes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68280" y="1192320"/>
            <a:ext cx="30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Michael Perry, 198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Cleanse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ood of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ake bitterness awa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me forgi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one forgiv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ring me peace to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al Me, Hands of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Know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ind of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how me all my si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ispel the memories of guil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ring me peace with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al Me, Hands of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Fill me, joy of Jesu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xiety shall cea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eaven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renity be m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Jesus brings me peac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al Me, Hands of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9-04-05T00:43:44Z</dcterms:modified>
  <cp:revision>25</cp:revision>
  <dc:subject/>
  <dc:title>PowerPoint Presentation</dc:title>
</cp:coreProperties>
</file>