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23F4-E0C1-4A4C-8431-58F733F8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3728-3556-4CE1-93AE-ECE16DA8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CA64-8668-4D77-BF82-70DC62CA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8437-1D5E-4CDA-A1BC-404FD11E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544B-11AC-46F3-9A4A-D4AA9A7F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2BC-827D-434D-A92B-C769048E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4377-511F-4724-922E-47AE96D8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B857-173E-4E43-A061-1BF39EE9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B0CB-9C91-451B-BCF3-C9EB4933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3C12-4138-48F3-B0B9-199EACC6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4546-4268-411A-B05E-99BB1A52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F012-D32F-4735-8F42-7336F68E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C7E7-1DF1-4E34-825D-507E74FFE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avior of the Nations,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Savior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ations, co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irgin’s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make thy ho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 of the Nations, Co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49400" y="1181160"/>
            <a:ext cx="70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ts. 1, 2 Martin Luther, 1523, trans. by William Reynolds, 1851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t. 3-5 Martin L. Seltz, 19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no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light subdu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our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ever 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rvel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eaven and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ose such a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Not by hu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lesh and blo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Go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 of the Nations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the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ade fle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man’s offsp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e and fres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ondrous birt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wondrous Ch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Virg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defil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 of the Nations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uma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vine in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ger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race to ru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God the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his sour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ack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runs his cour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 of the Nations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wn to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ll desc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high thr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reasce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Now thy mange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o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s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newborn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 of the Nations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7:24Z</dcterms:modified>
  <cp:revision>58</cp:revision>
  <dc:subject/>
  <dc:title>PowerPoint Presentation</dc:title>
</cp:coreProperties>
</file>