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4D4-D01C-4209-A36D-40A16D77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9E5-BEAD-4F52-9FEB-30DBEC9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6C4-7499-4050-AA5A-07AF16C6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356-2BD1-4145-9F38-105F6F03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CF0-58FC-4CDC-BE18-94ABB5F2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854-42EB-413B-9A3A-C051D40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729-A74E-4284-9297-658E511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727-E7AD-4443-8143-8F2B0065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83E-54F7-4EA7-986D-28C47113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FD9-90EA-48D3-BF6F-4D0E3BBA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3A5-B5EC-45D2-90E9-776AB91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EFD-316F-418A-A13B-7C07A5A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D30E-C7FE-4411-95EB-DEE89FFDB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2600" y="3808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pare the Way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286000"/>
            <a:ext cx="6172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the Way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0360" y="1143000"/>
            <a:ext cx="321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Isaiah 40:3; 52: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733920"/>
            <a:ext cx="1143000" cy="1143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209680"/>
            <a:ext cx="106704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480" y="1523880"/>
            <a:ext cx="541044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see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160020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5053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2:39Z</dcterms:modified>
  <cp:revision>53</cp:revision>
  <dc:subject/>
  <dc:title>PowerPoint Presentation</dc:title>
</cp:coreProperties>
</file>