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B95-2568-4B27-B348-F45007AD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E6B-969B-427E-B4A5-6AD8F945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6B8-913E-4BC0-B0AD-74C6024F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E4-6447-4D30-AE1B-F5CE3D73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CE2-3E64-4023-A72B-340F119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817-4112-4202-B0AC-6F57E1B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0E5-4379-45FD-A453-B137FD9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634-50B7-4893-92FA-400D4A4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96A-9639-4D14-8A05-0FF3577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5FF-0A0E-4A58-8C2F-1E947A5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AD5-5753-4993-A22B-577A1CB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D9F-5640-4106-BC5E-0A8A694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2B4-6A1B-420F-9126-C7B99D4C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8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Earth We N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ment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arth We Now Lament to 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60020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5146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ur earth we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ment to se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with floods of wickednes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overflow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8288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violence, wrong, and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el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wide-extended field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n like f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each other t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e hell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rage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As listed on  Abaddon’s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y mangle their own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l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phet is moved, and opens w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ts mouth for its enormous pre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riads si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beneath the gr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ung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laming w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might the universal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is havoc of his creatures se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d our unnatural discord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eclare us reconciled in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kindness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ward p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se the murder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our hea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now against each o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nations of the earth constr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o follow after peace, and pr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blessings of thy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reig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unity to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parad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perfect lo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39Z</dcterms:modified>
  <cp:revision>148</cp:revision>
  <dc:subject/>
  <dc:title>PowerPoint Presentation</dc:title>
</cp:coreProperties>
</file>