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30B-E042-475D-AFF2-F28BE9B7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194-1B9F-4CC1-A35F-A1E6D86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02E-E89E-4252-9338-C1318783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DEF-4954-4D34-8CE7-D2AB2A91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8B7-70DC-4B45-9A04-98F04549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4AA-164F-4A25-8652-5E79B53F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B8D-0B7E-45BE-BBAF-6D8D9EE2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525-539B-4344-A68C-C8D71BB0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510-421C-4CE6-A90C-337C7E2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1C3-7F52-4C05-94A2-ED6A09AD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8B9-D6BA-4D1B-A74E-8B29ED93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2AE-1F1F-45D3-A252-470A5E2B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00B0-322B-41FE-B371-64729D9C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Heal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N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362320"/>
            <a:ext cx="9144000" cy="429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heal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nation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we pr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033280" y="1600200"/>
            <a:ext cx="519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ed Kaan, 1965 (Rev. 21:1–22:5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de of stat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ce, or schoo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gma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scure your pla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com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s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brief spa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life’s brief span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brief spa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ou, Creato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have wri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re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umanki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gr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e lif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min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onse and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may find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a jus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qual shar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thing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earth affords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life of love in a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ur wor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pledge our word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ur word.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us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freed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sp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ld release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red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 and hat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in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us how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and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will di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creas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hope increase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will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creas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at k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ndant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be banne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21:46Z</dcterms:modified>
  <cp:revision>21</cp:revision>
  <dc:subject/>
  <dc:title>PowerPoint Presentation</dc:title>
</cp:coreProperties>
</file>