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603-4822-4844-9376-C391BAE3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641-0148-4950-973D-FF1373B8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54D-6E1A-4ECD-AE5E-ED11E8EB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CEA-DA63-4A15-987E-C2C46432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FEA-ACA7-4ECA-B7F8-2FD5DF50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D70-1497-4EFF-9A43-DA6B66C1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230-B089-4D53-B4E4-A386001F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7B6-12A7-45E4-A114-66EDE4C3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C78-2B4F-494A-B4E0-4033AC13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337-5748-478D-BF2C-B0E3785E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E3F-E67D-4320-A0AE-F7DF91D4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DFE-ACA1-4032-A2F8-532116E0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EC0C-809D-4786-8420-55C276A20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, He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th Clouds Desc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Lo, he comes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ouds descend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ce for favor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ners slai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Descend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6002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3716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ea, Amen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adore thee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on th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thr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take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and glory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aim the kingdom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ne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God, come dow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sand, thous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tt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ll the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tr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llelujah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appears 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rth to reig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very ey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be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be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dful majes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810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who set 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aught and sold hi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erced and nailed h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tre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ly wai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ly wai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ly wai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he tru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iah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dear token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passio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is dazzling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dy bea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137160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2880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use of endl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ult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his ransom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shiper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hat rap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hat rap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hat rap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ze we on tho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scar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01:34Z</dcterms:modified>
  <cp:revision>56</cp:revision>
  <dc:subject/>
  <dc:title>PowerPoint Presentation</dc:title>
</cp:coreProperties>
</file>