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428-0B1B-4CFD-AC37-92DA99D4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8C6-9633-482C-8839-EBF8CB7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4FC-EA8D-4084-BD7D-4859F492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11D-32EE-4523-BF2C-DF42C3D9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D869-8327-4318-804A-1518CA6F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BE99-1D30-459C-8A98-BC8B4742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7F51-ABC6-4DC1-882D-49190C48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7B43-0656-4D4F-8EC2-DA0A7F2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EF5D-3632-4234-88BE-3B836DCC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2F40-B88C-4658-807D-CAEA203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FE92-43A4-40D8-AE7F-23ABD79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DAD-9FA5-44DF-AC6A-CAE985D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3FE5-BB96-42DC-8357-30CAFAD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7D05-13B5-413B-9DCF-F4914A7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7903-459F-4415-825A-9D024349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332-2870-4526-8272-B0AECE0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F359-38B5-489D-8455-43C3EC80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D66-6ADD-4198-877F-C7392330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1ED-8832-4FD5-8B5C-9D96114D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293-750E-4856-94BC-BCA4AD5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4EF-5FEC-495E-9B8F-350DBA79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342-BE54-4595-9CFB-695BED46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40B-C1E6-44B5-851F-65E4B99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8C2-EE2A-418D-B8FA-1F5427C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D43-ECFD-4E01-A4D6-A287AE5B9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486-CCF6-42ED-8B42-2074DB9BE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96080" y="763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066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32120" y="6858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808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30492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2860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60199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152280"/>
            <a:ext cx="61722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reign in us fore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808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 and consol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 the earth thou 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 in us for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 kingdom bring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2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 sufficient mer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 thy glorious thron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6002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21:06Z</dcterms:modified>
  <cp:revision>51</cp:revision>
  <dc:subject/>
  <dc:title>PowerPoint Presentation</dc:title>
</cp:coreProperties>
</file>