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2283-C59A-4423-A5FC-412380FE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C31D-B96A-4841-A56E-B0BB13B0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DEC2-519A-4B78-A1FA-148B979B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0303-9C5D-482A-8D93-E79C1836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9EF-801D-4BFD-98BC-87FBC1CF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040F-E2D3-46DA-A369-344F04CE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82EA-E058-42C5-9B6C-4DD093D2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55EB-4D09-4FA7-AA4F-F820679B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4A83-7080-4F57-8C52-9FBC50B4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8B12-147E-4132-89EC-38125945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9AF9-87FB-407D-93AB-6821A9F5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D8C9-4F95-4C8A-8F34-11BB73BA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7DEB-FC55-4188-8B47-0D6841260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Keep Me Near the Cro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10666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anny J. Crosby, 1869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, keep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 the cro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a precious f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 to all, a healing str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w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vary’s mountain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0" y="1522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ross, in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my glory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rapt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shall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 beyond the river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763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. Near the cross,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 trembling soul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ove and mercy found me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re the brigh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morning star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heds its beams around me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0" y="0"/>
            <a:ext cx="9144000" cy="503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the cross, in the cros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e my glory eve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ill my rapture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oul shall fin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st beyond the riv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152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ear the cro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amb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its scenes before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me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ay to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its shadow o’er 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0" y="1522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ross, in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my glory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rapt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shall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 beyond the river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763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. Near the cros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’ll watch and wait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oping, trusting eve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ill I reach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golden stran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just beyond the river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0" y="76320"/>
            <a:ext cx="9144000" cy="505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the cross, in the cros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e my glory eve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ill my rapture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oul shall fin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st beyond the river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30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ross, in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my glory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rapt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shall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 beyond the river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ear the cros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trembling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nd mercy fou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the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orning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ds its bea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ound 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ross, in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my glory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rapt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shall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 beyond the river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ear the cro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amb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its scenes before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me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ay to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its shadow o’er 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ross, in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my glory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rapt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shall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 beyond the river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Near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watch and wa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ing, trusting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lden str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beyond the river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ross, in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my glory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rapt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shall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 beyond the river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1522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Keep Me Near the Cro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70020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anny J. Crosby, 1869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0" y="12794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, keep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 the cro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a precious f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 to all, a healing str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ws from Calvary’s mountain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3-31T20:15:06Z</dcterms:modified>
  <cp:revision>59</cp:revision>
  <dc:subject/>
  <dc:title>PowerPoint Presentation</dc:title>
</cp:coreProperties>
</file>