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B475-1EFD-49B2-91D1-EE421C8C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37D-0959-4F23-BC30-560D1033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72EC-85F1-418A-A9B5-0C2FEF88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2DA4-8C0C-4ABD-9D88-86C4EC4B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AE0-7799-4C74-923A-E9D40385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CE8-63C5-44C0-B893-6CAD1654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D6E-6BD4-4599-9455-6AA80CBD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A281-A65D-418B-9B1A-F1BED102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25B0-640A-4920-BEE0-9373C84A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61DD-6403-4A68-B0F1-DCE50458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16E6-2EE9-439C-A8E4-EC41B2D3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E391-01AC-4E24-8A8D-49080826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8423-3843-4217-B8D4-19AF7E0E6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ow Ye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rumpet, B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50 (Lev. 25:8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Blow ye the trumpet, blow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ladly solemn s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all nations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earth’s remotest boun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turn, y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s,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The gospel trumpet h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ws of heavenly gr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aved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, app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your Savior’s fac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turn, to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turn, y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s,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Jesus, our great high pri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th full atonement ma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weary spirits, r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mournful souls, be gla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turn, y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s,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Extol the Lamb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all-atoning Lamb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demption in his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ou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ld proclaim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turn, y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s,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Ye slaves of sin and h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liberty rece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afe in Jesus d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lest in Jesus liv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turn, y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ners,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Ye who have s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n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heritage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have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ack unbou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ift of Jesus’ lov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5:26Z</dcterms:modified>
  <cp:revision>122</cp:revision>
  <dc:subject/>
  <dc:title>PowerPoint Presentation</dc:title>
</cp:coreProperties>
</file>