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6E3B-2D97-4A97-9A39-8DB0F86A9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9C51-14A5-4FEE-9E44-43DE86DB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6850-86E8-4FE6-AE35-3BD71E54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180A-FACE-4D74-AC81-16EC3E87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F481-4AE1-4468-8840-8B6670CF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728F-89DE-472C-A8E5-908AA1DC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81EF-56C6-416A-8988-73415921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03F5-9FA5-48F2-A313-44F23172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3ECC-8426-466A-ACD8-CCA6A98D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34C7-62AC-4712-9699-324CCE55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3D49-9330-4F7A-BB86-BD21927D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9287-329E-4360-A050-73AAB3A9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C084-A592-431D-A2C4-53AF3AD1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3E21-C84C-44E8-B2E3-38584DFE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5D87-D10B-4712-A688-A18E6361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C2F7-2DD4-49AE-A537-E7CB82DA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6A58-ED15-4108-97FB-A24EE8F2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EC84-2753-455A-82A6-23AC6A12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EAA1-6125-4A52-8541-AE05EC61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6FEB-57E5-43F5-80F9-13453454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30F8-2027-41E7-82D9-B6743B1D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AF37-2121-44F2-A244-D7EDA698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26C1-33AA-4690-8F46-F2900FC7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3703-21E7-451F-B6A5-252C0319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1EFE-763D-4A52-B662-8A0ED8801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1F6D-7EF1-4076-903B-BE646795C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 Down, Mo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8380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frican American spiritual (Ex. 3:7-1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765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When Israel wa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in Egypt’s lan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let my people go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oppressed so ha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ey could not stan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let my people g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As Israel st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water’s 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God’s comm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did div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4300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7. When they had reac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other sh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sang a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riumph o’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21932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0666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8. O Moses, the clou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cleave the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let my people go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fire by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hade b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14300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9. Your foes shall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you st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you’ll poss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r Canaan’s l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14300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0. This world’s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derness of wo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et us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anaan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06668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4300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1. O let u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bondage fl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u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rist be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14300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 Down, Mo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397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frican American spiritual (Ex. 3:7-1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144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When Israel was in Egypt’s lan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et my people go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ppressed so har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y could not stan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et my people go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36440"/>
            <a:ext cx="9144000" cy="41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“Thus saith the Lord,”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bold Moses sai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et my people go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“if not I’ll smit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your firstborn dead,”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et my people go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No more shall the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bondage toi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them come ou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Egypt’s spoi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36440"/>
            <a:ext cx="9144000" cy="41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We need not alway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ep and mour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wear those slaver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hains forlor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“Thus saith the Lord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ld Moses s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if not I’ll smi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firstborn dead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36440"/>
            <a:ext cx="9144000" cy="41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5. Come, Moses, you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ll not get los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tretch out your ro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come acros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36440"/>
            <a:ext cx="9144000" cy="41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808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6. As Israel stoo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y the water’s sid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t God’s command it did divid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52280"/>
            <a:ext cx="9144000" cy="41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808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7. When they had reache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other shor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y sang a song of triumph o’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52280"/>
            <a:ext cx="9144000" cy="41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808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8. O Moses, the clou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hall cleave the w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let my people go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 fire by night, a shade by d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let my people go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52280"/>
            <a:ext cx="9144000" cy="41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9. Your foes shall no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fore you stan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you’ll posses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air Canaan’s lan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06668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52280"/>
            <a:ext cx="9144000" cy="41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808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0. This world’s a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lderness of wo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let us on to Canaan go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52280"/>
            <a:ext cx="9144000" cy="41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808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1. O let us all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om bondage fl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let us all in Christ be fr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52280"/>
            <a:ext cx="9144000" cy="41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 more shall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ondage to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m come 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Egypt’s spo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06668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 need not alw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ep and mou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ar those sla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ins forl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21932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ld Pharao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,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Come, Moses,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not get l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tch out your r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me a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3-24T00:36:21Z</dcterms:modified>
  <cp:revision>149</cp:revision>
  <dc:subject/>
  <dc:title>PowerPoint Presentation</dc:title>
</cp:coreProperties>
</file>