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AE5-01A7-4CC7-96B7-9B2F72D2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FDC-E7C9-431F-903B-20286B33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6B5-9655-4711-904E-76381DBC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AA3-E714-49E8-9844-78D59E2B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48D-0DC5-435E-B32B-DBA77328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9AE-58C3-447F-9D0B-63D1537F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A40-B389-48FA-8D2D-1B6EB3C0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417-BF00-48CA-8CB7-2756D02D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CFE-B667-45E4-A853-078C8F2A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329-7670-4A3E-A09E-EDE9C822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6C4-5F33-43CC-A57C-0938094F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005-6433-41F7-BFDD-CC9DED73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530B-D15F-4CAC-B931-E3165A972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erica the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pacious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mber waves of gr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urple mountain majest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fruited pl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60120" y="106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Katharine Lee Bates, 19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ed his grace on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rown thy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rother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ea to shining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roes pr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berating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more than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ountry 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more than lif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od thy gold ref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success be noble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gain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atriot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ees beyond the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lab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ities gl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dimmed by human tea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end thine every f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irm th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lf-contr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iberty in la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3:54Z</dcterms:modified>
  <cp:revision>34</cp:revision>
  <dc:subject/>
  <dc:title>PowerPoint Presentation</dc:title>
</cp:coreProperties>
</file>