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63E-DC12-4DCB-AB7C-59F13634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4F38-DC45-4B86-A507-85C5F221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DF44-8D8C-48AE-903B-454ADD74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D4C1-42EF-421A-B7CF-BBEDD457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0F22-2619-4053-87AF-233ACFDC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F42-3F38-4BEF-AF99-84EEC4A1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4B7A-200A-4869-8BC0-F58BFADE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A76-E9B9-4ED2-A4EB-753A8C74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B62-FE7C-41C1-9192-49D9C358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D20B-E15A-42FD-8CF1-433A77E2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E429-45DA-4E7E-91D3-CBFA7EC9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4DBA-152E-4969-97D1-ECB1824D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36DF-983B-48D1-9625-7732AF552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 Have Put On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19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have put on Chris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Christ you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ave been baptized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, IC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Have Put On Chri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om the Rite of Baptism for Children, ICEL (Gal. 3:2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9:01Z</dcterms:modified>
  <cp:revision>109</cp:revision>
  <dc:subject/>
  <dc:title>PowerPoint Presentation</dc:title>
</cp:coreProperties>
</file>