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2C0-3261-438C-994A-BE1325F0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BD6-4D48-48A9-A334-862DA72D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F33-82DC-4E68-97CB-984AFBBA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304-2F5C-42B6-A43E-A2494051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1840-6A17-43D3-B363-DA73942D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ED8F-6EFE-45AD-ACBB-DB923CDA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4A94-8AB5-47CA-8D22-D2E173B1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FFD1-B949-4C77-96E7-D7E4E361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10E7-6053-469F-9288-4BE150E3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5FD4-DA93-456B-902C-FE865B98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3FA0-FB15-43E4-BD5F-4C0EE52F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BBF-55AE-47CB-BDD1-BD28FB90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6532-ED5C-4A7E-B5E3-E7DA1DAF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E94D-7B8F-4ECC-A562-A348ACF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9E26-26EA-458D-BE59-A89E2D47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4FDA-F7E3-41E4-B30B-D27F1D10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43AA-BA4B-46D8-9C7D-9ADCEBC9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CE8-32D2-41A7-8EF6-4765B698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297-EEA4-44F9-A907-94C60372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9B5-EF74-48E6-AC75-54036827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640-026E-4683-810B-0D2CAF25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4DE-F89C-47E4-84D7-DF8ADB87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143-A6A8-4EE9-8518-4C29180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5DB-1AC0-4EC8-A8FD-35A2013C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E737-0C6E-409F-87AA-BBDEBDF05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2167-E9C0-4500-8927-A039C42A3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in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-Victorious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Jesus, thi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-victorious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ed in m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art abroa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2640" y="1523880"/>
            <a:ext cx="37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hall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onger 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oted and fixed in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that i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to g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n up the d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ase des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s flow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O that it no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rom heaven might f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all m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ins consume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e I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burning, c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fining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hrough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lluminate my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 th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nctify th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n shall my fe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longer r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ooted and fixed in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O that in 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acred fi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ight n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gin to glow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19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urn up the dro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base desi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make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untains flow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O that it n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heaven might f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l m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s consum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4479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ome, Holy Gho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 thee I ca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pirit of burning, com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Refining fi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o through my hear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lluminate my soul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catter thy lif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rough every par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sanctify the who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in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-Victorious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victoriou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abro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2640" y="1676520"/>
            <a:ext cx="37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4T16:00:16Z</dcterms:modified>
  <cp:revision>13</cp:revision>
  <dc:subject/>
  <dc:title>PowerPoint Presentation</dc:title>
</cp:coreProperties>
</file>