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98F-1AA9-4ADB-9C43-FFEF795E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853-16F1-46E9-9E41-88FE1BA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FB5-9881-4A90-B497-8D0871C0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33E-174A-40DB-A736-583BE06D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E01-84D9-43CD-A368-CC8139F7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477-0364-4596-BEF2-948495A0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A6B-4905-46E3-A569-6ED280F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DB0-58A9-443B-8645-4D6C38C2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A8C-371B-4B50-8578-ECF3BD38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528-0F46-4F39-9D52-7E0FF8D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C93-5DE0-4C7B-BBA7-C7F5DE4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6BB-EDD3-4D12-8414-CA4CD25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7B1-7061-45EB-90CF-01A5CE6A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ster Vigil or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vercam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opened to us the g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Vigil o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7400" y="914400"/>
            <a:ext cx="2953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Hym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celebrate the d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Lord’s resurrect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, by the rene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pi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ise from the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sin to the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righteousn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59Z</dcterms:modified>
  <cp:revision>19</cp:revision>
  <dc:subject/>
  <dc:title>PowerPoint Presentation</dc:title>
</cp:coreProperties>
</file>