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FF4-569B-48BF-ADA5-A87BE56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CCD-FE97-4CC7-816A-CDCC1B8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D00-41CD-4264-A4E0-84F69DE7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E4E-3061-40D4-ADAD-6EA46762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608-1AD1-403E-B140-F4FB5AB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14B-2D5B-4A4B-ACD8-2ED09BE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D73-E388-4023-ADBA-96177D9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D91-965F-4F6C-9D22-18B2EEB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DF4-E2C3-4419-8BAF-647F9B41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EBF-F43F-48CE-9CF0-918A6B5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716-D04B-4AFF-AD59-CA30865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493-990B-4C82-BAF3-EE13378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743-4408-4868-972B-A8BF2D9F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00240" y="1143000"/>
            <a:ext cx="314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Trad. (Lk. 23:4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17Z</dcterms:modified>
  <cp:revision>34</cp:revision>
  <dc:subject/>
  <dc:title>PowerPoint Presentation</dc:title>
</cp:coreProperties>
</file>