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A4B-6F28-4450-B38F-4DDF6AE0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25D-D4A7-4A7E-BCA0-A61E4DB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A99-9A6B-451C-B1FA-A020B24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743-2BDA-4FE3-B1DB-C96B7E4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7AE-1E2D-42B9-BCD0-6962E7C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18F-CFA1-4A7E-ABC5-1770D75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DA9-7D50-4CEB-9A5E-D2198605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1C1-C476-471A-8C12-3441533D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1FC-3C11-4885-8110-8047B6E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2B6-7E2D-469B-B6C4-89880E8B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8D7-484A-401C-8BF6-7ECC619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4E8-5F2C-43EE-8DC4-6A032E11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2821-5EE4-47D8-8FC0-82F6FDCDB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Ou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deeming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All praise to 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deeming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joins u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i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096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bids us, eac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each restor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gether seek his 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bids us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u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gathered into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igh calling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nd in hand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ift which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n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delight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through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f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st stream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n now we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eak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rdially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centered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ll pa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of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peace we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eace to sens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joy unspeak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if our fellowship be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 be so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ight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oun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we mee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34Z</dcterms:modified>
  <cp:revision>61</cp:revision>
  <dc:subject/>
  <dc:title>PowerPoint Presentation</dc:title>
</cp:coreProperties>
</file>