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471-3953-4C14-B26A-7097BD89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E3D-A0BE-4EB9-9E8C-A57EF6A1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6A4-5624-4A0F-85C3-50729031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FAE-7079-4CAF-A3AB-ABAFAEE7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90C-FCDE-4136-8745-8A60A952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8FA-7753-457A-A06C-AB5F27A0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F757-7401-454D-8337-15986C8C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471E-16E8-4D9E-A3CD-CF3D5081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2EC3-B83B-4E3A-9C82-84B25563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D558-5AFD-4438-AFF4-49625D49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354E-E13A-4840-83CB-ED5360D5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3C3-CD61-4E05-B9FA-54E08C5E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A44B-AC9E-48B4-B345-986411B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DCF5-DF58-445A-BDA9-E8ADAEB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C254-E169-4973-974A-D06666B5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0080-E757-4E47-A8A0-A646010A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74B7-0EBD-4C53-9BA6-847A871C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862-03C9-40A6-AE9B-6A77272B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582-E16A-4D01-9ACF-973679FF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286-9C95-48C2-A46A-AC78381D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418-5F51-4BC1-8F07-1B51862A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243-6337-4041-B6F7-C66261E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C12-57B4-4576-BAA2-277A605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0F7-8F2D-4FE8-BCEF-5F525F4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258E-EE08-418A-BF26-60C35B90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2B53-4029-4925-86D6-4201D01B6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20574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094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2320" y="15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3644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5228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Jesus’ N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angels prostrate fall;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356120" y="1600200"/>
            <a:ext cx="63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Perronet, 1779; alt. by John Rippon, 17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028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46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Ye chosen se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f Israel’s 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ye ransome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fall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eet may fall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8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Hail him who saves you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by his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nners, whose lov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can ne’er forget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ormwood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gall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4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Go spread your trophi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t his fee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errestrial b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52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rown him Lord of all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tar call,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6-25T13:42:42Z</dcterms:modified>
  <cp:revision>20</cp:revision>
  <dc:subject/>
  <dc:title>PowerPoint Presentation</dc:title>
</cp:coreProperties>
</file>