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9E7-D220-4EA4-A046-034E95B0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EDC-1C4B-48D4-B264-53123BAC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90C-6E83-44FA-8E39-4850CB11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026-F13C-4551-888D-7EF7FED5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CAD-B310-4FB2-B015-BCE5FD88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E4A-0156-4328-8FD5-D9814793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BBC-9449-4EDE-A1BB-C576F9FB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293-D1C6-47A2-8407-A7EE862B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956-6AE7-4A09-98D4-0414E1BD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3B9-4581-4461-88CF-FCCB6661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30AA-4791-449C-B6BA-C84E16D9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DF6-0010-4BB5-875A-28ECF9B1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D0CF-7492-4B86-8E03-62CD07B45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gels from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alms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ngels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lms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ng your f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’er all the ea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5080" y="1562040"/>
            <a:ext cx="66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ames Montgomery, 1816 (Lk. 2:8-20; Mt. 2:1-12; Mal. 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aints, bef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b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ope and f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ddenl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te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appe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who sa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eation’s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ssiah’s bir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Shepherds,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eld ab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tching o’er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ocks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now res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nder shi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infant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ages, le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contempl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er vi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m af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sire of nat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have 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tal st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9:21Z</dcterms:modified>
  <cp:revision>67</cp:revision>
  <dc:subject/>
  <dc:title>PowerPoint Presentation</dc:title>
</cp:coreProperties>
</file>