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ED8-93B9-427B-A3AF-479757A9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57B-8003-457F-813E-B68EC9F3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5E1-7AF9-44A4-BF86-1A1D3F78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EB7-AAB3-4E92-81AD-CA14F00B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2EA-7FD3-4453-B61A-2C0D260C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E1F-20DC-41F4-A3D2-9A1522D9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BD8-F70C-42FD-9DD7-86E1750E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49D-80C0-4E3C-A3A7-C27E2C64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473-A6F3-4CF3-8393-200DB30D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C44-3962-42DE-9B2F-5026F7FE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C7B-2E8F-4053-9FC5-F1389223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D48-3CC6-4196-8412-85C0EE8C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5C25-424C-491A-A7F1-40DEA2400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postolic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olic Bl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 Corinthians 13: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686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grace of th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Lord Jesus Christ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nd the love of Go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and the communio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the Holy Spiri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be with you all.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1:22Z</dcterms:modified>
  <cp:revision>163</cp:revision>
  <dc:subject/>
  <dc:title>PowerPoint Presentation</dc:title>
</cp:coreProperties>
</file>