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9AA-47AF-4DF6-B512-D458025F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F48-C7F0-40F9-93CA-B6C9CCE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E99-5CFA-4081-A621-B0FEE16B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995-A22A-4AC8-A998-345590D1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211-4574-4222-BFB7-AB15312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102-3770-4489-A9BF-79EDB044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588-7607-4294-8908-DE54E02C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35D-1D42-4CD1-8B3D-846786E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9D3-E1DC-44BB-B0DE-F0A406DB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8D4-B3B8-48CA-877C-93370FD3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982-D465-401B-BB10-503D45A4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1C3-E130-41C6-9A13-E8CF1B9C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13F2-70EC-4AFC-8D6D-D8AFD0973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ners, Turn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y Will You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your Maker, asks you wh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who did your being g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made you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at you might l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2360" y="1447920"/>
            <a:ext cx="2536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arles Wesley, 17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on whom he still doth wa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m he would again creat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de by him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urchased, wh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 You, who own his record tru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his chosen people,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 call the Savio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 read his written W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who see the gospel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im a crown in Jesu’s r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e Christian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the house of Israel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 Turn, he cries, ye sinners, tu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by his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God hath swo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ould have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urn and l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 would all the world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ath br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r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ll salvation by his grac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hath no o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oul passed b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resolve to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 Can ye doubt, if God is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if to all his mercies mo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ill ye not his word rece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ill ye not his oath belie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628640"/>
            <a:ext cx="8839080" cy="35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See, the suffering God appears!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Jesus weeps! Believe his tears!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Mingled with his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  blood they cry,</a:t>
            </a:r>
            <a:br>
              <a:rPr sz="4600"/>
            </a:b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why will you resolve to di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 the fatal cause demand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ks the work of his own hand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thank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ure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cross his lov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your Savior, asks you why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 who d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your souls retrie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died himself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that you might l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let him die in va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ify your Lord agai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ransom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li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is grac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God, the Spirit, asks you wh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, who all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lives hath st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wooed you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embrace h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not his grace rece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still refuse to live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, you long-sough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l you grie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r God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53352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You, on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e favors show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, possess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of nobler power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of reason’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powers poss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, with will and memory bl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62864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, with finer sense endu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eatures capable of Go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blest of hi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ures, wh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 You, whom he ordained to b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ranscripts of the Trin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whom 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in life doth ho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you, for wh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himself was so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7:44Z</dcterms:modified>
  <cp:revision>27</cp:revision>
  <dc:subject/>
  <dc:title>PowerPoint Presentation</dc:title>
</cp:coreProperties>
</file>