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127-4CDC-4DFD-9720-35D0EB33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B1B-1FDF-4A7A-A002-589B9676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257-E72F-4314-A8EB-6A62F756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0A1-13A9-407C-9F55-95E9CB65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BB5C-867C-4F51-A277-F9D1376D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C35C-B912-4AC8-BBFF-4FCD5CFF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711C-77F8-4E29-AFED-A1A62D9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F351-C9CA-4951-9E95-250BD76A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B062-655D-47ED-8211-7D04A327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C05C-A0D2-45C7-BEC2-992F8F6F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9DE1-6EE6-4E69-AEEA-51ADD69E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AA3-29CE-4326-AE5F-B2F512EF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23E-041D-47D4-8E14-943863E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F0AD-DDBB-483B-89E5-0FEE9675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8C96-21F8-4568-AEBC-2FAF4525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4CE2-C4C5-4ED9-AEA2-D68F989B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4C9D-B0DC-4F32-AE84-8DD1BDF5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2F0-F359-4A5D-BC55-C738098D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042-6C17-45FE-A9BF-96BF8FA5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59D-DD6C-419C-B3BF-1F534428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49F-5C7E-47FB-9F9F-0F839CDC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ADB-5BDF-4648-B823-E097B69F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585-AA3B-446F-8095-2977EE71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BEE-7218-4B78-B937-181773E8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14B8-7262-4859-881E-09281FBB2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0A5F-D4DF-42B5-BC51-05FF40AB5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Will Take Care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 not dism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bet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ove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67040" y="1219320"/>
            <a:ext cx="3448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Civilla D. Martin, 19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92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65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rough days of toi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heart doth fa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dangers fier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path assa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860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049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All you may ne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prov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hing you ask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be deni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0492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049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No matter wha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be the t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an, weary 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pon his brea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0492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days of to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art doth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dangers fier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ath ass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you may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prov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you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 den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 matter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the t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, weary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his br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Will Take Care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271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Be not dismay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e’er bet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neath his wings of love abid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7040" y="762120"/>
            <a:ext cx="3448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Civilla D. Martin, 19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2-15T00:29:11Z</dcterms:modified>
  <cp:revision>49</cp:revision>
  <dc:subject/>
  <dc:title>PowerPoint Presentation</dc:title>
</cp:coreProperties>
</file>