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075-5AB1-4459-BC5F-97D179FD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27A-3DA4-498D-9068-E256E6A8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64B-AEF9-45DC-80F5-D6BEC1B1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909-DB63-4BDA-85F6-28740620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498-672E-4FA8-837B-94FA669E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2A2-952C-4387-AAF6-E95FCFC3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11E-F8E6-46DF-9F5F-B255BB81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31B-28CE-4578-9EBE-1A20071E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808-4C54-408E-A339-98B6626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187-AF30-493C-9EC2-D07AB54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051-95DA-48C5-9E94-F54D008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FD1-2959-4A30-B90B-1681026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B431-D378-4437-B966-E6E40FDA3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So in Hast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adford Torrey, ca.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so in haste, my he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faith in God, and wa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he linger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never comes too l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never cometh lat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knoweth what is b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x not thyself in v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he cometh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Until he cometh,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grudg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urs that ro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et that wait fo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soonest at the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soonest at the go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ined with sp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hold the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I shall wait his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8:34Z</dcterms:modified>
  <cp:revision>153</cp:revision>
  <dc:subject/>
  <dc:title>PowerPoint Presentation</dc:title>
</cp:coreProperties>
</file>