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6B9-EADA-42F3-B3FE-E04D4C2D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950-123F-4B4F-BFE9-43DF31B3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29E-B25D-47F3-A586-16E7F167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7E4-6BDE-4DE8-8356-AE6EBF5B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C2D-A7D8-4CEF-AC58-0EA6AA44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9BE-43AB-4BA6-9EF9-705A4374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3A7-B1A4-44EC-9322-6ABC6949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027-B887-4F11-8890-B6A0BFA6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BA4-6375-43E9-A1F2-2E3F7633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00F-37CA-4798-B373-9279CCF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FA2-0EC3-4E28-ADFD-3F86DE2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531-A78D-4222-BB78-223A77C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406C-2669-4522-9A84-41EFD3B13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Is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ul’s Sincere Des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’s sincere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uttered or ex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tion of a hidden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rembles in the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6920" y="1600200"/>
            <a:ext cx="42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ames Montgomery, 18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 of a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lling of a t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pward glan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none but God i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est form of spee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fants lips can t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the sublim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tha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jesty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rite sinners’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ing from thei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angels in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rejoice and cry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Behold, they pra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s’ vital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ians’ native 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watchword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dea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enter heaven with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 Thou, by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m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, the Truth, the W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h of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hast tr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teach us how to pray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5:43Z</dcterms:modified>
  <cp:revision>35</cp:revision>
  <dc:subject/>
  <dc:title>PowerPoint Presentation</dc:title>
</cp:coreProperties>
</file>