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A92F7-F0DD-4E69-AE73-F9B706AC0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1E6DD-9158-47CB-91FF-D700AB9B2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4A0B7-3F0F-4EFB-AB49-EAB06D8C9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A0536-F238-4BA9-94E2-D5B5B9D0F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E94D6-DA33-486E-8617-955EB3B1E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59A24-768C-4116-A12F-61828F4AE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EADAB-6719-40DB-9D3C-54BD1A8E4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A4EAC-7578-4669-80C2-193E9E756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94AFE-0014-4E80-AE94-559803AD2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22298-1EF8-4739-9525-DE3D8A544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7FF90-F780-4692-8F90-984B09FAC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909F8-CA50-4A37-98F8-F9D673EA6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CC58F-3209-4ABC-9B97-A8B1476401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Become to Us 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he Living Brea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63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286000"/>
            <a:ext cx="9144000" cy="3881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40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come to 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living brea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y which the Christia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fe is fed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72 The Westminster P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come to Us the Living Brea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6002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Miriam Drury, 1970 (Jn. 6:35-58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newed, 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reatly comforted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eluia! Alleluia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eluia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come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ever-failing win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spring of jo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shall incline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come to Us the Living Brea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hearts to bea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covenant sign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eluia! Alleluia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eluia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y Christians a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one accor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nite arou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sacred board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come to Us the Living Brea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praise the hol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ame, O Lord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eluia! Alleluia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eluia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19:43:10Z</dcterms:modified>
  <cp:revision>132</cp:revision>
  <dc:subject/>
  <dc:title>PowerPoint Presentation</dc:title>
</cp:coreProperties>
</file>