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8B1-96C9-4DB7-9D59-C3C59307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D59-2841-4A41-8570-64A617A2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D66-5C15-45F9-9B0A-39501384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629-BCD0-42B7-BF7C-E9CAE4C5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B09-F20F-467E-9265-7AC8F523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E0F-62AB-42EE-8720-B316869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158-A766-4C5A-B2A7-A85584C6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AEC-B467-4E74-8B27-5F0284E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137-DA2B-41B9-8B11-4810841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939-EF6A-4E1F-9C22-664D9D6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CEB-101E-488D-96D3-7F10E0C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449-2466-44BC-87A1-A774A4F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698-9C9A-438E-BAFE-549B87E60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5341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pen wide the window of our spirits, O Lord, and fill us full of light; open wide the door of our hearts, that we may receive and entertain thee with all our powers of adoration and lo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llu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4320" y="990720"/>
            <a:ext cx="463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ristina G. Rossetti, England, 19th cent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45Z</dcterms:modified>
  <cp:revision>19</cp:revision>
  <dc:subject/>
  <dc:title>PowerPoint Presentation</dc:title>
</cp:coreProperties>
</file>