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5E3-2BE8-4CF2-8A13-63B13D3E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176-8310-4959-9D1B-B75B4CF5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F1C-1A54-4277-8A0F-4C764100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347-4809-45E0-9FBA-93F43EA8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6C8-D360-4B68-9935-13959060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B7-2CB2-4228-B3E3-463F47B1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876-5849-4974-8F7D-212E120B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A02-0DAA-46EE-96BB-67A6C4F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5D9-FA0C-4C49-8579-E948844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D0A-B41C-47B3-B197-7FDA0F42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A4F-6524-4A66-9089-4428959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F30-7B73-4E59-B2FA-B66A09FD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BC5-A270-47AD-B0DC-0DB6275A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m Shall I S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om shall I sen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 cr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ny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hear God’s v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red Pratt Green, 1970 (Is. 6: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ure where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cation l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many shr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uch a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o can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God so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laim t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uch a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doubt mak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ep un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lf confu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ai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23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yet,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ho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what we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may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st defea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uture f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dare to answ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sen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se who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pur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aily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ength to b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oughts, our sk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erg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s on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42:37Z</dcterms:modified>
  <cp:revision>88</cp:revision>
  <dc:subject/>
  <dc:title>PowerPoint Presentation</dc:title>
</cp:coreProperties>
</file>