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5B76-4813-4236-BCE7-547D28FD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BEE7-C7BE-4788-BAAE-22B090AF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6C99-B919-407D-97CF-6FC8F5869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472A-20DC-4A66-96B7-67E6833D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D28C-90A2-4CA7-9A94-C176BABA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1981-619A-4125-9D6B-B060033E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BFFB-96FA-429B-9C27-55FED690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7BD7-8ACC-4070-BA38-12B0DBBB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891C-DECB-4217-89EE-DFCEEAE5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20BF-A506-49C4-B139-96865E57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E4B8-B671-4C78-AF1F-EB666482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4BD5-A914-42A7-B6CE-DB2628B4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F426-A1FE-47E8-88E4-1008E8B9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7E04-1B2F-4D31-9FCB-8A9E20D5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9FEF-14E8-4E7C-A197-5B4B4DD0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7176-521A-41B2-A62F-923A115D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2D3B-A0EC-4F61-A59A-35619BBC0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1554-64D2-4882-963E-8924E0B7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4411-829E-4EA6-BAC5-70EC0FB4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064F-6552-4FC5-A152-B379E0E8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82FB-B9A3-4AE8-A979-E9CEF3FE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0113-68AD-48C6-A955-21A29E1E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CAE7-F4B6-431A-8E31-4115D0C2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AD91-3540-4B3C-BEFD-4899B8CF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E1A3-143A-4D86-9A2E-F7A9D73F0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EA4C-021B-47C7-A894-A7F49BCEA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pirit S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7462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Wimber, 1979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9 Mercy Publishing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37160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1. O let the Son of God enfold you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Spirit and his love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et him fill your hear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satisfy your soul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O come and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song with gla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y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filled with jo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t your hands in sw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rrender to his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give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your tears and sadne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him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years of p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you’ll en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to life in Jesus’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pirit S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746280"/>
            <a:ext cx="9144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Wimber, 197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9 Mercy Publishing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60020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1. O let the Son of God enfold you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Spirit and his lov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Let him fill your hear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satisfy your sou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et him h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things that hold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is Spirit like a d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descend upon your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make you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049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. O come and s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is song with gladnes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s your heart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re filled with joy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Lift your hands in swee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urrender to his na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give hi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ll your tears and sadness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ive him all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your years of p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you’ll ente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nto life in Jesus’ na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286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pirit S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746280"/>
            <a:ext cx="9144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Wimber, 197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9 Mercy Publishing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0020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1. O let the Son of God enfold you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Spirit and his lov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Let him fill your hear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satisfy your sou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74628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 let him hav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things that hold you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is Spirit like a dov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descend upon your lif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make you whol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et him h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things that hold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is Spirit like a d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descend upon your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make you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049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. O come and s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is song with gladnes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s your heart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re filled with joy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Lift your hands in swee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urrender to his na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give hi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ll your tears and sadness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ive him all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your years of p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you’ll ente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nto life in Jesus’ na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286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11120"/>
            <a:ext cx="9144000" cy="485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2. O come and sing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song with gladnes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s your heart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re filled with joy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ift your hands in swee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urrender to his nam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 give him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ll your tears and sadness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him all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years of pain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you’ll ent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nto life in Jesus’ nam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11120"/>
            <a:ext cx="9144000" cy="485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pirit S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9907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Wimber, 1979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752480"/>
            <a:ext cx="9144000" cy="464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O let the S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enfold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Spirit and his lov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him fill your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atisfy your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9 Mercy Publis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et him h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things that hold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is Spirit like a d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descend upon your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make you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5-02T01:13:49Z</dcterms:modified>
  <cp:revision>106</cp:revision>
  <dc:subject/>
  <dc:title>PowerPoint Presentation</dc:title>
</cp:coreProperties>
</file>