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6058-E189-4DA4-A2AC-D17421B9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32E0-F569-4E99-B684-6DFD7C72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88C8-703B-47EB-80C9-1DABE127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7D2A-7684-44B8-94C6-3E411D99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8A58-0625-4928-8B71-22D1147D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006-E89C-4E71-8570-E5700D67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D9D0-D793-4720-ADA9-975C294A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F0C2-344B-466F-96C8-48DF7131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DD84-27BD-408E-9662-B0EB14F2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6B44-0B8F-4A80-AC7B-C03BB41C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9658-5833-43C7-B98A-C91192EC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4C29-BD28-4293-A6DD-5508E630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3E7C-185C-496E-AF66-5272D8012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Sinners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o the Gospel Fe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7 (Lk. 14:16-2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sinn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gospel fe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ever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Jesus’ gu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hou, this mo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c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ive for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died fo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need not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left beh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God hath b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Sent by 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you I c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invit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all the worl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sinner, thou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ings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ready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ome, all ye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sin oppr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restless wander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fter r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poor, and maim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alt, and bl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Christ a hear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lcome f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My message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God recei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all may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Christ and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et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heart constr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suffer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die in v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This is the ti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more dela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is the Lor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ccepted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00:23Z</dcterms:modified>
  <cp:revision>95</cp:revision>
  <dc:subject/>
  <dc:title>PowerPoint Presentation</dc:title>
</cp:coreProperties>
</file>