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7B2-7931-4AC5-B72D-23D918E8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DDA-B58A-41D0-A2CD-0EDB6D71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A54-ED5C-4DFA-8C99-B614A182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B8F-A4EC-4757-8D31-008C5A2C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3A5-F956-43B5-B7A9-4D570D55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4C0-8AA5-4D3D-A43B-9C05785E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20D-2678-4312-B0FF-1A316EC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B46-359C-41E9-8156-13CE4C9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CD0-C9D9-471E-BFB3-EDD20FD6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E49-3D31-44A0-A5CC-2FF98FB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FDC-1C19-4AE5-9D7E-B110BF21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F8A-78E5-4734-A3EC-65153CA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4325-D312-43C9-8FBB-05449F471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Fr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ly behold this your fami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m our Lord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was wil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be betraye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ands of sinn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Fri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7000" y="914400"/>
            <a:ext cx="3944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suffer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pon the cro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now lives and reig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for ever and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1-01T16:16:02Z</dcterms:modified>
  <cp:revision>17</cp:revision>
  <dc:subject/>
  <dc:title>PowerPoint Presentation</dc:title>
</cp:coreProperties>
</file>