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19A-D4E7-496D-93DD-7909C577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A96-42DC-4D48-B09A-9599FFED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6FF-9E3F-4C51-843B-5730EB3B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1D9-B55F-4F86-98A5-945008C7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9BB-D215-4590-9539-F6FFB1CA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EBA-F455-425D-A75A-B224E00E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353-A9C5-4777-ADD2-A0E21A2D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07F-9296-41FC-B993-8C0F6832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48D-4F4D-4686-8DD4-33F890E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CBF-692F-480B-A16E-388881C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F9C-B3B4-4692-9D86-85C6CEB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BBA-6969-483D-A119-D8A596AE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E673-86ED-4B56-81DE-C7BED9B60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lendor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’s Glory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lend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that bring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0080" y="167652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mbrose of Milan, 4th cent.; trans. by Robert S. Bridges, 189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’s living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days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thou tru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us thy gl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all in royal radian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ing b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our earth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ses st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Father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s im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of glor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nd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anish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guide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obly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ll env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ubd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ill fortu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to f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rongs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2:20Z</dcterms:modified>
  <cp:revision>15</cp:revision>
  <dc:subject/>
  <dc:title>PowerPoint Presentation</dc:title>
</cp:coreProperties>
</file>