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A8A-38ED-40DC-9D09-68232D41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E4F-DD3F-4FAC-9BD7-E250E9B6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DB1-3C98-44DB-8884-750DE994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640-548A-4AFD-9C41-912FFB13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08B-FF8F-404C-B54F-E0F253D9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C84-0CB7-44E6-A445-4DE7FF15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1AB-EB0C-4BAC-AD6B-B1620A80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9D7-02A9-42AA-BA76-A8519412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BE8-16D5-4D16-81C5-4BF40D14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6F0-7252-448D-8EE8-30B3A1E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4EB-5FB1-494A-A125-602F7839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44A-B2CE-431C-8C42-D545E20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EB9-529A-4127-B089-9ABC9DE38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ing a Song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sing a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epherds watch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e new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ngels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9120" y="1066680"/>
            <a:ext cx="36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ouis F. Benson, 188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ght that sh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s all the world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bi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sing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sing a song of Naza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unny days of j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ing of fragr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ers’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e sinless B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za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eart may g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preads the f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dea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the winds that b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ing a song of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ake and woo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wal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s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ade the waves b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gh lik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seas of trouble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faith has he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’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s peace upo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sing a song of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glory and dism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hu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ok our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 who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alv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isen from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, ou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aven ado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ighty now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0:06Z</dcterms:modified>
  <cp:revision>7</cp:revision>
  <dc:subject/>
  <dc:title>PowerPoint Presentation</dc:title>
</cp:coreProperties>
</file>