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D5C3-D103-48D6-B424-6507E9E3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172-2E3A-4B56-AB52-3FF428B9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181-3248-46CA-ACA4-6C3D1002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9A8C-DDF6-44F8-871F-7E257FE9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4AAD-8CA1-4DA9-970F-EC232C5F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BAD5-E397-482A-BDB7-DD7510FB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2F01-9F24-4868-85C3-5DDF9B1D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AC70-3FDA-4F12-BDD2-8C6DF635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65D5-3171-47CE-AB39-6468F8E9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6BB9-FF4B-4E86-921B-4E4EC501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3FEB-DA19-403A-B87E-C37CB49D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EF1-B22D-422A-9AAF-13FD2591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7ADC-2EA1-4E83-8ACC-64B85015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F792-CC3F-4182-94AB-B508F1B3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991A-6EA3-4472-89D3-BF11DF7F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0073-C88B-4618-B81D-19CC4B87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7325-199E-4674-B9FB-51E364DA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4BCB-C7C4-41B7-A5E4-4DDFA78B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82E-70D8-4986-AE12-7FB36A58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9AA5-D158-4F9B-9412-5735F184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D4CF-2B04-4078-A1E9-26194F1F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C98-90BC-4606-BA45-746DC5F0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CA29-C046-4227-A0FF-5103B0F5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0D23-0A2F-4020-B88B-EEF33829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C42A-63E9-4EA5-9BA6-92C35414E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E9A0-F44B-45EF-916B-E8B05A84F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God, Our Help in Ages P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9907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 O God, our help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ages pas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ur hope for years to com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ur shelter fro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stormy blas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our eternal hom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30520" y="838080"/>
            <a:ext cx="39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9 (Ps. 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 thousand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like an evening g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rt as the wat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ends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 rising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ime, like 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rolling st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s all who breathe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fly forgott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a d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es at the opening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O God, our hel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ges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ope for years to c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our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life shall last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860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Under the shadow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y thron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till may we dwell secur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ufficient is thin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rm alon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our defense is sur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Before the hill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order sto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r earth received her fram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rom everlast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ou art G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endless years the sam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4. A thousand age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thy sigh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re like an evening gon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hort as the watc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at ends the nigh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efore the rising su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5. Time, like a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ver rolling strea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ears all who breathe awa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y fly forgotte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s a drea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ies at the opening day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6. O God, our help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ages pas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hope for years to com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e thou our guid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ile life shall last,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our eternal hom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04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God, Our Help in Ages P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91916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O God, our hel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ages pa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hope for years to co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shelter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tormy bla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ur eternal ho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30520" y="1143000"/>
            <a:ext cx="39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9 (Ps. 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Under the shad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thr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may we dwell sec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fficient is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m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defense is 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efore the h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rder st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earth received her fr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las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ndless years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8-28T00:43:55Z</dcterms:modified>
  <cp:revision>35</cp:revision>
  <dc:subject/>
  <dc:title>PowerPoint Presentation</dc:title>
</cp:coreProperties>
</file>