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9D0-A0C6-423B-8818-FC8459D5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DA3-5C69-4011-9D43-F7A6E61A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1A3-BBD0-4B11-8C36-5355CDFC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EA4-E424-49CE-82B4-B5D65845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0E2-57DE-44BA-B5DA-85B68336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2D98-1F81-456B-81B5-A0531F05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11C2-BDB7-4B77-AF07-3D3B3700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3B2-9980-49AB-95BD-8920DDC4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06FE-564D-45A5-AE28-8CF29B8C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99A-9B48-425A-9DC1-356441AA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9F1-8E2C-40A6-95CB-1EF6AC96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BCB4-4859-41EA-8E90-1E949946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8673-7352-4A43-A79A-30BF4AB37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ther the Word B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eached or Read</a:t>
            </a:r>
            <a:br>
              <a:rPr sz="4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harles Wesley, 1783 (2 Cor. 3:5-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0574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Whether the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be preached or 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no saving benefit I g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from empty sou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or letters dea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unprofitable all and vai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ther the Word Be Preached or 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less by fa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word I h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ee i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avenly charac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Unmixed with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the Scripture gi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no comfort, life, or light to s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but me in dark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darkness lea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mplunged in deeper miser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ther the Word Be Preached or 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verwhelmed with nature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orest ill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pirit sav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letter kill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820800"/>
            <a:ext cx="883944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If God enlight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hrough his W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 shall my ki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Enlightener bles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but void and nak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of my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hat are all verbal promis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ther the Word Be Preached or 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hing to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ill faith divi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spire, inspea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and make them m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 Jesus,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appropriating gr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’tis thine on sinners to bestow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Open my ey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o see thy f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open my heart thyself to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ther the Word Be Preached or 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n I throug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Word obt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re prese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eternal 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5:45Z</dcterms:modified>
  <cp:revision>12</cp:revision>
  <dc:subject/>
  <dc:title>PowerPoint Presentation</dc:title>
</cp:coreProperties>
</file>