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C88-80E1-43EF-BB84-E280146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F55-4BE4-4F74-8B9E-79A7525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B64-D461-4270-A1BC-13F7C0F1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3EB-2309-404C-A95C-435F2FB6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57E-3266-4D34-9343-F7ACAB5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361-A866-48EE-B2AA-3129CDF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0DD-D2A3-457B-A586-E4CCAF0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DE1-FA95-4F08-9049-8A903844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E1E-2FEB-4194-909F-93043163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B73-D714-4A1D-90EE-D5C9C2D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8F1-2613-4F5C-B261-096CCA4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6E8-5AF2-47F1-A14F-B7AD086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0B6-D323-4CB5-9B08-01B03251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isto Vive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hrist is Ris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icolás Martinez, 196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Kaan, 1972 (1 Cor.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0:38Z</dcterms:modified>
  <cp:revision>71</cp:revision>
  <dc:subject/>
  <dc:title>PowerPoint Presentation</dc:title>
</cp:coreProperties>
</file>