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29C-D7BF-4924-931B-9B634436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04E-1201-4DA9-A178-5F29734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B28-754C-4463-8BA8-18BBCD6A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F5C-1205-4E15-B488-92C9381A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8D5E-FF32-4561-8432-B5AF9703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ACA-6FAC-4E3E-968D-A299D1F2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D32-8F0F-46D6-A969-1D48914C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C773-8AC0-4819-A2A9-167497DA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8F3D-1FD3-4008-8EA1-9AC207E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B24-C532-434F-A176-5179F3E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2BB5-6A67-4159-BB88-B52E922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6F5-4C89-4CD2-A0E9-A47668D9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07C8-AF0A-4638-BE6B-3E56CCD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4C4A-91DF-45DA-956C-B994A5E5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B91-4B3F-43B5-AA63-BE2C76C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4C6-DE18-4369-A26D-6245E957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2A9B-5A41-409D-9797-AE79963C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7BB-769A-48D7-BAB1-76E5ADC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F16-62DD-4D81-B113-1CC03B4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673-44BE-48FA-B15D-652E1778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059-C209-490C-8CDC-E0ACBE6C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973-C0B6-4508-90C0-EFDC38C2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D1B-A33B-4429-822A-94AC0BF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B6F-840A-434F-806F-756DE62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49F-48DA-400B-BB22-91196AEDE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054-C893-4A4B-B862-AB622203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m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ir beaut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 Sing them over again to m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et me more of their beauty se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7524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Christ, the blessed one, gives to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ner, list to the loving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     all so freely given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Sweetly echo the gospel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fer pardon and peace to 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Jesus, only Savior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the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lis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o freely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ly 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spel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00:42Z</dcterms:modified>
  <cp:revision>102</cp:revision>
  <dc:subject/>
  <dc:title>PowerPoint Presentation</dc:title>
</cp:coreProperties>
</file>