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F56-56BF-475B-9594-AA9A73FF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A2A-5ABB-406D-AF8A-B5BEEB8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A71-EEFE-40A4-9925-9ED5756B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C2B-74C3-4BDE-955D-5D5BC71E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9B5-AFC9-48EE-AEFB-F51D38F3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312-387C-4668-A794-8DC5BB21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0F8-FBC5-44F3-8A55-B7C7F6D4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B61-9882-4C0E-9BB1-D7CD41C5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7F1-E8E9-4D60-BBB1-0C8A2A4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ACF-8731-4FBD-A42E-26DC52B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DE8-163D-4684-9B34-42174D14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AB4-E1F6-4239-8BEE-D85CC16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E884-7ED8-4487-9D0A-963C47997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My Country ’Tis of Th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unty, ’tis of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land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I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4520" y="167652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amuel F. Smith, 18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where my fathers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pilgrim’s pr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mountain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reedom 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y native country,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nobl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ove thy rocks and 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ods and templed hill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 th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usic swell the bree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ng from all th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freedom’s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ortal tongues aw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at breathe part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rocks their silence br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 pro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thers’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thor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we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may our land b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reedom’s holy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tect us by thy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God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4:32Z</dcterms:modified>
  <cp:revision>36</cp:revision>
  <dc:subject/>
  <dc:title>PowerPoint Presentation</dc:title>
</cp:coreProperties>
</file>