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D264-1B90-405B-95B2-D36124B59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D2DC-CF80-4197-8316-D9587BD0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F633-6458-4E24-B9D9-A98AC5FE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FD61-975C-4337-BA0C-8196CF0B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765A-1BBE-4DDC-95BB-A61B1DBA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3EB3-8ADD-42B2-B5FF-96914683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5FBB-8CCC-4873-B044-C85E6756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ABEE-25E5-4F73-8D03-03FBB91E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28FA-9BB7-41DE-A207-9A3C4812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A0C7-6696-4597-8AE9-7D05FDC5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CA1D-A312-4DD0-BA4C-25412F05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4068-AB21-4833-92E6-E8838FF2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3AA7-2BD4-4A92-B2E1-00A3F711D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Want a Principle With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want a principle with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watchful, godly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ensibility of s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pain to feel it n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a Principle With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83440" y="1066680"/>
            <a:ext cx="37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he first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pproach to fe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ride or wrong des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atch the wand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w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quench the kindling fi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rom thee that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may st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thy goodness grie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me the filial aw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pray, the te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science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a Principle With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ick as the ap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 ey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, my conscience mak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wake m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sin is n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keep it still awa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lmighty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ruth and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e thy power imp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untain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oul re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ardness from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a Principle With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y the least omission p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eawakened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rive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lood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make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unded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1:01Z</dcterms:modified>
  <cp:revision>24</cp:revision>
  <dc:subject/>
  <dc:title>PowerPoint Presentation</dc:title>
</cp:coreProperties>
</file>