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2494-F9A9-4029-8757-0BBC74021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DB79-AA77-44E7-A8C2-406D56DE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934A-D2DE-47D7-83E8-9C55EDC74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A917-458F-4F6A-8EC9-522D7E223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4FE6-A9B5-49BD-8858-7C3272D16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D1F6-953D-4CB3-B818-7C21FC8C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B022-977E-4CA2-8722-44EAA5C9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FD00-7679-441D-8C12-5C6CC0F4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0EAA-3500-4851-821C-8CFB1921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085F-96DA-4553-AFBF-8E5F97C5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BAF5-25C1-4BDB-B038-7C58AF73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09C3-B7BF-44F7-AA92-C5EDE49E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A68B-229E-4C91-8126-00AAA95E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C938-6485-4E45-BC85-2EAE1823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C558-A8FD-4385-94BE-F2CFC307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4C82-5251-4B9F-B8C3-568B7AC73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958C-0FE4-411C-AFB8-E57739C09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7ABD-3DE0-40DA-9229-35CA68D5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92C0-7020-4B60-BEA1-1A965316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5EBA-6ADB-484D-AA67-E705ADF9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FC94-F830-4926-9108-CA453741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54D5-2C26-401C-B2E7-39617474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A6C7-7BBA-4109-8D28-DA31BDF1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C365-FB7C-48C4-B521-7F4E733B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857E-2398-41C4-9E0B-7CB8A3A7B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398C-D2DC-48E1-8B28-0C456D70C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 Calls 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35576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1. Jesus calls u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’er the tumul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f our life’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ild, restless sea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2320" y="762120"/>
            <a:ext cx="638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ecil Frances Alexander, 1863 (Mt. 4:18-2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7621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give our hearts to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ine obedienc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erve and love the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est of all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 Calls 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esus call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the tumul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lif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d, restless se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2320" y="990720"/>
            <a:ext cx="638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ecil Frances Alexander, 1863 (Mt. 4:18-2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y by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sweet voice sounde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ying, “Christi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llow me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s of 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postles heard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 Galilean lak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rned from h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il and kind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ing all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’ sa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Jesus call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worshi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v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’s golden sto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each ido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ould keep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ying, “Christi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me more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n our jo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our sorr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ys of to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urs of ea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he calls,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es and pleasur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Christian, love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e than these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Jesus calls 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y merc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ior, m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ear thy c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8380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day by da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his sweet voice soundeth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aying, “Christian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ollow me!”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our heart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obedie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rve and love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st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 Calls 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219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esus call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the tumul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life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d, restless se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72320" y="762120"/>
            <a:ext cx="638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ecil Frances Alexander, 1863 (Mt. 4:18-2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838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y by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sweet voice sounde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ying, “Christi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llow me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3716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s of o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postles heard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e Galilean lak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rned from h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il and kindr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ving all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’ sa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Jesus calls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worshi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v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’s golden sto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746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each ido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ould keep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ying, “Christi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me more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n our jo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n our sorrow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ys of to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urs of ea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ill he calls,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es and pleasur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Christian, love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re than these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Jesus calls u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y merc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ior, m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ear thy c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666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2. As of old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 apostles heard i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y the Galilean lake,           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762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our heart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obedie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rve and love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st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8580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urned from hom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toil and kindred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leaving all for Jesus’ sak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7333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3. Jesus calls u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rom the worship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f the vain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orld’s golden store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80964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from each idol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at would keep u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aying, “Christian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love me more!”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88596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4. In our joy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in our sorrow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days of toil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hours of ease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88596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till he calls, in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cares and pleasure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“Christian, love m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more than these!”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7621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5. Jesus calls us!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By thy mercie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Savior, ma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we hear thy call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11-06T15:24:47Z</dcterms:modified>
  <cp:revision>22</cp:revision>
  <dc:subject/>
  <dc:title>PowerPoint Presentation</dc:title>
</cp:coreProperties>
</file>