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678-E90A-4836-8F1E-3588FE28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86A-9D3C-44A9-830B-3062C6EE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BF0-FE53-40F8-81F6-C796A64D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5C7-32FA-4A6F-B9BA-171E8BE3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9E3-896A-4306-83AB-E714FCB4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715-372C-4C1D-9CF7-9C540943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264-E4EB-42DB-BD75-5B04B519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2C5-8DD4-42F2-80BE-FBA945E1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6E1-2F8E-46F3-9678-44B47CC1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867-3ED2-4115-BBCB-8B2BF76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DB2-5C14-438F-AC21-AA9EB36F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D57-9CD3-4989-B330-1F9A98F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3B1-44E3-41A4-B66C-49FF8D259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Utter Our 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ed Kaan, 19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e utter our c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peace may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earth will surv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aith must 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tch all our state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fty reso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eing, unre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ction invol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atever the 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pressure we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earten and h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insight and gr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k and mak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heartb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ose Christ before Caes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before dea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with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ld in ou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eople dimini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oubt and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cry from the f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daily sc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trength to say “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that is mea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igns bearing cha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tinction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energy wa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eapons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lift up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children unbo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isdom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ay hand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lenished and t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good planet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rving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 of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reator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share out, we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pirit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ing the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ers confer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ables for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from b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le be relea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ome with us, Lord;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rotest and ma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 us to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ssion your chur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7:43Z</dcterms:modified>
  <cp:revision>150</cp:revision>
  <dc:subject/>
  <dc:title>PowerPoint Presentation</dc:title>
</cp:coreProperties>
</file>