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11C-64DF-4527-BBB9-A745BA0B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73F-F3F7-414F-B7D0-067D44BB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6CDF-B879-4BE6-85F5-0EB9D99C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B824-0DC2-4B84-9EC5-62C78F28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F72-8392-4C3D-BB60-C187FECA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CB4-1A40-456B-A0A8-F7EEE301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C2CA-9813-4C55-8E87-389E7F7D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AF39-2530-42C2-8549-026F2FDC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ACE-E0C3-4F38-878A-CCDAFC5A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2E4-A0BD-4A3E-99B6-6D053D8B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020-2CC2-4DE8-BFC1-68FEA33C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44DC-D391-4164-843E-5E794CDA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173A-4747-4643-808A-AA7E3AA8C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Morning Star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Fair and B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07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 Morning Sta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ow fair and brigh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ou beamest for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truth and ligh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Sovereign meek and lowly!</a:t>
            </a:r>
            <a:br>
              <a:rPr sz="49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 st. 3 © Lutheran Book of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orning Star, How Fair and Br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56040" y="14968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hilipp Nicolai, 1599; trans. by Catherine Winkworth, 1863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rans. st. 3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Lutheran Book of Worship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9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Root of Jes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vid’s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 and M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 w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to s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sole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 and gl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-vict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ch in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ule and m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ll posses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 heavenly Bright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divi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deep with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now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n alta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orning Star, How Fair and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e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ength to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memb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joined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not falt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ard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ing doth possess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 and bless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in sa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 and heart 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gladnes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at joy to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ife is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w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first and l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n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gin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orning Star, How Fair and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one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loriou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nsport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appy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all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Lor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 of gl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ea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retu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06:41Z</dcterms:modified>
  <cp:revision>13</cp:revision>
  <dc:subject/>
  <dc:title>PowerPoint Presentation</dc:title>
</cp:coreProperties>
</file>