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121-E0FA-4518-A794-1F8CBA9F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7DB-889D-423F-82D5-06A773AD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00B-3407-4E2D-8D2A-73DF32E5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DCC-8E3E-4A65-8FD7-3357897E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2E2-EB88-493E-8C34-7900328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AA7-34ED-40CA-8BA8-DD308931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ACF-0A08-4D0F-B7F0-50DFA02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D5D-2937-4249-81C4-8261920E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955-4683-48E0-930E-0910D1C5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4F9-8D9B-4DD3-8E6C-2A593B2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5E3-66A1-4F7D-8AE8-C40B5D9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FCB-A6B0-4672-A237-AB10A238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3A3-7078-423E-B9A4-9C72A9819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Old Rugged Cros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n a hill far aw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ood an old rugged cros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emblem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uffering and shame;</a:t>
            </a:r>
            <a:endParaRPr b="1" lang="en-US" sz="4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1244520"/>
            <a:ext cx="52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Bennard, 1913 (1 Cor. 1:22-25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’twa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l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uffered and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 m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523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the old rugge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be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ha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roach gladly be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he’ll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som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y home far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I’ll shar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12952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ove that ol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dea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world of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 was slai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2952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spised by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raction for 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b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ft his glory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ark Calvar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44792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ined with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y I se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38:08Z</dcterms:modified>
  <cp:revision>18</cp:revision>
  <dc:subject/>
  <dc:title>PowerPoint Presentation</dc:title>
</cp:coreProperties>
</file>