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73A-5E97-41C6-AFBD-B49699C4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C7C-0E59-485F-8045-5BBE4C57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6E0-1C78-4407-BB89-2A0E711B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752-77A7-4F85-8675-E352A38C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7BAE-2905-4B5D-8118-10CFEB77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10E1-7A83-451F-91E1-10EB224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D51-46D0-4314-983B-190DA362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D8C6-155B-4064-9A31-9E1E91A6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E73-CDF3-481F-A068-0C816ACE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CD41-F20E-49F3-8FBC-034890F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6BFB-FC89-4677-BE09-95B7049D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AA8-FE36-48A8-9A27-66DC5E48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9903-CC5D-40DF-8BAF-BB655808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2944-FF2F-4667-8638-1C85FAB0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DE10-7491-4F1F-923A-4CE097E6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8E7B-021C-4C2F-B3A4-EE2D2A1A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3E52-880A-4FE5-9F68-BC48496F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79C-AF2B-45DD-A0AF-B1F22C28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D64-E8CC-46E6-86BC-F54B6F90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B62-3C9E-4B35-A94A-87D86FC3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287-04C6-4342-ADFC-787BDEE0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F1C-0351-4048-8896-D6AE3494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AB8-1988-4659-A71B-6553A3D4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E39-1209-4C35-94D0-BB9A8C72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57CC-1418-44F7-9BFE-925CDA73F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630-2ABB-4A6E-B49E-016838F69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e Bread, On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62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B. Foley, 1978 (1 Cor. 10:16-17; Gal. 3:28; 1 Cor.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John B. Foley and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335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e Bread, On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52480"/>
            <a:ext cx="914400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John B. Foley and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B. Foley, 1978 (1 Cor. 10:16-17; Gal. 3:28; 1 Cor.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entile or J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an or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860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th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860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rain for the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nd g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to one,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860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entile or J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an or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th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1904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rain for the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nd g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to one,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4:17:42Z</dcterms:modified>
  <cp:revision>123</cp:revision>
  <dc:subject/>
  <dc:title>PowerPoint Presentation</dc:title>
</cp:coreProperties>
</file>