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686-145D-4EEB-8A2D-D0057272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71D-16A6-4BC4-9905-AC310EBC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383-5075-49BA-8AE5-A8070414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14E-3FED-4AC6-BF2C-86AEC905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045-0480-4245-AB3A-463EF55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C9E-9014-49B9-95AC-1CC72D56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F11-416A-4CC6-B7E4-EADC7060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4BB-AE57-40CF-81A7-72B14827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63-E058-489D-AD55-EB9E87D1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70C-6FC3-41EA-9F4B-5476614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5A3-13D3-4591-B14F-9EA7A99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73F-304F-4087-9C8E-815CAA7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E9EA-DEAA-4AFC-A2BB-46D56BB48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Down, O 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down, O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ou this soul of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sit it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ardor glow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560" y="108108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ianco of Siena, 15th cent.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Richard F. Littledale, 1867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forter, draw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indl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lame best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it freely b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rthly passions t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ust and 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at consu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y glor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ever on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 me 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y path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s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ning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the soul will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far outpas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of human tel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n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ess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create a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in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makes a dwe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22Z</dcterms:modified>
  <cp:revision>14</cp:revision>
  <dc:subject/>
  <dc:title>PowerPoint Presentation</dc:title>
</cp:coreProperties>
</file>