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832-7B99-4D52-89FA-B880C5D1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5E6-53A5-459B-9B52-2027A17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D88-216D-4E9C-97F9-5D7502F4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842-C4EE-4EE9-B068-A4BA4AE1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BFB-E789-489A-A290-2A6C74A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C2A-EF8E-45F5-8ECF-2DF820EA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1D8-6E58-4BF1-8FC7-C42E84F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A15-3462-45A2-B435-6F097E01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1D5-7C76-442D-8695-BA116FC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729-71D9-451D-AB19-712C2E1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3C7-D61D-4FB2-9928-8716031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208-CBD9-4C41-BED2-E5B1111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89DC-3B4C-4D44-85A7-A58E763C8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Hast Thou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ast thou do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mmortal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die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eternal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e all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immortal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hath di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s crucifi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an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us reb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,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cord tr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all are b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’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 his sid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e that pass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eding Pri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and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your Savior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y, “Wa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like his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feel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 appli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1:16Z</dcterms:modified>
  <cp:revision>46</cp:revision>
  <dc:subject/>
  <dc:title>PowerPoint Presentation</dc:title>
</cp:coreProperties>
</file>