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E4D9-89EF-4871-91D5-849E56F3F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235E-AD34-42F6-95FF-70847C31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E958-D7B7-46CB-AA84-2A50C4874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CBBB-234A-4705-9541-B2F17706E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5CC6-9519-451A-8CEB-50D187F1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3994-5669-4376-872D-D2BCFD80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2F43-4663-45AD-BB0D-747A7154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89BC-F632-40DB-89EB-07D2E6A4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BAA7-C1E1-4F34-8E1D-0654732C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D1FC-6EBA-427B-BDED-AB0C088B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1918-785B-48EE-80EB-694E0B73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E0AA-6854-416B-B079-0169B02C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A60F-031E-4649-98CE-639CCBB60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body Know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Trouble I 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43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body knows the trouble I se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body knows but Jesu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h, nobody know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trouble I se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lory hallelujah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body Knows The Troubl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ometimes I’m u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times I’m d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yes, L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times I’m alm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gr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yes,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body Knows The Troubl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584280"/>
            <a:ext cx="9144000" cy="557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Nobody know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trouble I se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nobody knows but Jesus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h, nobody know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trouble I se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glory hallelujah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body Knows The Troubl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lthough you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going long s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yes, L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my troub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bel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yes,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body Knows The Troubl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84280"/>
            <a:ext cx="9144000" cy="557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Nobody know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trouble I se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nobody knows but Jesus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h, nobody know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trouble I se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glory hallelujah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body Knows The Troubl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at makes old Sat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e me s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yes, L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use he got me o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me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yes,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body Knows The Troubl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584280"/>
            <a:ext cx="9144000" cy="557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Nobody know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trouble I se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nobody knows but Jesus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h, nobody know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trouble I se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glory hallelujah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body Knows The Troubl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09:33Z</dcterms:modified>
  <cp:revision>46</cp:revision>
  <dc:subject/>
  <dc:title>PowerPoint Presentation</dc:title>
</cp:coreProperties>
</file>