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1B2-F986-40A0-8C9B-A695943E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99CA-87A4-47C3-B656-8FB60062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4EA0-7B43-49C0-AE9E-6181BF92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4DFC-347B-4076-B0A9-FEC52CAA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D8D4-B4AF-420C-90C9-8DB7FE22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CE68-11D2-4C4B-BD5F-AC2EE737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6C17-1603-4C02-B34B-B77662E0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E1C0-5E71-4C00-8D3B-33B4B59B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50A3-468E-4BE8-A484-536C4555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7C9E-8056-4ABA-A6F8-58B3A367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8C00-D4AE-4D2B-AD34-3051FDC4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AA5-AE87-4EF1-8E7B-3BE4438D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865B-0F15-4513-B64C-BC648401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B641-E858-4FFA-8D3D-92BE1EA6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C068-B130-4111-B0C1-24EF7648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FC2D-4A13-4F8C-A2E1-D3C054E5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50E0-87EB-4962-A94D-835A9275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081-FE08-41E7-A064-B15443FA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316-1FE4-4867-AFBD-D2D1897F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7FA-3524-4801-A1CB-13B0C0EF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B8B6-05EA-48F4-ADE2-BADF086E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6B2-F4CD-478F-B42F-8FD935EF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16F-B52C-4138-A1E4-DF0ADEA5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7EF-E835-4120-AF4E-4D956447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99AF-B666-4267-9FA0-AF0A416C9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175F-482E-48B8-A795-8F91B248C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 Up and Bless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ames Montgomery (Neh. 9: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tand up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people of his ch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up and b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your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and soul and v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and up a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less the Lord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Lord your God ador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and up and bles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is glorious na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nceforth forevermo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all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all blessing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ould not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ol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aud and magnif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for the living fl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is own altar br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ouch our lip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inds insp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our though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and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salvation our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be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 proclai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ll our ransomed pow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up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e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your God ad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up and b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glorious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nceforth 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 Up and Bless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838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ames Montgomery (Neh. 9: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5238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Stand up and bless the Lor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 people of his choice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nd up and bles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Lord your Go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heart and soul and vo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Though hig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bove all pra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bove all blessing hig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 would not fea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is holy na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laud and magnify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for the living fla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his own altar brou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touch our lip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minds inspi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wing to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aven our thought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is ou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rength and so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his salvation our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n be his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Christ proclaim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all our ransomed power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6-21T00:22:52Z</dcterms:modified>
  <cp:revision>155</cp:revision>
  <dc:subject/>
  <dc:title>PowerPoint Presentation</dc:title>
</cp:coreProperties>
</file>