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641-D0CC-47D7-8712-960AFEE4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098-2C35-435E-B48A-0D5063EA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100-4B55-4EE0-842C-0D28FA8A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B70-3B33-4CEC-8FEE-926AB366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785-94D9-4CD0-BA66-ABBFBADB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1FA-AB3F-45F3-8C3B-DFC40B7A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96D-7294-4CDF-92F8-1B66B13A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C9F-0C80-41DD-8BD6-DC8F4B70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3A9-6F65-4CD2-BF81-06F0960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2AA-8386-484D-B3B4-DA5D38DC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278-275B-4ABE-8876-2C1A7E2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A04-61FB-48BC-9F03-46CC5FC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F55D-3C62-461B-94DC-9DF21A369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pe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90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hris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com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our fea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by conflict r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4, renewed 198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1066680"/>
            <a:ext cx="3780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ia Harkness, 1954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be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gospel glorio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our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us, thy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consuming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our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se ho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ims are sp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ift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st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ing to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the bread of l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t th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us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l earth’s w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nd all bitte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oot on dusty hig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ing to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the path of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thou besi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the tempting by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ure us away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to endless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st sa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desp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 gu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nder back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y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thou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se them as thou w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this sign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 grief and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9:57Z</dcterms:modified>
  <cp:revision>10</cp:revision>
  <dc:subject/>
  <dc:title>PowerPoint Presentation</dc:title>
</cp:coreProperties>
</file>