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38E-2123-40B5-BBA2-1D2F1C7C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91E-AB2E-4566-9F35-3B0F7CA8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39C-4230-44F2-878E-A7D8E78B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A50-548C-4DB8-986E-D553E643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E75-7749-4EC1-B507-8599054F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07C-3F57-40CD-9E3F-0591458C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912-E7F1-4F9B-86FB-1DA595F3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E43-8B3B-482C-9BC0-9F45D94C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FC5-369F-47CA-AD8B-31FD89A1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3C2-275F-4D95-BC7B-095B252C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ED7-A29A-4A01-975C-E0F402A9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A2B-DC55-4A30-9DBB-682ACC2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DFCA-910A-4172-88A5-987EE240D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Out,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numb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ings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1480" y="100476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imothy Dudley-Smith, 1961 (Lk. 1:46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-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der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 of God’s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o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my heart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known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ght, who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eds ha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ercy 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ge to age the s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hol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ight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s and domin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y their glory b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ud heart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ub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s are put to f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ungry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umble lifted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lo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’s w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m is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’s mercy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out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ness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children’s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orever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49Z</dcterms:modified>
  <cp:revision>50</cp:revision>
  <dc:subject/>
  <dc:title>PowerPoint Presentation</dc:title>
</cp:coreProperties>
</file>