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894-0C8B-40A1-9B21-6B05C11E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FAE-988F-4C61-B900-357A6410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17D-1712-49C4-ABD9-F59BCEB8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8AF-8260-4112-944A-FB176E34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181-D699-47E3-B812-2273578F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7C-FA2A-4782-8A83-5247CF91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7A9-ED42-41DA-8D44-7CCE3B2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54C-EFB8-4999-9DD4-6A01188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73B-263B-4336-B70B-6E3D270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F64-E190-438D-BB83-94606B5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590-D6D8-4122-8E4B-3A7A4B9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359-D565-4328-B937-A90D5F4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016-311A-4DE7-9171-A5382D981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Thou Hast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cause thou hast sai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o this for my sak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ical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ladly part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 to inhe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ullnes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here we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sp at thy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here that w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mage to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f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s we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ll things are 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’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4:00Z</dcterms:modified>
  <cp:revision>136</cp:revision>
  <dc:subject/>
  <dc:title>PowerPoint Presentation</dc:title>
</cp:coreProperties>
</file>