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3137-3D10-45B1-A85A-EF8CD411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4923-C3EA-4668-BA9D-58D714E6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A59E-6E63-4547-BE99-55B28840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A27-E2B3-4EA3-AEF6-99FC029F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8B3-868B-4D34-AB8A-ED55E204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99F-E9E3-4936-9C0E-DB59B4C2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E4B-A0FC-4560-B26F-395B8F2F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245-8D4B-4E06-85C5-50A34BEB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9403-3896-40D4-89A9-8D5CBFE6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E04-BEEB-465A-BBEA-BF0E6B86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993-9370-4123-824F-6AE6EFED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2409-B606-4185-97ED-CA3E7465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8B78-2B8B-4C88-AC34-FD1C7E2D6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pth of Mer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0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Depth of merc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there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rcy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served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f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volt depl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ep, belie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m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wrath for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me, the chie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sinners, spar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have 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stood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ng provok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s f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not hear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s ca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ieved him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thousand fal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 my M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den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fr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crucif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t profa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hallowed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t him to 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sh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re for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avior st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ws his w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pread his ha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is lo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know, I fee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eep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s me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Now inclin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ep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m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ins lamen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23:56Z</dcterms:modified>
  <cp:revision>112</cp:revision>
  <dc:subject/>
  <dc:title>PowerPoint Presentation</dc:title>
</cp:coreProperties>
</file>