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AE8-D398-4A73-9129-528A0436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45D-F605-4F00-9C6C-B4DA887B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F46-785B-4738-ADCF-42CF0CF4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AEE-13FE-4D65-810B-079CA736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647-7BC5-4E31-A95B-2AFE949E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587-8A54-4E80-AD6C-71907C2F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653-8BE4-4E10-8CFD-9269972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BFB-81CD-4F29-89B6-2529C23A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2C9-D475-460C-AC13-1D52E4A9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871-3B27-4ABF-BEB0-BD7D3B6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29F-870F-4D73-8B58-6637EF09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CA8-A21F-422F-92BF-2AB75BFD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34CF-183A-4CE2-93BD-34AD011EF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28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Earth We N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ament to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Earth We Now Lament to S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60020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Charles Wesley, 1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5146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ur earth we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ment to see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with floods of wickedness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overflow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8288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violence, wrong, and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el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wide-extended field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oo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men like fiend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each other t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n all the hellis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rage of w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2. As listed on  Abaddon’s sid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y mangle their own flesh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and sla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phet is moved, and opens wid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ts mouth for its enormous pre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myriads sink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beneath the gra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plunge int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the flaming w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3. O might the universal Frie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is havoc of his creatures see!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d our unnatural discord en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declare us reconciled in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Write kindness o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ur inward p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d chase the murder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from our hear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5526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4. Who now against each o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ri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 nations of the earth constrai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o follow after peace, and priz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the blessings of thy righteo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reig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s o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unity to prov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paradis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 of perfect lo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5:06:39Z</dcterms:modified>
  <cp:revision>148</cp:revision>
  <dc:subject/>
  <dc:title>PowerPoint Presentation</dc:title>
</cp:coreProperties>
</file>