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C6AE-2F1C-416D-8697-F225768FE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16B5-FE0E-4BF5-93B9-62C359F1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678A-DDAE-4D55-98B1-D759FCEAC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840D-8DD9-4720-A520-DDC1AF5EB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CADA-E353-4037-A2D5-73FC1F9F9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7CDB-9C38-4565-8AEC-9F0F78A7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00BB-3CB1-414B-8082-01E3F229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8220-7C35-4C3E-89AC-A8584ECB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BD5C-8E3C-44F4-90E4-6497BDF2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06E9-7D17-4857-ADE5-F48AE522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E8CE-29A2-481C-8AB0-3613C029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919A-4232-4F88-A937-D2313E8A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E834-E216-4A1F-A5D0-C37B78C7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304E-546D-43AD-8F25-BD09DCF6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DCE4-C22B-49AB-8546-B243C279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F069-B413-4E74-BEBC-6706EC7A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6453-455A-4683-97B9-D5EDAC589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434D-5262-4F19-9886-C2FFDB77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1DD1-789C-4764-A348-0EC29296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3279-A079-47A9-94CB-1D3E4226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21E2-1A2A-4FD2-B802-4072D90C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D174-5196-4A56-974E-BA06050E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F9E1-4F6C-4757-B0EE-BA3723B3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1858-CF81-444E-910B-F93B2E82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C2DE-924A-4FF0-AD20-5B3F9F409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BE65-432A-48A2-9988-281F4CB66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Victory in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474920"/>
            <a:ext cx="9144000" cy="393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1. I heard an old, old story,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how a Savior came from glory,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how he gave his life on Calvary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to save a wretch like me;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39 Eugene M. Bartlett, renewed 1967 Mrs. Eugene M. Bartlett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Albert E. Brumley &amp; Son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45800" y="76212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Eugene M. Bartlett, 193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867280"/>
            <a:ext cx="9144000" cy="9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28600"/>
            <a:ext cx="9144000" cy="548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about the angels singing and the old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redemption story,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and some sweet day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I’ll sing up there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the song of victory.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867280"/>
            <a:ext cx="9144000" cy="9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28600"/>
            <a:ext cx="9144000" cy="552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victory in Jesus,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y Savior forever!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e sought me and bought m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ith his redeeming blood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943600"/>
            <a:ext cx="9144000" cy="911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212760"/>
            <a:ext cx="9144000" cy="548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he loved me ere I knew him,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and all my love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is due him;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he plunged me to victory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beneath the cleansing flood.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867280"/>
            <a:ext cx="9144000" cy="9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Victory in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828800"/>
            <a:ext cx="9144000" cy="481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I heard an old, old story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ow a Savior came from glory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ow he gave his lif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n Calvar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save a wretch like me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39 Eugene M. Bartlett, renewed 1967 Mrs. Eugene M. Bartlett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Albert E. Brumley &amp; Son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45800" y="102888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Eugene M. Bartlett, 193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eard about his groa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is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ood’s ato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I repented of my s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 the vict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victory in Jesu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avior foreve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ough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ough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is redeeming blo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oved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re I knew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my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due hi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plunged me to vic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the cleansing f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 heard about his hea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is clean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wer revea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he made the l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lk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aused the blind to s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n I cried, “Dear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nd he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broken spirit,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omehow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e and br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e the vict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victory in Jesus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avior foreve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ough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ough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is redeeming blo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17360"/>
            <a:ext cx="9144000" cy="567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000000"/>
                </a:solidFill>
                <a:latin typeface="Times New Roman"/>
              </a:rPr>
              <a:t>I heard about his groaning,</a:t>
            </a:r>
            <a:br>
              <a:rPr sz="6100"/>
            </a:br>
            <a:r>
              <a:rPr b="1" lang="en-US" sz="6100" spc="-1" strike="noStrike">
                <a:solidFill>
                  <a:srgbClr val="000000"/>
                </a:solidFill>
                <a:latin typeface="Times New Roman"/>
              </a:rPr>
              <a:t>of his precious</a:t>
            </a:r>
            <a:br>
              <a:rPr sz="6100"/>
            </a:br>
            <a:r>
              <a:rPr b="1" lang="en-US" sz="6100" spc="-1" strike="noStrike">
                <a:solidFill>
                  <a:srgbClr val="000000"/>
                </a:solidFill>
                <a:latin typeface="Times New Roman"/>
              </a:rPr>
              <a:t>blood’s atoning,</a:t>
            </a:r>
            <a:br>
              <a:rPr sz="6100"/>
            </a:br>
            <a:r>
              <a:rPr b="1" lang="en-US" sz="6100" spc="-1" strike="noStrike">
                <a:solidFill>
                  <a:srgbClr val="000000"/>
                </a:solidFill>
                <a:latin typeface="Times New Roman"/>
              </a:rPr>
              <a:t>then I repented of my sins</a:t>
            </a:r>
            <a:br>
              <a:rPr sz="6100"/>
            </a:br>
            <a:r>
              <a:rPr b="1" lang="en-US" sz="6100" spc="-1" strike="noStrike">
                <a:solidFill>
                  <a:srgbClr val="000000"/>
                </a:solidFill>
                <a:latin typeface="Times New Roman"/>
              </a:rPr>
              <a:t>and won the victory.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791320"/>
            <a:ext cx="9144000" cy="106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oved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re I knew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my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due hi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plunged me to vic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the cleansing f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 heard about a mans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has buil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e in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heard abo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reets of g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yond the crystal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ut the angels sing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mption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ome sweet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sing up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ong of vict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victory in Jesu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avior foreve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ough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ough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is redeeming blo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oved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re I knew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my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due hi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plunged me to vic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the cleansing f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Victory in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990720"/>
            <a:ext cx="9144000" cy="345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I heard an old, old stor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ow a Savior came from glor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ow he gave his life on Calvar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save a wretch like me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39 Eugene M. Bartlett, renewed 1967 Mrs. Eugene M. Bartlett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Albert E. Brumley &amp; Son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5800" y="76212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Eugene M. Bartlett, 193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495680"/>
            <a:ext cx="9144000" cy="23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eard about his groa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is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ood’s ato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I repented of my s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 the vict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343400"/>
            <a:ext cx="9144000" cy="2511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228600"/>
            <a:ext cx="9144000" cy="365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victory in Jesus,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y Savior forever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 sought me and bought 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 his redeeming bloo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886200"/>
            <a:ext cx="9144000" cy="2968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212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oved me ere I knew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my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due hi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plunged me to vic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the cleansing f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I heard about his heal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f his cleans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power reveal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ow he made the la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walk agai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caused the blind to see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343400"/>
            <a:ext cx="9144000" cy="2511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28600"/>
            <a:ext cx="9144000" cy="552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victory in Jesus,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y Savior forever!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e sought me and bought m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ith his redeeming blood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2286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then I cried, “Dear Jes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ome and heal my broken spirit,”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somehow Jesu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ame and brough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me the victory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886200"/>
            <a:ext cx="9144000" cy="2968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168120"/>
            <a:ext cx="9144000" cy="365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victory in Jesus,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y Savior forever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 sought me and bought 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 his redeeming bloo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886200"/>
            <a:ext cx="9144000" cy="2968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21276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 loved me ere I knew him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all my lov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s due him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 plunged me to victor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neath the cleansing floo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809880"/>
            <a:ext cx="9144000" cy="3044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I heard about a mansio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 has built for me in glor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I heard abou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streets of gol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yond the crystal sea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343400"/>
            <a:ext cx="9144000" cy="2511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2286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bout the angels singing and the ol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redemption stor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some sweet da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’ll sing up ther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song of victory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809880"/>
            <a:ext cx="9144000" cy="3044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228600"/>
            <a:ext cx="9144000" cy="365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victory in Jesus,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y Savior forever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 sought me and bought 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 his redeeming bloo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886200"/>
            <a:ext cx="9144000" cy="2968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212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oved me ere I knew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my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due hi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plunged me to vic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the cleansing f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12760"/>
            <a:ext cx="9144000" cy="548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he loved me ere I knew him,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and all my love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is due him;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he plunged me to victory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beneath the cleansing flood.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943600"/>
            <a:ext cx="9144000" cy="911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24120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2. I heard about his heal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his cleansing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power reveal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ow he made the lam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o walk agai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caused the blind to see;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943600"/>
            <a:ext cx="9144000" cy="911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365040"/>
            <a:ext cx="9144000" cy="512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and then I cried, “Dear Jesus,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come and heal my broken spirit,”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and somehow Jesus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came and brought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to me the victory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867280"/>
            <a:ext cx="9144000" cy="9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68120"/>
            <a:ext cx="9144000" cy="536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 victory in Jesus, 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my Savior forever!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e sought me and bought m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ith his redeeming blood;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562720"/>
            <a:ext cx="9144000" cy="1292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12760"/>
            <a:ext cx="9144000" cy="548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he loved me ere I knew him,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and all my love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is due him;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he plunged me to victory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beneath the cleansing flood.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791320"/>
            <a:ext cx="9144000" cy="106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. I heard about a mansion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e has built for me in glory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I heard abou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streets of gol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eyond the crystal sea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791320"/>
            <a:ext cx="9144000" cy="106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7-17T22:04:53Z</dcterms:modified>
  <cp:revision>23</cp:revision>
  <dc:subject/>
  <dc:title>PowerPoint Presentation</dc:title>
</cp:coreProperties>
</file>