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574-C98D-4055-8AEC-EE4ACD47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456-3D27-420C-9955-253B1E3A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48E-89A5-4A3D-AD0E-FA25E570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570-1028-4377-BD5E-DBF620A3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C4D-8832-488A-9E19-F880E103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9FD-FFBD-45B0-91D8-AF586376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286-F12C-413A-BDA5-2B2F7D5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CAE-E897-4938-B24E-79ED316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0FA-BA36-4836-8D6C-F2A2103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90F-A791-4E04-83DA-50C2B38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50E-A059-4B5A-B62D-298088A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C92-06EE-4796-9CB9-1EB0733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7CD4-5628-4155-8DC4-E8AE799B1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ren of the Heavenly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ildre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som g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25, renewed 1953 Augsburg/For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1560" y="1066680"/>
            <a:ext cx="77702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55; trans. by Ernst W. Olson, 1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stling bird no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r wa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his own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 and nouris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they flouris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gs he spares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s he bears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ither life 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sha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Lor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se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he show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 know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gh he giv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he tak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i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’er forsak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h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pose sol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serv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0:15Z</dcterms:modified>
  <cp:revision>60</cp:revision>
  <dc:subject/>
  <dc:title>PowerPoint Presentation</dc:title>
</cp:coreProperties>
</file>