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402-EFF4-4F27-B7C5-1A2474AF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DFA9-270B-49E0-AA53-C4AC1BAE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4433-8311-4B2B-92EF-AA7E5CD4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867-7447-4890-8F3B-CDBE47C6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8F6E-CCC7-49E8-90FE-FAC04FF9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BF42-41D7-478C-BAAD-4D392C25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8C9F-6203-48CD-A577-484506A9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ACFF-8A41-4A6F-A749-72D7EE2E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CFDF-0071-4569-8383-A9838506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F026-35EB-463C-ACCD-249951AC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E415-A581-425B-8FC3-CF72BD9C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8671-E77A-4864-8AA6-3C6E69A0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D56D-C031-4BB2-B27E-7B53DBCF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F998-F8F9-4F43-B5F7-9CB288E2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B7BF-62F5-4D40-A24C-6C274825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9B07-0214-4A4D-852B-B23B9C49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AA32-2F9F-4873-A767-30BD88A5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0F6E-3ADA-465F-8695-4978B088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7122-AB33-4171-A3D2-FC592360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F23-B34C-47C9-9309-EED68FBF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DD7-85F3-425B-964D-78F95ED7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E41-5C3F-472C-AF10-3FA8158B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51C2-A329-4780-AC7A-F3D93162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F34-6D5D-4B0D-8B6A-3A850BB8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EAFA-87DA-4BD9-BCE5-3E2AC523A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F425-DB07-4E9D-82CD-1E4C5E739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52280" y="13644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Help Us Accept Each Oth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56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1128600"/>
            <a:ext cx="9144000" cy="399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1. Help us accept each othe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s Christ accepted us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each us as sister, brother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each person to embrac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5 Hope Publishing C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762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WORDS: Fred Kaan, 1974 (Jn. 15:1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lp us to hel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’s cross to bea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their friend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id aff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el each other’s car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Up un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iving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in all things g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ou hast m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free ind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potless here below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ouched by the lodest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y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our hearts ag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 towa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ch other 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 move toward the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o thee, inseparably joi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our spirits clea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may w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ing m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as in thee receiv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This is the bo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erfec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potless chari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et us,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y, poss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ind that was in thee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22860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Be present,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mong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bring us to believ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e are ourselves accept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meant to love and liv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76320"/>
            <a:ext cx="9144000" cy="539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2. Teach us, O Lor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your lesson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s in our daily lif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e struggle to be human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search for hope and faith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36504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each us to care for peopl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for all, not just for som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love them a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e find them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or as they may become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3808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3. Let your acceptan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change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so that we may be mov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in living situation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do the truth in love;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3808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 practice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your acceptanc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until we know by heart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he table of forgivenes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and laughter’s healing art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28908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4. Lord, for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today’s encounters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ll who are in need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ho hunger for acceptance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for righteousness and bread.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36504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we need new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eyes for seeing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new hands for holding on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enew us with your Spirit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free us, make us one!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United by Thy Gra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0" y="198108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Jesus, united by thy grac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each to each endeare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 confidenc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e seek thy fac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nd know our prayer is heard.</a:t>
            </a:r>
            <a:endParaRPr b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Charles Wesley, 174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dan mccay</cp:lastModifiedBy>
  <dcterms:modified xsi:type="dcterms:W3CDTF">2011-08-26T01:43:18Z</dcterms:modified>
  <cp:revision>67</cp:revision>
  <dc:subject/>
  <dc:title>PowerPoint Presentation</dc:title>
</cp:coreProperties>
</file>