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CA99-F905-4565-9A7B-D6D9E1B16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47EA-4532-4F33-BF24-BB23221D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6B48-EE0D-44B6-B7F3-386B62CBE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EFA7-3A63-4D35-B8AA-E9B5DC240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B635-7873-4C01-BE78-1962A79D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5BB7-EE14-4F56-AFB1-7FF5538E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0D5C-6353-4F23-914D-2C3DCF6B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9373-85AD-4856-B6C7-16DB2791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503F-D3A1-47F3-8DB7-0F170493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E575-B6D3-42DF-8776-52104759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28D8-9540-470F-9244-A7C59289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C672-215D-4C5F-B6CE-80CBB28F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3601-8CB4-4EEE-9E70-37F3B3BA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375D-C45D-4C03-8E09-5E74FBFC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BD49-25EE-4B3C-91E2-F4C3F74F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4FE6-6928-427B-9C3F-D61464F11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E009-5185-47D2-A844-88E110BCB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7798-30F0-4C3C-9861-489BE3D1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A268-71D8-4DC0-99ED-713DEB02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4F54-A885-43F2-A070-8C512D4A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E2D6-FB4D-4379-A65F-541FF442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D829-4B63-4312-925B-36C0A8FF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4421-3C8C-4715-9055-6B0984E3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501E-4874-4472-98C2-70AC56EC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2441-F458-4C62-AFEE-3D217CDD1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F884-8D7C-4083-B9B5-FDC1C7B06C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Are Ye Abl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53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0" y="1295280"/>
            <a:ext cx="9144000" cy="51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1. “Are ye able,”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said the Maste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“to be crucified with me?”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Yea,” the sturd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dreamers answere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“to the deat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e follow thee.”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762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Earl Marlatt, 1926 (Mk. 10:35-40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a,” the stur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eamers answe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to the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ollow thee.”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0" y="129528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we are abl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pirits are thin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mold them, mak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e, divin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uiding radi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ve us sha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beacon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ove, and loyalty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re ye ab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rememb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a thie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s up his eyes,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is pardo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 is wor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 place in paradise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137160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we are abl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pirits are thin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mold them, mak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e, divin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uiding radi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ve us sha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beacon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ove, and loyalty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re ye ab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shado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se around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sod,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lieve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 triumph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ommend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 to God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14479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we are abl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pirits are thin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mold them, mak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e, divin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0" y="76320"/>
            <a:ext cx="9144000" cy="644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we are able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ur spirits are thine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Remold them, make u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like thee, divine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y guiding radianc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bove us shall b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 beacon to Go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o love, and loyalty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uiding radi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ve us sha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beacon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ove, and loyalty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Are ye abl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the Mas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spers down eternity,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roic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s ans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as then in Galile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0" y="129528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we are abl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pirits are thin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mold them, mak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e, divin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uiding radi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ve us sha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beacon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ove, and loyalty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Are Ye Abl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53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0" y="1600200"/>
            <a:ext cx="9144000" cy="274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1. “Are ye able,”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aid the Maste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“to be crucified with me?”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990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Earl Marlatt, 1926 (Mk. 10:35-40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0" y="83808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Yea,” the sturdy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dreamers answere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“to the death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e follow thee.”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0" y="76320"/>
            <a:ext cx="9144000" cy="448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we are able.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Our spirits are thine.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Remold them, make u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ike thee, divine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0" y="68580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y guiding radianc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bove us shall b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 beacon to Go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love, and loyalty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0" y="68580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2. Are ye abl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remembe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hen a thief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ifts up his eyes,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746280"/>
            <a:ext cx="9144000" cy="506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Are ye able to rememb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a thie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ts up his eyes,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his pardo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ul is wor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a place in paradise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0" y="990720"/>
            <a:ext cx="9144000" cy="274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at his pardon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oul is worthy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of a place in paradise?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0" y="152280"/>
            <a:ext cx="9144000" cy="448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we are able.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Our spirits are thine.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Remold them, make u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ike thee, divine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0" y="60948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y guiding radianc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bove us shall b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 beacon to Go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love, and loyalty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60948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3. Are ye abl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shadow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close around you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ith the sod,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0" y="60948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believe tha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 triumph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commend you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oul to God?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0" y="76320"/>
            <a:ext cx="9144000" cy="448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we are able.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Our spirits are thine.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Remold them, make u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ike thee, divine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0" y="53352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y guiding radianc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bove us shall b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 beacon to Go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love, and loyalty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990720"/>
            <a:ext cx="9144000" cy="274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4. Are ye able?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till the Maste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hispers down eternity,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0" y="1295280"/>
            <a:ext cx="9144000" cy="274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roic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s answe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now as then in Galilee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0" y="152280"/>
            <a:ext cx="9144000" cy="448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we are able.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Our spirits are thine.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Remold them, make u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ike thee, divine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76320"/>
            <a:ext cx="9144000" cy="644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we are able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ur spirits are thine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Remold them, make u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like thee, divine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y guiding radianc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bove us shall b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 beacon to Go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o love, and loyalty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0" y="45720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y guiding radianc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bove us shall b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 beacon to Go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love, and loyalty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1170000"/>
            <a:ext cx="914400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3. Are ye able when the shadow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close around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with the sod,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o believe that spirit triumph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o commend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soul to God?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76320"/>
            <a:ext cx="9144000" cy="644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we are able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ur spirits are thine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Remold them, make u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like thee, divine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y guiding radianc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bove us shall b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 beacon to Go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o love, and loyalty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1050840"/>
            <a:ext cx="9144000" cy="506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Are ye abl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ill the Mas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spers down eternity,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roic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s ans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as then in Galile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0" y="0"/>
            <a:ext cx="9144000" cy="644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we are able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ur spirits are thine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Remold them, make u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like thee, divine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y guiding radianc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bove us shall b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 beacon to Go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o love, and loyalty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re Ye Abl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“Are ye able,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id the Mas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to be crucified with me?”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0" y="990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Earl Marlatt, 1926 (Mk. 10:35-40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2-03-24T20:56:16Z</dcterms:modified>
  <cp:revision>60</cp:revision>
  <dc:subject/>
  <dc:title>PowerPoint Presentation</dc:title>
</cp:coreProperties>
</file>