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8D1-18AB-435E-952D-B389EF90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5C1-2753-4AE7-B347-503765D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AFC-1E7F-4132-B3F2-4D9DC306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AC3-6426-4E96-B4F5-38347C8D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325-E457-483D-AAFE-5C24C80B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EAC-8A42-4B34-9C70-1504F18F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FCB-28A1-44FB-9AB3-1BE57BE5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81B-3FC7-4355-B227-26E08944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377-84AB-4423-9929-5195D054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685-93D9-4789-B7E0-8AF40C4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F2C-A39E-4CDB-A9C6-2D2CD39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808-2346-4887-BB3C-CB6BFDB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97E-0EAF-4D11-9B8F-496E57B5F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, While Tre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Still in Bloss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, whil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till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s the pic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u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nsgar Film &amp; Bokproduktion, trans. © 197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0; trans. by Fred Haan, 1972 (Heb.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ccept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, respo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ill of harv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b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spr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 is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ticipa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s ea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ust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ns we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ah wen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an 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aham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ely migr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, uplif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med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divided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de them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aith belie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faith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17Z</dcterms:modified>
  <cp:revision>42</cp:revision>
  <dc:subject/>
  <dc:title>PowerPoint Presentation</dc:title>
</cp:coreProperties>
</file>