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CD1-DE21-4F6F-97DA-7EDF5014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622-34D5-4071-A3C1-5FBAC434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77D-B711-4D89-8A37-7D08CA6B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6B9-4576-46A8-8A8A-C5F33476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318-9C71-47DC-AB60-41517AF2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391-E0B6-4499-AFB5-3DE4BC0A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A86-0EE5-4662-948F-ECBD43AE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54D-3B38-4CFB-9CCB-E93FF7F1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96E-A7AA-4B45-8EA8-B1BDA8F2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E31-3DBC-4BCA-8E14-7EE3145F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868-B2B6-431A-A6AD-5C905B7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1E4-00F9-46F7-A31F-1CA822BF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103C-8455-401C-ADF3-5FE5D63A3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90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our pray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our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Our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42Z</dcterms:modified>
  <cp:revision>30</cp:revision>
  <dc:subject/>
  <dc:title>PowerPoint Presentation</dc:title>
</cp:coreProperties>
</file>