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87B-B911-4EB6-BB2F-C7593780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7B7-1610-4B02-BE9C-BACF03C3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B679-73E2-45D6-A0DC-01109448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2A66-63CC-444C-84C7-526E2846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0CA6-8B19-4474-A750-62A814CE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A55C-31AB-4651-A941-A951E6DD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3B2C-8580-4279-80B9-ED455CDE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9AD6-002D-4B2B-A884-C8C93094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65AE-27EC-470E-ADAD-6A1524E5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C376-AB6D-44A0-88EE-A5672292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F40F-823A-49F6-B4A6-0D3C20A2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16A5-F484-40B3-9230-C630BCD2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3DD4-0E6F-4096-9E75-2E60F66C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36EA-420E-441E-BF89-E51479D6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0F6D-E24C-4C4F-B4C8-9965FE93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2D45-DAB0-4285-8CBF-2F6CFAF8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F8E2-2C5F-4728-84FC-E6F56A82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53FA-9E92-456E-9448-BAFB25BD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09BD-61FE-48E3-9773-34DEB0A3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88EC-7CD7-4370-80AC-4EECCA74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6C65-3BFE-4E10-BA20-04000C84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35CC-EF11-41C9-A43E-E8E7D588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971A-CFF3-4F4C-9EB4-C07CC2B8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EEE-7F18-4F95-B153-0A6E56F2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EB48-518A-46EE-A0E9-B1342DB1D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C2DD-D39C-461B-AEA5-79717A060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ward, Christian Soldi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Sabine Baring-Gould, 1864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Crowns and thr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per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doms rise and wa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church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tant will rem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es of hell can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inst that church prevai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ave Chris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wn prom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t cannot fa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nward then, ye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our happy th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nd with ou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voi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triumph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laud, and ho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Christ the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ntless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n and angel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ward, Christian Soldi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6002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Onward, Christian soldier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83808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Sabine Baring-Gould, 1864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royal Ma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s against the fo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ward into bat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his banners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049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t the sign of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tan’s host doth fl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n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o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royal Ma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s against the fo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ward into bat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his banners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l’s foundations qu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shout of pra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s, lift your voic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ud your anthems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049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ike a mighty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s the church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s, we are trea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 saints have tr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not divi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ne body w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in hope and doctr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in cha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38088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Crowns and thr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per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doms rise and wa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church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tant will rem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es of hell can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inst that church prevai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ave Chris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wn prom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t cannot fa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38088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nward then, ye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our happy th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nd with ou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voi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triumph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laud, and ho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Christ the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ntless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n and angel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3049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t the sign of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tan’s host doth fl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n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o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l’s foundations qu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shout of pra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s, lift your voic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ud your anthems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ike a mighty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s the church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s, we are trea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 saints have tr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not divi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ne body w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in hope and doctr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in cha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5-23T14:15:25Z</dcterms:modified>
  <cp:revision>81</cp:revision>
  <dc:subject/>
  <dc:title>PowerPoint Presentation</dc:title>
</cp:coreProperties>
</file>