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4B5-F2B2-4D15-9362-EB752A21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00D-CE9A-4BE9-94F7-96BE7294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1FF-A9E3-484B-B729-9CB4ADF1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784-BAFA-47D7-8DED-D502ADBB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EA6-0F2F-4569-B704-EBA04BCB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0EE-2DC6-4D02-969C-5691B282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78A-0C58-4D9C-9413-761EDC82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72D-81DD-48BC-B23E-11E3EB45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7E9-744C-4BEF-89B9-1C8E9FED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9DB-5148-4631-928F-2C796139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DFA-2803-4FD4-89E6-5E20098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BFA-E999-4A07-B0A5-1D29298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9A64-1806-441E-9356-34193F879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We Want to 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1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we want to mee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and versification 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. T. Olajida Olude, 1949; trans. by Biodun Adebesin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versed by Austin C. Lovelace, 19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43000"/>
            <a:ext cx="9144000" cy="43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jo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victo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7160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grace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e sav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fl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mind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in 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418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ur m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edic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19320"/>
            <a:ext cx="9144000" cy="418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and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ecr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2388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who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serm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0020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s w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be thin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9144000" cy="39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y asc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in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and minds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1932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knee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e and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Go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39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nse 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and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acts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9144000" cy="357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faith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d to flower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95280"/>
            <a:ext cx="9144000" cy="441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y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s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4:39Z</dcterms:modified>
  <cp:revision>128</cp:revision>
  <dc:subject/>
  <dc:title>PowerPoint Presentation</dc:title>
</cp:coreProperties>
</file>