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D29-6A86-458A-8D2B-439869AC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5B9-F023-4AAE-8F6D-874A001E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04A-0AF6-482F-80BD-2BF90BB1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F64-069A-47EC-A6D3-916B4B49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0542-DE0D-4C4F-8DBD-A965FC41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7212-A850-48D3-97E5-4A96E2D2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E016-E23C-46EA-9402-8C797ED5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115E-B563-424D-A4A7-4F0B0E67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996A-B00E-415D-8F19-E185B999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FCE4-D616-462C-B7E9-ABCE992F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5C2E-3177-47D0-ACB9-094954A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8A0-6722-46D9-9970-719628C1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BA41-289E-4E9C-A621-EBF3DCA7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8BD6-4E27-4E98-A41D-A2148024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0B55-5E97-49E9-9716-33D5639E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DAF5-926F-49C5-B34F-B6F99C4B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FA80-83C8-4F54-86C4-E79114AF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522-68DE-4847-BC10-F5075A4D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C43-7C17-4532-A02B-4A63F030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A11-1016-469C-9F15-98CE02DA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C8A-75B0-4A9B-A5AD-1197AE55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2B0-6074-4FCD-BA12-83FE2A6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4F5-B08F-4177-B486-7D68310B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010-C869-45F7-8F2D-E10852B9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0777-EF25-46A7-8243-8509A64E7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5CCD-BD4C-48D1-8BFE-A3597A3C0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lp Us Accep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elp us accept each oth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Christ accepted 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each us as sister, broth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erson to embrac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Kaan, 1974 (Jn. 15: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esen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us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urselves accep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nt to love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413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ach u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ess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our dail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uggle to be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rch for hop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to care for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, not just for s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 them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ind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as they may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your accep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at we may be m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ving situ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o the truth in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c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we know b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ble of forgiv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ughter’s healing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’s encoun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who are in n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unger fo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righteousness and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ed 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for see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hands for holding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 us with your Spi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free us, make us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esen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us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urselves accep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nt to love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ach u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ess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our dail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uggle to be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rch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, not just for s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 them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ind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as they may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your accep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at we may be m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ving situ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o the truth in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c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we know b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ble of forgiv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ughter’s healing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160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’s encoun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who are in n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u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righteousness and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ed 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for see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hands for holding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 us with your Spi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fre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364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lp Us Accept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28600"/>
            <a:ext cx="9144000" cy="34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elp us accept each oth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Christ accepted 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each us as sister, broth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erson to embrac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Kaan, 1974 (Jn. 15: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6-21T23:31:32Z</dcterms:modified>
  <cp:revision>66</cp:revision>
  <dc:subject/>
  <dc:title>PowerPoint Presentation</dc:title>
</cp:coreProperties>
</file>