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B8F-7AC8-418F-A491-F98D7A5B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1DC-50BC-45E4-8F9B-C7B32A3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D6B-FB30-408A-AAC2-1E7FCA62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562-9842-4F9A-BD54-836F1F14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113B-4128-401F-8AB6-98987F67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4B8E-4517-48D6-955B-6637B0AD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0D53-154D-4978-A55E-5F5AEF11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8D44-9B01-4790-9831-10C22F4D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71F5-455E-4DFA-B558-A76C12B7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105A-EEC1-4955-A328-EBFDE53A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9454-FDA6-49DD-AE98-28A60EA3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1B0-8A7B-405D-AE2D-8311907F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C466-6F43-4772-933E-0B4296C0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2E6C-91BE-43E9-81FF-F3A42E6C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D40F-3F58-47F3-80CE-DE1A79EF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443B-4212-4280-A066-DB9D49A2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5C6A-50F9-46D1-91F8-37BD1749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A2C-0A97-4367-8263-DBF73088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3C0-4DE7-4DDB-8AE0-15CEC7B0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F99-91AD-4CF2-B74C-3A22014F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3D3-7A6D-438F-8C6B-43276905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3AB-D718-4E93-9E04-F5BCCDE8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4BE-72BC-4262-A0DE-72D9A9EF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0CA-47DB-48CE-AD48-96CADC7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7FF-388C-465D-BE89-6944B3470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B88F-AAB8-429D-B52D-2FA3240E6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Blessing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91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ild of bless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ild of prom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aptized wi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pirit’s sig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1 Ronald S. Cole-Tu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nald S. Cole-Turner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i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seale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413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Child of l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love’s express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ve’s creation, loved indeed!                               Fresh from God, refresh our spiri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to joy and laughter lea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96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Child of jo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dearest treasu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’s you are, from God you came. Back to God we humbly give you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e as one who bears Christ’s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446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Child of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loving Paren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rn to know whose child you are. Grow to laugh and sing and worship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ust and love God more than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i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seale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il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ve’s exp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d inde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from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our spiri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joy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ghter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ild of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arest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you 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God you c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giv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 as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s Christ’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il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ing Pa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child you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 to la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and lov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Blessing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096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hild of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ild of prom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aptized with the Spirit’s sign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4792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nald S. Cole-Turner, 1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1 Ronald S. Cole-Tu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2-17T00:46:25Z</dcterms:modified>
  <cp:revision>112</cp:revision>
  <dc:subject/>
  <dc:title>PowerPoint Presentation</dc:title>
</cp:coreProperties>
</file>