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5D9-E3D2-4E7C-975D-41226483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89E-5E4B-4711-B88B-75173C60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0FB-8ABE-4297-A8AC-D68D8CEB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725-1361-40BD-A8F6-88A05C40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2B9-91C9-4E0C-9AEC-AD606B22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5DB-C2E9-4783-BF86-7D8FF1E5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C92-6E80-47C3-8692-DDE5EDB0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916-1789-424A-8DF9-0F817AD4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39F-9E80-45CE-9418-E78012D4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C08-B7B8-4B47-8295-CD9220B2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E6A-F44E-4D40-8F54-AABF9A1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6E8-99B5-40C1-9D69-A19BAC0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0671-4419-4313-B5C9-0AB74741C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 Us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11440"/>
            <a:ext cx="9144000" cy="470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us, 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ear our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 Us, O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1:09Z</dcterms:modified>
  <cp:revision>34</cp:revision>
  <dc:subject/>
  <dc:title>PowerPoint Presentation</dc:title>
</cp:coreProperties>
</file>