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650-10B2-45CE-B080-30E48E89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9C7-C397-4769-92DC-1326F5A1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C89-B07B-46CB-B122-8D6FB46E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A1B-1203-4CB1-8116-B739E4FC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230-DB05-41F4-8E35-988DD633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ED8-9BC3-4D63-B4BD-CA19845E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225-E61E-45FC-A568-F3D95CC3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644-12AC-43B8-8171-336D661D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BA2-DAA5-4AA3-9348-C871B654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904-ED60-4D83-9588-18DCCF00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82F-C800-4355-865D-A4A0C3B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96E-B683-4AA2-B12A-6E8CA035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44FA-DBCF-4A9F-958C-A26F22E8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ll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aotian hymn; trans. by Cher Lue Vang, 19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Rev. 22:17; Mt. 11:28; Jn. 14:27; Is. 55:1-2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all of you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n and wo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ink of the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for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thir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 to dr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bearers of bu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you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’t wait for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the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the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,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trouble-mi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you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eaceful m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f you who are hung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rece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, all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hungry and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y your mil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e without mone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f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no penn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, recei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58Z</dcterms:modified>
  <cp:revision>109</cp:revision>
  <dc:subject/>
  <dc:title>PowerPoint Presentation</dc:title>
</cp:coreProperties>
</file>