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1FA-0119-488F-A738-6AE8465D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E73-3545-4019-AA22-0F22F4ED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B33-61C2-468C-8290-E3D7EF0B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2C9-EF8F-4ABE-9B48-83F678CA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727-14F2-4843-8249-28A0A480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1BD-AAA5-4339-977B-97194E15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F83-41E3-486F-9D59-375FD99E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260-9446-44C5-9C01-02EA42FF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18D-1EA4-4858-B0C6-3E532203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739-8B16-4165-9071-8FBC8EB9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56A-09AA-4617-9598-AE5B882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C0C-8457-4CBA-9061-9A57243B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9ED1-0E23-4638-9F20-DEC65490A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7920" y="170028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eremiah E. Rankin, 188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5:05Z</dcterms:modified>
  <cp:revision>13</cp:revision>
  <dc:subject/>
  <dc:title>PowerPoint Presentation</dc:title>
</cp:coreProperties>
</file>