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F5D-4504-452A-B7D2-00D65EE6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929-B5CA-4179-BFEA-B37C831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688-7C09-4C8D-B733-D899FBE7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ECB-C19E-4199-A3AA-2071F885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771-6289-48CE-A660-9C508D0A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7A6-DFCC-4ACF-BE43-886402EE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920-7AD9-4A34-842E-1C6C0C64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216-6CD8-4371-9C17-14560A6A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BE4-0A4C-410A-857F-D88F480A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3E9-8D61-4656-B936-DEEE3341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152-1CC1-4BC1-A918-C3DBB28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E39-668A-4954-9A18-1044FCB0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37A3-0D9F-45BF-AEA3-F668CC82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ile Shepherds Watch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ir F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ile shepherds wat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locks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eated on the 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3240" y="154944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Nahum Tate, 1700 (Lk. 2:8-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p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“All 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be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ll hence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to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and never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and never cea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ca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shown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shown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!” said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ighty d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seized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d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tid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joy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of hu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To you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town,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r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, who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 s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s shall b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The heavenly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here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ew displ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nly wra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wathing b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a manger l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in a manger lai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us spake the sera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th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ear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thro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4:43Z</dcterms:modified>
  <cp:revision>9</cp:revision>
  <dc:subject/>
  <dc:title>PowerPoint Presentation</dc:title>
</cp:coreProperties>
</file>