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E00-1473-42F9-9CBC-C3B2CE89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E7B-E331-4959-8A98-EF4874DD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F19-01E2-4285-9466-6702FCCB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597-CB53-4D34-93D6-256DE2EF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B67E-2218-439C-BDC7-F171BA6E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A25A-17B7-4627-9EF8-B2E0963C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5E91-A6A0-4103-9C7A-76168D34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44BC-0011-4B58-A181-48F18C23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C694-DB44-41D5-94A5-72BD4A3F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EFCA-C0E8-4274-9030-51FC7D4C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E614-007A-41C6-BEAD-4042A99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200-1836-4B44-8C24-A2FDBEB2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1907-7F3A-4198-AFAC-E9C60EF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C1D4-6252-4645-B110-E099A77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9576-E21D-40BB-B999-32DDBB8F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CE0A-E895-41F5-8DD0-83052C87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D1DF-6DE6-484F-897B-0C6973E7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C5B-5DC7-4365-9A33-D18C170C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087-C18A-4886-979C-2931275E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364-C547-4E11-B09E-22A7F1E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B49-4C59-4B63-B70A-0841930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F47-40D8-40CD-87BB-9DF25F43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90F-4D6F-4F72-ADCB-B6DA90F0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F4E-61E6-4E14-9771-A02CAB23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E3EC-86DA-4CA3-9A40-FE65117B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688E-8A1D-4E24-8263-8B882DD1E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Light and Dark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62320"/>
            <a:ext cx="9144000" cy="412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Adv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 who wal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seen a grea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,  Responses 1 and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3080" y="1090440"/>
            <a:ext cx="722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iah 9:2; 59:9-10; Psalm 139:11-12; Daniel 2:20, 22; 1 John 1:5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dapt. by Alan Luff;  Response 1, Isaiah 9:2, adapt.;  Response 2, Alan Luff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 3, trans. by Frederick Oakley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5480" y="685800"/>
            <a:ext cx="609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ook for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but find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for brigh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but walk in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24080" y="762120"/>
            <a:ext cx="5943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rope like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who have no ey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we stumble at n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s in the twilight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95480" y="762120"/>
            <a:ext cx="609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say, “Let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darkness cov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nd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bout me be night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8120" y="152280"/>
            <a:ext cx="60958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is not dark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the night i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s the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for darknes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s light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52680" y="152280"/>
            <a:ext cx="5715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be your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O God, for ev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You reveal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nd mysterious thing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925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0" y="5029200"/>
              <a:ext cx="9144000" cy="1828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438280" y="228600"/>
            <a:ext cx="6705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ligh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in you is no darknes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Our darknes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passing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and alread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true light is sh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46240" cy="49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80880"/>
            <a:ext cx="632484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ng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38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Advent, Christmas &amp;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or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light in our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hrist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146196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look for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find dark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brightnes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walk in gl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grope like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have no eye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e stumble at no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in the twilight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f I say, “Let on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darkness cover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bout me be night,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0954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en the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not dark to yo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night is br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the d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darkness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light with you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lessed be your na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 God, for ever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 reveal dee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mysterious thing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0954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light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you is no darknes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ur darkness 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assing awa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already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rue light is shining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20T01:51:37Z</dcterms:modified>
  <cp:revision>32</cp:revision>
  <dc:subject/>
  <dc:title>PowerPoint Presentation</dc:title>
</cp:coreProperties>
</file>