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B58-750B-4E34-A607-DF961873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E16-05E3-448A-9BEE-6931561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A4E-0196-4718-AE12-13118744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888-DE4B-4EED-BE95-A33C281B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A64-8D30-4D88-A0D0-98B1FD96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35F-9F34-45ED-B10B-258329EA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3E2-F391-4D53-97CE-2014E94F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EEF-49B4-4C4B-BE6A-692D318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5B9-CB4D-42AE-860B-A67C2F1D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9B9-0BE8-4E74-9DDD-4A7AE26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E91-1FEC-48D8-88B6-FBCC410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DFB-345A-4B01-AD38-CE3BFF0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FEA-EA00-48E8-A959-A3EF3FDB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 the Day Th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s Him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lsey, 1739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il the d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s him ris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whil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 give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scend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ve hea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 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wait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your hea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gat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th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in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the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i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e! the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ord receives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he lov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e leav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thron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his ow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ee! he lifts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above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! he show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ts of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9040" y="1859040"/>
            <a:ext cx="8305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his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ps bestow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s o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below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8:06Z</dcterms:modified>
  <cp:revision>67</cp:revision>
  <dc:subject/>
  <dc:title>PowerPoint Presentation</dc:title>
</cp:coreProperties>
</file>