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745C-51D0-4D89-A9AE-F9C960530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2482-892D-4472-BD5B-E1B3FA66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8E81-D914-4CE9-B153-C01A438F6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DDBC-7DF8-4A35-8CE4-9F5EAD6F2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51BD-5143-4A56-9A43-146093C7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5D53-3819-40F4-AE49-F89AFB13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1400-03C1-4C85-8950-10839A75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886C-5C46-4F9D-95DD-BC15DFC7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EC78-B962-425C-BD50-52FB321C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32B0-121F-4EEF-AFC8-0F5F5390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AF87-8101-4583-B7FB-3BC38C83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B0FE-295B-40F9-9479-4C5975C1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EF5B-ADBA-4C88-8767-8A03DD0F8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Come, O Thou Traveler Unknow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924680" y="228600"/>
            <a:ext cx="121932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8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Charles Wesley, 1742 (Gen. 32:24-3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Come, O th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raveler unkn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m still I hold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cannot s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ak to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lessing spea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conquered b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instant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ak, or thou n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nce shalt m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ell me i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 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ak, or thou n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nce shalt m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ell me if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ame 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’Tis Love! ’tis Lov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diedst for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hear thy whisp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m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orning break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hadows fl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ure, Univers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thou 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e, to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mercies m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tur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 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e, to 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mercies m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ture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 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compan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is g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am lef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one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e all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mean to st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restle t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reak of d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e all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mean to st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restle t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reak of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I need not te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e who I 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y mis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 decl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self hast cal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e by my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ok on thy ha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ead it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who, I ask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art thou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me thy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ell me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who, I ask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art thou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ell me thy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ell me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Yield to me n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I am wea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confiden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self-despai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49:37Z</dcterms:modified>
  <cp:revision>136</cp:revision>
  <dc:subject/>
  <dc:title>PowerPoint Presentation</dc:title>
</cp:coreProperties>
</file>