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B3C-2EF3-414D-A701-C9C815BB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1973-E86D-46A6-B635-764F6EAF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DE2D-7969-4DFD-9717-C8DE1572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431-0FB0-44AE-806C-629812D6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6F3-F9AC-4BDE-9F42-3BB1FDB3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2E41-A5B8-41B5-9FE8-39632B49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576-B9CE-49C4-833B-C47F66E6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822-954A-4DF5-8122-90174B68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290-59AB-44EF-A81D-78DD1D60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FB9A-3F45-412D-A40D-EDA35FA7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D6DA-859C-4667-81A5-1EC450B5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4866-9F4F-4006-B5B7-B4D61683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442F-B0BB-4B82-9E57-168A7A24E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ise Up, O Men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Rise up, O men of God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done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sser thing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heart and mi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oul and streng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serve the King of king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Up, O Men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 William P. Merrill, 1911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Rise up, O men of G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tarries lo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in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rotherh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nd the night of w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Up, O Men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ise up, O men of G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urch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doth wa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strength unequ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r task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 up, and make her grea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Up, O Men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ift hig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of Chris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ad where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 have tr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brother of the Son of 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 up, O men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Up, O Men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39:59Z</dcterms:modified>
  <cp:revision>81</cp:revision>
  <dc:subject/>
  <dc:title>PowerPoint Presentation</dc:title>
</cp:coreProperties>
</file>