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595-A328-4C9B-9070-0F5B3710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454-C6B7-4E98-88E5-7A9C4A8F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F69-F5CF-4768-B6C8-59866435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15A-BF5B-4310-BB6F-CCAA70C5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B94-1921-4DCE-8232-B90E2F2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143-F133-4318-970F-96D4F601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2AD-0547-4792-8967-ACD07520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9C2-2C1D-4FD7-9C14-0F83DE7E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C46-4B89-4FCB-962E-D3D667D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BAC-8B15-4D58-96E5-4AFA9AF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C4F-3551-4844-B285-E9360C5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2F6-D246-473A-B473-222B49B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E7D-E3D8-42AA-9FDD-CA6819CB2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lent Night, Holy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c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br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2520" y="1116000"/>
            <a:ext cx="66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seph Mohr, 1818, alt.; sts. 1, 2, 3 trans. by John F. Young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t. 4  trans, anon.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ur das traut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chheilige Pa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er Knabe m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ckigem Haar,</a:t>
            </a:r>
            <a:br>
              <a:rPr sz="50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chlaf im himmlischer Ruh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schlaf im himmlischer Ru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yon virg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ther and chi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inf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ender and mi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 in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epherds 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es st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heaven af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ly hosts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pur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beam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deeming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Lord, at th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ilent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ndrous st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nd thy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ange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ia to our Ki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till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ilige Nac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s schl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äf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insam wac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e Nacht, Heilege N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56:40Z</dcterms:modified>
  <cp:revision>13</cp:revision>
  <dc:subject/>
  <dc:title>PowerPoint Presentation</dc:title>
</cp:coreProperties>
</file>