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CB0E-5E3D-4AEB-964D-420F9A32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AC5A-95CB-46E2-9BD7-24819970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1475-F886-44FD-83C7-BD4242C8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2157-A7ED-489D-B2B7-DA95C6A5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0834-1D2B-4FF7-A008-85369DFE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EDA8-843F-4229-8B13-219C1CDF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2F11-5576-4429-A181-F78CDBC8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6C08-506B-4D24-9EFA-877A0025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7C8F-B148-4B37-B272-4C93A356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4ED6-6722-4BEF-BA4A-2711A229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1370-E92F-49D9-B51C-064016D4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65A8-C67C-40AA-8A5C-551AD6DD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4C54-0710-45DC-A87B-7A9C54DB6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ve Thine Ow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ay, Lor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e Thine Own Way,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14479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delaide A. Pollard, 1902 (Jer. 18:6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Have thine own way,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thine own wa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the pott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m the cla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026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ld me and mak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fter thy w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I am wai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ielded and sti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e Thine Own Way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Have thine own way,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thine own wa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rch me and try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 today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 me just now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h me just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n thy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mbly I bow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e Thine Own Way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Have thine own way,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thine own wa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unded and we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lp me I pray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wer, all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rely is thin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uch me and heal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 divine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e Thine Own Way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Have thine own way, L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thine own wa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ld o’er my be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bsolute sway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with thy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all shall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only, al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ing in me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3-02T21:03:39Z</dcterms:modified>
  <cp:revision>130</cp:revision>
  <dc:subject/>
  <dc:title>PowerPoint Presentation</dc:title>
</cp:coreProperties>
</file>