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959-0081-4BB8-A23F-A56E99C3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03B-CC63-4E20-8973-10F39088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42F-F8B1-4127-8969-95E7E228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034-F28D-4A17-996A-57B40952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B726-BBAD-49CA-A779-5658D676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028B-6DFD-44E3-BDC6-DDEA2AEA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77D2-8663-4EBF-A389-2E6DEB00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F9B0-1A2A-4C16-BC56-6CBBB693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CBB7-344C-442A-A15C-FDC7E260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2D10-B8D1-4A3B-8E64-7DC0C9FF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047D-19B9-4A64-9A55-4B62E66A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CB6-4E97-4FC7-9E2B-374DD4B8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B75A-CBAA-43B5-924E-99A86586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A1A0-282D-445E-AE7D-FA7C7478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4DA8-B519-4895-8132-8A8B4222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8275-3B97-4582-8106-06E9C13E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F363-83C0-4E6A-AA05-FE2CD4D7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B35-5710-4305-8F63-1D1CFDCA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347-A729-482C-9B96-56C8AAFC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E0D-82B3-413C-A576-CED651FF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284-A997-4502-AB2A-CF935DF2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20D-1C41-4DF9-BA8E-A83C4AE2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AE2-0A00-47D3-A12F-418F9B7D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AD6-B438-40E5-9012-F1379895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D39A-F827-4696-834B-E68E87B0A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C80D-6B8E-4879-88E5-5AB3C96FF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781680" y="0"/>
            <a:ext cx="2362320" cy="5181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76320"/>
            <a:ext cx="7315200" cy="60688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1. We three kings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of Orient are;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bearing gifts we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traverse afar, field and fountain,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moor and mountain,</a:t>
            </a:r>
            <a:br>
              <a:rPr sz="5600"/>
            </a:b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following yonder star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Three K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three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rient a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ing gifts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verse af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66320" y="1092240"/>
            <a:ext cx="52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H. Hopkins, Jr. 1857 (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05520" y="2239920"/>
            <a:ext cx="6133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eld and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or and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ing yonder s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orn a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Bethlehem’s p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ld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rown him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77040" y="2239920"/>
            <a:ext cx="5389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ing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us all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ankincen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ffer have I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ense ow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Deity n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26080" y="2239920"/>
            <a:ext cx="689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and pra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s rai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ing God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yrrh is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bitter perfu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s a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athering gl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82760" y="2239920"/>
            <a:ext cx="81788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ing, sig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,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led in the stone-cold t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loriou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him ar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an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crifi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50760" y="2239920"/>
            <a:ext cx="54414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arth and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 with royal beauty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47712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 We three king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f Orient are;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aring gifts w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verse afar, field and fountain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or and mountain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llowing yonder st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52280"/>
            <a:ext cx="6782040" cy="43603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228600"/>
            <a:ext cx="594360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. Glorious now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hold him arise;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ing and Go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d sacrifice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unds through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earth and sk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52280"/>
            <a:ext cx="6553080" cy="506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781680" y="0"/>
            <a:ext cx="2362320" cy="5181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320" y="76320"/>
            <a:ext cx="739116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2. Born a K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n Bethlehem’s plain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old I bring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o crown him again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ing forev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easing nev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ver us all to reig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781680" y="0"/>
            <a:ext cx="236232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320" y="76320"/>
            <a:ext cx="8076960" cy="503172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3. Frankincens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o offer have I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ncense owns a Deity nigh; prayer and prais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voices rais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orshiping God on hi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781680" y="0"/>
            <a:ext cx="2362320" cy="5181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32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4. Myrrh is min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ts bitter perfum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reathes a life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f gathering gloom; sorrowing, sigh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leeding, dy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ealed in the stone-cold tomb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320"/>
            <a:ext cx="891540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ar with royal beauty bright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uide us to thy perfect l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6207"/>
          <a:stretch/>
        </p:blipFill>
        <p:spPr>
          <a:xfrm>
            <a:off x="6459480" y="0"/>
            <a:ext cx="266220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76320"/>
            <a:ext cx="6477120" cy="5854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5. Glorious now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behold him arise;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ing and Go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nd sacrifice: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ounds through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earth and ski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31T04:11:24Z</dcterms:modified>
  <cp:revision>13</cp:revision>
  <dc:subject/>
  <dc:title>PowerPoint Presentation</dc:title>
</cp:coreProperties>
</file>