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23D-9C74-46C4-ABEC-0BD4A83F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50C-11FB-412C-9F03-0A17F6C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F6C-5E0C-4FB9-BD83-9843F7C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167-A35D-4165-996D-6A358D61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CFA3-084C-4D53-8ECD-5B747BA8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C1CB-9518-48FC-B8B5-EC09B106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E8E2-663A-4518-B6CB-8B9123C3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97D4-AB63-49C4-940F-A013EC49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D9F-FADF-4938-ABA0-270009C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49F4-14E8-49F6-96D8-9AFCDA1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AF61-580A-4D71-8A66-0AC30FC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A9A-850A-4045-B80B-1F450D7A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8CF6-FAC7-495E-B9E2-A8E211B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D224-B390-42D7-8B63-504C463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0722-01B6-4D93-84FE-92B9972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D504-3966-43C3-89E1-F6F7BD7C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6B87-6F71-41EB-A212-116281BE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014-15D4-4229-A81E-15D400AA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630-F77E-4DA1-A971-8166EDC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D77-A350-45A8-9F69-39DBA95B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540-ADCC-4045-ABBB-89B7066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397-C215-421C-B622-3DBEAB32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296-0EDF-4131-939D-7F24272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C9B-497A-448D-B71C-F5C79479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8053-ECB9-4F58-8424-DCA79F541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0ECD-3F44-4379-9358-AF83635C0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Ex. 3:7-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Israel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Egypt’s l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ed so ha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uld not st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s Israel st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water’s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did di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When they had rea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ther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a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iumph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O Moses,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eave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et my people g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ire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ade b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. Your foes 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you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’ll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Canaan’s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0. This world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erness of wo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naan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1. O 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bondage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39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Ex. 3:7-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144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Israel was in Egypt’s l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ed so h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uld not st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Thus saith the Lord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old Moses sai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not I’ll smit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irstborn dead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No more shall th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bondage to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m come 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Egypt’s spo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 need not alw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ep and mo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ear those slave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ains forl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Thus saith the Lor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ld Moses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not I’ll sm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irstborn dea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Come, Moses,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not get l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etch out your r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ome acr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6. As Israel st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e water’s s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God’s command it did div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7. When they had reach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other sho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y sang a song of triumph o’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8. O Moses, the clou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leave the 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let my people go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fire by night, a shade b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9. Your foes shall no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fore you st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you’ll poss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ir Canaan’s l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0. This world’s a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derness of wo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let us on to Canaan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1. O let us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bondage fl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et us all in Christ be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shall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ondage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come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gypt’s sp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need not al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and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ar those sla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ins forl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1932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Come, Moses,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not get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tch out your r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e a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24T00:36:21Z</dcterms:modified>
  <cp:revision>149</cp:revision>
  <dc:subject/>
  <dc:title>PowerPoint Presentation</dc:title>
</cp:coreProperties>
</file>