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4BB-9DB2-4D02-A016-C4B3BCF8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574-C74E-4D90-A629-D4CFF177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0F7-1918-45F3-8E5F-B0178877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D8A-4499-4DFF-A165-3CB77D7D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63E-5C8C-4343-B7F7-246E1A80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828-1B68-41B9-A0B5-C027885B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6B2-C0E3-46B8-854F-06D5FCBD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10A-D0A6-4499-ACAF-09999104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753-B79E-485F-86A5-2093B6B9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F18-608C-4501-8608-0A896918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81B-C6AF-44F0-854B-4EB82964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448F-0F57-4E9E-9AA7-E6CB3898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C618-7A77-4842-850D-AD68D9D57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ve, How De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love, how d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broad, how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fills the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cstas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08160" y="1168560"/>
            <a:ext cx="67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15th cent. Latin; trans. by Benjamin Webb, 1854; al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e s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pirit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uide, to streng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che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All 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rd an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love so d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high, so broa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in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we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, the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, should 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ortal fo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ortal’s sak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us baptiz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e b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oly f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ungered so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tempt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p he kne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the temp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thr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 us he pray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e tau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is da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s he wrou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ords and sig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ctions th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seeking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self, but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or us to 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betr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ourged, mock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urple robe array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bore the shame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and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gave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dying br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For us he r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death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e w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igh to reig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3:03Z</dcterms:modified>
  <cp:revision>23</cp:revision>
  <dc:subject/>
  <dc:title>PowerPoint Presentation</dc:title>
</cp:coreProperties>
</file>