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EF7-1421-4463-86B1-D1CC99B3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3E4-280B-4EA6-92F1-491AF04A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698-E16C-46F6-92BA-97960314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AF6-0821-4E4D-A3BE-FCD5D3C5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AE4-9651-4D77-87A2-3687A1CB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876-7753-4AA0-861D-FF3B38DC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371-3439-4E0A-9C7B-30DDCF8A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716-8C4A-4F0D-9306-2116EF33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CCF-AE3C-45F6-9F5E-52B3AC7B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24D-52AF-4C5E-8B21-86484D74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C8E-860D-450A-A9D5-F8BC853C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5A3-8FFC-4402-9C7F-2F6B16F9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C875-3184-4559-9F06-80AFEE956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hee, Festival Day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Pentecos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Venantius Honorius Fortunatus; trans. from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English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06, a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od the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uler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heave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uard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m with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nse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il withi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7652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Jesus, the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 our mi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Redeem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ther supre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begot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4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Spirit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f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flow i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our be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lightens us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tha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y ab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33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Prais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r of go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ve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 of con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ur out your b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der our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pe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33020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Bright an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ness of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ose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wait your appear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wh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had foret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dden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wiftly descende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652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th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ther you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evenf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stical offer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uring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human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finite ri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52480"/>
            <a:ext cx="9144000" cy="302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8:09:06Z</dcterms:modified>
  <cp:revision>83</cp:revision>
  <dc:subject/>
  <dc:title>PowerPoint Presentation</dc:title>
</cp:coreProperties>
</file>