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BD2-9FEE-4AA8-9175-71CCA109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E92-F196-4BFD-9AF5-15830F54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742-1C5D-42C7-B789-E04889BB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F1C-5C0C-475C-B9BC-7739C9C7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BA8-BDE8-4563-9D10-5F9C7102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E23-F2F4-4DE5-AEA2-B14B5498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C70-060A-45CA-B54A-3F97E0C0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162-0274-4695-BFC0-E34BA89C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729-1A80-4BD5-BAFF-22C49B69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040-DDAD-4599-AB98-63E1B26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7E5-A237-474A-B049-8889658C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5BD-6392-4358-9ECC-4AAE8F0D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FA35-1454-4E62-BA52-0A72486CC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’s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illed with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irit’s pow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infant chur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onfessed its risen L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600200"/>
            <a:ext cx="440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R. Peacey, 1969 (Acts 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hurch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ess you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ellowship disp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with the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us on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un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our great des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joy and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faith to hear your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ad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ch to work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iden ou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Spiri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mbr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strong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ose of every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ind and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ife among us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are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Christ’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ians pr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4:18Z</dcterms:modified>
  <cp:revision>10</cp:revision>
  <dc:subject/>
  <dc:title>PowerPoint Presentation</dc:title>
</cp:coreProperties>
</file>