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97F-41DA-4729-8297-CD88164E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496-DF45-4E8F-8DE5-53222B5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3E9-0A92-442D-A5CD-D6666445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08C-5E45-4017-B9EB-E3B7EBB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DBC1-768F-4DEA-9ED9-EA3E8B6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E46-A960-4300-BE9E-3966E132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2302-7494-43AC-BDED-48D7BDA7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AFB0-BFCC-4C3B-84CA-81A89B4B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92E8-5930-4240-AB67-1CE1FF5A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CF52-12EF-42B5-8479-4434673C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4E7C-FFDE-466E-BE83-C5E1F4B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88D-1896-4FEA-86DC-30778EF7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5B31-C9F9-4ECE-A2EA-702952F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B088-815A-459A-8D50-2115BF01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B98-E244-4EA3-9854-D6253524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B0D-9227-4095-B7ED-01433B88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6922-D737-4A41-BEEE-1CAC1498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CB1-1F3E-4BB9-8ED6-B7C7D958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F4D-310F-4B03-BD0B-B774000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E58-4328-4897-86AB-B452D0BB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B50-055A-45CF-92E1-6536311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C11-8FD0-407B-A8E0-A19EE10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3B3-6DE9-4A21-964D-98C7FDD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A59-E130-4F77-B34B-708E6F9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F19A-693C-4D14-A2DB-B02B8F13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8F20-BB60-4CE4-BD7F-5E2899CC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6400" y="16765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752480"/>
            <a:ext cx="9144000" cy="21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y his counsels guide, uphold you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6400" y="14479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4136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3352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04T03:23:38Z</dcterms:modified>
  <cp:revision>12</cp:revision>
  <dc:subject/>
  <dc:title>PowerPoint Presentation</dc:title>
</cp:coreProperties>
</file>