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025-F0BD-455E-B080-18BC228F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109-9738-4E06-9D48-28B6178C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FFB-5F75-4F36-BC2D-1290F4ED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58F-9600-4EC6-9742-2D00068E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133-53D1-45FB-8678-14AF362C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810-A870-49FE-86C4-E7419A4D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DE5-ACC3-43B4-8878-A33C3CB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1ED-677D-4AE6-806F-EE88EF02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82F-7BC6-4815-9AF3-C0BBE5A2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7B0-5135-452D-93D8-7CC0B14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61A-CC93-4D3D-BC7F-9A65BE3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464-FD0C-41CC-843A-6ECA90D7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392F-A61D-40E7-A237-7D8787708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Shall Re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esus shall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es its success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urneys r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3240" y="1092240"/>
            <a:ext cx="39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Isaac Watts, 1719 (Ps. 7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gels desc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ongs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arth rep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ud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kingdom spr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shore to sh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moons shall wax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n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o Jesus end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er be m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endless pra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s h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like sw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ume shall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every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if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People and real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very tong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well on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sweetest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fant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early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Blessings ab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’er he reig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risoners lea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oose their chai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y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who su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nt ar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Let every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se and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nor peculi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our K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4:49Z</dcterms:modified>
  <cp:revision>17</cp:revision>
  <dc:subject/>
  <dc:title>PowerPoint Presentation</dc:title>
</cp:coreProperties>
</file>