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5B3B-579F-410E-ADE8-7226C9BB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4671-4513-4FCB-A4DD-09959143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8D64-72FD-4621-A577-5BA9D19B5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C997-4904-41DD-B686-00C7CEA3E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27CB-3217-4B64-B68A-6D8AF7B3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9F3F-9A2E-4FA0-B654-824F5584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6E98-761F-4219-A335-4E8F9C86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83DD-9747-470F-890D-A8A75ECD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8A7E-7213-4C9E-8FA5-7C4BBF20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AAAD-E640-4DF1-A7F6-2A21A939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9BD1-AE99-4116-A318-947948CB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286C-DD43-48AB-9EE2-4E35C8B8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C85C-C1A1-4E88-8DD3-9FEAD8B34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illed with Excite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Mantos y Pal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0958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2, 1979,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ed with Excit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7000" y="1521000"/>
            <a:ext cx="638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WORDS: Rub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én Ruiz Avila, 1972; trans. by Gertrude C. Suppe, 1979, 1987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Mt. 21:8-9; Mk. 11:8-10; Lk. 19:36-38; Jn. 12:12-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Filled with excitem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happy thr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ead cloaks and branch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city stree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á a lo lej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 empieza a mir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un pollino 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j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143000"/>
            <a:ext cx="9144000" cy="38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entras mil voc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uenan por doqui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sanna al que vie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el nombre de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tos y Palmas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90648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3240" y="914400"/>
            <a:ext cx="82152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 un aliento d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 exclama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rrumpen con voz triunfa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¡Hosann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Hosanna al Rey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¡Hosann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Hosanna al Rey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716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omo en la entrad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 Jerusal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dos canta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Jesús el Re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tos y Palma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Cristo viv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nos llama h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a seguirle c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or y 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295280"/>
            <a:ext cx="9144000" cy="38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entras mil voc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uenan por doqui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sanna al que vie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el nombre de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tos y Palmas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90648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3240" y="685800"/>
            <a:ext cx="82152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 un aliento d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 exclama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rrumpen con voz triunfa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¡Hosann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Hosanna al Rey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¡Hosann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Hosanna al Rey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440" y="1828800"/>
            <a:ext cx="6200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in the dist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begin to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ding on a donk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s the Son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ed with Excit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43000"/>
            <a:ext cx="9144000" cy="46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every cor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thousand voices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s to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comes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me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16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7040" y="1600200"/>
            <a:ext cx="81298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one great shout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clamation loud triumph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g breaks forth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Hosanna to the King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Hosanna to the King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ed with Exciteme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4479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s in that entr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Jerusal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ing hosann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Christ, our K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676520"/>
            <a:ext cx="8915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iving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still calls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king us to follow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love and fai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ed with Excit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990720"/>
            <a:ext cx="9144000" cy="46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every cor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thousand voices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s to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comes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me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716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0720" y="1447920"/>
            <a:ext cx="81298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one great shout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clamation loud triumph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g breaks forth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Hosanna to the King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Hosanna to the King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Mantos y palm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sparciendo, v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l pueblo aleg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 Jerusal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tos y Palma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43:05Z</dcterms:modified>
  <cp:revision>46</cp:revision>
  <dc:subject/>
  <dc:title>PowerPoint Presentation</dc:title>
</cp:coreProperties>
</file>