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B7C5-9043-49E4-B28D-0141296A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12D2-A2CA-4FE4-80B2-B7437658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BFF6-9ADD-48AC-B25B-E3EB8A94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5AE0-3AEF-4F4A-BAFC-86D23799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DE3C-F4C9-4207-8889-C1A04569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DD05-932C-4D55-BB1E-C40E0530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E5F4-AA59-4675-A3CE-F2BA6235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F643-1A26-4192-93C4-6C2C7AF0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42CC-65D0-43EA-8006-EC66CD23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10E0-0AD4-4B48-B52F-D57C3209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6EAC-CB6B-4C8F-9B66-A68E2CA0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3CE3-6AE4-4CBD-A330-1EE6C0C7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4D13-587D-45FA-9FB4-D7CFA40B0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Strife Is O’er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ttle D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ife Is O’er, the Battle Do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7652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non. Latin, trans. by Francis Pott, 1861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9092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 strife is o’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attle do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victory of life is w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ng of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begun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ife Is O’er, the Battle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powers of de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done their wor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Christ their leg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dispers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shouts of ho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 outburst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ife Is O’er, the Battle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 three sad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quickly sp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ises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dea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glory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risen Hea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ife Is O’er, the Battle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rd, by the strip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ounded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eath’s dread s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ervants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may l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g to the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ife Is O’er, the Battle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Antiph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ife Is O’er, the Battle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05:39Z</dcterms:modified>
  <cp:revision>62</cp:revision>
  <dc:subject/>
  <dc:title>PowerPoint Presentation</dc:title>
</cp:coreProperties>
</file>