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BCE-37FF-4BD4-9C6E-E93058CD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05A-70E9-447B-B7B8-F6F39BB6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AA8-1F48-4F20-8891-C0220F1E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CC9-AD94-4C78-B057-024CEACB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9E79-99F3-4ADE-BD3B-39A672DC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2AAF-2F3E-4AE4-A47D-56A8568B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D3E9-A6C1-421A-AD4B-F8DB81EC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7CBA-9B94-44C9-890F-BADEC850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CBDF-C58E-4E07-8146-245CAB0E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DDBD-551E-4337-BE0C-689BFAC4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1276-B2DD-42F9-837C-AA82FE83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8C7-A16C-4AFA-9A87-7D94BF68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9BC4-7425-4112-902A-38FA619C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8DF5-9951-4399-A01E-50734108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5F92-D471-45CA-91D0-6145A53B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3717-7FAB-4D82-8DA1-1084F8C4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4953-6403-4889-AB7D-3D6F8C48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078-9943-4948-8E63-2E7CD938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C21-2B5F-440B-93A6-66124AE3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B55-213C-4AB5-8A94-89BD8CED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8F9-9AB2-46E1-83CC-CFDAA9CD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A39-ADA6-45B3-9437-24DE571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653-1B06-4579-890E-EB6BD18D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539-A06E-4AD1-BBCF-E140ED6B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CDE8-9796-4370-88D4-593B18220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E361-D1C5-4431-8287-61E365D89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 This Day Earth Shall 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765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n this da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rth shall r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the so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ildren s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the Lord,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our King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39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Piae Cantiones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58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Jane M. Joseph (Lk. 2:6-14; 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n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ir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shall 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21932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 This Day Earth Shall 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73664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On this day earth shall 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the song children s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he Lor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rist our King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39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Piae Cantiones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58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Jane M. Joseph (Lk. 2:6-14; 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9044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1768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His the doom, ours the mirth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he came down to earth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thlehem saw his birth;                        ox and ass beside hi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om the cold would hide h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228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8580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God’s bright star, o’er his hea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se Men three to him led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neel they low by his bed,                      lay their gifts before him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 him and adore h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2860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335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On this day angels sing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their song earth shall ring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ing Christ, heaven’s King,          born on earth to save us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ace and love he gave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1932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is the do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 the mi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to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w his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x and 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hid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14300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’s bright s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his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e Men th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eel they 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 their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him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dor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6668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09T03:41:55Z</dcterms:modified>
  <cp:revision>13</cp:revision>
  <dc:subject/>
  <dc:title>PowerPoint Presentation</dc:title>
</cp:coreProperties>
</file>