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417-F201-4335-8C87-9D1A8D58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4E8-0755-40EE-80C3-A080EA0D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1489-5C2F-40DB-8CB9-16C46F9C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E50-36B3-4F34-BFB2-49CD07CA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A3C-B630-4451-A92B-3D7872FA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8AB-8586-46FC-A85B-368039DC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989-06C0-4912-A2CA-C02A9E5C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BC7-D4F9-4AD0-94C7-A715622E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68E-C0BA-4405-A5D5-0300FD64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634-9409-441E-8395-C97E74B5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CB4-6C92-4AE1-A8AD-F26BFE72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3DB-8DD3-4F93-A5E0-CADB2930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D6B0-041B-416E-B06E-F840F20E8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ay of Pente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828800"/>
            <a:ext cx="883908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of gr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ent the promised gif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pon the apostles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wom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of Pente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6680" y="1066680"/>
            <a:ext cx="579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Laurence Hull Stookey, USA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Mary the m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Jesus and up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is brother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ll your church with pow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kindle flaming hear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in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cause us to procla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mighty wor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every tongu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all may call on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e sav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5:28Z</dcterms:modified>
  <cp:revision>10</cp:revision>
  <dc:subject/>
  <dc:title>PowerPoint Presentation</dc:title>
</cp:coreProperties>
</file>