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6487-B017-47C0-861B-796E7FCA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67FC-C883-4CBC-83CA-FA3E5624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8297-25BF-4A61-B3DD-6B75DDBB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A07B-8836-45C2-8940-83D26A18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523D-692D-47C5-95D9-B6A63560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8187-D77D-4201-9B20-148384EB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B0A9-38BF-4C4C-9B1F-E9D13CD3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7D3E-7513-4F45-98D9-9FA52C1E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D137-3296-4458-86FD-8B87E357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E4E9-17A6-4764-9A13-950C8C3F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DEE9-A1D9-42A0-86CE-52C0613A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3FE0-0012-436A-8772-AC036226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24AC-36EE-4CDC-B127-BFBCC21F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6B8F-BA4C-49F9-82A3-E96B30E6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8E09-9EC4-4E49-AB3E-032FAC59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8986-AD67-4047-81E4-FE556BFC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5144-B8D3-4127-8191-99C9B7A8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06A9-2C24-44F2-AE3B-B1D1C89F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9B28-E0DA-4D0F-A540-A41AC194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C398-7F3C-4528-BB7B-9EBE4651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5D8B-D4F7-4C78-8DCA-7A461450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965-83B5-4C99-A80C-F1B1874F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DAEB-599C-4795-A163-5B2D6CDE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30B3-26D4-430F-90B7-4350F6FF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3A65-208E-4FD9-A74B-01B677798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4D75-F6E1-4CB7-90FD-3C79A66E9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My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762120"/>
            <a:ext cx="769608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ts. 1, 2, Lloyd Stone, st. 3, Georgia Harkness, ca. 19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ts. 1, 2 © 1962 Lorenz Publishing Co; st. 3 © 1964 Lorenz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7652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is is my so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God of all the nation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 song of pea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for lands afar and mi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My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ts. 1, 2, Lloyd Stone, st. 3, Georgia Harkness, ca. 19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133720"/>
            <a:ext cx="9144000" cy="432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is is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God of all the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song of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lands afar and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ts. 1, 2 © 1962 Lorenz Publishing Co; st. 3 © 1964 Lorenz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untry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are my hop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dreams, my holy shr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others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ther lands are bea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opes and drea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rue and high as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My country’s sk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luer than the oce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unlight bea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cloverleaf and p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other l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sunlight to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o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kies are every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blue as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ar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God of all the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ong of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ir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r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is is my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 of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’s kingdom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kingdom c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earth thy will be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Christ be lif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 till all shall serv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rts uni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rn to live as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ar my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Go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natio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 I give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y will be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522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My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62120"/>
            <a:ext cx="769608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ts. 1, 2, Lloyd Stone, st. 3, Georgia Harkness, ca. 19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ts. 1, 2 © 1962 Lorenz Publishing Co; st. 3 © 1964 Lorenz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67652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This is my so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God of all the nation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 song of pea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or lands afar and m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86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is is my ho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country wher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y heart i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re are my hope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y dreams, my holy shrine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untry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are my hop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dreams, my holy shr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5936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others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ther lands are bea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opes and drea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rue and high as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8985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My country’s sk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luer than the oce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unlight bea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cloverleaf and p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other l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sunlight to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o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kies are every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blue as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ar my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God of all the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ong of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ir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r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is is my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 of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’s kingdom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kingdom c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earth thy will be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8222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Christ be lif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 till all shall serv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rts uni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rn to live as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ar my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Go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natio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 I give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y will be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1430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ut others heart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 other lands are beat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ith hopes and dream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s true and high as mi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9856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 My country’s ski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luer than the ocea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unlight beam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n cloverleaf and pine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6996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ut other land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ave sunlight too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clov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skies are everywher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s blue as mi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9364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hear my so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ou God of all the nation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 song of pea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or their lan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for mi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6996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is is my pray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 of all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’s kingdoms: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y kingdom com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n earth thy will be do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0666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et Christ be lift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p till all shall serv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hearts unit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earn to live as o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60948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hear my pray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ou God of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l the nations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yself I give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et thy will be do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5-29T22:34:23Z</dcterms:modified>
  <cp:revision>149</cp:revision>
  <dc:subject/>
  <dc:title>PowerPoint Presentation</dc:title>
</cp:coreProperties>
</file>