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E3D-DAE2-4A20-A5AF-008AD1BF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E25-395D-49F1-B249-36168A8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A34-AB2A-47E6-B1C1-C1D208CD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C02-2302-4098-8149-8635EDB8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DA4-5942-4487-87A2-D858E63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23A-99F4-4148-8405-A7E0BEA5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F71-82D4-4169-88A5-D03072A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039-973E-49E6-9056-D51CBEE8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53D-161B-4A64-ACD0-A706A597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730-D4B7-4970-B24B-F565E5B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7A7-489A-4F05-99CA-98450054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675-9B14-4AA0-A85B-50E53F3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CC8C-F727-40BC-A559-9281FD55B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e Tierra Lejana Venimos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From a Distan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2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sirve de guí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3, 1980 Walter Ehret and George K. Eva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49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uerto Rican carol; trans. by George K. Evans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rom a distant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see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ing a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ly bea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i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9:24Z</dcterms:modified>
  <cp:revision>18</cp:revision>
  <dc:subject/>
  <dc:title>PowerPoint Presentation</dc:title>
</cp:coreProperties>
</file>