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CA6-9218-4B3D-8663-92CFEAF2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D20-576C-4C53-A74F-BCC75793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3F1-A3CC-4203-ABCD-101A9C9C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876-7899-463E-BEFC-85DCE257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29F-F6EC-4C3D-8C29-6569A21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493-D9C7-4D70-A0E8-253FD58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B53-A823-4215-8619-3D6C75D8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84B-B404-4BE8-9125-6742E1C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129-0331-49B6-A294-425F6C6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A7F-5652-451F-A242-47704263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C0C-286D-463A-9D75-FDBA5FF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5D9-EC21-4188-B240-2124BA2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AC5-7FB8-4F9F-9785-48CF5459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od of Abraham Pra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05120"/>
            <a:ext cx="9144000" cy="32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 God of Abraham pra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o reigns enthroned above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cient of Everlasting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Days, and God of love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481400" y="1143000"/>
            <a:ext cx="62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Yigda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of Daniel ben Judah, ca. 1400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. by Thomas Olivers, 1760;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great I AM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earth and heaven confess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ow and bl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acred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bless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 great I AM has swo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on this oath depen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, on eag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gs upborne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heaven asc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behold God’s fac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God’s power ado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ing the wond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God’s grace forevermor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5508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he heavenly land I s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pea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enty bles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and of sacred liber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ndless res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milk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ney fl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il and wine a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trees of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gr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mercy crown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e God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igns on hig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archangels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“Holy, holy, holy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ry, “Almighty King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as, and is, the s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vermore shall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I 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orship thee!”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07:28Z</dcterms:modified>
  <cp:revision>32</cp:revision>
  <dc:subject/>
  <dc:title>PowerPoint Presentation</dc:title>
</cp:coreProperties>
</file>