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D63-4222-49EA-A186-D56AA2ED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6DC-96DB-41EC-81B7-4D72C505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439-7C4B-4B7B-BE4E-8B91AB07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320-8ACD-4A39-AA0D-57427696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D94C-30C9-45EF-8530-E384A738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BFDA-8927-48E8-9294-6A108D31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8EF2-D1DE-49F7-AE83-4FC8EBE2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9929-24F0-4C75-8426-DFF732B5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9598-ECDA-42FA-A051-559B800E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EC38-F498-432F-A102-7A12819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96CB-0721-403F-B2C1-C38451FF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8DE-FCC3-4A1A-A7E9-73E7FBF7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A1C5-721C-42E1-9708-3EE8A459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87B9-D848-4BF9-88CD-064093C3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8D15-E9AD-4CAA-89BB-E635C7BC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F5EC-FF24-4EEB-B164-26587CAB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CA5C-0B73-4875-A831-ED8485B0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CB3-B2FB-48DA-A08F-A3F38E9B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E3C-1584-431A-BDB4-50DF5AB7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503-2D5B-4713-BBC7-80D28FD6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CC3-852F-4744-AFAA-65441B57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3CA-D809-46DF-9A90-F0B9A6B7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4C0-A401-4028-B1F3-A43CBAC8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EA9-9600-4013-845C-0D064D0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E865-1BA4-4507-A308-1B66DD332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F66E-0725-47D8-95DE-036A64F99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the World’s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is the world’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in our dar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became our br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99000" y="109224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43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we have see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seen 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 is the world’s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ne can ser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spise anoth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else un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in God the Father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hrist is the world’s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d once for sil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rdered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, who redeem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with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, Son, and F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ro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we have see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seen 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 is the world’s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ne can ser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spise an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else unite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in God the Father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hrist is the world’s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ld once for sil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rdered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, who redeem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with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and none oth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, Son, and F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rother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the World’s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2404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Christ is the world’s ligh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and none othe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orn in our dark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e became our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9000" y="762120"/>
            <a:ext cx="3574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1-24T23:32:20Z</dcterms:modified>
  <cp:revision>43</cp:revision>
  <dc:subject/>
  <dc:title>PowerPoint Presentation</dc:title>
</cp:coreProperties>
</file>