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F53-7645-4035-AE34-4B2C3102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4B9-0122-462F-886D-AE44329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BFF-8199-42B8-9EBB-97E99746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B78-5814-4454-92AA-64A7E8FA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6FE-C672-4FE9-B578-3B2266C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B62-C776-4281-B63C-E5AA0BC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6C8-03FF-4F38-B062-703E676F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3B7-843D-4C4E-8980-45BA0D4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B1B-5950-449E-885A-5FD7723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A21-152E-4745-AFED-7A86CD6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C2F-A13C-4063-82C2-B8B271B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0C0-DBCB-4772-8BD3-5B2190A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AC0-93CB-43DA-AE8A-272D33B5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hild So Lovel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i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144792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i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So Lovel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So Lovel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5:53Z</dcterms:modified>
  <cp:revision>71</cp:revision>
  <dc:subject/>
  <dc:title>PowerPoint Presentation</dc:title>
</cp:coreProperties>
</file>