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BB6-24B0-47EF-AF54-62347F90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EFD-E0D8-43AD-811B-E93A0870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137-92F8-47A6-97DE-F26B3DB3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DAC-EB3B-4470-8FCC-E1A3C585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0C57-1E9B-472A-8D20-97B5540E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505B-F22D-464B-B7E9-A0F8D4EB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A1C7-F6F7-4A1F-BF34-7FA13A77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0827-B1FB-4FFC-8754-B45C9075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241D-F020-4CBE-AC33-C3518F02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1F66-92A9-404D-B98D-9DA55747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09E4-DF34-4592-AB19-719FF271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E4F-2CEF-40A8-A715-347AC3D4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E632-98DA-4BF8-A2EF-7CDDDAB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3BEE-BD75-4ABF-9AF6-AEC638B1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4805-B624-40AE-ACD7-639993D4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4188-6001-4968-BF5E-83D01D4A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7CCB-3253-4AEB-B4F3-E901F026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B15D-BF9D-4CD9-938A-4CC2B30C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ED2-DE35-449F-83EF-1E2EFC31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DB1-FD98-4979-A5E2-8D0F209F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D08-ED69-4CFF-9E9C-8663BB9A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73D-3888-4936-84E7-EA1F4F75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69F-104D-44FD-8E2C-2516CF72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A80-2A08-4290-8C89-B25225ED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9DA0-3E84-4448-A53C-99D81A08D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5079-3930-4AC8-83B5-E6147B36D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Love to Tell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0804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I love to tell the st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unseen things ab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25760" y="83808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atherine Hankey, ca. 18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who know it b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m hung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ir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r it like the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cenes of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ing the new, new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have loved so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 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Love to Tell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love to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unseen thing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25760" y="109224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atherine Hankey, ca. 18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I know ’tis tr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satisfies my long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nothing els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love to tell the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wonderful it se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all the golden fanc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our golden drea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did so much fo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t is just the rea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tell it now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 love to tell the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pleasant to rep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see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time I tel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wonderfully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I know ’tis tr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satisfies my long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nothing els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ome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ver he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essage of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who know it b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m hung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ir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r it like the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cenes of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ing the new, new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have loved so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127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 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love to tell the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wonderful it se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all the golden fanc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our golden drea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did so much fo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t is just the rea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tell it now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 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 love to tell the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pleasant to rep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see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time I tel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wonderfully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ome have never he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essage of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890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will be my the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0-11T00:38:59Z</dcterms:modified>
  <cp:revision>18</cp:revision>
  <dc:subject/>
  <dc:title>PowerPoint Presentation</dc:title>
</cp:coreProperties>
</file>