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F8C-1400-405B-8C2F-EFFF5973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4DE-3DEC-4C24-BAE4-4B47B17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CEA-9FA9-4536-A3FF-5142E3DA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3B6-6166-414C-AB82-1E9D8853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435D-37E4-4147-AB33-ECD72A11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B14E-1272-49AA-9E2A-98DBF830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21F-06FB-48C0-B8CB-EE527A1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A19A-1516-453A-92D3-F6A9B0C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1EB1-48C5-4E38-B6F6-584E02EF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3DE1-B8AD-420A-A489-355BCA2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CDED-4C92-482D-8347-60FD85FD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5C0-A4B5-4179-8FBA-8F609C97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BCC4-AAD8-4B15-9442-497459C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350D-E68A-4CA0-9B65-6074DA1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52FB-CFC1-4C0F-BA79-DEFA41CC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F66D-A708-4055-9D6B-2B5C1363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AB25-95FF-467D-93A4-B49405EC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075-90CC-4D45-A617-4C242DCC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E01-7315-482C-B418-B660AFD3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F27-0418-4B33-AF88-3172816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30B-9011-4491-AF1E-02BBAC4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4DE-E461-4F3D-BE55-D8C26AA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432-4578-4890-9185-FC40C91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8D4-9D84-4C6E-B03D-76A3839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5C3B-32CC-4550-A2BE-E370236C1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B38B-0845-44DE-8FD4-64462AFB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ances R. Havergal, 1872 (Rom. 14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speak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pea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echo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ances R. Havergal, 1872 (Rom. 14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speak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pea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echo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7-28T18:41:24Z</dcterms:modified>
  <cp:revision>159</cp:revision>
  <dc:subject/>
  <dc:title>PowerPoint Presentation</dc:title>
</cp:coreProperties>
</file>