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5C1-BC3D-4D65-82CF-BEF5AFA3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166-35F9-42B0-9E5D-EA1BB379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CDF-01F7-4921-919F-182A9DCB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5B2-CA29-4051-B917-0D9AE1D9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282-7495-48C6-9E63-2B6E92BB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D19-B0C0-4A9E-B56F-C92C617E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DD8-D070-440E-B7C2-C5B5434F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4B6-A5A6-477A-A717-36308F8F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663-C8D8-4996-B6F5-FFB7EC5D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818-E87E-47BC-A882-16E0518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CC4-BD2A-4FEC-AFB4-1F0C0A1A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EB1-006A-4F8B-9073-E456534F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C533-6652-4F66-B8E6-E0F69E934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Hebrew blessing; trans. by Roger N. Deschne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676520"/>
            <a:ext cx="66294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chaverim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chaver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0481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01992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95680"/>
            <a:ext cx="106668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523880"/>
            <a:ext cx="106668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905120"/>
            <a:ext cx="85345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hitra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hitra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990720"/>
            <a:ext cx="74674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ewell, dear friends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safe, dear friends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907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8195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5720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4920" y="2057400"/>
            <a:ext cx="6554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ee you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ee you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3:26Z</dcterms:modified>
  <cp:revision>160</cp:revision>
  <dc:subject/>
  <dc:title>PowerPoint Presentation</dc:title>
</cp:coreProperties>
</file>