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FAB-161D-4BEF-8FE9-E4FCC3DE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C51-847C-4D23-85F6-BF29F07A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A0B-43D0-40E1-B124-5D1F8886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08B-43CD-4E11-9554-CACA174C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5A0C-6DF6-48DB-B7FE-FCFF5677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F6DE-C9B5-4999-B907-4CC4E041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D078-DDB0-4408-A7D5-B8AAE5E3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B2D2-FE3F-4394-9498-1C273136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F8C5-620D-4F23-997D-491BDB20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D89E-0ED1-45C8-B4C7-6F14F989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BFD6-B996-4BFB-990F-C59B4689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39D-200A-446E-9BF0-DC94CF91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5A90-5A69-4ACF-8C44-33A51683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E506-0FF2-47FB-8E90-B573A98A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DAF1-9D0C-479C-9805-B824669E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413A-A8F5-42B0-8859-1FE75803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5BA2-ADE3-42D4-A095-35AF090C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8E0-5D11-4B4A-A50D-5E8EB21F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3B5-6E58-4516-A764-79D94A26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625-180D-4188-BDC5-2B3F945C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61F-F0D9-4745-8C9A-FA0C7F0C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DD0-3673-4F3A-B151-6BAB0251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5D3-6918-470C-9974-F089C788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72E-4096-4F26-A0FB-7C3B59AC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8DA0-CC0D-4CDC-8739-0AE75B97D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3B6E-18DB-4BB9-8F07-AD1943CB6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717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O Spirit of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iving Go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ou light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re divin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41000" y="1066680"/>
            <a:ext cx="467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Henry H. Tweedy, 1935 (Acts 2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09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anguage a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ay underst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love speak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ud and clear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ill every age and 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ace and cli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hall blend thei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reeds in on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09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earth shall form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ne famil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whom th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ll is don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So shall we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power of Chris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o came th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orld to sav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 shall we rai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him to lif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soa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yond the grav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earth shall w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rue holines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makes th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hildren whol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9072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ill, perfect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thee, we reac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reation’s glorious goal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4382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Spirit of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iving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ou light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re divin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41000" y="1066680"/>
            <a:ext cx="467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Henry H. Tweedy, 1935 (Acts 2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end upo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once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ly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it with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righteous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escend upon th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hurch once mo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ake i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ruly thin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Christ shall d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man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c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low, wind of G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isdom b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our m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re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mists of err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of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blin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n, winged fir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lip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aming love and ze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ach t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eat good ne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onw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ach us to ut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ruth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ay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nguag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sp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 and cl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very age an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ce and cl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lend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eds in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 shall f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fam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hom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i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 shall we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wer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me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to s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ll it with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joy and pow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righteous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peac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hall we 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m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o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 g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 shall w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holi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make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whol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perfec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e,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io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goa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ill Christ shall dwe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human heart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sin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rrow cea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Blow, wind of God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wisdom bl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ntil our mind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re fre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mists of erro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louds of doub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blind o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yes to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21932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rn, winged fire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spire our lips wi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laming love and zeal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preach to a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great good new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od’s glorio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mmonwea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Teach us to utt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iving word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ruth whic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may hea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20T00:47:02Z</dcterms:modified>
  <cp:revision>12</cp:revision>
  <dc:subject/>
  <dc:title>PowerPoint Presentation</dc:title>
</cp:coreProperties>
</file>