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380-C72F-4536-BB02-6CEA5169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1B7-FAEE-40F3-9BE7-67D68EEE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5D5-8EA7-4D61-97E9-77D3DDDD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069-485B-437F-8DEF-C8835645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F281-D884-41E8-8649-BE620C14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97E5-31AE-4798-B6ED-524BCFA2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6A81-7B32-49C7-B953-88B5F9A5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C3C6-1C50-40B3-B042-F08CC39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5B7C-0E7A-46FF-999E-53389E64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4367-69D8-4568-B4E3-0741A748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78E4-1C75-423A-9E5D-CBF68F1F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FF1-2BBD-45F2-A622-7F26F3FD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A069-86A1-4016-9705-BD7884EA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31E7-64B1-4D57-82D4-F895DBC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607E-C904-4DBD-B5A7-1AD8306D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C73C-D76D-49E5-8EDC-351503C2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5EC6-CCFA-4E18-BBEC-2CC066EE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3C0-297C-4FD9-8228-46DB0098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CAE-6DB8-44BB-A4B3-6E2399DB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982-CAB2-4754-A703-5CF634E1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7E6-DFDD-46A1-A879-D3C8D9B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3FA-7DA9-4C54-ABCA-8B5C542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A07-6548-4EA9-8343-E6D40EA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D95-BDEF-4A86-AE69-4EAA9ECB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FA5E-25D8-4C75-B09A-BA6AC3A0E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01AA-FD2D-4488-BAEE-4DE55DD6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We Ha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d on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ngels we have heard on hi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eetly singing o’er the plain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47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French carol; trans.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rown of Jesus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862, alt. (Lk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We Ha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d on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ngels we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ly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French carol; trans.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rown of Jesus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862, alt. (Lk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e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i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ous str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907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this jubil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your joy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pro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glad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nspi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s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lehem and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hose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nded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 hi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l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e choi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e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i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ous str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, Jose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nd your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Shepherds, why this jubile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your joyous strains prolong? What the gladsome tiding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nspire y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venly s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Come to Bethlehem and se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whose birth the angels sing; come, adore on bended kn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ewborn K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See him in a manger lai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m the choirs of angels praise; Mary, Joseph, lend your ai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le 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love we ra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14T01:00:11Z</dcterms:modified>
  <cp:revision>15</cp:revision>
  <dc:subject/>
  <dc:title>PowerPoint Presentation</dc:title>
</cp:coreProperties>
</file>