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3C6-99A7-4F03-8C6A-3C4F798B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0D8-BA6A-4848-924E-C5C695BE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932-335C-4103-86F7-D36B5425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A54-F687-450F-AB2D-309D247F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32B-0341-4E99-B838-6946F57D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786-B996-4A80-82BA-2D6371D9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A28-B18B-42BF-B1AB-59208F25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B393-30E5-45A6-BE79-BC604735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FA6-71B9-4F2C-A97E-B5B8FF4D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421-6E17-4E12-AC86-94AE9BCB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D50-B7F2-406D-9BF4-210F6C4E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253-AC75-48CE-9BE6-C7751877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A4F0-34B5-4CAB-BC46-1C1F900E0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First One 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56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e first one ever,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h, ever to know of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irth of Jes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as the Maid Mar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as Mary the Maid of Galile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0, 1983 Linda Wilberger E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One Ev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1015920"/>
            <a:ext cx="5715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inda Wilberger Egan, 1980, alt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Lk. 1:26-38, 45; Jn. 4:7-26; Lk. 24:1-11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is s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he who believ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blessed is s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lieves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blessed is s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lie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was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id of Gali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is s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he who belie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first one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ever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essiah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 s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I am he,” wa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maritan wo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rew from the we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One E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is s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he who perceiv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blessed is s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perceive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blessed is s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perce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as the Samaritan wo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rew from the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is s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he who perce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first ones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ever to know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ing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lory to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Mary, Joann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gdale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One E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are th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y who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blessed are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e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blessed are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were Mary, Joann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gdale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are th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y who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38:36Z</dcterms:modified>
  <cp:revision>32</cp:revision>
  <dc:subject/>
  <dc:title>PowerPoint Presentation</dc:title>
</cp:coreProperties>
</file>