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BB7-8445-4E71-B4F7-BE9BCA98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E64-12E6-47DB-84F6-2EAE3D7C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5A6-4F17-4C13-B55D-1F41711C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DDB-2DEC-4507-BE23-14ADA6FF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CCB-B7C1-4D61-9C3B-A3BAC2C0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714-E675-4D4A-8BFF-7FF17AB5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D20-2731-4017-A8AF-F86B4EF4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440-3886-45AC-88A1-9F5ECC3B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92E-B0CF-49FA-9113-3E03BE89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A5D-BDC9-4423-81EC-D38BBE29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F55-B928-4953-AD90-D397EAF6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AB3-4D2F-4B15-9156-8A48DB81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3A17-507A-4D2A-BBEF-78A187BFA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Now Depar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y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Now Depart in Thy Pe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ew Mexican folk song, adapt. by Lee Hastings Bristol, Jr., 1961 (Lk. 2: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now de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us to our ho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love 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61 Concordia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not the busy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aim all our loyalti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us ever mind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ord, of thee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0:48Z</dcterms:modified>
  <cp:revision>162</cp:revision>
  <dc:subject/>
  <dc:title>PowerPoint Presentation</dc:title>
</cp:coreProperties>
</file>