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BB3-0149-4D7F-AA9F-4E68FC7D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CBC-4530-4149-9D79-9991E528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8EE-828E-4668-B9FA-11114842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45A-B6BD-48B1-9666-BCE007D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004-DCAE-4BBB-ADC6-75449C80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24C-531C-48EE-B36F-D1662D5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926-5057-46DF-9E5C-B44CE3B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EC3-A35B-47CC-8659-19AAD80D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13E-E88A-4D9B-9150-BBD711F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191-9C3C-4E39-8ED2-A6EF8E9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8C5-96B5-45E4-8F6E-7A1E7ABF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73F-1369-4FAF-85D3-BF6B53F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49C0-0B16-4670-84FB-0E89CBE51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and By M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001000" y="304920"/>
            <a:ext cx="11430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8380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en the storm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life are rag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n the storm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life are rag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858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Charles Albert Tindley, ca. 1906  (Mt. 8:23-27; Mk. 4:35-41; Lk. 8:22-25)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my lif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omes a burd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I’m near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hilly Jord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 thou Lily of the Valley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n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s tossing 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a ship upon the sea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who rules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nd and wa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76320"/>
            <a:ext cx="9144000" cy="53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2. In the midst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of tribulatio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700"/>
            </a:br>
            <a:r>
              <a:rPr b="0" i="1" lang="en-US" sz="5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of tribulation,</a:t>
            </a:r>
            <a:br>
              <a:rPr sz="5700"/>
            </a:b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the ho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hell assai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y strength begins to fail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 who nev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st a batt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faults and failure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of faults and failure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I’ve done the best I ca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my friends misunderstan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ou who knowe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l about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persecu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e mid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persecu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en my foe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n war arra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undertake to stop my way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ou who save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Paul and Sila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tand by me. 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5. When I’m grow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ld and feeb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I’m growing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ld and feebl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nd by me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(stand by me)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3-03T13:21:40Z</dcterms:modified>
  <cp:revision>12</cp:revision>
  <dc:subject/>
  <dc:title>PowerPoint Presentation</dc:title>
</cp:coreProperties>
</file>