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CD6-5BFF-4AE5-AE7B-0D801F0A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778-BD85-4E08-86B2-F344D24B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591-6A89-4ED7-8F6B-4701FCA8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F3F-2872-4534-A670-5709AA16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27B-FCED-4B28-809B-997B4AE0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067-6F1D-4828-B67F-CB767CBE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648-0548-4172-8B36-7237B89A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B3D-3CAB-4D3E-9652-60543C61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16F-C444-4044-A05C-97413B70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758-B2C0-4042-ABB3-2C4198E7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A62-D819-4A23-8120-2E7C137B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48D-C83E-498F-9ADA-05C2297C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54DF-2395-48EE-AD94-F267671B9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hing Betw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Albert Tindley, ca. 19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hing between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ught of this worl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usive dre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it may c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much tribu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resol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71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betw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Nothing betw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’en many hard tria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 who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gainst me conve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ing with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uch self-deni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triumph at l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371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betw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renounc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sinful plea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47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betw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hing betw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worldly plea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bits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harm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e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st not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im ever s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my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betw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hing betw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pride or st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lf or fri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not interve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1:22Z</dcterms:modified>
  <cp:revision>114</cp:revision>
  <dc:subject/>
  <dc:title>PowerPoint Presentation</dc:title>
</cp:coreProperties>
</file>