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A72-C899-4C48-8FC0-8428EF3C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761-C648-43E0-8098-B2F8BFE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A8A-F428-4DBB-921F-A90E06B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12D-D717-4A6C-96B4-6E92419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4CC-0B81-4913-A8E2-E1294D8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263-6809-42FF-8D5F-5DC90D6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7C9-B4E2-4F54-8B41-02FA00F0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C4A-57DC-43D5-839A-A6ED1A8B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E9F-64F2-4BE0-8384-08077078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CC9-E6A9-4399-9584-F0AD772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415-9808-4B57-9E90-04F3872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E5A-3780-4DF3-BB49-5C5ADD2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04B-2A71-47DA-AB75-809B3A56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Love I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8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love is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comes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nd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wo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love be f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eath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roke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explo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’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has flo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both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may d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ach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’s warmth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and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and 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d ones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still to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ll seems stran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se retu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grow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pened ey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strength 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rments f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r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core of w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 throug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aster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 or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sband, w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36Z</dcterms:modified>
  <cp:revision>145</cp:revision>
  <dc:subject/>
  <dc:title>PowerPoint Presentation</dc:title>
</cp:coreProperties>
</file>