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44C-9BE7-4983-83CD-DCF7262B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019-89D5-4D77-BA36-BF178778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E87-C40E-46BE-BC68-8DF232F2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0DF-A06A-4293-86FD-7ED2B634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590D-9433-439F-8800-D29A06B0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344D-D149-4291-992F-B13F3F50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41D5-C541-4037-9E0F-A4EA9604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22C9-58AB-40D8-9973-E5610751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8DDE-83A2-45E1-A9C0-AB52D4BA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8776-0D1C-4708-8239-57461AFE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E397-1F6A-4055-AB5C-3BF2315F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1D2-BF53-4093-AC6F-2F490324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7598-21A7-47AF-A23C-07C9E841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2D60-BE48-49D9-9947-076EB9A1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EF08-231C-4D4A-AB42-6B2B6B23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F133-643B-49D4-AA0B-B73FC924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D172-7B00-4F45-A962-F2CBABE4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ADC-066A-46F8-83D8-A1B57C90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FC5-82F3-4A28-8BC5-1836F558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965F-DCE2-4C03-B9FA-00B5A221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BB1-5A2B-453E-8636-6A13A547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F8E-E651-47E7-90D6-EEF036C8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C5C-979A-4718-8A5E-840173B5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829-6650-4C00-9BEF-7536D20B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44B5-2C2E-46B4-93B8-C6A9E1163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090D-C2E1-4A00-922B-5DD62D12C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Know Whom I Have Believ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know not w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wondrou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he hath made kn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53520" y="1143000"/>
            <a:ext cx="46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W. Whittle, 1883 (2 Tim. 1: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Know Whom I Have Believ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know not w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wondrou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he hath made kn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3520" y="1143000"/>
            <a:ext cx="46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W. Whittle, 1883 (2 Tim. 1: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y, unworth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n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ed me for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know not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saving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he did imp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30080" y="1859040"/>
            <a:ext cx="76838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how belie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ought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know not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 m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vincing us of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ing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ing faith in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51040" y="114300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y, unworth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n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ed me for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know not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 may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night or noonday fai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if I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ale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meet him in the 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74600"/>
            <a:ext cx="9144000" cy="42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I know whom I have believ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m persuaded that he is able      to keep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I know not 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saving fa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me he did impart,                        nor how believing in his wor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rought pea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in my he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74600"/>
            <a:ext cx="9144000" cy="42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I know whom I have believ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m persuaded that he is able      to keep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I know not 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pirit mov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incing us of sin,                                revealing Jes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the w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eating faith in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74600"/>
            <a:ext cx="9144000" cy="42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I know whom I have believ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m persuaded that he is able      to keep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I know not wh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Lord may co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 night or noonday fair,                     nor if I wal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vale with hi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 meet him in the a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74600"/>
            <a:ext cx="9144000" cy="42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I know whom I have believ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m persuaded that he is able      to keep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16T19:07:29Z</dcterms:modified>
  <cp:revision>57</cp:revision>
  <dc:subject/>
  <dc:title>PowerPoint Presentation</dc:title>
</cp:coreProperties>
</file>