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BCA-90B6-4D13-BED0-89BC1E9A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711-12D9-4E71-A6BD-EA1AA1A7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42A-36BC-450B-86F9-C1B7E1C4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0D0-F1BD-436C-B7DB-2E671075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ED84-F9DD-4C94-92FA-E3549087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03DE-B19B-49FA-A4C0-2BB1D7C3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AE80-D847-4F74-B8DD-470789BE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ED89-8246-4354-B9E2-14F863B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E47D-E708-4B95-9DE7-5FC72FDB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CF32-1A38-4758-ABA9-E8CAE13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9217-6213-49BE-99E7-DB2F37C0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26B-2922-4446-ABA2-43F4C87A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447E-BC12-4537-9D8C-BF0EC57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A8C4-5575-4CA7-8A91-980D750B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1AE9-1F9D-437A-B4C1-6C13FCE5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60D2-28E9-46B5-BCF9-48CCCCE1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B9F-F75F-422E-B7EC-21CED118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A8C-D9A6-4AE6-BF1E-8A7F4F1C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7F5-B4F5-4B9F-BEEE-BABBB15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261-A225-4A0E-A451-A8FF65AA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8F0-AEFE-41C9-9A02-8FA21A21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AF3-9856-46E3-8EBA-91D020C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8AC-8AB7-409F-936A-F5B2CC56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877-2449-482B-A1E8-E813350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7E5-E9BF-4D16-87A6-ECCF43A4E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5BCE-57BC-4E07-8890-58F300050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9T00:22:04Z</dcterms:modified>
  <cp:revision>11</cp:revision>
  <dc:subject/>
  <dc:title>PowerPoint Presentation</dc:title>
</cp:coreProperties>
</file>