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A66-BE68-4757-B406-B3D3D6CF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49D-35BD-4F34-99EA-CC9800A3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8E3-81C9-46A6-82CD-344719FD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A34-CA81-4865-968D-91E9E4EC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3A3-88DB-4F8A-B279-D7E376BB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F42-7C61-43B9-A880-D3EBCA8F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911-09A1-4BB7-A9F5-B3CB18BD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136-7BA9-401D-A9D4-38423D41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947-CE86-4BCF-8C5C-986D3D48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35C-205D-47ED-8621-541509D3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FB1-8828-42BD-B6A9-5CC4DFB1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C3C-DB82-4342-9EC7-2097CD5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70C0-B7DE-4EA4-9DC3-62941D28A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Courage to Do Ju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Courage to Do 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lan Paton, South Afric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600200"/>
            <a:ext cx="8305560" cy="500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 my eyes that I m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see the needs of others;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 my ears that I m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hear their cries;</a:t>
            </a:r>
            <a:br>
              <a:rPr sz="48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, 1982 Seabury Pres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600280"/>
            <a:ext cx="876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heart so that the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need not be without succ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not be afraid to def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weak becaus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ger of the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nor afraid to defe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poor because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ger of the r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how me where love and hop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faith are need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use me to bring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those pla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096920"/>
            <a:ext cx="88390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nd so open my eye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my ear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at I may this coming d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be able to do some wor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peac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8:48Z</dcterms:modified>
  <cp:revision>150</cp:revision>
  <dc:subject/>
  <dc:title>PowerPoint Presentation</dc:title>
</cp:coreProperties>
</file>