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B41-44B9-4124-83A5-E05EC703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3F6-8DA3-4F6F-BCDE-6D6B476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2ED-2452-4710-BC62-1DC8895D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838-418E-4112-AA16-8978D6CD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51E-555F-47B7-A6DF-16A8EB3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18F-8130-494B-A3C7-3B80EEA7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59A-77EF-4E3A-924C-95FAB984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26E-EA05-42C5-A20B-0D2532D7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BB4-F629-4438-81A1-9877B70E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266-F912-4605-8159-E63DF91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2A9-275E-4E82-BAC4-136C6D61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9CB-7BCC-4B78-AA4D-2562D55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EFA9-773D-4A8A-A494-776DB69ED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ord of God Inca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ord of God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isdom 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ruth unchan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ght of our dark sk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William W. How, 18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allowed p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ntern to our footste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on 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hurch from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gif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that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earth to s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sac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ms of truth are st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rawn pic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the 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Scripture is a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 unfu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a shining bea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darkling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ch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life’s surging 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mists and roc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cks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, O Christ, will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make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mp of purest g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true light 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each your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s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eir path to t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cloud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ee you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23Z</dcterms:modified>
  <cp:revision>99</cp:revision>
  <dc:subject/>
  <dc:title>PowerPoint Presentation</dc:title>
</cp:coreProperties>
</file>