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3C0A-C0BD-441D-80FB-104E7929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8AD-2F14-4AB6-AA20-5B340BB5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C0D4-BC40-4A9F-86B9-E452B5EC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3E7F-330D-480B-955E-EE44ECAB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B39A-112F-46C6-BE8A-B4AB1D2B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B27-D26F-4404-83BD-479DA355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248-7F40-4A82-884A-0233F9C2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C04-F41F-4A28-A83B-30136062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BF0-AF2C-4CC6-AF98-C07EBA85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8D2-A89D-4061-8404-A0970904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1040-2C7C-4C03-943D-4122D92F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3B1E-6BBA-4B4B-9258-F05AA4DD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2724-3D46-438A-AC4D-B363EBF43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w Like a Gentle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ow like a gen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deep with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reins our ferv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sions day by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7960" y="1143000"/>
            <a:ext cx="34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. Eric Lincoln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od 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nsc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yle and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the i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tions we purs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1916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s us strength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llenge and to w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pite the per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chosen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t God be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life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very tongue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ness to the c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umankind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y God’s decr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God be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God be God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like a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gle hovers n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mighty wing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 manif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like a gen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pherd stills our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fort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st a peaceful bre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in our v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tensions we consp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pe God’s im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see our 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k to the v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our base desi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the sculpt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he broken st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rough all our fret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aims of sex and 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univers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of God shines throug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1:23Z</dcterms:modified>
  <cp:revision>33</cp:revision>
  <dc:subject/>
  <dc:title>PowerPoint Presentation</dc:title>
</cp:coreProperties>
</file>