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815-EA22-49F8-A751-43006C67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6E3-612C-41B9-9E05-0F954F47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41B-C6E8-45FB-B11C-5B4080AC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2A8-30F4-4BAF-B164-EF008328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EB3-3519-4495-9A7F-666BEF41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10D-9F15-4662-BF82-12C1251E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AD8-F2DA-44C4-AB41-33959528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E41-F106-4828-977F-C596646A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E23-B396-4782-80A5-5A6066A8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105-5C31-4706-9DEA-C7E8605E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565-221B-4B61-BF29-0FFB1CA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1E2-0B2E-46A1-963C-BC1E0B5D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DBB2-2FF4-4329-A10F-2552FF889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Out the Wilder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87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880"/>
            <a:ext cx="8686800" cy="595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ell me, how did you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25600"/>
            <a:ext cx="914400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me, how did you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8686800" cy="595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id you love every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25600"/>
            <a:ext cx="914400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d you love everybod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80880"/>
            <a:ext cx="8686800" cy="595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Did your soul feel happ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25600"/>
            <a:ext cx="914400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d your soul feel happ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4:15Z</dcterms:modified>
  <cp:revision>141</cp:revision>
  <dc:subject/>
  <dc:title>PowerPoint Presentation</dc:title>
</cp:coreProperties>
</file>