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7D1-0CFA-441A-A1C6-7C71398C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DF5-87F4-473F-B5C6-859B27A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9EB-4AB9-4F59-8127-719A5FE3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00F-8771-4F5D-9F8F-594A6999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64F3-3B89-48E8-B910-3031E37B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9B10-3F11-413A-A514-3D3A25B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1E49-4C36-4C27-9FBE-D256A7A2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47D-0D87-4DF4-8630-F2483BE6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9C89-8C1A-4D91-992C-83A22BC3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45FE-EBDF-4A3E-B43B-7B69B4A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3543-71B7-4AA7-B4E2-6210912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FDD-D4C8-4C44-925E-62678F2D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8DB3-52CD-4020-9F98-ACBEBBFE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8A0-C896-4491-A266-9F4CC8D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4B23-DF25-4878-A0CB-78535B66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B5F-D493-48EE-BFF3-E7CE5997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FCFB-E112-43C8-93D7-D9D94457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327-78A8-49B7-8804-C2178E31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1FC-D04A-4D07-B926-10270C05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716-4D90-44F6-8C63-B31FD385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8E9-4459-470E-B10F-671596D0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BFD-97DD-49BC-85C8-AE2BE28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FA6-C80A-4A43-9A6D-63CBC8B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CE1-1476-42C9-9AE9-1BE851B2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FCA-A7BB-4CCF-B2E5-1191371F7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193-8C22-4436-B595-DF8B158A3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beautif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go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my confus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understo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6360" y="838080"/>
            <a:ext cx="58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, 1971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beautif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go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my confus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understo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080" y="101592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, 197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25T01:14:55Z</dcterms:modified>
  <cp:revision>16</cp:revision>
  <dc:subject/>
  <dc:title>PowerPoint Presentation</dc:title>
</cp:coreProperties>
</file>