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23F-A37F-4B55-9F0B-F3D42A32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E0D-7897-4D53-87D0-C3F550D0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FEC-8CDF-44DA-95EC-10EC524F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BA7-0B03-48FD-A1B6-3C5ACF3C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FE75-F00D-4015-BDB5-302302C2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6E70-9014-402C-849C-983B6346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B276-02F6-4498-8F07-06F91054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0875-B335-45A3-8B6D-2B0CB8FD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838D-ED83-4CF0-A883-3F8A65A2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6B82-8F49-4C7F-891E-4AD517CE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A53-CE94-4B9E-94CE-A2C0C479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3B8-BF8F-41B8-A2BF-7A05DEB7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D3DE-AD74-4B0D-BB5C-EA80CB9C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FA20-BE46-4323-8F98-9F00328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A8B5-42BD-4BBE-874F-736EE7C1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B11E-3411-4C04-B067-B0922443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B673-22F2-4714-B1B1-E75041DA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93C-DCE5-4988-861F-7289CD41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9D9-D0B6-4356-AF76-1D625603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1B1-0E89-4E7A-AA52-2F7D2B6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158-C029-4FBE-8084-CB79485E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7D3-681F-4DF9-96D6-29C0A3EB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4C9-24AF-4E5C-BAB6-115295B7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EDF-82BC-4591-AE33-E84C5C89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EFA-2BED-4261-891C-25F8042D7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B906-7F21-47D8-85E0-B4750D013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lfred H. Ackley, 19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erve a risen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in the world to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that he is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foes may s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3, renewed 1961 The Rodeheaver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seek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lp of all who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o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od and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85800"/>
            <a:ext cx="90885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lfred H. Ackley, 19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3, renewed 1961 The Rodeheaver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477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I serve a risen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’s in the world toda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that he is liv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ever foes may s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7760" y="380880"/>
            <a:ext cx="67813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his hand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s voice of che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ust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alway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alks with me and talks with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0016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In all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around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see his loving ca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ough my hea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ws wea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never will despa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is lead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all the stormy blas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ay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appear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ll come at l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32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alks with me and talks with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0440" y="1482840"/>
            <a:ext cx="67813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his hand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s voice of che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ust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alway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52280"/>
            <a:ext cx="8915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joice,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alleluja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Christ the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seek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lp of all who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 is so lo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od and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5228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alks with me and talks with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5228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aroun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his loving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ough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s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ver will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l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stormy bl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app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com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joice,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alleluja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Christ the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25T00:10:41Z</dcterms:modified>
  <cp:revision>67</cp:revision>
  <dc:subject/>
  <dc:title>PowerPoint Presentation</dc:title>
</cp:coreProperties>
</file>