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F2F-5058-4866-B882-09BA929F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F203-7D2B-4A1D-93FA-4F9F1E8A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3673-035C-437C-8F2D-41B801EF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3329-D0BA-4591-A955-1BF4E5B7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1A2F-E12A-4ACF-B3C1-88F057C6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FE8F-26CB-472E-85E8-140C2E51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901-AA93-426F-B745-5A063F0E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B6C0-751A-40CE-AEB7-86C121FB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722-CA5D-4754-AFB7-3D99E350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67C-0AE1-40F5-8D12-A413A636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98B5-7BC5-45D8-966C-798E007F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D8BA-6CA7-4153-947F-88D2231D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410B-D8F6-4B64-8965-6D28D1A1A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Ye Disconso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, ye disconsol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’er ye langu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the mercy s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rvently kne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Disconsol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93040" y="1066680"/>
            <a:ext cx="6762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homas Moore, 1816; alt. by Thomas Hastings, 1831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bring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nded he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tell your anguis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has no s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aven cannot he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oy of the desol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of the stra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the penit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deless and pu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Disconsol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speaks the Comfor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nderly sa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Earth has no s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aven cannot cur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ere see the bread of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waters flo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th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 from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Disconsol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st of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ever kno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has no s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eaven can rem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6:45Z</dcterms:modified>
  <cp:revision>7</cp:revision>
  <dc:subject/>
  <dc:title>PowerPoint Presentation</dc:title>
</cp:coreProperties>
</file>