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14A-6297-4AEA-871C-4DD8BD9D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D061-B8CB-4AD6-8195-F8965019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D28-8F16-42F5-9AE8-87A68EBE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F47F-8B70-47F6-9F81-43C6FA1F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BAE0-4A8D-4761-9FB3-8665758F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7A6A-6FB0-4FB8-8DBD-6896733A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8D0-EA41-45DD-9421-EA123333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80C-538B-44FD-8030-93DCA78F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04F-88A4-4DDC-918B-93CFDBB8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3ED4-1C72-406E-936F-B5075578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DB6B-9991-42CF-9419-4322E709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504D-7039-4D9D-B855-A60AEFD0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A567-99FD-4404-9401-5246C2783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was in the Moo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Winter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’Twas in the mo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winterti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all the birds had f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ighty Gitchi Manit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 angels choirs instea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by permission of Frederick Harris Music Co.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8840" y="1649520"/>
            <a:ext cx="71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ean de Brebeuf, ca. 1643; trans. by Jesse Edgar Middleton, 1926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childre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orest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eed of Manit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ly Ch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arth and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orn today fo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kneel bef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adiant b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rings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y, peace, and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668600"/>
            <a:ext cx="9144000" cy="32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your King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glor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ir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ars grew d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nters heard the hym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68600"/>
            <a:ext cx="9144000" cy="32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your King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glor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ithin a lod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roken b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ender babe was fou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ragged ro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abbit sk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wrapped his beauty r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as the hun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aves drew n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gel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ng loud and high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668600"/>
            <a:ext cx="9144000" cy="32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your King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glor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earliest mo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winter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not so round and fa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as the 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lory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lpless infan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iefs from 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him kne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ifts of fox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aver pel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668600"/>
            <a:ext cx="9144000" cy="32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your King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glor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05:28Z</dcterms:modified>
  <cp:revision>9</cp:revision>
  <dc:subject/>
  <dc:title>PowerPoint Presentation</dc:title>
</cp:coreProperties>
</file>