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9D0-97CB-42E7-B487-77DA0198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233-131E-4AEB-A6CB-A780473F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860-C34A-4783-AFFB-5EDBCCA7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6EB-909D-4B2F-B960-6876282A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E55-7785-407B-9614-EF5531F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333-81C5-4C42-A982-2D8B841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C8-C81A-4D91-AA2F-E2E183CC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E0D-AD9A-42CE-BD75-C7ED091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49A-C613-46CF-99AE-53857717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24D-0BAF-48F9-8D67-3E097BC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741-2EFC-4AD9-A24D-913BAAC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5C6-2391-40E6-96E5-30328B7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05C-06E3-4846-995C-522B7F47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Our Confid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Sh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lief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secu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160" y="16257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5240" y="1096920"/>
            <a:ext cx="7913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s but cannot find a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ac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e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aith not yet ma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lar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d of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ze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8040" y="1096920"/>
            <a:ext cx="7207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our resear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ltimate unknow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ust die, 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ull cir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source in Go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discip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hard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3960" y="1101600"/>
            <a:ext cx="7156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rudgery of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ough to grie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, ma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s accept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insights w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deem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ruc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53920" y="1096920"/>
            <a:ext cx="7436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ans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world’s eternal wh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at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tent to live and di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20Z</dcterms:modified>
  <cp:revision>38</cp:revision>
  <dc:subject/>
  <dc:title>PowerPoint Presentation</dc:title>
</cp:coreProperties>
</file>