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3F8-C68E-4B91-9B8E-28E29720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DE6-15AE-4AC5-AC0E-D689E8D6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AFC-B09E-4978-B680-D84212C4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60A-10FB-4DA0-A2C7-24F2FB5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46D-9D27-43FD-AE54-353765ED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433-A739-4B1D-BF8F-68A591B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89C-2517-4296-B7D3-883C2B1E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BB6-0961-46C5-AB04-1FE0EBB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21D-D17A-4ECE-8368-C772004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1E1-B025-465E-AFD5-8694878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E7F-024A-44FC-84D9-B035A15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679-6431-4803-9F78-17163AB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450-4B2B-40AA-8AE9-1A57EA60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8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ut Hosanna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lebrate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ay of day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orl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till in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it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onic choru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 you gon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st is with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osanna every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ush in wonde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amaz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ese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urrou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, a sp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e has g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le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ab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a tast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ave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or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hat lov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and d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7488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vermore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the sa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01Z</dcterms:modified>
  <cp:revision>62</cp:revision>
  <dc:subject/>
  <dc:title>PowerPoint Presentation</dc:title>
</cp:coreProperties>
</file>