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ED2-068B-43E9-B64D-84F863EB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9AB-570E-4E78-B35F-1DA8070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FEA-C807-4758-9588-5385B222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A33-02B2-4846-A357-82781460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8FA-ACF6-4DFA-B642-96B58A26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D972-B26A-4065-82F4-6A2E624E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C2BD-10B3-4E4B-AE1A-DCB9353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ED4-8026-40A2-B6A8-44462BC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D4F8-9592-4074-8B8A-D09305AC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6ED-5166-4383-8366-9D96EEF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F5E-86A4-4B8D-A9E0-78FD66B7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70C-F3D4-4851-AC82-2F148CF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3DFD-495D-4FD3-A0A0-671F658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F938-AA92-491A-BDA1-88F6DD1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03F-2579-43EF-9637-0123D8F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B204-9AC5-4147-A876-D83B4DAD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E75-B97E-480B-A357-F0879B02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E8C-B7F5-4614-AC9D-5607CE54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CF9-3BD3-4608-957A-90DDD41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FD8-D0B3-410A-8E2B-077D6135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47A-337D-47C1-A887-6E0CE7F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287-178D-463D-82C6-9FC62DC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F23-7BCD-4844-99C0-2E48183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B6E-F26A-498D-9F04-C2D95AD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293A-5913-41B7-A9AE-A26AC1108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76B-4651-4652-A43F-51838ECB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 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 the midnight clea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480" y="9907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s unf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wly pl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vering 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ending 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ve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 to hear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 wings unfur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 and lowly pla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 hovering 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 are bending l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 the weary r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 shall over all the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night clea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8480" y="163836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21:08Z</dcterms:modified>
  <cp:revision>65</cp:revision>
  <dc:subject/>
  <dc:title>PowerPoint Presentation</dc:title>
</cp:coreProperties>
</file>