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404A-9077-445E-9A5B-2929142D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7B2E-1DB6-460C-9BCC-21061737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BAB6-7665-4BBE-809C-572CC335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0B49-D652-4867-BD3A-59F612DF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7E69-A278-4F2A-97EF-D46C0C78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384F-9771-4463-A071-4C7A1C7A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E04F-17D2-4915-88B4-10AEDF16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163F-7823-43B2-AD55-A4F95F6C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6FBF-633B-4698-AE0F-0F9D3D46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A26A-EFDF-4643-95B6-57E0F6F6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1256-6F3D-4EBA-9726-61326938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F5C5-4849-4A80-85FB-AA6646D5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F51C-0F1D-4B4E-940A-B6714A5A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BE86-EE9E-4E34-B26A-ACE06369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0260-273F-4DA3-80B3-AEABCD72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F35C-49AB-4F27-A9FD-5DF9AC38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8C6A-5BD7-42B7-850F-8FA70317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FEAD-A3E6-4164-A97B-3F807ED2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C34-D31C-4849-8939-6A7E0BBA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6C7D-BE07-4FE3-9ADE-2BB92383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350F-C1A8-4BA7-92EB-186DECBF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2553-8910-4D8A-A07A-B1683769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880F-063F-402F-A10D-6F3910F1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B153-2AB7-4A66-9861-7E49BDA6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F6F3-63CF-4D17-859E-87D86E42D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C96B-BA12-463C-8C73-EC3F66647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 Is a Fountai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illed with Bl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re is a fount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n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manuel’s vein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Cowper, ca. 1771 (Zech. 13: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en in a nobl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er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sing thy power to s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is poor lisp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mmering tong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s silent in the gr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s silent in the gr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s silent in the gra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is poor lisp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mmering tong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s silent in the gr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 Is a Fountai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illed with Bl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90512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There is a fountai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illed with bloo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drawn from Emmanuel’s veins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Cowper, ca. 1771 (Zech. 13: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0666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ners plung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at f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all their guilty sta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all their guilty sta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all their guilty stai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ners plung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at f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all their guilty sta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The dying thief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joiced to se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fountain in his day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ere may I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ough vile as h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ash all my sins awa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all my sins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all my sins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re may I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vile as 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all my sins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Dear dying Lamb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y precious bloo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hall never lose its pow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ill all the ransom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hurch of Go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 saved, to sin no mor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aved, to sin no m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aved, to sin no mo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all th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aved, to sin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E’er since, by fai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saw the strea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y flowing wounds suppl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deeming lov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as been my the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hall be till I di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ners plung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at f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all their guilty sta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be till I di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be till I di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ing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been my the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be till I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5. Then in a nobl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weeter so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’ll sing thy power to sa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this poor lisp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tammering tongu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ies silent in the grav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s silent in the gr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s silent in the gra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is poor lisp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mmering tong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s silent in the gr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all their guilty sta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all their guilty stai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ners plung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at f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e all their guilty sta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dying thie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d to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ountain in his d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re may I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vile as 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all my sins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all my sins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all my sins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re may I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vile as 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all my sins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Dear dying Lamb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recious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never lose its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all th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aved, to sin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aved, to sin no m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aved, to sin no mo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all th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aved, to sin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E’er since, by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w the stre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flowing wounds supp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ing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been my the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be till I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be till I di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be till I di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ing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been my the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be till I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6-02T20:26:52Z</dcterms:modified>
  <cp:revision>124</cp:revision>
  <dc:subject/>
  <dc:title>PowerPoint Presentation</dc:title>
</cp:coreProperties>
</file>