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F6C-D71E-4ABC-A80E-95833C8A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8FE-12A8-4059-AB9C-ADEE815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0B6-ACE7-432F-BC4A-402D3440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394-FFDB-4700-84C2-C4C4C3B0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AE4-C0A7-4855-9BBF-FA223374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648-7CB5-4B73-9053-FE602850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86C-4E9D-4934-A267-82C48E71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7B9-5B27-4515-9EE8-133B268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597-6A36-4ABD-8DF4-C1DD1CB4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B24-83B3-4577-A9FE-6220705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4A0-3AC5-4D52-AE7D-D8F3A8A3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172-ECF2-4F0C-B701-2AA83C2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694A-6D11-47EC-A899-905C3A30F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Someth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bout That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77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just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 William J. Ga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Something About That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1720" y="147312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 and William J. Gaither,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50840"/>
            <a:ext cx="79250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, Savior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rag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the r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859040"/>
            <a:ext cx="7925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s and kingd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all pas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re’s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29Z</dcterms:modified>
  <cp:revision>34</cp:revision>
  <dc:subject/>
  <dc:title>PowerPoint Presentation</dc:title>
</cp:coreProperties>
</file>