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7EF-1041-4A09-B23D-CC3DDFB9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90E-AB60-46C4-9738-AABCF69E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1FF-5F18-425C-8672-174782CF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588-489A-442E-BD7F-7705693D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020-D6A0-4BE2-B851-BD09FD39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8F3-BF92-48ED-A028-A65E15F9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7BE-41AA-4B68-8301-CC378CC5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FA6-7068-4CFD-9F2C-DF00BC7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C51-F04E-4D28-A5D3-8EFF2DF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C25-B5DD-4263-BB41-CE8EEC1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AA6-07F8-4C22-9D31-E65A381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E01-D71E-41B0-9BB2-4594810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103-2C2C-410B-9C95-EAE4C16B6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alds of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rald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’s comm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ortal tid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mortal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aura S. Copenhaver, 1915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on and c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the news you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stra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stra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ghway of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desert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fen, and deep mora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ungles, slugg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s, and mountain pa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now the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lter not, nor st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a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’s high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give us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ad to bu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y fulf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ar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hig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rin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7:19Z</dcterms:modified>
  <cp:revision>72</cp:revision>
  <dc:subject/>
  <dc:title>PowerPoint Presentation</dc:title>
</cp:coreProperties>
</file>