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636-7B34-426B-8F02-1C6BE45E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B4D-EB8F-46A7-B2B4-CA8834F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8B5-90AC-417E-AEE2-2A6E643A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96E-D7B4-4443-A824-CE52E82E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B5D-6B64-47E8-B6D6-81D0D6BA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303-2EA0-48AA-8214-883E02ED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0CF-6728-47A0-972A-1A15577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025-30DC-4426-A09D-B23F864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298-4241-4DC5-BB9A-FAFA06B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FF9-F67A-47AA-AEC5-4F228CE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347-3C55-43CD-AEB5-A2A64FD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2FF-786A-4E8B-9522-EC34599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E250-D5A9-4D1E-9A71-144A306B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 Hath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the hours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the Lord Hath M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6002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118:2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eaven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be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sur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0:37Z</dcterms:modified>
  <cp:revision>14</cp:revision>
  <dc:subject/>
  <dc:title>PowerPoint Presentation</dc:title>
</cp:coreProperties>
</file>