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FA3E-C2C9-448B-A87C-3FD17B07D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1A9D-203E-4445-8F15-097DBB15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0496-10E8-4E08-A47E-D75AB103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15D1-9568-4553-8576-22A71D52F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5462-795E-4F59-AF05-5924A374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5BDC-8AB0-4ADD-89D3-4CDE9FE6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27DE-30F1-4A81-B8AC-D5577021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6F55-4ACF-40C5-9FA3-C43D89E8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94CD-05FF-4EE5-B438-962E27F8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A285-8CEA-4308-9FA6-0563F187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6B3C-7559-45DF-A471-E99047A2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23B5-FD99-4D8F-98A0-C55F3F14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014B-3EE6-4453-9C56-1BA21E76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44E6-A7BE-4AFC-9B50-C191C97F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13BA-B71C-420E-91D4-123F3A7E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AD5A-7146-4CB1-A2BE-30A7615D7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83F4-8E13-4498-9619-93B0ACC30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8FB1-AFC9-47E6-98C6-CA2BA76D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C616-790B-4B9C-8A95-00522044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7784-4248-43F6-A396-DF947290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C53C-D5B9-49F9-8DD8-CC8D9CD2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3BC6-4970-483D-8353-10638A08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D3A0-7D97-4EDC-A6F6-785924A6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75E7-1ACC-4EC9-A43B-E5C6B40C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8F4F-0F0C-48FB-8870-72C5CCB19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01AD-E62F-4A21-AB10-7462ABB551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at Child Is Thi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1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0" y="25146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What child is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, laid to r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Mary’s lap is sleeping?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1869480" y="1181160"/>
            <a:ext cx="54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William C. Dix, 1865 (Lk. 2:6-20; Mt. 2:1-1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What Child Is Thi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21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0" y="196524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What child is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, laid to r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Mary’s lap is sleeping?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1869480" y="1181160"/>
            <a:ext cx="54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William C. Dix, 1865 (Lk. 2:6-20; Mt. 2:1-1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m angels gr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anthems sw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shepher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tch are keeping? 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0" y="152280"/>
            <a:ext cx="9144000" cy="427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is, this is Christ the K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om shepherds guar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angels sing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aste, haste to bring him lau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babe, the Son of Mary.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6858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2. Why lies he in such mean estat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ox and ass are feeding?    Good Christians, fea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for sinners her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silent Word is pleading.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0" y="228600"/>
            <a:ext cx="9144000" cy="427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is, this is Christ the K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om shepherds guar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angels sing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aste, haste to bring him lau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babe, the Son of Mary.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3. So bring him incens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ld, and myrr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peasant, king, to own him;   the King of king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alvation bring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let loving hearts enthrone him.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0" y="228600"/>
            <a:ext cx="9144000" cy="427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is, this is Christ the K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om shepherds guar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angels sing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aste, haste to bring him lau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babe, the Son of Mary.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1"/>
            </a:gs>
            <a:gs pos="50000">
              <a:srgbClr val="00236a"/>
            </a:gs>
            <a:gs pos="100000">
              <a:srgbClr val="00103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1522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What Child Is Thi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763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21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0" y="1676520"/>
            <a:ext cx="59436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Arial"/>
              </a:rPr>
              <a:t>1. What child is this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Arial"/>
              </a:rPr>
              <a:t>who, laid to rest,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Arial"/>
              </a:rPr>
              <a:t>on Mary’s lap is sleeping?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299520" y="990720"/>
            <a:ext cx="54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WORDS: William C. Dix, 1865 (Lk. 2:6-20; Mt. 2:1-1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1"/>
          <a:stretch/>
        </p:blipFill>
        <p:spPr>
          <a:xfrm>
            <a:off x="6000840" y="228600"/>
            <a:ext cx="31431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1"/>
            </a:gs>
            <a:gs pos="50000">
              <a:srgbClr val="00236a"/>
            </a:gs>
            <a:gs pos="100000">
              <a:srgbClr val="00103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762120"/>
            <a:ext cx="579132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m angels gre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th anthems swee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ile shepher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atch are keeping? 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5810400" y="76320"/>
            <a:ext cx="3257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1"/>
            </a:gs>
            <a:gs pos="50000">
              <a:srgbClr val="00236a"/>
            </a:gs>
            <a:gs pos="100000">
              <a:srgbClr val="00103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0" y="152280"/>
            <a:ext cx="6019920" cy="4177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This, this is Christ the King,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whom shepherds guard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and angels sing;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haste, haste to bring him laud,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the babe, the Son of Mary.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5810400" y="76320"/>
            <a:ext cx="3257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m angels gr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anthems sw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shepher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tch are keeping? 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1"/>
            </a:gs>
            <a:gs pos="50000">
              <a:srgbClr val="00236a"/>
            </a:gs>
            <a:gs pos="100000">
              <a:srgbClr val="00103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0" y="152280"/>
            <a:ext cx="6095880" cy="414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2. Why lies he in such mean estate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where ox and ass are feeding?    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Good Christians, fear,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for sinners here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the silent Word is pleading.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5886360" y="76320"/>
            <a:ext cx="3257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1"/>
            </a:gs>
            <a:gs pos="50000">
              <a:srgbClr val="00236a"/>
            </a:gs>
            <a:gs pos="100000">
              <a:srgbClr val="00103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152280"/>
            <a:ext cx="6019920" cy="417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This, this is Christ the King,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whom shepherds guard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and angels sing;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haste, haste to bring him laud,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the babe, the Son of Mary.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5886360" y="76320"/>
            <a:ext cx="3257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1"/>
            </a:gs>
            <a:gs pos="50000">
              <a:srgbClr val="00236a"/>
            </a:gs>
            <a:gs pos="100000">
              <a:srgbClr val="00103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0" y="228600"/>
            <a:ext cx="5867280" cy="414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3. So bring him incense,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gold, and myrrh,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come, peasant, king, to own him;   the King of kings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salvation brings,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let loving hearts enthrone him.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5886360" y="76320"/>
            <a:ext cx="3257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1"/>
            </a:gs>
            <a:gs pos="50000">
              <a:srgbClr val="00236a"/>
            </a:gs>
            <a:gs pos="100000">
              <a:srgbClr val="00103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0" y="152280"/>
            <a:ext cx="6019920" cy="417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This, this is Christ the King,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whom shepherds guard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and angels sing;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haste, haste to bring him laud,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the babe, the Son of Mary.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5810400" y="76320"/>
            <a:ext cx="3257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, this is Christ the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m shepherds gu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ngels s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te, haste to bring him lau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abe, the Son of Mar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Why lies he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ch mean esta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ox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s are feeding?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od Christians, f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sinners 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il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d is pleading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, this is Christ the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m shepherds gu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ngels s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te, haste to bring him lau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abe, the Son of Mar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So bring him incen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ld, and myrr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peas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g, to own him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King of k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lvation br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lo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ts enthrone him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, this is Christ the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m shepherds gu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ngels s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te, haste to bring him lau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abe, the Son of Mar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1-12-21T17:51:13Z</dcterms:modified>
  <cp:revision>71</cp:revision>
  <dc:subject/>
  <dc:title>PowerPoint Presentation</dc:title>
</cp:coreProperties>
</file>