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646-3E38-447E-919C-BB7A8287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EB0-88AA-4FC0-9765-2C3E2EED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D71-4A35-4C97-BEE0-82D3FA2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C6D-561A-416E-8F62-D022E820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8F8-3C35-4233-AAC2-DF909BC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B82-4441-444A-A1EE-71B3836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6DB-6B6C-4990-A57C-52C8348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862-F658-4D84-8675-AC760519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B97-EC5C-4F68-907C-358094F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C39-4304-44A3-B6A4-0FBD0E0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CE0-7B47-4514-810F-0BB221B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C28-F968-4039-8350-6DEBD058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29F-12B1-4F7B-886D-05B6D2A5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od to Pilgrims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food to pilgrims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nna from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intzich Gesangbuch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661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John Athelstan, Laurie Riley, 1906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nger;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l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y de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n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ream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te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urest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ing from 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’s 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 with thir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e need prov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e bid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re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den in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ead and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when the ve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be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untenan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20Z</dcterms:modified>
  <cp:revision>133</cp:revision>
  <dc:subject/>
  <dc:title>PowerPoint Presentation</dc:title>
</cp:coreProperties>
</file>