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0E1-37E3-4143-8292-5B865273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2EB-F989-4724-B47E-40A6283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DB6-7009-4779-AF91-C4B555BE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43D-E7C6-4A8F-9F41-53A9FE68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768-F3B6-452D-A121-6516E8A3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7F5-434D-43F3-A29D-C7A8D967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029-9855-408B-AEE0-6192DBE0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414-E3B6-4D4E-ADCE-97C163E5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D5F-926D-4400-BD20-0A6403D6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22F-FD6E-4BD5-BA5C-BBC734B3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A32-E3F6-4E3B-8092-95BDA3B4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265-1B11-4BEC-9A6E-188B868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19A7-25CE-4286-A6ED-CDD398C1A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Disconso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ye disconsol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ye l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 mercy s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vently kne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93040" y="1066680"/>
            <a:ext cx="676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Moore, 1816; alt. by Thomas Hastings, 183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ring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nded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ell your anguis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s no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aven cannot h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y of the desol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the str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of the penit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deless and pu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speaks the Comfor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ly s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Earth has no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aven cannot cur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see the bread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waters fl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h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from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ever kn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s no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ven can re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6:45Z</dcterms:modified>
  <cp:revision>7</cp:revision>
  <dc:subject/>
  <dc:title>PowerPoint Presentation</dc:title>
</cp:coreProperties>
</file>