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9871-04C6-4CF1-916D-7D9AE212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80F0-5E27-4C13-941D-65BCC126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7C1F-2F6E-4752-AD9E-1BA86786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8867-3488-41E8-A3CC-07CD88FB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6E94-9F76-4DB8-95CA-17CB3CF5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FB86-8A46-4B3A-BEBA-0EDC0879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0B68-14D7-4583-B7C8-4ABC5137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6767-DE4A-4DB1-AA33-44B89C59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2F66-0BAA-4CC7-BABB-AA1B9A01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258E-1DC8-47AD-A5DA-E511651B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40C4-BBF2-49BE-92DA-8A6501B2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D613-0288-407A-8486-304DBE15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E657-D41B-4678-93AF-2D5F761A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FE14-881B-4903-BC39-B358311D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D762-271C-44A6-A225-53F0E29C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6119-AD0B-4FBF-863B-94AEE806F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48DF-AE08-4D12-9BC8-37273361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D06A-C722-4E4F-A4EE-90153DAE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532B-CBFF-4E08-BC73-7726AF7E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61F3-01DA-4692-B174-6619283F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1134-2A1A-47CD-9082-1ECF905F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766C-450F-47FA-BA4F-1CD44C18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0E1E-CE9A-4B63-AF61-ADF32105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985C-C974-4E64-92FF-E1155ED8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30B1-A020-44EE-90D8-01A0188F4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4B1D-7907-4377-AD1F-4765E4DB3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Love That Wil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t Let Me 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Love that wilt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t let me g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rest my we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ul in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That Wilt Not Let Me G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9680" y="169056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George Matheson, 188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00560" y="228600"/>
            <a:ext cx="59155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give thee ba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fe I ow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n thine oce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pths its f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richer, fuller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O Light that followest all my wa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yield my flickering torch to thee; my heart restores its borrowed ra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at in thy sunshine’s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laze its da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ay brighter, fairer b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That Wilt Not Let Me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O Joy that seekes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e through pa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cannot close my heart to thee;        I trace the rainbow thru the ra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feel the promise is not va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at morn shall tearless b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That Wilt Not Let Me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 O Cross that liftest up my hea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dare not ask to fly from thee;         I lay in dust life’s glory dead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from the groun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here blossoms re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ife that shall endless b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That Wilt Not Let Me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13160" y="1482840"/>
            <a:ext cx="59155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give thee ba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ife I ow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n thine oce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pths its fl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richer, fuller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Light that follow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my 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yield my flicke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rch to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That Wilt Not Let Me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resto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borrowed r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n thy sunshine’s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aze its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brighter, fairer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Joy that seek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 through p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cannot cl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to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That Wilt Not Let Me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36280" y="1101600"/>
            <a:ext cx="5670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trace the rainb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u the r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eel the prom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not v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m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tearless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O Cross that lift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 my h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are not as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fly from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That Wilt Not Let Me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646280" y="1101600"/>
            <a:ext cx="5850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lay in du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’s glory d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om the gr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blossoms 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endless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Love That Wilt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t Let Me 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209680"/>
            <a:ext cx="9144000" cy="146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O Love that wilt not let me go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 rest my weary soul in thee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That Wilt Not Let Me G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9680" y="144792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George Matheson, 188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5-23T14:31:26Z</dcterms:modified>
  <cp:revision>22</cp:revision>
  <dc:subject/>
  <dc:title>PowerPoint Presentation</dc:title>
</cp:coreProperties>
</file>