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4F8-D957-43B4-8682-29BA86E5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17E-DFDC-492F-BCC3-1B846CFD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91E-F9B9-4A79-9B65-2C0F9598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896-46F8-4934-824E-5B48CC94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24A-A2C0-42F6-A8E8-1141964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39C-5DF6-4F89-A00F-818148E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486-0867-471A-B089-66A190B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C79-0B36-4B45-AB61-ADE82C0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A9D-763D-4886-9BB0-F98296B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7FA-A782-4E46-83AB-983168C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8D0-ACC7-4F90-B3B6-E31D75A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9F8-66DF-413D-82C5-A130B2B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1D72-2F96-4A8D-9D8C-09414B2B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 (Gal. 6:1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4-01T21:42:30Z</dcterms:modified>
  <cp:revision>53</cp:revision>
  <dc:subject/>
  <dc:title>PowerPoint Presentation</dc:title>
</cp:coreProperties>
</file>