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37C-F5D0-45F6-AF35-9AC8A4F8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DDE-E2F2-47F6-AD69-C0B1488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7AF-1151-4EDC-B22A-1A8A6070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872-85CE-4CCB-871F-1CDE8C1F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63C-FCF5-4FC7-829F-1EC1D19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BBD-C733-4FF6-98DF-FF94C44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AAA-DFA7-4CBD-AF7B-1D2CD53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263-56DE-4D2E-91E7-D30C9E3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624-C3C2-4E78-8F65-F6140A38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00E-111F-439F-BEBC-3DF9F7A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1A3-8925-49A7-B1BF-4666E6A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8D5-1BE9-4FBC-A666-237A8BC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7D8-61A2-4A60-A51F-A4612076A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That Mad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that mad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kness and l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the day for toil hast gi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st the nigh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2520" y="152388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Reginald Heber, 1827; st. 2, Frederick Lucian Hosmer, 1912 (Gen. 1:1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16040"/>
            <a:ext cx="86104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in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s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swe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 se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ream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att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ve-lo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const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s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,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ew lik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bor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rd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that call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enthr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throug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f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ost w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9:23Z</dcterms:modified>
  <cp:revision>26</cp:revision>
  <dc:subject/>
  <dc:title>PowerPoint Presentation</dc:title>
</cp:coreProperties>
</file>