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878-2E48-431A-A9D7-1F190D0A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4D2-3606-4B8E-8203-2EBC3C69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DE1-C4FA-4EA7-9ED7-1408C579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575-58E9-4CCA-958C-48400A31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0F7-E56E-4A95-A2D1-389BEBB1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A38-29A0-4201-8DB3-FA19558C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E68-9FC4-42A2-929A-26515E7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85E-2F88-4AC8-8F04-2B910DB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31A-5F3C-4B1E-B2DC-7FA4A75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CE2-676F-4BA5-B8CE-0A7147E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2E8-1663-4503-B678-6C23AF6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19E-DA39-4D40-BB61-853CE9C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460-BED3-4F34-8BFC-6206BB3E0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Whose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Humbl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rd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umble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e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uman n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1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61,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pth and grea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quickened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ing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eds and burd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s us b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ing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reless str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bund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ed by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serv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me we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outh, the 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n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to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ll and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sel,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we gi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your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upon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ered merc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de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your serva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of voic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till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 home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for br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he capt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in gr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our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deep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ed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d the sou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 kind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o s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r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24Z</dcterms:modified>
  <cp:revision>86</cp:revision>
  <dc:subject/>
  <dc:title>PowerPoint Presentation</dc:title>
</cp:coreProperties>
</file>