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8C38-E3D3-4033-9DAA-C810512A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AB2-E9D3-4B35-942C-8AD60C5C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76E-257A-46CE-802C-58837B99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08D-DE6C-4322-BFCA-470755EF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E0A6-8F4F-4B24-8843-4F955F50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8E87-6494-4DED-B229-70E91562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B7A-C962-4C50-80EF-DAA4F293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5A1-7327-4AFD-A308-E5674400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378-47CB-49EA-A6DB-8FEA870F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C31-9A02-4559-8011-126524A2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549-4B05-4AB6-86C9-2A9E94EB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963-B01A-402F-B55D-0227F06C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CE8C-B498-4136-A5C9-6C25B5752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yrie Ele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yrie Ele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78800" y="1004760"/>
            <a:ext cx="27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cient Gre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9:46Z</dcterms:modified>
  <cp:revision>23</cp:revision>
  <dc:subject/>
  <dc:title>PowerPoint Presentation</dc:title>
</cp:coreProperties>
</file>