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DF53-9A1A-49A3-8552-3A2829716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4701-83A9-4EB8-9208-5048FCF5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E24F-7A34-4F19-A894-FABCA78F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E854-2EBC-4BB4-A9D1-D7B149BEC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A2C4-F692-441C-A897-0E809E9B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7AC4-D477-4A39-AA3D-243B8851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622F-6DE2-4B9C-A0D9-F894FEBE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3BCD-4583-4C88-BF7D-A3034568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DCDE-7168-42D4-BEF4-35AB86CE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E66C-D500-4547-88DE-B5397C14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482E-EBDA-4141-8DF7-8669E8E3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F313-E85B-42EF-9453-87A25746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1470-12D6-41CE-9081-AEE2B9DAB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Things Come of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8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e, O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f thine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we given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Come of Th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1 Chronicles 29:14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7:11:24Z</dcterms:modified>
  <cp:revision>94</cp:revision>
  <dc:subject/>
  <dc:title>PowerPoint Presentation</dc:title>
</cp:coreProperties>
</file>