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7A3-595B-4519-9443-7FBEF2D3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0E6C-E32F-4B19-9BF6-D16B1EEA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01C-54E5-4FA6-A013-A98B78B7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6E4-5B11-4CFC-A28C-4CC2D0F3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FD0-917C-4ABB-B906-8EB91E65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571-5BAF-452B-892F-4958CE42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21F-A63E-4A2D-8989-E75CE84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06D-4A0C-4617-832C-97E4D6A0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F0D-9E76-4089-9C55-FA91459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146-6FD2-4CBF-9B6B-611FF28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190-3F22-4FEB-BC03-44F1170C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603-F8F5-4A41-82D8-5F95F989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71F5-E704-4141-9D7B-4309BDC4A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um Ba Yah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ome By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98320" y="1676520"/>
            <a:ext cx="434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55160" y="2239920"/>
            <a:ext cx="7032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Let us praise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03920" y="2239920"/>
            <a:ext cx="6534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4120" y="2239920"/>
            <a:ext cx="6395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67320" y="2239920"/>
            <a:ext cx="7209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62440" y="2239920"/>
            <a:ext cx="6819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4120" y="2239920"/>
            <a:ext cx="7296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6:46Z</dcterms:modified>
  <cp:revision>37</cp:revision>
  <dc:subject/>
  <dc:title>PowerPoint Presentation</dc:title>
</cp:coreProperties>
</file>