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5BD-8006-4606-8F50-9693D06C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385E-5E7F-4050-9C0F-5639AC8E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A49-D974-428E-9E67-D7796678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6A9F-91C6-4850-906C-66224128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1A88-A7D9-4FD6-9075-6071E140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ED6A-8BAC-42AE-AF2B-BCDFF4F5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E4B9-9B47-4175-96F3-03CC6379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BF03-05D6-43D0-A69F-6AC5DC1B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E88E-389F-40EC-8131-1DD9CC6D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7067-736D-48B8-AF8E-A67FE474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D4AE-80E3-41CC-8606-C791591D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0B80-0D89-4388-B719-DF75E37A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B7B9-3E6C-4FEF-A2D6-DDEF815B2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a Palabra Del Se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ñor Es Rec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12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ñor es rect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y sus obras son maravillosa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 justicia y el derec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ienen tronos a su diest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y permission of Juan Luis Gar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ía; trans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5400" y="182880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uan Luis Garc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a; trans. by George Lockwood, 1987 (Ps. 33:4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90520"/>
            <a:ext cx="788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Righteous and Just Is the Word of Our Lord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8736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y the div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we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s creat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from God’s mo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great breat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ming the star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mo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gathered 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n winesk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wa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ocean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put the dee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ir chamb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valle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riv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ear God, all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peopl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w down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you nation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sterpiece wor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d and wondr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comm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ang to be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ose addic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vil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la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God frustrat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ly God’s judgme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’s pla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confirm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ed forever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n su divina palab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eron creados los cielo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 aliento de su bo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 formaron los lucer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l como en odre reco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 inquieto mar las agua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 abismo h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estanqu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los ríos las cañad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palabra del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 es rec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us obras son maravillosa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justicia y el derec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enen tronos a su diestr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male toda la tierr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óstrense tod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 pueblo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bras tan grand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xcels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u mandato surgier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ustra 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 l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signi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los que en 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l se embriaga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ólo sus planes y juici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 confirman y proclam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064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palabra del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 es rec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us obras son maravillosa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justicia y el derec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enen tronos a su diestr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48:21Z</dcterms:modified>
  <cp:revision>23</cp:revision>
  <dc:subject/>
  <dc:title>PowerPoint Presentation</dc:title>
</cp:coreProperties>
</file>