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E4D-C891-4330-9C56-36167CF9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06C-4DCE-4858-A349-3BBF7FB3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7C4-CB94-4997-8E7C-413321C1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293-B8DA-4282-821F-14F4C4A8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BA4-4A98-4EE1-A727-C19C8E79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DEF-730E-4C16-BE89-8AE75BBA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70A-0F65-4282-866B-D9C1CCF0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7F3-42C0-491C-A2CE-E692E34D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574-BCDE-4512-95E3-1C758B5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7F3-EC43-4E20-973C-8DB82C1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25-725C-43A8-B1B6-E64C0DD9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370-E130-4A3D-ABD5-5706992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8E5-C45E-4837-8FF2-AA635B56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ray 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Let us pray to the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ray to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1880" y="1295280"/>
            <a:ext cx="8682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         Christ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752480"/>
            <a:ext cx="87631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Let us pray to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0:24Z</dcterms:modified>
  <cp:revision>27</cp:revision>
  <dc:subject/>
  <dc:title>PowerPoint Presentation</dc:title>
</cp:coreProperties>
</file>