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3368-00CE-4611-B113-07B59B7AF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80B9-7624-47D5-BC5F-E8E46E52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107F-A5EF-495A-B421-31E9B519E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98F3-24AA-42C2-A26F-30C6567FB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DD4E-F755-4F91-899F-293FDFCA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57A5-182E-4078-9F14-77BAD752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07FC-44A6-4BC6-985C-24F343E5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B480-5E20-4984-BA12-8AFCF7F5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917D-4906-4E12-B62C-5BEE5E5A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EDFB-F92D-4F83-AA6B-F0BC6E91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B043-CEB9-411D-91A9-169B77B7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3558-5272-4AA3-884C-277AA782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0149-854B-41CD-A0EB-A55174075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race Greater than Our S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Marvelous grac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loving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that excee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in and our guil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e Greater than Our S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73800" y="1143000"/>
            <a:ext cx="540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ulia H. Johnston, 1911 (Rom. 5:2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ok! There is flow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crimson t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ghter than s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can be to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,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that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rdon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anse with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e Greater than Our S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,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tha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er th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ur s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Marvelous, infini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tchles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ely bestow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all who belie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e Greater than Our S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that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nging to see his f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you this mom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grace receiv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,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that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rdon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anse with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e Greater than Our S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,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tha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er th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ur s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nder on Calvary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unt outpou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wher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ood of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mb was spil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,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that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rdon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anse with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e Greater than Our S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,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tha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er th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ur s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in and despair, lik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a waves co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eaten the s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infinite los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e Greater than Our S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that is grea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, grace unto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int to the refu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ighty cro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,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that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rdon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anse with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e Greater than Our S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,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tha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er th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ur s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Dark is the st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e cannot hid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can ava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sh it away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e Greater than Our S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36:02Z</dcterms:modified>
  <cp:revision>14</cp:revision>
  <dc:subject/>
  <dc:title>PowerPoint Presentation</dc:title>
</cp:coreProperties>
</file>