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4B0-3858-4E53-AE0F-BEA2C938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24E-630C-47BF-BDC9-A3078EB0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4BC-83A2-4D78-ABDB-761C7F9B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648-4A7F-47E6-B5C8-B0714E2E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685-2023-49AB-9481-1FB35E03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DF8-AE08-4081-A6D8-D37255DE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B50-DAA9-469E-BC90-77796176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ED7-2EB3-48EB-B302-96484EE3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F94-783E-4EE8-8F9E-072724ED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CA4-D453-4FF8-B4C3-91267FE8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BFA-2902-434F-B9B2-AAC91193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6AB-C1D7-4340-A28B-91C6DC6D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B4FC-BC07-4936-955E-239779488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Kingdom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kingdom of God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a grain of mustard see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t is s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ea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the smallest s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87440" y="1015920"/>
            <a:ext cx="63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racia Grindal, 1985 (Mt. 13:31-32; Mk. 4:30-3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686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For when it is s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grows in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argest pla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er than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herb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rows into a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686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t grows so birds ca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inside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n of lea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 in its shad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y from 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il pr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686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nd so we can li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to seeds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a tr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rger than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just the smallest s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686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15:36Z</dcterms:modified>
  <cp:revision>32</cp:revision>
  <dc:subject/>
  <dc:title>PowerPoint Presentation</dc:title>
</cp:coreProperties>
</file>