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E27-1585-4A3A-9122-E07F2662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DC6-6FA3-4BBA-B91D-ED0A3342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0D9-39CD-45B7-88AD-D4FEC935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FE4-3AE7-4A61-A805-2C473252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2C85-9CAA-44E1-B976-A6BC08A2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0EF4-E460-44B3-AD72-E7EAFAA4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3456-B8D1-4670-BCB7-5E598B7F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466B-F2D0-4A27-B960-C785009C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859F-EC6A-4F44-87AA-E16720FD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DDFE-C390-42CA-B112-A26B68B2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8527-0111-4D9A-9707-E663AA32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6F7-1EB9-4BFA-97BC-BBFA827A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DF46-71AC-4774-98C8-2363C0EC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1ECA-E516-40E3-8B17-298A99DA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4532-F9AB-4A89-88C8-8E79759B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09FF-1A53-4FCA-9A14-B9193241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0A65-746E-4501-8C37-E4926EA8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403-775E-4B38-86F6-AD75B247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3A9-9945-4618-A50C-E1E876C5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EDB-C045-4B6A-9F69-CE8D2252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2B9-FCE0-4152-9DF1-B79E2ED3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3C8-218F-46AD-968A-B26F646D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8F0-4F7F-4392-A310-8BCE6DB0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C5D-AC43-4B54-B685-463ECA87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9D08-E070-4430-853D-FF70EF132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AEB5-D7EC-4F6E-B731-97B1238A1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rest Lor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Fairest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ler of all na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ou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n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60" y="109224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nster Gesangbuch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1677; trans. by Joseph August Seiss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ill I ch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ill I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, my sou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joy, and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air are the mea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rer still the woodl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bed in the blo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rb of spr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fai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pu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makes the wo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to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Fair is the sun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rer still the moon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the twink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ry 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shines brigh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shines pu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can bo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Beautiful Savi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 the natio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Go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Ma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, ador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and 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ill I ch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ill I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, my sou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joy, and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air are the mea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rer still the woodl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bed in the blo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rb of spr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fai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pu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makes the wo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to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Fair is the sun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rer still the moon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the twink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ry 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shines brigh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shines pu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can bo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Beautiful Savi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 the natio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Go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Ma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, ador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and 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12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rest Lor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Fairest Lord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uler of all natu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thou of G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n the Son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0160" y="97488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nster Gesangbuch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1677; trans. by Joseph August Seiss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1-12T23:09:24Z</dcterms:modified>
  <cp:revision>41</cp:revision>
  <dc:subject/>
  <dc:title>PowerPoint Presentation</dc:title>
</cp:coreProperties>
</file>