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EA84-8A9D-4C33-A561-37E97B97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1211-BF70-4134-B12B-8BD6B0AF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DF66-AE89-41E3-A436-F82639159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A0FC-342A-42B1-8BE7-241988233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548F-9A0C-487D-A44C-5932EE7F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D321-2812-422B-B483-E275849F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8141-EC3C-4A7A-B02B-A71D8E0C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A50B-8C46-4ECE-9102-BA31A636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4378-BDF5-4F2D-A8C0-5F4DCA6D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59D8-264E-4799-8F3F-53B1526A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87D5-2EA2-4F88-B71E-15F57B6A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A1FB-4BFA-42CE-88EF-4D8E1034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6B5E-C7AA-49A1-9F60-9E52182DE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, Remember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8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1144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Jesus, remember m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hen you com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to your kingdom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Jesus, remember m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hen you com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to your kingdom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Remember 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33240" y="990720"/>
            <a:ext cx="2512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Luke 23:4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20:51Z</dcterms:modified>
  <cp:revision>31</cp:revision>
  <dc:subject/>
  <dc:title>PowerPoint Presentation</dc:title>
</cp:coreProperties>
</file>