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5DF-2321-4A9A-91AC-332B72A7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B0D-50CA-4F51-90E6-C8431BE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68D-C4C0-4B55-BE70-CB203541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32A-08D4-4867-A6EC-09EBA78F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639-34B3-46E8-8E35-5450122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A2-9483-4DEA-9BCE-A5C1174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423-C6D7-4DD2-A1CB-5D0CB6EA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DA9-F600-4E37-BC17-EAF2737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E8-51BC-4441-A7FC-2E425140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09F-B4A0-43E4-A260-1C71B98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B22-766C-4FAC-92BD-AD0B736A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B57-87E7-4D48-A435-0A06E1A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4CB0-1C3D-4568-8856-19E4E3D2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Feast of Vi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5:12-13; trans. by John W. Arthur,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 his re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3716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who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peopl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ric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,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,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are 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in in the hy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and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36Z</dcterms:modified>
  <cp:revision>142</cp:revision>
  <dc:subject/>
  <dc:title>PowerPoint Presentation</dc:title>
</cp:coreProperties>
</file>