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A4C-3E6C-4FB2-8E61-F7A67187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232-2934-4190-97BA-BFBECA23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921-5B78-47B0-9E82-AB8DB60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DE7-5A0A-4695-BF07-F2CCD7D8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2C5-2841-4B62-9FF7-8156EA3D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138-6E69-475D-954B-1EFD58C6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152-10DE-4704-8644-153C40C4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AEF-C218-4852-9CC8-CCE6C0D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0F3F-4FA1-4F8A-9144-67C7DBB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C439-6A91-41E4-9662-D04AF17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B55-EE90-4435-844A-B73B155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6CB-9409-495C-8BE3-F2E8583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180-225D-46F5-9E21-876EAC79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616-34AF-4C43-8BBA-D30C7E1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CC2-4F4E-490F-B025-8897B98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8E1D-9F5F-421A-BD16-8FE3B34A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7EE3-2441-41B3-8558-A1E2BA3B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C69-C110-4099-8555-5D4339A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0AD-A68E-4387-865F-5FE48AE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B06-F1A5-444B-8933-5761CEF5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2EA-2A1A-4B58-99B0-669D43C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3F7-3307-409C-834A-B0817C7F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89F-B1AA-44C9-882D-05482EE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A62-3551-4FAD-B2E2-12DCA08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20D-011C-463A-9F04-91864A1AD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D56-7C01-4D61-B4CD-F4B8D59C5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14400"/>
            <a:ext cx="9144000" cy="512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5500"/>
            </a:br>
            <a:r>
              <a:rPr b="1" lang="en-US" sz="5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6200" y="68580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5238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 I love to h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 i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80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652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04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820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4320"/>
            <a:ext cx="914400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14520"/>
            <a:ext cx="9144000" cy="480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6504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tells of on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loving he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feel my deepest woe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n each sorr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a par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none can bear below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5280"/>
            <a:ext cx="9144000" cy="467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re is a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love to sing its wo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sounds like music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weetest nam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26200" y="10159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Savior’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died to set me fr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tells m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nner’s perfect pl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5:39:23Z</dcterms:modified>
  <cp:revision>36</cp:revision>
  <dc:subject/>
  <dc:title>PowerPoint Presentation</dc:title>
</cp:coreProperties>
</file>