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26B9-E2BA-40DC-8EBF-A999D704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C6D0-12D3-4D21-9FF0-4D5FDA79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9221-4F02-4CA9-9F9F-9CC10973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5FEB-B354-4BD7-96CB-379E42A5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2A15-0F22-4C2B-8CB2-273D423C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711C-3BCC-44C0-B554-E0F754C0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4755-162C-4F7A-BF6E-AA0E73CA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BAD-245A-4FF5-8DD4-D08E8F1A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5D3B-E5F4-4683-8F6A-69254E2C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379D-902B-4F42-8C41-71918D9A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F1C0-8F4F-466B-BA85-F06DB96E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0F3A-E1A2-4BB1-A33E-40C8F275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AB6F-7915-46DF-B3CA-2BB777A06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ian People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aise Your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51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hristian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 your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se away all grieving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Saint Andrew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ian People, Raise Your So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olin P. Thompson, 1975 (1 Cor. 15:2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05740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your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made st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ord’s life receiv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ture’s gift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at and v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are set befor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off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and w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comes to restor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 wel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eat revel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has pione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new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ian People, Raise Your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et the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risen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adly recogniz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ith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greet the sp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t of winter ri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8:45:16Z</dcterms:modified>
  <cp:revision>137</cp:revision>
  <dc:subject/>
  <dc:title>PowerPoint Presentation</dc:title>
</cp:coreProperties>
</file>