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DF2A-AAC6-4C9F-895D-CF928923A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97A6-DDEF-421A-A0DB-52E0F651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9448-B0CE-46AE-8F00-60688903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421D-7DC1-42FE-A028-596794E9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FB77-195C-429C-8D8C-F6A0D05D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0ABC-D9D3-4BC5-AD82-8B9155BC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E77E-B72B-4347-90C3-76922AAB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E487-FAC0-4CB4-89EA-6298AD7A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5DC9-E75A-426D-B48E-7E244DB7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CCF8-8BBB-4C48-A62C-82EF2D25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4A5D-6B9A-49D4-8780-938F70C9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8170-970C-4014-899A-B94978BB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14EC-44BE-456C-BDC2-99EB77F7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09F4-3638-41DC-9E62-1EAAFDD9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0FBA-0B61-4F93-ADB7-4A54878A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E465-2C71-410B-B65D-2516DEE9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8EF1-6014-400F-BFCA-92C9D0FA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5936-BEBB-4910-881B-3834CB11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D7AC-1D4A-424C-A63C-0DED1153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F1D0-A011-4D9B-8D91-8F41BF1E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0252-3219-4182-8B64-B77BB29F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7DC2-C01D-4395-A3B9-01A08226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DF80-5688-4E98-B371-A0A6FAA7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D3F8-501B-4C7F-9AF3-5C62849E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8081-6FD5-4332-9F74-5E2279774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2B3E-449D-4F4B-BBB3-F125DA216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All Mortal Flesh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Keep Sil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et all mortal fle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sil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h fear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ing stand;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Mortal Flesh Keep Sil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765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Liturgy of St. James, 4th cent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Gerald Moultrie, 1864 (Jn. 6:35-58; Rev.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his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ix-winged serap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erubim,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eepless ey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Mortal Flesh Keep Sil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eil their fa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pres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ith cease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oice they cry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76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All Mortal Flesh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Keep Sil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9810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Let all mortal fles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keep silen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with fear an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rembling stand;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Mortal Flesh Keep Sil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371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Liturgy of St. James, 4th cent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Gerald Moultrie, 1864 (Jn. 6:35-58; Rev.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5335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ponder nothing earthly minde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with blessing in his hand,   Christ our God to eart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descendet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full homage to deman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2127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King of kings, yet born of Ma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s of old on earth he stood,         Lord of lords, in human vestur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the body and the blood;              he will give to all the faithful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is own self for heavenly foo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Mortal Flesh Keep Sil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890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ank on rank the host of heave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preads its vanguard on the way,    as the Light of light descendet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om the realms of endless day,   that the powers of hell may vanis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s the darkness clears awa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Mortal Flesh Keep Sil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890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t his feet the six-winged serap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herubim, with sleepless eye,        veil their faces to the presen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s with ceaseless voice they cry:    Alleluia, Alleluia, Alleluia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ord Most High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Mortal Flesh Keep Sil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nder no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ly mi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ith bl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ha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our God to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cende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ull hom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dem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of kings, y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of M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of old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he sto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Mortal Flesh Keep Sil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of lords,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man ves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l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giv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faith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own 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eavenly f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nk on ran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st of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eads its vangu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Mortal Flesh Keep Sil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Light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descende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realm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less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pow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l may van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rs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5-30T01:24:26Z</dcterms:modified>
  <cp:revision>129</cp:revision>
  <dc:subject/>
  <dc:title>PowerPoint Presentation</dc:title>
</cp:coreProperties>
</file>