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D75-3879-42A1-8F1E-1F5520F7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21B-A03D-4E2B-90CE-13C3A7C3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BB6-C096-4321-B53D-9DE69C55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A6D-AF36-462B-BA52-A38E02E5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90D-BD4E-4DB8-8CE8-9283918F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471-F87C-469B-A3A1-0BBE05A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342-871C-4285-A45E-FBB1D6D3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CAF-44A1-493D-BC50-8C96E8A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D3D-EA9B-48AA-8159-8980A85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75E-5FE4-408B-BD91-E386D79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C69-F477-4F39-A6D4-73302F4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6A8-943E-4AB1-9672-F7BE48D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E0C3-DDF8-49B6-97A1-8CAAC7F4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e of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ginald Heber, 1872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om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wer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whos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are de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rrow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inners sh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thy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the t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r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1:45Z</dcterms:modified>
  <cp:revision>125</cp:revision>
  <dc:subject/>
  <dc:title>PowerPoint Presentation</dc:title>
</cp:coreProperties>
</file>