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684B-9D57-4904-B90D-F33656AB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CF6D-E53C-4EC6-93FE-B20654EB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AC8-D906-4A88-8A69-911E9233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D3B9-5D39-4606-BE5F-3B3541FB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0273-F021-4B87-91DF-5E657DEB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7894-7A43-44A4-BD38-69C00E95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2C4A-1396-4F87-8F44-E9E7142B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3339-B2D7-41E8-A95B-5964F5B9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A091-EE08-4D8B-9038-06B58C99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216C-8DA7-4EC4-91C0-7DB22C6A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FD8B-11A7-40A0-95B5-C1FED0C2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68CA-9410-4D4F-A2AD-26423468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469F-9731-4312-AE07-07DFA0E8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75BB-EFCC-4C45-83EE-E6BEF786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CE09-FD71-44D3-8DEE-53074FB7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17D8-4597-484A-A2CF-2611A989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9124-8D00-4E9A-ABF9-63CA7C66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75D8-92D5-4879-9EF7-E16789E1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36B-9FEC-4A37-A06E-30FE3666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D88-1924-4F1C-A748-3010F1B7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F12-4500-468A-A820-759ACB7C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3C27-6547-4B5D-977A-393D1C97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4F69-869B-46D7-9762-C3D228D2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DA65-BE5B-4927-9D83-21090B8D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9DCC-C0BA-4011-8BF9-9038DCF49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0C1B-9594-4B92-95E9-D633958DA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 Thou My 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222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cient Irish; trans. by Mary E. Byrne, 1905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versed by Eleanor H. Hull, 1912, alt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1. Be thou my visio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 of my heart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naught be all else to me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save that thou ar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nd thou on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rst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Go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treasure thou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Great Go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victory w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y I reach heaven’s jo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bright heaven’s Su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of my own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ever be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be my vi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Ruler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 Thou My 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8222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cient Irish; trans. by Mary E. Byrne, 1905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versed by Eleanor H. Hull, 1912, alt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6002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Be thou my visio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 of my heart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aught be all else to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ave that thou ar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my best tho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day or b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king or slee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presence my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Be thou my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ou my true w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ever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ou with me,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nd thou on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rst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Go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treasure thou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Great God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victory w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y I reach heaven’s jo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bright heaven’s Su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of my own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atever bef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be my vi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Ruler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858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Thou my best thought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by day or by night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waking or sleeping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thy presence my light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05084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2. Be thou my wisdo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ou my true word;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I ever with the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ou with me, Lord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nd thou only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first in my heart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God of heaven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my treasure thou art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8380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3. Great God of heave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my victory won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may I reach heaven’s joys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Arial"/>
              </a:rPr>
              <a:t>O bright heaven’s Sun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874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Heart of my own heart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whatever befall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be my vision,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O Ruler of all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 Thou My 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06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ncient Irish; trans. by Mary E. Byrne, 1905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versed by Eleanor H. Hull, 1912, a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Be thou my vis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ord of my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aught be all else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e that thou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my best thou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day or b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king or sleep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presence my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Be thou my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ou my true wor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ever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ou with me,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9-25T14:23:06Z</dcterms:modified>
  <cp:revision>152</cp:revision>
  <dc:subject/>
  <dc:title>PowerPoint Presentation</dc:title>
</cp:coreProperties>
</file>