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F88-577D-4E13-9A3C-F79BF9ED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B86-F917-4502-BC9B-8F4FD2E8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EFD-A560-4F09-B160-C05DE236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45E-987A-46FF-951E-71D41CDB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179-ECE1-4C3D-A0B8-58C6B41F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508-7D2A-4246-B41F-F33931E5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50D6-5D2F-4302-B441-06582FF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89D-5C5F-4FE9-99D2-B5D5FACD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BD9-5ECA-41C6-803E-3AFFE5F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EFF-5DCF-4701-AC39-51D01CD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9D1-65D1-49CF-AD9C-19A0C41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804-9743-429E-BAE6-A4995FF4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65AF-87E3-4517-9188-4540E454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Our Confid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s Sh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our confid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sha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eliefs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secu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3160" y="16257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5240" y="1096920"/>
            <a:ext cx="7913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ts sic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s but cannot find a c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ac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tens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 faith not yet mat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lar syste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oid of me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eeze the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8040" y="1096920"/>
            <a:ext cx="72079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our research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ultimate unknow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must die, 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full circ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its source in Go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discipl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ra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’s hard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3960" y="1101600"/>
            <a:ext cx="7156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rudgery of c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’s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ough to grie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, matu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s acceptan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insights we rece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is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redeem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rucif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53920" y="1096920"/>
            <a:ext cx="74365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God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ans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world’s eternal wh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in t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matu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ontent to live and di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05:20Z</dcterms:modified>
  <cp:revision>38</cp:revision>
  <dc:subject/>
  <dc:title>PowerPoint Presentation</dc:title>
</cp:coreProperties>
</file>