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DDDC-57B8-4B3A-8DBF-65FC05BA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9851-40F9-4DB5-B9B6-543C5254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D295-1AC7-416B-9E29-A6F7BC54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AA55-06B3-4785-B635-9C3A32F6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407F-D5F9-4E03-BB2D-EFA2F3FB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FE7E-9F5F-4756-8ECE-A463DE05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4F2D-97BC-47EF-BF09-9F8F22DF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21FB-0C81-4435-B48D-FADDA25D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33B1-D352-47D9-9CCF-B8A8F0FA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2D94-F748-41CB-AF81-82871322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8C12-E125-44D0-8BF6-B04C38E0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3F39-BA06-4EA7-8580-9E542638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4E66-B795-4238-931A-9B6493C8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4CC7-EB8D-4E30-9728-C2A3C2DB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D2BD-5099-4430-BFEB-EADA6A30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8D8E-6545-4B2A-A1F0-54510CEC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0B70-FB93-4185-8DCD-A6F65AEB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00C5-7681-4C9D-AD4B-821A5EDA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B1C-9259-4E32-B0D3-86D44A0B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0C44-BEDD-4EF6-B40B-C328A2AA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B4DC-EE4E-422C-AEA5-F81A7DB8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3708-DDA6-4B98-9EDE-30E2AA37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1926-3A86-45FA-9F72-B1E8F9B0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0255-0FCB-4C07-8EFF-73E12EF6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5AAF-EEEA-4E8C-85CA-544F256A4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46FD-C375-4990-9169-B6E52FD94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Is the World’s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81080"/>
            <a:ext cx="9144000" cy="439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hrist is the world’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and none ot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in our dark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became our bro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© 1969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the World’s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99000" y="109224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Pratt Green, 19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143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we have see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have seen the Fath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hrist is the world’s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and none ot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one can serve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espise another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the World’s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447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else unite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e in God the Father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hrist is the world’s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and none ot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ld once for sil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urdered 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broth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the World’s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, who redeem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igns with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Fath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Give God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and none ot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God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, Son, and Fath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the World’s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God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roth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we have see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have seen the Fath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hrist is the world’s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and none ot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one can serve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espise ano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the World’s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else unite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e in God the Father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hrist is the world’s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and none ot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ld once for sil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urdered 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broth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the World’s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, who redeem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igns with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Fath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Give God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and none ot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God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, Son, and Fath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the World’s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God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roth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Is the World’s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72404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Christ is the world’s ligh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and none other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orn in our darknes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e became our bro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the World’s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99000" y="762120"/>
            <a:ext cx="35748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Pratt Green, 19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© 1969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1-24T23:32:20Z</dcterms:modified>
  <cp:revision>43</cp:revision>
  <dc:subject/>
  <dc:title>PowerPoint Presentation</dc:title>
</cp:coreProperties>
</file>