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8D4-4F3A-43D8-96A6-4BCACC10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63E-8240-4692-BE09-B17AC7B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C65-18A1-4678-84B7-F8EE46FB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CFD-1966-4080-97D9-570C0B1E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FC9-EBD5-4949-9B72-B2E7ED12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00A-FE2C-4C84-8D8C-51446C3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FED-AD2B-4948-B823-351F7EE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C0D-7C3E-4A80-8820-56A5CE8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2FC-9167-4770-B751-DC605D9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807-1085-4641-8D6E-BFD83DD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41C-79B4-4D1F-9CE1-605492F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3F6-2E3E-43A2-B4DD-84A3325F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244-2754-4151-9EB2-0766832B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rue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vern all by thy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that my soul may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serv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thou dost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not as I may cho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8240" y="990720"/>
            <a:ext cx="400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eresa of Avila, Spain, 16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punish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beseech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granting that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sh or as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if it offends thy lov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hich would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live 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die to m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live 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o in thyself art the true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11Z</dcterms:modified>
  <cp:revision>22</cp:revision>
  <dc:subject/>
  <dc:title>PowerPoint Presentation</dc:title>
</cp:coreProperties>
</file>