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B1A-473A-469F-8297-559E6AB9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57A0-1737-45E4-B216-CA9BDBE1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D06D-2518-4D97-947F-10FB0024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5BD-8905-447A-9060-D6249A39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D83F-FECE-4875-BB58-6A54B9D0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D06A-E955-4A39-8A23-3BDCDE0F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8C98-70B9-409E-9ECB-32FC5089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E4A9-14E5-43DE-9C8F-C0097D97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E974-BCF6-4E0C-8076-6702E08E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D395-65F8-45AF-A8C5-4C1171C2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F191-E0F2-4027-8235-4D2CC4B4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BF89-B1E2-490F-85EC-22162B27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71F3-9920-447B-99FD-387EA124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1B56-FC5B-4BF1-9A13-9BA9723F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6003-7F1E-4DF0-A009-017AB039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91E2-6748-40E0-92F1-117B609D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C3B4-4F1B-46F4-92A8-C3F0E48A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2F2-AE64-4C70-972A-EEA4792D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5B0-7CD7-44E9-A816-B3B2C7B6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C7A-BAAC-429E-826C-8203039A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CD9-245B-49D7-A2E2-93D6B602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45ED-2A9E-4DCA-BB3D-959E9B68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0AF2-7B2D-42A7-A33C-AD8AFE0E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D697-F0BB-4BEA-BD92-EBC6CEA7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C357-054D-4B00-9825-1DCBBDF04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5341-01E9-4D13-963D-9C453C785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the Lor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s Risen To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67652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3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hrist the Lord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n today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and heaven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orus say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we gr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ant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il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urrection, th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King of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of bli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is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to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ower to pr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to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us to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hrist the Lord Is Risen To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8380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WORDS: Charles Wesley, 173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3716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Christ the Lord is risen today, 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arth and heaven in chorus say, 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6094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aise your joys and triumphs hig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ing, ye heavens and earth repl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685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Love’s redeeming work is do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ught the fight, the battle w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6996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eath in vain forbids him ri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rist has opened paradi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85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Lives again our glorious K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re, O death, is now thy sting?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3049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ce he died our souls to sa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re’s the victory, boasting grave?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04920"/>
            <a:ext cx="9144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Soar we no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re Christ has l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llowing our exalted Hea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your jo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riumphs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, ye heav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rth rep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6858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de like him, like him we ri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s the cross, the grave, the skie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04920"/>
            <a:ext cx="9144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5. Hail the Lord of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arth and heave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raise to thee by both be give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6094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e we greet triumphant now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ail the Resurrection, th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85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6. King of glory, soul of bli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lasting life is thi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890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e to know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y power to pro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us to sing, and thus to lo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ve’s redee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 is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ght the f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attle w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in v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bids him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has ope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ad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ives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lorious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, O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now thy sting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ce he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s to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s the vic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asting grav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oar w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Christ has 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ing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xalted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lik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him we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s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ve,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Hail the Lor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and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both be gi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4-07T21:03:24Z</dcterms:modified>
  <cp:revision>59</cp:revision>
  <dc:subject/>
  <dc:title>PowerPoint Presentation</dc:title>
</cp:coreProperties>
</file>