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6B9-8089-4BE4-BF21-ED179A70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7949-FE49-48ED-8D70-2C71100B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F754-7FA2-4F3F-BF31-F5CCC3F5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417-8118-4E1F-AC1B-C8E8F1CC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7908-44D1-43AD-AF3C-83101995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D999-B853-4477-AB70-75E7F802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0F45-1A74-43C9-B306-8C9E962E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4706-C77E-4031-BF6F-66F4D6D9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6F6C-39A3-42B5-BD87-956D0E83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EE65-3FBD-4350-B1E9-1D3625EA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390A-F04F-4C1D-8C61-64314859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555-0C29-414A-98AE-552A184C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823C-7BC6-4D50-8FAE-B60CD71B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83E9-4AD7-4443-803F-58F958FC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CC81-B2C7-4044-974C-0D459D2A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7B7D-45E3-46DF-9F43-301CA6E5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39CB-C0A3-4ED1-9CCE-6E0DC363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A43-B393-46F3-96BD-11B14A48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827-1D42-46FE-9469-8E28DA29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102-5BA8-43BF-88D0-58DE6D9C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610-371D-41A6-B22E-E3CF2C7A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7E6-102C-40B7-B64F-FA616046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B6E-4A0B-4661-A67F-0CBA684B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A58-0544-4F65-B556-EF540E20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42A0-B8FF-49FE-BD37-0156B86D2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6ABF-4DE8-4D80-BDE5-5424EE9F5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ecious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ake the na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Jesus with you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ild of sorrow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of wo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18680" y="1066680"/>
            <a:ext cx="472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ydia Baxter, 1870 (Phil. 2:9-11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is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ms recei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s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ongues emplo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06480"/>
            <a:ext cx="9144000" cy="521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477800"/>
            <a:ext cx="9144000" cy="494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t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 bo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ing prostr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his fee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k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eaven we’ll 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our journ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comple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06480"/>
            <a:ext cx="9144000" cy="521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77800"/>
            <a:ext cx="9144000" cy="494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ecious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432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ake the na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Jesus with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ild of sorr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of wo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18680" y="762120"/>
            <a:ext cx="472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ydia Baxter, 1870 (Phil. 2:9-11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222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ill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fort giv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it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you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449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ill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fort giv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it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you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4920"/>
            <a:ext cx="9144000" cy="411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5176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Take the name of Jesus ev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s a shield from every snare;            if temptations round you gat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reathe that hol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ame in pray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52280"/>
            <a:ext cx="9144000" cy="449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80880"/>
            <a:ext cx="9144000" cy="411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O the precious name of Jesu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ow it thrills our souls with joy, when his loving arms receive 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his song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tongues emplo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52280"/>
            <a:ext cx="9144000" cy="449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380880"/>
            <a:ext cx="9144000" cy="411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At the name of Jesus bow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alling prostrate at his feet,         King of king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heaven we’ll crown hi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our journe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s complet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52280"/>
            <a:ext cx="9144000" cy="449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380880"/>
            <a:ext cx="9144000" cy="411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06480"/>
            <a:ext cx="9144000" cy="521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19320"/>
            <a:ext cx="9144000" cy="494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ake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a shie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sn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tempta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nd you g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e that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in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906480"/>
            <a:ext cx="9144000" cy="521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494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na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Precious nam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O how sweet, how sweet!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the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of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it thr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with jo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1-25T02:43:41Z</dcterms:modified>
  <cp:revision>11</cp:revision>
  <dc:subject/>
  <dc:title>PowerPoint Presentation</dc:title>
</cp:coreProperties>
</file>