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E43-A0AC-4BB7-A372-9187756C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ED9-9DEC-4EE1-AD94-CC667DEE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597-9140-420E-9248-7F4C897A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04B-881C-4696-AF95-AB568964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37B-BA1D-4576-8700-6F7C0A0F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DB3-154A-4873-AA15-30A6F8EE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62B-7824-472E-9EA9-AB29E7E8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977-1921-4B80-A430-006E2FE0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1BD-66EA-4009-8B46-B28E03C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BF8-4862-466D-91BB-9386E4E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387-D880-4EDD-9FED-B33D2F5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B08-D498-4CDC-AB8C-AC0F4BCD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CC5C-CFA3-460A-A4F4-AA75B16C4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Know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a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know that Christ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aised and dies no mor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mbraced by deat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oke its fearful hol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John Brownlow Ge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Brownlow Geyer, 1969 (Rom. 6:3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our despai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turned to blazing jo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We share by wat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his saving death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born, we shar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m an Easter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living memb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a living Christ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mes to life and gr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’s new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akes on flesh and bloo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universe restor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ole will sing: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15Z</dcterms:modified>
  <cp:revision>110</cp:revision>
  <dc:subject/>
  <dc:title>PowerPoint Presentation</dc:title>
</cp:coreProperties>
</file>