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A38-DF3F-4AAF-AD36-0FB64676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743-2DD3-4521-9008-DFD9BC97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EA6-6A0A-4051-9811-6AA1F45C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071-6AF2-43C0-9F45-961CF8F8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A2F9-ED55-45A1-BF38-62CDD794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5847-3BE1-4982-BE36-FBF06947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EC94-97FA-44B7-AA4D-9A1AC80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3CEF-0DEE-436C-8C0F-D9B9D9AB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D1F8-AA55-4478-A8D5-CFF4D0A7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B698-3640-46F9-920C-56F0027D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72B0-49AF-4093-A6BD-6500C0F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7E9-659E-4349-B70B-220D654D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AE26-D9A2-46A1-87E8-6EFF9A6A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69BE-3EF4-4931-8152-D3061AA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285A-A3AD-489A-A155-036F8323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8E42-F1BF-46B0-96D7-B17B2133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F766-D7F9-475A-A290-171425FB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737-2B51-4B93-8BC0-14C180FD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52F-33E3-4BAC-98A7-036E2C59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33E-DE47-41EC-B62E-A27B6409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63A-224D-4566-9511-AF32779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FEF-51CB-45E1-9F18-4CE7AA8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B94-DA4E-4717-83DA-7879F0FB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116-8567-40CE-9662-33DD1FD1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14E4-4461-4F4A-AA4B-758F29F11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9E7-E6D0-4E16-B483-5FB37BFC9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952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23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 and move on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ve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as th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aith and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born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Spirit d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ave beh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ing new path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r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es befor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094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95280"/>
            <a:ext cx="9144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78; alt. 1987 (Rev. 21:5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82736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is is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new beginn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me to remember and move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love is bri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ing to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in that’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 and death of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                      now as then,                                   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faith and hope are born agai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 with the Spirit dar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                           and leave behin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king new paths, and sure to fi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 and goes before 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 what love can do.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2224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by the life and death of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mighty Spirit,                      now as then,    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n make for u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world of differe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faith and hope are born agai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4284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n let us, with the Spirit dar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tep from the past                           and leave behind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disappointment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uilt, and griev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eking new paths, and sure to fin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9056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Christ is alive, and goes before u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show and shar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at love can do.                           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1916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is is a day of new beginning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God is mak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things new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5. In faith we’ll ga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und the tab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aste and share what love can do.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9T01:04:52Z</dcterms:modified>
  <cp:revision>133</cp:revision>
  <dc:subject/>
  <dc:title>PowerPoint Presentation</dc:title>
</cp:coreProperties>
</file>