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DB3-654E-456F-8000-C8CDCC6A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A1C-9B88-4508-A836-3FFB3600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A0B-E040-4464-B09E-2EF14C46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C84-F4B6-4C77-9282-F3479D61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0CD-6768-4E56-9AB5-5E52E813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E23-7E7B-43ED-9A8B-894B68B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1BD-70DA-41B3-B50A-28F94A14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068-5798-4201-A059-1AC0E972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5B3-E899-4E07-BAD3-7A4FD82F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832-3C12-4D18-A971-09DE6E1C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20F-274A-41EE-8108-CB614B2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AC4-7D57-40A6-B90D-CE066EA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06B9-F770-4823-8DCD-480AB34F2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Have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Have Me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2200" y="990720"/>
            <a:ext cx="291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, have merc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38Z</dcterms:modified>
  <cp:revision>24</cp:revision>
  <dc:subject/>
  <dc:title>PowerPoint Presentation</dc:title>
</cp:coreProperties>
</file>