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9ED-36EA-4FC6-AF2F-03FA8673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923-AA12-4773-AB99-8AC46825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6FF-60D6-4B13-8E3C-B8F36F48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FB2-F565-4206-A7D3-03991D68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C52-C85F-45B2-90B0-19FC70B0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3E4-A6E8-4376-86CB-CA7DD408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A22-FA5B-46F2-BDE9-51CC610D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13A-5928-408F-95C8-8ABD3E2E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C10-C971-495E-9D72-A62B627E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39D-32BC-48C3-8CD8-C996F157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59E-2F80-4F08-96A4-A635D32E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39F-D281-4C16-8E60-C0D7709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EC55-E2C0-470E-89F7-D25227146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t Jesus Bea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ross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ust Jesus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 world go f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2120" y="1523880"/>
            <a:ext cx="528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homas Shepherd and others, 18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there’s a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every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happy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nt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once w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ing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ow they 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mingled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without a t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consecra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I’ll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eath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m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go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rown to w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7:45Z</dcterms:modified>
  <cp:revision>14</cp:revision>
  <dc:subject/>
  <dc:title>PowerPoint Presentation</dc:title>
</cp:coreProperties>
</file>