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6CA-8F07-4A99-BA30-87875EFA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0B5-3686-4569-A0FD-BB6DEB71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49B-FC1E-4608-816C-0969F937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7C6-E92B-4F9D-AFB7-414DCC73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F38-467E-43A8-88A0-21E49E0B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EF5-6068-437D-A652-F0491BBC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494-8A63-4231-B4FF-F42809A1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EEB-CA69-46F4-BF01-86C7EF60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8D0-1354-454E-B42E-4E839BD7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291-76E5-40BE-9B48-209B86EC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31D-0EB0-42D5-8480-D0E96640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C0A-65E3-43B1-8FC9-DC22774C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DFBB-4E49-4518-9651-22FA60C85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All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aotian hymn; trans. by Cher Lue Vang, 19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Rev. 22:17; Mt. 11:28; Jn. 14:27; Is. 55:1-2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all of you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n and wo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rink of the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for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f you who are thir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 to dr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wate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all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bearers of bu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you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n’t wait for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f 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, the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the 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,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all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trouble-mi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you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eaceful m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f you who are hung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, rece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d and the wate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, all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hungry and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y your milk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ne without mone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no penn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, recei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d and the wate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9:58Z</dcterms:modified>
  <cp:revision>109</cp:revision>
  <dc:subject/>
  <dc:title>PowerPoint Presentation</dc:title>
</cp:coreProperties>
</file>