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B4C-00DD-442E-B0B4-DB249F5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DDE-9B51-4B85-AAAD-7774983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308-5B93-4AF9-9143-2DD450EF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0A9-583A-42FC-99CB-9AB53368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34C-BB3B-4893-A9AB-0431401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794-28E7-47A4-BF14-AB6335DB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819-AE58-4276-9FAF-EC7ED9A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ED1-6F5D-4E5E-A032-134F4A51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EBE-A060-44E7-B5B7-200154F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175-E6DC-438C-AEF6-B30F151D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3CF-3708-404A-862C-9C3EA6D3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9DF-C0B0-4687-885C-B92D736A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A57-1DE6-41C3-9AC0-EC3DDC9A0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Thou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Whos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whos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takes de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whom in affliction I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eph Swain, 1791 (Ps. 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speaks! and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his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-echoes the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fort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in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lvation, my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re dost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Shephe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ort with thy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eed them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of l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, why in the vall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death should I w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lon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erness r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why should I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lien from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ry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ert for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oes will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my sorrows they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mile at the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store, my 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ght of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oul-che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the sweet tok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rdoning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ing joy to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olat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e look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n thous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 rej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riads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55Z</dcterms:modified>
  <cp:revision>44</cp:revision>
  <dc:subject/>
  <dc:title>PowerPoint Presentation</dc:title>
</cp:coreProperties>
</file>