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1F1-2EFE-4E55-A4A1-9A0C283E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346-4549-47E9-B457-9DA62AB8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A7D-EC84-4BF3-900C-9816BE4F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605-8253-48CC-AAA8-FEE614B5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2546-C6FA-4D1C-A3BC-C3BFE852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C87D-619D-4EB5-B02C-BCEFE86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123D-2F76-4ED2-BD5C-14A187D4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9A28-A81B-49C9-A741-6179275A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B03-0AC7-4E10-A34F-81F65B77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4ED0-74CA-4862-849C-EA2E4E56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EBCE-5C47-404C-9670-C61873E7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922-034D-45FE-A379-54AFCFDE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1B0A-433E-47B8-A86A-FCB41A9A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DC67-8133-4645-89EA-BE95A65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377C-890F-4AE3-AE9F-C6B30618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5C81-318E-44C5-9455-BE8522A5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8047-9370-4D9C-88F3-DB6C3A69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2E3-9ABB-4599-B2AB-664B65E0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998-782C-4192-8056-66390794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E3A-EDA9-4710-A594-24B63B05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EBD-32F3-492D-8F2C-12D2DA32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216-9044-4342-AC68-009C16BB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8D0-0145-494D-B601-302F2171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5B5-223C-4AC7-9208-037DFB7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234A-F419-443C-A9C0-F1170DC2B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7075-F3B8-4B31-9CB7-D65C2361D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Serva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e servants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Master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ublish abro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wonderful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94840" y="990720"/>
            <a:ext cx="49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4 (Rev. 7:9-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74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me all-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ext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i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les ov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ruleth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he is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presence we h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iumph shal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cribing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Salvati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its on the throne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cry a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nor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aise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down on their f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rship the La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us ad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him h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sdom and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onor and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ngel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nks never cea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finit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me all-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esus ext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kingdom is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ules ov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ruleth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mighty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ill he is n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presence we h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eat congreg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triumph shal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cribing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Jesus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“Salvation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sits on the throne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cry alou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nor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raises of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s procla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down on their fa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orship the La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let us ad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 him h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glory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wisdom and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onor and bles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ngel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nks never cea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finit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e Serva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7652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Ye servants of Go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r Master proclaim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publish abro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is wonderful nam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94840" y="990720"/>
            <a:ext cx="499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4 (Rev. 7:9-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1-12T23:21:53Z</dcterms:modified>
  <cp:revision>33</cp:revision>
  <dc:subject/>
  <dc:title>PowerPoint Presentation</dc:title>
</cp:coreProperties>
</file>