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652-0F35-499A-9E19-590E22D0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68A-E662-4DD6-B13A-0FA27310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533-AA6C-4F92-B655-B5A82C5F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E089-62E8-4035-8A58-3A161217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1408-839C-4A01-9204-C9264155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E551-334D-46FC-BFCB-D63548F3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6B1-3C42-47FD-9E9B-77DF82AE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A39F-E1F1-4A5F-9E84-12ED175B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6D6-D248-4E8A-907B-48F2E571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D64-E200-4701-956C-0D542D15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745C-20E5-4096-8FF6-51970CCD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D15-60C2-4893-84E4-433CB7A2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85FB-9C58-45C3-95B9-1B290FE54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Thou Who Cames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rom Ab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Thou who cam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ure celesti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e to impar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Camest from Ab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14480" y="1828800"/>
            <a:ext cx="53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62 (Lev. 6: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le a fl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acre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mean al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re let it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lory bu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inextinguishable blaz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Camest from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rembl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source ret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umble pr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rvent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Jesus, confi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’s des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ork and sp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ink for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Camest from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let me gu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ly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stir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ift i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6337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ady for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erfect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acts of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repea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Camest from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death thy end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cies se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ifice comple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9:18Z</dcterms:modified>
  <cp:revision>12</cp:revision>
  <dc:subject/>
  <dc:title>PowerPoint Presentation</dc:title>
</cp:coreProperties>
</file>