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EE8-31D5-44CB-A282-B2FF144B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390-1154-4100-8E1B-903969EC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828-DB99-4808-99DD-F86B7173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615-2EBA-4BFA-A4DC-7B094ED6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553-79BA-43A5-B598-881B99B5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8E3-B0F6-4AC5-A99B-115CF0C8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276-CBB6-4E46-94E2-68975020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78E-D02F-45C4-ADAB-E920E670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81A-099F-47E2-B1C3-F86E6F92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008-6E4B-4F25-A202-5CD57BD6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4BF-00B8-4F42-9E2E-5C425E9B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625-BD2F-426E-8A59-3C9FB25A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51BB-6D61-4F2B-818A-96ECD32D5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hurch of Christ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Every 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church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et by chan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Spirit-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are for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reser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read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berat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t claim and t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erit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eep on ri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cross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ross the str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im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justice cr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helter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read to ea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ver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they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n let the serv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a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caring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ongs to b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artner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sacrif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othe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huma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For he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blood was sh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cure the f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blo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ach us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our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ving multitu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 have no mi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o ser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ull obedi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4:13Z</dcterms:modified>
  <cp:revision>92</cp:revision>
  <dc:subject/>
  <dc:title>PowerPoint Presentation</dc:title>
</cp:coreProperties>
</file>