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B0A-B5B7-44A9-8756-2CC72237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55C-9F79-41B0-9FE0-639CFA2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BAC-FAF2-4E77-BA18-D7C2CCC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82C-07BC-423F-95B8-96F12617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A5D-4C16-42F7-80BE-95D7A81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288-8C1D-49F1-A71C-09424364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CB4-9482-4F12-A7C6-803AE17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BBB-8885-4ACA-BF4A-965A5C8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633-9A49-437F-BFF4-7D0CE45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B04-94C7-4440-BFD6-AFF7E55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C5F-2E02-4686-B9DB-1D3530C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E5E-8367-41B1-99C5-898F899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70C-199B-4AF8-B03B-F30D7E75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Forth fo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goo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ed with heavenly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Mildred Pe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7080" y="109224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7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good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to incr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the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face to f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courage to the we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e afflic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ove suppli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power we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fast the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rgent for the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 to no one ev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at l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rkness with his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 and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rv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gift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’s p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8Z</dcterms:modified>
  <cp:revision>10</cp:revision>
  <dc:subject/>
  <dc:title>PowerPoint Presentation</dc:title>
</cp:coreProperties>
</file>