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BC6-BC99-46CE-A275-FBDFEB40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A9F-C008-41BE-9F5A-068AE90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644-AC40-404B-92BB-9A7E934A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5EC-95B0-4F64-A236-1852FA46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DC7-2247-4268-9788-0576B328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21B-44D9-41E9-A280-5A86934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A54-D886-47E2-85AD-21363E3D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812-0444-447B-A169-1A3651B1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BA8-9D11-4683-93B8-65804CCB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F45-70F2-48FE-A6E7-6C45731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A17-7736-453A-B86F-C631F7D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133-5EE2-487D-AE56-BC29F69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55C0-851C-4876-9D96-F7026EA3A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46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1.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Utry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2280" y="1066680"/>
            <a:ext cx="45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rad. South African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287360"/>
            <a:ext cx="876312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87360"/>
            <a:ext cx="86868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7:55Z</dcterms:modified>
  <cp:revision>8</cp:revision>
  <dc:subject/>
  <dc:title>PowerPoint Presentation</dc:title>
</cp:coreProperties>
</file>