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A69-68F8-46DD-94AC-6231F136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35F-6B9A-4FE8-ACB3-100AA572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F03-4A0C-4983-9386-70DC01B7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722-3848-4195-842A-3D821C48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E1F7-BB46-42FA-A473-DF4BE248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6AC6-97F8-4C6E-87A6-B0C55D58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D777-EDB2-4AA5-A730-FB64D2B8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6044-D2B6-4394-8FF0-964FCA40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78C9-B41F-4803-9612-9756C949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2040-26C2-405C-BD58-12CC2757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17C5-570B-46B0-B769-DF8505F7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895-CEE4-4428-AA09-47B41129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CB7B-BC3B-4B9D-8EB3-A34DC278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005C-7651-438B-BB34-E86F91E1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9FC6-7F7E-4EB5-B724-ED1F2D68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0F26-DDA8-4BA1-9E64-306217EE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334D-4DB7-4A8C-B84B-92AF7AB7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C2B-8DDD-4D35-9FEB-4D5651FA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5E2-D971-4032-9628-CC850F77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4CA-1976-432F-B12E-BDE3DC61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5AB-9FA7-4612-A34F-94CD977E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F3B-E8DC-4658-AA00-0DCC3CF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320-C873-4F2C-8528-1D99607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537-AF97-4BA2-AB8C-868BF077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01AD-FD4C-41EF-AA00-A7C5DB02D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5DB9-D27A-4E41-82BF-B7825D15B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th in Thy Nam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Forth in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il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urs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onl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olved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I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speak or d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task thy wisdo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ath assign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 cheerfully fulfill;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all my work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presence fi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prove thy good and perfect wi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e may I set at my right h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eyes min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most substance see,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abor 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thy comm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offer all my works to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5400"/>
            <a:ext cx="914400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thee delightfully emplo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ate’er thy bounte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hath given;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run my cour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n jo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losely wal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ee to hea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, onl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olved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I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speak or d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task thy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assig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eerfully fulf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my wor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esence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ve th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rfect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e may I 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my right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eyes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most substance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bor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comm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fer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ightfully empl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e’er thy boun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e hath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n my co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n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sely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th in Thy Nam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843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Forth in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il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urs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4-19T20:31:13Z</dcterms:modified>
  <cp:revision>149</cp:revision>
  <dc:subject/>
  <dc:title>PowerPoint Presentation</dc:title>
</cp:coreProperties>
</file>