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975-E665-461E-8687-BA1622B1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82C-8D53-4F02-950B-2CC37DB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B3E-8B97-4A0C-87E5-0167849A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F97-C75F-49AF-8408-A0D8167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29C-1967-426F-81FA-74E37B98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32EA-671B-4722-8EA0-041EEBC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A922-8AD5-4688-82AA-BAEE284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008-91D4-48A5-B4B4-C7C07E7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108-9AF2-40F6-AE43-AE32B23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902-07C8-441E-8D94-30DFF73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025-2387-409C-A344-CF82B76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FE3-808A-46FF-8047-1D2E86A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005-B9D9-4B9A-B87B-B076F3A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BCEF-E6C0-42E2-B65D-0D9B44E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A61F-BAAE-4D07-A63B-1E5B4F3B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F553-DB94-48FE-857C-5625F1AB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EC1-8763-43C2-8AF4-063E3C66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418-3F6E-475D-B5EE-E57322B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847-662F-4355-A36B-0673BA92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287-05CB-4E8C-9BD2-3BC4800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90B-D07E-49C6-9FD1-BE6C5939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A11-848F-4778-9C11-15EF3FB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4F1-AEE2-4416-8C5F-ACA073D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302-16D2-4C72-9726-4ED84D9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2495-F9E7-4570-A528-37A8ACD50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976A-D0FF-4886-952D-20620DA21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-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457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5904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r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leansing bloo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simpl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ung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the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ing floo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lf to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from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frie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t be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6858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0" y="9907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2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w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0:45:24Z</dcterms:modified>
  <cp:revision>159</cp:revision>
  <dc:subject/>
  <dc:title>PowerPoint Presentation</dc:title>
</cp:coreProperties>
</file>