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8FA-F4B6-4D54-B991-C82DE8E3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168-E731-4977-BA17-A34DBBB4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9AB-B5D2-47D9-B77B-220520ED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09A-C14A-420E-A110-6B829CAE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BBB-41F7-477A-BD7C-3878A65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E72-CCEE-42E5-AAB1-9BBDAF2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FB5-E2CD-4055-BD5F-E52406D7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20C-F7CB-4AA7-A95A-9B59132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44F-08F8-4FC5-ADCD-1B4FC89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DA5-84DB-4D6E-A88E-514B889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32D-CA01-41DC-9BEB-42B506D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467-E3DF-44E2-91C5-ED4D2A9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D4C-A820-42BA-9938-FFAA6AADB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Ascen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e who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iled to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Ruler an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cre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i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iness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bloss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s unb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nging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of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6:26Z</dcterms:modified>
  <cp:revision>82</cp:revision>
  <dc:subject/>
  <dc:title>PowerPoint Presentation</dc:title>
</cp:coreProperties>
</file>