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475-00F4-4EBB-B1CF-F73502D0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E53-38BD-4953-BD42-491351FB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856-E7AA-4C42-BD22-8B7DAA05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0E0-B37F-4593-887D-9CF251D7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FF8-10A5-4FE4-84F8-F454A395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12D-7406-417E-AB5C-426DAD4F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227-B346-4F42-9FBF-6A2A2943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16E-C9AA-48E4-BCA4-C8A890A6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C9F-A87E-4386-9DB2-F3B5C9A8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EB6-84FC-4F15-BC0D-7E4D493D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537-053B-4E7C-9E37-550BB4F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CA0-64A3-4782-BCB6-023BAAD8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EB4F-1BC0-4579-B083-EA188A2D3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ive to the Winds Thy F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ive to the winds thy fea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be undismay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ears thy sig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unts thy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all lift up thy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5840" y="1219320"/>
            <a:ext cx="698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Paul Gerhardt, 1653; trans. by John Wesley, 1739 (Ps. 37: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wav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and sto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ently clears thy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thou God’s ti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l thi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end in joyou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ve to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vereign s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nd to comma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t thou, wond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that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trong thi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us in life,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teadfas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decl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blish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atest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5:54Z</dcterms:modified>
  <cp:revision>45</cp:revision>
  <dc:subject/>
  <dc:title>PowerPoint Presentation</dc:title>
</cp:coreProperties>
</file>