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B2EC-312F-420D-96E8-B543314C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1BF-DF9E-404D-91F0-F4B8ED69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5A7-9A59-4CF5-A8BB-FB8FE1C1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92B-7413-4BE2-BB44-4584496E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D837-8A93-4EFC-925D-1F13CB6A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924D-CC5A-43BB-875F-A07F202D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B9D1-484F-4FE2-8CA3-084D7498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B017-91BF-4484-B75D-F2B84DAF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4962-40B9-4CDE-8632-084CCB95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10B4-6DC0-4636-BCA1-D1E6233E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4459-4C62-4B31-A600-098FE14C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931-6C52-42DC-87E1-7C42D27F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B8D7-F03D-4A14-BE06-2142FEA1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A970-7046-43C6-8BAA-3ECF1927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ABD9-4E51-4674-A9E4-A26F1373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C924-7FD0-465A-A0C8-7FC1DEEE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F277-C1C0-45AB-978A-36B79117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B8F-D7A0-4108-9908-7F05F7FC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9E3-5365-47B8-AC02-EB0CC9DF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458-483C-4116-A7B4-4451380B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05CD-D5B7-460D-8947-04A1C1DF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962-0382-4B93-AE9F-29E8038E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847-0958-4ACA-88EB-AFD2C302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995-CEA4-401F-BB45-EFE81384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2E5D-5F2E-4BED-BBF1-03B3309A1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EA2A-49E3-4557-9AEF-66816C133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ll the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or all the sai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from their labors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he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world confess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2760" y="114300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W. How, 1864 (Heb. 12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2952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rts are b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, and arms are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From earth’s wide bou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cean’s farthest co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gates of pear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am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less ho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60020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to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, and Holy Gho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644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ll the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193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For all the sain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from their labors res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thee by fa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fore the world confesse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2760" y="68580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W. How, 1864 (Heb. 12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6094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forever blest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Thou wast their rock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ir fortr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eir might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ou, Lord, their capta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the well-fought figh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53352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in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r, their one tru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may thy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, true, and b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ght as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nobly fought of ol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6094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 with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’s crown of g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blest commun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lowship div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eebly strugg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in glory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4792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forever blest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6094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all are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, for all ar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nd when the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ier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rfare 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s on the 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istant triumph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3352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rts are b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, and arms are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From earth’s wide bou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cean’s farthest co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gates of pear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am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less ho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094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to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, and Holy Gho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 wast their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or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ir m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Lord, their cap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ell-fought f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4792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in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r, their one tru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may thy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, true, and b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ght as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nobly fought of ol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38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 with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’s crown of g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blest commun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lowship div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eebly strugg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in glory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38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all are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, for all ar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nd when the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ier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rfare 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s on the 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istant triumph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1-03T00:22:24Z</dcterms:modified>
  <cp:revision>55</cp:revision>
  <dc:subject/>
  <dc:title>PowerPoint Presentation</dc:title>
</cp:coreProperties>
</file>