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929-EECD-4EF5-A62E-09F45EE0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274-0531-4B8C-87E7-0014A5A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535-8D4B-4621-993B-CB8719E7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01A-C5E2-4B41-A5A0-2D9E380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445-12C4-48BB-98C1-495307C6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FFC-88CF-4857-A0A2-97E4AFF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959-C5AC-4F2D-AEF2-169ACCB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504-4AF6-43A1-816D-1CC06363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CA1-1323-4A42-BD04-CDE6B52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280-B40A-4698-829F-A47CCAB0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3AB-DA8A-4340-B892-43DB336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AE4-E7E3-4077-8442-37E4B9B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F64C-1CAB-4747-9236-30D674F7D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Prayer Rises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83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Vietnamese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600" y="1066680"/>
            <a:ext cx="366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ao Kim (Ps. 141: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I wis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ld liv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rest of my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in your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eel ass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prayer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ways in your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tru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r judgments are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 do I tr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the thirsty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s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ife-giving 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flower and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 raise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pray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d me from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y to har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23Z</dcterms:modified>
  <cp:revision>8</cp:revision>
  <dc:subject/>
  <dc:title>PowerPoint Presentation</dc:title>
</cp:coreProperties>
</file>