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DAD-B3BA-4363-9C4C-EA6525CA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0DB-FDA3-4648-A164-1E7B4DD6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39E-557F-4746-A005-39AEEB2A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D56-1A62-456A-AACF-E34E1732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F6B-39A5-4CFF-A7BE-4593DB6D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E21-7A7E-431D-A0DA-A72A1F64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863-3FC9-437D-9EE6-FDC3B441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233-A263-448F-897B-621AA9AE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5BA-7008-4C7B-8B42-44B9BD14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801-C851-46F9-A54C-BC0C126A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322-FE1D-4AA8-962D-5E83975E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ACF-B1A3-4571-A576-72C425BF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BC1F-8412-471A-B28C-2C9C0EBCD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ke the Murmur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ove’s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Like the murmu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e dove’s so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ke the challeng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her fligh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39640" y="1676520"/>
            <a:ext cx="446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 P. Daw, Jr., 1981 (Acts 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vig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ind’s r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new flam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ger migh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the me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’s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bra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aith assemb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r m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ift and sig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ith the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i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eas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powe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compa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54Z</dcterms:modified>
  <cp:revision>15</cp:revision>
  <dc:subject/>
  <dc:title>PowerPoint Presentation</dc:title>
</cp:coreProperties>
</file>