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8D1-3969-487D-8153-047094E2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25C-056A-46A5-B191-45831160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FEEA-D76F-4752-BA83-F229436A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D81D-577B-4BF4-A876-6C228FBA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B25-D645-46A3-B5CA-3CD6B5BF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DDD-7BC8-418C-9712-74AA444F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A5B-BB78-425E-9B88-B1F06852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E020-5B33-4531-A192-F3D09EF1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E28-56AD-4ED5-A2F0-F3BF63A6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C93-36DB-4736-BFB5-20AA5E4D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007-4CA2-43D4-AEF0-3A883C23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0CD-78A4-4820-BC9F-424E7918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AE51-331A-48F0-9520-6A63764EC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 the Sun Doth Daily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sun doth daily r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ening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rning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o thee with one ac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we up our hearts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160" y="1066680"/>
            <a:ext cx="79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atin hymn; trans. by J. Masters; adapt. by Horatio Nelson, 186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Day b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vide us fo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from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all things goo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unto our souls aff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y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Be our gu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in and str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e leader of our lif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st from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tray abro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y our way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et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Quickened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pirit’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y holy will to t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we dai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arch thy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sdom true impart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Praise we,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ther, Son, and Holy Gho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would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one acc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and magnify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29:05Z</dcterms:modified>
  <cp:revision>13</cp:revision>
  <dc:subject/>
  <dc:title>PowerPoint Presentation</dc:title>
</cp:coreProperties>
</file>