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F01-6CD6-4FE2-90C6-D612B7FC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82D-8E79-4B82-9121-0C94EFFC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BDA1-7516-4B76-97B2-2AF94A6B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3A2-BB63-42BB-93E7-D1C1C256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E321-B16F-40F6-973E-0B547868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42CB-899B-4C62-9522-708193DE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4FBE-0B82-4F8C-B9EE-B990679B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5C19-B893-4E24-A1AF-686545F2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8819-0A19-48F1-9166-408A0E02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8110-2E24-43F0-A219-ECCC3A32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9839-14DE-44BB-8075-6F6BA9ED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DB8-FF88-47E7-BFE1-C601BFDC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236C-4EBE-4494-A48B-1626449B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E3D2-059E-4EDA-8E48-2EAA4EEA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17B1-9A9F-4A8E-A2B9-58B888F0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9400-A268-4870-8995-211A8B64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7065-E241-4EDE-B1E0-89C87440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555-F773-4111-A2AA-AC8946BB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A47-C016-4B4D-8DE5-C77BD2F0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B8B-C60F-440E-9F9F-33F14F73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F6B-A51C-4DC0-AD92-6AD6BA29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479-A872-48FC-AED3-D5EAB056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80E-2E08-47D8-8A78-86BC34C2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A39-9C2F-4BFB-8C88-EB2676E9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3A25-18C2-4CE0-AD27-D2B596074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1BE2-03E5-4E86-9D84-677B810F9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Wondrous Love I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907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USA folk hym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hat wondro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ve is thi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my soul, O my sou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wondro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ve is thi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my soul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37160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And when fro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eath I’m fr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, I’ll sing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when fro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eath I’m fr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n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I’m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through eternit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, I’ll sing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through eternit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Wondrous Love I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USA folk hym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hat wondrous love is thi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my soul, O my sou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wondrous love is thi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my soul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wondrous love is th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caused the Lord of bliss      to bear the dreadful curs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my soul, for my sou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bear the dreadful curs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my sou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at wondrous love is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y soul, O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wondrous love is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wondrous love is th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caused the Lord of life              to lay aside his cr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my soul, for my sou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to lay aside his crown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my sou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858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To God and to the Lamb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will sing, I will s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God and to the Lamb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will sing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God and to the Lamb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is the great I AM,                while millions join the the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will sing, I will s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ile millions join the the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will s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333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And when from death I’m fr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, I’ll sing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when from death I’m fr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wondro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ve is t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caused the Lor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blis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hen from death I’m f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sing and joyful be,                    and through eternit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sing on, I’ll sing 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rough eternit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sing o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the dreadful cur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soul, for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the dreadful cur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51776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at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y soul, O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ause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lif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ay aside his cr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soul, for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lay aside his crow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To God and to the Lamb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will sing, I will s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God and to the Lamb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will sing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e La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 A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mill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the the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sing, I will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mill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the the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4-04T00:52:12Z</dcterms:modified>
  <cp:revision>53</cp:revision>
  <dc:subject/>
  <dc:title>PowerPoint Presentation</dc:title>
</cp:coreProperties>
</file>