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1B28-FBF8-4BCD-8566-26220954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3591-D08D-478E-8BD2-C229B7FF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888A-403E-4E39-93D9-DA7FE3F2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ECC9-95D5-407D-B2C5-0D21A483A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CA31-E7AE-484B-A54C-E0BE7422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0CBB-D719-4CF2-BF87-B6FC5B15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BD39-1367-42C8-9232-70CB3655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C78F-CD78-4A17-9B47-AE722474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E2DB-8707-4958-B64E-54F2C8AD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68FA-A1EC-479E-A008-E69170DE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01B5-B6BB-477B-8306-23BBBC82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2BD7-8406-46F9-9336-97CD3777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5E66-EEC0-4341-9EB6-90EC312A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B54A-7B0E-48C0-8D2C-8CF55346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9BB5-2D07-420D-AD9F-77812B52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58DD-FDAC-4CDB-BF34-7ABEACDE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CC87-5F1B-4EAE-BB51-139E6C6B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85C8-040B-4983-8A47-2C0E86B9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80FC-11D7-4FF4-A678-4B19D6C0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7140-866C-4167-8A31-CAB2C126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1FE1-4303-44B2-81B4-8114A55B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41F6-93D9-4CBA-8631-C500350F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EED8-05F8-4ECB-AA92-F7A0FA0B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33DE-9F3B-44F0-83EF-0BA0FB23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3A6D-8647-4D54-8355-0CC47A521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D6AD-C75C-4C71-A1D4-97F0EC97F1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eople, Look Eas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0" y="1736640"/>
            <a:ext cx="9144000" cy="330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1. People, look east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time is near of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ing of the year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Words by permission of David Higham Assoc. Lt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ople, Look Ea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803680" y="990720"/>
            <a:ext cx="3577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Eleanor Farjeon, 1928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0" y="105084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4. Angels announc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shouts of mirth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him who bring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new life to earth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ople, Look Ea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10666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et every peak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valley humming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the wor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 is coming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76320"/>
            <a:ext cx="9144000" cy="53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People, look east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 today: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ove, the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is on the way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eople, Look Eas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0" y="1736640"/>
            <a:ext cx="9144000" cy="37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1. People, look east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time is near of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ing of the year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Words by permission of David Higham Assoc. Lt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ople, Look Ea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2803680" y="990720"/>
            <a:ext cx="3577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Eleanor Farjeon, 1928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9144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Make your house fai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s you are abl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rim the hearth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nd set the table.</a:t>
            </a:r>
            <a:endParaRPr b="1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76320"/>
            <a:ext cx="9144000" cy="557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People, look east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 today: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ove, the Gues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is on the way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0" y="91440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2. Furrows, be glad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earth is bar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ne more see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s planted there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ople, Look Ea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91440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up your strength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eed to nourish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in cours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flower may flourish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0" y="76320"/>
            <a:ext cx="9144000" cy="557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People, look east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 today: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ove, the Ros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is on the way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9144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Make your house fai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s you are abl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rim the hearth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nd set the table.</a:t>
            </a:r>
            <a:endParaRPr b="1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0" y="9619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3. Stars, keep the watch.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hen night is dim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ne more ligh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bowl shall brim,</a:t>
            </a:r>
            <a:endParaRPr b="1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ople, Look Ea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shining beyo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frosty weather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right as sun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nd moon together.</a:t>
            </a:r>
            <a:endParaRPr b="1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76320"/>
            <a:ext cx="9144000" cy="557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People, look east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 today: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ove, the Sta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is on the way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105084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4. Angels announc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shouts of mirth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him who bring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new life to earth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ople, Look Ea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0" y="10666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et every peak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valley humming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the wor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 is coming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0" y="76320"/>
            <a:ext cx="9144000" cy="557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People, look east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 today: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ove, the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is on the way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76320"/>
            <a:ext cx="9144000" cy="53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People, look east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 today: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ove, the Gues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is on the way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0" y="91440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2. Furrows, be glad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earth is bar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ne more see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s planted there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ople, Look Ea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91440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up your strength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eed to nourish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in cours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flower may flourish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76320"/>
            <a:ext cx="9144000" cy="53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People, look east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 today: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ove, the Ros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is on the way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0" y="9619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3. Stars, keep the watch.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hen night is dim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ne more ligh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bowl shall brim,</a:t>
            </a:r>
            <a:endParaRPr b="1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ople, Look Ea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shining beyo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frosty weather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right as sun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nd moon together.</a:t>
            </a:r>
            <a:endParaRPr b="1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76320"/>
            <a:ext cx="9144000" cy="53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People, look east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 today: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ove, the Sta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is on the way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1-11-27T02:49:00Z</dcterms:modified>
  <cp:revision>53</cp:revision>
  <dc:subject/>
  <dc:title>PowerPoint Presentation</dc:title>
</cp:coreProperties>
</file>