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6318-F68D-4618-A0E5-AE4381700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67C9-04F7-453C-ABF3-A1F0FDAB0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F690-5821-402D-93B8-C1BBF35ED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07AD-F608-4B1C-98AD-4D30CFF9A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BA30-22A2-46AD-9403-00C4BC670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E7A8-7A64-40E1-8C27-51823200F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EF7D-9DBC-4DBC-A11F-6E3B58E54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28AF-1851-4A22-90FF-A022A5FFC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C572-A9FC-4E23-AFFC-CD32B68F7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96D2-9357-47C7-A131-4DB12B4A9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3E6D-7E48-4AF2-81D3-AEE025BC0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63CB-7F98-45D7-86CC-428D5A009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857FA-1C54-417E-8110-D0D341F83A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ll Earth Is Waiting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(Toda la Tierr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5791320"/>
            <a:ext cx="914400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© 1972 Alberto Taulè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rans. © 1989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Earth Is Wait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391400" y="1562040"/>
            <a:ext cx="638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Catalonian text by Alberto Taul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è, 1972; English trans. by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Gertrude C. Suppe, 1987 (Is. 40:3-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25909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All earth is wait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see the Promised O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the open furrow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sowing of the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147780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182880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s el mundo que luch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or la liberta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eclama justici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 busca la verda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da La Tierra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175248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Dice el profet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 pueblo de Israel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“De madre virg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a viene Emmanuel,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109692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0" y="152388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erá “Dios con nosotros,”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rmano será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n él la esperanz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 mundo volverá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da La Tierra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152388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Montes y vall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abrá que preparar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uevos camino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enemos que traz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175248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Él está ya muy cerca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venidlo a encontra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 todas las puerta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brid de par en p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da La Tierra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920" y="1600200"/>
            <a:ext cx="883908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En una cuev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esús apareció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ero en el mund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stá presente ho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160020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Vive en nuestro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rmanos, con ellos está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 vuelva de nuev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 darnos liberta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479840" y="2576520"/>
            <a:ext cx="1843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29528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 the worl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ound and struggl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eeks true libert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 cries out for justi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searches for the tru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479840" y="2576520"/>
            <a:ext cx="1843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60020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Thus says the prophe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those of Israe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“A virgin moth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ll bear Emmanuel,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Earth Is Waiting 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29528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or his name 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“God with us,”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ur brother shall b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him hope will blosso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nce mo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in our heart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14300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Mountains and valley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ll have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e made plai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pen new highway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ew highways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or the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-1371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Earth Is Waiting (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16765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is now coming clos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o come all and s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open the doorway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s wide as wide can b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12193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In lowly stabl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Promis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ne appear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et, feel his presen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roughout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arth toda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-2514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Earth Is Waiting (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175248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or he lives in all Christian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is with us now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gain, with his com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brings us libert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da La Tierra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160020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Toda la tierr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spera al Salvad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 el surco abiert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a obra del Señor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5:35:39Z</dcterms:modified>
  <cp:revision>57</cp:revision>
  <dc:subject/>
  <dc:title>PowerPoint Presentation</dc:title>
</cp:coreProperties>
</file>