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0F2-DCE0-407C-A310-964EAA0A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E7B-AEB3-4998-B676-F573489A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D02-466F-47A2-8BF4-08D3C2F7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A45-18A4-4CAF-A872-EA83C5C7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DBD-C723-4B97-9989-15B422C6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E90-D002-40D4-B834-A6CF1571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AD1-2715-4141-B03B-C40C01AC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B53-8ACC-421B-9057-CC27C960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274-E9FC-49DA-8123-D7F5C828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9EE-C57F-48CD-B80B-53C4EC98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322-7389-423B-8F18-36F3E904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937-156A-49AB-9E46-1F7D1C21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CD68-2D73-4485-A1B5-EA1B666C7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 the Morning Sun A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e the morn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n ascend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adiant in the eastern sk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ar the ang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ices blend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ir praise to God on hig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44480" y="990720"/>
            <a:ext cx="594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Parkin, 1953 (Rev. 5:11-14; 7:11-1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 may 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wly s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choristers ab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ing the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ea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b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kindness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d upon our earthly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ing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blessing day by d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Wisdom,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and bless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angelic host w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hy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conf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w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draw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8:32Z</dcterms:modified>
  <cp:revision>12</cp:revision>
  <dc:subject/>
  <dc:title>PowerPoint Presentation</dc:title>
</cp:coreProperties>
</file>