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65E-464B-4BF3-B951-FB7B0936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4DC-2504-4442-81A5-448ABDB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BB2-7669-46B6-B0AE-55F7107D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585-BAB8-44C7-9170-396E606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F89-70E8-46B8-BB0D-CA2A4C1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BF5-E048-4D3A-A25F-BF6E8176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15D-B7CB-4F91-BCFD-07E94F1E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B1F-5A34-4729-A006-B4C9CF9A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72F-B194-4C09-8732-E44E175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B21-9035-4E7D-8090-8B8D8B5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00C-E139-47B1-A265-A8A488E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326-1CC8-46EB-96A6-5C2C582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2F5-C644-493C-B6CC-251B2FA2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 Throughou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se Forty D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forty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and pray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5494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udia F. Hernaman, 1873 (Mt. 4:1-11; Mk. 1:12-13; Lk. 4:1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ast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ending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at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ourn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st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thou wit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win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u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s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ger bear,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a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Lor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to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efl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through thes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it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ssiontide,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bid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over past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2:26Z</dcterms:modified>
  <cp:revision>27</cp:revision>
  <dc:subject/>
  <dc:title>PowerPoint Presentation</dc:title>
</cp:coreProperties>
</file>