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6856-BD22-4F78-AF05-C27320E01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DA5B-5B5A-4B55-92E8-8131E972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4CD8-3A7C-40B0-BF95-F31433107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940C-68FC-408C-9C73-C0CE6854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6FCF-DDE5-4E9A-AA22-7A7D4674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A340-E21B-4E61-94DE-B276787B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A1D5-81A1-466D-AAA9-826198A0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BAEF-87D7-4B56-82B7-6546D7B3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F747-AC76-40A4-951E-3F14461E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03F7-B482-4644-8A0C-9DD3FB04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BDF3-C1BD-4732-8951-E633BD29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976A-B315-41BC-BAD8-97A194E0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0A32-7C48-4B97-B0EF-0B407ECEF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Perfect L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Perfect L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Dorothy B. Gurney, 188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051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perfect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hu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t transce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wly we kneel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er before thy thr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irs may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ve wh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nows no e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thou foreverm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st join in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rfect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ou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ull assur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ender char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eadfast fai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Perfect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atient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qui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ave endur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childlike trust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rs nor pain nor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them the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brighte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ly sorr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them the peace wh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ms all earthly strif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Perfect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life’s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l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known morr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dawns up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love and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8:09Z</dcterms:modified>
  <cp:revision>148</cp:revision>
  <dc:subject/>
  <dc:title>PowerPoint Presentation</dc:title>
</cp:coreProperties>
</file>