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76BC-5CF6-4F62-B6EB-AC80FD05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3D0-5828-49FD-A2C8-DD44B91C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8CB-51C1-4E0B-83E4-7449A24E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2ED-B89C-4313-9A9B-8C679426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6776-9D6F-49EF-B06B-BBFFFA92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8AF5-9AB1-4E8F-BE91-D7E97EEB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8022-511A-48D4-AB5C-FB36D0C0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E8E2-F51A-4B5D-A30B-1A96C0B3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346F-CA7F-4404-AE28-E9DD69E2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878D-7B03-4A6C-A5E6-914CBB51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48CF-FA8C-47C6-9554-100DAC8A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900-BF2D-4157-9AC9-C8558CF0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BCD4-DDD7-4CF2-8ED3-00D777A2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B811-9C86-47CA-8DC8-443B2277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3E77-B904-4E23-B168-ED0E08F0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50AB-4C05-4D14-A9D5-F8244794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DE3E-E63A-4E59-A6AD-549901F3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6FC-EC61-4B3B-A0B0-348D2782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346-3C2C-4CD4-B81C-B3EBB4FF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2DF-6D8D-4E26-9C73-889E87F8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D56-93B7-46EC-AE16-A8753929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BB1-6EA3-446F-94E6-95AE18C1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F814-4B8F-4C1F-BFFD-DE967557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379-6FB0-4EB9-993F-0BA3AEF3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D06F-A5A9-406A-9FD1-7EEF0DA4D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4727-0A52-4B88-8789-F24E8BA0D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Is All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World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 i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ife, my joy, my 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02080" y="1600200"/>
            <a:ext cx="3938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Will L. Thompson, 19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could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friend den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’s s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to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ing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know I’m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tches o’er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and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ing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day and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Jesus i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n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ter fri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trust him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trust him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flee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s shall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uch a fri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as no 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Is All the World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5238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Jesus is all the world to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life, my joy, my all;                    he is my strength from day to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out him I would fal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5960" y="838080"/>
            <a:ext cx="3938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Will L. Thompson, 19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I am sad, to him I go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 other one can cheer me so;    when I am sad, he makes me gl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144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Jesus is all the world to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friend in trials sore;                     I go to him for blessings,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gives them o’er and o’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s my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ay to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sends the sunshine and the 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sends the harvest’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lden grain;                           sunshine and 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arvest of g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Jesus is all the world to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rue to him I’ll be;                     O how could I this friend den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he’s so true to me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8985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llowing him I know I’m r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watches o’er me day and night; following him by day and n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Jesus is all the world to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want no better friend;                     I trust him n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ll trust him whe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fe’s fleeting days shall e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9144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utiful life with such a frien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utiful life that has no end; eternal life, eternal jo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am s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m I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ther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cheer me so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am s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makes me gl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us i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ials s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o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lessings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ives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nd o’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ends the sun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ends the harve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lden gr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shine and 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vest of g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 i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ue to him I’ll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7-11T00:24:14Z</dcterms:modified>
  <cp:revision>9</cp:revision>
  <dc:subject/>
  <dc:title>PowerPoint Presentation</dc:title>
</cp:coreProperties>
</file>