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F19-4481-42F7-B9CC-AB978797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D89-EA54-4A1F-9C51-666EAC1D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7EF-1A1A-429D-A3A8-5FF9BB08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757-1B63-4AEE-A255-380CB811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E6B-319B-44B9-9044-2509CBAC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CC3-458B-434A-AD2D-521AC322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6FC-3EB5-4174-8CF7-EF5BAFBA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881-689C-4B97-99E3-5F06C6C9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DC7-191B-449E-A95F-03335300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372-A689-40CD-A2C3-4F038853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7F3-4E6D-45F7-9566-8872251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899-6C34-4574-A863-54E7C48D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9E2A-77F0-4B8F-90D8-DD47087CD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Blessed Jesus, at Thy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Blessed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y w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are gath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o hear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 Tobias Clausnitzer, 1663;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ans. by Catherine Winkworth, 1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our hear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ouls be stir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to seek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and fear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thy teachi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and ho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from ear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ove thee sole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All our knowled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ense, and s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e in deep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rkness shroud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hy spir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eaks our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beams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ruth unclou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alone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canst win u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must work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 within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Glorious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self impart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ght of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God proceed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th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ars and hear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lp us by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irit’s plead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 the c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eople raise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ar, and bl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prayers and prai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19:26:02Z</dcterms:modified>
  <cp:revision>97</cp:revision>
  <dc:subject/>
  <dc:title>PowerPoint Presentation</dc:title>
</cp:coreProperties>
</file>