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CC58-3EB5-4CFE-B5F7-268020DB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C360-703E-4668-B6AA-618D9483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5B37-B533-465D-BA17-F6B91652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B42E-C586-4411-A51F-F4FF850C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AC45-3D00-4267-B7B2-F15FD9E8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B7D1-23A8-434D-934D-5D6AB669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D981-7E1C-4AC6-82CC-C5A1FC41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FBA2-8C9B-4B25-96B7-0CAFE784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6AD2-4FEE-4F68-BC61-CA067EC5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0C38-6478-4298-9489-2901E7D4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9577-EF76-431A-B960-E1EA1BFB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CD5E-983E-4723-ADA8-456742A3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D1F5-63C4-4B3F-80B3-3C8D2B80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E892-EBD6-46D3-A570-3B69E14F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0F31-43A7-4D97-844E-00D06135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B142-E756-431A-8AFC-637E7247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0A7B-367F-4FE3-90BD-F4F95FB4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A5D3-7454-4312-A486-CF447E35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F550-0978-427E-B7C8-D6A9E14C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3B2E-52AB-4089-BE5D-0F9DB795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E8E3-8A49-42A6-8E7D-150BA4A1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3DE4-FB16-45AE-AD4A-76DCD14D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3209-8FA2-4C81-9088-70DBC832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B6A-D0ED-4862-AE6E-7EF0205C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9D3C-7321-4217-8A15-20219525D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4ED5-7126-4119-B7B6-6B4ED4D39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ay Is Dying in the W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 is dying in the w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is touc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with r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1143000"/>
            <a:ext cx="45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ary A. Lathbury, 1878 (Is. 6: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t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veil thy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asc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477800"/>
            <a:ext cx="9144000" cy="403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66760" y="223992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ur s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s the st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ay, the n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of ange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ternal morning r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dows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77800"/>
            <a:ext cx="9144000" cy="403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6760" y="223992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ay Is Dying in the W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8288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 is dying in the w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is touch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with r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1143000"/>
            <a:ext cx="45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ary A. Lathbury, 1878 (Is. 6: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228600"/>
            <a:ext cx="86104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it and worshi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the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ts the ev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mps a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 the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304920"/>
            <a:ext cx="9144000" cy="403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66760" y="1477800"/>
            <a:ext cx="86104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it and worshi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the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ts the ev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mps a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 the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99072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rd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e d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univer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 us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thy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f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y emb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ou art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304920"/>
            <a:ext cx="9144000" cy="403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2280" y="1295280"/>
            <a:ext cx="86108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ile the deep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dows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folding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st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veil thy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asc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457200"/>
            <a:ext cx="9144000" cy="403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" y="121932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for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ur s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ss the st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ay, the n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77800"/>
            <a:ext cx="9144000" cy="403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of ange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ternal morning r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dows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28600"/>
            <a:ext cx="9144000" cy="403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4920" y="114300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66760" y="223992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rd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the d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univer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 us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thy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f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y emb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ou art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477800"/>
            <a:ext cx="9144000" cy="403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66760" y="223992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ile the deep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dows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 of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folding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9-15T02:19:44Z</dcterms:modified>
  <cp:revision>26</cp:revision>
  <dc:subject/>
  <dc:title>PowerPoint Presentation</dc:title>
</cp:coreProperties>
</file>