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9A38-37E7-4B7B-96F3-99BB71276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37B2-E9D2-4AC2-9A68-E9F4B203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EABA-7C02-4227-8670-4A683710C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BE84-AD26-4373-B8DE-0D30241F6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7F29-8D39-4DC4-AE9C-AAA346D7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CB14-B504-470B-B167-44676792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8C2D-4C87-449B-9967-734DE90B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C932-7B7A-4E3C-A5EE-CC2BBF14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D91F-C7CE-4EF4-BB13-33662BF4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F06E-CF97-4D28-A51D-17B68AA3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9DE9-ACB6-4503-8C83-78BEF373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95DA-FD0F-4FB8-B24D-9B920778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CFBB-BCD8-4868-A7FB-AC720B7C8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anticle of Wisd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25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(Advent &amp; Gene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grant to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wisd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new us with its pow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apt. and Response 1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Wisd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25600" y="1092240"/>
            <a:ext cx="634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Wisdom of Solomon 7:15, 24-30, adapt.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Response 1, Harrell Beck; Response 2, Henry Sloane Cof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18273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light is succeed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y the nigh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ut against wisdo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evil does not prevail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363680"/>
            <a:ext cx="9144000" cy="414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(Gene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 thou Wis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on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rder all th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r and n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Wisd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371600"/>
            <a:ext cx="8610480" cy="405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60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y God grant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that I speak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with judgment 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and have thoughts worthy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of what I have receiv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455760"/>
            <a:ext cx="8610480" cy="59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God is the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even of wisd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he corrector of the wis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sdom is more mobi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n any motion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ecause of her puri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sdom pervades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penetrates all thing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730080"/>
            <a:ext cx="8610480" cy="51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she is a brea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f the power of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a pure emanation o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glory of the Almighty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refore nothing defil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gains entrance into wisdom.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118728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she is a reflec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eternal ligh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 spotless mirror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orking of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 image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od’s goodnes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ough wisdom is but on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she can do all thing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hile remaining in herself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isdom renews all things;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409680"/>
            <a:ext cx="8610480" cy="556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every generation wisd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passes into holy soul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makes them friend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God and prophe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ruly God loves noth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so much as those w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live with wisdom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118728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she is more beautifu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n the su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excels eve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onstellation of the star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ompared with the ligh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he is found to be superio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49:53Z</dcterms:modified>
  <cp:revision>29</cp:revision>
  <dc:subject/>
  <dc:title>PowerPoint Presentation</dc:title>
</cp:coreProperties>
</file>