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073-E1FB-4965-8345-89C5FF48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2D3-A799-471A-937B-57B8F23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BBE-026E-4751-85EE-0BF318EC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7D1-47BD-4E56-8B27-B291701E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B410-8E48-4AFB-8029-D09667CA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642-1924-4C02-9A11-6D8CE9FF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AD9F-29D6-4853-BC27-46C66E1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DCB-EB7B-409E-B573-1089FFC5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1A2D-4F1F-44F7-85B0-88159D0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E0AE-6104-457E-97C5-B99E335A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EA1E-1B65-4433-B5AF-DFCD19D6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EA0-D67E-41E0-8058-B0C1B492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DA4B-E279-4584-A99B-0BF71F1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B36-3AA6-4825-B4E0-0D78032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8312-282E-4657-8603-FC0CD065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E9E0-79FC-49E4-BE87-FFB0C6C4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595D-2E8D-4E3E-A314-8E280CC7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8D0-0873-4FA4-B1CE-CEE875DA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D9F-C6E4-46CA-93B7-F251726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8CA-2692-4D2E-97B0-2D092695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234-3C71-4AD3-95D0-277A8022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899-E344-42FF-87AB-6639D5F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187-7A16-4AB9-8A1E-84C9358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EF5-50D9-4117-AE0E-3982DF5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8B7A-9933-4DAB-9751-633314BB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CDDD-D959-4407-ABD2-F6ED0A6A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We’ve a story to tell to the nation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’ve a st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ve a song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lift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o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tha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r and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r and s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eth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send us hi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orrow hath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reat peo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36232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e’ve a story to tell to the nation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shall turn the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rts to the righ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H. Ernest Nichol, 1896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19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We’ve a song to be                        sung to the nation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at shall lift their hearts to the Lord,  a song that shall conquer evi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shatter the spear and swor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shatter the spear and swor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the Lord who reigneth above      hath send us his Son to save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ow us that God is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ow us that God is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the path of sorrow hath trod, that all of the world’s great peopl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ight come to the tru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ight come to the truth of G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320"/>
            <a:ext cx="9144000" cy="452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2. We’ve a song to be                        sung to the nations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hat shall lift their hearts to the Lord,  a song that shall conquer evi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hatter the spear and sword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and shatter the spear and swor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We’ve a messag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to the natio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the Lord who reigneth above      hath send us his Son to sav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us that God is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how us that God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4. We’ve a Savior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to show to the nations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ho the path of sorrow hath trod, that all of the world’s great people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ight come to the truth of God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ight come to the truth of Go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80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darkness shall turn to daw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dawning to noonday bright;   and Christ’s great kingd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come on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kingdom of love and 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05T22:58:53Z</dcterms:modified>
  <cp:revision>76</cp:revision>
  <dc:subject/>
  <dc:title>PowerPoint Presentation</dc:title>
</cp:coreProperties>
</file>