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F97-8D16-4FFE-9F1E-00577FFA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317-0507-4E4A-8184-74B466B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90D-0012-4026-8A3B-D8D462A0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3E7-FD42-4880-81E8-897C696C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9FD-2D3D-43F0-909F-99169D0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60C-597B-4F8F-8E50-98C0F5E1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857-E86B-440A-AF15-5AE73822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B76-6C09-4E06-B079-2529E6A2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3E1-C4D7-4C20-AF22-9149FE5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9AB-0E09-41BE-8747-310BAE7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09F-1208-4BF6-8D4B-46897FC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0DE-DF35-4703-8323-D465401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614-60E3-4EED-8048-EA8419AA7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oliness of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09680"/>
            <a:ext cx="8763120" cy="375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 permission of Anne Thu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liness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8240" y="1066680"/>
            <a:ext cx="418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is the citade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my desir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ere my hopes are bor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the deep resolu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take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cen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y fears are nou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all my ha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re nurtu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re my loves are cherish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all the deep hunger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f my spirit are hono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ithout quive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without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809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, above all el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et love and integrit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velop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until my love is perfect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the last vesti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desiring is no long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conflict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10168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ore hol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my heart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7:51Z</dcterms:modified>
  <cp:revision>22</cp:revision>
  <dc:subject/>
  <dc:title>PowerPoint Presentation</dc:title>
</cp:coreProperties>
</file>