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961-965D-47E8-8686-E510E906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E70-18AC-44D3-8060-DEB6BCD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2AD-12D9-4E93-8A82-A4E34DB4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B2D-07CA-42D7-BE15-E81F2002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5A5-9362-4480-B476-201D409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2A2-F8E0-43FF-9D7A-73CB772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AF4-AE9F-4C7E-8093-693F0B94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A33-605C-4201-86E4-76E4C966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906-B544-4C2A-AEBE-55BB8637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B8F-E284-459F-9624-6FBF2A6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1F8-BA67-47A2-8763-6D7C7304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7AF-57D2-47EB-B4E1-3458D82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79B-5449-46AC-A07B-A22BAF7B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you have knit together your elect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one communion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fellowship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the mystical body of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Son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us grac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so to follow your holy saint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virtuous and godly liv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at we may come to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ose unspeakable joy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ich you have prepar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those who sincerely love you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6:29Z</dcterms:modified>
  <cp:revision>21</cp:revision>
  <dc:subject/>
  <dc:title>PowerPoint Presentation</dc:title>
</cp:coreProperties>
</file>