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57DF-BD68-44D8-8EB2-35EBBFB0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1C01-DE60-4177-9E2B-16AA11F2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E70D-2EB1-44E5-B12C-D14452BE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1A86-F387-4FE2-96B5-4222A37C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9081-AE7B-40F1-87F6-F6FC0939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AAD1-CA15-41F3-9F1C-7BCF433D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4E21-13B4-45EE-A4EF-ECEFE2C8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795B-428B-4EC0-9148-AD81CCC5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4254-FEDF-4FAF-AE2E-CB7D73AC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AF56-28D6-4C77-8E46-855A8D24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CFBA-D582-483B-8117-2BAF8AC6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FCCA-2C04-49FB-A931-CC3679CB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1A58-98CB-4F4F-9E59-267072C4A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, Who Stretched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angled Heav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400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God, who stretc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pangled heave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finite in time and pl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7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, Who Stretched the Spangled Heave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1120" y="1600200"/>
            <a:ext cx="38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atherine Cameron, 19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nown the ecstas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wing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untrave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alms of sp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bed the secr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at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iel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imagined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cing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life’s destruc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our m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iumphant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s each 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rizon beck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y it challeng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s ane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, Who Stretched the Spangled Heave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ildren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eative purpo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rving oth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noring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y our drea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ove rich with prom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ach endeav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ll beg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Creat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us guid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our goa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yours are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lung the sun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rning radi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the sil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elds of sp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your childr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your like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are invent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wers with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 Creator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crea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ow us w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yet may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Proudly rise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dern cit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tely build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ow on r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, Who Stretched the Spangled Heave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t their wind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lank, unfee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re on canyo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reets be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e lone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ift unnotic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city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bb and f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st to purp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o mea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carcely ca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they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We have ventu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lds undreame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nce the childh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ur 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, Who Stretched the Spangled Heave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8:00Z</dcterms:modified>
  <cp:revision>12</cp:revision>
  <dc:subject/>
  <dc:title>PowerPoint Presentation</dc:title>
</cp:coreProperties>
</file>