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807-642D-4F09-B69D-EF456C6E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C4F-411C-417B-BA2F-9D13E360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A10-7D7B-4C56-B339-6F1CB0BB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39F-A08A-4E08-A3BC-A4BDEE7C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1E12-FE98-455C-A6FD-9B1EFFA8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8D37-0811-4CDD-A9DC-5145F419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6239-D32D-459F-BA8C-B02AB290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1CDE-9994-4AE3-BB0B-D7ABB246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A71B-6FC8-4EA2-AE07-E3D21E0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FDB4-A469-4BCB-AA0B-C26DE9F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302C-96BB-47C9-8436-A3F43E6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AEE-9918-426B-AD3F-B7A379FE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E01A-58CA-4816-A08C-44B3132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78F0-FDF8-4577-AC1A-E3F5155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0730-CF2D-4B08-ACF7-F24C8E99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FD34-A2DA-4C47-82EB-500346F7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58D3-F78C-432C-91C6-D02C67D5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ACC-0E65-4B17-B271-99DF8D3C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866-A892-45A1-B7B7-CE7956AD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F73-05A3-4065-9DF8-4239F1A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4FA-641B-45FF-B76B-E0861553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64D-EC47-4E32-B576-8427471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C1E-C700-427C-99FF-B0608A80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11D-E32C-4D46-9DA4-ECD76B1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2160-211E-4227-B663-92CB24144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8A8F-7C96-4230-A7C7-E4FF22A7E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a Frie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Have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a fri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have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s and griefs to bear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a privilege to car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to God in prayer!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M. Scriven, ca. 185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19160"/>
            <a:ext cx="9144000" cy="57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Can we find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a friend so faithful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all our sorrows share?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knows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our every weakness;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we weak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vy lad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cumbered with a load of car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Savio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our refug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friends despise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orsake the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arms he’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nd shield the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find a solace ther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often forfe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nee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because we do not c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to Go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ve we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mptation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re trouble anywhe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iscourag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e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riend so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all our sorrows sha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kn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 weak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we w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y la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mbered with a load of ca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our refug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thy friends despis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ak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arms he’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and shiel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ilt find a solace the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What a FriendWe Have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2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06668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riend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sins and griefs to bear!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rivilege to carry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everything to God in prayer!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seph M. Scriven, ca. 185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7128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what peac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often forfe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what needles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pain we be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because we do not carr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thing to God in prayer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Have we trial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tations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re trouble anywhere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should neve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e discouraged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1-21T02:06:32Z</dcterms:modified>
  <cp:revision>54</cp:revision>
  <dc:subject/>
  <dc:title>PowerPoint Presentation</dc:title>
</cp:coreProperties>
</file>