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A21-E0D7-4D03-974A-E073BD61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675-3C19-4057-83D8-AA86107A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30F-3096-4880-B15C-E3507CCD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62F-0A10-4A42-B851-02DDD248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84A1-24D6-4D34-A76A-5EE7CB0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B6A-7821-4961-929D-6246DCD2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CA8-7232-4B90-91A3-EE99975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5D42-F7E0-4DE8-AFDF-B625556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4607-03B8-44A3-BADA-EFD326A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BD1C-1259-440D-980E-E49FCFB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44E-B57E-4B2E-96DD-A256E08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4D8-7480-4569-9825-0052A1EB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A42-CB81-43CF-8C41-7F0C0BD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45C7-4634-44E6-9AF4-C54CFF9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9807-8B50-462B-8813-FD2D9C83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FDB-90F8-490A-B319-452C90CE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6400-0168-4669-A0F8-AE22F0E6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025-7897-4568-AA28-02CB627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6E9-426C-43D4-A51A-D3DD44A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A36-6BC4-46B9-8A34-D92AA09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805-C065-4E07-AE80-9369D52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F63-7A1F-4366-8EBC-6BACA21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4BC-EF46-47E1-A82A-472FAA1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442-88D2-4B83-AD97-C77B76A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DC57-F315-4CFC-8AE5-E6DD1AB6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C24-596B-4283-BD68-35C7A7F2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1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2920" y="10666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8580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                                  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47920"/>
            <a:ext cx="9144000" cy="369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907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28800"/>
            <a:ext cx="9144000" cy="244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2920" y="8380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91440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9-04T23:01:08Z</dcterms:modified>
  <cp:revision>16</cp:revision>
  <dc:subject/>
  <dc:title>PowerPoint Presentation</dc:title>
</cp:coreProperties>
</file>