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1C2E-1DDE-403A-BCCA-55B9F6C7C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567E-3701-4477-9E06-B6F13BCA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88B0-18B1-48F8-BE22-DA58EACDA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64C3-BC59-4211-BFBC-6FD2CEBB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D879-85D8-4E70-ACAE-F589A69C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923B-4DB7-4515-9318-F1C3101A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3B11-A46F-4DEF-94F9-00FF47F2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D019-591E-4FE7-98B6-D1B90E43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F3A7-9F42-412F-983A-AD8BFA2F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13F1-C8FE-4632-9029-4DFB0BDF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19C6-2928-467A-A12B-ED9BAA86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38CA-2BA5-4072-9811-11751312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53C1-6E2C-468D-97A3-23DDDE559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Word of God Incarn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Word of God incarna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Wisdom from on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ruth unchang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chang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ight of our dark sky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rd of God Incarna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 William W. How, 18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praise you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adiance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hallowed p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antern to our footstep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es on from age to ag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 church from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ceived the gift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ill that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lif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all the earth to s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rd of God Incarna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the sac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essel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ems of truth are stor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-drawn pic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hrist, the living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Scripture is a ban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Go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st unfurl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a shining beac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the darkling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rd of God Incarna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the ch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ompas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life’s surging t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d mists and roc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quicks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you, O Christ, will gu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O make your chur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r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amp of purest go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ar bef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at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true light as of o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rd of God Incarna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each your wand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ilgrims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their path to t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, cloud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ness e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see you face to f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6:23Z</dcterms:modified>
  <cp:revision>99</cp:revision>
  <dc:subject/>
  <dc:title>PowerPoint Presentation</dc:title>
</cp:coreProperties>
</file>