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44D-2FB5-45B2-80A3-8B7431EE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19B-CE67-4F29-A0F0-C5D3CF3A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61A-5FF1-43B9-B565-592F3B55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4DA8-4538-49E5-A8E2-1CB4D6F5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2579-FC73-4FBA-ACE2-6DFD4A82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4B3-E31F-478F-974E-3343F2F0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56D-EC0E-431E-82F3-6E1B2DB5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7D4-673F-4533-B8EA-59BADCBC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9F2-7176-47C1-B916-365EDF19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F37-F807-4375-84E1-F98EDF16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7FF-BCFE-445F-B494-95E67279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300-073A-4D5C-9881-A9206934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A452-4972-4124-9495-B511F3213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ian Peopl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aise Your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51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hristian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ise your s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se away all grieving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Saint Andrew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People, Raise Your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olin P. Thompson, 1975 (1 Cor. 15: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your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made st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ord’s life recei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ture’s gift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at and 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re set before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o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and w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comes to restor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o wel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eat revel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s pione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new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People, Raise Your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et the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risen 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ly recogniz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ith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greet the 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t of winter r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8:45:16Z</dcterms:modified>
  <cp:revision>137</cp:revision>
  <dc:subject/>
  <dc:title>PowerPoint Presentation</dc:title>
</cp:coreProperties>
</file>