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B544-2A36-4853-A438-01C066DA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F4E1-A1B5-43EE-89EB-4493E70B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ADE7-A5FD-4BA0-8FFA-A9872BCD9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0831-2A6D-4C82-B8F8-B3141FA5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0B05-1A53-4130-9BB1-36DA0233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95DA-FD9F-4084-BA41-7D2AAD8C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5AFE-2076-4CD2-ADC1-745FCC19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5A5B-F8EA-437F-B441-C52F7F53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9AE3-EF17-4CF4-8BC3-898A8EB0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7777-9EE0-43F8-920E-9D3EF013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63F7-EFA2-4C68-94E5-2C5E9760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1EC5-24DA-44B9-9DCE-F7F9C709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A78C-F3B5-4370-A57B-A37099337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the Victorio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29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Vict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to your serv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 with your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regions of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2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Victorio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88560" y="1143000"/>
            <a:ext cx="35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arl P. Daw, Jr., 198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ief and pain e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ghing no lo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may they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nly Immortal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ghty Creato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your creat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ildren of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Victorio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arth you formed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th glorious and mort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we all retu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-spoken prophe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at creatio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You came from d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dust shall return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Victorio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at the grave shall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se up our glad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Alleluia, alleluia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Vict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to your serv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 with your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regions of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Victorio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ief and pain e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ghing no lo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may they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50:29Z</dcterms:modified>
  <cp:revision>10</cp:revision>
  <dc:subject/>
  <dc:title>PowerPoint Presentation</dc:title>
</cp:coreProperties>
</file>