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962-6F86-4276-9452-7B7F7D6F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983-2BA9-41C7-B0C0-79608ED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1D9-BD8A-416B-A928-D192C32B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89B-0697-431C-937F-FFD1FBD9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5EA4-EBC8-4CB6-A77F-DC8FD366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AA2F-A2F9-4ACA-B6F1-94D28EF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0606-1B51-4F14-A820-A367E50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8149-8888-4D8E-90C9-36416A1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D30C-20E5-4284-8459-62B420F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0E99-6D6F-48EA-9F77-7AA51C8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CEF1-089B-4449-A7FE-8151C62D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B9D-7B8B-4365-A5DD-800944F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66DA-3CF8-456E-BAAE-CB0AC3E0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DF30-9E03-4348-B31C-3BBF959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97CC-F711-44E8-9802-EF642CEA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67C-BB40-457A-B0D1-F4B8E5AB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09EE-867D-4DE4-ABD5-458F9C9C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844-9329-479F-8221-BBF75057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C7B-8B74-4461-AF2A-435D0E64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D0C-DFC2-45FF-80F8-695E0361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7EB-D76B-4CDF-AFE7-244C9281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C63-DDCD-4FA9-A618-4552B42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C02-3444-4F66-882C-6BA035C8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DA2-9BBB-47DA-9AB2-ECA0E7B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4B72-6436-4B8E-900C-491B2670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F07-EAC6-4D36-9DAA-2B62E2F9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Praise to Go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ing praise to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all cre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560" y="1536840"/>
            <a:ext cx="750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hann J. Sch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ealing bal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soul is f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every faithl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rmur stilled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e Lord is never far aw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rough 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ief distres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ever present help and st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peace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oy and bles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ith a mother’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der h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gently lea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osen band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us, all m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ilsome way alo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ing aloud thy prai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earth may he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rateful so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voice unwearied rai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joyful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, my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th soul and bod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ar your par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Let all who na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’s holy na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ve God all praise and glo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all who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power procla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ud the wondrous stor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t each false ido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its thr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Christ is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hrist alon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ling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is 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faith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rmur still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The Lord is never far a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rough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ief distr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ever pres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and st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pea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oy and bles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a mo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ently l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osen ba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us,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some way a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aloud thy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arth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tefu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wearied 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yfu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,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your par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Let all who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’s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God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and glo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who 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ower procl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oud the wondrous stor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each false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its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al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28600" y="7632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Praise to Go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763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ing praise to God who reigns abov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all cre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power,the God of lov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our sal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560" y="1371600"/>
            <a:ext cx="750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hann J. Sch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07T22:39:51Z</dcterms:modified>
  <cp:revision>41</cp:revision>
  <dc:subject/>
  <dc:title>PowerPoint Presentation</dc:title>
</cp:coreProperties>
</file>