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930-2790-4511-850C-7152FC01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484-A000-4408-AE55-26BF433F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B347-A95A-4821-AC60-6791011C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7DD-3021-4DA5-A873-BD0CAFE3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692-707B-4E8D-AFB2-1DD6E8BC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D0E4-EE06-4643-A469-A59F393C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38B3-3039-4097-AACB-D2E59E9D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596-A1AA-49ED-8F3B-057621C9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D39-5B4F-4246-8DDC-4F3A71C4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D1F2-3B8C-4EE1-8C43-CD3597A2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D7F-7766-4995-9C48-B5BBE5B9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CFA6-B3B3-4623-9687-2F27DA48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6D80-AA3D-4AE6-8AED-8FD34E3B9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h Wednes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438280"/>
            <a:ext cx="8839080" cy="376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r of every thing and jud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all that you have mad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h Wednes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4440" y="914400"/>
            <a:ext cx="4521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Laurence Hull Stookey, USA, 20th cent.</a:t>
            </a:r>
            <a:br>
              <a:rPr sz="2100"/>
            </a:b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 (Gen. 3:19; Ps. 51:10; 1 Th. 2: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dust of the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have formed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rom the dust of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would raise us u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redemptive p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cro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e in us clean hear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ut within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new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003320"/>
            <a:ext cx="868680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 may rep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lead li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orthy of your calling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22:42Z</dcterms:modified>
  <cp:revision>15</cp:revision>
  <dc:subject/>
  <dc:title>PowerPoint Presentation</dc:title>
</cp:coreProperties>
</file>