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585-F92D-4E6D-A182-7A69D1A1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B83-0F8C-41DF-BA2B-FFB34176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5AC-3744-49FA-852B-73741592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D0C-D602-4B6C-BDEC-57C9CAE9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D462-2262-4336-BAAF-B27CC3D2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DCFE-1DC0-4628-B2F5-961DF4B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87B-DE9A-43F3-8A84-5226E95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DBDE-4871-4B58-B44B-12024B1A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6BF-F2A2-43A6-8581-7067C6DC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4955-DE84-4FA1-B2FF-A143D9D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C4BE-F499-4CDE-B984-5F9F91B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680-91DE-4B6D-801A-AE018FB2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9F11-19AF-4065-AD0F-7A56069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F70-53F8-4016-B65F-BBEF68E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1E69-4D94-40D5-9B23-C008DA12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A990-612B-4E68-B5BC-813C87A0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5A3-273A-4BB7-A5E4-6BBBAF6E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E14-A23E-4611-B85D-BA634557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0E1-D17F-4CB0-8329-994209F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346-E4FD-438A-8779-A16F85C3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F9E-0476-4C59-B1DE-5EACA24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AD9-E270-4E36-B3EB-1539716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9C9-546F-4A04-9846-456F0CBC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125-6A37-4827-A768-CFBB733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AF3-A32D-4D45-B264-EB5706FFD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D17-5B42-4BBE-9316-BE548615A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248520"/>
            <a:ext cx="9144000" cy="60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94000"/>
            <a:ext cx="914400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9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9907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62320"/>
            <a:ext cx="9144000" cy="414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79680" y="1600200"/>
            <a:ext cx="420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28736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15440" y="1600200"/>
            <a:ext cx="65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Times New Roman"/>
              </a:rPr>
              <a:t>WORDS: Kathleen Thomerson, 1966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© 1970, 1975 Celeb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985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5720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33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00600"/>
            <a:ext cx="9144000" cy="205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1932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172200"/>
            <a:ext cx="914400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2. I want to se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ness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look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t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49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Clear Sun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Righteousness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on my path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nd show me the w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 Father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5880"/>
            <a:ext cx="9144000" cy="75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48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n him there is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no darkness at all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ight and the day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are both alik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03824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Lamb is the light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city of God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Shine in my heart,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Lord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066680"/>
            <a:ext cx="9144000" cy="399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3. I’m looking for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ming of Christ.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I want to be</a:t>
            </a:r>
            <a:br>
              <a:rPr sz="6400"/>
            </a:br>
            <a:r>
              <a:rPr b="1" lang="en-US" sz="6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Jesus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8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10-08-07T16:05:02Z</dcterms:modified>
  <cp:revision>56</cp:revision>
  <dc:subject/>
  <dc:title>PowerPoint Presentation</dc:title>
</cp:coreProperties>
</file>