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4D5-13F5-451B-81CD-6944DCEB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A96-EA2C-4033-AE6D-3DA555FB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871-BAA2-4524-804E-176EC3C9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074-439E-48CB-B42B-C0340885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033-A043-4A05-96DB-A20DBDC4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AA4-1771-441F-866F-92E674DB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02A-E2EF-48A0-B2C1-A71F04A4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C75-CA31-45D7-8CD9-5EA49DBA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757-2069-4BF9-A3E2-9DB11DE1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CD6-1AEE-421E-B32A-046D4F0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17A-DFA0-4ECD-ABC6-C7D633F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C74-B1E1-45D9-839E-737B6F46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CE7E-19F6-4D5D-BF79-D92C7BCA4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lence, Frenzie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Unclean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“Silence, frenz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lean spirit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ed God’s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4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32640" y="1701720"/>
            <a:ext cx="667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H. Troeger, 1984 (Mt. 1:21-28; Lk. 4:31-3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your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hen we hear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dem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de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 our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lm our fee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he fractu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ring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faith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, and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 your rant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sh can’t bear i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e as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sun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Christ’s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mon tremb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its vict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ly rush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crow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 assemb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d in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unned and hush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the dem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re thr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ray ce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min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yrant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rill and dr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isted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ip and b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ts that st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rt to panic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distor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ason’s s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lt that mak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ving frantic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ms that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l with fr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len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clean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our he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2:26Z</dcterms:modified>
  <cp:revision>21</cp:revision>
  <dc:subject/>
  <dc:title>PowerPoint Presentation</dc:title>
</cp:coreProperties>
</file>