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69C-7F90-4383-A605-D9D4D474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205-5984-4E90-9C46-0F71BD10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1FD-0626-4A94-9D47-76508C97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BA2-BD98-462F-A6A3-295EACD4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8BA-5F5F-471D-A759-12E6812D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E02-7AA7-4F11-8C4A-7A3C17C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107-D9BD-4050-B792-6526F3D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D41-479B-47EF-BFFE-386FD39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DFA-0031-47CE-B5D2-3B3D852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41C-9868-43E1-9E3F-3FC9F7D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D16-CE28-4D18-B3B0-7045539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3CD-667D-4D31-8FE1-A3C4DCC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8DA0-5F96-489E-BE4E-91B613D94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So in Hast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adford Torrey, ca. 18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so in haste, my he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faith in God, and wa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he linger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never comes too l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e never cometh l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knoweth what is b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x not thyself in v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he cometh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Until he cometh,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grudg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rs that ro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eet that wait fo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soonest at the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re soonest at the go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ined with sp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hold thee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shall wait his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8:34Z</dcterms:modified>
  <cp:revision>153</cp:revision>
  <dc:subject/>
  <dc:title>PowerPoint Presentation</dc:title>
</cp:coreProperties>
</file>