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04B-8FB2-46D9-9782-41279E52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F89-3F66-487C-B3AE-6F61DF5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D66-C0EE-4ED1-BCA8-0F5E3ECB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CA1-2EE6-4658-A839-47E51E4E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BB44-8E33-460E-8599-1055DFF7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D4C-CB8F-4DB2-9104-B6FAC95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AFB-B239-417F-9E8E-E90898DE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860-887B-4D12-941B-65BD5C89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1525-4B28-401A-B2EB-174B75BB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3F95-F032-4CB5-A352-2B0112F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6EB-A254-442A-B93A-F567C5A1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CCB-D4AA-4774-8581-55C614DE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32FF-8933-4629-86F9-F46FADE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8E43-EE73-4309-8E65-E871A34F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7B4E-CB0A-412A-BE1F-45408F4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4FBC-2F1B-4F52-A56E-F03BF16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0B2D-3DD9-4CDC-9C3D-0E30B924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315-F598-4074-B90D-2A2928C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65D-50AE-484D-9C14-EF316025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162-B068-471F-BF89-97CDB247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A5D-78FF-42CC-9CF6-AFAF6FA9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F91-20F8-483E-9A48-8D7A1B7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CAA-1525-4D2E-8B99-C1DF4DC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B90-D14F-4D33-8E78-14963B8D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8A32-F303-4C3F-8F34-2B96EE962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262E-530D-4FAD-8EE3-A4C69086E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37160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 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inds al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Let Us from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37160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let us from this table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Kaan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4-05T15:35:03Z</dcterms:modified>
  <cp:revision>137</cp:revision>
  <dc:subject/>
  <dc:title>PowerPoint Presentation</dc:title>
</cp:coreProperties>
</file>