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91A3-EB77-48C1-89C7-215597EAB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C9F4-4C7A-4C36-B8D3-4926F523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D2F0-09E8-4ECA-86BC-94CD3CD66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2222-5481-4812-BC08-2A303B83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BC45-09F1-4F45-B65E-6509DCD4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FC7F-EC44-437E-B5BF-70CD1E88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448A-84BA-4119-AFF6-AE012037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FDAB-09EF-4291-9676-272B3207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7A9E-A730-4B14-80CC-FB775C17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931A-C379-43C9-8085-2B4E7C74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CEE3-4F52-4E70-934E-1DDBC708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7011-E7B7-4ACF-B3D9-5D75C4FA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346A-D9A0-4617-AEEA-AB33ADC57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, Thy Boundles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ve to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68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, thy bound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to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thought can rea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tongue decl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Thy Boundless Love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48760" y="1549440"/>
            <a:ext cx="504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Paul Gerhardt; trans. by John Wes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n suffering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ove my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weakness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ove my pow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Thy Boundless Love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en the sto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fe shall c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, in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mportant hou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1859040"/>
            <a:ext cx="89154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eath as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ou my gu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ve m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for me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knit my thank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to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eign with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rival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whol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alone I a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ou al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constant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grant that no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dwell, but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e love al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Thy Boundless Love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y thy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ssess me who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joy, my tr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c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ange flames af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my soul rem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every act,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t, be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Love, how che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thy ra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pain bef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resence flie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Thy Boundless Love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, anguish,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lt a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’er thy hea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ms a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Jesu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may I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hear, fe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think, but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6:26Z</dcterms:modified>
  <cp:revision>12</cp:revision>
  <dc:subject/>
  <dc:title>PowerPoint Presentation</dc:title>
</cp:coreProperties>
</file>