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3D2-81C1-4377-9AA4-CD661C7D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ECF-9EAB-4400-B4C5-7D049F1A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2D6-68E0-4162-BAB2-DE7EE25D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3A8-5CD5-44F0-9C94-0397C7A4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EBD5-5957-4FED-BEEC-FC162812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2FB8-D834-4297-A71E-AA8D9C3E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FFCA-7A9F-41FD-9A99-C1D2AB35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2608-4192-44C8-ADAD-06B20754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0AA3-97E2-4BC5-83CE-7C678B89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B299-3C5A-4E0A-AA36-BF37DF33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B223-AE27-4DD3-9529-E3D7F482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5DE-26F6-46EC-AD1F-C1BE3E8D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32F4-848B-4028-9714-CF7A7AF6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7CF7-8ED6-4188-A79E-3D95A645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BBB8-9E7C-4D7A-B4D9-4DA8AB0E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CCEB-4091-4994-BD1A-6B00C1C3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CD77-49B8-4AB3-9C6D-3C485058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821-A479-4008-A2F4-00B325A7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FE8-F68A-4F5C-A4D0-B8898E20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4B7-6E48-46EA-8A7B-F49EE194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C32-E673-4F47-AF5C-FEB53C32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D76-8250-47F8-AA30-386F2DD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665-2C6C-43B1-8630-CA99CA68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345-97B1-4CDC-8465-4351A7D3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D201-49D8-4CE1-95C0-B51C64F20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C4FB-A053-41A0-8BA7-8C011580A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ymn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71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1. In the bulb there is a flower; in the seed, an apple tree; in cocoons, a hidden promise: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butterflies will soon be free!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75120" y="6094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come the fut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it ho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yste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our beg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time, infini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oub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belie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life,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esurrec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last, a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ymn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95280"/>
            <a:ext cx="9144000" cy="320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n the bulb there is a flowe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seed, an apple tr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cocoons, a hidden promise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terflies will soon be fre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75120" y="68580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co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now of win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spring that waits to b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9364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ere’s a song in every sil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eking word and melod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da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very dark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inging hope to you and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pa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come the futu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it holds, a myste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In the end is our beginn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time, infinit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oub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is believ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life, eternit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ea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resurrection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the last, a vic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the cold and snow of winter,    there’s a spring that waits to b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here’s a song in every sile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eeking word and melod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re’s a daw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every darkne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inging hope to you &amp; 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the pa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ll come the futur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it holds, a myster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n the end is our beginning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time, infinity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doub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e is believing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life, eterni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deat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resurrection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t the last, a victor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ymn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23880"/>
            <a:ext cx="9144000" cy="50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bul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fl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eed, an apple t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oco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idden promis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terflies will soon be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5120" y="114300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now of 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its to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s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ing word and melod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da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ing hope to you and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05T23:47:33Z</dcterms:modified>
  <cp:revision>53</cp:revision>
  <dc:subject/>
  <dc:title>PowerPoint Presentation</dc:title>
</cp:coreProperties>
</file>