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428-025B-4ABF-B738-A198016F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BE5-AD75-48FD-9BE7-C5475D4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2BE-F011-4C81-AB6C-D421462B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24E-3B03-46D1-8E13-56659C23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6FD-E85F-45C8-8669-22D90777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31A-5529-441D-A489-7EF7B86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B06-CD53-4BB7-AFB5-8C7A587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AD8-875A-49DD-BFAA-AB45144C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36E-03EE-4565-A025-59CBF567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0E6-934F-48C2-8CE6-FB886AB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AFD-255A-4161-9919-6AF34B3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912-0623-4EEC-B5C5-101B1E7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D55-D109-4F68-A279-907B4DAE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nding Rest in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349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made us for thy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and our heart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less until they f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 in thee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ine of Hippo, North Africa, 4th cent. (Mt. 11: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Rest in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43000"/>
            <a:ext cx="8610480" cy="422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omparison with this bi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, the human heart is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mall thing. Thoug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 is so large, it is utter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able to satisfy this tin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ndar Singh, India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ver-growing soul and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pacity can be satisfied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infinite God. As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restless until it reaches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vel, so the soul has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ace until it rests in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7:27Z</dcterms:modified>
  <cp:revision>13</cp:revision>
  <dc:subject/>
  <dc:title>PowerPoint Presentation</dc:title>
</cp:coreProperties>
</file>