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B6F-641A-4E2E-BD90-4B0B1B9C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106-B190-49C6-8FEA-2710D8C0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668-82F2-4AF2-A0F2-C6F68B54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1A4-F95F-4FA6-BAA0-BB9D2CF0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E4F-8121-4835-B841-A1BA3953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40A-FC44-41A8-8F49-FA3A987D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2E1-1DD8-48D6-BC28-01FB7C8B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40C-102B-464E-A986-BA738B4F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F0A-9632-48C1-9E27-1CEE1755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458-47D6-4B11-985B-5D091B11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029-FCE4-4AF1-AAC4-783C693A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460-46AB-441E-B0C4-17C331AD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0B76-D3BD-4576-92B2-544D41EC4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Moses and Miriam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Cantemus Domin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exal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n your streng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your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oses and Miri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7520" y="1676520"/>
            <a:ext cx="70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Exodus 15:1-6, 11-13, 17-18, 20-21, adapt; Response, Psalm 21:13,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774720"/>
            <a:ext cx="861048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your steadfast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have led the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m you have redeemed;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have guided them b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strength to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oly abod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will bring them 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lant them o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wn mounta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place, O Lord, whic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ve made for your abod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003320"/>
            <a:ext cx="8610480" cy="409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anctuary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your h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ve establish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will reig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ever and ever.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Miriam, the prophe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sister of Aar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ok a timbrel in her h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all the wom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nt out after her w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imbrels and danc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912960"/>
            <a:ext cx="8610480" cy="483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iriam sang to the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g to the Lord, who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riumphed gloriousl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rse and its rid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Lord has thr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the sea.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600200"/>
            <a:ext cx="8610480" cy="295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Moses and the peop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Israel sang this so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Lord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 will sing to the Lord,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s triumphed gloriousl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rse and its rider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ord has thrown in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y s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as be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salv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is is my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m I will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456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will exalt my father’s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is a mighty warrio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se name is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6905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haraoh’s chariots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is host the Lord ca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the sea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his chosen offic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re sunk in the Red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409680"/>
            <a:ext cx="861048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loods cover the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y went down into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epths like a ston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r right hand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lorious in pow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right hand, O Lor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hatters the enem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is like you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mong the gods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is like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jestic in holi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errible in glorious dee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oing wonde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19160"/>
            <a:ext cx="8610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stretched out you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right ha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earth swallow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8:45Z</dcterms:modified>
  <cp:revision>32</cp:revision>
  <dc:subject/>
  <dc:title>PowerPoint Presentation</dc:title>
</cp:coreProperties>
</file>