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21E-9919-4A6D-BD6E-3944EFDE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4D6-1560-48BF-9F70-267E4D09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F4C-2C2E-4A97-8A8B-E3D5ED71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D8E-7116-4B3C-9879-F6149F3F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8E1-6B00-46C7-A171-5B7E7550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9B0-2AEA-49BA-92E7-D4157776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332-8B10-4F5B-B263-65E056CC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B7F-A9E3-49A5-A9BC-F458A1C9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29D-4951-408E-8DB0-D7E46E44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38A-055A-4E64-8617-3A86FB70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6A2-6A86-4770-8AE8-EE46571B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06D-FF07-446F-8D66-BBF19C5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9601-1EC6-43ED-82C6-C2C991AE7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, Dismiss U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Th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dismis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bless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joy and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Dismiss Us with Thy Bles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5720" y="160020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ttr. to John Fawcett, 177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ea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poss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umph in redeeming grac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refresh us, O refres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aveling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wilder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 we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do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y gospe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 s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Dismiss Us with Thy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fru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s abou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 faithful, ever faith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ruth may we be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3:22Z</dcterms:modified>
  <cp:revision>10</cp:revision>
  <dc:subject/>
  <dc:title>PowerPoint Presentation</dc:title>
</cp:coreProperties>
</file>