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AE0F-3866-4C3D-B8B9-B10DAFBE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51F-FC08-417F-BDDD-77ABC7C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A79-7768-4CFD-8031-817DE524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19A-CCB7-4D9F-B6B6-85A5BE95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10EC-1EED-4C9A-A366-C663E027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5265-7226-4990-BF62-BFB4991F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454D-EA21-4821-A692-C9316676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1CBF-BF83-458E-8400-D66EA717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3F08-2767-47B2-8859-F428111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22FA-906C-4AE4-8534-832CF8DB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BA4B-859F-492A-A9AF-75B4CE7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45E-AED5-4D20-B51C-BF7B189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B16F-FA2B-43E6-809E-03221E9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D83-9EB1-4C86-890B-0E4A636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49D0-2B1D-41EE-9F16-A878DF54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9B4F-9BC7-4243-817B-7548EF5C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9FED-80EF-4715-B7D7-D7082C5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44C-CD9F-4AD5-BB09-D2ECE3C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642-A5EB-4987-A2DB-791481BE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E47-457D-4566-9C59-D234D4A5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F0D-994C-4458-A6DE-FFA43A7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C70-58F8-4196-942F-074E204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3E7-C875-4FB8-85E4-5F614652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18D-6E80-42CA-A159-F11BE10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E22B-B666-4F15-BEB9-59F334AB7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BE3-108F-4444-8B31-36BCC5A81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-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457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0948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5904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r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upon his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leansing bloo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simpl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ung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the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ing floo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lf to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from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frie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t be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him mor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6858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0" y="9907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 at his word;         just to rest upon his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know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Thus saith the Lord.”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2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trust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o trust his cleansing blood;   and in simple faith to plunge m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neath the healing, cleansing flood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13644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 Jesus, Jesus, precious Jes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’tis sweet to trust in Jesu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ust from sin and self to cease;     just from Jesus simply tak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rest, and joy and peac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so gl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learned to trust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Jesus, Savior, friend;     and I k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art with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ilt be with me to the end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36440"/>
            <a:ext cx="9144000" cy="498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how I trust him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w I’ve proved h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nd o’er!                             Jesus, Jesus, precious Jesus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 for grace to trust him more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So Sweet to Trust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a M. R. Stead, 1882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’Tis so sw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ake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w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12T00:45:24Z</dcterms:modified>
  <cp:revision>159</cp:revision>
  <dc:subject/>
  <dc:title>PowerPoint Presentation</dc:title>
</cp:coreProperties>
</file>