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891-F95B-4BE9-AB3E-BC665181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AC8-22A1-4AB5-B34E-044EAFB7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D56-3C36-46B6-B60F-678FC9AC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901-1CCB-4BBD-858C-C04A51A8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781-5851-4130-B48F-B5D855E5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AB8-15A3-445D-9022-E454A254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BFA-79A1-40AF-8B40-18C2C696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D07-4FB5-4D31-ABF7-7DEF95F7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646-B346-408F-BD16-AEA2212E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F77-51B3-45B0-882B-AF9A2D9D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9FF-52DF-47B4-BC6D-9BA4982E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FFB-9CDF-451C-AFF7-46422A63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E12B-B9C8-46A8-A46F-777BE05C2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the Church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the church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uts its outer d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the roar of traff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own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ce of pray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Churc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68 (Jas. 2:14-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our prayer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 times more aw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world we ban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our Christian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our hearts are lif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devotion so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above this hung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ering world of ou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Churc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our hymns shou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u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orget its nee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ian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Christian dee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st the gifts we o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ney, talents, 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to sal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nsci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secret sh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Churc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reprove, inspir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way you g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, dying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rue Christians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4:59Z</dcterms:modified>
  <cp:revision>96</cp:revision>
  <dc:subject/>
  <dc:title>PowerPoint Presentation</dc:title>
</cp:coreProperties>
</file>