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361-E17C-4E06-BB47-2F1D3409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239-C1F7-45D3-B978-FCBF9455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91F-E9C7-4E47-92FC-F842E581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8BD-9995-4609-8D5B-A52B3253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B79-C6F1-4461-8BB3-4606B342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17B-BC2D-45FC-8866-730BBC1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072-1C7C-4A72-9D00-FDA54577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493-5AD9-4DF1-862C-0F31EAC2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A5A-2C1A-4D59-9764-5D6F9242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0C4-47F3-4EAC-BD81-FAEEFFF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A72-3168-45D6-B5E8-97B2FF0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637-F6C8-4B60-9824-C2B376C9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B9D-0A7A-43DC-AE24-3F57F7B91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Head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Was Crow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homas Kelly, 1820 (Heb. 2:9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head that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crowned with th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crowned with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5840" y="2239920"/>
            <a:ext cx="6412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prof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ystery 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The cross he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life and h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sham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th to 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9080" y="2239920"/>
            <a:ext cx="658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eople’s weal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verlasting the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oy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adem ador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ctor’s b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highest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heaven aff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long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rd of lor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joy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well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all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8880" y="1859040"/>
            <a:ext cx="510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hom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s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to k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o the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sh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it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98080" y="1859040"/>
            <a:ext cx="4947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am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jo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ey suffer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Lord bel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ign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4T19:46:02Z</dcterms:modified>
  <cp:revision>84</cp:revision>
  <dc:subject/>
  <dc:title>PowerPoint Presentation</dc:title>
</cp:coreProperties>
</file>