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7FD-B915-4E80-ADDA-D84B598A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5519-20F2-4F54-AB66-CEB06BB8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0AE5-0A01-4809-927E-6264F5DA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733-174B-4BCD-9187-8451AC8F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46DE-7A3F-4B6D-ACD5-45611A4B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9AF8-8ACA-4B92-8078-333C8225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642-178D-4F1D-B467-700007CB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57E2-5681-4C86-AA0C-63279277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F05E-69C3-46F1-9FA6-B04C43D3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C3E5-25E9-4040-9616-B5E2537A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3C8-D63E-46ED-AA86-FBE95AFC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BB80-E580-4AA3-9AE0-DEEB5BC9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F910-68D4-40FB-A057-BC9519C62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bide with 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70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7002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bide with m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ast falls the eventid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darkness deepens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ith me abid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512080" y="1219320"/>
            <a:ext cx="40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Henry F. Lyte, 1847 (Lk. 24:29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38088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’s morning break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arth’s vai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hadows fl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n life, in death, O L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bide with m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bide with 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ide with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st falls the event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rkness deepe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ith me abid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2512080" y="1219320"/>
            <a:ext cx="40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Henry F. Lyte, 1847 (Lk. 24:29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other help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l and comforts f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of the helpl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abide with m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ft to its cl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bbs out life’s little 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’s joys grow d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glories pass away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ge and dec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around I s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ou who changest n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ide with m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ed thy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passing hou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but thy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foil the tempter’s power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, like thysel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guide and stay can b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c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un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abide with m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fear no fo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at hand to bl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lls have no we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ars no bitterness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s death’s sting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, grave, thy victory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triumph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thou abide with m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thou thy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my closing ey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 through the glo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oint me to the skies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7621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other helper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ail and comforts fl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elp of the helples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abide with m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morning brea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rth’s v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dows fl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fe, in death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ide with m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7621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wift to its clos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bbs out life’s little day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’s joys grow d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s glories pass away;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-31680" y="8380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hange and deca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n all around I s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Thou who changest no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bide with m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30492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3.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need thy presen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passing hour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but thy gra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an foil the tempter’s power?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600" y="3049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o, like thyself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my guide and stay can be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clou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unshin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abide with m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-12600" y="6858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4.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fear no fo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e at hand to bless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lls have no weigh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ears no bitterness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0" y="7621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is death’s sting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, grave, thy victory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triumph stil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f thou abide with m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-4680" y="7858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5.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old thou thy cros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my closing eyes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through the gloom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point me to the skies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06-25T14:23:11Z</dcterms:modified>
  <cp:revision>45</cp:revision>
  <dc:subject/>
  <dc:title>PowerPoint Presentation</dc:title>
</cp:coreProperties>
</file>