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610B-6E1F-40B2-BBF5-FCCBB2E4B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CEB2-8F05-4CD1-948A-1A64C9AD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1FAC-9DEB-4194-865C-C3B2CD0F6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EFF6-6920-4B39-8211-FF4DF2275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A49E-16A8-406A-88BB-C9CE19DD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131A-7BB4-4B06-890D-5747EB91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7037-9BAD-4BA8-AC2D-E9AC91C8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CD0D-22A4-41EF-A6AD-EAC64ABF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EFEC-64B8-482D-A2C6-F5046232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8FCD-A7EB-4EB5-B0EA-BD9B0141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3C13-CD7D-4F53-8517-1A79C57D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9C24-F7DE-41D4-A2CA-B2A1BAE3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EE43-52AB-46AE-8938-154D23853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Is 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447920"/>
            <a:ext cx="8839080" cy="508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Leader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Is someone here moving  toward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the twilight of life and fearful of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that which we call death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People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y be afraid? God is ab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© 1963 Martin Luther King, J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Is 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5560" y="914400"/>
            <a:ext cx="441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Martin Luther King, Jr., USA, 20th c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173240"/>
            <a:ext cx="8496360" cy="45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Leader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Is someone here on the brink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of despair because of the death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of a loved one, the breaking 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of a marriage, or the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waywardness of a child?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1981080"/>
            <a:ext cx="87631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People:</a:t>
            </a:r>
            <a:br>
              <a:rPr sz="4000"/>
            </a:b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y despair? God is able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give us the power to endu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that which cannot be chang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608040"/>
            <a:ext cx="8763120" cy="57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Leader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Is someone here anxio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because of bad health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People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Why be anxious? Come what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y, God is ab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All: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urely God is ab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3T14:53:19Z</dcterms:modified>
  <cp:revision>22</cp:revision>
  <dc:subject/>
  <dc:title>PowerPoint Presentation</dc:title>
</cp:coreProperties>
</file>