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326-5475-44F8-AC39-EBB8200A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3B8-0131-4ECF-BBC0-65C06FB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FCF-A9CE-4A8C-BAB1-D52C35E5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E76-2CF4-407D-9EC5-0EBD86FA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B18-411A-4DB9-B13F-76FAEEF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390-B919-4AC9-898D-C54CCF9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842-97A5-4096-B13F-250FD92A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B03-000F-4BA5-924D-BB1ED71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37E-D895-44F3-9443-70A0CD5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767-4518-4D10-B7FE-E7B87EC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498-45CD-4D10-A864-A1545DB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3DF-7F5C-4132-892D-B18FF46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DAB8-1511-447B-9EA1-B6C1ED1B8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Death My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Me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death my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me div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ou dost not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my sorrow ch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r frown my tears to s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Death My Friend and Me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1080" y="160020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rained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ate exc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bidst me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calm distr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m that 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 feel a str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mmortal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bears my mourn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pirit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neath its mountain lo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deemed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ief, and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oon shall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friend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in the arms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Pass a few flee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oments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eath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rest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death has snatched awa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e thou wil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ummons s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 b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parted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at eternal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9:16Z</dcterms:modified>
  <cp:revision>13</cp:revision>
  <dc:subject/>
  <dc:title>PowerPoint Presentation</dc:title>
</cp:coreProperties>
</file>