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50E-669B-405C-8333-EA298F0D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C6BC-55FA-4A40-A682-A2E28728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F44-F49A-457D-BB17-049B99A7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6BD-D09A-4DAD-B192-A3764DE1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5C9-A1B0-489D-B563-2BA0FC0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11B-B434-4764-AF4F-747C5FAF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603-1C0B-48AF-A070-F18FB359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881-C9A2-4CEE-A3F1-01F20DB8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9EB-994B-40A0-8DDD-E20E1AA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525-73F1-4EC4-B4E6-4A1C8042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2CB-42B3-4F55-A2D5-27BCF04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979-EC14-4BDF-B201-DD0F37E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8C6C-1208-4151-A7FB-875C2642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eal Away to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40040" y="114300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y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 me by the thu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reen trees a-b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a-tremb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y Lord he call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light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24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in’t got long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02:43Z</dcterms:modified>
  <cp:revision>48</cp:revision>
  <dc:subject/>
  <dc:title>PowerPoint Presentation</dc:title>
</cp:coreProperties>
</file>