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6D7-18B5-4D90-9605-7B6D8CAC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8FA-81CC-45F3-A9A5-4638DF4A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128-DA6D-41B1-B82F-42CB85B6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07D-1374-4BE0-869A-B546B533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7C57-4F57-4305-8CB2-F4149445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21A5-78F2-4CB2-BFC9-9A47CAF1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DEE3-F704-43AA-9F5A-AD499D08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5B66-E1E3-4735-B2E8-DCDFDBAE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30EA-165C-4408-AF46-FEAB582E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D70D-8255-45F4-8A3F-AAFB0203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7107-A5F5-4036-A3F0-2945406D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316-C24A-49F4-8EAF-41D4AE4E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A66C-BC6B-45EE-B0C8-73725321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C7CE-33FA-490B-8C6E-B87D45B7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0A19-8A0A-4857-9D7B-EB26BBEA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3545-FD98-4811-8B0B-624A135E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A97A-992B-4F45-BC24-4D1797A6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C5E-06EF-4436-B0A1-B8F6557E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4AB-3831-4E5C-805B-4424DD5A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A13-7121-43A1-9358-A528129E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DA3-B2B9-46BA-952B-5AB2D9C1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D0E-B189-436C-9CC9-142A75A5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735-14C6-4AFC-9DCD-0CB1A67E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DC8-4B90-4657-95D8-03B0365A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3C91-DD6F-4431-BFEE-5D26F6009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70A3-4970-4C69-900A-5B5D7E30B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ing the Almighty Power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3880"/>
            <a:ext cx="914400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sing the almighty power of Go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made the mountains rise,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pread the flowing seas abroa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built the lofty skie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59640" y="762120"/>
            <a:ext cx="30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oon shines fu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God’s comm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rs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sing the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ille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 with fo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ormed the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u the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nounced them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how thy wo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displ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’er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urn my ey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I surv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ound I t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gaze upon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re’s not a pl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flower be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make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ies kn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louds a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empests b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or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y thr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all that b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from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can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,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t presen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2056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 sing the wisdom that ordain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to rule the day;                    the moon shines fu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t God’s comm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the stars ob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I sing the goodness of the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 filled the earth with food,       who formed the creatur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ru the W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n pronounced them g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2056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how thy wond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e display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ere’er I turn my eye,                      if I survey the ground I trea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r gaze upon the sk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re’s not a pla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r flower below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ut makes thy glories known,         and clouds aris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tempests blow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y order from thy thron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all that borrow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fe from the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s ever in thy care;                           and everywhe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can b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u, God, art present t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ing the Almighty Power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sing the al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mad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untains ri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59640" y="1092240"/>
            <a:ext cx="30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pread the fl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s ab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uil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fty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ing the wis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ordai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ule the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6-13T19:38:29Z</dcterms:modified>
  <cp:revision>13</cp:revision>
  <dc:subject/>
  <dc:title>PowerPoint Presentation</dc:title>
</cp:coreProperties>
</file>