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ACE-1A6E-4446-837A-DB5AD22E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03E-DC34-470C-9287-3ED6761C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6F6-E08B-487A-8524-55D9E6E0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CCC-2CBC-40F6-B3FF-09201C74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145-5FA1-43AF-8A1A-4B278278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2E7-E82B-460F-ACB4-52FA9DC7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D96-AB44-40BA-A439-C91090CF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4CAE-D452-40A9-98C2-220AEC89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25D1-29E6-4D04-8AEB-949C9FB7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59F-2A81-463C-B4D9-270CF784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FFC-CB9C-40CE-8960-3441BCBE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197-0134-48B0-AA55-C6C7B186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2817-C8CE-4D9F-AE8B-E21E1FF31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h, Holy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ann Heermann, 1630; trans. by Robert S. Bridges, 18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h, holy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hast thou off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to judg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in hate pretend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k on thy p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swer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my deser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foes deri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ine own rejec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ost afflict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o was the guilty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rought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as, my trea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hath undone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as I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it was denie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rucifie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, the Good Shephe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sheep is offer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lave hath sin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on hath suffe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atone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hee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nterce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or me, kin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thy incar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ortal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life’s obla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u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bitter 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salv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refore, kin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I can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ad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ll ever pray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2:07Z</dcterms:modified>
  <cp:revision>49</cp:revision>
  <dc:subject/>
  <dc:title>PowerPoint Presentation</dc:title>
</cp:coreProperties>
</file>