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CFD-18BB-465D-8AB6-081D5B9D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EB4-81FB-468B-A61C-6743463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8C6-997E-4778-A106-661144FE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AD1-639E-40BB-8B3B-461E0320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5ECA-196B-494F-8C60-FEE8FA2D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D14-0B72-4B9C-AB82-C7693CA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56D-02FD-40A4-AB8D-C26BA1D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2D3F-9100-45D7-A465-59869FB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FDF-CFED-4E17-BAAB-1C1CDA3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EED3-688F-403E-900F-336221E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4E58-D82B-4B47-A37F-C5754DF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24A-1033-4848-89B6-3DFDAC9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3FC-3685-4833-8D21-ED6C6DB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357D-A41B-4734-85B9-4A34C90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8FE4-5EEB-44B8-9B38-34696EC0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C48-3225-496A-8BB9-166F6A42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9B77-A8F9-4F3E-957B-382A58CF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EFB-4C93-47A9-93B1-02F2F94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D09-188F-49DF-A536-EFEB4296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D8A-4A62-46DE-81EB-87B65B1A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B7C-8B7E-4AE0-94B8-E8A09805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E93-9C27-4D7E-80AF-12084B6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D7A-38C2-4D15-87CC-B7EB822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AE8-DE7D-44EC-94B2-577F96E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9E81-A371-43C8-83CA-F9E9E72F1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DFD-1F7E-4781-9A8F-1E15D2922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2640" y="15238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2640" y="167652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4T16:00:16Z</dcterms:modified>
  <cp:revision>13</cp:revision>
  <dc:subject/>
  <dc:title>PowerPoint Presentation</dc:title>
</cp:coreProperties>
</file>