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863-7AC0-4150-A909-D7107941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8B3E-3699-4D66-B084-2FBA72E5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F053-AE1B-47F8-BDD3-5C6AA440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8F6E-1F02-4D16-93DF-5FF93554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6C43-E507-413E-9663-E967596F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613D-3B17-42CC-A9EE-D3BAB342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A439-B998-4DA8-AD76-E6482EEC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F4AD-919F-4055-BF0F-29FB7EE2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B3F1-A00B-43DE-AC54-57EFEEB8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A46F-2211-40C9-A805-A96FFE18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FDE7-905A-4EF7-9F0B-8A8CF084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8E99-A8BD-4BF6-BD55-407C3C4D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7DB4-81E1-4168-BF5A-00724073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1FB0-B834-41B9-9A6A-B2DC9029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5381-6571-42D4-95F9-0290A2A2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6FC6-6CAD-48B6-A6A1-3244F496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31FB-5362-4655-92E0-B07958BF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5861D-8785-48F8-9993-935F67A0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36FEC-9F8C-4978-BD2B-8BD531FC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9673E-3634-468B-A818-0280C09B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CBF68-8740-4A39-9A89-2BD311AE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72066-5503-4C78-B8ED-CACC675B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50F4-A5E3-480C-B9C0-7B6F69F9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CD0B2-5BD2-47D0-BA39-8A4D502F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1DA67-1115-413F-9196-6FE4AA13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36C66-2D9F-4105-87CE-6248783F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6DC30-D6F2-4632-9AC3-E86F6A03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D98D9-536A-470F-A5BA-22D26D4E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80CEF-28BE-4E7C-B31D-4243135F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2771A-61F9-45F2-B49A-52CFC80A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1E68-3C7D-4303-B178-D90A89D0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68E6-77BD-45E0-B325-1084181B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5F14-7FD2-4249-91D2-40921F04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7CCC-6555-49D8-82D6-A5EE6ABD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7663-4BCD-4087-9265-5F3FE1AF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6A8C-D07B-430A-8BB9-2F50AB45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FF60-110E-44FE-8D50-9A79CD26D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1E2A-326F-4C2E-9609-9B1BB999D0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A220-4085-48D3-9DBF-EB6E2B2FF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670572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 Joy to the world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Lord is come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t earth receive her King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t every heart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pare him room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0" y="123840"/>
            <a:ext cx="9144000" cy="6730920"/>
            <a:chOff x="0" y="123840"/>
            <a:chExt cx="9144000" cy="673092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6705720" y="123840"/>
              <a:ext cx="23940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4267080"/>
              <a:ext cx="9144000" cy="258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304920"/>
            <a:ext cx="9144000" cy="417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aven and nature sing,</a:t>
            </a:r>
            <a:br>
              <a:rPr sz="49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heaven and nature sing,)</a:t>
            </a:r>
            <a:br>
              <a:rPr sz="32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aven and nature sing,</a:t>
            </a:r>
            <a:br>
              <a:rPr sz="49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heaven and nature sing,)</a:t>
            </a:r>
            <a:br>
              <a:rPr sz="36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aven, and heave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nature sing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oy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vior reign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their songs emplo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fields and floo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s, hills and plain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38088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eat the sounding joy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repeat the sounding joy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eat the sounding joy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repeat the sounding joy,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eat, rep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unding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533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 more let s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rrows g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orns infest the grou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omes to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lessings flow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38088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as the curse is foun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ar as the curse is found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as the curse is foun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ar as the curse is found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as, far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urse is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517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He rules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ruth and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s the nations pr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ie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righteous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30492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s of his love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wonders of his love,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s of his love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wonders of his love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s, wond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oy to the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oy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arth receive her K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ver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pare him roo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87520" y="1092240"/>
            <a:ext cx="4389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1719 (Ps. 98:4-9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1387440"/>
            <a:ext cx="9144000" cy="417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aven and nature sing,</a:t>
            </a:r>
            <a:br>
              <a:rPr sz="49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heaven and nature sing,)</a:t>
            </a:r>
            <a:br>
              <a:rPr sz="32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aven and nature sing,</a:t>
            </a:r>
            <a:br>
              <a:rPr sz="49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heaven and nature sing,)</a:t>
            </a:r>
            <a:br>
              <a:rPr sz="36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aven, and heave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nature sing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oy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vior reign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their songs emplo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fields and floo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s, hills and plain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80880"/>
            <a:ext cx="6553080" cy="356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and heaven and nature sing,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(and heaven and nature sing,)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and heaven and nature sing,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(and heaven and nature sing,)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and heaven, and heaven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and nature sing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123840"/>
            <a:ext cx="9144000" cy="6730920"/>
            <a:chOff x="0" y="123840"/>
            <a:chExt cx="9144000" cy="673092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6705720" y="123840"/>
              <a:ext cx="23940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4267080"/>
              <a:ext cx="9144000" cy="258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135576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eat the sounding joy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repeat the sounding joy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eat the sounding joy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repeat the sounding joy,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eat, rep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unding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 more let s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rrows g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or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fest the grou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omes to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lessings flow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135576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as the curse is foun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ar as the curse is found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as the curse is foun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ar as the curse is found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as, far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urse is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He rules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ruth and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tions pr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ie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righteous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135576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s of his love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wonders of his love,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s of his love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wonders of his love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s, wond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533520"/>
            <a:ext cx="670572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 Joy to the world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Savior reigns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t all their songs employ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ile fields and floods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cks, hills and pl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123840"/>
            <a:ext cx="9144000" cy="6730920"/>
            <a:chOff x="0" y="123840"/>
            <a:chExt cx="9144000" cy="673092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6705720" y="123840"/>
              <a:ext cx="23940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4267080"/>
              <a:ext cx="9144000" cy="258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289080"/>
            <a:ext cx="662940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peat the sounding joy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repeat the sounding joy,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peat the sounding joy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repeat the sounding joy,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peat, repeat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sounding jo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123840"/>
            <a:ext cx="9144000" cy="6730920"/>
            <a:chOff x="0" y="123840"/>
            <a:chExt cx="9144000" cy="673092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6705720" y="123840"/>
              <a:ext cx="23940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0" y="4267080"/>
              <a:ext cx="9144000" cy="258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228600"/>
            <a:ext cx="655308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 No more let si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sorrows grow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r thor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fest the ground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 comes to mak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s blessings f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123840"/>
            <a:ext cx="9144000" cy="6730920"/>
            <a:chOff x="0" y="123840"/>
            <a:chExt cx="9144000" cy="67309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705720" y="123840"/>
              <a:ext cx="23940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4267080"/>
              <a:ext cx="9144000" cy="258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320" y="212760"/>
            <a:ext cx="670536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r as the curse is found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far as the curse is found,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r as the curse is found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far as the curse is found,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r as, far a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curse is fou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0" y="123840"/>
            <a:ext cx="9144000" cy="6730920"/>
            <a:chOff x="0" y="123840"/>
            <a:chExt cx="9144000" cy="673092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6705720" y="123840"/>
              <a:ext cx="23940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0" y="4267080"/>
              <a:ext cx="9144000" cy="258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304920"/>
            <a:ext cx="670572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 He rules the world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ith truth and grace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make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nations prov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glories of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s righteousnes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123840"/>
            <a:ext cx="9144000" cy="6730920"/>
            <a:chOff x="0" y="123840"/>
            <a:chExt cx="9144000" cy="673092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6705720" y="123840"/>
              <a:ext cx="23940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0" y="4267080"/>
              <a:ext cx="9144000" cy="258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304920"/>
            <a:ext cx="670572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wonders of his love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and wonders of his love,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wonders of his love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and wonders of his love,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wonders, wonder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 his lo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0" y="123840"/>
            <a:ext cx="9144000" cy="6730920"/>
            <a:chOff x="0" y="123840"/>
            <a:chExt cx="9144000" cy="673092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6705720" y="123840"/>
              <a:ext cx="23940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4267080"/>
              <a:ext cx="9144000" cy="258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oy to the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0508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oy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arth receive her K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ver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pare him roo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87520" y="838080"/>
            <a:ext cx="4389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1719 (Ps. 98:4-9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12-12T01:41:14Z</dcterms:modified>
  <cp:revision>14</cp:revision>
  <dc:subject/>
  <dc:title>PowerPoint Presentation</dc:title>
</cp:coreProperties>
</file>