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B65E-2291-4AC3-9B7D-DD18218D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B1F3-7EFF-4DF4-924F-B99C1ECB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F223-8CA6-4094-8BE1-8E101ABB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0F1E-CA44-46D1-8ED9-019CD3A0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E58F-199A-4F99-B0D3-A64E9E5C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846-1267-46F0-9234-9E0E7985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7D87-2DFE-4DFF-95DC-7A3EEE40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1F3-8BE7-42EB-ABBD-5E4EDBE2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9D26-9E0D-49B2-ACA3-7DB27BCA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B235-C2F5-4B41-AAF1-9E5EC663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FF0E-5F64-417C-A7B0-09F91E83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7C6-1FA7-4C35-88CE-FD29E4C3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B9C5-1E2A-42D6-9D33-6867DC53B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My Peopl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ek Their Free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67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“Let m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their free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wilderness awhi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My People Seek Their Free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. Herbert O’Driscoll, 1971 (Dt. 8:14-1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mi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ancient bond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, wan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the r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yield its w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man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by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 vis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 fu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we ma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ward the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the maelst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journe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sp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My People Seek Their Free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la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ener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hung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r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ago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ca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ewer way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tomorr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arth’s to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slave p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elt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ghett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Nile”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God spo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ut of Sinai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God spo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t was d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ed the wa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ward the ri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“Let m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their free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wilderness awhi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My People Seek Their Free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a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rines and structu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cloi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aisle”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the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 has sp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torm clou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unfurl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od’s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st be scatt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servants in the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 we murm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mount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gyptian plai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My People Seek Their Free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3:11Z</dcterms:modified>
  <cp:revision>94</cp:revision>
  <dc:subject/>
  <dc:title>PowerPoint Presentation</dc:title>
</cp:coreProperties>
</file>