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7BC-A248-46F0-AFBC-AE20968F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31B-E7B7-4A47-9780-CBB8B6BE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E97-2F9B-427E-8379-5B7AA3D1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0B6-E22D-4B19-BA8B-53F4E7C0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63E3-EE21-4A66-9D4E-54B3B7F5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8C8B-E485-4F6A-8531-2364CDE8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8742-D199-42A8-810E-5D0062D2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3F92-5736-4740-8DFA-D5461FD0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97F7-7836-4A98-926A-D4C929BD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CA82-E564-4514-B74A-4E3E8289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F40C-B386-4C22-8780-552110D0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4CA-0CE3-4110-8F81-4B91A36B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4BF0-7B38-4878-9E01-4C9AD93C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34E7-C11A-443E-8D13-7814633D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3FB6-128D-4AD8-8EF1-4CA771AF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635F-A9D0-4BF1-90E9-93A3CB83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9F3A-E410-4803-AEF5-7B34640A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751-2CE0-4EE6-BA49-314A24A4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F09-6558-4EC0-AEF8-88CEC88B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995-08FC-4A6C-A51E-6FB03709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D2B-C6C1-4EA6-B0C9-795C5AC1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84E-1367-4D7E-A9AE-C22F3C3D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FE8-3DE5-4C9D-B459-C187E7DE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7A1-5374-4BFA-9E17-4BA9808E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6A5D-13A4-4F44-8D6C-7C911B85F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84F4-C93E-4ACA-8753-742684A83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Need Thee Every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76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I need thee every hou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st gracious Lor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tender voice like thi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an peace aff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838080"/>
            <a:ext cx="500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nnie S. Hawks, 1872 (Jn. 15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68120"/>
            <a:ext cx="9144000" cy="54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Need Thee Every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gracious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tender voice like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peace aff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990720"/>
            <a:ext cx="500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nnie S. Hawks, 1872 (Jn. 15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y thou nearb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tations 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oy or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quickly and ab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life is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y w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rich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 ful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Holy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ke me thine ind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blessed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20760"/>
            <a:ext cx="9144000" cy="54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Need Thee Every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 need thee every hou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ost gracious Lor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 tender voice like thin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n peace affo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838080"/>
            <a:ext cx="500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nnie S. Hawks, 1872 (Jn. 15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144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y thou nearb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tations 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25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oy or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quickly and ab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life is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52280"/>
            <a:ext cx="9144000" cy="431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y w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rich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 ful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25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Holy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ke me thine ind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blessed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2056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I need thee every hour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ay thou nearb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emptations lo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ir p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thou art nig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4440"/>
            <a:ext cx="9144000" cy="54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I need thee every hou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joy or pain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me quickly and abid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r life is vain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549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I need thee every hour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ach me thy will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thy rich promis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me fulfi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44440"/>
            <a:ext cx="9144000" cy="54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I need thee every hou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st Holy On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make me thine inde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ou blessed S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31T14:13:55Z</dcterms:modified>
  <cp:revision>23</cp:revision>
  <dc:subject/>
  <dc:title>PowerPoint Presentation</dc:title>
</cp:coreProperties>
</file>