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07C-7741-4914-B04A-03E7A3B1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4F8-FA2A-47DA-828B-1FC423D3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AFA-062A-4056-AEB0-39D8D923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16A-2C32-4C7D-9B51-7E0C8E95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4A0-E30D-4EB6-87FB-EBC0E9C6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ECD-9E62-4389-B5D5-3DEAB3DB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DE6-C5EB-42C1-BFB3-3BC87569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14E-CC4B-471B-AEB3-590FF316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695-F655-4687-B2EB-96C11646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BAC-547A-4D79-A83A-F5ECC93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A34-D00E-4A00-896E-6240558E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3C8-FEE4-4E66-AAD4-0CE456AA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8B2A-ECDB-4472-9C5E-DBA985FF0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Zechariah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Benedict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246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Advent &amp; Christm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David’s greate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Zechari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2560" y="1600200"/>
            <a:ext cx="77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uke 1:68-79, ICET, rev. ELLC; Response, James Montgom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tender compass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dawn from on hi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break upo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4619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hine on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dwell in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shadow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o guide our fe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way of peac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990720"/>
            <a:ext cx="8610480" cy="431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b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God of Israe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has come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et the chosen people fr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rais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p for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 mighty Savior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use of Dav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holy prophe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 promised of 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ave us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enem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om the hand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who hate 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how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our foreb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o rememb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coven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was the oath God sw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our father Abraha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et us free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s of our enemi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4619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to worshi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out f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and righte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Lord’s s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ll the days of our lif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, chi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be calle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phet of the Most Hig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you will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for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epare the w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give God’s peopl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knowledge of salv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forgiv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ir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2:47Z</dcterms:modified>
  <cp:revision>33</cp:revision>
  <dc:subject/>
  <dc:title>PowerPoint Presentation</dc:title>
</cp:coreProperties>
</file>