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E928-6AD5-45F7-92EC-F6C240CD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1F73-363B-4AF4-909E-17397E5A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8C7F-2480-4FE6-9DAA-E22EE9DA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BF41-378B-4159-997C-A1F8C2A4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C089-C75A-4033-826F-19EF37EA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6639-BC95-437E-A16A-55F2B5C0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8282-6393-48FC-93E7-DD42B6D8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B867-894A-41BF-B87E-60B238AA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83E9-2671-4265-AFC8-E5026EFF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F50C-1613-4C64-A371-6DBFFDD5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8E77-71E5-49A6-8680-E23FA2D0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D694-75CE-47EE-A029-A90771AA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B984-C9AA-40C4-BAEB-E4F4E3BE9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e Who Claim the Faith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39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Ye who cl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faith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 the wond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ere don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t. 4 © 1982 Church Pension F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Who Claim the Faith of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30680" y="1004760"/>
            <a:ext cx="528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ts. 1–3 Vincent Stucky Stratton Coles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t. 4 F. Bland Tucker, 1982 (Lk. 1:26-5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“Magnify, my so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’s greatne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rejoi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Who Claim the Faith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a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ll me ble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is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ift my voi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has cast d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migh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low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his choic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the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ver s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ictory w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he ma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Virgin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ther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only 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Blessed w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chosen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t of wh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did c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Who Claim the Faith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nd of prom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shione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earthly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more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r the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e who b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m in her womb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refore l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faithful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 the hon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her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Who Claim the Faith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the chu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er foreshadow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rt in 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nksgiving clai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Christ’s m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ng in gla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Christ’s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 the sam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0:09Z</dcterms:modified>
  <cp:revision>48</cp:revision>
  <dc:subject/>
  <dc:title>PowerPoint Presentation</dc:title>
</cp:coreProperties>
</file>