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CEE-78DB-4C41-B737-335C31DA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70E-C261-429C-84A1-E3D9B35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4D7-1C61-4237-AEC4-DACE0AA8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5C0-27C9-4B6B-BD88-FB107DE2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F36-7807-46A3-B3FE-D3209EF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B31-9637-4911-8007-75B50FA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AB0-7EEC-42B4-AB0D-D29A89AB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391-143C-44F4-9313-7C09071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6F5-FA68-4A3B-AC4A-47ACC62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A21-1D4B-4308-B1F0-BB463C2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E59-2D8C-43FA-8509-59AB658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1DBD-6581-4D48-9FE8-F8D5E62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DD0-7AE5-43D7-B5EA-1A73341E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ing 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burning Mountai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hosen Su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perfect Moon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fathomless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ing God of Many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8480" y="1066680"/>
            <a:ext cx="502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echthild of Magdeburg, Germany, 13th cent.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unattainable Height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learness beyond measur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Wisdom without end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Mercy without lim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Strength beyond resistance,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 Crown beyond all majesty: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The humblest thing you created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  sings your praise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2:05Z</dcterms:modified>
  <cp:revision>19</cp:revision>
  <dc:subject/>
  <dc:title>PowerPoint Presentation</dc:title>
</cp:coreProperties>
</file>