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2991-7644-4D92-A6C8-EA26E7CCB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BB49-0966-4064-80AD-738D7A68C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1635-B4C9-4FEA-A944-BD5F401DF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A2B8-B502-4FAC-8C8B-C6A18EC34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6B24-A0D9-441E-9FF3-072FA92D2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5009-1D2C-4B17-B762-62534866E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5B56-1DB3-4E57-A833-A0528DFF9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D40B-1C12-483D-86E4-98AC4EE89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12A6-4F73-4BD5-A715-E41C0E3A4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93E1-8524-45FB-9A2F-7A41E29C4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2561-C912-4C13-80FA-6B4443556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221A-F3B4-43B2-B2E6-F61F0744E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1B7F0-EFD0-437D-8294-B397F3B8FF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En el Fr</a:t>
            </a: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ío Invernal</a:t>
            </a:r>
            <a:br>
              <a:rPr sz="4000"/>
            </a:b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(Cold December Flies Awa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3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666880"/>
            <a:ext cx="9144000" cy="388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En el frío inverna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el mes de diciemb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n capullo del rosa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rota en un peseb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Trans. © 1978 Lutheran Book of Worship; Spanish trans. © 1987 Skinner Chávez-Me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 el F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o Inverna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538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Catalonian carol; trans. by Howard Hawhee, 1978;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Spanish by Skinner Ch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ávez-Melo, 1987 (Is. 35:1-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Cold December flies aw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t the rose red splendor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pril’s crow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lory break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ile the who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orld wonder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d December Flies Awa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t the holy unseen pow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the tr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ich bears the flower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the blessed tr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looms the reddest flowe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the tr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looms the ro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re in love’s own gard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ull and strong in glo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In the hopel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ime of s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adows deep had fallen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the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ay undernea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yes were closed in sleep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d December Flies Awa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t, when all seem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st in n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ame the su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se golden 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rings unending jo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rings the endless joy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our hop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ghest hop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our hope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right dawn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n beloved of hea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Now the bud h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to bloo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the world awaken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the lily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urest flower dwel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 wondrous fragran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d December Flies Awa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it spreads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the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the mome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its birth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its beauty live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the flower it live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the flow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it sprea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its heavenly bright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weet perfume delightf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el calor primavera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ce al mundo despert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¡qué fragante ol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e tan bella flor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 esa ro-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 esa ro-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 esa rosa anhel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el jard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 del ciel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Las tinieblas del ay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uyen prontament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a mañana deja 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l resplandecient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 el F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o Inverna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n nocturna oscurid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sca el mundo clarid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¡qué felicid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sta Navida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a la lu-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a la lu-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a la luz divin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 mundo ilumin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Va el capullo a florec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osa blanca y pur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u fragancia va a ofrec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 toda criatura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 el F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o Inverna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se aroma sin igua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ueva vida da al morta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s de Dios el d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umo galardón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que al mun-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que al mun-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que al mundo ha da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s su Hijo amad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53:26Z</dcterms:modified>
  <cp:revision>79</cp:revision>
  <dc:subject/>
  <dc:title>PowerPoint Presentation</dc:title>
</cp:coreProperties>
</file>