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874-1A91-4873-B94D-DB46E1F5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5DB-BA26-47AC-941D-B3217BF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22B-E758-4D15-A13D-EF2BEB16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D84-8BC8-4F99-B125-E75B682C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777-D770-4AF6-BDD5-365F7166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775-1ABC-42E2-BF18-C4DA421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855-E2FD-4B64-8FD1-05A6666E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888-4F28-49CC-85CE-8CFF5A1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9B2-8EE8-4036-8159-83EE17DA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D56-C59D-4A76-9798-3BFB223A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E8C-00B1-411C-8C45-6253242A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C09-7E14-4D6E-9A38-E2D178AB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8BC-5019-4AFF-8C85-8EF0114F0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1371600"/>
            <a:ext cx="9144000" cy="41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3240" y="762120"/>
            <a:ext cx="8239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© 1974 Hope Publishing 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ift High the Cro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5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1600200"/>
            <a:ext cx="9144000" cy="49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br>
              <a:rPr sz="5000"/>
            </a:b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15880" y="1143000"/>
            <a:ext cx="82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George William Kitchin and Michael Robert Newbolt, 1916, a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6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83808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Christians, follo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triumphant sign.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hosts of God i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ity combin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Each newborn servan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rucifi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ars on the brow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eal of him who die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Lord, once lif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n the glorious tre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thou hast promis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draw the world to the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So shall our song of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riumph ever be: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Praise to th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rucified for victory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28600"/>
            <a:ext cx="9144000" cy="44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ift high the cros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ve of Christ proclaim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ill all the worl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dore his sacred na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2-02-25T15:34:03Z</dcterms:modified>
  <cp:revision>23</cp:revision>
  <dc:subject/>
  <dc:title>PowerPoint Presentation</dc:title>
</cp:coreProperties>
</file>