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208-520A-437A-9A7B-2B621B82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C2E-36FB-44B9-B501-AC399DA4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FB1-A76B-40B9-9217-9FCC2EB7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656-92AD-4673-8854-C4746C60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129-C946-4157-8390-6EDC0ECF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5BA-568F-4619-9D32-6CD39695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E09-23A7-466C-B78F-9C115B4F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A4A-3B04-410F-881B-10C3CDC9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EED-8879-4A7E-8516-79EE8D9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710-7EA1-443F-A8F8-68E8BAD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80D-E7A9-412A-85FD-7E46330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BC1-7BC6-4C7F-8FE5-661A171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CEC1-7FAA-4015-BD89-7DFD6FC1D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is la Semill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You Are the Se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25600"/>
            <a:ext cx="9144000" cy="55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3:08Z</dcterms:modified>
  <cp:revision>88</cp:revision>
  <dc:subject/>
  <dc:title>PowerPoint Presentation</dc:title>
</cp:coreProperties>
</file>