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5BB6-50F9-4CE4-BF31-A406DFF7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696D-A9CB-407A-8D34-B17735B1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6B78-29B3-4906-A664-D0A26A7D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BF80-1CA5-4142-9B9A-6131F1B7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9064-867A-4688-8863-76587933A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A759-D80A-4839-B578-75575CB4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3E55-F270-45D5-94B6-FE866E98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4BB8-3985-47C4-B636-FDF9B9A5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B5E6-CA9A-41E5-B309-4362754D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5CA9-5E52-467C-8DC4-F2989CCE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B45D-1A54-47E8-964E-C9396E1D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AC49-2D80-4F9D-A35E-2133C1CA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05C7-5FC5-4CD5-A005-CEF188F7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E714-9F2D-4CD8-BB42-FA183569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7382-136F-4FF6-9FE8-4F1DF8D4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F66C-02B6-4A5A-AAE7-70A9135E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B698-8D9F-4C90-B9C1-F9D68041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C158-55B1-4C39-BC67-CADA6CAB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2963-9E3A-4C8F-A2D6-E0A515B3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AF47-064A-41AC-86AC-C19A76D6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C083-799D-4117-957C-1E16EEBA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DBA0-856B-499D-BFBB-593B863F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C1D1-0782-4144-A191-05613386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C674-37A0-433D-ADDB-66445AC2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33D8-B76D-4AA3-BF04-3841B70C1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1253-D313-415D-80D1-64013C778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6248520"/>
            <a:ext cx="9144000" cy="606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Want to Walk as a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ild of the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394000"/>
            <a:ext cx="9144000" cy="30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1. I want to walk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s a child of the light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I want to follow Jesu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15440" y="1600200"/>
            <a:ext cx="6534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Kathleen Thomerson, 1966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0, 1975 Celeb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have ru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atience the rac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e shall know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joy of Jesu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457200"/>
            <a:ext cx="9144000" cy="485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In him there i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no darkness at all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night and the da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re both alik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943600"/>
            <a:ext cx="9144000" cy="911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mb is the ligh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city of God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in my heart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ord Jesu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Want to Walk as a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ild of the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362320"/>
            <a:ext cx="9144000" cy="414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 want to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a child of the ligh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ant to follow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0, 1975 Celeb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79680" y="1600200"/>
            <a:ext cx="4205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Kathleen Thomerson, 196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set the st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give light to the worl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tar of my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im ther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darkness at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ight and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both ali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mb is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city of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 want to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rightness of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ant to loo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lear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Righteous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on my p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how me the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Fa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im ther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darkness at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ight and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both ali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666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God set the star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o give light to the world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tar of my lif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is Jesu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mb is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city of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’m looking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coming of Chris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ant to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have r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atience the 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shall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joy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im ther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darkness at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ight and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both ali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mb is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city of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Want to Walk as a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ild of the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2096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 want to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a child of the ligh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ant to follow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15440" y="1600200"/>
            <a:ext cx="6534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Kathleen Thomerson, 1966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0, 1975 Celeb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066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set the st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give light to the worl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tar of my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45720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im ther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darkness at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ight and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both ali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8985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mb is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city of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1066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 want to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rightness of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ant to loo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457200"/>
            <a:ext cx="9144000" cy="485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In him there i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no darkness at all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night and the da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re both alik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5335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lear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Righteous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on my p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how me the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Fa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53352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im ther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darkness at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ight and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both ali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mb is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city of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1066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’m looking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coming of Chris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ant to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have r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atience the 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shall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joy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45720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im ther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darkness at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ight and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both ali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mb is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city of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2193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mb is the ligh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city of God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in my heart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ord Jesu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172200"/>
            <a:ext cx="9144000" cy="682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0666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2. I want to se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brightness of God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I want to look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t Jesu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53352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Clear Su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f Righteousnes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on my path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nd show me the wa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Father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533520"/>
            <a:ext cx="9144000" cy="485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In him there i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no darkness at all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night and the da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re both alik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0382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mb is the ligh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city of God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in my heart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ord Jesu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666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3. I’m looking fo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coming of Christ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I want to b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ith Jesu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8-07T16:05:02Z</dcterms:modified>
  <cp:revision>56</cp:revision>
  <dc:subject/>
  <dc:title>PowerPoint Presentation</dc:title>
</cp:coreProperties>
</file>