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A58-DD90-4176-A4CF-E0D1EF93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CDD-6107-4AE4-B772-FF627DE7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4CC-949A-42FE-966A-C928B63A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E27-8312-49A8-A672-C7F45168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FB1-D674-454B-BAD8-D7740F7F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07E-B310-4E80-A819-DDEA4B13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D6C-B6D9-4836-9C61-45AECA6E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24D-4829-4756-9006-AC15D5C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C6E-C59F-46E9-B116-0BCA07F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973-82FB-4E8E-97C4-7DD2DB35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16E-B68C-4AB3-B84F-B2C8E1C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60C-52FC-4CDA-8AB4-FCC4206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FE2B-1BD7-4F75-B939-239A7CEE3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eedom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3320"/>
            <a:ext cx="891540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ke me sensit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evide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goo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Believe in the Resurrection of the Body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6 Fortress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dom in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3800" y="1066680"/>
            <a:ext cx="377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ubem Alves, Brazil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I, trusting 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ee myself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error of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eel free to l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tensely and happi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ife you have give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2:15Z</dcterms:modified>
  <cp:revision>9</cp:revision>
  <dc:subject/>
  <dc:title>PowerPoint Presentation</dc:title>
</cp:coreProperties>
</file>