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99F-F7D9-43CE-8888-1FDF2C15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163-0ED9-4D5A-9339-225C914A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AF9-3B73-4BA8-BFEA-726189AD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AE7-B741-4C40-B19D-5AA9E35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E3E1-DC44-46F6-BD96-7AEEA152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229-9A94-4D75-9714-41D141DE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81FD-3D5A-4AFD-9762-B4E25DCD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B25A-B464-4F65-98EC-0092952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D8C8-E359-4EC1-90C1-D777ED4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935A-2D15-4EAB-8286-EEF7D57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8DEA-3743-484B-BA70-8DAF2CF9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ABD-4EB0-4220-9513-60A9986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A66E-D1BD-4DD7-99AF-0786C66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742A-D8D4-47AF-A32D-0C8DD57D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858A-1ED9-468A-9592-AB9AE2F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2EF2-6AD4-4FEE-964F-29E9E193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C4C-F963-40B0-AF00-B7D5A007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D6F-23CA-4DD6-BF3C-2CB3C843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92D-D0E4-4696-A27F-2C35BF3D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32-B4DA-4CFE-8BA0-4467AE11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FD0-9D99-4B14-9922-287CCEC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E44-6D7A-412E-A8C3-996AE222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D71-8C49-4D64-B387-7FDBA43D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6A9-B29E-46AE-8865-AF8BC24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E71-F776-4E63-973C-4561014F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626C-8537-44D7-AE6E-3BF71160E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6858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699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1440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p from the 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00" y="12193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Lowry, 187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ow in the grave he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the coming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47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49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 he arose,     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3992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666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38080"/>
            <a:ext cx="914400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16:35:01Z</dcterms:modified>
  <cp:revision>79</cp:revision>
  <dc:subject/>
  <dc:title>PowerPoint Presentation</dc:title>
</cp:coreProperties>
</file>