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D6F-53CB-4BC3-9457-2278C192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AC97-42E4-4B54-85D9-91FB254F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957-9030-491F-B676-8B542469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F49F-9A42-42BA-A569-1308F9D2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DBEF-BF99-4414-98FA-A3795AC9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1AEA-4478-4711-8D39-FFB9743A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4771-EB2D-449D-B29A-54F83CEC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6B7-74B4-43AE-8911-DC020AD8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7BC-5FAC-4298-B939-A1349140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8318-27BC-4D42-8E8C-CF15603A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CBB2-51A4-4B54-AABF-1309E5A9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8D20-A55E-4E9B-A8FF-3B386F43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6186-2585-4989-8EE5-F0E732D46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re Cross the Crowde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ys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re cross the crow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ys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soun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ies of race and cla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7720" y="1676520"/>
            <a:ext cx="546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rank Mason North, 1903 (Mt. 22: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ng these rest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gs ab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read the cit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ets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Till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learn your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llow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eet have tr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, glorio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eaven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ome the c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the no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elfish str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ear your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on of m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haunt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etchedness and n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shadowed thresho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 with f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paths where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ures of gr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atch the vi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tea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rom tender childho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less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woman’s grie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’s burdened toi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famished sou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orrow’s str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eart has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n reco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 cup of w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n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holds the fresh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long the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ltitudes to vie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weet com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 Master,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ain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haste to he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se hearts of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9:10Z</dcterms:modified>
  <cp:revision>17</cp:revision>
  <dc:subject/>
  <dc:title>PowerPoint Presentation</dc:title>
</cp:coreProperties>
</file>