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A72-A9B0-48B6-8848-016B92E7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FBC-37AF-492C-9AC0-8259E130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0AF-9083-4272-B39A-F283E9CE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985-CF3A-4020-902B-60545783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7BE-8108-4751-9E6B-B1154F60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0A3-A071-4849-B7DD-12090321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BF6-87A0-4175-942F-707985DD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CD10-BD1A-4DD5-9A71-C56BDD7D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505-09A6-4325-BE4E-B2A451B7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0AB-ED35-4CA1-BE14-4F9FA2EA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3BA-CF62-4873-A714-B1CF8721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0A6-1783-4529-A684-176D057E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CEDE-F90C-44D8-AE9E-8E370CA3F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is the Old Ship of Z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It was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dear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t was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dear fa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was goo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ear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064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It will tak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t will tak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eav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will take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eav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t has la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a thous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has la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a thous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has land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a thous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064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in’t no d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in’t no d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at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in’t no dang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a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666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t was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dear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it was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 my dear mo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was goo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dear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17:07Z</dcterms:modified>
  <cp:revision>101</cp:revision>
  <dc:subject/>
  <dc:title>PowerPoint Presentation</dc:title>
</cp:coreProperties>
</file>