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912-8C51-4831-A360-6D1ED92C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F74-C5A4-4725-B3BA-19344FE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FD-DE4A-4E6E-92C5-3D447360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6DE-DCE3-4A11-91EC-102B2542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B885-4203-4EF3-B5B9-02B514DC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8383-D210-42B6-B2FA-8D043B56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ED1-0AE8-434B-92FF-CCE9C5A2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9AB4-DA57-40A8-9F7C-9AE292A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42D-EFEF-4012-AF02-0588455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228-B9FD-4957-B02F-7091178E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1AD-CEC5-4D07-AF55-AD3DBB52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E14-4960-4112-9EA1-5436F041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9F67-1FDB-4C47-9BA9-C6F81EE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B965-0269-47D9-92BD-B76C444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FBA5-92F5-4AE7-BB9C-DF06280D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DF8-5445-45F2-B97E-592599E8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EB4-20EA-49AB-BF79-B17C4711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2F4-1190-43C2-B089-36541DC0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6B2-4BAC-4A09-8281-2E8953A6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921-F567-4707-BDCF-F537A850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4E3-DB52-4830-BC73-1BCCFF4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5A9-5F7B-4E5A-B328-41EC937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4AB-3E93-448B-8271-91567E4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F23-00E2-4906-8E18-E433B26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F8E-1300-4661-864C-B51DC80F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8AF-4F1B-406B-B049-254EDE984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ve ca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ll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6840" y="109224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na G. Rossetti, 1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orship we 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esu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wherewith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sacred sig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522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shall b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t token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be yours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be min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to Go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all m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for ple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gift and s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a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m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and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ship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ere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acred 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ve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o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be your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for pl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ft and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9360" y="114300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DS: Christina G. Rossetti, 1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came dow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 Christma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all lovely,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divi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was bor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 Christma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tar and angels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ave their s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orship w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odhea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incarnat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div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06T22:53:04Z</dcterms:modified>
  <cp:revision>16</cp:revision>
  <dc:subject/>
  <dc:title>PowerPoint Presentation</dc:title>
</cp:coreProperties>
</file>