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762-60B4-429A-9282-39459AFB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36A-14F0-4F50-8139-D9835055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FC9-524D-44A4-BE4A-DCDC374F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F6B-F909-4157-810C-C2578CAE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D55E-568F-4847-883D-9492BD26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FA40-B755-4119-91A0-8F39D36F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0070-88B6-417A-BE23-5FD4D2B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00D4-DFCA-4361-BC80-2B329DF6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A8A0-9739-4778-83A6-3826E16E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745F-2FDF-49C8-BE60-7ACCFC82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615-885A-4670-9449-AAB21AD7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934-7449-4793-9B99-1AE61D78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F44B-1C1B-4F24-AD59-953FB9B3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42A0-89DB-4221-88FE-37304BC3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A6F7-7D8B-4A46-BD26-000E79D9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8833-D7B9-4739-A2C6-B7B90DE6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F878-891D-4B0C-8EAE-378AD436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435-3CF4-4B0F-8459-E16D12F5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4C9-FF6D-43A7-ACBE-C36638DB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03D-B996-4447-A1F8-8F768F6C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A5E-9C7A-4B71-A617-22753DEF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0A6-4695-4C34-B22A-4D373DB3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697-40AE-4285-A0AF-4544619B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7B5-0429-40F8-A19A-FD45C02B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0BD2-14EC-4BC4-B969-C9C772C5E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84AE-0740-430B-80C8-161256273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Newton, 1779; st. 6 anon. (1 Chr. 17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431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1. Amazing grace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ow sweet the sou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aved a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retch like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was grace that t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c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ars reliev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07440" y="2239920"/>
            <a:ext cx="6729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precious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ace app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 I first belie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rough many dang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ils, and sn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already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63680" y="1859040"/>
            <a:ext cx="6415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grace hath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safe thus 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Lord has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wor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secur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36040" y="2239920"/>
            <a:ext cx="6272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my shie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rtion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ng as life endu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Yea, when this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t shall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c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62680" y="2239920"/>
            <a:ext cx="62204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poss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ve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ife of joy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When we’ve been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y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sh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e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88120" y="1859040"/>
            <a:ext cx="5566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ve no less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ng God’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d first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1840" y="895320"/>
            <a:ext cx="86832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once was los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m foun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as blind, but now I s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85800"/>
            <a:ext cx="9144000" cy="544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OH NAY THLA N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EE OO WAY GEE.’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 GAH GWO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AH HAY 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erokee phonetic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4840" y="1882800"/>
            <a:ext cx="675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W GWOO JOE S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YOU LOW S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 GAH GWO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AH HO NA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avaj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066680"/>
            <a:ext cx="9144000" cy="479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NAV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IZ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ÍGO JOOBA´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TS´ A´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SDÁSHÍÍTÍNÍGÍ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avajo phonetic transcription by Albert Ts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6368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H YÓÓÍÍYÁ, K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ÉNÁHOOSDZ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O EESH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ÍÍ DA Ń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É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Kiow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3520"/>
            <a:ext cx="9144000" cy="590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KIO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TSAHY 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SOW’H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TSAHY 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iowa phonetic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4778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Y DAWTSAHY T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AW AYM 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H T’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W K’EE DA H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WTSAHY H’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re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50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R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O YA FEK CHA 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LT AH T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H NON AH CHA PA K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reek phonetic tran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 FEE K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UNN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 K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M E HA TA LA Y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octa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066680"/>
            <a:ext cx="9144000" cy="533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OCT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HILOMB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OLITOPA MA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SHMMINTI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ULLA CH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octaw phonetic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39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TAK ILBUSH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A H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PI YUKPALASH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was grace that taugh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fe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ce my fears relieved;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w precious did that grace appea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our I first believe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Newton, 1779; st. 6 anon. (1 Chr. 17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mazing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weet the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ave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retch like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54880" y="1066680"/>
            <a:ext cx="6836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once was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m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blind, but now I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was grace that tau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ce my fears relieved;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recious did that grace appea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ur I first belie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rough many dang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ils, and snar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already come;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tis grace hath brou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 safe thus f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grace will lead me ho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Lord has promis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o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is word my hope secures;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ill my shiel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portion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long as life end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682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5. Yea, when this fles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t shall fai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rtal life shall cease,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shall possess, within the vei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ife of joy and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6. When we’ve been the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yea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shining as the sun,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’ve no less d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sing God’s prai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 when we’d first begun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3. Through many danger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oils, and snar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already come;                       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’tis grace hath brough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e safe thus fa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grace will lead me home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Lord has promis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o 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word my hope secures;       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will my shie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portion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s long as life endure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5. Yea, when this fles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t shall fai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rtal life shall cease,          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 possess, within the vei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life of joy and peac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7000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6. When we’ve been the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year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shining as the sun,           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e’ve no less day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o sing God’s prais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an when we’d first begun.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Newton, 1779; st. 6 anon. (1 Chr. 17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mazing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weet the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ave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retch like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4880" y="2239920"/>
            <a:ext cx="6836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once was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m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blind, but now I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9T00:34:56Z</dcterms:modified>
  <cp:revision>125</cp:revision>
  <dc:subject/>
  <dc:title>PowerPoint Presentation</dc:title>
</cp:coreProperties>
</file>