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99D-56AC-4A03-9EAB-5403CBF1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A1D-0DC9-49CF-A053-1C9F677F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798-9C10-4DAA-87AD-9DFF4340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C61-C387-4D91-8B30-2F0730EE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C3B4-0CFA-4A81-8E67-B8CA0085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F351-1A70-45A2-B687-7DD6EB9F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2507-27B9-4E5C-AF8B-40393AA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A408-1963-4773-961B-DE4E0695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6DCD-5E5F-4E95-AE4E-3CB5919A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2ACE-A72B-41C0-B971-5A78B5CD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4C08-3BED-4F03-A733-F2C0C41F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2EE-94AB-44A0-BEBF-D2E77054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3DD2-FD43-4FBD-A354-046F1451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B8EE-7833-4BB8-B538-1084F390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D489-E20D-4C6A-88FF-FA62FEBA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BC81-2E7E-470E-9FB2-134FD31F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26DC-0C09-410A-A284-3BA5D712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CC8-93AB-4872-AEB4-2197A8CD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895-3EED-4E33-B6C9-1577D74F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57D-84B0-46F7-BAE3-772646AD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DD1-D2EC-43CB-9B69-DE18572B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67A-CE9E-4031-960E-67FCAC6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797-7016-41F0-9E5F-729186EF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C87-1FDC-421E-BF06-EFC85AD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EB9D-77AA-4B51-A5D8-C2861413E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3246-916E-4B57-9D30-3765505E1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pen My Eyes, 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14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ra H. Scott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479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 that I may se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1604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sendest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thing fal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dis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1604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ars, illumin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th everyw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1604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heart, illumin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pen My Eyes, 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14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ra H. Scott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52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 that I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98280"/>
            <a:ext cx="9144000" cy="43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2224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 that I may hea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 thou sendest clear;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thing false will disapp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8280"/>
            <a:ext cx="9144000" cy="43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 and let me bea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 truth everywhere;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pen my heart and let me prepa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8280"/>
            <a:ext cx="9144000" cy="43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8280"/>
            <a:ext cx="91440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8600"/>
            <a:ext cx="9144000" cy="48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 that I may hear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 thou sendest clear;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everything false will disappear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8280"/>
            <a:ext cx="91440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7760"/>
            <a:ext cx="9144000" cy="553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 and let me bear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 truth everywhere; </a:t>
            </a: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open my heart and let me prepare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8280"/>
            <a:ext cx="91440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pen My Eye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ra H. Scott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2T12:55:59Z</dcterms:modified>
  <cp:revision>156</cp:revision>
  <dc:subject/>
  <dc:title>PowerPoint Presentation</dc:title>
</cp:coreProperties>
</file>