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500F-C9B2-493E-A8E2-E81842A9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EEB-F13F-41C2-A01B-7E4DF6F9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C04A-05A9-447E-9F6F-ABC5689F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2F7-FF18-4876-84C2-9590388D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382-539F-4598-B784-113C84D3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4FF4-484D-4CB9-9A5C-0FB8FB2C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90E-AC86-4DE3-A71A-0A9B788C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2D4C-48A5-43F8-B4D6-AF84F900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E1F8-3913-4256-8379-B78D6774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8BD0-4F42-4EF5-A28F-46194F4F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4940-36AB-479B-8218-243CBFCC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DA5-1DDC-45EA-AD5C-EA0EA16B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D270-09C9-4BC3-93B1-672891D91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alom to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om to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lsie S. Eslinger, 19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om to you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om, my friend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God’s full merc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you, my fri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3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your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rough your lo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be your shal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be your shal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19:05Z</dcterms:modified>
  <cp:revision>159</cp:revision>
  <dc:subject/>
  <dc:title>PowerPoint Presentation</dc:title>
</cp:coreProperties>
</file>