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E2FCA-96DD-4CA9-B8AC-BC9A95950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A9998-7366-4C0A-8C39-32BB760AE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2B12A-E03C-44F2-9AF6-89DD0EA23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527D5-8090-46FC-BBDE-AF0D6D8DF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7906D-AABB-4767-ADE0-9B2F7DAF9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D7DDF-CE0D-4E4F-B01B-0FFC9426D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9FAF9-E874-4DAB-B93E-5DB6C375C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E1125-E9F9-4624-9B1D-BE02C3572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7B3C7-2AF7-4B5A-B97C-457D52423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FDD19-8D1C-48C8-985D-35D7FFD68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7BEE0-9856-445A-9FBA-8AFD532C5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A3F09-A605-42B1-81A6-C01115775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02FCB-1C1F-4063-8371-2F0DF05E9C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80880"/>
            <a:ext cx="883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Steal Away to Jesu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70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676520"/>
            <a:ext cx="9144000" cy="4731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teal away, steal away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teal away to Jesus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teal away, steal away home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ain’t got long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stay her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al Away to Jesu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940040" y="1143000"/>
            <a:ext cx="526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African American spiritual (1 Cor. 15:51-5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My Lor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calls 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call me by the thunder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trumpet sound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in-a my soul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ain’t got long to stay her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al Away to Jesu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173240"/>
            <a:ext cx="9144000" cy="4731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teal away, steal away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teal away to Jesus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teal away, steal away home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ain’t got long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stay her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al Away to Jesu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Green trees a-bend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oor sinner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tand a-trembling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trumpet sound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in-a my soul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ain’t got long to stay her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al Away to Jesu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173240"/>
            <a:ext cx="9144000" cy="4731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teal away, steal away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teal away to Jesus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teal away, steal away home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ain’t got long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stay her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al Away to Jesu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My Lord he calls 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calls 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y the lightning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trumpet sound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in-a my soul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ain’t got long to stay her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al Away to Jesu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173240"/>
            <a:ext cx="9144000" cy="4731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teal away, steal away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teal away to Jesus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teal away, steal away home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ain’t got long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stay her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al Away to Jesu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0T20:02:43Z</dcterms:modified>
  <cp:revision>48</cp:revision>
  <dc:subject/>
  <dc:title>PowerPoint Presentation</dc:title>
</cp:coreProperties>
</file>