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41F-9CF7-4106-A74C-53B2E8F9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2C4-5789-458E-BB21-EB9C9D51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B02-0E32-43D1-9CC7-2CAD989E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82D-5F8D-4258-8AEE-4DE6E74C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2B6-2C40-4402-8854-F41FD8F1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27A-736F-4B72-BBDE-658509DA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5E3-CB9C-413D-8521-35606B7A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A73-B496-47B9-83C3-CFFF59AA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066-D5E5-489A-8640-7FAE2C27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E77-F760-412F-9E36-48E8832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640-558A-4AA2-9B0E-6024368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594-4ACD-461D-ACCF-C351F07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9C9-4EF8-4D1C-B37F-3CAD111BA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Jesus, My King and My Sovereig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Jes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 Es Mi Rey Sober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. © 1982,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47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Vicente Mendoza, 1920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sther Frances, 1982, and George Lockwood, 198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gozo es cantar su loor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35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Es Mi Rey Soberan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62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eñor, ¿que pudier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dar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tanta bondad para mí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¿Me basta servirte 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ar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¿Es todo entregar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us Es Mi Rey Soberan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ft all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at my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2860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Jesus, My King and My Sovereign (3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5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surrend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5:52Z</dcterms:modified>
  <cp:revision>11</cp:revision>
  <dc:subject/>
  <dc:title>PowerPoint Presentation</dc:title>
</cp:coreProperties>
</file>