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5EE-47F1-436B-92FC-18537289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D586-9F2B-4852-8CB5-0D015D6F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E57F-B771-4A09-BB73-BCE55E3D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A8C4-22D2-41F5-B905-62E9F73A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C6ED-7817-4071-AFCD-2126C5C8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829C-DA58-4EBE-9055-7DBFCE29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CA18-8990-4BE9-AB16-AF2DE1F0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4F4F-D0D3-46AD-8990-F4633F01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B0AD-1830-428C-9F9D-FFD77CB0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D35E-5FBD-486A-B407-A3D5B533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5F86-BB21-444A-B696-AD000CDE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11B8-4614-4713-ABC0-06DAB82B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9F0B-9263-488F-89E1-BC77D063F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Is Ris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Cristo Vive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0020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Nicolás Martinez, 1960; trans. by Fred Kaan, 1972 (1 Cor. 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8672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2 Metho Press, Ltd.; trans. © 1974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hrist is ris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s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y your t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unafrai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 firstb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s us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ads us ou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tha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, who cau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to spring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gr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s ris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s g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eterna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pro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sto Viv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¡Cristo vive, fuera el llant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s lamentos y el pesa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 la muerte ni el sepulcr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 han podido sujet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busqu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tre los muert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 que siempre ha de viv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Cristo vive! estas nuev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 doquier dejad oí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Que si Cristo no vivie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ana fuera nuestra 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s se cumple su promesa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‘Porque vivo, vivi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is.’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sto Viv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0320" y="1371600"/>
            <a:ext cx="76651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 en A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n entró la muer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 Jesús la vida entró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temá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l triunfo es vuestro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El Señor resucitó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sto Viv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i, es verdad q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 la muer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l pecado es aguij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temáis pues Jesucris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s da vida y salvaci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8380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ias de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Dios Pad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nos da segurid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quien c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Jesucris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ve por la eterni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79840" y="257184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and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ld not hol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the tomb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hich he 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not loo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ong the dea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who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hrist is ris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it 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goes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f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d never ris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d have no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lie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 Is Risen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his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be truste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You will 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I liv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sha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of Ad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live a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has l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sting and terr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Death has l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old domin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 and shou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 Is Risen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09:58Z</dcterms:modified>
  <cp:revision>70</cp:revision>
  <dc:subject/>
  <dc:title>PowerPoint Presentation</dc:title>
</cp:coreProperties>
</file>