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4DE-9CA8-4D6C-92B9-5A6F7BEB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6C6-A965-4E1F-A5BB-C5011645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BEC-936B-41CB-9DE1-C0DCB88E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A16-BFC7-4668-B056-CF2BAFEC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66B-D5F7-4D19-84D8-8D9F6584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F11-FA1B-4223-A632-F2A0F1BC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166-B5ED-4102-B785-F2490C5B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86D-67FA-4BF0-A2F1-EBA67178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D32-288B-48CA-93E1-96D862E5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170-5048-4FB0-BE9C-C4DA1978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243-B9F6-46B4-B9DB-CB8202B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F23-53CC-4977-9B4D-273A335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0DAE-4CDD-433E-A007-4808FD7E1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86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 the bread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brok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 wine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pour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ouis F. Benson, 1924; phonetic transcription from the Taiwanes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-to Loh, 1988 (Mt. 26:26-29; Mk. 14:22-25; Lk. 22:15-20; 1 Cor. 11:23-2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Ūi Lí só kóng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oáh-miā ê oē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Chú goán kám-siā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sim lâi gî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y this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do lo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resto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ith our sain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s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ted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aited for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In your servi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 defend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our hear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eep watch and wa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1. M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í-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pau Ch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ú Lí</a:t>
            </a:r>
            <a:br>
              <a:rPr sz="49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 goán lâi peh,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Phû-tô-chiú</a:t>
            </a:r>
            <a:br>
              <a:rPr sz="49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 goán lâi thî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aiwa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30:25Z</dcterms:modified>
  <cp:revision>118</cp:revision>
  <dc:subject/>
  <dc:title>PowerPoint Presentation</dc:title>
</cp:coreProperties>
</file>