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6A5-3E43-4DE2-B2B4-5868C546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E70-3C61-41E7-B3F4-D2C7B974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D21-899D-4085-AC24-365D4324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D73-D7A1-4B0A-B8DF-8E9BCEBE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4FD-D43A-4C7E-865D-3E18D2F9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3F9-F0E5-4A2F-A5EE-A3883286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3B6-1CA9-40C2-A30A-AF69FB16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DC1-0DCD-44E0-9CA3-8BD31635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E80-F9D8-4060-9E42-613CD527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472-8E45-4EDA-88D5-D2B45C92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8C2-5435-4D1A-B419-DAEC4DDB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11F-F6F7-4DAE-A542-339E4E5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D0D4-20B9-44A0-A1AD-2168093B7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of Pente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of gr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sent the promised gif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pon the apostle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wo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of Pente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6680" y="1066680"/>
            <a:ext cx="579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aurence Hull Stookey, USA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Mary the m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Jesus and up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brothe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ll your church with pow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kindle flaming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i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cause us to procla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mighty wo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tong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all may call on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e sav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28Z</dcterms:modified>
  <cp:revision>10</cp:revision>
  <dc:subject/>
  <dc:title>PowerPoint Presentation</dc:title>
</cp:coreProperties>
</file>