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E05F-0B42-463E-9CE2-F3B947CC2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B69E-94E0-463D-93DA-00DC081F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51D3-BC12-4651-B5F5-815E0257B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0576-2196-4A1E-801F-C649534F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6B3D-EB3C-41C1-B847-9B861A60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02FF-3E33-4CC8-A1C7-6477CB31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9E75-7F1F-40F6-88D6-B841EBE7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2024-D39C-4775-A407-80363A2C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F4B9-35FE-46D1-A6A3-328E2E3E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9FF3-E0E7-431C-BAAC-77FFB681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9CA1-C487-4C27-B75C-14B681D3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E965-6CAD-4F6E-BCC9-B858AC0F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8F65-3ADA-4A62-8175-5431929CE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’ll Understand I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tter By and B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We are tossed and drive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n the restless sea of time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omber skies an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owling tempest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t succeed a bright sunshine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ll Understand It Better By and B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23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Albert Tindley, ca. 1906 (1 Cor. 13: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he guide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is ey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’ll fol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di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e’ll under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better by and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and b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morning com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 are gathered ho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ll Understand It Better By and B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tell the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e’ve over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e’ll understand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tter by and by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y and b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emptations, hidden sna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ten take us unawar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made to bl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 thought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or de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ll Understand It Better By and B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 won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y the t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t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do our b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we’ll under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better by and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and b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morning com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 are gathered ho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ll Understand It Better By and B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tell the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e’ve over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e’ll understand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tter by and by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y and b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at land of perfect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mists h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lled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under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better by and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and b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morning com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 are gathered ho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ll Understand It Better By and B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tell the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e’ve over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e’ll understand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tter by and by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y and b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 are often destitu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life dem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nt of f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ant of shel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rsty hills and barren land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ll Understand It Better By and B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trus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ccor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od’s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under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better by and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and b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morning com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 are gathered ho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ll Understand It Better By and B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tell the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e’ve over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e’ll understand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tter by and by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y and b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rials dar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every h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 cannot under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w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God would lead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at blessed promised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ll Understand It Better By and B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1:36Z</dcterms:modified>
  <cp:revision>52</cp:revision>
  <dc:subject/>
  <dc:title>PowerPoint Presentation</dc:title>
</cp:coreProperties>
</file>