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13A2-8E6B-4693-BC3F-800F1691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14A3-3177-49B6-9874-4211899F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AE4-512B-42BA-AFF2-B1147397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2A51-BD15-44BD-AB9A-D241E070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5DD4-5397-4081-B128-8E25FB0A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9408-A717-415F-B370-FB68B44C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6E1C-0BCB-4A2D-BA18-94763A23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91CD-63E1-4EAE-A546-E4F68AB0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0EAD-2023-4545-B2E1-8F4615F5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6A3B-6F94-4604-A24C-657A3C82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145A-15D2-44C6-9BB7-DCA25454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EAD-2E8D-470E-90CD-2F838524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4C72-FF5F-46AA-96AF-DE553D6B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D959-5475-497A-A544-31F3094E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6045-C6FC-437B-8B37-F9AEEFE1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3283-3543-43DE-9D8B-EE3B6C02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0A9B-1D3F-48C7-987E-425178AD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2A6-24ED-4048-9FD1-B680878C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0AB-6679-4CA7-AE32-164BF5F4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034-A91A-4016-897A-333226C7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4A5-2632-46A3-B2A4-5699A858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A4E6-1E32-4484-B995-E4551E15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E679-19FE-4999-990D-40B490C2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F14-8E9B-4978-94E5-E171835E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B057-6CD8-4EE9-846A-8821D3D5B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4A59-CA80-4C15-9209-1C2FD8971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ly Trust H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621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H. Stockton, 187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2193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every sou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y sin oppress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mercy with the Lord;         and he will surely give you rest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y trusting in his Wo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226368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will sure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you re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trusting in his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Jesus sh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precious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ich bless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best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226368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unge now in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crimson f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ashes bright as s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Yes, Jesus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truth,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leads you into r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226368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ieve i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del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you are fully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762120"/>
            <a:ext cx="9144000" cy="527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ome then and jo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is holy b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on to glory g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2263680"/>
            <a:ext cx="85341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dwell in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elestial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joys immortal f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522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85800"/>
            <a:ext cx="9144000" cy="535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For Jesus shed his precious blo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ich blessings to bestow;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unge now int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rimson floo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 washes bright as sn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522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Yes, Jesus 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e truth, the wa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leads you into rest;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lieve in him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ithout dela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you are fully bl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522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Come then and jo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is holy ba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on to glory go,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dwell in th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elestial la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re joys immortal fl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522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, only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ly Trust H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0666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John H. Stockton, 187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2096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every soul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by sin oppressed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there’s mercy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L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9-05-02T02:09:34Z</dcterms:modified>
  <cp:revision>94</cp:revision>
  <dc:subject/>
  <dc:title>PowerPoint Presentation</dc:title>
</cp:coreProperties>
</file>