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3632-F7F5-4F79-80BA-0A7BA341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C691-0833-4F9C-93E8-D6C88065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8CB4-CA8D-4194-BB58-1C43E7C5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A10B-843A-4C98-8589-FD08FFA9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88CC-87CF-427C-A0A0-A012FD05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CF86-F55C-4189-9683-F32DF6EE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D141-03A5-4051-82E0-E467EBF4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AB36-A6E8-4E01-9A32-8628549B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A92B-648F-4CC8-B6B9-8174A1E6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08E6-2598-4767-B82B-31B03B3F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45F9-CF9E-4187-AC5F-1AC06971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CC96-D1C9-465E-855B-2D86613D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C778-3F03-424D-B7D2-748800D0A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Holy Ghost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r Hearts Insp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, Holy Gh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insp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t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fluence pr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Heart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rce of the 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phetic f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untain of life and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ome, Holy Gh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(for moved by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ph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rote and spoke)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Heart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lock the tru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self the k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seal the sacred boo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Expand thy w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lestial D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od o’er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ture’s n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Heart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disord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s 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there now be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od, through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thou within us sh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Heart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und, wit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aints be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epths of love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7:34Z</dcterms:modified>
  <cp:revision>103</cp:revision>
  <dc:subject/>
  <dc:title>PowerPoint Presentation</dc:title>
</cp:coreProperties>
</file>