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0ED-4DDF-4DBB-B32F-8F9921F8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92F-3C54-48C1-80CC-85A38F62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A63-63C0-497B-B71D-28F0DF85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F08-FF00-46FB-B264-937027CF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FA7-3E82-4239-8971-BF20B3B6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A5F-5037-4849-A676-6AEB6169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C01-2882-4439-B38C-AD61274D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489-FD4C-4077-81E3-CF487FA0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944-313D-47CF-A5DD-3B1131C3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2E8-C9D2-44FC-AC2E-C44D2EF2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2A5-39B4-4B1C-B6F3-86A8F955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AE6-9FD4-4F07-8EB7-DF7E5FB7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360B-0D53-4696-9CE5-383507E98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Faithful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aise the S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of Damascus; trans. by John Mason Neale, 1859 (Ex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 ye faith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the stra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triumphant gladn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 hath brought forth Isra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to joy from sadnes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” with th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ather p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Alleluia!” yet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pirit ra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sed from Pharao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tter yo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d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moistened fo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Red Seas wa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’Tis the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ouls to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th burst his pri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ree days’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i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sun hath ris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inter of our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and dark, is fl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i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we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praise undy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the que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sons,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day of splend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roy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of fea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its joy to rend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o glad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th true aff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come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wearied str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resurrec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either migh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tomb’s dark p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watc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s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thee as a mort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day am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wel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idst stand, best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eth human kn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Alleluia!” now we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King im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,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st the b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tomb’s dark port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2:31Z</dcterms:modified>
  <cp:revision>73</cp:revision>
  <dc:subject/>
  <dc:title>PowerPoint Presentation</dc:title>
</cp:coreProperties>
</file>