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F00-5252-4ACF-9F29-0FE56737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510-4544-4444-8CE1-214EAD5C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E03-8B55-4F23-8EFB-AFF04BB1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A33-CF00-4F30-9BE1-69FDD62C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5FB-4817-4271-A6B2-C362C5C8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A93-8E10-4771-9516-35AD1ED4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378-473D-4A6C-9A4A-23A62AF6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F5E-7AAC-40C9-B65B-9C4A4693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427-2875-4630-BCED-A19FBFFB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EF3-268B-41D4-9C22-47D6FD75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DD9-BE9C-4BC0-A12B-FF598CB4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191-9A40-4108-A12D-2D3FDA8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88DE-16A8-4C3F-9F8E-78A2E5900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hold the Savio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the Savior of Mank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7524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amuel Wes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146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Behold the Savior of mank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ailed to the shameful tr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ow vast the lov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m incli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bleed and die for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14444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Hark how he groans!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nature shak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earth’s strong pillars ben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temple’s veil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sunder brea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solid marbles r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’Tis done! the prec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ransom’s pai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“Receive my soul!” he cri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ee where he bows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sacred hea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bows his head and d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But soon he’ll br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death’s envious ch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in full glory shi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 Lamb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as ever p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as ever love like thin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3:11Z</dcterms:modified>
  <cp:revision>53</cp:revision>
  <dc:subject/>
  <dc:title>PowerPoint Presentation</dc:title>
</cp:coreProperties>
</file>