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DB6-3295-4462-9777-7203C9F8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A31-9177-48E7-BC8A-06A341A0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C04-7CD3-4355-BB62-1E961A89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0D1-910A-41CA-BA9D-B8FFC6E3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A7C-D652-46E1-A10D-D63DA3F3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CBA-70D3-4AF5-B15A-373ED4C4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AC2-CDF7-47E1-994E-18A46112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C10-3868-49CB-97F0-AA067D7A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092-C974-46F5-A25A-823CF35E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9CD-6967-4EAB-ACB5-FC3F16F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E81-156E-400D-8CA9-CAB47C9C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EC6-52B8-4F12-92F7-A9592BAF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9FD3-A443-4336-AA25-470CCDC63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ise Up, O Men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Rise up, O men of God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done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ser thing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heart and min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soul and streng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erve the King of k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William P. Merrill, 191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tarries l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in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rother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nd the night of w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doth wa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strength uneq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r tas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, and make her grea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ift hig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of Chris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d where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have tr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rother of the Son of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, O men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9:59Z</dcterms:modified>
  <cp:revision>81</cp:revision>
  <dc:subject/>
  <dc:title>PowerPoint Presentation</dc:title>
</cp:coreProperties>
</file>