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F98-D323-4621-98D3-B80F6C98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734-9660-4443-868C-BD37A75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D86-3D6B-425E-BE82-88E376EE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C79-21B4-45E2-A5EC-24E2D19D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454-C452-418C-8912-E2C00EE0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A05-138D-4E74-B79A-50813994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EC2-A70B-41C6-B83B-C625C208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B66-4BEF-4A06-9EB3-6B94701A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ED3-48B0-48F2-B18D-92BD785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8FF-030B-4F4C-B025-392A19C3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F91-E616-42A8-9C39-254CB9D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D5C-A6B1-4DAC-846F-E4894DC7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F117-E6E6-43A3-9DA0-742DB3C94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is Name Is Wonder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9, renewed 1987 Manna Music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Name Is Wonder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6160" y="1092240"/>
            <a:ext cx="32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udrey Mieir, 1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the might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ster of everyth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’s the great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ock of all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mighty God is h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w down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9:02Z</dcterms:modified>
  <cp:revision>36</cp:revision>
  <dc:subject/>
  <dc:title>PowerPoint Presentation</dc:title>
</cp:coreProperties>
</file>