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5FF-B86F-46E4-877D-0AB39679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01D-5ACE-492C-BC37-B5540FC9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A9C-9375-4E08-9E92-04F78CE8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17F-E0B6-435E-B0A0-1BD336D9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409-7635-4395-9188-886E1663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28C-A894-48E6-AE5E-7426A1E7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ADA-1F73-49DC-9368-097B233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276-3EC1-49D2-A7C4-E4CB03B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E7A-8899-4677-B58F-5D553CE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A21-DE5E-461E-836D-65312BC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A4A-312A-49A2-B725-C852837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1F5-DDF9-411F-BFCB-DB4AEBB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F3EA-EE81-46FA-BFF9-2E67916FA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 Thou the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ands have br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u the wo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have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Longfellow, ca. 18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is th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ll, the thou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s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i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3:22Z</dcterms:modified>
  <cp:revision>92</cp:revision>
  <dc:subject/>
  <dc:title>PowerPoint Presentation</dc:title>
</cp:coreProperties>
</file>