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D04-0201-4117-9CB0-D3EE688A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7F0-AEAE-4CCB-813F-0A90B43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91A-1943-4F35-AE06-A3E972B4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CD4-8796-4EC6-AD1F-B004D446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FFC-944A-4A70-A335-4A7EB12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718-BBCD-4612-B07A-36A9470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95E-ACE0-4F2C-A414-DAF697F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6AB-2BF6-4474-800E-BB2D43C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8F1-9870-4D08-BD57-450E2B2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7DD-A36F-4B83-A005-348113B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767-D725-4340-B6EE-4A6DB70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409-68AD-4532-9EC2-165A24F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94A2-C6DC-43AD-AB7E-432B9A9A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before my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M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0440" y="1066680"/>
            <a:ext cx="283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Psalm 5:8; 4: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is 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t me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af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38Z</dcterms:modified>
  <cp:revision>12</cp:revision>
  <dc:subject/>
  <dc:title>PowerPoint Presentation</dc:title>
</cp:coreProperties>
</file>