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D6E-6756-4ACA-BBB7-3FBFAFEF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EA8-816D-4C2A-B226-41F38987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4B1-E875-48CD-9376-056C55AA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53F-FAAE-4BD6-952F-D9E18722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A15-5304-4533-9D1C-615925B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3DE-A9B6-46E0-BD9B-59406BDC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C59-51A6-4E44-B772-38B6F7E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50D-33D0-46F3-87EB-627ED23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B90-6A31-4E78-A1D0-8BC60663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1AE-7833-4B21-AB8B-EF47C90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756-D7E6-4F0F-9823-97576D3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0F7-DA58-4A1D-B221-BAB1C59F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F5A-40CE-481C-91D7-D5545A080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Sparrow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Wh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53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God of the sparrow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the whal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d of the swirling st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© 1983 Jaroslav J. Vaj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720" y="14479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Jaroslav J. Vajda, 1983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1924200"/>
            <a:ext cx="602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 Aw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y Pra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the earthquak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sto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trumpet bla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W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y S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od of the rainb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cro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empty gr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Gr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Thank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God of the hung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sic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prodiga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C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God of the neighb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fo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pruning h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Pe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7616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6. God of the ag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near at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loving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y H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4:53:48Z</dcterms:modified>
  <cp:revision>39</cp:revision>
  <dc:subject/>
  <dc:title>PowerPoint Presentation</dc:title>
</cp:coreProperties>
</file>