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6F3-E918-4848-9D91-B8490393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FC8-0A1A-4232-9B24-CBF24B93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C90-8022-4860-BF5A-B3C8640B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C77-8806-4BE2-9324-0AE6C740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474C-51A1-417A-BE80-BAFB91E8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320-0202-4B0A-A576-590FC243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3EA7-10AB-4C17-B956-7F8B766F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708-EAD3-4135-9161-80E617E0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2C11-BFD8-4849-9F84-76A0431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4712-6B4E-4323-A39F-8DEB2D3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252C-C76E-466A-82E3-6F0C2D4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7B9-C443-4317-AE36-180D1B5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CA1-ACC0-4A76-A213-CDFBA81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F9C-EA18-4BD0-B030-DD654EB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7AE-A55B-4D8F-AEDE-E82FEC99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E781-CEB1-494F-AF15-A31E7443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8FA6-1C52-47C6-A67D-97C091B4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637-BF88-409A-BCAB-FFE5557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E33-5CCA-460C-B44E-1637B3F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EF1-6527-487F-B987-38279A25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5AE-ACFC-4A38-88B0-1F422377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65E-2EE5-45E1-BDE7-46837C3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4F6-B30A-4412-ABC6-0A7D73C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882-FE8A-4FB3-8544-5D008A0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47E4-08AF-4C32-ACA3-B09CBBEF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1C0-1EF0-4BA1-88FE-5F9D24FA9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re is a fou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ve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ca. 1771 (Zech. 1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in a nob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e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thy power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 is a fount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lled with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rawn from Emmanuel’s veins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ca. 1771 (Zech. 1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66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e dying thie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ed to s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fountain in his d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Dear dying Lamb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precious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never lose its pow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E’er since, by fai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saw the strea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flowing wounds supp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s been my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Then in a nobl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er so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thy power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dying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d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ountain in his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r dying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ciou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ever lose it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’er since, by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w the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lowing wounds sup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02T20:26:52Z</dcterms:modified>
  <cp:revision>124</cp:revision>
  <dc:subject/>
  <dc:title>PowerPoint Presentation</dc:title>
</cp:coreProperties>
</file>