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DE6-7D3F-483F-9752-73B97D39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1FE-174F-4915-ABAC-C884D355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014-BBD7-42E2-A6E4-AEE6C6F4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44DD-AAE9-4E8B-922A-D8687FC9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DAC4-EF8F-436B-8026-E462F887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84F-1F9E-4DBB-8E26-337320E8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2C0-DB25-41B6-8A48-743543BC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1C7F-119E-42F0-A385-DAC8468B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BF5-E402-4D1E-993D-A4F3447F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F3D-6E1D-45A5-8776-E98AC031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350-4397-40CE-9932-4BDF3514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786-ED8E-4D33-A71E-BCC1F199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3AF0-7C96-49AE-862E-D607A59BB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yer for a New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00200"/>
            <a:ext cx="8839080" cy="486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who art over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who art one of u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who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rt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ive me a pure he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at I may see the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arking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© 1962 Alfred A. Knopf, Inc. and Faber &amp; Faber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for a New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3920" y="990720"/>
            <a:ext cx="572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Dag Hammerskj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öld, Sweden, 20th cent. (Mt. 5: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38280"/>
            <a:ext cx="84582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humble he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at I may hear the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heart of l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at I may serve the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heart of fai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that I may abide in th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4:53Z</dcterms:modified>
  <cp:revision>14</cp:revision>
  <dc:subject/>
  <dc:title>PowerPoint Presentation</dc:title>
</cp:coreProperties>
</file>