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B19-A803-41CD-8BB7-9D023948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75F-EE0D-4E11-B668-90A34240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E7F-B4BC-49E1-92B9-64F6B8DE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B19-3091-40FF-8212-84C7CEFC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5992-CA49-4B92-821B-5C8BC2C5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860D-4461-41E0-95F4-CAC99D15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14EC-3864-447E-9593-A0903C4B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C3B2-9FEC-4801-8921-8C6E30FF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DAFA-ABAC-4709-BC31-F3A90767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EC88-5255-497B-92F0-F5349946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FB0F-2266-467E-863B-533834BE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D9C-3D2B-4279-AD5A-C17100A2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CD67-0CAB-4B54-8BDA-0BF65D7C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23C6-CD9B-4FF1-A3AC-D56D9C9E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1C17-ED94-45CC-B796-F54508F7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DB9D-951D-4651-B1DD-17FAD380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18F7-3A98-4EC4-AA49-D03A13E9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B8A-83FC-46F4-9287-9F49274C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8F1-3C47-463B-B262-79FA5DE1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DBE-3FCE-4418-9352-82414125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038-E12E-4164-B9B0-F766908A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642F-AD9C-4138-860F-8A04DAD2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F7B-A2E0-4C77-B71F-083C9B1C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8765-46A8-4EE2-A530-17D9A946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E0E7-8284-4F3E-86BF-6479F9028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1864-6F41-4DC7-843E-F995E542B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Master, Let M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lk with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Master, le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wly pa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ervice f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9520" y="1676520"/>
            <a:ext cx="44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ashington Gladden, 187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me thy secre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me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ain of to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ret of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lp me the s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eart to m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some clear, win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f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e way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 to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ide them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meward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each me thy patien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los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er compan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ork that ke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sweet and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rust that triump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wr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hope that s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hining 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down the futur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adening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ace that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canst g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, O M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me thy secre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me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ain of to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ret of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lp me the s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eart to m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some clear, win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f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e way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 to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ide them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meward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each me thy patien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los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er compan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ork that ke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sweet and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rust that triump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ver wr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hope that s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hining 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down the futur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adening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ace that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canst g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, O M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Master, Let Me Walk with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76320"/>
            <a:ext cx="121896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9907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O Master, let 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alk with the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lowly path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service fre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39280" y="3946680"/>
            <a:ext cx="403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Washington Gladden, 18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09-17T01:11:56Z</dcterms:modified>
  <cp:revision>21</cp:revision>
  <dc:subject/>
  <dc:title>PowerPoint Presentation</dc:title>
</cp:coreProperties>
</file>