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8D2C-AB61-4A26-9571-E47DE57C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6ADA-1F6A-4136-95D2-7E3123FE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2B2-40F7-471F-8009-D1593E7A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526F-D275-41BD-A6B0-E4507EF6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B8B-856C-42AB-8476-C2173954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A39-21B4-4E10-B636-9119C6DC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2B8-CF40-4487-86D5-44068819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2828-0FFE-45A0-8559-EB055CC2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83CC-1B36-4B4F-A4BF-0A2D7961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C6BD-55B0-4F1D-A8AB-3396E4ED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9B0-68D7-4E86-A8BA-2AF04384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08A4-0480-4D5A-8AFB-B87DE3E5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08B9-6256-4D7F-880A-52CDE3AEF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re Cross the Crowde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ys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re cross the crow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ys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soun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ies of race and cla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7720" y="1676520"/>
            <a:ext cx="546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rank Mason North, 1903 (Mt. 22: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ng these rest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ngs ab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read the cit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ets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Till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learn your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ollow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eet have tr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, glorio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eaven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come the c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the no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elfish str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ear your vo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on of m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haunt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etchedness and n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shadowed thresho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 with f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paths where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ures of gr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atch the vi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tea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rom tender childho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less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woman’s grie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’s burdened toi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famished sou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orrow’s str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eart has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n reco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 cup of w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n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holds the fresh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long the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ltitudes to vie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weet compass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your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 Master,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ain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haste to he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se hearts of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9:10Z</dcterms:modified>
  <cp:revision>17</cp:revision>
  <dc:subject/>
  <dc:title>PowerPoint Presentation</dc:title>
</cp:coreProperties>
</file>