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946E-61A8-4DC6-B916-EDAAB119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4639-D6D1-4D8D-8100-87D9C4F5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99C9-A75E-4C8A-BB03-692D8F41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C60-ACB8-43C0-93D2-E9C7C806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8414-145C-4ACC-AD6C-0B0519C6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6FE-C02D-40EA-9AAE-4E7A998D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4F07-CD25-490F-AEB2-B9708611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A20-9C97-44BA-B2BB-AFBDF3ED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254-C428-4D34-A985-F23E71E1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FC5-AF17-4793-9C78-1E62775A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A63-4BFB-476A-BD4F-95478063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AB1-098E-4EAB-8869-202610AE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EE38-EA62-4C06-BB65-3C17853DC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Rememb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ighteous live fore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reward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Rememb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9240" y="1166760"/>
            <a:ext cx="74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sdom of Solomon 3:1-9, adapt.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sponse 1, Wisdom of Solomon 3:1-9, adapt.; Response 2, Psalm 28:7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will govern natio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rule over peopl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Lord will reig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ver them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se who trust in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ll understand tru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faithfu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ll abide in lov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65888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cause grace and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re upon the elec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God watched ov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one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71600"/>
            <a:ext cx="914400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y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give thanks and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ord is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and shie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Rememb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492200"/>
            <a:ext cx="861048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56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56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ouls of the righteous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the hand of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no torment will ev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uch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2845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eyes of the foolis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y seem to have di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ir departure w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ought to be an affli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9191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ir going from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be their destructio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ut they are at pe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843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though in our sigh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y were punishe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ir hope is fu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immortality.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73520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ing been disciplined a littl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y will receive great go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cause God tested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ound them worthy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ke gold in the furnac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od tried the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like a sacrificia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urnt offer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od accepted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time of their visit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y will shine fo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ill run like spar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rough the stubb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50:15Z</dcterms:modified>
  <cp:revision>33</cp:revision>
  <dc:subject/>
  <dc:title>PowerPoint Presentation</dc:title>
</cp:coreProperties>
</file>