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9D3-58B4-447B-848F-4DDC5600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07C-4F47-4B49-ADD7-56B8448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388-5CB3-42CE-9322-44880A47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452-3D0D-465C-9745-32F72181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0E6-C9F0-4BD9-91F7-B5E32E30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4B9-A5AB-434D-98A0-7C7A6EBD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567-F239-43A7-8D15-32C43CB5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E6B-D4B5-4BE4-BA6D-1E5E9885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44D-7E74-4827-ADCB-6A69E659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BFC-B782-41EF-AF0F-E594F8B4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6C9-D91B-455C-A0B7-9051C214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7AF-41C6-425E-B65A-2A0BDF9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742-66C7-4588-A9B9-DA14118AC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, My Tongu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lorious Ba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enantius Honorius Fortunatus, 6th cent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Percy Dearmer, 19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, my tong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e 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f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aithful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ign of trium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oblest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foli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bloss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ne in fru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er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ymbol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redemp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ung on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Unto Go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glor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’eternal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igh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un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bove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op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nd the 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ant l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how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’s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vict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ll how,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ength the ful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’appoin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was c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orn of wo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ft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eaven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ed us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made perfe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ne a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the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us, with thi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rs accompli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nt he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Nazare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tined, dedica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ing, w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ork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t his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umbly yiel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4:00Z</dcterms:modified>
  <cp:revision>51</cp:revision>
  <dc:subject/>
  <dc:title>PowerPoint Presentation</dc:title>
</cp:coreProperties>
</file>