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C55-F95D-4934-B317-36DD3158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B3E-D050-45E2-BD6B-D91677E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6CA-E4D1-4B57-BE28-98CCF728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356-64F7-44C8-B814-4B1C8B18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AE4C-B98F-498B-B73E-6262FB38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8B5F-87E1-498F-A526-D8B97FC3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8B80-3150-42AA-B109-2C717DFA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921E-31CF-49C9-9DF5-7656216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CD3-891C-4D01-890B-F3E4E78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F332-2EC2-424D-ABFE-E1EA56E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3C4C-9CC8-486F-9C0E-A86700D2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B44-FF3C-4D55-9729-F3D2F50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DAC6-B60A-4967-B247-23BA847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BAE-6468-4BD1-8A34-51A7770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AE31-84EE-4DFC-8919-17B0F2D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7CB6-BB6D-4AB9-ADA4-FD21DAA7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A019-ACD0-4EE7-BE5A-CFB486EB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F8E-0328-4809-B350-1CA3D0AD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BA2-0CE1-498A-B425-CF3D134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94F-BD39-4555-A426-07F42737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63D-1753-4CD3-BE37-EBD3A4D8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AED-4EBF-4AD2-840C-6A8B6DC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0E9-B4C5-4D9E-878F-5FB21CE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226-8D54-4066-BA5E-8F2D4C2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FDAC-2A4F-4057-AA1A-4EE2F7BBA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1CB-2808-485C-9BF2-1BA03C32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32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1604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03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3T13:40:00Z</dcterms:modified>
  <cp:revision>122</cp:revision>
  <dc:subject/>
  <dc:title>PowerPoint Presentation</dc:title>
</cp:coreProperties>
</file>