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AC39-FC49-491F-9275-D889D261F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0BBD-9ABB-4CB8-94FF-88D5636C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02D9-4A7D-4A09-A9AA-695DCC352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2FF5-84DD-41A0-9D40-62B06C458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1B8F-0FDE-469A-9CC0-5F75E211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AEF9-EC83-4632-A8C7-1BFBEECC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890F-F3EF-4799-BCE6-7F2679C7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F7BC-F8F6-481D-A42D-70A87673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152F-04F4-4068-AF5C-3FD28017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16D6-746F-4769-A6BB-71E8C00B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5756-1952-49B2-8330-75FD21EB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A09F-E46B-43C2-8402-252F740D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3729-56F1-4EA2-AFE9-E07915D9C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ail Thee, Festival Day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Easte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Eas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000" y="152388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Venantius Honorius Fortunatus; trans. from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The English Hymnal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, 1906, al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362320"/>
            <a:ext cx="9144000" cy="302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was rai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eaking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ingdom of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East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God the Almigh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Ruler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heaven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uard us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rm withou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leanse us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il withi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Eas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600200"/>
            <a:ext cx="9144000" cy="302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was rai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eaking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ingdom of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East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Jesus, the heal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lighten our mi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eat Redeem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n of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ther supre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begott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Eas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752480"/>
            <a:ext cx="9144000" cy="302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was rai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eaking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ingdom of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East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Spirit of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of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flow in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unt of our be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was rai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eaking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ingdom of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ght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lightens us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e that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may abid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Eas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752480"/>
            <a:ext cx="9144000" cy="302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was rai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eaking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ingdom of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East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6. Praise 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r of goo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over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uthor of conc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ur out your bal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our day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der our w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your peac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Eas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600200"/>
            <a:ext cx="9144000" cy="302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was rai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eaking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ingdom of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East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All the fa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auty of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winter aris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g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ft of the y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with 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ster returns: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Eas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600200"/>
            <a:ext cx="9144000" cy="302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892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was rai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eaking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ingdom of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East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Rise from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ave now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autho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e and crea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reading the path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d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w life you 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us all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Eas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28800"/>
            <a:ext cx="9144000" cy="302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8:07:44Z</dcterms:modified>
  <cp:revision>81</cp:revision>
  <dc:subject/>
  <dc:title>PowerPoint Presentation</dc:title>
</cp:coreProperties>
</file>