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3E1-5551-4E9E-A6BC-46FF3173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3E8-73E4-4230-95CC-8FA14404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F95-E97B-4E70-930B-8982DB39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2EA-9100-4A0C-AA6D-0D976BEC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15E-490A-4848-B130-983E95A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4AA-2E40-4317-A506-33CBE3E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DD1-C422-4E77-B855-B9CE0493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A62-BD30-4173-9187-6E18D480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B94-8451-49BD-991E-3DA81BDE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41F-8BD7-42D2-8522-A1ED38E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B30-333C-41D6-987D-3F64EFA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A94-04FB-4F0C-9D26-5C1128F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2C35-4867-4986-AAB7-AE9DC012C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ues Si Vivimo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When We Are Li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. 1, anon., trans. by Elise S. Eslinger, 1983; sts. 2, 3, 4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berto Escamilla, 1983, trans. by George Lockwood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1987 (Rom. 14: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8080"/>
            <a:ext cx="9144000" cy="50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14400"/>
            <a:ext cx="9144000" cy="50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25:06Z</dcterms:modified>
  <cp:revision>114</cp:revision>
  <dc:subject/>
  <dc:title>PowerPoint Presentation</dc:title>
</cp:coreProperties>
</file>