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F3E-45DA-4CC6-9CE2-C6B3D32F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471-8771-4250-B12A-1C2DD392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49E-1EAE-473D-B02C-0297AFBC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453-A0A8-4A20-B849-498B5E17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DE67-BD46-4F54-A710-35899B4A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8AB7-30E6-43BA-8305-82FD7806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FD49-3085-43BA-9278-8D5EB949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B158-C36B-4B5B-A546-F53EB4FC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B22B-E728-465C-BB91-8CDC3321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6922-0928-465E-BF35-C775E348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6806-9CD4-4754-9E7B-FF5BB05D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1D8-4B9D-4D78-8A4B-2279998D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47BF-F882-4E48-B5CA-04FF8795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45DB-5B5C-4DFA-AB1F-19C5E78A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DC88-11B8-4E3B-8468-CF40B01D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78C2-B81D-44F5-845A-94C5E9F8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A9B8-A4F5-4811-AAFA-519243ED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54E-EF16-4B46-B682-2581712E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BF6-EBA3-4F09-818D-FFCC9D04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272-48D9-4817-A14C-BBC316FD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E27-150A-4427-A0A2-B4292CF7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308-9CEF-486E-BF81-1D6D0C59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FDF-BD0F-47FF-B2D0-DC354BC6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75C-24ED-4DDD-803A-133D311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23EB-5B17-416E-A69B-9F2FD11C7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DAF1-854A-44E6-A8C5-5F7EEB6D6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ve That Wil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 Let Me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Love that wil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let me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my we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9680" y="16905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Matheson, 188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560" y="228600"/>
            <a:ext cx="59155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ive the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fe I o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thine oce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pths its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richer, fulle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O Light that followest all my w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yield my flickering torch to thee; my heart restores its borrowed r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in thy sunshine’s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aze its d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brighter, fairer b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O Joy that seeke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e through p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annot close my heart to thee;        I trace the rainbow thru the 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feel the promise is not v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morn shall tearless b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O Cross that liftest up my h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dare not ask to fly from thee;         I lay in dust life’s glory d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from the grou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 blossoms r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fe that shall endless b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13160" y="1482840"/>
            <a:ext cx="59155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ive the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fe I o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thine oce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pths its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richer, fulle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Light that follow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yield my flick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rch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resto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borrowed 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thy sunshine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aze it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righter, faire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Joy that seek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through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not c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36280" y="1101600"/>
            <a:ext cx="5670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race the rainb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u the 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t v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earles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Cross that lift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my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are not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ly from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46280" y="1101600"/>
            <a:ext cx="5850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lay in d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glory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blossoms 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endles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ve That Wil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 Let Me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09680"/>
            <a:ext cx="914400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O Love that wilt not let me g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rest my weary soul in the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9680" y="144792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Matheson, 188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23T14:31:26Z</dcterms:modified>
  <cp:revision>22</cp:revision>
  <dc:subject/>
  <dc:title>PowerPoint Presentation</dc:title>
</cp:coreProperties>
</file>