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3A5-6AF5-4051-858E-4DB18B00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2CA-AE40-4BFF-A577-F3B288DF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DE6-2B32-4205-842F-D9D42AFE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B57-879A-455F-BF74-2EFE2F02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E2F-4E49-4409-B904-2C9D4487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9F3-FDC4-4CBC-A2C8-0C282699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9C4-5649-4D62-A67F-42AF55B6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71D-EC01-48D0-B576-5F1FF545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DA7-F109-486C-B3A0-68365FDC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643-768C-41F7-9103-AAF155D8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341-D9EF-4761-BC3F-EF985CF1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67A-4BEA-48C9-9C77-A9537F39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2312-4FC4-462F-AFEB-E538B9D38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Una Espiga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Sheaves of Summ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Una espiga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rada por el s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l racimo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rta el v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Ediciones Musical PAX; trans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esareo Gabara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ín, 1973; trans. by George Lockw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converted in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and w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’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body and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ea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sh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communion me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wheat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wer s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millst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grind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with sorrow and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God mak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people bound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grain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one s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loa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not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oven into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droplet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 that 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nded in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as Christia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ody shall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God’s tab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gether we shall si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God’s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’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ame hop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sing toge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walk alo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thers, sis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fe, in love, we’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convierten ahora 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n y vino de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el cuerpo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sangre del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parti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misma comu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os trigo d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mo sembr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 molino a la vid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s tritura con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os hace pueb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evo en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granos que h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cho el mismo p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notas qu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jen un can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o gotas de agu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se funden en el m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s cristia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 cuerpo for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mesa 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os se sentar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hijos s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 compartirá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a misma esperan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inando cantará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 la vida como herman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 a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aves of summ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ed golden by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pes in bun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t down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pe and 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6:21Z</dcterms:modified>
  <cp:revision>140</cp:revision>
  <dc:subject/>
  <dc:title>PowerPoint Presentation</dc:title>
</cp:coreProperties>
</file>