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F93-BEA4-4E46-8382-ED722135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BDA-6605-4ACF-8F45-D9C8CB7E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0B0-1254-4826-B413-95988ED6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B2D-4837-4CB2-A38F-99FB7603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A7B-38B7-41FE-9A45-A232614C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7EF-D4CD-489B-910F-21885DEC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D32-0570-409C-805E-32FB3574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C6E-E139-47B0-B8D5-6E999FB9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4EB-3088-4430-B2F9-25A398A7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397-F4AC-4353-A650-F810EA2F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4DC-119D-473C-AEB1-41CB778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28C-DFD1-4E8A-B093-ACF6B3AB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26F8-AAA7-4F6A-B57E-0A4582248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Lord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 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Lord and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lish w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67920" y="1676520"/>
            <a:ext cx="480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Greenleaf Whittier, 1872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ense be du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lesh ret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roug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quake, wind, and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ill, small voice of cal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lothe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ghtful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e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ervice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e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rence,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simple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irs who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 Syrian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ious c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, 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a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 and follow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abbath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al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ll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kne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lence of eter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reted b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Drop thy still d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quie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reathe through the he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o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bal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1:00Z</dcterms:modified>
  <cp:revision>7</cp:revision>
  <dc:subject/>
  <dc:title>PowerPoint Presentation</dc:title>
</cp:coreProperties>
</file>