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1F9-60CE-42C0-B54C-8DBEB322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024-A093-4044-BE96-5E5E520D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82C-7156-41B1-BAC2-5A6375F9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04C-B45B-4707-879D-3F81C88C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B8A-0DE0-429F-8067-686B303E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5E1-C3B7-46E3-A5F8-D92BFFB6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95D-3F57-4343-B50E-5537CA5F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B7F-8677-4775-89B5-4BF41B84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1F7-5DE3-4943-881C-22AB5D47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B1E-BA90-4C62-9F14-D2728137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F75-DA5C-4FDE-B7DE-6A4F119B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553-421B-4AF4-9A45-3A9DC606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BAFD-161A-44CF-A13C-34AA3939D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Love, 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Your love, O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broad lik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ach and meado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de as the wi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7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23720" y="114300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ders Frostenson, 1968; trans. by Fred Kaan, 1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judge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your judg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t our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reedom’s open sp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us as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r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the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human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leave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k you or reject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give us ro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nswer “yes” or “no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long for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our truest be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given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urage to unf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k in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ace and sc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drea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ok fo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r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lants can gr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ut there are w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keep us all di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ence each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ith hate and w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is the bric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ortar of our pri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ide of sel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ison coat we w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3:20Z</dcterms:modified>
  <cp:revision>37</cp:revision>
  <dc:subject/>
  <dc:title>PowerPoint Presentation</dc:title>
</cp:coreProperties>
</file>