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2AB-9906-424E-8964-FC8CC837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F63-3FC9-4965-BB01-AB7CAEE8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8B3-59D9-442C-88E7-15840811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9AD6-77FE-4A66-924F-E4037C71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96E-6BF1-4F9C-9CE6-2B4CD8CF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B24-7038-4BDC-9F10-117D4B33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0D0-3B21-488A-8BE2-03CB7CC8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5EB-2901-4975-BDAD-596F4B02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E09-D041-4B47-BD6D-D0D6B84C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99D-7776-4C12-92E4-E65521DC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50B-B17C-410E-AEE9-9DC565AF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D97-FB95-4ACA-9138-93BB0B34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CCDB-EB82-42A9-95EA-4152EF214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Christma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 Is Daw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53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Christmas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sh that I could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78 Lutheran Book of Worshi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1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ttr. to Elisabeth Ehrenborg-Posse, 18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Joel W. Lundeen, 1978 (Lk. 2: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by the manger crad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Son, newborn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here by the manger crad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Son, newborn t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ow kind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us to come to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ay we not by si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pise your lowly bi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O may we not by si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pise your lowl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362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nee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our dearest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ve will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keep us to life’s en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Your love will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keep us to life’s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0:47Z</dcterms:modified>
  <cp:revision>77</cp:revision>
  <dc:subject/>
  <dc:title>PowerPoint Presentation</dc:title>
</cp:coreProperties>
</file>