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CCE-5526-42FF-A464-A26CAF2F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44E-0B49-4CAF-8562-0DCF281A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5F0-2FC5-4061-BC55-8F056516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53C-EDA3-4463-8536-4DB10EEA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7405-3AC6-4542-90BD-415B5656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FF5D-7571-4036-8F5C-E49082B1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25AC-725C-458A-8C02-9A1AB797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77BB-966C-477A-8E6D-3A3D82E3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6443-9D56-428B-B30C-19529F2B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A8CD-0F75-4690-9822-64557996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278C-ED67-4FB8-BAF1-22FC8432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3A8-9E38-474A-9220-629E6130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7219-47AC-4A64-8531-C9CC7EEC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D0B6-F1B1-4925-B886-DA8BE523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7646-E20D-4196-8CED-D692211C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8AE8-6C9C-4A37-810A-FDBDDA9A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0282-3C69-4250-B142-74C46D20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9FF-2B9A-4543-891E-AB3834D5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888-CCFF-4971-9BEB-D99F76F4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2AB-1BAD-4B6E-BE92-F55C9D9F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603-9B3B-44CA-B952-75589272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ECA-FF1C-4115-B76D-C0C9C6E1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E5E-750B-40C9-BE84-22270086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E05-CDC0-4B51-A28C-2EDF26D9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6C2E-6871-496F-AD19-2DA706894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5CA5-F425-4828-A011-A303EA646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Marching to Zion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848720" y="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7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336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we that lov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t our joys be 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in in a song with sweet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join in a song with sweet accord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779840" y="700200"/>
            <a:ext cx="57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Isaac Watts, 1707; refrain by Robert Lowry; 186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-30240" y="10666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n let our songs aboun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 tear be dry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hroug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’s groun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hroug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’s ground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990720"/>
            <a:ext cx="914400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o fair  -  er    worlds</a:t>
            </a:r>
            <a:br>
              <a:rPr sz="5400"/>
            </a:b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fair - 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worlds   on high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n high, to fairer</a:t>
            </a:r>
            <a:br>
              <a:rPr sz="4400"/>
            </a:br>
            <a:r>
              <a:rPr b="0" lang="en-US" sz="4400" spc="-1" strike="noStrike" baseline="16000">
                <a:solidFill>
                  <a:srgbClr val="000000"/>
                </a:solidFill>
                <a:latin typeface="Times New Roman"/>
                <a:ea typeface="Arial"/>
              </a:rPr>
              <a:t>to      fair    -  er   worl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orlds   on   high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on  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high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838080"/>
            <a:ext cx="91440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– on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Marching to Zion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924680" y="-3024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7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-30240" y="253044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we that love the L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t our joys be known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join in a song with sweet acc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join in a song with sweet accor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79840" y="1066680"/>
            <a:ext cx="57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Isaac Watts, 1707; refrain by Robert Lowry; 186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1325520"/>
            <a:ext cx="9144000" cy="43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us   sur - round</a:t>
            </a:r>
            <a:br>
              <a:rPr sz="4500"/>
            </a:br>
            <a:r>
              <a:rPr b="1" lang="en-US" sz="45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thus surround the throne,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rone, and thus</a:t>
            </a:r>
            <a:br>
              <a:rPr sz="4500"/>
            </a:b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and      thus           sur - round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urround the thron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the                 throne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1249200"/>
            <a:ext cx="91440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981080"/>
            <a:ext cx="91440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those refuse to sing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who never knew our God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but children of the heavenly King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but children of the heavenly King may 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1447920"/>
            <a:ext cx="914400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eak their joys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speak  their  joys abroad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road may speak</a:t>
            </a:r>
            <a:br>
              <a:rPr sz="5000"/>
            </a:b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may  speak   their       joys</a:t>
            </a:r>
            <a:r>
              <a:rPr b="0" lang="en-US" sz="50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joys abroad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broa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1523880"/>
            <a:ext cx="91440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20430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 hill of Zion yiel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thousand sacred swee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we reach the heavenly field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we reach the heavenly fields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-15840" y="1371600"/>
            <a:ext cx="9144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us   sur - round</a:t>
            </a:r>
            <a:br>
              <a:rPr sz="5400"/>
            </a:br>
            <a:r>
              <a:rPr b="1" lang="en-US" sz="45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thus surround the throne,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rone, and thus</a:t>
            </a:r>
            <a:br>
              <a:rPr sz="4500"/>
            </a:b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and      thus           sur - round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urround the thron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the                 throne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1676520"/>
            <a:ext cx="91440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r walk     the   gold - en</a:t>
            </a:r>
            <a:br>
              <a:rPr sz="4400"/>
            </a:b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walk  the  golden  streets, t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treets,     or </a:t>
            </a:r>
            <a:br>
              <a:rPr sz="4400"/>
            </a:b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walk            th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alk  the  golden street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gold        -       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streets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1249200"/>
            <a:ext cx="91440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137304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n let our songs abou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 tear be d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hroug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’s grou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hroug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’s ground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1676520"/>
            <a:ext cx="91440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fair  -  er    worlds</a:t>
            </a:r>
            <a:br>
              <a:rPr sz="4400"/>
            </a:b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fair - 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worlds   on high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n high, to fairer</a:t>
            </a:r>
            <a:br>
              <a:rPr sz="4400"/>
            </a:br>
            <a:r>
              <a:rPr b="0" lang="en-US" sz="4400" spc="-1" strike="noStrike" baseline="16000">
                <a:solidFill>
                  <a:srgbClr val="000000"/>
                </a:solidFill>
                <a:latin typeface="Times New Roman"/>
                <a:ea typeface="Arial"/>
              </a:rPr>
              <a:t>to      fair    -  er   worl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orlds   on   high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on  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high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1249200"/>
            <a:ext cx="91440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rching to Zion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we that lov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joys be 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in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weet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join in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weet accord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779840" y="1066680"/>
            <a:ext cx="57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ac Watts, 1707; refrain by Robert Lowry; 186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716040"/>
            <a:ext cx="9144000" cy="57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  sur - round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thus surround the throne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hrone, and thus</a:t>
            </a:r>
            <a:br>
              <a:rPr sz="5000"/>
            </a:b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and      thus           sur - roun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round the thro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the                 throne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182880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, beautiful Zion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026"/>
          <p:cNvSpPr/>
          <p:nvPr/>
        </p:nvSpPr>
        <p:spPr>
          <a:xfrm>
            <a:off x="0" y="18590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Zion,  Zion,</a:t>
            </a:r>
            <a:br>
              <a:rPr sz="48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city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those refuse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never knew our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 may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96840"/>
            <a:ext cx="91440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1066680"/>
            <a:ext cx="9144000" cy="53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heir joys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speak  their  joys abroad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road may speak</a:t>
            </a:r>
            <a:br>
              <a:rPr sz="5000"/>
            </a:b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may  speak   their       joys</a:t>
            </a:r>
            <a:r>
              <a:rPr b="0" lang="en-US" sz="5000" spc="-1" strike="noStrike" baseline="20000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joys abroad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broa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160020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, beautiful Zion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026"/>
          <p:cNvSpPr/>
          <p:nvPr/>
        </p:nvSpPr>
        <p:spPr>
          <a:xfrm>
            <a:off x="0" y="18590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Zion, 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city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hill of Zion yie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sacred swe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fie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fields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716040"/>
            <a:ext cx="9144000" cy="58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alk     the   gold - en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walk  the  golden  streets, to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ets,     or </a:t>
            </a:r>
            <a:br>
              <a:rPr sz="5000"/>
            </a:b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walk            th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 the  golden street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gold        -       en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streets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182880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, beautiful Zion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26"/>
          <p:cNvSpPr/>
          <p:nvPr/>
        </p:nvSpPr>
        <p:spPr>
          <a:xfrm>
            <a:off x="0" y="18590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Zion,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city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let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a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tear be d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’s g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’s ground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716040"/>
            <a:ext cx="9144000" cy="57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air  -  er    worlds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fair - e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worlds   on high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igh, to fairer</a:t>
            </a:r>
            <a:br>
              <a:rPr sz="5000"/>
            </a:br>
            <a:r>
              <a:rPr b="0" lang="en-US" sz="5400" spc="-1" strike="noStrike" baseline="16000">
                <a:solidFill>
                  <a:srgbClr val="000000"/>
                </a:solidFill>
                <a:latin typeface="Times New Roman"/>
              </a:rPr>
              <a:t>to      fair    -  er   world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s   on   high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on  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high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144792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, beautiful Zion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88884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those refuse to s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ho never knew our God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ut children of the heavenly K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ut children of the heavenly King may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18590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Zion, 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city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066680"/>
            <a:ext cx="914400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peak their joy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speak  their  joys abroad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broad may speak</a:t>
            </a:r>
            <a:br>
              <a:rPr sz="5400"/>
            </a:b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may  speak   their       joys</a:t>
            </a:r>
            <a:r>
              <a:rPr b="0" lang="en-US" sz="50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joys abroa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broa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685800"/>
            <a:ext cx="91440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– on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7621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 hill of Zion yield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 thousand sacred sweet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we reach the heavenly field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we reach the heavenly fields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914400"/>
            <a:ext cx="914400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r walk     the   gold - en</a:t>
            </a:r>
            <a:br>
              <a:rPr sz="5400"/>
            </a:b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walk  the  golden  streets, t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treets,     or </a:t>
            </a:r>
            <a:br>
              <a:rPr sz="4400"/>
            </a:b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walk            th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alk  the  golden street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gold        -       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streets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840" y="914400"/>
            <a:ext cx="91440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18-11-03T13:04:12Z</dcterms:modified>
  <cp:revision>62</cp:revision>
  <dc:subject/>
  <dc:title>PowerPoint Presentation</dc:title>
</cp:coreProperties>
</file>