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C39-4006-403E-8E1C-EC0F1DB5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5D6-6BB5-4CB3-A288-2A04EAB1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651-9D50-45D4-BAF3-79D4316B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DB2-467A-4061-A47C-57E1CB17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84D-FCEA-4EC5-AB0B-8855B0AD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6E8-D2F9-4BE2-9111-4D3DFD9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3C4-F59D-44AB-8BBF-A31BA89C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9D1-6B87-4BDA-9CD3-A9891BA6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FF7-9ED8-46EC-AF94-91EBF5FE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0B1-17DA-4AD9-8C88-2A96454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530-248C-424A-9821-DF96C6A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AA1-2989-492D-A7A9-8E267D7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5EEE-23C5-45A8-ADC5-1D68E2208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Never Said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mbalin’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y crucifi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He hung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ng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47Z</dcterms:modified>
  <cp:revision>52</cp:revision>
  <dc:subject/>
  <dc:title>PowerPoint Presentation</dc:title>
</cp:coreProperties>
</file>