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759-9F10-40E0-8B97-5B01F87C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3D2-1A0C-47C0-9842-DAA808DC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856-CBC7-4A5B-8F40-FE23202B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01C-8862-406B-8BAA-8711FE73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645-B8E3-4002-8691-08933583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E275-6608-4123-B2A3-176584C0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FED-A298-409A-8BA8-C1B9DD8C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672-3126-4591-B566-C5A03468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60B-12E0-47EE-88B8-EF8C2D08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27B-E377-4BB4-8D98-261F75DA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9A5-12FD-4D9F-BB23-5DEBACE6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7B6-D7B0-49AE-96F6-12A9A763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E71B-18DB-4E2A-ADAD-54A9004DD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Be Rea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0200" y="1295280"/>
            <a:ext cx="50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Rev. 21:2, 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73240"/>
            <a:ext cx="9144000" cy="46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9144000" cy="47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John, O Joh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did you s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14400"/>
            <a:ext cx="9144000" cy="52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’d b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judgmen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838080"/>
            <a:ext cx="9144000" cy="46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66680"/>
            <a:ext cx="9144000" cy="47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hn said the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just foursqu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9144000" cy="49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delca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d meet m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173240"/>
            <a:ext cx="9144000" cy="46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85800"/>
            <a:ext cx="9144000" cy="540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w sinners,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you step on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9144000" cy="490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oot might sl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soul get l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1:59Z</dcterms:modified>
  <cp:revision>58</cp:revision>
  <dc:subject/>
  <dc:title>PowerPoint Presentation</dc:title>
</cp:coreProperties>
</file>