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D859-159F-4C5E-B6B7-AA57EA87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FA22-8D62-4218-829B-C37ABCBD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5D54-D962-451F-81A6-C62FEE5A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5ED4-56AE-4C17-9999-A429B4D8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EDDB-8D3A-4C8E-9F0D-D9C3D9D3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0136-7088-49D0-AB9A-9329FBFF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DA05-CEEC-46C5-BB1E-399F482D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ED6E-ECE9-41B8-923B-F929E73A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6AEB-BD16-498A-8289-3DF4CFA3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CF2F-173C-4BF2-9ABD-D0A1FFF0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59B9-93FB-48DB-BBC5-04197CFB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15EB-86AA-454A-A10D-1B921212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4903-229F-4B45-BEBD-4E1EA5E4D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n the Da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Resurr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e Day of Resurre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60020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Michael Peterson, 1984 (Lk. 24:13-35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38280"/>
            <a:ext cx="9144000" cy="386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n the day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resurrec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Emmaus we retur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7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ing b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lessing, brea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himse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Opened ey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newed convicti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urney ba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cenes of p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e Day of Resurrec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ing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hrist is rise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through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97360" y="1879560"/>
            <a:ext cx="6749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confu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azed, and frighte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comes to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n this stra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ks a ques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What is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troubles you?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e Day of Resurrec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859040"/>
            <a:ext cx="8153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ets u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pain and suffer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walks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 our trou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s come from hi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rning fi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our heart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e Day of Resurrec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s to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cripture’s mean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speaks to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n we n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destinatio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we as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ranger 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e Day of Resurrec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yie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our urg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stays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Day of sorr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forgott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gu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omes the ho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e Day of Resurrec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06:59Z</dcterms:modified>
  <cp:revision>64</cp:revision>
  <dc:subject/>
  <dc:title>PowerPoint Presentation</dc:title>
</cp:coreProperties>
</file>