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480-458E-4DFA-8D1C-7E76C401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2A8-03A4-4F54-B995-2DA0ADC8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A4B-D462-473C-ADFA-34EFB87D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F86-B206-4716-B6B1-E197CF7A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F9E0-5B23-4486-BF09-3228205C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8D7D-B621-4AC5-A21E-A8DFF02F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C6DA-E884-419D-985A-338195F3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F599-1A73-49C2-A172-9BB4C445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136D-54AB-4601-AA3D-C7C3DD43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A698-F68A-43AA-AF4B-E052CCA5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A6C3-6259-4D77-B5BC-9D646735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DAB-7DDA-4429-B35B-259A6A7F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7BBD-13D9-48B5-8CB3-519A9017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85CA-A545-476E-997D-735CA0F9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396A-A030-4B34-9228-58337FC8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471E-E8E9-460F-A80D-5B8B01BD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56EE-90F3-42D3-99AD-2C8B2E73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E0F-79B5-4538-AA94-6FA927D5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60B-C0D5-4731-99E9-7AA480A5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18A-24A2-494B-9590-78642FEC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A7D-AB6D-438F-AA37-D91144D6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585-0B26-40B5-B6FF-73DE338D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6CE-F772-4B2D-8B85-85F0C223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551-B956-401F-A99B-F0480F3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5F2E-2713-464C-BA84-463D5AC15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C138-B8BC-496D-B7BA-5D0B1F93C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 Eagle’s W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95280"/>
            <a:ext cx="9144000" cy="375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God will lift you u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eagle’s wing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ar you on the breath of dawn, make you to shine like the sun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hold you in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lm of God’s h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Eagle’s 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891540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chael Joncas, 1979 (Ex. 19:4)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© 1979, 1989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 Eagle’s W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d will lift you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gle’s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 you o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th of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9, 1989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Eagle’s 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96440" y="990720"/>
            <a:ext cx="455148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Michael Joncas, 1979 (Ex. 19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you to 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s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d you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lm of God’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3-21T18:26:24Z</dcterms:modified>
  <cp:revision>64</cp:revision>
  <dc:subject/>
  <dc:title>PowerPoint Presentation</dc:title>
</cp:coreProperties>
</file>