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DA4-23B8-4677-9C4B-7B02E714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AD6-C876-4F64-B6F4-15E212EF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A93-50E9-48DE-A97B-3D8767D1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65E-ED03-405E-89D1-F9D2C3D0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976-7BE1-4EE7-B601-79FB0098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684-20D4-42CD-B89C-164500F4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B68-0F2D-483D-9519-777529AB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C11-8775-4279-B5D0-6F8055B8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D3A-5CA6-4A51-96C8-A8A7C93A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E35-0444-4F19-A95F-EC6E0FC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2F7-1F98-4952-AD0C-C0C71AD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236-AAE4-4F4E-854A-38E99D4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274D-CF21-4980-8299-927B4DF95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Have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Have Me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2200" y="990720"/>
            <a:ext cx="2917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, have mercy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38Z</dcterms:modified>
  <cp:revision>24</cp:revision>
  <dc:subject/>
  <dc:title>PowerPoint Presentation</dc:title>
</cp:coreProperties>
</file>