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19BB-E432-41E3-A62F-0B3570223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BC8E-55BD-42A4-B576-F471E7A11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C229-0B88-45EB-92ED-AA2A94F39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804A-3B1C-4584-9DC2-D617340B8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C25C-FE83-4D05-80A0-2C18AE89F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571D-E726-424A-B8D4-74FB71E0E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DCF5-EDEC-460D-A54B-237CF3D2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934D-E2B9-45E1-BDBE-24ED28AD3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B54E-E004-463C-B0D6-8DC30C48F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55F0-ABE0-40B3-ADD7-C1904014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2932-B057-461D-B965-6E485992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8FCE-8D06-4990-8900-98C1E4DC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9515E-1344-4DFB-9AA7-6EC9A80F41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Kyrie Eleis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8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yrie eleiso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yrie eleiso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yrie eleis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yrie Elei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78800" y="1004760"/>
            <a:ext cx="279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ncient Gree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19:46Z</dcterms:modified>
  <cp:revision>23</cp:revision>
  <dc:subject/>
  <dc:title>PowerPoint Presentation</dc:title>
</cp:coreProperties>
</file>