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D32-4F05-4348-9D01-8724879B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BC5-5DA0-41FA-8FEB-280F6549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B0C-83E3-4232-A93D-01F9F438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CBB-AC0B-436C-A38B-B5F9A1EB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973B-2EF4-401D-AEBC-467E1000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A076-DC6F-4E2E-B6BD-2C844136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162D-8670-4A8E-B560-180161BE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9874-D562-410A-93D3-AB5D1540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6CA5-82F6-408B-B772-BE077AEE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6BC4-5646-4A31-A917-6DEC1C51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3024-4C96-4E34-B891-A02EE467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402-1FCB-4FD4-8511-467B66E8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5C7D-9D50-4671-BA35-549DC6D6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F8FC-E65B-4CB0-B9DE-A6DFDDAD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1456-131B-4790-A609-86E0C508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0E34-8C7F-4007-B856-8249A630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1BA5-CA91-4ECB-B1EA-B621E4F1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581-EA01-4BCA-90F1-C1C4EE7F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28C-9EB4-4310-ADDC-7E4B8BEE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127-4DA6-4659-939A-730322E0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0B5-59C3-4E99-9C88-329DD12D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0B8-E662-4B77-84C5-74115E68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3F7E-8457-489D-9658-F739B936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2C34-319D-4B57-953E-1E7F7EEB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5292-A662-47AE-8C20-CA43BF7FA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EFAD-4A20-4932-8985-12362B51D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with All the Saints in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ints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the resurrection so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and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’s dark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ormer days be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5560" y="1143000"/>
            <a:ext cx="45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J. Irons, 1873 (1 Cor. 15: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around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ouds are break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on the stor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time shall ceas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God’s likeness we, awak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 the everlasting pe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O what glory, far exceed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at eye has yet perceived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liest hear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ages plead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ver that full joy concei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as prom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prepares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elcome wait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umble spirit shares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s pa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eternal gat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Life eternal! heaven rejoices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esus lives, who once was dead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oin we n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eathless voice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ild of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ft up your hea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078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triarchs from the distant ag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ints all long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their heave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phets, psalmis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ers, and sag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await the glory giv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80060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808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Life eternal! O what wond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owd on faith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joy unknow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, amidst earth’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osing thund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ints shall stand before the thr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80060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808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 to enter that bright porta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e that glowing firmament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, with th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 God Immorta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Jesus Chri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m thou has sent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80060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are bre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the st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ime shall c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od’s lik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, aw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 the everlasting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what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excee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eye has yet perceiv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iest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ges p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that full joy concei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as prom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prepares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elcome wait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umble spirit shares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s pa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eternal gat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ife eternal! heaven rejoice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lives,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was dea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w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athless voic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riarchs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tant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ll lo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ir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phets, psalmis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rs, and s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wait the glory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ife eternal! O what wo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d on fai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joy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, amidst earth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ing thund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shall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thr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o e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right p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at glowing firmame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,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Imm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Jesus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thou has sent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364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with All the Saints in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430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Sing with all the saints in glor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g the resurrection song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ath and sorrow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arth’s dark stor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the former days belo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5560" y="685800"/>
            <a:ext cx="45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J. Irons, 1873 (1 Cor. 15: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0-14T00:12:19Z</dcterms:modified>
  <cp:revision>47</cp:revision>
  <dc:subject/>
  <dc:title>PowerPoint Presentation</dc:title>
</cp:coreProperties>
</file>