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EF5-17E9-43DF-80F9-A6A66F5A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AF4-B7EA-4AC3-A1A7-6A99644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3A6-2B23-4155-A71B-D6EBF483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37D-06AA-4FBD-B39D-22CADCCD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E2A-6DE4-4665-A219-200EE51F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1EE-1DF0-4DBD-9F31-58B0B4D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30F-FB16-4BEB-98E7-5B66F014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00C-4AE0-46F7-91B5-C70D45D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43A-6885-4E40-BF8D-CDD007F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698-9FEE-4F98-90AE-5290C5DE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610-2A08-4F9D-AC9C-03EE09E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E9D-0DF1-4C55-8095-0C5C3048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F02-6270-4A66-9D15-26D6806F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urce and Sove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and C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urce and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and Clo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ress,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lter,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4840" y="1523880"/>
            <a:ext cx="38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dge, Defend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, M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fe whose lif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life endow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ord and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ot and 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,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and Wat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 who leads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I 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torm and Sti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and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nder, Temp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rlwind, F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, Counsel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esence,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ergies th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ver ti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5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0:40Z</dcterms:modified>
  <cp:revision>29</cp:revision>
  <dc:subject/>
  <dc:title>PowerPoint Presentation</dc:title>
</cp:coreProperties>
</file>