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0286-4234-470F-9CAF-48A1F0A5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536-2D4E-4876-9C62-28F1147C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D16-67F4-4093-B9EE-D60877B3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8A4-EC38-4CB6-A034-059BF4B7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430-9F23-4A2D-B7FB-6884F305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3A7-B941-4649-85C1-B6CE7A21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122-01CD-4784-8DCF-D4391FB4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9C8-93A0-441F-9D6B-63593D96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650-F836-4964-BD55-0CF5DD72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331-356B-43EC-AF5C-29E4F2C8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B8C1-4C7A-4CFF-BB1A-426A1400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DD5-E8F7-4433-9401-BBE4B98A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1E0F-2AF6-45C6-99D6-42DC974B4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Joy of Our Desi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Joy of Our Desi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rtin Janus, 1661; trans. an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joy of our desi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ost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n b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aspi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ar to uncreate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lesh that fashio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impassion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iving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ruths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aring, d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thy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ope is gu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, what peace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sic ring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Joy of Our Desi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fl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 conf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of joy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less spr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s is beaut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est pleas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s is wisdom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iest trea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ost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thine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oys 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8:00Z</dcterms:modified>
  <cp:revision>146</cp:revision>
  <dc:subject/>
  <dc:title>PowerPoint Presentation</dc:title>
</cp:coreProperties>
</file>