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DFD9-D8BE-411D-AA6B-840564C0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F69F-5035-4EEA-964C-2B022261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1A1-706B-4B4D-9DD4-10E83648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F526-9E92-4E29-B846-AB632A1B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048-FAE6-44B5-83C9-D69B51C4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42D-4E41-4CD0-BC83-CECD4F3C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3DC-9969-40FF-AAE3-94235FF9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E18-F212-4B75-9105-61E5105A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9ED-F70F-4AEF-A834-A028A641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F8B-C816-441A-B3D3-CEC6E058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3B3-2A65-4328-A85E-3801AD0F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78B-F462-46CB-A16E-B1E979EA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CC2D-B91C-455B-9006-2FCC7598B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e Healing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the Na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362320"/>
            <a:ext cx="9144000" cy="429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or the healing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the nation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we pra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one accord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8 Hope Publishing Co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033280" y="1600200"/>
            <a:ext cx="519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Fred Kaan, 1965 (Rev. 21:1–22:5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ide of stat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ce, or schoo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gma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bscure your plan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comm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st for jus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ha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brief span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life’s brief span)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we ha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brief span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You, Creator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, have writ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reat n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humankin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our grow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r lik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the life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o mind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y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ponse and serv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its desti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fin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may find)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its desti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find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a just an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qual sharing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f the thing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earth affords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 life of love in a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dge our wor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pledge our word)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ris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dge our word. 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ad us for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freedom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spa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world release,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, redee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ar and hat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ay c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o in pe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026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w us how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and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will di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 increas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hope increase)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 will d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 increas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that kil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undant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it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 be banned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6T15:21:46Z</dcterms:modified>
  <cp:revision>21</cp:revision>
  <dc:subject/>
  <dc:title>PowerPoint Presentation</dc:title>
</cp:coreProperties>
</file>