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3FD-565C-4032-9058-4B386BF2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748-9983-46DF-9850-122D933B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C18-7CEE-4579-84F6-A9ABC3A0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898-A758-4131-ABF1-A0150EB8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045-478D-452E-B3E5-1B1C63D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6E3-B8AC-4CF6-B06C-38BD13A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877-FEF5-4E85-B549-5D1A03DD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72A-29F8-49A5-B0F2-8DCC4C0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62C-B6C2-41DF-89B4-4C488F1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A4E-6281-4E29-8561-49FA0E6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785-BA4E-4DA1-B023-600676C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64B-D50A-407E-9838-F23417E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CBAD-7896-4352-8272-F90DE1F40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h, Holy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ann Heermann, 1630; trans.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h, holy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ast thou off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to judg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in hate pretend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on thy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wer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my deser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foes der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e own rejec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ost afflict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o was the guilty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rought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as, my t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hath undone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as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t was deni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ucifi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, 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heep is offe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lave hath sin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n hath suff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aton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hee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terce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me, kin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y incar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ortal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ife’s obl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itter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refore, kin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I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ever pray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07Z</dcterms:modified>
  <cp:revision>49</cp:revision>
  <dc:subject/>
  <dc:title>PowerPoint Presentation</dc:title>
</cp:coreProperties>
</file>