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DF82-8FF7-42E0-A9A0-82A114FC3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5F9-E632-414B-9C88-3291ECAE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0152-114C-4300-9028-9807097A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441C-DE9F-4B60-B54A-DB44D245F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F2EA-15A7-4134-98C2-AB17BADC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3E3-1964-4E18-936D-1411B666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0621-9267-4B90-907F-6F2687EF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C106-3579-495B-A0F3-F5B2436F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7284-8B78-44B0-9D4C-AB4611CEA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91EB-E778-40D9-91E6-EA8906C1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4526-33A9-483C-82F4-A8059A58F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53A-1A5D-4AFA-97B2-B6A8C9CF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900-AB13-49A4-9B82-01496BDC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84D-D49D-4971-9040-D39CCF97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D12-8435-4EC6-A079-D280631A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A80-F4DC-48D6-ADF7-A7C4B2C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5F1-350D-4760-B53E-122EA34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849-C920-4ACA-9423-9A9B4EC4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C9B-9661-420A-9477-D6FF4D1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AB4-B485-4821-B2A6-5E0C96E7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30A-D995-4EDB-8DB6-E73CA97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220-F006-4C21-AE5E-722AF88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0A6-55F5-41EE-AE0E-82931CE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C99-DCAF-40EF-B56E-947DFAE1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Gospel Fea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ome, sinner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the gospel fea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every soul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’ guest.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7 (Lk. 14:16-24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you i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need not on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left behi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God hath b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humankind.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Do not beg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ake excus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h! do not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grace refuse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ldly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sures le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what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to gi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Come and partak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gospel fea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saved from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Jesus rest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ste th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t his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his blo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See him set for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fore your eye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hold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leeding sacrifice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ffere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haste to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 by g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Ye who belie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record tru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all sup with hi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with you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14:37Z</dcterms:modified>
  <cp:revision>118</cp:revision>
  <dc:subject/>
  <dc:title>PowerPoint Presentation</dc:title>
</cp:coreProperties>
</file>