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073-7875-46FE-9541-EAC0AFFE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CAC-4484-486B-9ECF-FD310AB7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CF3-9CCD-46DF-A648-1DE2D4A1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32C-2EFA-4440-BCF8-9BC1C784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DAB-3CB6-4719-BB6B-7F0CAF4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759-1A47-49B2-8B35-20EB07C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ED3-18F0-4D8D-8F83-A8439BD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D52-C8AA-45D5-A80B-BAC99DE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FB3-BBBB-450D-BC2B-AC2DDD9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B7D-48EB-4B61-AF7B-303ACE0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53D-3AA2-4DB3-A7AB-8F10EA4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866-038E-456D-AF76-C174FC7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A3E-994C-492E-8FB2-085051B6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riendly Be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umbly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 stable ru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9360" y="106668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2th cent. French carol; trans. anon.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cooed him to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ate and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us all the b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ome good sp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able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re glad to te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friendly bea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him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hill an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thlehem t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“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ger for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ave him h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illow his h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l for his blanket w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ore my c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hristmas m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oed him to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 should not c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00Z</dcterms:modified>
  <cp:revision>74</cp:revision>
  <dc:subject/>
  <dc:title>PowerPoint Presentation</dc:title>
</cp:coreProperties>
</file>