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D210-1F2D-4387-9F6F-B3E4F21A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DBB4-5AA4-4667-948B-C15D43F6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E588-113E-44A9-905E-B4DC4DB3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6F6D-DF97-4D92-8440-85236E31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00FE-E971-4760-942A-093CA4EE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A430-DA25-4024-9780-B57B4A9F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7F79-22CA-47C4-AC8D-F4853AE8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5BA9-512E-444D-A40D-1C4A9DA9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01B5-7B27-4012-AA83-445B6EA3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178E-F8C6-4C18-BA8F-130185F9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DC85-D053-4029-9D4F-844FEA1A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3E0F-5336-4654-8CBB-45D8A6BE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ABC5-3757-4A1D-B09B-CDC8D8D1A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hold a Broken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66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Behold a broke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orld, we pray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ere want a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ar increas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5 Hope Publish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a Broken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1080" y="1066680"/>
            <a:ext cx="717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Timothy Dudley-Smith, 1985 (Is. 2:1-4; Mic. 4:1-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ose in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gr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hold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king dre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Bring, Lord, your bet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to bi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king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’s dom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a Broken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peace with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eac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eace eternal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41400" y="1859040"/>
            <a:ext cx="54615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nt u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our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ci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eam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 dream of swo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ickles b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pears to scy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a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a Broken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83960" y="2239920"/>
            <a:ext cx="69760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eapon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warfare sp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world of peace rem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re every batt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ag is fur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mpet still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a Broken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19840" y="1859040"/>
            <a:ext cx="63043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wars shall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wa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eam fulfill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No force of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there preva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justice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s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a Broken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shall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ftiest visions fa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ream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O Prince of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ied to s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ost world to redee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a Broken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8:29Z</dcterms:modified>
  <cp:revision>17</cp:revision>
  <dc:subject/>
  <dc:title>PowerPoint Presentation</dc:title>
</cp:coreProperties>
</file>