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614-B0CC-4507-950B-5D1A7A84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40A-ADB0-460F-BA7C-32002148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295-6F97-47DA-817B-7FDDACE6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728-A4CF-4804-AE9F-C75A4EA7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2A2-1D11-47D7-BE7F-6CD2823E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8AF-9AC6-4072-A9CB-F391A0C7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495-3E49-4839-BA61-264BEFFC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BFD-CFB3-4072-9DF1-F1F39DB5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1AE-EA49-4C68-A7E0-F0CF6BC9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59A-4040-442F-8F11-0DFA5A76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3D8-C09A-4A5B-B3BC-71D5481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B83-CFEA-4EB6-AE77-7CD8780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7FC5-8774-4344-B84E-C31CAA39E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Simeo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Nunc Dimitt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Christma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every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shall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Sime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9080" y="162396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2:29-2, ICET, rev. ELLC; Response, Psalm 72:11 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4792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now let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rvant go in peac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w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en fulfill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own eyes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en the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ich you have prepa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all peo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light to reveal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glory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people Israel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29Z</dcterms:modified>
  <cp:revision>33</cp:revision>
  <dc:subject/>
  <dc:title>PowerPoint Presentation</dc:title>
</cp:coreProperties>
</file>