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6007-8BB5-442D-9658-A26BF058C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CFA3-E13B-4A37-AF6A-C01629142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64BF-1F36-4F3C-9F9E-DEF45CBD4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F944-BAD7-44AE-84A5-FABAC3297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EC0F-F2FD-494F-BE0A-B7A8C91A0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851E-FE1E-460B-9EE7-33232D49E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642F-2DC6-4A69-990C-B3709BB3B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1C8C-53E3-4BEA-A28B-0A3BF93F8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5236-8501-44C0-BE9B-2CBA631BE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7543-784E-45A6-8B9A-CA60E4CE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86F3-AC9E-4FAE-A88C-E549E474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6A66-1BDE-4C28-8765-10AF6942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87D61-FEFC-4988-B52F-EA2EA10F63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et It Breathe on 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419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Let it breathe on me;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let it breathe on me;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let the breath of the Lord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now breathe on me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42, renewed 1969, Martin &amp; Morris Music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It Breathe on 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19520" y="1244520"/>
            <a:ext cx="533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Magnolia Lewis-Butts, 1942 (Jn. 20:2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907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Let it breathe on me;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let it breathe on me;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let the breath of the Lord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now breathe on me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39:48Z</dcterms:modified>
  <cp:revision>14</cp:revision>
  <dc:subject/>
  <dc:title>PowerPoint Presentation</dc:title>
</cp:coreProperties>
</file>