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AA30-D727-4605-A623-B512B4E86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9335-5F86-48FA-B856-D856E862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6C5A-E51C-4DC9-A4B8-3EBF315C9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CF70-ED55-4B8E-BCBE-8BE9BFF33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E379-3236-424A-A544-8172BC5F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D28B-57FE-4C06-83E2-DDE3A76A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A6C9-9741-4B16-BE84-E7D3A0B6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9AF8-4292-4412-B015-3062CD85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102A-3586-456F-AD17-5BDAABB9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52F0-3D04-4499-A36A-C16A57E9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C123-AB38-48B8-8EAF-3DA5C4A2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BA37-0187-42D3-AA06-87070541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CB9A-65BE-4543-A563-5C5839721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ove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7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e me, move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e me to do thy wi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e me, move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e me to do thy w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8 Richard Alan Hend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 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64400" y="1066680"/>
            <a:ext cx="4614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Richard Alan Henderson, 197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14:03Z</dcterms:modified>
  <cp:revision>12</cp:revision>
  <dc:subject/>
  <dc:title>PowerPoint Presentation</dc:title>
</cp:coreProperties>
</file>