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DCD-9C14-4E98-835C-4282C3C9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7F5-EEA6-4FE2-9390-EA5573BA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D6D-5EF0-49AA-8ED6-4E31402F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494-9B18-42C6-ADC4-04BCE785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07D-0A00-4CAF-B086-A4EAB0AD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CEA-5CF2-4203-8D30-47CC25C5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DF5-979B-4E44-9CF4-8EAEEEB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A6-1CA9-40AA-B03A-DB29BDDC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AFA-0207-414F-B623-4A684E76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746-21AF-4AFC-B474-48FB1F8C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505-A930-4CB2-9B06-0BBD132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D10-15FA-4D56-A045-9256CCF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3F8-41DF-48B0-81CE-2D6AB5C4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2600" y="3808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pare the Way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2286000"/>
            <a:ext cx="6172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the Way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0360" y="1143000"/>
            <a:ext cx="3219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Isaiah 40:3; 52: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733920"/>
            <a:ext cx="1143000" cy="1143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209680"/>
            <a:ext cx="106704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480" y="1523880"/>
            <a:ext cx="541044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se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6002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5053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39Z</dcterms:modified>
  <cp:revision>53</cp:revision>
  <dc:subject/>
  <dc:title>PowerPoint Presentation</dc:title>
</cp:coreProperties>
</file>