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F12-FA2D-442E-AF20-ECF20F21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387-127C-45E6-8AFF-464FBE4D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D84-D3E4-45A5-9EFB-70E3ADED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8C0-ED35-4C13-A46D-69671FB4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AF83-ACEA-4C25-940E-487A88A4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8F4-2F2D-4399-AAD3-E8940C1E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FF33-DE76-4FB5-AD6B-E0AB0BA4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CFFB-16E6-4BC6-B408-BBA4259B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2A7F-321A-4002-A93A-92F552E4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237-0F12-4E46-8095-A87B2096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671-1A6F-45DE-9D92-2F0B8C2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E2D-2FED-427F-A5CA-9BE686B5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4E58-04BC-4487-86A1-0FB27CB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B3F5-989D-4503-A3B4-66F192B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D175-4444-4B82-B37F-EE89652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E64E-E83E-448B-9727-F76C561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1AF2-7317-4DA1-9683-F18806C5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B1B-1E4D-4B28-A9C2-973A2BAC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59F-75FF-4C35-9421-FC95888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6D5-C658-4E8B-8566-D64EFE0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01E-FD1A-40DC-8691-BFC7D0B8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4B4-399E-4383-8331-78C60474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6CB-EC90-40B0-98A0-67239A5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B6B-3727-4748-A9F7-67E656E5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563B-C382-42B0-BEFD-A3FB16E43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3B74-2163-4587-AD19-D85AF81A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, renewal © 1963 Birdwing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5840" y="990720"/>
            <a:ext cx="433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Iverson, 1926 (Acts 11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7621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Iverson, 1926 (Acts 11: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, renewal © 1963 Birdwing Music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9T21:22:25Z</dcterms:modified>
  <cp:revision>15</cp:revision>
  <dc:subject/>
  <dc:title>PowerPoint Presentation</dc:title>
</cp:coreProperties>
</file>