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F7A-9E10-4FEE-9048-702CBE32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FCA-9D83-4453-AD0F-A1EFF5C2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AFB-FAF3-4A23-A6C5-F967699C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3F3-B7AD-4E7C-86C0-9F7B7C1C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B5B-9317-4BBE-9367-CDEF3864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CE9-9C55-4F0A-9A75-FBE37C97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5F1-80D7-4B9D-9C6B-7DFA5113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F92-AF52-4FC5-9315-1138C98F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FD7-CC6B-4468-9748-F1292A24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6BA-C92C-47F2-8197-D8D6D40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A12-90F2-4391-A08F-15C1820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311-E3D7-4A64-B7CA-36D04E9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4996-AFE0-47B6-BCF4-0C1A4DD93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Spirit, Now I Pr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aw-Kee, Aim Daw-Tsi-T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562720"/>
            <a:ext cx="91440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623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7920" y="2600280"/>
            <a:ext cx="73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760" y="1905120"/>
            <a:ext cx="759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47Z</dcterms:modified>
  <cp:revision>91</cp:revision>
  <dc:subject/>
  <dc:title>PowerPoint Presentation</dc:title>
</cp:coreProperties>
</file>