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EBF-3126-4A0C-BE44-1A7511D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87F-E35D-46D2-BDF6-FE2081FA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3A7-FAA0-4EBC-A2F8-FD9F5E27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BC8-C995-4B20-ADC9-A878CF3B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888-9CED-4A8B-8E65-0010D00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D71-2DCC-41C2-B1BC-CDF7ED0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B25-C3DD-4CF4-B2E2-016CC18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339-5528-4664-9DB1-5853C0E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2DF-B8FD-4BCD-9B63-2B82FD7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E96-D4D9-4C9F-849A-0790915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F9D-5904-455F-A643-F350E15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D3B-F152-49A8-AFC5-5C6E270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44E7-6C69-42C6-98D0-5D73CF09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give Our Sin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We Forg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40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“Forgive our si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we forgive,”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taught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to pra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3 Rosamond Herklots, by permission of Oxford University Pres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87120" y="170172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samond E. Herklots, 1966 (Mt. 6:12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grant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the words we s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can you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orgiving heart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oods on wr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bitterness depart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lazing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ross rev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ly knew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rivial de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wed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our debt to you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cleanse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 resentment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bound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s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your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9:18Z</dcterms:modified>
  <cp:revision>15</cp:revision>
  <dc:subject/>
  <dc:title>PowerPoint Presentation</dc:title>
</cp:coreProperties>
</file>