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161-EF81-40DE-A3D5-35FB7596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AFE-0097-480B-BE23-839FD3A9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F80-4BB2-46BF-B880-E2F9957D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087-9546-4AD3-B66A-C83F773A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3F56-1F4D-4326-AA46-439AAC8E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E2E7-1DC7-4AE3-84FC-9E35D010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A112-BD84-41E9-BF8A-85784D66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7523-9439-4666-8F49-0EB06258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471D-3D72-4BB0-8EF5-7CC50AFD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AA6B-3681-4F3D-AF93-76F75689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86EB-4394-4F0A-AB37-F4A66E51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D509-6524-479C-9302-A9ABFAB3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2DB9-0167-4C69-B93D-643C005F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6A21-1E65-4280-AA38-7FC23E5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BE56-A381-485D-B5F1-2E5F3A5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C4FE-5210-45D0-81A7-9DDA4E36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10ED-A6DA-4CAF-B1F8-9ECB9A9E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320-6234-4775-BCC8-A28B3AE8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24C-7D9E-4C39-9B8A-8E13C8FB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9A7-0BF4-4B28-B59A-6A0B8C35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485C-0539-475A-BCB1-2DAD74D1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BCE-D145-4C2C-9C49-D86EC208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B19-5004-4A14-A5CB-B1244939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06E-61EC-47C0-8925-3E9DA48D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0198-086A-416C-90DE-1CE4FC68E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F885-9529-448B-836F-74B5536EF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22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on and Very S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76520"/>
            <a:ext cx="914400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1. Soon and very soon,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2920" y="838080"/>
            <a:ext cx="543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8 (Rev. 21:3-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© 1978 Communiqué Music, Inc. &amp; Crouch Music Co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dying ther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on and Very S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0"/>
            <a:ext cx="9144000" cy="388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oon and very so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Music, Inc. &amp; Crouch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73480" y="1143000"/>
            <a:ext cx="43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8 (Rev. 21:3-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 more d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1905120"/>
            <a:ext cx="89154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d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dying ther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are going to see the King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Hallelujah!)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are going to see the King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2286000"/>
            <a:ext cx="8686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No more d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Hallelujah!)       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more d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more dying there,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No more cr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Hallelujah!)         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 more crying the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go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see the King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22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on and Very S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05120"/>
            <a:ext cx="9144000" cy="304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oon and very so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52920" y="838080"/>
            <a:ext cx="543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8 (Rev. 21:3-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© 1978 Communiqué Music, Inc. &amp; Crouch Music Co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e are going to see the King;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(Hallelujah!)                                 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soon and very soon,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e are going to see the King.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Hallelujah! Hallelujah!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We’re going to see the King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 more d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 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dying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e King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allelujah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02T00:50:23Z</dcterms:modified>
  <cp:revision>51</cp:revision>
  <dc:subject/>
  <dc:title>PowerPoint Presentation</dc:title>
</cp:coreProperties>
</file>