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DB1-441E-4DBD-9E6E-B4AD2366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796-5875-4483-B2B5-F2C7D9F6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1F3-B967-4772-A7D4-9694DC1C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E76-6DCB-4359-AE05-28760DA3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C7F6-ED18-4F52-9DFF-B2D575A7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0A9C-863A-46A8-B0FB-D2F99889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03A0-DBEB-4590-B2C5-E487F515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867D-5A13-4104-BADB-B5C669EF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0274-3EEF-4F9C-A867-36D8B44D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70DB-D117-4FCF-9C96-B0BDC252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AD42-AABB-4E82-BB78-EF2AD073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8F5-2538-43A0-8BD0-221A0C58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7EBA-1DB3-4104-B311-562975B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5EA7-CC8B-4E75-90CA-59B048F1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8593-8AE2-48AF-8C18-0CD6D1F2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31B7-9F00-44F2-A6C3-6F1AD565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5AC7-706D-416E-99DF-0FCD4D2D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A3E-4905-4032-A3B8-E7F58AF8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CD5-E2F5-4D44-A394-A528E696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758-5446-4C38-B7AF-1D078DCB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2BC-EFC9-4768-AA6B-93F7F348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9D9-6F6D-4373-88E1-647BBBD6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126-B3FA-4D1B-A32D-478E388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BE6-3536-483F-8AD3-1CA7D0C9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ADF8-CE31-4DF0-91E2-0C61CFBFF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0620-3BDC-4ED4-8A50-10EEBF13B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e Very Thought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, the 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of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the br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75240" y="1092240"/>
            <a:ext cx="540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Bernard of Clairvaux, 12th cent.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Edward Caswall, 18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sweeter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ace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pe of every contrite he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joy of all the meek,                       to those who fa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kind thou art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good to those who seek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But what to those who find?      Ah, this nor tongue                        nor pen can show;                                   the love of Jesus, what it i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ne but 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ved ones know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our only joy be th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our prize wilt be;          Jesus, be th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glory 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rough eternit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sweeter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ace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c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pe of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joy of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m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who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kind thou 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goo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see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But what to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ind? Ah,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tongue nor pe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t is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none but 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loved ones know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our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be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ize wilt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be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glory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the Very Thought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1296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, the ve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of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ness fills the breas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75240" y="762120"/>
            <a:ext cx="540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Bernard of Clairvaux, 12th cent.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Edward Caswall, 18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21T00:05:16Z</dcterms:modified>
  <cp:revision>38</cp:revision>
  <dc:subject/>
  <dc:title>PowerPoint Presentation</dc:title>
</cp:coreProperties>
</file>