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7405-31F7-4793-944F-707BD882D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FC7F-057D-4B7E-99DA-E5B0851FD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90EC-466C-4A7E-B674-AC47A1136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B5BF-56F0-47BB-81C4-5B694C7EB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42D9-84EC-476A-B6D7-68D2085C1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02A5-FA7C-4D22-B55A-2AD8D91A0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D556-62CB-4499-B06C-250272FB5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012A-1E34-42D4-8991-45D595250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9627-ABDC-43AE-BEAE-4D2C71154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690F-9C99-4E45-AA53-21F44035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D487-4D9F-47C3-8FE2-C11B7B22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5DD4-22D4-4817-AF26-B3394741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0A33E-78FD-4DDC-ACF6-1C0712033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 a Peaceful N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9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133720"/>
            <a:ext cx="8686800" cy="295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O God, you have let me pass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the day in peace;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let me pass the night in peace,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O Lord who has no lord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a Peaceful N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92160" y="1066680"/>
            <a:ext cx="358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rad. prayer of the Boran peop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1055520"/>
            <a:ext cx="8686800" cy="476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There is no strength but in you.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You alone have no obligation.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Under your hand I pass the night.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You are my Mother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and my Father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42:16Z</dcterms:modified>
  <cp:revision>19</cp:revision>
  <dc:subject/>
  <dc:title>PowerPoint Presentation</dc:title>
</cp:coreProperties>
</file>