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7B2-1964-49DA-807C-79D632D1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6D6-D6CE-4E6A-806D-13002076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75A-FCB8-4210-A9DB-9D73C24B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F8C-8C63-4937-B0B0-E0FFF123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6EA-DDAE-4BAC-B6EE-45427D9E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DC0-C850-4E6F-B505-D2370C35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5AA-35C8-4AC1-AAA2-7162BA91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982-B2C7-450B-BB32-EC0333B7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2E0-E95E-46A8-8B4C-B7501ACC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4D7-9A92-4E7B-BCA8-D4E2B11F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FAF-D222-4212-ABE3-7E737BFA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9E2-8648-45FE-9248-AB59BBC8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B731-2A55-4B35-816F-B61B962B9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 and Dwell in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come and dwell in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 of power with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bring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lorious liber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orrow, fear, and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1680" y="1066680"/>
            <a:ext cx="728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Charles Wesley, 1762 (2 Cor. 3:17; 5:17; Heb. 11:5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Hasten the joyful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shall my sins consu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old things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done aw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all things new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want the witness,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all I do is r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ccording to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ind and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ll-pleasing in thy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ask no higher stat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dulge me but in thi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on or l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n transl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ine eternal bli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9T20:52:05Z</dcterms:modified>
  <cp:revision>7</cp:revision>
  <dc:subject/>
  <dc:title>PowerPoint Presentation</dc:title>
</cp:coreProperties>
</file>