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D0B-2E28-404B-8C6E-BC043EF9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E2F-2EEB-499E-B421-B733EAB0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7A6-0E93-4BAE-A72C-B652EA51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9AA-468B-426B-BBCB-19A4AC26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003-0520-4751-B55F-C0A06BFF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C41-517D-4D99-8F21-B9E6C0DD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240-E84E-493B-BA01-0BBD99DA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FA3-A55E-402B-8135-0FA9F5D5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1B2-5A1B-4CE3-8B45-BCA1647E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843-F41B-42EB-8536-5A462AE3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652-B546-4747-BDEC-028A53FB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F4C-ABF9-4F18-AB89-6007C8D7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4711-5CB6-45C0-A27B-E387307B3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Prayer of Saint Franc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ayer of Saint Franc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rancis of Assisi, Italy, 13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09680"/>
            <a:ext cx="8229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make me an instrum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thy peac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hatr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me sow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288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injury, pard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doubt, faith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despair, hop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there is darkness, light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where there is sadness, j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71604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Divine Mas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nt that I may no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much see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consoled as to consol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understo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to understan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be loved, as to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it is in giv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recei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in pardon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are pardon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it is in dy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are bo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19:26Z</dcterms:modified>
  <cp:revision>156</cp:revision>
  <dc:subject/>
  <dc:title>PowerPoint Presentation</dc:title>
</cp:coreProperties>
</file>