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6902-67B5-4EE1-A9F0-2C587EBE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169-0C62-404A-BD9E-B9078DDA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C72E-9E1F-4365-A9A3-F83A18DE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F785-CE36-4615-A1A5-D573412F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98A4-216C-4905-93EF-877F9839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5BEE-2B0D-4FA5-BD30-CB184429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0106-8AB5-4349-85E8-4D64FD77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2B91-51C6-4501-9DD8-71197D26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D7BC-2336-43E0-8C2D-FE59C34F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4BB9-F9E7-4754-9E3E-C2B0100D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CB0E-1EB8-4B84-9117-56DA2A1D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B343-4968-46F0-86F8-F6D6A08D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06BE-9664-4BDB-917D-C5FF859C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0137-0304-4550-8AEF-83F1B288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1AED-5AA2-43EF-90DE-32067B91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CC23-86D5-45B5-B5E3-8D0890A1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3F1A-FD7E-4ED3-BBD0-0E9C921E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C8D4-9DAC-43E4-B9F4-ED4A7813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53B9-3CAE-4D53-B609-B7BB6718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C16D-7A7B-4892-BC37-E8D69800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B9FE-8AD4-4CC2-A6BB-C0BE3BF2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CE0C-8D68-4F7E-BFA9-4ACA880B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66B9-99F9-426D-9B68-45A238E7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1405-69DE-4EF7-ABB7-6E5C9D59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C418-707C-42AE-9F8C-B76BE5041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F5B8-F013-415F-9078-EE5915267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’ Hands Were Kind Ha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06400"/>
            <a:ext cx="9144000" cy="473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’ hands w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d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ing good to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ing pain and sick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ing children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A. S. Hopki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’ Hands Were Kind Hand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17640" y="939960"/>
            <a:ext cx="37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rgaret Cropper, 19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ing tired feet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ng those who f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hands w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d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ing good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ake my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m work for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them st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ent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d in all I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’ Hands Were Kind Ha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watch you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’m gentle to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kind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ick to work for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522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’ Hands Were Kind Ha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751040"/>
            <a:ext cx="9144000" cy="290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Jesus’ hands were kind hands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ing good to all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aling pain and sickness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lessing children small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A. S. Hopki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’ Hands Were Kind Hand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17640" y="762120"/>
            <a:ext cx="37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rgaret Cropper, 19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ing tired feet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ng those who f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hands w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d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ing good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4320"/>
            <a:ext cx="9144000" cy="43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2. Take my hands,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Lord Jesus,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let them work for you;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make them strong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and gentle,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kind in all I do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’ Hands Were Kind Ha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6504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watch you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’m gentle to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kind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ick to work for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5-03T23:54:54Z</dcterms:modified>
  <cp:revision>30</cp:revision>
  <dc:subject/>
  <dc:title>PowerPoint Presentation</dc:title>
</cp:coreProperties>
</file>