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568A-29C1-4D06-931D-540A6500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EA5A-1D15-4C9D-A1A5-F18DAA8C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AAF4-CF54-43F4-9B4B-1A08B597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88B-F920-489B-AB4C-12B99B5A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C227-CA32-4BC7-98E5-C2A5144F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E368-0CF7-44D5-B458-A78D0D67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76AB-9422-49E3-87EB-89ACDB1D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D7B2-D7FD-44A0-8089-3B5A87D5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0E4C-4654-4BB1-AB51-7636F365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87AC-5A4E-4F96-8B77-ADE3EA01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D7B0-28A8-4657-A0D8-106C21E6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4802-398E-4CA4-8A05-D37D8543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50DA-0931-4EF1-8AE5-37D5B71C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495D-6869-4816-82B0-C59B8F9A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D4FA-7796-4F1B-BFF0-A94F1209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BCD0-79A1-4649-B827-3AFA404D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853D-ED6F-4E67-A84F-42410BC6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F3FE-3F0A-438F-B196-CD2F665C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4A86-5969-4B6E-B0DB-E810FD69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3C5-23FD-4CA7-8326-1F656938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160-A904-4EF5-A21D-9CCF63BE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EC52-AE2A-432C-B81E-DEBE7081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0CA-26D0-4ED0-8ACC-03D08A8B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4BDE-257F-4F33-BBAB-134C5325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367A-4A72-480A-85D2-EF422EAEF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458A-EC75-42E8-81A1-83F2E8635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There Be Peace on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0512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re be peac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it begin with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re be peac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ace that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ant to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5.  Assigned to Jan-Lee Music, © renewed 19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Peace in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9000" y="990720"/>
            <a:ext cx="423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Sy Miller and Jill Jacks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 our creat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ren all are w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ach 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rfect harmon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peace begin with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is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ment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very step I tak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is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lemn vow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ake each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each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ace eternall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re be peac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it begin wi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3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There Be Peace on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43000"/>
            <a:ext cx="9144000" cy="351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 there be peace on earth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let it begin with me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 there be peace on earth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eace that wa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ant to b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5.  Assigned to Jan-Lee Music, © renewed 19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Peace in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9000" y="609480"/>
            <a:ext cx="423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Sy Miller and Jill Jacks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5335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 our creat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ren all are w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ach 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rfect harmon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 peace begin with m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 this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moment now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every step I tak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 this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 solemn vow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5335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ake each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each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ace eternall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re be peac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it begin wi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09-30T18:37:57Z</dcterms:modified>
  <cp:revision>21</cp:revision>
  <dc:subject/>
  <dc:title>PowerPoint Presentation</dc:title>
</cp:coreProperties>
</file>