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C8A-A08E-4748-929E-45AB254A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579-FE92-4B32-8B80-B822EFF9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728-7FFB-414A-A32A-6AD1DA20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872-1D14-4DA7-88E9-39BB3643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61E-CE07-48DF-99B9-0669F489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987-CF4E-4ED4-8AB8-B2F92EDF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95D-D48F-4AFA-B076-FA790983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8B8-EA6E-4E0B-BE81-2D749557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3E6-FEBA-40E7-8461-A3D502E6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FFB-5CC1-40DE-8952-AA2F677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1D2-7815-400A-9A51-021A0A1A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EF0-2A80-4D63-AAAA-AB7C7DC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78A8-2C56-4A3D-86EA-11695E33B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Shall Re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shall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es its success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urneys r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3240" y="1092240"/>
            <a:ext cx="39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7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desc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ngs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arth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ud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dom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shore to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moons shall wax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n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o Jesus e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be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dless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s h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like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ume shall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ever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if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eople and real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well on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est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fant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early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lessings ab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he reig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risoners lea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ose their chai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y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who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nt ar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Let every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 and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nor peculi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ur K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4:49Z</dcterms:modified>
  <cp:revision>17</cp:revision>
  <dc:subject/>
  <dc:title>PowerPoint Presentation</dc:title>
</cp:coreProperties>
</file>