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8D2-2967-4CE4-8EF7-0202D719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7D3-5A9D-4AB2-B07E-F4088E43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423-6F8B-49B7-AF95-EE50C47B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D4D-AE08-40C9-8CA1-433C7992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D69-1A4E-4CC4-BBA0-CC5723F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C45-616B-447E-BE96-675C30F9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C1D-7837-4B2D-A286-C2B3003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CBB-02B8-4BE5-968E-68A5EE3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C9C-9695-4637-AD7C-F072DC7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F1F-C2E2-4B40-AFBE-9C064AF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80A-1BEE-43B3-8F37-7EF7FF5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9DF-9216-410F-A3DF-5A2B2DD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506-77FD-4E19-8202-C508A884B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ing a Song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epherds watch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new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ngels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9120" y="1066680"/>
            <a:ext cx="36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ouis F. Benson, 188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that sh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all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sing a song of Naza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unny days of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 of fragr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s’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sinless B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z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eart may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preads the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dea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the winds that b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ing a song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ake and woo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de the waves b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gh lik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seas of troubl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aith has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s peace upo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sing a song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y and dism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hu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ok our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who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 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, ou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aven ad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ighty now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06Z</dcterms:modified>
  <cp:revision>7</cp:revision>
  <dc:subject/>
  <dc:title>PowerPoint Presentation</dc:title>
</cp:coreProperties>
</file>