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3FF0-7902-4BB8-AE45-0245A3BE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660D-38FE-4D4C-9E0D-7944CE86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8C8-727F-4959-8852-7114CE61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2591-7D59-4E32-8907-D30E6C6B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AE6-2218-4E1F-AC80-BD01920A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62C-7526-4773-A9AD-372C565C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EEBA-3A4B-4CD5-AEDE-891C7458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EF0-CCFE-4B1B-84F1-416B9B27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A8C-2080-4D6D-936A-FDDE79F6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247-AD81-4312-A5CF-D40CABDA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5D8-B966-426F-80A0-30EC15C7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E74-7B66-44B7-AEF7-B85655C9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FB93-7B90-4F61-A46F-4625CFA43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il the Day Tha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es Him 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 Day that Sees Him 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lsey, 1739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ail the day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s him rise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the skies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9040" y="1859040"/>
            <a:ext cx="8305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awhil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tals given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ascends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ive heaven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 the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 waits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your hea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gates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 Day that Sees Him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9040" y="1859040"/>
            <a:ext cx="8305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hath conqu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and sin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the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 in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ee! the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Lord receives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he love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he leaves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 Day that Sees Him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19040" y="1859040"/>
            <a:ext cx="8305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retu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throne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e call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his own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ee! he lifts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s above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! he show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nts of love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 Day that Sees Him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19040" y="1859040"/>
            <a:ext cx="8305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k! his gra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ps bestow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ings on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below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08:06Z</dcterms:modified>
  <cp:revision>67</cp:revision>
  <dc:subject/>
  <dc:title>PowerPoint Presentation</dc:title>
</cp:coreProperties>
</file>