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E57-8010-459F-9CAB-5732823C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BDF-F2BF-4A0A-8360-D131A30A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406-A10B-4481-978D-7D14A90F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3F1-7020-453F-8E5F-A5AFEE1A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95BA-3031-4857-BA8B-2C8FC1B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CE24-7814-4457-887C-4FCFB7BA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FAB3-60D9-4DB8-A997-46CCAB21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9D27-9E0B-489E-9D34-5EE63501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AB26-058F-4C50-BE1C-22BD882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A007-D5EC-48C1-B2C1-993BD962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B26-8FA9-4533-8EFF-B747388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F97-184D-4912-AFB5-81323F3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0667-1161-4B8A-A4BA-17C6D57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98E-395D-4676-9932-BD04EE0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8D44-E0F7-4F65-983C-5A57807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AA0-CA43-4F63-BC49-87889587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551-95A8-4E04-955C-A252AFBB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364-BF60-4E59-B9BD-5E06A57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CCF-8DAB-4B35-8D26-B5173C2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6EC-0DB4-4674-A23D-FC2EED6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40A-0FCE-4843-8730-642A262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96B-A8D6-43FA-B1BF-587C523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71B-F72A-4DD3-A5E7-A29499E8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D86-2788-4387-BA2C-7BC587F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DA5-4326-4368-B0DA-84106E29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BBA-094C-47E5-9F0D-19D94A5CC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tockton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every sou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mercy with the Lord;         and he will surely give you r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trusting in his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will sur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ou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rusting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Jesus 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ch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st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unge now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imson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hes bright as s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Jesu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th,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eads you into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de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 are fully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2120"/>
            <a:ext cx="9144000" cy="527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 then and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oly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o glory 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well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oys immortal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858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Jesus shed his precious b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ich blessings to bestow;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unge now in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imson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washes bright as s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Jesus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th, the wa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eads you into rest;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lieve in h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out del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you are fully bl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 then and jo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oly b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o glory go,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dwell in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lestial l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joys immortal f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tockton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09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every sou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merc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5-02T02:09:34Z</dcterms:modified>
  <cp:revision>94</cp:revision>
  <dc:subject/>
  <dc:title>PowerPoint Presentation</dc:title>
</cp:coreProperties>
</file>