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346-1526-41E0-B9B4-14EE5C53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692-0757-46D3-B624-B9D67478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CF1-F081-414A-BCC6-048704BE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0AE-53F6-4DE2-AAC0-8EDF1481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834-7D1B-4D72-8A18-F5CC434C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973-5A37-4C3B-95E9-08C1B596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7EF-AA6D-40F2-8C41-8016CD88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9E7-B76B-437A-9B52-B45027E6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303-8EB0-4766-99F9-AE33635A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990-DCD6-42C9-AD55-A1E8EA0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A85-64D7-4ED4-B450-B5308C62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C09-C2DF-49B6-B419-A69CB5F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321E-6E27-4C12-B397-BEDC02FBD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the Churc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the church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uts its outer d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the roar of traff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own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8 (Jas. 2:14-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our prayer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 times more aw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world we ban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our Christ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our hearts ar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devotion so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above this hung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world of ou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our hymns sh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u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rget its nee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ian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Christian dee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st the gifts we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ney, talents,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to sal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nsci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secret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reprove, inspir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way you g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, dying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rue Christian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4:59Z</dcterms:modified>
  <cp:revision>96</cp:revision>
  <dc:subject/>
  <dc:title>PowerPoint Presentation</dc:title>
</cp:coreProperties>
</file>