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E14-C3F5-44D9-9084-7F7F0CB7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E66-AD8E-460E-8AE5-00DEAE5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5D5-06FD-4CDE-B851-175C16A6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960-83B3-4FF2-BEFE-91223230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6C6-A94D-4EB1-A868-A0239FF9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D30-0221-4FE5-896A-925E7417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751-271B-4114-A5CB-19A67CA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89E-60ED-4802-8217-01A8E016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957-BEE7-489A-BD7C-9131089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CB4-6B5C-477E-B27E-C554085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754-48B2-42B8-AE13-D5EA462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BE2-9351-4284-89D3-0E4EA75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9DD9-090B-4419-A97B-119137DDC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Lord, What a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0240" y="106668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; Rev. 6:12-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’ll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You’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nner mo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Lord, what a morning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my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a mor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You’ll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ian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08:55Z</dcterms:modified>
  <cp:revision>56</cp:revision>
  <dc:subject/>
  <dc:title>PowerPoint Presentation</dc:title>
</cp:coreProperties>
</file>