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5DB-65DC-4CED-9F4F-B3B73C0E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E92-BD7D-436F-979D-174F74B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269-6DA2-465F-B286-B2DCB4E7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9AD-B78D-47F2-ABF9-7B7D378B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99D-D607-45CE-A5AB-32ECDF04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02F-A072-418C-A14B-BD7869B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8CB-360B-4D4D-AD95-C2F23619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72A-1919-4930-9123-4D156C4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535-92E0-48F0-9ECC-3468165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8C0-7866-49CA-B9D8-6F207B2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4CB-88C7-466E-90F0-10AB35D9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AFB-B814-4B44-BB66-B4F31872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D1D-9406-4964-A0FC-EE196F2C7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ought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on., ca. 18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ought the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afterward I kne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e moved my sou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k him, seeking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no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Savior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, I was found of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 didst reach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and and mine enfo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lked and s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orm-vex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was not so m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on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ok h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, dear Lord,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find, I wal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, but oh,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ove is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answer, Lord,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u wert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han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ways thou loveds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1:56Z</dcterms:modified>
  <cp:revision>97</cp:revision>
  <dc:subject/>
  <dc:title>PowerPoint Presentation</dc:title>
</cp:coreProperties>
</file>