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FF0-DB9C-49AF-A8BE-EA5DABE6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BF9-9871-4E20-9C52-1A7972D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4B7-E20D-4340-AAFE-8D217106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035-C322-4BAA-AC92-3C7E68DC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8BA-CB5E-46E7-9CC7-AB33932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F5D-768C-485C-B064-6D60E1F3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7A4-9169-4AD4-93D8-841B4CA9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E73-BD9B-4DCA-A72B-61B7E29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206-F829-47FE-8700-4F952FCE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101-998E-427D-BB89-2C0D0DD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DEE-96A0-4EC8-A475-50F579D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BAE-A5D5-45E2-B89E-1AE4009B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2C17-D8BD-4C2A-8997-AD6A108D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lendo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Glory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lend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that bring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0080" y="167652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mbrose of Milan, 4th cent.; trans. by Robert S. Bridges, 18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’s living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ys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ou tru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us thy gl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all in royal radian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b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s st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ather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of glor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anish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guid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obly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ll env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ubd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ill fortu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to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rongs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20Z</dcterms:modified>
  <cp:revision>15</cp:revision>
  <dc:subject/>
  <dc:title>PowerPoint Presentation</dc:title>
</cp:coreProperties>
</file>