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411-F588-4263-A154-54E4FC6A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2C1-5FC5-42B4-B51F-86AD8CE7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94A-B409-4A1D-B4DB-44508A62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A79-3A68-444B-BDD3-B2DD1B8E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9381-4051-463C-BB6A-50CE39A9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E2AD-5352-485C-B40C-04128ECE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AAC2-5264-45EB-8B2D-65FDA3D9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B18-92BD-4F55-9D89-A0B9CD2A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BDEF-EC55-4BDF-8C90-5374C412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5E49-25AB-4F7E-A49E-4ABD0DA6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1CC4-53D9-40A1-83F0-D20B9D5C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87A-6F44-487F-BAAB-60091F1F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02BA-AB8D-4BD0-9765-45E8E3A3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541A-7887-4768-B9E9-7D815909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A414-98C6-41A0-86AC-D4C22EFC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3860-20A8-49D7-A411-AEC576FC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97AA-F05F-43E0-B459-7F423584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342-9AC9-4A26-BE22-066CE377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D5B-0BB9-4FCB-9DEB-899D6513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65D-2667-46DD-BE17-7110AECD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9DE-F654-4907-9064-BF599A62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15C-877A-4411-A623-75A8816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365-E0C1-49B5-BF74-DB8C2F08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FB7-E074-47DF-8546-9575D9F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FF7B-C7A8-44AA-B787-48776BECF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E9B6-AC42-464F-A159-A2FAD9AB7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ace tha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ant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5.  Assigned to Jan-Lee Music,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Peace i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9000" y="990720"/>
            <a:ext cx="423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y Miller and Jill Jac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our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all are w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begin with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ment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y step I t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lemn vow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eternall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351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ace that w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nt to 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5.  Assigned to Jan-Lee Music,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Peace i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000" y="609480"/>
            <a:ext cx="423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y Miller and Jill Jac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our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all are w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peace begin with 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oment now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ry step I tak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solemn vow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eternall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30T18:37:57Z</dcterms:modified>
  <cp:revision>21</cp:revision>
  <dc:subject/>
  <dc:title>PowerPoint Presentation</dc:title>
</cp:coreProperties>
</file>