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D27E-D9EB-464A-8875-955262A4D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87D5-5426-4F5D-A3CC-6668C144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036A-7103-4B45-BC2E-CC660F0B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DCB5-9A25-41B9-B80F-433952359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E3A5-E7E1-48AF-885C-7934257E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CC95-BFB1-4AB5-87E3-35463EEA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54BC-1163-43AA-AFC3-05794FCF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952A-ADE8-4188-A619-002B8BFF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717E-0FE4-4E5C-B347-F1E0CDE0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E059-D42A-4D94-AACC-79141954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D9ED-71F1-4A3E-A13A-F8C5680F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63CC-ED3B-4951-B822-8C77C19E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9EB9-5EEC-401E-98D8-134084E0F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icle of Simeon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Nunc Dimitt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743200"/>
            <a:ext cx="9144000" cy="256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(Christmas &amp; Gener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every n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earth shall adore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Sime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89080" y="1623960"/>
            <a:ext cx="67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Luke 2:29-2, ICET, rev. ELLC; Response, Psalm 72:11 IC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447920"/>
            <a:ext cx="8610480" cy="393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60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, now let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ervant go in peac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your word ha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een fulfille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15526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own eyes ha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een the salvat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hich you have prepar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e presenc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f all peopl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8273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light to reveal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o the natio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 glory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your people Israel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47:29Z</dcterms:modified>
  <cp:revision>33</cp:revision>
  <dc:subject/>
  <dc:title>PowerPoint Presentation</dc:title>
</cp:coreProperties>
</file>