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D751-83BD-421F-9955-49A48C26F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481B-0400-4D1E-887F-D378E8C2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2299-0644-4EED-8ACD-4E6E28E04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1C7E-CEE5-4ACE-B0B5-84BD29D81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C4EF-6A91-4FE7-AF84-3A4714FA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E59D-8822-44D1-A730-D556A9A9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E012-F26B-4EDE-85B9-C819955B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D1DA-35B1-43CA-98FF-87187404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21D2-3228-4953-A004-965A9D44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E526-6C3B-4B1E-9A28-F1AA8480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1A05-9844-440A-90F8-9061A3A7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1AF4-F993-4FD0-AAF5-6199EB99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0468-DFB7-4AAA-B46D-F9B10F9C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B77F-D862-472D-BBAF-443DF5DD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AE11-BC73-4A7E-AC26-E7922D2E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3145-73F3-47D9-AFE3-39E5E5B07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42D7-B1C8-442F-B1C4-C6621A721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7DD1-AE33-4BCF-B171-BB7BAA42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0826-7F62-4F2D-B9A8-0049937F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BC18-6C39-44D5-9DEB-FD6FD4D9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0C9F-FF16-4CC5-B04A-8146A3F9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D24B-F666-47F9-93D6-86005613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08A2-13AA-4DB1-B86A-6B9B8C6A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F6D3-844B-4EAD-8360-3CED3F0E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810C-238A-48C3-A254-9031E252E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15C9-884F-41A8-8DB0-536C8C6DE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 Is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4382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Lord, he is L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risen from the d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 is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L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15720" y="1092240"/>
            <a:ext cx="31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Philippians 2:9-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knee shall b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tongue conf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Jesus Christ is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 Is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9051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Lord, he is L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risen from the d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 is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L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15720" y="1092240"/>
            <a:ext cx="31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Philippians 2:9-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2952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knee shall b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tongue conf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Jesus Christ is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52280"/>
            <a:ext cx="914400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Lord, he is Lord!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risen from the dead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 is Lord!                          Every knee shall bow,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tongue confess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that Jesus Christ is Lord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2-07T15:52:58Z</dcterms:modified>
  <cp:revision>41</cp:revision>
  <dc:subject/>
  <dc:title>PowerPoint Presentation</dc:title>
</cp:coreProperties>
</file>