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F76C-D7D7-4C8E-833B-DD2EE67B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BC71-66C7-4B72-B8B9-DB1B2E4B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F656-E1D5-41F7-ACD0-0C381DCC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47AD-267D-4029-A629-509A4366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F4A6-9FD1-46BB-B82C-CC69E3FE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E86B-22D7-4560-A008-F6EFB899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7730-590B-4C9E-BDDF-FE371A4A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3D44-62D1-42FB-BBEC-6E4A44B5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94F3-1E91-4E70-ADDD-ED87AEBD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5BB7-24E2-440E-8F1B-F6F8BE0C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CCE4-9548-49A4-968A-BE1B9FC6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2D4A-0085-430C-8E73-299DEDE5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FA22-6700-48E3-A36E-E74FB4AD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032B-4E9F-4F71-B914-42A74BB5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0D81-AF10-44C4-B3BA-F73AB35B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DCFC-1032-4ACE-9D8B-6CE94822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CFF9-F726-4B20-8BA6-03AD8F92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95C7-1B2C-42FB-B91F-00CBB3A7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CADC-7AEC-40A7-B27D-12C01862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16AD-8AB5-407A-B904-EDD1A010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1D8F-0610-4950-A1F8-5D356F98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8389-662C-4ECD-83F3-2D3C0B98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9C39-37B7-408C-93DA-7B0F8F6D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CD1F-2139-4834-ADAE-9AFDCEB0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BCD9-70A4-416F-AAE6-C0D8FAB81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68BF-73C8-4B37-8404-00A2EE87F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Thou Who Thi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sterious B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55760"/>
            <a:ext cx="9144000" cy="292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1. O Thou who this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mysterious bread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didst in Emmaus break,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This Mysterious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765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5 (Lk. 24:13-3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Enkindle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ze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thy mercy 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ve our pardo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s to fe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od and love are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This Mysterious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return, herewit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ur souls to feed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to th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llowers speak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51588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Unseal the volu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thy grac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pply the gospel word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pen our eyes to see thy fa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hearts to know the Lord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This Mysterious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936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3. Of thee communing still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e mourn till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ou the veil remov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alk with us, an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hearts shall bur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flames of fervent lov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This Mysterious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4. Enkindle now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heavenly zeal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make thy mercy know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give our pardon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ouls to feel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at God and love are on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This Mysterious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Thou Who Thi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sterious B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6668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O Thou who thi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mysterious brea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idst in Emmaus break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This Mysterious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6765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5 (Lk. 24:13-3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turn, here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ouls to f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llowers spea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Unseal the volu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y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pply the gospel w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pen 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 thy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to know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This Mysterious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f thee communing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mourn till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the veil rem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lk with us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shall bu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flames of fervent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This Mysterious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5-20T01:05:30Z</dcterms:modified>
  <cp:revision>115</cp:revision>
  <dc:subject/>
  <dc:title>PowerPoint Presentation</dc:title>
</cp:coreProperties>
</file>