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334-56F8-4501-81E6-26DA63A6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1A6-17D3-4938-B9A9-0240321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AA3-CEC8-4ED0-AAA6-B894BA62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219-44B3-48E6-A08F-42BDCE88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D95F-7A78-4419-A4B5-27AE9777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5FD9-B9A2-4756-BEA5-333BDA98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993E-976D-418A-B75B-C46BB97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4FAD-19A6-4FEB-8A0C-346F3B2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B21-126F-4F3C-A60E-A94D6AE4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1058-6F66-4DDA-A156-79B6343D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1A96-7A2E-49DB-8352-6430FF7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C49-6CB9-43F7-B57D-3277F8C0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9EDB-6A17-41D0-A487-E234C89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7242-D359-477D-BAA9-FCBE7DA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824-3440-42B6-B231-1A7EBC19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91CD-D2C3-4760-A95F-4A66B477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657-668B-46EB-8C70-166A88E6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70C-CCEB-40ED-AFAF-779D685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AFD-2DD2-4679-A616-CA6484D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ADC-1034-4F2E-9876-0B8EA960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1F6-CDF0-41A7-85B9-12CF761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B15-AE8D-4711-8223-AD949B02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C77-34E8-4C67-A170-82DD102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4E0-F9C9-426D-9093-3A8E614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0827-6AD9-45F0-8662-4EB0925D8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5FE-27B0-49AB-9913-AE623BAB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76212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83808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838080"/>
            <a:ext cx="84582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69640" y="114300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Jesus, in 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,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69640" y="882720"/>
            <a:ext cx="326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John Hunter, 188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2T02:17:34Z</dcterms:modified>
  <cp:revision>10</cp:revision>
  <dc:subject/>
  <dc:title>PowerPoint Presentation</dc:title>
</cp:coreProperties>
</file>