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10D-438C-4340-835D-0B20582C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0EA-E431-4DB2-8902-1EB0090A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618-6578-42EC-A22E-7BEC1D87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DD7-F9BA-4746-83DB-33D4705F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8A9-497D-46AF-B177-64CD28FD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C02-1DD2-4C34-B166-F3E5041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9AD-92D0-46CE-ACB3-76FBF5F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EA0-F7B7-4DC1-B235-8DAAFF34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171-52C9-4708-9480-6824406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3AA-7A31-4812-AE44-767558D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1B3-8F05-48F3-83FF-C5679298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A0C-5AD5-4F32-B5C6-DA5E5EB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808-2395-45C6-8C57-1A0C27AC7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Protection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82880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 Jesus, as a hen covers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icks with her wings to kee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m safe, do thou this n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rotect us under your gold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ngs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otection at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000" y="106668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d., India (Mt. 23:37; Lk. 13:3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1:17Z</dcterms:modified>
  <cp:revision>18</cp:revision>
  <dc:subject/>
  <dc:title>PowerPoint Presentation</dc:title>
</cp:coreProperties>
</file>