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66E-289E-4836-846C-9A2B37E7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669-8A08-4C24-9E88-BAC34867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B0A-A8D1-452D-8945-AE6C047A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B51-99DF-478D-AAD2-B0A7201A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18A-E556-46F9-9920-B2828C10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800-8C51-4EDF-8B9A-2E3467DB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F16-97E7-46CE-BDC8-D23F3D4B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04F-497E-4F8F-85AA-5D291E0F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1FC-7502-46E2-909E-86560664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745-DD01-4952-9FF1-EC054172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78B-D8E3-4D5A-8AA9-8675CE9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B8B-CFCC-4FF3-A103-B2823E2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2F2-04F3-444B-A690-A2A14485E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wake, O Slee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Awake, O sleep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rise from deat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ive you ligh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. Bland Tucker, 1980 (Rom. 13:11-14; Eph. 4:4-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a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 forth in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you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learn h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length and bread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ful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, and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o us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u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ery b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 is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h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piri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ne baptis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walk in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Christ has 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ight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kind and gen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for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forg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For us Christ li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he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nqu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7:40Z</dcterms:modified>
  <cp:revision>22</cp:revision>
  <dc:subject/>
  <dc:title>PowerPoint Presentation</dc:title>
</cp:coreProperties>
</file>