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757-2450-486E-AD8C-0C465050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17FA-A358-48D9-9819-3F8ED840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3975-96D9-4AAA-BE07-DB9C982A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390-4682-471B-BC40-17E6B9DB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FB3A-DEE9-4E3B-AA19-3D7D5C2E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E46-939A-4C4C-AFF4-6FA62ACE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4ADF-4181-4CB3-947B-486B912C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BF2-F670-4C66-A037-066D4D13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9B54-5884-4E77-90DB-4D919C4D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907-33DB-45A2-AD78-C5D416EE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3DB6-13E1-4D10-94ED-758BC57C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DAC-9742-451C-87F5-74D63161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D510-BD28-46B2-9122-7FC0641A7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ona Nobis Pac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a Nobis Pac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990720"/>
            <a:ext cx="380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WORDS: Trad. Lat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2286000"/>
            <a:ext cx="7086600" cy="26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ona nobis pacem,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438280"/>
            <a:ext cx="83808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63720" y="2133720"/>
            <a:ext cx="728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09680"/>
            <a:ext cx="83844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57400" y="2438280"/>
            <a:ext cx="6858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2514600"/>
            <a:ext cx="83808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3:00Z</dcterms:modified>
  <cp:revision>117</cp:revision>
  <dc:subject/>
  <dc:title>PowerPoint Presentation</dc:title>
</cp:coreProperties>
</file>