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5F1-33E4-4953-9E86-D6A95183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086-580B-46B6-8A3A-39F1D6B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A84-1850-4A24-BDB1-86397F86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34D-927A-4BC2-BB68-2864DFF6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3EB-CF7D-4293-BDE1-87425392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F8A-6246-41D4-8446-04362A0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734-3B9F-4EBA-8252-C24797D8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B73-947B-4A42-83C4-498A6704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A41-0143-484B-AA70-1F6DD1C4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785-27D9-4971-9FF8-27D6161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8A0-DAF8-4F03-B2A3-00D48F0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A6C-9E9C-4853-9D30-37C4FBF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DD6E-D508-4519-9D57-CA91EA65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y Gracious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gracious p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onderfully shelt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nfidently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ietrich Bonhoeffer, 19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 Pratt Gree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that Go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night and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f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reet us each new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et is this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its old foe torme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evil days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s hard to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ghtened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re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a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when this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is filled to brim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itter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 to underst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it thank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out tremb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so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 beloved a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t when again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me world you g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 we h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ghtness of your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d throu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whol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n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5:31:55Z</dcterms:modified>
  <cp:revision>43</cp:revision>
  <dc:subject/>
  <dc:title>PowerPoint Presentation</dc:title>
</cp:coreProperties>
</file>