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815-6CE7-4381-8F23-646C8280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F94-2EC5-4FBE-A7B2-D1BAD22D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916-5077-42E6-9ED2-2E9ACCD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D1A-BC0C-4B95-B5E7-4A5136E7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DB0-075D-4171-B26A-6A322D24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214-F023-451F-8F08-5C70483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0C6-C05C-4E40-805D-81AF0F12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C11-051E-49EE-8F86-703FE2B7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71C-B484-4F18-900D-28E14C8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0B4-DD06-4A87-A811-F743ED8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38D-6AF4-4565-B322-FA61BEA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CC7-BF39-4E5B-A2E6-81A594B7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90D7-FF22-40FC-B2D8-559BFF29C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Whos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s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takes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om in affliction I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Swain, 1791 (Ps.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! and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-echoes the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fort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in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lvation, my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re dost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rt with thy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eed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of l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, why in the vall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ath should I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lon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erness r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why should I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ien from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r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for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oes will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sorrows the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mile at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tore,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ght of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oul-che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 sweet tok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rdoning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ing joy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olat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e look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n thous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riads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55Z</dcterms:modified>
  <cp:revision>44</cp:revision>
  <dc:subject/>
  <dc:title>PowerPoint Presentation</dc:title>
</cp:coreProperties>
</file>