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D8C-2386-45A4-87FC-9316EE37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742-5688-4626-A11E-B1A188C9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37C-0E20-4098-832C-5BFC9440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C3B-11F5-420F-A57D-11BB80B2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AA1-524B-4F9A-ABEC-37036E45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352-86F1-40FB-99B1-D1E7E588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5CA-7A74-4C69-B93C-0961ACC9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B7A-814E-4483-943F-34920E3E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432-AC3A-4D39-8C6C-42DF6BCA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930-A38F-44AD-A900-426DEAD3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36C-8BC1-406D-8538-0004D95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17F-B722-4258-A24E-FE99AF2A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3B38-1B29-4B2F-B668-069F7E4A2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O Th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aveler Unkn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, 174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O th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raveler unknow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whom still I hol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but cannot s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gh every sine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unstru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of my arm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ou shalt not fl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estling I will not let thee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What though m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shrinking flesh complai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and murmur to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contend so l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rise superior to my pain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I am w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n I am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en my a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strength shall fai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hall with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-man preva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My strength is gon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my nature die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I sink beneat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hy weighty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nt to revive, and fall to ris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fall, and yet by faith I st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tand and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t let thee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8. Yield to me now—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for I am w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but confid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in self-despai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eak to my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blessing spea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conquered b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instant pray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peak, or thou ne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nce shalt m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ell me if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9. ’Tis Love! ’tis Lov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thou diedst for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I hear thy whisp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in m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rning brea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hadows fl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re, Universal Love thou art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me, to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mercies move—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0. My prayer hath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with God; the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unspeaka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I now rece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company before is gon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 am left alone with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thee all nigh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 mean to st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restle t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break of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faith I s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e face to f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ee thee face to face and liv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vain I have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pt and strove—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1. I know thee, Savi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who thou 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Jesus, the fee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sinner’s frien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wilt thou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night dep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stay and love me to the end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mercies ne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rem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2. The Sun of Righteous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on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ath risen with hea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in his w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ered my nature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trength; from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its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uccor bring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help is all laid up abov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182880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3. Contented now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upon my thig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I halt, till life’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short journey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, O Thou Traveler Unknown (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838080"/>
            <a:ext cx="8686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helplessness, all weakness I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thee alone for streng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pe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 have I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om thee to mov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91916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4. Lame as I a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I take the pre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ell, earth, and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with ease overco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leap for jo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ursue my w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as a bound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rt fly ho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all eternity to pro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need not tell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hee who I am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my miser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and sin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self hast cal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e by my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ok on thy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ad it ther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o, I ask thee, who art thou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ll me thy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ell me 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n vain thou struggles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o get fre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I never will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unloose my h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t thou the 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died for m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cret of thy love unfol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estling, I w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t let thee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ilt thou not ye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o me reveal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y new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unutterable na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ll me, I stil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seech thee, te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know it now resolved I a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estling, I will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thee g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’Tis all in vai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to hold thy tongu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or touch the hollow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of my th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1:49Z</dcterms:modified>
  <cp:revision>140</cp:revision>
  <dc:subject/>
  <dc:title>PowerPoint Presentation</dc:title>
</cp:coreProperties>
</file>