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5D5-B54F-4789-9FC4-063F193C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28C-4B7C-4093-B075-3B9EEE63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DB0-072C-4996-95D2-3182E230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2FD-FA95-42DC-B502-04D6D650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31A-7877-4E49-B345-A7021F52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724-A87A-40C8-BDA6-F2088B54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1BB-DAD0-439E-9A38-64F78F23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CE1-5814-47B2-A397-4E7BC70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DF8-BBDC-4A86-B29C-C067DCD2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966-E600-4405-A71E-C446724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E68-43FD-4A58-A388-091EAE07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CEB-8988-456B-BE5B-305769A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A081-5AAD-46C9-A6A2-88CC4BC10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Whose Glor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, whos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, the tr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nly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n of Righteousness, a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0320" y="177804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es of n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spring from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, be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star,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ark and cheer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e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accompanied by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less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’s re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y merc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ms I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y in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im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eer my ey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r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Visit the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ierce the gl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 and grief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adianc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atter all my unbelief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self disp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ec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8:53Z</dcterms:modified>
  <cp:revision>34</cp:revision>
  <dc:subject/>
  <dc:title>PowerPoint Presentation</dc:title>
</cp:coreProperties>
</file>