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E0D-DCC8-491A-A3D7-20026C83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47D-1CE0-46BA-8DA4-51D5C6A9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447-42F7-41D0-9F84-8B04D26C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BF1-DD10-4DD9-941F-139D3153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0C1-C9FE-425E-928E-3C27D822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083-D633-4091-A720-57018689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E21D-9EA0-4E2D-B138-48E9C4E8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5C82-7863-429D-B71A-93967B40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EF2-6BC6-4085-980B-AA534900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0F5-95E5-4CAB-AA9E-BC8FBFFB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2199-3108-4061-910B-342DEC68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3505-C6FA-44AE-81A8-4B476F73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11AC-0398-4E7C-93CA-DC738A1A3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Hath Spoke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y the Proph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hath sp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prophe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ok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hanging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3, renewed 1981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Hath Spoken by the Prophe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7440" y="1676520"/>
            <a:ext cx="45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George W. Briggs, 1952, al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age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expou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own mess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s th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of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ure faith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ing fa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bides,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uncha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first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from ag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e proclaim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ghteous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d the world’s desp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urm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firm anch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eth fa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et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ign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first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hath sp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Christ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S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Hath Spoken by the Prophe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ness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’s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oken b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incarn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e time was bo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arth de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as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uman for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yet speak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eth to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Hath Spoken by the Prophe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48:42Z</dcterms:modified>
  <cp:revision>24</cp:revision>
  <dc:subject/>
  <dc:title>PowerPoint Presentation</dc:title>
</cp:coreProperties>
</file>