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4D3-5D59-40AA-81AC-FDE4898C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C6D-320C-4310-BB1A-29AB7925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814-1EB9-418B-8F20-510C732F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608-DD15-45B7-A1F3-B622BD0A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2FBC-7D15-4787-9A83-7810C352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257A-5BDD-442F-A136-102CC9B0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A238-A2D9-4976-AF52-40A1C95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25CB-DDA6-416C-81E8-81F3E99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16C9-5B04-4A46-BC8A-3B4222D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9F0-1D6A-4BA0-8C01-55BEC56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1156-C77B-4E96-A724-CFDC9685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091-C79A-4895-AF13-0BF9900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5B70-8B24-4318-8FAE-A6CF903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F79C-E7F8-4415-8868-2EB49B3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190-0559-4AE2-8FCA-17511F4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7CEC-BA76-4D2A-B1DC-DE506B55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F53-3257-4F15-ACBA-02BDD1D8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B44B-FFD5-432B-81CE-AADB84BE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5462-5F7E-4FBA-A6B0-8916348A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D76C-6784-432E-A239-42329D1D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8A32A-CEDE-4A22-9EDF-55A7359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9092-0ED7-4E24-BA4B-C532EA1B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F3A-F10A-4CC5-AE54-78C0AC30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FA305-D039-4811-918D-62BFE6B5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1390-9101-4534-9E3D-44561C8C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5D9E-E578-450D-9E6D-B31A6A73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0030-A6F2-43C7-AA59-A83296F1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56EC-76DA-4503-A3D4-71D92AC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B611-691E-42A5-BBF0-ED78579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0B38-FE39-4150-98F1-15197F6A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992-BEA7-4ECB-B5EA-1C25486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995-CB9E-47DF-8EE7-E73BB2B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CA6-4EB9-4709-B74A-D9B719A6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96F-0374-48B1-8463-65EAD86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112-F101-49C8-BCA7-ECBAF069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455-A571-4F4C-8E7D-157D87F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9F92-9473-4E60-A939-34B9935A0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726-25D6-4CE8-964E-B06E8590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103-5D0F-4D4C-9F4F-9B4F84713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love and awe.         Who would not love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ving us  so dearl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given.              Word of the Fathe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w in flesh appearing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95280"/>
            <a:ext cx="54864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990720"/>
            <a:ext cx="5943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09480"/>
            <a:ext cx="5867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" y="152280"/>
            <a:ext cx="579096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2. True God of true God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ight from Light Eterna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lo, he shuns no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the Virgin’s womb;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20348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0492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15884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57200"/>
            <a:ext cx="5791320" cy="36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4. See how the shepherds summoned to His cra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Leave their flocks draw night to gaz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127160"/>
            <a:ext cx="5791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oo will thither, bend our joyful footstep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53352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304920"/>
            <a:ext cx="57913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5. Child, for us sinner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poor and in the manger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e would embrace the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with love and aw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o would no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e thee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oving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o dear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04920"/>
            <a:ext cx="57913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Virgin’s womb; Son of the Father,                   begotten, not create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61920"/>
            <a:ext cx="579132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ather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0"/>
            </a:gs>
            <a:gs pos="50000">
              <a:srgbClr val="00236a"/>
            </a:gs>
            <a:gs pos="100000">
              <a:srgbClr val="00103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609480"/>
            <a:ext cx="5791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the Lo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rcRect l="6604" t="3150" r="6604" b="5697"/>
            <a:stretch/>
          </p:blipFill>
          <p:spPr>
            <a:xfrm>
              <a:off x="5867280" y="0"/>
              <a:ext cx="32673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4572000"/>
              <a:ext cx="9144000" cy="228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ll ye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and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 ye, to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092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rue God of tru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from Light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 shun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rgin’s wo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ott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eaven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368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 nigh to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oo will th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footste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Child, for us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and in the m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uld embrac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l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Yea, Lord, we gree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is happ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o the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n fles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ea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Sing, choirs of angel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 in exultation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sing, all ye citiz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heaven above!                  Glory to Go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glory in the highes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deste, fide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eti triumphant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te, ve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ste, Fide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33520"/>
            <a:ext cx="9144000" cy="565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tum videt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gem angelor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min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See how the shepher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ummoned to his cradl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eaving their flock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raw nigh to gaze;           we too will thi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nd our joyful footsteps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91440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come, let us ador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rist the Lor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2:03:06Z</dcterms:modified>
  <cp:revision>12</cp:revision>
  <dc:subject/>
  <dc:title>PowerPoint Presentation</dc:title>
</cp:coreProperties>
</file>