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DDD7-65E7-4D97-ACF7-B8ECE9BC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8931-CE3E-4468-8826-1866361B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3406-4D39-494D-9EFD-AEA16D8A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C581-E44A-464F-BBE3-4B3A734B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9619-2381-4259-88A7-AE0298AD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D279-36A7-4B42-A89E-139D3F1B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F33B-8C96-4E6A-A57D-E4A10B87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11F6-349F-41C7-834A-168E6A1B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F0AC-33C6-4AF9-859D-7C33D144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414-98D1-4C6D-8D24-709FF2EE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12F3-C3F0-4F62-9F73-300DB713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D303-DDF4-4DE3-8549-1EE00296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B3BE-A2EB-4A69-8A11-8A4C05FBC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hold a Broken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66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Behold a broke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orld, we pray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ere want a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ar increas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5 Hope Publish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a Broken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1080" y="1066680"/>
            <a:ext cx="717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Timothy Dudley-Smith, 1985 (Is. 2:1-4; Mic. 4:1-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ose in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gr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hold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king dre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Bring, Lord, your bet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to bi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king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’s dom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a Broken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peace with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eace on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eace eternal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41400" y="1859040"/>
            <a:ext cx="54615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nt u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our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ci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eam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 dream of swo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ickles b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pears to scy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a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a Broken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83960" y="2239920"/>
            <a:ext cx="69760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eapon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warfare sp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world of peace rem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re every batt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lag is fur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mpet still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a Broken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19840" y="1859040"/>
            <a:ext cx="63043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wars shall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th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wa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eam fulfill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No force of a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there preva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justice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s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a Broken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shall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ftiest visions fa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ream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O Prince of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ied to s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ost world to redee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a Broken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8:29Z</dcterms:modified>
  <cp:revision>17</cp:revision>
  <dc:subject/>
  <dc:title>PowerPoint Presentation</dc:title>
</cp:coreProperties>
</file>