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83D-F42A-4DB7-B164-DAF34F68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3F5-7658-4E81-A2DB-0E946826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4BD-3B46-49DD-9EE5-2FF15132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127-CE4C-48E7-B553-F15F854B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D34-07C4-45FF-9710-4ACC8A4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535-DC6B-42DB-BF49-37A80423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0C6-EBDC-4BBB-88AA-4B8E5686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015-606D-425F-8968-1EA082DD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7B0-7B88-4556-81C6-6E226BC8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9E6-2D93-463D-98B3-084A4D01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E0C-A6F4-4370-8B16-8827FAED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915-382F-4123-B69D-715C473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EBA1-4A4C-4B8E-B3DD-B1608273C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llspring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llspring of Wisdom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 our cr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way ahead 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arched and dr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k a source to satisf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Medical Mission S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riam Therese Winter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9000" y="1863720"/>
            <a:ext cx="7686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hirs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ing wa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for your faith-f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s and daugh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awn of a New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to f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rro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uclear n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ear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3120" y="1863720"/>
            <a:ext cx="5654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ddle clos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the lamp of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ittle hig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arden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ift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sig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all a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holy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79000" y="1863720"/>
            <a:ext cx="6784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earn, from all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xpr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o gr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wing seeds of bl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all to Com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urning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urtu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mpt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th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29600" y="1863720"/>
            <a:ext cx="5283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endeav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claim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am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5:36Z</dcterms:modified>
  <cp:revision>39</cp:revision>
  <dc:subject/>
  <dc:title>PowerPoint Presentation</dc:title>
</cp:coreProperties>
</file>