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1D1-D9D1-48C9-8871-C5833CDE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EA7-EBD9-497F-B8C0-700DDA79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C89-1010-4DC6-AF1A-1E087869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B54-04A7-461E-8F90-E48BBFAC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8EC-913F-4C9D-8A56-BFC26DD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571-4E95-441A-85E4-5789AD9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063-6D73-4AF1-924C-3DE30E0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E01-93FA-46E3-AD07-EF68C118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52E-6B6F-4186-BE9D-D4128DA5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20B-78D2-4026-80A7-96A1A93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DF0-A4C8-4D1D-8389-FDA39E4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752-9CEE-4B09-A797-0457CBB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031-DB41-4097-BAAB-7C112295C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the Old Ship of Z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ear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m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ear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7:07Z</dcterms:modified>
  <cp:revision>101</cp:revision>
  <dc:subject/>
  <dc:title>PowerPoint Presentation</dc:title>
</cp:coreProperties>
</file>