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9EA-D918-4C56-AFEC-E9993741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152-CF5E-4FD8-BE93-D2B4E9B7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17B-8782-4E98-B2AC-74973368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51A-5B19-4D08-94C0-45936FAD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BC7C-6C1C-4AD3-AD4C-537F6938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12A-C64D-4D6C-B539-E89A8540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D7F2-861B-47B7-B01C-41F6FDE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043A-6E5B-449A-91F3-97AA738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F9E-ECB2-46A3-9A24-2F1AB7C5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214D-8D91-4D44-8BF6-E1F38E86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A185-727B-47C6-9CB5-2C39EB54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9CC-3803-4A44-B56F-6DA3D6DC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A3A8-4948-4275-A294-77C2F8F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84C0-2B40-4609-88D2-7D46F2E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ED08-7123-45A6-926B-80DBA017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C3A1-67CC-4476-BCE8-CCB2DAAC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FC5F-25FC-40CB-B861-5A795EBD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34C-15E2-4750-B204-2840555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333-0491-4A6E-9A03-3CB0D52C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DC9-AF7D-46EC-980F-18D1BF81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C0A-DC50-4571-BAE1-A7F8C0DC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3B5-7444-401B-858B-4310B8FF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D67-FF5B-42D4-988D-4A0553D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58D-F197-4876-AF15-9099850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2055-4C86-44D0-8A1A-124EC1EF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FFAC-EC80-4AEC-883E-8EBD055B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95240" y="762120"/>
            <a:ext cx="5752440" cy="76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42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9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825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5240" y="762120"/>
            <a:ext cx="5752440" cy="76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my Fa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no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urning with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23, renewed 195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7280" y="1066680"/>
            <a:ext cx="568836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01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Summer and wint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springti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harves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un, moon, and st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their courses abov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join with all nature i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anifold witnes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thy great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ercy, and lov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49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orning by mor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ew mercies I s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065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I have need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hand hath provided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at is thy faithfulnes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rd, unto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302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3. Pardon for sin and a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peace that endureth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ine own dear presenc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cheer and to guid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14T00:51:24Z</dcterms:modified>
  <cp:revision>62</cp:revision>
  <dc:subject/>
  <dc:title>PowerPoint Presentation</dc:title>
</cp:coreProperties>
</file>