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AB3-CBB3-4F81-BB0D-EB70DB2E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63A-4F5F-4CEE-911B-41E4BEE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2B9-388C-4576-9A64-594E1E1C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A1F-03B7-4A54-AC9E-4BF1B58B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0AF-E2D2-4F53-84BD-DDD6B99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283-1DBA-4744-B40A-6A937F8B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6EF-A705-46BA-BFC4-4D2F282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0F4-DDFB-47C8-8C82-98F741A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24A-322B-4CF1-BC08-B9F11B6B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54B-115E-4BE4-8466-3583A0A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344-1119-4804-B189-A1AA804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4CF-DCEF-4ECF-AFA1-B91A192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7EA-FC48-4125-A81C-DE8329190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s Jesus Christ our Lord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are his new creatio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water and the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Samuel J. Stone, 1866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. by Laurence Hull Stookey, 19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, happy ones, and hol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and s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ight ever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living servant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own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t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Called fo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n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arter of salvatio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holy name prof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t one table f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ne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pr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Christ’s own Spirit 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rld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opp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so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umult of our w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ait the consumm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ision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We now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have 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are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commun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6:18Z</dcterms:modified>
  <cp:revision>18</cp:revision>
  <dc:subject/>
  <dc:title>PowerPoint Presentation</dc:title>
</cp:coreProperties>
</file>