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A3E-A889-42FB-B8DD-CCE327EE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AA3-DA6D-41F1-AB3B-43D256A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5AD-F1F0-4760-8437-1A6C1855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430-33D7-45E9-B3A6-C4E70A12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2A07-725A-4208-9AE5-1EEC46EC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D5FE-DDAA-47F4-BD42-08743F9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F2B-B321-4E87-83AA-AF5A5C8F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A67-27BD-43A8-9C5E-78D6327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E0ED-C3BD-4579-B87E-2D38129C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DB59-9328-4593-9AFB-3230B84B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D9E9-00F8-40F7-992A-DBFB928A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A07-D237-4B98-A153-5D7B4D8B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A12A-32A3-40B3-A896-B3CFB5B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7BE6-1DAD-4F19-BF24-490C871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B9E1-0A00-4B0E-9B52-7286D64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BA0-727F-4212-A0A5-417E8C05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6F0D-0ACE-48A6-85A3-49ACA3BC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004-77A4-4575-8A99-34E42758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DD2-E64E-4BE6-B2B9-18885B0A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B27-BD56-4440-B623-39A85CA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522-8609-41CA-A90D-73BD376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CFA-D20A-4839-B62E-E3EA701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CF9-9114-4EFF-8617-1564E90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51F-0214-4E43-BE3F-516A9CD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B63-6DDC-4779-8FAF-0B6DDE534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B1A-9DBB-4669-BF10-4528F6FF6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9560" y="109224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rn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as t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rewa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Jesu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recor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1276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9560" y="9144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land Ford Palmer, 19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irest child of fairest m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the Lord who came to earth, Word made flesh, our very brot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akes our nature by his bi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ing of Jesus, son of Ma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home at Nazareth.              Toil and labor cannot wea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enduring unto dea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5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stant was the love he gave h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ough it drove him from her side, forth to preach,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on Calvary he die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Joyful mother, full of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ine arms thy Lord was borne. Mournful mother, full of s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y heart with pain was tor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orious mother, now rewa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 crown at Jesus hand,          age to age thy name record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all be blest in every lan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8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or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ea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ver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s our 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ng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M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Nazar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il and la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not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end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an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he gave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it dr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from her s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th to preach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, and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on Calv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oyful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ne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rd was bor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2T01:39:25Z</dcterms:modified>
  <cp:revision>27</cp:revision>
  <dc:subject/>
  <dc:title>PowerPoint Presentation</dc:title>
</cp:coreProperties>
</file>