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B23-FC43-418E-ADAE-2358579C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B35-B324-463F-A200-FE022879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458-6211-4FFA-B596-F35F8601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C8A-170C-4A7F-8C58-A8606545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30B-79AB-48D1-815C-D76C445C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872-433A-4186-8F6D-3283646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32F-4895-45D2-9B0E-427222B8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BB5-0EAA-4BB9-9D36-2CB6F5FB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EBA-D044-4C8A-AF67-AA7AD404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29C-8988-4D77-ACF5-149DB4B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960-2E84-4556-AD73-B76B403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BA2-6054-4985-8C44-5635AAE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998-1659-4C52-AEA5-BFAE8D73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da la Tierra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All Earth Is Wa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75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 1972 Alberto Taulè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2000" y="1562040"/>
            <a:ext cx="63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talonian text by Alberto Taul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è, 1972; English trans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5:52Z</dcterms:modified>
  <cp:revision>57</cp:revision>
  <dc:subject/>
  <dc:title>PowerPoint Presentation</dc:title>
</cp:coreProperties>
</file>