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F5D-14B9-48DE-B19E-D60E6F4C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FE0-DA95-40FB-95F0-C8E30C97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167-7364-48C9-A5C2-4C17D1D3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52B-AE7E-4C16-8648-EB5DDAC8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F9E-6787-444B-BB3F-65AC9F65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D3D-0282-4F42-ACA1-06E21336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9E6-9CBD-4B24-95DB-0E5D248A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591-64A3-40A4-9D4E-CAAD793C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D9C-D82C-4E88-9F9F-0296850E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AAF-C0E7-4331-B2B0-2B3AEDA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F5F-43CB-4A5B-89B1-6CA1552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698-4FF9-4136-B652-57BC3F6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D56-5A8C-4E54-B2FD-084345C0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t’s Sing unto the Lord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os al Se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6836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Resource Publications, Inc.; 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2520" y="1625760"/>
            <a:ext cx="74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952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anunciando su bellez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371600"/>
            <a:ext cx="8915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68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666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nacer el nuevo dí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7:39Z</dcterms:modified>
  <cp:revision>11</cp:revision>
  <dc:subject/>
  <dc:title>PowerPoint Presentation</dc:title>
</cp:coreProperties>
</file>