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916-5D3D-4DD8-A5E8-A1CB2CDE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DBF-AE2E-48B2-A7C4-C0F71BC3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20C-482D-4985-B8A9-EE6C23BA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10B-4A39-4408-93E8-AC04A3A8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636-DE9D-4966-8AA3-4B451F5C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0FC-AA9B-4534-BD7B-69D5A5B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6BA-EED2-42BF-AB54-C2FD4D3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FF8-B594-44BB-A855-204DFB7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DCF-F577-4903-BE16-24AC0D49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7AB-32FA-47A7-8FB8-4D06666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75E-906D-43D9-9623-92624F1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219-8D08-4363-8D07-FFA05844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CCFE-35A8-4DD4-9470-B016B1FA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-a-Bye, My Dear 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-a-b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ittle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of wo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essing and j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7 Jaroslav J. Vaj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34400" y="109224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zech carol; trans. by Jaroslav J. Vajda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a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fold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 of God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my arm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o peacefully cur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ittl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born to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rock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 guard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day we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has dest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22Z</dcterms:modified>
  <cp:revision>8</cp:revision>
  <dc:subject/>
  <dc:title>PowerPoint Presentation</dc:title>
</cp:coreProperties>
</file>