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562F-4318-4B24-9B98-6E90F9C4D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E20C-EB1E-434C-8370-48D72B2B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CC39-E1D3-46FD-ACA3-43FCDE652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243D-4513-450F-AC45-A77B0A864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537B-A079-47BE-AD95-F0DC95C8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5ECA-1EDC-4F6D-AC4E-24677173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B283-6CBD-413C-BB33-D8FDA37C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1201-03CC-4FBA-8F18-3A8E672E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48F3-E4A6-4049-B971-1C4FC155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29C2-E094-4B82-B38B-67F0F6CF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8B56-DA47-41E2-AD71-024AC6E0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87DF-39D7-42EF-B72B-CF587812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08C7-07A3-4AF2-B38F-857195B25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True Li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828800"/>
            <a:ext cx="876312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vern all by thy wisdo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o that my soul may alway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be serving the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as thou dost wil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and not as I may choo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rue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68240" y="990720"/>
            <a:ext cx="4007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Teresa of Avila, Spain, 16th cent.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not punish 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I beseech the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by granting that whic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I wish or ask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if it offends thy love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which would alway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live in 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me die to myself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hat I may serve the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let me live to the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who in thyself art the true lif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58:11Z</dcterms:modified>
  <cp:revision>22</cp:revision>
  <dc:subject/>
  <dc:title>PowerPoint Presentation</dc:title>
</cp:coreProperties>
</file>