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CBC-4CA3-4BD4-87D5-C9C53D3E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D9F-6989-4232-88AE-05A8A40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044-27D9-49E7-A4B5-ADFBD479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92F-B291-45FE-904B-152E8491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4575-58B3-4F0E-9D94-A90045B9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0683-4108-4B18-8EC4-335F8620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EF9D-C1F2-4125-8CA9-A5766C18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5EAE-D345-4CD0-B524-F74CACCB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C5D6-85A7-4246-9F04-F79C1BFD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149-FC05-431A-B4D3-B19EF0B8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857B-D857-47AC-8335-6796FEB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349-8241-45FD-8BFA-75C05B6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267B-3953-4057-AA84-13B34313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440-2132-4863-B0DD-ED9EEF8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93D1-9E52-44B6-9085-290106B8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8C29-36F1-4D4F-BE38-39497C31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89BF-235D-444D-BBD1-EC2FD0DB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278-92BF-4F88-A72D-DC251938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0A4-8C2F-4407-B161-619B10EF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FFD-A3B9-4714-9246-B2BFD15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CBF-143A-4CDF-8340-36FBC990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0CB-1016-4E12-BC3F-A94B396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338-D664-4C6C-A73E-72D9315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CBB-DB99-4678-8EA0-8FB3716E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34C-EBB7-4429-BA16-74D388CE9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E0B-7035-4625-A1C6-6401AF5B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400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come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eet 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given, loved and fr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 (1 Cor. 10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s his peopl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e worl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46280"/>
            <a:ext cx="9144000" cy="270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come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meet my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given, loved and fr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92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 (1 Cor. 10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we and wo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rec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716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I come with Christia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and near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find, as all are f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s Christ break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bids us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rou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vision en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 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thus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meet our Lor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prese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ways near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5205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in such friend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tter known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 praise him he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ogether me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gether bou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go o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fferent ways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we and wo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rec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life laid down for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4446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as his peopl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e worl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peak his pra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live and speak his prai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I come with Christia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and near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find, as all are f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s Christ break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bids us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rou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vision en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And thus with jo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meet our Lor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prese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ways near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in such friendship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tter known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aise him he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5. Together me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gether boun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’ll go ou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fferent ways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2-03T04:35:03Z</dcterms:modified>
  <cp:revision>120</cp:revision>
  <dc:subject/>
  <dc:title>PowerPoint Presentation</dc:title>
</cp:coreProperties>
</file>