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A64-9021-4322-9C2F-7AE4F17B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024-8F1C-46B3-B46D-E3F74F12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44B-4B3E-4C30-9900-7F0ED579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6C6-B3D7-4676-9DD2-037B8979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502-C72A-4A9A-8B89-A8ECE2B8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81D-3B30-4FD7-A8C1-0E01D37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3A1-B5C6-4346-84A3-EF83CE74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FC3-1629-413E-BB46-F5C72FEB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E33-5A16-432B-B782-9BF96A3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D15-B3E0-4384-AC9F-76ECCB4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2CA-FF38-4388-B3DA-026D1342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A93-CCF5-41E6-A581-72625C95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527A-C8A9-4758-A4CC-D9C557B1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he Spiri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and Guar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 P. Daw, Jr.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and guard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-sped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vering d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 of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b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ing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ength and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may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exal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se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steadfas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not overlook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faul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n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terious b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vided and diver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s can fath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reeds rehear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varied call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ull i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cla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ur ministries un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iv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 of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gn of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of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ead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anoi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them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old apo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,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er,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iend of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e of pr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t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all past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and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epherd’s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cour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n through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ed an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best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beyo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’s re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54Z</dcterms:modified>
  <cp:revision>150</cp:revision>
  <dc:subject/>
  <dc:title>PowerPoint Presentation</dc:title>
</cp:coreProperties>
</file>