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97EA-09F6-40B9-966B-5D468B7A5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7FEA-792A-43D1-A096-B75C9CF79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1B02-041B-4C97-8340-7572B1D8E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5FCE-6583-4643-A5CF-7E026BC91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10111-C08A-409A-821F-EF4127F88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41B0D-4DF4-4057-961C-43189012E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03553-2234-40EF-9B1B-D4B98EAEB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E70D7-B6BD-4610-8827-701C42C13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30D26-C770-4CF5-A950-35199EB97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70F95-5D40-4D4E-AA8F-B977BDA34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80DF4-99FD-4228-B8CB-9B53274FA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9ABF-0432-480F-A538-B2916D6F4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98CE9-C789-4E90-B606-8B8ACF468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52EC8-1658-4B13-B39A-A913A303C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D181D-A048-41E5-90A3-6FC83214D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8DDEC-5C25-434B-A997-E92498740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A2F91-06CB-4280-ADFA-45AA432D7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5065-5F47-4696-B6A0-27D36123A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8C62-4EB2-40F8-B62C-9C0FED058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76BE-0896-463D-B4EF-6A22B6887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F5F3-1834-4682-8137-E21ECA687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2D0C-0164-4C7B-B376-757A936F0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1602-2AF9-47D5-B9D5-7589FA0AC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1F94-6D59-4BB2-B3EA-757A06EE3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1DCAD-1CDB-461E-A82B-A14518EBBE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DD5B3-BED8-467E-A715-0F76820232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04920"/>
            <a:ext cx="807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ll Things Bright and Beautifu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4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67652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hings br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beautifu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creatur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eat and small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Things Bright and Beautifu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752840" y="1015920"/>
            <a:ext cx="563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Cecil Frances Alexander, 1848 (Gen. 1:3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128736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hings br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beautifu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creatur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eat and small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Things Bright and Beautifu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hings wi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wonderful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Lord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de them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God gave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yes to see the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ips that we might te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w great 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Almight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has mad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hings we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Things Bright and Beautifu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128736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hings br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beautifu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creatur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eat and small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Things Bright and Beautifu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hings wi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wonderful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Lord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de them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304920"/>
            <a:ext cx="807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ll Things Bright and Beautifu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4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1676520"/>
            <a:ext cx="9144000" cy="2446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hings bright and beautifu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creatures great and small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Things Bright and Beautifu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752840" y="1015920"/>
            <a:ext cx="563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Cecil Frances Alexander, 1848 (Gen. 1:3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6094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hings wi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wonderful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Lord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de them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533520"/>
            <a:ext cx="9144000" cy="3445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. Each little flower that opens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ach little bird that sings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od made their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lowing colors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d made their tiny wing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Things Bright and Beautifu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387360"/>
            <a:ext cx="9144000" cy="3585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ll things bright and beautiful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ll creatures great and small, all things wise and wonderful: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Lord God made them all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Things Bright and Beautifu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533520"/>
            <a:ext cx="9144000" cy="3445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2. The purple-headed mountains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river running by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sunset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d the morning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at brightens up the sk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Things Bright and Beautifu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hings wi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wonderful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Lord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de them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387360"/>
            <a:ext cx="9144000" cy="3585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ll things bright and beautiful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ll creatures great and small,           all things wise and wonderful: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Lord God made them all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Things Bright and Beautifu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533520"/>
            <a:ext cx="9144000" cy="3445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3. The cold wind in the winter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pleasant summer sun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ripe fruit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 the garden: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od made them every on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Things Bright and Beautifu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380880"/>
            <a:ext cx="9144000" cy="3585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ll things bright and beautiful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ll creatures great and small,           all things wise and wonderful: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Lord God made them all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Things Bright and Beautifu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228600"/>
            <a:ext cx="9144000" cy="411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4. God gave us eyes to see them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d lips that we might tell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w great i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od Almighty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 has mad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ll things well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Things Bright and Beautifu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533520"/>
            <a:ext cx="9144000" cy="3585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ll things bright and beautiful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ll creatures great and small,           all things wise and wonderful: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Lord God made them all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Things Bright and Beautifu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Each little flow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open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ach little bird that sing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made thei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lowing color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made their tiny wing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Things Bright and Beautifu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28736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hings br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beautifu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creatur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eat and small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Things Bright and Beautifu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hings wi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wonderful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Lord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de them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The purple-head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ountain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river running b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unse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 morn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brightens up the sk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Things Bright and Beautifu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128736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hings br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beautifu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creatur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eat and small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Things Bright and Beautifu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hings wi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wonderful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Lord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de them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The cold wi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 wint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pleasant summer su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ripe frui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 garden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made them every o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Things Bright and Beautifu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7-10-14T00:03:34Z</dcterms:modified>
  <cp:revision>9</cp:revision>
  <dc:subject/>
  <dc:title>PowerPoint Presentation</dc:title>
</cp:coreProperties>
</file>