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AF7-BECE-496E-9086-D34B246B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CA9C-EA2A-4C92-8951-6BBEB1CA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DC4-79AD-4998-8C73-CC701D76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4C1-1E6E-4B17-B497-FE503A18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5813-9EB3-4F91-B37B-EB4759A4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927E-0625-4387-B176-C7E5E7AB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E9B-F5D1-4505-A147-95C9147F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51A-7C51-44A6-BDCD-BBC65B3B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01E-CB6D-4C3F-9443-B109200A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C8B-038A-4BFF-90FF-35F5A94C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C9C-11FC-4A72-9C8F-9CF08A66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E405-8134-4910-BD7F-4F5ED14B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45BE-812A-499E-B547-4DC8D7C47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ve Divin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Loves Exc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Divine, All Loves Excel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Lov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loves exce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earth come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ddenly retu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more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les le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we would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e thee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sts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and prais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cea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fect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Divine, All Loves Exce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Finish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new cre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 and spot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see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fectly resto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ged from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n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ake our pl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cast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s bef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in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,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in us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ble dwell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y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cies crow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thou 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ompa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, unbou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hou 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it u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alv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ter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ing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Divine, All Loves Exce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Breathe, O brea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loving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to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oubled bre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 inher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find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ond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ent to sin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pha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mega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 of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ts begin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Divine, All Loves Exce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ome, Al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del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life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8:23Z</dcterms:modified>
  <cp:revision>132</cp:revision>
  <dc:subject/>
  <dc:title>PowerPoint Presentation</dc:title>
</cp:coreProperties>
</file>