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4C0-1446-44C5-B8A6-DCC526C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412-04CA-4134-B325-8FF228D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6D-A7F9-4ECA-B6A2-23CD887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347-E7FD-4A57-9D78-868E9124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E6E-D5BF-4F2B-9948-83B7A053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72B-6903-4B8E-BC62-0964207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A15D-9591-419A-8FF3-D2A122A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15D-EBC5-4556-A5D1-3DB7F742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44B-5951-4F8E-BC16-950B9953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3727-D1E7-4B5B-B708-0BA52F4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31C-997B-490A-AB27-2A001C7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2F5-3987-4D86-8AB5-4E3D185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A375-3E0A-4A35-A9C8-0BAD74C7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9766-E204-4ACC-A961-0F18DF3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6DAD-FDC3-4FBA-875D-473DF4C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A81D-ACD1-4503-908A-7EC2DB91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D8D-ADAE-42F1-92F8-882D4A36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F2A-771D-4B6E-B088-C9676491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297-7773-4577-8133-53C38B36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946-5E48-4F02-BBC5-F0405889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AD6-F11F-4544-B27E-B2BA2EC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E55-9B61-455D-B627-D85DE48E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2D7-1E35-4CCB-8B03-047B76C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44E-1CFE-43EA-9F25-3C03EEF6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595-F24B-4462-9D56-79094A510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71A5-F2BF-4249-BFF0-537AC6BD8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295280"/>
            <a:ext cx="91440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” the stur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er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thee.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ye 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aroun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o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triump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men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to God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e, divin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, and loyalt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16002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“Are ye able,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id the Mas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be crucified with me?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ea,” the sturd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eamers answer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“to the dea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ollow thee.”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rememb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74628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re ye able to reme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s up his eyes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is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is wor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a place in paradise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shadow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609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triumph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7632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99072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129528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52280"/>
            <a:ext cx="9144000" cy="448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170000"/>
            <a:ext cx="91440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ye able when the shadow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lose around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od,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lieve that spirit triumph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commend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ul to God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050840"/>
            <a:ext cx="914400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s down eternity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 in Galile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0"/>
            <a:ext cx="9144000" cy="644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e are abl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are th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mold them, make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ke thee, divine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y guiding radian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us sha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beacon to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, and loyalty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e Ye 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Are ye abl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the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to be crucified with me?”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arl Marlatt, 1926 (Mk. 10:35-4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24T20:56:16Z</dcterms:modified>
  <cp:revision>60</cp:revision>
  <dc:subject/>
  <dc:title>PowerPoint Presentation</dc:title>
</cp:coreProperties>
</file>