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192-A5B2-44B1-A02F-7D417DCD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869-5408-470F-938E-1F41F8FA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E87-54B6-48E0-A8E5-B1E42820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46D-B3F2-435A-B0A4-ED2D6D9F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75FC-CAC3-446C-BE53-88FF1A56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D727-E558-4A43-9A21-6CD6177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41B-25EB-42B9-B63E-5926B59E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550-F95E-4E0A-AAF4-11F7B50A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866-B33C-4D40-A9DB-FC4EFE91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70B1-446E-45E1-AC9D-6A23FA0C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FA1B-FEC3-4027-B7D8-360DAE5C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E63-9AD9-493C-AC45-8D54CE5D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052-7916-4B48-88F6-CC6AF8B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7D0-D494-4DF3-B6F4-CCF0F7BE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4D8B-36C2-4666-8A0B-0B79729F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E822-A2B7-4385-844C-6EA4E96C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0600-7CEF-459A-B24E-AED765F0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7B5-1123-47BA-9C8F-B58825B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E04-7B8B-49DF-90AF-BEC837B0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10F-493A-411F-B2B2-F373CFC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0F8-7BA7-496A-AF09-3788611E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5ED-8C6C-4D83-880E-1048993C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6F1-CD34-4F09-8FD9-93F6DA8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A32-9074-4950-BBFC-4C7817E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3156-1099-4516-AF14-08B816CED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2FA5-B5A9-4D51-99C3-8099A2DB7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i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092240"/>
            <a:ext cx="81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. 1 Anna B. Warner, 1860; Sts. 2-3 David Rutherford McG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553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isa a ki ke yu h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oh wel a khi no hih 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u nah sti ka Tsu tse l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 hli ni ki tih ye h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by Robert Bushyhead, 1962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khi no hih se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9144000" cy="54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liebt m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nz gew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nn die Bib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gt mir di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salter und Harfe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 Kinder schw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d kle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äd’t Er herzl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zu sich e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e Bibel sagt mir d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8080"/>
            <a:ext cx="9144000" cy="520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u ware o ai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u wa tsuyo kere b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e yowaku-tom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sore wa araj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Japanese phonetic transcription, Mas Kawashima, 198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re o ais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54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ien lo sé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 palab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hace 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imnario Metodista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9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los niño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Aqué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ien 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o Amigo fi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Biblia dice así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60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762120"/>
            <a:ext cx="81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. 1 Anna B. Warner, 1860; Sts. 2-3 David Rutherford McG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he loved so long ago,       taking children on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ying, “Let them 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8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lking with me on my way, wanting as a friend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ove 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he l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 long a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ing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ying, “Let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lking with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nt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2-10T18:36:30Z</dcterms:modified>
  <cp:revision>45</cp:revision>
  <dc:subject/>
  <dc:title>PowerPoint Presentation</dc:title>
</cp:coreProperties>
</file>