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EB3-82C0-4376-BDB6-A46E17CA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F27-A38C-448E-B3E1-38FC621E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E3B-4984-4221-8C2A-235B928D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957-9D76-44ED-8DC1-3CAE4BFD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48D-1822-418E-B79E-510C172C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86D-4A6F-4C3B-B049-B91C781B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7A6-DEAD-4359-9DA2-D11B95B4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7D2-BF03-4580-A150-7922B961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CB0-9CCA-401E-BE01-E36A264C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97C-45E8-4808-88AE-BFE43F2B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CF1-98F1-43BD-8CF8-648FF7A2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09C-55FE-4456-8C73-43949042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5F8-DB81-47A0-B7CC-197616C7B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ime of Il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ime of Ill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orgia Harkness, USA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905120"/>
            <a:ext cx="8610480" cy="4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 God, who dost for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iniquities and hea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diseases,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cry unto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3 Whitmore &amp; Stone, renewed 1970 Georgia Hark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trength has been brought l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we know not w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future hold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our bodies, there is pa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our sou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xiety and un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5760"/>
            <a:ext cx="88390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f it may b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restore us to heal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We ask no mirac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of delivera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and if in the order of natu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our suffering must contin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elp us to accept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without rebell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f it must lead us towa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the valley of the shad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help us to fear no evi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but to go bravely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y nearer pres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good keeping, all is wel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Into thy hand, we comm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our bodies and our spirit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Do with us as thou wil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42Z</dcterms:modified>
  <cp:revision>154</cp:revision>
  <dc:subject/>
  <dc:title>PowerPoint Presentation</dc:title>
</cp:coreProperties>
</file>