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720-B992-4D25-83AF-84E6AF38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6FB-6D5D-4F82-A769-F7D0F69D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A25-9937-4D62-9DA0-5616D1FC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891-AC7F-4473-BC8C-501EA109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AF8-6F2B-45E4-9659-387F97B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A5B-BADB-4D38-97C7-A3384DC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96A-0084-404F-A135-2C661EEA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3F2-F005-4A83-A2D8-FFE12F5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DDE-42D4-4B13-B3D8-08334674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358-DBF6-4439-9D3B-C49B9E44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58E-7792-4BA1-ADAA-DD593621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55B-7268-41C6-A394-A99DCFA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15AB-118B-47BA-BEF6-95E5DFD5D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isto Vive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hrist is Ris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Nicolás Martinez, 1960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Fred Kaan, 1972 (1 Cor.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0:38Z</dcterms:modified>
  <cp:revision>71</cp:revision>
  <dc:subject/>
  <dc:title>PowerPoint Presentation</dc:title>
</cp:coreProperties>
</file>