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5C63-B765-4797-8747-37151F62A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9327-B1A1-4A1D-8461-FE7401A71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CA18-8416-43E3-B391-5D05441F9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D5AD-BDC4-40E3-8A2C-CBA5338DC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5EF1-86F0-4B8A-A17E-243C17256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071C-4F6B-4086-9FB5-BB2C420C5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3C20-D2DA-44F0-901F-DBA23778C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50CD-F2E9-47CA-AB07-466002EB5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5E93-538C-41D6-8D73-14C60B547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43DA-3B00-434C-B92E-325ED241B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1EEC-76D7-42DB-AD60-54A711BE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02FA-288B-4C31-8111-E93A743F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05943-3B9A-4ED7-8369-DEA96B2F62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at Boy-Child of 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4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752480"/>
            <a:ext cx="9144000" cy="471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boy-child of Ma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s born in a stab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manger his crad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Bethlehe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69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t Boy-Child of Ma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65360" y="1092240"/>
            <a:ext cx="408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Tom Colvin, 1969 (Lk. 2: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One with the Fa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is our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-sent help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Bethlehe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t Boy-Child of Ma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boy-child of Ma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s born in a stab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manger his crad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Bethlehe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t Boy-Child of Ma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6. Gladly we praise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and adore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e ourselves to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Bethlehe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t Boy-Child of Ma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boy-child of Ma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s born in a stab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manger his crad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Bethlehe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t Boy-Child of Ma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What shall we call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ild of the manger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name is gi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Bethlehem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t Boy-Child of Ma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boy-child of Ma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s born in a stab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manger his crad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Bethlehe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t Boy-Child of Ma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His name is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ever with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given for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Bethlehe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t Boy-Child of Ma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boy-child of Ma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s born in a stab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manger his crad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Bethlehe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t Boy-Child of Ma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How can he save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can he help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rn here among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Bethlehem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t Boy-Child of Ma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boy-child of Ma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s born in a stab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manger his crad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Bethlehe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t Boy-Child of Ma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Gift of the Fa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human mo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es him our bro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Bethlehe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t Boy-Child of Ma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boy-child of Ma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s born in a stab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manger his crad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Bethlehe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t Boy-Child of Ma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58:15Z</dcterms:modified>
  <cp:revision>16</cp:revision>
  <dc:subject/>
  <dc:title>PowerPoint Presentation</dc:title>
</cp:coreProperties>
</file>