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2AB-BF3B-468C-BB93-98D006C3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6AA-CE6B-41F9-871C-28B83F1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2A9-DBE9-45F8-A762-8BEABB91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745-43CC-436B-9242-458550C1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B83-3133-4347-9131-12AF5DA0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186-4049-4934-B1E4-F9DAC52A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BCB-8318-4683-9A6E-01D0DDA7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1A4-E247-4951-B2B0-F4FDDED2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359-0B21-4BD7-BCFC-5E53F88C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60D-710F-4C58-8280-1D9B5D12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5AD-4AFD-42D3-9EEC-A474783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0BB-4354-4FAC-99ED-5B1C617F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DC24-9B71-44A8-84A3-B46CA62C0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Refuge amid Dis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n ant on a sti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both ends of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re burn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go to and fro with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knowing what to d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in great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fuge amid Di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1600" y="1066680"/>
            <a:ext cx="15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Trad. I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inescapable shad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follow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e dead weight of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haunts 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ly look upon 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love is my refug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47Z</dcterms:modified>
  <cp:revision>7</cp:revision>
  <dc:subject/>
  <dc:title>PowerPoint Presentation</dc:title>
</cp:coreProperties>
</file>