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16E4-4E03-4A19-B56F-803023CD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F339-6E19-4428-B49A-651DF73C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0819-B4A9-4C0C-A7EE-77B8825E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C4EC-8E8E-4E04-BE16-CD4BB5B5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5C53-109D-403D-8289-5721BB19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274B-789D-4C90-AA14-A1ECE47B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86FD-8BAF-43C7-9AF9-7D9CA631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54DA-92FE-4253-95C7-DCBC3F0F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8C94-E6D2-4FA6-B6AA-CCDC3FB7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4D14-3B8E-4D0C-AC48-C9F37A8B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A6A4-76EB-4E5F-AC2D-F9AA9AE0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7534-C472-477D-80E9-57F6514F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05DA-C948-44B1-90F9-FD7B1EDCF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God’s Gif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God’s Gif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Howard Thurman, USA, 20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187308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 Hol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pen unto m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light for my darkne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courage for my fea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hope for my despai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477800"/>
            <a:ext cx="88390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loving God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open unto me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   wisdom for my confusion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   forgiveness for my sins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   love for my h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477800"/>
            <a:ext cx="88390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God of peace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open unto me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   peace for my turmoil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   joy for my sorrow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   strength for my weak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668600"/>
            <a:ext cx="883908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generous God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open my heart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   to receive all your gif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20:59Z</dcterms:modified>
  <cp:revision>157</cp:revision>
  <dc:subject/>
  <dc:title>PowerPoint Presentation</dc:title>
</cp:coreProperties>
</file>