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F3F-D15F-420F-9EB7-C77EA02A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BC5-E00B-4E66-8A24-18C2AEE8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FA7-B639-4DCF-9B46-F47A1189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953-7102-4887-8ADE-6EE94CF0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DA2-5AE0-4E34-81A8-576564EB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F80-0FC2-4C16-B457-425ECADD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D19-6B5C-4FF9-9DD4-4D96FA7F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DAA-8CC2-418B-B545-74AE0C8B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754-B284-436E-9D6F-8A42C638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0D9-AB96-4A08-9731-CA7FA3A5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BB6-D631-40B9-80C3-F468B12C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D51-0337-4A6C-B0C2-383833B1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C8F4-C772-46B9-933D-47871B6B5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ay Thou Gave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s E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 thou ga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s en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rkness f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be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6002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Ellerton, 1879 (Ps. 113:2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our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s ascen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aise shall ha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our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thank the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hurch, unsleepi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arth rolls on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watch is k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sts not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ay or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s o’er 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inent and is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wn lead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other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of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ever sil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die the str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aise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 be it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hrone shall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earth’s pr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ires, pas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gdom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ow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y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thy s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0:47Z</dcterms:modified>
  <cp:revision>28</cp:revision>
  <dc:subject/>
  <dc:title>PowerPoint Presentation</dc:title>
</cp:coreProperties>
</file>