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A270-6886-4A41-8F98-1C5E5F22A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D091-F721-4C08-BA69-6CC33910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9D6B-4C6B-4070-A0EF-DE58D5CAC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7DFC-9313-449A-8FCB-11A7EF274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9B08-3F31-46C2-B29A-BD9DF6DF5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078B-EA35-4612-AEAD-DDBE93F1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B2B0-2B4D-451A-8C83-2603D8DE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1A53-7423-40E1-86F1-8656C96D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77E4-78F1-493B-88D0-FF6BDF84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5B07-D16D-4D35-A047-D8671999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8997-1277-4A90-B8F3-C1B320CC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E8F2-E8CE-4DAB-B2D6-D5D641B2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2081-68F6-4890-9D87-52AF4A7C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473B-A647-420D-AA95-09D3E353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C31C-CBC0-4BB4-BD2A-E239C099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C264-ED2A-4C2D-89AA-9F72E44D1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DCC5-99A6-4479-879D-7D9A7DF8F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4108-17BE-444B-91C5-B9DDFC32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6E1F-5490-47B2-9F35-D711E9A1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26B2-A680-4804-85E3-82FB9E18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0D18-FDA7-4382-BDD7-BE0C5BE9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78BF-B28F-4903-80BF-9EEB04E3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77A6-6124-456E-A73B-A5363EEC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37BB-F087-4A6B-8299-8C2737B8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BB14-125A-4A1B-AE15-26C6A9AFE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3C60-A3F0-48FA-A7B8-F3F725AAD0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ock of Ages, Cleft for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81296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. Rock of Age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left for m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et me hid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yself in thee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 of Ages, Cleft for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28840" y="1066680"/>
            <a:ext cx="448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ugustus M. Toplady, 177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9907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4. While I draw thi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leeting breath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en mine eye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hall close in death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 of Ages, Cleft fo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8380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en I soa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o worlds unknown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ee thee on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y judgment throne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9907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Rock of Age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cleft for m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let me hid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myself in the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ock of Ages, Cleft for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Rock of Ag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ft for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e h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self in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 of Ages, Cleft for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8840" y="1066680"/>
            <a:ext cx="448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ugustus M. Toplady, 177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 wa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bl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y woun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de which flow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of s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uble cu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e from wr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ke me p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Not the labo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y h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fulf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law’s demand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 of Ages, Cleft fo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ld my ze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respite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ld my t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ver f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for s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ld not ato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must s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ou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othing in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nd I b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mply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ross I cl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 of Ages, Cleft fo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0666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let the water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the blood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rom thy wounde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ide which flowed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ked, 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for dres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less, loo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for g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ul, I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ountain fl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h me,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I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hile I draw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eeting br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mine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close in deat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 of Ages, Cleft fo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 so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orlds unkn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thee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judgment thr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ck of Ag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ft for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e h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self in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ock of Ages, Cleft for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447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Rock of Ag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ft for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e h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self in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 of Ages, Cleft for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28840" y="1066680"/>
            <a:ext cx="448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ugustus M. Toplady, 177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1066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 wa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bl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y woun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de which flow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1219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of s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uble cu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e from wr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ke me p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Not the labo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y h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fulf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law’s demand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 of Ages, Cleft fo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ld my ze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respite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ld my t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ver f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9907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e of sin th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double cure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ave from wrath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make me pur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for s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ld not ato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must s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ou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othing in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nd I b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mply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ross I cl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 of Ages, Cleft fo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ked, 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for dres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less, loo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for g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ul, I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ountain fl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h me,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I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hile I draw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eeting br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mine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close in deat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 of Ages, Cleft fo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 so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orlds unkn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thee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judgment thr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ck of Ag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ft for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e h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self in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9907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2. Not the labor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f my hand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can fulfill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y law’s demands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 of Ages, Cleft fo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88596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could my zeal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o respite know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could my tear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orever flow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8380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ll for sin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could not atone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ou must sav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thou alon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9907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3. Nothing in m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and I bring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imply to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 cross I cling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 of Ages, Cleft fo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9144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aked, com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o thee for dress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lpless, look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o thee for grac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9907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oul, I to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 fountain fly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ash me, Savior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r I di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11-19T00:22:04Z</dcterms:modified>
  <cp:revision>11</cp:revision>
  <dc:subject/>
  <dc:title>PowerPoint Presentation</dc:title>
</cp:coreProperties>
</file>