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C80-8384-4FFF-B3B9-02A7FA89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779-34ED-46CD-86F3-EC77B5DB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A17-BCBD-4650-AB18-A2AC7A46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107-777D-4F29-8D35-08240A06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335-B8D2-4928-95CC-FE22D156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B4F-A858-4C01-B4FD-17EAA92F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B4E-F1CF-4A62-8E41-259E79F5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F17-F07F-4C82-9EAD-92CB4D90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C484-ADE0-48BB-99D9-8584409D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1C6-D30D-417D-BF27-A5CA2834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2FB-7F52-4C88-8298-4BD6B223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392-6EB0-4D1D-9C11-34A92E89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AB7A-FA5A-4A23-B77E-E3102E76A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dv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00200"/>
            <a:ext cx="883908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Merciful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you sent your messeng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prophe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o preach repentance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prepare the way f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ur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14440" y="1004760"/>
            <a:ext cx="63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;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alt. by Laurence Hull Stoo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09692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ive us grace to he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ir warn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forsake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at we may celebra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right the commemor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the nativit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may await with jo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the coming in glory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Jesus Christ our Redeeme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who lives and reigns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One God, forever and ever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0:59Z</dcterms:modified>
  <cp:revision>52</cp:revision>
  <dc:subject/>
  <dc:title>PowerPoint Presentation</dc:title>
</cp:coreProperties>
</file>