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000-EBC9-4202-BFF8-1DE18D3C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F58F-1643-429B-88BB-ADED0F0C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715-DDFE-40EC-AA09-DBC88131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3BD-D32A-44A7-90B1-166B9A0E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364-CF90-4B60-9643-5A06C789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BEC-1E2B-47C1-9531-0938F7BC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0D4-845A-4091-BD9E-E9B12708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652B-51B0-4B3E-BCC2-0FF8B2AD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49B-5A94-42FD-80D8-523BF811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DF3-7FFF-47D7-B03C-2C6418AF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F7E-4651-44AA-8C9B-2BA0C37C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C7E1-FD90-43CA-9369-2AF89068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7CFC-E415-4013-A101-6D129CC5C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God, I Lov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y God, I lov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because I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aven there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yet because, if I love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ust forever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5000" y="1066680"/>
            <a:ext cx="653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Latin 17th cent.; trans. by Edward Caswall, 184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, O my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ids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cross embr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e didst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ils and sp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nifold dis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n why, O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I not love thee well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for the s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inning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of escaping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ot with the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aining a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seeking a rew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as thy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t lov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everlasting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So would I lov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est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thy praise will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thou 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ving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eternal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3:20Z</dcterms:modified>
  <cp:revision>10</cp:revision>
  <dc:subject/>
  <dc:title>PowerPoint Presentation</dc:title>
</cp:coreProperties>
</file>