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F480C-9293-489F-906C-22052ECD09EB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EA77-AE20-484B-98C7-DED42700F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1639-D688-405E-A89E-2C1210FA0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8EB7-01C9-4239-9F5C-160EDD6DA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A752-3796-4E56-AC2E-F5D919322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E4DBC-58EC-4771-8D95-8018F1F81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C79C2-0421-4B09-B3B8-44B36E94F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728FF-748B-4D66-82D7-1AE4C3F48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FB740-0A1C-4748-AD49-8BCC29621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97AD2-05C4-4068-BBAA-FC42D902B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A985D-19F8-456D-80CB-F95F651C6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2717F-1954-490B-BDE1-1A8A86205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ACE6-D2A0-486B-93C7-46E8BD155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CEC27-852C-4308-9A70-9E224D2AA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96818-BC10-4B59-B17D-463AF3783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C9D48-6B39-437A-BAD6-D34E98E92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E291D-EFDF-45BE-B208-00CA0A89A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F79BC-2128-4BAB-BB75-8912F9EDA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3E04-0E13-4E8D-BB78-C7BC41199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6F58-BE8F-48A2-8E37-3E9A23C7C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5F06-1530-4343-A3B2-EBAD3DEF0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4B19-3D61-4D53-B8FF-ACBAD16D3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0E9E-28B5-4D08-9643-A46A62391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6167-ECC0-49A5-83A8-042FD09DC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45BE-7F3B-41D0-91ED-240C99B6B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B3068-C0DF-4026-81EC-797FE3AEB2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FC22A-3FFD-4DE2-8951-840CCEF388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80880" y="152280"/>
            <a:ext cx="746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Battle Hymn of the Republ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924680" y="304920"/>
            <a:ext cx="121932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523880"/>
            <a:ext cx="914400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. Mine eyes have seen the glory                   of the coming of the Lord;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e is trampling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ut the vintage where t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rapes of wrath are stored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attle Hymn of the Republic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11200" y="838080"/>
            <a:ext cx="524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Sts. 1-4, Julia Ward Howe, 1861; st. 5, an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4724280"/>
            <a:ext cx="9144000" cy="213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15228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4. In the beaut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f the lilies Christ wa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orn across the sea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ith a glor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 his bosom tha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ansfigures you and me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47920" y="-1371600"/>
            <a:ext cx="6324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attle Hymn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5335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he died to mak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en holy, let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ie to make men fr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le God is marching on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228600"/>
            <a:ext cx="9144000" cy="38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y, glory, hallelujah!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Glory, glory, hallelujah!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Glory, glory, hallelujah!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truth is marching 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 rot="10800000">
            <a:off x="2285280" y="-1142640"/>
            <a:ext cx="4724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80880" y="380880"/>
            <a:ext cx="746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Battle Hymn of the Republ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924680" y="304920"/>
            <a:ext cx="121932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1752480"/>
            <a:ext cx="914400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. Mine eyes have see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glory of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oming of the Lord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 is trampli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ut the vintage where th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rapes of wrath are stored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attle Hymn of the Republic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411200" y="1219320"/>
            <a:ext cx="524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Sts. 1-4, Julia Ward Howe, 1861; st. 5, an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hath loosed the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teful lightning of his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rrible swift sword;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truth is marching 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1477800"/>
            <a:ext cx="9144000" cy="381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y, glory, hallelujah!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Glory, glory, hallelujah!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Glory, glory, hallelujah!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truth is marching 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attle Hym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12952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I have seen him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tch-fires of 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hundred circling camp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have builded him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 altar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ning dews and damp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2514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attle Hymn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can read his righte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ntence by th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im and flaring lamp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day is marching 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1523880"/>
            <a:ext cx="9144000" cy="381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y, glory, hallelujah!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Glory, glory, hallelujah!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Glory, glory, hallelujah!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truth is marching 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11430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He has sounded fo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trumpet that sh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ver call retrea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is sifting out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hearts of men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fore his judgment sea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attle Hymn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609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hath loosed the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teful lightning of his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rrible swift sword;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truth is marching 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be swift, my sou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answer him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jubilant, my feet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God is marching 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1295280"/>
            <a:ext cx="9144000" cy="38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y, glory, hallelujah!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Glory, glory, hallelujah!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Glory, glory, hallelujah!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truth is marching 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-18288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114300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In the beaut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lilies Christ w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orn across the se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a gl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his bosom that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ansfigures you and 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7920" y="-1371600"/>
            <a:ext cx="6324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attle Hymn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15238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he died to mak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en holy, let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ie to make men fr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le God is marching on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1143000"/>
            <a:ext cx="9144000" cy="38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y, glory, hallelujah!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Glory, glory, hallelujah!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Glory, glory, hallelujah!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truth is marching 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 rot="10800000">
            <a:off x="2285280" y="-1142640"/>
            <a:ext cx="4724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83808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He is com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the glory of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rning on the wa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is wisdom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mighty, he is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nor to the bra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828440" y="-1066680"/>
            <a:ext cx="57913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attle Hymn 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129528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the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be his footstoo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so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wrong his sla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God is marching 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1447920"/>
            <a:ext cx="9144000" cy="38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y, glory, hallelujah!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Glory, glory, hallelujah!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Glory, glory, hallelujah!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truth is marching 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 rot="10800000">
            <a:off x="762120" y="-15235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304920"/>
            <a:ext cx="9144000" cy="381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y, glory, hallelujah!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Glory, glory, hallelujah!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Glory, glory, hallelujah!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truth is marching 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attle Hym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15228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. I have seen him in th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tch-fires of a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hundred circling camp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y have builded hi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 altar in th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ning dews and damps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2514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attle Hymn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can read his righte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ntence by th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im and flaring lamp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day is marching 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380880"/>
            <a:ext cx="9144000" cy="381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y, glory, hallelujah!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Glory, glory, hallelujah!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Glory, glory, hallelujah!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truth is marching 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15228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. He has sounded forth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trumpet that shal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ver call retreat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e is sifting out th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hearts of 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efore his judgment seat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attle Hymn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609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be swift, my sou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answer him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jubilant, my feet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God is marching 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304920"/>
            <a:ext cx="9144000" cy="38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y, glory, hallelujah!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Glory, glory, hallelujah!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Glory, glory, hallelujah!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truth is marching 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18288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9-05-22T23:42:08Z</dcterms:modified>
  <cp:revision>57</cp:revision>
  <dc:subject/>
  <dc:title>PowerPoint Presentation</dc:title>
</cp:coreProperties>
</file>