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5A2-1101-4764-8BE2-FDB4F7B5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371-C35B-4EEB-B4A9-0D21F16C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6F4-ED17-438F-A43E-F51AD218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C08-18AF-46A0-A180-A86DF9FD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8B1B-1AD1-4207-860B-0764AEB3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98C7-5792-4B3D-83FA-2CE8382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645E-41FB-403E-820F-D2E0659C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B1C-0122-4502-BF30-7A4CE244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90A2-6D60-4E64-A61D-97A9A43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048D-6BB1-4F4B-86B6-88C77FF0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1F7D-4360-4DBB-9BA9-0404703F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1A9-5A21-47B1-9A07-0FB8D12E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6A5E-4296-454F-98C9-D1BD315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DABE-CDD7-408C-9B97-AB86DF1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583D-7886-4CC6-9DAA-F96C6FA4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9067-53EB-4F0B-BB3D-2EF1C478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F3D3-E2E7-47CD-B090-DBA1B126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11E-BF06-4088-A1D9-146B4408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2BB-1C98-409D-9BC6-05C502FB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307-1ABD-4A80-961F-6A44CAC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D7F-5405-47D2-B3E6-940EEC6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18E-0342-475D-BAAF-85ECA59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C5A-CB1F-46E1-8D7C-D929913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B76-5B10-412E-BAE8-73BD457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271A-36F1-44FF-8EE4-5B7CCE67C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98B8-0F6C-40B7-B4D5-972AD9AA9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Voice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aynes Holmes, 1913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voice of God is c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s summons in our d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aiah heard in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e now hear God s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succ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 in their ne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loo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and gre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 hear my peopl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lu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ne and m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field or mart is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ity street i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my people f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despai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tter the fet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hey bear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ee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umm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: Here are w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us upon your err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your servant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strength 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ust and ashe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ur years a passing hour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t you ca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se our weaknes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magnify your pow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rom ease and plen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ride of place absol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ge us of low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s to high resol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, and make us ho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your will and w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and beho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ns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and we obe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succ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people in their need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 to loos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 and gre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“I hear my peopl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lum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ine and mi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field or mart is sil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city street i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my people f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and despai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t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et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hey bear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eed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our summ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nswer: Here are w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nd us upon your err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us your servant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rength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ust and ash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years a passing hou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ou c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our wea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gnify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From ease and plen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ride of place absol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ge us of low des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us to high resol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us,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ho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your will and way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and behol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ns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and, and we obe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Voice of God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9144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aynes Holmes, 1913 (Is. 6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606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 voice of God is call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ts summons in our d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saiah heard in Z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we now hear God say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9-20T23:14:50Z</dcterms:modified>
  <cp:revision>146</cp:revision>
  <dc:subject/>
  <dc:title>PowerPoint Presentation</dc:title>
</cp:coreProperties>
</file>