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B7D-4039-47C4-B978-1FD461BC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47F-19C9-482D-BB82-55B10CD2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232-BE43-4542-856B-02A97E87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B79-32B6-413B-B0BF-FBF9526E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B6D-50D3-4686-9DC9-C859B804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219-AC59-4DCD-A887-DF0FE186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D5D-D53F-4177-B1DD-69200973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751-AEB1-4A45-A4A2-4914485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0E7-084C-48FA-A029-F06D94E5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950-EF79-4B88-ABDA-4879DC0C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EAF-1172-4480-8732-3CEAAF1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ADB-7CD0-43F3-9B8D-F3C40FA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1D03-2A89-4EE9-AAE1-74AEE9C76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Lov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urning hou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Gerald H. Kennedy, ca. 193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hou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ing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t’s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ing fre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ask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of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ing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s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are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rs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ished b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trump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ing cl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ong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ur final loyal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aves a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votion an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0:54Z</dcterms:modified>
  <cp:revision>83</cp:revision>
  <dc:subject/>
  <dc:title>PowerPoint Presentation</dc:title>
</cp:coreProperties>
</file>