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0D0-C929-415B-AB45-9D2F1906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C99-25E7-42E8-B7EE-C253E40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C3B-3240-4B53-B1FF-B063E835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F01-07C4-4BBA-BA21-528255E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66BE-8E9A-4CCF-950A-D2FE7AB9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ED4A-FABA-4710-B3EE-E1E00C13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3BA-2758-46E7-808A-2969F1D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C29-34B0-497B-827A-ACE89B94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EB69-4757-4045-8B4F-BE8AC93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5D3-A138-4F25-84B5-2CB71FE2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C252-ADE2-4FC0-9E19-834E867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C56-4D16-4B96-B715-6138712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20BC-A2C6-4C72-B298-81E21F7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543F-2881-4233-81AE-D834ABE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BC5F-C76D-4662-90CB-3AC28AA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FE41-162D-46AE-B4BB-875D7CA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B3C-47FC-4CA5-ADED-762430BD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B21-0EC3-4D15-A1E7-59AE301A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0AD-D040-4FE5-B84D-D84F22F5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BA6-7055-4F1F-A825-EE57F000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E32-8117-48E2-B56C-064B698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176-2692-401A-96AF-AE66FB1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4E4-BBFE-4918-8212-08A5334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DDE-9F19-42DB-B901-2076D51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E63C-46EB-47D9-9883-3FC8412F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7250-93C6-4F49-9C0D-D7D6A3CE4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812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99072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076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06480"/>
            <a:ext cx="9144000" cy="46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need thee every hou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ost gracious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 tender voice like th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peace aff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838080"/>
            <a:ext cx="500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nie S. Hawks, 1872 (Jn. 15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144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52280"/>
            <a:ext cx="9144000" cy="431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25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2056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I need thee every hour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ay thou nearb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emptations lo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ir p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thou art nig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2280"/>
            <a:ext cx="91440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I need thee every hou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joy or pai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me quickly and abid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life is vain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I need thee every hour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ach me thy will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thy rich promis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 me fulfi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44440"/>
            <a:ext cx="9144000" cy="54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need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very hour I need the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bless me now, my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 come to the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I need thee every hou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st Holy On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make me thine indee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ou blessed S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31T14:13:55Z</dcterms:modified>
  <cp:revision>23</cp:revision>
  <dc:subject/>
  <dc:title>PowerPoint Presentation</dc:title>
</cp:coreProperties>
</file>