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3958-1033-440B-84B7-389099BF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D20-FF04-4FB4-ABDA-40CD22C4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475-0FF7-43FB-8AB8-2E654A2C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9A1-9D87-4246-BDD1-25C0611C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8AB-AE29-42AC-8D06-920205DB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966-6DBF-4CD7-91D4-DF51C1A1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3F4-839B-434A-A479-5622C553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F0C-181D-4776-8284-C124EAAF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497-17BF-4125-8D1E-7712BA14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0D6-0284-480F-B8BA-FC64EEF7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DBE-68A1-4DD0-A4EF-4DC74A53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B4D-E4A5-469B-99A7-10D5E6DF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0D1F-0B63-4F92-AA18-F53FA76F4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uando El Pobre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When the Poor 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. A. Olivar and Miguel Manzano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George Lockwood (Mt. 25:31-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uando el po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da tiene y aun repa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el hom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sa sed y agua nos d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1 Ediciones Paulinas; trans. © 1980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uando abun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bie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llena los hoga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un homb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nde hay gue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ne paz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0968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“hermano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 llamamos al extra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the poor 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have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re with strang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thirs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er give unto us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cripp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wea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en othe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hen at last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their comfo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y hope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n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ms hopeles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love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e at t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ms all around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en our joy f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c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overfl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our lips can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words other than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146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el 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b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u hermano fortale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know tha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mple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tt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n our home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ed with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abund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learn how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peace instead of w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each str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called a neighb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219320"/>
            <a:ext cx="9144000" cy="40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uando sufre 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mbre y log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 consuel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espera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se cansa de esper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amam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unque el odio nos rod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uando cre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alegría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s inun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uando dicen nuestr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bios la verd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1337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ando amamos 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ir de los sencillo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13:02Z</dcterms:modified>
  <cp:revision>145</cp:revision>
  <dc:subject/>
  <dc:title>PowerPoint Presentation</dc:title>
</cp:coreProperties>
</file>