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174-46AA-4DAE-B067-B11147A9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EC6-6833-494E-9605-19597F0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78F-E5EA-47DB-9FEF-A3200B27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C43-1100-4F0E-8B19-8A76D27E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82B-AFE5-4078-B5B0-73B1C94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50C-508C-40A8-B7B6-73DDEA31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1F2-BDC6-4B1F-A1E1-0B3D7B75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E3F-A19D-4604-B525-DCF6F157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6F0-38A6-48BD-8363-CD1B74E9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293-06AF-479A-BEAE-F7AB10CE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DA7-DD2D-42EA-994B-DD91BBA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6B7-5B02-4444-BCDA-31B76926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D1C2-B621-4CFB-A0CD-43B9939F2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Lord, for All in P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my W. Carmichael, 193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ar Lord, for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pain we pray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come and sm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gain thine enem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33 Dohnavur Fellow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Give to thy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kill to soothe and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the ti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ll give quiet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nd, Lord, to thos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ow pain may not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near, that e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they may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19Z</dcterms:modified>
  <cp:revision>155</cp:revision>
  <dc:subject/>
  <dc:title>PowerPoint Presentation</dc:title>
</cp:coreProperties>
</file>