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115-E342-4A79-B128-DFAEEAAB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F23-71E5-4945-8685-076A818E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761-B2F9-4242-B880-8D2745E4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9AB-6211-4D9F-B091-C7D11F39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B30-F0D7-4179-98C7-B71FD41A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5D5-4E0D-486A-86B2-23636BA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DCC-6607-4727-8D40-FF1815BC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096-7365-464F-8155-3F99C13B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7E1-5F0B-40E4-A041-9005199B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F83-057F-41D9-9FDD-F264048C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675-0235-4531-A619-0279874B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DBC-C009-4D66-A8E5-81378CA6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D127-D46C-4482-A047-81E90DA01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ve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, mov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 to do thy wi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, mov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 to do thy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Richard Alan Hend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64400" y="1066680"/>
            <a:ext cx="461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Richard Alan Henderson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4:03Z</dcterms:modified>
  <cp:revision>12</cp:revision>
  <dc:subject/>
  <dc:title>PowerPoint Presentation</dc:title>
</cp:coreProperties>
</file>