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785-D533-4FFD-8700-ABFDFFA7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B26-ACA9-4BED-8833-A0959BCB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497-184D-449D-BCCF-E8166810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ACD-FC05-4EC8-BD12-FEBF14DE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C68-AEF6-47DA-B42A-3FD6DFEE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02C-655F-4428-AAC9-E0766D7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D7E-0EA3-4688-BA93-A39606F4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05F-6C55-4D0B-877E-216E46C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E0D-0F4B-4B8F-AE19-08056E9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533-5E77-4904-BFAB-CFC85F4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9D7-0126-4907-9706-ED25E40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87B-2349-4A23-B627-FEECED22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B577-2484-4DB4-BB1B-3AC7F06E4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, Mighty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, mighty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all cre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make the dayt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diant with the sun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6960" y="990720"/>
            <a:ext cx="526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ozarabic hymn, 10th cent.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rans. by Alan G. McDougall; rev. Anne LeCroy, 198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ght or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shiping our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and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night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ittering adorn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ars in the heave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Now comes the day’s 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sun is sett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rror of day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edge of resurrec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in 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oirs of stars appea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 the night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refore we co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ning rites to o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yfully chan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hymns to prais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cre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ing hearts and voic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ing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ive heed, we pray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our supplic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may grant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don for offen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ength for our weak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st for aching bod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thing the we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ough bodies slumb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ts shall keep their vig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ever res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peace of Jes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35:37Z</dcterms:modified>
  <cp:revision>21</cp:revision>
  <dc:subject/>
  <dc:title>PowerPoint Presentation</dc:title>
</cp:coreProperties>
</file>