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A07-0D8F-4018-8A45-8987DBB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7CA-A04A-4E88-88FB-C5CFE2B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E12-0F59-46F0-AC1F-04DF8797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F46-2796-4008-9710-EA783211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092E-9F36-4DF9-A5DE-0A55C6CB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E5A3-C4AB-4D87-B9B3-CA322DDA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6204-6AE9-4BD0-82AB-F7D6E4A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A53-3018-4EA4-9612-6E87B585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3C8-7493-4517-B2BE-AB8B9D76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023E-5383-49AB-BE9F-0D3C0B5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0E6-414B-4257-8D96-1CFF335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428-BB4D-4E25-B834-F9D87646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7904-2049-4D93-890B-32E87F8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558-2C35-4D88-8DB8-8D6CCF6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43D4-C941-4D4D-8A50-FB79AFE9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D0DB-8391-4D2A-8B75-EDB7B44D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06C3-4685-49CF-BD3E-B782B1FC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7CD-6FD4-4FF0-A975-2BBE9739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682-76D0-4E1A-BF53-5BFFD60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F1F-BE73-4B5B-A008-7349745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AB4-B17F-40A6-8C03-3AEFA4A6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900-DCAF-4151-8DCB-886F9A36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8F2-E404-4031-9691-9ADEAF7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7CE-81C5-49DF-B838-88104C2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216-D11C-46E5-BC98-2CC8714B5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835-8C68-4BBF-AE0A-B1E4981F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pirit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 upon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n it from earth; throu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its pulses mov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3240" y="13716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Croly, 1867 (Gal. 5: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207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940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48:43Z</dcterms:modified>
  <cp:revision>12</cp:revision>
  <dc:subject/>
  <dc:title>PowerPoint Presentation</dc:title>
</cp:coreProperties>
</file>