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657-00DE-4CC8-B1F9-6497D05A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21D-2367-4625-B435-7B4FA40C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A90-A457-4C32-BD53-2CC9AB1B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E36-E928-454D-A88B-D6DB4E04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EFA-ADD3-4C24-A2C8-1E414B6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C2C-1919-431A-A8E9-5591ABB5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FB0-C5B2-4CA2-A523-6E6E9C6B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ABD-F03A-4732-8C58-E9294F09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650-FD2A-49B3-8E97-78EF362D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B94-8FAF-48A4-98A9-91F81842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E24-20EF-4DA5-99FB-749221E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9DE-ABE0-4145-A539-2E8C094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3A7B-5515-47C2-B2C9-CEEEB27C1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ly City, Seen of Joh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holy c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n of Joh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, doth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5040" y="1066680"/>
            <a:ext cx="53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alter Russell Bowie, 1909 (Rev. 21:1–22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how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lendor challen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ls that greatly d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 bids us seiz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uild its glory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whose foursqu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ls sha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ight, nor need, nor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re the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iped from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not weep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rk, how from m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lives are he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chea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merchand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omen strugg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for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little children’s cr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swells the sob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 plai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ids thy wall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hame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st cont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us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ed for ga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treet and sho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ne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ing gold from human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tter li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lind despair c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 hath died in vain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ve us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ngth to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ity that hath sto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o long a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laws are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crown is servanth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re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ine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 for human goo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lready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ity riseth fai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6:29Z</dcterms:modified>
  <cp:revision>56</cp:revision>
  <dc:subject/>
  <dc:title>PowerPoint Presentation</dc:title>
</cp:coreProperties>
</file>