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3ABB1-9269-4D45-AF43-28FB36F7D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1D7A6-0B0E-4686-A7E8-8C6EC9AD3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B61AE-84CA-48EB-A700-5AC2D6A9D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0A8F3-A73A-4C08-BDE9-869E03A3E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10F59-76C0-4933-A2B5-EEC92034D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C16E4-D61F-4B92-A60D-B4F2978A7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28BF5-B9D6-4A4B-A741-E71BAE07B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65D89-B714-4B60-A5FA-05FA792AD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C755E-B23C-4A24-930E-8C652DB7E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60EBC-1DF6-43A4-AB75-B55502B96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82564-4AE8-46A4-8C74-4DAACA12B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A16AD-4498-48E3-BDF1-2CAB37AF6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2C158-BCB0-4CED-80F2-AA761E25C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7B0EC-4207-47E4-A495-4E0E4FA38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B4CCB-E16A-425B-886D-D8480BBD0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3696B-4728-4160-ACFC-FE649F41C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13EB6-CF55-4E2E-B3C3-C9436A443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37095-A288-451F-8357-18978B8E5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3E57D-7EF8-45C4-A4A1-FD8F279A5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20AF2-124B-43AE-B9CF-43956658F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14F9C-6D45-4F77-85DD-CA6604E57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2044C-91C9-41CB-856D-FEFD107B7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6360F-1D9D-463F-B013-C69E3FB01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4C0F7-8D5C-4F8E-A450-82617EF6B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46FFF-D537-47E8-9396-ABAB8C4035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8DB09-E9EA-4D28-A153-CBB97DCE3B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15228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Come, Thou Fount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of Every Bless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4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1752480"/>
            <a:ext cx="9144000" cy="3629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1. Come, thou Fount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of every blessing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tune my heart to sing thy grace;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 Thou Fount of Every Blessing 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799280" y="1371600"/>
            <a:ext cx="5540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WORDS: Robert Robinson, 1758 (1 Sam. 7:12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457200"/>
            <a:ext cx="9144000" cy="3629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Let thy goodness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like a fetter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bind my wandering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heart to thee.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4572000"/>
            <a:ext cx="9144000" cy="2286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533520"/>
            <a:ext cx="9144000" cy="3629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Prone to wander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Lord, I feel it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prone to leave the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God I love;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4572000"/>
            <a:ext cx="9144000" cy="2286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533520"/>
            <a:ext cx="9144000" cy="3629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here’s my heart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O take and seal it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seal it for thy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courts above.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4572000"/>
            <a:ext cx="9144000" cy="2286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Come, Thou Fount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of Every Bless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4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25146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Come, thou Foun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every bless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une my hear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sing thy grac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 Thou Fount of Every Blessing 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799280" y="1600200"/>
            <a:ext cx="5540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WORDS: Robert Robinson, 1758 (1 Sam. 7:12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treams of merc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ever ceas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all for songs of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udest prais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each me so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elodious sonne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ung by flam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ngues abo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raise the mount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’m fixed upon i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ount of th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edeeming lo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Here I rais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ine Ebenezer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ither by th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lp I’m com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 Thou Fount of Every Blessing 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I hope, b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good pleasur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afely t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rrive at ho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esus sought 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n a strang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andering from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ld of God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762120"/>
            <a:ext cx="9144000" cy="3629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streams of mercy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never ceasing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call for songs of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loudest praise.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4572000"/>
            <a:ext cx="9144000" cy="2286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, to rescu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e from dang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terposed hi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recious bloo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O to grac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w great a debto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aily I’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nstrained to b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 Thou Fount of Every Blessing 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thy goodnes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ike a fett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ind my wander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art to the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rone to wand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rd, I feel i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rone to leave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 I lov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re’s my hear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take and seal i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eal it for th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urts abo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0" y="15228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Come, Thou Fount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of Every Bless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4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1981080"/>
            <a:ext cx="9144000" cy="2151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1. Come, thou Fount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of every blessing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tune my heart to sing thy grace;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 Thou Fount of Every Blessing 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799280" y="1371600"/>
            <a:ext cx="5540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WORDS: Robert Robinson, 1758 (1 Sam. 7:12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4572000"/>
            <a:ext cx="9144000" cy="2286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0" y="7621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treams of merc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ever ceas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all for songs of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udest prais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4572000"/>
            <a:ext cx="9144000" cy="2286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0" y="7621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each me so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elodious sonne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ung by flam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ngues abo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4572000"/>
            <a:ext cx="9144000" cy="2286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0" y="7621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raise the mount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’m fixed upon i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ount of th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edeeming lo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4572000"/>
            <a:ext cx="9144000" cy="2286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97488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Here I raise                        mine Ebenezer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ither by thy help I’m come; 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 Thou Fount of Every Blessing 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4572000"/>
            <a:ext cx="9144000" cy="2286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762120"/>
            <a:ext cx="9144000" cy="3629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Teach me some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melodious sonnet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sung by flaming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tongues above.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0" y="4572000"/>
            <a:ext cx="9144000" cy="2286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0" y="9144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I hope, b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good pleasur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afely t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rrive at ho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4572000"/>
            <a:ext cx="9144000" cy="2286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9907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esus sought 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n a strang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andering from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ld of God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4572000"/>
            <a:ext cx="9144000" cy="2286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0" y="8222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, to rescu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e from dang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terposed hi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recious bloo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4572000"/>
            <a:ext cx="9144000" cy="2286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9144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O to grac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w great a debto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aily I’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nstrained to b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 Thou Fount of Every Blessing 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0" y="4572000"/>
            <a:ext cx="9144000" cy="2286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0" y="9144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thy goodnes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ike a fett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ind my wander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art to the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4572000"/>
            <a:ext cx="9144000" cy="2286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9144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rone to wand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rd, I feel i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rone to leave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 I lov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4572000"/>
            <a:ext cx="9144000" cy="2286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0" y="8380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re’s my hear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take and seal i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eal it for th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urts abo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4572000"/>
            <a:ext cx="9144000" cy="2286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762120"/>
            <a:ext cx="9144000" cy="3629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Praise the mount!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I’m fixed upon it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mount of thy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redeeming love.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4572000"/>
            <a:ext cx="9144000" cy="2286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685800"/>
            <a:ext cx="9144000" cy="3629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2. Here I raise                        mine Ebenezer;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hither by thy help I’m come;  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 Thou Fount of Every Blessing 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4572000"/>
            <a:ext cx="9144000" cy="2286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533520"/>
            <a:ext cx="9144000" cy="3629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and I hope, by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thy good pleasure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safely to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arrive at home.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0" y="4572000"/>
            <a:ext cx="9144000" cy="2286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457200"/>
            <a:ext cx="9144000" cy="3629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Jesus sought me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when a stranger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wandering from the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fold of God;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4572000"/>
            <a:ext cx="9144000" cy="2286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0" y="457200"/>
            <a:ext cx="9144000" cy="3629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he, to rescue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me from danger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interposed his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precious blood.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4572000"/>
            <a:ext cx="9144000" cy="2286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380880"/>
            <a:ext cx="9144000" cy="3629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3. O to grace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how great a debtor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daily I’m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constrained to be!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 Thou Fount of Every Blessing 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4572000"/>
            <a:ext cx="9144000" cy="2286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n</cp:lastModifiedBy>
  <dcterms:modified xsi:type="dcterms:W3CDTF">2011-03-25T01:36:37Z</dcterms:modified>
  <cp:revision>24</cp:revision>
  <dc:subject/>
  <dc:title>PowerPoint Presentation</dc:title>
</cp:coreProperties>
</file>