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8491-25FC-4E15-B4A3-1A6F333A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5D1E-7151-4302-B75B-ECC0B0B4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98FE-716F-4CD1-8E7D-3BD95512C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856D-87F5-4F09-A770-BD553245F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B069-3116-4211-9611-D7B15FE0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7611-8B00-4482-B9A9-04C0AEF6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61DD-AB50-4F78-9872-B141814C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BE8B-1671-4A1A-875A-747C3F11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CE93-322A-4FC6-B62E-5BA387C7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EF96-8359-499A-93FF-9430B07C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F55D-BC23-4BE5-873A-C716BA0C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9376-84A1-4A2F-86C7-4BA5D6D9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395A-A73B-4C6C-B849-90922C341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hal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o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Trad. Hebrew blessing; trans. by Roger N. Deschner, 198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1676520"/>
            <a:ext cx="66294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om chaverim,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om chaver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om, shalo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048120"/>
            <a:ext cx="1066680" cy="1066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601992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© 1982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4495680"/>
            <a:ext cx="1066680" cy="1067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523880"/>
            <a:ext cx="1066680" cy="1067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1905120"/>
            <a:ext cx="85345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hitrao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hitrao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om, shalo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76520" y="990720"/>
            <a:ext cx="746748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rewell, dear friends,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y safe, dear friends,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peace, have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990720"/>
            <a:ext cx="1066680" cy="1066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2819520"/>
            <a:ext cx="1066680" cy="1066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4572000"/>
            <a:ext cx="1066680" cy="1066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94920" y="2057400"/>
            <a:ext cx="65541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see you ag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see you ag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peace, have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53:26Z</dcterms:modified>
  <cp:revision>160</cp:revision>
  <dc:subject/>
  <dc:title>PowerPoint Presentation</dc:title>
</cp:coreProperties>
</file>