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790D-245A-4637-BF99-9EA687207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4016-DE86-4758-B123-E5B1BECEC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C49E-17DF-40B2-9435-FDFDA56D1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F51E-942F-43B5-A2DB-3FFB3E204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CF00-A68C-4ACF-955B-16F7652AF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0ECA-2E6A-4EC8-B558-AB37FA9CE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F3B7-DAAF-453D-B29A-FF2F3F0FB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F82D-D2DD-41ED-8480-E5373F53C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902E-3258-49E2-8F99-E68172822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5775-AF06-4540-8633-7E39C7E5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A291-F099-4E2A-AB3D-E2423D0F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1947-3505-4396-9B5A-2382637A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FD167-D34D-4BE3-811A-E0B543AA29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Care the Eagl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ives Her You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 The care the eagl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ives her young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afe in her lofty nes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s like the tender love of Go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us made manife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are the Eagle Gives Her You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62880" y="1600200"/>
            <a:ext cx="481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R. Deane Postlethwaite (Dt. 32:1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As when the ti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venture com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e stirs th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t to f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we are pres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oldly t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trive for daring he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are the Eagle Gives Her You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And if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lutter helpless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fledgling eagles f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neath us lif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mighty w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ar us, one and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are the Eagle Gives Her You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4:52:28Z</dcterms:modified>
  <cp:revision>33</cp:revision>
  <dc:subject/>
  <dc:title>PowerPoint Presentation</dc:title>
</cp:coreProperties>
</file>