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7B2-D315-490D-A452-DD77E856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CC6-EA8B-4FE5-BDF8-C8701592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FAF-A387-4D21-A614-42FB244A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084-22FB-4F4C-829C-084394B3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66F-0FAF-48DF-9F19-5F8782F3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1D99-5435-4EDB-A1A0-6B59B0D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404D-FD1A-4FFF-97D3-9851E3F4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69D-8825-407A-9DE1-C659970B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1EDA-C748-45C4-BA99-B80A2EC4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E642-A678-42D7-9F9C-09D7285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5990-ACA8-4CAA-B150-9DDAE9C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861-0200-444F-A79C-2DFC2FE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7370-3D54-46DE-9E76-4CA754E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6DD0-A098-420E-89AA-3F8C5997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4442-2AC0-444D-949A-BE140D6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04C2-5297-4C10-8C53-78EDE8CA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F5D-87F5-4828-8637-1624F299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9E7-C337-41BF-AF6E-0214EBB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4A5-DDD6-4083-ACD1-67761279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13B-63A6-4E8A-9982-1E6D806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EC4-57DA-46C8-BC36-742A807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308-3778-44A4-8C4A-03ACCE9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905-A49E-4019-B7A2-03B3CD2D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3F8-3B94-4E3E-8E18-2F0F65F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D253-37C3-4217-9F05-6892C5AB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894D-2702-43CE-9D80-677422F2B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Bleak Midw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 the bleak mid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sty wind made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stood hard as ir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like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89520" y="118116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ristina G. Rossetti, 1872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152280"/>
            <a:ext cx="4876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had falle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on sn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on sn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bleak midwint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212760"/>
            <a:ext cx="563904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2. Our God, heaven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annot hold him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nor earth sustai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aven and earth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hall flee away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hen he comes to reig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320" y="152280"/>
            <a:ext cx="525780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 the bleak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idwinter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 stable place sufficed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the Lord God Almighty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had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bleak mid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ur God,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earth sust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flee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e come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bl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d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table place suffi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gels and arch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have gath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rubim and serap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ged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his mother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r maiden bl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ed the bel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k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at can I gi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s I am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were a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ould bring a la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were a Wise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ould do my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what I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giv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320" y="228600"/>
            <a:ext cx="571500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1. In the bleak midwinter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frosty wind made moan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earth stood hard as iron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ater like a stone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2:06:33Z</dcterms:modified>
  <cp:revision>68</cp:revision>
  <dc:subject/>
  <dc:title>PowerPoint Presentation</dc:title>
</cp:coreProperties>
</file>