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826A-1665-4251-B2A4-D5A8523F2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CFC3-04EE-4D56-8F6B-3341D22C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F5A7-93F1-4C05-A703-0F8712910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B8F4-72BF-4E99-855E-8B950C4D1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0B97-593B-4C8A-92DE-8694CEA8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5738-0E29-4FF9-85BA-4CAF781B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0F12-8341-4364-A161-93D0AC9E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C39D-28E7-4CF0-9B37-005B4BC1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A98D-17CF-47D9-8578-55B79515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AE8A-164D-473D-AC51-FD6549FC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2F62-D3B5-4D88-BDD2-A100C277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A5A6-4E10-4792-9067-A09183B2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B9FB-F67A-41FE-AA46-0359EF04E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Ye Faithful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aise the St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Faithful, Raise the Strai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ohn of Damascus; trans. by John Mason Neale, 1859 (Ex. 1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 ye faithfu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raise the strai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of triumphant gladnes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God hath brought forth Israe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into joy from sadnes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” with the 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the Father prai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Alleluia!” yet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Spirit rai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osed from Pharaoh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itter yo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cob’s sons and daught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d them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moistened fo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Red Seas wate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’Tis the sp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ouls tod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hath burst his pri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om three days’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leep in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a sun hath ris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Faithful, Raise the Strai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winter of our si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ng and dark, is fly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his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hom we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ud and praise undy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ow the queen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asons, b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day of splend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roy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st of feas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s its joy to rend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Faithful, Raise the Strain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s to glad Jerusal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with true affec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lcomes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wearied stra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’ resurrec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Neither migh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es of d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the tomb’s dark port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the watch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the se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 thee as a morta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Faithful, Raise the Strain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oday amid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wel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didst stand, bestow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y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everm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sseth human know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“Alleluia!” now we c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our King immort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, triumph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rst the b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tomb’s dark porta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Faithful, Raise the Strain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7:12:31Z</dcterms:modified>
  <cp:revision>73</cp:revision>
  <dc:subject/>
  <dc:title>PowerPoint Presentation</dc:title>
</cp:coreProperties>
</file>