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28A-78BA-4803-AB21-753E58A9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EF6-FAF0-4011-BF5C-13952D93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F55-AA23-4DC3-88E3-1434C6CD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D6C-43A1-4EB6-9F20-C4854CEB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331-3618-434F-9F2B-26CBCABF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1C4-8606-4A9E-97B0-9E163A6A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EBA-2C8F-4CA6-885D-D12F93DF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FBE-746D-4002-B695-7E50A99B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852-B28C-46FA-959D-3189EB23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600-2EAA-4830-9007-A30D702B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363-7541-45A8-A51D-9FCFFE84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7C6-24B7-40A6-B2AC-D4036A48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E5D2-9504-4461-8DC2-FB9A1C9F7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Divine Interpreter</a:t>
            </a:r>
            <a:br>
              <a:rPr sz="4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harles Wesley, 1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7524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e, divine Interprete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ing me ey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y book to 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ars the mystic words to hear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ds which di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rom thee proce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Divine Interpr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rds that endles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liss impart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ept in a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bedient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l who rea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hear, are bl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y plain commands we do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thy kingd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ere possesse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e we shall in glory 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ou comes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n earth to ab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ign triumpha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t thy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5:29Z</dcterms:modified>
  <cp:revision>11</cp:revision>
  <dc:subject/>
  <dc:title>PowerPoint Presentation</dc:title>
</cp:coreProperties>
</file>