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E31-7EA1-4AAD-AF7F-E5D18E45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6CB-D799-4742-85EF-ADA087BE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597-B52E-4E68-845E-CC3F86DD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2B5-FDEF-4EAA-A539-698C78F4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14E-3D05-46DC-99E5-62A98EF2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B17-DF79-4256-B5F5-0566F2B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FD7-DD77-463C-A6B2-5CD93A5E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106-CD18-4A02-8700-41D9FA69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0F0-D2FC-4D95-9902-23311416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79C-1F40-4130-B2FA-5DB484A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957-A82A-4544-8890-4194EE6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68E-FA6F-4F59-93F9-48FD1746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7D6-85C7-4367-8D40-23581ED65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ul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gh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elestial fi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4840" y="1600200"/>
            <a:ext cx="82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Rhabanus Maurus, 8th-9th cent.; trans. by John Cosin, 162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anoi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s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venfold gifts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y blessed un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omfort,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r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abl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petual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ull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linded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oint and che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iled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bun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far our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peace a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ou art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ill can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e, of bo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but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rough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, thi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ndless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Spirit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54Z</dcterms:modified>
  <cp:revision>9</cp:revision>
  <dc:subject/>
  <dc:title>PowerPoint Presentation</dc:title>
</cp:coreProperties>
</file>