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8A1-5ADB-4F7D-A4E7-7EE7F0F0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3AD-7966-4370-9372-BB234A7C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0B3-301C-4027-8A25-6F148453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110-D364-4251-9EA7-6BC2CA62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85DB-0082-4FFB-B555-37AC27B8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AB44-410F-47BE-85F8-8515D272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9BD4-62E6-4C6F-AE5C-9273AC81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D38A-0E7F-4F38-B71E-F6F93CF3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18AD-E9CE-4243-9F79-1477E40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D7FF-9790-48EC-86C6-39A44B5E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88B1-F05A-4F30-AC88-6C5E4B56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A3D-4B28-4E6F-A97D-6781FBF9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7D7E-EB85-4BF2-A46F-856F5A45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26F0-06F8-421D-8E65-BA563DD9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0175-F06F-41FB-AD47-17406228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C8ED-2139-4439-8383-C2AC02FA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002F-8E1D-40F8-A369-877D90C0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6F3-4BC2-49C1-B76B-74E30A84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9B4-C2EC-4A1F-8143-5961E5E4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453-E6CD-4991-BCE1-82C584DB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346-25C1-49A7-9C40-778E032D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7D6-4F4B-4F48-996B-02226460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FE8-3884-4DDF-B1CC-FEC621A6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03C-D887-4050-A078-1E55A0F2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FA5A-9123-492F-B262-01B93E851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068B-1CBF-4838-9095-E4FD2731F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rd, May Churc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Home Comb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6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may chur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me comb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each thy perfect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3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3600" y="175248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arlton C. Buck, 19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y steadfast fai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earnest prayer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keep sacred vows secur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uild thou a hallowe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dwelling wher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rue joy and peace endur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entl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lik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 none shall ever 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unwor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ims de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mbue us with thy gr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the ho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ever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thy dwelling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ine, Light div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thy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darkness else might b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, Lov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every pl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ad fellowshi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steadfast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arnest pray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eep sacred vows sec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thou a hallow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welling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e joy and peace end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Lord, May Churc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Home Comb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28600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 Lord, may churc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nd home combin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to teach thy perfect way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07880" y="1447920"/>
            <a:ext cx="65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ORDS: Carlton C. Buck, 1961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© 1973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990720"/>
            <a:ext cx="8610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entl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lik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 none shall ever 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all unworth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ims depar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mbue us with thy grac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ithin the hom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every hear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ecome thy dwelling pl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860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Shine, Light divine;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reveal thy fa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re darkness else might b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rant, Love divin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every pla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lad fellowship with the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06-14T15:12:16Z</dcterms:modified>
  <cp:revision>33</cp:revision>
  <dc:subject/>
  <dc:title>PowerPoint Presentation</dc:title>
</cp:coreProperties>
</file>