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345-9812-4F45-83B4-D839B86B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235-8E82-471D-9436-3FA581D9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0F1-3A3A-467E-B547-7BA7657F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8AE-898F-4DC9-9752-F8588F94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E50-9481-4AF8-B170-CAD19E7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AF0-90A6-48E6-B64E-3664DE2B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EF4-3C2F-4A1F-AB1A-7B63A104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7F-3A25-4191-92FC-52F88B1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9D4-101D-4478-9741-778B9649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CB3-6F2D-4159-9FCE-7077E60B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299-801C-4250-91FE-03FBD50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764-6CB1-4445-B3D9-7D1DF93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BA2B-95FE-4C14-BD21-F4C567EDF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ime of Il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ime of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eorgia Harkness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God, who dost for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iquities and hea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diseases,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ry unto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3 Whitmore &amp; Stone, renewed 1970 Georgia Hark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trength has been brought l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we know not w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uture hol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bodies, there is pai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xiety and un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ay b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restore us to heal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We ask no mirac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of deliveran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if in the order of nat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our suffering must contin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p us to accept 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without rebel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f it must lead us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the valley of the shadow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help us to fear no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to go bravely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arer pres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good keeping, all is wel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Into thy hand, we comm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our bodies and our spiri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Do with us as thou wi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42Z</dcterms:modified>
  <cp:revision>154</cp:revision>
  <dc:subject/>
  <dc:title>PowerPoint Presentation</dc:title>
</cp:coreProperties>
</file>