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90A-3F26-4FB4-9CC5-9A27F771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C86-0264-408A-91CC-5220266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F16-2F93-4BBE-9DBE-01ACA071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08A-0E02-4BF4-AB93-1D4DEBD1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705-0C98-4D30-BA36-23DA5A3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B58-7B78-4E4C-8238-465FA98A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22B-B75B-41C3-927F-84A95FD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E63-1EB3-499B-BB1A-69018F63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585-73E1-49DC-9C1A-0B57D6E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B4F-66DC-4A69-85FB-D4AFFB2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C45-94B4-473D-9C3F-60F65B6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D8F-0539-40AD-928A-021EBEFB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D90D-FCF6-4BFD-8E75-5637B91CC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, Shine, You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ise, shine, you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 en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 him is cent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6280" y="106668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A. Klug, 1973 (Is. 60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eath and sin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unbo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ow he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evil r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s us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 and hea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n and wo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y guilt are dr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celebr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anners high unfu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ngs and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the darkness hur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e world go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ll how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his Son to save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of the Son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freedom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from every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7:08Z</dcterms:modified>
  <cp:revision>38</cp:revision>
  <dc:subject/>
  <dc:title>PowerPoint Presentation</dc:title>
</cp:coreProperties>
</file>