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AA29-1844-47F8-A59C-AAA0C2036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8411-E982-4084-B6EE-55274661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CFF4-1409-4535-B861-31E2E5C04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97F4-F603-4E96-9661-13391FCD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4FA8-7FC5-4FD4-8147-FF0C255D0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4936-A066-4BCE-A104-AA4C603F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F29C-87B0-44D2-BBAC-E53D58C6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5C0C-DB49-447D-9761-D75D856C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6E9A-3CE0-4169-8E8D-964B0525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B6FC-C69B-4FCB-AF83-922F74E4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F6CB-17CE-4EB0-AFEB-790CA28C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C296-6E59-4A02-A0B7-A3417077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251F-57DA-4336-B1ED-AEE07D38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2646-4481-4247-A8E2-0F2C07C0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7D43-4275-414F-A2D0-C5312A12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40F2-DA03-4E2F-AB41-82D4D6B1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94CC-E3A9-4984-A796-82B202786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5491-2E6B-40A3-A0F5-D96E01E7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9A77-8CE0-4A08-B3AF-CD567A0E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A4C4-119A-49C1-A78C-CF97EB65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2758-43E4-440B-BA9E-00924273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E91D-CDDA-415C-8965-23CB6EEB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5ABF-4CAA-4DE2-8B2A-29C052CB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EDC0-278C-439F-AEA5-81AD56D4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0A52-DA7D-4FCD-8D98-FA73C0617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FF66-1884-494B-A6F9-F4712091A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uide Me, O Thou Great Jehova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72400" y="304920"/>
            <a:ext cx="137160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6002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1. Guide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 thou great Jehovah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pilgrim through thi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arren land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 Me, O Thou Great Jehova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3640" y="838080"/>
            <a:ext cx="5792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William Williams, 1745; trans. from the Welsh </a:t>
            </a:r>
            <a:br>
              <a:rPr sz="1900"/>
            </a:b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by Peter Williams and the author, 177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95880"/>
            <a:ext cx="9144000" cy="75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16040"/>
            <a:ext cx="9144000" cy="55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d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d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d me till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nt no more;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want no mor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d me till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nt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91916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Open no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crystal fountai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ce the heal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ream doth flow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 Me, O Thou Great Jehov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fi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oudy pill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m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journey throu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716040"/>
            <a:ext cx="9144000" cy="55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ong delive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ong delive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ou s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trength and shield;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strength and shield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ou still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 and shie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en I t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erge of Jord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id my anx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rs subs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 Me, O Thou Great Jehov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of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ll’s destruc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nd me sa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Canaan’s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716040"/>
            <a:ext cx="9144000" cy="55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gs of prai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gs of prai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to thee;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give to thee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522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uide Me, O Thou Great Jehova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304920"/>
            <a:ext cx="137160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60020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Guide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thou great Jehova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ilgrim through th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arren la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 Me, O Thou Great Jehova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3640" y="838080"/>
            <a:ext cx="5792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William Williams, 1745; trans. from the Welsh </a:t>
            </a:r>
            <a:br>
              <a:rPr sz="1900"/>
            </a:b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by Peter Williams and the author, 177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724280"/>
            <a:ext cx="9144000" cy="2130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weak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ou art might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 me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owerful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648320"/>
            <a:ext cx="9144000" cy="2206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52280"/>
            <a:ext cx="9144000" cy="47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d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d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d me till I want no more;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want no mor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d me till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nt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648320"/>
            <a:ext cx="9144000" cy="2206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11456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 am weak, 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ut thou art mighty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old me with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y powerful hand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455760"/>
            <a:ext cx="9144000" cy="496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Open now the crystal fountai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ence the heal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ream doth flow;                       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fire and cloudy pill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me all my journey throu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 Me, O Thou Great Jehov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648320"/>
            <a:ext cx="9144000" cy="2206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95120"/>
            <a:ext cx="914400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rong deliverer, strong deliver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 thou st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strength and shield;</a:t>
            </a:r>
            <a:br>
              <a:rPr sz="48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strength and shield)</a:t>
            </a:r>
            <a:br>
              <a:rPr sz="50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e thou still m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rength and shiel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648320"/>
            <a:ext cx="9144000" cy="2206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522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 When I trea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verge of Jorda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id my anxious fears subside; death of dea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hell’s destructio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and me safe on Canaan’s si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 Me, O Thou Great Jehov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648320"/>
            <a:ext cx="9144000" cy="2206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577800"/>
            <a:ext cx="9144000" cy="40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gs of prai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gs of prai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ever give to thee;</a:t>
            </a:r>
            <a:br>
              <a:rPr sz="5000"/>
            </a:b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give to thee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ever give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648320"/>
            <a:ext cx="9144000" cy="2206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41200"/>
            <a:ext cx="91440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read of heaven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read of heaven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eed me till I want no more;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(want no more)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eed me till I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ant no mor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095880"/>
            <a:ext cx="9144000" cy="75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28600"/>
            <a:ext cx="9144000" cy="58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. Open now the crystal fountai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ence the heal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ream doth flow;                         let the fire and cloudy pillar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ead me all my journey through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 Me, O Thou Great Jehov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095880"/>
            <a:ext cx="9144000" cy="75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52280"/>
            <a:ext cx="9144000" cy="59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rong deliverer, strong deliverer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e thou still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y strength and shield;</a:t>
            </a:r>
            <a:br>
              <a:rPr sz="5400"/>
            </a:br>
            <a:r>
              <a:rPr b="1" lang="en-US" sz="5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strength and shield)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e thou still my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rength and shiel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095880"/>
            <a:ext cx="9144000" cy="75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52280"/>
            <a:ext cx="9144000" cy="58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. When I tread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verge of Jorda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id my anxious fears subside; death of death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d hell’s destructio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and me safe on Canaan’s sid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 Me, O Thou Great Jehov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095880"/>
            <a:ext cx="9144000" cy="75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77800"/>
            <a:ext cx="914400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ongs of praise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ongs of praise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 will ever give to thee;</a:t>
            </a: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(give to thee)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 will ever give to the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095880"/>
            <a:ext cx="9144000" cy="75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808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uide Me, O Thou Great Jehova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772400" y="304920"/>
            <a:ext cx="137160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43828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Guide 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thou great Jehova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ilgrim through th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arren la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 Me, O Thou Great Jehova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73640" y="1143000"/>
            <a:ext cx="5792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William Williams, 1745; trans. from the Welsh </a:t>
            </a:r>
            <a:br>
              <a:rPr sz="1900"/>
            </a:b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by Peter Williams and the author, 177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weak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ou art might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 me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owerful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9-04T13:30:45Z</dcterms:modified>
  <cp:revision>45</cp:revision>
  <dc:subject/>
  <dc:title>PowerPoint Presentation</dc:title>
</cp:coreProperties>
</file>