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5C9-6639-4519-98CA-F7E7BF27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4BA-A4C3-4458-B4DA-510C3F91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5CC-11BA-41BA-A3EB-48AD06E2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3C0-844A-4F9C-8C4D-5A7B0AC6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AF5A-B987-49FE-9833-99CCCC98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7F66-2C96-4C4E-B8DF-3152F5D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C6B1-927C-4C95-B301-1CCDA190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DA18-4DDC-4E91-AA6E-5A54DFE0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6C36-B158-4F5A-B21A-E0052D1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9BFF-075E-4013-88F8-C2D07AD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70D-660B-45F0-8340-9C88BE8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499-E03D-45F4-B568-BD9A3E2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AB8-5217-4EA8-9A1A-8002461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55DC-AD03-4DED-85CB-CD5F421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5F8F-CE04-48E9-8E8E-0927D28C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13DE-35F1-4FB6-B249-E4B77B8F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B572-076E-4BB9-A38B-DB23E412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9C4-1F74-42D6-ABDE-C3B10F0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5B9-B168-4FA0-9241-52CF4B29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C0B-2F7A-483B-A32A-FD2C9C8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C8B-6230-4D6F-826F-265CEE56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BED-6E24-4505-AC99-2562C4B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991-ADD5-4381-ABAD-748D12B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956-C78E-4FAD-B2EE-7A018E7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48B-2E99-45BA-ABEB-EECCE1689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558-35D7-409D-BE57-0778179C4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69640" y="88272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76212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83808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83808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69640" y="114300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69640" y="88272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2T02:17:34Z</dcterms:modified>
  <cp:revision>10</cp:revision>
  <dc:subject/>
  <dc:title>PowerPoint Presentation</dc:title>
</cp:coreProperties>
</file>