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BF4-DF70-4E7E-8D7C-A044BE29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0B1-B0B2-41EC-977F-F50BE2AB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47E-6B29-4665-9178-5F742A9A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F74-04C3-49AF-9F6A-4013D93C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0223-6A35-4A77-B2EF-6EBB7946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E18-D144-4CD5-95D3-48FC6CF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8B73-85A2-4CEF-AAE6-1037D0E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840-AA58-45EA-BBD6-1FDA2B5A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F2B9-7854-4155-AFE1-3A510F84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0F0-2AA4-4729-BC7E-089875E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E1F8-3542-4B75-B3B7-A2B5605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91C-31CD-4E74-BCE2-804A619A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F7C4-D42C-4D41-ABB1-30960D0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3EF6-6D78-479C-AA2E-BF28BE7F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CCEB-0A43-43DC-AD9D-41120BE0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B858-FAD7-4795-899C-6FE2AFC3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6FC5-BD5A-4756-B5C2-19AB51D6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20F-64E1-4345-9F4F-750077F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F3F-B86B-4CEF-B1CB-281FA45F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CA7-5B29-4EF2-A6B9-A54BBA47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0E9-D185-46C9-91C2-9980F57C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C22-761B-4A1A-B5BF-8ED1B4D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99E-EFF4-4226-8AC8-78851250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75F-C4A0-4787-A6EA-44634AB3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894-B572-464D-A161-5180CC371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0B01-7900-444F-8361-C53756D5C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43520" y="609480"/>
            <a:ext cx="465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ob McGee, 1976 (Mt. 1: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62120"/>
            <a:ext cx="914400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ed in us,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2920" y="110484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Bob McGee, 1976 (Mt. 1: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ealed in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</cp:lastModifiedBy>
  <dcterms:modified xsi:type="dcterms:W3CDTF">2010-12-04T14:34:41Z</dcterms:modified>
  <cp:revision>54</cp:revision>
  <dc:subject/>
  <dc:title>PowerPoint Presentation</dc:title>
</cp:coreProperties>
</file>