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1023-46A5-403A-9B9F-E7503E11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A054-E196-4098-A95E-96F3A603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92DA-1CBA-497E-8DCD-F35151DD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D0CA-B14C-4218-A9DF-2508CDBC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4264-1B50-4098-9CD8-1CDFB0ED0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3946-763F-400F-A59D-98CACE1A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0C94-DA92-453F-8FA3-F094CD68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A1D7-5C07-4106-854F-F4068640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1B27-839A-4062-9C60-4CC6A8D3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EDDC-5CDD-494B-9C34-4266B3C0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AB2E-803E-41A3-BF74-CA26680A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1E2F-F8CF-4A0F-80FD-1AD46EEF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BAAC-2D5D-46E9-B66F-F2727017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2E51-21AE-47F8-8FC2-597BA94A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3111-E358-44BB-90D5-130F4334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098F-CDC7-4888-980B-9435021D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FA84-5723-48E8-852A-E22B6086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9068-F752-4C10-9A8D-8CD59B71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863C-BC67-498F-BF41-A92A1C5B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8C8D-7528-410B-A135-C5FAE41A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B902-B128-4F42-A26F-5B9FDE73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7512-76F9-4400-8FC4-EB6E8FFE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8001-23EF-4586-B7E9-8E43AEAB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26D5-E06F-432D-B052-B47E7E81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CF2B-2C98-4E76-BAFD-2702BFF6D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BF77-12A8-4E71-B185-0143D12C2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Am Thine, O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am thin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heard thy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t told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to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89280" y="990720"/>
            <a:ext cx="536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Fanny J. Crosby, 1875 (Heb. 10:2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kneel in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h thee, my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mmune a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iend with frie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287360"/>
            <a:ext cx="9144000" cy="417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nearer, nearer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ross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nea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eding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re are depths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cannot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rrow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are heights of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may not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 res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287360"/>
            <a:ext cx="9144000" cy="417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nearer, nearer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ross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nea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eding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Am Thine, O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8288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am thin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heard thy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t told thy love to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9280" y="990720"/>
            <a:ext cx="536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Fanny J. Crosby, 1875 (Heb. 10:2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I long to r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arms of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 clos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n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28600"/>
            <a:ext cx="9144000" cy="417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nearer, nearer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ross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I long to r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arms of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 clos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n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nea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eding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onsecrate me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servic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powe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div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8222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soul look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 steadfast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wi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t in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228600"/>
            <a:ext cx="9144000" cy="417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nearer, nearer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ross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nea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eding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the pure de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 single h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efore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ne I spe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kneel in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h thee, my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mmune a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iend with frie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228600"/>
            <a:ext cx="9144000" cy="417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nearer, nearer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ross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nea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eding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re are depths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cannot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rrow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87360"/>
            <a:ext cx="9144000" cy="417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nearer, nearer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ross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are heights of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may not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 res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28600"/>
            <a:ext cx="9144000" cy="417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nearer, nearer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ross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nea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eding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nea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eding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onsecrate me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servic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powe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div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soul look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 steadfast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wi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t in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287360"/>
            <a:ext cx="9144000" cy="417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nearer, nearer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ross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nea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eding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the pure de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 single h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efore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ne I spe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1-02T23:56:35Z</dcterms:modified>
  <cp:revision>10</cp:revision>
  <dc:subject/>
  <dc:title>PowerPoint Presentation</dc:title>
</cp:coreProperties>
</file>