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FB1B-4DC4-4A16-8AA7-F89FDF97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F4A1-4DF6-4669-A8AA-3A94A4FE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67CF-CA3F-4B37-800B-39814F1C0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597D-5A5B-4C93-AA16-994D3A01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FFDC-ECB3-4B43-8A88-FC93321D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CC18-51DB-4352-8C75-AB85D404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312E-CB0B-4A21-BDDE-966C6B01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939F-C5D4-44A2-8837-287D6BB3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09D6-3CD7-4A9A-B9B0-8C538D0B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FDB6-45E8-4261-9E8C-C9B0563B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6177-AC95-4DD0-8BC3-6E1A8FFF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F73F-8F00-4922-8D32-55439C64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4531-6226-4088-AF88-231813FAB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orning Glory, Starlit S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39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Morning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rlit sk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aring music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cholars’ tru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ords by permission of J. W. Shore Mu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Glory, Starlit Sk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42000" y="1092240"/>
            <a:ext cx="491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W. H. Vanstone, 1980 (1 Cor. 13: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na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of thor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f w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love must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Here is Go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monarch 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ned in eas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te to reig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Glory, Starlit Sk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s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arms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ching, sp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ld sust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light of swall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utumn lea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mory’s tr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ce of youth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pen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ifts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fts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mind and sen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Glory, Starlit Sk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dden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’s agon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’s endeav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’s expen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Love that g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s everm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s with ze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eager hand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Glory, Starlit Sk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ares not, keeps n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outpou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entures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s all expe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Drained 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making fu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und in set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thers f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Glory, Starlit Sk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or in ma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ny ri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ak in g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wer to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Therefore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shows us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lpless ha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on the t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Glory, Starlit Sk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9:57Z</dcterms:modified>
  <cp:revision>44</cp:revision>
  <dc:subject/>
  <dc:title>PowerPoint Presentation</dc:title>
</cp:coreProperties>
</file>