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C05-2AB4-49EB-9DF8-B2F7972D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952-1CBF-4E68-859C-DB05C3F7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EB2-7AD1-4063-A34E-6CC910D5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AEED-4980-4897-AFCE-9C2346EA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D9B-23E0-4BB9-B8B8-3DB3D6B3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381-6F6E-40D0-8EA7-A53BCCFB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CEF-BE2A-4178-9ADA-5E88BC54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89EF-FC5E-4C46-9F32-091878BB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76A-D191-4BB8-8BCB-EB9FD9BC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EA8-682B-447C-87E7-187AF6B1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DE0-9347-4A21-9BE7-BD7D475D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507-5A35-4D52-91C3-E6A012A2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C716-5ECD-44CD-A751-9DD23633F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tand Amaze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Pres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stand amaz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 the Nazare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90360" y="1625760"/>
            <a:ext cx="53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H. Gabriel, 1905 (Lk. 22:41-4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omfort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orr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bore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that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84080"/>
            <a:ext cx="9144000" cy="526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He took my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r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made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very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bo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den to Calv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uff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ied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784080"/>
            <a:ext cx="9144000" cy="526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hen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nsomed in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t last shall s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ill b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through the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love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784080"/>
            <a:ext cx="9144000" cy="526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ould lov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inner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demned, uncle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84080"/>
            <a:ext cx="9144000" cy="526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 me it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ga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pray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Not my will, but thin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ad no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is own grief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sweat-dro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lood for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84080"/>
            <a:ext cx="9144000" cy="526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p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behel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me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of l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0:15Z</dcterms:modified>
  <cp:revision>22</cp:revision>
  <dc:subject/>
  <dc:title>PowerPoint Presentation</dc:title>
</cp:coreProperties>
</file>