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CB9-0FC1-4C82-AB70-BC5D52ED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665-E613-4FA7-8FC6-F81F31A4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400-3CA5-4B85-9EB5-9E6179DD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B16-B39F-495C-9F58-0D448D29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4C1-148F-4181-B165-133AC7E8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D20-E1FF-45F8-96D6-5F2136A0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814-286F-4968-97BF-273B7285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D73-F3B6-40FF-8EAF-3B0197AA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DC6-281F-47D7-AA31-56BA64A5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552-E68B-4477-8EF2-5A017ED8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586-CC74-44FB-B947-851E420B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DE6-E713-48CA-8BB9-DE85E3CA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39E9-18D1-41CB-88AF-4788AE136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Loves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 loves the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ace bey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easur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bear his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the world t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rian Wren, 1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not l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go or let us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ooses ear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ssels for his trea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 bears the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rrupted or confor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bsessed with trifl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 greed and w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love outwit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nning gold from str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ophe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ing and refor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hrist feeds the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lls us with a 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ea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e and broken bre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aring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ing what they’ve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’s respec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opposi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hrist needs the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nd tell his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ise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rvel at his tru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, bathed in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kened from the d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alk with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ive in grac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4:26Z</dcterms:modified>
  <cp:revision>93</cp:revision>
  <dc:subject/>
  <dc:title>PowerPoint Presentation</dc:title>
</cp:coreProperties>
</file>