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981A-C2BD-459F-8A79-C784D3176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1E7E-43E5-4D4F-860F-EDF963C7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9D83-CE52-4856-A935-5ED138B8F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BA3E-B2BB-4C2F-BBD5-49BB89CC4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7312-D67A-44A2-85B9-39FDBADD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32E6-FA21-4F5D-9831-3FB525E3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4C1F-B8DC-4AB1-B748-C650B5E6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7129-C91C-45CA-99B3-47079CBD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4960-7C0F-41D9-95A6-0CC77BE1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1D8D-AA9A-439C-9312-6A8536F4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A9B2-E890-4AF0-9B9B-87ADA288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DDD6-1FBB-410C-99CF-355BD528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3273-846D-4E66-880C-83C5B4B6D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lessed Jesus, at Thy W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Blesse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y w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gath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o hear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Jesus, at Thy W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 Tobias Clausnitzer, 1663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Catherine Winkworth, 18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ouls be stir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o seek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and fear th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y teac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 and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n from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ove thee sole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ll our knowled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se, and s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e in deep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ness shroud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Jesus, at Thy W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thy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ks our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beam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th uncloud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alon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canst win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must work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od within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Glorious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self impar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of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God proceed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Jesus, at Thy W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pen th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ears and he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us by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’s plead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 the c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eople rais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, and b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prayers and prais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6:02Z</dcterms:modified>
  <cp:revision>97</cp:revision>
  <dc:subject/>
  <dc:title>PowerPoint Presentation</dc:title>
</cp:coreProperties>
</file>