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07E-C6FF-48D6-B80C-DFB4F7F8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98B-9B83-4180-AE47-63F4BDD3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F4A-7C3A-40B4-946A-9D15189F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4E7-B497-4FBC-9196-FC901B0F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A018-88A0-4743-8AA9-8BA7E76F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A595-BD6E-4F5F-B63C-FE2EC891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C116-94BC-435A-92B9-F7EADD39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E677-1F36-45C2-B327-10873419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0E9E-EC53-4900-B533-0E017E0B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EAA9-2489-4E82-AE7F-C75BDF8C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3F59-5A83-4E89-9AF0-B8947999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184-2C4B-4AB6-B37F-6D27E2AB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652B-76AE-4C0B-A03E-3BAFDF21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A888-5446-4485-8059-314D4A2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8A71-832A-4F2D-83A7-D375D401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8500-64F1-4B91-895D-436D839B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8428-6B58-45D5-A1BA-30CA2F5E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38E-F2D9-4AFF-9AE2-4B417408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0D9-8127-4F5B-94B4-F43B5FDA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7A1-2290-4587-8AC1-01A958C2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5BB-A663-4744-AC2F-3B2345F2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931-CC2A-406A-8F31-EBC964ED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872-B448-425B-8368-9C052223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A65-1A7B-4377-BC49-C9CB1070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2B0A-5375-4637-9583-5D274DED4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23A2-D486-420E-A59D-CC1CDC0AE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Jo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Friend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366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Come, let us joi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friends ab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o have obtained the priz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2160" y="144792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80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Jo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Friend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let us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riends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ve obtained the priz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2160" y="175248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 the eag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g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oys celestial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aints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to glory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rth and heaven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e fami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i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hurch above, ben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now divi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rrow stream of dea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arm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command we b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 of his 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crossed the f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t are crossing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n thousan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endless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olemn moment f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ar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rgin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xpect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now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join our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that went bef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ee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-besprinkled b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eternal sh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ur spirits to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quickly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irs with glory crow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ut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aptain’s s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r his trumpet s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at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grasp our Guid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at the word were giv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ord of Ho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ves div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nd us all in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193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n the eagl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ngs of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joys celestial r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saints on ea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e to s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those to glory go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 all the servants of our King in earth and heaven are 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652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One family w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well in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e church above, beneath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gh now divid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the strea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narrow stream of death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e army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his command we bow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rt of his ho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ve crossed the flo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part are crossing now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Ten thousand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ir endless ho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solemn moment fl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we are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margin co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we expect to di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E’en now by faith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we join our hands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with those that went before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greet th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lood-besprinkled bands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on the eternal shore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Our spirits too shall quickly joi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ke theirs with glory crowned, and shout to s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Captain’s sig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hear his trumpet soun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hat we n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ight grasp our Guide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hat the word were given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, Lord of Host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aves divid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and us all in heav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05T23:28:46Z</dcterms:modified>
  <cp:revision>53</cp:revision>
  <dc:subject/>
  <dc:title>PowerPoint Presentation</dc:title>
</cp:coreProperties>
</file>