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BF4D-115C-4EB2-8F40-84316EB10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AAF8-9CB8-44E7-88D4-0BFC08F61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1A17-BEE0-4679-BD69-32F508B69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A776-24C5-4C0B-9F1B-D49070551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0FAA1-B5F7-4BB2-9DA1-5F3971CDB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8FE86-E3A4-4749-8DE6-446EC1AC4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29D8C-32D4-486F-B40A-445FCE064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0A60F-85C5-495D-B91F-2DFA7F915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7BEDD-FFAB-4CE4-BF4E-DD017579A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73AEC-6003-4892-B80C-EA9231CE3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0D3F8-013F-47CB-A901-65EDB45D3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C389-8BC5-4BDC-BF76-D93C61C51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08527-51CD-4B86-B1DF-38861346D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30DF0-106B-4D08-88D5-10D018373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71AFA-E83B-4DD2-A295-8ADD54CCD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42F1D-EBA2-4522-AF7E-318C7E69B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7B0AD-8B0A-4FD0-B1D9-68F7E860F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6DBD-0484-4528-ABC8-E2CEA14C6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FDAB-8364-46BE-BDE7-72563E61E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BC06-9168-4EA4-837F-2B9A82AD9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37E4-881E-40CE-953C-510F76AAD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B395-9D2E-4A98-95EB-42E0B0AD8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9119-DCB7-489D-9A36-31DD02B12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51EB-6E1C-4679-80FC-11B5BC7C8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E51FD-CAAD-400E-A914-EFF410DF65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1B317-4102-4137-94B7-3CF17A0BD9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76320"/>
            <a:ext cx="876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ake My Life, and Let It B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763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9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2034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Take my life, and let it b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nsecrated, Lord, to thee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ake my momen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my day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them flow in ceaseless prais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ke My Life, and Let It B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677600" y="639720"/>
            <a:ext cx="5760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Frances R. Havergal, 1873 (Rom. 12:1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5486400"/>
            <a:ext cx="9144000" cy="1371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ake my silv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my gol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t a mite would I withhold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ake my intellect, and u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very power a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 shalt choos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Take my wi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make it thin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t shall be no longer mine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ake my hear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t is thine ow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t shall be thy royal thro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ke My Life, and Let It B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ake my l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Lord, I p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thy feet i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reasure-store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ake myself, and I will b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ver, only, all for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76320"/>
            <a:ext cx="876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ake My Life, and Let It B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620120" y="763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9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1355760"/>
            <a:ext cx="9144000" cy="314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. Take my life, and let it be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secrated, Lord, to thee.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ake my moment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nd my days;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et them flow in ceaseless prais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ke My Life, and Let It B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677600" y="639720"/>
            <a:ext cx="5760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Frances R. Havergal, 1873 (Rom. 12:1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228600"/>
            <a:ext cx="9144000" cy="411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ake my hands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d let them mov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t the impulse of thy love.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ake my feet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d let them b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wift and beautiful for the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307800"/>
            <a:ext cx="9144000" cy="411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2. Take my voice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d let me sing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lways, only, for my King.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ake my lips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d let them b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lled with messages from the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ke My Life, and Let It B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304920"/>
            <a:ext cx="9144000" cy="411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ake my silver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d my gold;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ot a mite would I withhold.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ake my intellect, and us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very power a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ou shalt choos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380880"/>
            <a:ext cx="9144000" cy="411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3. Take my will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d make it thine;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t shall be no longer mine.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ake my heart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t is thine own;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t shall be thy royal thron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ke My Life, and Let It B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228600"/>
            <a:ext cx="9144000" cy="411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ake my love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y Lord, I pour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t thy feet it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reasure-store.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ake myself, and I will b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ver, only, all for the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76320"/>
            <a:ext cx="9144000" cy="539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Take my hands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and let them move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at the impulse of thy love.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Take my feet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and let them be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swift and beautiful for thee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317520"/>
            <a:ext cx="9144000" cy="49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300" spc="-1" strike="noStrike">
                <a:solidFill>
                  <a:srgbClr val="000000"/>
                </a:solidFill>
                <a:latin typeface="Times New Roman"/>
              </a:rPr>
              <a:t>2. Take my voice,</a:t>
            </a:r>
            <a:br>
              <a:rPr sz="5300"/>
            </a:br>
            <a:r>
              <a:rPr b="1" lang="en-US" sz="5300" spc="-1" strike="noStrike">
                <a:solidFill>
                  <a:srgbClr val="000000"/>
                </a:solidFill>
                <a:latin typeface="Times New Roman"/>
              </a:rPr>
              <a:t>and let me sing</a:t>
            </a:r>
            <a:br>
              <a:rPr sz="5300"/>
            </a:br>
            <a:r>
              <a:rPr b="1" lang="en-US" sz="5300" spc="-1" strike="noStrike">
                <a:solidFill>
                  <a:srgbClr val="000000"/>
                </a:solidFill>
                <a:latin typeface="Times New Roman"/>
              </a:rPr>
              <a:t>always, only, for my King.</a:t>
            </a:r>
            <a:br>
              <a:rPr sz="5300"/>
            </a:br>
            <a:r>
              <a:rPr b="1" lang="en-US" sz="5300" spc="-1" strike="noStrike">
                <a:solidFill>
                  <a:srgbClr val="000000"/>
                </a:solidFill>
                <a:latin typeface="Times New Roman"/>
              </a:rPr>
              <a:t>Take my lips,</a:t>
            </a:r>
            <a:br>
              <a:rPr sz="5300"/>
            </a:br>
            <a:r>
              <a:rPr b="1" lang="en-US" sz="5300" spc="-1" strike="noStrike">
                <a:solidFill>
                  <a:srgbClr val="000000"/>
                </a:solidFill>
                <a:latin typeface="Times New Roman"/>
              </a:rPr>
              <a:t>and let them be</a:t>
            </a:r>
            <a:br>
              <a:rPr sz="5300"/>
            </a:br>
            <a:r>
              <a:rPr b="1" lang="en-US" sz="5300" spc="-1" strike="noStrike">
                <a:solidFill>
                  <a:srgbClr val="000000"/>
                </a:solidFill>
                <a:latin typeface="Times New Roman"/>
              </a:rPr>
              <a:t>filled with messages from thee.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ke My Life, and Let It B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52280"/>
            <a:ext cx="9144000" cy="539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Take my silver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and my gold;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not a mite would I withhold.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Take my intellect, and use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every power as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thou shalt choose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5638680"/>
            <a:ext cx="9144000" cy="1219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136440"/>
            <a:ext cx="9144000" cy="5122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000000"/>
                </a:solidFill>
                <a:latin typeface="Times New Roman"/>
              </a:rPr>
              <a:t>3. Take my will,</a:t>
            </a:r>
            <a:br>
              <a:rPr sz="5500"/>
            </a:br>
            <a:r>
              <a:rPr b="1" lang="en-US" sz="5500" spc="-1" strike="noStrike">
                <a:solidFill>
                  <a:srgbClr val="000000"/>
                </a:solidFill>
                <a:latin typeface="Times New Roman"/>
              </a:rPr>
              <a:t>and make it thine;</a:t>
            </a:r>
            <a:br>
              <a:rPr sz="5500"/>
            </a:br>
            <a:r>
              <a:rPr b="1" lang="en-US" sz="5500" spc="-1" strike="noStrike">
                <a:solidFill>
                  <a:srgbClr val="000000"/>
                </a:solidFill>
                <a:latin typeface="Times New Roman"/>
              </a:rPr>
              <a:t>it shall be no longer mine.</a:t>
            </a:r>
            <a:br>
              <a:rPr sz="5500"/>
            </a:br>
            <a:r>
              <a:rPr b="1" lang="en-US" sz="5500" spc="-1" strike="noStrike">
                <a:solidFill>
                  <a:srgbClr val="000000"/>
                </a:solidFill>
                <a:latin typeface="Times New Roman"/>
              </a:rPr>
              <a:t>Take my heart,</a:t>
            </a:r>
            <a:br>
              <a:rPr sz="5500"/>
            </a:br>
            <a:r>
              <a:rPr b="1" lang="en-US" sz="5500" spc="-1" strike="noStrike">
                <a:solidFill>
                  <a:srgbClr val="000000"/>
                </a:solidFill>
                <a:latin typeface="Times New Roman"/>
              </a:rPr>
              <a:t>it is thine own;</a:t>
            </a:r>
            <a:br>
              <a:rPr sz="5500"/>
            </a:br>
            <a:r>
              <a:rPr b="1" lang="en-US" sz="5500" spc="-1" strike="noStrike">
                <a:solidFill>
                  <a:srgbClr val="000000"/>
                </a:solidFill>
                <a:latin typeface="Times New Roman"/>
              </a:rPr>
              <a:t>it shall be thy royal throne.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ke My Life, and Let It B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5257800"/>
            <a:ext cx="9144000" cy="1600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152280"/>
            <a:ext cx="9144000" cy="539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Take my love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my Lord, I pour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at thy feet its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treasure-store.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Take myself, and I will be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ever, only, all for thee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5638680"/>
            <a:ext cx="9144000" cy="1219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304920"/>
            <a:ext cx="876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ake My Life, and Let It B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9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905120"/>
            <a:ext cx="914400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1. Take my life, and let it b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onsecrated, Lord, to thee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ake my moment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my days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et them flow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 ceaseless prais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ke My Life, and Let It B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77600" y="990720"/>
            <a:ext cx="5760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Frances R. Havergal, 1873 (Rom. 12:1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ake my hand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et them m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the impulse of thy love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ake my fee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et them b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wift and beautiful for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Take my voi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et me s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ways, only, for my King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ake my lip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et them b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illed with messages from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ke My Life, and Let It B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</cp:lastModifiedBy>
  <dcterms:modified xsi:type="dcterms:W3CDTF">2011-03-05T14:04:50Z</dcterms:modified>
  <cp:revision>22</cp:revision>
  <dc:subject/>
  <dc:title>PowerPoint Presentation</dc:title>
</cp:coreProperties>
</file>