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C73-B9C6-4B07-BE5C-07DD9734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129-7CA7-45E5-95C9-8E30D700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9EF-84BC-4F62-9624-5182F257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B53-987A-45E4-B937-85FD0982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5DA-0DEE-4375-A09E-45CB7719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0A5-9DD2-4782-9F3E-E1623911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A91-CC46-416D-BBED-F66C4659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2D0-8D88-43D6-8842-C68E844C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FC4-3197-4904-8C31-EFA69756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23A-DF85-4B14-81AE-2E33991D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AA8-D2A2-4FA3-89FA-C537CBBB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9DD-3C3B-47CC-8167-CD319DE0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959E-C1E4-4F49-8E28-B6535DF38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Holiness of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209680"/>
            <a:ext cx="8763120" cy="375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 want to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ore hol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 permission of Anne Thur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oliness of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8240" y="1066680"/>
            <a:ext cx="418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Howard Thurman, USA, 20th cent.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e is the citade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all my desi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where my hopes are bor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the deep resolu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of my spirit take w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cent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my fears are nourish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all my ha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re nurtu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e my loves are cherish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all the deep hung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of my spirit are hono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without quive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without sh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88092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heart, above all el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let love and integr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envelop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until my love is perfec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the last vesti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my desiring is no long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n conflict with th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10168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 want to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more hol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7:51Z</dcterms:modified>
  <cp:revision>22</cp:revision>
  <dc:subject/>
  <dc:title>PowerPoint Presentation</dc:title>
</cp:coreProperties>
</file>