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17D-6A0A-418C-ABF2-4890D151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BF1-CF1A-415E-9229-A1ECDE8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7A3-C956-4B9D-8FBA-C0EEFB5D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6D2-ED2E-40A6-A8F5-08094C34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8B7-3B61-42FC-9D45-BB1BF020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6D6-FB7E-4B47-9A11-7C5DF62C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EFD-46D4-4D5E-88BB-1FC7AB98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96A-048D-4C61-8AF1-1ED066D9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FA0-5716-4814-B2DD-D14C2280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5B2-B5F8-482E-A5D2-3DB11C45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5EA-0B50-4F09-A59B-27BB410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581-CAC8-47AC-BE6D-8D51BE4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37E-CFD8-4EC0-A490-ED98C0D51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Pea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Dimly Sh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ay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imly shi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our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ers and dream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5840" y="1600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 P. Daw, Jr., 1982 (Is. 11:6-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, an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ed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elfish sche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words of h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from our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vy find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by God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rring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ee Christ’s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n shall the wo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hall the fie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vour the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easts and c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ly gra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ttle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lead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enemie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tru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fulfil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8:35Z</dcterms:modified>
  <cp:revision>59</cp:revision>
  <dc:subject/>
  <dc:title>PowerPoint Presentation</dc:title>
</cp:coreProperties>
</file>