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E07-8B7D-40D8-A47D-2CEC7165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B0D-1C18-483B-A861-5F704E04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824-3ADD-4AE9-9E6A-D33A30D6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E00-280D-44C0-8C0D-356B651D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F7A0-764C-44A3-83D0-9A24E25D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7026-E475-40B8-ADEC-38DF95BF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BAB5-0E58-4682-BE31-34D3F059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836C-1885-4210-95D2-B7B6DD73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2080-6465-4638-BF17-34DCEDA0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2E65-1BD9-4FB4-A496-07496110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6B64-D98D-40E4-80E3-3E233869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0E1-4664-49F9-8A35-01C4D4B3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FBC5-2958-471F-9BBA-5C6B5064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8FD3-A4E6-41A0-848E-416AC7E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DDCE-6B52-4B3B-85BB-B20F354A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AA6E-9363-4C22-A6DD-089B7235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382F-7CFA-4B62-9E9A-6E05F54F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AB7-C24C-4D63-816C-CFC9C37B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6DE-0EF1-47DC-99DC-86F6410D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BAD-AEAF-4E59-A8EA-FE4881D2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1C2-AFDF-438F-9AD1-A76275C6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6B8-BC10-4A1F-A915-5D153019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9E8-44B9-4470-B061-BBEA17C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707-66F4-4BBA-A0CE-BA0D5296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3FEF-1B1C-4B39-9961-CE56D1D4D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B71A-EB41-4533-A3A4-B224098E4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 Hour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080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Sweet hour of prayer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calls me fro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world of car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8480" y="762120"/>
            <a:ext cx="39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alford, 18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ason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tress and gr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has of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d relief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t esca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mpter’s sn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ret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oys I fe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iss I sha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ose whose anx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s b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trong desi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retu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uch I has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Go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s his f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adly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ation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ings sh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tition be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whose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ithful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gage the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to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ce he bi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his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e his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st his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cast o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every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034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bids me a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Father’s thro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ke all my wan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wishes know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 Hour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lls m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of care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8480" y="762120"/>
            <a:ext cx="39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alford, 18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ds me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ather’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ll my w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shes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17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seasons of distress and grief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oul has often found relief,     and oft escaped the tempter’s sna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thy retu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Sweet hour of pray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joys I feel, the bliss I share        of those whose anxious spirits bur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strong desires for thy return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such I hasten to the pla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God my Savio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ows his face,                                and gladly take my station the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17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Sweet hour of pray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wings shall my petition bear     to him whose truth and faithfuln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ngage the waiting soul to bles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74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ince he bids me seek his f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lieve his wor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rust his grace,                         I’ll cast on him my every ca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In seasons of distress &amp; grief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my soul has often found relief,     and oft escaped the tempter’s snar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by thy return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76320"/>
            <a:ext cx="9144000" cy="57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2. Sweet hour of prayer!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the joys I feel, the bliss I share        of those whose anxious spirits burn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with strong desires for thy return!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63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With such I hasten to the place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where God my Savior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shows his face,                                and gladly take my station ther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Sweet hour of prayer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y wings shall my petition bear     to him whose truth and faithfulnes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ngage the waiting soul to bles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320"/>
            <a:ext cx="9144000" cy="642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since he bids me seek his fac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believe his word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trust his grace,                         I’ll cast on him my every car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wait for the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 Hour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lls m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of care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8480" y="1066680"/>
            <a:ext cx="39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alford, 18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ds me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ather’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ll my w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shes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17T02:06:05Z</dcterms:modified>
  <cp:revision>10</cp:revision>
  <dc:subject/>
  <dc:title>PowerPoint Presentation</dc:title>
</cp:coreProperties>
</file>