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7B5-7953-4250-9D4A-B97D0EF2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14B-FEFA-4118-B87E-8E62A51C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A83-09FA-4B10-94C9-24C9840A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0FE-C265-4B7B-A6C9-08859468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7F1-E4CD-4A47-B5DA-ACCA3323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3C6-9B6E-4B20-84EE-4F18067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848-8007-4A81-AF23-67C6789F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5DE-27CF-428E-B904-AD7BB784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345-8A53-409D-BFCB-ADAA8CE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46D-9459-4D6F-A30E-78F8F28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87D-7D23-4AFA-B785-ACFA15D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29A-7E44-4D78-BB03-AFDFF740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06F-5D21-4209-B564-C1A915CE8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Who Throughou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se Forty D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who throug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forty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and pray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5494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udia F. Hernaman, 1873 (Mt. 4:1-11; Mk. 1:12-13; Lk. 4:1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ast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ending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at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ourn our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se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st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thou with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st cont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 win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us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to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 si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nger bear, and thi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eac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ous Lord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ie to 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iefly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wor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through thes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nit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ssiontide,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abid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bid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lif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over past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2:26Z</dcterms:modified>
  <cp:revision>27</cp:revision>
  <dc:subject/>
  <dc:title>PowerPoint Presentation</dc:title>
</cp:coreProperties>
</file>