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590-A94A-4F7A-88D2-20325911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0BA-EDFB-4D8A-8F31-F6C1C13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F96-764B-4C22-8D64-A845013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CC4-F274-4BB7-B148-FF350810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A9D-D971-49E2-8C2D-A57626DD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886-C6DB-4AA6-BFDF-DA6BE64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04D-57A6-4C54-AF02-3746063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C8F-BC07-4D8F-A674-476B79ED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DA1-B91A-48DE-A1D5-D58DCE59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4E3-355A-417B-BF2D-3EBB223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7AC-C617-4636-8DEE-401CD807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DB5-6356-4886-946C-3B9E28E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6A6-5CFD-40C0-A661-4727399CB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to Greet the 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greet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dening in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or-like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ly as a gr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5 Bliss W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480" y="114300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zu-ch’en, Chao, 1931; trans. by Mildred A. Wiant and Bliss Wiant, 194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pass high in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agrant flowers now blo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y toil resu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ther, I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keep this chi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y conduct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ons calm and mil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erating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teaching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serv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ing thy rich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y this day be bl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 Jesus’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freed from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blue sky’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or cotton c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food satisf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countless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d hand su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1:46Z</dcterms:modified>
  <cp:revision>14</cp:revision>
  <dc:subject/>
  <dc:title>PowerPoint Presentation</dc:title>
</cp:coreProperties>
</file>