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A2B-4D21-43C0-A373-C11EA81F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BFA-84FF-49DA-958C-50433B2F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825-D535-4C5E-A0CD-2F1EE5B1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47A-3BA8-43A3-843F-67124DCE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443-5D51-41B9-8A95-12948682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EDF-552E-4A94-A7DE-C5D655E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E6C-80CB-4B6E-BDFA-A7BBD4F8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750-ED5C-47D8-87AE-4A2B0095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71F-BF85-4731-8164-03828B26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1D2-B30E-4570-A9C2-67B5078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694-84A7-4D69-B720-D9391E7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D34-991D-42C1-AF90-3127CAF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39FA-7275-4C54-8F7E-45379E0E5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tos y Palma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Filled with Excit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73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u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06Z</dcterms:modified>
  <cp:revision>44</cp:revision>
  <dc:subject/>
  <dc:title>PowerPoint Presentation</dc:title>
</cp:coreProperties>
</file>