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A8D-73CA-4990-BECD-B67F446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B81-7823-40D0-A02F-02AACEF7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CBB-0690-4FBC-BEF4-49EE725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A15-68ED-4A5E-8EA3-AA60C3D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48E-70C1-467D-B61E-F0CA29C0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4E9-213F-42CE-BB9B-1A040264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3F1-E5AC-4EE9-A580-D158275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E69-F8B7-437A-A122-0D75E068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25A-F9FE-41BA-8831-41EDF61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69D-E82A-4A37-801A-42D9230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CAA-0A2A-4F32-B447-6BFC722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9CD-EB32-4465-871C-23B0F2A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43F-97EB-4243-9989-10BDE97E0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lead f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 (Eph. 2:8-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p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faith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whic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works is sh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ust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fa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cti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ve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quers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and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s whom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mad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s the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faith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nly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persev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app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ck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d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rks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41Z</dcterms:modified>
  <cp:revision>133</cp:revision>
  <dc:subject/>
  <dc:title>PowerPoint Presentation</dc:title>
</cp:coreProperties>
</file>