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7BF-203F-43DF-B17E-70027B57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8DC-EE3E-4C0A-969D-5C39A7C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9A3-B9E8-4A88-BD1A-C1632896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B83-E22D-4CE3-A151-C04F655B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9DC-DA1C-4BDC-9DFA-67FA80F6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25B-F998-4DE2-8DE8-67A95C55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21F-6E43-4C33-84E3-64692F10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653-7FBD-4649-96F8-2D6ECFDA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BF9-2B83-462B-B173-D89B562D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3C2-D416-402A-ACB3-53E36D6D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D9B-5558-41D7-91B5-6064E488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68E-EC5D-4CFD-8557-97109D9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CD9-00DF-4C15-AC15-210C17D4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or the bread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broken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the wine which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have pou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Louis F. Benson, 192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2. By this pledg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that you do love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by your gift of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peace restore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3. With our sai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ones in glor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seated at th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eavenly boar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s waiting for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4. In your service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defend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in our heart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keep watch and wa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30:08Z</dcterms:modified>
  <cp:revision>118</cp:revision>
  <dc:subject/>
  <dc:title>PowerPoint Presentation</dc:title>
</cp:coreProperties>
</file>