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A65-4953-43E4-A7C0-D2B5C9BD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0D5-5D61-4781-91EE-C86140FD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8A10-C228-4EB6-B8B8-9E955004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D71-0132-444C-9F70-A97AE269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56E-1B37-4460-B338-047466BB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770-676C-41EC-AEE0-3B616E4C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7D4-B7C8-4C98-B67D-46305F38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679-AB00-4673-8B82-9AA89012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D35-2987-40C2-9676-6FA2BF94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6A9-DEF5-41AD-AF7C-ECFDAB16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17F-6A7E-4637-9150-70767E36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E1E-1517-4B94-BF18-5D95F4CE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1F43-D74C-4139-B56D-2F90B1569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nd M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828800"/>
            <a:ext cx="8763120" cy="466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1. Send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send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send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sen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4 Utry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M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2280" y="1066680"/>
            <a:ext cx="45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Trad. South African (Is. 6: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287360"/>
            <a:ext cx="876312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ad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lead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lead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lea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M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287360"/>
            <a:ext cx="86868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ill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fill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fill me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fill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M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7:55Z</dcterms:modified>
  <cp:revision>8</cp:revision>
  <dc:subject/>
  <dc:title>PowerPoint Presentation</dc:title>
</cp:coreProperties>
</file>