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8B4-18A5-4975-9417-D54C82E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69A-1BBF-4422-A16A-4B39677F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158-D869-49B2-A08B-1B4CF666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87D-09FB-4382-B9A0-65A49405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A13-707D-4C28-A6B7-94CF4C2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707-C97C-4C5A-9237-E1E461E6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86F-435D-438B-A610-719051E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0FA-F263-423B-8AAF-C2F16367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E2F-E058-4173-A4CE-F348FB1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94F-6B02-4948-AAB5-D1A491DE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7A8-24BD-438D-8CAE-CC861B0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021-EC6C-4941-A2EA-8B783BFF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06BC-A8E6-4A1E-B2C1-7071558F3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Psalm 24; Response 1, Isaiah 6:3; Response 2, Psalm 24:3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b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dvent, All Saint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009880"/>
            <a:ext cx="8610480" cy="26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is the King of glo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506600"/>
            <a:ext cx="8610480" cy="40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06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44480"/>
            <a:ext cx="8610480" cy="33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6:54Z</dcterms:modified>
  <cp:revision>34</cp:revision>
  <dc:subject/>
  <dc:title>PowerPoint Presentation</dc:title>
</cp:coreProperties>
</file>