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68C-CBDE-4CCD-BB63-4061FC43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A19-DBB5-4229-B438-A0098E6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F78-1906-4953-BE03-16F1FA4D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F3C-53B0-484C-BFCE-85B8BC51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F3F-F9AA-4A0C-B67A-E16035C9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EA2-1281-4CC6-9A98-26C52B9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8EE-58C9-4449-BADF-EEDDD20D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D0D-76CC-4629-B15C-7150CB54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1BF-33AC-42BE-8EAB-564C2E18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B8-F023-462B-A30D-B935C2A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E41-30DF-4BD2-81B6-A15C631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859-F1C2-4B9D-B0EA-ED0A05F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EE4-B587-4E93-ADD0-A4576E8A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 and Dwell i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nd dwell i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power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, fear, and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1680" y="1066680"/>
            <a:ext cx="728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2 Cor. 3:17; 5:17; Heb. 11: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sten the joyful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all my sins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ld thing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ings new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ant the wit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I do 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rding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-pleasing in th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ask no higher st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ulge me but in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or l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ransl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bl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05Z</dcterms:modified>
  <cp:revision>7</cp:revision>
  <dc:subject/>
  <dc:title>PowerPoint Presentation</dc:title>
</cp:coreProperties>
</file>