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836-DE82-4B9C-B759-172F7997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A0A-B3BD-4DB1-BCF4-3B1433AC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5D2-AE0E-4652-A9A2-197D3919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AF3-027D-420E-9D1B-7AB10CE6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2B9-5A0A-4728-B538-E62A871F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54F-EB62-4413-910B-CFFC69A3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BDB-8814-40A3-B4FC-F443E1B5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332-1F85-4663-A5FB-78A88262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F94-A345-48B1-8709-E26DA6AA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181-1B12-484D-93E8-251B781F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F1D-A960-4C78-BB07-59BF39BF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FF2-74F3-43ED-80B8-3D81494A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CC5C-4D7E-481C-8692-33C1B45AE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90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 not know how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y as we ou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 Spirit intercedes for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sighs too deep for wor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from The Revised Standard Version of the Bible © 1946, 1952,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3120" y="110484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omans 8:26; Luke 11:9-10; adapt by Alan Luff, 1962, alt.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sk, and i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given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, and you will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ck, and i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pened to you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7160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do not know how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as we 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Spirit intercedes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ighs too deep for wor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all who ask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who seek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ose who kn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ill be open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479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do not know how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as we 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Spirit intercedes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ighs too deep for wor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9:43Z</dcterms:modified>
  <cp:revision>26</cp:revision>
  <dc:subject/>
  <dc:title>PowerPoint Presentation</dc:title>
</cp:coreProperties>
</file>