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7F0-43A0-43EE-859F-5A5EA1C0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162-A28B-4554-A5B5-6050FB68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528-DB99-45E5-AC8C-9C303CE8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099-F5AB-4F3F-AE7A-3AFB65FC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89C2-4185-44E8-A423-5CB1686F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5E6B-E52F-4A21-97A6-932B2C55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2DD7-7C33-467C-88BE-AA82D40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127-646F-4C77-8618-DDA7BBE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EF41-20E1-474F-9C35-A78C45CC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4FB-EC8B-476B-9917-BDF66BC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9F13-4C89-4F7D-97D4-11C13E9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940-CE28-472B-B36C-0D908B3B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F87D-0B24-498D-8CE9-BDC5C93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6748-C3CD-4E76-A262-52E9026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1DAA-E781-492B-B8D9-AAB49FCE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85AD-142F-4566-9B28-2831CEA1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088D-EF70-440A-8BA8-BF9A1F6F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204-30AB-45F6-B47B-2732F3AA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3A0-0C6B-428A-B184-E1869E60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4FF-8101-41DB-AA1A-A3763C2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1D8-2A1C-4BB6-ABC9-F2F270B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0E1-9FD6-4117-A6FA-034D4C3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8D2-BE76-4A12-95B5-40164300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664-F3B7-4420-834C-A284572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EFE-BE07-43C4-85FA-A698EEA1C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4458-BDBE-4E65-9613-BD11E572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4776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477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Nearer, my God, to the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’en though it be a cro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t raiseth 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rah F. Adams, 1841 (Gen. 28:10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Though like the wander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sun gone dow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rkness be over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 rest a sto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yet in my dreams I’d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There let the way app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eps unto heaven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ll that thou sendest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mercy given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096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gels to beckon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968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Then, with m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aking thought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right with thy prais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t of my stony grief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thel I’ll raise;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 by my woes to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, my God, to th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earer to the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968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5. Or if, on joyful w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leaving the sky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un, moon, and stars forgo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upward I fly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2-26T13:46:53Z</dcterms:modified>
  <cp:revision>56</cp:revision>
  <dc:subject/>
  <dc:title>PowerPoint Presentation</dc:title>
</cp:coreProperties>
</file>