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20D-180A-4D76-BD4D-A99BF92E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538-04EB-4C0C-9099-3A1EAED3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072-1323-4EE6-AED4-4AA4CE26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6F5-8AB6-453C-9A98-72669A20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111B-56C6-4193-9075-251EBC58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2CE3-B58C-4250-BC88-3AA12ED0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AD4E-1185-40C9-B762-033AB9C4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A3B3-A259-400B-88B4-1FC80B2A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238F-1BD7-4EB3-AA36-58BDA112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03EB-F5A5-4EF2-BA5E-D30DDEDD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CA1E-A07F-4CEE-9D75-4CFBCB78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498-A1AA-4B87-9829-FE700F5B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202B-79C4-4125-B5FB-BFA89299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200E-58D4-4159-B843-C69ADBCE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5FFD-5EF6-4AC8-AE6B-091E64D1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DD69-0294-4047-8EE8-A88C6DA1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D112-A51B-466E-83BB-BD78DF08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727-FBE9-4FA6-939F-FE487B92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E4D-35D1-4DB8-A281-65A44637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CFA-C470-43C5-9554-958C9B8F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00B-C89C-435E-9B80-8C57E63F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08F-4BAF-4216-A0D8-B4EE4F93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AB6-EBF3-4439-8BC1-8938BEF4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1D8-8DCF-4FD6-9BE1-4E5839BF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8F05-CA4F-4C55-8DA2-CFB535BBA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1489-FF52-487B-AC6E-387FE155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t Be the Dear Uniting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lest b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ear uniting lo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will not let us part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ur bodies ma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r off remov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till are one in heart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2 (1 Cor. 2:2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Partakers of the Savior’s gr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same in mind and hear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r joy, nor grief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r time, nor pl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r life, nor death can par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ined in on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e appoints we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in Jesus’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otsteps t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o his work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may we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thing know be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des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este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Jesu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all are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im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ch with each ag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m the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, we l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t point of unit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artak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in mind and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joy, nor gr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ime, nor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life, nor death can 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t Be the Dear Uniting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843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Blest be the dear uniting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will not let us par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bodies may far off rem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still are one in hear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144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2 (1 Cor. 2:2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Joined in one spirit to our H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he appoints we g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till in Jesus’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otsteps tr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do his work below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O may we ever walk in hi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nothing know bes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hing desi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hing este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Jesus crucifie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We all are one who him recei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each with each ag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im the 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Truth, we liv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est point of unit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5-19T21:55:49Z</dcterms:modified>
  <cp:revision>72</cp:revision>
  <dc:subject/>
  <dc:title>PowerPoint Presentation</dc:title>
</cp:coreProperties>
</file>