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656-3656-4312-9CC5-EEFC9F98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50C-5C10-4E60-AE35-3E2FAB6E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12F-6484-4D4E-ACF7-DEC1DD9D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94B-D5DA-4497-9574-CFC63FF5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AE1-42B6-4BEE-BF6B-428782C9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40CD-99A5-47C4-816E-B08DB3A9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8A7-6107-45D6-B839-5A943E08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BBB-F097-45EA-9869-D9D11637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4B0-855F-4066-800B-4AFC7AA3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C04-E78C-42DB-8496-47F4BDF6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FE7-87E6-4451-A324-3194890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3E1-1629-4070-BF0D-4ACC9274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E4A7-7531-4908-8D67-4060B66C6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d Your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73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Send your Wor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r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down upon the earth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 endless gr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7 The Hymnal Committee of the United Church of Christ in Jap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480" y="109224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Yasushige Imakoma, 1965; trans. by Nobuaki Hanaoka, 19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ul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nger and thi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rrow and agoniz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ould 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your guiding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wing down upon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rou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nes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ects all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y persist and cl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plete vic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t us all free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 d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gently upon the hill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eek your end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if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ffers in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dversities and hu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your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long for your new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9:34Z</dcterms:modified>
  <cp:revision>45</cp:revision>
  <dc:subject/>
  <dc:title>PowerPoint Presentation</dc:title>
</cp:coreProperties>
</file>