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C16-718A-4BC2-9BF5-20A94B3A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A1B-F72A-41D4-90AC-CEB0EC4E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B88-478F-481A-BA01-A09C6FA1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341-A36A-4E46-803D-1242920E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35E-8AEC-40A4-97B6-A9BF8C6E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7DE-D029-472B-865F-B5F8D4F9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588-BD57-475B-98DD-801B7FCE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D2B-296B-4939-B199-82CF7069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366-DE8E-42C8-832A-9ACC9C89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C2D-E59B-4FEE-A297-B842BEA4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FD2-3C45-44D8-988F-96574E43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54F-97A2-4F96-91AD-EE9D6F3E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1977-3F4D-4CB7-95A7-616F6AB6B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Wondrous Sight!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Vision F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wondrous s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sion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shall sh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9520" y="1549440"/>
            <a:ext cx="71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arum Breviary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495; trans. by John Mason Neale, 1851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Mt. 17:1-8; Mk. 9:2-8; Lk. 9:28-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ich in joy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s we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of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ymn of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Christ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 sh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brigh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 he glow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age to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le decl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e disciples the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Mos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ijah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olds conve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and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law and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have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o chosen witnes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’s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t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s his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a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ith shining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 ar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deign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est that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glory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eirs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joy in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erfec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nd faithful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raised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s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’s myste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0:19Z</dcterms:modified>
  <cp:revision>15</cp:revision>
  <dc:subject/>
  <dc:title>PowerPoint Presentation</dc:title>
</cp:coreProperties>
</file>