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FB00-F8C4-4586-BAA4-49E0D8C08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87BE-4567-441C-B2EF-9526F039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8BF4-72A8-474E-91BF-FA8F5991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A4BE-19BD-4308-8945-D8B19D77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9FAF-652F-4F49-9AFF-4B995B42B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13A9-EB2C-46C1-A6AC-30997E49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5096-1BFC-45AB-A103-50435551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CA8E-C862-4796-9649-AA441BD0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893E-B6F1-4ACB-8E6B-00B69A76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8EC3-481E-491A-96CA-91C6AC04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4EA7-DC1E-49D0-93F4-F6AB1F4A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7488-51D5-4675-A3B4-CFE85B7A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CAF4-7AC1-442A-87FA-A5B906A9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1CFC-51CF-4B5F-95D8-F59477F4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E1D5-FA28-4AAC-9163-22369C0E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81AE-A34D-41BD-9476-959D6F7CA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4524-B554-495D-BD7F-E417FA201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D84C-7BA4-4E94-8AC2-3C9C1DE6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1766-52C4-4BFE-9503-D5DF4C25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B00E-2E56-4BC3-969B-E4C4CCED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0A98-54C5-47A4-8CBE-1C3D042D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513B-A261-47E9-9A76-16F15C62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F231-8BF2-4193-9D36-BD1CA63E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CB2C-06C1-45F6-9926-27DECC8A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8555-94C5-4D0C-8412-A41525A70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0534-53BC-4A1E-84F1-139DD47B2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King of Lov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Shepherd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e King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hepherd i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goo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leth n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6880" y="1752480"/>
            <a:ext cx="3789360" cy="383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Henry W. Baker (Ps. 23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84320"/>
            <a:ext cx="9144000" cy="3934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. Where streams of living water flow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my ransomed soul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he leadeth;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and where the verdant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pastures grow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ith food celestial feedeth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28600"/>
            <a:ext cx="9144000" cy="3934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 Perverse and foolish, oft I strayed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but yet in love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he sought me;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and on his shoulder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gently laid, and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home, rejoicing, brought me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28600"/>
            <a:ext cx="9144000" cy="3934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4. In death’s dark vale I fear no ill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ith thee, dear Lord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beside me;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y rod and staff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my comfort still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y cross before to guide me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304920"/>
            <a:ext cx="9144000" cy="3934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5. Thou spreadst a table in my sight;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y unction grace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bestoweth;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and oh, what transport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of delight from thy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pure chalice floweth!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228600"/>
            <a:ext cx="9144000" cy="3934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6. And so through all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e length of day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y goodness faileth never;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Good Shepherd, may I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sing thy praise within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y house forever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nothing la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I am h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is mine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ere streams of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er fl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ansomed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here the verd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stures g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food celestial feede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76212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Perverse and fooli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t I stray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yet in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ought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 his shoul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ently laid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me, rejoicing, brought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n death’s dark va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fear no 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e, dear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side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rod and staf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comfort st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cross before to guide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ou spreadst a tab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si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unction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stowe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h, what transpo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delight from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re chalice flowet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And so through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ength of d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oo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leth nev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od Shepherd, may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thy praise with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ouse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3644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King of Lov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Shepherd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965240"/>
            <a:ext cx="9144000" cy="2151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The King of lov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y shepherd is,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ose goodness faileth neve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1371600"/>
            <a:ext cx="3789360" cy="383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Henry W. Baker (Ps. 23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2952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nothing la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I am h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is mine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8-03T00:43:59Z</dcterms:modified>
  <cp:revision>58</cp:revision>
  <dc:subject/>
  <dc:title>PowerPoint Presentation</dc:title>
</cp:coreProperties>
</file>