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E57-7124-43BA-8CA3-75E93906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E22-F46A-460D-999D-6ADF6638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14E-EE8C-4DFB-8848-00727670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F24-AD2F-4130-B593-13A89B69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460-519E-424A-A8D5-12B7E64D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757-8322-4ACF-8AE2-31E6E3B4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99E-B7D6-43C0-87B7-878E5C8B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2D8E-CA0A-4595-877C-3597757C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D58-DCAA-4FE6-8FD9-92C716C8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BC1-690E-47A4-BA5D-15A13A0C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84B-1BBC-4BFC-832F-7EDA97D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605-3A9B-4002-AFB8-D8AE8A3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CDC9-7A5B-4661-B4E3-8323121DE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There B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 there b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understa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nations g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be 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2000" y="1077840"/>
            <a:ext cx="325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rances W. Davis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pen our li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our minds to p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the door of con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ing into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erish the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 angry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mbs and hu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 fight for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allow our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 deaths of marty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ir holy free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 be your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Your kingdo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 turn to langu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speak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 never f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there b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our hearts to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ish the way of t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8:01Z</dcterms:modified>
  <cp:revision>10</cp:revision>
  <dc:subject/>
  <dc:title>PowerPoint Presentation</dc:title>
</cp:coreProperties>
</file>