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CA4-83E4-497D-853F-5A17E36B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A79-EB6A-4CA6-B8CF-B558D0D7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4C0-A1BE-4D58-8998-DDF4110F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7B2-103B-41E3-A55B-9AC9940A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4C6-FB85-4254-98CE-4651912F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742-A585-4D2E-A5BF-E919BA00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281-28B0-492C-BF7C-3A25323F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CD6-83D1-4DC7-92FD-0C6732A8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5BA-F2C7-4CCD-A849-509F004F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1A6-85E9-4487-B8BB-119213A8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9DC-A9BC-460E-8768-C0E458CA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BB3-4AED-4D23-B046-21AB15A5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32F8-59A1-459B-8EB1-658A4513B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tany for Christian 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36640"/>
            <a:ext cx="8839080" cy="458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ask the Lord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engthen in all Christia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ith in Christ, the Savi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The Crossroad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any for Christian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42400" y="1143000"/>
            <a:ext cx="56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arol Wojtyla (Pope John Paul II), Poland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ask the Lord to sust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uide Christians with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fts along the way to full un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ask the Lord fo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ft of unity and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455760"/>
            <a:ext cx="88390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. We ask you, 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for the gifts of your Spirit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Enable us to penetr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e depth of the who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ruth, and grant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we may share with oth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e goods you have p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t our dispos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ach us to overcome division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Send us your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lead to full unity your 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daughters in full char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obedience to your wil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rough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9:54Z</dcterms:modified>
  <cp:revision>33</cp:revision>
  <dc:subject/>
  <dc:title>PowerPoint Presentation</dc:title>
</cp:coreProperties>
</file>