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74B-7603-4703-BE19-BC89BBCA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382-EF20-46B9-B0ED-10D84F3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7E5-CD42-4F51-AE70-15693B3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5AA-1E83-4D23-9FB9-F27A55E7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F49-0E29-4CC0-9D68-970CB7F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B1F-0FAC-4C62-A125-1BF2098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2C5-6980-488B-8309-AF77A854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56C-2E08-4B9E-94CB-05D814C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8C7-CEB5-4A8B-8302-930F0AE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E7D-5907-472C-BFA5-65D131E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DCB-7B36-4265-8315-4E84AF7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5D2-F4BD-408C-B465-9794BB06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B81-8FB0-43C7-81AA-97E4C25C7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are the Eag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s Her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 care the eag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s her you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fe in her lofty n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like the tender love of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us made manif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2880" y="160020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. Deane Postlethwaite (Dt. 32: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when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ventur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stir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are 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ldly 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rive for daring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utter helples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ledgling eagle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us l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ight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us,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28Z</dcterms:modified>
  <cp:revision>33</cp:revision>
  <dc:subject/>
  <dc:title>PowerPoint Presentation</dc:title>
</cp:coreProperties>
</file>