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84F-6AD3-476A-A97D-5880E877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17C-07C5-4222-9466-8E4A5725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36C-5390-4347-A43E-4D263A9B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493-4430-47F6-A426-4B041D7F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1DD-2EC3-4272-859D-4C23AFAC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658-7641-459D-BA9D-DD3BB1F9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E0A-A0C8-471F-A648-B58BB08D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741-0105-4F7C-9F2C-04D4F0E7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F10-9124-47B3-B7C2-B78B7BEB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D8B-5ADF-403F-996F-F7A30233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5D9-C30F-4020-A0C6-5CD6BD15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AA5-7563-4D01-B8EF-52A3F4B9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E193-2308-4478-B6C5-C4879E9D6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reath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Breath of Lif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ome sweeping through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evive your chur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life and powe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eath of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7960" y="1143000"/>
            <a:ext cx="586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essie Porter Head, 1920 (Acts 2; Jn. 20:22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reath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cleanse, rene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t 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et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Win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bend us, break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humbl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ess our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eath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in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ness remak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e, rest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we p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Breath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breathe with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ing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and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Breath of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ove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resh to win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ve your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40Z</dcterms:modified>
  <cp:revision>14</cp:revision>
  <dc:subject/>
  <dc:title>PowerPoint Presentation</dc:title>
</cp:coreProperties>
</file>