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673-1FE1-4A80-BCE2-EA547795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B9C-37EB-429D-B9F4-C2EF0D28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B2C-1D28-4373-8320-D8D276FB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CA0-12A8-48D1-A923-11479AD4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3A4-8A69-4D12-833C-F31A6F4B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4BC-20B6-4DAE-92FF-E6D8F6B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748-8B66-4ECB-920F-3D6765B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0B9-8D5B-4C21-98DF-2B0F5A18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BFF-2408-4C34-AC7F-F76C79B4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B3F-B3BA-4CC8-9F3C-7648326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F83-8556-4A87-8E2A-81E9602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9CE-C63A-43A4-9A11-CFBD365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40A0-D31C-4F59-9D92-3DC45ACB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 of the Nations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, co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rgin’s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re make thy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9400" y="118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s. 1, 2 Martin Luther, 1523, trans. by William Reynolds, 1851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t. 3-5 Martin L. Seltz, 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no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light subdu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our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vel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eaven and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ose such a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by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esh and bl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the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man’s off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and fre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ondrous birth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Virg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defil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a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vin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ger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race to r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his sour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uns his cour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wn to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l desc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high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reasc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thy mang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o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llow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ewbor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7:24Z</dcterms:modified>
  <cp:revision>58</cp:revision>
  <dc:subject/>
  <dc:title>PowerPoint Presentation</dc:title>
</cp:coreProperties>
</file>