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468-095B-4E22-BC52-20889890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49A-D72C-44B3-A9A9-94156753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22F-0202-4609-8587-D869EF31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E90-2E3A-44FF-83F3-C1A01650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C3BC-7A6D-43A0-B90E-896E79C9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C512-2E82-4FB8-874C-FC4931A1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D29E-B68C-47DB-9F4E-280E293E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9A54-4F2D-4D2F-80F8-449A1C60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0B3-1691-4123-9A47-103DE37D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13ED-6E6E-4DE7-9472-FADD564F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224C-3E72-4D4B-BFB9-DA8DD34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F4C-7EE8-481B-92D2-C88EC566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2911-B4CA-4B9F-90CA-32A09718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AE17-0F43-4465-AF2A-B98C113E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4500-EC5F-450C-8DE2-6B65C751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2C2B-7103-47BF-BE76-5411107E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E9C4-64CA-47B5-93E1-27F8AA48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5CE-C55E-4D1B-9873-288259DA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E00-03EA-45AB-9327-EAC896AE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546-6D9C-4216-9A91-94D383BC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C36-B6DC-4CB0-B7E6-32B5CF04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A7D-DA9F-43D8-852A-499CE0AF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9F4-8EA6-4957-9EFE-D036791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D14-2003-4612-811D-0B0BB07F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D357-E21F-4357-A747-83F7CAC5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4193-0C1E-4143-A2A8-ACF550FB5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 Me, Hand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9544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Heal me, hands of Jes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search out all my pai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tore my hope,  remove my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bring me peace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4280" y="762120"/>
            <a:ext cx="56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Perry, 1982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leanse me, bloo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bitternes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ne for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Know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me all my s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pel the memories of g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ill me, joy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xiety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enity b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 brings me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l Me, Hand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5740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al me, hand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rch out all my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ore my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ove my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8280" y="1192320"/>
            <a:ext cx="30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Perry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leans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bitternes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ne for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Know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 me all my s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pel the memories of g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me peac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ill me, joy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xiety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enity b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esus brings me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4-05T00:43:44Z</dcterms:modified>
  <cp:revision>25</cp:revision>
  <dc:subject/>
  <dc:title>PowerPoint Presentation</dc:title>
</cp:coreProperties>
</file>