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00F-D2CF-4B70-B804-EF4C6488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22B-204B-4E24-A934-791DBE9A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10E-2B6E-4775-8DB8-4C24CD7E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61C-6A93-4B66-8B3C-45FFF0C5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77B-99A3-45D0-BB23-49D942A3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F9F1-AED5-45BB-9F46-738D8798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A806-3F13-4FF4-B563-DE7CE4F1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FE31-D9C1-4C77-9D52-C864AF6A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2A75-F72B-47DC-8ED3-EC2B3191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041-BF7C-44D4-BD00-1B9ACD5F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1DF-4118-4905-A5B4-E7DA9E3A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8AFD-C3CD-43AE-AD3B-A8075792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1C19-9298-498F-A21A-0EF1FF2C9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Ye Sinners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oor and Need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152388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seph Hart, 1759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ye sinn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or and nee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ak and wou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ck and sore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tar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you’re bet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will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t all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27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ar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to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embrac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arms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my dea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there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n thousand charms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Let not consci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you li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of fi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ndly dream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fi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require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to feel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him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27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ar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to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embrac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arms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my dea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there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n thousand charms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rea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s to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p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and power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ar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to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embrac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arms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my dea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there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n thousand charms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2. Come, ye thirst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and welco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free bounty glorify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ue belief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ue repent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grace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s you nigh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27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ar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to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embrac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arms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my dea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there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n thousand charms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ome ye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y la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t and rui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e fall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2-24T22:44:00Z</dcterms:modified>
  <cp:revision>97</cp:revision>
  <dc:subject/>
  <dc:title>PowerPoint Presentation</dc:title>
</cp:coreProperties>
</file>