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FEA0-F18B-46EA-AFA9-DB697634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E247-B0CF-4673-B4DF-094DD7A3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6C8D-14C7-4DC5-B50E-55362392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BCCA-5E8A-4FCE-966D-E77C1C16B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3428-78FF-4E6A-9FFD-A61EEC7A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639D-A321-4194-B1D7-09D6FEC5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1F33-FFBB-44CD-A327-0C2A98D0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3373-2987-4B08-A4A3-7285BB09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4119-9B37-4336-96A3-B760B3AA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5656-135D-418B-833B-FE276486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24A7-C0AA-497E-AD2B-E92EEA73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0BB4-C6E5-494A-95FF-06C75C77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3E09-8443-4935-9F8D-E6E528469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aya Ho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Victory Hym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9588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onetic transcription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31840" y="1461960"/>
            <a:ext cx="688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on. Hindi; trans. by Katherine R. Rohrbough, 1958;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honetic transcription from the Hindi by I-to Loh, 19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438280"/>
            <a:ext cx="91440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1143000"/>
            <a:ext cx="8915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1295280"/>
            <a:ext cx="8915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ho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182880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Unison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h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981080"/>
            <a:ext cx="9144000" cy="269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come before th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 Great and Hol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Great and Ho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752480"/>
            <a:ext cx="9144000" cy="277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bow our head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, Great and Hol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reat and Ho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1447920"/>
            <a:ext cx="89154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w at thy feet w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bow in quiet reveren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then sing thy prais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evermore repeating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121932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330200"/>
            <a:ext cx="914400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1600200"/>
            <a:ext cx="8915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1523880"/>
            <a:ext cx="89154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ho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952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82880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Unison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676520"/>
            <a:ext cx="9144000" cy="26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let us see th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grant us a visio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ant us a visio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600200"/>
            <a:ext cx="9144000" cy="26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s and denial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ar Lord, forgive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ar Lord, forgive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67652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us and keep 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in thy strong protectio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safe in thy refug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we will sing thy prais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5120" y="1143000"/>
            <a:ext cx="86788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600200"/>
            <a:ext cx="914400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1523880"/>
            <a:ext cx="8915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1600200"/>
            <a:ext cx="89154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ho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175248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Unison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7160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ho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7524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Unison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76520"/>
            <a:ext cx="9144000" cy="272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re sana muk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ham hain 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Ham hain a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05120"/>
            <a:ext cx="9144000" cy="277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 ra no may h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sha nav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sha  nav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47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teri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m hain gat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teri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m hain g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1143000"/>
            <a:ext cx="89154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ho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371600"/>
            <a:ext cx="914400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7:13Z</dcterms:modified>
  <cp:revision>21</cp:revision>
  <dc:subject/>
  <dc:title>PowerPoint Presentation</dc:title>
</cp:coreProperties>
</file>