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41C-C727-49EB-9B29-6EE745B3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709-35FB-4B91-8F7F-C81F41A9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1B5-C69B-499F-B3C2-3090B72A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793-FB79-4A7B-9ED9-3594B45A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B43-BB89-41DA-AB73-18B5726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50A-A48D-4BCF-8D25-6A59170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578-1708-475B-9788-9DDB2FA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B9F-0142-404B-9485-46AABE9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CDD-3F81-4B4B-B8D1-2ED21B9B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FF1-135C-4984-A976-82E3678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0E4-4153-4D5A-AFC2-A81A740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953-79A7-44FB-8F6A-FCFF073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DD6-ADED-470F-A23F-269814D7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and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and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1440"/>
            <a:ext cx="8915400" cy="51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just as the disciples heard Christ’s words of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began to eat the brea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rink the wine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uffering of a long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rance and in the joy of hope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6 Fortr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rant that we may hear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ords, spoken in each thing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veryday affairs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Coffee, on our tab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in the morning;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the simple gesture of open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a door to go out, free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houts of childr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park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amiliar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ung by an unfamiliar f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riendly tree that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t yet been cut d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simple things speak 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 your mercy, and tell u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ife can be good. An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se sacramental gifts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member those who do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ceiv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ve their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ut ever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bread abs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rom the tab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the door of the hospit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prison, the welfare h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does not op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ad childr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eet without sh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yes without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war hymns that glorify dea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deserts where o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re was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as also sacrific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we learn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a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crifice of Christ when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uffer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little one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45Z</dcterms:modified>
  <cp:revision>138</cp:revision>
  <dc:subject/>
  <dc:title>PowerPoint Presentation</dc:title>
</cp:coreProperties>
</file>