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6AF-DBCC-42B0-8358-A399ABBD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29F-3F40-4B90-96E4-ADB34A8B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933-81B4-4F4C-B4AB-4658DDA9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D7B-C4B5-476D-8E74-2FE8FD06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6A2-AAE6-4860-BE40-CFFC5669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AB2-9BE9-4432-9F82-0A89E34B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89D-F746-4CDB-854E-90274841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0DD-BB69-445E-ACA0-378190BB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B51-3CDD-4F59-8572-AD2FD233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54F-905D-4EAC-9048-0E29DF1F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8AC-9B6A-4F32-9EE9-EFD6B71E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EB9-DB4D-45B8-8EF9-CF633F7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0F0C-BA84-4EF5-A78E-2024B2E21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ke, Awak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Night Is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ake, aw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ight is fl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tchmen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ghts are cry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, Jerusalem,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8520" y="152388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ipp Nicolai, 1599; trans.  by Catherine Winkworth, 1858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Rom. 13: 11-12; Mt. 25:1-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ne pear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shining p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hoir im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azzling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ye hath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ar hath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tained to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re is ou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ymn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night h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elcome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t the thri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rej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forth, ye virg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ight is p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idegr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, aw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amp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ness t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his marri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prep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e must g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et him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Zion h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tchmen s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her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 is spring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kes, she r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r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down all-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ong in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th victorio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Star is ris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Light is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h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bles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beloved S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lls we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ou has bi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le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ints and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bef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arp and cymba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est 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0:09Z</dcterms:modified>
  <cp:revision>57</cp:revision>
  <dc:subject/>
  <dc:title>PowerPoint Presentation</dc:title>
</cp:coreProperties>
</file>