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E0DD-387F-4635-9B90-CCDC9FED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E35A-4914-4B4A-AB0D-75D752A1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D0C2-5DC2-4347-8A28-DEA5D6CD1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ED8D-DE61-4158-B4CD-D1A6BB8B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AEF4-2045-480A-BB96-50FC54D81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E487-0AE7-4584-9CC8-0474E516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85F9-1163-4DEB-9C8C-F4D25EFA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FA85-9A25-4A27-A26D-801B332D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57B6-664F-47DC-9F6C-F5FB6CA9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2340-B426-498A-9EAD-029C95E3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D515-821F-4E8F-8EA5-7F7BA7D3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7296-D6E8-420C-8893-8F068439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EF23-08CC-4A1C-AEAA-37C7F073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321A-B90B-4098-8808-499B6CFC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48F9-4D9C-4D3B-B044-01A40264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10BF-E8D5-4500-B52B-ADFF06BE4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5BDE-D687-4D35-B20A-D605CBE1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C86D-A6CF-44F4-BD68-B034CF75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BB29-248E-4AD5-BFDC-67FBF334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F623-39A8-41E8-B80E-CAAF1489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8649-3301-4FD5-BC25-7A699363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3E18-889A-4A6C-BA8C-3C6997C1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D980-CF26-4C6B-97F5-5F6BB484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A8C9-30A3-43E8-91E3-5ACB57B1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FAA6-C19F-4AB3-A12D-3E22C03F7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D4EB-87A1-46D1-B760-AA0E2C409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Things Bright and Beauti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6765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b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aut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and sm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2840" y="1015920"/>
            <a:ext cx="56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ecil Frances Alexander, 1848 (Gen. 1: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b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aut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and sm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w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fu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them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od gav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yes to see t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ps that we might t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grea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Almigh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has ma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we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b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aut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and sm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w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fu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them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3049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Things Bright and Beauti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676520"/>
            <a:ext cx="9144000" cy="244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bright and beaut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ures great and sm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840" y="1015920"/>
            <a:ext cx="56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ecil Frances Alexander, 1848 (Gen. 1: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w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fu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them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53352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Each little flower that open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ach little bird that sing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od made thei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lowing color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made their tiny wing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387360"/>
            <a:ext cx="9144000" cy="358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creatures great and small, all things wise and wonderful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Lord God made them a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53352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The purple-headed mountain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river running b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sunse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the morn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 brightens up the sk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w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fu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them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87360"/>
            <a:ext cx="9144000" cy="358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creatures great and small,           all things wise and wonderful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Lord God made them a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53352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The cold wind in the winte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leasant summer su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ripe fruit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the garden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od made them every o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80880"/>
            <a:ext cx="9144000" cy="358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creatures great and small,           all things wise and wonderful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Lord God made them a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22860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 God gave us eyes to see them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lips that we might tel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great 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od Almight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 has mad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things we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533520"/>
            <a:ext cx="9144000" cy="358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creatures great and small,           all things wise and wonderful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Lord God made them a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Each little fl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ope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little bird that s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made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wing colo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de their tiny w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b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aut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and sm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w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fu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them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 purple-hea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untai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iver running b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uns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rightens up the sk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b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aut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and sm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w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fu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them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cold w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win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leasant summer s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ipe fru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garde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made them every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10-14T00:03:34Z</dcterms:modified>
  <cp:revision>9</cp:revision>
  <dc:subject/>
  <dc:title>PowerPoint Presentation</dc:title>
</cp:coreProperties>
</file>