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100-65E1-4148-8601-BCFB30DA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326-BF1F-45D0-A383-6500847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45F-8556-4C43-BCF2-70907A34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B9D-3003-46EC-AEB9-68B60077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D052-1C18-49C3-AAAC-5C2620F9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5EFE-380C-4F98-94F1-0E07493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903-E61B-4185-921B-391DEBE6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1B47-C48D-4E27-8778-1F56F765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F7C-8A62-4F2E-90ED-8E782118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4A7-E7FF-40A0-99A1-CCCF766C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1F0E-EADF-46B0-A8DD-7845F75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7FF-F9F4-4936-A22A-DE5BD9B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3DBD-22B6-4ADA-A3F9-851B4DD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C67-09B3-4087-99D3-75B1FF0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0C1D-0EE3-4587-8FF2-DA79650B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A7FD-080E-4CAE-99D3-475B4CF4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743-E59D-4C68-9B44-DB652A1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AC87-C104-472D-9EAF-AEBFCEB6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6F48-1BE6-44B2-8570-8C3CA8D9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DA0C7-F593-4CAF-A09A-A1CAE4C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9A38-24A4-410E-A0C2-42EA3E1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39B6-DD88-4BA8-85CA-989525E8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949-CA67-4967-B27E-878D7690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C3BD-4004-41B2-B9BB-D6B5446A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6704-A884-4D3B-8DB5-A9B685E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B8AE-C916-44ED-A634-2DBAC224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6683-644B-46EA-96BB-BC10717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DC0B-8183-4F49-B217-2880F0C0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6F53-75B1-4125-B973-FB185B88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19C0-4D7A-42F8-84EB-57F8E29A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71A-C13D-420E-8ED7-DCE89CCE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5EC-9BEB-43AD-B3F7-8AA684F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6F7-383C-4FB7-AFE3-66889736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B35-2077-4BCE-B119-A88D1C6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3A9-7596-4CEE-9C96-F1C230F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BA6-0451-45F0-9E2D-BF19ED7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59FB-8032-429A-A565-37CFB875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6DF-8B7C-4DBA-8B13-80B1191CF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D45-30A4-4012-BC3E-6EF5A2B72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14479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98900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166680"/>
            <a:ext cx="9144000" cy="387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hepher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eared and tremb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lo! above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ang out the angel chor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Down in a lowly mang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Christ was bor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ent us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bless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m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52280"/>
            <a:ext cx="9144000" cy="43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whe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894800" y="304920"/>
            <a:ext cx="1249200" cy="65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251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482920" y="1447920"/>
            <a:ext cx="6661080" cy="473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989360" y="10159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46160" y="1285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1. While shepherds kep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ir watching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’er silent flocks by night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behold throughout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eaven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re shown a holy light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839960" y="906480"/>
            <a:ext cx="730404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68360" y="1096920"/>
            <a:ext cx="6875640" cy="347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2. The shepherd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feared and trembled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when lo! above the earth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rang out the angel choru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hail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Savior’s birth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00160" y="906480"/>
            <a:ext cx="7143840" cy="370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ile shepherds ke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wat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silent flocks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hown a holy l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946160" y="1477800"/>
            <a:ext cx="7197840" cy="291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3. Down in a lowly manger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e humble Christ was bor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God sent us salvation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blessed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Christmas m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14720" y="1179360"/>
            <a:ext cx="6518160" cy="359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over the hills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and everywhere;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152280"/>
            <a:ext cx="830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 kep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watch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silent flocks by night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roughout the heave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own a holy light.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587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feared and tremble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lo! above the earth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ng out the angel chor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ailed the Savior’s birth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d9e3d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51768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Over the hill and everywhe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Go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born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own in a lowly mang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umble Christ was bor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ent us salv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blessed Christmas m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ed and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! above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g out the angel chor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a lowly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ble Christ wa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sent us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mas m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whe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Jesus Christ is bor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5228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Go, Tell It on the Mount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5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1143000"/>
            <a:ext cx="9144000" cy="326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the hills and everywhe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go, tell it on the mountai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born.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989000" y="762120"/>
            <a:ext cx="516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hn W. Works, Jr., 1907 (Lk. 2:8-20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ile shepherds kep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silent flocks by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throughout the heave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shown a holy light.</a:t>
            </a:r>
            <a:endParaRPr b="1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12-31T14:34:47Z</dcterms:modified>
  <cp:revision>14</cp:revision>
  <dc:subject/>
  <dc:title>PowerPoint Presentation</dc:title>
</cp:coreProperties>
</file>