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2EA8-7550-4A36-8E50-C4A88AC0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2A8-9B56-4E8A-9504-6597C597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D2FD-25DC-4B17-8301-393FB4BA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068-43B5-4E42-B455-C8C1A110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631-80B4-49DF-B451-3FC53468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4F94-03AD-4804-9A2E-A5DE38E4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A90A-58D0-4A28-A7DA-BCDFFC25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9CC-D679-4E3C-A666-DD07695C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13EE-82CC-4A52-A997-3906875A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75BE-EC40-4C35-88F2-20C98AB7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61BE-949B-4F34-A571-582BE478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F75D-88E8-443C-AFED-531FCD7C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6B5D-F643-489E-8584-5BA05998E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 Tierra Lejana Venimos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From a Distant Ho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12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De tierra leja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enimos a ver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s sirve de guí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estrella de Orien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63, 1980 Walter Ehret and George K. Evans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Walton Music Cor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ienim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494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rad. Puerto Rican carol; trans. by George K. Evans (Mt.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l N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 del cie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bajó a la tierr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 regalo mir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inspira tristez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i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i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From a distant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vior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see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ing as our gu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ar s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ly beam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52560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lowing gold I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born ba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ken of his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eign above in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52560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rankincense I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il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own choo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ken of our pray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aven ever ri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i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52560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itter myrrh hav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infant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ken of the pai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 will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2560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l re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n naci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es Rey de los rey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o le rega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ra ornar sus sien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i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i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omo es Dios el N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 regalo incien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rfume con alm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su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ta el ciel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i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i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9:24Z</dcterms:modified>
  <cp:revision>18</cp:revision>
  <dc:subject/>
  <dc:title>PowerPoint Presentation</dc:title>
</cp:coreProperties>
</file>