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BFBA-AE0F-40E3-A8AD-066484D09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5F11-FEE3-4A47-ACE7-85A192CAF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F86D-55A9-4310-A8F2-DAC9B93A2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3397-DCC4-43A5-8F62-400E70B1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8D6-E340-4EB3-A01A-E5AB4C22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4F6-1DF5-41F6-8B8C-37C2FC76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85F-AF3B-44EC-9D24-E576DC962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A696-3C4B-4BEB-9C97-FE2ABB7F3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AA08-949E-477A-9F23-E79F8578D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C57-DA56-43C2-90E0-050E2AC6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9728-17DC-4637-A535-D522050A4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345B-32BE-42CC-A05E-1CECA075A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5FAB-1975-4621-9294-21EAEB5C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D4F-E561-42A5-8C6C-F0110F27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158F-904C-4DAA-AEA1-BAD0FAC4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E998-739F-420F-A06C-71F44B433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71C7-B9A1-4E4C-B493-B96C7E41B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C09-B1D9-4439-8A07-7DAA6CB0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5E6-C41B-4CBA-A8C5-451424C2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E55-0C08-488D-B671-9CB67611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91C-F8C6-4E85-9A5A-0015410B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08D9-AF23-4296-ACD0-8CB16F89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3BC7-0DED-4C67-AA24-76161531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16F-15A2-40C4-BCB2-08BDEB14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9CA-907E-49DE-B8CA-D2EB0FDE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CB6E-266B-4DB3-A047-2FA9E29A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4E68-C7EF-4FD5-AEDF-6519D3D6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F883-62FD-43E9-9DD0-F6072ABD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2D7-0ACD-4F9F-AECA-BA89D9A6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3685-A1AA-4BBB-9823-F7AC69B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14EA-728F-4F40-A97C-FD8442B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962C-DE76-4652-80FC-16161073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8AF7-9601-42AB-9895-B0CA7239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AF0E-D030-45C1-B93C-A62B9620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FFD-2FE3-4377-9233-A6C8F708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ED6-51D5-466F-A4B9-606E36A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BC1-729D-4436-B2FC-DE16CE86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CD0-3F2F-45AA-B390-2CB271E1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A55-8B89-4345-A69A-55CEFCA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F10-9F00-4748-94B5-411E262F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563-2946-4775-966C-7D92489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4B5E-6D6C-4E8B-A224-023AF36FE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370-9D86-4276-9C34-FDECB8D44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t Forth b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’s Bless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Omer Westendorf, 196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0" y="2057400"/>
            <a:ext cx="9144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orth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rue faith conf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is dwelling take le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World Library Publication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533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rvice is end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now be extend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uits of our worship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who believ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of the teach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receptive souls reach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lossom in ac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and for all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ace did invite 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shall unite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work fo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kingd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 the call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g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ever liv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ask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everyday life we will fac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457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ith ever sha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ve ever ca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mbracing God’s childre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each tribe and rac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152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gr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 feed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light now lead u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ite us as one in t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we shar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824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n may all the l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nksg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onor to Chri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we bear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rvice is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ow be exte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uits of our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who belie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ed of the t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ptive souls 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lossom in a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and for 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did invit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shall unit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swer the c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ra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eve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we will f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ith ever sh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ever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racing God’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ch tribe and 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fe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light now lea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as on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hat we sha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may all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honor to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ea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Sent Forth by God’s Bless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66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685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Omer Westendorf, 196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83808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1" i="1" lang="en-US" sz="54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ent forth b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bles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ur true faith confes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y people of Go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is dwelling take leav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4 World Library Publication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2T02:05:04Z</dcterms:modified>
  <cp:revision>157</cp:revision>
  <dc:subject/>
  <dc:title>PowerPoint Presentation</dc:title>
</cp:coreProperties>
</file>