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C12-3CF8-4B35-B7B7-00DE911D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B9D-0F2D-43D2-947F-84AF5E04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C25-43A4-41E4-8ED9-B7AA061E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730-3B17-4F3A-B969-56B06AF8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E2B-F039-408B-9364-BE5E789D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36F-C58E-4298-9010-4B4669D5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E4C-C36B-456A-B581-1F046D3C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9DE-5AB2-43E6-9A3C-DFBCF684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69D-BC4D-4BB2-B11C-29582790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591-296E-4E88-A4F1-9185C5C6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59E-164B-4D24-AB0D-45FB8834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096-17AC-4053-A1C7-0B17790C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FA21-4C30-4574-9325-A92032943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Unit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Christ’s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1952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p each of us, 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live in such magnanim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stra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Unity of Christ’s B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2760" y="1828800"/>
            <a:ext cx="187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inese Pra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the Head of the chur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never have cause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ay to any one of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“This is my bod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roken by you.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6:49:44Z</dcterms:modified>
  <cp:revision>12</cp:revision>
  <dc:subject/>
  <dc:title>PowerPoint Presentation</dc:title>
</cp:coreProperties>
</file>