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A62-685E-4FE2-952B-2701ED64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434-DB66-4B0E-94BC-0AD8A6EA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7E9-C761-4119-8C3C-9C2A016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C2D-B1AF-4667-9086-A1A25640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D06-9231-495D-B8B2-0CB9779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D52-9919-4503-84A8-1F7AC71E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AC7-2E81-46DA-ABE0-9F025C6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85A-3A50-46C0-BD6E-E506621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0C9-8D49-4582-9ACE-81672E8A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934-7306-4975-AB6B-71B29C9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53E-049E-4164-B5C0-E1BE9D3B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C9F-8AAB-4177-848C-F6423E1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6203-7FDA-4E7B-A023-1630EC50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k Thou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read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93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reak thou the brea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 the lo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ary A. Lathbury, 18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 sacred p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k the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pants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ving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less thou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dear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age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fetter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35Z</dcterms:modified>
  <cp:revision>100</cp:revision>
  <dc:subject/>
  <dc:title>PowerPoint Presentation</dc:title>
</cp:coreProperties>
</file>