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EF2-85D8-4FBC-8799-DFA69AD0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8AD-8D8E-4803-9A6D-7100051D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BBF-CC5F-44B1-9B86-CF66EBA6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3E6-89C3-4DF0-83B4-D37A8B07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6731-2552-4ACA-86B4-DC2BEC43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DE96-6195-4498-B571-FA52E62E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27AB-3CDA-41D4-92A2-47703DE4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5699-26AC-4F76-97A9-36681FC8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4390-D131-45DD-871D-0E6C3788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2B5E-83F4-4F7B-B837-C6F039C0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5806-1AB4-47D9-9E66-6E8A735C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6F5-96DC-4F8F-984D-2DA85819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B53D-132E-4352-8977-2DA88E22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FCAE-136E-4D8A-B68F-8AE1A3CC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9CF8-5B39-4D23-962C-5C10A63C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76C0-5472-4944-BE48-0361FD45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A6B6-0CE2-4D67-96F3-D65C3E7D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24D-86E0-41EA-A325-BC3EFA06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B41-DEB1-45C3-93C4-0618ACAA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D758-7C71-49F0-824E-ED29BC16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BC4-3DA6-440C-9D08-F751EF49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9CA-4D80-43B8-8E9B-9CAB817B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AC1-3E46-4940-8201-B85CD278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C82-E913-4F15-87D7-BC61B4E4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319D-B693-4DC6-9499-3189144CE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B88A-36B9-4B37-B4FC-296C37F14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for the World We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 fo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ing zea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amuel Wolcott, 1869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poor, and t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mou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faint and overbor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in-sick and sorrow-wo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m Christ doth hea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 for the 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ervent pray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wayward and the lo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restless passions toss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deemed a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untless co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dark despai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hrist for the 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acc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the work to sh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reproach to d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the cross to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hrist for the 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oyful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newborn soul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se d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claimed from error’s w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spired with hope and pra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Christ belo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oor, and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int and overbor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-sick and sorrow-w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Christ doth h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 fo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ervent pray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yward and the l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rest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ions to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ed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less c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ark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hrist fo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acc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the work to sh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reproach to d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the cross to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hrist fo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oyful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sou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d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laimed from error’s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pired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rist be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for the World We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9810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Christ for the world we 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world to Christ we br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loving zeal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amuel Wolcott, 1869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03T19:43:19Z</dcterms:modified>
  <cp:revision>74</cp:revision>
  <dc:subject/>
  <dc:title>PowerPoint Presentation</dc:title>
</cp:coreProperties>
</file>