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BFF9-4A46-4B87-BC92-920335025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339A-3275-4E2B-902C-18C3ED2B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F4F4-5CE5-4DB3-85F4-3B323B789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6137-F062-4FC5-A70B-409BC46C3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F7D3-4E41-4098-A4A8-76BE5DEB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4C0E-BD54-4EFC-BCA2-97FAF5C7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6BF2-8EC6-4631-B313-3B1CA083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733E-0A11-431B-A4A3-D890909B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D865-F22B-4276-82A9-B9D1AC86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27E2-960B-4877-A82A-D361D403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756C-D524-411D-9407-195F3FCE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1C2A-E798-4888-B6D0-D76F4199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04C2-6DC5-424E-B39D-0240A1FA5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anticle of Redemption</a:t>
            </a:r>
            <a:br>
              <a:rPr sz="40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De Profundi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38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(Gener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distr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ry to the Lor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liver me, O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Redem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08080" y="1623960"/>
            <a:ext cx="512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Psalm 130; response, Psalm 120:1-2, adap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522360"/>
            <a:ext cx="8610480" cy="583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60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ut of the deep have I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alled to thee, O Lor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Lord, hear my voi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 let thine ears consider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   well the voic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   of my complaint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979560"/>
            <a:ext cx="8839080" cy="4916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thou, Lord, wilt be extre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mark what is done amis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 Lord, who may abide i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or there is mercy with thee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   therefore shalt thou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   be feared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606600"/>
            <a:ext cx="8839080" cy="566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look for the Lor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y soul doth wait for him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his word is my tru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My soul fleeth unto the Lord   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   before the morning watch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   I say before th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   morning watch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901800"/>
            <a:ext cx="8839080" cy="506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Israel, trust in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or with the Lord there is merc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with him 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plenteous redemp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he shall redeem Israel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   from all their sins.        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08:25Z</dcterms:modified>
  <cp:revision>30</cp:revision>
  <dc:subject/>
  <dc:title>PowerPoint Presentation</dc:title>
</cp:coreProperties>
</file>