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6E75-F7B5-4172-BA7B-521E20DB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9F69-B0B9-491B-AD05-93DD63AB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A8B2-7ECC-4DC7-B2F8-8C5A1C2E3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2E66-D1CA-4CE9-9A4F-3BF235EBC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825D-6D33-4542-AE53-BAF3C235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D777-1439-4D98-B8A2-A1691F50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5977-DD12-4595-8C97-F3887F76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F4DE-0735-44D1-9692-E8F1CE65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387B-B368-4D0C-9135-A9F1D9FA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E1C8-CD57-4FB9-986C-995AF1AC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DCED-9944-48A9-ABE1-CE72609F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3767-B6FE-48AA-A03E-18538D9E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5E84-2CD5-411B-8180-C7C068C94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For a Heart to Praise My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r a Heart to Praise My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2 (Ps. 51: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524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O for a hear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o praise my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 heart from sin set fre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 heart that alway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feels thy blo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so freely shed for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r a Heart to Praise My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9907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A heart resig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bmissive, mee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great Redeemer’s thr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only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heard to spea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Jesus reigns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r a Heart to Praise My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A humble, low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trite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lieving, true, and cle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ch neither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r death can p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Christ who dwells with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r a Heart to Praise My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A heart in e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t renew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ull of love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erfect and 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pure and g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copy, Lord, of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r a Heart to Praise My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Thy na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acious Lord, imp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quickly from ab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rite thy new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o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new, best name of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4:33Z</dcterms:modified>
  <cp:revision>141</cp:revision>
  <dc:subject/>
  <dc:title>PowerPoint Presentation</dc:title>
</cp:coreProperties>
</file>