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4108-3FF0-4F5F-AE33-812E18243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3722-F03C-4A69-8595-6A2BF683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BFA1-2C90-4F45-AF82-2618E3F4D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EA08-523A-443A-8ADC-80735B28D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A29B-2414-4D10-9FBE-14C58730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8D7D-72D3-4C12-9526-6469D529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E023-E8D3-4430-ACF8-C5B10E46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BBD6-438A-4F7F-9712-77EC5EEB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CE02-B24A-4D2A-AC5B-56CF4D50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FAAF-52B3-45DB-866C-1CA637B2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C447-049A-4EE4-9924-3D581016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3CD0-1283-4241-8A58-C518CB4F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AA17-D9D4-4D8A-80BD-D8963330E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ill My Cup,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4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29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 my cup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lift it up, L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and quen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thirsting of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59 by Richard Blanchard, assigned to Sacred Songs © 1964 Sacred So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 My Cup, L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Richard Blanchard, 1959 (Jn. 4:5-15; 6:3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d of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d me till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nt no mo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 my cu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 it u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ke me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8:51:42Z</dcterms:modified>
  <cp:revision>124</cp:revision>
  <dc:subject/>
  <dc:title>PowerPoint Presentation</dc:title>
</cp:coreProperties>
</file>