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23E-7E6D-4FEC-991C-D41288B7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1C5-9D7F-48AF-9C49-1B0E82C4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591-0A09-42AD-AFF8-7F4374E0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4B9-FC51-432C-8EA8-A578E1F5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5B33-9B20-4C23-ACBD-D08F5405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1442-C130-4628-A12C-9B6DFD3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97A-9EB6-46CA-8AB2-3675A74F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6D05-BD59-4F76-9429-4A9AF0F3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4B8F-24C9-4BA0-B0D3-87B8B4BD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6AF5-5F4D-4EB4-9578-C14BADC4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BA9F-6E7B-4C75-AC79-D53FADC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1C6-1C48-4920-A991-5C13286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EE81-3A36-448A-AC4D-77D7C5C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4A70-51C0-47ED-BDA2-86655E3C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61F-4439-47C9-A1E1-ACC6467E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0A51-1CE1-4343-BAB7-226E9196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CD29-BF7D-4B2E-8E9E-EADB0D1F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864-2374-475F-9B6D-BE5D524C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5EF-546E-4D32-891F-5BC2154E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E05-7847-4911-BCB3-2B222F5D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D19-672B-40BE-B08A-6268E41F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688-DC2A-40B8-9B12-272BB58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1B7-06B3-4AD7-95E7-82A016F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473-EB4E-4B6D-AB5C-A48A7139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9071-1BC1-4588-900C-DD318EA6D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46E4-3881-443D-BBEE-F851C0BB5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cue the Peri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atch them in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demand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ill pro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the narrow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ly win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poor wande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 has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scue the Peri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atch them in p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anny J. Crosby, 1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o’er the erring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the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the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ighting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is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ing the peni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earne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gen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ey only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the huma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shed by the temp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ings lie bu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can rest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ep o’er the erring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the fall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a lov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ened by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that wer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vibrate onc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demand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y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will pro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the narrow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ly win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poor wander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avior has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they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ighting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is wai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ing the peni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earne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d with them gen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ey only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own in the huma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shed by the temp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ings lie bu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can rest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ed by a loving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ened by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that wer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vibrate onc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07T15:45:48Z</dcterms:modified>
  <cp:revision>96</cp:revision>
  <dc:subject/>
  <dc:title>PowerPoint Presentation</dc:title>
</cp:coreProperties>
</file>