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2B45-BC68-4F37-9ABE-BCC26EAA5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36DB-E7E4-4D26-B7EF-1CB5C4D3C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4AC2-0262-4107-A520-E923308A5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3332-39CF-410C-B34F-768781010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CD855-F29E-472C-BA46-053BCCCB2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EE8A7-9D59-4DFB-845B-D1F6D80B6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6B5CF-8DE4-4C0E-9FA3-BF66457FA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30567-8F6C-40BF-B059-4E30E2556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8C8A7-B8A1-461C-AEDC-F6C690272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E1610-187D-4C35-AF8E-6CEC6E338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AC3DC-5CE4-4BB5-BF62-B0E0589B6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3B33-9870-430F-BFAD-DDCE5571C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BCFAD-E8F6-4B65-B69D-634184447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4A130-A04D-4272-8CB1-3863995BB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95D07-E579-4194-8B77-30841260C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A6790-64C5-4411-A60E-7EDB6652F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73F64-665D-4B0F-AF9F-E75EFAFFA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559D-FB2F-49C1-B2DE-36F6CCC9A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B099-BC40-41D6-8927-EBF950582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77D1-401D-47D9-8C42-98BF37A7A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091B-0C3A-4290-AA18-25A82C87D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3EA2-55E0-45D9-A872-81C4E509F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30C8-52CA-4D04-B9AD-6ACE331F0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38A7-9F61-4B0B-93E9-19A10F10F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06B10-81E9-49AC-9946-688CB2A309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EA457-E6C1-4C34-B6BD-1A4A3B2795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Surely the Presence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f the Lor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2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rely the Presence of the Lor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1523880"/>
            <a:ext cx="908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Lanny Wolfe, 1977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2133720"/>
            <a:ext cx="9144000" cy="4273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urely the presen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the Lord is in this plac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can fee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is mighty pow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his gr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77 Lanny Wolfe Mus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can hear the brus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angels’ wing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see glory on each fac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urely the presen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e Lord is in this place. 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76320" y="15228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Surely the Presence of the Lor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620120" y="763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2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rely the Presence of the Lor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639720"/>
            <a:ext cx="908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Lanny Wolfe, 1977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1219320"/>
            <a:ext cx="9144000" cy="351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urely the presen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the Lord is in this plac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can feel his mighty pow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his gr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77 Lanny Wolfe Mus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4724280"/>
            <a:ext cx="9144000" cy="2133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36504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can hear the brus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angels’ wing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see glory on each fac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urely the presen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e Lord is in this place. 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4724280"/>
            <a:ext cx="9144000" cy="2133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10-02-05T03:13:05Z</dcterms:modified>
  <cp:revision>88</cp:revision>
  <dc:subject/>
  <dc:title>PowerPoint Presentation</dc:title>
</cp:coreProperties>
</file>