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FE6-80F9-46DF-9123-7D7B7703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7EB-2255-4BBC-BEA1-2183967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837-3825-49A8-B00C-CE26D74A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BF6-1392-4841-A846-3FEEEAEB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ECA-B376-4099-B9D6-2896B2DF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8CE-25CE-4539-AF6B-DA13145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7D5-70DF-42DC-88E3-A306DF4E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4C1-D62F-42BA-9CA8-7D78279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160-8702-4421-AFEB-5FAE1AF1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5DE-A957-40FB-9271-72D3FB6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3CB-5B0D-4840-B9C6-02EC4D5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8DE-ACA4-4C79-9DF1-6BC7960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B98-850C-4D02-BE93-7790EAD7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Faith, Com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pirit of faith, co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itness with the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ine the blood to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d for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urely di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 one can truly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less thou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eil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eath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only then, we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interest in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ou art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migh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of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and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tue of his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ng power,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stify to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in ever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spire the li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which whosoe’er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tnes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selves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ciously believ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ith that conquer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who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s them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21Z</dcterms:modified>
  <cp:revision>87</cp:revision>
  <dc:subject/>
  <dc:title>PowerPoint Presentation</dc:title>
</cp:coreProperties>
</file>