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387-EC28-43EB-B1CE-A4D619B1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667-BFDD-43E2-9FF7-D6A29B4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128-DD22-44B3-851C-955712A7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D9F-18A5-4F80-BE50-F467440B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11C1-4FC1-4994-8414-40481BA1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7FC7-1117-4071-AC76-6CCE78F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CE6F-42DC-4EED-BA6B-7A7CF33B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2134-837C-4640-82CD-4A1413C0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2C6C-B23A-4DC3-A5DC-127F0009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1AD4-6A29-490E-B678-FDAB8E8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581C-12A1-4A84-A7A8-2A583B14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CEB-7196-4625-9177-792F4311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67E2-E866-4C01-AF28-89A3AF6D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596A-7D80-41A8-9A6E-CF8DFF8A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5FA4-84E9-4F4F-80AF-4900231F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29FA-83AE-40E2-9455-6228403D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2385-8DD6-424A-8E7F-BB0676FA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7C3-B079-4622-8F93-E6B84BAF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248-2643-4ADD-93C5-DECD5A2D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34A-B0C3-48B3-A74C-DB8B2907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A94-8421-4234-82E8-6FD65062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5C4-B478-40E7-80E7-A104063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9DF-8ABA-4C12-9D55-2347ACE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1820-08EE-4F65-8F9F-C9C419A7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A3A6-04C0-4769-B578-D944B9487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FE8-B815-49C4-B79E-5A8456D1E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aptism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676520"/>
            <a:ext cx="8839440" cy="35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Father in heaven, at the baptism of Jesus in the River Jordan you proclaimed him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your beloved S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6560" y="1092240"/>
            <a:ext cx="78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Mt. 3:13-17; Mk. 1:9-11; Lk. 3:21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685800"/>
            <a:ext cx="81532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and anointed him with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e Holy Spirit.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Grant that all who are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baptized into his name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1066680"/>
            <a:ext cx="883944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may keep the covenan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that they have made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boldly confess him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s Lord and Savio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0492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who with you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and the Holy Spirit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lives and reigns, One God,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 in glory everlasting.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aptism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8288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ther in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 the baptism of Jes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River Jord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proclaimed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beloved 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6560" y="1092240"/>
            <a:ext cx="78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(Mt. 3:13-17; Mk. 1:9-11; Lk. 3:21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5360" y="191916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nointed him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Holy Spiri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all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re baptized into his 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keep the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they have ma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oldly confess hi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Lord and Savi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147780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wit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Holy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ives and reig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glory everlasting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09T00:03:36Z</dcterms:modified>
  <cp:revision>11</cp:revision>
  <dc:subject/>
  <dc:title>PowerPoint Presentation</dc:title>
</cp:coreProperties>
</file>