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CEB5-E5D8-4F71-BA91-ED47F6B61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04BB-C4E5-4A60-87C4-064E2DB1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DC8F-F90E-4D1C-8402-304764236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FFD9-495C-4AE1-89AC-4C04CE227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5311-6E05-45B1-B792-7913631F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A656-0C5B-482A-8819-D50ABF35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268F-A9EF-4F64-9F97-7B3DBA1C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3A4B-03D7-4E97-85B8-F16BC698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F8DD-9640-458F-B434-30EEE57C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1B26-A4D6-418A-BE50-5AD8BC65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1F9F-86BF-48E2-B83F-262F3D7C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D9A1-C8B9-42D7-BAE9-C920F350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A2BA-DF6C-4170-88E4-FFAB91B6A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of Many Na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36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God of many nam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hered into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your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and meet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ing, endlessly becom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© 1986 Hope Publishing 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Many Nam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38400" y="1092240"/>
            <a:ext cx="30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Brian Wren, 19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many nam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hered into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fully we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prais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ing, endlessly becom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ush, hu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elujah, halleluja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t, shou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elujah, halleluja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Many Nam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,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elujah, halleluja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God is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s lo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hovering w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mb and birth of ti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fully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your prais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th of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very peopl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ush, hu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elujah, halleluja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t, shou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elujah, halleluja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Many Nam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,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elujah, halleluja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God is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s lo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523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God of Jewish fai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xodus and la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your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and meet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 of Miriam and Mos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Many Nam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Jesus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bbi of the po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fully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your prais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ucif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ive forev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ush, hu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elujah, halleluja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t, shou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elujah, halleluja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Many Nam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,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elujah, halleluja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God is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s lo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God of wounded h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b and loom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your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and meet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penter of new creati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Many Nam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47:06Z</dcterms:modified>
  <cp:revision>21</cp:revision>
  <dc:subject/>
  <dc:title>PowerPoint Presentation</dc:title>
</cp:coreProperties>
</file>