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3BC-E628-482E-9023-2DBFDBEF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42C-6811-45B5-ACE3-855EB54F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D9B-E4F1-4536-B59C-3F9794E0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7D9-1C98-4037-A4D9-1902AE92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DC6-035B-49A8-B436-B843E663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945-2D6F-4F30-990C-23B3CB0B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A28-BCC7-4BF8-B701-F077699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442-D3D9-48BB-AF22-DE2F1182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41B-EE5F-4873-9AF0-2FE020BE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560-E08E-4169-973B-363199AC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760-7348-4571-8680-6EB1BC03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DA8-5066-438F-B850-4F4D7D7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5970-652B-40EF-BBC1-95A683D3C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3:27Z</dcterms:modified>
  <cp:revision>72</cp:revision>
  <dc:subject/>
  <dc:title>PowerPoint Presentation</dc:title>
</cp:coreProperties>
</file>