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648-A596-497D-AF39-553A3EE9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407-80DF-457C-8244-D46B448B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E73-41EC-49D4-9120-1120E11A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FA1-1D2E-40D6-B200-1ABD2B75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0D2E-9DAE-4FC6-8BFC-CD058532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E49-70A6-42E6-BB7B-8C94A38E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01BB-7B7F-4071-BE88-4B3EA45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383-0C8D-46EB-837B-3FC10E9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DE19-838F-4200-8E82-93142E1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718-E1E1-44B6-A3CE-9BCB4DE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1E64-D76F-4072-A1B4-97258DD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C30-94F0-4D46-A17F-40679BF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994-EE56-428A-96FF-FE4DD1D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DB3-DFFC-448B-A81C-85CF4ACB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7A0-76A0-428A-8F95-71E4B56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0718-7CAF-4D5F-86FA-7424CE77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98D-4709-4E3B-AADC-0D22A780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1C3-7F6A-42BA-9F17-B4442511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C1B-3D55-47F5-861A-42A09FBA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90C-C4F3-415F-AE52-EC58DEE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525-8E67-4C2A-A802-B8D86B0C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666-0610-498B-A4EF-FC10E72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A52-32C3-4A6E-B534-C6295F4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749-7DC8-4DE2-A56C-DC39B91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7365-F6F5-4AC6-B5CB-F7B1531E0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D44A-2181-4418-9482-32BA16FD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74920"/>
            <a:ext cx="9144000" cy="393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144000" cy="48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 he gave his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Calva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5800" y="1028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roken spirit,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7360"/>
            <a:ext cx="9144000" cy="567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6100"/>
            </a:br>
            <a:r>
              <a:rPr b="1" lang="en-US" sz="61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6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s bui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e angels s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9072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 heard an old, old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a Savior came from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gave his life on Calv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save a wretch like 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5800" y="7621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ugene M. Bartlett, 19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95680"/>
            <a:ext cx="9144000" cy="235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6812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127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343400"/>
            <a:ext cx="9144000" cy="251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286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ut the angels singing and the o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demption st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ome swee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’ll sing up t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ong of victo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809880"/>
            <a:ext cx="9144000" cy="304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28600"/>
            <a:ext cx="9144000" cy="365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886200"/>
            <a:ext cx="9144000" cy="296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412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I heard about his h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his clean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ower reveal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he made the l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walk aga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caused the blind to se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6504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then I cried, “Dear Jesus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ome and heal my broken spirit,”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and somehow Jesus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came and brought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to me the victory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8120"/>
            <a:ext cx="9144000" cy="536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victory in Jesus,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avior forever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sought me and b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his redeeming blo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562720"/>
            <a:ext cx="9144000" cy="129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12760"/>
            <a:ext cx="9144000" cy="548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loved me ere I knew him,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and all my love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is due him;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he plunged me to victory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beneath the cleansing flood.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 heard about a mans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has built for me in glor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I heard abou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treets of gol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yond the crystal sea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91320"/>
            <a:ext cx="9144000" cy="106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17T22:04:53Z</dcterms:modified>
  <cp:revision>23</cp:revision>
  <dc:subject/>
  <dc:title>PowerPoint Presentation</dc:title>
</cp:coreProperties>
</file>