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8B8C-8B2F-4228-8723-95648FE2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9F06-FA9B-4B7D-B1EC-3A361574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AAA3-38DE-420A-8962-4BB3DC8D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6344-6D4F-4329-A0D0-1FFC958E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1075-3074-4478-B436-A5803977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BCDC-E81A-4F65-9FBB-73367407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5667-881B-40B1-93BF-414EBDA4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C2B4-C790-4F99-9FA6-32FDD224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892B-6073-491A-A4BE-60C564DC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F29A-67DD-444E-A4F0-FE20A882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4403-D207-48EE-A086-38233E41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A5FD-71FC-4FFB-8BF2-3AC700EE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5239-F98C-40EE-8548-7C649CF86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Earth Is Wait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Toda la Tier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79132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© 1972 Alberto Taulè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Earth Is Wai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91400" y="1562040"/>
            <a:ext cx="63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atalonian text by Alberto Taul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è, 1972; English trans. by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Gertrude C. Suppe, 1987 (Is. 40:3-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earth is wai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see the Promised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open furr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owing 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 el mundo que luch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 la libert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clama justic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busca la ver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 La Tierr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Dice el profet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 pueblo de Israe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De madre virg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viene Emmanuel,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rá “Dios con nosotros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mano será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 él la esperan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 mundo volverá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 La Tierr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Montes y val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brá que prepar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vos camin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nemos que traz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l está ya muy cerc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enidlo a encontr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todas las puert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brid de par en p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 La Tierr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600200"/>
            <a:ext cx="8839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En una cuev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ús apareció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ero en el mun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tá presente h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ive en nuestr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manos, con ellos está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vuelva de nuev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darnos libert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79840" y="25765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295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und and strugg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eks true libert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cries out for just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earches for the tru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79840" y="25765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us says the proph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ose of Isra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A virgin m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bear Emmanuel,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Earth Is Waiting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295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his nam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God with us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brother sha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m hope will bloss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ce 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in our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Mountains and valle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hav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made pl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pen new high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w highway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Earth Is Waiting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now coming clos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come all and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pen the door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wide as wide can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n lowly sta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omi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e appea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t, feel his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o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 to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Earth Is Waiting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he lives in all Christia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s with us 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gain, with his co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brings us liber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 La Tierr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oda la tier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pera al Salvad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l surco abiert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 obra del Señ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5:39Z</dcterms:modified>
  <cp:revision>57</cp:revision>
  <dc:subject/>
  <dc:title>PowerPoint Presentation</dc:title>
</cp:coreProperties>
</file>