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603-866A-4DF9-A1BA-695C43E4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C6F-6A99-4EA8-9A32-F3C8723F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208-2807-4D72-8801-24E07D45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2D3-798E-4C10-A0CB-97A2E69A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ADC-ECFE-48B0-A816-04C4882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2DF-0011-4C3F-A81D-09FE36D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CF1-65C9-45F7-BC9C-A9DD05CD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3FE-50DB-4A7C-94F8-E1BE7E8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3DA-4BD8-4245-9773-658D63A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1F8-9845-4EA3-AE12-7D60C53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FBB-46B0-49DD-AFE0-7234BFA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9F6-8940-4E9C-80DD-5A10671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88F-1C9B-4888-ACFB-28F141DE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Thou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93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reak thou the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lo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y A. Lathbury, 18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sacred p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k the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pants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ving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ess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age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tter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35Z</dcterms:modified>
  <cp:revision>100</cp:revision>
  <dc:subject/>
  <dc:title>PowerPoint Presentation</dc:title>
</cp:coreProperties>
</file>