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BD4-294B-423E-9436-D78AF4F1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7BC-2F31-4FA7-8789-2E2DAB8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3CD-59F9-4561-82FF-FC170216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C66-8C83-4386-9BCE-8ADB5B84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D22-7492-4D25-BDEE-621A0B9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592-7FF3-4335-8BA2-FB860D3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B06-2CE2-4DB0-8424-C75A2EB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689-775B-4185-AF6F-95A7B28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BF4-A3BA-4087-A54C-BEF51DD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F96-4980-47DE-9F8B-37280A3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410-0D29-4C82-8A6D-FE752F4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C7BC-2787-4311-BF68-91E8EB0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7689-8B02-4BF2-8BA9-FAAEB3F44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ion/Palm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your So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avior Jesus Chri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uffer death on the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on/Palm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760" y="106668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 by Laurence Hull Stookey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har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obedience to your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in the glorious vict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resurrec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now and e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50Z</dcterms:modified>
  <cp:revision>15</cp:revision>
  <dc:subject/>
  <dc:title>PowerPoint Presentation</dc:title>
</cp:coreProperties>
</file>