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DA80-4EEC-4F1F-B6C3-CC4E58C7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AB7D-04EA-438D-B543-9B872AA3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9AFD-34EF-4DD1-930D-FD61F739E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9396-959F-4D5F-B6FF-9F28A2709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5FA7-F821-4ABF-8374-50D5BE06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2426-C13D-400F-9EB9-0C94E782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7F48-5D57-4DA9-84F1-EE40D151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7AE2-54D5-4646-A98E-C7B73BB4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8182-6345-4BDE-B19C-072374C0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6A6F-6053-41DC-9FB5-BAB176A3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7C67-95E7-4B01-957E-AFC6C4DA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1740-CD37-4FCF-916F-B783F2C3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2FA5-2E50-4F96-8521-E20DF9403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less Thou the Gif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8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 thou the gif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ands have brou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 thou the wo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have plann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 Thou the Gif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amuel Longfellow, ca. 18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s is the fai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ill, the thou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est, 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in thy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3:22Z</dcterms:modified>
  <cp:revision>92</cp:revision>
  <dc:subject/>
  <dc:title>PowerPoint Presentation</dc:title>
</cp:coreProperties>
</file>