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CDBB-2174-4C66-8DBB-4EF2BD68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7BC7-2A34-4B65-BA75-8F736147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FB36-6F53-4385-829E-7BD611B7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D459-5C85-412C-AEF4-8DB0E5AC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FCCC-6A4B-43B4-ACF1-412A86AA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FFE7-1E1A-4FA8-A144-9A2690B8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0CF3-915A-4072-B524-07138EB3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8EAB-B5F8-4547-9800-A9CF21AD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202E-4737-4D8A-BC7E-FFC21E28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8100-3BD5-49EC-8BA2-61818992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EDC3-D6F3-4037-A1BB-7C22E41C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F769-DDC0-430E-86A2-4CAF133B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5374-C90B-47C4-AD70-F8169F57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C99D-441A-4CB5-9281-4D51F249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802B-9BA4-49E9-9625-0A9EF257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1C30-B5DE-4F05-9CE4-C1F54A23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4324-867B-43E4-8FAC-F284BD753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99EB-A57B-42C6-A4F7-550EADEF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AF6C-C73D-40B5-9996-BB8987BF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EDDB-EF21-4534-9668-408C90C7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DE24-5366-4E5A-B792-EFCA0128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88C8-328D-480C-9CBF-CBAD5BB6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E501-4A25-4320-B175-FA18E1FD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DC90-AE45-474E-8BC0-EE2690D4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B87D-8924-458B-93F5-8B0499371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E0AA-F454-49F3-9785-972CECB08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reathe on Me, Breath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28800"/>
            <a:ext cx="9144000" cy="301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1. Breathe on me,    breath of God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ill me with life anew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the on Me, Breath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1066680"/>
            <a:ext cx="478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Edwin Hatch, 1878 (Jn. 20:2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791320"/>
            <a:ext cx="9144000" cy="106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26368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6805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3. Breathe on 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reath of Go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ill I am wholly thine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the on Me, Breath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054080" y="2263680"/>
            <a:ext cx="703728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ill all this earthl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part of m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glows with thy fire divin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226368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4. Breathe on 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reath of Go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o shall I never die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the on Me, Breath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93840" y="2263680"/>
            <a:ext cx="47574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ut live with the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perfect lif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thine eternit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3049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reathe on Me, Breath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828800"/>
            <a:ext cx="9144000" cy="158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Breathe on me, breath of Go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ill me with life anew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the on Me, Breath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1066680"/>
            <a:ext cx="478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Edwin Hatch, 1878 (Jn. 20:2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882960"/>
            <a:ext cx="9144000" cy="2971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47320" y="1066680"/>
            <a:ext cx="686952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at I may lov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hat thou dost love, an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do what thou wouldst do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882960"/>
            <a:ext cx="9144000" cy="2971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2286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Breathe on me, breath of Go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until my heart is pure,                 until with the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will one will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do and to endur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the on Me, Breath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882960"/>
            <a:ext cx="9144000" cy="2971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66996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6805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Breathe on me, breath of Go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ill I am wholly thine,                       till all this earthly part of 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lows with thy fire divin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the on Me, Breath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882960"/>
            <a:ext cx="9144000" cy="2971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2286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Breathe on me, breath of Go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o shall I never die,                             but live with the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perfect lif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f thine eternity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the on Me, Breath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882960"/>
            <a:ext cx="9144000" cy="2971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7080" y="882720"/>
            <a:ext cx="891036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at I may lov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at thou dost love, 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do what thou wouldst do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791320"/>
            <a:ext cx="9144000" cy="106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. Breathe on me, breath of Go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til my heart is pure,                 until with the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will one wil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o do and to endur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the on Me, Breath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791320"/>
            <a:ext cx="9144000" cy="106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5228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6805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3. Breathe on me, breath of Go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ill I am wholly thine,                       till all this earthly part of m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glows with thy fire divin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the on Me, Breath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562720"/>
            <a:ext cx="9144000" cy="1292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7632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. Breathe on me, breath of Go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o shall I never die,                             but live with the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perfect lif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f thine eternit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the on Me, Breath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638680"/>
            <a:ext cx="9144000" cy="1216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reathe on Me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reath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9092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Breathe on 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reath of Go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ill me with life anew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the on Me, Breath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1600200"/>
            <a:ext cx="478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Edwin Hatch, 1878 (Jn. 20:2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37960" y="2263680"/>
            <a:ext cx="686952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at I may lov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hat thou dost love, an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do what thou wouldst do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26368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2. Breathe on 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reath of Go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until my heart is pure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the on Me, Breath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812240" y="2263680"/>
            <a:ext cx="551916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until with the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 will one will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do and to endur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10-09T23:39:25Z</dcterms:modified>
  <cp:revision>13</cp:revision>
  <dc:subject/>
  <dc:title>PowerPoint Presentation</dc:title>
</cp:coreProperties>
</file>