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A83-22FB-4A9F-93DD-0CBC170F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A07-1623-4D84-8CD2-D45EEA08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6C5-8D15-4312-8D73-3CBC596D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476-33AF-4674-884C-C5D6F18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D8C-93FD-4E12-8DF2-828D5E20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D1A-2378-42FE-93AA-A2BD178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F06-EEC7-4B16-BAA1-3D91601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8A2-DE99-4707-8ECF-E68BDEF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E2C-156A-4984-8A97-7193157A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8D4-A7CD-47A3-8D9C-2E7918E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FB8-5C9B-422A-99DD-B07D6616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514-4146-4A42-9F2C-C56F793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1FD-DBA7-44AC-8CBB-C43D255ED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68680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Almighty God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you have knit together your elect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one communion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and fellowship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the mystical body of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your Son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8640" y="106668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92280"/>
            <a:ext cx="86868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Grant us grace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so to follow your holy saints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in all virtuous and godly living,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at we may come to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those unspeakable joy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771560"/>
            <a:ext cx="86868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ich you have prepared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  for those who sincerely love you;</a:t>
            </a:r>
            <a:br>
              <a:rPr sz="4700"/>
            </a:b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56:29Z</dcterms:modified>
  <cp:revision>21</cp:revision>
  <dc:subject/>
  <dc:title>PowerPoint Presentation</dc:title>
</cp:coreProperties>
</file>