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1A3-8E24-4AEB-8EC8-39800C24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2BA-D74A-4D9E-9737-BBA4436B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C01-EC28-46FE-A8BB-5DD74863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AB8-793D-4FAA-BC2D-1AFCF747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0ED-BD7A-43EC-92A9-085D26FA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66A-FEB9-4755-82F1-483333B8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FB8-136E-4427-9283-3E6EC4AA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A16-A3D4-4581-B71E-910AB0F4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645-81CD-4380-8F7A-82D51A2E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9C7-B088-43C2-99FB-78826548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034-8D55-48B0-A2FB-7F66EB5F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860-84AF-4942-BBDF-D45B32AC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AAE2-F7A9-422F-91E7-BEA1B1920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Si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S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The Book of Common Prayer;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lt. by Laurence Hull Stoo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676520"/>
            <a:ext cx="8191440" cy="453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od of compass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source of life and health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trengthen and relie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your servant(s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ame(s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05740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give your power of heal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those who minis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need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60020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ose for who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ur prayers are offer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may find help in weaknes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av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your loving car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him wh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healed the si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is the physici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our sou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even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06Z</dcterms:modified>
  <cp:revision>151</cp:revision>
  <dc:subject/>
  <dc:title>PowerPoint Presentation</dc:title>
</cp:coreProperties>
</file>