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7E4-00AB-4EC6-88E1-65C5C0A3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484-45C3-420F-B1BB-8804798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5F3-BC3D-4F33-A9D4-70639497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144-1410-420B-80A8-11498668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7A6-F1A7-42C0-ABFE-94D6296D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FC7E-9ACD-42A6-87A8-B790924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31C-7C86-43E5-AAF1-D66BF282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8EF6-C2BA-4086-9B07-EAE5A5C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2DF5-3673-40B9-A970-DC3881BA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427-42F2-45A3-B813-EBD7737B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D69-4F1C-4F3F-B5B3-A8B37C3C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B4D-20D4-4C6F-BB70-A8D9E199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72D-7082-45FF-A292-134AE0E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F83A-5CB9-465A-B509-901F5FC8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0976-E16D-478F-B143-B822E50D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211F-2F86-4295-8CF4-5CF11A4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3539-0624-4938-A94B-9F2103D0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8DB-4BAB-4554-9EB3-D549701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AA6-37D9-4AC5-838D-FD2240B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BC4-A5A1-41C8-893A-BF009058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007-BA8C-4EDA-8CAD-BFF8609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A6A-BD32-42D5-89D3-D98A6E6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72C-CF01-4F7F-A487-D0D139F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A3D6-58DE-4072-BF0F-C08D5F3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2B8B-7BD8-462F-A75C-CE6EB39D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B9D-7339-48B0-A984-509385125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763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4. Soon we’ll reach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pilgrimage will cease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soon our happ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will quiver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melody of peace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l We Gather at the Riv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ing by the throne of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430360" y="114300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bert Lowry, 1864 (Rev. 22:1-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028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 the margin of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up its silver s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golden d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re we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we every burden d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our spirits will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id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 and crow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572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on we’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pilgrimage wi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our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will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melody of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iful river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of G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On the margin of the ri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ashing up its silver spra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wal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orship ev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appy golden da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22860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3168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3. Ere we reach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ining r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lay we every burden down;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our spirits will deliver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ovide a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  <a:ea typeface="Arial"/>
              </a:rPr>
              <a:t>robe and crown.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we’ll ga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autiful river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ather with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ints at the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lows by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God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0-20T01:06:30Z</dcterms:modified>
  <cp:revision>54</cp:revision>
  <dc:subject/>
  <dc:title>PowerPoint Presentation</dc:title>
</cp:coreProperties>
</file>