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35E6-F760-433E-9910-E0CDA951B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073D-A32F-4480-A4DE-4F7E6C044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584C-4A50-435D-A7A8-15B83BABF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B0C8-95F2-46DF-B257-378CA8F64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4F67-0095-4E52-9C2E-43F6D9139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F487-5A36-47BF-AFD4-4A89D1A59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4987-8CAE-44F4-9895-91DFD7D1A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3872-2BF8-4358-857E-72056FA36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32A0-4FEC-4306-918B-A492F923C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1590-6139-4F6C-8EEE-214519FE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DE5C-5B83-4552-8736-B07E425D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9275-C4CD-4209-8F87-CA6D9BA0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31529-A21F-4163-A4C6-57C1BD8498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isten, Lord (A Prayer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7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2438280"/>
            <a:ext cx="8610480" cy="244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Lord, we come this morn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knee-bowed and body-bent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fore thy throne of gra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sten, Lord (A Praye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66280" y="1143000"/>
            <a:ext cx="44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James Weldon Johnson, USA, 20th cen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6095880"/>
            <a:ext cx="792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27 The Viking Press, Inc., renewed 1955 Grace Nail John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2057400"/>
            <a:ext cx="8839080" cy="32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Lord–this morning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ow our hearts beneath our knees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our knees in some loneso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alle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187280"/>
            <a:ext cx="8839080" cy="4055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come this morning lik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mpty pitchers to a full fountai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no merits of our own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Lord, open up a window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heaven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1600200"/>
            <a:ext cx="8686800" cy="32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lean out far over th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attlements of glory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listen this morning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30:16Z</dcterms:modified>
  <cp:revision>15</cp:revision>
  <dc:subject/>
  <dc:title>PowerPoint Presentation</dc:title>
</cp:coreProperties>
</file>