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15F-99C4-408F-99A3-B31E4052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577-CA0B-483D-946F-5462C98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803-649F-45D1-B0C2-EC68F475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D7C-4336-4750-A782-D3A75D31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785-E59D-496A-A57B-29D373A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47A-B068-41F7-9837-DD3D9AFD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59C-8D74-4976-84B2-42842707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C03-17A2-41ED-8922-BDEC40D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19F-5F03-4793-800E-EAA3C42D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069-85AD-495F-A808-D9F1445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6CD-D914-4BB6-9E6B-A8AD71B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B05-C4A8-4F13-8833-7A62AF7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4AF9-AFE7-4EBF-8887-20BBB446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Ag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y Dea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66;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avior,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to thy dear name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rting hymn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thou the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rom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s ho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called upo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our homeward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beg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arm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childr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rk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th alik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rr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n each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irit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lm of ever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ace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to ri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when th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i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7:00Z</dcterms:modified>
  <cp:revision>154</cp:revision>
  <dc:subject/>
  <dc:title>PowerPoint Presentation</dc:title>
</cp:coreProperties>
</file>