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2CD-9DF9-48CA-BB8A-1F4D578D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643-D9C8-48A7-871C-9AF83E3B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DCC-46E2-4A2B-A89D-D211641E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586B-6A64-4E87-82C2-15B464A0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C2D4-E376-4522-9B0B-E438C466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E47C-B4C7-4A59-A494-E0635723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4A86-1E44-41D4-8768-72455AB0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931A-DD3D-4CFC-A3A8-44CEF06D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851D-11E5-4F1A-B76C-5DAC9677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B40E-BC8E-403E-A6F0-A53A56A7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581C-4CC6-4BAB-8E23-FC6452D5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BCC-7205-4DEC-8EB0-B0E599F9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F3DB-C943-474F-B54E-6396FFD6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48DC-D856-4A39-ACBA-752430BA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55AC-DC83-4AB1-83B4-C907F15A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8933-1BA0-4B2B-B609-43F6811D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1908-B08A-4B89-8B05-B79E8655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BC1-1423-406B-B46F-E29A6DA7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8407-EB9F-4FF3-904D-93472411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254D-5A42-4CD7-899E-6180705D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21E-2D40-4D6C-9EFC-A7BB7EEC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67A-6F82-4778-9557-1CA2A992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E193-20B6-40EF-AF1F-B1C2C7C2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281-94B7-4204-B324-9CB17646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B96D-C466-4E83-8141-B263EC19B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3889-50D8-4140-8246-7C5D5ECB4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mmortal, Invisibl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nly 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mmortal, invisi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nly w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ght inaccessi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d from our ey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19720" y="1778040"/>
            <a:ext cx="57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Walter Chalmers Smith, 1867 (1 Tim. 1: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413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bl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gl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cient of D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ighty, vict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reat name we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Unresting, unhas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lent a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anting, nor was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rulest in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3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jus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moun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soaring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lou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are foun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odness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o all, life thou giv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oth great and sm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life thou liv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e life of 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blossom and flour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eaves on the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er and per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naught change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ou reignest in gl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wellest in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angels ad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veiling their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laud we would rend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lp us to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only the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ght hidest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bl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gl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cient of D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ighty, vict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reat name we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Unresting, unhas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lent a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anting, nor was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rulest in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jus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moun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soaring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lou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are foun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odness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o all, life thou giv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oth great and sm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life thou liv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e life of 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blossom and flour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eaves on the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er and per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naught change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ou reignest in gl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wellest in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angels ad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veiling their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laud we would rend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lp us to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only the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ght hidest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3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mmortal, Invisibl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nly 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9051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Immortal, invisibl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only w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light inaccessibl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id from our eyes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9720" y="1371600"/>
            <a:ext cx="57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Walter Chalmers Smith, 1867 (1 Tim. 1: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4-25T00:17:29Z</dcterms:modified>
  <cp:revision>18</cp:revision>
  <dc:subject/>
  <dc:title>PowerPoint Presentation</dc:title>
</cp:coreProperties>
</file>