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DD1-8185-4F31-9193-C41B6C73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BF6-36A5-4790-B8E2-1B95BAC2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595-2C95-4AF1-9882-AD7136ED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E63-5711-4F3D-9D13-C2F956F9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A5E-1EE3-4D08-973B-A70BCDBA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9819-5B7F-41F2-8090-107A1EF1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730-6CBF-49CC-B0E0-81064FB8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C4C-8ADF-4106-BF7E-9837F849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A78-DBAC-48BC-8C7C-D11C1C25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45F-11C7-4D68-B042-BF9CC825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837-F21B-4881-BEE3-F4FC9652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4E7-8433-4CA5-A353-D93F042A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EE98-D09C-445B-9E83-75D736E37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y Holy Wings, O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y holy wings, O Savio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pread gently over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let me rest securel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good and ill in the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Gracia Grindal and LaRhae Knatter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Holy Wings, O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6600" y="1143000"/>
            <a:ext cx="77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oline V. Sandell-Berg, 1865; trans. by Gracia Grindal, 1983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Ps. 91:4; 73:26; 119:114; 51:10; 1 Pet. 3:1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 my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r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ock and hiding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y every mo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lived within thy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wash me in the wa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oah’s cleansing flo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me a willing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eart b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 and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Holy Wings, O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 into thy keep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and sm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ile we sweetly slum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fold us one and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9:31Z</dcterms:modified>
  <cp:revision>12</cp:revision>
  <dc:subject/>
  <dc:title>PowerPoint Presentation</dc:title>
</cp:coreProperties>
</file>