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CF9-EC1B-44F6-A05D-70FECCFF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596-8358-49F5-B5F4-0FACD22C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0D3-0DDF-49EA-91F4-E9E7595D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047-05C8-4D78-B447-075AFE34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C79-7740-4294-A8BD-A884FFD8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D88-D2A6-4FA6-BBC0-CD6BDC95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D6D-FBC8-421A-9EAE-D4172088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76B-EE6C-4B84-863D-1A40B977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3B0-6562-4199-AA2E-F9D80386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63B-D4C4-4276-BA96-3970D7AA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6BC-E09B-4A17-B98E-AF50CADE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EFE-47C6-4C85-835E-F33D1EC2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5C89-AC1D-413E-A9FA-F362A348D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rd of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Down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320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or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down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rain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descending;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69 James Qui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to Ea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2600" y="1625760"/>
            <a:ext cx="3199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Quinn,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ord that sp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ther’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ith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all te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to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that send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dwe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tr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truth lead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Bread feed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to bi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nd hop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un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eve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ong to hea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ord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d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that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fe creati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to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that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to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lvati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ng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resto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outpou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ord that cau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ind eyes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and h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ortal blindne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to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f we a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ler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se our tongue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your kind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 Wor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ty spok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our sin brok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6:16Z</dcterms:modified>
  <cp:revision>14</cp:revision>
  <dc:subject/>
  <dc:title>PowerPoint Presentation</dc:title>
</cp:coreProperties>
</file>