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ACF-A807-430B-9678-CF102D99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130-B999-4F54-8B7A-04EF5A6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198-AC8F-4719-91F6-9B365005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85B-8D46-47CD-8357-8B5CA458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010-0CA8-4339-BBE1-B025BA3E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DE5-C992-4F37-A663-AA06F8F3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5F9-8650-48F6-B248-DC426786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17D-B003-49D4-BEAA-813619F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A1B-06E2-4884-96F1-C05120C7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3B3-A098-4D03-AF5B-6F1B6CFE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431-2A80-44F6-8F62-7D6C17B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A91-37FE-4217-9808-18C921B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2517-4263-4C57-A1AE-A93A2FE09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Dimitri of Rostov, Russia, 17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523880"/>
            <a:ext cx="86104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illumine my darknes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revive me from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Physici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heal my wou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R. Mowbray &amp; Co.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me, Flame of divine lov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burn up the thorn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my sin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kindling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ith the flame of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06480"/>
            <a:ext cx="883908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me, my King, sit up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e throne of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reign there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thou alone art my King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41Z</dcterms:modified>
  <cp:revision>155</cp:revision>
  <dc:subject/>
  <dc:title>PowerPoint Presentation</dc:title>
</cp:coreProperties>
</file>