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5FA5-DFD8-4D7C-9AFD-A528B5937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E0AC-7F0F-4B2D-9A56-FAFFB6559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06E0-B7D2-40DA-967B-DF943264A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5FCA-A852-462D-AFE7-586180353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27A5-67F9-4B1B-929A-486F31DB5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C8B0-7A60-4E70-ADA0-F27F717E2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15DF-7888-49E5-BB7B-BB6C273EB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1396-AC25-4C43-8A7F-1F4D5DED6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51AB-CD16-4176-9641-0D8CFD025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B912-B8F6-4DAD-83A8-006B74254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FC19-749E-4290-9947-B7EB35B6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002C-17A0-41F2-BC83-DF0DFFDA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5247C-E015-4580-9158-E3405D65E7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5345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Daw-Kee, Aim Daw-Tsi-Taw</a:t>
            </a:r>
            <a:br>
              <a:rPr sz="36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Great Spirit, Now I Pr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3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w-Kee, Aim Daw-Tsi-T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523880"/>
            <a:ext cx="90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Kiowa Prayer, para. by Libby Littlechief, 198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590920"/>
            <a:ext cx="9144000" cy="4048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DAW-KEE, AIM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DAW-TSI-TAW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TO-AW-BAY TAW HA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2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DAW-KEE, AIM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DAW-TSI-TAW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TO-AW-BAY TAW HA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552680"/>
            <a:ext cx="9144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PBAY-GYA KEE AA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AI DAHM GYA DAW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DAW-KEA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PBAY-GYA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YAH TSAHN-DAY-TOAW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eat Spirit, Now I Pra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reat Spir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 I pray to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pray now to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reat Spirit, hear 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soul is wea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 I pr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your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ll dwell in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9:55:12Z</dcterms:modified>
  <cp:revision>90</cp:revision>
  <dc:subject/>
  <dc:title>PowerPoint Presentation</dc:title>
</cp:coreProperties>
</file>