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B30-CCC9-4D36-AFB2-4ECC50AB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E0B-88FE-4B7C-AADB-ACD9A56A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45A-F9C3-43B3-9CA2-43C82B45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102-48C0-4798-8497-447B69AD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3BE9-8C31-4B44-AF13-01DCB4D2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6C8A-03C6-4436-90A8-1752707E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6447-7712-4768-AB41-03699941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718C-FCC4-4949-B496-2BD0B141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AB9E-6DDE-4757-9AF0-DF4291B5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1AA2-6F0C-42A9-876F-CCF8C9F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9515-0851-44C6-9F09-D9D7390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348-4DA6-45AF-AE91-D8E13E7D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718E-AF9A-4FB8-95BD-F867146D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218F-6504-4B25-8814-FFBAFE16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A795-C943-4755-974B-749E7788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C645-FD29-45BC-9C0A-4122AB60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378F-1C07-44AF-9AB2-9322F682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ABB-7034-4355-99CF-1A312E01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10E-0717-4203-B177-7306B134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1DC-4001-4DB6-858E-C2DE756B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1DD-5844-403E-9E57-5AEA7942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7D9-1FEC-45B5-B477-A3A3D20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A8B-84E9-4444-BE7D-2D897821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AAF-7124-42D5-A9C5-6E13014C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40C-1D3C-4F23-85D0-979120519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5E5-8E71-4112-AFAF-0521C2301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609480"/>
            <a:ext cx="82296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1. O come, O come, Emmanuel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and ransom captive Israel, that mourns in lowly exile here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until the Son of God app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820800"/>
            <a:ext cx="8915400" cy="50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WISDOM, who came fo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the mouth of the M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igh, reaching from end to end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ordering all things mighti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sweetly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teach u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way of pru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, thou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and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us the path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owledge sh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use us in 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ys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8736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820800"/>
            <a:ext cx="8915400" cy="574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ADONAI and Leader of the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house of Israel, who appeared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Moses in the flames of the bus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gave him the law on Sinai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with your outstretched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rm redeem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come, 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Lord of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 thy trib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Sinai’s he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ancient times o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ave the la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cloud and majes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870120"/>
            <a:ext cx="8915400" cy="574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ROOT OF JESSE, who stands for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 ensign of the people, bef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whom kings shall keep silence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o whom the Gentiles shall mak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ir supplication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deliver us and tarry n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289080"/>
            <a:ext cx="6019560" cy="3141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 come, thou Ro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 ensig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eo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thee rul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on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y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455760"/>
            <a:ext cx="8915400" cy="574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KEY OF DAVID and Scepter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house of Israel, who open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no one shuts, who shuts and no 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pens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bring for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prison the captive who si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in darkness and in the shadow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O come, thou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David,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wid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ly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aptives from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ison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quer deat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ep mis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2952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187280"/>
            <a:ext cx="8915400" cy="440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DAYSPRING, Brightness of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light eternal and Sun of justic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 enlighten those wh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sit in darkness and in the shad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come, thou Daysp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che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ustice 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perse the gloo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ouds of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’s dark shad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t to f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6. O come, thou Dayspring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cheer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our spirits by thy justice here; disperse the gloomy clouds of night,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ath’s dark shadows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put to f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371600"/>
            <a:ext cx="89154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 KING OF THE GENTIL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their Desired One, Cornerst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that makes both one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whom you forme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dust of the ear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7. O come, Desir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s b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heart and m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dust thou brou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forth to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rthly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28736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117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ome, O come, 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ansom 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9th cent. Latin; trans. st. 1, 3, 5ab, 6cd, 7ab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; st. 2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4479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ourns in lowly exile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e Son 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522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, thou wisdo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rder all things far and nigh; to us the path of knowledge s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use us in her ways to g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0492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289080"/>
            <a:ext cx="6019560" cy="3141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O come, O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Lord of m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 thy tribes on Sinai’s height  in ancient times once gave the la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 cloud and majesty and aw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3808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O come, thou Root of Jesse’s t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 ensign of thy people be;       before thee rulers silent fa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on thy mercy c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5. O come, thou Key of David,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wide our heavenly home. The captives from their prison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quer death’s deep mise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0492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6. O come, thou Dayspr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che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by thy justice here; disperse the gloomy clouds of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’s dark shadow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ut to f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7. O come, Desire of nations bi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in one heart and mind. From dust thou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us forth to lif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from earthly strif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228600"/>
            <a:ext cx="8610480" cy="3522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7. O come, Desire of nations bind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all peoples in one heart and mind. From dust thou brought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us forth to life;</a:t>
            </a:r>
            <a:br>
              <a:rPr sz="4500"/>
            </a:br>
            <a:r>
              <a:rPr b="1" lang="en-US" sz="45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 us from earthly strif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21178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ome, O come, 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ansom 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9th cent. Latin; trans. st. 1, 3, 5ab, 6cd, 7ab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; st. 2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4479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ourns in lowly exile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e Son 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52056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O come, thou wisdo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on hig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rder all things far and nigh; to us the path of knowledge sh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use us in her ways to g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30492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O come, O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Lord of m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ho to thy tribes on Sinai’s height  in ancient times once gave the la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n cloud and majesty and aw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8088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89856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4. O come, thou Root of Jesse’s t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 ensign of thy people be;       before thee rulers silent fall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on thy mercy call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5. O come, thou Key of David, co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open wide our heavenly home. The captives from their prison fr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conquer death’s deep misery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289080"/>
            <a:ext cx="6019560" cy="3141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0492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6. O come, thou Dayspr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ome and che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ur spirits by thy justice here; disperse the gloomy clouds of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’s dark shadow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put to f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4413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7. O come, Desire of nations bi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s in one heart and mind. From dust thou brough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us forth to lif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 us from earthly strif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28600"/>
            <a:ext cx="9144000" cy="398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! Rejoice!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905120"/>
            <a:ext cx="8915400" cy="46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ntiph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O EMMANUEL, our King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Lawgiver, the Expected of the 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nations and their Savior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Com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save us, O Lord, our G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ts. 1, 3, 5ab, 6cd, 7ab © 1940, 1943, renewed 1981 The Church Pension Fund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sts. 4, 5cd, 6ab, 7cd © 1989 The United Methodist Publish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ouse; antiphons © 1962 Sisters of St. Bened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9th cent. Latin; trans. st. 1, 3, 5ab, 6cd, 7ab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he Hymnal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1940; st. 2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 come, O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an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mourn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wly exile 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12-20T01:31:51Z</dcterms:modified>
  <cp:revision>65</cp:revision>
  <dc:subject/>
  <dc:title>PowerPoint Presentation</dc:title>
</cp:coreProperties>
</file>