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922-4421-4198-A7B3-D13D2091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EF1-9B70-467A-9654-9FA757A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FAE-7D1C-4FBF-9CBA-1EED1BDF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55D-762F-49E3-A992-91712E63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760-0693-4E52-A934-63532813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9DA-2C22-4894-9293-C7D0281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8A7-4BBA-4699-BA70-A123FAD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BB4-5C65-4D35-9F4F-6AAD1B0E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2F6-05A6-4F79-B3E4-00CE715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580-1A12-4C64-8457-D2210F8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423-3EDA-4E78-ABA6-9C3BA90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A6C-2395-4EB6-8EB6-DE644B2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E99-2BAC-4E51-8358-45ECD2EDF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Divine Interpreter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divine Interpre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ing me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book to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s the mystic words to h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which d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e proce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Divine 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that end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liss im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pt in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bedient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hear, are bl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y plain commands we do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y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re poss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e we shall in glory 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ou come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to ab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ign triumph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t th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5:29Z</dcterms:modified>
  <cp:revision>11</cp:revision>
  <dc:subject/>
  <dc:title>PowerPoint Presentation</dc:title>
</cp:coreProperties>
</file>