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C9C-80A8-404C-B8B5-4063C428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400-D6BB-4C5D-A494-DB47FD1C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92E-0C35-4EE4-8879-73C2909B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264-0063-4E24-BCAC-627A57F2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A93-6CF0-4A9A-B083-4CE44E62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926-0BC1-4833-97B9-B139A3AE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B70-D409-4110-990E-D4B97E8B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47A-F2ED-4367-9845-6893E855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02F-C4D2-431B-BA46-95B13B1B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2BB-DB8F-4674-9E4B-0F6CACBA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5A0-5C66-4848-A757-F499334A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64E-4ECC-400E-BE66-66FED3B0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2634-FC2E-44CC-B144-2D37E1FA4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ther, We 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8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ather, we thank you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you plant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r holy na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in our heart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40, 1943, renewed 1971; 1985 rev.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Greek, 2nd cent.;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trans. by F. Bland Tucker and others, 1939, 1982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ledge 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mmort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imp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you have mad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r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n us f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our d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eterna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is the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yours th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atch o’er your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in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it from ev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 it st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i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unite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d and confor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your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grain, once scatt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hillsid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in the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made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from all l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hurch be gath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your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6:50:30Z</dcterms:modified>
  <cp:revision>71</cp:revision>
  <dc:subject/>
  <dc:title>PowerPoint Presentation</dc:title>
</cp:coreProperties>
</file>