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867D-FABC-47D3-A159-59307DE8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FC45-79F1-4DC3-A236-2AA38DA0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B990-4E0A-4E57-844F-84BC10325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5592-03F5-44F3-B14D-78C98F97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C75E-DE5A-4AFA-A150-64647E71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443E-758E-4B4D-A006-323F2F2F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30E3-C81B-445E-9032-4999F645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3142-1EE9-433F-832B-2069E621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8FCF-C535-47DF-8579-490B4FCF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DF33-ACFD-4A5B-8919-9A307C4E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B7FC-086C-4487-9766-6014756A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C46D-1184-455F-983C-CF8D48F1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A2A3-E057-4ECA-8E0B-4879B1E46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, Thy Boundles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ve to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68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, thy bound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to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thought can rea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tongue decl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Thy Boundless Love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48760" y="1549440"/>
            <a:ext cx="50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Paul Gerhardt; trans. by John Wes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n suffering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ove my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weakness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ove my pow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Thy Boundless Love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en the sto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fe shall c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, in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mportant hou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1859040"/>
            <a:ext cx="89154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eath as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my gu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ve m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for me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knit my thank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to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eign with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rival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whol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alone I a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al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constant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grant that no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dwell, but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e love al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Thy Boundless Love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y thy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ssess me who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joy, my tr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c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ange flames af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my soul rem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every act,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t, be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Love, how che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thy ra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pain bef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resence flie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Thy Boundless Love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, anguish,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lt a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’er thy h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ms a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Jesu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may I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hear, fe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think, but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6:26Z</dcterms:modified>
  <cp:revision>12</cp:revision>
  <dc:subject/>
  <dc:title>PowerPoint Presentation</dc:title>
</cp:coreProperties>
</file>