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360-A825-4A14-B1B2-1749CACB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C60-750A-486C-9442-7097C07D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3B7-6456-420C-9996-B6A0CCCF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615-723F-4200-AB7B-C79D129D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3D80-21F8-4680-B460-8868CF6D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2C2A-B4F2-41F8-A093-6B7CC57F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EEC9-AC27-4226-95F0-A7D812C7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8474-2624-406B-990B-A32C6DAD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1EB8-BC27-46C0-9912-EFE49777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1052-CA2F-47E0-9BC3-65DAD43E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9772-F8E5-4764-8683-C1233CA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AC9-1374-4204-94DE-7BA60B2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938A-BDEC-48F3-A9F4-C9DECE92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FE88-6E35-413E-BCD2-202E79E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4622-8993-4009-BC2A-29A9D94E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5F16-ACAE-4D9E-91B8-87A03DB9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86DF-D8F4-45B8-994C-453865F7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C65-4BD2-4FC4-8511-52B41D03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E5C-B9CE-4A0D-BBB1-33171C82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AC3-672C-4A54-A0C3-5192AE4D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ACC-20C7-40A2-8836-DE67FD24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D17-F549-4565-BD2E-899A8509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070-2CAE-4D8E-A1DC-39E77704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2C8-654F-438F-8384-66A0AACC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3EDD-0E94-48D3-9A5F-0881F34F5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5B98-60A3-4DC4-B989-1C5E8AFF8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, Like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epherd Lead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Dorothy A. Thrupp, 1836 (Jn. 10:1-2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2880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1. Savior, like a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 lead us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much we need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  <a:ea typeface="Arial"/>
              </a:rPr>
              <a:t>thy tender care;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ou hast merc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o relieve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race to clean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power to fr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e will earl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 We will earl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4. Early let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eek thy fav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arly let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do thy will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lessed Lor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only Savio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th thy lo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 bosoms fi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love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 Thou hast love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avior, Like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epherd Lead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Dorothy A. Thrupp, 1836 (Jn. 10:1-2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Savior, like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pherd lea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uch we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tender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y pleas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tures fe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folds prep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thy pleasan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pastures fee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our u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y folds prepa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ar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befri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 the guard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thy fl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defen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us when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a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, O hea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Hear, O hear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 hast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nd sin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w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hast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lie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clean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wer to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will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e will 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ur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arly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ek thy fav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ly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thy w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l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bosoms 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lov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ou hast loved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u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bought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ine we ar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We are th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ost befrien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e the guardia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way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keep thy flock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sin defend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ek us when w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o ast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ear, O hear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lessed Jes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 Hear, O hear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pray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ou hast promise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poor and sinfu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we b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22T01:56:19Z</dcterms:modified>
  <cp:revision>127</cp:revision>
  <dc:subject/>
  <dc:title>PowerPoint Presentation</dc:title>
</cp:coreProperties>
</file>