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8F65-7213-4B82-9E23-DA0C86F0B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6585-C460-4677-9833-8A9F06C7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D7F7-43AF-4A56-BF48-B3F1D505E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D00D-0494-44FE-8E5A-8AF797B7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4FD8-3736-4505-B840-332B9C09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637A-176A-46E1-B621-3DE738CD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E046-6601-49CA-AA4A-19A37908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EE7B-9CD7-42CB-BE6D-BFD1DD09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CD08-D20E-4AA3-AB17-70B0029D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FBF6-9D8D-4760-86AA-B257B11C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907F-8BEE-415C-A4CE-019DFFC2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BC39-4154-4FBB-8401-F828DCF0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ECBC-943F-48BB-B0B0-70AC4BF08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the Poor 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Cuando El Pob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Poor One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. A. Olivar and Miguel Manzano;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George Lockwood  (Mt. 25:31-4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9436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1 Ediciones Paulinas; trans. © 1980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05740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When the poor on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who have noth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share with stranger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thirst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water give unto us al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67652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7000" y="1295280"/>
            <a:ext cx="75067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When our homes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ed with goo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abund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e learn how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ke peace instead of w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Poor Ones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09692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1040" y="2133720"/>
            <a:ext cx="55846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each stra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called a neighbo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44792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ando El Pobr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47780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4479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uando el pob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ada tiene y aun repar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uando el homb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asa sed y agua nos da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223992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04280" y="2576520"/>
            <a:ext cx="6535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uando el d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b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su hermano fortale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60020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ando El Pobr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09692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7524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Cuando sufre 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mbre y log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 consuel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uando espera 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se cansa de esper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223992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46520" y="2576520"/>
            <a:ext cx="70509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uando amam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unque el odio nos rod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44792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ando El Pobr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47780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7524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Cuando cre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 alegría 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s inund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uando dicen nuestr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bios la verda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79840" y="25765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2133720"/>
            <a:ext cx="86868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cripp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ir wea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en other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223992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69240" y="2576520"/>
            <a:ext cx="60055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uando amamos 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tir de los sencillos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523880"/>
            <a:ext cx="86868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ando El Pobre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7780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1295280"/>
            <a:ext cx="86104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Cuando abund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l bie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llena los hogar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uando un homb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onde hay guer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ne paz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98108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39200" y="2576520"/>
            <a:ext cx="64670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uando “hermano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 llamamos al extra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1371600"/>
            <a:ext cx="861048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523880"/>
            <a:ext cx="89154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29528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0960" y="1295280"/>
            <a:ext cx="64872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When at last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se who suff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nd their comfo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y hope th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n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ems hopelessnes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Poor Ones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47780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5765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love th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e at tim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ms all around u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09692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14300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47920"/>
            <a:ext cx="89154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4880" y="1676520"/>
            <a:ext cx="711936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hen our joy fi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c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overflow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our lips can spea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words other than tru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Poor Ones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47780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32640" y="2576520"/>
            <a:ext cx="66790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know that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simple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bett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09692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5238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15:59Z</dcterms:modified>
  <cp:revision>144</cp:revision>
  <dc:subject/>
  <dc:title>PowerPoint Presentation</dc:title>
</cp:coreProperties>
</file>