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B43-4EE8-4BBB-BE74-86E5026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DDE-1E65-4706-8A12-7787112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FBD-ADB3-4A37-8B87-5F590A34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E83-912D-4D72-A1DC-88781492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98B-2282-4A01-8598-23F60F26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1AE-ACF0-4A0E-BECA-F2F31645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E42-5AB4-471E-9F22-D19A8F17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F50-CF2A-47FD-8E5B-65B24CAE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0B5-3CE8-4868-8C8A-C5A13A6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835-9DD7-40E0-90B7-C80919F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2F8-AFA2-4C2A-A708-72B8CAA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A60-1A95-4991-BA8E-AA7044A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C60-8838-47B2-937D-74B53B3F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Thou But Suff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o Guid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ou bu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o gu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y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3520" y="1495440"/>
            <a:ext cx="701604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Georg  Neumark, 1657;  trans. by Catherine Winkworth, 1863 (Ps. 55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give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the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vil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1240" y="1863720"/>
            <a:ext cx="622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s 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aught can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God’s lei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eerful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cont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k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-disce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ath s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3120" y="1863720"/>
            <a:ext cx="5671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ur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s are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God’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pray, and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ays unswer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o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faithful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undes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yet shalt fi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7160" y="1863720"/>
            <a:ext cx="563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v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ook at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that tru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40Z</dcterms:modified>
  <cp:revision>61</cp:revision>
  <dc:subject/>
  <dc:title>PowerPoint Presentation</dc:title>
</cp:coreProperties>
</file>