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3CB-4FBD-497B-A683-178B7593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F54-F9EB-496C-AB1C-A57D88F8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642-F674-4D2E-AC3D-F4E468DA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87A-1B6B-4FCC-9646-F1DE75F7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F85-0C24-49BD-9D3D-E11F4BD4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3EB-7AF3-47E7-BF22-320251C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FF5-5724-48E5-BD25-B27EC2A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7CB-E361-4F53-B2FA-5ED1DACC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FBA-DBCB-4B18-B57C-B988D220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A3D-F617-4542-8AED-8C7BB33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729-E285-497C-A42E-5E77A16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DDD-FA05-490D-9453-97C37CA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833-34D5-4CA4-BC30-1248A0BE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-a-Bye, My Dear 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-a-b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ear little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ittle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 of wond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essing and j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7 Jaroslav J. Vaj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34400" y="109224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zech carol; trans. by Jaroslav J. Vajda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umber as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y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enfold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 of God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my arm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o peacefully cur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ittl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born to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rock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ly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 guard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day we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has dest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4:22Z</dcterms:modified>
  <cp:revision>8</cp:revision>
  <dc:subject/>
  <dc:title>PowerPoint Presentation</dc:title>
</cp:coreProperties>
</file>