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AED-ED41-4979-B030-7352FF4A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1DF-0C2E-43BC-8AE8-607408F5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97A-5FAE-4D45-9416-E4797A14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E3A-6BD3-4250-93D2-FE740CAD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AD2-3EB0-43A8-A491-EC718788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937-AB56-4303-A01B-EDFBA711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BAC-D3E0-4DAD-9F20-A15F2259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7F2-2295-4B99-98D3-330D9833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FF9-8607-4762-8522-2F8FF2A8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614-7C3F-43C5-8A9A-23B7D87A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0EA-5940-4B66-9FF1-CB6662A7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DB9-4C2C-40F4-8F12-5EA55558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602C-6A1B-4887-A4A3-A06C421E9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What Their Jo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Their Glory Mus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what their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ir glory must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endless sabba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essed ones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6880" y="1676520"/>
            <a:ext cx="66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eter Abelard, 12th cent.; trans. by John Mason Neale, 18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hom, the Fa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whom, the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whom, th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m ever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for the vali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eary ones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hall be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all ever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ruly, “Jerusalem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we that sh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ity of peac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s joy 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h and fulfill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not severed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do things pray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short of the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, where no troub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traction can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he sweet anth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Zion shall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for thy grace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voices of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lessed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ly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w, in the meanwhi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s raised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r that count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t yearn and must s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ing Jerusal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native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our long exi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Babylon’s str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Low before him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aises we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whom, and in wh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 whom are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07:15Z</dcterms:modified>
  <cp:revision>57</cp:revision>
  <dc:subject/>
  <dc:title>PowerPoint Presentation</dc:title>
</cp:coreProperties>
</file>