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DB9-5AE2-4943-ACAB-2A472AC5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4A6-29D2-4902-855B-BD84987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88B-3464-4FBA-B1E4-12AAAED0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A1C-D60E-4A89-A042-06601914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727-07BB-4DE5-BF52-9CE149C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8B0-CE1D-48E1-9308-A065C606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C06-81E2-4EE4-9FF9-CD2CC01C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8A6-952F-46E8-B742-DB48A06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F62-0BBC-41F5-A87C-3A0937C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0E2-834F-49B0-9D62-B4AACAF8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E26-09AB-4B49-91D7-B86A8B4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10C-B3B0-4169-BE6D-85D71DE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6668-FA3E-4F09-A1CC-2444AE28C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ly, Fre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1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forgave m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ve been born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Communiq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9120" y="1066680"/>
            <a:ext cx="595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arol Owens, 1972 (Mt. 10:8; 28:18-20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power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arth and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2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40Z</dcterms:modified>
  <cp:revision>12</cp:revision>
  <dc:subject/>
  <dc:title>PowerPoint Presentation</dc:title>
</cp:coreProperties>
</file>