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483-5E6A-4FC7-8A75-DD15C809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C4E-CCD5-42B1-B28D-293DBCEA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6C2-27C1-4507-ACA9-2866466F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388-0B01-4472-B7AF-AFDD4436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182-531F-4415-AD9E-DAA2FDC7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FDA-68CC-493D-AFAA-B8BA836A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1CF-014F-4D5A-AACF-AAFDB56C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E74-5FF5-403C-8A69-5230ABD1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6D1-FBF9-4302-B0E9-BC79055D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8BB-952D-4386-B219-F0DCAA60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594-AFEF-458C-BB6B-F91ADF45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442-2B53-42A9-9646-855E550A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4804-C9DA-4659-8974-CACB96B76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640080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Spirit of Tr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ayer from Ke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0968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cowardice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ares not face new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aziness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contented with half-tru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Spirit of Tr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82880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arrogance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nks it knows all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od Lord, deliver me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6:10Z</dcterms:modified>
  <cp:revision>13</cp:revision>
  <dc:subject/>
  <dc:title>PowerPoint Presentation</dc:title>
</cp:coreProperties>
</file>