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29F-52E1-49ED-8546-895696E8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A4B-F853-4777-B67D-4D67CAC5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F048-965A-48C0-883B-19596723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996-76ED-4F3E-BD77-0E7F7977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9F3A-D819-4063-98C3-68AF0BA0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4C09-16BC-4F38-9863-CF319587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2CAF-294B-437C-86F1-EB6FFEA1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C805-FF2C-46D6-8458-8323BB27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4A3F-F347-4984-8ED7-4BC4B86F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F024-2EF7-43A0-839B-77E038BE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B06F-9754-4BFE-9B5C-A4AE2561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0CCF-6AF5-4FF0-B5E4-528C6C13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511F-5C0B-454F-A9F7-A374427E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5231-165A-4959-BDF5-FCEF71A3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F666-CB86-4BDE-A5A6-62DDF021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C1F4-51E2-47B9-908F-5F6E4F77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AD3A-ED61-44DD-A4B1-8265A022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98F0-B924-46C8-B052-C5BEBE15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835E-46CE-4F17-BEC6-971AAA5E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A52-E96B-4374-93B6-D1DFF3CA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1D1-3CA8-426F-A10B-DFB976AF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CDED-1368-4906-8C2C-C69521F6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B6BD-8454-4F7B-82A4-39038396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95D-2C78-40E4-8F77-A8B26EF8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6746-9190-496C-BDED-1091C2397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E328-C5E4-46F8-A4CF-52B29A0B8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ecious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ake the na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Jesus with you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ild of sorrow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of wo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18680" y="1066680"/>
            <a:ext cx="472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ydia Baxter, 1870 (Phil. 2:9-11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is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ms recei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s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tongues emplo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06480"/>
            <a:ext cx="9144000" cy="521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477800"/>
            <a:ext cx="9144000" cy="494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,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t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 bow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ing prostr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his fee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cious Na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k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eaven we’ll 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our journ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comple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06480"/>
            <a:ext cx="9144000" cy="521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77800"/>
            <a:ext cx="9144000" cy="494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,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ecious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432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Take the na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Jesus with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ild of sorro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of wo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18680" y="762120"/>
            <a:ext cx="472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ydia Baxter, 1870 (Phil. 2:9-11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222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ill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fort giv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it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er you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2280"/>
            <a:ext cx="9144000" cy="449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ill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fort giv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it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er you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4920"/>
            <a:ext cx="9144000" cy="411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,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5176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Take the name of Jesus ev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s a shield from every snare;            if temptations round you gath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reathe that hol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ame in pray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52280"/>
            <a:ext cx="9144000" cy="449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80880"/>
            <a:ext cx="9144000" cy="411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,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O the precious name of Jesus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ow it thrills our souls with joy, when his loving arms receive 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his song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tongues emplo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cious Na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52280"/>
            <a:ext cx="9144000" cy="449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380880"/>
            <a:ext cx="9144000" cy="411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,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At the name of Jesus bow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alling prostrate at his feet,         King of king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heaven we’ll crown hi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our journe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s complet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cious Na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52280"/>
            <a:ext cx="9144000" cy="449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380880"/>
            <a:ext cx="9144000" cy="411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,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06480"/>
            <a:ext cx="9144000" cy="521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19320"/>
            <a:ext cx="9144000" cy="494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,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ake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a shie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y sn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temptat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und you g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e that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in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906480"/>
            <a:ext cx="9144000" cy="521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494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,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the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of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it thr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s with jo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cious Na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1-25T02:43:41Z</dcterms:modified>
  <cp:revision>11</cp:revision>
  <dc:subject/>
  <dc:title>PowerPoint Presentation</dc:title>
</cp:coreProperties>
</file>