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6AF1-F383-4495-A114-2E7E7E78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9A65-5409-4D93-8832-587AA809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E921-B4BC-4698-A764-98B328E2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80CE-984D-4025-815C-90BD8473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1B94-CB66-4D5B-BD34-26576764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C53C-2A91-4DDD-B682-45763137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0DCD-DC1D-4E49-9EEA-F924D274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0472-367A-40BD-9761-9650DC4F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9C34-3532-4B14-8F2D-B749324B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B3E7-C304-428D-B3DC-701F5580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609F-6211-4E25-B0A8-FAD7650A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5EF9-9D1F-483F-90B4-AD369A38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5C33-D1FE-4D8D-B565-34BB310D7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Want to Be Rea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465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lk in Jerusal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like Joh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0200" y="1295280"/>
            <a:ext cx="50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frican American spiritual (Rev. 21:2, 1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173240"/>
            <a:ext cx="9144000" cy="465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lk in Jerusal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like Joh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9144000" cy="47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John, O Joh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did you sa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in Jerusal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like Joh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14400"/>
            <a:ext cx="9144000" cy="521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you’d be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judgmen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in Jerusal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like Joh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838080"/>
            <a:ext cx="9144000" cy="465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lk in Jerusal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like Joh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66680"/>
            <a:ext cx="9144000" cy="47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ohn said the c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just foursqu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in Jerusal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like Joh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14400"/>
            <a:ext cx="9144000" cy="49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delca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d meet me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in Jerusal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like Joh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173240"/>
            <a:ext cx="9144000" cy="465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lk in Jerusal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like Joh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685800"/>
            <a:ext cx="9144000" cy="540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w sinners, m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you step on the cro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in Jerusal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like Joh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9144000" cy="490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foot might sli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your soul get lo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in Jerusal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like Joh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21:11:59Z</dcterms:modified>
  <cp:revision>58</cp:revision>
  <dc:subject/>
  <dc:title>PowerPoint Presentation</dc:title>
</cp:coreProperties>
</file>