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B2E-55A4-4A49-A5A6-79686D8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B67-5512-4EFA-9201-2F6025B9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BCD-6EB2-4D0A-9311-E12656D1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BD4-F117-4C58-BB77-FC96A884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834-B2F8-4DC1-A6AC-668203E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F65-39CE-4564-B7F3-EE22EBE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10D-2C6A-401D-B034-8E08B17F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8DA-65B8-4670-B764-10677089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5C3-9036-4B72-8612-77551B1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7A8-99CE-41CA-9322-EB0CB9D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1D9-6731-48B9-8CB5-6A348CCC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F44-21A0-4F0A-8F44-DB53BC9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E9E9-FF65-4EC8-9FB9-E7700E8E5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 Us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70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us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ear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 Us, O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09Z</dcterms:modified>
  <cp:revision>34</cp:revision>
  <dc:subject/>
  <dc:title>PowerPoint Presentation</dc:title>
</cp:coreProperties>
</file>