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BF7-0E19-4DB3-8545-36627BF8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B39-D55B-45BE-8642-50CED25C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158-495D-420F-9C62-90C342C0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F25-AFA6-493B-878D-98ACE1A4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9E6-155A-4ED9-90F8-9A371E89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9A3-5674-42CC-B71E-3C040630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12F-9657-45AA-A9B3-C489FA13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45F-6982-4A41-8FFA-60AE5A42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F01-27B5-45C1-8E35-5B9F1CC2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6B0-887E-48E5-A301-CC67173B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6E6-B114-46A5-9786-AD721D7A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742-2C73-4C17-8EBD-B20070A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9A8C-4FE4-45B0-BF4D-C720ED00A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Spirit, Truth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amuel Longfellow, 186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oly Spirit, Truth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wn upon this soul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war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ke my spirit, clear m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oly Spirit,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w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eart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dle every high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ish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pure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oly Spirit, Power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and n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will of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strongly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avely bear, and nobly str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oly Spirit, Righ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conscience reig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ly bound, forever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1:30Z</dcterms:modified>
  <cp:revision>160</cp:revision>
  <dc:subject/>
  <dc:title>PowerPoint Presentation</dc:title>
</cp:coreProperties>
</file>