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EA18-17AB-4937-AAE1-D89358AC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2FBC-C278-40C2-A379-8F79D708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4F9B-3876-4F5F-BCA1-106427C74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247F-99EE-4D51-8C18-53EA60ED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FE68-DBD2-4048-A20C-E1384B5E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4208-D095-4AD8-B332-448E6FE1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B129-F331-4D3A-8239-B3579058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704E-7F23-4254-A2E9-8BA20A29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D27F-4520-43FE-B984-8572FCAF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FF04-A350-4CC4-9CCB-B8C30384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C799-DB42-4A46-BFF7-6927C283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F659-413C-41E4-B9C0-B4F631BB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4613-1B0D-41B9-BD1B-C4AC30F0B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Lord, We Look to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Jesus, Lord, w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ook to thee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et us in thy name agree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how thyself th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Prince of Peac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id our strife forever ceas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rd, We Look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Charles Wesley, 174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By thy reconciling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stumbling block rem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to 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ite, ende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and sp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banner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rd, We Look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Make us of 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 and m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entle, courteous, and k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wly, mee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ought and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together like ou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rd, We Look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et us for each other c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the other’s burdens be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chu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attern g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w how tr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lievers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rd, We Look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Free from a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pr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thus in God abi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dept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ove expr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heights of holi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rd, We Look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Let us then with joy rem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family ab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w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ngels f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w how true believers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rd, We Look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36:36Z</dcterms:modified>
  <cp:revision>67</cp:revision>
  <dc:subject/>
  <dc:title>PowerPoint Presentation</dc:title>
</cp:coreProperties>
</file>