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0C9-5973-444B-8B81-C7326E37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6AE-3A8E-4114-A8DE-BFEA8C54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134-4B9E-450C-B253-7E0A313B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7CD-8EC9-48E9-9A8F-27F01CB2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B53-2E3A-4D69-B387-E810AC4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BB5-15FA-493C-A9C0-3D7C072B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32B-6C5A-47FE-9AD3-FA55214E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F60-3518-4801-82C3-BC789013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97D-9E13-484F-BB89-D00354E4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4A3-BAEB-4998-8BA0-286F54B8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FBB-B37A-4B98-8B46-D76849D8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B45-7FA5-47D4-BAA8-80304AF1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BC41-8784-4100-A8C0-7A860CA01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o, Lord, 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6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Do, Lord, do,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49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, Lord, do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49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Lk. 23:4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ot a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lory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653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took Jesus a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ook Jesus a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ook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I am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653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 got a home in glory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ot a home in glory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2:03Z</dcterms:modified>
  <cp:revision>55</cp:revision>
  <dc:subject/>
  <dc:title>PowerPoint Presentation</dc:title>
</cp:coreProperties>
</file>