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62DA-DDA4-46A1-A3BA-5C17629F1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8A70-B412-4CA2-B5B9-3D1F1385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5AAB-E802-456B-8050-13346471E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6E7D-8C56-44E4-B85A-24133FC29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B346-B4E9-4649-A57F-AE934E174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69D1-FC26-46DA-B41E-7BC09FBE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D5E9-6724-4B16-98D0-1953ACE4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7F2B-0008-46D5-9066-60C33BB9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AB9C-F1D7-460C-9CD3-2DE02A62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B197-9899-47D8-9B7B-B98962F5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4BDE-4274-4FD1-8882-8804E69B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2895-87F2-47B2-9D2C-64D6CDCE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5BAD-351E-462C-A527-A6766D2C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B96C-D0BD-4A51-8FDF-2A378000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EB5D-EF04-4E11-9372-D89DD2BE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3633-ED2C-4521-9257-16E6076E9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0917-7D89-4987-984F-DCB40D56C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4652-1568-47A4-A4B0-EBE8D6F5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CE2C-5F55-467D-9CD2-1AB3CDE9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659B-5BD3-4B97-8F4B-707C8FE7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C7B2-C86C-4BBD-A89C-D42B1953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1FD1-6B62-4795-84A8-A6AA243E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2C88-D33C-4C06-9A03-E258AC10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F308-F1D2-4805-9D17-B01183DF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E39F-1753-41D2-ADB2-7160ECC70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E836-F577-486B-9C57-6B873E330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364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 Christ There I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 East or W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36232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. In Christ there i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o east or west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n him no south or north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hrist There Is No East or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371600"/>
            <a:ext cx="914400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Sts. 1, 2, 4, John Oxenham, 1913;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t. 3, Laurence Hull Stookey, 1987 (Gal. 3:2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. 3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n Christ is nei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w nor Gree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either slave nor fr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Christ There Is No East or Wes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th male and fema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irs are ma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are kin to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In Christ now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th east and w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im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th and nort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hrist There Is No East or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hristly sou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one in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out the who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de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364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 Christ There I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 East or W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362320"/>
            <a:ext cx="9144000" cy="21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In Christ there i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no east or wes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him no south or north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hrist There Is No East or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371600"/>
            <a:ext cx="914400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Sts. 1, 2, 4, John Oxenham, 1913;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t. 3, Laurence Hull Stookey, 1987 (Gal. 3:2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. 3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one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llowship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ou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le wide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In Christ shall tru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arts everywher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ir high communion find;            his service i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golden cor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lose binding humankin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hrist There Is No East or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In Christ is neithe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Jew nor Greek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neither slave nor free;          both male and femal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irs are mad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all are kin to m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Christ There Is No East or Wes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21276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 In Christ now mee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oth east and wes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him meet south and north;         all Christly soul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re one in him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roughout the whole wide earth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hrist There Is No East or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83808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ut one grea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ellowship of lov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roughout th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hole wide earth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336600"/>
            <a:ext cx="9144000" cy="530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2. In Christ shall true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hearts everywhere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their high communion find;            his service is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the golden cord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close binding humankind.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hrist There Is No East or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2860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3. In Christ is neithe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Jew nor Greek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neither slave nor free;          both male and femal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eirs are mad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all are kin to m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Christ There Is No East or Wes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52280"/>
            <a:ext cx="9144000" cy="585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. In Christ now mee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oth east and west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 him meet south and north;         all Christly souls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re one in him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roughout the whole wide earth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hrist There Is No East or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 Christ There I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 East or W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743200"/>
            <a:ext cx="9144000" cy="363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In Christ there i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no east or west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 him no south or north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. 3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hrist There Is No East or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6765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Sts. 1, 2, 4, John Oxenham, 1913;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t. 3, Laurence Hull Stookey, 1987 (Gal. 3:2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one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llowship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ou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le wide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n Christ shall tr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s every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hi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munion fi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hrist There Is No East or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service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olden c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se binding humank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7-08T23:23:25Z</dcterms:modified>
  <cp:revision>21</cp:revision>
  <dc:subject/>
  <dc:title>PowerPoint Presentation</dc:title>
</cp:coreProperties>
</file>