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D1B-4BAF-45DF-A369-05F2146C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EED-96A7-46B8-908F-16ED1D8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B9D-9153-418C-8039-1FD8E044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D5E-EF05-40DC-BC27-C21EB226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537-3E6C-45FA-8916-D6BC045D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CECE-65D2-4DF9-828D-5E3567C9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DBB8-4D1C-4A1E-B520-030CBC6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E6A1-57CA-4EAF-8946-977D31B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0E6D-6FD1-4A38-A080-889172E5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A5C0-A570-4D58-BE29-93F401D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3CC1-04BC-4237-9CDF-0F1D176F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616-B430-478F-995E-FC68A77C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C113-7E82-47E3-8C9A-43C89C8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7E1B-0535-42FD-84CD-C12691FC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E2AD-2D85-4A8E-9EFB-E427884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48E7-0578-4B9D-8406-6C3A0E04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7B3F-E173-4480-AAA2-722720F4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D13-559D-459B-8B4D-83880DEE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E1A-4B17-4A8E-83CA-289A11B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345-3159-4E80-A136-7FA565ED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A24-B8EC-40F4-8A28-6C9D0EF7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428-25AC-4054-BDE8-23F03A7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593-FA92-40CB-A365-9E97178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BBE-A902-4532-8E4F-AD504FA4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A93E-C32D-4767-9A49-D7BEEB64B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5085-0D9A-4138-859C-9B63D0C25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rk! the Herald Angels Sing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born King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482120" y="1116000"/>
            <a:ext cx="62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39; alt. by George Whitefield, 1753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nd others (Lk 2: 8-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il the heaven-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Pe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ighteousness!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he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with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ing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ld he l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y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may di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o rais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econd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ark! the Herald Angels Sing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4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819520" y="1812960"/>
            <a:ext cx="6324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born King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82120" y="914400"/>
            <a:ext cx="62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39; alt. by George Whitefield, 1753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and others (Lk 2: 8-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0" y="914400"/>
            <a:ext cx="2946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8120" y="990720"/>
            <a:ext cx="6095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erc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nciled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429000" y="91440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ful, all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ki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’angel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t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Christ i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ethlehem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nd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ed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76720" y="380880"/>
            <a:ext cx="58672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, by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d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Lor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76720" y="106668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te in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spr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virgin’s womb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iled in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’incarnate Deity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352680" y="990720"/>
            <a:ext cx="5791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e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flesh to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76720" y="304920"/>
            <a:ext cx="58672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276720" y="609480"/>
            <a:ext cx="58672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ail the heaven-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 of Pe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!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429000" y="83808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he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with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wing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76720" y="9144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ld he l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lory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may di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429000" y="106668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ais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second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, all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ki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429000" y="380880"/>
            <a:ext cx="5715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’angel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i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, by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or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 in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spr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virgin’s womb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6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iled in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head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’incarnate Deity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lesh to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1-12-21T17:57:29Z</dcterms:modified>
  <cp:revision>17</cp:revision>
  <dc:subject/>
  <dc:title>PowerPoint Presentation</dc:title>
</cp:coreProperties>
</file>