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2AD-FF50-42D8-B0CE-50D117A2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048-5C3F-472E-91A3-8E1202BC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817-CAD9-4919-846F-B3A9900A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08C-090B-4C32-BCD0-5B252F18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559-3292-446C-B81A-B10C898D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DE8-EB83-466D-A1A5-953E5248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C26-6D31-4BAB-9258-08BB5C0B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72A3-9FA7-4527-BCA3-8B685674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6A1-0313-4590-A238-50542F6B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E5B-FD2F-46A3-A5D7-AE56B550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ED1-8D0C-40E3-9E25-EDEB92CD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4A8-5C8F-4D19-9EBB-65CC7B32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90AD-8A6E-430A-A74C-72DBF2415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erenity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renity Pr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nonymo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251460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od, grant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serenity to accep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things I cannot chang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urage to chan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things I ca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wisdom to distinguish   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one from the other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9:27Z</dcterms:modified>
  <cp:revision>153</cp:revision>
  <dc:subject/>
  <dc:title>PowerPoint Presentation</dc:title>
</cp:coreProperties>
</file>