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932-2031-42AC-A320-1889BFA2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CA3-1D76-45F3-A82D-65B3EEA6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3E5-B265-4F26-A6BA-A9A12603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775-6D2A-4542-AC7F-227D4F6F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8FF6-AE65-4FA9-9256-3F7CC387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828B-6953-4047-9626-B49D0880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044D-8520-4FF4-91E6-A2E49F4C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4C38-8D8B-4BBD-88AE-C3664E4A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B209-A57F-4A74-B2E9-8E96BD9B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2B7A-5FFD-4650-A973-445E664D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875B-7B22-4686-AD8B-17D090CA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58C-9A03-437A-BE19-45377DAD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1AF6-2200-443F-8E44-BF9C2A75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AE9A-7C9B-43A7-A4CB-146D816F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DC4C-D1B2-4AC6-91FD-9C726A8F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7EA3-B1FA-4A08-8422-FB3F4C7D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E9D4-5C8A-4A17-BC50-CB1640A9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C26-2D5D-4C40-BD71-5998E204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2C0-1538-456C-B84B-C7C1C397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361-AFA4-43A0-8096-060D043D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146-5E9F-4B53-8957-00A6F5BC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3C9-001D-4866-8204-B58B18A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5D4-BE51-4594-8440-C2FF8233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1BA-57A0-4E3F-ACBE-5A3B143A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9E64-CC86-447D-A233-B85A00EC5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2CB5-E25A-496B-B501-F525DBE8B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’s Me, It’s Me, O Lord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tanding in the Need of Pr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3716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0512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60668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8736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60668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’s Me, It’s Me, O Lord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tanding in the Need of Pr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0664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5884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0668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0492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t’s Me, It’s Me, O Lord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Standing in the Need of Pr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0664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25884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0492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860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0492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8736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0668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87360"/>
            <a:ext cx="9144000" cy="390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cp:lastPrinted>2001-10-29T20:41:57Z</cp:lastPrinted>
  <dcterms:modified xsi:type="dcterms:W3CDTF">2007-09-15T01:34:51Z</dcterms:modified>
  <cp:revision>112</cp:revision>
  <dc:subject/>
  <dc:title>PowerPoint Presentation</dc:title>
</cp:coreProperties>
</file>