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3DD-78D8-4A34-9A72-BD381A6A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BF4-07B5-422B-9719-F8001760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20F-DD1A-4ADD-8914-82FAAA14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29D-4E2F-431C-9D7F-F5860456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C16-99DD-4C4D-8361-8A4D416F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CAC-C01F-4A8A-A423-9AED1B91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1AE-2A7D-4EEF-8EBD-7B54910B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126-36E7-4A08-B0C7-749A9368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452-48F0-4D09-8191-99C0F538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C79-6BC8-429C-9ED5-9A8C4096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93A-E8EE-4827-90A0-7FE35A1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CB5-CB45-4B6D-80C4-BC4358A5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03F5-1C22-4D83-B016-7EC536731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Prayer Rises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7920"/>
            <a:ext cx="9144000" cy="483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 permission of Vietnamese Min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8600" y="1066680"/>
            <a:ext cx="366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Dao Kim (Ps. 141: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ord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I wish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ld liv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rest of my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ing in your ho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feel ass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y prayers w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always in your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rd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l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tru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our judgments are j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compa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you do I tr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 the thirsty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s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ife-giving r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flower and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 raise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in pray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fend me from all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y to harm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8:23Z</dcterms:modified>
  <cp:revision>8</cp:revision>
  <dc:subject/>
  <dc:title>PowerPoint Presentation</dc:title>
</cp:coreProperties>
</file>