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115-3208-4190-9D13-051BABFB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56F-237F-444E-9560-C656E598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474-1005-4DB2-B430-D3333A9E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E99-B6CC-4B84-92F3-058FE877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E3CD-143E-4398-B1DD-8400486A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635C-C374-435E-AB12-47F2D63B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01A9-F58D-45F9-B35D-F73F5D53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210C-B810-4E70-8675-47C0B9F2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E3D2-46F9-4A5C-8044-EE9E2FC6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F386-8758-461A-BDDB-E49B4AC2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8344-8F5F-4868-833A-B2B4EB55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741-3674-42CB-B421-3ACA2249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D829-3013-4A97-B2D9-0011F602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71FC-6F26-40F7-BC3F-C0065CE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75FD-4AC9-4CFC-A283-71DA6E5B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02D6-C616-4A52-BA50-F126C7DA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706A-790E-4F86-B8F0-83302BE0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31F-9180-46F2-959F-CE9E4FD7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8DD-8839-41C8-83AF-108D72FB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D66-D666-4C34-826F-8C0264B3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6B8-5337-43DB-AB07-EEB94381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3CA-2B8E-4990-865A-4F74F456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DCC-0903-4351-BA5A-9330A603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E80-2225-4518-96B6-35F4F8CE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9627-85A2-4D52-AFE1-1297B1C65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9869-6809-4DED-A68D-11284F58A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Love to 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0804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I love to tell the s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unseen things ab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25760" y="83808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atherine Hankey, ca. 1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who know it b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m hung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ir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it like th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enes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 the new, new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have loved so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 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Love to 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love to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unseen thing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25760" y="109224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atherine Hankey, ca. 1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I know ’tis tr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satisfies my long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nothing els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wonderful it se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golden fanc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our golden drea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did so much fo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is just the rea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tell it now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pleasant to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see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time I tel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wonderfully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I know ’tis tr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satisfies my long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nothing els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ome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ver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essage of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who know it b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m hung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ir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it like th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enes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 the new, new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have loved so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127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 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wonderful it se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golden fanc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our golden drea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did so much fo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is just the rea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tell it now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 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pleasant to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see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time I tel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wonderfully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ome have never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essage of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89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 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11T00:38:59Z</dcterms:modified>
  <cp:revision>18</cp:revision>
  <dc:subject/>
  <dc:title>PowerPoint Presentation</dc:title>
</cp:coreProperties>
</file>