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AB6-82B2-42EE-A030-B6BBED04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697-A6D6-45D2-AD16-66948F45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705-199B-47B8-8EA0-CAAF2547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210-5734-4621-BE1D-8B9BD896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1102-1B93-4CA9-A5E0-E975CBCD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EB6B-B508-4C9F-9BCF-E436B94D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D009-78D0-42EE-9F71-DF8F175B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9DE6-33C1-4F30-BDF8-91441BAA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15BB-0F5D-4AB7-AFC3-F3B2E02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50CC-4C26-46B6-8CDE-A8A47D3F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B193-24F9-4607-BBEE-59AD92CD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CB7-9B3F-4AA7-BBE1-D0305E34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F22F-F779-4CEF-8C24-1711339A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8B27-C6E2-4A25-A321-17734B9D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F9D1-1B22-4F9A-97C6-C0462F56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3C97-350D-49CE-8E26-726D011F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F179-1E97-4029-AE74-FD120FFD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8DA-C34F-499D-B5AD-0CA45693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D80-DF00-4C23-861C-39FF8C7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287-F7F1-4C4F-BC0B-6199F75C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E9D-569E-42AE-B327-23BFFA81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BF3-25FB-48B4-A200-835E2A0B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978-8587-44C1-BC7A-AFB8B3CA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6E3-4585-4940-8980-671BA50D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AF3D-4D91-4229-8B3A-857A2472F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4F87-D401-4552-A876-B154C3AE0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e Now of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sing we her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grateful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babe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47080" y="1092240"/>
            <a:ext cx="56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French carol (Lk. 2:8-20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e Now of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7366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Sing we now of Christma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el, sing we here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r our grateful pra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he babe so d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7080" y="1092240"/>
            <a:ext cx="56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French carol (Lk. 2:8-20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Angels call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shepherd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“Leave your flocks at r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ourney fo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nd the child so blest.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ound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seph and Mar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ted by the m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the holy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667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From the eastern count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me the kings af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ring gif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uided by a st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699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Gold and myrr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y took the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fts of greatest pric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was nev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stable so like paradis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ngels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eave your flocks at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urney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the child so blest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ound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seph and Mar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ted by the m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the holy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stern coun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he kings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ing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d by a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old and myrr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took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of greatest pr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was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ike parad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9T03:51:46Z</dcterms:modified>
  <cp:revision>12</cp:revision>
  <dc:subject/>
  <dc:title>PowerPoint Presentation</dc:title>
</cp:coreProperties>
</file>