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6F6-803F-49E1-A399-6BCFAA1F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CF3-CCB2-43DA-BE73-A533AABF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93B-6CFE-4DEA-916D-348A8E60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2D0-A3BA-43D9-ADB5-B2DB31CF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BA2-61C5-4518-9B4C-C6DF72E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0D1-EB32-4EA5-B454-0D9060A0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14B-35F1-44EF-94CE-291106D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D9F-A564-4030-A02E-01CE679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508-DA4A-4726-A47D-02384538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C07-CAC3-4361-85AF-4E65363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A8A-17EF-413C-88E8-DBDA010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FE2-24FA-41B9-97F2-8319FFD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112-5908-492A-B1EC-14BA62F1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nely the Bo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nely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ing at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ed on a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y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0666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Kim; trans. by Hae Jong Kim; para. by Linda and Doug Sugano;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Hope Omachi-Kawashima, 1987 (Mt. 8:23-27; Mk. 4:35-41; Lk. 8:22-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Storms in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and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will aris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life’s wil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ful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and is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in contro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calm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comes to my lone soul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eemed so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aves so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ingle 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ed the deep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ght into the ga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e per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gers to all ass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rong winds a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ir 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tiny lone bo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s billow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aflo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elpless w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embling with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for help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ab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lp can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 i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mall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by my s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trust in th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my lif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Pleading fo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a sinner lik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to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Galil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save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a peaceful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erciful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imes of calm and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39Z</dcterms:modified>
  <cp:revision>17</cp:revision>
  <dc:subject/>
  <dc:title>PowerPoint Presentation</dc:title>
</cp:coreProperties>
</file>