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447-DCC4-474E-80CB-60F6093A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796-530E-4F8D-99E1-A7E21088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6FB-E31A-4EBE-99AA-9D6F8655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2E5-BCE6-41AA-A055-9D632037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25D-4781-4E67-ADC5-E506281F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D5E-E2D3-4BA9-AE31-1959DA8C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1C9-E499-4A47-8080-5FE3EAB9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FF9-7115-452C-83F3-85FE7873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B7D-8C4F-4157-B0CD-267120AB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4AF-9FE4-4F36-ACAA-69CD804F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A38-50B0-4356-A83D-B9E2F7B3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952-2915-4790-918E-3B229DBD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621A-AF06-4EE8-B66F-EE4478383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ing Glory, Starlit S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orning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lit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aring music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holars’ tru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ords by permission of J. W. Shore 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2000" y="1092240"/>
            <a:ext cx="491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. H. Vanstone, 1980 (1 Cor. 13: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na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of tho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f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love mus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Here is Go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monarch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d in eas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te to reig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s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arm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ching, sp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sust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ight of swall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utumn lea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mory’s tr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of yout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pen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if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ft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ind and s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dden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’s agon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’s endeav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’s expen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ove that g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s ever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s with z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eager h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ares not, keeps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utp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nture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all exp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Drained 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aking fu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in set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thers f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 in m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ri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k in 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 to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Therefore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shows us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less ha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9:57Z</dcterms:modified>
  <cp:revision>44</cp:revision>
  <dc:subject/>
  <dc:title>PowerPoint Presentation</dc:title>
</cp:coreProperties>
</file>