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553-564C-4EAC-AA2C-78D97F0B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7F7-99DA-4A30-9542-2DBF399E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AD7-BA4B-42F1-AB7A-734BCBA0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E9E-54B9-4558-B2FC-48015B82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9393-64AE-4CF6-87D2-89AC4CEA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7F30-1B50-4C2B-A179-5904E5FC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175-FC8B-41FB-A6CE-30AA80A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AE0-28CC-4F4E-B1EC-9EF5D1D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4318-8415-4C9A-AD01-E135B16B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A0B5-EC99-4760-9C43-42D4F739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24BB-67F0-4FD1-A271-B47E7C8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23C-BBDC-4141-A582-E839966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70AD-1172-4811-85F3-59B6A96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A178-6CDA-48A4-8A50-5FBCF85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F3FE-B041-4066-B51A-0E7ECE6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62EB-AE7A-426B-BE5F-F8E1E725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9E88-F156-4FB2-870C-9C39B885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077-758F-4F2D-B742-0EA2CFA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2EA-6CE9-4D87-86F8-D95C4746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B89-F1B1-4E68-BCC2-DCF75638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7E8-5055-4614-8D5F-23C8D3F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3C1-3D9A-4E62-9E9A-6130FA0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7F9-CF04-48E4-AAF0-284FCDB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65A-EBF4-405C-A343-647829A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162-695B-48B3-8CE8-3CC164576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38D-AEED-45AD-9E24-9AA80A0F4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05596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8580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35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395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sw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ons on each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k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feel the presen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89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 thes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lift our hearts in prais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a doubt we’ll k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have been reviv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sh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ve this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33:41Z</dcterms:modified>
  <cp:revision>93</cp:revision>
  <dc:subject/>
  <dc:title>PowerPoint Presentation</dc:title>
</cp:coreProperties>
</file>