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B3476-5F36-4FE4-AD27-7572D2E44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6AB52-9E38-483F-B209-1AFDE6DF9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AED1C-6740-4527-A1C6-D2682DEB8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70AAA-FB69-4F8F-941F-5156DCE19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F0C3C-7C03-4C59-A880-76BD11148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A4A32-B14F-46EF-97EB-E0ED39878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447C8-4407-4A82-8AC3-27B36411B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E05E7-7E9E-4714-87A7-7BD3C701A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B36B9-C24F-49CC-B579-D5B3F279F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D64C4-ABF7-465A-8C6E-171F17F74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B543B-17C9-4EAD-92E6-0633BC2DD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C4CD9-B1F4-4B7F-879C-8F6723066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1F04A-6A34-486A-849F-E287EF5E8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ED196-C984-4788-983E-2DB15269C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52FE1-8CCB-42A3-ABC2-136D0ABEA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E2C8C-681A-43E0-A133-05CB3DA56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2043D-5715-46FB-887A-3F155132D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63DFB-5ED7-47B5-893A-950C7F4A6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341F2-9F0E-46A1-BC81-D8093224E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C0E55-5C3A-4E9B-BE4C-FE918DCA4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A0C73-3812-4505-99FD-717F5B4B5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390EE-030C-4CB7-BF2A-5BBC32F01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F0F02-7357-4DB6-8505-23C74B507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C8C4E-6DC9-4510-A377-6C365C73E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99300-5577-46FE-9F8A-4CF5426D68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919AE-ADB5-41AB-82B6-CF55092B58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Near to the Heart of Go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7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1523880"/>
            <a:ext cx="9144000" cy="405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0000"/>
                </a:solidFill>
                <a:latin typeface="Times New Roman"/>
              </a:rPr>
              <a:t>1. There is a place of quiet rest,</a:t>
            </a:r>
            <a:br>
              <a:rPr sz="5200"/>
            </a:br>
            <a:r>
              <a:rPr b="1" lang="en-US" sz="5200" spc="-1" strike="noStrike">
                <a:solidFill>
                  <a:srgbClr val="000000"/>
                </a:solidFill>
                <a:latin typeface="Times New Roman"/>
              </a:rPr>
              <a:t>near to the heart of God;</a:t>
            </a:r>
            <a:br>
              <a:rPr sz="5200"/>
            </a:br>
            <a:r>
              <a:rPr b="1" lang="en-US" sz="5200" spc="-1" strike="noStrike">
                <a:solidFill>
                  <a:srgbClr val="000000"/>
                </a:solidFill>
                <a:latin typeface="Times New Roman"/>
              </a:rPr>
              <a:t>a place where sin</a:t>
            </a:r>
            <a:br>
              <a:rPr sz="5200"/>
            </a:br>
            <a:r>
              <a:rPr b="1" lang="en-US" sz="5200" spc="-1" strike="noStrike">
                <a:solidFill>
                  <a:srgbClr val="000000"/>
                </a:solidFill>
                <a:latin typeface="Times New Roman"/>
              </a:rPr>
              <a:t>cannot molest,</a:t>
            </a:r>
            <a:br>
              <a:rPr sz="5200"/>
            </a:br>
            <a:r>
              <a:rPr b="1" lang="en-US" sz="5200" spc="-1" strike="noStrike">
                <a:solidFill>
                  <a:srgbClr val="000000"/>
                </a:solidFill>
                <a:latin typeface="Times New Roman"/>
              </a:rPr>
              <a:t>near to the heart of God.</a:t>
            </a: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ar to the Heart of Go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549160" y="1066680"/>
            <a:ext cx="40424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Times New Roman"/>
              </a:rPr>
              <a:t>WORDS: Cleland B. McAfee, 1903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5715000"/>
            <a:ext cx="914400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128736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Jesus, blest Redeemer,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ent from the heart of G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ld us who wait before the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ear to the heart of G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ar to the Heart of G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114300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There is a pla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full releas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ear to the heart of God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 place where a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s joy and pea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ear to the heart of G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ar to the Heart of G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0" y="128736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Jesus, blest Redeemer,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ent from the heart of G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ld us who wait before the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ear to the heart of G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ar to the Heart of G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152280"/>
            <a:ext cx="9144000" cy="5465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O Jesus, blest Redeemer, 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sent from the heart of God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hold us who wait before thee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near to the heart of God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ar to the Heart of G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5715000"/>
            <a:ext cx="914400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152280"/>
            <a:ext cx="9144000" cy="558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2. There is a place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of comfort sweet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near to the heart of God;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a place where we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our Savior meet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near to the heart of God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ar to the Heart of G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5715000"/>
            <a:ext cx="914400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182520"/>
            <a:ext cx="9144000" cy="5465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O Jesus, blest Redeemer,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sent from the heart of God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hold us who wait before thee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near to the heart of God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ar to the Heart of G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5715000"/>
            <a:ext cx="914400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152280"/>
            <a:ext cx="9144000" cy="558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3. There is a place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of full release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near to the heart of God;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a place where all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is joy and peace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near to the heart of God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ar to the Heart of G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5715000"/>
            <a:ext cx="914400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182520"/>
            <a:ext cx="9144000" cy="5465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O Jesus, blest Redeemer,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sent from the heart of God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hold us who wait before thee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near to the heart of God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ar to the Heart of G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5715000"/>
            <a:ext cx="914400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Near to the Heart of Go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7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1905120"/>
            <a:ext cx="9144000" cy="382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1. There is a place of quiet rest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near to the heart of God;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a place where sin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cannot molest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near to the heart of God.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ar to the Heart of Go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549160" y="1066680"/>
            <a:ext cx="40424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Times New Roman"/>
              </a:rPr>
              <a:t>WORDS: Cleland B. McAfee, 1903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128736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Jesus, blest Redeemer,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ent from the heart of G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ld us who wait before the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ear to the heart of G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ar to the Heart of G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114300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There is a pla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comfort swee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ear to the heart of God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 place where w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Savior mee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ear to the heart of G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ar to the Heart of G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10-09-25T14:47:12Z</dcterms:modified>
  <cp:revision>12</cp:revision>
  <dc:subject/>
  <dc:title>PowerPoint Presentation</dc:title>
</cp:coreProperties>
</file>