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457-1C4A-421D-898E-BCC15033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A889-5859-4456-BD3A-EABA1E58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D35-DD77-46E2-891A-5618B495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502-9BCA-45EA-BE09-96822B6E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92D9-EF5C-4156-AB92-D198BF62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5F38-4FA9-472B-8B1F-B99BB2C9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C589-F77B-4358-A77B-5323D8A0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27FB-DF84-4E60-809D-0E5EB3FA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FD4E-1ECF-497D-848C-3CEFF24D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A6C0-63DD-485C-9558-E5963B50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C382-E0BE-403F-A29D-45B86B08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D690-9100-4637-A141-26872A60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4ADF-FE78-41E0-89E1-A81B57B55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Asc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286000"/>
            <a:ext cx="8839080" cy="412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rlasting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eternal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ce dwelt on ea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ined by time and sp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sc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09760" y="990720"/>
            <a:ext cx="4521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Laurence Hull Stookey, USA, 20th cent.</a:t>
            </a:r>
            <a:br>
              <a:rPr sz="2100"/>
            </a:b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(Lk. 24:51; Acts 1:9-11; Eph. 1:16-2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us faith to discer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every time and pl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presence among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im who is head ov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l things and fills a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n Jesus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ascended Lord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8:04:36Z</dcterms:modified>
  <cp:revision>22</cp:revision>
  <dc:subject/>
  <dc:title>PowerPoint Presentation</dc:title>
</cp:coreProperties>
</file>