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48EF-86E6-4B5B-97A7-E37B6D68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C32E-3717-4FB0-8F98-27D4C242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AA61-6082-444A-B86F-8D82FA2F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7DF8-CFAF-43D2-9666-9DF20185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5DB1-DB84-434E-8110-70434E30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9495-48C5-48C6-81C1-EC88F830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68D2-B8C7-4A89-8F0F-6833F22A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95DE-E323-460E-8E16-2D341818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2BDE-1153-4DC2-80FF-28CD673F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61BF-E2B8-42FD-BAD1-A8970CA6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A4C5-7C48-4A15-A1BF-0CA63364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BBAC-2055-4945-9C17-D4198304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D285-9C64-404D-81AE-C7D3F4B5F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ive Me the Faith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ich Can Rem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ive me the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can rem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k the mount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 pl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Me The Faith Which Can Rem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8640" y="1600200"/>
            <a:ext cx="51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9 (Mk. 11:20-2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large, inf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ill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bound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rity div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Me The Faith Which Can Rem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shall I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trength exe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them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zeal like th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ad them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open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heep for wh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hepherd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me the childli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ing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longs to bu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ouse a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ve, let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o’er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y sim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devour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would the pre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me rede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nger l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is al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Me The Faith Which Can Rem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pend and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spent for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have not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avior kn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lly on the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mission pr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ly breath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reathe thy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talents, gif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ce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thy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nds rece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Me The Faith Which Can Rem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me l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each thy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lory l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every sac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ment sp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ublis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inner’s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9:28Z</dcterms:modified>
  <cp:revision>9</cp:revision>
  <dc:subject/>
  <dc:title>PowerPoint Presentation</dc:title>
</cp:coreProperties>
</file>