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22D-118C-4044-BCC1-4B715A23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CD32-5000-498A-8CBC-F9099C8F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24E-1B77-4F49-8532-A93DBFD0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4DCA-73AC-495A-98CF-6C9423CE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3C8-5E23-44D6-A84E-DDD4344B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19D-9405-4EE8-BCF8-FC357C20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4B5-3B3F-44B4-A9A2-E80CF87E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CA8C-4FFC-43C9-942D-CE792BF5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4857-A6CB-4C35-86BF-CD6CA2D8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A5E-85C2-4790-AFE7-D248CD38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8EF-9CCF-415F-BA79-B28D7384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1E9-54F3-4CA5-8284-0C1FB658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3A69-D27D-4E2A-BD63-34AF4DAF1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tand Amaze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Pres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stand amaz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 the Nazare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90360" y="1625760"/>
            <a:ext cx="53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H. Gabriel, 1905 (Lk. 22:41-4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omfort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orr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bore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oul that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84080"/>
            <a:ext cx="9144000" cy="526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He took my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r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made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very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bo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rden to Calv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uff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ied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784080"/>
            <a:ext cx="9144000" cy="526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hen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nsomed in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t last shall s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will b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through the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love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784080"/>
            <a:ext cx="9144000" cy="526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nder 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ould lov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inner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demned, uncle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84080"/>
            <a:ext cx="9144000" cy="526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 me it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ga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prayed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Not my will, but thin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had no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is own grief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sweat-drop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lood for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84080"/>
            <a:ext cx="9144000" cy="526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p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gels behel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me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of l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0:15Z</dcterms:modified>
  <cp:revision>22</cp:revision>
  <dc:subject/>
  <dc:title>PowerPoint Presentation</dc:title>
</cp:coreProperties>
</file>