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269E-EA6C-4072-B9E6-99B65F07F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B2A8-10D8-416C-8339-7E17983E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1D90-8C3F-49C5-B63B-4B0C793F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D140-090A-4B99-A455-02762225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6995-2605-4B05-A237-95DFCE53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C08C-77C5-4EA9-B62A-D8AB1B72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6C2A-B3A3-4E6E-B276-B9226384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B1F2-35F4-4647-8759-A3E7D017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C81F-8339-4065-A396-4F07A8AE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8F2D-F248-4A3C-A81A-A24C59CB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2E6A-C33A-4A25-8CF5-7DA93B4D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C79C-AF85-4BAB-92EF-2A49D99E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4841-5D15-47C3-8821-321633A7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BB5A-D33F-40FB-845B-86D14618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9289-77A5-43AD-9256-0461169F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1774-8695-4EC7-AC41-438B1ECF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FFF7-CC9C-4FA0-A08A-3828986B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ADEC-D8FB-4A0C-9768-7D5F08F9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D823-83E1-41C6-B456-676C42EB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DF01-BEB4-4144-8F82-71D49FF4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13C4-2807-4F63-8752-AADC214F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1F77-0B90-44D7-BE8A-423EFB5E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7FC4-6B07-455B-938B-0B3AFD44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E20E-9B54-4731-8DD3-1B757E60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5912-19CB-49D1-AA01-AC1B072C9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7645-7D2A-42FF-9BA5-83AC5359C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e Servants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Ye servants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Master procla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ublish abro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wonderful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Servants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94840" y="990720"/>
            <a:ext cx="499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4 (Rev. 7:9-12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me all-vict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esus exto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kingdom is gl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ules ove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ruleth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mighty to s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ill he is n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presence we h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Serva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eat congreg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iumph shall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cribing 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sus, our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“Salvation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sits on the throne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cry alo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nor the S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Serva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aise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ngels procla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 down on their fa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rship the Lamb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n let us ad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ve him his 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 and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isdom and m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Serva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honor and bl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ngels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anks never cea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finite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me all-vict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esus exto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kingdom is gl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ules ove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ruleth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mighty to s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ill he is n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presence we h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Serva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eat congreg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iumph shall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cribing 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sus, our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“Salvation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sits on the throne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cry alo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nor the S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Serva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aise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ngels procla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 down on their fa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rship the Lamb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n let us ad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ve him his 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 and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isdom and m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Serva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honor and bl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ngels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anks never cea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finite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e Servants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67652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Ye servants of Go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your Master proclai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publish abroa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is wonderful nam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Servants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94840" y="990720"/>
            <a:ext cx="499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4 (Rev. 7:9-12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1-12T23:21:53Z</dcterms:modified>
  <cp:revision>33</cp:revision>
  <dc:subject/>
  <dc:title>PowerPoint Presentation</dc:title>
</cp:coreProperties>
</file>