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97D-13FE-42CC-AF62-96B32E0C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76E-2BF7-4579-8F9F-00D38EE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767-3E86-499B-B330-4720C38E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78B-5EC0-4BBF-A0DA-91658119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460-941C-4A1D-8B2E-98184CA3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BCC-F1C8-4A00-B64F-7C6E69FB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258-DCFB-4322-96C2-B5AD885D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744-C093-448E-84E3-09309985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83B-C435-453B-8E28-6659DF79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7A0-09BE-4820-9F5F-D28972D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795-0E6F-452A-9190-1AF8E44E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B73-AF9B-43E3-A342-794EDA26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3A8D-5718-4834-90E2-E20415934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mina, Pueblo de Dio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Walk On, O People of G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4479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. by George Lockwood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424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49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s salv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s dea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rising again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verything com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new birth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Christ tak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his bod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si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nslavement, and pai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he destroys the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brings 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abunda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new jo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9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49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7:25Z</dcterms:modified>
  <cp:revision>66</cp:revision>
  <dc:subject/>
  <dc:title>PowerPoint Presentation</dc:title>
</cp:coreProperties>
</file>