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7EA-4F34-437C-89F9-A43DDE07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3D8-EF24-4CBE-9B52-2ADD9D42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C77-5222-4504-BE57-D528365F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4EB-3783-4D7D-9657-1EF6459D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1101-D7ED-4629-9623-729D6A35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B3CC-D3D5-4690-A452-85D0AF5A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69B3-5665-4EA3-909B-5286279F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5F0-A5C8-4CE0-9999-6E49332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A05B-1031-4E15-823A-E31E477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5478-09CE-4B8E-82F4-ECC29B3D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7BCA-10FB-44C3-BB43-0D578D0C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49C-9ACC-4F34-99B0-54056977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BBA9-686F-4B41-B11E-CC359AA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34C7-33E4-46D2-A025-60966CB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BAF6-332F-4F20-865E-4BE8EFD0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5171-87D3-4A09-9C7E-3CC37F12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FA26-FE5C-492C-9953-5D31CB74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660-4E53-4421-82DE-401DF8AA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1F9-1751-4A64-99DD-E36EF87C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1BB-BBB6-49CC-AC74-E8BE4AC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3DA-00C9-4EAE-993D-3673782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E89-1100-4A07-972D-3ECA193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293-A8AB-4330-B05E-2710CAE8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265-9001-4CB4-BFE4-A91E4E0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DD6-C4D9-4D91-B589-C1B3AD18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40DF-1D47-4DDC-B9AD-E7C8AF76F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ful Word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m o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ir beaut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erful Word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0020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. Sing them over again to me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let me more of their beauty see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P. Bliss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75248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 and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faith and d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. Christ, the blessed one, gives to all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inner, list to the loving c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                      all so freely given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oing us to hea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 Sweetly echo the gospel c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offer pardon and peace to all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;                 Jesus, only Savior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anctify foreve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1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 and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faith and d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, the bles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lis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o freely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oing us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weetly 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spel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 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nl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08T18:00:42Z</dcterms:modified>
  <cp:revision>102</cp:revision>
  <dc:subject/>
  <dc:title>PowerPoint Presentation</dc:title>
</cp:coreProperties>
</file>