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3CB-7CAA-4919-B005-62B20BFE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1FA-73FB-49B8-B338-7A10C122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9FD-B52E-4E30-91A7-E3846F29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EC1-1939-4EAF-BA5E-2044DCD7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AEC3-070A-4B5D-964F-F4CAAEAD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1205-1A8C-41B2-8582-803095BD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7F38-21EF-4EF0-AD97-24D39C5E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162E-E308-44A3-A83E-BD1201E8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A7AC-56E2-4895-8C42-B16B90CF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0E57-2053-4DE6-86D9-B77A7106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B61F-1FB4-4E55-9613-5BF9C711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0E3-9B22-4ACF-A88B-9C944D77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4AC2-00C2-457E-8DB3-0ADED5C0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BECC-1C64-4FC1-8B00-ECAF9EFF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1DD4-11E6-4415-BD07-88D1B245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6330-CB23-4869-A312-5DEF03DA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C7F1-0CA1-4B1C-A501-4BC724D2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DC0-8076-4F1E-91C6-E5EE8514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14B-181D-476C-B21C-7E671889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4057-C517-43EA-9A0B-8D0F0B89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607-494B-46B7-BD0B-FC11374D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6B5-AF99-4E3D-B4BB-93C06CCD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70D-23C9-4E95-86C4-A68FF3D3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8DA-8B41-47B9-96A4-F6104C60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7F25-407D-47BF-BD78-A7D103976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6E68-AAE5-4E92-AC0C-B4F7E095B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at Is Thy Faithful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1296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Great is thy faithfulnes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God my Father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re is no shado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turning with thee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95240" y="762120"/>
            <a:ext cx="5752440" cy="76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O. Chisholm, 1923 (Lam. 3:22-2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23, renewed 195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42800"/>
            <a:ext cx="9144000" cy="481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trength for today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nd bright hop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for tomorrow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blessings all min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ith ten thousand beside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04920"/>
            <a:ext cx="9144000" cy="5014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825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at Is Thy Faithful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5843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Great is thy faithfuln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God my Father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 is no shad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turning with the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95240" y="762120"/>
            <a:ext cx="5752440" cy="76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O. Chisholm, 1923 (Lam. 3:22-2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23, renewed 195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hangest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ompass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fail no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ou hast b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forever wil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ummer and wi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ring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r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, moon, and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ir courses abo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with all natur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ifold w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great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cy,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42800"/>
            <a:ext cx="9144000" cy="481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ou changest no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y compassion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y fail not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s thou hast been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ou forever wilt be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ardon for sin and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hat endur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own dear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eer and to gu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for to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ght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om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s all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en thousand besid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at Is Thy Faithful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9810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my Fa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no shad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urning with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23, renewed 195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27280" y="1066680"/>
            <a:ext cx="568836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O. Chisholm, 1923 (Lam. 3:22-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hangest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ompass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fail no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ou hast b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forever wil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ummer and wi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ring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r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, moon, and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ir courses abo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0120"/>
            <a:ext cx="9144000" cy="5014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with all natur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ifold w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great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cy,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ardon for sin and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hat endur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own dear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eer and to gu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for to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ght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om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s all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en thousand besid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2056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Summer and wint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springti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harves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un, moon, and star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their courses abov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907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join with all nature in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anifold witnes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o thy great faithfulnes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ercy, and love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04920"/>
            <a:ext cx="9144000" cy="5014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0656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93024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3. Pardon for sin and a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peace that endureth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ine own dear presenc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o cheer and to guide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14T00:51:24Z</dcterms:modified>
  <cp:revision>62</cp:revision>
  <dc:subject/>
  <dc:title>PowerPoint Presentation</dc:title>
</cp:coreProperties>
</file>