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329-DA57-402F-BA90-74472742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803-F6CB-4FBE-98FF-DB410375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CF2-E4F3-4A78-BD42-AF509D5F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578-532A-46AF-AB85-707F2618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661-A54A-4242-AA72-53194389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A83-1D5C-4B08-A44C-C0A02E1B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CA1-4D7B-4D3B-8588-1EACDE13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512-EA83-4779-87E2-35673F04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435-940F-4C8E-AF0F-A89A4A6B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D11-9916-47EF-8B83-B2AD36D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F51-BD94-4B3C-AA82-5CDAD7FE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6F6-F34E-4D65-8C57-E31232E4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729B-3985-45FD-8336-101A97B7D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Every Voice and 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0574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ift every voice and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arth and heaven 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ng with the harmon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berty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1 Edward B. Marks Music Company, renew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Weldon Johnson, 192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from the gloomy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now we stand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white gl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bright star is cas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of our weary y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our silent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who hast brough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far on the way;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who h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d us into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us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ath, we pr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our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y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s,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e met thee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our heart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unk with the win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rget thee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dowed ben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forever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to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to our native lan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rejoicing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as the listening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re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 as the rolling sea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of th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dark p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taught u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of th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pres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rought u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cing the rising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new day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march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victory is wo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tony the road we t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tter the chastening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t in the days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unborn had died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with a steady b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not our wear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the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ich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s sighed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a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ith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en watered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ding our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u the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laughtered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03T23:53:43Z</dcterms:modified>
  <cp:revision>47</cp:revision>
  <dc:subject/>
  <dc:title>PowerPoint Presentation</dc:title>
</cp:coreProperties>
</file>