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72F-6AE2-4DFB-A882-6F416774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40B-E773-43DC-B248-47577096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28B-ACAB-4F41-9E33-73A18671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41E-F3B4-49CB-BB0F-2DE60D86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140-8877-4234-A573-F81A11F8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4A0-78C5-4089-ADD3-9D9BADE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ADC-4D49-4DE6-9F80-67BF0BE9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58E-A15E-4D89-BC07-139DBE6B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D956-BE81-4DEB-A033-6B6CC595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FCD-0E2F-4094-AD00-D37C6E5B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2D7-E5F2-4F5D-B2B4-1176CE2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F24-C3A7-4164-8C05-2DF3FA4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2D2-DDA1-4C4D-9463-399DAEFD8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Jesus, My King and My Sovereign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Jes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s Es Mi Rey Sober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. © 1982,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479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Vicente Mendoza, 1920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Esther Frances, 1982, and George Lockwood, 1988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gozo es cantar su loor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ve cual herm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jando su tro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gl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vino a sac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a esc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335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Es Mi Rey Soberan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62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eñor, ¿que pudier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dar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tanta bondad para mí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¿Me basta servirte 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art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¿Es todo entregar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us Es Mi Rey Soberano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ft all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at my 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2860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Jesus, My King and My Sovereign (3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35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surrend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5:52Z</dcterms:modified>
  <cp:revision>11</cp:revision>
  <dc:subject/>
  <dc:title>PowerPoint Presentation</dc:title>
</cp:coreProperties>
</file>