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A80-945F-4C9A-81DF-FA6F1716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3B5-78AF-4531-B096-CCE662A1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A7F-4D35-4D3C-B8A3-13387B36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6E2-5CCD-454A-B27E-27C026CA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8C1F-51BE-49DD-A1DA-36AEAC50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D229-1B1B-4423-8658-F3901BA5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9E24-D2BC-457E-AFDE-74C32EF0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AC65-AD2D-4B91-911F-8CB7D880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2ED2-4E61-4640-855E-0293F8B0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4B5C-0154-4AA5-B999-A43A70A6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3A23-50D1-4AFE-955D-A37E2C84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801-E627-43D6-9F76-E59B90C0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AEFB-2BEE-4B3E-987C-43DEEBFD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C60-96B4-4B28-B637-95090E6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CEA5-ECF0-4DF2-9823-BA9E7F7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96A9-5CE4-4556-9AC4-8F0303B5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6534-E289-4672-8B9F-805B6891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93A-5D5F-4C71-B46E-4510F19D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C83-53BB-4338-B2E1-62A8C97D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E92-DC57-43D1-8818-BBB3B68C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A51-E1EC-4D37-9A4C-A806874A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65D-B8A4-4BC4-84EA-6639BBA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DFD-4695-4BF6-BB36-7FC2DD65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197-DE88-4316-A6E0-C86F0A62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C737-88B5-4F47-94BF-FE9CDF65B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D031-A82A-4226-A26E-553A98BD9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 Want to Be a Christ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14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Lord, I want to be a Christian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Lord, I want to be a Christian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990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257800"/>
            <a:ext cx="9144000" cy="1596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80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3808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83808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76212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80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 Want to Be a Christ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628640"/>
            <a:ext cx="9144000" cy="31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ord, I want to 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I want to 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990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522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1276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1276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12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be more lov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512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be more hol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9144000" cy="512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be like Jes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 Want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a Christ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0"/>
            <a:ext cx="9144000" cy="38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ord, I want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I want to 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6765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2T13:01:56Z</dcterms:modified>
  <cp:revision>25</cp:revision>
  <dc:subject/>
  <dc:title>PowerPoint Presentation</dc:title>
</cp:coreProperties>
</file>