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4F4F-033E-40CE-A227-B7DAD1EB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C052-9E6D-4DC0-B03B-C0B4F745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8246-3EF9-48CB-9DE6-68000EE04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E594-E11E-4F7C-B1DD-CDE17112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FAD3-F652-414B-8960-70DC4E97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96C8-F305-4CBC-A707-A6286967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96AC-8518-42FD-BBC9-AC1A4A07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4663-0F72-4A80-94C7-B563A811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EEBD-9CCA-4CA7-9172-CE469ED4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99F5-7F69-42F5-AE44-35AFE1E1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CB81-4EA3-4182-B9BD-C1CF9093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68C4-751E-421D-8C06-C803BCC8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8047-3E76-4A9B-9A0D-3E0A4D9DA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thing but the Bl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at can wa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way my sin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66600" y="1066680"/>
            <a:ext cx="361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Robert Lowry, 187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is is all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and peac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ighteousnes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recious is the f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ake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as s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other fount I k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 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can mak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le again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recious is the f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ake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as s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other fount I k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 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or my pard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 se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y clean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 plea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recious is the f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ake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as s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other fount I k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 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thing c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in aton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ught for g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have don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recious is the f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ake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as s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other fount I k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 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33:05Z</dcterms:modified>
  <cp:revision>10</cp:revision>
  <dc:subject/>
  <dc:title>PowerPoint Presentation</dc:title>
</cp:coreProperties>
</file>