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032A-B298-4139-9A42-70C24B29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10F-9690-40EF-A842-AE364766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B09-829E-4656-9DF9-34F67E46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E908-D1B8-45D4-B2C9-57CC8BAB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0DD-AD48-4174-A50E-BAF4E153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CCB-6DDD-4970-8F77-C5858741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CE4A-3725-4F4E-9D99-93CC3441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BBD-3D7A-4972-9FB2-289EDC86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4F6-7B21-4DB7-971D-29A81652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29FA-0893-4872-B163-C271F60E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912-2401-4F18-B709-109722E1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02B-3499-41F7-A954-804D3D94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9A42-6BAD-4C82-B38A-AD175CCD4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God in Hea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2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O God in heave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nt to thy childre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rcy and bless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ngs never ceas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by permission of Christian Conferenc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f A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in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16880" y="1143000"/>
            <a:ext cx="650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lena G. Maquiso 1961; trans. by D. T. Niles, 19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85904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o unit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to redeem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 in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r Lord,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esus, Redeem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rememb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racious pas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resurrec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in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185904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ship we br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we shall sing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Redeem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pirit desc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is the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for the wea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for the need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in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85904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led in our kin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be our worshi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desc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ado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2:46Z</dcterms:modified>
  <cp:revision>37</cp:revision>
  <dc:subject/>
  <dc:title>PowerPoint Presentation</dc:title>
</cp:coreProperties>
</file>