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8A6-35E3-47DC-A7F8-C980F433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1B5-2CB1-4D47-A08C-69483F1D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B66-80F6-40B5-A210-AFDBBE6D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BB4-9669-4D86-B732-6EE48E5D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A0BD-C081-4FC4-8C75-9F3C79EC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8CFA-1F2E-468D-B715-756D782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2CB4-6B34-48DD-9CA4-ECCFC545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E471-EE6A-4B94-8D68-1DD57117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7D25-63F0-4D0E-905F-76F9F315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9254-9C94-449C-89A8-1E52A38D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516F-0EF2-47E8-BAA6-4960554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D84-E28C-4AFC-B58F-9193567C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8775-E314-4E6D-8B28-19A2F2C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443E-C7DD-4002-A7EA-6697C9A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16AA-0996-48D2-A75A-365B9CF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511C-D02B-44E6-9C2F-33131E5A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2102-ADC9-432F-B7A2-8C31BFD0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115-E451-4CFD-B93A-0D5AB857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BA1-2D81-4384-ABD5-1F05CBC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D87-15A0-4A3E-A88B-0C199B8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4D5-CAA5-4177-AD02-C822427C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440-728F-429D-8092-23C97D86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BBC-85D4-4FEC-A63A-7CF9FC3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2C2-D905-40C0-B720-B9A3ADE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85DF-9278-4545-A143-3396BC2CB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A468-50AD-4887-BAC6-9AC56C5FC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aptism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676520"/>
            <a:ext cx="8839440" cy="35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Father in heaven, at the baptism of Jesus in the River Jordan you proclaimed him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your beloved S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560" y="1092240"/>
            <a:ext cx="78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85800"/>
            <a:ext cx="81532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d anointed him with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Grant that all who are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baptized into his name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1066680"/>
            <a:ext cx="883944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may keep the covenan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at they have made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boldly confess him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s Lord and Savio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049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who with you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the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lives and reigns, One God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in glory everlasting.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aptism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8288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the baptism of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River Jord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proclaim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beloved 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6560" y="1092240"/>
            <a:ext cx="78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5360" y="191916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ointed him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all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re baptized into his 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keep the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ey have ma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oldly confess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Lord and Savi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47780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ives and reig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glory everlasting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09T00:03:36Z</dcterms:modified>
  <cp:revision>11</cp:revision>
  <dc:subject/>
  <dc:title>PowerPoint Presentation</dc:title>
</cp:coreProperties>
</file>