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FA56-9F76-40B6-A142-84DCA33FC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6802-DC5F-49B9-A112-DDC8A032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7BA3-D6C3-4B7C-A4D8-EF101DC6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CD34-AD50-4BA2-B958-3F8911C10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029D-F602-42AC-AB2A-167B7BDC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0416-ED26-496C-9F94-40E8A1F6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B535-1DE5-4FDD-B4CC-30E70AF7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50B7-E6CD-40D9-8B1D-BC00289C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39F2-3524-496F-B0B8-8FC1532D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26FD-DEBC-43BE-B8D3-3B80C9AE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B595-58EF-4AE0-B5B7-0038AA8C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CA64-FF6A-4413-ABE4-98E532CD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0054-8B6E-4280-A6DE-2EEFC9032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ore Love to Thee, O Chr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5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Love to Thee, O Chri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Elizabeth P. Prentiss, 186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096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More love to thee, O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re love to the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 thou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yer I m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bended kn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nest plea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love, O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lov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love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Love to Thee, O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Once earthly joy I crav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ught peace and re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thee alone I seek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what is b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all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yer shall b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re love, O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re lov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re love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Love to Thee, O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Let sorrow do its wor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grief and p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 are thy messeng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 their refr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y c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ith m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love, O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lov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love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Love to Thee, O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Then shall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test br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sper thy prai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b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arting c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heart shall rai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still 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er shall b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love, O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lov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love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07:39Z</dcterms:modified>
  <cp:revision>151</cp:revision>
  <dc:subject/>
  <dc:title>PowerPoint Presentation</dc:title>
</cp:coreProperties>
</file>