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478-953A-4379-BD8E-838436D5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DDB-6CEF-4B7B-B37D-3B64798E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DFF-F5AA-4B08-AD2B-476352E6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59A-33B1-4043-8185-C3611C60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D03-46E3-407F-9731-94F4DFDA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803-AF41-4CC3-942B-6BF01162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416-F188-441E-B1BB-B9DF6E6B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AB8-D07D-4B26-A7E9-20A68583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EEE-9588-4F46-B1A9-8132DF8F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334-ED1B-4121-9EE0-7037AA51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29B-04B4-4433-8923-78E6861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6FE-948A-4033-9EA7-FF4188F9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0439-584E-4F52-9410-A9573C35D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pth of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Depth of merc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there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rcy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serve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f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olt depl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ep, belie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m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wrath for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me, the ch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sinners, spa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have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stood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ng provok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f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not hear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ca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ieved him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thousand fa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 my M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den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fr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crucif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t profa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hallowed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t him to 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sh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re fo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 st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ws his w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pread his ha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is lo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know, I fe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eep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s me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Now inclin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p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ins lamen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23:56Z</dcterms:modified>
  <cp:revision>112</cp:revision>
  <dc:subject/>
  <dc:title>PowerPoint Presentation</dc:title>
</cp:coreProperties>
</file>