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108-A6E1-46FC-8FA4-F8295040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697-0C61-4A05-9988-A558F81E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4ED-B390-4727-AC89-F3843CFE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72D-8524-4701-A32C-4B02DD06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E73-A0FD-4883-BC95-87E90626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8F6-95F6-4AA1-98E0-7677891A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D1D-EF3D-413E-93AC-8E9182DE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313-FE4C-4341-A5E3-2CA47237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087-4392-4EBE-85DF-D409406D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6B4-FB2F-4C3E-814B-B4328B01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373-333C-4B35-BD59-16CE1ED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87D-C121-437E-9235-60646A37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19C9-4D3A-4166-BE4A-3202F831B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God, Your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 God,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, b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were ma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Brian Wren, 197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take the tow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k the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mbl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l us frie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 and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are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how gran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ten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ti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on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all wor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rown all th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rd God,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et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fe to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joy to sh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libe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urn from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ull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aith can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ove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ving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marred, dishon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obey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me, with al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all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co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-inflicted p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ken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osen wr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f-free, half-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inner ch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cial force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pt a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powers and syst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conf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eeking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 God,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ll our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rece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through some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, or 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by your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l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ain to glimp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mercy s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nd you kne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1:20Z</dcterms:modified>
  <cp:revision>85</cp:revision>
  <dc:subject/>
  <dc:title>PowerPoint Presentation</dc:title>
</cp:coreProperties>
</file>