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FD7-2CDA-48B9-8C96-357246BE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F9E-2AA0-4ECD-9CCC-8775D710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4A7-88AC-4054-9D01-F67D4EF3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E34-E036-4256-9BF3-CD9079AB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9305-7B37-4293-AA02-A71D41C1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EF54-AA93-403F-923A-DA971C92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B0D7-A33D-45A5-BB0E-EBAAF02F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3DB9-BBB6-4CE2-86AA-97EECB53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00F3-15F4-4BEF-93E0-026193D1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71A1-AB86-472D-85D9-46CD1C36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E05D-1403-4D3A-BB89-B97DBE36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410-9D6D-4287-B9A8-5307287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F293-1C2F-417F-A84D-AA8754ED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3D7F-5857-454A-8BA6-1BEFF48F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3043-F702-4793-BF08-C136A969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1558-3ACF-42C7-AAD8-41B5B666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77E2-BE2A-4C8C-8B30-1DA32C5F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E3F-91DF-4C3A-938B-FC0D3C96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D87-4DC3-44E5-B383-0CF3A6DB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5AF-5E38-4FD4-A5D6-8AF71149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6ED-9155-451D-A3A6-0596AB7C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150-873F-4C99-8BB2-3D7184AE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116-B259-4166-8F94-A304D66A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06F-A01D-4353-8646-B0F02432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60E3-5276-41EE-B6BA-12809FF9A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A2B9-39D4-4077-A881-803CCAA7C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lp Us Accep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elp us accept each oth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Christ accepted 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each us as sister, broth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erson to embrac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752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Kaan, 1974 (Jn. 15: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esen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us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urselves accep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nt to love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413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ach u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ess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our dail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uggle to be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rch for hop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to care for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, not just for s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 them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ind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as they may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your accep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at we may be m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ving situ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o the truth in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c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we know b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ble of forgiv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ughter’s healing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89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’s encoun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who are in n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unger fo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righteousness and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ed 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for see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hands for holding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 us with your Spi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free us, make us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resent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ong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us to belie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ourselves accep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ant to love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each us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esso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n our dail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struggle to be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arch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ach u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re for peop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, not just for s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 them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ind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as they may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t your accep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that we may be m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ving situatio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o the truth in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pract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il we know b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able of forgiv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aughter’s healing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160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day’s encount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who are in n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hu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ccept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righteousness and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ed ne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for see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 hands for holding 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 us with your Spir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, fre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us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364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lp Us Accept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28600"/>
            <a:ext cx="9144000" cy="34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elp us accept each other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Christ accepted us;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each us as sister, broth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each person to embrac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Kaan, 1974 (Jn. 15: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6-21T23:31:32Z</dcterms:modified>
  <cp:revision>66</cp:revision>
  <dc:subject/>
  <dc:title>PowerPoint Presentation</dc:title>
</cp:coreProperties>
</file>