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26B-D117-409C-8CFE-46319759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96F-EF67-43CA-B225-873B0D61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7F0-9B78-46E7-99F0-E236B007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8AC-D576-45A8-AB4D-A075535A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E19C-B312-44A3-9099-B23DACB0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617A-8F5B-473B-B236-608C99DF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A155-7170-49BE-A22F-16F70CEA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F3EB-FEA8-4AF3-98FE-D54A1A95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F190-FCEA-4788-B112-0054E677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F371-78FC-40F8-AD42-2366E374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2D2D-E3F2-4A75-982F-D4499FF8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D80-DE6A-442D-8ED4-BBD040A7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BB2E-5B47-4B0D-A7E8-0A3F610A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D812-2BF6-493C-9862-DBDACC24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8B9C-C705-4487-AFB5-6183166A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7B90-46C5-4786-B7A7-59AA013E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1F4C-BDA8-4350-A617-75BB7DF2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5AA-4D46-414B-A49C-95C5858B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D90-CA24-47AB-B4F4-2D4ADE6E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EA4-9B07-4A30-98F7-5590334A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0C2-CEC1-4F3D-9072-3833F844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0C2-40FD-46B5-A1A4-8DA1B763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BB6-BC22-4C59-A7DE-44935C3D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A614-704C-45EB-860C-EDA59202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608C-9EA9-4B4D-9F91-131770CF4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02CC-E6AF-4B06-AB66-8E8C48C76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Be with Y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ll We Meet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counsels guid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ol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06400" y="1676520"/>
            <a:ext cx="39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remiah E. Rankin, 188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his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ailing roun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17324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ating o’er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mite death’s threa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befor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17324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Be with Y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ll We Meet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752480"/>
            <a:ext cx="9144000" cy="21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by his counsels guide, uphold you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06400" y="1447920"/>
            <a:ext cx="39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remiah E. Rankin, 188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fol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860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fol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4572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his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hid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vid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5228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4572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ife’s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ck conf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his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ailing roun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2860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44136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ating o’er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9072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mite death’s threa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befor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2860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3352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his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hid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vid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17324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ife’s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ck conf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1-04T03:23:38Z</dcterms:modified>
  <cp:revision>12</cp:revision>
  <dc:subject/>
  <dc:title>PowerPoint Presentation</dc:title>
</cp:coreProperties>
</file>