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B3C-ACA6-42F3-B656-886E5512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07D-20E9-4D16-AF6A-8E70880E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A4D-EE02-41E9-BC2B-253389AB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2FD-752A-4FD3-82FD-A2ED651D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F7F-514F-4977-A694-7043E64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2A2-37A5-4FFB-83A0-DD4A58F8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58B-2ECE-4788-B471-FCF04EF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996-E03E-4E9B-A70D-DF89128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CB0-9F5A-444B-AEBD-F9F2F271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F1F-8154-4274-9AFD-672364F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2C9-3E24-4979-9077-1814397A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D12-384D-4548-95C7-D78CD6E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E69-7040-41B1-A386-4F3566BA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Dismiss U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Th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ismis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5720" y="16002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John Fawcett, 177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poss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redeeming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fresh us, O refres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ild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do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osp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ab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faithful, ever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uth may we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2Z</dcterms:modified>
  <cp:revision>10</cp:revision>
  <dc:subject/>
  <dc:title>PowerPoint Presentation</dc:title>
</cp:coreProperties>
</file>