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F009-C81B-485C-A275-BAB1C43C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2AB-0582-4C20-BD2C-9B283B84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025-E5CE-4F26-A4D2-FB431B22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269F-9EDA-411D-B06E-E52C9F7B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819-2FA5-43B6-8EF6-169C4CE5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C63-3EB8-4C16-A893-CF2CC6EA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C58-783F-4D31-9B5B-97454F03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814-F940-47F0-B026-B2D64E53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E351-4D57-4094-955D-433E14C3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99B-239B-45AB-BEE0-182F3CF5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18A-7C36-45C4-BC94-F7EFD08A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E3C1-62C2-4EED-BDCB-B701A662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F5AE-0BB3-452E-9D57-8749206D6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eluia, Allelu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5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anks to the risen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3 The Word of G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15640" y="1168560"/>
            <a:ext cx="33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Donald Fishel,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 is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eart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the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ank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isen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pread the good n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ll the eart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has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as ris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ank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isen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have b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ucified with Chris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w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ank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isen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ome, let us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v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fully s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Savi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ank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isen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6:39Z</dcterms:modified>
  <cp:revision>24</cp:revision>
  <dc:subject/>
  <dc:title>PowerPoint Presentation</dc:title>
</cp:coreProperties>
</file>