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658-07FB-49D3-874E-620E9BE2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B6A-112A-465A-985A-FD584E3D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D15-8051-49E5-8B6A-3FA4E2C8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982-0D98-4B0B-A2B3-FA166AEB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08F-4FDC-43A0-BD86-75BBC0DE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0D7-6478-45BC-B8E9-A3339E68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AF6-6048-4886-B022-D00487C9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288-7DDE-4D2E-8CB1-0681C84D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061-B5AA-4C1E-B973-17B27D4B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C01-2A0C-421D-AA62-612091D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41B-4416-4C8B-830B-3D5DFA8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38D-A558-47D9-B077-6D36C29F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6BCF-43DB-4F75-AB55-F82EAAF66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Lord, for All in P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my W. Carmichael, 193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Dear Lord, fo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pain we pray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and sm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 thine enem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33 Dohnavur Fellow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Give to thy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kill to soothe and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he ti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ll give quiet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d, Lord, to thos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ow pain may not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near, that e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ey may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19Z</dcterms:modified>
  <cp:revision>155</cp:revision>
  <dc:subject/>
  <dc:title>PowerPoint Presentation</dc:title>
</cp:coreProperties>
</file>