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570-B8FD-4B81-B7DC-7CCC35ED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2AD-1EC8-49F2-81C2-5A7BC34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3F7-8261-4D3E-B8A4-AEB09BC3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CDE-50A4-4EBC-A87B-2CB16CD2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7B8-45B9-41A2-81DA-926DB9B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150-4E29-4D2B-AC76-8D3024B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917-78AD-4B89-B929-5540C332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31B-9B32-4F5E-9D4F-AAAB256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04B-465C-4609-BFBA-F4E09BD3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DF9-818A-4F28-8173-467F792E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96-71EF-4195-BC86-793B0542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4C4-581A-4D42-BBCE-30D45D6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4C1-BC17-40A3-A4E8-7FC7EBAEB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12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birth of Jesus Chri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you  gave yoursel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5080" y="102888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Book of Hymns,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1966; alt. by Laurence Hull Stoo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at, being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our hear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he may save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all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store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image and liken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our Creat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35200"/>
            <a:ext cx="88390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o whom be everlas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praise and glor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world without 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0:35Z</dcterms:modified>
  <cp:revision>78</cp:revision>
  <dc:subject/>
  <dc:title>PowerPoint Presentation</dc:title>
</cp:coreProperties>
</file>