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94EA-4BC9-496D-9FF4-65C10D4E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C9CC-50EC-4E83-A7CF-4600A4BF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6BEA-DA02-4A07-962A-FC0B48CF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5E30-80F9-44E5-B841-3DD78D15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2886-4130-4A62-917D-62AAA7BA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2C56-8FCC-4794-A834-E4F20B2A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6529-D91A-4976-8B54-DA9889D2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F296-8EBE-49E7-B22A-B5D3F73F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7ADD-DD37-488E-8290-93153FA5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B3EB-9A18-4267-BF77-B160C33D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CCA7-5F24-4A7F-AA7F-50618707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4392-FEC1-41E5-85C0-AFE66A1C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20BC-22C2-4CD9-B589-FDAEA579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BD7B-8D91-4181-88C8-57E3BF16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2F8E-8D51-4187-9675-2950EFD3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BC66-D089-4AE9-9309-8C5BA008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3010-7FDA-495E-A652-0BB69EEF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C0B3-1428-46FE-8B14-6A9DDAC4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EC87-55E5-46F9-BE1F-1BF72963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5C49-9328-4088-B947-AA1E254C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C7A2-B5C3-4BD3-9316-E2993A3D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7714-2A41-4485-A86F-C8E9A859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84BB-239A-45BE-9E68-3DCD94AC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ECA5-BD8C-4451-AC88-B2B75E3F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6CF4-1B94-4E4E-8457-C669EB634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7032-7B40-4002-BE3C-F2091ED2A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, Make of All Dis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28800"/>
            <a:ext cx="9144000" cy="458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“Go, make of all disciples.”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ear the call, O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comes from th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y eternal W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4 Abingdon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Make of All Discip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eon M. Adkins, 1955, alt. (Mt. 28:19-2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spire our ways of lea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earn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rvent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our daily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eal thee everyw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“Go, make of all disciples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ptizing in th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Father, Son, and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ge to age the s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Make of All Discipl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all each new disci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ollow the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ing soul and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water and the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“Go, make of all disciples.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t thy feet would st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il each life’s voc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ents thy holy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Make of All Discipl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ultivate the n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plants in ever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ealing in our wi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aster teacher’s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“Go, make of all disciples.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elcome thy comman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Lo,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 always.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take thy guiding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Make of All Discipl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522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task loom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rge before u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follow without fear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heaven and earth thy pow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bring God’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ingdom he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spire our ways of lea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earn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rvent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our daily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eal thee everyw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“Go, make of all disciples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ptizing in th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Father, Son, and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ge to age the s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Make of All Discipl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all each new disci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ollow the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ing soul and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water and the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“Go, make of all disciples.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t thy feet would st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il each life’s voc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ents thy holy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Make of All Discipl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ultivate the n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plants in ever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ealing in our wi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aster teacher’s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“Go, make of all disciples.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elcome thy comman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Lo,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 always.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take thy guiding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Make of All Discipl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ask loo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rge befor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llow without f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eaven and earth thy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ring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dom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, Make of All Dis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1430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“Go, make of all disciples.”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hear the call, O Lor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comes from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Fath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thy eternal Wor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Make of All Discip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eon M. Adkins, 1955, alt. (Mt. 28:19-20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4 Abingdon Press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5-16T00:15:40Z</dcterms:modified>
  <cp:revision>78</cp:revision>
  <dc:subject/>
  <dc:title>PowerPoint Presentation</dc:title>
</cp:coreProperties>
</file>