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C6C-3575-40F9-9912-35305C54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80D-9085-459A-A414-44066BF0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609-109F-41F4-8FAB-24CBDD78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0F2-216D-49DA-BBC3-20AB0EC0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935-A2B4-436F-A5F2-815C0D8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36C-52AE-4F83-B5B1-A9C88995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024-C0DC-4042-A6AE-175B73C8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C62-058A-49B6-9D6A-F04ACFAD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1C0-B0A8-4429-BE28-8174843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54B-60FC-4C43-9A96-5A47AB5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6C0-45F3-4DC8-9533-9D10FC7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51B-A167-418B-B86E-35C5D7D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3D80-EA84-4F97-8538-B33161683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ams of Heaven as I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eams of heav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I go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lderness be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it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behold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rder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 f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may of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 to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cke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hile may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ca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eem to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rule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and of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fight my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have peac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rden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crush 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appoint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my fee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ful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my midn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s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ournfu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ear-stained ey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leasure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urning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oam its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at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go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gr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lways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ar of hop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fro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grief and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be fre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ftentime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ky is cl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b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t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right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may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ll be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always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ay that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s to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1:08Z</dcterms:modified>
  <cp:revision>51</cp:revision>
  <dc:subject/>
  <dc:title>PowerPoint Presentation</dc:title>
</cp:coreProperties>
</file>