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22A-4470-46F0-9CF8-EEA0823A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41C-5CCD-454A-A246-7AC66A05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E06-BEC9-4392-8D2B-1655163C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2BC-1D3E-4569-A8B1-3BBEABD2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F90-9F16-401D-8BE9-6A347E0C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094-53AB-460C-A5D8-5B51BE43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973-DA63-470C-A37F-34CE763E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3F4-CD07-4AC2-8F78-1C150B7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106-C419-40F4-992E-FD0DF5A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0BB-689F-4E08-866B-871DF9A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4FA-1F60-4161-9862-491B6B5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D41-684F-4EAD-BADB-404F5B28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BFA1-9D88-482F-9873-D9C9E396F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H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on, let me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ired, I am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orn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 Hill &amp; Range Songs, Inc., renewed Unichappell Music,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852640" y="163836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A. Dorsey, 19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tor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on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ght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0" y="160020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my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dr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 linger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almost gone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my c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my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y hand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I fall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75248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app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night draws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y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 and gone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y hand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6"/>
          <p:cNvSpPr/>
          <p:nvPr/>
        </p:nvSpPr>
        <p:spPr>
          <a:xfrm>
            <a:off x="0" y="152388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21:21Z</dcterms:modified>
  <cp:revision>18</cp:revision>
  <dc:subject/>
  <dc:title>PowerPoint Presentation</dc:title>
</cp:coreProperties>
</file>