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FFF-29E2-46A5-B99E-F0D3D950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F31-7C8D-46F7-89E9-A4D01E48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CCE-B593-47E8-BE90-C0F5CA16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0C9-C693-43B1-88FE-01C43C54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A86-5F49-41D0-95BC-B0AD69B8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00A-7116-474E-893C-5604A172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6E4-B1AB-4268-9287-A95BC0AF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BEB-77A3-4739-A961-1A291DA5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E92-CDB9-4B36-AA86-11FE092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65F-CDEB-4EFB-8DC0-0BD00B23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791-E5EA-49E8-9092-99ADBB09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102-B8DB-47F8-B10A-0DDD261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8662-3023-4D85-8945-BD0221009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Every Voice and 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0574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ift every voice and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rth and heaven 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 with the harmon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berty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1 Edward B. Marks Music Company, renew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Weldon Johnson, 192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from the gloomy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now we stand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white gl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bright star is cas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of our weary y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our silent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ho hast bro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far on the way;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ho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d us into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us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ath, we pr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our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y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s,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met the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our heart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unk with the win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rget the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ed ben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forever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to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to our native lan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rejoicing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as the listening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re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as the rolling sea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th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dark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taught u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th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pres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rought u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cing the rising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new day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march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victory is wo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tony the road we t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tter the chastening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t in the days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unborn had died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ith a steady b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not our wear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ich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s sighed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a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watered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ding our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th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laughtered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03T23:53:43Z</dcterms:modified>
  <cp:revision>47</cp:revision>
  <dc:subject/>
  <dc:title>PowerPoint Presentation</dc:title>
</cp:coreProperties>
</file>