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227-BD9F-41BD-AB2F-2C9F04FB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D4C-41F2-451F-82E6-306152A1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67D-6EBD-463C-839C-0522C9D8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534-6E8B-4F7E-8224-97149C11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828F-F464-495B-929F-E6CCF449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0DAC-D4B2-447B-A486-FFEF0430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73B6-9ADE-4467-B6D6-4C87A5E4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2AFC-51C7-4342-8E76-4AAE77C0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944A-F5B1-4527-AA06-B233EAE3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5B45-4A59-4019-AD40-13A601C6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7EEB-CBA2-4583-A20B-F357C63F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917-8DC1-4982-8EF9-57E6B44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F57-669B-42C9-B0DF-63163C1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15A8-82D0-4512-A6E5-9412DA1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65B-938B-486E-9D7B-70382CE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7BD6-3FDA-41C0-857C-9C7A5B4E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2343-9E29-4741-BCCB-5D77A385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082-D4AD-47D8-AA50-379C1CD3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D9E-43CB-4453-BCE0-833FBEB5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795-3DB9-427D-8BDF-CB371893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C62-FFFB-4093-A8C9-87C04D71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550-3D90-43F4-A014-D4A07433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7F4-483B-47B4-B6B5-C7ED7107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02A-77DC-40CD-963C-88BEACA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01C0-155F-43B4-8707-C57BF7D26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403-5F3A-4F84-B08B-9A87A3CA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a Song of the Sai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 and brave and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0600" y="12193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esbia Scott, 19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joyous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esus’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meet them in sch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treet, in the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urch, by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use next d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ar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ther rich or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me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a Song of the Sai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 and brave and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80600" y="12193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esbia Scott, 19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oiled and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and k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doc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qu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hepherd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gr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all of them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and I m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l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ved thei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, so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followed the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’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lives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oldi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 fierce wild b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oiled and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and k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not any 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ot the l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I should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lived no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undr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usand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joyous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esus’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meet them in sch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treet, in the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urch, by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use next d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ar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ther rich or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me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doc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qu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hepherd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gr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all of them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and I m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l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ved thei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, so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followed the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’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lives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oldi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 fierce wild b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not any 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ot the l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I should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lived no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undr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usand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07T14:29:52Z</dcterms:modified>
  <cp:revision>56</cp:revision>
  <dc:subject/>
  <dc:title>PowerPoint Presentation</dc:title>
</cp:coreProperties>
</file>