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DCBB-1065-4B1F-8F49-B982A4DD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C9F3-D176-48F3-B5A6-4F701303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F94E-83E6-4CC2-BB0D-85268C03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1488-A5E8-4666-82EA-402E7993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CF73-6360-4505-882C-F742B9D6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83BE-2D3C-4639-8FD9-BD70B26A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E1F4-C543-4057-9A24-9F61F551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09FF-F415-4166-8C84-BBC2F151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588B-586D-41AD-AD52-CA40D239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C4CA-68A3-4E6C-AEBB-5BA4252E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3982-A5F8-4B44-A787-BAA11E9B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68C1-DB6D-41E5-9718-2053E6D1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53E9-007D-4734-B79A-90055B799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is Finished! The Messiah 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’Tis finishe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essiah d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t off for s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not hi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Finished! The Messiah D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440" y="1066680"/>
            <a:ext cx="90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62 (Jn. 19:3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omplished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crif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eat redee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k is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veil is ren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 al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ving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aven is s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Finished! The Messiah D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iddle w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roken d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enter 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’Tis finishe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y guilt and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n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crifice bes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Finished! The Messiah D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e, for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amb is sl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tis finishe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just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 reign of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eath is o’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may l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in set fr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Finished! The Messiah D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tan hath l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mortal pow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tis swallowed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vict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0:01Z</dcterms:modified>
  <cp:revision>43</cp:revision>
  <dc:subject/>
  <dc:title>PowerPoint Presentation</dc:title>
</cp:coreProperties>
</file>