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E0E-9864-4C50-BFA5-0E7E57F2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6DE-A986-4495-8523-98FF092F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242-6528-40D1-8474-BDE7610A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A27-916D-4E55-B82B-82EDA0A8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5D9-0445-442C-B5B5-42B4BE0D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7502-28F8-4CBF-A4E4-E9CCAEB0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A8C-7CD6-4F04-9C00-B7CACC30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C569-5BE3-4CC8-AC46-BD08D3B3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C62-ABB0-4735-B7D7-A23B6367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FEC6-73C7-4E48-9EA3-09C7C4BE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951-8128-49ED-946C-469DCEE8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874-A61A-42AF-93D0-20A06115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F4CD-32E8-44E6-BE49-90BB048CC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Illu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752480"/>
            <a:ext cx="8534160" cy="44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Open wide the window of our spirits, O Lord, and fill us full of light; open wide the door of our hearts, that we may receive and entertain thee with all our powers of adoration and love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Illu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54320" y="990720"/>
            <a:ext cx="463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Christina G. Rossetti, England, 19th cent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5:45Z</dcterms:modified>
  <cp:revision>19</cp:revision>
  <dc:subject/>
  <dc:title>PowerPoint Presentation</dc:title>
</cp:coreProperties>
</file>