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621-E794-4781-AA6C-584BB9B9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FFA-C06A-4AA4-A6A3-4837297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B23-D6A8-4E5F-9632-EC963DB7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85A-8A09-4F73-B537-AE147998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317-83A3-4F87-9DBA-4DF0861A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854-F068-4100-AE7C-ACEF8AC5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CF3-AC24-47DF-93EB-092B143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B8A-CBE4-435C-B17E-6C429DB7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339-1E04-4475-BFE6-A6945A5C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ABC-F182-4AE2-9EAC-2B932974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221-9A8F-4A52-A7C1-4D115C4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1A6-4AD4-45B2-9409-9CAF73F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BF20-D6C7-4C6C-AF44-ECF2024B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 of Chri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Every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church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et by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pirit-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re for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reser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berat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claim and 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rit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on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cross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ross the str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i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justice c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helt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read to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the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n let the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aring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ngs to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artner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sacrif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huma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he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blood was 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cure the f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bl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our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ving multitu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have no mi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ull obed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13Z</dcterms:modified>
  <cp:revision>92</cp:revision>
  <dc:subject/>
  <dc:title>PowerPoint Presentation</dc:title>
</cp:coreProperties>
</file>