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7B6-8406-4621-A4CF-CD16FE86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986-E0AF-4A5F-8600-4B4AC7B8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538-E0A0-429F-A9FB-6F9BA65D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541-6E8C-4910-B49F-DC01888A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CBF-734F-42C7-9CB1-2289818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240-708F-406A-B07E-A2F822A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2AD-E61B-4960-A0DF-C41A252A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1D7-6096-4928-AB89-3D3915E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241-9E5F-4C1D-89E7-2E81BA8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76F-F5D1-4DB8-ABB7-0EB511D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417-CD2B-4594-BC36-9F0D1CB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702-2D2A-45C0-A96F-CE24C8C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C7D-55A5-4FBA-9164-70F4ACE7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It Breathe o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, renewed 1969, Martin &amp; Morris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It Breathe on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9520" y="1244520"/>
            <a:ext cx="53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gnolia Lewis-Butts, 1942 (Jn. 20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48Z</dcterms:modified>
  <cp:revision>14</cp:revision>
  <dc:subject/>
  <dc:title>PowerPoint Presentation</dc:title>
</cp:coreProperties>
</file>