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32C9-BC07-4E21-A3A6-8FDE7AAB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3074-2662-4DC7-81A9-6EF14FE4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7E8D-3C39-48D1-BDC7-418739B53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EA5D-648A-4C82-8E1B-1F416044C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3EAA-BD13-40DD-8667-D2D102CE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244D-5CAE-418B-A53C-DC636805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F727-D1F7-4560-BB71-A87C275C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A505-6AFC-44E7-841E-CA487673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553B-B4CD-46AD-9202-2726D8FD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CEB9-7F35-4DEA-B0B8-77844631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2CFD-9997-42DB-907C-D9297A4A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CF18-DBB0-4DDF-808C-F5858F55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A8BB-AE1B-4949-AD86-4E66D9FA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8098-1472-4514-9C01-2DCF927E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DC80-8D53-4ED3-8FC0-EC1ACBC1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F731-5F56-464F-9381-EE1085D8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87FF-782C-49B9-83F2-E843C8583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DCC5-AD0B-4746-8EB4-A4DDAE4B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2371-2608-42E6-9F1A-0184D617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DE09-3FF8-493D-81F2-9D44F61E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1DBA-11D7-493A-BAC3-BC0966F5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2006-A59F-4C15-A5C1-B57067B3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DBC5-D6D8-4883-92C3-6B645283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0CB7-49B5-4A39-B7A3-A0DA3D8C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1041-B29A-43A2-B7D2-40F3350B5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FDA5-D51B-42E5-BB57-3334A995F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pirit S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7462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Wimber, 1979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9 Mercy Publishing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37160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1. O let the Son of God enfold you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Spirit and his love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et him fill your hear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satisfy your soul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O come and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song with gla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y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filled with jo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t your hands in sw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rrender to his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give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your tears and sadne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him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years of p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you’ll en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to life in Jesus’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pirit S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746280"/>
            <a:ext cx="9144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Wimber, 197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9 Mercy Publishing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60020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1. O let the Son of God enfold you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Spirit and his lov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Let him fill your hear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satisfy your sou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et him h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things that hold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is Spirit like a d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descend upon your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make you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049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2. O come and s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is song with gladnes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s your heart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re filled with joy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Lift your hands in swee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urrender to his na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give hi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ll your tears and sadness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ive him all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your years of pa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you’ll ente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nto life in Jesus’ nam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286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pirit S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746280"/>
            <a:ext cx="9144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Wimber, 197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9 Mercy Publishing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0020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1. O let the Son of God enfold you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Spirit and his lov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Let him fill your hear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satisfy your sou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74628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 let him hav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things that hold you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is Spirit like a dov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descend upon your lif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make you whol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et him h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things that hold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is Spirit like a d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descend upon your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make you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049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2. O come and s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is song with gladnes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s your heart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re filled with joy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Lift your hands in swee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urrender to his na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give hi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ll your tears and sadness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ive him all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your years of pa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you’ll ente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nto life in Jesus’ nam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286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11120"/>
            <a:ext cx="9144000" cy="485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2. O come and sing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song with gladnes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s your heart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re filled with joy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ift your hands in swee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urrender to his nam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 give him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ll your tears and sadness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him all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years of pain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you’ll ent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nto life in Jesus’ nam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11120"/>
            <a:ext cx="9144000" cy="485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pirit S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9907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Wimber, 1979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752480"/>
            <a:ext cx="9144000" cy="464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O let the S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 enfold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Spirit and his lov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him fill your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atisfy your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9 Mercy Publis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et him h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things that hold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is Spirit like a d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descend upon your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make you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fill your lamb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5-02T01:13:49Z</dcterms:modified>
  <cp:revision>106</cp:revision>
  <dc:subject/>
  <dc:title>PowerPoint Presentation</dc:title>
</cp:coreProperties>
</file>