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168D-21DC-42F3-AF06-5DE8F475A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2EE5-C740-4E19-B643-9C1CF11F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6D94-0724-42D3-96BE-AEA6C255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4D24-496D-46E0-A4A3-56BF53EF0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5324-648C-4484-9899-C510D435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AC6D-AF3A-477F-8A06-4DCEEAFF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EF93-2F31-48F2-BD0F-CB0BC32C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8511-DB8B-4440-8E34-0F470ED7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F4DD-A044-451D-9A07-10CBC649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B246-C6F3-44B6-8DEF-E55C4C72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EF4B-27A1-4B62-85B8-EC6B0D49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1E5A-9F99-409B-8344-1E3CAA56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0595-D37A-4C5A-9CFD-FFAA0939A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itany for Christian Un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736640"/>
            <a:ext cx="8839080" cy="458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ask the Lord 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rengthen in all Christia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aith in Christ, the Savio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e worl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sten to us, O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The Crossroad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any for Christian Un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42400" y="1143000"/>
            <a:ext cx="565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Karol Wojtyla (Pope John Paul II), Poland, 20th c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735200"/>
            <a:ext cx="8610480" cy="33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ask the Lord to susta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guide Christians with 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fts along the way to full uni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sten to us, O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1735200"/>
            <a:ext cx="8610480" cy="33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ask the Lord for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ft of unity and pea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 worl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sten to us, O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455760"/>
            <a:ext cx="883908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pray. We ask you, 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rd, for the gifts of your Spirit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Enable us to penetrat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the depth of the who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truth, and grant th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we may share with other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the goods you have pu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at our dispos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each us to overcome division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Send us your Spiri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o lead to full unity your so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and daughters in full chari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in obedience to your will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rough Christ our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9:54Z</dcterms:modified>
  <cp:revision>33</cp:revision>
  <dc:subject/>
  <dc:title>PowerPoint Presentation</dc:title>
</cp:coreProperties>
</file>