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BDB-E37C-4D57-996D-B9657E2F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917-5683-455A-9A45-5D45C7C9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024-290E-4A84-83A9-82D10642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DB9-2822-4156-8B66-BD532D20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1A6-5735-46F2-BDAC-9BFAC0C0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876-ABFB-4674-A7A0-163FDBF5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266-EAC5-4CB3-9265-E7D3FA8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84-B119-4CEF-960C-9F1BEB2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DC2-AD9F-4C6F-A02F-7583646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BF8-4887-46EE-91C4-C6784EA2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749-E6FB-49BE-B9A9-5C7D3F24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567-8CF0-4D37-9DCE-0F2E2B9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6F4-3E93-465F-AEF5-5694F644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ve It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f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you withh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its silver and its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have to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meager f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ake a way for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lead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hrou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your you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ld age is stealing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body b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weight of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never leave you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go with you to the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8580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remember in his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he feeds the little bi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r body suffers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l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an’t re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soul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ost sinking in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 the pain you fe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n save and he can h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8080"/>
            <a:ext cx="914400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your enemies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r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gins to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n’t forget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eaven answers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0:14Z</dcterms:modified>
  <cp:revision>48</cp:revision>
  <dc:subject/>
  <dc:title>PowerPoint Presentation</dc:title>
</cp:coreProperties>
</file>