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930-1C3B-45E8-99FF-CDCE1AFF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A86-72B3-40AE-8338-E896D7BC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17F-B070-4730-9C80-D4C0ED6D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9FF-1E92-4FFC-8320-BA2701DC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CED-C125-4231-9B34-41734448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B89-E1CA-4E4D-A47B-8EA9EB35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07D-CFF4-4F58-A157-1C7A4B9C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5E0-7C08-447C-B427-81AF4B65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A6B-6D12-4CED-82C2-16647A2C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BFF-C4EA-4555-8905-542D2CF8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6B7-B7C2-40A5-AD92-3152805F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FD8-CCD7-4CD2-9C95-75F0D4CF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68FF-024B-4E96-B86B-DE4A8AF9A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raw Us in the Spirit’s T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raw u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t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en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ercy Dearmer, 1931 (Mt. 18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o or th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met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dst of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arment’s 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discip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d to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 to sup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ith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 the cup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now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riendship u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me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s of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y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ing,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ay true disciples b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faithfu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30Z</dcterms:modified>
  <cp:revision>133</cp:revision>
  <dc:subject/>
  <dc:title>PowerPoint Presentation</dc:title>
</cp:coreProperties>
</file>