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17A-C0BC-4BE1-88E9-38A7A105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8A8-5C07-4C5C-8D69-C29BA8BD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157-6BD3-4D80-BAEF-6E171E0C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964-E45F-4CFA-99EC-8044C03F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54F-0448-49F7-A997-0C361183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6B7-6049-42C2-8858-0E7C2E10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42C-0DF3-4D5B-98B2-88C8FA8D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3FF-3FBC-4425-9582-BE35352D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2FD-E34B-4C60-8544-4CB0630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0D6-09A0-49E6-82BA-EE6D8945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722-4F76-4526-99DF-529465D5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7D6-B818-4234-BF8F-94F6FD60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9D11-1B5F-4E93-8FC3-C4ECA72A4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ought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non., ca. 18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I sought the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and afterward I knew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e moved my sou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o seek him, seeking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as no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Savior tru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, I was found of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ou didst reach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hand and mine enfo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lked and sa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orm-vex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was not so mu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on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ok h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, dear Lord,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find, I wal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, but oh, the who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love is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answer, Lord,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u wert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hand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ou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ways thou loveds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1:56Z</dcterms:modified>
  <cp:revision>97</cp:revision>
  <dc:subject/>
  <dc:title>PowerPoint Presentation</dc:title>
</cp:coreProperties>
</file>