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E26-CBA7-431E-99CD-C362026A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9D3-90F4-451A-80A2-8B5021D0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69F-53AF-49C8-A212-85460377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E09-739C-428E-B9FF-518A1872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78E-7290-48E4-B62D-0F694778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C41-61EA-41B9-85A8-0C95EC7B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036-E430-4CB9-B9A0-5267F745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95C-A84B-472B-8AC7-219A4285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5F7-CACD-46F7-8D6B-7C1F6C0B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B63-680B-4154-8F87-58B73726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DFB-88A1-485C-9BD8-395D8CFD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9F2-B420-4896-B374-CA88A159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B125-CC72-4AE9-978F-B27952945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ace Greater than Our S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arvelous grac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oving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exc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in and our guil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73800" y="1143000"/>
            <a:ext cx="540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ulia H. Johnston, 1911 (Rom. 5:2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! There is fl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crimson t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er than s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n be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arvelous, infini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tchles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ly besto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ll who belie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that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ing to see his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you this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race recei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nder on Calvar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 outpou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whe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b was spi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in and despair, lik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 waves c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eaten the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infinite l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is gre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grace unt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int to the refu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ghty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Dark is the s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cannot hid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an ava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sh it aw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6:02Z</dcterms:modified>
  <cp:revision>14</cp:revision>
  <dc:subject/>
  <dc:title>PowerPoint Presentation</dc:title>
</cp:coreProperties>
</file>