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DA69-FB3A-4352-8833-3ED2F1B1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3789-7E88-4084-8573-FC67EA91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4421-42B9-46AC-B21B-CBA7C89E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16E4-B007-47CB-8121-DE3D5D22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D27E-CF2B-4FD7-80AE-1885438E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C2D8-E71C-426A-BD46-1E224A45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21D9-17BA-41A2-AD6C-74DB928E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F2E1-5DC4-4D0E-9335-D0BBEB62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DEFE-0C4C-4FDF-ABC0-5FD3A87B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DBC3-5959-4FB0-A475-AEFE3624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B1AD-7175-4DB4-A8F6-1D0ABF27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D68E-1CE1-4187-9182-D184B539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471D-C4E0-495E-B6B6-0DDADC38B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Never Said a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umbalin’ W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Never Said a Mumbalin’ W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76520"/>
            <a:ext cx="90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82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They crucifie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my L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he never sai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 mumbalin’ wor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Never Said a Mumbalin’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His blood c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ckling d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never sa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umbalin’ w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blood c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ckling d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and he never sa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umbalin’ w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84280"/>
            <a:ext cx="91440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word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word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.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mumbalin’ w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Never Said a Mumbalin’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5. He hung hi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ad and die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he never sai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 mumbalin’ wor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ung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d and d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and he never sa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umbalin’ w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484280"/>
            <a:ext cx="91440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word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word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.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mumbalin’ w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crucif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and he never sa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umbalin’ w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84280"/>
            <a:ext cx="91440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word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word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.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mumbalin’ w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Never Said a Mumbalin’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y nailed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t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never sa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umbalin’ w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nailed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t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and he never sa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umbalin’ w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84280"/>
            <a:ext cx="91440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word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word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.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mumbalin’ w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Never Said a Mumbalin’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y pierced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never sa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umbalin’ w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pierced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and he never sa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umbalin’ w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84280"/>
            <a:ext cx="91440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word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word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word.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ot a mumbalin’ w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2:47Z</dcterms:modified>
  <cp:revision>52</cp:revision>
  <dc:subject/>
  <dc:title>PowerPoint Presentation</dc:title>
</cp:coreProperties>
</file>