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7C3-CB7E-41B6-A99A-B9476906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730-9286-4BCD-9264-6C7A256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AB0-E3EC-481E-BB8D-EDACAA8C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4CA-3EF2-480A-9A4B-4EEB375B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9E6-BF40-40DC-998D-BE5278A4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605-C4A0-4F55-96AF-2E71C2CE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A86-704C-4291-B372-6589C592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495-F836-4EB8-BA4B-A6813D64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A99-57AB-4127-A3C6-F889EBE0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A58-3113-4AC7-9E1A-4F2063C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78E-3486-4142-81DD-2E1B12F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1D2-61BD-4D8F-A22F-E1439A6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DE8-6F6E-4E1E-80A5-CDE08FE07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This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, this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3000" y="167652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n, ca. 167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me, O keep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giv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dear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ll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have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, an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, ere I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eac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 as li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y b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o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 I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glorious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y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e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sweet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lids clo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that may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vigorous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God, from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01Z</dcterms:modified>
  <cp:revision>18</cp:revision>
  <dc:subject/>
  <dc:title>PowerPoint Presentation</dc:title>
</cp:coreProperties>
</file>