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909-B78A-41DA-AC5C-50311C13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65C-E906-4584-B790-BD2D82F7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123-4F21-4D71-8BDB-C4A2F960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FE5-1DC0-4CF7-914C-2F936F69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E8E-B0FA-4CE5-9AB5-3F8E1338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326-8FE2-4B57-8B87-3724FCCC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FAB-F97A-429E-AA05-E131A399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365-FAB8-4C24-A542-EC589B6E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713-115A-4666-AE58-D3EC94EF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F3C-B0BD-44C5-90CA-8242F539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554-9D6B-4ED7-AC54-8F25005B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908-3813-4107-8708-DED9AA67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4784-4895-4B96-8799-F43965590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Holy Gho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Souls Ins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insp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gh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elestial fi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4840" y="1600200"/>
            <a:ext cx="82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Rhabanus Maurus, 8th-9th cent.; trans. by John Cosin, 162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anoi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os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venfold gifts im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y blessed un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comfort,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re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able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petual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ullne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linded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oint and che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iled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abun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far our fo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peace a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ou art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ill can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e, of bo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but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rough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, this may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ndless so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Spirit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9:54Z</dcterms:modified>
  <cp:revision>9</cp:revision>
  <dc:subject/>
  <dc:title>PowerPoint Presentation</dc:title>
</cp:coreProperties>
</file>