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748-009B-4A59-A784-975CD32D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B07-F610-4614-B528-E5EE0AC1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EE5-623D-45D1-A246-E1412A65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321-40BC-4421-8435-41CAEED6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7A6-0838-444E-A496-90BD828F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F26-790E-4C91-AC88-AC6860F6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A0E-8887-405A-B19A-BF81F1C1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6D6-0FBA-4FB0-A425-600CF0B3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B74-30DA-4A70-81E4-B087AC27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537-5E92-4F15-A1E7-7DCB007D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9CE-FE21-4FD4-81A4-06ECC1B2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92E-ECE6-4310-86C5-D97DD447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E87B-EAB6-4779-A8BA-5AC134755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Who Love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rve Your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Erik Routley, 1966 (Lk. 19:41; Ezk. 48:3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who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rve your c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s daily str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69 by Galliard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Judge, our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its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The Lord is ther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cr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eace and just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ho cur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who bles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n your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loss and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helpless str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nor,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retrea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s your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n your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alth and plen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ted wo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asted pl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 to mi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Work ye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it is day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or all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days of judg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waiting sti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rawing nea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who spur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fering peace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vary’s h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Risen Lord,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the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e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espair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11:47Z</dcterms:modified>
  <cp:revision>143</cp:revision>
  <dc:subject/>
  <dc:title>PowerPoint Presentation</dc:title>
</cp:coreProperties>
</file>