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EEC1-F53A-4EC9-BFD9-B9F60970E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FBE4-E391-4CEB-A1EF-C964218F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CC6E-25F4-43ED-B2EE-ACA2C19C2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3455-5311-4AF8-8CF3-FD8B971C2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1655-CD50-4804-9116-D64DC0D7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559B-982D-40E1-8433-3ABB5040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4EEC-C143-49F7-8D38-A4E968E4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DC5D-8D04-420E-BEC3-C6A94E6E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3D66-18F4-4856-993A-E937DED5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80A3-D522-4990-A5D9-EE837213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7D9F-01FD-4827-B404-FC3DD73E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3AED-3C06-4F03-8C3B-3DC78980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04BD-51FA-4B7C-A36F-685D3B0F5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ake Me a Captive,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Make me a captive, Lor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then I shall be free.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orce me to render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up my swor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I shall conqueror b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e Me a Captive,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57320" y="990720"/>
            <a:ext cx="523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George Matheson, 1890 (Eph. 3: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ink in life’s ala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by myself I sta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mprison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 thine arm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rong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my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51776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2. My heart is weak and poor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until it master find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t has no spring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f action sur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t varies with the win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e Me a Captive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cannot freely m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thou h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rought its ch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slave it with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tchless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eathless it shall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51776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3. My power is faint and low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ill I have learned to serve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t lacks the neede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ire to glow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t lacks the breeze to nerv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e Me a Captive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cannot drive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il itself be driv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flag can only be unfur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ou shal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the from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51776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4. My will is not my own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ill thou hast made it thine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f it would reach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 monarch’s thron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t must its crown resign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e Me a Captive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only stands unb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id the clashing str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on thy bos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has lea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ound in thee its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06:52Z</dcterms:modified>
  <cp:revision>11</cp:revision>
  <dc:subject/>
  <dc:title>PowerPoint Presentation</dc:title>
</cp:coreProperties>
</file>