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E3F-30B1-458D-A3F2-0ED5C06C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5E5-6132-47B8-86E8-EDAFD96D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DF9-1AE4-4651-BAD7-361023C7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276-3770-4836-AECD-F5DEDC5D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EB5-14C6-4BA5-97FA-89138233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901-D1AB-40E7-82DD-D98BE179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3F6-F629-44B4-82E6-FE8A90E3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491-B681-4E95-9ED8-8F275B38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604-7A1C-4A99-BCBA-854826BD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D42-7BD3-42D0-8377-E7C0CE93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D40-3D75-4015-8E84-93AB344F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325-DEEB-4714-BF96-D497C18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D07C-8635-46A0-9DBA-095D7DEC1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postolic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olic Bl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 Corinthians 13: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grace of th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Lord Jesus Christ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nd the communio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the Holy Spiri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be with you all.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1:22Z</dcterms:modified>
  <cp:revision>163</cp:revision>
  <dc:subject/>
  <dc:title>PowerPoint Presentation</dc:title>
</cp:coreProperties>
</file>