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B1AE-5B00-4CB1-B9DF-3B2ACBF7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8D2B-33D9-420C-B0AA-7ED52E0F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D1EB-2856-43CF-A3F2-990D6505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DEE6-E766-4FD6-8A37-16FECB09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5A33-15A5-4B64-A56F-9EBF425E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CAA5-F9B4-4916-B358-D5395CEC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CBBE-02DC-44B6-A008-15E668B5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ECE5-903A-470D-B617-D20C9B0C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8D09-0F25-4473-9E79-AD4AD114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B284-0AF8-4775-9ECD-AD109AE6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69B8-CE69-42AF-AA1D-17946480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2B7-6923-4B4F-95D9-339D8766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78B9-8465-47B1-89CB-86A20FD45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rough It 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37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rough it al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rough it al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’ve learned to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rust in Jes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’ve learned to trust in Go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Manna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ugh It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dra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é Crouch, 19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rough it al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rough it al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’ve learned to depe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upon God’s wor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5:47Z</dcterms:modified>
  <cp:revision>40</cp:revision>
  <dc:subject/>
  <dc:title>PowerPoint Presentation</dc:title>
</cp:coreProperties>
</file>