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572-CACD-49DF-8EA5-CB928F63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FB9-B39D-4FAD-AF20-34B0D768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F9D-45F9-4E4E-80B4-E5221F17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C6F-6753-4D9D-ABAE-FED97AA6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180-822B-4280-8DA6-47D9336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02F-1AD2-4BBE-A708-94DD7511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77F-5209-42B9-955F-0E58F3C8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43D-06A7-4F95-A014-026C23FA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2DA-DC27-486C-AD92-8D239BF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B4E-7A8E-4203-AB52-B0BFFB0D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4FE-D83B-4079-9F0A-11248F0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47C-2AB6-4372-9E91-37C0136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ED42-9E5B-4F31-A4DE-34FC2AE56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Co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firm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Foley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fir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trut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makes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Faber Music,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ndersta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your hel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sol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s advoc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l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lp we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your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ving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you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sses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ree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05Z</dcterms:modified>
  <cp:revision>91</cp:revision>
  <dc:subject/>
  <dc:title>PowerPoint Presentation</dc:title>
</cp:coreProperties>
</file>