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ABA1-2168-44A3-9F7E-7749DAD3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5963-3811-4416-8C49-3A8A46C7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9CBA-5C80-48A7-815F-49CDCE53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EC0A-53D5-46A4-8908-9E0F2653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060A-9316-46F2-8C4C-08C4F16E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8FEA-1421-4F58-BD13-07E478A7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35EF-88A3-48BB-BCB6-42D93196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3322-E3C6-4D91-A385-3A4AFA57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8D47-C8A6-4523-978A-2664E151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AB66-D12F-4E31-A652-35B9B04B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209C-EEA8-419D-BB8E-9F989346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2787-0FB8-4779-9EDC-6BD4FDAE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61A5-DF67-4B47-B7BE-4937335D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DAF9-BF4E-4418-B552-844B0C85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2DC0-99B5-4FA4-8847-6063AD23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1199-2D67-499B-8969-EA4A3CE8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F18A-3728-4185-B9CE-80523529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AC68-B2C9-4599-B4B2-F386C026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0C34-014C-40E0-842A-340DEC34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FF5B-5E91-461D-9EA2-872592FA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6E6C-2175-4E2E-B51A-4EE8E2F0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BBE9-1F5C-4593-9876-1B80B57C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9004-0FA1-4567-B29A-F1A75D23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327F-5B75-447F-A7AE-6B6BBE49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5A78-9D73-4E8D-99FE-98F2DFAC9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4AF7-1D86-4642-9B40-08945721E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r Parent, by Whose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05740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ur Parent, by whos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parenthood is 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in your love procl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family your ow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40, 1943, renewed 1971 The Church Pension F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ent, by Whose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71040" y="1077840"/>
            <a:ext cx="4245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F. Bland Tucker, 1939; alt.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children bles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every pla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they may all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hold your fa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knowing you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y grow in grac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724280"/>
            <a:ext cx="9144000" cy="2130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Blest Spirit, who can b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in un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ach us so to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 from self set fre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ent, by Whose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724280"/>
            <a:ext cx="9144000" cy="2130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all our hear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uch love increas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every ho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y this releas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y be th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dwelling place of peac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724280"/>
            <a:ext cx="9144000" cy="2130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rect all paren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arding 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constant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sentin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mes in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eople dw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Jesus, who, a chi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an earthly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eart still undefi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d to adulthood com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ent, by Whose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hildren b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pl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y may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hold your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knowing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grow in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Blest Spirit, who can b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in un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ach us so to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 from self set fre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ent, by Whose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ch love incr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every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is rel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b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welling place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522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r Parent, by Whose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447920"/>
            <a:ext cx="9144000" cy="397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ur Parent, by whose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parenthood is 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in your love procl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family your ow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ent, by Whose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27600" y="685800"/>
            <a:ext cx="493272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F. Bland Tucker, 1939; alt.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40, 1943, renewed 1971 The Church Pension F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724280"/>
            <a:ext cx="9144000" cy="2130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direct all parent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uarding wel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constant lov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s sentine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homes in whic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your people dwel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724280"/>
            <a:ext cx="9144000" cy="2130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Jesus, who, a chi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an earthly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eart still undefi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d to adulthood com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ent, by Whose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724280"/>
            <a:ext cx="9144000" cy="2130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5-10T22:16:09Z</dcterms:modified>
  <cp:revision>16</cp:revision>
  <dc:subject/>
  <dc:title>PowerPoint Presentation</dc:title>
</cp:coreProperties>
</file>