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4DE0-FBD0-4BCC-8163-702E9A52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9E0C-3B22-4442-9D8F-E869ECA1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9B3E-B88E-4BDA-9684-B6FD7E16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8BB-1FBB-42DD-B388-B401B9AB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AA2-F1E6-4543-AE7C-88A1D4C2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E85-1CE1-47BA-A61E-07D3E377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61B-4B15-421E-B298-5D9C7401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281-8EB8-49B9-9AF3-9BD7106A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DA8-8E2F-4D1D-AB44-69784462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1E5-459D-472B-8FC0-081D65B4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6485-0CBE-4C79-BBF9-F0E7E29E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EB5-8B42-4A67-80EF-2F2E737A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9B43-1E2F-4E9F-9060-2FF585BF1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yer of Ignatius of Loy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7652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ach us, good Lor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o serve you as you deserv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o give and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count the cos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o fight and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heed the wou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Ignatius of Loy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2960" y="990720"/>
            <a:ext cx="426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Ignatius of Loyola, Spain, 16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oil and not to seek for res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o labor and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o ask for any rewar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except that of know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that we do your will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8:16Z</dcterms:modified>
  <cp:revision>13</cp:revision>
  <dc:subject/>
  <dc:title>PowerPoint Presentation</dc:title>
</cp:coreProperties>
</file>