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4CF-534B-4225-A9A4-43A34970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6AF-53BF-4068-8622-A6E654FE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16D7-8E07-42E9-9311-904D951E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90DA-D609-4011-BC4C-AF7D6759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82AA-BAB1-4F06-B4C6-0DB992D0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AFB1-EFCD-4B28-B755-E9B07F39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19B-A457-4A73-821C-47DB948A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6E4-48B9-4B1A-98E8-BFE0711E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B8A0-7FAB-40AF-BB55-0AC045E5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AAE-0341-4479-A21C-5D2AF19C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959-A208-4A82-AEE8-D9E3D58C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F357-A14D-4E4B-A06B-086AAA3D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15E3-3CA8-47AF-ADBA-A16C833D2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Jesus, I Lov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My Jesus, I lov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know thou art m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ee all the foll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sin I res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Jesus, I Love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85360" y="1015920"/>
            <a:ext cx="43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William R. Featherstone, 18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gracious Redeem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avior art th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ever I lov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Jesus, ’tis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lov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th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t first lov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purcha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pard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Calvary’s t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Jesus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hee for we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horns on thy b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ever I lov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Jesus, ’tis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n mansions of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ndless de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ever ador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eaven so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Jesus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sing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ittering cr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my b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ever I lov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Jesus ’tis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8:43Z</dcterms:modified>
  <cp:revision>34</cp:revision>
  <dc:subject/>
  <dc:title>PowerPoint Presentation</dc:title>
</cp:coreProperties>
</file>