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3F0-B3A1-4437-A92E-43890122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8B6A-9443-4453-B360-36251C95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4B0-395D-4B71-BACF-E9302107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1BC7-3ADD-4CDC-A01D-C9E52EFA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ED32-F338-4CDE-9249-B2D73C95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9021-341A-4A64-BFFD-50374638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289E-848C-454B-BA46-912763B5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03F6-7E10-4061-8F52-51B793FA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AC98-24C9-4906-95E7-63804714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541-BA07-4886-B34A-BC08C707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8D17-682E-4429-9272-6D0B2DFE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3CF0-3FB1-46BD-997E-9CF4BDBC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53B9-EBF5-4B6B-B314-78F938593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joice, the Lord Is 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Rejoice, the Lord is Ki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rd and King ado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tals, give than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ing, and trium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6960" y="1143000"/>
            <a:ext cx="48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46  (1 Cor. 15:51-5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esus the Savior reig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od of truth and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he had purg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tains, he t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eat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is kingdom cannot fai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ules o’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and heav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eys of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ll ar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Jesus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Rejoice in glorious hop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the Judge shall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ake his serva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 to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oon shall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archangel’s voi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mp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sound,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58:29Z</dcterms:modified>
  <cp:revision>53</cp:revision>
  <dc:subject/>
  <dc:title>PowerPoint Presentation</dc:title>
</cp:coreProperties>
</file>