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5BDF-74C2-4F0B-A2B7-111FB026A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41CC-9AC2-465B-BF2D-8C3829479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9814-1F51-4707-957F-B6219BD92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B1B3-AAF6-48FE-AA23-AF8CADBE9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0BEE6-CEB1-487C-95A0-D291E73E4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37247-75E0-46F3-AE31-B5407C954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1BDEE-8C27-4AEB-90A8-92A0CC147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1D3ED-831B-4D6C-ABD5-A2D91C0B8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D195C-5F09-407D-9DA2-75B258A9F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AAEE2-39B3-4929-B21F-791C10B43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57903-9051-4A76-923C-11AD3833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2F92-711F-4007-A4B9-28369F1F8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88F97-ED14-49AA-9B10-1A11C1DF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561CC-4C09-4225-B618-5D0283E0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1433F-9434-40B5-A48A-1D2588060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89B54-4C80-4869-8EBB-B80FA2779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F00E1-DE8E-4CDF-B593-260D13BF8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AFAB-ECC8-4E49-BED9-7BEE0EC99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6FF7-C4C0-4883-9995-AE8D77945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4912-C032-470D-A86C-CE8D3BD6C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2717-2E5B-4D8C-B954-5AC611478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AF8F-0E9F-4E5A-89CF-C31F31A0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55D6-0BEE-474B-89E9-CCB2BDC4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F8B6-D743-407A-B0EE-E88A5D6E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BF322-FF1D-4ED5-B525-6D8C4F580A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F79C8-6A23-4957-B1FB-1D1CC2B811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8088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d Will Take Care of Y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3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6765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Be not dismay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e’er bet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will take care of you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neath his w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love abid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will take care of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Will Take Care of You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67040" y="1219320"/>
            <a:ext cx="3448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Times New Roman"/>
              </a:rPr>
              <a:t>WORDS: Civilla D. Martin, 190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04920"/>
            <a:ext cx="914400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5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od will take care of you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rough every da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’er all the way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e will take care of you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od will take care of you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Will Take Care of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6504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2. Through days of toil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en heart doth fail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od will take care of you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en dangers fierc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your path assail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od will take care of you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Will Take Care of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228600"/>
            <a:ext cx="914400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5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od will take care of you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rough every da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’er all the way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e will take care of you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od will take care of you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Will Take Care of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30492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3. All you may nee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e will provid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od will take care of you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nothing you ask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ill be denie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od will take care of you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Will Take Care of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04920"/>
            <a:ext cx="914400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5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od will take care of you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rough every da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’er all the way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e will take care of you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od will take care of you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Will Take Care of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0492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4. No matter what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may be the tes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od will take care of you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ean, weary on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upon his breas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od will take care of you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Will Take Care of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304920"/>
            <a:ext cx="914400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5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od will take care of you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rough every da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’er all the way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e will take care of you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od will take care of you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Will Take Care of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143000"/>
            <a:ext cx="9144000" cy="47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will take care of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ever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’er all the w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will take care of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will take care of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Will Take Care of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rough days of toi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heart doth fai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will take care of you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dangers fier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path assai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will take care of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Will Take Care of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143000"/>
            <a:ext cx="9144000" cy="47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will take care of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ever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’er all the w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will take care of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will take care of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Will Take Care of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All you may ne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will prov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will take care of you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hing you as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ll be deni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will take care of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Will Take Care of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143000"/>
            <a:ext cx="9144000" cy="47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will take care of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ever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’er all the w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will take care of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will take care of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Will Take Care of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No matter w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be the t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will take care of you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n, weary 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on his brea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will take care of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Will Take Care of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143000"/>
            <a:ext cx="9144000" cy="47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will take care of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every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’er all the w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will take care of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will take care of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Will Take Care of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15228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d Will Take Care of Y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3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12716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Be not dismaye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ate’er betid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od will take care of you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eneath his wings of love abide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od will take care of you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Will Take Care of You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67040" y="762120"/>
            <a:ext cx="3448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Times New Roman"/>
              </a:rPr>
              <a:t>WORDS: Civilla D. Martin, 190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8-02-15T00:29:11Z</dcterms:modified>
  <cp:revision>49</cp:revision>
  <dc:subject/>
  <dc:title>PowerPoint Presentation</dc:title>
</cp:coreProperties>
</file>