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70F8-2E5D-4CE8-9598-A03DBF669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58B7-3EB9-4325-B2B4-52EEA675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CB0D-8237-40A2-973E-91276713D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39C5-782F-40B1-A23E-53B6F2C9B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3E17-1868-4D9D-A0E7-B72634AB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540F-AD03-49F2-8C75-283223C8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EB82-CC02-4B2E-B320-BB985B77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6387-1D14-4BF2-B4BD-C38E4B1D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A84F-1315-4584-A445-F4FF1615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758E-F5BF-4F3D-8952-750F9C2A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5041-7F7A-4760-9A49-F7F17CEB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A1D4-C04F-430C-BFEE-54D0A385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1E9A-DCB0-411E-AA53-6C634BEE5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, from Whom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Blessings F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Christ, from whom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l blessings flow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perfecting th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aints below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from Whom All Blessings F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40 (1 Cor. 12:4-31; Gal. 3:27-2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is nei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nd nor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le nor fema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n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Love, like d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h all destroy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ndered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stinctions voi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from Whom All Blessings F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me and sec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arties fa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, O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t all in al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051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ear us, who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y nature shar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ho thy mystic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ody ar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Join us,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spirit jo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s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ceive of th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from Whom All Blessings F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for more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we c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who fill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n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Move and actua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u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verse gif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each div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rist, from Whom All Blessings Flow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aced accor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w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work fulfi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Never from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vice m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edful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other pr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from Whom All Blessings F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e the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each bestow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mpered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rt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Many are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, and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ho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put 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from Whom All Blessings F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7:27Z</dcterms:modified>
  <cp:revision>21</cp:revision>
  <dc:subject/>
  <dc:title>PowerPoint Presentation</dc:title>
</cp:coreProperties>
</file>