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C01-03B9-4A21-963C-D854BEA3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1EA-C4D7-4429-8179-8FB71D5F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CEA-8F98-4D2E-AFA6-F8610FB1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AD9-7E2F-48C8-9925-6E25A772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640-7FE0-4215-9B11-FCF4CFA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62F-0186-45CC-9833-8C94F6BA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8F7-399C-4C89-8C39-04EA24DB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DC1-CA63-40FC-9E57-103EC96A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F54-9D99-4EC6-A970-CD7AD33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48D-C2BF-414C-9458-0851D707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C30-8648-44E0-BE29-5FED2AE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AA8-96AC-43D3-BAC7-336589E1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612E-6F1A-4D47-A2FB-3E6CDE595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76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o the Lord’s Anoin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219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 to the Lord’s Anoint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David’s greater Son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ail in the time appoint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is reign on earth begun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230920" y="7462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1 (Ps. 7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t the captiv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ake away transg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ule in equit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come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cor sp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suffer w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lp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id the weak be strong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them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g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darkness turn to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and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precious in his s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e shall co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h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fruitful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joy, and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fl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ring in his path to birth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m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eace, the herald,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f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ll to valley fl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him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un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aily vows a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incr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kingdom without en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de of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venan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ame to us is lo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brea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t the captive fre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ake away transgr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ule in equit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comes wi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uccor speed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suffer wro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help the poor and need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bid the weak be strong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731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them songs for sigh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darkness turn to ligh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soul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and dy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re precious in his sight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He shall come dow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howe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fruitful earth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joy, and hop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flower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ring in his path to birth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604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mounta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eace, the herald, go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righteous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founta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ll to valley flow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him sha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uncea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daily vows ascen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 still increa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kingdom without en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de of time shall nev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venant remov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foreve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ame to us is lov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o the Lord’s Anoin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David’s greater S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in the time app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reign on earth begun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30920" y="10047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1 (Ps. 7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2-04T00:55:44Z</dcterms:modified>
  <cp:revision>52</cp:revision>
  <dc:subject/>
  <dc:title>PowerPoint Presentation</dc:title>
</cp:coreProperties>
</file>