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589-D863-4DDF-8B78-0C05CBFA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CA8-8C68-4FC7-B8B5-9A19C0C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870-7302-44A5-AB33-829F5252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C57-A4F4-434D-BC51-DC366ADB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31C-FCDD-462D-8F3D-785B51A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815-7271-48C3-B1F0-6A2959B5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877-CC61-4797-AA5B-A4BDEEA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6FF-86D5-4259-9457-F52F0E7A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750-5B82-4B94-A93A-4AFB7E2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BD8-C6F3-445E-9BEE-35AC39E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D0C-339D-4CE8-B15E-5D16DB4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EE2-B830-4B78-A613-BF808DF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816-8284-43A6-BADC-018AC0E43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oul Gives Glory to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soul give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y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p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it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8, 1987 Medical Mission S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990720"/>
            <a:ext cx="61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 (Lk. 1:46b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lift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w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ous 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Go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things fo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holy is this n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clare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sings they shall 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rom age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rcy love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nsing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missing selfish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ove casts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ir thron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otes the in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s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satis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 seems suddenly p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,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rts those in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ering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esent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23Z</dcterms:modified>
  <cp:revision>49</cp:revision>
  <dc:subject/>
  <dc:title>PowerPoint Presentation</dc:title>
</cp:coreProperties>
</file>