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0B7-E766-44DD-B0BA-4ED9D3DF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625-D72E-437E-97A4-83912A88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B27-2A40-4E6F-92F0-634D80B8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85F-5984-4F7B-BBC4-EA7F6D50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3BC3-4B74-4752-83FA-4750AB52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EAD3-820E-4D8E-8B3E-5A6CFB3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16BF-C3FA-4943-B16C-BBB86C1F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ACE0-B09F-42A1-B3BE-8DE79161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BF85-95AB-403A-BA72-11B3F4B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CEE-623D-43B0-8F6D-A6603074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027F-72F7-4DAE-9E6B-41F8F69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A87-B15A-4F6A-B47C-CB8FEA47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12E-735B-4F08-A4E5-B412FF4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0938-4204-46E0-96C0-8DD4D6C7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146F-C025-44FA-9642-7D3FA42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9281-AB8B-4F84-9F14-C5D1168A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8B80-E8F1-4C10-9A7A-20BB828A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83D-ED39-46BE-BDDE-3989DD46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36B-DD74-4BB5-BF51-F926E159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91A-7287-409D-A829-1325086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ACC-706A-4351-9A38-CCBDA03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AB6-544B-46D2-B1DF-EF9667F1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ABB-6F1C-4E9B-B958-77372C9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141-7E47-455D-AFF2-0CA92B9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F47-50A1-40C6-9BAF-9A16BAB4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3A6B-15F4-4195-9437-2FDA5C3B3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race a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ur th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Elinor Fosdick D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Harry Emerson Fosdick, 1930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ave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k resign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evils we depl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sea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glory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we ado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 adore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ng thee whom we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Grace and 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288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od of grace, and God of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 thy peo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our thy power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 Harry Emerson Fosdick, 19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Elinor Fosdick Downs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own thine ancient church’s stor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ng her bud to glorious flower. Grant us wisdom, 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ac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this hour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of this hour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acing of this hou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Lo! the hosts of evil round u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corn thy Christ, assail his ways! Fear and doub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o long have bound u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ee our hearts to work and prais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se day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ese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Cure thy children’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rring m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d our pride to thy control; shame our want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lfish gladne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ich in things and poor in sou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dom’s goal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kingdom’s goal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ingdom’s goa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5176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ave us fro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k resign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he evils we deplore;                    let the search for thy salvatio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our glory everm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thine an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’s sto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her b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lorious fl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rving the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m we adore, 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(we adore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rving thee whom we ado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c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is hour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is hou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facing of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! the ho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il roun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 thy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sail his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and doub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o long have bound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se day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f these day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ure thy childre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ring m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d our pr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contro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our want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lfish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ch in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or in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’s goal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ngdom’s goal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’s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10T22:31:35Z</dcterms:modified>
  <cp:revision>85</cp:revision>
  <dc:subject/>
  <dc:title>PowerPoint Presentation</dc:title>
</cp:coreProperties>
</file>