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0A8-0A1E-4D77-9F5A-128D91F4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878-BC27-40B3-BF17-B53DC1B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CFE-6280-48D9-9EC6-0FFDE1EB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2D5-098E-42C2-9773-ACC8C32A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22D-147E-4787-AE28-7E326B42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A47-838B-48C4-884F-6FD5C96C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8E5-DE5D-4A81-A5FC-4CFDA0A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4D1-ED3E-4B9A-B7CC-882A8A1A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BE9-D9EE-4E7B-99FF-41B2D0A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88F-001A-47B5-9B95-5B05AC4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32B-7CAD-4325-9EB7-64D293D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678-1498-422A-965A-EAA27115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216-8B22-4E0E-AA71-5E67C0CA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se Who Mo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ose Who M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Jn. 11:35; Mt. 5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Son wept with Ma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Martha at the tom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Lazar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ok with compassion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ose who g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[especiall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]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em the assu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your presence 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ternal goo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them may b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ulfilled the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those who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hall be comfort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51Z</dcterms:modified>
  <cp:revision>153</cp:revision>
  <dc:subject/>
  <dc:title>PowerPoint Presentation</dc:title>
</cp:coreProperties>
</file>