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181-7A76-41E4-A2F0-33488D13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0C4-3F10-42D3-B2FB-686EB3B8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1FA-619A-4E2F-B5B7-3FCA1ED9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BCC-EC9A-423C-86DE-768EC0EC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0AF-DBD8-473C-A601-6D792497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988-3821-4E7D-8A36-235E9FD9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ED8-0D75-4B9B-BE84-9E99817A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FB7-C127-46BA-A556-7EFCD23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ED0-8209-4FA2-AAB4-1618746A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93D-8F62-468D-B5DC-6E30966B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EF5-6A27-476F-97C3-65EBC187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DD7-5CA6-4F39-AAC6-2669311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3198-3A6E-432D-AAFE-25274E934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 of the Danc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98108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danced in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world was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danced in the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un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Stainer &amp; Bell Ltd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890080" y="114300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yndey Carter, 196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hi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stri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hung me h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left m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cross to di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danced on a Fri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ky turned blac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hard to 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your back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uried my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thought I’d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am the 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till go o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y cut 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leapt up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ll never, never di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live in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ive in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danced on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d my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danced for the sc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hari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y would not 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would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nc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sher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ames and Joh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m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nce went o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danced on the sabb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cured the 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d it was a sham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1:16:52Z</dcterms:modified>
  <cp:revision>27</cp:revision>
  <dc:subject/>
  <dc:title>PowerPoint Presentation</dc:title>
</cp:coreProperties>
</file>