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13B-DB4B-47FD-97E7-C40D27E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22D-0209-4E7D-A790-8B9E9ED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C63-8538-4B1A-B1F4-E0B84D89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B7D-E5A6-4A98-9676-19C7FC3C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F491-BFFE-4CAE-8646-7FEE467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570B-FF5C-47BD-8A4F-7952B41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AF8A-1D85-44FB-8B80-B2030A7E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A55-0066-4F06-BF56-E7CE625F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12E4-3FEE-4997-8FA4-15D0340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47CB-9343-4B61-956D-8CC3516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486-41FA-4EA3-B06E-C8F373D6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CEB-B9B6-4C11-B142-FC87E51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5C2C-75EC-47AD-8E39-5E6F018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49BD-12C7-4222-8212-12CEAF6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0B0B-79D3-44C6-BEAC-698221CF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64ED-71B3-49AE-914F-0941D89E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7191-D171-4624-B822-CE871D23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F6F-79DD-4FEE-B67F-C4B0734C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FF9-0D45-43A7-B377-2B6413E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8EA-9868-4CB8-A755-F17F512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B1E-A541-4146-90E7-766F92B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28B-3DCC-4F7A-A179-3F5D0B7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9A6-1930-4F46-B329-5ABCF7AE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BE2-5F4F-427B-983B-D6604DB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E7D-86DA-47BD-A650-A9CE85B45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39B-E7C3-429C-B432-86BE9F140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9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aptized wi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pirit’s sig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’s creation, loved indeed!                               Fresh from God, refresh our spiri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to joy and laughter l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96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you are, from God you came. Back to God we humbly give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 as one who bears Christ’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 to know whose child you are. Grow to laugh and sing and worshi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st and love God more than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inde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our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ter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you 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you c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as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s Christ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hild you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to la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lo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aptized with the Spirit’s sig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79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7T00:46:25Z</dcterms:modified>
  <cp:revision>112</cp:revision>
  <dc:subject/>
  <dc:title>PowerPoint Presentation</dc:title>
</cp:coreProperties>
</file>