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7495-887C-45F5-AA02-6AA5BF6F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C0A5-4622-49B4-9E4F-B931867B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2611-59D6-4236-AE91-F0C5EBF7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B4E-EA68-4E8E-B456-C255227E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63EA-E5AD-4978-954A-1D6837BB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9579-E507-401A-B060-2145F36F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9B9A-A289-4B81-B824-A59542B0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F7C3-9474-4C03-96B8-A09C47CA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2EB8-353C-4916-80CD-4F63436D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F54C-335D-410D-9D3C-9B66EBB4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206B-AB1A-4445-915F-7E829142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721-CD89-4A44-B39B-5C0D44AE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730D-8649-41AF-96F3-B4B9614D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2B9A-2CC6-406C-8716-114A3FCF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34AF-D399-4FAF-BBF8-B767C444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93B3-5214-4FD7-85F2-D8AD2A96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FE2C-E67C-4F8D-9F7D-0B0D5E24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FFA0-A21F-4244-A61D-06B54FBD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61C8-7A3F-4F4B-BB61-F48075F9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9CD-BC7B-4734-9693-EBD79046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A6D4-7F23-4371-A677-33DF901C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42EF-B71E-43C8-B8D8-65901ABB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7DD-75B2-40A2-A957-423A3FF0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31D-04AF-4C4C-95AC-A7A93E62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17F5-F928-479E-BF96-22842D5BA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09A3-FB2B-48F9-9736-1E28FC675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lorious Things of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e Are Spok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1. Glorious things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e are spoke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Zion, city of our God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82480" y="1676520"/>
            <a:ext cx="61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Newton, 1779 (Ps. 87:3; Is. 33:20-21; Ex. 13:2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a glor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a covering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howing that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ord is near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8580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us deriv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rom our bann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ight by ni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shade by day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afe we fee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upon the manna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ich God gives 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n we pray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4. Blest inhabitant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Zi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ashed in ou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Redeemer’s blood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Jesus, whom ou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uls rely 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ake us monarch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riests to God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Us, by his grea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ove, he rais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rulers ov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elf to reign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as priest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is solemn praise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e for thankfu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fering bring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lorious Things of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e Are Spok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575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lorious thing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are sp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Zion, city of our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82480" y="1676520"/>
            <a:ext cx="61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Newton, 1779 (Ps. 87:3; Is. 33:20-21; Ex. 13:2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, whose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not be br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med thee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own abo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R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ges fou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can sh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ure repos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9056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od, whose wor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annot be broke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med thee fo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s own abod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alvatio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ls surrou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mayst smi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all thy fo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ee, the strea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ving wa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ing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l supply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s and daugh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f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t rem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an faint whi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r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will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rst assuag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which li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, the g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fa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ge to ag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ound 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bitation hov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c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re appe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cov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ing tha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is nea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der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r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by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de by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 we f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man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God give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lest inhabit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ed i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er’s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144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n the Rock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Ages founde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at can shak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y sure repose?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whom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s rely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 monarch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ests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, by his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, he 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ulers o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lf to reig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s pries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olemn pra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r thank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fering b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9072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salvation’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lls surrounde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ou mayst smil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t all thy foes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1430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See, the stream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living water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pringing fro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ternal lov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ll supply th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ons and daughter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all fear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nt remov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9144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ho can faint whil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uch a riv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ver will thei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irst assuag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9907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race which lik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Lord, the giv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ver fail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rom age to ag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8096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Round eac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abitation hovering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ee the clou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fire appear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3-25T02:08:42Z</dcterms:modified>
  <cp:revision>54</cp:revision>
  <dc:subject/>
  <dc:title>PowerPoint Presentation</dc:title>
</cp:coreProperties>
</file>