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8B8-6FFF-48A8-9782-C6926F2A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75D-B368-4CDE-A0E2-FDCE944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0F1-618D-44BE-8CCC-E6B3FABA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9C5-2B88-4B9A-AD83-11416AF9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748-69B1-44DE-A1CD-35254BE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979-0E8D-4515-B682-BD7C1EF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D33-5D09-40BC-AFCA-9BA60AE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9BB-4648-49FA-9469-6B0D3E8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E77-0D9C-469A-B2D6-8685771D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05F-4BD2-4E8F-A396-7ABBFDD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087-4942-4E58-9E85-DA0D2AE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84F-6336-4F15-AA70-9E3C2AF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753-0353-46C6-A078-F38831B2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e, O My Lord, I Se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O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ee face to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would I touc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le things un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oratius Bonar, 1857 (Rev. 19:6-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sweet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estal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’s great brid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bli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grasp with fir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eternal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wear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e 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the hou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quet and of s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ble sprea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let me fea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ing, still pro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llowed hou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would I f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brea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drink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yal wine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would I 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ide each earthly l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aste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of sin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o soon we r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ymbols dis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east, though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, is past and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ve; but thou art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han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my shield and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east after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comes and passes 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, passing, po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lad feas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1:33Z</dcterms:modified>
  <cp:revision>124</cp:revision>
  <dc:subject/>
  <dc:title>PowerPoint Presentation</dc:title>
</cp:coreProperties>
</file>