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A0E-55A4-4941-8A7C-0E11707A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A74-49E3-4BDB-89DA-648CF35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D97-A890-4371-9DE1-B829825B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7C9-CE65-4B52-8302-B84F633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CF4-4EF7-4E1A-92F8-45249A39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6CF-C144-4EEF-8E6D-4544E9F9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E20B-EE50-4C11-AB45-F6249E49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24E-11B9-499F-9057-1457DF88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809-7D18-4077-8C85-A887C23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E1D-8149-44D5-BE96-3E58BBA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2A0-4A62-49EC-BD68-AD59DF6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EA8-E91E-4976-A1E9-612C8E1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90E-1276-431A-856F-A458F0AEC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, 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8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5680" y="106668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rry Sinclair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57Z</dcterms:modified>
  <cp:revision>39</cp:revision>
  <dc:subject/>
  <dc:title>PowerPoint Presentation</dc:title>
</cp:coreProperties>
</file>