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BF4-B1D9-405E-814F-0F8D58EB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9A8-8CA8-4A94-BECC-C3C65067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CD9-BEB9-4977-9AE3-F92AAA5C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7DD-1F95-430E-BD86-47B72D09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4FF-4075-4ECB-9FEC-3CAF9117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1C0-30CC-4C95-8EF8-B7D44D1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467-C67A-4EE5-BC06-F00EDA4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FD4-B802-47AA-98E8-86DC8EB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F03-516E-450B-B2D2-484CAB85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ED8-6F5A-49F8-A9F3-AFDAB9F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2A8-5BED-46F8-84CE-94F694A4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6A4-4FAC-4456-8488-12985E63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48D-9B94-4E3D-B479-99B000DB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Jesus Lay 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th’s Strong B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Luther, 1524; trans. by Richard Massie, 185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Jesus l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death’s strong band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for our offenses give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us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Easte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d of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purged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l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cked l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ouls will f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m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ink ind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 live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ther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t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hand he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ing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fore let us joyfu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thank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 songs of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was a str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eadful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if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contend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ained with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ign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e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ippe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it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empty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one rem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’s sting is lost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let u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stiv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vites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hat w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ghts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oth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ende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52Z</dcterms:modified>
  <cp:revision>78</cp:revision>
  <dc:subject/>
  <dc:title>PowerPoint Presentation</dc:title>
</cp:coreProperties>
</file>