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C2F-92FF-4E99-99A3-3CD67158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84AA-8BC4-45D3-87EF-E9987194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9A9E-478D-4CDA-9750-AF6CFBF4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D923-5FA0-4A1B-91F3-5C708298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782B-30BF-4FF6-AFCD-E2103677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947A-230C-4FAA-8EB6-B969DB01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877C-2DED-4943-99C7-6982EC7F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6811-B0FE-4932-BD93-B5CB7459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3E97-75F9-49BF-BA60-69F40D1C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7A68-03B3-42AD-8999-491D965D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96BE-D5FF-46E1-9DE1-1BFE48C7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7D3-BBAB-4221-B09B-C2111E07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7D00-0953-4933-98B3-4B7BC38C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76DA-472C-4DE2-B9EF-7B133A96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98D8-70E1-4B45-918B-BDDC8761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63B6-C475-4D60-850A-9E133FEE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52D8-D490-47B5-AFBB-253FDDB6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1CA1-DB26-4718-ADA4-9D3A6C6B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F36-5127-4E59-85FA-C6465B4B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24B-27D6-4FFC-B6FA-9A4AF216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E49-788F-4E7E-B5B1-853DB8F7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92D2-0B6E-4D1E-919B-62DB199B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D334-F8F6-4F60-BBBE-AF4B98B5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F824-9326-4452-B2D4-757EEE6E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2F13-D882-4906-A9B1-71A6506DA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E72E-36BE-4D22-BDAA-139B49D15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Grace a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of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of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ur thy pow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Elinor Fosdick D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002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 Harry Emerson Fosdick, 1930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ave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ak resign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evils we depl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sea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ur glory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ing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we ado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 ador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ing thee whom we ad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3644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Grace and God of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82880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God of grace, and God of gl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 thy peopl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our thy power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762120"/>
            <a:ext cx="9144000" cy="9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 Harry Emerson Fosdick, 193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Elinor Fosdick Downs</a:t>
            </a: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7632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rown thine ancient church’s stor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ring her bud to glorious flower. Grant us wisdom, grant us courag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fac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this hour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of this hour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facing of this hou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335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Lo! the hosts of evil round u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corn thy Christ, assail his ways! Fear and doub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o long have bound u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ee our hearts to work and prais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se day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f these day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iving of these 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Cure thy children’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arring madne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nd our pride to thy control; shame our want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elfish gladne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ich in things and poor in sou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rant us wisdo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rant us courag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st we miss th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kingdom’s goal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kingdom’s goal)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st we miss th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kingdom’s goa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176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Save us fro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ak resignatio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the evils we deplore;                    let the search for thy salvatio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 our glory evermo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n thine anci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’s st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her b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lorious fl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rant us wisdo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rant us courag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erving the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m we adore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we adore)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erving thee whom we ado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873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fa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is hour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f this hou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facing of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! the hos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vil roun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orn thy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sail his way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 and doub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o long have bound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our heart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k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2873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se day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f these day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iving of these 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ure thy childre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rring m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d our pr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contro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me our want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lfish gl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ch in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oor in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we miss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dom’s goal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kingdom’s goal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we miss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dom’s go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3-10T22:31:35Z</dcterms:modified>
  <cp:revision>85</cp:revision>
  <dc:subject/>
  <dc:title>PowerPoint Presentation</dc:title>
</cp:coreProperties>
</file>