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D4C-149A-418B-ABED-3995B2D2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12B-9903-4D6F-BCE7-718A166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1D0-3A36-4176-B73F-C865F6E4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28B-63D5-489C-ACFF-AC60EEB8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F90-19F1-4472-A7FA-23EEAD06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40D-E766-46A5-B061-A9C62DB0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546-054E-4F6C-98E5-311B806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D64-6DA8-4433-9EC4-6A17DA5B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A64-682C-4327-8F2D-BDDD20B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81E-62D9-4C59-8468-E632B42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75A-347B-45BB-A7D6-F33D4A1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9D0-A14E-473B-9261-B08AECF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3245-3952-4A2F-A941-D77E781C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a Maid Engaged to Jose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o a mai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ngaged to Josep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 Gabriel cam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“Fear not,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 told 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“I come to bring good ne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2640" y="990720"/>
            <a:ext cx="505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acia Grindal, 1983 (Lk. 1:26-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come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shor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child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God’s chi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As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ang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wondered at his wor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Behold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andmaid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said unto he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be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cord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 to tell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ay, good ne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you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ly favo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God the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ven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with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most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chos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bles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Mary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trou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 angel’s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w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 say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roubled her to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’s mess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rou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 to h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Fear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is with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 shall bear a chi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call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off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sh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g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“How shall this be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id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 am not yet a wife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swered quickly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he power of the Most Hig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43Z</dcterms:modified>
  <cp:revision>59</cp:revision>
  <dc:subject/>
  <dc:title>PowerPoint Presentation</dc:title>
</cp:coreProperties>
</file>