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A1C-E9F9-4B4E-BFD5-6D509263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825-C966-4231-B622-786B7590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570-F31F-4EA7-B1F4-22152173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7B0-61D2-4913-A1FD-028A26E8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17F3-A2EC-454E-A3A8-13A49C75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B080-B539-4356-B783-944A8135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63D1-17FE-44B4-851B-F542CCDA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9A4B-AD52-49B6-AD17-80EA0AD0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C3CC-B47F-46F9-9E73-A848D0AA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8830-2B1E-49A0-860D-79DAB042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E935-ED40-4A2D-836A-92CD974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4F2-2BAC-43FB-977B-580D53CF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E75F-4F42-471F-95A8-794F2899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0B21-3189-4D69-91FC-AA725C32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65DE-FBDE-4026-B464-E5B43BDB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939B-A65E-4468-AF38-3CC9012B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21A7-77DB-4D89-AAAB-72828E83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BF4-16C6-45A0-8AD3-9C94EA58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509-B870-49EA-87F7-6EA4666B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CE4-2BF5-4239-BEB4-EC027A30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2D4-047D-4501-9D64-D70387BB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AAB-AE59-45BE-A50F-5DEABE61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C1E-3C96-4B92-9C1C-423C7097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73A-681E-4378-81A1-CDD6D5DD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6001-B696-44FB-9368-A87B05491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0629-8CE8-4602-BF58-A1EFB63DD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ust as I Am, Without One Pl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808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otte Elliott, 18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432080"/>
            <a:ext cx="9144000" cy="291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Just as I am, without one plea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at thy blood was shed for me,  and that thou bidst 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thee,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aiting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id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ne dark bl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1430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e whose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cleanse each sp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ossed ab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any a conflic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doub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9072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ghtings and f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, with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, wretched, bl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ght, riches,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6668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a, all I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e to f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wilt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t welcome,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, r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1430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thy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e un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broken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rrier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3716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, to b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a, thine al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43000"/>
            <a:ext cx="9144000" cy="236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28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Just as I am, and waiting no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rid my soul of one dark blot,       to thee whose bloo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an cleanse each spot, 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04920"/>
            <a:ext cx="9144000" cy="383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Just as I am, though tossed ab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any a conflict, many a doubt, fightings and fears within, without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32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Just as I a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oor, wretched, blin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ght, riches, healing of the mind, yea, all I need in thee to find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28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5. Just as I am, thou wilt recei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lt welcome, pard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, relieve;                             because thy promise I believe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0880"/>
            <a:ext cx="9144000" cy="37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6. Just as I am, thy love un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th broken every barrier down; now, to be thine, yea, thine alone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 I c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ust as I Am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out One Pl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otte Elliott, 18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one pl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at thy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shed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430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thou bids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the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21T18:47:53Z</dcterms:modified>
  <cp:revision>117</cp:revision>
  <dc:subject/>
  <dc:title>PowerPoint Presentation</dc:title>
</cp:coreProperties>
</file>