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0AD2-473B-4A35-973B-800C1487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DD0C-D912-4838-B9B9-D21A7121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1BF-49CD-48D8-90CA-05D2D383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5EFB-897D-4B8C-94F0-0E7690AB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77E6-254C-49F3-9FB1-0C356F95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A406-80B7-4514-9920-7BF58F99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0DB5-5638-4FA2-9F47-89C347D5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A8E7-E158-4AE6-B5A4-E0A98537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B3D0-4D73-4A2A-A7FE-16CD2AC9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93A4-3FDD-4011-B90A-9B4F8F31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D353-6A30-4CC6-92F7-327ED296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D249-0EE9-4C1A-BB49-AC817B6C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3E0B-B338-4109-B876-587255EE2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ave It T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f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you withh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its silver and its g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you have to 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one with meager fa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Albert Tindley, ca. 19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make a way for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ll lead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fely throu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14400"/>
            <a:ext cx="9144000" cy="468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trust and never doub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surely bring you ou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your youth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s are 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ld age is stealing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your body b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e weight of ca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never leave you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ll go with you to the 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685800"/>
            <a:ext cx="9144000" cy="468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trust and never doub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surely bring you ou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remember in his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he feeds the little bi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ave i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838080"/>
            <a:ext cx="9144000" cy="468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trust and never doub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surely bring you ou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f your body suffers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your heal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can’t re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your soul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most sinking in despai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knows the pain you fe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an save and he can he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838080"/>
            <a:ext cx="9144000" cy="468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6765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trust and never doub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surely bring you ou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your enemies assa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your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gins to fa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n’t forget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eaven answers pray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0:14Z</dcterms:modified>
  <cp:revision>48</cp:revision>
  <dc:subject/>
  <dc:title>PowerPoint Presentation</dc:title>
</cp:coreProperties>
</file>