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C66-79AB-4946-A99E-37EE697C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05C-A3FC-4D9D-840D-4A23C58C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824-DB7A-4ED9-8DF4-B8C9EDFD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ECE-1C76-4706-BED4-BC0A0E47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110-CEE0-4C9D-A015-A63627FD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5CD-C790-47D8-B4ED-ACF35AE1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CB1-887B-46A8-BC41-BB528D49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6A7-9851-48A0-9C9D-0FDFAADA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AAC-A5A3-4820-8A27-7182E303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9E6-5835-4C74-9562-DB7CA6F1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4E3-CCB8-4C99-90DC-6A9DB740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0EA-9FB1-4AF8-B42E-9F14533A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4EC9-7208-4953-88C3-EB6F0AEBB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Spirit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04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re’s a Spirit in the 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ing Christian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wher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76080" y="109224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Ma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our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uide our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hange our way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come to st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e tomorrow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7. There’s a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ing Christian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wher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ose your shy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your tong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God ha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come to st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e tomorrow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en believ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 the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a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is f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Stil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ds the f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ing w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tting r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come to st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e tomorrow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When a strang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hom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a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8:59Z</dcterms:modified>
  <cp:revision>44</cp:revision>
  <dc:subject/>
  <dc:title>PowerPoint Presentation</dc:title>
</cp:coreProperties>
</file>