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A46-B393-4604-A02F-32E24BF1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AFC-1664-48EF-8AB5-4681075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4F2-7F41-4A78-B2F7-5BA0D861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3C4-D164-4F3B-8FD5-AEE537FA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5513-8423-4D54-BE8B-AE1721C2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06F-B03D-4497-8D34-CA02F416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7B96-DE0D-4659-89EB-13E58573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5AEA-CDAA-4EB7-BBC4-A3714C9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FD3-69E9-415E-B2FF-8C4C50B8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D619-B4C2-4A92-AA02-D0B63858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E42-20E1-4AFC-A532-3BB0C64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565-036B-47DD-B901-2840AB54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DAF4-0D6A-4863-BB19-E8140EC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9ADD-5268-4047-A791-AC6E387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34A2-F7FC-4504-A7D8-9DB0201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38C0-D991-467A-A7BF-59429EA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5815-742A-4E4B-AE14-345DC02A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DFF-84E5-4BF7-B246-5E52EEB9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0FB-2A19-40C3-AEC1-E4F22D62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910-2863-4978-BFCF-38656F0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14B-62D8-49D1-8294-7D64390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7E2-0C25-48D5-9396-D6E1D16B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DFA-6A70-4CFE-8E24-818CC7A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647-80D7-45ED-95AC-A538CB5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5167-F8C4-47D8-9B5D-65FAC2867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AE72-5224-4A08-9BF0-CE0A6167B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USA folk hy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16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when fr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en fr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I’m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USA folk hy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wondrous 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 love is thi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aused the Lord of bliss      to bear the dreadful cur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ondrous 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 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caused the Lord of life              to lay aside his cr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 to lay aside his crown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58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od and to the Lamb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is the great I AM,                while millions join the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sing, I will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ile millions join the the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will sing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33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when from 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en from death I’m fr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is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caused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bli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hen from death I’m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and joyful be,                    and through etern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on, I’ll sing 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rough etern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o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1776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us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ay aside his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o lay aside his crow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I A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ing, I will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4T00:52:12Z</dcterms:modified>
  <cp:revision>53</cp:revision>
  <dc:subject/>
  <dc:title>PowerPoint Presentation</dc:title>
</cp:coreProperties>
</file>