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382-6B06-4313-BD12-36C8629D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851-E7F3-4493-A52A-5C648B4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97C-56EC-4A6F-A6E3-E88F89A5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F5A-9EB2-4A42-9083-4D9B74AE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6B1-C72E-4093-884D-A0E9B793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79A-E5FD-4D6B-B0AE-75429C7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96C-3A6F-4342-ADE7-1B394B9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190-D59B-425D-B5EA-057106BF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365-0224-4AE2-AB02-8577FA9C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108-2D18-40CF-AEEF-823FB92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F8A-108A-4DC4-AA67-B25813A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31F-FD03-4FFE-B552-6F455D2B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1678-988B-4F77-98C3-2F22149AC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Finished! The Messiah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ssiah d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t off fo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62 (Jn. 19: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omplishe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if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redee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veil is r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is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ddle w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ken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enter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guilt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be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,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is s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just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reign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ath is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ay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set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 hath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mortal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swallow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01Z</dcterms:modified>
  <cp:revision>43</cp:revision>
  <dc:subject/>
  <dc:title>PowerPoint Presentation</dc:title>
</cp:coreProperties>
</file>