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7C7-9D9C-4542-9354-26D14D81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9F3-FC66-40A7-B63F-82A05058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A4D-78CD-47E8-9090-B2768D84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572-5550-499F-AFC8-BF98A17F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FAB6-05BF-4CAF-BB8D-BCF18DAB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D0CF-B68E-425A-9E0B-6DB8CF49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B1C7-957E-463D-822D-6BF34D11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55BF-8BD3-4427-B0A6-54DC065E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02D1-A93F-4C3E-B71F-9DEFAB16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3002-7CDD-4293-97C4-6B4E4A71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5E89-AA5F-4319-AE65-CEB9219D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5A9-D8A8-43B0-818D-5CC2211D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E150-5DB0-4892-9108-669049C5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3DAD-BB2C-4AD4-9B42-D52F4289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902B-034A-47F9-A168-5827B583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E0BF-22A3-45C7-8B57-9AD91A89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FF39-5651-469B-B77D-6FE634B2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566-F8FD-42EA-86A5-936C9B3A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241-DFA7-4E2D-B949-57DADB57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D8C-9F28-4E99-A342-8E964B8A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03C-B05D-480B-A0E7-9A6BCD30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AEF-5145-4DD8-8361-EC031B9D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6E8-DAA6-4A9D-9523-13A509BD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ABB-5A57-497F-A4C6-C8208DE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88DF-325A-4D06-A65F-FFBE6E6A8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5D4E-8C56-4F92-BFF1-E300AEE19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y Word Is a La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00200"/>
            <a:ext cx="9144000" cy="475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4 Meadowgreen Music Co. / Bug and Bear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my Grant, 1984 (Ps. 119:10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thing will I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ng as you are ne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be nea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w I will not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 for me and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wande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be my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d me to your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will lo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22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I feel afr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 I’ve lost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you’re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 beside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thing will I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ng as you are ne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be nea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w I will not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 for me and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wande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be my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d me to your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will lo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y Word Is a La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371600"/>
            <a:ext cx="914400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unto my feet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nd a light unto my path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85800"/>
            <a:ext cx="914400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my Grant, 1984 (Ps. 119:10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1984 Meadowgreen Music Co. / Bug and Bear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I feel afr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 I’ve lost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you’re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 beside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9-08T18:28:31Z</dcterms:modified>
  <cp:revision>104</cp:revision>
  <dc:subject/>
  <dc:title>PowerPoint Presentation</dc:title>
</cp:coreProperties>
</file>