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6BEC-768D-4B89-9A5A-673D261E7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275A-715A-4A45-B463-5E1E66C15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E0DD-C4A3-49D5-9784-E836F1FD6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8800-8EF6-46FA-A148-B18BF3E02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D094-21EA-40D0-BF6A-45EACE1C5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9866-ABF2-4E2F-A822-1D7B18F41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2C5A-3AA6-4A76-81F1-CE888320E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E925-3DA5-4B7D-AC70-78CA49FE2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6EA2-E33D-4A9C-AFFE-79047313A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D4C8-EC6D-497E-A2C7-BF0D8CEA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BC66-7CD0-47CE-A2AB-AB824E56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814B-CCCC-4F10-99EC-5A9CB8EC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18925-D1B9-43E1-AE43-3240B7BA0E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ecause Thou Hast Sai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3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Because thou hast said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Do this for my sake,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ystical br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gladly partak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cause Thou Hast Sai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143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Charles Wesley, 174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thirst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flows from ab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ong to inhe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fullness of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’Tis here we look u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rasp at thy mi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’tis here that we hop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ne image to fi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cause Thou Hast Sai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eans of bestow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gifts we embra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all things are ow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Jesus’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8:44:00Z</dcterms:modified>
  <cp:revision>136</cp:revision>
  <dc:subject/>
  <dc:title>PowerPoint Presentation</dc:title>
</cp:coreProperties>
</file>