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E574-4483-4591-A63E-CB8A5573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9534-89DF-4B11-A0DA-602035AF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D874-0557-4B25-A928-8177DFEA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8DA6-B24F-4CC3-BFE5-1B93512A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F3A1-622B-47A8-984C-B80E37F3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298A-7602-41C3-9ECC-23D18D79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C8E3-2CC3-4203-B1BC-2012A4E5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DA1A-A1BB-4AAD-B60D-DE32BF2F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95C2-1FD5-4C84-9CD5-3B64BC08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93CF-641E-40D3-AD8F-679DC701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195F-F83D-4168-9FA5-B0955127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7B3B-3F6E-4EED-9C52-8E8A8431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E69D-1603-4F75-BD36-D2E971615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 of Faith, Come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Faith, Come Dow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6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Spirit of faith, come d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veal the things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ake to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odhead 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itness with the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s thine the blood to app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 us eyes to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id for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ner di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surely died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Faith, Come D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No one can truly s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Jesus 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less thou t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veil a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reath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ving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, only then, we fe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interest in his bl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ry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 unspeak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Thou art 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God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Faith, Come D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O tha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ld might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all-atoning Lamb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of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scend and s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virtue of his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ace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ay f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ving power, imp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stify to humank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eak in ever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Faith, Come D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nspire the living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which whosoe’er rece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itnes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mselves they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onsciously believe)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aith that conquers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o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untain 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ves whoe’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Jesus c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erfects them in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9:56:21Z</dcterms:modified>
  <cp:revision>87</cp:revision>
  <dc:subject/>
  <dc:title>PowerPoint Presentation</dc:title>
</cp:coreProperties>
</file>