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34E-4B25-482B-9DE1-E69B93BA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47C-2BAF-4742-8076-8D4B1778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05F-C39C-46A6-8768-DCB98935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EE5-58CA-42F1-80AC-70C6590C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47C-D660-4B11-94A5-6AFCB1AB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BC4-D4CE-4A93-8F9F-26D7DDDB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20A-3A46-4F48-8562-9A331251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B76-5223-4FFB-B500-1F8AC8DF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08AF-C2DE-4A9B-BB3F-53099AB0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FEE-F71E-4F4C-B8D0-C9B8FE75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BEB-5B5D-41A7-8913-2C0B9F09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22C-F5B5-43CD-B728-C1CAFE07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A575-9B56-4314-9443-2467BED72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ed with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’s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illed with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irit’s pow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one accor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infant chur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onfessed its risen L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the Spirit’s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1600200"/>
            <a:ext cx="440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n R. Peacey, 1969 (Acts 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hurch to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less your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fellowship disp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w with the m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us on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un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be our great des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the Spirit’s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joy and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faith to hear your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ad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ch to work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iden our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Spiri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mbrac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strong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ose of every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led with the Spirit’s Pow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ind and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ife among us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are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Christ’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ians pr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4:18Z</dcterms:modified>
  <cp:revision>10</cp:revision>
  <dc:subject/>
  <dc:title>PowerPoint Presentation</dc:title>
</cp:coreProperties>
</file>