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C19-DD6A-41B0-887D-DAFDEFB5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174-78B2-4C4A-A583-2ED8D00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D48-680B-4CF3-ACE0-335746D7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A78-3F6A-4861-869E-69526594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900F-D135-4A2C-9E0F-538180A1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A360-45B4-4D7E-AD82-0970829B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778D-2237-405A-898B-AB6C289F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7764-EE9A-4E48-8654-6321631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1F4D-2800-4D0E-A4A8-61DCB60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C7A6-B763-4C60-8EE8-0F62CF1F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D19-7CD9-43F5-A1EC-106A552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8AB-2735-4C28-B9D4-BC6A2519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9886-62CA-4810-AF9E-1352929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9CDD-08D9-4379-9882-5DE6E85B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2DBC-9963-4098-A945-7F666D12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2A2-7B01-41C5-813A-9D832CE4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451A-28D8-46FD-BCEC-E85E2CF2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5D7-AD63-42BB-B126-BB286622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BE4-20D2-40B8-8ADB-C52BBDC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E97-0F6E-4B2C-8769-E8A3B540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F68-2A35-4604-AEF8-515CA66B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C7C-57B9-4491-80F3-08D79AE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4DD-7829-489C-80F6-F0F1255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37E-6E65-4FDB-B349-D90D62A8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FCCD-5A1F-46A7-84AD-023AD21D1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120-2F0C-440D-8494-61B2455A6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018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neighbors we have from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60" y="609480"/>
            <a:ext cx="793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om Colvin, 1969 (Jn. 13:1-17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Kneel at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et of our frien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lently wash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47920"/>
            <a:ext cx="9144000" cy="484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5720" y="990720"/>
            <a:ext cx="49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om Colvin, 1969 (Jn. 13:1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Kneels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of his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lently was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 who ac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lave to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and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ck and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and far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se are th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ser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are th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se are neigh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ving put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as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l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93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Kneels at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et of his frien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lently washes their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ster who ac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a slave to th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Kneel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of 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lently was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6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ich and po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lack and whit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and far a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hese are the on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ser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se are the on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ov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se ar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us and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Loving puts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 our kne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rving as thoug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slav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8T23:39:06Z</dcterms:modified>
  <cp:revision>23</cp:revision>
  <dc:subject/>
  <dc:title>PowerPoint Presentation</dc:title>
</cp:coreProperties>
</file>