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190-8897-410E-9518-5238EA26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A9C-9ABB-4084-B4AF-EEE1ADB9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738-9A96-48A0-BB48-3F686ABB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1D1-F73F-4EC4-8408-A13145F5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8EA-5736-4F51-B2F4-69EDFBD1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6BB-B59C-4989-A9C9-74FA67C8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8DE-FFCA-42CA-9F86-D116CDD6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C6B-6DFA-4F3F-9B86-2B6199B1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9C4-C4A4-4E24-B2D1-85E3CFC4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455-61E1-42E1-8E70-FA808311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7C6B-6351-4BBC-AF8B-7F7E5E6D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685-4A83-4175-B695-C2EBC02A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38DE-DDF0-47E6-8858-62F80978F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 Sun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o  Oo 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Sun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come Sun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6, renewed G. Schirmer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4440" y="106668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uke Ellington, 19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dear Lord abov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believe that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sun and m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in the sk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n’t mind the gray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use they’re j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passing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9072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dear Lord abov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aven is a goodness 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righter light on high.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Do unto others as you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would have them do unto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ve a brigh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666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dear Lord abov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believ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ow, was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ways will b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’s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n make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9072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dear Lord abov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8:02Z</dcterms:modified>
  <cp:revision>59</cp:revision>
  <dc:subject/>
  <dc:title>PowerPoint Presentation</dc:title>
</cp:coreProperties>
</file>