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157C0-E19F-452F-A963-EFA8E7F95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26D56-B545-4880-A6D1-0EF8051EF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5E577-206C-4B55-A572-4EB655912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E2BBA-C04A-4D38-9BA7-ACD6C5F00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76E7C-E846-4B3D-A193-EEFC8C7A4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98DF3-C120-4102-8B3C-CEFE21AC8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8D13E-C53F-4A9B-BFB5-18F309F83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22DD4-F170-4D08-B671-FCAF7285D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87846-ECB4-4C72-90B0-644DE493C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9E5B2-4B52-430B-85A6-714FDE100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44EAC-BF15-46C1-9735-7FA229A56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1B3B0-3C46-4A1B-AAC7-58CC3FF8C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E734D-1B64-4536-BB3B-7A0D9B912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936E2-7A04-4347-90BD-5AA6D9AB1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07FF8-510E-4E6E-AABC-048735929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F3CE2-F528-450E-9491-98088238D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91345-0D82-443F-8C19-4B40ED6B6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3F615-9184-4888-972E-354AD78D2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86A83-CD85-4DF2-8CB8-1954F02FE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C2A01-C330-4323-8D22-D9DFF5252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A050C-75C6-4D7E-83A5-07B20689A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3B679-0A8E-41DE-832F-B9BE2DE88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90D25-2396-4791-841F-14AE7EDEF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38E9C-2198-4173-9E6F-08A61A14E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D62DC-4ED9-4E39-B77F-D02460C5C3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14533-4FCD-4F19-BCEB-13764A94D3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15228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Come, Thou Fount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of Every Bless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4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1752480"/>
            <a:ext cx="9144000" cy="3629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1. Come, thou Fount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of every blessing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tune my heart to sing thy grace;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 Thou Fount of Every Blessing 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799280" y="1371600"/>
            <a:ext cx="5540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WORDS: Robert Robinson, 1758 (1 Sam. 7:12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457200"/>
            <a:ext cx="9144000" cy="3629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Let thy goodness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like a fetter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bind my wandering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heart to thee.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4572000"/>
            <a:ext cx="9144000" cy="2286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533520"/>
            <a:ext cx="9144000" cy="3629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Prone to wander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Lord, I feel it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prone to leave the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God I love;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4572000"/>
            <a:ext cx="9144000" cy="2286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533520"/>
            <a:ext cx="9144000" cy="3629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here’s my heart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O take and seal it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seal it for thy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courts above.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4572000"/>
            <a:ext cx="9144000" cy="2286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Come, Thou Fount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of Every Bless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4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25146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Come, thou Foun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every bless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une my hear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sing thy grac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 Thou Fount of Every Blessing 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799280" y="1600200"/>
            <a:ext cx="5540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WORDS: Robert Robinson, 1758 (1 Sam. 7:12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treams of merc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ever ceas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all for songs of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udest prais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each me so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elodious sonne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ung by flam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ngues abo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raise the mount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’m fixed upon i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ount of th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edeeming lo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Here I rais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ine Ebenezer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ither by th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lp I’m com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 Thou Fount of Every Blessing 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I hope, b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good pleasur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afely t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rrive at ho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esus sought 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n a strang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andering from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ld of God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762120"/>
            <a:ext cx="9144000" cy="3629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streams of mercy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never ceasing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call for songs of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loudest praise.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4572000"/>
            <a:ext cx="9144000" cy="2286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, to rescu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e from dang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terposed hi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recious bloo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O to grac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w great a debto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aily I’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nstrained to b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 Thou Fount of Every Blessing 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thy goodnes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ike a fett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ind my wander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art to the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rone to wand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rd, I feel i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rone to leave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 I lov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re’s my hear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take and seal i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eal it for th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urts abo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0" y="15228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Come, Thou Fount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of Every Bless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4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1981080"/>
            <a:ext cx="9144000" cy="2151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1. Come, thou Fount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of every blessing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tune my heart to sing thy grace;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 Thou Fount of Every Blessing 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799280" y="1371600"/>
            <a:ext cx="5540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WORDS: Robert Robinson, 1758 (1 Sam. 7:12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4572000"/>
            <a:ext cx="9144000" cy="2286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0" y="7621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treams of merc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ever ceas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all for songs of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udest prais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4572000"/>
            <a:ext cx="9144000" cy="2286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0" y="7621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each me so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elodious sonne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ung by flam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ngues abo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4572000"/>
            <a:ext cx="9144000" cy="2286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0" y="7621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raise the mount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’m fixed upon i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ount of th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edeeming lo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4572000"/>
            <a:ext cx="9144000" cy="2286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97488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Here I raise                        mine Ebenezer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ither by thy help I’m come; 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 Thou Fount of Every Blessing 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4572000"/>
            <a:ext cx="9144000" cy="2286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762120"/>
            <a:ext cx="9144000" cy="3629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Teach me some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melodious sonnet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sung by flaming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tongues above.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0" y="4572000"/>
            <a:ext cx="9144000" cy="2286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0" y="9144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I hope, b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good pleasur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afely t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rrive at ho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4572000"/>
            <a:ext cx="9144000" cy="2286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9907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esus sought 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n a strang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andering from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ld of God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4572000"/>
            <a:ext cx="9144000" cy="2286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0" y="8222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, to rescu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e from dang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terposed hi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recious bloo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4572000"/>
            <a:ext cx="9144000" cy="2286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9144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O to grac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w great a debto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aily I’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nstrained to b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 Thou Fount of Every Blessing 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0" y="4572000"/>
            <a:ext cx="9144000" cy="2286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0" y="9144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thy goodnes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ike a fett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ind my wander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art to the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4572000"/>
            <a:ext cx="9144000" cy="2286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9144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rone to wand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rd, I feel i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rone to leave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 I lov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4572000"/>
            <a:ext cx="9144000" cy="2286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0" y="8380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re’s my hear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take and seal i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eal it for th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urts abo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4572000"/>
            <a:ext cx="9144000" cy="2286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762120"/>
            <a:ext cx="9144000" cy="3629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Praise the mount!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I’m fixed upon it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mount of thy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redeeming love.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4572000"/>
            <a:ext cx="9144000" cy="2286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685800"/>
            <a:ext cx="9144000" cy="3629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2. Here I raise                        mine Ebenezer;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hither by thy help I’m come;  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 Thou Fount of Every Blessing 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4572000"/>
            <a:ext cx="9144000" cy="2286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533520"/>
            <a:ext cx="9144000" cy="3629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and I hope, by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thy good pleasure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safely to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arrive at home.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0" y="4572000"/>
            <a:ext cx="9144000" cy="2286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457200"/>
            <a:ext cx="9144000" cy="3629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Jesus sought me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when a stranger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wandering from the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fold of God;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4572000"/>
            <a:ext cx="9144000" cy="2286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0" y="457200"/>
            <a:ext cx="9144000" cy="3629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he, to rescue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me from danger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interposed his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precious blood.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4572000"/>
            <a:ext cx="9144000" cy="2286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380880"/>
            <a:ext cx="9144000" cy="3629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3. O to grace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how great a debtor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daily I’m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constrained to be!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 Thou Fount of Every Blessing 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4572000"/>
            <a:ext cx="9144000" cy="2286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n</cp:lastModifiedBy>
  <dcterms:modified xsi:type="dcterms:W3CDTF">2011-03-25T01:36:37Z</dcterms:modified>
  <cp:revision>24</cp:revision>
  <dc:subject/>
  <dc:title>PowerPoint Presentation</dc:title>
</cp:coreProperties>
</file>