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77F-A4CC-4234-9AA6-1EB90057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3F5-9EA9-47FE-9BBD-E1866A57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BB9-C307-49FE-8D23-A876DE16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2E6-2A5C-483E-8288-2C29D3B0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2A1-54AC-4ADA-BD07-0EEF9F66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EBA-AF35-4A41-A11E-FFBB2BFD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685-7B54-40DD-8106-DEFC3A05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EE5-8978-4178-AFAB-08DE6A5D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121-9B83-4603-BC56-2E2F92A4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5DD-F275-49D3-BE67-69004DC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A43-41CE-4EB9-A255-2422F24F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3F5-298A-455C-9887-48B1AF58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1E95-345C-4928-BB97-573A14B7D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ladsom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ladsome light, O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Creator’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ternal splendor wea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8720" y="1143000"/>
            <a:ext cx="62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cient Greek hymn; trans. by Robert S. Bridges, 18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, holy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 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in your appea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fades the day’s last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the lamp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m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 outpou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of might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, the incarnat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irit blest ado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016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of right bel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of holy so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on of God, lifeg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, theref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ost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does glorif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exalt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7:08Z</dcterms:modified>
  <cp:revision>23</cp:revision>
  <dc:subject/>
  <dc:title>PowerPoint Presentation</dc:title>
</cp:coreProperties>
</file>