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00B-E384-4F06-9332-5B22E667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034-E441-4F46-BA64-B1D7B6C3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360F-260B-49F4-A15C-E7D2D1D6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496-26F9-4A00-B0CA-DB2188A7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4F5D-C793-4EFB-80BD-FD27AB83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DAAF-C1FE-4224-AC2E-D75FCD3A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902E-634A-456C-93A4-FEE96F3B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778F-B849-455A-A87A-07CB0E90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A194-C0E3-4200-94C9-44D86F8C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8940-6975-4AB4-AF03-02C5181E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F1B8-7FB0-405D-9DB7-E1597974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1EB-6F32-42E3-8CBC-5D094664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3FDA-FAB3-4838-9C24-F789FA50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8D46-30A3-4A71-923D-64352702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718A-9FEE-4210-BB07-CA3964A3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5206-5AB4-4CAE-9E4E-3308E089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62BC-B06B-4C54-B0EE-4A316B09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EE1-FE15-47FB-9847-B5AFE446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E74-23BA-4376-AA52-295447F4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5D4-33B8-4046-B785-E883E19B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550-CA5A-404D-A514-E6D1CCF7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DD3-C85D-42FA-9BB3-A3A02D70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0E5-449B-4466-B152-FA7C4C9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442-9DCF-4451-820B-7C9B6AD7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9439-6B06-468C-88FE-DB4277AAB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B4BA-E5E9-4FB1-992F-2CDE5B52C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uide Me, O Thou Great Jehov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02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Guide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 thou great Jehova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ilgrim through th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arren lan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3640" y="838080"/>
            <a:ext cx="5792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William Williams, 1745; trans. from the Welsh </a:t>
            </a:r>
            <a:br>
              <a:rPr sz="1900"/>
            </a:b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by Peter Williams and the author, 177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16040"/>
            <a:ext cx="9144000" cy="55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no more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want no mo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Open 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rystal fount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ce the hea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am doth flow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udy pill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urney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16040"/>
            <a:ext cx="9144000" cy="55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delive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delive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rength and shield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trength and shield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sti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I t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erge of Jord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d my anx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s sub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l’s destru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me sa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anaan’s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16040"/>
            <a:ext cx="9144000" cy="55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thee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give to thee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uide Me, O Thou Great Jehov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60020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Guide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thou great Jehova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lgrim through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rren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3640" y="838080"/>
            <a:ext cx="5792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William Williams, 1745; trans. from the Welsh </a:t>
            </a:r>
            <a:br>
              <a:rPr sz="1900"/>
            </a:b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by Peter Williams and the author, 177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weak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ou art migh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owerful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52280"/>
            <a:ext cx="9144000" cy="47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 want no more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want no mo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1456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am weak, 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t thou art might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ld me wi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powerful han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55760"/>
            <a:ext cx="9144000" cy="496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Open now the crystal fount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ce the hea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am doth flow;            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fire and cloudy pill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all my journey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5120"/>
            <a:ext cx="91440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ong deliverer, strong deliver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thou st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trength and shield;</a:t>
            </a:r>
            <a:br>
              <a:rPr sz="48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trength and shield)</a:t>
            </a:r>
            <a:br>
              <a:rPr sz="5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thou still 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52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When I tre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verge of Jorda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id my anxious fears subside; death of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ll’s destruc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nd me safe on Canaan’s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77800"/>
            <a:ext cx="9144000" cy="40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 give to thee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give to thee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 giv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4120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eed me till I want no more;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(want no more)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nt no mor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Open now the crystal fountai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ce the heal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ream doth flow;                         let the fire and cloudy pilla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ad me all my journey throu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280"/>
            <a:ext cx="9144000" cy="59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rong deliverer, strong deliver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thou still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y strength and shield;</a:t>
            </a:r>
            <a:br>
              <a:rPr sz="5400"/>
            </a:b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rength and shield)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thou still m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When I trea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verge of Jorda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id my anxious fears subside; death of deat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hell’s destruc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nd me safe on Canaan’s s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780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ill ever give to thee;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(give to thee)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ill ever give to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uide Me, O Thou Great Jehov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438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Guide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thou great Jehova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lgrim through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rren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3640" y="1143000"/>
            <a:ext cx="5792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William Williams, 1745; trans. from the Welsh </a:t>
            </a:r>
            <a:br>
              <a:rPr sz="1900"/>
            </a:b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by Peter Williams and the author, 177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weak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ou art migh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owerful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9-04T13:30:45Z</dcterms:modified>
  <cp:revision>45</cp:revision>
  <dc:subject/>
  <dc:title>PowerPoint Presentation</dc:title>
</cp:coreProperties>
</file>