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3AD-DE9C-4967-9716-5A363795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2BE-AF0B-4FFA-B61B-3A5EEFCD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AED-A085-49DB-B222-190F5784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1C7-E58A-4B92-9690-27C26D24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839-C968-4837-83E2-B78E117E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9E9-8E82-48AA-BDB0-1B963D35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3B5-FD92-4412-8DBB-620FEAC3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44F-53A6-4BC3-98AD-8CC92697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6A2-D350-44A6-A060-46D9A0DE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E7A-013E-49F7-890D-4CF305A3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6F2-4600-478D-AE32-3C351860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A3C-CAEA-4E1C-A21E-1B5F6DDE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89D5-CC0A-4339-90F3-9F3BDFB3C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k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Seek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now is prese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y to One who is at han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ease from sin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ildoers change their mi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81520" y="914400"/>
            <a:ext cx="49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86 (Is. 55:6-11)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sinful God has pi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retu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forg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sa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world that dis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“Judge m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human standard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the vault of heaven so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gh above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th, so hig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my thoughts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ys than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ow rai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ow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earth blos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r fru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you, before retu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d for s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to ea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“So my w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turns not fruitl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es not from i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bors cea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ll it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hieved my purp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world of joy and peac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lose the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at vi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spel w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saiah’s inspi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hea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4:18Z</dcterms:modified>
  <cp:revision>40</cp:revision>
  <dc:subject/>
  <dc:title>PowerPoint Presentation</dc:title>
</cp:coreProperties>
</file>