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023F-E774-4434-B926-D9B8184FD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2BFA-83FD-4336-BB82-52E377130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0F23-2EDB-43D8-8957-4FF26B8FC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E2F5-2551-48DB-93D1-0D96575AB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46E28-336D-45EA-A7C3-C076117E9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57554-2238-4555-A555-C6123ED54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3B75F-53DD-4A25-937B-5A7B90D64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33D9E-505E-4BF2-A4AB-416266819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C738C-3C80-4DF7-8FC0-5FB9B75EB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DB234-C473-4EA2-84AF-92226D46C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5ADBB-53C9-48DD-A462-8C4F1A94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F84D-F543-49B4-A0E1-073E12132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86F1D-869E-449A-A9EF-DCBBE709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8A33D-92EC-4291-9E85-1B830095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1A755-08CA-4340-8173-A1319C243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D28EA-D336-494C-8B35-5030F78F1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8E3DD-C8DF-4153-BB29-4C459FF7E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65BB-2A04-46DA-B3E9-4A12394B4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AE3D-DF71-4ABF-A1CD-D690F8D04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0F20-3842-4916-B205-705057D89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1168-33A5-48DB-A7C3-0EBDF7C32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60FA-7C3F-455C-B767-78763669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6948-E546-4F9A-8B7B-624BBCD2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D7C0-8FBE-47AE-A600-BF6628DA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9977F-1AE3-4638-AFDC-3D22876AF4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C7A81-E9D7-476C-8B12-F59F823247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esus, Savior, Pilot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0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239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Jesus,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ilot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ver life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mpestuous sea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Savior, Pilot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0666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Edward Hopper, 1871 (Mt. 8:23-27; Mk. 4:35-41; Lk. 8:22-2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esus, Savior, Pilot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0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6765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Jesus,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ilot me over life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mpestuous sea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Savior, Pilot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0666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Edward Hopper, 1871 (Mt. 8:23-27; Mk. 4:35-41; Lk. 8:22-2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457200"/>
            <a:ext cx="9144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unknown waves before me roll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iding rock and treacherous shoal. Chart and compas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came from thee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Jesus, Savior, pilot m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89856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As a mo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s her chi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canst hus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ocean wil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Savior, Pilot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oisterous waves obey thy will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en thou sayest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o them, “Be still!”             Wondrous sovereign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f the sea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Jesus, Savior, pilot m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hen at la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near the sho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fearf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eakers roar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Savior, Pilot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533520"/>
            <a:ext cx="9144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wixt me and the peaceful res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n, while leaning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n thy breast,                                may I hear thee say to m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“Fear not, I will pilot thee.”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known wav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fore me ro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ding rock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eacherous shoa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art and compa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me from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, Savior, pilot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As a mo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s her chi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canst hus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ocean wil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Savior, Pilot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isterous wav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bey thy wi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hou say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m, “Be still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ndrous sovereig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se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, Savior, pilot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hen at la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near the sho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fearf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eakers roar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Savior, Pilot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wixt me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eaceful r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, while lea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y breas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I hear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y to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Fear not, 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ll pilot thee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06-21T23:54:07Z</dcterms:modified>
  <cp:revision>43</cp:revision>
  <dc:subject/>
  <dc:title>PowerPoint Presentation</dc:title>
</cp:coreProperties>
</file>