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F191-FD14-4A8E-8374-C6C4AC336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EEEE-718E-4638-ADC3-A093F4BB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0DC3-7C07-40B2-93D0-83110F88B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C523-54A4-4BF3-A3A8-5DF2D4B6C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78F4-1197-477A-A039-A2325D604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B844-4540-4D90-84A5-6B63BDC2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6D23-CC30-4442-9A66-B89BCCBB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4B24-26B6-45EC-BFDD-CEE1CF21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A3D8-0432-45C6-92B8-8DBDDDF7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29D1-6B80-437E-8FC1-E10A1A1C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1639-8E44-41C5-9E17-765A12E5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8530-EDC9-4FEF-8623-F8369EAD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AE0E-5224-4AA6-819A-7A7D8D1B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C310-6FFA-4DEF-816C-C4E5C8E0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5B45-0E52-4DFB-BCD3-8BAD3442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FE31-F075-4AC7-912A-1C764FB0C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742C-414D-407F-97BC-7F51334E5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94F1-7940-4C3B-AE97-5EC62FC9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8A98-BF55-4015-AC45-0CF365EA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66E3-738D-41F1-AF7B-8EAEFF08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167E-C64D-4EFD-B79A-3AFC6006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C323-A650-4FA6-9873-751376C1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22AA-8184-4C00-B7F0-E8576A77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A0EC-DD9B-451C-AA3E-1B24C549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B85F-403D-435F-ADC3-7BB0412E7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42C5-430B-459B-BD4D-7D9445CB1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the Garden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I Come to the Garden Al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440" y="152388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. Austin Miles, 1913 (Jn. 20:11-1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9810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1. I come to the garden alon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the dew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s still on the roses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19920"/>
            <a:ext cx="9144000" cy="834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52280"/>
            <a:ext cx="914400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he walks with m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he talks with m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he tells me I am his own; and the joy we shar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 we tarry ther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ne other has ever know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5029200"/>
            <a:ext cx="9144000" cy="182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3808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He speaks, and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und of his voic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 so sweet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irds hush their sing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the melody that he gave to m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in my heart is ring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029200"/>
            <a:ext cx="9144000" cy="182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52280"/>
            <a:ext cx="914400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he walks with m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he talks with m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he tells me I am his own; and the joy we shar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 we tarry ther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ne other has ever know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5029200"/>
            <a:ext cx="9144000" cy="182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5335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I’d stay in the garden with him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ough the nigh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ound me be falling,                      but he bids me go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rough the voice of wo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 voice to me is call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5029200"/>
            <a:ext cx="9144000" cy="182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52280"/>
            <a:ext cx="914400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he walks with m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he talks with m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he tells me I am his own; and the joy we shar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 we tarry ther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ne other has ever know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5029200"/>
            <a:ext cx="9144000" cy="182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the Garden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I Come to the Garden Al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440" y="152388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. Austin Miles, 1913 (Jn. 20:11-1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I come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arden al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the de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still on the rose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voice I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lling on my 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on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disclos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066680"/>
            <a:ext cx="914400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walks wi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talks wi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tell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his 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joy we sh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tarry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ne 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ever 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e speaks, and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nd of his vo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so swee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irds hush their sing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7944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the voice I hea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alling on my ea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Son of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God disclose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943600"/>
            <a:ext cx="9144000" cy="911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mel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e gave to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 is ring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1143000"/>
            <a:ext cx="914400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walks wi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talks wi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tell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his 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joy we sh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tarry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ne 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ever 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’d stay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rden with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 the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ound me be fall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he bids me go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voice of wo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vo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e is call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1219320"/>
            <a:ext cx="914400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walks wi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talks wi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tell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his 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joy we sh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tarry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ne 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ever 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52280"/>
            <a:ext cx="9144000" cy="58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And he walks with me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and he talks with me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and he tells me I am his own; and the joy we share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as we tarry there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none other has ever known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019920"/>
            <a:ext cx="9144000" cy="834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52280"/>
            <a:ext cx="9144000" cy="59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2. He speaks, and the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sound of his voice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is so sweet the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birds hush their singing 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and the melody that he gave to me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within my heart is ringing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095880"/>
            <a:ext cx="9144000" cy="75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52280"/>
            <a:ext cx="9144000" cy="57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And he walks with me,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and he talks with me,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and he tells me I am his own; and the joy we share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as we tarry there,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none other has ever known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095880"/>
            <a:ext cx="9144000" cy="75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5228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. I’d stay in the garden with him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ough the nigh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round me be falling,                      but he bids me go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rough the voice of wo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his voice to me is calling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019920"/>
            <a:ext cx="9144000" cy="834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52280"/>
            <a:ext cx="9144000" cy="57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And he walks with me,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and he talks with me,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and he tells me I am his own; and the joy we share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as we tarry there,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none other has ever known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6019920"/>
            <a:ext cx="9144000" cy="834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the Garden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I Come to the Garden Al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440" y="152388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. Austin Miles, 1913 (Jn. 20:11-1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2860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I come to the garden al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the de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still on the rose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029200"/>
            <a:ext cx="9144000" cy="182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voice I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lling on my 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on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disclos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029200"/>
            <a:ext cx="9144000" cy="182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6-12T22:48:38Z</dcterms:modified>
  <cp:revision>73</cp:revision>
  <dc:subject/>
  <dc:title>PowerPoint Presentation</dc:title>
</cp:coreProperties>
</file>