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6C6-DC6A-4038-8C84-E979C790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325-AC35-4314-860B-E28BDB62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2AD-794E-4882-B75D-6434D944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6BA-431C-4290-9123-2A5A2BBD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40A-5E4F-4360-9FAC-AA4B7344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C23-DCF4-4CB9-A933-19169F26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7FD-CF7E-4D24-B9B2-08E244E9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330-78D8-4F40-9A79-1FD9C029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F21-BF0C-4B60-8DA3-753836A1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509-29DA-4693-8FA0-E468481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5F5-56F3-48D8-AD28-F5966BF5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8E0-BF18-4C7F-BD5F-D9108E92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B640-FD21-4BA5-8CEF-964F11262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Shall They Hea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ord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 Perry, 1982 (Rom. 10:14-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less the truth is tol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sinful be set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rrowful conso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who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art your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y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for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less they have believ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p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iven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isoner repriev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ose who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ind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gosp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oclai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inners may repen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peace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heralds are not se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end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ak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ife 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9:15Z</dcterms:modified>
  <cp:revision>151</cp:revision>
  <dc:subject/>
  <dc:title>PowerPoint Presentation</dc:title>
</cp:coreProperties>
</file>