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CD7-6426-4D5D-B5A4-354072FE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002-FE28-4F5B-90CF-ABA1370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408-B075-4798-A911-CBF060CA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412-5EE2-4337-A8B5-BE3FF3F6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0B2-6899-441A-8E44-286D9EA4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69BE-329F-47E4-BA7C-6AC0BFE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0736-17B8-4708-BD14-8D82979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20EF-FD16-4181-B13B-7B580DF6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6C5-B1BD-4C21-BAB9-29DB852A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4A9-22B8-4E17-A4E2-00517ED5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AD2-EA96-4E1E-922E-03DDD55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BE6-289D-4A51-BACE-6FB2A9F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E4A-1021-4606-A2AF-A7A0596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F91-39AC-483C-90E1-0F5A16B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589A-036E-40A1-BE16-7D855A67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789F-2ABF-42D5-A9B9-7DC117AD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AEE0-2073-4E5B-B020-9C3999E7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56C-49ED-4510-ADA2-A0C468C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D8F-A904-4478-87ED-149BB42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42D-556B-4945-B9FC-86DF7C74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D46-9C02-49BA-B12A-2F7224F7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DA2-7BFE-4AC2-A29F-A4B43B3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269-47B1-481F-BB9E-25939B7E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872-C68C-40FB-B639-49111ED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4CF-79EA-4E26-9925-58FF5E102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DDAC-B5A8-4D8B-8544-2B6F5256A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bine Baring-Gould, 186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nward, Christian soldie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Sabine Baring-Gould, 1864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808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9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23T14:15:25Z</dcterms:modified>
  <cp:revision>81</cp:revision>
  <dc:subject/>
  <dc:title>PowerPoint Presentation</dc:title>
</cp:coreProperties>
</file>