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569-5A9E-4988-99E4-79B492C8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6EC-46D9-46A1-AA7E-61C74447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771-EB52-4BDE-BEF4-35F1D590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1CE-6CE3-40DF-A7FF-FC892AD0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B9A-44C2-495A-8DBC-B338069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023-4C6B-4163-8DEA-7939FFD4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025-A880-45DD-8536-C10A4895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78E-CE46-46FE-99D2-B06D110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BC1-FFE2-471C-85F4-35F9B1C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BFC-9CCD-4EC8-A04F-BA81314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943-2F31-40AB-8AF6-A1D8D66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60B-2F1D-46BC-8D57-DDB9C1B9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D41-DF77-40A7-A097-89E140752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Renewal of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new your church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eople in this lan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cheap wo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lf-decep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y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John de Gru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newal of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48920" y="990720"/>
            <a:ext cx="28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outh Afric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ower of your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nsform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hap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16Z</dcterms:modified>
  <cp:revision>14</cp:revision>
  <dc:subject/>
  <dc:title>PowerPoint Presentation</dc:title>
</cp:coreProperties>
</file>