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4013-188E-4398-8A7E-0D941D8E9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78CB-1ABC-452B-B76F-F2975863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5D14-EC7F-4772-ACA5-BAB64FD3F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2836-B7EC-464E-A9BF-658E163B7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9449-46EC-4FD0-BE2A-9ED910B0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BE0C-42FF-47F7-80C9-DEF7E921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6BEA-42FF-4BF0-9D51-C91CA74D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B0E4-673D-4D20-A6D7-32ACE4F5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742A-61A5-4F9E-BD66-0282AFD9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06CC-99A3-45BD-B417-54AFE936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7821-073E-4172-B0FB-F6A67D3E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F6AD-4193-4136-8C3A-08951ACD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E15E-5BF1-4C40-84F2-B76B01712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For a Heart to Praise My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For a Heart to Praise My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42 (Ps. 51: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75248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. O for a hear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o praise my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 heart from sin set fre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 heart that alway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feels thy blo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so freely shed for 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For a Heart to Praise My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9907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A heart resign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bmissive, mee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great Redeemer’s thr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only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heard to spea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Jesus reigns a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For a Heart to Praise My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A humble, low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ntrite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lieving, true, and cle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ch neither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r death can p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Christ who dwells with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For a Heart to Praise My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A heart in ev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t renew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full of love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erfect and 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pure and g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copy, Lord, of th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For a Heart to Praise My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Thy nat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acious Lord, imp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quickly from ab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rite thy new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pon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new, best name of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04:33Z</dcterms:modified>
  <cp:revision>141</cp:revision>
  <dc:subject/>
  <dc:title>PowerPoint Presentation</dc:title>
</cp:coreProperties>
</file>