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FF9-39CC-4C70-B673-C602C5BF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F56-ACBE-4E3E-BE15-79D6DA0F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E4F-22C3-4774-BEBC-FE249E06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BD6-DC94-4E65-B2F6-64671876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B65-7258-439A-82C1-75D22C3A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A47-0E75-4559-971D-64392604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073-C447-4CFB-A01E-F9DC165F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14C8-A5ED-405F-866B-BE657CAC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A57-1CFC-4D3B-A5A9-0FB87708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FEB-BBAF-4AB8-B01E-34838537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7C5-8260-44BB-824B-FAE21C2A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816-D1CD-4AE3-94A1-CA0258D5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BC80-F8FB-4D97-9EA6-21328DD31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Is 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47920"/>
            <a:ext cx="8839080" cy="508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s someone here moving  towar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he twilight of life and fearful of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that which we call deat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y be afraid? God is a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© 1963 Martin Luther King, J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5560" y="914400"/>
            <a:ext cx="441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artin Luther King, Jr., USA, 20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173240"/>
            <a:ext cx="849636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s someone here on the brink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of despair because of the deat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f a loved one, the breaking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of a marriage, or th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 waywardness of a child?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981080"/>
            <a:ext cx="87631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y despair? God is able t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give us the power to endu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that which cannot be chang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608040"/>
            <a:ext cx="876312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Is someone here anxi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because of bad health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Why be anxious? Come what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y, God is a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All: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rely God is a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3T14:53:19Z</dcterms:modified>
  <cp:revision>22</cp:revision>
  <dc:subject/>
  <dc:title>PowerPoint Presentation</dc:title>
</cp:coreProperties>
</file>