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FC7-5316-47F9-BF07-C54640B8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F11-60CD-403A-9BA9-299C13F2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D70-D967-48B9-A840-92EC95DB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D40-225C-4FE0-A18E-712810F3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E74-6B1D-4A88-A116-FC58BDD5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9CF-9277-423B-9518-7B5F6B3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2B2-AA65-4EE3-ADF5-313E5A04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BD3-2B6D-40BC-986E-7DAA4CE8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301-CC56-44D0-A785-EBEF54B1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F2C-5844-4EA4-B610-88338E4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841-33F1-4455-822A-3FED68F1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616-1292-4354-B6CA-EA7EB815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2E48-8C1C-4216-BA46-CBE2AE33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llelujah! What a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an of Sorro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Son of God, who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ined sinners to recla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7040" y="1066680"/>
            <a:ext cx="419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5 (Is. 5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aring sh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ffing ru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he st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led b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blo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uilty, vi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less w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otless Lamb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as h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tonement can it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ifted up was he to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t is finished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his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alted hig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en h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is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e to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ane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g we’ll s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09Z</dcterms:modified>
  <cp:revision>26</cp:revision>
  <dc:subject/>
  <dc:title>PowerPoint Presentation</dc:title>
</cp:coreProperties>
</file>