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3B3A4-48E1-4F0D-9B83-036EB058F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B45E9-E2AE-4F30-B698-E54E9D812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5E282-ECE2-407A-865F-9ECF172A7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BC52A-764F-4B29-B58C-73711A2C9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C04E9-11B7-4C64-AEC9-B7BEA74C4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3127B-5DA0-4DB8-9519-020E11125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0B57F-5BDB-4939-93A3-A1F3ED859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B0BE0-E190-4808-AB8E-25051B19C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9F8C1-367F-4351-A5FE-183263548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42D29-1CEA-4DA3-B3F9-B59F33578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77FBC-AC81-4AC1-9CAD-D99C63689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FA9BA-06CB-4499-8286-BACE23945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DE60F-9013-4347-ACA1-EEE8BC7A37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914400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When We Are Liv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(Pues Si Vivimo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5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We Are Living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2952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St. 1, anon., trans. by Elise S. Eslinger, 1983; sts. 2, 3, 4</a:t>
            </a:r>
            <a:br>
              <a:rPr sz="1800"/>
            </a:b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Roberto Escamilla, 1983, trans. by George Lockwood</a:t>
            </a:r>
            <a:r>
              <a:rPr b="0" lang="en-U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, 1987 (Rom. 14:8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6491160"/>
            <a:ext cx="91440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Trans. © 1989 The United Methodist Publishing Ho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1981080"/>
            <a:ext cx="9144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1. When we are living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it is in Christ Jesus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and when we’re dying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it is in the Lord.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Both in our livin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and in our dying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ues Si Vivimos(Estribillo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0" y="2049480"/>
            <a:ext cx="9144000" cy="853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1905120"/>
            <a:ext cx="91440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  <a:ea typeface="Arial"/>
              </a:rPr>
              <a:t>Estribill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omos del Seño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omos del Seño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ues Si Vivimos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0" y="1096920"/>
            <a:ext cx="9144000" cy="85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828440" y="1295280"/>
            <a:ext cx="560016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En esta vida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rutos hemos dedar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a obras buena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on para ofrendar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a sea que demo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 que recibamos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ues Si Vivimos (Estribillo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049480"/>
            <a:ext cx="9144000" cy="853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1905120"/>
            <a:ext cx="91440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  <a:ea typeface="Arial"/>
              </a:rPr>
              <a:t>Estribill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omos del Seño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omos del Seño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ues Si Vivimos 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0" y="1096920"/>
            <a:ext cx="9144000" cy="85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9907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En la tristez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 en el dolo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n la bellez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 en el amo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ea que suframo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 que gocemos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ues Si Vivimos (Estribillo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2049480"/>
            <a:ext cx="9144000" cy="853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1752480"/>
            <a:ext cx="91440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  <a:ea typeface="Arial"/>
              </a:rPr>
              <a:t>Estribill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omos del Seño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omos del Seño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ues Si Vivimos 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1096920"/>
            <a:ext cx="9144000" cy="85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0" y="129528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4. En este mundo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mos de encontra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ente que llor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 sin consolar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ea que ayudemo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 que alimentemos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ues Si Vivimos (Estribillo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1287360"/>
            <a:ext cx="9144000" cy="85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990720"/>
            <a:ext cx="9144000" cy="50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  <a:ea typeface="Arial"/>
              </a:rPr>
              <a:t>Estribill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omos del Seño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omos del Seño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  <a:ea typeface="Arial"/>
              </a:rPr>
              <a:t>Co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omos del Seño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omos del Seño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479840" y="2589120"/>
            <a:ext cx="1843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752480"/>
            <a:ext cx="91440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e belong to G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e belong to G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-1371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We Are Living (Refrai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We Are Living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2049480"/>
            <a:ext cx="9144000" cy="853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062360" y="1371600"/>
            <a:ext cx="700056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Through all our liv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e our fruits must give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ood works of servi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re for offering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en we are giv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r when receiving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We Are Living (Refrai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1096920"/>
            <a:ext cx="9144000" cy="85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828800"/>
            <a:ext cx="91440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e belong to G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e belong to G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We Are Living 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2049480"/>
            <a:ext cx="9144000" cy="853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294920" y="1447920"/>
            <a:ext cx="651744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’Mid times of sorrow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in times of pai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en sensing beaut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r in love’s embra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ether we suff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r sing rejoicing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We Are Living (Refrai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1096920"/>
            <a:ext cx="9144000" cy="85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1752480"/>
            <a:ext cx="91440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e belong to G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e belong to G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We Are Living 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2049480"/>
            <a:ext cx="9144000" cy="853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997200" y="1295280"/>
            <a:ext cx="713484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4. Across this wide worl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e shall always fi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ose who are cry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ith no peace of min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ut when we help the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r when we feed them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We Are Living 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096920"/>
            <a:ext cx="9144000" cy="85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0" y="914400"/>
            <a:ext cx="9144000" cy="50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e belong to G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e belong to G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  <a:ea typeface="Arial"/>
              </a:rPr>
              <a:t>Co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e belong to G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e belong to G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ues Si Vivimos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1096920"/>
            <a:ext cx="9144000" cy="85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1600200"/>
            <a:ext cx="9144000" cy="38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  <a:ea typeface="Arial"/>
              </a:rPr>
              <a:t>1. Pues si vivimos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  <a:ea typeface="Arial"/>
              </a:rPr>
              <a:t>para Él vivimos y si morimos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  <a:ea typeface="Arial"/>
              </a:rPr>
              <a:t> para Él morimos.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  <a:ea typeface="Arial"/>
              </a:rPr>
              <a:t>Sea que vivamos, 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  <a:ea typeface="Arial"/>
              </a:rPr>
              <a:t>o que muramos.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20:30:14Z</dcterms:modified>
  <cp:revision>114</cp:revision>
  <dc:subject/>
  <dc:title>PowerPoint Presentation</dc:title>
</cp:coreProperties>
</file>