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A12-10F9-4F39-B94C-FBDCD1DF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DAA-FF8B-4B1B-9DD8-F0643993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0E7-5ABD-4F69-960F-4E1D0CBD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662-F822-484F-918F-70D8BB85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DE6-9FB1-43EE-8435-EBD99DC4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8BA-2A7C-41D1-8AF7-124F85F8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F79-71F1-47C3-B63F-257A5168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A2D-4387-4D31-B802-5941CB2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2F7-5E93-4D02-8F99-D418D1CC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FDA-945E-4642-8E24-BD7E28F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2E7-11FF-47A3-B74F-7198089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C64-FCEA-4D7A-9287-28F797DE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E8D2-5845-46AE-8134-63F5BB53D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Can We Sinners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can we sinners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s on earth forgive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my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show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nscribed in heave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8520" y="10666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e have felt and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nfidence we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gns infalli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who in Christ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for us hath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his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rece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his blood appl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by his Spirit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the thing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ings which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on us best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meek and lowl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Savior w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that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ns us with his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ur nature’s tur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formed in all its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es are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of God with 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0:30Z</dcterms:modified>
  <cp:revision>23</cp:revision>
  <dc:subject/>
  <dc:title>PowerPoint Presentation</dc:title>
</cp:coreProperties>
</file>