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31C-A3AB-4B31-8EEB-EFD8D1AD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2C3-E66D-44AA-A0DB-435CBAAA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C22-71AB-441C-BA01-F546F8D7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ECD-BDF0-4236-82BE-C41F2551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869-4A0D-4341-B1E1-CEC2352B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562-9731-402F-9A20-1EDCD78B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A355-EE96-48E6-9097-B1EBAB9A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1A8-5A35-4CC1-96F0-4BE2E40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AB4B-5F4B-4B3F-9072-8FD1858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57CF-BC27-40C0-9AF5-84270AB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6A5-F131-4202-B70C-9565532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4D6-5169-4375-966A-3E3DBB7E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F557-9707-4CBD-A66B-B41A8AC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A1A-C5B8-40F4-B45E-E3401AD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99D4-FFAB-4E8E-8F88-6344DB79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7C90-EC77-40F2-B86E-C0DB08BE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C92-1543-4846-8C3C-3B6D3C9D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534-5E09-44F4-9A5F-083916A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D69-4A65-4C5A-BE8D-0737B4A7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1C5-F857-42A5-9A0C-DECEA15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0D6-A2E8-4BDC-9A9D-86F6C881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AE2-E922-46EB-94CE-09123DA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7F1-4B34-4C50-A2AA-6BDDECF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977-A782-4384-B118-DC60B82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7004-E96A-4AC7-A221-6B54C9EB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C13-E5E0-4C56-A517-FF29EE2C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32080"/>
            <a:ext cx="9144000" cy="29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 without one pl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 was shed for me,  and that thou bids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it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ne dark bl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 whos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osse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doub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ghting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, wit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6668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all I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 to f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y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rrier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716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, to b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thine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3000"/>
            <a:ext cx="9144000" cy="236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 and waiting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 of one dark blot,       to thee whose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 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4920"/>
            <a:ext cx="914400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 though tosse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 many a doubt, fightings and fears within, without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3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 of the mind, yea, all I need in thee to find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 thou wilt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                             because thy promise I believ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880"/>
            <a:ext cx="9144000" cy="37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 thy love un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 barrier down; now, to be thine, yea, thine alon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one pl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shed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thou b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1T18:47:53Z</dcterms:modified>
  <cp:revision>117</cp:revision>
  <dc:subject/>
  <dc:title>PowerPoint Presentation</dc:title>
</cp:coreProperties>
</file>