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7C1-FDB2-4BC6-8F1D-3E5F493B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BAC-B828-4045-A230-3E8B244B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E6C-A22D-4C4F-9C52-E9E21729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583-79FA-4B80-A427-8BFE5CB1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582-9742-45B9-B8FD-C7A9E3FA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8AC-254F-4363-908D-BDA361E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E3E-6F0A-4500-9DA0-41523475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2BC-167B-4DC0-A5A9-35DBAC9F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244-D80D-4B64-AEC6-7C93A5C4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44A-8D0F-469E-8B08-320BADD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E4E-E926-4DF3-BEA5-6B45D40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208-38C4-4ECD-8372-A96ABDE9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686B-B27B-489A-893E-53B2A8D6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Covenant Prayer 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esleyan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53416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 am no longer my ow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but thine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ut me to what thou wilt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ank me with whom thou wilt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ut me to doing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put me to suffer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venant Prayer in the Wesleyan Tra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be employed by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laid aside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alted for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brought low for the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be full, let me be empt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have all th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have not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455760"/>
            <a:ext cx="861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reely and heart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ield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y pleasure and disposa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O glor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essed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, Son, and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art mine, and I am thi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 be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I have made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it be ratified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8:36Z</dcterms:modified>
  <cp:revision>14</cp:revision>
  <dc:subject/>
  <dc:title>PowerPoint Presentation</dc:title>
</cp:coreProperties>
</file>