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CF6A-EF67-4133-9953-286076A70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9FCC-2AD6-476D-8D32-6436896B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1F59-F1F3-4752-828A-AF20CD87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7EDC-3154-464C-88B0-286CBE6EF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74DB-91A8-4E00-AEBC-14E7C9D8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43D1-F8DD-46B3-A7D1-F5DFD3F0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192B-5193-4EFA-9F77-45024EB7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E8A1-C3A4-4210-89A3-25907F49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EC80-14A5-49F7-BED9-C640F9FE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54DE-2FB0-469F-BAB2-1EBCD069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A470-51B8-4C6E-B272-A3EE13D0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42FE-8970-43A0-99AA-6C3276E7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B040-6559-4F19-8BC2-D9FF848DE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rd of the Dance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61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1981080"/>
            <a:ext cx="9144000" cy="42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 danced in the mo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world was beg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danced in the mo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st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sun,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3 Stainer &amp; Bell Ltd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2890080" y="114300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yndey Carter, 1963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whipp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y stripp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y hung me hig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y left me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a cross to di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nce, th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Dance, said h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026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dance, said h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 danced on a Fri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sky turned black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’s hard to d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dev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your back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buried my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y thought I’d g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I am the d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still go on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nce, th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Dance, said h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dance, said h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hey cut me d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leapt up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the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’ll never, never die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live in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you live in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the Lord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nce, said h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nce, th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Dance, said h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c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wn from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danced on the eart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Bethle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d my birth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026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dance, said h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nce, th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Dance, said h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026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dance, said h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 danced for the scri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Phari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ey would not d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y would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llow me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ance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isherm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James and Joh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came to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dance went on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nce, th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Dance, said h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026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dance, said h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 danced on the sabb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 cured the l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ly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id it was a shame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4-03-02T21:16:52Z</dcterms:modified>
  <cp:revision>27</cp:revision>
  <dc:subject/>
  <dc:title>PowerPoint Presentation</dc:title>
</cp:coreProperties>
</file>