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7338-16F0-44D5-863A-95E83D38E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A1D7-E234-429B-8730-1BA27E32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DD1B-F09F-4009-8E78-ABF57B947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0F79-CDA9-4ECE-AA6E-3A3BF1541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446D-A087-4A02-8E72-9BB13EB8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D77E-543C-49A6-BB44-66D437F3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C95D-FA86-4D53-9C67-9888335A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82C1-817B-4597-AF3C-59C5A694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B062-81BC-494A-8F69-BA87677A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7B35-7E3C-454C-9B38-37017B3E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BDA6-2E13-41E0-AA33-622F0D2D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20BB-0734-43A5-8489-994F554E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4D99-32EB-4014-8605-FB660313A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Sons and Daughters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t Us 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ons and Daughters, Let Us Sing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7652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ean Tisserand, 15th cent.; trans. by John Mason Neale, 1851, alt.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O sons and daught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us sing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King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glorious K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295280"/>
            <a:ext cx="914400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e,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bilee and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When Thomas fir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idings hea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they had se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isen L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ons and Daughters, Let Us Sing 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219320"/>
            <a:ext cx="914400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doubted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sciples’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Refrai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ons and Daughters, Let Us Sing (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7. “My pierced s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Thomas, s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hands, my f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how to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066680"/>
            <a:ext cx="914400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faithless b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lieving b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8. No longer Thom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deni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saw the f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ands, the s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ons and Daughters, Let Us Sing (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371600"/>
            <a:ext cx="914400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art my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d,” he cr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9. How blest are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have not se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yet whose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h constant bee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ons and Daughters, Let Us Sing (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219320"/>
            <a:ext cx="914400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y etern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shall w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6668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death and he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se triumph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at Easter m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break of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aithful wom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nt their wa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ons and Daughters, Let Us Sing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6668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ek the tomb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Jesus l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ons and Daughters, Let Us Sing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An angel cl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white they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sat and sp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o the thr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1932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Lord doth g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Galile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at night the apostl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t in fea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idst them c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Lord most de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ons and Daughters, Let Us Sing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14300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aid, “My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on all her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ons and Daughters, Let Us Sing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On this most ho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of d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hearts and voic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we rais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7:14:42Z</dcterms:modified>
  <cp:revision>74</cp:revision>
  <dc:subject/>
  <dc:title>PowerPoint Presentation</dc:title>
</cp:coreProperties>
</file>