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1B53-DA0E-4D87-9386-6313DC741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ABFA-E3C0-465A-88DB-4A6AEDD1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D471-C3CA-49A3-AE5A-EA1155DF9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13B3-426B-436C-82B1-922CD73AF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E450-5DF0-46EE-8019-4A4B5D3B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B6AD-F213-4ABA-8130-E0CB4B56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1A39-7DAA-4C94-B399-D682814E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AEF4-E7D8-452B-BBDA-0A35630A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D329-555C-4878-9821-06100459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715F-99D1-41AB-8657-D7A7CA25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92B1-E1C7-4241-A141-417D8472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9129-A0EC-4525-BE56-DBDB150A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67B0-F111-4CF8-B03A-9BAB5EEDA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ejoice, the Lord Is 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Rejoice, the Lord is King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Lord and King ado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tals, give thank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ing, and trium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the Lord Is K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36960" y="1143000"/>
            <a:ext cx="48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harles Wesley, 1746  (1 Cor. 15:51-5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voi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joice; a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ay, rej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Jesus the Savior reig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od of truth and l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he had purg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tains, he too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seat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the Lord Is K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voi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joice; a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ay, rej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is kingdom cannot fai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ules o’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and heav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eys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ll ar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Jesus gi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the Lord Is K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voi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joice; a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ay, rej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Rejoice in glorious hop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the Judge shall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ake his serva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 to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the Lord Is K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oon shall h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’archangel’s voi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rump of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sound, rejoic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58:29Z</dcterms:modified>
  <cp:revision>53</cp:revision>
  <dc:subject/>
  <dc:title>PowerPoint Presentation</dc:title>
</cp:coreProperties>
</file>