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C93-8FDF-48C2-A554-554FF64E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186-9DE8-4A16-9182-6F8F2CEA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FA5-FFCB-4A23-BCE8-8402B8CC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A13-5DE8-4584-8CF9-8476D34B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C213-F7DC-4A50-A304-EC8FD999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DBF5-4B58-4FE2-9C14-C64141CD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F0BB-3DA8-4700-A263-4C328AD7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5EEC-6978-4C4E-9705-9E37853B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BF9A-36C2-4CC0-978C-C73DA132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596B-FBC7-4858-96CD-D84912F4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CB6C-6E2E-44C6-B20D-D5AEAFC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6EB-6A3D-48C4-8F0E-95977DF2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C877-40F2-412D-91CB-ACAF0ED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EE01-8C47-4B57-91BC-43AB733D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2F18-B59D-4C55-AA2F-853F94A6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DF69-276A-4AC7-A622-329EA1BF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7E4-19AE-4DD1-8E0E-F4758C9E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B33-CD82-4B7D-9C3D-5084C208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03A-2BE8-4FC2-9A70-0DA549ED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8BB-F3A2-402B-A2C6-0B2DAED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B8B-B633-45E4-AE06-4CFA7F76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DFA-8F80-42D8-8201-1F74018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367-8D1F-49FE-8DD7-4E0DFABD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96D-C14D-48D6-8B47-B98398C1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5F3-ED9C-4C86-A27A-13583AD75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149E-B12B-4041-B106-6F03D3312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30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join to sing: Alleluia! Amen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 Christ our King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5120" y="83808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ag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d the str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issful 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join to s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 Christ our K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55120" y="83808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 gracious choi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 fill the sk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 and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413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 the Lord ag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 end the str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 blissful 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2952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join to s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 Christ our K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55120" y="83808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 gracious choice.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 gracious choi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 fill the sk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 and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413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 the Lord ag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 end the str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 blissful 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2056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 fill the sky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 and frien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96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 the Lord again: Alleluia! Amen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 end the strain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9688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 blissful sho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join to s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our K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5120" y="99072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choi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the sk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9T12:30:51Z</dcterms:modified>
  <cp:revision>23</cp:revision>
  <dc:subject/>
  <dc:title>PowerPoint Presentation</dc:title>
</cp:coreProperties>
</file>