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F8F-529F-40D0-AE36-E5819A38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B9F-4964-429D-A318-5994E419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C7C-294D-4CA3-B314-F22E122C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1A0-A7C5-44DF-872D-3B3367B3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1A68-CBF4-47B5-AA8E-7FE3BDB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FA7-A377-4E4D-8B2E-19EAAE54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FCF-3A34-4086-9B3F-B80BC5DF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22F-BED4-4DA5-96A5-689246C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082-684C-4A3F-ACD1-0DD8A912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48E-8CEE-4118-9850-3EC7CB07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D22-8AB9-4A8F-BB02-606E1B4D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CD7-CC88-477B-96AD-FE57ED21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5F99-C7A6-47D9-A956-954BFFBD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Love Thy Kingdom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love thy kingdom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house of thine abod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church our bles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deemer sav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own precious blo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9400" y="1066680"/>
            <a:ext cx="365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imothy Dwight, 1801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love thy church, O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w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as the ap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ne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ven o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her my tears shall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 my prayers asc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my c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s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ils and care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eyond my highest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ize her heavenl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weet commun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lemn v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hymns of lov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ure as thy truth shall la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Zion shall b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ightest glo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can yie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er bliss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5:04Z</dcterms:modified>
  <cp:revision>12</cp:revision>
  <dc:subject/>
  <dc:title>PowerPoint Presentation</dc:title>
</cp:coreProperties>
</file>