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60C-35FC-4ACF-BC95-CDDEBA83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AF9-FC67-46B4-9033-D7FAD123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D6F-4726-433F-9184-0E76D83C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1D8-2188-4205-8A84-41C3947E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654-51EE-4284-831D-855F8D9B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9DE-4946-4F20-9D5D-316F95D4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92C-3474-4392-945C-F5867DBE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9D7-505C-4593-9F81-0F09E4BF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7B7-92B6-40B6-B1D3-6943B6EB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915-4A14-4C08-BFED-461B20C6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A68-9970-4DFB-B876-E57C6AF6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6B4-2279-45DD-BDD1-D4D8B955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D3D6-9274-41A0-A614-946B4189B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Are the Se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ois la Sem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672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571840"/>
            <a:ext cx="8686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4160" y="1523880"/>
            <a:ext cx="7173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85800"/>
            <a:ext cx="914400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0120" y="1219320"/>
            <a:ext cx="6995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1880" y="1752480"/>
            <a:ext cx="7401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3680" y="1828800"/>
            <a:ext cx="5443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5560" y="1752480"/>
            <a:ext cx="5497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3480" y="1752480"/>
            <a:ext cx="664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762120"/>
            <a:ext cx="853416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6800" y="1219320"/>
            <a:ext cx="6677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5720" y="1752480"/>
            <a:ext cx="685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752480"/>
            <a:ext cx="8534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6840" y="1905120"/>
            <a:ext cx="6218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4160" y="1828800"/>
            <a:ext cx="6980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1600"/>
            <a:ext cx="91440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4880" y="1981080"/>
            <a:ext cx="704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4760" y="1676520"/>
            <a:ext cx="5423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1920" y="1676520"/>
            <a:ext cx="4861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1760" y="1828800"/>
            <a:ext cx="5776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1920" y="1752480"/>
            <a:ext cx="7012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371600"/>
            <a:ext cx="89154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1160" y="1905120"/>
            <a:ext cx="7403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4880" y="1523880"/>
            <a:ext cx="704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6280" y="1752480"/>
            <a:ext cx="5604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8960" y="1600200"/>
            <a:ext cx="4630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9200" y="1523880"/>
            <a:ext cx="5209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7160" y="1828800"/>
            <a:ext cx="666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447920"/>
            <a:ext cx="86868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88560" y="1523880"/>
            <a:ext cx="704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6080" y="1752480"/>
            <a:ext cx="660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33520"/>
            <a:ext cx="853452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0640" y="1905120"/>
            <a:ext cx="80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9440" y="1828800"/>
            <a:ext cx="6502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828800"/>
            <a:ext cx="6375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8:30Z</dcterms:modified>
  <cp:revision>91</cp:revision>
  <dc:subject/>
  <dc:title>PowerPoint Presentation</dc:title>
</cp:coreProperties>
</file>