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18D-A19F-4480-97A9-1D1ADCC1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768-00A7-4C4C-B5FC-4584C35C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93F-D861-4822-9952-460B67C3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B20-A518-4126-9569-F0EA4F8B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9F0-725A-4CE6-A557-70E26C7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519-0318-4905-9996-4B9635F1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9C3-1B53-42D7-95EA-A51670B3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578-AA35-4364-B37C-5CF823E5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6F6-758D-4DA6-AD4D-4D0006E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1B1-201D-4837-9102-1AC3B9A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3F5-1263-4FE3-BA69-DD398583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026-B0AF-47D5-8FEF-E253C6CD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F54-CB13-471D-BBC4-53B46B1C8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ou Hidden Love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Gerhard Tersteegen, 1729; trans. by John Wesley, 1749 (Gal. 2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ou hidde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, whose he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depth unfath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one kno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Love, thy sove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id im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save 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-thoughted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se this self-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its hid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zes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e thy dute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that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aseless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Abba, Father” c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Each moment dr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earth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ly waits thy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my in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and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I am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d, thy a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eel thy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 hear thy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ste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all my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from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eaute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ly s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repo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is pa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rest, till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s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is merc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ou has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mind to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peace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while I see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find thee n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peac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soul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en shall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wanderings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my st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-ward t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s there a 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neath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trives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sh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h, tear it th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ign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of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ion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hall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b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 hath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pos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2:28Z</dcterms:modified>
  <cp:revision>139</cp:revision>
  <dc:subject/>
  <dc:title>PowerPoint Presentation</dc:title>
</cp:coreProperties>
</file>