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EA2-32B4-472F-B689-8C72353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B24-E368-44DF-86E2-FF373D1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332-5F67-424C-817E-00618465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0ED-8F61-40C5-82B1-A747FCBA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363C-ACB3-407C-8196-7A3873F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D04-8759-4AE8-AD79-1D9C74A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2573-749B-4AA9-83A0-994C2A5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4427-A1E8-415B-98CC-06D4DD3C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5680-6430-4602-B1CE-91A41CC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9637-AB3E-40FC-B39B-628325F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EF4-8CCA-4AB2-9C61-4BEE9D1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5B6-1ECF-4270-A4A5-6431E0D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FE4-D0FB-494A-90E9-6B5C407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0BF-7269-4BFB-AAE5-C08455F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F2E9-2BAB-4346-94F9-5D21182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EBB8-5519-462D-B825-F965A0CB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F5DC-1DBC-4EF7-BEF3-C1C931E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4A-83EE-4650-9B4E-74762AB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5ED-5478-4FA5-AFA1-5A1A091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8D8-6169-4A65-B3DC-B6704F9D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9E5-7563-45D5-AB83-2EA54EF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E48-246E-4549-A405-E25D03D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A4D-0A97-4DF3-BDDC-2EA1079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800-78BD-4C89-970E-A5FA9BD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4F82-6640-4A13-BBB9-AB6ADFD6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DC3-E7C5-483E-90B4-44BA01ED3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13644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 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520" y="762120"/>
            <a:ext cx="753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736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63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7840" y="1676520"/>
            <a:ext cx="554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3:20:41Z</dcterms:modified>
  <cp:revision>11</cp:revision>
  <dc:subject/>
  <dc:title>PowerPoint Presentation</dc:title>
</cp:coreProperties>
</file>