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C91-09C6-40D6-8E8A-346E9C00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5E2-2D11-4C8C-8A5C-2F685AE9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B7B-302C-45FA-822A-85A3168B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213-B57F-45B5-9C12-52D67E41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316-5FB0-4FC1-B676-0C84A8E8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1C4-F3E6-4CB1-AD70-4F1C1A93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F2F-E692-407E-85C6-EE4B22C1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226-224B-4900-B888-918ED6BA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2D2-4D32-42B9-9C3D-CA6E0860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409-80BA-41AB-BCC1-08AA5569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FE2-5C9C-464A-BE4F-661EE614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6CA-A31A-486F-8146-DEFAFC1F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628B-F415-4A11-8EE1-061A9988F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Rememb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ghteous live fore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rewar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memb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9240" y="1166760"/>
            <a:ext cx="74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sdom of Solomon 3:1-9, adapt.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sponse 1, Wisdom of Solomon 3:1-9, adapt.; Response 2, Psalm 28:7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will govern nat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rule over peopl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ord will reig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ver them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trust in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ll understand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faith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ll abide in lov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65888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grace and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re upon the elec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God watched o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one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ive thanks and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 i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and sh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memb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492200"/>
            <a:ext cx="86104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ouls of the righteous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hand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no torment will e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uch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2845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eyes of the fooli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y seem to have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ir departure w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ought to be an affli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9191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ir going from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be their destructio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ut they are at pe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ough in our s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y were punish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ir hope is fu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immortality.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735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ing been disciplined a litt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y will receive great go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cause God tested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und them worth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gold in the furna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od tried 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ke a sacrifici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rnt offer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od accepted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time of their visit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y will shine fo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ll run like spar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the stub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0:15Z</dcterms:modified>
  <cp:revision>33</cp:revision>
  <dc:subject/>
  <dc:title>PowerPoint Presentation</dc:title>
</cp:coreProperties>
</file>