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21A-8036-4841-A477-383BDC4C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562-3003-4639-B75B-7F061565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E36-3021-4FB9-B5D3-0DD602B7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1B1-7699-44AF-BD03-699E1FAC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784-95F8-4DFD-95C5-C5450CFE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455-F1B4-4448-B06D-8B8DD613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8FA-4E3A-42BD-AD35-0F2D0FD2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96C-DCEB-4B00-8B7B-3562C6D3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085-ACAC-4134-BFEF-45CCFE0A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C1C-3377-4D20-A942-A49BD2F8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E6B-4E1E-4999-9A61-77BA18F4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2BE-C1F0-4187-BA3E-068B30C1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10F2-08F1-4166-BA60-CD0FD027A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What Their Jo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heir Glory Mus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what their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ir glory must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endless sabba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essed ones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6880" y="1676520"/>
            <a:ext cx="66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eter Abelard, 12th cent.; trans. by John Mason Neale, 18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hom, the Fa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whom, the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whom,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m ever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for the vali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eary ones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all be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all ever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ruly, “Jerusalem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we that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ity of peac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s joy 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h and fulfill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not severed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do things pray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short of the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, where no troub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traction can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he sweet anth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Zion shall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for thy gra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voices of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lessed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ly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w, in the meanwhi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s raised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r that count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t yearn and must s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ing Jerusal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native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our long exi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Babylon’s str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ow before hi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ises we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hom, and in wh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whom are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07:15Z</dcterms:modified>
  <cp:revision>57</cp:revision>
  <dc:subject/>
  <dc:title>PowerPoint Presentation</dc:title>
</cp:coreProperties>
</file>