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FA3-19C5-4500-A24C-174B656C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5F0-4E02-4FD4-978A-C88028F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792-DFCA-4C6A-99E7-A3EC6021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402-076A-420C-A9D5-0858EDA6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691-BE10-4BAB-B598-3FC468CE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0C4E-54C6-432F-A0F5-739E3FA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F59F-B85E-4796-9A0D-A104731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B54-EDE0-4017-9597-9062B90C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62FA-3B7F-466F-8889-FD38B53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75A7-1F63-4A5A-9F11-F4FAD81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188-E752-4FC8-BB4E-AAECCF4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0D3-DD87-425D-9214-A5AD669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C1C-BF93-4125-B10E-437E52B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635-FD41-422A-A216-B4F135A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AE1-B032-4B7D-A37A-2BB66AB4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E4D-1083-41F9-95D8-F015118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054-6282-4E79-9BF5-48B28171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6D1-6274-4EC5-8F4B-85C8EB6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045-F5C9-4304-B82B-9455B52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98A-B70D-4A34-A4A0-FB81508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9FB-9987-436C-9AE4-BAE5C65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699-395B-457C-BE3E-52D47E7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884-F97A-4B0F-A070-F8E6149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4F5-BAC0-4AB3-AA15-4B186D3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24CE-F63D-4333-8A83-ED4E9C7D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AB7-1C00-4ED3-B6BB-758B3A183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restless passions to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spired with hope and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to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for the world we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orld to Christ we b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43:19Z</dcterms:modified>
  <cp:revision>74</cp:revision>
  <dc:subject/>
  <dc:title>PowerPoint Presentation</dc:title>
</cp:coreProperties>
</file>