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BA4E-C3E9-43D6-A123-08FD757C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A34-C8B3-4709-9A21-A387E112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1347-CEBB-44C3-9330-CFEE981B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676-84EE-48CF-8D50-3F1CB35D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A0BC-C814-4705-A48E-F70261FA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2597-EA77-4EC8-B70D-33DAE32F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E810-C1C3-4BEA-BB73-E0CC8AC6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15AF-E224-45A8-9BA7-2BCCCCAD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2CE4-9328-4958-B936-9252F1AE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9FF7-555A-416C-8085-006A7808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7E83-6CA0-435A-804B-CE86C421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1722-827E-4B91-8F17-1C6E5A6D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930E-D350-48C1-A59C-7EEE37AF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B562-F75F-45A5-A926-F02578EE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A274-896B-42CF-A2A1-ECAECC5A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4741-493D-48C3-8806-C46141BE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CFBF-70CF-41AD-80C0-C48E56E2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6CD8-70FB-4E44-B91A-5E05A24B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7D88-86E5-4131-A178-2E73C06F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4DDE-DFFF-4F19-AC6C-CCECF541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B7D6-5250-406C-91BF-F9CBD488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7390-636C-46B7-95F5-13DA4761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6F94-DF14-4AB0-87DE-23498125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FF72-C26F-4932-A31B-F738F358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2C2D-F24D-46B8-8114-DC5D167B4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28A5-42BD-4294-981F-39CFCCB33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Are the Chu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096920"/>
            <a:ext cx="9144000" cy="333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are the church together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3008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Richard K. Avery and Donald S. Marsh, 197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5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5228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 are the church together!                  All who follow Jesu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around the worl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es, we’re the church togeth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95680"/>
            <a:ext cx="9144000" cy="23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289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At Pentecost some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eived the Holy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ld the Good Ne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who would hear 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495680"/>
            <a:ext cx="9144000" cy="23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5228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 are the church together!                  All who follow Jesu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around the worl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es, we’re the church togeth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95680"/>
            <a:ext cx="9144000" cy="23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Are the Chu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752480"/>
            <a:ext cx="9144000" cy="474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are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06668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Richard K. Avery and Donald S. Marsh, 197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follow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round the worl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 churc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buil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urch is not a stee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urc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resting pl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urch is a peop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287360"/>
            <a:ext cx="9144000" cy="390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are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follow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round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’re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ds of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any kinds of fac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olor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ges, to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ll times and plac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287360"/>
            <a:ext cx="9144000" cy="390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are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follow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round the worl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19720"/>
            <a:ext cx="9144000" cy="2435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follow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round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ometime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is marc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imes i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avely bu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imes it’s ri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imes hi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ways it’s lear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287360"/>
            <a:ext cx="9144000" cy="390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are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follow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round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nd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ople g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’s sing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re’s pra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’s laughing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’s crying someti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f it saying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287360"/>
            <a:ext cx="9144000" cy="390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are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follow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round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At Pentecost some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eived the Holy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ld the Good Ne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who would hear 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1287360"/>
            <a:ext cx="9144000" cy="390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are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follow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round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838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The church is not a build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church is not a steepl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church is not a resting pla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church is a peopl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419720"/>
            <a:ext cx="9144000" cy="2435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5228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 are the church together!                  All who follow Jesu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around the worl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es, we’re the church togeth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495680"/>
            <a:ext cx="9144000" cy="23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5335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We’re many kinds of peopl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many kinds of face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 colors a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 ages, too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all times and places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419720"/>
            <a:ext cx="9144000" cy="2435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5228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 are the church together!                  All who follow Jesu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around the worl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es, we’re the church togeth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495680"/>
            <a:ext cx="9144000" cy="23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Sometimes th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hurch is march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metimes it’s bravely burn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metimes it’s rid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metimes hid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ways it’s learni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95680"/>
            <a:ext cx="9144000" cy="23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5228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am the church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are the church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 are the church together!                  All who follow Jesu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around the worl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es, we’re the church togeth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95680"/>
            <a:ext cx="9144000" cy="23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And when the people gath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’s sing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ere’s pray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’s laughing a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’s crying sometime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 of it saying: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95680"/>
            <a:ext cx="9144000" cy="23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10-19T00:55:45Z</dcterms:modified>
  <cp:revision>67</cp:revision>
  <dc:subject/>
  <dc:title>PowerPoint Presentation</dc:title>
</cp:coreProperties>
</file>