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98C-DC28-4B1B-A99E-8D30C120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334-A988-44C1-8724-E78DE74A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2F5-48F0-4E4F-82CA-492F406D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9C7-8B2F-4FF1-9AC6-405D235E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744-EED8-4286-B388-A3FEB692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716-2FED-4C5B-81F5-62095BCC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0EA-2AEC-4E4B-A9B3-352BD869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504-E48F-4B4A-80C3-57801777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6BB-B9FA-45B5-811D-20ABB00C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CF3-1DAB-4C38-9014-14BD6EB6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D19-067A-4148-97B5-63FC1FD6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7A0-151F-4858-A8BA-8A32721F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4EEA-81AD-4B86-8F0E-5ED5DCB6D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 Man and Woma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Were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rian Wren, 1973 (Gen. 1:27; Jn. 2:1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s man and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er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ove be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begu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pread the 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 the h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eleb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ay is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peace go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ween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be sha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every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gh and make me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ever end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praise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made us tw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wo are on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ild or par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band, w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Jesus li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av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ing ne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celeb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m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ink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offers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the si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ment 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ange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w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esus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, come what m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bring the da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ear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s to wi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ears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us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at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ing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nnot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7:22Z</dcterms:modified>
  <cp:revision>140</cp:revision>
  <dc:subject/>
  <dc:title>PowerPoint Presentation</dc:title>
</cp:coreProperties>
</file>