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F86-08EC-463C-A7AA-773043CE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0DAA-B46B-4EE7-AE08-34F196A0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0D2-B8D8-4CF6-B93C-5DF9B8EA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F57-25EB-499C-9115-D873FC64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8BE-5128-400D-847F-7B4FA04A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869-B657-4B12-8CF2-5625212C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46E-5F98-4B9A-99DB-B33BD624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B20-D7ED-477B-A054-315F26B9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379-191D-47CF-A40F-CB9701A6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1842-5FE0-4DFE-9AB0-140467BA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9E7-8773-4E1B-941A-95EB75C2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B8A-849C-426A-B57E-AAEE08C1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5E25-756A-4A38-8A71-6118725A1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I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Pratt Green, 19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her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your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et to o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urch and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n 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ange and doub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us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gosp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urpose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’s dedic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e have to give, rece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who can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 without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dore you! We belie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uller m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it i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e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a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arou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varied skills and 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 the c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open minds and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re symbo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min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ife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ed 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re 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nt, and pulp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central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n hones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r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n silence, as in spee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in new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new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Spirit comes to eac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ou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a wel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hephe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ck and f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s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e are ta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sustain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f 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the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erv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in worship to expl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it me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ily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 and to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1:58Z</dcterms:modified>
  <cp:revision>153</cp:revision>
  <dc:subject/>
  <dc:title>PowerPoint Presentation</dc:title>
</cp:coreProperties>
</file>