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35D-5634-4C9C-B580-A6C304EB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E7E-E2CA-4DAE-B14F-8B09F8B7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3AF-A349-4E1B-9370-07F1BE11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A09-6BDD-4E5B-99C0-386644E0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407-A3D5-487D-85DC-EE7FB23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260-1086-43A5-8739-EC55A32F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B7E-6134-4A89-9ED5-31B60D78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1A2-8804-4932-B950-CB414FDC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428-1B7E-48FA-BD56-9C3726DF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B0A-15CB-4770-A916-18F33D3D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CDD-E839-4190-9A1A-868F9C7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73F-17BB-461F-B5A7-4FFB309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AEEC-CCBE-4FD0-9CEF-DEEF0FB68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oul Gives Glory to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soul gives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my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heart pou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t it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8, 1987 Medical Mission S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990720"/>
            <a:ext cx="61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riam Therese Winter, 1987 (Lk. 1:46b-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lift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lowli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velous w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My God has d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things for m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s, holy is this na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people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clare me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blessings they shall 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From age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all who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ch mercy love imp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pensing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r and n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ismissing selfish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Love casts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ir thron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otes the inse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aves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s satisf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rich seems suddenly po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, w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ing coven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pports those in di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membering p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mis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resent faithful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0:23Z</dcterms:modified>
  <cp:revision>49</cp:revision>
  <dc:subject/>
  <dc:title>PowerPoint Presentation</dc:title>
</cp:coreProperties>
</file>