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3D5-98C7-4335-B98A-0CAB89EA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9FF-441D-4EB2-85CB-C5F91324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996-ECC1-4A78-8025-F0CCC7DC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77B-FCCD-4CE5-81A6-5AEE0205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1F0-87AA-4395-99E7-E0718BB2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E526-8FAF-4F13-8F50-F961568E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1BC-96CB-4D64-B43E-E6B9136A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988-E8C1-41A0-9874-83CD4A96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571-5107-4976-8A2F-41C79673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32F-3B50-48FA-8573-B515730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6E1-F298-4981-AE6F-ECAEDE31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C12-2193-4E8E-9DE4-3E12C4DB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044E-4640-4FB3-8047-01A7022CB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Victori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8560" y="1143000"/>
            <a:ext cx="35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 P. Daw, Jr., 198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ly Immortal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ghty Creat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your creat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ildren of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rth you form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glorious and 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we all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-spoken prophe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at creati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You came from d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dust shall retur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at the grave shall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up our glad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Alleluia, alleluia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0:29Z</dcterms:modified>
  <cp:revision>10</cp:revision>
  <dc:subject/>
  <dc:title>PowerPoint Presentation</dc:title>
</cp:coreProperties>
</file>