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AAC-5895-42E0-BFFA-B8487CA4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34A-564B-410B-829F-A244C70D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D0D-DFDA-44B3-B26F-A5E64E11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8F1-5286-41A8-8E13-CBAECF31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863-3EC0-4D10-8A49-12DACD3C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3C8-D4D7-435F-A0E8-7099FB71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571-7AF4-4476-9126-29F0B55C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AC46-B390-4C4D-BFE6-955D74FF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A70-403D-48ED-AAA5-C945B1CB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9D3-C9CB-43DE-B663-2CC5E0AF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7D8-8E93-4BB3-811F-3B8EA72E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023-0B42-4310-A45B-F8AA11F1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A1C9-C250-4663-A19F-CDF66E1B4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Sinner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the Gospel Fe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7 (Lk. 14:16-2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sinn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gospel fe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ever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Jesus’ gu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hou, this mo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ive fo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need not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left beh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od hath b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ent by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you I c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invit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ll the wor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sinner, thou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ings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ready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ome, all ye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sin opp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estless wander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fter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poor, and maim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alt, and bl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Christ a hear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lcome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My message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God rece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all may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Christ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et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heart const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suffe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ie in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This is the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more del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s the Lor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ccepted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00:23Z</dcterms:modified>
  <cp:revision>95</cp:revision>
  <dc:subject/>
  <dc:title>PowerPoint Presentation</dc:title>
</cp:coreProperties>
</file>