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7FD-4906-4510-9F26-EAD2B8D2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3699-3D0C-44D9-8798-80FCEA7E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08E-647C-4C6B-9CCE-ACE80A8A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E7A-6036-4CCD-9521-BBA0C6AF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CEF4-EC96-4ACB-B5D0-94A518DF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D7C-D7C4-4E4E-BC51-C905DC8D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BC0B-6FDE-498E-9622-60FFCD41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B27-4596-4EE2-969F-66B1720B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3AE-15EF-4F5C-BD6E-E8E3ACF4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77A-1A8B-4781-9BF4-BA2DE913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E9E-C220-4EB9-9878-F85C29E3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4173-FAA7-4CCB-87A9-003BC6A5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1153-DEE8-4ED5-BBFF-601854B33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nding Rest in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828800"/>
            <a:ext cx="8839080" cy="349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hast made us for thysel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Lord, and our hearts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stless until they fi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st in thee.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ine of Hippo, North Africa, 4th cent. (Mt. 11:2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Rest in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143000"/>
            <a:ext cx="8610480" cy="422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comparison with this bi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ld, the human heart is on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mall thing. Though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ld is so large, it is utter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able to satisfy this tiny hea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ndar Singh, India, 20th c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ver-growing soul and it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pacity can be satisfied on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infinite God. As wat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restless until it reaches i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vel, so the soul has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eace until it rests in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7:27Z</dcterms:modified>
  <cp:revision>13</cp:revision>
  <dc:subject/>
  <dc:title>PowerPoint Presentation</dc:title>
</cp:coreProperties>
</file>