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457C-4341-4295-AD75-FDDFF8BC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A562-6136-44AF-A129-93831481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9EA5-A16C-4AA3-AB23-1EDB0D4B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CC8A-E1BE-4959-83DA-BC172716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C3CA-AC7F-460C-8330-7CBB9A71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80BE-CFFA-44D6-8803-7FAD1CFD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E705-BB65-4CF2-9515-53ECB241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0400-5A4A-4446-9F28-9B63C1BF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F2DB-BDDE-4037-92FA-AC7F49ED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4997-C153-4A49-A0A2-94B72AB9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F626-587C-4F04-9CE7-F1AAFEE4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8441-13AB-470F-B428-74A3461C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3845-5B64-467F-B82E-FB52F96CD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y Gracious Po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3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By gracious pow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wonderfully shelte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nfidently wai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what m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74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 Gracious Pow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Dietrich Bonhoeffer, 1944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Fred Pratt Green, 19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know that God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us night and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ever fa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reet us each new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Yet is this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its old foe tormen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evil days b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rdens hard to b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 Gracious Pow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ive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ightened sou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ure 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hich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taught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ep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nd when this c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give is filled to brim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bitter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rd to understa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 Gracious Pow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take it thankful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hout tremb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t of so g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 beloved a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Yet when again i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me world you giv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joy we h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ightness of your su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 Gracious Pow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rememb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lived throu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whole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then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s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5:31:55Z</dcterms:modified>
  <cp:revision>43</cp:revision>
  <dc:subject/>
  <dc:title>PowerPoint Presentation</dc:title>
</cp:coreProperties>
</file>