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8F0-1445-463A-93E5-EECB70DD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668-34BA-4C61-8AF1-F001F585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D4E-6138-408B-A8FF-1DED3909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FCB-649C-48F4-BFC1-0C5303C7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2E5-0D33-42B6-9D90-AC95780C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A7B-6B16-4A21-AFCC-976E1DF9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2B6-DC52-440E-A815-8CDA7D75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05C-4AF3-4F16-A997-EF3F4025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C5E-D959-473E-B815-1AE2A192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3BC-C0EA-4BE0-A6F4-8EFBE1A6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C6B-0F70-47CC-ADEA-960E8093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1F1-7BA2-4353-A064-7777F73D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0323-58AA-47FD-BF90-1EE037FF9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re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370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sabbath rest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Galilee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calm of hills abov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e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11120" y="1066680"/>
            <a:ext cx="473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Greenleaf Whittier, 187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re Jesus knel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hare with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silence of eternit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erpreted by lov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op thy still d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qui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our strivings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from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and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y of th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8:30Z</dcterms:modified>
  <cp:revision>9</cp:revision>
  <dc:subject/>
  <dc:title>PowerPoint Presentation</dc:title>
</cp:coreProperties>
</file>