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2A2-F7FC-4A69-863A-29064D56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480-7462-470A-ACA5-2B80581B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A65-49BD-4FC8-9A47-B72E7FD2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E60-88C6-4E63-A9B7-089A14B3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BA0-97CD-4714-87AD-DDBE9376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B84-1D56-485B-AAB9-FA84C02A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B45-D661-4BE9-8F1E-891B9664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12E-7711-4DBE-918C-976F00E3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6E6-1808-4348-B79C-BEC1C36F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493-6A26-423D-A05B-0AAFE0B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1C6-8AF4-4A9A-860D-ED60D91E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6F9-B23C-4B0D-B609-A77ED94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5493-DA8D-44B2-9828-F3DA1A0D4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God, This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od, this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3000" y="167652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homas Ken, ca. 167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him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heavenly h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G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me, O keep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k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give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dear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ll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day have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, an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, ere I sl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eac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me to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may d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ve as li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y b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o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 I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glorious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may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e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sweet sl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eyelids clo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that may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vigorous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ise God, from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blessings f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him, 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4:01Z</dcterms:modified>
  <cp:revision>18</cp:revision>
  <dc:subject/>
  <dc:title>PowerPoint Presentation</dc:title>
</cp:coreProperties>
</file>