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B17-B229-4948-A8F6-12C2ECE1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90D-BD0F-4FAD-AEC3-E2D5F3F7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C05-E819-4A76-A2F6-16B2700B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4D4-BB20-4861-B539-63EA641D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EC59-27A3-4DE2-8F5E-0411698B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4B23-3853-4E7C-A6D0-CB6A4889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B164-A8D6-4BE6-9DC0-90DD67C4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D79D-85CF-4268-94F2-AB42C274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3E41-3635-4E5F-A8FB-13422E5E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D656-1997-485E-8ADD-1BBF7387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8DAA-6DF9-438B-B919-64EFFDB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8B2-A663-4107-910F-958CA591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226D-E847-4D85-9BDD-CE8D7209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B954-1064-4736-8282-945E469A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193F-D2D2-45A2-8051-33AB1929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70B1-F031-4998-93D1-BFE2E38F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C747-15D7-4AE0-8265-0157A8E9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D49-F227-4E81-8703-A0785384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87B-0646-4C28-8575-BB41FEF7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558-D933-489F-B5BA-8E6536B1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FE6-6D45-4BD2-8B09-48C574AC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AF4-C8AE-43F4-96B9-6F9E76A6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8D6-B8EE-46CA-AE49-BEE45725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1B7-2E5F-4606-A889-65C9271B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C2A8-7AD7-438E-98B3-6F51C4CFE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BF0B-E099-4FE2-8F2C-5C298BA88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60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Pass Me Not, O Gentle S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35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858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anny J. Crosby, 186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1440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1. Pass me not,  O gentle Savior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 thou art calling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0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me a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sweet rel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eeling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deep contri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y unbelief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rusting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I seek thy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l my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ken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me by thy grac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 the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my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life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hav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beside th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in heaven but thee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Pass Me Not, O Gentle S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35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9907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anny J. Crosby, 186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Pass me not,  O gentle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 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me at thy throne of merc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sweet relief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kneeling the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deep contritio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y unbelief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76320"/>
            <a:ext cx="914400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rusting onl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meri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I seek thy fac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l my wound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roken spiri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e me by thy grac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 the spr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my comfo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life to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have I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beside the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in heaven but the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76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270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me at thy throne of merc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sweet relief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kneeling the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deep contrition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y unbelief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0" y="73080"/>
            <a:ext cx="914400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3. Trusting onl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mer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I seek thy face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heal my wounde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broken spir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save me by thy grace.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76320"/>
            <a:ext cx="9144000" cy="506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 the spr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my comfor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life to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have 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beside thee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Whom in heaven but thee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0"/>
            <a:ext cx="9144000" cy="49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Me Not, O Gentle S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9907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6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Pass me no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gentle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0-15T00:42:34Z</dcterms:modified>
  <cp:revision>111</cp:revision>
  <dc:subject/>
  <dc:title>PowerPoint Presentation</dc:title>
</cp:coreProperties>
</file>