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381-D22D-4278-A89D-C34C0580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316-AAB6-456D-864A-431BD478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C6D-A422-4D44-8A5A-0CC813BA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47E-C39C-47D0-8E14-43AF26DA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C0A-0DB5-44C5-85D3-C4FB4D4E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FF7-F958-4181-AF07-73C967F7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0D9-F40A-4D02-AEA9-30CC9847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9AD-E2F2-4FE9-9210-E786E70E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12D-929D-49A6-A708-8BE5291F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6FF-D631-44AA-9565-A74BB066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E92-2F40-4859-B13A-25A3E120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831-1BAD-4C8D-8633-508A0672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3277-D7F1-43A6-840C-675EE64D1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as! and Di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avior Bl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67652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as! and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bl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vereign di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all that I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he devo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acred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ners such as 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as it for cr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hav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roa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pit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unknow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beyond deg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ll might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h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ut its glories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God, 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,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ure’s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us might I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lushing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his d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app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solve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ank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lt m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ut drops of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e’er rep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bt of love I o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3:23Z</dcterms:modified>
  <cp:revision>50</cp:revision>
  <dc:subject/>
  <dc:title>PowerPoint Presentation</dc:title>
</cp:coreProperties>
</file>