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90E5-05C1-41C3-A6C3-839191108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BB7D-B950-4928-988B-5E758B85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0003-3B63-411C-A492-40D48D5F1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548C-6021-48FB-A5BF-3F1378F1E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B07F-BABB-41A9-88AB-54595D6B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8292-17D4-4D44-B0CC-A3579882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7E55-D572-475D-8FC9-B581DA8C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AA96-E532-4B13-B3A5-288ECD70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ED18-645F-4E2F-88FC-51D883ED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F434-33BC-4478-AD92-1D405ED7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6B84-E002-43FB-A258-2B1DAB80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E8BD-E965-433C-9EAB-C3114C1D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DEDC-127A-401E-9291-B77693B4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1F6C-2432-42FC-B4EA-530F2193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0831-EE65-47FC-9A60-88034C1F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FE93-C82A-46EB-B96B-B6DF7544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B856-7A2D-493C-BAC7-7C87A3336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6B4C-474B-4FD8-ABEA-D3F399F7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FA38-BEBC-4FA1-A5ED-ACBD3B7F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119C-0BC3-4B85-8346-44119F48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8FE7-5816-4FD8-B078-720CE637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D823-D13A-4C18-8F06-2A467194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257D-032F-4A75-80CD-CDE0986A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1511-EF5D-46D0-B004-40474FD9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6937-0B94-4022-B573-B77AE6785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B085-AD93-446E-89A0-65C0AA6A3F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eople, Look Eas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0" y="1736640"/>
            <a:ext cx="9144000" cy="330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1. People, look east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time is near of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ing of the year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Words by permission of David Higham Assoc. Lt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ople, Look Ea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803680" y="990720"/>
            <a:ext cx="3577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Eleanor Farjeon, 1928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0" y="105084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4. Angels announc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shouts of mirth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him who bring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new life to earth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ople, Look Ea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10666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et every peak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valley humming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the wor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 is coming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76320"/>
            <a:ext cx="9144000" cy="53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People, look east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 today: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ove, the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is on the way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eople, Look Eas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0" y="1736640"/>
            <a:ext cx="9144000" cy="37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1. People, look east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time is near of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ing of the year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Words by permission of David Higham Assoc. Lt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ople, Look Ea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2803680" y="990720"/>
            <a:ext cx="3577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Eleanor Farjeon, 1928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9144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Make your house fai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s you are abl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rim the hearth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nd set the table.</a:t>
            </a:r>
            <a:endParaRPr b="1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76320"/>
            <a:ext cx="9144000" cy="557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People, look east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 today: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ove, the Gues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is on the way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0" y="91440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2. Furrows, be glad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earth is bar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ne more see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s planted there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ople, Look Ea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91440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up your strength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eed to nourish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in cours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flower may flourish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0" y="76320"/>
            <a:ext cx="9144000" cy="557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People, look east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 today: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ove, the Ros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is on the way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9144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Make your house fai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s you are abl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rim the hearth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nd set the table.</a:t>
            </a:r>
            <a:endParaRPr b="1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0" y="9619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3. Stars, keep the watch.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hen night is dim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ne more ligh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bowl shall brim,</a:t>
            </a:r>
            <a:endParaRPr b="1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ople, Look Ea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shining beyo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frosty weather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right as sun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nd moon together.</a:t>
            </a:r>
            <a:endParaRPr b="1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76320"/>
            <a:ext cx="9144000" cy="557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People, look east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 today: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ove, the Sta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is on the way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105084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4. Angels announc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shouts of mirth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him who bring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new life to earth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ople, Look Ea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0" y="10666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et every peak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valley humming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the wor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 is coming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0" y="76320"/>
            <a:ext cx="9144000" cy="557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People, look east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 today: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ove, the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is on the way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76320"/>
            <a:ext cx="9144000" cy="53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People, look east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 today: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ove, the Gues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is on the way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0" y="91440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2. Furrows, be glad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earth is bar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ne more see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s planted there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ople, Look Ea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91440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up your strength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eed to nourish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in cours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flower may flourish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76320"/>
            <a:ext cx="9144000" cy="53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People, look east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 today: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ove, the Ros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is on the way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0" y="9619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3. Stars, keep the watch.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hen night is dim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ne more ligh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bowl shall brim,</a:t>
            </a:r>
            <a:endParaRPr b="1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ople, Look Ea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shining beyo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frosty weather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right as sun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nd moon together.</a:t>
            </a:r>
            <a:endParaRPr b="1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76320"/>
            <a:ext cx="9144000" cy="53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People, look east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 today:</a:t>
            </a:r>
            <a:br>
              <a:rPr sz="58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People, look east: 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ove, the Sta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is on the way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1-11-27T02:49:00Z</dcterms:modified>
  <cp:revision>53</cp:revision>
  <dc:subject/>
  <dc:title>PowerPoint Presentation</dc:title>
</cp:coreProperties>
</file>