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3BA-3966-4873-B333-B229D347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450-A77B-485B-A720-7D3408B3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932-95AC-45CA-8D29-5609A247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764-1F3C-495C-95C4-4A92EE54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4273-CADF-4E05-94A4-6109E19B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6E84-EC10-4E83-A682-A825CFCD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0577-8D9C-445C-83E6-FCF36A2C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019A-BA44-4429-B209-D8581CDB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594A-8500-4992-AF21-B9D0FEAD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003D-DF1A-4DFA-A988-CD67925D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F7D7-B18E-4383-94AD-2C97533A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5B5-08E7-4A63-B7BB-8D101D1F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7B92-1066-4033-A031-87897679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4372-3FBF-4AF2-963F-99316561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6C8C-E139-4408-A980-933E3594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CD54-B287-4AB5-ABB2-DC415085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F69F-4400-4EBC-A99E-A1DD5C59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D67-E5C2-4DE9-88FD-658A4BEC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C90-DDEC-444C-A08B-C0331C62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DE3-19CA-47EB-838E-414AD661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014-56DF-4BEE-90D5-F0E82141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9B0-21E4-4A2E-B12E-98FFAEFB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19A-88F7-4FCE-B7F0-54A67FC7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7764-4CE9-450D-A52A-C983F2A1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74C7-8AD7-44B3-B4A6-4FECABE16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BDA1-8FFC-4880-82F5-D42B34EB1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ny Gifts, One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051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God of change and glor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ime and sp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fear the futu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ive to us your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4 Al Carm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990720"/>
            <a:ext cx="31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l Carmines,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we 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shadows pa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gifts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great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gifts, on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ve known in many w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difference is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ivers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ise one Gi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ord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any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ing our d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Giver, for the gif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, praise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ny Gifts, One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46120"/>
            <a:ext cx="9144000" cy="388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1. God of change and glory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of time and spac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hen we fear the future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ive to us your grace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760320"/>
            <a:ext cx="318132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Al Carmines,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4 Al Carm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60948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midst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nging w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us st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race to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76320"/>
            <a:ext cx="9144000" cy="42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ny gifts, one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love known in many way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difference is bles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diversit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praise one Giver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Lord, one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Word kn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many way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allowing our day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Giver, for the gif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raise, praise, prais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7632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2. God of many color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God of many sign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 have made us differen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blessing many kinds. As the old ways disappear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let your love cast out our fea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76320"/>
            <a:ext cx="9144000" cy="42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ny gifts, one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love known in many way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difference is bles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diversit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praise one Giver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Lord, one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Word kn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many way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allowing our day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Giver, for the gif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raise, praise, prais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760" y="191916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e midst of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nging way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ive us stil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grace to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3. Freshness of the morn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newness of each nigh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you are still creating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endless love and light.                  This we see, as shadows par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ny gifts from one great hear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76320"/>
            <a:ext cx="9144000" cy="42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Many gifts, one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love known in many way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our difference is blessing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rom diversit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we praise one Giver,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364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Lord, one Spirit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one Word known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in many way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hallowing our days.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For the Giver, for the gifts,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raise, praise, praise!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gifts, on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ve known in many w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difference is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ivers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ise one Gi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ord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any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ing our d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Giver, for the gif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, praise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God of many colo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many sig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have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s differ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ing many ki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the old way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app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your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st out our f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906480"/>
            <a:ext cx="9144000" cy="47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ny gifts, on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ve known in many w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difference is bless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ivers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praise one Gi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Lord, one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e Word 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any way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llowing our days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he Giver, for the gif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, praise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Freshness of the morn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ewness of each n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are still creat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ndless 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01-20T13:23:03Z</dcterms:modified>
  <cp:revision>31</cp:revision>
  <dc:subject/>
  <dc:title>PowerPoint Presentation</dc:title>
</cp:coreProperties>
</file>