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67C1-193F-46A3-AC5C-FF0480A91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D393-E037-49C3-BFDD-73209BCD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2934-C49A-4E4E-8FEB-2FCB36FC7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4020-E1B0-4703-AB5A-92A6A8C51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3D14-DAF8-4880-B830-D1B3720C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A710-C69E-4E58-A84A-C66699C8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D8DC-432C-4184-8C43-9541BDAC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F446-45BF-49FC-AD27-2545121E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31C6-045A-4784-A997-C49D6C7E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38B4-37D7-4811-A62B-C828410C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DA65-133B-4A43-9B67-965D0F88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10EE-36B3-4185-BFF0-AE9EC6AF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96AB-1725-43C9-B6FC-3236326CA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t the Birth of a Chi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676520"/>
            <a:ext cx="8763120" cy="429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Hail the day on which a child,</a:t>
            </a:r>
            <a:br>
              <a:rPr sz="5000"/>
            </a:b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(name)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was born. Rejoice! </a:t>
            </a:r>
            <a:br>
              <a:rPr sz="2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) From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Masai, Herders of East Afric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by Sonia Bleek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3 Sonia Bleeker.  Reprinted by permission of Morrow Junior Boo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) © 1975 John S.  Mbiti,  by permission of SP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Birth of a Chi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096920"/>
            <a:ext cx="8839080" cy="398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Let us all sing and praise her that gave birth to a 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(son/daughter)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for whom she longed. Greet this day with joy. Our hearts are glad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The Masai people</a:t>
            </a:r>
            <a:br>
              <a:rPr sz="2200"/>
            </a:b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Kenya and Tanzania (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423720"/>
            <a:ext cx="8839080" cy="634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pray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 Creator, who dost all huma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beings create,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u hast a great worth on 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nferr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y bringing us this little child!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he Akamba People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Kenya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Birth of a Chil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01:49Z</dcterms:modified>
  <cp:revision>8</cp:revision>
  <dc:subject/>
  <dc:title>PowerPoint Presentation</dc:title>
</cp:coreProperties>
</file>