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0BCE-7F9E-4273-849E-80D596AD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42A5-7788-42D9-B0DD-5856B5CF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3CC-1A32-4056-8BC1-DC7686C8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EA5-BEA7-4615-8B2A-9A0A317E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B72-9D19-4BC6-8E75-E9E61E52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87D6-D96A-4150-A2F8-822EC1E3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302-25E9-4D2B-A570-483A149E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9AB-E474-4B51-8D73-131B2F8E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8F76-DE8D-420E-B305-59988ADD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B17-2144-4075-86CB-E3881A29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169-5A2D-498A-B3A9-79087648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9840-A57D-40B5-A5F2-81960E91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FAA3-4A7A-4253-B06E-687F4A627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venant Faithfulness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Quaerite Domin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335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ace, Lord, do I seek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de not your face from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and Response 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Covenant Faithful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2080" y="2233440"/>
            <a:ext cx="591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Isaiah 55:6-11; adapt.; Response, Isaiah 55:6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905120"/>
            <a:ext cx="861048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it shall accomplis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which I inte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prosper in the th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 which I send it.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295280"/>
            <a:ext cx="8610480" cy="393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ek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now is prese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all upon the Lor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is nea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 wick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sake their w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unrighteo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ir thought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m return, that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y have mercy on them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our God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bundantly pard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my thoughts are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 though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neither are your way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y ways, says the Lord.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0666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as the heavens ar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gher than the earth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are my ways hig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than your way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and my though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than your though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9335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s the rain and the sn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me down from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return not b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ater the ear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ing it br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th and sprou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ing seed to the s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read to the eat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shall my word be that go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th from my mouth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t shall not retur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me empt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4:40Z</dcterms:modified>
  <cp:revision>30</cp:revision>
  <dc:subject/>
  <dc:title>PowerPoint Presentation</dc:title>
</cp:coreProperties>
</file>