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9CE-4B28-4903-AEA8-8667BF0F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6F4-AFA9-47B5-AF15-B7CB2652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676-6DD5-4CBC-A4B6-6018EF5E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247-B859-42BC-A1FC-1483C892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D46-DCB8-4775-89CC-FB794EA4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E5F-B71F-456C-8DC1-90DDB901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E25-E1F2-4208-9E23-929331CE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B14-BBF8-4A98-B468-669A331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058-9AE4-485B-B706-6832A4FE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1D3-AA33-424B-BF48-C0342C7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52B-719F-40B6-B5B4-C92CB039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1B3-87DB-4C02-A5AC-25799DB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995-7965-4DAB-8056-648BC0DC6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! the Name High over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!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 over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ll or earth or sk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and m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strat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vils fear and f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0840" y="1092240"/>
            <a:ext cx="49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Phil. 2:9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!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inners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to sinner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catters a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ilt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urns their hell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ha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ght taste and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ches of his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m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ompas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all the world emb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e I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stantly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l opp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bol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a world of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His only righteous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saving truth procla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all my bus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be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ry, “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Happy, if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may but gasp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ach him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y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Behold, 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14Z</dcterms:modified>
  <cp:revision>43</cp:revision>
  <dc:subject/>
  <dc:title>PowerPoint Presentation</dc:title>
</cp:coreProperties>
</file>