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C4A-1043-4EFD-8850-3B78FDBC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AFC-C8D4-4D4D-96B5-C193B814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900-C242-4434-97F6-5FE334D6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70C-6BAC-4C36-93C9-AF95C0E4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8263-EEC8-484D-A381-2ABAE695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AB1C-3AD9-4233-AE1B-D3B45374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B39-AE76-4316-9A03-F1C261D0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F4A8-F327-4FEB-A78E-5123DD8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4B6-2438-4613-AFFC-B674CBAA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C8C6-D77E-4089-A556-E1215884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C4A5-ED13-4042-A823-4D42ADE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372-A2FA-4F62-BE98-E989A22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AC46-C99A-4E8C-9121-AC01EBF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514F-6080-4240-98DA-8EBCEFF1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96A0-7196-4543-A13A-F10F69CB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DB17-6B88-4B38-82AB-4D04A920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EE0B-E012-4B9E-A273-E17187F1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AC6-2CE1-45BD-A0FB-6A0B3D81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ED5-57FE-43FC-8DB1-4336F98D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BC7-080D-4817-B2ED-F9E136A0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754-7044-4B69-BCCF-FECE26D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BA2-B1B4-422A-BC01-B68B68E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338-9D2A-4833-A52D-D179285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63D-7083-46EC-AB9D-C0203AE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6828-E9A1-4826-8E77-17D1C68DD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166-9CCB-4A69-A5CF-C1E79DD7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Wideness 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15228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There’s a wide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God’s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ke the wideness of the sea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0600" y="66996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. Faber, 1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is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e gr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healing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the lov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broa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he m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ost wonderfully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f our love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more si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be illum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resence of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794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’s a kind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God’s justi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is more than liberty.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4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There is welc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the sinn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ore grac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the good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508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 is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the Savio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 is healing in his bloo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160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For the love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 is broad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n the measu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our min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87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 hear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Etern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s most wonderfully ki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160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If our love w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more simp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should res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pon God’s w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ur liv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uld be illumin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 presence of our Lor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Widenes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here’s a wid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the wideness of the sea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’s a kin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just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more than lib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40600" y="14479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. Faber, 1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27T01:43:43Z</dcterms:modified>
  <cp:revision>38</cp:revision>
  <dc:subject/>
  <dc:title>PowerPoint Presentation</dc:title>
</cp:coreProperties>
</file>