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7B2-8944-45EA-8A5D-C1EBF888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428-5895-41A4-AF16-82372F19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1C3-BC32-42CC-BB45-1BA7952B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E3F-B89E-4316-B572-C4D824AB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772E-E7F9-4541-95BA-07019C88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8669-1DF4-4C88-8C00-7AB03929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5F42-50A5-42FE-BFF1-2C6B1125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5AEF-9EAD-41C5-8A85-86C90621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F67B-CF90-4C38-93B5-07EB9978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2074-4605-4C62-8492-CA32A2E1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69D5-8B59-4165-9A18-A76D6C39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37B-94DC-43B1-BC57-2796D7FA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5BC1-3C25-474E-98EB-67F3FBF2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A778-6115-471E-A9B9-1EF51B28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74D2-73F1-476A-A7D5-70A828C8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38C2-2EEA-46EA-8CD1-BC9BC3F0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1805-2F97-46F9-9952-43159A8B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496-656C-48AC-97DD-483F0300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8AC-8A0F-4CF9-AE74-1A277689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7C8-25E1-43A0-B889-15708E43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2E1-54C9-488D-8330-CC506CF3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392-9148-4792-87D5-887E8E13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BD1-1144-4B02-930D-0098F26D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A17F-EDBA-4539-A9FA-C79ACBA7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F7F4-6B08-4F3F-9028-870B94C48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D442-01A2-4DE9-8302-7D43BEDCC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My Shephe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’ll Not W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04812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Lord’s my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not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29720" y="1676520"/>
            <a:ext cx="411120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Scottish Psalter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50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Yea, though I wal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death’s dark val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t will I fear no 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thou art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y rod and staf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 comfort sti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My table thou ha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rnished in prese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my foe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head thou d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oil anoin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y cup overflow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7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. Goodness and merc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my lif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ll surely follow m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in God’s hou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vermo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dwelling place shall b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akes me down to l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astures gre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quiet waters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y soul he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or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 to walk doth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e pa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for his own name’s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Yea, though I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eath’s dark va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will I fear no 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 art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rod and staf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comfort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y table thou h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rnished in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fo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d thou d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il anoi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cup overflow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oodness and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urely follow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God’s ho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welling place sha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My Shephe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’ll Not W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4382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Lord’s my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not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29720" y="1447920"/>
            <a:ext cx="411120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Scottish Psalter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50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akes me down to l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astures gre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quiet waters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My soul he do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tore agai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e to walk doth mak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in the path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righteous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’en for his own name’s sa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24T23:46:28Z</dcterms:modified>
  <cp:revision>56</cp:revision>
  <dc:subject/>
  <dc:title>PowerPoint Presentation</dc:title>
</cp:coreProperties>
</file>