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2FE-0911-47CF-B168-07A7166C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B3A-DD9A-4BAE-BE4D-1AEC4D4E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BE6-3A7A-4AB7-84A8-AE78A88D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7CF-95B0-4D6A-816E-F7E5CC6C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F87-E9B5-48C7-94B5-F3BC3A5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914-DD6C-4B26-ADEF-60C811B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953-08AD-4FDA-A114-C9ACEFE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68A-A081-4B74-B24B-696C126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78D-B719-40D8-BC5C-C56C63AA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599-E795-4F38-81FB-353B314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B79-AC30-45BB-9A8A-5D553F9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B65-1143-404F-B2C3-EEFE244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A9D-7A4C-46A4-BA14-15D8A658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from The Revised Standard Version of the Bible © 1946, 1952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3120" y="1104840"/>
            <a:ext cx="66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8:26; Luke 11:9-10; adapt by Alan Luff, 1962, alt.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, and you wi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i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to yo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all who ask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seek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ose who kn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be open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Spirit intercedes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43Z</dcterms:modified>
  <cp:revision>26</cp:revision>
  <dc:subject/>
  <dc:title>PowerPoint Presentation</dc:title>
</cp:coreProperties>
</file>