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E2F-9A2E-4A26-AE51-486E79C4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EAF-A6D4-40DC-AE71-C895B5C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9DD-845D-49E7-88E5-98B8AEB7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C59-662D-40D7-AAB4-4BCC31C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C925-732C-4BBF-8228-42943271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96F-7E50-49EF-BB11-858392A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6467-7EDA-4F3E-987A-A4E66BA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CA20-0155-46A3-A083-665D24C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A72-B2EE-44B5-A1C2-A7038E57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699-DA15-4E7D-AC81-52CF027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1BB-B620-4474-8FD7-4F40419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AA6-512E-4578-80C8-B04C9DE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F8C3-7BB4-4BF2-BD97-ADB1805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61D3-A14D-432C-8596-6E7871D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75B9-0F8A-42F4-A1C7-9B802B5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C29-6299-4C39-A92E-7EFF49B9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D6F-DEF1-439D-968F-B56F80DE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A7D-411D-4E4C-894E-06290E9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B01-A5DF-4746-8C39-29BE26F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034-3DA1-4ED5-BFEC-79D9AF1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B5F-024A-4D0B-A983-4BE1EC25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884-1FFB-49A4-A3E4-4FF6C50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C3B-0BA5-4C58-A76A-664B028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397-92CE-4590-BD27-01B8870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1BED-24C9-4C82-BF76-0894B0AD9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4A0-9CA8-4FF6-83A4-469EDED4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760" y="109224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ca. 1529; trans. by Frederick H. Hedge, 1853 (Ps. 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 of Go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choo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 the batt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to triump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606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ittl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ell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si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3:45:12Z</dcterms:modified>
  <cp:revision>30</cp:revision>
  <dc:subject/>
  <dc:title>PowerPoint Presentation</dc:title>
</cp:coreProperties>
</file>