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847-28E4-4DE7-ABE6-800FA9D1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DCC-788A-4D3B-AC65-F6A4AEF2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5D5-F359-46A3-A459-AF5DAD42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830-89FD-4908-9B17-FF63F620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971-9E44-416D-9CA8-A6535C37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9B0-1C62-40CE-AA79-493C3214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CA2-1D98-4094-89E1-C89C150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650-7BDA-4A8C-BED4-8726A8B6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D89-FB66-4E6C-B4FC-96F91DA6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29C-7D74-4D4A-8FF4-F71A3CE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A40-FDD2-4C1A-B829-33FEE896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B9D-1107-4F18-A4B4-CDD37F2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46D5-5EA9-4C91-8599-485F34F1B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ld December Flies Away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En el Fr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o Inve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15000"/>
            <a:ext cx="9144000" cy="75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panish trans. © 1987 Skinner Chávez-M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538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carol; trans. by Howard Hawhee, 197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panish by Skinner Ch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4600" y="2438280"/>
            <a:ext cx="824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ld December flies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ose red splendo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pril’s crowning glory break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whole world won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Invern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0600" y="1676520"/>
            <a:ext cx="6770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46720" y="129528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040" y="1523880"/>
            <a:ext cx="7346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41960" y="152388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0" y="1066680"/>
            <a:ext cx="7787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yes were closed 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December Flies Awa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3:08Z</dcterms:modified>
  <cp:revision>81</cp:revision>
  <dc:subject/>
  <dc:title>PowerPoint Presentation</dc:title>
</cp:coreProperties>
</file>