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FE55-A2ED-4E79-83B5-0F61EA43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3B8A-DF40-4AE8-AE97-EDC4B8BC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93EF-EF40-41FB-ADDA-43D45999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AE98-1D57-4ADB-AF52-DBDFE11E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914F-D9B8-447E-8D0B-88BC009B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8C8E-C933-4D64-A92E-D5B10F1D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ECE7-9A09-4C27-9513-E624D574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56EC-6353-4BF8-8E18-80CF6B3D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04FE-F957-4C17-B8DF-BB2EDC43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E2E8-E943-4CA1-8AAA-D6FA0FBF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56C2-FCB1-402F-AF15-177BE805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5477-F401-4FC1-80D1-A3710735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0261-247D-46BE-A017-7DE150731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Kyrie Ele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02040"/>
            <a:ext cx="914400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yrie, Kyrie, elei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yrie Ele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4800" y="990720"/>
            <a:ext cx="291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Ancient Greek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20:12Z</dcterms:modified>
  <cp:revision>24</cp:revision>
  <dc:subject/>
  <dc:title>PowerPoint Presentation</dc:title>
</cp:coreProperties>
</file>