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700-D3ED-4786-BA2E-BACCD40B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69B-83E4-45F6-A909-5D49811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B18-9C21-43ED-AE4D-39C44355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3A3-FAB3-4BBC-B265-A2AF5643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52D-D2E1-40AA-9398-61CF2DA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B69-BDC9-4711-A27B-C4097D3D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522-7A15-4AA3-A871-4C09601D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923-EF1E-42EA-B15B-C9990A39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11F-8377-42A7-AFC1-6120D690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C45-BD13-4E05-A56A-E40700C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18A-D1ED-4E37-BF77-AA2F1E25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528-A2CC-4758-B18B-DCA3BC5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7BDA-A630-4879-BBA6-44B77A66E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 Peaceful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133720"/>
            <a:ext cx="8686800" cy="29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 God, you have let me pass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the day in peace;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let me pass the night in peace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O Lord who has no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Peaceful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2160" y="106668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d. prayer of the Boran peo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055520"/>
            <a:ext cx="8686800" cy="47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ere is no strength but in you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 alone have no obligation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Under your hand I pass the night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 are my Mother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nd my Fath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2:16Z</dcterms:modified>
  <cp:revision>19</cp:revision>
  <dc:subject/>
  <dc:title>PowerPoint Presentation</dc:title>
</cp:coreProperties>
</file>