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9BD9-6F43-4742-A255-113F50E0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2252-7081-4765-A712-0A727A8D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B8A7-138A-47B1-BAE9-4EBFFB2E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3E3C-95BF-4BD4-9F84-A08317EC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4391-6484-41CC-830D-B872EAA0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079F-0767-44D6-B725-EDBAC98D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C416-1898-4F21-B58E-A85F96F9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01BD-C5A1-4559-8E91-FD39CD36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E3EF-4A6F-4DAD-AA3D-AC1BB532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765E-D5B3-488F-9253-7C5157BD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314B-1C35-4995-A65B-1D47E34C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001D-4372-4D48-9B85-4676F00D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0A18-DA12-4AF2-A917-913FC7FB6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ne Be the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e Be The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Edmond L. Budry, 1904; trans. by R. Birch Hoyle, 192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ine be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n, conquering S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less is the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o’er death hast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by permission of The World Student Christian Fe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in bright raim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lled the stone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pt the folded grave-cloth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y body l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be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n, conquering S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less is the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o’er death hast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e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o! Jesus meets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n from the tomb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ingly he greets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atters fear and glo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e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church with gla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ymns of triumph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ur Lord now live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hath lost its st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be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n, conquering S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less is the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o’er death hast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e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 more we doubt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ous Prince of lif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is na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out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id us in our str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e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us 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 conquero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y deathles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us safe through Jord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home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be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n, conquering S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less is the vic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o’er death hast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e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06:38Z</dcterms:modified>
  <cp:revision>64</cp:revision>
  <dc:subject/>
  <dc:title>PowerPoint Presentation</dc:title>
</cp:coreProperties>
</file>