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AC0-7DFA-447B-8F12-90D1DE53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3F8-81D5-4EBA-AB80-06F19D3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5B4-DE0C-46CC-9359-BAAE7114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CE7-9CEC-49A3-95DB-8CD462AC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FD75-949C-4FD3-B646-EAC95ABA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6789-D53B-4A1A-AE2F-C45F09B9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EFBB-1917-4A93-A2EF-AA0A41B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B2F-1D04-49BD-AD73-B012441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2892-117E-465D-9B28-28F3F9C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8D5-F163-4DB2-97E2-7A91C84E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CE21-A9FB-46DA-B44B-9C5B598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5A9-5EBF-470D-BA28-49F8106B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FAD8-5AC9-4DCE-AB9B-C8C503C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871-0546-4BFD-B217-EF75B81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11F2-61DB-41DB-AEDF-88204AB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D16C-39C1-4DD7-9823-3C210F8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2E91-F8A6-45DF-834F-CC5B2A72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2F6-EC89-4A21-9F59-84982B33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DF9-FC2C-4BC1-9AB3-D506FBC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ED9-4B53-4607-90D4-54CA426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30C-0683-4233-8D85-7DE8C80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4E7-C7EE-4644-A558-4B6EDD2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27E-2020-4820-B5F9-03C1854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232-5F0C-4854-9D10-A8D8010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2F3-0181-41E6-AB2D-A2D51AFCD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E7D-7EF8-4762-8CEC-93FEFB216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911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22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 looking nei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572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371600"/>
            <a:ext cx="8915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600" y="1676520"/>
            <a:ext cx="805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67652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890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43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457200"/>
            <a:ext cx="891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3:56:21Z</dcterms:modified>
  <cp:revision>104</cp:revision>
  <dc:subject/>
  <dc:title>PowerPoint Presentation</dc:title>
</cp:coreProperties>
</file>