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A7B-852C-4786-AD19-37EBCD54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005-B522-4EA3-ACE6-826D16BD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D84-A60C-46AF-A9E3-E8B9A33C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4CB-1CC5-4DCF-BE88-BD958212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B8E-E94D-4A0F-95E9-CBD2AC48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463-BAE2-4356-A270-AEB2CCB4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16C-BA06-43B0-88B2-D2024173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323-F026-489A-8DAE-B70585D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165-7446-48D1-B52D-BE34554D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3E0-5424-43D0-8196-3C355B8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4B2-F550-40A4-9A83-67F9BD5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369-DF82-4B27-B327-5114636E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B5A4-9F5D-481B-BE20-703E67EBE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4</a:t>
            </a:r>
            <a:br>
              <a:rPr sz="44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Psalm 24; Response 1, Isaiah 6:3; Response 2, Psalm 24:3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b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4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,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dvent, All Saint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009880"/>
            <a:ext cx="8610480" cy="263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of hos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e is the King of glor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506600"/>
            <a:ext cx="8610480" cy="40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06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44480"/>
            <a:ext cx="8610480" cy="33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6:54Z</dcterms:modified>
  <cp:revision>34</cp:revision>
  <dc:subject/>
  <dc:title>PowerPoint Presentation</dc:title>
</cp:coreProperties>
</file>