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C56-6975-472D-B590-57C1DF03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9E6-8E0C-4A15-A76B-A5F0CE14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1F7-7277-41AD-B666-332BF238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198-1C33-441B-8A19-0AAA131F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044-CB0E-48DC-8700-EF93864F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D2E-F8FE-4308-BBD9-43CC963F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6A8-FCAF-42E4-BF66-067E138E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47C-23AD-44BD-BE95-D5EFEDFF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61A-074D-4786-8F41-8CA45303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6D0-19E8-4BC3-9E67-C6308C2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F08-C7B1-4B3F-9543-CA6B28E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5E6-209A-44B5-A1B5-B5092BA0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452-27B9-4E06-BE9F-9E433C52C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ome to U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iving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hich the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The Westminster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riam Drury, 1970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ly comfort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-failing w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ring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inc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to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venant sig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Christian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boar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th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, O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10Z</dcterms:modified>
  <cp:revision>132</cp:revision>
  <dc:subject/>
  <dc:title>PowerPoint Presentation</dc:title>
</cp:coreProperties>
</file>