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FC9-E239-4D23-9083-83E90293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557-DFE8-4EFE-957F-C6B9275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3CC-604B-4DE2-95F1-27B1C072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D4C-B665-45B5-B982-9CDB64C5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09C-7894-4CAF-95AF-DD347562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0E1-2ED8-41D3-8D0A-0D856AB8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11A-4383-44FB-A153-A18BAB3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C76-978C-417F-A797-BBE78BC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26F-F74B-4581-834E-AA694C3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6A1-2581-401C-9FF6-4D2C766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AEF-54FB-473E-9A94-24A5E2E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F02-92E1-4ABA-B19A-60CC27A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9C2-442B-4123-B62F-ED2063BCA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Wh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ped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05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ped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ear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otic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6520" y="1676520"/>
            <a:ext cx="632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iam W. Reid, Jr. 1987 (Gen. 1:1-3, 26-27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ar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i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some m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our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ab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jo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ing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reasured c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God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nkets tar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their ch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, weari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nd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you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ed 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other-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h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m emb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et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anqu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evea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der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ouc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ke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hea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lai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trip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deful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d of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!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was g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es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fram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im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nto bi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blesse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ant foot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re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lendored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od, wit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other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i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ar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end pat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uring, but defi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oo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at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ust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orlds you birt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ur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urn way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o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though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 your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3:05Z</dcterms:modified>
  <cp:revision>13</cp:revision>
  <dc:subject/>
  <dc:title>PowerPoint Presentation</dc:title>
</cp:coreProperties>
</file>