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2E-3B16-4E0E-B5C4-F6AB3AF4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769-27D2-4710-8E58-E18290F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7C5-A152-46D1-AE3B-CE71B353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9EE-23B1-41A1-9B58-FF9E20F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550-2698-4C18-9257-F6F08095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AF9-FB2D-41DC-88E6-EDA3E3C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A4F3-7F05-40A2-BDCC-3AB5A39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185-706F-4318-BFFD-D338736C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BE86-D239-4594-A88C-55824F6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D1F7-3E7D-4C72-AB6A-1DDF6BD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F52-716D-424A-94FD-CFD4B6F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08E-294D-40E9-AD78-936AFB81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B399-05FC-4DFE-926D-FC522724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7B0-58E9-45A6-981F-02B7A3F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7A7-4F1C-4CAC-BF8D-3E6DA9D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5E9-3F5B-4DEE-8273-C0976893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44A-5D3E-4D89-8800-0AB73661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EC6-6A44-4795-A142-EECE2E62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578-32C5-41EB-918C-1266A517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C91-FEEC-43E9-B607-9C2EBFF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6D8-BE59-4791-AE90-FBFB0A8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EB1-BDB4-4D1D-BC2D-8E26317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AC9-115F-4B54-BDD7-DC03770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B85-4B1F-490A-B904-1393B9E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EDFD-DEFB-433D-84B6-05237032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4CB-5795-43B5-A465-8AB42918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200" y="7621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3200" y="1066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26T01:35:25Z</dcterms:modified>
  <cp:revision>55</cp:revision>
  <dc:subject/>
  <dc:title>PowerPoint Presentation</dc:title>
</cp:coreProperties>
</file>