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E0A-6B58-4E30-91DE-76D98FDB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DF2-FB7A-4F2E-9FAA-0CE534BB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2F4-EF4E-48B1-938D-1D6C4AB2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2CE-E811-4EE7-BE1F-38D9C9F5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965-6D18-4419-8840-83300CBE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B42-ED4B-4238-BB9F-38C2355D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C55-38AE-4E9D-8CE4-6E1EBB4A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B8A-A62D-4A42-940D-0B83FF92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E8F-332F-45FF-B376-77F3F01B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CBE-6B66-4755-A26A-B32B6D3F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9A1-FA74-4F44-977A-B284E610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866-CE1D-4383-BFA7-4CA0A389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198E-ECCC-484E-B630-DD02848D5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ary of All Trump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ary of all trumpe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ry of all ki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ry of all songs that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mise, non-fulfi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Inter-Lutheran Commission on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83000" y="1077840"/>
            <a:ext cx="4019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artin Franzmann, 1971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one s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join in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eat mus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st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with heaven is r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ptain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wl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 King, your 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de us shea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olish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de us cease deny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mpe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’s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ach h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self-giving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us all to fol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o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mmon all the li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mmon us to live by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ining all by giv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in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ners in your splen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2:42Z</dcterms:modified>
  <cp:revision>11</cp:revision>
  <dc:subject/>
  <dc:title>PowerPoint Presentation</dc:title>
</cp:coreProperties>
</file>