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3FEB-EB78-41D9-8124-66C68EF20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295D-D334-4597-B8B9-2D44C3F77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39DB-8030-4CC8-91FB-FBCF30B4D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B34D-A2B2-41F0-885C-CA04E5845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6790-3022-4156-A1F6-58E10746E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C87A-EFE9-4CCA-A17D-516090106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A23C-FF5F-441B-9906-D88B24D03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9E58-52D5-4A60-967D-03ED3D2D6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CB71-66A7-4803-992F-E0640347D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4196-69BB-4642-80CA-C7928FF5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FD46-4A6A-483C-A628-6878EAFB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6D79-FB28-483D-A6DF-BC4E88F7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4FC1D-1ECE-4487-8CF1-EA53E3A577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ove Divine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ll Loves Excel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8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ve Divine, All Loves Excell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00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harles Wesley, 174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Love div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loves excel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oy of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earth come dow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ddenly retur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n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vermore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mples lea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e we would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ways bles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rve thee 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hosts abov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y and praise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out cea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y in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rfect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ve Divine, All Loves Excell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Finish, th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y new creatio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ure and spotl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us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see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 salv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rfectly resto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anged from gl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to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in hea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take our plac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cast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owns before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st in wond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, and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x in us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umble dwell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y faithf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rcies crow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, thou 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compass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ure, unbound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thou ar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isit us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salvatio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ter eve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embling he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ve Divine, All Loves Excell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Breathe, O brea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y loving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to eve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roubled breast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e inheri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find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cond r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a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bent to sinn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pha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mega b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d of fai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its begin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t our he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liber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ve Divine, All Loves Excell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Come, Almigh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deli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us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y life recei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48:23Z</dcterms:modified>
  <cp:revision>132</cp:revision>
  <dc:subject/>
  <dc:title>PowerPoint Presentation</dc:title>
</cp:coreProperties>
</file>