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9F1-12D6-4633-8CE9-6FA88AB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5E9-F83D-4B4A-A301-0D632EF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1D1-F7F4-43F1-B8BA-5A7A78E6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C1F-395F-41D1-AB30-326F2E6A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F34A-5DFA-45F0-ABB7-03A15791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45A-8A44-41DE-809E-FC3DC0E5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DDCD-D132-46F8-A354-E5CB06E0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BB65-CB13-4478-AA1E-1058CC5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8570-312B-4FA1-B206-AB6DFDE2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34FC-0A17-4977-8F04-C3EC966C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485-66BF-44B1-8E99-412D8DD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A68-0AC5-42CB-BAD1-21F1DBD0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B46F-9F5C-4766-B3B5-D4DD871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FB1-D96D-4FFA-BBC9-6202B2F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C82-C5D3-4BF7-9DC5-6BCADAEC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AE79-7716-45C8-926C-9C4BFC8B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403F-11FE-4409-A2FA-4EA77625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EB1-5409-422A-BCAF-B21F6396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150E-0B46-47ED-A8F1-BF7F7A83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8CC-2279-47D0-849A-95AE84C5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741-F08A-47B8-A4C8-8FB2F489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CEA-8E86-4FCA-8DAA-D851E40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F7D-66AA-49A4-A8BA-36434FE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C42-5997-4ED4-BD5C-E6FA861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28BC-5569-464C-AA86-8394BBB1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354-63B5-4989-8107-155C6A289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ing with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aints in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5560" y="11430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God’s likeness we, awak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3352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O what glory, far exceed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0492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esus lives, who once was dead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78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riarchs from the distant 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ints shall stand before the thr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to enter that bright p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0060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round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uds are bre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on the storm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ime shall c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God’s like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, awak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the everlasting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what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r exceed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eye has yet perceive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ges plea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ver that full joy concei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welcome wait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humble spirit shares i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Life eternal! heaven rejoice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lives, wh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ce was dea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w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athless voic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triarchs from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tant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all long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ir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phets, psalmis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rs, and s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await the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ife eternal! O what wond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wd on fait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joy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, amidst earth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osing thunde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nts shall st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to en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ight p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that glowing firmamen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, with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Immorta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“Jesus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has sen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364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 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Sing with all the saints in gl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g the resurrection song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and sorrow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arth’s dark story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the former days bel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5560" y="685800"/>
            <a:ext cx="45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0-14T00:12:19Z</dcterms:modified>
  <cp:revision>47</cp:revision>
  <dc:subject/>
  <dc:title>PowerPoint Presentation</dc:title>
</cp:coreProperties>
</file>