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6D7-EFED-4FF9-9963-9469C94B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4A8-B4A5-4831-8587-CB19178B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525-1AD1-428C-9C3F-BFC89B65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7BC-4EEF-4C59-91D1-0ACA6631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21BC-C251-4139-9E58-F6A5EFEC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75C1-7875-4365-AE6B-9BC3C87C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B1FF-0D40-49F5-BA1A-E96A6A11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FC44-EE33-49AB-B1A6-93A37CCC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A9B1-3C2A-4245-B970-086197CA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2230-2BC0-4E8A-9109-0D5EF782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9DFD-CD11-4194-9A62-79ABC872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209-2BAF-46DB-BD27-8490EC2B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D464-A59D-428C-BD1F-40182FA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363F-AC3F-4D55-992D-8BD8B0B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DCC7-0923-44DD-A6C0-AB6229F0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BF4D-C65A-45B3-A203-9082A1D8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AAE7-BC82-4193-ADBE-68F0F6F9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FD4-EB3A-4709-9CCC-D457C79A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554-CBC8-4B86-BB36-D8EF3468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EAE-DA38-4423-969A-78E8501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9C3-81C6-41FB-BE1D-319C680B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86D-53B6-4DD5-91DF-8CF734F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94F-68CC-43BD-AA48-E85476CD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096-B5B8-4B3A-8F4C-A710148C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3163-6CDC-41AB-AFD4-DC8856D85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6FCD-2F81-48DF-A7B8-71C13FB7F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f Jesus’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2057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dward Perronet, 1779; alt. by John Rippon, 17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094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232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f Jesus’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dward Perronet, 1779; alt. by John Rippon, 17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3644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Jesus’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Perronet, 1779; alt. by John Rippon, 17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028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746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82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4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6-25T13:42:42Z</dcterms:modified>
  <cp:revision>20</cp:revision>
  <dc:subject/>
  <dc:title>PowerPoint Presentation</dc:title>
</cp:coreProperties>
</file>