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593-25C3-458F-A415-3315E1C5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DA7-01C2-4E3B-9770-A56EC34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F57-7DF1-4723-B8E8-A04CE536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19D-3541-4BD8-90FD-7CB9EEDC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484-0C6C-49D9-894F-6ED3A1F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0C7-8281-4B0A-ABDE-18A18BC1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8A0-59C3-42C5-ADB3-83080C4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83A-3B96-4744-B5AB-A85B37EA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414-A806-44B5-9E8F-E30E7260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C4D-2054-451F-A0D1-8E4159C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D0D-A7A5-4437-947F-64B7884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5DC-D949-41BA-B476-63BCF0C4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DFB-EBB6-4E69-A5A6-D2046380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nd Who Mak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inds That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ind who makes 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nds that b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usts that b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apling 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omas H. Troeger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9200" y="1676520"/>
            <a:ext cx="484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3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py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own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and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at bla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ds, and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at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under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les that h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a in w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’s deep cave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 your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ead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,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, rene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’v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e who fu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ires that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 around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ets 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cons mar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efs and sho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ru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oul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 c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in tongu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fl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readth and l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ith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36Z</dcterms:modified>
  <cp:revision>10</cp:revision>
  <dc:subject/>
  <dc:title>PowerPoint Presentation</dc:title>
</cp:coreProperties>
</file>