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BC7-494B-45B3-99E3-2458DAB6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11D-196D-4F67-BE7D-7CE6EE8E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437-342F-4303-8941-314AFCEC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016-3BBC-470F-AD27-AFB4C87D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B8A-1FA8-4AE8-B5CA-B2890F1E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E6E-96D2-4B13-874F-8415AEEE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E3B-AF33-40A7-BDA6-59A8B1D1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87D-A97B-49E1-B4E8-FAA24B06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BEF-49BE-42C2-B713-62D44960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1BB-2063-435D-862C-B1E1631F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6C5-0301-42FE-8BBA-5C88E794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179-73B6-4100-A8E6-6ECD0AC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DF64-0B5F-4E9E-BC6D-54000F179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Would Se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would see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his star is sh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s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angels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3120" y="1092240"/>
            <a:ext cx="33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. Edgar Parks, 19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ea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ce scor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ive ourselve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n a m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hay recli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te, let us lay our gifts 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would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y’s son mos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the vill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from day to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revealed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task most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ris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fe, the truth,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would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mountain t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the lis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 gathered 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birds and fl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are prea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essednes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e trust ha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would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work of hea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event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sun was se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vine and hu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deep rev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ing service m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would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early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s of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eth, “Follow m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9:49Z</dcterms:modified>
  <cp:revision>13</cp:revision>
  <dc:subject/>
  <dc:title>PowerPoint Presentation</dc:title>
</cp:coreProperties>
</file>