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3C5-B647-45DA-B25C-7563655A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398-31EF-42F2-AAAC-E25C046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8D7-5CFB-42C8-8573-1C3217B4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998-4848-4442-A434-6F2759BF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7BE-66C0-44CA-9116-133719D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4F7-0645-45A9-96BF-888A405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3BC-C919-4A0D-B040-310E269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BE8-2949-4D2E-99D5-4F01FF8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DC9-611E-49F6-8CC7-A6621DF9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9AE-3061-4B16-8C59-CE1D8F76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0A2-38A1-4C86-A444-731AB02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0C9-A47C-4334-A1FF-2BF7339C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2E1E-F9CC-4757-A13D-57BC90D5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Anointed One,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ight before he suffe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stituted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body and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Thur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41160" y="928800"/>
            <a:ext cx="61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26:26-29; Mk. 14:22-25; Lk. 17-20; 1 Cor. 11:23-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ifully grant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receive it thank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n these holy myste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s us a pledg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f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10Z</dcterms:modified>
  <cp:revision>16</cp:revision>
  <dc:subject/>
  <dc:title>PowerPoint Presentation</dc:title>
</cp:coreProperties>
</file>