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5FC8-5854-477F-BCE3-4D8E36B34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E18E-FF39-425D-8DBD-86F91591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A11D-6DD4-44E5-BBF3-AA2323947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D832-18B9-4313-ADF5-20A0BE8B0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B7F6-5040-4D45-8F7E-5BB79DE1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FC72-2CCF-4B4E-8E37-40E19E87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A528-9C09-4025-B5F0-F1E5115D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445E-72D9-43BF-BDA7-75BEDA09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2601-5A9E-4394-A743-537231FD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8467-329F-444C-961B-5C4DD5AC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D24B-A202-4F33-80B7-8A08E04B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F00E-8182-4B37-983F-04537540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C332C-1FAA-445B-99F9-120FF775D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ere Shall My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ondering Soul Beg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. Where shall m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wondering soul begin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How shall I all to heaven aspire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A slave redeem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from death and si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a brand plucked from eternal fir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Shall My Wondering Soul Begin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12360" y="1447920"/>
            <a:ext cx="25369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Charles Wesley, 173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197964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 calls you now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vites you home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e, O my guilt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rethren, co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927000"/>
            <a:ext cx="88390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. For you the purp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current flow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in pardon fr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his wounded sid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languished for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the eternal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for you the Prince of Glory di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Shall My Wondering Soul Begin 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197964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lieve, and al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r guilt’s forgive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ly believe–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yours is heav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1979640"/>
            <a:ext cx="876312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w shall I equa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riumphs rais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ing my great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deliverer’s prais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27800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. O how shall I the goodness tel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Father, which th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to me hast showed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That I, a child of wrath and hel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I should be call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a child of Go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Shall My Wondering Soul Begin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97964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hould know, should fee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y sins forgive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lest with th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tepast of heave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27800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. And shall I sligh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my Father’s lo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or basely fear his gifts to own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Unmindful of his favors pro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shall I, the hallow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cross to shu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Shall My Wondering Soul Begin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97964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fuse his righteousnes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impar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 hiding 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in my hear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1278000"/>
            <a:ext cx="883944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. Outcast of men, to you I cal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harlots and publica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and thieve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he spreads his arm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to embrace you al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sinners alone his grace recei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Shall My Wondering Soul Begin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97964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 need of hi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righteous hav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 came the los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seek and sa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927000"/>
            <a:ext cx="88390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5. Come, O my guilt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brethren, co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groaning benea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your load of sin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his bleeding hear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shall make you roo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his open side shall take you 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Shall My Wondering Soul Begin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02:43Z</dcterms:modified>
  <cp:revision>26</cp:revision>
  <dc:subject/>
  <dc:title>PowerPoint Presentation</dc:title>
</cp:coreProperties>
</file>