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E8D-E08F-411A-AA8F-69DC0B77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3D4-4E00-40CC-95BC-9DF58ACD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0B6-8C33-4A77-B687-84B8A64D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357-AEBA-4205-A1A2-4D6440F0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744-008A-4E65-B89F-0CBFD4FD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702-EC28-4ECA-BBFD-36440A6B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C10-C1C7-4EE3-AEB1-97BA0470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5DC-EEDE-49E0-B142-3728DB03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856-B2BC-44D0-823B-5EC96802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3D6-31B6-43B4-BF41-35176227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C8C-6D16-4184-B4D8-5A4E35D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9C3-4545-4087-8FD3-146BA1A2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B50-2191-413E-A4EC-D283437DF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Joy of Our Desi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Janus, 1661;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joy of our desi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ost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b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sp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 to uncreate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lesh that fashio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mpassio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ruth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ing,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pe is gu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, what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ic r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conf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of jo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less spr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beau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wisdo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oys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00Z</dcterms:modified>
  <cp:revision>146</cp:revision>
  <dc:subject/>
  <dc:title>PowerPoint Presentation</dc:title>
</cp:coreProperties>
</file>