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EE63-ED44-4980-BEB5-B08075C88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75B9-5C49-40DF-90AB-12925B50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58B6-EC27-41D0-B017-82D565B9F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A6AE-21DF-4B31-AAEC-2141EF742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0FB1-8574-452F-BB34-CBC6C980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5C3B-0D8C-4AE7-8EFC-CB29D7BC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53BD-60C1-4BB2-9A12-54669B97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2540-BEC4-462C-9334-F384E665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38CF-BEF5-46E6-9DC8-3100E4A9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8272-D6FA-42CC-A7F4-B5115E7F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C394-F5DA-45C6-ACA2-FA81BACA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238E-7E96-4DAB-8EFF-C9845445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8135-61AF-4559-A3B8-024F19F09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 Is Ris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Cristo Vive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Rise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160020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Nicolás Martinez, 1960; trans. by Fred Kaan, 1972 (1 Cor. 1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8672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2 Metho Press, Ltd.; trans. © 1974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hrist is ris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is l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y your tea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unafrai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, the firstb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l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s us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ads us ou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than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God, who cau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to spring 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gr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is ris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is g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eterna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prof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sto Viv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¡Cristo vive, fuera el llant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s lamentos y el pesa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 la muerte ni el sepulcr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 han podido sujet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6002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busqu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tre los muert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 que siempre ha de vivi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Cristo vive! estas nuev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r doquier dejad oí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Que si Cristo no vivie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ana fuera nuestra f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s se cumple su promesa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‘Porque vivo, vivir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is.’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sto Vive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0320" y="1371600"/>
            <a:ext cx="766512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 en Ad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án entró la muer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r Jesús la vida entró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temái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l triunfo es vuestro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El Señor resucitó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sto Viv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6002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i, es verdad q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 la muer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l pecado es aguij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temáis pues Jesucris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s da vida y salvaci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83808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ias dem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 Dios Pad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nos da segurid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quien c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Jesucris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ive por la eternid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79840" y="257184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and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ld not hold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the tomb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which he l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 not loo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ong the dea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who li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vermo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hrist is ris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it kn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goes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f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d never ris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d have not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lie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t Is Risen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his prom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be truste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You will l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I liv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shar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of Ad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in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live ag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has l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sting and terr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Lord h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Death has l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old domin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joice and shou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t Is Risen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7:09:58Z</dcterms:modified>
  <cp:revision>70</cp:revision>
  <dc:subject/>
  <dc:title>PowerPoint Presentation</dc:title>
</cp:coreProperties>
</file>