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1B8-AA73-4AD8-A6E7-FF779E59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347-3429-421B-96C1-4105FE52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8AF-CDD7-4CDD-9006-41149931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0C8-C0BF-42CF-99CC-0CC91425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FC19-315A-47F7-8BBC-B9B2FC66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FF76-9153-4A11-99ED-DC16DD61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AA05-0380-4E72-9B65-8D55C043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46AE-DA05-44F4-860D-F56FB8E1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6253-DB33-45F4-994E-1A1C7809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2A6A-1AC3-4035-A204-ABA86D41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7E25-36D5-431D-8D62-24B81834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247-F080-4E8D-92F7-06C7D594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3AD0-2895-41BE-B018-A14A0BE1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FF1D-6B4D-4EF1-B320-52813345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D05C-47EF-44DF-BD6B-5C401D1C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41A7-D638-4B88-B870-9AD0944F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51FA-EC12-404E-B914-077623B3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25B-CF0F-4E74-99F7-BBB05E9F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AF0-8B2E-44DA-9B36-965A6597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5BB-12A5-497C-9E92-22DE2178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FED-9748-4EB7-85AF-14BC3CD9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52E-0EC7-40C7-86BD-3A2479AD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6D4-4496-4C45-A8E3-DE266242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EC7-EE66-4846-992A-86A14067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E4D2-ACBD-4CA4-A2D7-B9C9E7339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FE2F-5224-4FFC-86FE-D0FADAADD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scend upon M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pirit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cend upo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n it from earth;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ts pulses m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3240" y="1549440"/>
            <a:ext cx="44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Croly, 1867 (Gal. 5: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dling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-descended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an al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love a fl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scend upon M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765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Spirit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escend upon my heart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an it from earth; throug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its pulses mov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43240" y="1371600"/>
            <a:ext cx="44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Croly, 1867 (Gal. 5: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op to my wea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y as thou 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e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 ought to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ask no d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prophet ecstas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sudden r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veil of cl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angel visit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pening ski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ake the dim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soul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2076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st thou not bi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ee, God and K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, all thine own, soul,</a:t>
            </a:r>
            <a:br>
              <a:rPr sz="50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rt and streng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min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thy cross;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y heart to cl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me seek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let me f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each me to feel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always nig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strugg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oul to b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eck the r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ubt, the rebel s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pati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unanswered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each me to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ine angel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holy 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ing all my fr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op to my wea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y as thou 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e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 ought to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dling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-descended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an al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love a fl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ask no d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prophet ecstas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sudden r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veil of cl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angel visit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pening ski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ake the dim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soul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9400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st thou not bi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ee, God and K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, all thine own, soul,</a:t>
            </a:r>
            <a:br>
              <a:rPr sz="50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rt and streng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min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thy cross;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y heart to cl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me seek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let me f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each me to feel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always nig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strugg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oul to b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eck the r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ubt, the rebel s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pati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unanswered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each me to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ine angel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holy 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ing all my fr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10T22:48:43Z</dcterms:modified>
  <cp:revision>12</cp:revision>
  <dc:subject/>
  <dc:title>PowerPoint Presentation</dc:title>
</cp:coreProperties>
</file>