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F4F-43B2-4A2A-8DF2-00FE3CE9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F28-091B-4001-841A-CF96E1A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887-98F2-4C46-91A1-4C65AE42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663-71DE-48A2-A4F8-C8D495B5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76F-CF54-46E3-98F9-FF6A8846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18B-A240-4A04-9CBA-79333965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CC3-3727-4CB9-AFBD-2BF200E7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F06-38EF-4D3D-B512-56B7CA58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82F-8B29-46E4-9024-104C0C62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194-FCDD-496B-B77A-44FD782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1FA-9ED0-4D44-8AF0-E593EDA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4EE-4FF6-4E4D-B87D-C65F7293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DB0E-F922-45E7-AE38-15E75B902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very Time I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el th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6765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Rom. 8:15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p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spo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hi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fire and sm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looks so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all w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rdan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s right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ls the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n’t but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in on this tra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s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ght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8:51Z</dcterms:modified>
  <cp:revision>23</cp:revision>
  <dc:subject/>
  <dc:title>PowerPoint Presentation</dc:title>
</cp:coreProperties>
</file>