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BF5-71DE-4915-8A4F-7B4FA1DB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455-060D-4151-B551-121DC187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A05-0385-413D-9D61-806E7ED7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2F3-4973-40CC-B342-EE23583B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6E6-9648-46F0-BF99-A61879FE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8CB-214C-4A9D-80F1-A40C856C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C5A-0F70-4431-8053-99CAE063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12E-0619-41BB-A0E6-A3515B4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E3E-9645-4487-B9AA-BEF63A56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1C7-2187-41DD-B739-A685CB8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9C6-CFC8-499E-9A6C-3D3FBDC3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2E8-CD96-4A23-95E7-0C8DBA4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B60F-E8E2-490E-8565-099AAAC2B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race to 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82880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hings, good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pray f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us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labor f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race to La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0200" y="1066680"/>
            <a:ext cx="41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homas More, England, 16th ce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4T20:50:46Z</dcterms:modified>
  <cp:revision>24</cp:revision>
  <dc:subject/>
  <dc:title>PowerPoint Presentation</dc:title>
</cp:coreProperties>
</file>