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EA81-8286-4185-B055-7D4AE678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DB91-D34E-41EB-9A86-6A384EF7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76FD-033A-4A67-A080-25298937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6077-3AE8-4218-AA8C-DC5457D8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78E6-9C58-4A52-8B5F-660A5C8F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3423-607E-4D8E-A531-FF855132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9879-FAD5-4D97-ABDB-A1DB0257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53AF-61D6-4A16-AE76-A8CD66B0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392A-AB28-469D-9BE2-BB55F265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7DDF-CCAF-4765-B9F9-E391A980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BD3C-27EC-4DBB-A1B7-D76EFCFD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14A9-27A2-4062-A424-3D74BDA9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0F36-8463-4F80-B8F8-86B8E60E6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the Spirit’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ntry 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46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This is the Spirit’s entry now: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water and the w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cross of Jesu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n your brow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seal both felt and hear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 Thomas E. Herbra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Spirit’s Entry 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47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homas E. Herbranson, 1972 (Rom. 6:3-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t water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cred s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must die each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rise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des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followers of his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Spirit’s Entry 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Renewing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our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your baptismal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ashes us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ur day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cleanse again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Spirit’s Entry 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8:50Z</dcterms:modified>
  <cp:revision>108</cp:revision>
  <dc:subject/>
  <dc:title>PowerPoint Presentation</dc:title>
</cp:coreProperties>
</file>