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FC2-9257-4E42-8D9C-A5EB69B0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79F-F644-4D00-8FC0-C15587EA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A50-A9A5-47FE-80A4-A7783FC7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478-72FA-4D65-AB44-D5EE20E4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551-0243-4698-B651-E09F38B0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4B1-CBCE-46BA-AC70-5F5C5C93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028-1043-40ED-B64B-DC52F130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99D-641F-4702-ACBD-A9CDFA6E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034-F344-48A8-8046-E87FF97A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58C-6736-48FA-A144-CF4CE019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731-72BA-4A2F-988F-C62BEFD9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2B1-BC1D-4367-8B36-EDA1F678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615C-C597-4E00-9B49-D999D5180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With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Heart a Mel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uther B. Bridgers, 19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’s with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a mel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isp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and 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east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ches of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ting neath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ltering w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looking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miling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s why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oon he’s coming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welcom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bey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ry sk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ligh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s un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m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, be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f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bb and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my life was wrec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and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cord fille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wept a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oken st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rred the slumb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ds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gh some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lead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ers d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als fall across the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some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th se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gh and st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is footpr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6:42Z</dcterms:modified>
  <cp:revision>124</cp:revision>
  <dc:subject/>
  <dc:title>PowerPoint Presentation</dc:title>
</cp:coreProperties>
</file>