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FA2E-AE5B-4092-9F97-1D72F4C6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36A3-CD92-4E3E-B244-EEAC53CC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79A-5D1E-4B9A-9DC3-90581E8B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ABBC-0143-4BD3-B820-F0366D40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A118-EEE4-43AA-B615-6035F732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32A8-4E56-439A-A73A-8CE2C87B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003D-06F0-4345-95B2-E370421C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EF52-FB8A-4B7E-8262-8C444EF8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BCA8-7B8C-4D5C-863A-966ED307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F925-2213-42ED-B117-9C06201C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D280-2ABE-41FA-9E05-6A91611F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D2EA-AB6F-4190-8051-8EF27C25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8FA5-9C83-4BFF-9E8B-166B805D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2CE5-D3CF-4F82-AB4A-1EFF1D6C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8741-FBE0-4B76-8DFD-8F6BBDCB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BF3D-B643-409A-AFAF-428AFAFA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7E33-4A6D-43F0-939C-B28AF588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86E6-1A91-450F-8D32-32641E92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B2A1-D535-431A-A72E-FBDC8BA1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EE2F-3FB2-46C6-BB13-521E79BF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9786-E2B0-4F8E-9E81-5CE1D5FB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6D78-20C2-4DA5-92B2-8CD48B1A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DE72-120B-4846-9EB2-D059036B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3DA2-4CEF-469F-819C-12A45746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DA28-0C60-41EC-AD83-EB68E772A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369A-F103-4F86-A5A3-7059346167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3049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Little Town of Bethleh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 little town of Bethle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still we see thee li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thy d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reamless sl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lent stars go b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861280" y="1181160"/>
            <a:ext cx="34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Phillips Brooks, ca. 186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Yet in thy dark streets shinet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everlasting light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pes and fear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the year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re met in thee tonight.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 Christ is born of Ma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gathered all abo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mortals sleep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angels keep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watch of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ondering love.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morning stars togeth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proclaim the holy bir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praises s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God the K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peace to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 on earth!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How silently, how silentl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ndrous gift is given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o God impar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human hear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blessing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his heaven.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No ear ma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ear his com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but in this world of s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meek souls will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receive him, still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dear Christ enters in. 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4. O holy Chil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Bethlehe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descend to us, we pray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ast out our s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enter 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be born in us today.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e hear th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mas angel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great glad tidings tell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come to 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bide with 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ur Lord Emmanuel!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124080" y="79200"/>
            <a:ext cx="6019920" cy="41158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O little town of Bethlehem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ow still we see thee li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thy deep and dreamless sleep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lent stars go by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3124080" y="79200"/>
            <a:ext cx="6019920" cy="41158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Yet in thy dark streets shine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everlasting light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pes and fea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the yea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re met in thee tonigh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124080" y="79200"/>
            <a:ext cx="6019920" cy="4786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 Christ is born of Mar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gathered all abov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mortals sleep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angels keep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watch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ondering lov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t in thy da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reets shine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everlasting l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pes and f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the y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met in thee tonight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3124080" y="79200"/>
            <a:ext cx="6019920" cy="4786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morning stars togethe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proclaim the holy birt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praises s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o God the K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peace t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ll on earth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124080" y="79200"/>
            <a:ext cx="6019920" cy="5701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3. How silently, how silently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ndrous gift is given;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so God imparts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to human hearts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the blessings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of his heaven.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2643120" y="79200"/>
            <a:ext cx="6500880" cy="42994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No ear may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hear his coming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but in this world of sin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meek souls will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receive him, still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the dear Christ enters in. 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rcRect l="0" t="556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124080" y="79200"/>
            <a:ext cx="6019920" cy="41158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O holy Chil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f Bethlehem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escend to us, we pray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ast out our si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enter i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e born in us today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rcRect l="0" t="556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3124080" y="79200"/>
            <a:ext cx="6019920" cy="4786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e hear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mas angel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great glad tidings tell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come to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bide with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Lord Emmanuel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 Christ is born of M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athered all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mortals sl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angels k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watch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ndering lov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morning stars toge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claim the holy bi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praises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od the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peac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on earth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How silently, how silent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ndrous gift is giv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God imp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uman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less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his heaven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ear m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his com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n this world of s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meek souls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ceive him,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dear Christ enters in. 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O holy Ch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Bethle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scend to us, we pr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st out our s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enter 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born in us toda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hea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mas ang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reat glad tidings te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come to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bide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Lord Emmanuel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3049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O Little Town of Bethleh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23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0" y="15238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O little town of Bethlehe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ow still we see thee li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thy deep and dreamless sleep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lent stars go by.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861280" y="914400"/>
            <a:ext cx="34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Phillips Brooks, ca. 186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18-12-11T03:51:09Z</dcterms:modified>
  <cp:revision>81</cp:revision>
  <dc:subject/>
  <dc:title>PowerPoint Presentation</dc:title>
</cp:coreProperties>
</file>