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EFF-ED1D-45E4-8778-48C5A73A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DF0-3691-4A84-8E8D-6B6AFE0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9A5-EDEA-46DF-A9BE-B8AE633A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7D7-A2CB-4852-9185-C20B2DE1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D91-59C0-4E57-8CB2-687B935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92B-2E23-472E-87D6-E090836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979-43B0-4A87-8794-62E9D20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84A-C63D-4DDD-AC9D-225B5A1A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D7E-E4E0-4487-8DA0-F0DEF5E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51B-F1E5-4953-8FCC-6C6040D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CE2-1DE1-4AC6-AFAB-410AC0C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8F0-763A-4A3D-8D83-93BF734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CA3-B155-4D35-AEAF-C6AE48F7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ladsom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adsome light, 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reato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ternal splendor wea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8720" y="114300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cient Greek hymn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, holy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in your appea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fades the day’s las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the lamp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outpou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might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 incarnat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 blest ado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016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f right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of holy so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God, lifeg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r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does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exalt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7:08Z</dcterms:modified>
  <cp:revision>23</cp:revision>
  <dc:subject/>
  <dc:title>PowerPoint Presentation</dc:title>
</cp:coreProperties>
</file>