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E08-C7DD-4417-9E14-D37A1912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789-D166-4EA2-ADB4-0743FCC4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485-CB7A-4E2B-8E24-EF495142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226-6FEF-4607-925C-F1909886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D4E-B035-4648-92A2-35AA2268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335-DBA4-4D54-9CA9-A6757ED7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7D6-F04B-4DFB-9EFF-69BC8DDD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DA9-CDE8-4181-A73C-77CBC9B0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FF3-D5C3-41CB-81E9-DA050AD7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D64-868B-43BB-912F-8B9E6E8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3CD-537B-4C9C-B57C-B9047B10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07C-8771-46EB-A8BA-081C03F7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178A-C0B9-4B99-998C-598726B70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x Me,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35760" y="1066680"/>
            <a:ext cx="60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Rev. 6:11; 7:9-1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9144000" cy="50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ng white ro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arry cr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90720"/>
            <a:ext cx="9144000" cy="50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urney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6668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ying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193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1:01Z</dcterms:modified>
  <cp:revision>12</cp:revision>
  <dc:subject/>
  <dc:title>PowerPoint Presentation</dc:title>
</cp:coreProperties>
</file>