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5ED7-4B2C-4115-81B7-BB33AAF4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6B0-FD2E-453A-AC7B-D7FA5384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2C5-FB1E-4B22-B758-0BE6EAC8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B942-8108-4774-B317-6D1F047F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97CD-83F1-4DB7-A290-DF4E49C0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CC6-5ACA-4C47-A9C2-C4B077F4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755-0E46-4C32-BD35-F7AD9DEE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DEB-F1C7-4EFC-BDC4-24726725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1B7A-0EA1-4EC3-8888-78ABCB9F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34FE-4D20-4E69-9B38-264D81A6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D95-E5C6-443B-9D58-FE884289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521-A06E-406A-B6E3-D5BD9A5D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64F6-EC73-4E4B-820B-C6B875B13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Renewal of the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76520"/>
            <a:ext cx="8839080" cy="44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new your church,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people in this land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ve us from cheap wor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elf-decep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your serv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6 John de Gru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Renewal of the Chu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48920" y="990720"/>
            <a:ext cx="285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South Africa,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power of your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ansform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hap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your cro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39:16Z</dcterms:modified>
  <cp:revision>14</cp:revision>
  <dc:subject/>
  <dc:title>PowerPoint Presentation</dc:title>
</cp:coreProperties>
</file>