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ADA-CB3D-4A19-B562-6CA4D98D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9E7-CB04-431B-AF52-5F8B9E41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A78-B4B3-4158-B51F-4330B241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FB6-9712-45C3-BE6B-EFEADB4B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CD7-B424-435A-844A-58BEBB92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BF9-5516-4466-9F4E-D585EBE4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09C-9FD1-4EEB-BA5F-00892BB5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B85-187C-4EDE-A705-377ECEC8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088-4E1B-4A5C-AD59-A1CEE29B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A26-84F7-4303-A0EB-67606A2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DD5-2166-4E25-A4C1-2D0EC08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D31-9BEB-411A-A3DD-127169A5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839B-38BE-4B37-8DE4-100E21431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lmighty and everlasting Go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t is your will to restor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ll things to Christ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hom you have anointe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priest forever an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uler of creatio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23516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rant that all the peopl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f the earth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now divided by the power of si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may be united under th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glorious and gentl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ule of Jesus Christ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128680"/>
            <a:ext cx="8686800" cy="261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ho lives and reign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for ever and ev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0:31Z</dcterms:modified>
  <cp:revision>22</cp:revision>
  <dc:subject/>
  <dc:title>PowerPoint Presentation</dc:title>
</cp:coreProperties>
</file>