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28E-D3A6-4F57-9A65-0F43109A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9E8-AE3C-42BF-8743-6EA07072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4EE-6027-4D6B-AC1D-7CFC394A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9BB-6616-4500-8D8A-05CD5C31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9AD4-BA30-44D3-A442-B79F7329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BD55-BDB0-4CA8-A981-C467524E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701D-D8B8-4000-8CAA-71526903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EAD4-1440-4BA3-B968-104EDC33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9129-6395-408F-A018-C1D0F8F4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C592-CAD7-41A5-999B-B5A685DE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A4D9-B3EB-47BD-8F8D-2D63D4C3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3A7-4702-4D4C-BC0B-7C0E7047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6EC5-3201-429F-B3EA-B602ADDF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E85C-9140-4E21-93DA-1FEC0E20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B7E8-5370-4EB3-828C-1B20AFF2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AFDC-ACF5-4F98-A557-132ABD74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233A-F8CB-48A5-8B0A-F9B55689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34D-45E4-4DF1-A8A2-7AC7352B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C8C-C7AE-4348-B6E9-DA4781A7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F4B-EDC0-4ACB-AD23-82DF9EE0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594-30A1-4686-BC17-9449B06B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D68-D098-4B77-B178-5D8EA0D2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0D2-D320-4685-8804-4EB8BAA3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5F5-1CE5-4965-BCFE-258343F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9785-163E-4D36-A83C-73AAEDF48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7AA1-345E-4A38-8691-6C1BBC0E0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Mad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ur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968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Christ is mad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re foundati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the head and cornerston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95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7th cent. Latin; trans. by John Mason Neale, 1851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(Eph. 2:20-22; 1 Pet. 2:4-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sen o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c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nding all the church in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Zion’s help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r confidence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o this tem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e call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O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ost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y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fullest benedi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 within its walls al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re vouchsaf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y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y 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blessed to re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reafter in thy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more with the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three and ever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unending ages r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osen of the Lor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precio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nding all the church in on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ly Zion’s help forev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r confidence al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o this tem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e call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O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ost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08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thy faithful loving kindn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ar thy peopl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they pr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y fullest benedic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ed within its walls al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re vouchsaf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y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y 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blessed to re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reafter in thy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more with the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808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ud and honor to the Spiri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 three and ever on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in migh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one in glo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le unending ages ru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Mad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ur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8954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hrist is mad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ure foundati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the hea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cornersto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6765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7th cent. Latin; trans. by John Mason Neale, 1851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(Eph. 2:20-22; 1 Pet. 2:4-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25T00:27:00Z</dcterms:modified>
  <cp:revision>65</cp:revision>
  <dc:subject/>
  <dc:title>PowerPoint Presentation</dc:title>
</cp:coreProperties>
</file>