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B611-4264-4EF7-B55C-06E68B08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310-A286-481B-99C1-1BB79B4A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123-DF27-408D-BFE4-712B62E9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4FF2-65B0-43E3-B1C7-082B4527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FCF-0F63-4437-8F7E-A28F2C55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C142-8E7A-44FF-8528-EABB687D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6FDF-16F7-40A9-BF64-731EBDC7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204-1FE6-4BAC-97DA-D3D98550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A4F-8BCA-471A-98C6-1E973C7F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D5A-D2A9-4423-A5A4-B5D5BFE8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3F77-77B8-46FE-9307-C1B214D3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B92-9ABD-404A-AED8-AB137CC9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E1FF-F84D-4461-AF32-9B2F92841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43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command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you love one an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 have loved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 © 1988 S T Kimbrough, J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ponse 1 and 2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600" y="1066680"/>
            <a:ext cx="805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omans 12:9, 16; Song of Solomon 8:6-7; 1 Corinthians 13:4-8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olossians 3:12-14; 1 John 3:18; Tobit 8:7; Psalm 127:1, 34:8, adapt. by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 T Kimbrough, Jr.; Response 1, John 15:12, Response 2, Ephesians 5:30, 31b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92700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Lord builds the hou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labor is never in v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ppy are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ake refuge in Go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ose who ser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Lord are redeemed.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wo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ome one in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 are memb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’s bod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49220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56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love be genui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live in harmon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ate what is evi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d fast to what is g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tdo one an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showing honor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 humb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never conceit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47636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is stronger than de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jealousy is crue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the grav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loods cannot drown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ealth cannot buy it.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t love above all els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et Christ’s pe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ule your heart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ways be forgiv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Christ has forgiven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47636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is not jealous or boastfu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rrogant, rude, or stubbor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rritable, resentfu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r possessiv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Love is patient and kind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609480"/>
            <a:ext cx="86104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not love in 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r speech onl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ove also in deed and tru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ceive each 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sincer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ind mercy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row old toge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60020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rejoices in the righ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t bears, believes, hop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endures all thing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 love is faithfu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endless.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8:21Z</dcterms:modified>
  <cp:revision>30</cp:revision>
  <dc:subject/>
  <dc:title>PowerPoint Presentation</dc:title>
</cp:coreProperties>
</file>