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E5E-275B-40A3-88FF-484E634B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879-325D-4936-AE7E-1E5FBECF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2CC-3A3F-4FC1-A626-F44F823F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A3C-E11C-44F8-AF16-71A73499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32D-23BF-4C64-ADB5-FF60719B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16D-0790-4499-B902-B4E88648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7B8-5ABD-4130-8E28-629802FA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544-C4D5-4E19-A1FB-B2A15CA0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05F-DFC7-43C4-B7DB-A475B7AB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D62-AA23-4E82-BBC0-B133AD6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F08-5A48-4ED6-B047-107A183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610-B9A7-4041-913F-8D79B84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DD84-E499-4F4C-BA91-98424B536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ners, Turn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y Will You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your Maker, asks you wh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who did your being g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made you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at you might l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2360" y="1447920"/>
            <a:ext cx="2536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arles Wesley, 17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on whom he still doth wa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m he would again creat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de by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urchased, wh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 You, who own his record tr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his chosen people,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 call the Savio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 read his written W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who see the gospel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im a crown in Jesu’s r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e Christian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the house of Israel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 Turn, he cries, ye sinners, tu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y his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God hath swo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ould have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urn and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ould all the world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ath br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l salvation by his gr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ath no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ul passed b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resolve to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 Can ye doubt, if God is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f to all his mercies mo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ill ye not his word rece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ill ye not his oath belie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628640"/>
            <a:ext cx="8839080" cy="35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e, the suffering God appears!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Jesus weeps! Believe his tears!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ingled with hi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lood they cr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y will you resolve to di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the fatal cause dem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ks the work of his own han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thank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ure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cross his lov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your Savior, asks you wh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 who d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souls retrie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died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at you might l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et him die in va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ify your Lord aga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ranso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grac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the Spirit, asks you wh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, who all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lives hath st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ooed you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mbrace h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ot his grace rece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till refuse to l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long-s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grie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God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53352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You, on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e favors show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, poss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nobler pow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of reason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powers poss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, with will and memory bl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with finer sense endu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ures capable of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blest of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ures, wh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 You, whom he ordained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ranscripts of the Trin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m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life doth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for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mself was so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7:44Z</dcterms:modified>
  <cp:revision>27</cp:revision>
  <dc:subject/>
  <dc:title>PowerPoint Presentation</dc:title>
</cp:coreProperties>
</file>