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A56-D598-4B6A-BB3E-1476EABD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A35-9755-4CA4-9E25-35FB2D65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B25-A138-4CAD-9C68-2E61215A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A15-8C8E-4D33-97C3-A3C958FA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812F-C726-4194-B3E4-1743547B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291-986B-4B48-B7AF-3F1F1D9F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40F-8AAF-4839-8E9E-87462F32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150-CA2F-480F-BB0C-8DACAF48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AFB-CD77-492B-B7FF-264581B5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920-DF2F-4B43-A127-002F3FCA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22E-82C2-4E1C-8CB7-2B4DEF3D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5C42-5574-47FD-811B-51CE7EFA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5F11-EA82-4591-AADD-9A1CEFFF2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Holy Ghost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Hearts Insp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insp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fluence pr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rce of the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phetic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tain of life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me, 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(for moved by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ph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ote and spoke)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lock the tr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self the k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seal the sacred boo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Expand thy w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stial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od o’er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ure’s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disord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s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ere now b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, through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ou within us sh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und,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aints be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pths of lov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7:34Z</dcterms:modified>
  <cp:revision>103</cp:revision>
  <dc:subject/>
  <dc:title>PowerPoint Presentation</dc:title>
</cp:coreProperties>
</file>