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EA2D-CABA-4084-9CEA-EBEF629D5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FCFC-153D-4A61-8A97-B8ACAC28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B15B-2F3C-49A9-A874-CDFB1167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7619-DE4D-49F3-BEEE-22441CFFA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EC89-5850-4B35-9FCE-B00868D8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CD1F-8057-4B52-8738-09AF8927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778A-0B68-4FAC-A0AD-B9BA2973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6BD9-C721-408C-BF47-A936EDC9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C3A6-960E-400A-A68E-A2936EB9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132B-463C-4212-A83A-EF741075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48DD-2EA9-4679-B04A-6D9535A0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EA9F-A8AB-442D-B9AC-2A6CE831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7AF7-A41D-4A35-8C0E-5EF36F97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E4EF-F0AA-4510-B9B2-D1D56553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24B0-2E1F-49BA-B886-F8E23CD3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3280-EB72-4852-B09B-DFC6D779A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35BD-3CEE-422F-9C76-A28A48CDB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5C0E-C6EA-4C46-BF71-73E06519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35F9-E046-4C95-8857-F9B82C51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525D-4B82-4AF1-8820-9A6D8756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2787-5F9D-4E4C-AC62-694AB108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BA0A-BB5C-4F4A-8AB3-20FF3E9C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B9A5-16BB-45AB-B414-AD3B67B5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510A-1792-426F-B2DF-195AE072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CB3E-61EA-4CA1-8122-33D30FC31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F0E2-CBE0-427E-B17F-E3C7607B7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way in a Mang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752480"/>
            <a:ext cx="914400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1. Away in a manger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no crib for a bed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ittle Lord Jesu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laid down his sweet he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y in a Mang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07880" y="990720"/>
            <a:ext cx="29635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Anon. (Lk. 2: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hee, Lor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ok down from the sk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tay by my crad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morning is n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Be near me, Lor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sk thee to st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lose by me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ove me, I pr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y in a Mang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 all the dear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y tender c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it us for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live with thee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6699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tars in the sk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ok down where he l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ittle Lor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leep on the h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e cattle are low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aby awak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little Lor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crying he mak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y in a Mang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hee, Lor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ok down from the sk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tay by my crad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morning is n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Be near me, Lor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sk thee to st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lose by me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ove me, I pr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y in a Mang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 all the dear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y tender c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it us for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live with thee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way in a Mang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133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1. Away in a manger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no crib for a be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the little Lord Jesu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laid down his sweet hea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y in a Mang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07880" y="990720"/>
            <a:ext cx="29635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Anon. (Lk. 2: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tars in the sk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ok down where he l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ittle Lor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leep on the h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e cattle are low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aby awak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little Lor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crying he mak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y in a Mang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12-05T00:02:08Z</dcterms:modified>
  <cp:revision>61</cp:revision>
  <dc:subject/>
  <dc:title>PowerPoint Presentation</dc:title>
</cp:coreProperties>
</file>