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BCCD-F627-4825-8542-ABE065DB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D8EB-7595-47D4-96BF-CCF4771E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32D9-57C1-46CF-9BD2-A3953BC0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EB6-D942-408D-B1D7-1DB43505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FE45-B54D-45FE-B173-2AE087DC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B261-944C-4BDE-BB67-83A5F6EA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8FCB-EC6E-4767-AD5C-9EC40548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2347-3124-4362-BBE0-E1C74EDF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BE77-F983-49F9-B454-23E6E8BE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12B7-2631-4C59-8204-3E3F3D00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8F04-379A-4D47-A2DA-9B70D884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D204-EFDC-41E3-9240-E4A4F8E7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C65C-9EE4-4E34-A88F-C798ED7B2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r Love, O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Your love, O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broad lik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ach and meado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ide as the win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ur eternal home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74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23720" y="114300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ders Frostenson, 1968; trans. by Fred Kaan, 1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judge u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your judg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t our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freedom’s open sp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us as 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your com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d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ng the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human 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06480"/>
            <a:ext cx="9144000" cy="47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road like b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ad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de as the w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leave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k you or reject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give us ro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nswer “yes” or “no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6480"/>
            <a:ext cx="9144000" cy="47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road like b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ad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de as the w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long for free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our truest be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given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urage to unf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k in free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ace and sc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dream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ok fo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r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lants can gr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06480"/>
            <a:ext cx="9144000" cy="47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road like b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ad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de as the w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ut there are wa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keep us all divid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ence each 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ith hate and w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 is the bric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ortar of our pri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ride of sel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ison coat we w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06480"/>
            <a:ext cx="9144000" cy="47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road like b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ad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de as the w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3:20Z</dcterms:modified>
  <cp:revision>37</cp:revision>
  <dc:subject/>
  <dc:title>PowerPoint Presentation</dc:title>
</cp:coreProperties>
</file>