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726-63AE-4E36-BB80-882ADDC3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EFD-ED07-465E-9188-CA37BC35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780-914A-4756-961B-C1771C28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D34-DB16-4C19-BCFD-BF667E8D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B45-2D16-4000-96AC-809410B9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688-C17E-4D0F-B684-566506C0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CAD-1CE2-4E60-8DFB-04C2B41A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FD9-B4D1-44CA-B475-E2FFFA11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78B-BEA0-4F8F-93E5-F8F3BE04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AB1-E813-42E5-8CBA-FF52FF4C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E74-954D-4856-98AE-F4CA0A13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3F4-707A-470C-86B6-744424E0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839C-C323-472C-8951-2CDB26A70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Utter Our C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ed Kaan, 198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e utter our cr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peace may prev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earth will surv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aith must not f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tch all our state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fty resol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eing, unre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ction invol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Whatever the 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pressure we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hearten and h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insight and gra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ink and make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ach heartb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ose Christ before Caes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before dea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y with 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ld in our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eople dimini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doubt and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e cry from the f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daily sce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trength to say “No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that is mea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igns bearing cha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tinction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energy was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eapons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lift up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children unbor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wisdom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may hand 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lenished and t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good planet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serving the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 of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reator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share out, we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Spirit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ealing the W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eaders confer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tables for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y may from b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le be releas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ome with us, Lord;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protest and ma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lp us to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ssion your churc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17:43Z</dcterms:modified>
  <cp:revision>150</cp:revision>
  <dc:subject/>
  <dc:title>PowerPoint Presentation</dc:title>
</cp:coreProperties>
</file>