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8AE-AC3F-41E2-8D12-1A3F4D9F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B64-C8E7-43C2-AD34-E6CAABC1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FD7-97F6-44E2-AB11-F6E0765A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A2B-D595-41CF-844A-DC38C477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AFC-E239-465F-82B5-BD698AB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B59-7CAD-4D1A-BD35-F53591C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A5F-98CA-4909-8DBF-C1680A7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C57-D44F-4037-B344-76C554B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5BA-5AF4-45FF-8E39-525CCD2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719-EDD4-4ED4-A888-944868B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1A8-174A-4309-B3E3-069202D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C4F-98A2-42D1-87FD-8E5D409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CAF-99C0-4051-8C1B-D0D85A30D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t Thi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be hung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Les Presses de Tai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France;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This B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bert Batastini and the Tai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ommunity, 1982 (Jn. 6:3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in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ill not thir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39:10Z</dcterms:modified>
  <cp:revision>123</cp:revision>
  <dc:subject/>
  <dc:title>PowerPoint Presentation</dc:title>
</cp:coreProperties>
</file>