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019-F238-49FD-9D67-137B411E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829-3B6D-4B9F-8E4E-37F5E193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821-0A00-48BA-A652-FFBC2138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F2B-5EF0-414E-87A0-32C69313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EC90-1ABE-4886-AA33-FCE37F0C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911D-0ABD-490D-8267-BD49C3AA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A773-2628-44F4-96EB-B00E7914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EB95-8C93-4A40-ACDE-59871967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58D9-F974-440C-B694-C7B4D34A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CF8B-846A-4136-8DF9-16CBBBBC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A7F6-FE66-4C01-9A52-A9EC8354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B77-80CA-408A-ADFD-0D661D63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17D1-8851-4C99-8F2C-BAEE0444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B706-5BAC-435F-A38A-1C4957AF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F5D4-05B3-47EC-9E46-1C989F52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1E23-A35E-413B-BF81-8AC2E86F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D0D7-E235-433D-8EB8-E2A0FBE8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EB9-B3DE-414E-AA81-7EBC92EA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C7B-0BC9-436D-8CDB-66483E84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A0A-1F69-4D0B-9B63-F15B9708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72D-93C5-422A-A886-9849BF8E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7F3-56DF-4C20-9265-5E520BFF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F16-20BD-43CD-8CD9-6ADD193F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C3A-ACD2-45D2-BA72-0B90D58D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CED3-CD3E-4921-BC54-B47427B9C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6E25-07A9-4D1B-898F-8758753AC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ppy the Hom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God Is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Happy the ho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n God is the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love fills every breast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07920" y="1600200"/>
            <a:ext cx="3727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Henry Ware, Jr., 1846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ne their w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their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90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ppy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’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weet to every 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children ea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his f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rents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593640"/>
            <a:ext cx="88394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ppy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rayer is he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t to r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arent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priz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let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omes ag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o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il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ne their w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their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ppy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’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weet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children ea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his f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rents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ppy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rayer is he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t to r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arent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priz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let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omes ag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o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il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ppy the Hom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God Is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2880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Happy the ho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God is the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love fills every breast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07920" y="1447920"/>
            <a:ext cx="3727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Henry Ware, Jr., 1846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5-12T01:16:09Z</dcterms:modified>
  <cp:revision>15</cp:revision>
  <dc:subject/>
  <dc:title>PowerPoint Presentation</dc:title>
</cp:coreProperties>
</file>