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86DA-3FA8-410E-93C4-2F0A5F2C9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CE0F-BC13-4724-A902-3F58EC87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0ADC-991B-448D-A6C7-D99404DB4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D607-BDEB-473B-8C1B-05D10670C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0AA6-82E8-4D13-B2DB-FA29CFEF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28DD-1F12-44E4-B9F3-04006696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5CC2-4198-4B7E-882C-EB68E6C8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2F2B-F932-4860-8264-A872BC8A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733C-E0F0-43BF-8A16-653C7151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00BA-034A-49BB-97BA-7E0D63E6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9A08-3087-453B-9A08-A1E7CD94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C306-897E-4B0F-9A36-7F462A8A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7CCC-05EE-475A-8EF9-B6C6B89D1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 Down, O Love Div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7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ome down, O love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k thou this soul of m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visit it with th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wn ardor glow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Down, O Love Divi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7560" y="1081080"/>
            <a:ext cx="43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Bianco of Siena, 15th cent.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Richard F. Littledale, 1867, a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forter, draw n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 my heart app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kindle 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holy flame bestow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let it freely bu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earthly passions tu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dust and ash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its heat consum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Down, O Love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thy glorious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ine ever on my s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lothe me r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my path illumi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nd s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arning str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which the soul will l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far outpas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wer of human tell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Down, O Love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none c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ess it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Love create a pl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in the Ho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 makes a dwell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15:22Z</dcterms:modified>
  <cp:revision>14</cp:revision>
  <dc:subject/>
  <dc:title>PowerPoint Presentation</dc:title>
</cp:coreProperties>
</file>