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887-2314-443E-BC32-FE5133BF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95BF-C008-410E-A540-D4B9281E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DB5-042D-469F-9447-6EF00097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717-8C88-452B-97F7-7E4F8CB7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08B-B119-40BC-A3A1-E12C992D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A06-F0AB-40D2-A59D-1524A9A8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EEB-77D9-4C43-B032-6DF515C6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2D5-5D90-4D38-A905-FA213CCB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6DC-7B7E-4CFF-ABF4-B64DB77E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2D3-B261-4D64-B792-A8A89B5B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07F-D1CE-47E2-98DC-65A7F924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B65-43A6-486D-9F5E-D7CD3DAA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7C9F-346A-4487-B8AF-0411864C3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t of the Depth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Cry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3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Out of the depth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cry to you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 Lord, now hear me calling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cline your ear to my distres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spite of my rebell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7040" y="1600200"/>
            <a:ext cx="70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tin Luther, 1524; trans. by Gracia Grindal (Ps. 130; 120:1-2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not reg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ful deed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me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pirit need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it I am not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All things you se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re full of grace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crown our lives with favor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our good work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re done in vai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out our Lord and Savio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the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gives us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ves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ip of dea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k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It is in God that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hall hop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not in our own merit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rest our fear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God’s good Wor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trust the Holy Spiri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promise kee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trong and 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tru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sign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cribed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empl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y soul is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one who longs for morn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watcher 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eater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I for Christ’s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ope as Isra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ends redemp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W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8:16Z</dcterms:modified>
  <cp:revision>13</cp:revision>
  <dc:subject/>
  <dc:title>PowerPoint Presentation</dc:title>
</cp:coreProperties>
</file>