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7BC-20DC-44CB-BFAD-5BF9830A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465-71B6-4D9F-9279-872196DB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7CF-03D9-4CA0-9328-A20E2456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BE5-F9CE-4F1C-AF9F-7CA0662C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428-EFF7-4938-92A1-FDF5264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57E-3164-4B3D-9031-CBFBD56E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C63-2AD8-4F55-9AE4-087C160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DD4-EE26-450E-8530-B77BB31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158-8617-4052-B57E-F9D73380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709-A3E7-4F5A-9244-20C4950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DA1-F35F-4289-BBB6-D06C1D8F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F54-8AA4-42D9-9AAF-542E188E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69B-3E5A-4497-B85D-58886BF39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sten, Lord (A Pray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610480" cy="244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we come this mo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ee-bowed and body-ben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fore thy throne of gr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, Lord (A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6280" y="1143000"/>
            <a:ext cx="44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ames Weldon Johnson, USA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58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7 The Viking Press, Inc., renewed 1955 Grace Nail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057400"/>
            <a:ext cx="88390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–this morning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w our hearts beneath our kne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our knees in some lone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ll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87280"/>
            <a:ext cx="883908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me this morning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ty pitchers to a full fount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no merits of our ow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open up a window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heav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600200"/>
            <a:ext cx="86868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ean out far over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ttlements of glory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listen this morn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0:16Z</dcterms:modified>
  <cp:revision>15</cp:revision>
  <dc:subject/>
  <dc:title>PowerPoint Presentation</dc:title>
</cp:coreProperties>
</file>