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BA17-C0E4-4EE7-8EE4-880632B00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937E-8111-462B-820D-5075C2E2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FE00-CF20-4641-824C-6C9F6EDC4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FF7B-5D7E-4FD7-8D97-46F5F97A8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79C1-E5D0-4080-A5BE-78DD5D44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3356-5CD8-4149-B552-DD649838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0D79-8DC0-4E7F-9ED2-2CB4FC49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B61B-4238-4076-95C3-B42D2D9D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3407-D149-488D-9E15-76344548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0515-1A29-4C6F-9010-9B0FF1B4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6F4C-6D38-4299-83C2-67432B36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32A1-9823-4C74-B6D7-EC509F5F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A9AC-ED51-4D50-9F24-FB64C23FE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w the Sil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29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sil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emp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nds uplifte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9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e Sil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aroslav J. Vajda, 196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knee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ple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Father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ms in welcom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hea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vess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mmed for pour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b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joyful celebra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wed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so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given leap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Spirit’s visit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Son’s epiphan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Father’s bles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Now Now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0:31Z</dcterms:modified>
  <cp:revision>121</cp:revision>
  <dc:subject/>
  <dc:title>PowerPoint Presentation</dc:title>
</cp:coreProperties>
</file>