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289-4D1D-4254-A31D-79192E0A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1B9-8017-4233-8FCF-69DB74AC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568-6496-476B-BEF9-601E2BB3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569-6998-4875-A044-6B8D8AE1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F88-D9C0-46BB-AAD8-813CE167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9E2-FDFA-420B-8519-2D9E7E49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46D-277F-4C2A-8BB4-926C6B79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895-43F0-42AF-A3C7-02A8008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22E-893F-40C0-8A95-CF1DBAEC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BC9-7B12-4275-82DC-F9BADC7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3A6-1767-437D-8E17-34343254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B2D-5CBA-4D5F-AA26-B6A8456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3F1-110F-4BD0-BEFD-4B8047DFA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ús Es Mi Rey Soberano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O Jesus, My King and My Sovereig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23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gozo es cantar su l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82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Vicente Mendoza, 1920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Esther Frances, 1982, and George Lockwood, 198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left all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lks at my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you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I surrende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e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r, ¿qué pudie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dar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r tanta bondad para mí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¿Me basta servirte 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mart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¿Es todo entregar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20:30Z</dcterms:modified>
  <cp:revision>11</cp:revision>
  <dc:subject/>
  <dc:title>PowerPoint Presentation</dc:title>
</cp:coreProperties>
</file>