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D97-2725-4891-B989-9DE38186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DD6-1B1A-4928-88C8-A29946D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40F-6B34-4FEE-8E3E-A29125FA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F54-9B69-4DB8-8F63-E4006A97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613-6F7B-4AFE-ACF2-A91A578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445-0690-45DE-8FC0-63F64EC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74D-601E-472D-ACF7-B43069D6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E9-CA76-41F3-B960-47685D0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E14-4FBC-4EC1-A960-526C904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F5D-6D28-47BF-982B-D8DB364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C75-B241-4EAF-B8F9-42840E3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A79-74FB-4187-80F0-0165AE3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DD90-D908-4C72-89CF-99F5B0FF3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a Maid Engaged to Jose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o a mai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ngaged to Josep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Gabriel cam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“Fear not,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told 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me to bring good ne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640" y="990720"/>
            <a:ext cx="505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acia Grindal, 1983 (Lk. 1:26-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com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shor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hild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God’s chi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ang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ondered at his wor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andmai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said unto he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be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ord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 to tell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ay, good ne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you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ly fav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ven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ith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most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chos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bles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Mary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’s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 say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 her to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’s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 to h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Fear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is wit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 shall bear a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call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off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sh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How shall this be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id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am not yet a wife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swered quickl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power of the Most Hig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43Z</dcterms:modified>
  <cp:revision>59</cp:revision>
  <dc:subject/>
  <dc:title>PowerPoint Presentation</dc:title>
</cp:coreProperties>
</file>