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DC7-BAC8-446C-9AC8-514CAAD1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5AC-67F0-457B-BC47-50B603D0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1F9-6574-4AFF-A9ED-74134551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275-36A1-4914-B0D4-BA069FDC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83AD-4B1E-45C6-B656-12618C56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CAC6-7A7B-488B-9FAA-19A829DE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1F36-AB2F-496B-8615-4C4DBC62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5A4-3EEA-48B5-A70F-AEB7B55C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BB3-02EE-4D8E-8D7F-5C4B3358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DED-40F8-49E8-BA27-71BF6B84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1FB-80A0-433E-985A-19D6A156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E5B5-01E4-42C3-A102-13C70E46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1781-FDA6-43B1-AB47-6EB52A25A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aranam, Saranam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Refu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5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by permission of Christian Conference of A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Pakistani; trans. by D. T. Niles, 1963 (Ps. 61; Heb. 13: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fuge that’s higher than I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that I my v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may p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by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ness to me each d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live, and on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y burdens l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fuge that’s higher than I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Yesterday,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’er the s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the heritag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bear th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ansom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the Savior cam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90720"/>
            <a:ext cx="91440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fuge that’s higher than I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fuge that’s higher than I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n the midst of f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ry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ends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I may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trength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lessness, O answer m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fuge that’s higher than I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thy tent giv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dwelling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neath thy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I find sheltering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ift on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shine of thy fac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0:39Z</dcterms:modified>
  <cp:revision>49</cp:revision>
  <dc:subject/>
  <dc:title>PowerPoint Presentation</dc:title>
</cp:coreProperties>
</file>