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1F167-C2C8-4960-935B-960AF3235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DD27F-EAFE-4FA7-AC88-855AFA7B9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A0F37-D9E3-42B8-9E7E-131FC5CE2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CF8FD-3099-4521-ABFC-09D9D6D4E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A8248-386B-4C0D-B419-0F21E708C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B76FE-69B0-450F-A9F7-FB26C7A6F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F54E2-7744-49BC-9B46-A9BE906D2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D9B4C-6B91-44F0-B848-BF76A8299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5A166-36CB-4C50-8E72-6F4E2B519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0723A-920C-4705-88E1-7FAB3AE06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62E6E-DD1F-4235-99C7-B63021008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96871-F041-44F5-A13E-15B2D8C93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7545E-B88C-4F81-AEE8-E4D50EFD21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28600"/>
            <a:ext cx="8001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Turn Your Eyes upon Jesu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22860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34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urn Your Eyes upon Jes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914400"/>
            <a:ext cx="86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Helen H. Lemmel, 1922</a:t>
            </a:r>
            <a:r>
              <a:rPr b="1" lang="en-US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752480"/>
            <a:ext cx="9144000" cy="445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urn your ey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upon Jes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ook full in hi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onderful face,</a:t>
            </a:r>
            <a:r>
              <a:rPr b="1" lang="en-US" sz="50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(wonderful face,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© 1922, renewed 1950 Singspiration Mus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the things of ear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ill grow strangely di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n the light of hi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lory and grac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20:19:33Z</dcterms:modified>
  <cp:revision>105</cp:revision>
  <dc:subject/>
  <dc:title>PowerPoint Presentation</dc:title>
</cp:coreProperties>
</file>