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C19-32F5-4DE0-905A-E958C280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5DA-9A44-43DA-B36C-BF7E56DD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F7F-E892-4622-BA37-5A4F208B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5EF-2A55-4193-848F-0948E1CA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E11-CC1F-41A4-8F6F-4939E3EB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7C2-F63A-4B8B-95E0-EB7490CB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B72-8DB1-4FC1-AD00-80DB202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AC2-EA34-42B5-89C4-C0C7A1B1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8A7-25FC-4446-B439-CCEA48A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C3E-B5B7-4E93-A9C5-CA848E5A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E83-1013-4235-BB8F-CA185B76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49D-35BF-47B2-8878-0A7AD206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4BE-4677-4454-BF9C-4604F73A4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 the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pacious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mber waves of gr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urple mountain majest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fruited pl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0120" y="106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Katharine Lee Bates, 19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ed his grace on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own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ea to shin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oes pr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berat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ore tha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ountry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ore than lif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 thy gold ref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uccess be nobl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gain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atriot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es beyond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ab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ies gl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mmed by human te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end thine every f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irm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lf-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berty in la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3:54Z</dcterms:modified>
  <cp:revision>34</cp:revision>
  <dc:subject/>
  <dc:title>PowerPoint Presentation</dc:title>
</cp:coreProperties>
</file>