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177-D383-4935-90F9-061E2DFE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519-D55F-40A4-80FB-BAE82700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526-2B27-443F-A10E-8F0F1FAC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ED2-59C9-44B4-A93B-80B98959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89E5-D853-40EA-9CF4-1EE51CEF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8D8D-522B-4740-8F90-FE8A10D0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4FB9-33FA-4466-B703-4475D743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0188-313C-4B89-ABF3-C1EEF1A5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D40-FD16-4FC8-83B9-4A7268A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184B-9CC5-45CE-A82B-74C4C171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5A0E-A8FD-48D0-ADB4-6C03375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58B-0A7D-4276-BEA4-D5E0B0E6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8C39-4293-4093-83AB-DA0BC699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898E-FDAA-4894-82B3-D9197B5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3F7E-4B04-4695-8C77-38B566E4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5791-9242-4955-81E3-4F6FDDA6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90FE-4E12-4DEB-A618-C84A7E97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C43-1052-4551-96B2-5CFDB1A7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A89-B242-4719-8F31-6A0473E3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B35-5D10-4748-995F-5AF94875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4EC-D9E8-4561-A41C-DC184A7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F37-55FA-422D-BD53-A2C3ED7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1A1-60DB-48AF-8C05-52A9C86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1AA-6E76-49DB-AC77-8912674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8FA-718A-42D2-A432-0C9306676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5EBE-BC82-486E-85D9-9E01D1D9B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81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9720" y="1676520"/>
            <a:ext cx="411120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Yea, though I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death’s dark val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t will I fear no i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ou art with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y rod and staf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 comfort st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My table thou ha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rnished in prese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my fo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head thou d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oil anoin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cup overflow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Goodness and merc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my l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surely follow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n God’s ho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vermo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dwelling place shall 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sou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or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 to walk doth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p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for his own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ea, though I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ath’s dark v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ill I fear no 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od and staf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comfort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 table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rnished in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d 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il ano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cup over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odness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urely follow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God’s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welling place sha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382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29720" y="1447920"/>
            <a:ext cx="411120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My soul he do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ore aga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e to walk doth mak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the path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righteous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’en for his own name’s s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4T23:46:28Z</dcterms:modified>
  <cp:revision>56</cp:revision>
  <dc:subject/>
  <dc:title>PowerPoint Presentation</dc:title>
</cp:coreProperties>
</file>