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FAF-AD80-4F6E-854B-BF4FAA2C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1DC-E395-460F-945A-1236661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2CE-E558-4E72-8F0B-EDFC9AEA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C7A-370D-40C0-B8D9-9452B22D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492-2662-4F1A-A970-A221ADD2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D27-AB44-48AE-B2CB-6DB14C4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6B6-FA9F-411E-9066-485E9C6B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4DD-7DA1-4469-AFF2-80E5DC6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00D-1534-4EC7-A81D-8C03061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DA8-9245-4E17-A128-128DF1A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AFB-AA44-43A4-AC07-5525306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8A6-9EF7-4D76-A648-0DF0CEF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580-CD7D-4632-AD75-B07D71D9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hing betwee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of this worl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usive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it may c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much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sol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’en many hard tri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st me con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with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uch self-den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triumph at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renoun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sinful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orldly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it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arm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st not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im ever s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m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betw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hing betw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pride or s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lf or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not inter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1:22Z</dcterms:modified>
  <cp:revision>114</cp:revision>
  <dc:subject/>
  <dc:title>PowerPoint Presentation</dc:title>
</cp:coreProperties>
</file>