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2F1-F7DE-44A0-95E9-373E3A87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403-6AD7-4749-B76A-1C31B5E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D29-FF05-4F56-8812-C816A31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9C3-C4E0-47EC-8262-33DC85C1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E522-D910-4960-AFF0-6D3D891A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8F04-B907-4B60-AD8B-B8DCFEF5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2BFF-C87A-43C7-A712-EAA15B3D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3C9-2E5E-4CDC-A4BF-1DF005C6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AF71-C9C9-4946-AC5D-14409EC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811E-D36E-465C-B247-C8010FA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957-2ECE-4C9B-9169-7F698EB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75C-79F8-4B40-9B4B-98C5A669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349A-C7EF-48DD-A80C-0C650D7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7831-DB00-480D-9649-50143CF9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62C6-9A68-4300-81A9-E5BD7D6B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975D-ABC4-4486-9ABE-338181E7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6046-5818-46E0-91A1-EDA422BF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A5A-0A44-417E-B68E-EA1C344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C52-B296-438E-9C2B-E7F18B4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493-2483-4D64-9ED4-B9C7B4F3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FE0-FED3-47DC-B2C5-B473579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2A5-C945-4DBD-930B-2E55B858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FFD-B278-4E6C-B2F9-A240A29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356-79AE-491B-B43C-A0181C65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DAB2-60BF-4C34-A607-A2F2346D6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1473-F90B-4CD7-B3A5-46AEE6A62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Soldiers of Christ, aris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put your armor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rong in the strengt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ich God supplie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u his eternal S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4560" y="1004760"/>
            <a:ext cx="51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Eph. 6:13-1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rong in the Lord of Hos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in his mighty pow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o in the streng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Jesus trus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s more than conquero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Stand then in his great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all his strength endu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take to arm you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fi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anoply of Go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having all things d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ll you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nflicts pass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e may o’erc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Christ alo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tand entire at las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Pray withou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easing, pr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(your Captain gives the word)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summon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eerfully obe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call upon the Lord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God your every wan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instant prayer displ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y always, pr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ever fain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y, without ceasing pr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952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From strength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trength go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restle and fight and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ead all the pow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darkness d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in the well-fought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ill let the Spirit c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all his soldiers, “Come!”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ill Christ the Lor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scends from hig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akes the conquerors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o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Ho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mighty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n the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trus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ore than conquer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Stand then 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great might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all his strength endu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ut take to arm y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figh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e panoply of G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ving all thing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s pa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may o’er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rist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and entir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Pray withou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easing,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(your Captain gives the word)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s summo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eerfully obe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all upon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 your every w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nstant prayer disp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always, pr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ever fai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, without ceasing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952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From strength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strength go o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restle and fight and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read all the powe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darkness dow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win the well-fought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let the Spirit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his soldiers, “Com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Christ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scends from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querors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Soldiers of Christ, arise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put your armor 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ong in the streng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ch God suppl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u his eternal Son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4560" y="685800"/>
            <a:ext cx="51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Eph. 6:13-18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13T17:56:07Z</dcterms:modified>
  <cp:revision>13</cp:revision>
  <dc:subject/>
  <dc:title>PowerPoint Presentation</dc:title>
</cp:coreProperties>
</file>