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A46-6DED-4887-9461-B194A393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59A-435B-4A86-A931-90970E68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FDA-7008-4F40-93AE-EEC4C0DC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4E5-AE0F-48CD-BCE1-2EACB630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A72-CD84-4B5B-943D-04613200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657-E5BF-48B0-AC30-93CAB466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7B8-DB07-44F0-B9D8-39B0AD65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AF4-5C2A-4E3B-87BF-123BFF5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7F3-EF39-4E5A-A452-6324CF3B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379-D97F-4A03-84DF-8BA3C51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40E-8D3F-4FCF-BD55-17F6D34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D40-0AA4-40DD-8A34-C00D7D6E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3E2-C24E-4DB5-9BD3-9A358CCD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ster Vigil or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overcame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pened to us the g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Vigil o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7400" y="914400"/>
            <a:ext cx="295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Book of Hymns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celebrate th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Lord’s resurrec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, by the renew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Spir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 from the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sin to the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righteousn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59Z</dcterms:modified>
  <cp:revision>19</cp:revision>
  <dc:subject/>
  <dc:title>PowerPoint Presentation</dc:title>
</cp:coreProperties>
</file>