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1A3-0334-4190-99BC-91221CEC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EA0-9CA4-4BB9-B775-5AFB815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406-D95F-4A18-BABD-76BAE8FD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530-E652-4F58-A299-4E3C5134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3B6-A7D2-44EC-B623-47B3A6A4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F7C-4035-40B0-BD6F-D035172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10E-41BF-460F-8D1F-23CE526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2E3-8BA2-4636-9661-CF28776D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3F1-2821-46E0-96BB-A488B9A7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9FF-18C3-4798-8994-908AC39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02-744F-4B91-9ECA-B217A1D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6A6-D006-4208-A2E9-EF925A9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412-82B5-43D1-AA45-C373F5C74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0098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59760" y="6094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hel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us he knew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hildren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is gon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604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shelter was a stab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ke us he knew; 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557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24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leads his children o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the place where he is gone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859760" y="10666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18T01:38:24Z</dcterms:modified>
  <cp:revision>9</cp:revision>
  <dc:subject/>
  <dc:title>PowerPoint Presentation</dc:title>
</cp:coreProperties>
</file>