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21C-7604-4045-BCC2-F1565EE5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1D0-6D18-4577-8B7E-FFA44941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99C-CE7F-4395-868F-99AD5AD3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965-6B7F-45FD-8B95-2CBF3996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AA4-43EB-467B-AD4E-74E4722F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C70-94F3-4BFE-BABF-F59C37F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0D0-3EAB-49CE-8655-A93F31C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9A3-50A6-49BC-AB43-C7512DF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DC6-1C00-4E89-BC99-DF7E5600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C69-C781-4656-9509-6074ABD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CE8-68B5-485D-914A-8AEDAC49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56A-5AF8-404E-A35E-8F293E9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F25F-94FA-49D3-AD36-1B4896F72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ill Trust in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(Ps. 37: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15Z</dcterms:modified>
  <cp:revision>160</cp:revision>
  <dc:subject/>
  <dc:title>PowerPoint Presentation</dc:title>
</cp:coreProperties>
</file>