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409-7486-4481-A9C0-E6B181A3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B21-0C94-46A4-BA00-852460D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341-F230-4A8D-9BA7-A90E80E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A6E-3F42-465C-A456-7269F905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611-C65C-4005-9BB4-B846EEB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72A-257B-4051-852B-B4E0021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71C-9237-4D25-B67E-B6C7532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70E-B29C-4735-BC5D-209908EF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BF5-8262-4E12-A620-3EA93C89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188-1827-463D-958B-1BCA5CB7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31D-D9B4-4E19-9677-2B29D22C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137-EFF4-44B4-9218-6EF1F41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97E-9F48-4DF2-977A-82D975B4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One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first one ever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rth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the Maid Ma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s Mary the Maid of Galil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, 1983 Linda Wilberger E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015920"/>
            <a:ext cx="571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nda Wilberger Egan, 1980, al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Lk. 1:26-38, 45; Jn. 4:7-26; Lk. 24:1-11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id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first one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ssiah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he,”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the Samaritan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rew from the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e 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first ones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ever to know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to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Mary, Jo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gdale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y 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38:36Z</dcterms:modified>
  <cp:revision>32</cp:revision>
  <dc:subject/>
  <dc:title>PowerPoint Presentation</dc:title>
</cp:coreProperties>
</file>