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4A5-8195-4925-A6CD-4F0F8735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EF0-C162-4862-8B58-0E33B984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44E-DCB5-47B6-A98F-9719B4E8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BB3-25EA-49F7-ACF2-270C6A71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A3C-F5CB-4EFE-9BED-14934E53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F9F-2511-4116-90D8-3EB12162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468-5726-453A-BBAC-EA59BD1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FBE-2AF4-44C1-95CB-6771F622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BC3-E528-44EF-BCF1-5DBC314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3A5-90E8-48A9-9719-C8166125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EB2-9B65-4574-986E-3E8E3B8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3AB-5434-4F2A-838B-034ADA91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D757-A227-4672-B4AA-AF12EA13E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Redemptio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De Profund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de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8080" y="16239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salm 130; response, Psalm 120:1-2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22360"/>
            <a:ext cx="8610480" cy="583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the deep have I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lled to thee, O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rd, hear my vo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let thine ears consi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well the voi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of my complain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79560"/>
            <a:ext cx="8839080" cy="49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ou, Lord, wilt be extre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mark what is done ami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 who may abide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re is mercy with th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therefore shalt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be fear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06600"/>
            <a:ext cx="8839080" cy="566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ook for the Lo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oul doth wait for hi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his word is my tru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 soul fleeth unto the Lord  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before the morning watch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I say befo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morning watch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01800"/>
            <a:ext cx="8839080" cy="50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Israel, trust in 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with the Lord there is merc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th him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lenteous redemp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shall redeem Israe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from all their sins.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25Z</dcterms:modified>
  <cp:revision>30</cp:revision>
  <dc:subject/>
  <dc:title>PowerPoint Presentation</dc:title>
</cp:coreProperties>
</file>