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FDD7-D4F7-4D93-8CDF-7C3F7386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BA1D-6D39-485E-B933-91BF7F83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D143-A23B-4212-A138-C77DCE3A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90D6-5B93-4055-8C97-3AC49874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1192-F5E1-4576-A05B-03545457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6E20-0E5C-4D35-B0B2-0F8D5451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BB06-51F0-41E8-A31C-A9948FD0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9B20-CC41-4649-8EFA-13554991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8038-609A-456C-B49E-C1570A4C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AD77-54BD-44C4-84F3-6B08241E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C60B-74D8-4747-8F08-7D33063C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DA24-BFD9-465F-AF85-CA0DD0AA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E670-9F06-484F-873F-A5ED4091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632E-549E-4A47-9657-89B69AF9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53D1-6BAF-449E-9495-AB4A46F5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7A06-9615-4E39-8105-7B565CCFD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2C2C-2BAD-4C2E-823C-02CC6FCBF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E4BE-54DD-41CA-BDF5-387778B1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E2DD-522A-4708-869F-60BF70BB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53E4-F710-4BF6-8D26-258A0DF5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183D-6B0D-4DFD-843D-25363878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64F4-FAC4-4334-A7D9-C8CD8467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23D1-5FEC-4C54-85C4-F5D3E397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A1D1-9A84-4F57-9E82-709FCE79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3BF7-E065-4B56-9426-9903518F8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2B8F-DCB7-4454-BD24-483528D4B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ad On, O King Eter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8600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Lead on, O King eterna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day of march has come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nceforth in fields of conques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y tents shall be our ho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 On, O King Etern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06668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Ernest W. Shurtleff, 188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not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ords loud clas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roll of stirring drum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deeds of love and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ly kingdom com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ead on, O King etern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ollow, not with fe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gladness brea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’er thy face appea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 On, O King Etern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1276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cross is lifted o’er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journey in its li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own awa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onqu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on, O God of m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371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days of prepar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race ha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us stro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, O King etern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lift our battle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ead on, O King etern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sin’s fierc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r shall cea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liness shall whisp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weet amen 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 On, O King Etern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2952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not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ords loud clash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r roll of stirring drum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deeds of love and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eavenly kingdom com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ead on, O King etern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follow, not with fe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gladness break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mo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’er thy face appea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 On, O King Etern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44792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cross is lifted o’er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journey in its li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own awai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onque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on, O God of m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ad On, O King Eter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60020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Lead on, O King eternal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 day of march has com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enceforth in fields of conques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y tents shall be our hom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 On, O King Etern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06668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Ernest W. Shurtleff, 188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days of prepar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grace ha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de us strong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, O King etern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lift our battle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28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ead on, O King etern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sin’s fierc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r shall cea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liness shall whisp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weet amen 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 On, O King Etern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3-03T19:59:34Z</dcterms:modified>
  <cp:revision>86</cp:revision>
  <dc:subject/>
  <dc:title>PowerPoint Presentation</dc:title>
</cp:coreProperties>
</file>