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F8A-180B-4B99-B0B6-5EBA2BCF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0A9-129E-499A-8E79-3A78B2F7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89A-FA92-45E1-96EA-52D0747C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9DA-5E79-48AF-BF77-51526F4F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FAA-C1BE-41DB-97E2-6D0B18A6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E89-D938-45A6-B675-AE72F0D4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840-484C-4B0C-B3B8-1CC0BFC0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C41-7372-4FBE-991E-F749697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8E6-AFC8-4EE6-8D29-B4440E7A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40A-9482-47F9-B347-BD8B03E5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95D-B186-483A-9766-22E63040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F1E-D61E-49ED-A6FA-70239150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F220-C065-4A56-B553-DE871C57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hold the Savi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the Savior of Mank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7524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amuel Wesl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146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Behold the Savior of mank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ailed to the shameful tr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ow vast the lov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m inclin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bleed and die for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14444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Hark how he groans! wh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nature shak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earth’s strong pillars ben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temple’s veil 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sunder break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he solid marbles r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’Tis done! the prec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ransom’s pai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“Receive my soul!” he crie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see where he bows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sacred head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bows his head and d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But soon he’ll brea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death’s envious ch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in full glory shi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 Lamb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was ever p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as ever love like thin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3:11Z</dcterms:modified>
  <cp:revision>53</cp:revision>
  <dc:subject/>
  <dc:title>PowerPoint Presentation</dc:title>
</cp:coreProperties>
</file>