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7866-0975-48B6-A39A-A29E9EEB8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C72D-F079-4F19-997E-89751FC8E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316D-755C-4558-85A7-D84DA5F6F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D46F-1FE9-4F1A-B274-32B325F59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FB19-59EC-405F-B37D-568C6961F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51C1-DA01-453E-BFBB-341B44E5F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7DAA-4011-4094-BE33-7330B037F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171C-6D75-406E-A194-A03EE23CC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81F6-12F5-4691-9FC6-C21554B35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321D-730C-45D5-82D9-95E992701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9E03-04C8-4411-BD2C-98257C793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7772-C933-4822-920D-E65343190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411B8-82C1-45D2-ADE9-A6570043A0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Una Espiga</a:t>
            </a:r>
            <a:br>
              <a:rPr sz="3600"/>
            </a:b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(Sheaves of Summer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3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362320"/>
            <a:ext cx="9144000" cy="3881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Una espiga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orada por el so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l racimo qu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rta el vi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ñado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73 Ediciones Musical PAX; trans © 1989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a Espig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6002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Cesareo Gabara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ín, 1973; trans. by George Lockwo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29528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re converted into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read and win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God’s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 body and blo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our dear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are shar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ame communion mea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are wheat b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ame gre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wer sow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heaves of Summ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ke a millston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fe grinds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own with sorrow and pai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God makes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w people bound by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ke the grains whic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come one sa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le loaf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ke the notes th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re woven into song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heaves of Summ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ke the droplets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ter that a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lended in the sea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, as Christian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e body shall beco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God’s tabl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gether we shall sit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God’s childr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’s bod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will sha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heaves of Summ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e same hope w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ll sing togeth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we walk along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rothers, sister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life, in love, we’ll b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 convierten ahora 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an y vino de am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n el cuerpo 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a sangre del Se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ño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partimo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a misma comuni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os trigo de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smo sembrado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a Espiga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 molino a la vid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s tritura con dol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ios hace puebl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uevo en el amo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o granos que ha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cho el mismo pa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o notas qu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ejen un canta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a Espiga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o gotas de agu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que se funden en el ma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s cristiano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 cuerpo formará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n la mesa d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ios se sentar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o hijos s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n compartirán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a Espiga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a misma esperanz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minando cantará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n la vida como hermano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 amará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eaves of summ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urned golden by the su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apes in bunch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ut down wh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ipe and re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heaves of Summ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9:46:21Z</dcterms:modified>
  <cp:revision>140</cp:revision>
  <dc:subject/>
  <dc:title>PowerPoint Presentation</dc:title>
</cp:coreProperties>
</file>