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3C9-8B2B-4BC1-AF47-B27DC211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899-E095-46B6-AE98-15A2EF48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8E8-B677-4A68-81DC-00A6A552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533-FB96-4505-B4F1-3363F2E1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012-C35F-463A-98D7-BA3E5095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A83-0CC4-485B-A006-A01F6FC4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475-842C-47E2-BCDD-B5764B1A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3C8-43E9-4A03-8ED4-85709F2A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2FF-6450-4E0E-88B8-1525C2C4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662-4CD4-407C-9F3E-29ACEFA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A8D-1B1B-4914-ADE5-E04960B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5FF-2005-40A1-8CFD-8F3E18A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5EE-5966-450F-BCCB-07B37248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ke, Awak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Night Is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ke, aw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ight is fl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ghts are cry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Jerusalem,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5238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 by Catherine Winkworth, 1858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Rom. 13: 11-12; Mt. 25:1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ne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shining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hoir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azzling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ye hath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ar ha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ained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re is ou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ymn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night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lcome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the thr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rej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orth, ye virg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is p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deg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,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am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is marri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prep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e must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et him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Zion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he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is sprin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kes, she r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r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down all-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ong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victorio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ar is ris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ght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beloved S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s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has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nts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rp and cymba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est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09Z</dcterms:modified>
  <cp:revision>57</cp:revision>
  <dc:subject/>
  <dc:title>PowerPoint Presentation</dc:title>
</cp:coreProperties>
</file>