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036-3812-40B2-B430-B31F4DDB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81A-88FC-44AD-975E-BF13609C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C9B-DB21-4A8A-8905-CC9C3791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3DE-35E0-4357-B592-99A21083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FDD-3C15-4D33-AF8F-CC1D233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B26-94D4-4D46-9F64-9E8952CA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824-0D35-4070-BC0E-B889597F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CDA-D55E-44E1-950C-E3372B98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73F-9E39-4F6C-B112-9ED65015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930-ECB9-470E-BCA3-9F651B5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F81-2258-457B-B992-4180F81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311-54EA-4A05-B79E-FED06A3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94A1-5A8D-42B5-A118-E527C37D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m Goin’a Sing Wh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pirit Say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m goin’a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goin’a mo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goin’a s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59Z</dcterms:modified>
  <cp:revision>89</cp:revision>
  <dc:subject/>
  <dc:title>PowerPoint Presentation</dc:title>
</cp:coreProperties>
</file>