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11F-08BF-4C58-94F3-A32A6220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225-2895-441E-B9F2-D272DF7C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9A5-EA08-4C2C-803F-41EF30E2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2FE-40EA-4859-99C2-00D83745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6ABA-4242-4462-9C1B-72DA45D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6AA3-74F8-425E-87AF-C2E1DE4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24BD-1E5B-4891-B106-3A11D6F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D145-9A76-4FEA-A9F9-5DDF710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142-6923-449B-950D-9FB5017D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5BF-FB17-4536-84D8-96D56D56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2041-681E-4EB2-9E1A-E388612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DC7-7FC5-407A-988E-8D75CFB9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23F-BFC2-4918-8349-17F089C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22C-A91E-4975-A87F-E93AF9B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5BD-6F90-444C-BEC5-A18D6672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3A0-4E2E-45F4-95A7-674056D9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5327-8FBC-4426-BE2D-F0BFC9DA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205-F990-4008-BE9B-FD59603D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BC2-3978-4379-8E1A-59007BB6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8E5-4E6F-4BBE-A090-748C87A4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589-6803-4E95-9708-92BB7BC4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187-0A01-43CE-A9B5-FAEEAF1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023-2A29-43DD-8C69-73F8EB4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111-FD18-4428-8E32-F45EABCC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7F3-F8BB-4A0B-987A-E3A78689A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283-4E78-415A-ADE4-6DFF17E8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8120" y="1092240"/>
            <a:ext cx="32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ck Hayford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3644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Jesus b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honor, and p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Jack Hayford, 198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authorit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low from his thron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unto his ow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anthem rai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80880"/>
            <a:ext cx="9144000" cy="504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So exal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p on high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the name of Jesus.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Magnify, come glorify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Jesus, the Ki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his majest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o d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ow glorifi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all k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21:53Z</dcterms:modified>
  <cp:revision>43</cp:revision>
  <dc:subject/>
  <dc:title>PowerPoint Presentation</dc:title>
</cp:coreProperties>
</file>