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425-3C3B-45CF-81EF-9D152F88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E74-5F7F-4DD3-BB36-6AAC6FE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EC2-FCF8-4D6A-BB76-D2D86D41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EEF-4323-4040-A7EF-3FF1BD69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4C2-98F4-4DCD-994C-06662CDF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43E-F954-469D-A6A0-C877ADB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E82-B2F2-432A-8540-6270769D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8D9-6107-4D7E-A36C-ED1D238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F1C-E153-4702-A0E8-D4947E0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237-DF70-4830-A362-12F2129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FE8-DEDC-4DF1-919E-E69D94BE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7DC-F4E0-454A-9EDC-60CCF2A1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CD12-BD2C-4FF6-BA14-D73D1B44E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Up Thy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. Everest, 1833 (Mt. 16:24-25; Mk. 8:34-35; Lk. 9:23-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Take up thy cros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if thou wouldst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ci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ny thy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fors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mbly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ake up thy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t its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thy w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with alar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trength sha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irit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ace th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rve thine a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ake up thy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heed the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le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olish pride rebe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rd fo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end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and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ake up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llow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think till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lay it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nly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hope to w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42Z</dcterms:modified>
  <cp:revision>140</cp:revision>
  <dc:subject/>
  <dc:title>PowerPoint Presentation</dc:title>
</cp:coreProperties>
</file>