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275E-9880-4256-8328-89B98C4A5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9999-BBEC-4BAA-A8C1-1A8807CD5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7C9B-8C07-4DC7-8F27-442354471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68AD-38B3-4032-9CB6-8B36640E8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7306F-053E-4416-9E50-B5DFB5D06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19DED-44A2-452F-A2DA-0E8C198D8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144C9-DF84-4DD1-AC80-774EA14EA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0B524-E52A-4AF7-9DDC-90CE8A133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357B9-B469-4985-92ED-EF2817162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E85FA-E711-4BDF-8173-DC48514EA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87F45-A0CF-42BB-881B-681FF956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1659-4367-4A7F-9158-7C09FDA21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F7EBF-2DFC-4DF8-AB8F-1FBB52F3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D9C6C-DB65-4EBA-9631-648760FC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0A90E-EE45-4174-A3EB-134CFC633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76D09-E39A-4EAE-BE1B-8D16E7EBE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1ABA6-4E27-44AA-9AAA-55D9992E1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2075-37D6-453E-A77C-30B592ACE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36F0-C145-4706-AAD7-5E8BDF81B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A6CD-9B78-4556-AA46-008C508BA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5BD8-7164-47B2-9D13-BD5A4C5B2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1808-58C4-4053-B16D-5207E377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95D3-7B5D-4A61-8EB4-C05BDF7A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D3C0-80B3-4F4E-9FD7-BDCC1109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F48A5-B6BB-4720-ADB6-C02B997138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87F96-0B61-4755-9130-A5B414C6B2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Voice of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 Is Cal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3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Voice of God Is Call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52388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John Haynes Holmes, 1913 (Is. 6:8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The voice of God is cal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s summons in our d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saiah heard in Z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we now hear God say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38088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m shall I send to succ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people in their need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m shall I send to loos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ond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me and gree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Voice of God Is Call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572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“I hear my people cry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slum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ine and mil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 field or mart is sile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 city street is sti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38088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ee my people fal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darkness and despai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m shall I se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hatter the fett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they bear?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Voice of God Is Call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80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We heed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r summo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answer: Here are w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nd us upon your err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us your servants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22860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ur strength i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dust and ashe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ur years a passing hour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ut you can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use our weaknes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o magnify your power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Voice of God Is Call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80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From ease and plen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ve u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pride of place absol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urge us of low desi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ft us to high resol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53352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us, and make us hol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ach us your will and way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eak, and behol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nsw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mand, and we obe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m shall I send to succ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people in their need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m shall I send to loos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ond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me and gree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Voice of God Is Call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“I hear my people cry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slum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ine and mil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 field or mart is sile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 city street is sti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ee my people fal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darkness and despai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m shall I se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hat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fett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they bear?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Voice of God Is Call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We heed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r summo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answer: Here are w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nd us upon your err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us your servants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strength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ust and ash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years a passing hou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you c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se our weak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magnify your pow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Voice of God Is Call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From ease and plen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ve u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pride of place absol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urge us of low desi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ft us to high resol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us,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 us hol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ach us your will and way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eak, and behol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nsw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mand, and we obe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33520" y="228600"/>
            <a:ext cx="761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Voice of God Is Cal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3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Voice of God Is Call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320" y="91440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John Haynes Holmes, 1913 (Is. 6:8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66068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1. The voice of God is calling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its summons in our day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Isaiah heard in Zio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we now hear God say: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9-20T23:14:50Z</dcterms:modified>
  <cp:revision>146</cp:revision>
  <dc:subject/>
  <dc:title>PowerPoint Presentation</dc:title>
</cp:coreProperties>
</file>