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F60-8069-46A4-B51C-DD0487B0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DC9-021D-489D-8EAF-7FA56243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877-24FD-483F-828F-68B59D2C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F66-FE4E-406C-B1C1-EA431B8B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1A3-DFB3-4F24-9A50-F86CF33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8F2-75DC-4312-A0FA-3163CC4C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15D-D37E-481A-8BC5-BCA4C988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BCE-FCCF-43CD-949A-5A47FCC1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F50-E1B0-403F-8B50-DC567B48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14E-6D8C-438A-993A-DB3F8B69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50F-9FD6-4CAD-B5B2-E5FC1A5A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92F-1BF5-43F1-8C92-06E66D02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36CE-3689-48CA-A3CA-D5B7B18AF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lent Night, Holy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cal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br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2520" y="1116000"/>
            <a:ext cx="66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seph Mohr, 1818, alt.; sts. 1, 2, 3 trans. by John F. Young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st. 4  trans, anon.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90720"/>
            <a:ext cx="91440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 das traut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chheilige Pa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er Knabe m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ckigem Haar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chlaf im himmlischer Ru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schlaf im himmlischer Ru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yon virg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her and chi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inf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ender and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in heavenl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in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pherds qu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es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host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pure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diant beam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l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da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deeming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Lord, at thy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Lord, at th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rous s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nd thy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 to our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tille Nac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lige Nac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s sch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äf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insam wac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lle Nacht, Heilege Na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6:40Z</dcterms:modified>
  <cp:revision>13</cp:revision>
  <dc:subject/>
  <dc:title>PowerPoint Presentation</dc:title>
</cp:coreProperties>
</file>