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164-590D-421C-87A1-F5247B92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DEF-5D12-4E68-A2A9-6BF1FA9F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631-962C-4680-A0DC-9E8E12A2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F2E-B6B7-47BA-956B-536457D3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1BE-D7ED-4C07-B70A-4CFD987C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745-B6EA-41D4-899B-A3CA5E6F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48B-579D-47B6-96AC-BB61C25C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C64-7434-49DD-A4C0-6C3D7B0B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C40-D8E5-451C-B29C-04B0E0CE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783-E0E3-46FE-A271-3D69387C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0AB-ED2B-4F17-9388-D81918D1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471-CE91-4EE9-AB2D-E1B91D8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73B2-C49C-4477-93F1-03571D89F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ow Ye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umpet,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50 (Lev. 25:8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low ye the trumpet, blow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ladly solemn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 nations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earth’s remotest bou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The gospel trumpet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s of heavenly g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ved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, app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your Savior’s f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to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, our great high pri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full atonement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weary spirits,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mournful souls, be gl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xtol the Lamb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ll-atoning Lamb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demption in hi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Ye slaves of sin and h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iberty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fe in Jesus d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lest in Jesus li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Ye who have s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n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heritage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hav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ck unb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 of Jesus’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5:26Z</dcterms:modified>
  <cp:revision>122</cp:revision>
  <dc:subject/>
  <dc:title>PowerPoint Presentation</dc:title>
</cp:coreProperties>
</file>