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84C-F76F-40F5-ADB9-5E1FC2D8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79A-62BE-4BD7-82AB-75595CBE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BD4-1764-45ED-9AB6-8FAB675D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C08-4961-4E14-AFD0-F3633066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8BE-00E5-4349-81CB-EA5CD38E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488-035A-4318-A5A5-4F697AC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488B-7D38-4298-821D-CFCA637C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692-60B2-4FF2-9076-D102C341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3C6-73CC-4FE0-8518-45103996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2E7-999E-43CE-BCF9-31E3540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5C3-38C4-4BAD-8CB5-E06B496D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646-DA1B-476D-A407-A1C4133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272A-EE7A-4921-8686-02264F893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ns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pon the moun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you revealed our Messia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who by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ould fulfill both the la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5600" y="1143000"/>
            <a:ext cx="82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Mt. 17:1-1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his transfigu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nlighten our p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e may dare to suff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him in the servi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uman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 share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rlasting glory of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for ever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28Z</dcterms:modified>
  <cp:revision>13</cp:revision>
  <dc:subject/>
  <dc:title>PowerPoint Presentation</dc:title>
</cp:coreProperties>
</file>