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BF0-B916-4656-9F25-E5573193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CBD-B84D-416F-B274-EF35C3B8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9F5-9ACD-4BF2-BCAC-E7C9A19B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C99-47F4-49AC-8FCC-106B17F7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B8B5-FDA2-43EA-BBEE-6234BCF0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A969-1AFE-4048-8D0A-DB187FCD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7FD6-3076-4577-9919-3838B960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6EE9-3B28-40CF-97E6-D942C734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4AE5-1484-4A7F-93A9-BC423AEC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2B14-4AE1-4542-843B-B0060F1A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64B2-8120-47E4-9E95-401F7B5E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029-26FC-4EDD-A059-A0CC2FD1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81C4-3AD1-4B93-9F19-65C89194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0303-4531-418D-9A63-9E584620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B72A-ED2B-4B34-9EC6-49CB14B9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8640-627E-4CCE-82A1-E9238E19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EA29-E418-44D2-ACCC-E7815404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8D8-DF70-421F-B90F-1CC9A7BD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492-D7A7-4739-BD2E-5F1A59AD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3E5-BBED-42FB-A8D1-EA4CE4B0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7476-6868-48D0-A375-20405B3A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6CC-580D-462C-AC40-344C130A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C20-09E4-4747-9B8F-D3786181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070-22D2-466A-9D4E-8183D88F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FB4B-CAA9-427C-ADFA-D1186A64D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E3AD-1580-451D-A944-692F898303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First Noel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4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The first No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angel did s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to cert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oor shepher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ields as they lay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589400" y="1066680"/>
            <a:ext cx="598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Trad. English carol (Luke 2:8-14; Mt. 2:1-12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is star drew n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northw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’er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took its rest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re it d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stop and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ght over the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esus lay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Isra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n entered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Wise Men th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reverent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knee,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ffered t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is pres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gold and myrr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rankincense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Isra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228600"/>
            <a:ext cx="4800600" cy="32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1. The first Noel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he angel did say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was to certain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poor shepherds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in fields as they lay;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152280"/>
            <a:ext cx="48769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in fields where they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lay keeping their sheep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on a cold winter’s night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hat was so deep.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3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6320" y="228600"/>
            <a:ext cx="4876560" cy="332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33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born is the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Israel.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609480"/>
            <a:ext cx="495288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2. They looked up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saw a star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shining in the east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beyond them far;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fields where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y keeping their shee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 cold winter’s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s so deep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685800"/>
            <a:ext cx="495288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the earth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it gave great light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 it continued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both day and night.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3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6320" y="228600"/>
            <a:ext cx="4876560" cy="295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born is the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Israel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228600"/>
            <a:ext cx="4800600" cy="32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3. And by the light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of that same star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hree Wise Men came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from country far;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152280"/>
            <a:ext cx="48769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o seek for a king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was their intent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follow the star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wherever it went.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3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76320" y="228600"/>
            <a:ext cx="4876560" cy="295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born is the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Israel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609480"/>
            <a:ext cx="495288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4. This star drew nigh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northwest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Bethlehem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it took its rest;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685800"/>
            <a:ext cx="495288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re it did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both stop and stay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right over the place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Jesus lay.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3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6320" y="228600"/>
            <a:ext cx="4876560" cy="295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born is the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Israel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609480"/>
            <a:ext cx="4952880" cy="32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5. Then entered in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Wise Men three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full reverently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upon the knee,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685800"/>
            <a:ext cx="495288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fered there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presence,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gold and myrrh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nd frankincense.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3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Isra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76320" y="228600"/>
            <a:ext cx="4876560" cy="295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1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Noel, Noel,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born is the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Israel.</a:t>
            </a:r>
            <a:endParaRPr b="1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SheperdsField"/>
          <p:cNvPicPr/>
          <p:nvPr/>
        </p:nvPicPr>
        <p:blipFill>
          <a:blip r:embed="rId1"/>
          <a:srcRect l="16416" t="0" r="11112" b="9137"/>
          <a:stretch/>
        </p:blipFill>
        <p:spPr>
          <a:xfrm>
            <a:off x="4952880" y="76320"/>
            <a:ext cx="41911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ey looked u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aw a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ing in the ea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yond them far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gave great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 it continu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th day and nigh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Isra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nd by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at same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ee Wise Men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country far;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ek for a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their int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follow the st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it went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28736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 of Israel.</a:t>
            </a:r>
            <a:endParaRPr b="1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18-12-19T03:04:11Z</dcterms:modified>
  <cp:revision>10</cp:revision>
  <dc:subject/>
  <dc:title>PowerPoint Presentation</dc:title>
</cp:coreProperties>
</file>