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257-19D1-4084-B7C4-E0F3DD78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7D3-248C-46CF-9FCA-464D9F9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6A6-EC36-428D-BDC2-95A0C934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218-F074-4211-B200-C1CC23D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999-FF35-4DD9-A762-06BD606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56C-FD96-4F5B-A449-7C881F6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9C5-9F11-463E-B29F-B78B1E6C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8C8-2578-4C2C-959D-F726BADF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265-06EF-4474-BD6B-BBC54CEE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548-BB5E-474D-B5FA-3E9ACDF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65C-6873-44AB-B5B5-47CAFDD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0C9-F043-4EC0-9B69-3017D49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598-647B-4C01-97EB-8A6108B61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riendly Be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umbly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 stable ru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9360" y="1066680"/>
            <a:ext cx="53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2th cent. French carol; trans. anon.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cooed him to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ate and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us all the b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ome good sp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able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re glad to te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they g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friendly bea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him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ong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hill an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rried hi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thlehem t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ggy and b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“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ger for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ave him h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illow his h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c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ite and 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l for his blanket w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ore my c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hristmas m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,” said the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curly h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I,” said the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rafter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oed him to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 should not c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00Z</dcterms:modified>
  <cp:revision>74</cp:revision>
  <dc:subject/>
  <dc:title>PowerPoint Presentation</dc:title>
</cp:coreProperties>
</file>