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3FA-4640-4477-95A1-16A5F3DB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D95-874C-4A1F-894A-D58940CC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67C-64C2-4EB5-9878-7FE2F2D7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999-9E7E-4BD7-8FDE-CF3AF040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6BA-B54E-47A8-9E1C-CCC9A2E2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DD8-89FA-442B-BD9D-8555F2F3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2C6-891E-4E81-A32C-A2171A99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043-CCE3-4A50-9852-D01B36B6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A93-79BF-47E2-A967-8D07824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DF7-6B1E-4547-9B01-7C7D3D46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FF2-48AD-4F03-9DD5-6AB94785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51F-8FE0-44F6-9EC9-6622ADF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1C90-8873-450B-9689-74DF6E5D7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ion/Palm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nt your Son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avior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uffer death on the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on/Palm Su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9760" y="106668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; alt by Laurence Hull Stookey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 may shar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is obedience to your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the glorious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resurrec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lives and reig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now and ev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50Z</dcterms:modified>
  <cp:revision>15</cp:revision>
  <dc:subject/>
  <dc:title>PowerPoint Presentation</dc:title>
</cp:coreProperties>
</file>