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752-CCC9-43A9-B541-8C5E2FC1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9B5-C54C-49C9-92B1-4538E259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282-634E-43C2-AA26-6D7FFFF6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C0B-151F-44ED-BE3F-A534FB72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F6ED-CBC1-41A1-B5F7-70B2887F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7C40-D09B-4447-B1F4-3CF11C68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F2D7-91C6-4BCC-98C7-3BB89429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FC26-CA5F-49CA-B9E2-3F3675B5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7939-D96E-4126-B45C-94F62120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D1E1-1E41-4FDB-B46A-F55729D2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C1E7-6016-491D-8466-73FAD83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0F8-437E-4DCE-A706-E15468DC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8ABC-F9F3-445F-B6E0-8AA38F0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3CB-8DC0-4B18-BCD6-A59748CA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1749-7159-441E-B74B-C1A4B664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8195-A713-4911-B654-E87A5191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A5E8-F67A-44E7-96E5-D1E109EB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C2D-EDFD-49D5-BB7E-7E7F88BF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085-DB65-4820-8F57-5E7399B1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5A3-F64F-4C10-AE6B-497A5A4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12E-3E26-4B32-A81D-7C9B852F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360-F928-452A-9315-82685CB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08C-1A0D-4191-B55D-24F8FB9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21C-DB84-4C08-B75B-B752FDC8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5268-7A09-4A90-B2B7-F6535C8CE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BE64-87A9-45D8-A03F-6181AAB40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rely the Pres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the Presence of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anny Wolfe, 1977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 is in this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might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Lanny Wolfe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hear the br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’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glory on each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 is in this place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32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rely the Presence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the Presence of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39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anny Wolfe, 1977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19320"/>
            <a:ext cx="914400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 is in this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feel his might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Lanny Wolfe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hear the br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’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glory on each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 is in this place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2-05T03:13:05Z</dcterms:modified>
  <cp:revision>88</cp:revision>
  <dc:subject/>
  <dc:title>PowerPoint Presentation</dc:title>
</cp:coreProperties>
</file>