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9DCE-5AF8-408D-8D0E-C3EB848F1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00D2-FDDB-459D-B7E5-9B74BF2B1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6C88-6AFB-4A1B-8FA2-1651EEAC4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9A28-8C5A-46F2-B796-004D1785A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B1102-B3C8-4296-8D57-70521F5AD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2C1DF-63B8-4BEA-9FA2-3A52C6D9A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D913D-5075-4B12-9B93-B7CBDD0EA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9ABEB-F25D-4BF2-A128-513696BFC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EB11C-77D0-406E-A21A-A3C0144AA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4AD71-4C3E-4E55-9EC0-621ED91C6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4162D-6E41-4624-9817-6241F097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23D9-E336-451D-9952-85B64090C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42A0A-5ED5-4972-8D17-C31CCA2E4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0FDE9-9588-41B4-B228-C9D6EEF79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E0458-8131-4509-95E7-1C4EFDEB7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DDFE1-F977-4998-9325-BCC8246BB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7671E-4900-4546-9ACD-502315DBC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A440-8658-4797-BC4F-08DDF8816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E2DC-F0D9-4D1B-A781-ADD02E4D3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A14D-DBFD-4E03-957C-C18DBD014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B11E-AE00-49B4-BDE3-1789FEF33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F602-266B-441B-8016-2675837A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E4D5-CF20-4AEA-BF6C-98EA019C1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3A16-3D7C-47B3-9F54-A1F206CE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448F7-0A81-43A9-8FDE-DC1E45DF4A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5AB9B-0F99-48EC-AC27-AB3E01B383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ash, O God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ur Sons and Daught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0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286000"/>
            <a:ext cx="9144000" cy="425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Wash, 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sons and daught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your clean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ters fl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sh, O God, Our Sons and Daughte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60020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Ruth Duck, 1987 (Jn. 3:3-8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your n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glory, honor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our liv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worship, prais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your peop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and befor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ter-wash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pirit-bor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your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lives we offer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create u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, transform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364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ash, O God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ur Sons and Daught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0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66068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Wash, O God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ur sons and daughter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ere your cleansing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aters flow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sh, O God, Our Sons and Daughte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Ruth Duck, 1987 (Jn. 3:3-8) </a:t>
            </a: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umber th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mong your peopl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ess as Chri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essed long a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3644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eave them garment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right and sparkling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compass them with love and light. Fill, anoint them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end your Spirit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oly dove and heart’s delight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13644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2. We who bring them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long for nurture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y your milk may we be fed.         Let us join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your feast, partaking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cup of blessing, living bread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sh, O God, Our Sons and Daughte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15228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od, renew u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uide our footsteps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ree from sin and all its snares,     one with Christ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n living, dy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y your Spirit, children, heirs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13644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3. O how deep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your holy wisdom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Unimagined, all your ways!            To your nam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e glory, honor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ith our lives we worship, praise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sh, O God, Our Sons and Daughte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13644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e your peopl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tand before you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ater-washed and Spirit-born. By your grac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ur lives we offer.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Recreate us; God, transform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umber th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mong your peopl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ess as Chri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essed long a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ave them garmen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ight and sparkl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pass them 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and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ll, anoint them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nd your Spir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y dove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t’s de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e who bring th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ng for nurtur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your mil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we be f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sh, O God, Our Sons and Daughte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jo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feast, partak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up of bles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ving bre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, renew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uide our footstep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ee from s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ll its snare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447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with Chri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living, dy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your Spir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ildren, heir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O how dee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holy wisdom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imagined, all your way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sh, O God, Our Sons and Daughte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03-24T01:22:11Z</dcterms:modified>
  <cp:revision>107</cp:revision>
  <dc:subject/>
  <dc:title>PowerPoint Presentation</dc:title>
</cp:coreProperties>
</file>