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ED05-4B09-421B-91D1-22D12910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AD87-8413-40EA-8973-D158B605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682-162A-4A04-AB5A-58E8B7BB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1169-7E68-4B41-AF14-0677E5C6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357C-ECE7-40CC-8023-5E956120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1F3-989C-4974-9FC3-6BBB9954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FDE-E888-4FB3-8138-7C604F76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BF79-F1B2-4A56-BB55-FF166915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D8E-EBD5-49B7-8A44-D8DAD0D2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292-3D97-4AA3-AB31-BD82456F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A00C-053C-4F10-9352-A8F7C019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509-AD1A-4769-99D5-D8E56646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CD27-BFF8-4988-87AA-3B7E179F9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as! and Di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Savior Bl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0" y="1676520"/>
            <a:ext cx="9088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Isaac Watts, 170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las! and d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 bl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id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vereign di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, Lord, I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all that I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ld he devo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acred h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inners such as I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as it for cri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have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groa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tr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azing pit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unknow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beyond deg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ll might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 h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ut its glories 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God, the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r,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i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ature’s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us might I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blushing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his d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appea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solve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ank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lt m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s to t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But drops of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ne’er rep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bt of love I o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3:23Z</dcterms:modified>
  <cp:revision>50</cp:revision>
  <dc:subject/>
  <dc:title>PowerPoint Presentation</dc:title>
</cp:coreProperties>
</file>