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C2E-8BFB-413A-B3F6-27268C20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639-EE4D-4EBB-807C-EC0BB3C1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A504-3A94-4E5A-9EF1-A5846423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1082-36AD-4932-B415-77ABF13C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BFF1-02FC-4388-837F-F68DF4E0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3600-7688-4B8E-92D1-854D359C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1CD1-EAEA-42D5-84C7-CDDFECE1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FAFB-3624-475D-A4F0-FC34EE08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5C4C-C7CD-4CCB-BFE6-5ECC868C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2DAB-E29A-4C13-89FA-125899AA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1A20-4BF4-4183-9DEF-13B46BC6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704-2000-4C5C-A2DD-BC407798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8E66-06CC-427C-A1AC-2722B3F8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3757-C9C9-4F11-BEAC-6146C46C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64E8-7FC6-4487-A339-DBC130B4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F773-BB97-40EA-987E-B2F728DC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2743-375C-4A9D-A115-5A4FD570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589D-1F32-49EA-8F2F-EFEF8295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210D-A4A3-45D1-B986-C0227A83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249-5857-4DB0-BF6D-81A748B4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170D-648B-4C21-8A8B-EA701A86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96F2-472E-4E1C-9B4A-57EF9E1C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8EA-938B-40F8-AD76-FC87656D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DA5C-9E34-4265-91AE-0CB8DC30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2330-9134-44BB-9A01-0B25DB8F1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9279-7321-415F-858A-A254A862AC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3808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Shall We Gather at the Riv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72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Shall we gather at the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bright ang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et have t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its crystal tide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lowing by the throne of God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430360" y="1143000"/>
            <a:ext cx="42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Robert Lowry, 1864 (Rev. 22:1-5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76320"/>
            <a:ext cx="9144000" cy="49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4. Soon we’ll reach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the shining river,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soon our pilgrimage will cease;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soon our happy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hearts will quiver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melody of peace.</a:t>
            </a:r>
            <a:endParaRPr b="1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152280"/>
            <a:ext cx="9144000" cy="48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we’ll gath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riv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river;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7621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ather with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aints at the riv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flows by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rone of God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0" y="3808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all We Gather at the Riv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hall we gather at the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bright ang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t have t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its crystal tide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wing by the throne of God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430360" y="1143000"/>
            <a:ext cx="42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obert Lowry, 1864 (Rev. 22:1-5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028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ll g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 river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nts at the r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ws b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of G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n the margin of the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ing up its silver s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rship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happy golden da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ll g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 river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nts at the r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ws b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of G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Ere we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hining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y we every burden d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our spirits will del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ovide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be and crown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457200"/>
            <a:ext cx="9144000" cy="48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we’ll gath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riv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river;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12952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ll g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 river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nts at the r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ws b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of G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oon we’ll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hining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our pilgrimage will cea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our happ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will qu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melody of pe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ll g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 river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nts at the r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ws b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of G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11430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ather with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aints at the riv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flows by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rone of God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7632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 On the margin of the riv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ashing up its silver spra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e will walk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worship ev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happy golden day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228600"/>
            <a:ext cx="9144000" cy="48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we’ll gath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riv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river;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8380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ather with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aints at the riv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flows by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rone of God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3168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3. Ere we reach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the shining river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lay we every burden down;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grace our spirits will deliver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and provide a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robe and crown.</a:t>
            </a:r>
            <a:endParaRPr b="1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152280"/>
            <a:ext cx="9144000" cy="48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we’ll gath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riv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river;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8380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ather with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aints at the riv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flows by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rone of God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10-20T01:06:30Z</dcterms:modified>
  <cp:revision>54</cp:revision>
  <dc:subject/>
  <dc:title>PowerPoint Presentation</dc:title>
</cp:coreProperties>
</file>