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095-4AA3-4391-81C7-FC23C205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E1F-1D27-4763-8C10-D48C8748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272-0330-4EA9-96F7-C7299561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78F4-39C1-4C59-B96A-8AC1C082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F605-9BB3-46FA-B9C7-010AE486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C92-F673-47A1-AE5D-CA02FAA2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BE2-6E28-4138-B8FB-CAEDCC18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31E-1C62-48D5-9D35-73E1393E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86E-C0BE-438B-AF51-406103D8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0BA-6D78-4D96-B2D4-5D5D9D63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7B0-0F99-415A-94A8-CFD7E394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A84-73BF-42E4-AA0B-2884D750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3462-A208-48BB-ABDE-6E992FE16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ons and Daughter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Us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ean Tisserand, 15th cent.; trans. by John Mason Neale, 1851, alt.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sons and daugh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s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lorious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95280"/>
            <a:ext cx="91440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e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bilee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When Thomas fir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idings he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hey had s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sen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1932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doubte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ciples’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7. “My pierced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omas, s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ands, my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how 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6668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faithless b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lieving b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8. No longer Thom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deni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aw the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nds, the s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37160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my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,” he cr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9. How blest are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ave not s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et whose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constant be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21932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y et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shall w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6668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death and h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triumph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at Easter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break of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ithful wom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nt their w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6668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k the to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esus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n angel cl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white they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sat and sp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the th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1932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ord doth g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alile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at night the apost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t in f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idst them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Lord most d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30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id, “My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n all her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On this most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of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hearts and v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rai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4:42Z</dcterms:modified>
  <cp:revision>74</cp:revision>
  <dc:subject/>
  <dc:title>PowerPoint Presentation</dc:title>
</cp:coreProperties>
</file>