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BC1-B911-4006-9248-750E1179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7437-E1A3-4A44-A536-222A7F1B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10D-D118-411F-B07F-084B4D69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D9E-496F-4E57-9595-F527A6A4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E09B-2897-4BCC-B943-717E41C3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4896-3377-42BE-91F1-4904F029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340B-4F66-4489-8116-5B7C7465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B129-D019-4748-AB9F-6EBD73F8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489E-F0B6-413B-9493-A1826430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FC23-49C5-440F-8094-639DCE0C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070A-D992-430D-B969-0F0C1F25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43E-41E2-4D3F-939D-EFCF6B1F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E5EB-0C15-44A7-84F9-A4FAA76C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48AE-F35B-4EA2-92D1-B82ACC2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1816-A702-46B7-913A-AC1C0574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E0E6-40FA-494C-A856-A568D657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D53D-F7B8-4B24-BCC0-0D3E3B02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184-9B7B-4E3E-966A-778F7110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974-EE0D-42B5-AC97-577C138D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8DC-F900-4169-8CCD-A794D358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FA7-AEA1-45C7-AFE5-AD0A7A1E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8C2-23BB-4F5E-A120-4BABF380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9EA-01BD-4631-8DF6-0AD2F4D1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A48-FB64-4F5F-B4A9-E0942D0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BA0C-C590-4D1D-AD3A-8E78E11ED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6529-EC71-4429-BD63-EBDEA9929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Firm a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w firm a found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saints of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laid for your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excellent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90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“K” in Rippon’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election of Hymn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1787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2 Tim. 2:19; Heb. 13:5; Is. 43:1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ul, though all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endeavor to sh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never, no,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never forsak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Firm a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How firm a foundati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e saints of the Lor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s laid for your fai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is excellent wor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“K” in Rippon’s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election of Hymns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1787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2 Tim. 2:19; Heb. 13:5; Is. 43:1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more can he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to you he hath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who for refu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have fl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Fear not, I am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not dism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am th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still give thee a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treng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use thee to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my righte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mnipoten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When through fiery tri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ways shall l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-suffici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y suppl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lam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hurt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only de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ross to consu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gold to ref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“The soul that on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ans for re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ot, I wi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ert to its fo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oul, though all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endeavor to sh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never, no, n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, never forsak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more can he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to you he hath s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who for refu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 have fl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“Fear not, I am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 not dism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am th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still give thee a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streng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p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use thee to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held by my righte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mnipoten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When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ep wa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ll thee to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vers of w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overf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will be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oubles to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nctify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eepest distr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“When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ery tri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ways shall l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-suffici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y suppl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lame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hurt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only des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dross to consu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gold to ref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“The soul that on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ans for re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ot, I will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ert to its fo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20T00:54:35Z</dcterms:modified>
  <cp:revision>56</cp:revision>
  <dc:subject/>
  <dc:title>PowerPoint Presentation</dc:title>
</cp:coreProperties>
</file>