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ABDE-D3E1-43FD-817F-0E91500EC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C700-65BE-40F4-9F69-51B0674D8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E251-2646-4889-991D-6CEB49A15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FAB4-E73E-42D1-8CA2-023C2C5E7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3B431-E65B-4A9B-B8EE-5E5255751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749EB-E5E7-4D24-A530-0845F96F0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1CC1F-9CC3-4675-AF32-EF62EA81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C5DDF-D993-4D4A-9A87-EC2DB418A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A20FC-1CC1-4AE3-8C15-CB146FCB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DDD4C-9F71-491E-A528-DE6C0F2F7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321E-53D1-436B-A4B5-B46360F8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33AD-C087-48CE-A1DB-1D19827ED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3E3B3-EBB3-42BA-8112-8F311D93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D4B2E-975E-48A7-85F2-2B6E27FE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AA467-DFE7-46B1-A3BF-7BC2890E9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4997C-8D38-43CF-9351-366A036CE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36E01-2773-4781-9A7E-5329213A3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BFBA-D654-40D7-969F-9FBB1CAC2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71A1-C5D1-4D59-8B9B-70DC2D9D2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51EA-C28B-42CC-A253-5F5A327BA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A867-13B9-4716-8134-8050780E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0CE2-1622-41FC-AD38-42F8DD53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B41C-AB04-46A2-9BCD-B57260FD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87FE-34C7-4657-B1F4-341EBBBC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B1BA-84F5-487F-BD57-258D6788F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CD3A5-4A57-4128-B1CC-87976CEBAD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et All Mortal Flesh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Keep Sil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2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895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Let all mortal fles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eep sile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ith fear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embling stand;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All Mortal Flesh Keep Sile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6765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Liturgy of St. James, 4th cent.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rans. by Gerald Moultrie, 1864 (Jn. 6:35-58; Rev. 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his f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ix-winged serap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erubim,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leepless ey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All Mortal Flesh Keep Sile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eil their fac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prese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with ceasel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oice they cry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, Allelui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Most Hig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763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et All Mortal Flesh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Keep Sil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2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98108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Let all mortal flesh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keep silenc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with fear an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rembling stand;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All Mortal Flesh Keep Sile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3716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Liturgy of St. James, 4th cent.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rans. by Gerald Moultrie, 1864 (Jn. 6:35-58; Rev. 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53352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ponder nothing earthly minde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or with blessing in his hand,   Christ our God to earth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descendeth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ur full homage to demand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21276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King of kings, yet born of Mar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s of old on earth he stood,         Lord of lords, in human vestur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the body and the blood;              he will give to all the faithful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is own self for heavenly food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All Mortal Flesh Keep Sile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28908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Rank on rank the host of heaven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preads its vanguard on the way,    as the Light of light descendeth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rom the realms of endless day,   that the powers of hell may vanish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s the darkness clears away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All Mortal Flesh Keep Sile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28908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t his feet the six-winged seraph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herubim, with sleepless eye,        veil their faces to the presenc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s with ceaseless voice they cry:    Alleluia, Alleluia, Alleluia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ord Most High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All Mortal Flesh Keep Sile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onder noth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ly mind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with bles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is han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our God to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scende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full homa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dem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ing of kings, y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rn of Ma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of old 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 he stoo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All Mortal Flesh Keep Sile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of lords,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uman vest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bo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bloo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will giv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faith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own sel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heavenly f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ank on ran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ost of hea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reads its vangua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e w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All Mortal Flesh Keep Sile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the Light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ght descende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realm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dless d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e power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ll may vanis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the dark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ears a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05-30T01:24:26Z</dcterms:modified>
  <cp:revision>129</cp:revision>
  <dc:subject/>
  <dc:title>PowerPoint Presentation</dc:title>
</cp:coreProperties>
</file>