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087-0B6B-4E45-8CC2-63831F8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5CE-EB8D-468A-B40F-7901029D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F42-5631-4BA5-8320-4D8998EB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C90-B180-4E7C-BA42-EA11F197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152-A41E-4122-8A49-AA28EB3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08B-A9A9-4E58-B889-C669D8BA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6BD-9108-47BF-8A45-6A5EE425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566-4964-421C-98C1-D57006A1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BEC-82D7-44F8-BA76-B6E39D81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C6D-F8B3-462A-A63D-2062DD5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F2E-EF98-4D37-B207-705DBBB9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AC2-A092-4606-85FF-7517CF7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3EEB-5080-49A2-8813-EB43946B0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or of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rth and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Donald Hughes, 1964, 1969 a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reator of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hom all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wer be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By permission of The Methodist Publishing House, Eng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us your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w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us you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have not known you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monu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lly so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our self-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se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made us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selves th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not loved you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w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recka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atred sprea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ils 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uman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il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repentant hea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e long to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orldwide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hall we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o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word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6:59Z</dcterms:modified>
  <cp:revision>149</cp:revision>
  <dc:subject/>
  <dc:title>PowerPoint Presentation</dc:title>
</cp:coreProperties>
</file>