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6283-A184-4A59-B2ED-09128391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EF13-7911-4F8C-8476-081262DE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5920-8DC9-4351-9F26-977C3AED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9B92-376B-43D6-A7E4-F66228F9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867C-FF2D-478F-B114-1B255850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F63D-F88C-4F7B-8389-7E8BE4EF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9C27-D997-472E-B44D-CD4431ED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514E-906F-4B16-B80E-40DC5676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8AE8-E00C-45DB-A082-831F720D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32C0-C122-4591-8D81-91EE6FAF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5099-2281-491F-9FEE-6250ACBF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0DBC-0532-4E18-8D48-B46EE047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4DB6-BD8A-4D45-8B89-690084980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read and Jus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d and Jus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Rubem Alves, Brazil 20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441440"/>
            <a:ext cx="8915400" cy="513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O God, just as the disciples heard Christ’s words of promis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and began to eat the bread 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 and drink the wine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suffering of a long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remembrance and in the joy of hope,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I Believe in the Resurrection of the Body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86 Fortres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grant that we may hear your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ords, spoken in each thing of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everyday affairs: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Coffee, on our table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 in the morning;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the simple gesture of opening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 a door to go out, free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houts of childr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n the park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a familiar so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sung by an unfamiliar fac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a friendly tree that ha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not yet been cut dow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simple things speak to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of your mercy, and tell us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life can be good. And m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these sacramental gifts make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remember those who do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receive them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have their li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cut every d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n the bread abs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from the tabl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in the door of the hospita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e prison, the welfare ho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at does not ope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sad childr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feet without sho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eyes without hop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in war hymns that glorify death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in deserts where o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ere was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rist was also sacrifice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ay we learn that w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articipate in the sav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crifice of Christ when w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articipate in the suffering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is little ones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6:45Z</dcterms:modified>
  <cp:revision>138</cp:revision>
  <dc:subject/>
  <dc:title>PowerPoint Presentation</dc:title>
</cp:coreProperties>
</file>