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4F63-435B-4C13-84C4-564C8748E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D7C7-0E19-41C6-82C8-27EBAD129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5A96-EE0F-42A3-A5F5-8CBDC5810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90F3-A15D-42C5-A440-66A090707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027C-B37A-4101-9542-3B47FB2F9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EC9E-AA6A-4AE7-B84E-5119CCC57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45E2-9266-4831-897B-6DFC24968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1E8C-A71F-4999-A67D-55C551B08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E275-7D32-4B3E-B0C4-37697F9D8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AB95-051F-452A-BEC3-BBC28B692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2123-8130-4517-81A3-3DF3E0A8D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5CB5-30EC-49E8-9A0B-CC0AEA7AC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698AB-2123-4E48-BE95-270B8018BB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Rejoice, Ye Pure in Hea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6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09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Rejoice, y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ure in hear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joice, give thank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si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Ye Pure in Hear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00600" y="1092240"/>
            <a:ext cx="675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Edward H. Plumptre, 1865 (Ps. 20:4; 147:1; Phil. 4: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5. Praise God wh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igns on hig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Lord whom we ado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Father, S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Holy Gho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e God foreverm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Ye Pure in Hear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668600"/>
            <a:ext cx="9144000" cy="314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osanna! Hosann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joice, give thank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s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Ye Pure in Hear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glorious bann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ve on hig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ross of Chri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K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668600"/>
            <a:ext cx="9144000" cy="314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osanna! Hosann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joice, give thank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s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Ye Pure in Hear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Your clear hosannas rai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alleluias lou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ilst answering echo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pward flo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ke wreath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cense clou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Ye Pure in Hear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676520"/>
            <a:ext cx="9144000" cy="314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osanna! Hosann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joice, give thank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s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Ye Pure in Hear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Yes, on throu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fe’s long pa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ill chanting as ye go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youth to ag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y night and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gladness and in wo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Ye Pure in Hear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668600"/>
            <a:ext cx="9144000" cy="314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osanna! Hosann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joice, give thank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s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Ye Pure in Hear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At last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arch shall en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wearied ones shall res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pilgrims fi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ir heavenly h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rusalem the ble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Ye Pure in Hear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668600"/>
            <a:ext cx="9144000" cy="314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osanna! Hosann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joice, give thank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s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Ye Pure in Hear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16:11Z</dcterms:modified>
  <cp:revision>23</cp:revision>
  <dc:subject/>
  <dc:title>PowerPoint Presentation</dc:title>
</cp:coreProperties>
</file>