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CAE-003E-4727-98D9-E17A3C36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EC3-7867-4A09-85DC-8BC1B3AC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C00-CAE6-4A38-9981-C45F7FB7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062-6299-4CD9-96D7-F65685F0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E21-C5FB-48FC-B2D8-794E638E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E67-36A6-4A48-80C3-DF4A4947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DEE-4201-4B90-8027-A11310AF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F4F-6F28-437D-88E7-88AFE18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83D-F6BF-44CB-ACE3-D68E14EF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6F9-9635-4651-B20A-0FDE21CD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006-89CF-4986-8245-50F7EBED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073-D532-45F4-9CF3-6E3D534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1621-B18D-42D4-A77E-15B25CFEA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Still, My Sou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on your s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patie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grief and pai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273760" y="1092240"/>
            <a:ext cx="461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arine von Schlegel, 1752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Borthwick, 1855 (Ps. 46:10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to y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rder and prov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ch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faithful will remai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b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venl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orny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to a joyful en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d will under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uide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ages p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hing sh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ow myste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bright at l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v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s st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 who ru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while he dwelt below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 is hasten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with the Lord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disappoint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, and fear are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purest joys restore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chang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rs ar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afe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meet at l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9:57Z</dcterms:modified>
  <cp:revision>10</cp:revision>
  <dc:subject/>
  <dc:title>PowerPoint Presentation</dc:title>
</cp:coreProperties>
</file>