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AB1-E2BC-4AE3-B5B2-7CB0C32B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4E8-7DFA-496A-B741-A0B42B24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B63-F42A-4B53-91F1-F750C4F8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36D-A826-48FE-B99A-DC19C372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5B1-C159-41B2-874E-BF6A6A57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B4D-0832-4D1D-882A-15885F4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F98-814B-4449-9311-FC2B632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116-936D-4A7D-B155-7ADDEB30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C7A-44B4-431A-B2D3-5063A33B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D0F-9B86-46DF-860D-8A00E73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6FA-7C1D-4D9C-98DC-564A9B67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12D-B260-4451-9081-3A40978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5EA3-ED9C-4A4F-8EAE-BF7140877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, Shine, You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ise, shine, you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 en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uman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 him is cent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6280" y="106668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A. Klug, 1973 (Is. 60: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come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eath and sin surr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unbo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 how he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 evil ree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s us free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ife and hea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n and wo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guilt are dr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re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celebr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banners high unfu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ongs and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the darkness hur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e world go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ll how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his Son to save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of the Son,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freedom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s from every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7:08Z</dcterms:modified>
  <cp:revision>38</cp:revision>
  <dc:subject/>
  <dc:title>PowerPoint Presentation</dc:title>
</cp:coreProperties>
</file>