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097-6477-4BCF-A8BC-8050EF91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259-F704-4990-A14D-891987FC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D0C-1CAE-4234-BCB0-0A13A96B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241-4116-4DC9-8945-1CF0BBE4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230-4BE8-46CF-AE3F-11F92B3A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1DE-1652-4815-A940-D801CCFA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FE1-1236-446A-9D8A-5468729A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E12-D3A1-4868-9B36-7098B6D4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D67-D2A3-4F68-9F7D-A1F132B1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E35-13E2-4952-AC91-979AC9D4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E17-2B25-437F-BC1E-756F0660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E25-D983-4657-BE1B-6B37395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8A6D-5367-41DF-81D0-13674A31C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, While Tree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e Still in Bloss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aith, whil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till in bloss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ns the pic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frui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Ansgar Film &amp; Bokproduktion, trans. © 197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ders Frostenson, 1960; trans. by Fred Haan, 1972 (Heb. 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ccept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, respo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wi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send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can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rill of harv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b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to spr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ng bef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wn is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ticipat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is ea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y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ust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ng bef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ns were co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ah wen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an 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aham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ely migr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w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aith, uplif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med the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undivided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Hebr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d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de them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aith believ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faith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be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6:17Z</dcterms:modified>
  <cp:revision>42</cp:revision>
  <dc:subject/>
  <dc:title>PowerPoint Presentation</dc:title>
</cp:coreProperties>
</file>