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FA5-1DD5-4CE9-A026-33C04619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57E-87DC-410D-BD71-26319B74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D96-8485-4865-B2D4-9A5A3854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0DA-0889-4347-99E4-276AF29C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77D7-DBC7-492B-9FF5-5EA01EF7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FA8E-E08D-44E5-8808-7B0B2CEB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0EDB-EADD-4453-AB84-675D109A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9584-0CA8-443F-BC5E-551F8B7E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676D-05F5-4954-A472-B788F063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C2E9-F1E4-41DD-B2C0-5E6C3697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8C96-BC2F-4CB2-AEA9-770305AF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893-90D7-4DD8-8F5F-F5BA730A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724F-A9EA-4EAC-9429-ABEFED3C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93C4-532F-40FF-963A-73E33C92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B669-CBFE-40A3-B65C-EDA088F6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2241-6B24-4B1F-9851-ABE55F8D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5CF4-90CB-4841-990D-5EF78B28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AC6-FEF0-4578-9975-CCC9CE4D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0DB-41E5-4FA7-ABC6-DB0EFFA1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511-B344-4CE1-97AA-2203DE3F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24A-3DD0-4996-AEA3-1CF45AB5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8DA-A9C3-4A3E-955D-2CAD0973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FAC-F49E-435E-BA3C-63BE1B3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7BA-C8FC-4C71-A6E8-FB20099F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6AE5-2766-4914-B49D-4BB28EA6E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E106-1744-48CE-8ABE-088928F34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3049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Came upon the Midnight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It came upon the midnight clear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glorious song of ol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angels bend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near the earth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o touch their harps of gol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8480" y="9907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dmund H. Sears, 1849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ace on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ill to 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gracious King.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in solem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ness l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ear the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till through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oven skies they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eac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ngs unfur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ill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ly music floa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the weary wor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its s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wly pla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bend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vering 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 o’er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bel s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ed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nd ye, ben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’s crushing l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f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ending 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il a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imbing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inful steps and s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ok now! for g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lden hou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swiftly on the w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rest be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eary 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 the angels 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low! the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hastening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prophet seen of 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-circling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he time foretol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over all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ancient splendors f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whol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back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now the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eace on the ea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ill to m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rom heaven’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gracious King.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ld in solem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tillness lay to hear the angels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Still through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loven skies they co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eaceful wings unfurl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still thei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ly music floa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the weary worl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its sad and lowly plai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y bend on hovering w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 o’er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abel sound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ed angels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And ye, benea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ife’s crushing lo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forms are bending l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il alo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climbing w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inful steps and slow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ook now! for gl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lden hou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 swiftly on the wing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rest beside the weary ro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 the angels s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low! the day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re hastening 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y prophet seen of ol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ith t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ever-circling yea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he time foretol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n peace shall over all the ear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ts ancient splendors fl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whole wor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end back the so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now the angels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 Came upon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idnight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337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It came up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midnight clea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glorious song of ol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rom angels be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ear the ear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touch their harps of gol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28480" y="163836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dmund H. Sears, 1849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2-05T00:21:08Z</dcterms:modified>
  <cp:revision>65</cp:revision>
  <dc:subject/>
  <dc:title>PowerPoint Presentation</dc:title>
</cp:coreProperties>
</file>