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8D7B-51F7-4985-98AD-429D4F55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72F4-88D5-40FA-B919-CCED1F8C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F9D5-F39A-4599-9B92-285E0D28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8F6C-9BEB-461C-915C-E74116BC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7F60-584C-49AB-B766-321E42F8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0956-DFDA-43DC-811F-788FB38D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B57F-39EE-4C99-ACCA-83C8DAE5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A345-0B33-4D3A-AC77-BAB7A736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55DA-5B4A-4DF8-820B-A26A3932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6B59-E3FA-48E8-BE40-401D47BE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3799-2C9A-43CE-9A45-F37FFF45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49BA-E56A-47AB-A117-83D7D923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18F5-9B2A-4152-8ADA-73756337C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, upon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ountain Pea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hrist, up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untain p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s al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glory blaz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7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upon the Mountain Pea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31480" y="1549440"/>
            <a:ext cx="689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rian Wren, 1962 (Mt. 17:1-8; Mk. 9:2-8; Lk. 9:28-3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, if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e to sp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saint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praise him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rembling at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t we sa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se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lijah spea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upon the Mountain Peak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prophe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la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t thru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joyful greeting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wift the clo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lory c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proclai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its thunde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upon the Mountain Peak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a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 by na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tions, cry alo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wond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is is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loved So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w and prophe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de before hi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upon the Mountain Peak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rst and l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ly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cre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adore him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0:43Z</dcterms:modified>
  <cp:revision>21</cp:revision>
  <dc:subject/>
  <dc:title>PowerPoint Presentation</dc:title>
</cp:coreProperties>
</file>