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9C1F-7627-49E9-AE83-FC1B5943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2A26-2EF4-43D5-981A-3BAD48BB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F946-0997-4E1A-A24B-6528EC52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B408-73D5-491C-8A4E-1AA0EFD6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07C-FDA7-40A2-8FB7-5A714743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56EB-CDD3-486D-A34D-A43DAA33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38A2-583F-4F44-952C-FF0E4414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69CD-3AFD-4ED8-868C-450B73D4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1FE6-B0D8-4F9D-8756-00CC60B3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87C8-9791-41FB-A943-D1A86307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7030-1616-4C00-9E9D-F2DEDD55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717F-0592-4E90-9227-1B266098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0459-2C5E-4502-B95F-6BDE66A57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e Who Claim the Faith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39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Ye who cl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faith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 the wond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ere don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t. 4 © 1982 Church Pension F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Who Claim the Faith of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30680" y="1004760"/>
            <a:ext cx="528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ts. 1–3 Vincent Stucky Stratton Coles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t. 4 F. Bland Tucker, 1982 (Lk. 1:26-5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“Magnify,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greatne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rejoi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Who Claim the Faith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a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ll me ble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is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ift my voi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has cast d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low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his choic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the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ver s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ictory w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he ma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Virgin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the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only 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Blessed w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chosen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t of wh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did c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Who Claim the Faith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nd of prom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shione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earthly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more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r the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e who b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m in her womb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refore l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faithful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 the hon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her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Who Claim the Faith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the chu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er foreshadow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rt in 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nksgiving clai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Christ’s m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ng in gla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Christ’s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 the sam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0:09Z</dcterms:modified>
  <cp:revision>48</cp:revision>
  <dc:subject/>
  <dc:title>PowerPoint Presentation</dc:title>
</cp:coreProperties>
</file>