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D6B-32E5-46F4-8FC7-0F4DBEEB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B57-B479-462C-A279-BF26CE05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1ED-12E1-41D9-B804-70BDB54C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DE1-7CAC-4525-85E0-E6111FCA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FF9-1145-4008-8F93-377F5B5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771-054B-4E16-8636-17952934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14F-5445-4305-8137-63CD6AAB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991-539C-4079-8AA7-1D6DD673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41A-C943-4F55-B63F-10841159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704-E323-4D3D-9E9A-94F3244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277-BB3B-443C-A500-31356A8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AD3-560C-4D89-ACC3-020E4C04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46E-5B4D-4E69-842A-611CDA4CE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l Est 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He Is Bor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8360" y="156204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19th cent. French carol,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406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10Z</dcterms:modified>
  <cp:revision>76</cp:revision>
  <dc:subject/>
  <dc:title>PowerPoint Presentation</dc:title>
</cp:coreProperties>
</file>