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170-DA4E-4D55-930E-0E6BE180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8A2-4398-4705-987A-6C1AEAD7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D03-125E-4AFF-BBE2-C49CF886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DA6-9AA4-4B43-A0BD-DD9565A0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E46A-7A06-4D9E-A7A5-67D40D1E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5E23-5975-45D6-AB82-91E31A83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369-59E9-41F0-A159-B7D65236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C90F-128D-4017-97ED-E76BCB1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AE6B-3296-4107-8CD5-B9A86B5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5886-414E-45DA-B63A-61EEF7F7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AFAA-4973-4E00-A6DF-50280C4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0C8-780F-498B-B32D-0C0FF391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79CB-2D8A-44EA-BD68-2804C788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C57-D32B-4233-9E4B-1D8F3D32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741-9BB5-4098-9D19-9AC00DD5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E102-203E-4698-8D4F-0EC88D41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19E5-0F7C-4D35-A167-2F07951C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4C1-673D-48AA-9F34-EC5BE0F6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E98-C15C-412D-B044-A5065758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D75-E31A-4B2F-971F-8A71FDF5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11E-2889-454B-A387-3A722394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E57-CF92-4F64-9C17-50B1556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CA6-14D7-4413-A916-2DF8ABDB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ADA-AEAB-40E7-B3FC-36F5128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3A6D-1AE8-4C3D-BC78-52EB7A97C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32DA-4718-4420-9C26-92A047199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ight and Dark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412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Adv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who wal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een a grea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,  Responses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3080" y="1090440"/>
            <a:ext cx="72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iah 9:2; 59:9-10; Psalm 139:11-12; Daniel 2:20, 22; 1 John 1:5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dapt. by Alan Luff;  Response 1, Isaiah 9:2, adapt.;  Response 2, Alan Luff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3, trans. by Frederick Oakley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685800"/>
            <a:ext cx="609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ok fo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but find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for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but walk in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4080" y="762120"/>
            <a:ext cx="5943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rope like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who have no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we stumble at n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in the twilight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95480" y="762120"/>
            <a:ext cx="609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darkness c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bout me be night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8120" y="152280"/>
            <a:ext cx="60958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is not dark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the night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the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for dark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light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52680" y="152280"/>
            <a:ext cx="5715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be your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O God, for 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You reveal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mysterious th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438280" y="228600"/>
            <a:ext cx="6705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ligh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in you is no darknes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Our dark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passing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alread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true light is sh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Advent, Christmas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or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light in our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hrist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46196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ook for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find dark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bright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walk in gl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rope lik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have no ey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stumble at no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in the twilight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arkness cove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bout me be night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095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not dark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night is b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d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light with you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be your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 God,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 reveal d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mysterious thing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95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ligh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you is no darknes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assing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alread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ue light is shining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1:51:37Z</dcterms:modified>
  <cp:revision>32</cp:revision>
  <dc:subject/>
  <dc:title>PowerPoint Presentation</dc:title>
</cp:coreProperties>
</file>