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C89-3B40-4661-815C-AD582FD5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97E-9D67-4647-9A8B-C301402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2EB-D2C3-488B-B7EC-8FE4E5D6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3DF-B169-491C-8388-8FD23DEB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56B-58B7-4F22-A907-3F2BDE06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7F9-A4A4-4C49-BD39-8CA87780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2B6-1F0E-45A9-805C-9874E63D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E4E-EB62-49D0-96B4-C28AF326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92F-8145-46B7-95B6-2B067745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6BC-097B-4464-A5A9-E750177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3DD-780B-4B7D-8846-4A345051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EF7-AFF0-442F-A2A2-33BD354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11E3-7B5A-49F9-814B-D168FC363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Help for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coming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74320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and everlasting God, you have safely brought us to the beginning of this day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elp for the Forthcoming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2440" y="1600200"/>
            <a:ext cx="73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; alt. Laurence Hull Stookey, 198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94360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4120" y="1752480"/>
            <a:ext cx="84898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end us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ith your mighty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ower, and gran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at this da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fall into no sin, neither r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any kind of dange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676520"/>
            <a:ext cx="853452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at all our doings, ordered 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overnance, may be alw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in your sight; thr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our Lor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3:22Z</dcterms:modified>
  <cp:revision>16</cp:revision>
  <dc:subject/>
  <dc:title>PowerPoint Presentation</dc:title>
</cp:coreProperties>
</file>