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226-F9E6-4364-BE2F-FF2CAD44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9A7-6D3B-4D41-A1E9-1C8B7B72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89C-07F1-457B-89C9-339C352C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002-DE55-4F1B-B9F9-80914285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6DA-D654-4CCE-98BB-4FA4597D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52E-FB68-48C4-A8A5-E4483165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C60-0EC0-4D25-88B2-55498C1E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B6F-F0E0-4E3E-8D03-3ED26B65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122-B8A2-4F99-B051-41953DD9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077-C2A4-4C8B-94B3-B45D129D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A65-B125-4E8B-87FD-9B6F7D10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C89-8171-4A52-BC76-5DE1F1D4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D16A-CEBC-4ED1-AB24-D828DDDCE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Advent &amp; 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grant to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new us with its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and Response 1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25600" y="1092240"/>
            <a:ext cx="63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Wisdom of Solomon 7:15, 24-30, adapt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esponse 1, Harrell Beck; Response 2, Henry Sloane Cof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8273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light is succeed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the n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ut against wisd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evil does not prevail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6368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ome, thou Wis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rder all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and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371600"/>
            <a:ext cx="861048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y God grant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that I speak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with judgment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and have thoughts worthy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 of what I have receiv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5760"/>
            <a:ext cx="86104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God is the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even of wis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the corrector of the wise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sdom is more mobi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n any motion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cause of her pur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isdom pervades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enetrates all th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730080"/>
            <a:ext cx="861048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or she is a br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 power of God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a pure emanation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glory of the Almighty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refore nothing defil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gains entrance into wisdom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she is a reflec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eternal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spotless mirror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king of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 image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od’s good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ough wisdom is but on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he can do all thing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ile remaining in herself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sdom renews all things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409680"/>
            <a:ext cx="8610480" cy="556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every generation wis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asses into holy soul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makes them frie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God and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uly God loves nothing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so much as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ive with wisdom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she is more beautiful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an the sun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excels eve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nstellation of the star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ompared with the ligh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e is found to be superi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49:53Z</dcterms:modified>
  <cp:revision>29</cp:revision>
  <dc:subject/>
  <dc:title>PowerPoint Presentation</dc:title>
</cp:coreProperties>
</file>