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CC1-EBD0-43D8-94C9-E3044C4B862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458-401E-478B-812C-D0D1EEE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917-D5B8-49CB-A969-5DC0061E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AAB-112E-45CC-AF90-4FF7AAC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00B-6626-4A65-832E-1A9E98A1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560-8015-494B-87B0-48933A18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5A5-1533-4BAE-A285-A07C082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BD25-AA72-4895-A92E-46C682D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2F3-0BE1-4C1B-8052-3634926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9E51-6731-425F-AC10-98E08AE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3FEF-BC47-44F4-9DD8-4573F15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87F5-18D2-4B0E-89A3-028F3D3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446-7AF8-4474-8685-AD066F27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833-093F-4935-A805-7C44CF6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BF0-C5E4-45FC-8CAF-39BF210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F4B0-FE0D-4626-B60C-3FAB6DC4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39F-C102-4C7E-8D9D-1D4293C0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858-8AD8-48F8-A998-E6C9F9EB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15F-502D-4945-9472-21BBCC5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69A-9878-4B8D-912D-72751DC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B6D-15B6-4692-8715-BF4CF6B2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B42-9EC3-4D29-B2AD-87A6B1F0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2A7-2D2B-4A70-924A-CA4BF8C1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BDA-ADF8-406A-87EB-E45D6B4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89B-CAF9-4321-A62D-920DE17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FBA-3D66-42D9-A9C4-6C77FB440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D045-9A3E-4AA4-9B7D-D2A108AA1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52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Mine eyes have seen the glory                   of the coming of the Lor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11200" y="8380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Mine eyes have s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ing of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1200" y="12193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4778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523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1430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lory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on the w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wisdo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ighty, he 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to the b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-1066680"/>
            <a:ext cx="579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his footst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rong his sl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447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0800000">
            <a:off x="762120" y="-15235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22T23:42:08Z</dcterms:modified>
  <cp:revision>57</cp:revision>
  <dc:subject/>
  <dc:title>PowerPoint Presentation</dc:title>
</cp:coreProperties>
</file>