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7A0-BAE7-49CB-AA28-CFADEA0F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14D-C94E-43B5-A989-14C0FFE2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7BE-E08E-4DFA-BB4B-B59BDC74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E4D-C6AD-4984-B9E0-E9C64974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391F-75A7-4906-B51E-B0A9BB19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470A-E740-40BD-BD9B-EB718FC0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ACA7-0A74-48FC-B314-E047C37E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15CC-B4AA-4B54-AF91-B13B0A23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1752-BA4A-408F-A078-4723BFCF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0968-3018-470E-902A-A5E25865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708D-1D9D-4E19-B385-76E1CE03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DE2-01C0-4E03-AD01-56BB16B9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9337-D534-498F-8629-740F97D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FE1B-370D-4258-9DAD-62EFE5D2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0F6A-0A1F-4664-BFB2-45ABDCF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26B5-CBAD-4BC7-B52D-3CD1AAA6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37E-71E0-433D-947D-BDA20D61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E41-4BF5-44D2-BEED-EE40403B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BB5-3454-438A-9D03-A564109A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352-6DB8-4205-98C3-ACD0A61B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F1F-018F-49CD-85CD-DB10EAFE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B88-716E-4236-8C56-4024FAA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824-FDD9-465D-9F1A-ABD9E6E3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A66-D4CB-434D-A7F2-9115C02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CFB9-8AC5-4FFE-A711-9EBF1CB03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B0C9-4869-40FE-93FE-45A5DA569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60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96080" y="763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066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expected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 and sins releas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832120" y="68580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38088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ol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arth thou art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30492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 to deliv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forever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brin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22860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 eternal spir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merit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thro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228600"/>
            <a:ext cx="60199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thou long-expected Jesu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set thy people free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our fears and sins release u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find our rest in the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152280"/>
            <a:ext cx="61722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Israel’s strength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onsolatio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hope of al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 thou art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ear desire of every natio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joy of every longing hear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152280"/>
            <a:ext cx="617220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2. Born thy people to deliv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a child and yet a King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reign in us forever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y graciou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brin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152280"/>
            <a:ext cx="617220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ine own eternal spiri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ule in all our hearts alone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ine al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ufficient meri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us t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ious thro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Mary&amp;BabyGood"/>
          <p:cNvPicPr/>
          <p:nvPr/>
        </p:nvPicPr>
        <p:blipFill>
          <a:blip r:embed="rId1"/>
          <a:srcRect l="0" t="0" r="3547" b="9997"/>
          <a:stretch/>
        </p:blipFill>
        <p:spPr>
          <a:xfrm>
            <a:off x="6108840" y="76320"/>
            <a:ext cx="2958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3808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 and consola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 the earth thou art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 to deli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 in us forev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 kingdom bring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762120"/>
            <a:ext cx="914400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 eternal spiri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 sufficient meri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 thy glorious thron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xpected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s release 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832120" y="10810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rael’s streng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so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of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earth thou 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ar desire of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oy of every longing heart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orn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a child and yet a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reig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u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thy grac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ingdom bring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ternal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 in all our hearts al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hin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fficient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aise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glorious thro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Come, Thou Long-Expected Jes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9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16002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thou long-expected Jesu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et thy people free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ur fears and sins release u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find our rest in the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-Expect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832120" y="1081080"/>
            <a:ext cx="34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Charles Wesley, 17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1-27T02:21:06Z</dcterms:modified>
  <cp:revision>51</cp:revision>
  <dc:subject/>
  <dc:title>PowerPoint Presentation</dc:title>
</cp:coreProperties>
</file>