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3AE-BDB7-4381-8FFB-31F99FAD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6BD-0CBF-4EDB-8218-007EB84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9A0-BECC-4332-A75B-366E343B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C50-E793-436E-BBBA-BCA91B89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487-8E94-4F2F-84DB-88AF91F3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B05-426A-4EA7-9A18-057169BC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0DD-924F-4B67-AA2D-98EA9903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288-E5F0-49A1-9DC7-1A80933F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A69-E92A-41C9-BDF2-0A0443E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D1F-B863-4FE9-9518-7E9189E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6C5-7CB7-427A-8207-F6D20308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518-87CC-4148-84A2-16244FD7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DFDB-E4DB-406E-8D52-6762FC7AC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ranam, Saranam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Refu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Christian Conference of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akistani; trans. by D. T. Niles, 1963 (Ps. 61; Heb. 13: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at I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may p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ness to me each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live, and 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burdens l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sterday,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’er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he herita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bear th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ansom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the Savior ca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midst of f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end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I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ness, O answer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y tent gi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well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neath th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find sheltering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ft 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hine of thy f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0:39Z</dcterms:modified>
  <cp:revision>49</cp:revision>
  <dc:subject/>
  <dc:title>PowerPoint Presentation</dc:title>
</cp:coreProperties>
</file>