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81FB-1580-4D8D-9581-A5864FCA0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0223-EB10-4076-8213-1B676870E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2738-9586-4A16-AF45-BBDB4549E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ED69-46BD-4A10-9644-F92B39AA5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BA498-5CAC-4A4A-B4C9-7408C76D4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177F2-B2BC-4F16-9CD9-14E532D21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14890-D9DE-4E3B-AC65-2933DA263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55823-F45D-4C46-B6D5-749A7029C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19C6B-5D94-4120-9A2E-20DC38721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69C4B-4E7E-4D69-A687-549F6DDFE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15BA3-97D8-4653-A560-1B76DD780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5341-E50F-4C7B-9EBB-A38F27B13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95C16-696E-4487-AE81-6BB1F25D3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0969C-B18B-4D94-92FC-D38F918F8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CFF1A-3B50-4AEF-900D-796D6E3F6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45E76-AC8B-47D3-8EC9-1576603FE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0371E-CD60-4D0A-B31C-C0532FCCB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785A-FA35-44B6-AF52-BEA59680C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A20D-2E8C-47F3-99DD-ADA642D0B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DE18-14D9-44BD-8595-F8C06F67E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5A13-A389-4BE8-B14E-64F64005F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7650-B8C9-43D5-9E83-B654D3D03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6673-B458-4A45-9AE6-E96BAA224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34D6-4284-4D97-BC58-F4CB63DC9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F68D4-5EF2-45BC-A1D1-89C09D4311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1EE9B-5823-4B83-B585-ECC47D00E0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Good Christian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Friends, Rejoi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22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25146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Good Christia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riends, rejoi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heart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oul and voic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od Christian Friends, Rejoi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659960" y="1714680"/>
            <a:ext cx="582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14th cent. Latin; trans. by John Mason Neale, 185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228600"/>
            <a:ext cx="762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Good Christian Friends, Rejoi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22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752480"/>
            <a:ext cx="9144000" cy="215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1. Good Christian friends, rejoice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with heart and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soul and voice;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od Christian Friends, Rejoi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1280" y="852480"/>
            <a:ext cx="582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14th cent. Latin; trans. by John Mason Neale, 185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4267080"/>
            <a:ext cx="9144000" cy="2590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685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ive ye heed to what we say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ews, news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esus Christ 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orn toda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4267080"/>
            <a:ext cx="9144000" cy="2590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380880"/>
            <a:ext cx="9144000" cy="352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Ox and ass before him bow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and he is in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the manger now.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Christ is born today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Christ is born today!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4267080"/>
            <a:ext cx="9144000" cy="2590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380880"/>
            <a:ext cx="9144000" cy="352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2. Good Christian friends, rejoice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with heart and soul and voice;     now ye hear of endless bliss: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News, news!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Jesus Christ was born for this!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od Christian Friends, Rejoi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4267080"/>
            <a:ext cx="9144000" cy="2590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304920"/>
            <a:ext cx="9144000" cy="352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He hath opened heaven’s door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and ye are blest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forevermore.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Christ was born for this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Christ was born for this!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4267080"/>
            <a:ext cx="9144000" cy="2590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380880"/>
            <a:ext cx="9144000" cy="352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3. Good Christian friends, rejoice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with heart and soul and voice;      now ye need not fear the grave: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News, news!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Jesus Christ was born to save!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od Christian Friends, Rejoi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4267080"/>
            <a:ext cx="9144000" cy="2590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380880"/>
            <a:ext cx="9144000" cy="352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Calls you one and calls you all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to gain his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everlasting hall.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Christ was born to sav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Arial"/>
              </a:rPr>
              <a:t>Christ was born to save!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4267080"/>
            <a:ext cx="9144000" cy="2590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ive ye he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what we say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ews, news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esus Christ 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orn toda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x and a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efore him bo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he is 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manger now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hrist is born tod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hrist is born toda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1905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Good Christia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riends, rejoi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heart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oul and voic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od Christian Friends, Rejoi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w ye he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endless bliss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ews, news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esus Christ wa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orn for this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 hath open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aven’s do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ye are ble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orevermore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hrist was born for thi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hrist was born for this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905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Good Christia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riends, rejoi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heart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oul and voic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od Christian Friends, Rejoi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w ye ne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t fear the grave: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ews, news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esus Christ wa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orn to sav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alls you on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calls you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gain h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verlasting hall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hrist was born to sa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hrist was born to sav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7-12-23T00:32:44Z</dcterms:modified>
  <cp:revision>70</cp:revision>
  <dc:subject/>
  <dc:title>PowerPoint Presentation</dc:title>
</cp:coreProperties>
</file>