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C00-C298-4779-A677-93740A64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AC5-E9E1-4830-95A5-D2DF6E6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78F-C476-47B4-A3FD-A35A4DFA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067-5CC9-4BBC-9855-0C23E13F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264-5E7D-4D7E-8200-2B9DCE19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695-BC71-43E0-8344-84A0E216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D9F-D107-4219-8D0B-22111DF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071-94A0-4FBB-A4CE-5D288C37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8B4-89ED-440F-97C2-46D84FEE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EE2-24CB-4AC7-9C03-E316DAC9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68B-3465-4359-A793-DEE1CC61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A66-3529-4113-B497-64D85EC5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8A3-A7A1-429B-8CB8-8B98239E8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the Sun Doth Daily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un doth daily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en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o thee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we up our heart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160" y="1066680"/>
            <a:ext cx="79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atin hymn; trans. by J. Masters; adapt. by Horatio Nelson, 186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vide us f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ll things g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unto our souls aff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 our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in and str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 leader of our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ay ab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our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Quicken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holy will to t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thy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true impar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we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 Son, and Holy Gh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ould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magnify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9:05Z</dcterms:modified>
  <cp:revision>13</cp:revision>
  <dc:subject/>
  <dc:title>PowerPoint Presentation</dc:title>
</cp:coreProperties>
</file>