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1B1F-356E-4A5F-90FA-8933D081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B8AE-0A5F-4D89-95BF-A79AA256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2564-D44E-4EED-849E-E8C17AEE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87DD-AD59-443C-9EC3-37EA5F05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FB92-81D1-4DDE-9DA4-A56946DC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9D30-0ED0-4E29-A138-4066BE7B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E4B0-345F-4C17-87E1-D776D1E7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9660-0099-4F3A-81B4-475BB687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6709-E774-4A68-BD12-EEEB3B9C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316A-3FB8-44BF-B21D-88152839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2ECF-F8DE-418D-9656-44BCA124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9180-AD85-4332-A1A2-28CCE2B2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3665-8F90-4C45-B523-12C929F3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8C94-312F-4A2A-880C-3074D762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04EE-6DF1-4871-966A-25815F13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B61C-889C-410C-8F5C-9A5C8640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6CE0-9F32-4481-837E-06A30E06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6D0F-9A8F-4DED-A0B1-B1E4BAB6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B5AC-BF6E-4215-A7E7-97DB3F8F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5575-739E-4CAF-98E6-1BDB68B5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69FE-39FF-4E5F-A30C-13C3C977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C6DD-2838-43A6-A33F-F9BA3F82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D1F-C821-4066-AE47-D9AF8E56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1D3E-E7B7-49C6-BE5B-FBD2E745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162C-8F7E-4696-BED3-985A08BB9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6C7B-2A4F-499E-9E23-6ECF79866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re You T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76212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9907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Were you there when the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rucified my Lord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rucified my Lord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04920"/>
            <a:ext cx="91440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id him in the tomb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re You T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0666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67652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ucified my Lord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br>
              <a:rPr sz="44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ucified my Lord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096920"/>
            <a:ext cx="91440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ucified my Lord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09692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iled him to the tre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nailed him to the tre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096920"/>
            <a:ext cx="91440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nailed him to the tre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09692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ierced him in the sid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pierced him in the sid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096920"/>
            <a:ext cx="91440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pierced him in the sid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09692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re you there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 refused to shin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sun refused to shin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096920"/>
            <a:ext cx="91440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 refused to shin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09692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id him in the tomb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laid him in the tomb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04920"/>
            <a:ext cx="91440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ucified my Lord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096920"/>
            <a:ext cx="91440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id him in the tomb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8088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iled him to the tre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nailed him to the tre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nailed him to the tre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8088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ierced him in the sid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pierced him in the sid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04920"/>
            <a:ext cx="91440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pierced him in the sid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8088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re you there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 refused to shin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sun refused to shin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28600"/>
            <a:ext cx="91440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 refused to shin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2860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id him in the tomb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laid him in the tomb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3-25T21:20:26Z</dcterms:modified>
  <cp:revision>51</cp:revision>
  <dc:subject/>
  <dc:title>PowerPoint Presentation</dc:title>
</cp:coreProperties>
</file>