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F4D0-9AA5-419B-937C-E49254F6A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6DA1-2C23-4F19-8132-5369D141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A99B-DE9C-4EFE-B01B-2089F8205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6F58-615E-4D8C-9169-85196BFE6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424E-AF83-48C9-87C5-71EC9455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AC8A-B951-4C39-96FF-B08C4A61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0723-AAD8-4FEB-BFBA-69A10A61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585A-FC20-4D5A-9AD3-E7BD2ADC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1188-4D61-4026-ADC6-E3CAEF5C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FEC1-EBAB-412F-92DD-AC5426E4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3C9D-C9C9-49A6-8E5C-557BDA15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FF2B-E53A-4EB6-9DB8-ABB7F5DE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7285-7532-4AD0-8991-B350466A3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ejoice in God’s Sai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0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429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Rejoice in God’s sain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day and all day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world without sai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gets how to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3, 1980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 in God’s Sai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58480" y="1143000"/>
            <a:ext cx="32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Fred Pratt Green, 197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faith in acqui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abit of pray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depth of ado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help us to sh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ome march with eve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urn them God’s w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 need to withdra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etter to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 in God’s Sai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 carry the gosp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fi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rough flo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world is their paris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purpose is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Rejoice in those sain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praised and unkn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bear someone’s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shoulder their 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 in God’s Sai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shame our complai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comforts, our care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patience in ca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courage, is their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Rejoice in God’s sain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day and all day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world without sai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gets how to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 in God’s Sai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loving, in li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prove it is tru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ay of self-gi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leads us to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53:05Z</dcterms:modified>
  <cp:revision>51</cp:revision>
  <dc:subject/>
  <dc:title>PowerPoint Presentation</dc:title>
</cp:coreProperties>
</file>