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7F21A-70F2-4CAA-931E-6143D0B00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47384-C843-4EAA-BD69-DE05E2E77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FF784-C287-42F6-A5D8-54D0DE6BC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BC866-8492-4604-BD47-567E93202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7BF15-366B-46C8-8278-01AC9AEF6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03960-EAE7-4CE0-B5FD-26CEB8369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9B2A6-B6F7-4666-86AB-B409EA7AB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294C9-E4BB-4DFD-8603-376DFB9F2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68E47-E711-4EBC-9831-6CABF905D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CDA80-35B7-46EC-99B7-0103778E6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A3038-BE95-44F8-9626-87EDFB606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F44E4-B783-42BC-AF55-A8E133521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0024D-6B81-4908-863E-7690CBEF6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D437E-C9D2-4B48-95E6-28C8D6A73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EE4A6-F06B-4876-9550-D92D93BE4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98CD1-22D0-4A6F-9C0A-7675C580F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11941-C5C6-4A77-9A21-059C8ED98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8FF67-AA6A-4967-8D92-C8B38E9B3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3FA18-C3ED-4276-989C-333ED4E74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5A45A-BC56-46BC-82EB-723A27F4E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E8898-D9B7-4E7D-8C2D-061F0451E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62CE4-54AD-44BD-90D8-69DED726D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AF95E-5A74-4640-A8EA-ADAC2041D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51D49-440C-41D0-80FC-74E55BAE7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CD79D-F7F6-44D1-A93B-FCDAEB3869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64256-EA56-4A9D-876F-0734801B16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1522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Because He Liv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36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1736640"/>
            <a:ext cx="9144000" cy="3994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1. God sent his Son,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they called him Jesus;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he came to love,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heal, and forgive;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cause He Lives 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2880" y="685800"/>
            <a:ext cx="5364000" cy="79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WORDS: Gloria and William J. Gaither, 197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© 1971 William J. Gai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6019920"/>
            <a:ext cx="9144000" cy="838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380880"/>
            <a:ext cx="9144000" cy="4970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and then as death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gives way to victory,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I’ll see the lights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of glory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and I’ll know he reigns.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5943600"/>
            <a:ext cx="9144000" cy="914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228600"/>
            <a:ext cx="9144000" cy="5173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Because he lives,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I can face tomorrow;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because he lives,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all fear is gone;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cause He Lives 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6019920"/>
            <a:ext cx="9144000" cy="838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380880"/>
            <a:ext cx="9144000" cy="4970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because I know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he holds the future,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and life is worth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the living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just because he lives.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5943600"/>
            <a:ext cx="9144000" cy="914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Because He Liv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36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2209680"/>
            <a:ext cx="9144000" cy="4252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God sent his So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y called him Jesus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came to lov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al, and forgiv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© 1971 William J. Gai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cause He Lives 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982880" y="990720"/>
            <a:ext cx="5364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WORDS: Gloria and William J. Gaither, 197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lived and di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buy my pardo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 empty grave is the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prove my Savior live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1287360"/>
            <a:ext cx="9144000" cy="4208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cause he live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can face tomorrow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cause he live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fear is gon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cause He Lives 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cause I know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holds the futur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life is wor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liv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ust because he live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How sweet to hol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 newborn bab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feel the prid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joy he gives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cause He Lives 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ut greater sti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calm assuranc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is child can fac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uncertain day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cause he live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0" y="1287360"/>
            <a:ext cx="9144000" cy="4208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cause he live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can face tomorrow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cause he live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fear is gon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cause He Lives 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1190520"/>
            <a:ext cx="9144000" cy="3994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he lived and died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to buy my pardon,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an empty grave is there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to prove my Savior lives.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cause I know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holds the futur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life is wor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liv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ust because he live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And then one da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’ll cross the river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’ll fight life’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inal war with pain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cause He Lives 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hen as dea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ives way to victor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’ll see the light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glor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I’ll know he reign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0" y="1287360"/>
            <a:ext cx="9144000" cy="4208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cause he live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can face tomorrow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cause he live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fear is gon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cause He Lives 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cause I know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holds the futur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life is wor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liv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ust because he live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0" y="1522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Because He Liv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36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14479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God sent his So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y called him Jesus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came to lov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al, and forgiv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cause He Lives 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982880" y="685800"/>
            <a:ext cx="5364000" cy="79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WORDS: Gloria and William J. Gaither, 197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© 1971 William J. Gai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9748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lived and di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buy my pardo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 empty grave is the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prove my Savior live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0" y="380880"/>
            <a:ext cx="9144000" cy="3794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Because he lives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 can face tomorrow;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because he lives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ll fear is gone;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cause He Lives 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30492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cause I know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holds the futur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life is wor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liv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ust because he live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0" y="7621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How sweet to hol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 newborn bab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feel the prid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joy he gives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cause He Lives 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380880"/>
            <a:ext cx="9144000" cy="5173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Because he lives,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I can face tomorrow;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because he lives,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all fear is gone;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cause He Lives 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6019920"/>
            <a:ext cx="9144000" cy="838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0" y="30492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ut greater sti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calm assuranc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is child can fac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uncertain day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cause he live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0" y="228600"/>
            <a:ext cx="9144000" cy="4208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cause he live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can face tomorrow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cause he live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fear is gon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cause He Lives 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0" y="36504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cause I know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holds the futur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life is wor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liv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ust because he live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0" y="6094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And then one da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’ll cross the river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’ll fight life’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inal war with pain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cause He Lives 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38088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hen as dea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ives way to victor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’ll see the light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glor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I’ll know he reign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228600"/>
            <a:ext cx="9144000" cy="4208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cause he live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can face tomorrow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cause he live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fear is gon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cause He Lives 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0" y="38088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cause I know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holds the futur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life is wor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liv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ust because he live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533520"/>
            <a:ext cx="9144000" cy="4970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because I know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he holds the future,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and life is worth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the living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just because he lives.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6019920"/>
            <a:ext cx="9144000" cy="838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990720"/>
            <a:ext cx="9144000" cy="3994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2. How sweet to hold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a newborn baby,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and feel the pride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and joy he gives;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cause He Lives 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0" y="5943600"/>
            <a:ext cx="9144000" cy="914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596880"/>
            <a:ext cx="9144000" cy="4970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but greater still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the calm assurance,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this child can face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uncertain days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because he lives.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262080"/>
            <a:ext cx="9144000" cy="5173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Because he lives,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I can face tomorrow;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because he lives,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all fear is gone;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cause He Lives 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6019920"/>
            <a:ext cx="9144000" cy="838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444600"/>
            <a:ext cx="9144000" cy="4970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because I know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he holds the future,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and life is worth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the living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just because he lives.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5943600"/>
            <a:ext cx="9144000" cy="914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1038240"/>
            <a:ext cx="9144000" cy="3994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3. And then one day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I’ll cross the river;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I’ll fight life’s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final war with pain;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cause He Lives 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6019920"/>
            <a:ext cx="9144000" cy="838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nnifer McCay</cp:lastModifiedBy>
  <dcterms:modified xsi:type="dcterms:W3CDTF">2010-09-04T13:59:21Z</dcterms:modified>
  <cp:revision>16</cp:revision>
  <dc:subject/>
  <dc:title>PowerPoint Presentation</dc:title>
</cp:coreProperties>
</file>