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516-6CB8-49C4-A024-2370B757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D6A-EF73-415D-B462-524F158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BB8-5BE5-4543-9C5C-76D0B7F6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5C1-4EA9-4C0E-9F07-D596FF07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F13-D84F-415A-9F62-70057014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B883-7AFA-4F41-B921-30B6F255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D12D-6343-4CDF-ADC8-BB0EFD4A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06FA-DECA-4AE8-902E-CAB991B6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4A5D-8171-4CA8-8A7C-77B5221F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93BA-CD65-40CA-BF25-273B9D6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C26B-23C1-4918-9B0D-8D4C04A5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E88-8B02-44DE-A5B1-D4F9CFD5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3709-5CE9-4E65-B2BF-E3F50D3D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795E-B639-4AA0-8C1D-5E72F472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D778-406A-469F-8F18-95F26B1D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9759-2E9A-47BD-8297-D259DE02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4E72-0D60-4C98-B068-C5072512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4B0-65FA-4F19-A638-0807FD74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089-03E1-442E-A6F9-1A723465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A81-F503-4BD7-B85E-AF46C389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83D-E1F0-427C-8F65-C1A7CF9A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BF5-F9D7-4DEB-AAF2-EF6A912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697-943D-450D-99F1-147C25C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ED6-AC50-43DF-9774-06534805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0693-6F4E-4E36-AFE7-EEFB82CE5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DCA1-6C2B-406D-B838-1C98A9708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own Him with Many Cr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" y="609480"/>
            <a:ext cx="75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tthew Bridges, 1851, and Godfrey Thring, 1874 (Rev. 19:1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914400"/>
            <a:ext cx="914400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1. Crown him with many crowns,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upon his throne.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how the heavenly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anthem drowns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all music but its own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114800"/>
            <a:ext cx="914400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wake, my soul, and s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him who died for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ail him 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matchless K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all eternity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of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 triumphed o’er the gr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se vict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tr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he came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glories now we 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, and rose on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died, etern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e to b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s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may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of pe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power a scepter s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ole to po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ars may ceas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be prayer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s reign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 no e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ound his pierced fee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 flower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aradise exte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fragrance ever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Crown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ord of lo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his hands and s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ou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t visible ab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beauty glor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ail, Redeemer, hail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ou h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ed for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raise and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not fa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out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wake, my soul, and 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him who died for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hail him 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matchless 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 all eternity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2. Crown him the Lord of lif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 triumphed o’er the gra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se victorio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strif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ose he came to sa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04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glories now we s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died, and rose on hig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 died, eternal life to bring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ives tha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ath may di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828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3. Crown him the Lord of peac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whose power a scepter sway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pole to pol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wars may ceas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nd all be prayer and pra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0492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 reign shall know no en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round his pierced fee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ir flowers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dise exte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ir fragrance ever swe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8600"/>
            <a:ext cx="91440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4. Crown him the Lord of lov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ehold his hands and sid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ounds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yet visible abov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n beauty glorifi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hail, Redeemer, hail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thou hast died for me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y praise and glor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ll not fai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oughout eterni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rown Him with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Cr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440" y="1523880"/>
            <a:ext cx="90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Matthew Bridges, 1851, and Godfrey Thring, 1874 (Rev. 19:1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810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Crown him wi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many crown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upon his thron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Hark! how the heavenl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nthem drown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all music but its ow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8-10-25T23:34:13Z</dcterms:modified>
  <cp:revision>88</cp:revision>
  <dc:subject/>
  <dc:title>PowerPoint Presentation</dc:title>
</cp:coreProperties>
</file>