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862-71F5-4FB4-A4A1-912EDAE0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55B-F7C0-492C-85AC-7CBF5BE1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C04-41DE-4156-B8F4-0526DD32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3AE-7409-469D-A642-5073B4C4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8A47-8EC7-49D3-B254-B6236121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4AB6-0C09-4191-A044-51840DE3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B7D6-EE8A-4BA3-9A46-3898027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2D6-4440-4FB7-9F4C-3BD651B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31AB-C57E-4AFC-98B5-54B0A80C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1569-E3DF-4350-B539-CCFE573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61C-4634-4A64-8C6F-F03828B5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515-07FC-4DC6-9EF3-9C1D7B28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5160-23F8-4738-986F-631A687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7FAB-238D-4498-A239-35E6ED9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DB4F-4383-42F3-A56F-16EFC61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E8F-E06A-457D-8655-B8C36E24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AE8-E890-465B-B795-2D62F578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A97-C4DF-4D1F-A671-C4BF365B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390-1CBA-4657-8419-F22766E8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F1C-1D64-4FEC-9BA1-C3396BF8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A8E-69FF-4C0E-9E48-F8DDB7C9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5EE-EA13-475E-9FBF-A38EE7AF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AFF-545D-468E-8F64-BC748AF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98F-C9E2-4A6A-99AB-C8600569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FA1-7855-4CE0-A918-AED40B621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7E57-B941-4193-A137-E531ACC4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53520" y="1143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3520" y="114300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know not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saving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 he did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0080" y="1859040"/>
            <a:ext cx="7683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how belie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ought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know not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 mo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vincing us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ing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eating faith in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51040" y="114300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know not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rd ma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night or noonday f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if I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ale with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meet him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239920"/>
            <a:ext cx="7683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I know not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aving fa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me he did impart,                        nor how believing in his wor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ought peac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in my hea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I know not 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pirit mov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vincing us of sin,                                revealing Je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the w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eating faith in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I know not wh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 Lord may co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t night or noonday fair,                     nor if I wal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vale with hi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meet him in the a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4600"/>
            <a:ext cx="9144000" cy="42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I know whom I have believ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am persuaded that he is able      to keep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I’ve commit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to him against that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6T19:07:29Z</dcterms:modified>
  <cp:revision>57</cp:revision>
  <dc:subject/>
  <dc:title>PowerPoint Presentation</dc:title>
</cp:coreProperties>
</file>