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025-8534-4930-9C4B-C09F66C3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59A-918A-4356-A3AA-04665F0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E31-89C6-47B4-BC2E-E9AEC689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79A-BDCA-4AAC-A773-C5CAB263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6F8-8DF1-4170-B444-CE7B792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145-31D7-421A-8DD7-C80CBDE3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412-336D-4A2E-946B-EA75BE6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E49-FCD2-45E6-8D16-B592C3E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7D6-2E55-460F-A01F-2BF8716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A50-583D-4A88-8381-FBF06C5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326-9F4C-45FA-900F-19DD368C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7B4-3E1B-42DA-AF7D-3A6C6CD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C449-5B48-432B-A54B-D5EDF056A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man in the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oman in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t from giving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our preciou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on the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520" y="101592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omen on the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comed and rest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l far and w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 to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Women on the h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when men have fl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needs lov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your hope i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Women in the da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and spices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liest to mou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liest to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man in the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eping up beh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ing is allow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and you will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oman at the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stion the Messia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your friends and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your heart’s des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oman at the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righteous st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go in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him with your h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oman in the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d to be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your second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sten, think, and spea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5:14Z</dcterms:modified>
  <cp:revision>31</cp:revision>
  <dc:subject/>
  <dc:title>PowerPoint Presentation</dc:title>
</cp:coreProperties>
</file>