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DCA-F573-4438-B348-DF5F5DE2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740-281E-4F79-A418-3D990B49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8EF-D28C-4138-A055-FBC54684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889-5675-435D-B8CE-07D950ED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CDD-5A1E-429C-A9F1-65CF9230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F5C-0F59-4EEB-A0D3-98619C89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FFE-971C-4F49-8CD4-0A74166F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0FE-338F-45EB-9AEE-5E93A66E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E72F-A888-429E-89D1-A3AB7C4E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729-8578-41C8-BF74-2135FB68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ECE-892B-4568-845C-3309535B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950-D8E1-4994-AFEE-9B5D3778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ED43-6023-447C-8F6D-86DF42629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l Us, Emmanuel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 Our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eal us, 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our pray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ait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feel thy touc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92960" y="1573200"/>
            <a:ext cx="51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Cowper, 1779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Mk. 9:14-27; Mt. 9:20-22; Mk. 5:25-34; Lk. 8:43-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end u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pairing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n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healed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-wounded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rep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suc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ur faith is fee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aint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 thy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ilt thou p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the les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at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e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membe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once appl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remb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relief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believe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ears he cri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O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unbelief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he, too, who touc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in the pr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rtue st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answe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Daughter, go in peac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aith h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e whol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ike her, with hop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ars we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ouc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we m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2:50Z</dcterms:modified>
  <cp:revision>22</cp:revision>
  <dc:subject/>
  <dc:title>PowerPoint Presentation</dc:title>
</cp:coreProperties>
</file>