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DA6-52C6-4F4A-AA1F-77119C5D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2C7-8EDE-437E-8F0A-5DAC32E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2CC-D7F9-4A0F-A832-4A521178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3C9-FB65-4B27-9D18-020FD125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287D-099F-41A5-B1EF-E88A2716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0E0-C5DF-4D40-99B5-9C458F4E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F91F-524D-4327-85D9-D0D5B11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FE03-46DB-4E92-9AFA-B7377425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FF6-7F85-42B5-81B1-A3CA75B0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64D-BAF1-4B79-9FF8-7B18AB5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E76-1C71-4447-9038-6A40F1E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F5F-DE00-46C7-A404-455DDCF9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ACD0-C2EF-4A8E-B46D-66F5124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60F-0377-4554-87A6-08F671B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8D13-D253-4DAB-B0E8-DB10DD2A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DBD6-06D1-4835-A515-2E36B782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81E-8ABE-4AA0-B035-BA8179AE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5E7-0CC6-4223-9BB0-B445918D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A50-85C8-4A99-8DAB-71B3904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AAF-3229-4C24-8928-5CAE79FF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884-5E9E-496E-A88E-96204A2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976-FAC0-4ED3-AC0D-4F2B9AC3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62C-4B47-47A5-914E-4954F7E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A34-87F1-4D4B-A7E8-44C6F21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8CD-2E48-434F-8A3A-AE22D628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892-E1FF-4C47-B39B-52477475A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05596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sw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ons on each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feel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thes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lift our hearts in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a doubt we’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have been rev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ve this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35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395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sw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ons on each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feel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89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these bless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 lift our hearts in prais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a doubt we’ll k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have been reviv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sh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ave this pl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17T01:33:41Z</dcterms:modified>
  <cp:revision>93</cp:revision>
  <dc:subject/>
  <dc:title>PowerPoint Presentation</dc:title>
</cp:coreProperties>
</file>