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F5F-A2FF-4728-A23C-86F62F8F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E83-1C3A-41C5-92C6-BC373567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E19-C35E-417F-BA39-98DB5D50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82F-A38C-4E2A-9A52-2F82DECD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C71-84FA-4F65-9B26-17C87B95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8BEB-F21A-4F3C-A0E0-3D3FBA00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148F-96D4-4D97-8B2B-63253BCD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5BC3-CF1E-4DA1-989C-6886B5B9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5EE1-07C3-4867-AF8B-098F24DF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EC46-DA32-4819-AE38-5FAF4FD9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C2C1-10B6-4B64-A50C-2D1E97D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DDF-0610-4224-AF63-7DECE13B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C998-0E4E-4185-B42A-8B96893B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76FF-0CF2-4C9C-9E83-1A178AEA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47F3-6105-40F8-903A-25A7C0ED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FCC4-755E-4745-A634-6C5EC6FD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B767-8BF4-4B6D-B2C4-0CFA017B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09C-2F1E-4409-90FD-6B3F4179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982-5FDB-47DC-9AA7-80A4DCC2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EFA-4B58-4660-B722-FFA228CF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BDD-F3DF-471A-8AA1-A9384D69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AD9-572A-4EEC-A7DD-BF8ADFC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85F-7ABE-4DAC-B92C-AF71D0D1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C49-B813-4F3E-A695-289A76E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C484-482C-4ABF-91B6-43D1AF3EA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AFEA-3B82-485F-B95F-75A78A306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36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2880" y="685800"/>
            <a:ext cx="536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2880" y="990720"/>
            <a:ext cx="53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90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sent hi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lled him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for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2880" y="685800"/>
            <a:ext cx="536400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loria and William J. Gaither, 19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d and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uy my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empty grav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ve my Savio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80880"/>
            <a:ext cx="9144000" cy="37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as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way to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ee the l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know he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How sweet to hol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 newborn bab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feel the prid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joy he gives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greater sti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calm assuran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is child can f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ncertain day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62080"/>
            <a:ext cx="9144000" cy="51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can face tomorrow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he liv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ear is g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460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cause I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holds the futu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life is wo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l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ust because he live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And then on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cross the rive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fight life’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nal war with pain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04T13:59:21Z</dcterms:modified>
  <cp:revision>16</cp:revision>
  <dc:subject/>
  <dc:title>PowerPoint Presentation</dc:title>
</cp:coreProperties>
</file>