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86D-8D43-4BB6-9ED1-504434BA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ECD-B991-4C0C-9BCF-6EE16F1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8D7-1886-469E-B909-667138AC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64C-DF9D-43A1-93C1-38648C7E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52E-D785-4B7D-A3EE-CA87AE42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7D4-D5E4-4F08-98E9-CB73B5D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E79-ED14-4462-BAAF-999465C3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737-53B4-498E-BFAC-2C748228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936-0AC8-414B-9527-E0CEC7E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7C9-1FE6-4D81-93FF-E39A2CC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4C6-33B3-42E4-94D9-41F46BC2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C9-1CA0-4C6D-8B76-AF3CE47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C38-53B6-45C8-AC72-09F827F0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and Great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y and grea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7880" y="1092240"/>
            <a:ext cx="72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R. Renville, ca. 1846; para. by Philip Frazier, 1929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104:24-30; Jer. 10:12,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s have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with st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ingers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s and pl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ers were form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seas obey thy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ant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ar abiding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well with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r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us wi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2:26Z</dcterms:modified>
  <cp:revision>8</cp:revision>
  <dc:subject/>
  <dc:title>PowerPoint Presentation</dc:title>
</cp:coreProperties>
</file>