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0186-5330-4834-874A-6C1930A14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041A-04F6-4FBD-BE8E-47F231F01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16EA-A180-41C6-9703-A254ACE68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C9E2-DF54-4606-B9A6-0BD395FC2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7A4D-5637-42EC-BA33-E054F7A56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09AA-CF09-41A0-9751-AC59BE7D4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62A0-CD49-446F-9666-B90D1D442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1622-8C37-4A1C-9BC6-637041882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3996-F062-4007-957A-914D49674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8192-86A5-424A-B8E6-9DF506BE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4936-60A8-42CC-B234-8CF926D2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5CDD-4E94-460D-BBF7-DCBF748D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5B1EA-B3A4-4D1E-BC13-2F4FB5E82D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y Holy Wings, O Savi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0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419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Thy holy wings, O Savior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spread gently over m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let me rest securely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rough good and ill in thee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3 Gracia Grindal and LaRhae Knatteru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y Holy Wings, O Savi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6600" y="1143000"/>
            <a:ext cx="771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aroline V. Sandell-Berg, 1865; trans. by Gracia Grindal, 1983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(Ps. 91:4; 73:26; 119:114; 51:10; 1 Pet. 3:1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be my streng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or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rock and hiding pl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t my every mome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lived within thy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O wash me in the wat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Noah’s cleansing floo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 me a willing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heart bo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ean and g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y Holy Wings, O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ake into thy keep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childr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and sm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hile we sweetly slumb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fold us one and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39:31Z</dcterms:modified>
  <cp:revision>12</cp:revision>
  <dc:subject/>
  <dc:title>PowerPoint Presentation</dc:title>
</cp:coreProperties>
</file>