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5656-8199-463C-9A2B-EA5414810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C8E4-DDBE-41CD-B0C6-B13AA7F04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A011-FFA8-4824-96E8-A1CDBD784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BD3B-9037-4FDD-9BE0-510DF5F66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734EE-FA6E-4134-A9D3-99DF2DAD1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CA0A2-7372-44FF-A080-8750CAFC0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F7AEE-DB48-430A-B4BB-5F15BEA86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71353-CC3B-423E-9CF5-DC6613183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72B24-ADCB-4EEC-BC6D-9A8DA4EAB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158A8-BE56-4873-A9B2-61CAB07FC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87831-985E-40E6-A0B0-906EFC04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9432-DC0D-4A89-9201-F47AE3206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B7EFB-5D24-4A03-A895-327ED4A3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708A0-291A-403C-B9AD-D8801E85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26969-6370-42C4-9D3B-CE7D4F009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3011D-E23D-4E22-92BF-F66729CB6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A29A2-3CE5-4A93-A6BC-0EDB65B59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7A0F-3B76-49A2-AFE8-526EC2E4C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A182-E87F-44B4-A3E5-0C8299F67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FA90-ED7D-488A-8140-275DB4843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6E64-10D1-41E6-AE06-8C3405DC7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51BF-54D4-4A52-A339-35574827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9D94-8B1B-43DA-8234-4F8870CC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1CFE-EFB5-42CC-94D4-CA6BBB90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0C492-6B72-484E-B740-9C8C30EE48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88383-01BF-4703-B226-BD0D4C4FC3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364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ne Bread, One Bod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371600"/>
            <a:ext cx="9144000" cy="362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ne bread, one body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ne Lord of all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ne cup of bles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ich we bles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 Bread, One Bod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838080"/>
            <a:ext cx="9144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John B. Foley, 1978 (1 Cor. 10:16-17; Gal. 3:28; 1 Cor. 1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8, 1989 John B. Foley and North American Liturgy Re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53352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bread, one bod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Lord of 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cup of blessing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we ble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 Bread, One Bod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974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e, though man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out the ea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one bo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is on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ne Bread, One Bod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752480"/>
            <a:ext cx="9144000" cy="4797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bread, one bod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Lord of 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cup of blessing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we ble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8, 1989 John B. Foley and North American Liturgy Re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 Bread, One Bod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066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John B. Foley, 1978 (1 Cor. 10:16-17; Gal. 3:28; 1 Cor. 1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e, though man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out the ea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one bo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is on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Gentile or Je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rvant or fr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man or ma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 Bread, One Bod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86080"/>
            <a:ext cx="9144000" cy="40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bread, one bod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Lord of 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cup of blessing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we ble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 Bread, One Bod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e, though man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out the ea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one bo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is on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Many the gif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ny the work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in the Lord of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 Bread, One Bod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486080"/>
            <a:ext cx="9144000" cy="40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bread, one bod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Lord of 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cup of blessing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we ble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 Bread, One Bod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e, though man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out the ea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one bo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is on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e, though man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out the ea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one bo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is on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Grain for the fiel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cattered and grow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athered to one, for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 Bread, One Bod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148608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bread, one bod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Lord of 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cup of blessing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we ble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 Bread, One Bod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e, though man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out the ea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one bo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is on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Gentile or Je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rvant or fr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man or ma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 Bread, One Bod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380880"/>
            <a:ext cx="9144000" cy="40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bread, one bod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Lord of 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cup of blessing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we ble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 Bread, One Bod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89856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e, though man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out the ea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one bo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is on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447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Many the gif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ny the work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in the Lord of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 Bread, One Bod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419040"/>
            <a:ext cx="9144000" cy="40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bread, one bod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Lord of 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cup of blessing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we ble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 Bread, One Bod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e, though man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out the ea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one bo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is on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447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Grain for the fiel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cattered and grow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athered to one, for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 Bread, One Bod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9-07-10T14:17:42Z</dcterms:modified>
  <cp:revision>123</cp:revision>
  <dc:subject/>
  <dc:title>PowerPoint Presentation</dc:title>
</cp:coreProperties>
</file>