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0A1F-EC83-41E3-A708-E708D8AA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6E6-6F53-4C0D-BAEC-C9DB8FB2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7FE-083C-40DC-BE82-344F87F3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5B71-C032-4031-B762-CB696368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2649-0D0A-4E69-B2A1-59003879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4B08-E894-47BE-A14A-A0B9CF17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80F3-B26F-4D15-976B-18B4CC7B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BD26-3CA3-4D52-8166-3D148A83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FE37-B198-46B2-8AAB-D10E0368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0895-6DC8-401A-A04D-DF9D0238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F88D-848A-44A1-961D-2118886D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A95A-AB4D-4F84-B2A6-9E2CF7EA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52C3-9C89-431A-95A7-B7F8A1AE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B989-52FB-4B8C-8126-9D793A37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1737-6E2D-4F18-96C0-F2000F81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5981-D985-4707-ABD5-16786B8B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7664-BB96-4C94-83F1-32373CB0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D62C-785E-4E34-AB0B-17DDDC69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5EA-34F2-45F5-8877-CEA2D360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9DE5-CEB5-46AF-9FB5-94D4B6A7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A5E-E7FE-4819-AE23-E191CE62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B94-6339-4B7F-BEB2-858308FB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35DE-FCBE-40A9-8FEE-CB42B0F6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40D4-502A-413A-9DC5-059ECAF8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8CE3-4C6E-4027-80BD-A8B91E865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C7ED-27BD-4BD1-B065-F0D3A1E7F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sanna, Loud Hosan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06668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1. Hosanna, loud hosanna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little children sang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rough pillared court and templ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lovely anthem rang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800" y="792000"/>
            <a:ext cx="786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anette Threlfall, 1873 (Mt. 21:8-9; Mk. 11:8-10; Jn. 12:12-13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de on in lowly st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scorned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ttle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 on his bidding wa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“Hosanna in the highest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ancient song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Christ is our Redeem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y we ever praise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and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his blissful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ly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sanna, Loud Hosan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3716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Hosanna, loud hosanna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little children sa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 pillared court and templ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lovely anthem ra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800" y="792000"/>
            <a:ext cx="786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anette Threlfall, 1873 (Mt. 21:8-9; Mk. 11:8-10; Jn. 12:12-13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, who had blessed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folded to his br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ildren sa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implest and the b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rom Olivet they follow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d an exultant crow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or p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anch wa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anting clear and lo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earth and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de on in lowly st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scorned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ttle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 on his bidding wa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“Hosanna in the highest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ancient song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Christ is our Redeem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heaven 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y we ever praise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and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his blissful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ly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9200"/>
            <a:ext cx="91440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o Jesus, who had blessed them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close folded to his breast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children sang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ir praises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simplest and the best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92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2. From Olivet they followed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mid an exultant crowd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victor palm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branch waving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nd chanting clear and loud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76320"/>
            <a:ext cx="91440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Lord of earth and heaven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rode on in lowly stat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nor scorned that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little children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should on his bidding wait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45720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“Hosanna in the highest!”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at ancient song we s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Christ is our Redeem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Lord of heaven our King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1096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may we ever praise hi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heart 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ife and voic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in his blissful presen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ternally rejoic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sanna, Loud Hosan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osanna, loud hosann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ttle children sa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pillared cou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m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ly anthem ra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280" y="1066680"/>
            <a:ext cx="786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anette Threlfall, 1873 (Mt. 21:8-9; Mk. 11:8-10; Jn. 12:12-13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, who h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ed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folded to his br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ildren sa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implest and the b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rom Olivet they follow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d an exultant crow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or p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anch wa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anting clear and lo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4-16T15:39:38Z</dcterms:modified>
  <cp:revision>37</cp:revision>
  <dc:subject/>
  <dc:title>PowerPoint Presentation</dc:title>
</cp:coreProperties>
</file>