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5B3-91D3-4500-B424-1545F04F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672-5E21-4B98-A200-12D5465D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1EA-5DF2-457D-8AE8-1564B7C8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6F8-223F-44AF-9473-57F6B4B6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B6A-6869-48FA-BE62-06D751E6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4F8-F0B6-451D-8C5A-18311AB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816-30A4-42F2-ABB5-4474F26B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FC0-E0BD-40EA-BC71-3630B04B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CC0-C987-4D1C-97E1-663D4872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FE7-940A-4983-9EE9-0FC9C167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F03-72EF-4678-AC1F-20D7C5EA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597-58DD-44CB-BAD6-392EB60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E99-2E85-4956-9BA3-5001A2C13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e Love to Thee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lizabeth P. Prentiss, 186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ore love to the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thou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I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bended kn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nest ple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nce earthly joy I cra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ght peace and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e alone I see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what is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sorrow do its wo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grief and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are thy messe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their refr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y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ith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n sh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sper thy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ting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shall 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till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7:39Z</dcterms:modified>
  <cp:revision>151</cp:revision>
  <dc:subject/>
  <dc:title>PowerPoint Presentation</dc:title>
</cp:coreProperties>
</file>