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7946-2FD9-46CE-B217-847F2915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66B1-6259-4FFF-9C11-02BBF7E9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E78F-6A75-4278-879C-E0767DB4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A803-9FE3-4726-9273-418C189F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6211-B68C-45A7-AA06-D356BDF7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259A-CDFE-47BB-84A8-72116875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1F2D-805E-4A30-831D-498F7C37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02AE-E9A2-43F8-AB32-1E93E53D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5865-37C3-4F17-8E5A-00E39031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78EC-B9AF-480C-882B-4830B888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8026-659D-4ADF-8805-3046657A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1452-9F64-4EC0-894B-22A5CB80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3DD9-5377-4AA7-8C71-E8589C46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B13A-B3F0-44EE-8344-5C5365E1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F275-8474-4B68-BD2C-4C42898B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5830-2067-4214-8B26-4311FAE6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CE69-170B-4597-A024-EED57637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62ED-66CF-4037-987A-1BEC8504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B170-89A2-4104-9723-F16C9C3B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55B-0C37-4034-871D-55E06993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723E-AB4A-46E8-B335-E934507C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C0F-034E-4FF8-B210-9BB4B9FE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DDC-5A98-4E62-B392-52D47D4B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C0F2-6EA1-4F8E-AC4A-25F92DF0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78CE-A46A-47DB-AF9C-8D662C8BD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361D-A66F-47FB-8070-7E608E7B3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the Lord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s Risen To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67652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3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hrist the Lord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n today, 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and heaven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orus say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we gr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ant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il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urrection, th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King of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of bli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is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to k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ower to pr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to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us to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52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hrist the Lord Is Risen To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15228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8380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WORDS: Charles Wesley, 173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3716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Christ the Lord is risen today, 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arth and heaven in chorus say, 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6094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aise your joys and triumphs hig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ing, ye heavens and earth repl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685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Love’s redeeming work is do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ught the fight, the battle w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6996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eath in vain forbids him ri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hrist has opened paradi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85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Lives again our glorious K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re, O death, is now thy sting?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3049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ce he died our souls to sa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re’s the victory, boasting grave?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04920"/>
            <a:ext cx="9144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Soar we no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re Christ has l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llowing our exalted Hea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your jo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riumphs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, ye heav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rth rep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6858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de like him, like him we ris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s the cross, the grave, the skie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04920"/>
            <a:ext cx="9144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5. Hail the Lord of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arth and heave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raise to thee by both be give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6094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e we greet triumphant now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ail the Resurrection, th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85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6. King of glory, soul of blis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lasting life is thi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890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e to know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y power to pro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us to sing, and thus to lo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114800"/>
            <a:ext cx="9144000" cy="273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ve’s redee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k is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ught the f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attle w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in v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bids him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has ope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ad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ives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lorious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, O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now thy sting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ce he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s to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s the vic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asting grav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oar w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Christ has 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ing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xalted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lik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him we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s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ve,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Hail the Lor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and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to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both be gi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4-07T21:03:24Z</dcterms:modified>
  <cp:revision>59</cp:revision>
  <dc:subject/>
  <dc:title>PowerPoint Presentation</dc:title>
</cp:coreProperties>
</file>