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CBC-BE58-40F6-8982-1C09EDCF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4BD-05DE-41C1-A663-95D9C97A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68D-57B3-456E-839F-606F46F6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ADC-6B6D-488F-9CBD-A37BC52B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B6F-206E-41E9-ACC7-C0EC0F75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F73-8AC1-43A7-9BD3-11A35029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E52-5174-40D0-AE7C-108224D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59B-27A3-4C29-8D48-288B3606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E61-4CFF-4D5C-8A33-3FA9992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133-388F-4A01-BD52-2318191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F28-82E1-4748-B647-F901281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2F6-8406-4DBD-9CFD-830E2BD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93AA-A33E-45AA-9FFD-16388CBBF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t Thi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be hung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Les Presses de Tai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France;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This B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bert Batastini and the Tai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ommunity, 1982 (Jn. 6: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in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not thir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39:10Z</dcterms:modified>
  <cp:revision>123</cp:revision>
  <dc:subject/>
  <dc:title>PowerPoint Presentation</dc:title>
</cp:coreProperties>
</file>