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ED0F-9DE6-4F57-9260-109311C2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BB0-98CE-4F3B-A64D-2B3A149C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D2D-1E22-460E-B9D6-15E56210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6E7-ABB2-49F8-812F-59EDA724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1C7-D2C5-4747-BAF0-DEAE5731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823-1E0B-415D-8490-534322C2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16F-D590-435D-9384-984968C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8DE-0785-4E6B-8513-A5DC8452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79C-36AB-419A-9C2F-24F262A0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515-D9A1-483C-A5DF-693951C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2B8-992C-4987-A2FB-B5AEA29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6F4-852D-4866-802A-60AFC0F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9C52-2E4C-4FA2-99B4-7FF70C7FA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is Name Is Wonder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9, renewed 1987 Manna Music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Name Is Wonder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6160" y="1092240"/>
            <a:ext cx="32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udrey Mieir, 1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the might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ster of everyth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’s the great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ock of all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mighty God is h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w down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9:02Z</dcterms:modified>
  <cp:revision>36</cp:revision>
  <dc:subject/>
  <dc:title>PowerPoint Presentation</dc:title>
</cp:coreProperties>
</file>