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16BA-70B8-41F5-82C3-07D12D02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66B9-79E9-40F2-828D-5F8A49D1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670C-A71A-493F-AC5E-194DB156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E1A4-311D-493F-8198-F9C0F700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3ED6-06D4-4191-AAD9-E971F92D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28ED-A4E9-4CBE-8D23-BF96349C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4C04-3499-492A-9682-9E96B704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6AFC-758E-42EA-9575-1AEEB13C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9017-FD62-4B67-A6EE-4C4B7937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5571-0C0F-4914-9DC5-97C26D7F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542B-E707-41AC-9BEE-BEF8F7E4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2002-A51C-45A2-B4E8-68DB2DBD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B58F-B6EC-4D20-B03F-3117E545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61CE-51D6-4EAF-B18D-89E7E5BD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AB33-A046-4AB2-A737-B5578B5C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484E-DEDA-47F5-814E-FA352134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ECB8-427A-4C4B-AE94-B1F217CE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8053-07AD-4015-85EE-77FC75A7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4B8E-32DE-41DF-8A01-6DA435D3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C562-5EEB-4BB3-A3A1-153B5A2B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F998-6494-4E03-B1B2-96C50D4A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B380-B789-45C1-B778-B531FC0F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85FE-8F49-45D3-9998-AE9CD9F6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13C6-A52F-40A1-B8A4-0F298E61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E6FF-6E99-4403-856D-892738105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356F-AABC-44FF-AACE-24AC97581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way in a Mang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52480"/>
            <a:ext cx="9144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1. Away in a manger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no crib for a be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ittle Lord Jesu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laid down his sweet h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y in a Mang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07880" y="990720"/>
            <a:ext cx="2963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Anon. (Lk. 2: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hee, 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ok down from the sk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tay by my crad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morning is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Be near me, 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sk thee to st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lose by me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ove me, I pr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y in a Mang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 all the dear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y tender c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it us for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ive with thee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6699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tars in the sk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ok down where he l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ittle 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leep on the h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e cattle are low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aby awak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little 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crying he mak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y in a Mang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hee, 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ok down from the sk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tay by my crad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morning is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Be near me, 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sk thee to st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lose by me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ove me, I pr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y in a Mang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 all the dear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y tender c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it us for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ive with thee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way in a Mang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133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1. Away in a manger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no crib for a be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the little Lord Jesu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laid down his sweet hea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y in a Mang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07880" y="990720"/>
            <a:ext cx="2963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Anon. (Lk. 2: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tars in the sk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ok down where he l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ittle 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leep on the h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e cattle are low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aby awak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little 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crying he mak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y in a Mang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12-05T00:02:08Z</dcterms:modified>
  <cp:revision>61</cp:revision>
  <dc:subject/>
  <dc:title>PowerPoint Presentation</dc:title>
</cp:coreProperties>
</file>