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9FBE-8B41-481A-AC2D-1C2F4AD5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9CB2-9C60-48C6-8BE0-D42EBE70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13E-F2C4-4A87-B208-12AEB3B9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F60D-4C26-4F02-98F8-7F327BBD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756A-55FD-4356-BBBA-010DADDF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A7D8-9B61-4EF9-B12A-CE0E19D5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854C-33E7-4FEB-B488-C4B7010B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48EC-5D34-4B4A-B3F5-D96C5683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95D2-4FD1-4C02-ACE0-46274675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B5FC-E48D-4503-827D-EF6869F6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264C-0CB8-4307-9BCA-1E4959F9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8E39-A805-4937-846B-9AC2D4E2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D7E7-8E35-4C67-A18E-1D1BB3C2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3233-0061-4FBC-94E3-FD4B9392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DD2F-8F38-4F38-9346-4213752D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2312-E9A1-491B-A81D-D30B8F3D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5C8D-4C7C-4BBB-952D-271EDF01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D366-DF7C-45D8-BE63-607F296E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A07-6352-43D5-9AF8-ED4FE2C6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F2E-6034-41CD-BE9E-65A0E330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1DF0-7974-43D0-B310-3E54A53E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F1E3-5CFE-4CAF-B69A-A9A1D788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58A-9A01-4E04-B8E8-63149C3E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0BAD-9F02-4726-ADD4-C1EEB75E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09F1-7FBC-4BF1-935A-717BF6C3D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AF74-4A3F-4E31-8F75-82D767F4A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ass I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193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It only takes a spark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get a fire go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soon all those aroun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an warm up in its glow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948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urt Kaiser, 196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 Communiq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how i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’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you’ve experienced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ant to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’s fresh like sp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ant to pass i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wish for you, my fri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appi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’ve fou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an depend o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matters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you’re b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hout it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untaintop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my world to k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come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pass i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ass I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6002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It only takes a spark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get a fire go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oon all those arou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an warm up in its glow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76212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urt Kaiser, 196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 Communiq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how it is with God’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you’ve experienced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pread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very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ant to pass i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52280"/>
            <a:ext cx="914400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2. What a wondrous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time is spring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when all the trees are budding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the birds begin to sing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the flowers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start their blooming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how it is with God’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you’ve experienced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ant to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’s fresh like sp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ant to pass i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52280"/>
            <a:ext cx="914400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3. I wish for you, my friend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the happiness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that I’ve found;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you can depend on him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it matters not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where you’re boun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08000"/>
            <a:ext cx="914400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I’ll shout it from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the mountaintop;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I want my world to know;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the Lord of love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has come to me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I want to pass it o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49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at’s how it is with God’s lov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nce you’ve experienced it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you spread his lov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everyon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you want to pass it o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. What a wondrou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ime is spr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all the trees are budd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birds begin to s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flower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rt their bloom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’s how it is with God’s lo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nce you’ve experienced it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ou want to s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t’s fresh like spr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ou want to pass it 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175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I wish for you, my frien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happines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at I’ve foun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you can depend on hi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t matters no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ere you’re boun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1276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’ll shout it from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mountaintop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want my world to know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Lord of lo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as come to 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want to pass it 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ass I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00200"/>
            <a:ext cx="9144000" cy="473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t only takes a sp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et a fire go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on all those a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warm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ts glow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 Communiq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144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urt Kaiser, 196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how i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’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you’ve experienced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spread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very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ant to pass i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at a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me is sp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all the trees are bud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irds begin to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low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t their bloom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7-09T00:18:01Z</dcterms:modified>
  <cp:revision>80</cp:revision>
  <dc:subject/>
  <dc:title>PowerPoint Presentation</dc:title>
</cp:coreProperties>
</file>