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E946-0206-4917-AD90-FB045EAE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F559-5B18-453D-8AEF-3799BD56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01EF-7CA6-4E36-BE2A-07F9C7AF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E68D-06FB-47D3-9A69-EBFD7D4A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57D1-4F5D-4C0B-86CD-983B341E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6B9D-8213-4E60-8FD6-084D009F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A77F-A546-42FE-9B04-0E4995F3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5BE0-9BDB-4F96-A754-1E9D15C5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0B33-629E-446D-9423-C0B8E3EC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D820-4ABA-4595-BC13-FEE8A905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838D-B1E9-4E19-B08A-8BAB1E69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9852-0E42-488A-916A-7BFAA51D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88AE-B622-4E66-BE92-12AEF9C6B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rving the Po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43828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us worthy,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serve those throughout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orld who live and die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overty or hung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ng the Po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08920" y="990720"/>
            <a:ext cx="577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Mother Teresa of Calcutta, Yugoslavia, 20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64304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 then, through our hand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s day their daily brea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y our understanding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 peace and joy.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4:22Z</dcterms:modified>
  <cp:revision>13</cp:revision>
  <dc:subject/>
  <dc:title>PowerPoint Presentation</dc:title>
</cp:coreProperties>
</file>