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982-3E02-4F27-B717-5CB16CCF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F38-C633-4C85-BF1B-DDAB4296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51F-EAC1-4DB8-ACE9-7F937CAC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E65-DC4E-4784-9F92-FA1E75C4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502-C930-4899-97AC-F8D62E14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D9B-1299-4099-B5D6-DCA3E47E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87B-1F85-4498-91F9-A4E80C67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A6C-A645-4E2B-B2FA-D314C38A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E4D-CE4F-423B-9DB7-72279542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1DC-A09B-467B-A780-117A488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501-52BE-432F-8303-FCBA4F2C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A72-7EFB-4FB1-9DDA-4C847CA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656C-37C3-4040-9F6F-073FFB007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, on L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Sea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n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peace pro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1676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Longfellow, 18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s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ens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eternal stars a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 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holy 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s d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et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ou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our w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urdens lea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’s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res for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6:31Z</dcterms:modified>
  <cp:revision>23</cp:revision>
  <dc:subject/>
  <dc:title>PowerPoint Presentation</dc:title>
</cp:coreProperties>
</file>