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A56-7158-4366-AD58-13F27D59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613-C5D8-4E71-93A5-D6FBADC0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084-AC86-43B1-BE8A-4601CDA8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D7D-DB25-4BD7-9146-8529E372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24C-D7AF-43D5-A108-7491AA59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18E2-C92C-4B23-A378-277254E6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89BB-AF1D-4AFE-9440-67FC8562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89EA-DCC2-4196-8BC0-99B193BE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1485-1E1B-4705-9845-3C982840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028B-E957-4047-8004-9645BFE0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8D61-7D31-41C6-A96B-0554A960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C6A-8D96-4360-91D1-A5B4D756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A23F-8858-414A-9668-4247120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6124-1E19-4339-A5BE-288C25D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68C5-FF59-41A0-A921-1322746D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619C-A8B6-4B7B-B162-6F7E1207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9AFB-8C3A-4E93-B745-C6688515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0D9-064F-4A12-AAB3-7E54A4F6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598-5844-4320-8F17-9B8F5547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542-28BE-4A56-B266-4A95459E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2E9-58C5-43C9-9548-AFD9838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3C6-D61F-4816-9B52-E8D14BA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FDF-77FC-41EB-937B-17145E2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7F4-6377-4FF8-B8A6-CE250719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CF6-6C82-493C-9542-98973CFBC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1E8F-1F6E-4BE3-85DF-96B437BDD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Morning Gild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lds the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awaking crie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0920" y="1600200"/>
            <a:ext cx="80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atholisches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ca. 1744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s. 1, 2, 4, trans. by Edward Caswall, 1854; st. 3 by Robert S. Bridges, 1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ke at work and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I repai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66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night becomes a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rom the hear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s of darkness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t they hea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43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all the earth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 joyous with the sou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’s eternal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li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 is thi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ut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if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anticle divi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is th’eterna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ges lo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ke at work and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I repai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night becomes a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rom the hear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t they hea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all the earth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 joyous with the sou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li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 is thi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ut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if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anticle divi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ges lo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64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Morning Gild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hen morn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lds the ski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heart awaking cries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0920" y="746280"/>
            <a:ext cx="80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atholisches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ca. 1744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s. 1, 2, 4, trans. by Edward Caswall, 1854; st. 3 by Robert S. Bridges, 1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8-25T06:58:07Z</dcterms:modified>
  <cp:revision>35</cp:revision>
  <dc:subject/>
  <dc:title>PowerPoint Presentation</dc:title>
</cp:coreProperties>
</file>