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707-D58A-402C-BCD8-32517A84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786-AA4C-4A4A-8B2B-6707E801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4E0-C99B-4D3E-89F3-610E66C0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BA3-1C19-478B-A1A2-DCAB4D1B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21A-8635-41A7-964F-84FD08E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C87-18B5-4AAC-9297-129E860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687-717F-4F5A-B6F1-2FAF0EC5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95D-F7A8-49C5-BE08-4B356133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9EB-6600-4B7F-89A8-83D4813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54F-E8C9-4FA0-8B2D-BB10C5C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3AE-1512-43EE-B247-A0A0F5F8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E43-4D6C-404C-BDC5-FC7A9978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9808-8920-42E6-9064-B753D3AE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ck Thyself, My Sou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Deck thyself,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gladnes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ave the gloom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unts of sadne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Franck, 1649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1863 (Jn. 6:35-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rt invi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requi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banqu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ow v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ep its trea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ere dost giv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y gu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receiv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light’s splend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s re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grace unb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this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quet fou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’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he reign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to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he deign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n, wh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 dost bright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, who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enlight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, the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y know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, whenc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eing flow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t thy fee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cry, my Mak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me be a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t partak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d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,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brea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gla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obey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44Z</dcterms:modified>
  <cp:revision>113</cp:revision>
  <dc:subject/>
  <dc:title>PowerPoint Presentation</dc:title>
</cp:coreProperties>
</file>