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3F1-0DA0-4C5E-AFB7-7547FA3F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F13-2870-4DF3-94B4-0668B2EF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A14-C8AD-45C6-9668-CDC78456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097-AA85-4A96-B542-0497AF2C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3A59-B20E-4131-9215-069A000C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D81A-100E-43A2-9EA8-FA58FDF7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979A-68DB-4EBD-844E-686E91B3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EB4E-7BC4-4E24-A542-C703E9EC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CC6B-CF40-4C9E-ABB3-A014CDCD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04BA-DF54-41A0-9C35-E52A28C9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92D6-8B27-47B6-8610-ABAEBED5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57C-9F43-4BD3-8A32-021AF81A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D73E-31A2-4BDD-BD81-83CC6501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8A8D-6488-47CC-93EB-6A0FAFDB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E802-6B42-46B5-BB47-0A2FF8A7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F74B-5941-4376-9417-5BBC0E30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2D43-6FBA-4857-976B-B2E368FB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5D0-12FD-4A28-9F3E-E5855E7E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9CE-CB19-409B-8D46-50193243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EE8-509A-41E3-BD08-82E347D9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A16-BC9D-4427-AF0C-9588DB2E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42A-994D-4161-B46E-BE03833C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FCA-2E4F-464A-BA41-A2A2656B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F2A-AD28-4BBF-A490-FD5E78B4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CB11-5944-4421-A81B-E02DEFAB6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2A5A-8B49-405C-BF63-89E173406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Song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re’s a song in the ai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a star in the sk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a mo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baby’s low c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20880" y="109224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iah G. Holland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star rains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manger of Bethle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’s a tumult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wonderful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virgi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b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 Lord 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6504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y! the star rains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manger of Bethle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light of that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 the ages impear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swept over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earth is a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eautiful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m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rejoice in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echo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heavenly th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y! we shout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vangel they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cradl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Song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re’s a song in the ai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star in the sky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mother’s deep pray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 baby’s low c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0880" y="83808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iah G. Holland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star rains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manger of Bethle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’s a tumult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wonderful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virgi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b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 Lord 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tar rains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m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6504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y! the star rains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manger of Bethle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light of that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 the ages impear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swept over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earth is a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eautiful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m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rejoice in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echo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heavenly th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y! we shout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vangel they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cradl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’s a tumult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wonderful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virgi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b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 Lord 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y! the star rains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m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light of that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 the ages impear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swept over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earth is a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eautiful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m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rejoice in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echo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heavenly th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y! we shout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vangel they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cradl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Song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re’s a song in the ai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star in the sky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mother’s deep pray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 baby’s low c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0880" y="83808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iah G. Holland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02T00:34:31Z</dcterms:modified>
  <cp:revision>8</cp:revision>
  <dc:subject/>
  <dc:title>PowerPoint Presentation</dc:title>
</cp:coreProperties>
</file>