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FB2-66DF-452E-80F3-5CF17B63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945-B545-4DF2-B25E-C8E822C4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DA9A-A02F-4DF8-9562-1044BBDF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78A-933B-48B2-81BA-EE2674E4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4308-6783-41BE-AEEC-6C721D7E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1B1-0802-45BA-83A4-4A062D91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F72-FD04-4BFC-9B6A-A0F39470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2D8-0621-4833-8911-7DAA4C0A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E2F-B8BE-4000-B01A-12D9D4CB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167-06A5-4C96-BBBC-2E6D3702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F93-A825-415D-8A92-DE232AC7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89B-B1B7-4D37-847B-8156051B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DFC6-F771-402B-975D-57AEEE8D6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Mary, Don’t You We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2240" y="1066680"/>
            <a:ext cx="626904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African American spiritual (Jn. 20:11-18; Ex. 15:21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I get to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’a put on my sho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’a run ab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read the new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5238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ne of these morn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nd f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’a take my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eave the ai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5238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n I get to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’a sing and s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in’t nobody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’a turn me ou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5238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you mo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8:34Z</dcterms:modified>
  <cp:revision>55</cp:revision>
  <dc:subject/>
  <dc:title>PowerPoint Presentation</dc:title>
</cp:coreProperties>
</file>