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22D-8622-406C-B974-4FBE1B8F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225-DE61-4D63-95CB-028CEBD0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B95-1C07-4DC3-9A24-8639C0B6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EC8-76B4-4946-B7A5-0DB68867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2D8-9B1D-48B0-AE7D-012EC94A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815-61AE-4AFF-920A-4616213A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28D-358C-42A1-A8B0-05DDE0EB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057-6D15-4754-82C7-8A9DA0C2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C5C-F5B1-4C93-91E6-D2AA49B7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5D2-E348-4389-A6DC-343505B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6C3-4124-42D2-B1F9-17FB6536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C8C-001E-49BC-97E2-DF5EE46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8FE5-9DF5-40D5-81D9-56E2E8C60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erenity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renity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nonym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251460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, grant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serenity to accep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things I cannot chang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urage to chan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things I c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wisdom to distinguish  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one from the oth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27Z</dcterms:modified>
  <cp:revision>153</cp:revision>
  <dc:subject/>
  <dc:title>PowerPoint Presentation</dc:title>
</cp:coreProperties>
</file>