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6A4-A234-40FB-8B01-0015FB7F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EAF-3F0D-426B-82BD-EC08F74F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2BE-09E0-4D99-AC24-4E4A313E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F2E-C917-45F4-9FAC-94461E2B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0A88-A74C-4EAC-A023-E2256F3F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BDB8-1E60-4444-A6B0-B8F3F890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BA83-125F-42AD-BF0E-42952840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B55C-549F-47A7-AD00-265DE34F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F40D-AC56-4294-BB0E-98882EE7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749F-82FF-4218-9C75-0C5482D9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C309-5B76-40DC-86B5-D6208063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B76-F771-46ED-A4E6-83471BE7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3B2F-FF4D-4185-952D-7DECDC9C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EBF2-9FA5-47AA-8CA3-774D8777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1177-B91A-4436-99BF-44D788A6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0BFB-C33C-4146-A238-98A25E2B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C5DF-FAEF-4FB3-82F5-3AEA5F04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BA1-328C-4730-8393-2E62AA8E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588-A523-45F7-9A0F-F91FD876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6BB-5EE1-4BEC-AE3E-D6DC5BE1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18F-0D05-42B2-BD77-50CDF9C4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8F8-2D64-4535-95FC-7DBECEAB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938-E2C6-49B3-9CAC-352E37FB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110-1AD1-4E9E-A393-AE9EC4E2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F654-BDF9-4BD2-8A87-66ACE9EFC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8142-E0DD-4593-8596-FBDAA22A2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52280" y="13644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Help Us Accept Each Oth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6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128600"/>
            <a:ext cx="9144000" cy="399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Help us accept each oth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s Christ accepted u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each us as sister, broth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ach person to embrac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5 Hope Publishing C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Fred Kaan, 1974 (Jn. 15:1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lp us to hel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’s cross to b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eir friend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d aff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l each other’s car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Up un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iving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in all things g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ou hast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free ind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otless here below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ouched by the lodest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our hearts ag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 to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 move toward the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o thee, inseparably jo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our spirits clea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ing m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s in thee receiv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This is the b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rfec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potless chari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us,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y, poss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nd that was in the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22860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e present,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mong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bring us to belie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are ourselves accept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meant to love and liv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Teach us, O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esson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s in our daily lif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struggle to be hum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arch for hope and faith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36504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each us to care for peopl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for all, not just for so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 them a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find the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r as they may becom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3808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Let your accepta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change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o that we may be mov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n living situation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do the truth in love;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3808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practi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your acceptan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we know by hear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table of forgivenes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laughter’s healing art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2890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Lord, fo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day’s encounter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ll who are in ne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o hunger for acceptan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for righteousness and brea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36504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need ne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yes for see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new hands for holding o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new us with your Spirit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free us, make us one!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United by Thy Gra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198108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Jesus, united by thy grac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each to each endeare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confidenc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k thy fac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know our prayer is heard.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8-26T01:43:18Z</dcterms:modified>
  <cp:revision>67</cp:revision>
  <dc:subject/>
  <dc:title>PowerPoint Presentation</dc:title>
</cp:coreProperties>
</file>