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435-4EC2-4C8D-B004-BF7CF8E1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B94-74D2-4678-B9E7-A712F87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081-7531-4478-8BD8-5FD74D3D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69E-F626-4E55-8C45-F1688379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72D4-5FEE-4FF6-918B-FE3097A8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6C22-7DC3-491F-9C6C-8942BD8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33C9-6719-470B-9DBD-57986CFE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6F5-0CB3-4D19-AC87-9012237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293-A6A4-4BDD-8E1D-6F01D384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A8F8-FB9D-4FF8-8A21-F7AC6760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C0BC-EA6E-4BC7-B48E-230C828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687-5BA9-4F81-9944-2B34093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2CB-2E13-404B-97C4-414B893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549-0721-4167-B570-9FCA0DC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F490-F3E5-46D2-A087-C022CAB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482-9FDB-43F8-A2D4-BFBF5CD9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806-4E7C-4B39-962C-BB0BD501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6EF-A5F0-487E-8C27-0DB31B9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8F4-18AC-40CD-A1DD-A0812E2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CE5-72BF-41CD-8025-D94D4591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F08-7DC7-4F58-8BE8-65C193E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D01-BF0B-4381-B5F3-A247C4A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C16-6412-4526-8AF1-B5DF99D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73C-2E5D-4F32-AB99-7773BC2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A375-EBA8-45D8-AE69-280317808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6D2-C4DE-4BBE-BE31-E967AB43D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91440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83808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0" y="167652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526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83808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153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76212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91440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3808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76212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2:01:29Z</dcterms:modified>
  <cp:revision>47</cp:revision>
  <dc:subject/>
  <dc:title>PowerPoint Presentation</dc:title>
</cp:coreProperties>
</file>