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0BE-4700-4D55-ABC1-5C2746D8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262-E82C-4322-A0C3-2E28C9EC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B34-51DD-4380-8E1A-537F7FC5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AB5-2E55-4B34-A660-BF4631CC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7F8D-EC42-4F5E-A928-BE19C97F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BBB2-6034-4A7F-87C5-15B02A7C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BD2E-57C4-43EF-8DB6-69012499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61AB-DA2D-47D0-BCFC-4DC3ED03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3490-660E-4EC3-A8B6-60422D24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BA03-6692-48B5-8149-4D611E4D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9EF7-A080-4A0A-A792-59F1FF29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131-D172-4D2D-80EA-27B21017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20DE-FD0D-4A92-8DF2-41FEE44C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CB9A-E04C-4107-8216-42A1B8E0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60A6-3BF1-4640-8541-427BD41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74FD-DAD5-42ED-824D-D575A13F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7EBE-E05B-48A5-95CF-64493561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A33-19F1-48DC-9FE2-A5961D32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4C8-2702-4D4C-A7F8-5472BE12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592-06B7-4929-ACF2-12697FAB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BFC-4F71-42FF-8752-A625A094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257-EBB6-4450-9B60-023F223F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58D-CFA1-4B37-8AD5-B96692CC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A49-D230-47D8-A9F0-181C272C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BAB-7BBA-4510-ADC2-53E662EB6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069B-3E88-45AF-95CD-48FFA4CF1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ward Throug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ward through the age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t the call divi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Lucian Hosmer, 19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ward Through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Forward through the ag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t the call divin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14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Lucian Hosmer, 19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88920" y="762120"/>
            <a:ext cx="7171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in differing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of one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the serv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the sure rew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der grow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 of love and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t we must lab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ur faith is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s have proclaime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tyrs test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ets sung its glor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oes for i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 alone we conqu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lone we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ch loss or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or triumph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5760" y="746280"/>
            <a:ext cx="7916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und by God’s fa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ne living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we on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hining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85680" y="1863720"/>
            <a:ext cx="7171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in differing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of one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the serv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the sure rew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der grow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 of love and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t we must lab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ur faith is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s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e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tyrs test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ets sung its glor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oes for i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 alone we conqu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lone we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ch loss or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or triumph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83720" y="1482840"/>
            <a:ext cx="5776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und by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ne living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we on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hining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through the age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16T23:38:05Z</dcterms:modified>
  <cp:revision>64</cp:revision>
  <dc:subject/>
  <dc:title>PowerPoint Presentation</dc:title>
</cp:coreProperties>
</file>