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86D-0E2A-4E7C-A223-92695D4E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72C-5812-4AEE-93F5-F89C8025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FA7-0A97-4FFA-8C08-BD4E7BEA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9CC-B9AC-4624-8F7C-E56C6589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E2EA-0DDE-43E6-B531-280E14C1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FDB-2A0C-4884-ABD3-108E1CC4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5E46-F9CF-4C37-85E8-87A20DD2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34B-1877-4AA8-B0EE-C9CCE3C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CF8-3E6B-4C7D-9626-B6E654F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A8F4-BC3B-4C67-A5F6-E50DD08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0D7D-3B39-481B-9C3F-5CC4541A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9BA-406B-4526-9FCF-AB77CF6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C14D-C242-4411-B33C-3B37CE0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3B5-B476-43A8-A5D7-B1D3B90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CD15-09BD-4608-A3E8-92566E2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F05-28EC-4875-8F47-AAFFEB0A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0AD8-DD36-4E40-82BA-FDB1F85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A1E-EA0E-428B-9C50-EB56310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DDC-116C-4806-8962-0EE66B6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D79-D6ED-4973-8EE6-E848A0F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D77-0B76-4904-BDC3-BE754E09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E41-4D72-4F93-8F65-6CE47C59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6C3-122D-408B-AC7D-8A5648B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6F3-5A2C-483F-90D4-52A11FA2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0B26-BA74-4248-8414-79F1E2891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78B-62CD-4EAC-8075-CAF9B14CD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7176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5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he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he is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990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bl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me and sought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his holy brid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his own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bought h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for her life he d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appy ones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holy name she bl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akes one holy fo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o one hop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e press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every grace endu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see h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re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soo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ll, with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ion gloriou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r longing eyes are bl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 Yet she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hath 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mys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weet commun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31T21:49:30Z</dcterms:modified>
  <cp:revision>17</cp:revision>
  <dc:subject/>
  <dc:title>PowerPoint Presentation</dc:title>
</cp:coreProperties>
</file>