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021-A9BD-479A-8585-3C192C04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223-D3DA-48F2-9098-5E082A54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909-52FE-4F69-886B-A809FD43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919-683B-4E27-B4F8-79075DA3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58B-C1C9-4AB8-9196-11036F4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EE3-BF36-44F1-BCB3-A872397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2DE-A23F-4B57-8D82-BD23ECF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C30-2A82-45E5-A746-CAEB3ED9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0E8-D69E-4C26-A49E-BA6E6DE5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DAB-CEEE-469E-B5F6-3653A11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32D-1D8C-44AD-8F23-5E41D15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56C-3FDE-4C40-BCC2-232EAD2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063C-60DB-45C9-9068-D3E39BD6D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l Shad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Elyon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’re still the s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the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Whole Armor Pub. Co.; administered by LITA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Shad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9960" y="1066680"/>
            <a:ext cx="54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Card and John Thompson, 198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rkahmka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ft you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02Z</dcterms:modified>
  <cp:revision>40</cp:revision>
  <dc:subject/>
  <dc:title>PowerPoint Presentation</dc:title>
</cp:coreProperties>
</file>