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D41E-3166-48BE-993D-CBF3A2F6F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53CD-D2A9-4822-8CD8-3987F022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4BBB-B334-4C16-9D25-7F4D98982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F2DC-8D43-463E-B4D8-318DAD63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FCF6-E300-477F-B026-815B937A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D2BD-2750-4818-B6A8-748F8F56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806C-AB3C-4377-8D4F-D6B5ECBB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D4FE-11B7-4142-9870-2A0A8B19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493B-0A2E-4DD2-8188-65C3E7FC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73DE-5823-4726-B487-864DEBF5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E09E-D6AA-4AE9-A3A2-AC245DA5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1D10-E40E-4CF4-9896-8CB866BC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79DC-E5E7-4240-A299-B5F5659DE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illed with Excite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Mantos y Pal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0958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2, 1979,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ed with Excit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7000" y="1521000"/>
            <a:ext cx="638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WORDS: Rub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én Ruiz Avila, 1972; trans. by Gertrude C. Suppe, 1979, 1987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Mt. 21:8-9; Mk. 11:8-10; Lk. 19:36-38; Jn. 12:12-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Filled with excitem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happy thr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ead cloaks and branch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city stree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á a lo lej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 empieza a mir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un pollino 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j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143000"/>
            <a:ext cx="9144000" cy="38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entras mil voc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uenan por doqui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sanna al que vie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el nombre de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tos y Palmas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90648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3240" y="914400"/>
            <a:ext cx="82152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 un aliento d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 exclama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rrumpen con voz triunfa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¡Hosann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Hosanna al Rey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¡Hosann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Hosanna al Rey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716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omo en la entrad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 Jerusal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dos canta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Jesús el Re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tos y Palma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Cristo viv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nos llama h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a seguirle c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or y 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295280"/>
            <a:ext cx="9144000" cy="38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entras mil voc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uenan por doqui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sanna al que vie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el nombre de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tos y Palmas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90648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3240" y="685800"/>
            <a:ext cx="82152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 un aliento d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 exclama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ó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rrumpen con voz triunfal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¡Hosann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Hosanna al Rey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“¡Hosann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Hosanna al Rey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440" y="1828800"/>
            <a:ext cx="6200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in the dist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begin to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ding on a donk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s the Son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ed with Excit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43000"/>
            <a:ext cx="9144000" cy="46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every cor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thousand voices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s to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comes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me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16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7040" y="1600200"/>
            <a:ext cx="81298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one great shout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clamation loud triumph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g breaks forth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Hosanna to the King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Hosanna to the King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ed with Exciteme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4479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s in that entr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Jerusal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ing hosann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Christ, our K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676520"/>
            <a:ext cx="8915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living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still calls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king us to follow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love and fai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ed with Excit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990720"/>
            <a:ext cx="9144000" cy="46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every cor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thousand voices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s to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comes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me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716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0720" y="1447920"/>
            <a:ext cx="81298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one great shout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clamation loud triumph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g breaks forth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Hosanna to the King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Hosanna to the King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Mantos y palm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sparciendo, v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l pueblo aleg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 Jerusal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tos y Palma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43:05Z</dcterms:modified>
  <cp:revision>46</cp:revision>
  <dc:subject/>
  <dc:title>PowerPoint Presentation</dc:title>
</cp:coreProperties>
</file>