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1C31-BD60-442B-9917-DEF47BF3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378C-529E-4F83-9211-37817D80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1C96-43E5-4BA3-9273-5876DDDB5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56A9-690B-4458-853E-99C6F8EF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F1E4-8AD2-4F4E-AA6A-DA4AA59E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FB1C-4051-49D0-B872-602139FB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C519-6F1A-4079-AF54-A28DAAFE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28D9-2534-4288-BE9F-AD4FD60D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41E8-9B83-4A5A-801B-2417F810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E27A-37D9-439A-B60B-18E8C9DB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3952-39A0-47D8-AECC-9428D0D9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BE27-75CF-41F7-B497-31F9E50B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9541-9062-41D5-A725-A731D23C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5C2B-BAF8-4FDF-A2A4-CEC713D2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B158-F2A1-4494-BAAD-DB17F364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6E5D-A21F-4A2F-B0E8-4074F8CD1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ADCB-1682-49AA-83A6-0302151F8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D839-8B54-438A-8DEA-28FDC7A3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BB13-623E-451D-AD2C-80F59DF3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8928-D9D1-4D55-B01D-A872890C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6E4E-3EE9-4ACF-8B9C-603D6B55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19FE-588B-4B7A-9B7B-A7E9B0E8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AAD9-B42F-469A-8196-B49CC336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0C00-1004-42E3-96A9-154A6B49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9715-FF55-498A-BA45-EDEB9D0A9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C0CE-54D0-44AE-B03B-4ED433580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Sacred Hea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w Woun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86000"/>
            <a:ext cx="914400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O sacred Head, now wounde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grief a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ame weighed down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acred Head, Now Wound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440" y="1371600"/>
            <a:ext cx="908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non. Latin; trans. by Paul Gerhardt, 1656,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nd James W. Alexander, 1830 (Mt. 27:27-31; Mk. 15:16-20; Jn. 19:1-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pale thou 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angui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s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use and scor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doe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sage langu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once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 as mor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at thou, my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t suff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all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inners’ 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acred Head, Now Wound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e, mine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ansgre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eadly p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, here I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avio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Tis I deser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l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k on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y fav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ouchsaf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thy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at language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borr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ank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rest frie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acred Head, Now Wound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is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ying s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out en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k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forev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ould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nting b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le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ver, n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tlive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for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scornfully surroun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orns, thine only crown:  how pale thou art with angui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sore abuse and scor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doe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sage langu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once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 as mor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52056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What thou, my Lor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st suffer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all for sinners’ gain;             mine, mine was the transgressio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t thine the deadly p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acred Head, Now Wound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91440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, here I fall, my Savior!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’Tis I deserve thy place;                look on me with thy favo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ouchsafe to me thy gr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76212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What language shall I borrow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thank thee, dearest friend,          for this thy dying sorrow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y pity without e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acred Head, Now Wound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83808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 make me thine forever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should I fainting be,             Lord, let me never, nev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tlive my love for the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Sacred Hea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w Woun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sacred H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wou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rief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me weighed do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acred Head, Now Wound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440" y="1523880"/>
            <a:ext cx="908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non. Latin; trans. by Paul Gerhardt, 1656,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nd James W. Alexander, 1830 (Mt. 27:27-31; Mk. 15:16-20; Jn. 19:1-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scornful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rroun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or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only crow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4-10T01:19:41Z</dcterms:modified>
  <cp:revision>47</cp:revision>
  <dc:subject/>
  <dc:title>PowerPoint Presentation</dc:title>
</cp:coreProperties>
</file>