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C7A1-F595-4D5F-A7B4-0818B3418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1804-4178-4DB9-8A67-3EFB4D3C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A30D-0899-4542-B822-841C342DD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922E-434B-4AE6-9240-007287E44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B3A7-D656-40D8-9377-6737EC3E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66B4-764A-48BB-BA76-B0B7C9CC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504A-26A3-4061-A9E1-C4EFE2BA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BF7F-BE40-4528-8187-846050CF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5688-6A5E-4871-AF00-835BBC5E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E8D4-E9F5-4A74-B415-2A46320A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6D4E-AFEF-4C90-AEC1-9FBBE7A5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E5E2-21DA-493F-A515-D68BD31D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D9FD-3F58-4844-A4D7-4EAA0EC43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ois la Semilla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You Are the Se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8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1. Sois la semilla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que ha de crecer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ois estrella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que ha de brill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9 Ediciones Paulinas; 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Sois la Semil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esareo Gabara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ín, 1979; trans. by Raquel Gutiérrez-Achon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nd Skinner Chávez-Melo (Mt. 28:19-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ois reino nuevo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que empieza a engendrar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justicia, amor y verd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Id, amigos, por el mundo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anunciando el amor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mensajeros de la vida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de la paz y el perd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Sois la Semilla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d, amigos, mis testig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mi resurrec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d llevando mi presencia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n vosotros estoy.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ois fuego y sabi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vine a tra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is la ol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agita la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Sois la Semill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levadu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queña de ay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rmenta l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sa del p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Una ciudad no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e puede esconder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ni los montes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e han de ocult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en vuestras obras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que buscan el bien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el mundo al Padre ver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á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Id, amigos, por el mundo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anunciando el amor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mensajeros de la vida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de la paz y el perd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Sois la Semilla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d, amigos, mis testig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mi resurrec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d llevando mi presencia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n vosotros estoy.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You are the seed that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ow a new sprou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’re a star that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ne in the n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Are the Se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ois levadura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ois grano de sal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antorcha que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debe alumbr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are the ye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 small grain of sal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beacon to g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dar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You are the dawn that will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bring a new day;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you’re the wheat that will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bear golden gr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you are a sting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and a soft, gentle touch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my witnesses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where’er you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525600"/>
            <a:ext cx="9144000" cy="551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, my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to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claiming love to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ssenger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forgiving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Are the Seed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, my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loyal wit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dead I aro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Lo, I’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you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the end of the worl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You are the flame that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en the dar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ding sparkle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, faith, and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Are the Se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are the shepher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ead the whol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valley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astures of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You are the friends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that I chose for myself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the word that I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want to procla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You are the new kingdom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built on a rock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where justice and truth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always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25600"/>
            <a:ext cx="9144000" cy="551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, my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to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claiming love to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ssenger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forgiving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Are the Seed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ois la ma</a:t>
            </a:r>
            <a:r>
              <a:rPr b="1" lang="es-MX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ana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vuelve a nacer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is espiga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empieza a gran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, my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loyal wit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dead I aro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Lo, I’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you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the end of the worl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You are the life that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rture the plan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’re the wa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 turbulent se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Are the Se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terday’s ye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beginning to r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ew loaf of b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will yie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There is no place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for a city to hide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nor a mountain can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cover its m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may your good deeds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how a world in despair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a path that will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lead all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525600"/>
            <a:ext cx="9144000" cy="551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, my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to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claiming love to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ssenger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forgiving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Are the Seed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, my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loyal wit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dead I aro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Lo, I’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you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the end of the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is aguijón y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ricía a la vez.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stigos que voy a envi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Id, amigos, por el mundo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anunciando el amor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mensajeros de la vida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de la paz y el perd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Sois la Semilla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399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d, amigos, mis testig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mi resurrec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d llevando mi presencia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n vosotros estoy.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ois una llam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ha de encend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plandores 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 y carid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Sois la Semill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is los pasto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han de llev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 mundo p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das de paz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ois los amigos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que quise escoger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ois palabra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que intento esparci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43:08Z</dcterms:modified>
  <cp:revision>88</cp:revision>
  <dc:subject/>
  <dc:title>PowerPoint Presentation</dc:title>
</cp:coreProperties>
</file>