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20FC-C137-4C22-8B30-BA13BDCB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651E-0B75-496D-AA57-A4DA1C59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E2F-D746-4062-8811-CF5B629E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98C-8535-47CD-A25F-149C7BC0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22D9-4426-4291-A633-DC290FE5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4B86-DB51-4508-A92E-C040927B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83C9-7310-45C9-9B10-1333DBBB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F699-970E-4B0F-B77C-1407E107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8515-7918-4846-8F5F-E457BB3B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277E-503E-486C-9ADC-C8D3FEF6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7DA2-5E9A-491A-B7E7-7A800A5F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9FF-0D09-4D7B-812C-E66E9F22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B64A-7C77-43DB-A827-6FE5437D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6F84-78A4-48B3-8050-DBF620AD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43A6-276F-481D-B054-911A5B33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6B7E-C9B2-4801-9A43-8BBEF69D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2AF9-F313-484E-990C-2BE75399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9FB-17E6-4A17-97CE-63614268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D7E-661B-4142-823F-44A9FEFD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BFE-CD2D-44BB-B901-98CCA3D5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CEC-D627-4BE9-8BD3-36725FF7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8D13-633C-452F-B93B-E6217364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925-F9DB-4B37-8243-1DBA7D7B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5FE-4CD8-4EE4-A8F8-6899D3A1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4395-7638-41B7-8588-5879EF08C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6A58-50B0-407F-9C73-FC0A1856D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28600" y="228600"/>
            <a:ext cx="937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Praise to Go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o Reigns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1337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Sing praise to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reigns ab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all creatio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powe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od of our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6560" y="1536840"/>
            <a:ext cx="750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Johann J. Sch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ütz, 1675; trans. by Frances E. Cox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, 1864 (Dt. 32: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healing bal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soul is fill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every faithles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rmur stilled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The Lord is never far awa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through al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ief distress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ever present help and sta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peace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oy and bless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 with a mother’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der ha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d gently lead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hosen band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Thus, all m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ilsome way alo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sing aloud thy prais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 earth may hea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grateful so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voice unwearied rais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 joyful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ord, my hear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oth soul and bod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ar your part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Let all who na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ist’s holy na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ive God all praise and glor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all who ow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power proclai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oud the wondrous stor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st each false ido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its thron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Christ is L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Christ alone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ling b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is fi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faith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rmur still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820800"/>
            <a:ext cx="91440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The Lord is never far aw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through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ief distress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 ever prese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lp and st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peace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oy and bless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ith a moth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nder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gently lea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osen ban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83808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us, all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ilsome way al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ing aloud thy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earth may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teful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v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wearied rais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joyful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,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soul and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 your part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820800"/>
            <a:ext cx="91440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. Let all who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rist’s holy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God a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ise and glor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all who ow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s power proclai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oud the wondrous story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st each false ido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its thr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hrist i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 alon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rais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28600" y="76320"/>
            <a:ext cx="937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Praise to God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o Reigns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76320"/>
            <a:ext cx="12952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82880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Sing praise to God who reigns above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God of all creat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God of power,the God of love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God of our salv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6560" y="1371600"/>
            <a:ext cx="750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Johann J. Sch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ütz, 1675; trans. by Frances E. Cox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, 1864 (Dt. 32: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0-07T22:39:51Z</dcterms:modified>
  <cp:revision>41</cp:revision>
  <dc:subject/>
  <dc:title>PowerPoint Presentation</dc:title>
</cp:coreProperties>
</file>