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29E-DDF3-4C11-91CB-ADD206FD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D7A-071F-4670-A508-0E2425AF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F81-B0B7-432E-81D7-6DAEEF61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90B-86D9-4CCF-874E-1D78E3A5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2183-FDB1-4B31-80AE-E8EB9DB7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559D-DAC9-4D02-99A7-5C51B495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A4D0-8D6F-40A5-90E1-D81A7949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9682-4706-45DD-9988-4AA02313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DEF6-4DB4-4FAB-9050-D60A2C82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9750-4E56-47F0-8ACF-8CD62768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25FB-369A-48FE-AFA9-00E268B9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270-08F1-49AF-ADFD-DC7DC14D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D9EF-4295-4C98-958D-54936B7D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B505-A46E-4BFA-894F-05B3CE43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5322-309D-4BED-8A96-39C07A11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AD5E-4AE6-4D79-A2D1-17FF8451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EED7-8E5D-470A-9FB5-94FEEE53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A90-1F02-42C3-BACC-02220806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3AF-4B6D-480B-887E-FD7A07D8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DEF-89A2-41B1-9891-E79450FA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E21-573D-4959-9E0C-FAD19C73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B50-08B5-41D3-887C-ADB3947C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37B-A2D0-4806-83E0-7DFA4BD4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15A-3420-4E64-A7EC-7DF683C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B92A-B97E-40E5-8941-F6542B441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7FEB-4B39-485B-96B7-709D52C60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of Every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838080"/>
            <a:ext cx="472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. Reid, Jr. 19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7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God of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race an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deem your whole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almight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8, renewed 1986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446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re hate and fear divid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bitter threats are hurl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love and mercy guid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al 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ife-torn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From search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alth and pow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corn of truth and righ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rust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ombs that show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estruction through the night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pride of 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indness to you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Go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Lord, strength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lab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all may find relea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fear of rattling sab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read of war’s increas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op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age f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t your voice be hea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aith that none can 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ervants underg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Keep bright in 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sion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ays when war shall ceas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tred and divis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ay to love and peac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ll dawns the morning gl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truth and justice reig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ule vict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’er all the world’s dom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ate and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tter threats are hur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e and mercy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l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fe-torn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rom search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lth and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corn of truth and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ru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mbs that sh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truction through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pride of 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indness to you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Go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ord, streng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all may find rel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fear of rattling sa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read of war’s incr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op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age f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t your voice be hea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aith that none can a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ervants underg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Keep bright in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sio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s when war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tred and divi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ay to love and pe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awn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ruth and justice 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le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orld’s do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of Every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760320"/>
            <a:ext cx="52578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W. Reid, Jr. 19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58, renewed 1986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God of every nati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race and l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deem your whole cre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your almighty hand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1-10T02:14:17Z</dcterms:modified>
  <cp:revision>146</cp:revision>
  <dc:subject/>
  <dc:title>PowerPoint Presentation</dc:title>
</cp:coreProperties>
</file>