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8AC-D2DD-4211-AC30-00E0EF1A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378-48D3-4623-9847-2DCFABD3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18D-CED6-42F6-ADD7-EA1FC209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519-25F7-4DAD-BDA7-38456CBD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8C25-514D-4EE8-8F41-892C09AA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1041-D95F-4107-8978-AC0D6B7C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69A9-265C-4DD5-946B-8B0185AB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23CE-9183-48D5-9214-92B65942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6AC1-A2B7-4E29-AE6D-27FB1DB7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7176-047B-4239-8C69-2F651509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AFB1-A23E-4ED9-B942-56FE0370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9B4-D84E-4160-9F06-AB0A460C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0E2A-3826-4344-9428-DE84B3F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CF4F-1517-4DA5-9848-6EEF629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6598-48EA-4263-8BEA-36CD0C77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F5D8-CD3D-425E-BEEE-09C7DADA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636B-E68A-4E8B-BFAE-EA0A39C2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9E3-5E57-4DAE-8505-C531DF3E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77C-E436-4166-91FB-D41BF2A5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EF5-27A9-4239-877D-B4CE7020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A4B-C5AC-45A0-9065-1A8C3DFB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5B0-7CE7-4825-839C-1EA37C4A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A43-0F41-4C02-AD68-CC8354D9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B7B-CE35-41C6-9BB6-5D7A552E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2386-8618-4EDC-9976-5E1437588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BD0E-F919-4B57-8459-E8A0082FD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ittle Town of Bethleh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ittle town of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till we see thee li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thy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reamless sl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stars go b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861280" y="118116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hillips Brooks, ca. 186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Yet in thy dark streets shine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rlasting ligh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s and fea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year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re met in thee tonight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Christ is born of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gathered all ab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mortals sleep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s keep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ing love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morning stars toge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he holy bir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aises s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peace to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on earth!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How silently, how silent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ndrous gift is given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o God impar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 hear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his heaven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o ear m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ar his com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ut in this world of s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ek souls wi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 him, sti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ar Christ enters in. 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O holy Chil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f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to us, we pr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ast out our s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ter 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be born in us toda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21276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e hear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angel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 glad tidings te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to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Emmanuel!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124080" y="79200"/>
            <a:ext cx="6019920" cy="411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ittle town of Bethle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ow still we see thee li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thy deep and dreamless slee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stars go b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124080" y="79200"/>
            <a:ext cx="6019920" cy="411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t in thy dark streets shine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rlasting ligh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s and fea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yea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re met in thee tonigh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24080" y="79200"/>
            <a:ext cx="6019920" cy="4786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Christ is born of Ma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gathered all abo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mortals sleep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s keep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ing lo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in thy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 shin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rlasting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pes and f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met in thee tonigh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124080" y="79200"/>
            <a:ext cx="6019920" cy="4786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morning stars toget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he holy birt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aises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the K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peace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ll on earth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24080" y="79200"/>
            <a:ext cx="6019920" cy="5701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3. How silently, how silently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ndrous gift is given;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so God impart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 heart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ings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of his heaven.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2643120" y="79200"/>
            <a:ext cx="6500880" cy="42994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No ear may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hear his coming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but in this world of sin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ek souls will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 him, still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ar Christ enters in. 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0" t="556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124080" y="79200"/>
            <a:ext cx="6019920" cy="4115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O holy Chil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Bethle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to us, we pray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ast out our s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ter 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 born in us toda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rcRect l="0" t="556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124080" y="79200"/>
            <a:ext cx="6019920" cy="4786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e hear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angel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 glad tidings tel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to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Emmanuel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Christ is born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athered all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mortals sl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angel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watch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ndering lo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morning stars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claim the holy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rais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od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peac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n earth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ow silently, how silen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ndrous gift is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God imp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is heaven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ear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his co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n this world of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ek souls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eive him,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ar Christ enters in.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holy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cend to us, we pr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st out our s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ter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born in us tod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ea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mas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eat glad tidings te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ide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Emmanuel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 Little Town of Bethleh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3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O little town of Bethleh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ow still we see thee li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bove thy deep and dreamless sleep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stars go b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861280" y="91440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Phillips Brooks, ca. 186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18-12-11T03:51:09Z</dcterms:modified>
  <cp:revision>81</cp:revision>
  <dc:subject/>
  <dc:title>PowerPoint Presentation</dc:title>
</cp:coreProperties>
</file>