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1C2-C8DF-4CBF-BC90-37B7EF59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958-7A76-4F0C-B045-5ABBA9F2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640-0F70-4B7D-BADE-326D92DD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DDC-57E4-48A2-99B9-AC626667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759-8755-4FE0-BA67-038200FA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833-9DFA-448E-B6B2-26FA0B55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C1E-0AAD-417B-84A3-3034F3D4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461-3563-431B-A841-555FFFB1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3AE-848B-4BA8-813A-20F9BF8D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0FA-B446-4A86-B8BF-9B3D83FA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AF9-674F-4FCD-A5FD-30356D56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2BC-A366-4DBD-BB4D-F8E4EEBA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A4CA-0F0F-4EA6-92E9-E0A0FCEAD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llelujah! What a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an of Sorrow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Son of God, who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uined sinners to recla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7040" y="1066680"/>
            <a:ext cx="419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 P. Bliss, 1875 (Is. 53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earing sh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coffing ru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y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demned he sto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led by pard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blo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uilty, vi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lpless w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otless Lamb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as h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atonement can it b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ifted up was he to di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t is finished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his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n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alted hig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When he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glorious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his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me to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n anew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g we’ll s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09Z</dcterms:modified>
  <cp:revision>26</cp:revision>
  <dc:subject/>
  <dc:title>PowerPoint Presentation</dc:title>
</cp:coreProperties>
</file>