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DAE0-9D35-48D3-B60C-65AADAF23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3C96-00E1-4000-8EF5-413D0CDC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4553-2FC6-451E-8CDF-1FDF900F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2032-F036-43E2-BD1A-EC0871C78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D1AA-DD1E-4133-8B9C-08709A29E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8819-8E37-4A46-A604-16125D37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51F7-4A8D-4CBA-ADDF-6F755E49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BC00-02CA-47B5-8FF1-F2BBFE30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8F02-59C8-4FAE-85F4-E8E0EE0B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ABFB-8ED0-47F8-B43C-93E0B90D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95F7-2C75-473C-A6C2-44398707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19B4-C18D-4F60-A955-7052F3A0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E97B-024F-4FCB-B04A-1D4C003F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1FCF-1D7A-4365-A633-ED27BE47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86D8-6F23-43B0-85C9-4B96DBB7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5B00-2080-450A-A1CB-8E59BA0D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A038-F3D3-47F2-A3A9-DB0EDA109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2FC1-8EEE-46E3-8463-938A21A5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AEA1-EAFC-4904-98C0-5B1D3C22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AAAE-10CC-4720-9E36-2AFBB147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5C15-C6EC-4271-9F32-FBE8CE7E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CB36-527F-490E-A969-74E37102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A561-00F9-400A-B7ED-330F3E6E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75B5-0B2F-4480-A306-BC70DD10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964E-4719-419D-82D4-C6C7E0CD6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0FDF-223F-4DB0-8FCA-DDBE9A3FA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Happy Day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at Fixed My Cho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6668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O happy day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at fixed my choic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n thee, my Savior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my God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42600" y="1549440"/>
            <a:ext cx="606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Philip Doddridge, 1755;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refrain from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Wesleyan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Sacred Harp,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1854 (2 Chr. 15:1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t’s done: the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ansaction’s don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he Lor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is m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drew m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followed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rmed to conf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oice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aught me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tch and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rejoic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Now rest,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ng-divided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xed on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issful center,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have I f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obler p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heavenly pleas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my bre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aught me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tch and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rejoic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ll may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wing heart rej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ll 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ptures all abro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High heaven, that he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olemn v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vow renew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daily h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in lif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test hour I b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less in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ond so d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aught me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tch and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rejoic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76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Happy Day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at Fixed My Cho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209680"/>
            <a:ext cx="9144000" cy="21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O happy da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at fixed my choic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n thee, my Savior and my God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42600" y="1279440"/>
            <a:ext cx="606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Philip Doddridge, 1755;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refrain from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Wesleyan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Sacred Harp,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1854 (2 Chr. 15:1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ll may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wing heart rej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ll 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ptures all abro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22860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aught me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tch and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rejoic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8985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happy bo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eals my v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im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rits all my lo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cheer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thems fill his hou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to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cred shrine I m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2860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aught me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tch and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rejoic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974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t’s done: the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ansaction’s don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he Lor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is m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drew m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followed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rmed to conf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oice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22860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aught me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tch and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rejoic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aught me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tch and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rejoic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0666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Now rest,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ng-divided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xed on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issful center,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have I f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obler p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heavenly pleas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my bre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30492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aught me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tch and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rejoic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High heaven, that he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olemn v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vow renew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daily h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in lif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test hour I b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less in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ond so d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38088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89856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aught me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tch and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rejoic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happy bo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eals my v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im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rits all my lo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cheer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thems fill his hou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to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cred shrine I m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aught me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tch and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rejoic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7-28T18:33:46Z</dcterms:modified>
  <cp:revision>15</cp:revision>
  <dc:subject/>
  <dc:title>PowerPoint Presentation</dc:title>
</cp:coreProperties>
</file>