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296-9A06-437A-A6EA-663B286B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83E-F9F3-4618-932A-F12BD042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A2A-4245-4541-9224-58B6CBEA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E880-3D15-490C-BD91-BEF30052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F59-433C-4AFF-9B4B-F85896E1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343-6647-42AE-942C-22B2727B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7E6-5846-465E-B6E4-5D145EF2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11E9-D281-4D35-B101-3639F4F0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091-9498-4C25-87DE-7A1FE60D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BB3-F5B4-4956-AA96-53AC59C6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E0C-162A-4502-8DC7-18824982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1DE-0DF1-4E50-9A59-3FD6909F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F5CD-1A45-435D-AE64-FC7ECE0C9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80880"/>
            <a:ext cx="8077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Times New Roman"/>
              </a:rPr>
              <a:t>On Jordan’s Stormy Banks I Stand</a:t>
            </a:r>
            <a:endParaRPr b="1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8077320" y="304920"/>
            <a:ext cx="10666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n Jordan’s sto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nks I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st a wishful ey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anaan’s f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ppy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my possessions li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973600" y="114300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amuel Stennett, 178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I shall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appy pl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be forever bl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 shall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ather’s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his bosom res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15541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who will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 with 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28"/>
          <p:cNvSpPr/>
          <p:nvPr/>
        </p:nvSpPr>
        <p:spPr>
          <a:xfrm>
            <a:off x="0" y="15541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who will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 with 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’er all those w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xtended pl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s one eternal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God the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re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catters night awa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15541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who will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 with 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chilling wi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poisonous breath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ach that healthful sh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ckness and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in and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elt and feared no mor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5541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who will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 with 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6T15:28:08Z</dcterms:modified>
  <cp:revision>55</cp:revision>
  <dc:subject/>
  <dc:title>PowerPoint Presentation</dc:title>
</cp:coreProperties>
</file>