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853-188A-4A71-AD67-9FC5FE7D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213-BDE4-4F1F-8655-0FA601A4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D32-4E9E-42A3-9C92-3EC6247C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49D-D1D9-454C-8D5D-4F674E8C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ABF-4635-4FFC-AE75-88E683E5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82F-BCC5-49D4-9445-4821FDB0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305-CC9E-4F76-9DBD-1BC50C6D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B4A-EE18-4BC3-9AC6-C2DE8854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FD4-289E-4F6C-828D-0112D94F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085-68EA-4950-BA26-86647615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7F2-2355-45A8-9131-A3A667F9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1375-F1BC-4A31-9BBD-5CD0CA52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CA67-BBFF-42FA-9505-E739CB462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salm 23</a:t>
            </a:r>
            <a:br>
              <a:rPr sz="44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King James Ver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WORDS: Response 1, Psalm 23:1, Grail version; Response 2, John 10:10, adap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124080"/>
            <a:ext cx="9144000" cy="306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hepherd 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indeed shall I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1 © 1963 The Grail, by permission of G.I.A. Publications, In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2 © 1989 The United Methodist Publishing Ho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2096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(Lent, Christ the King, Gener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od Shephe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that we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ve it abundant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3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2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2</a:t>
            </a:r>
            <a:r>
              <a:rPr b="0" i="1" lang="en-US" sz="3000" spc="-1" strike="noStrike">
                <a:solidFill>
                  <a:srgbClr val="333399"/>
                </a:solidFill>
                <a:latin typeface="Times New Roman"/>
              </a:rPr>
              <a:t> (Easter, Funerals, Memorial Servic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561960"/>
            <a:ext cx="86104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1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Lord is my shepher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 shall not w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48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maketh me to li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down in green pastures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he leadeth me besid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e still wat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restoreth my soul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he leadeth me in the path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f righteousness for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name’s sa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74448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ea, though I walk throu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valley of the shad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of dea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 will fear no evil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for thou art with 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y rod and thy staf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they comfort m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82080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preparest a ta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fore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the pres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of mine enemie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ou anointest m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head with oi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my cup runneth ov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4763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99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goodness a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mercy shall follow m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all the days of my lif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and I will dwell in the hous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of the Lord for ever.</a:t>
            </a:r>
            <a:r>
              <a:rPr b="1" lang="en-US" sz="4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9:12Z</dcterms:modified>
  <cp:revision>34</cp:revision>
  <dc:subject/>
  <dc:title>PowerPoint Presentation</dc:title>
</cp:coreProperties>
</file>