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6DAE-DA04-438C-9F49-A290B29F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544E-B08E-4D52-8EAC-3A24E8CA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BFB-7CC5-4DBE-9F60-FE0A9124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F1D-68AD-41F7-8A13-81BD50E1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3B65-1B7E-4DA7-8FAD-4AE60B81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CEA9-FD1D-4B81-98D5-05545893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30D4-153C-413D-BAD8-6B2D2624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F053-BD83-41E4-860F-EB8DE951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6FD8-46D9-4D2A-BCD0-E20C7820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CACB-A1AC-42E9-A283-F4DDF3A3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108D-C251-4F82-A30E-E8C71E63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16B-710B-4589-BE8B-9BA166CB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E4AC-BABB-4C1D-8539-3AE25A10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A7D1-8A4D-4B0B-8FD2-35CC6509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8993-94C7-47F4-951C-BAFF6364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04BA-7DBD-41BE-899B-E0C429CA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2848-5638-42F4-9483-3C994D85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258-90D8-429E-8234-207FE5C3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96A-7784-430B-B803-97878DD3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A83-0F24-4D4F-9AA4-6AE09668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F0F-B68E-41AD-91AB-37199C69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8173-FD0C-4F17-A205-299564E0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FEC-43C2-4120-8434-C562C720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6B3-BBCA-4812-B4E7-E49D8E45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190D-C0DB-44BE-A541-3C5A1B4BD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A666-D674-4E68-B185-1824DEAC1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Is Well with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80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Horatio G. Spafford, 18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5080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peace, like a r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eth my wa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orrow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sea billows roll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36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d, Lord, haste the d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my fai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be sigh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ouds b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rolled back as a scroll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5335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rump shall resoun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 shall descen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ven so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860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Is Well with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80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Horatio G. Spafford, 18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794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peace, like a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eth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sea billows 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ver my l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ta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to s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" y="114300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ough Satan should buff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rials should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is blest assurance control,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has regar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lpless est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ath shed his own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74628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y sin, oh, the bli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is glorious thou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in, not in 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 wh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5720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atever my lo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ou hast tau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e to sa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t is well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t is well with my sou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nailed to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bear it no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0492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d, Lord, haste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m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be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oud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lled back as a sc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rump shall res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 shall desc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n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Is Well with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Horatio G. Spafford, 18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peace, like a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eth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sea billows 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ver my l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ta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to s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ough Sat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uld buff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rials should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is bl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surance contro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has regar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lpless est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ath 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own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2860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y sin, oh, the bli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is glorious thou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in, not in 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 wh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nailed to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bear it no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d, Lord, haste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m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be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oud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lled back as a sc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rump shall res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 shall desc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n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760" y="212760"/>
            <a:ext cx="861048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ough Satan should buff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rials should co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is blest assurance control,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has regard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lpless estat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ath shed his own blo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28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685800"/>
            <a:ext cx="861048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My sin, oh, the bli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this glorious thought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y sin, not in par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 whol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6094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nailed to the cros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bear it no mo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my soul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860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12T22:02:08Z</dcterms:modified>
  <cp:revision>122</cp:revision>
  <dc:subject/>
  <dc:title>PowerPoint Presentation</dc:title>
</cp:coreProperties>
</file>