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E86-016B-4CE3-AF68-D9B36950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98D-BF4C-4407-AE24-181AC60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556-3E8F-47E8-B183-C9587838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3A5-4334-4BE4-848D-03883277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8FE-0B19-44A7-AEEB-07EC766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4FB6-F6FF-4686-95C1-3E0EB63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340F-74D1-457C-BCDE-904E3F5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E1E8-3F23-4FC9-91BA-07E8C67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C2D-DDFC-4DA1-9269-F7FFE0A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ADDE-2261-4C48-B427-F57A4F6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5E86-4E8F-4DC5-99D0-3349645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2F0-79DB-42AC-A3A7-0C3D4E1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70C7-4D1F-4233-AEC3-FC81F3F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CA9-4BDD-45F6-8024-7F483785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7CCD-CAF4-44EB-B7E0-4A3CB488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1FA6-8DA5-4A63-BE06-302DD412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FC15-3E2E-4578-93AB-E6695548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91A-3E50-427B-B7A7-C80BA26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57F-13B6-4D5E-9C3B-0D2E7C9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241-C562-43F2-9E90-D56E047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94B-B338-49DF-A5C3-F7089D0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C14-DD34-4A34-A194-27C9FC7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131-2A32-4B33-B80F-EE73573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3F0-01DE-495B-A631-D963A54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871C-9571-4D4F-B1FC-4A7C7DC13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241-6FB8-4EF8-89C6-93937F75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r you on the breath of dawn, make you to shine like the su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891540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440" y="990720"/>
            <a:ext cx="45514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you to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3-21T18:26:24Z</dcterms:modified>
  <cp:revision>64</cp:revision>
  <dc:subject/>
  <dc:title>PowerPoint Presentation</dc:title>
</cp:coreProperties>
</file>