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2BB-F62D-42B4-ABAD-40440E66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DC2-A2D6-48DF-B91F-90FBA66D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6BC-C34E-466C-BA38-C27F2DFF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B9B-25A5-4580-8EBE-CC8B9CDF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F78-4FFB-4EBE-AC51-7632FE67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B04-DDCA-4FD3-88F4-26FE209B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55D-9D58-445D-A650-D2BB3A72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E02-0189-4502-9D0A-79256640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5C2-34B9-442F-9CB6-B6AEEEA3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BCA3-E725-46B8-BAB4-BEE4561C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06C-11A0-4AD1-B3A7-B514EE1C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8D3-E45F-4906-B2DC-543673EB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9C35-D713-4ACF-8ECC-088D06085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Boy-Child of 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71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65360" y="1092240"/>
            <a:ext cx="40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om Colvin, 1969 (Lk. 2: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ne with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s ou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-sent hel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Gladly we prais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ourselve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at shall we call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 of the manger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name is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is name is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ever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iven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ow can he sa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he help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here amon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ift of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uman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s him our br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8:15Z</dcterms:modified>
  <cp:revision>16</cp:revision>
  <dc:subject/>
  <dc:title>PowerPoint Presentation</dc:title>
</cp:coreProperties>
</file>