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6A0-27FB-43D3-840B-F37AE7D4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9C8-3FFE-4F04-A28E-B942CF7A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FA1-551C-4BAE-9499-70922C7F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DE4-5A1D-4081-8F99-53182C7B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2D16-0BE2-4E54-847C-6993D81E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5B8B-B641-4B56-989F-5D7CA8F7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3457-DCBA-4B36-9485-EF4A0D37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7715-AEEF-4BF6-8A51-311B2DFB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9581-D9E9-428B-953D-14CF1ABF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3B4D-9850-4B9B-AB25-53FCA35F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75FC-8A7C-47CF-9B8C-03BFA8C2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56E-88E6-4B90-B6EF-9A9C918E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184B-C82E-4A2D-B7DA-6E07EFA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A9D6-BDA9-489C-8D6B-D2C2DF5F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4E0B-4928-4BB4-833F-C11B6D8C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3148-3DBE-42D7-9487-6B4774C7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D9B9-A916-4F12-81BC-CB8171EA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4D4-D094-401E-BEF3-0C5137F8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307-51E0-4B84-9401-18E5DE57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726-CFD2-4AAC-86DB-4859E058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A0F-C0F8-48CC-A8F9-3C97DA86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875-517B-43CC-BE80-1BD4587D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2CC-2BC7-49C3-84AF-037880D8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F00-4648-4FBF-A01C-6914F0B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6059-3062-48D1-92C8-C539B8443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6952-3194-442D-A224-9217C1BDA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e Very Thought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, the 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of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the br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75240" y="1092240"/>
            <a:ext cx="540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Bernard of Clairvaux, 12th cent.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Edward Caswall, 18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sweeter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ace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pe of every contrite he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joy of all the meek,                       to those who fa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kind thou art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good to those who seek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But what to those who find?      Ah, this nor tongue                        nor pen can show;                                   the love of Jesus, what it i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ne but 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ved ones know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our only joy be th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our prize wilt be;          Jesus, be th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glory 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rough eternit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sweeter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ace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pe of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trite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joy of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mee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who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kind thou 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goo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seek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ut what to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ind? Ah,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tongue nor pe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t is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none but 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loved ones know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our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be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ize wilt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be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glory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rough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e Very Thought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1296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, the ve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of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ness fills the breast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75240" y="762120"/>
            <a:ext cx="540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Bernard of Clairvaux, 12th cent.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Edward Caswall, 18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21T00:05:16Z</dcterms:modified>
  <cp:revision>38</cp:revision>
  <dc:subject/>
  <dc:title>PowerPoint Presentation</dc:title>
</cp:coreProperties>
</file>