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53AE-ECD6-4588-8DEC-4DC8E9F6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74DA-6F88-45D0-9D80-D6CCCFE1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388C-CFB1-43CB-8B40-03B6BAFDF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6A92-0106-41A6-A893-8C0168C6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FF08-EDE4-4BBF-8EA3-452DDB30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AF2C-D1CD-42D2-81D5-D75D0A28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9EEC-8F6A-4AD5-81C0-D687EA65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BC6B-BCF3-494C-BC1A-3CE83116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6314-65A1-4FC4-8A8C-2FD6375F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D0A2-D77A-4B22-B7D5-2B08843B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C70A-9326-4D3A-B443-CFA00E87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95F5-5762-4D85-A0FB-5FA022B0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021F-AC3D-4FE1-B0E2-D887007CF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Charge to Keep I H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harge to Keep I Ha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62 (Lev. 8:3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0574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 charge to keep I h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God to glorif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never-dy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ul to s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it it for the sk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harge to Keep I Ha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o serve the present 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calling to fulfi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may it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powers enga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do my Master’s wi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harge to Keep I Ha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Arm me with jealous c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in thy sight to l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oh, thy serv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prep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strict account to gi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harge to Keep I Ha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Help me to watch and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on thyself r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sured, if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trust bet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hall forever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2:06Z</dcterms:modified>
  <cp:revision>137</cp:revision>
  <dc:subject/>
  <dc:title>PowerPoint Presentation</dc:title>
</cp:coreProperties>
</file>