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A88-4566-4A98-B256-BF941A36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2C2-DE0E-4E97-9FDE-4787892C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71E-BC6C-4E32-A6EA-778858DC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1B2-99EE-459B-BD8D-596D11AB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975-1EB2-4EFD-BC34-FC462FF6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5DF-C36A-43BD-801A-3D145822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59A-AD76-4C6B-BFF5-762068DC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489-FE33-42E2-978E-76A3204E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C4B-2B48-4FCB-BFBF-C90A6FDE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220-3740-4288-AD39-252D2A1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BFA-0A6A-4855-959A-036A59D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78D-2B37-4D9A-A5CB-ADF7115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CDB1-D977-4901-A984-506E25AA9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Father’s Love Bego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763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71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Of the Father’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ve begotte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re the worlds began to b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is Alpha and Omega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the source, the ending 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85800"/>
            <a:ext cx="77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urelius Clemins Prudentius; trans. by John Mason Neale, 1851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Henry W. Baker, 185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76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he things that a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have bee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that futu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ears shall s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more and evermo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52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O ye height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aven, adore him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gel hosts, his praises sing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owers, domini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ow before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xtol our God &amp; King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48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no tongu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earth be silen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y voice 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ncert r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more and evermo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5228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3. Christ, to the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with God the Father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, O Holy Ghost, to thee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ymn and chant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high thanksgiving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unwearied praises be: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nor, glor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domin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eternal victor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vermore and evermore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11T03:36:55Z</dcterms:modified>
  <cp:revision>34</cp:revision>
  <dc:subject/>
  <dc:title>PowerPoint Presentation</dc:title>
</cp:coreProperties>
</file>