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7FDC-007C-4218-9753-0020A78CA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5C06-13AE-4E3A-B9A4-5B3BCC80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FA71-E7C9-432B-BE59-BC39C352B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B5DB-F304-4F6D-A1CB-394896C9B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9897-5F92-4750-8E40-BEC6BC75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5FFE-5BD3-4025-985D-6EECB209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A683-CE75-47B1-AB60-33477A20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AAB1-4FFF-4DBB-BB59-ED861F63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1257-E26A-4921-B2D4-57518D0D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A2EA-A4EE-4BA0-BDC2-A338A62C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9AB5-1D8A-495A-99E7-F01188D0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939A-EE89-49DA-A944-661648FA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C3C5-2E02-462C-80D2-77AF39A65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l Est N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He Is Bor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88360" y="1562040"/>
            <a:ext cx="497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Trad. 19th cent. French carol, trans. an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98108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l est né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 divin Enfan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ouez hautbo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sonnez musette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b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ng we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Savior mi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Jesus,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all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ing as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among u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Bor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all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ant to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heavenly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born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lay the obo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bagpipes merril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Bor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b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ng we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Savior mi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l est né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 divin Enfan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antons tous s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v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nemen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Through long ag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p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phets have foret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com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Bor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long ag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p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the ti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 come at las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87360"/>
            <a:ext cx="9144000" cy="406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born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lay the obo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bagpipes merril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Bor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b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ng we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Savior mi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O how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p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this perfec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of heav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Bor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p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acious gif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umankin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born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lay the obo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bagpipes merril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Bor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50:10Z</dcterms:modified>
  <cp:revision>76</cp:revision>
  <dc:subject/>
  <dc:title>PowerPoint Presentation</dc:title>
</cp:coreProperties>
</file>