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DD7-33F4-4DC3-A7FF-477F0B8D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6AC-4445-4D62-8CC1-B628545A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D1C-8034-40F3-845F-682BE6CF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BC7-0AC4-4919-ACBC-DEA41874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C28B-B502-4B78-AB37-AE01C492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12E2-481F-4929-82F6-236A0AF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64A8-8FD9-4C56-89BE-F2AB311B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10A8-88FA-40D5-A933-42F3A3C0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5CFF-9D76-484B-85B0-F8C2EFD7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40FB-F653-428A-A958-68A787D7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FEAC-F173-40E8-A61E-8A93F65B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B15-0736-4EBC-A5EF-D22FE96F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35F0-336F-4644-870F-D6EFA69A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02A5-F614-4A1A-A245-22659959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7096-68EC-456D-883A-10D8A13F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35E1-B5F1-4923-9439-99A43028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E3D5-A8DF-43D3-8842-F6DEA3DF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737-12EF-4897-953B-BC99510B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AD4-D0AE-4B96-9780-323801D1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CD4-CF78-453B-BE09-F7BE32C8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1E8-00FA-4FCC-9BBC-2F992C1F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95C-0690-400C-9F87-58755070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659-470B-4702-B67A-DCD170B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D2B-A8B8-4C4F-B111-82EFCDE6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381B-F2D8-47DE-BD4F-E14D9A346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797A-BD11-4EF3-9824-5DA65DA0D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Morning Gild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lds the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awaking crie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0920" y="1600200"/>
            <a:ext cx="80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atholisches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ca. 1744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s. 1, 2, 4, trans. by Edward Caswall, 1854; st. 3 by Robert S. Bridges, 1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ke at work and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I repai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66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night becomes a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rom the hear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s of darkness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t they hea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43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all the earth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 joyous with the sou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’s eternal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li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 is thi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ut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if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anticle divi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is th’eterna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ges lo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ke at work and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I repai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night becomes a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rom the hear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t they hea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all the earth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 joyous with the sou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bl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li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 is thi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ut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if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anticle divi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ges lo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64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Morning Gild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hen morn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lds the ski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heart awaking cries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Jesus Christ be praise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u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0920" y="746280"/>
            <a:ext cx="80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Katholisches Gesangbuch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ca. 1744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s. 1, 2, 4, trans. by Edward Caswall, 1854; st. 3 by Robert S. Bridges, 1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8-25T06:58:07Z</dcterms:modified>
  <cp:revision>35</cp:revision>
  <dc:subject/>
  <dc:title>PowerPoint Presentation</dc:title>
</cp:coreProperties>
</file>