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B42-328B-4863-B99B-8AA7C86A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A77-309B-495E-A37F-C8E22C87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0AD-B852-4CC0-98E9-01418134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8DE-AA19-49C5-BAD6-D9DE0E62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076F-0FBA-46F8-A180-17D59F02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A508-F2C4-476E-AADF-DA036C52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876A-7772-4BBE-92AC-82665FC6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7407-70FE-493E-9FB2-9B6A2591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7EC4-276C-4A69-9A85-EC252130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2929-1170-4780-8021-9A44AFC1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5EFE-B54B-4767-A8FC-4F274784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E66-269C-488B-AF1C-90F987D9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2549-13DB-4CC8-8390-D73E4453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E0BC-2F13-404E-B786-1BF9CFDB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FAC2-E932-4FC7-AFB7-68CD18D3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AD8A-F692-4E8B-B0C4-2EA807D1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1F54-305F-4F70-A511-26C3C7ED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7B1-0452-443B-AE4A-4F2E1F82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6AD-EE35-4818-8C2F-D6021AC8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64B-6388-47F3-ABD0-C9CC02B6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12C-57A3-4838-9B5E-56BA3356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C01-9AE6-4378-996F-0B6096D8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F9A-4EF0-4DC0-9420-05A1180D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CD3-7FA2-45FF-A866-EADF30C0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21A0-80B3-4296-B590-B13A4C982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A54C-AA3D-4F2C-964D-44F08215A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Faith Look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p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ay Palmer, 18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faith loo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Lamb of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hear me while I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all my guilt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 from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wholly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ay thy rich grace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zeal insp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died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my love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, warm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les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living f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ile life’s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ze I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ound me sp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ou my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id darkness turn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pe sorrow’s te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let me ever st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e a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ends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ansient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death’s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llen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o’er me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Savior, then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ar and distrust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ear me safe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ransomed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hear me while I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all my guilt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 from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wholly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ay thy r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zeal insp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died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my love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, warm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les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living f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ile life’s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ze I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ound me sp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ou my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id darkness turn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pe sorrow’s te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let me ever st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e a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ends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ansient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death’s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llen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o’er me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Savior, then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ar and distrust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ear me safe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ransomed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Faith Looks Up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1440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ay Palmer, 18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32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faith loo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Lamb of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0-21T00:51:52Z</dcterms:modified>
  <cp:revision>152</cp:revision>
  <dc:subject/>
  <dc:title>PowerPoint Presentation</dc:title>
</cp:coreProperties>
</file>