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DA2-797A-45F3-83AC-24CBA589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A6F-0F93-457C-B7D0-DA5BA047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33B-699A-4728-B2F7-57DB92A4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0BC6-CBFB-4212-B5DA-529B69E0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8E38-E74D-4192-927B-B990137D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D940-DF79-4E99-BF67-03CB1FDD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F0E9-CCC5-4A44-8711-A5410629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93C6-8D60-49F4-87FF-D36F8B14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5FA9-3C93-4CEC-A0EE-8BB226E1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F3F8-1CB8-4E0D-97D7-554B0C02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E105-4B1D-485F-93F8-4E236799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B63E-CF7B-4087-9A77-2FCE5FCC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2A00-B03D-48B2-A899-51FB0CAA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09B0-F8CC-473A-B5B7-9483E9EA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471E-DB5E-434D-A622-DD2A3ECF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A65E-D25D-4E13-88A6-6B1F0F6A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56EE-347D-4E96-A18B-6B87BADE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25C-232E-407A-B076-3519A9DC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9199-F1AF-4E90-A960-6326D55B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361-9B2B-4B09-B643-15DBAA6C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B71-EDCD-40E7-8485-38EA081A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C6D2-ACC1-49E9-B231-D75F2CB0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D98-63D5-4C7A-8191-086C8C64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924-0EC9-4FB7-B043-D99F61A5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3F3D-33EF-4A41-A61F-AE67FBAA1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E0C7-BAE5-4219-826C-3987EF264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ass I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193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It only takes a spark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get a fire go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soon all those aroun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an warm up in its glow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948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urt Kaiser, 196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 Communiq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how i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’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you’ve experienced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ant to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’s fresh like sp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ant to pass i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wish for you, my fri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appi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’ve fou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an depend o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matters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you’re b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hout it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untaintop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my world to k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come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pass i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ass I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6002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It only takes a spark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get a fire go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oon all those arou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an warm up in its glow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76212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urt Kaiser, 196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 Communiq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how it is with God’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you’ve experienced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pread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very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ant to pass i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52280"/>
            <a:ext cx="914400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2. What a wondrous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time is spring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when all the trees are budding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the birds begin to sing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the flowers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start their blooming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how it is with God’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you’ve experienced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ant to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’s fresh like sp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ant to pass i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52280"/>
            <a:ext cx="914400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3. I wish for you, my friend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the happiness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that I’ve found;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you can depend on him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it matters not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where you’re boun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08000"/>
            <a:ext cx="914400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I’ll shout it from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the mountaintop;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I want my world to know;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the Lord of love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has come to me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I want to pass it o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49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at’s how it is with God’s lov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nce you’ve experienced it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you spread his lov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everyon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you want to pass it o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. What a wondrou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ime is spr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all the trees are budd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birds begin to s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flower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rt their bloom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’s how it is with God’s lo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nce you’ve experienced it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ou want to s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t’s fresh like spr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ou want to pass it 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175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I wish for you, my frien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happines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at I’ve foun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you can depend on hi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t matters no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ere you’re boun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1276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’ll shout it from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mountaintop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want my world to know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Lord of lo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as come to 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want to pass it 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ass I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00200"/>
            <a:ext cx="9144000" cy="473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t only takes a sp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et a fire go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on all those a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warm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ts glow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 Communiq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144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urt Kaiser, 196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how i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’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you’ve experienced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pread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very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ant to pass i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at a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me is sp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all the trees are bud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irds begin to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low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t their bloom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7-09T00:18:01Z</dcterms:modified>
  <cp:revision>80</cp:revision>
  <dc:subject/>
  <dc:title>PowerPoint Presentation</dc:title>
</cp:coreProperties>
</file>