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1A5-9C96-481C-A471-AC396035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7AF-B96A-446D-AC73-7DE18351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6A1-DDA9-429B-9E2B-A0BA7DC1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80E-E2DA-4F0C-BFD2-4C9B2C5E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02F-F002-4D4C-8CB2-30405905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2C5-2AFE-4C40-875B-5F9D992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0DC-BDD5-4BB2-B215-236A3FF8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9DA-8647-4082-800F-F6525C85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E50-FF0F-4C70-B9AA-1EBE7329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5B4-7B6C-40FF-A41F-562DAE0E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B98-A41B-4E9F-8615-795D223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A08-4544-4DA9-B274-1FFF1608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716B-314C-4145-991E-354FFEC8F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rd of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Down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320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or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down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rai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descending;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69 James Qui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2600" y="1625760"/>
            <a:ext cx="3199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Quinn,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ord that sp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ther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all t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se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dw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ruth lea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Bread fee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to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hop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un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ve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ng to hea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d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fe cre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hat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to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lv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est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outpou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ord that cau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nd eyes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and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ortal blindn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to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f we a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ler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se our tongue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your kin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Wor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ty spo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our sin brok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16Z</dcterms:modified>
  <cp:revision>14</cp:revision>
  <dc:subject/>
  <dc:title>PowerPoint Presentation</dc:title>
</cp:coreProperties>
</file>