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148-2672-4868-8664-E347A1C2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711-5880-4670-A821-C9B90C8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880-5249-470D-AE77-78C5139A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3EC-5ACD-49BD-9556-217E6021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E75-7882-4018-BAD5-92A98943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0C7-33A3-42A2-A8F8-F5A55B1B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A66-DEC1-4F3A-9E06-0E95642E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A21-6E52-446B-81D8-F3C14AF5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D84-103B-4985-A839-F61C8229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44D-D486-47A5-BC0E-8AA9018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A0B-47C5-423A-90B8-46EF3143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ED1-678E-488C-8E9F-2D398FB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2EF9-582C-4994-9E6F-087992D56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i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0600" y="109224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. Plumptre, 1865 (Ps. 20:4; 147:1; Phil. 4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fl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5:43Z</dcterms:modified>
  <cp:revision>23</cp:revision>
  <dc:subject/>
  <dc:title>PowerPoint Presentation</dc:title>
</cp:coreProperties>
</file>