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251-8BE1-45FC-9B93-47967ED8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9AF-1B55-4269-9581-A3C9EDC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AEB-2702-47AE-BBE6-AF7AAF58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F31-45FA-481F-97BA-17244FAB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033C-8C3C-40B3-B28B-5E8B211D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CE6-A11D-4962-A83C-DA1BD73B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B198-2783-4861-87C0-6CD8E6A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CA4B-4BFB-44BD-B207-2F574818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9F11-F73E-4CFE-A12C-C5761CB8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03C7-2EBF-4582-B741-93A7F12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BEE-BAE5-40C1-94D1-1A71871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003-93A8-4120-97C3-99D535D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1A9-138E-4794-9AA2-54EC761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A69A-F6D6-49D0-AC73-87E2318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9CBA-956B-4AE2-9E00-2F8AD4DB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EE34-4B48-43F5-963B-9A5CEE66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A6A7-8EC8-4D50-A56F-D53A9505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04D-284B-4D3C-9844-AA012143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EDE-8332-4FF4-9992-EEC1AB96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5DE-0B7C-441E-B34C-6E72DD39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809-3AE3-4D5A-AACC-EBD724E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00C-411B-4EA3-89BE-425A90A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47B-C313-4238-AA0C-6344590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5F9-281D-4530-BABC-8791928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D3CD-7BB1-4A6F-BE50-088C5F7F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30B-6F53-426B-B906-2D5085464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9520" y="129528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3644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66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and let us sweetly jo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to prai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ymns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we all with one acc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y to our common L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9520" y="7621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nds and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esus, dear expected Gu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art bidden to the feas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yself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rts prepa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, and s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banquet the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nctify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, and bl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eathe thy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hy pe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 thyself within us 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ke our feast a feast of lov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8-10T02:16:46Z</dcterms:modified>
  <cp:revision>42</cp:revision>
  <dc:subject/>
  <dc:title>PowerPoint Presentation</dc:title>
</cp:coreProperties>
</file>