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84F-F24C-458B-8811-17B952D2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2FD-AE7E-4612-8611-E163D5F9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B7A-FDEB-4D18-BDB1-5CA3FB98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B39-4690-4DC6-965C-9B327D3C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BF5-E85C-4141-B51E-5751DF50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75B-C031-4FC5-8AA7-F285FA40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6FD-FA1B-480D-B044-F0374227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C2F-46DA-4728-9279-9AFADE40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942-E6A1-4369-87B9-959C7B3F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996-1C2E-49F3-888A-876CB3A7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37C-CD41-4F4B-968D-4C565499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F70-EDC7-4258-933D-6627FA41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BC7F-164F-49D5-92B9-FD24190E9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Pentecos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enantius Honorius Fortunatus; trans.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English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06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765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4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33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3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right an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ness of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ose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wait your appea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had foret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dde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iftly descend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65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th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ther you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evenf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stical offe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uring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human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finite ri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524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9:06Z</dcterms:modified>
  <cp:revision>83</cp:revision>
  <dc:subject/>
  <dc:title>PowerPoint Presentation</dc:title>
</cp:coreProperties>
</file>