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3D3-CF36-46E6-8CF5-B9B98D0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95C-41A1-442B-AF7E-B399E20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3EC-1A37-4804-AECC-3D55E85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72E-2D93-4330-8C9E-8F872CF2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3C5-97BC-40FB-868C-ABB3C3B1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07B-0BF7-4ECB-A98A-EC21C8A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7C71-017F-4973-A67A-CA99E81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0A3B-5113-4616-8B78-46B19C1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0193-D5E2-4FC4-B9DA-35F8B35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052B-5D5F-4956-B561-A2D7C20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EB7-63A8-47FD-A751-FC64E06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DE7-E9C1-4F1C-B0FF-1435C71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50E7-F31B-4342-96B2-21C4421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72A6-2FDD-437E-9B19-F7E093E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B2CC-720E-422C-95FA-5E5E04A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4FD-40DD-43EB-AE33-A45D63C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1DD-6697-40DF-A6BF-E09AA7B2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222A-1932-495D-BB9A-C4F055D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D913-9E60-40DA-AA67-6110349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6C38-408D-4114-A591-26B5EFF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712E-905C-4280-AA80-63DC26A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04C6-5C2E-4371-A4F8-B53DA2F4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3DD-E7F1-4E31-8795-EC1E113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A90A-C238-4358-BAFF-991DDE06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7A0C-04DD-4F11-953E-BF10168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6445-1E23-44CC-924D-300B9E1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431E-A374-4329-A3A7-B8C6752D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B1C7-A488-4401-84CD-065B8A7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35AB-ABA6-4DFD-B549-5A44A63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CC08-41B2-47BB-B1EB-76C19C55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6FC-1A86-4F18-9671-D3CC40D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47A-57B4-432F-A1B4-DF641ACE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F0D-6BE6-4D51-8C32-0B20938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15F-980F-44D4-AA8F-ECFFD28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46C-1ED4-443A-A704-FB8C78B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49F-AC9E-4EF1-8A72-A8F8B79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D2D0-D9B6-4CC4-8237-107FE218E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FDFB-D0A3-4774-B7CE-82F692DE9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9775-D808-451A-B046-AC6F5BDB9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143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25909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 tie that b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hearts in Christian lo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fellow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kindred m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like to that above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fore our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ou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dent praye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ears, our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ims ar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 and our care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w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utual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en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pathizing t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we asunder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ives us inwar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shall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ined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to meet ag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12063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882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1:04:21Z</dcterms:modified>
  <cp:revision>68</cp:revision>
  <dc:subject/>
  <dc:title>PowerPoint Presentation</dc:title>
</cp:coreProperties>
</file>