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2B1-8810-4601-A0C6-441D5916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BDB-FD7D-48DD-AB85-90DC632A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D35-0040-40CB-8DD6-F5DFA6D5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550-5168-43D5-AA96-8EF60978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1B0-662D-4A24-B8D7-E6D8BEDA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911-599E-4C04-A310-9ED57CD3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1BF-38D6-42ED-B0B8-F8BC4AA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A2F-DB80-4B41-BD93-E66A525F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E04-CF1C-47F1-AB6B-AE8776B3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695-EF27-43D4-A3CF-0C29B84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1DA-7D6C-45F4-B7C7-537250C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99F-3AE5-482A-BAA5-5828FABB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55DE-246D-48B1-AD20-C7A387D5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ose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por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9160" y="1066680"/>
            <a:ext cx="38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for 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orldly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for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sha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w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 and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m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ale of sh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me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fitfu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g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e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0:23Z</dcterms:modified>
  <cp:revision>22</cp:revision>
  <dc:subject/>
  <dc:title>PowerPoint Presentation</dc:title>
</cp:coreProperties>
</file>