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5D3D1-4B87-4128-BB24-D2279E7E1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DD58-F48D-44C9-AA6E-6454DAC34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08ACF-56A3-487C-B46A-C4EE30877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17361-59AC-4913-B317-47C242D2B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213A0-9278-49EF-92AC-5B887DAAE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9C3E-3950-47B9-933D-18370A423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7A7D-2606-4D23-9B86-7B04D38BB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6D69D-2C71-4662-A57F-46B459B07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215CF-052B-4AA6-BD0D-C22C0560A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33265-5174-4562-BBC1-94B045660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7D59E-BF2B-4D2B-BB39-7345DE8B7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9382-A119-48C8-9219-83B0F943E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22C3E-187D-4094-9D6D-F42014B03D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17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salm 23</a:t>
            </a:r>
            <a:br>
              <a:rPr sz="4400"/>
            </a:b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(King James Version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(WORDS: Response 1, Psalm 23:1, Grail version; Response 2, John 10:10, adapt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3124080"/>
            <a:ext cx="9144000" cy="3065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shepherd is the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thing indeed shall I wan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sponse 1 © 1963 The Grail, by permission of G.I.A. Publications, Inc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sponse 2 © 1989 The United Methodist Publishing Hous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salm 23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04920" y="2209680"/>
            <a:ext cx="883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ESPONSE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1</a:t>
            </a:r>
            <a:r>
              <a:rPr b="1" i="1" lang="en-US" sz="3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(Lent, Christ the King, General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13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22096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Good Shephe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es that we m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ve lif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have it abundantl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salm 23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9223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ESPONSE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2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 (Easter, Funerals, Memorial Services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3520" y="561960"/>
            <a:ext cx="8610480" cy="559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i="1" lang="en-US" sz="4800" spc="-1" strike="noStrike">
                <a:solidFill>
                  <a:srgbClr val="333399"/>
                </a:solidFill>
                <a:latin typeface="Times New Roman"/>
              </a:rPr>
              <a:t> </a:t>
            </a:r>
            <a:br>
              <a:rPr sz="4800"/>
            </a:br>
            <a:r>
              <a:rPr b="1" lang="en-US" sz="3600" spc="-1" strike="noStrike" baseline="30000">
                <a:solidFill>
                  <a:srgbClr val="333399"/>
                </a:solidFill>
                <a:latin typeface="Times New Roman"/>
              </a:rPr>
              <a:t>1</a:t>
            </a:r>
            <a:r>
              <a:rPr b="1" i="1" lang="en-US" sz="4800" spc="-1" strike="noStrike">
                <a:solidFill>
                  <a:srgbClr val="333399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Lord is my shepherd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I shall not wan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baseline="30000">
                <a:solidFill>
                  <a:srgbClr val="333399"/>
                </a:solidFill>
                <a:latin typeface="Times New Roman"/>
              </a:rPr>
              <a:t>2</a:t>
            </a: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 </a:t>
            </a:r>
            <a:r>
              <a:rPr b="1" i="1" lang="en-US" sz="4800" spc="-1" strike="noStrike">
                <a:solidFill>
                  <a:srgbClr val="333399"/>
                </a:solidFill>
                <a:latin typeface="Times New Roman"/>
              </a:rPr>
              <a:t>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e maketh me to li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down in green pastures: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he leadeth me besid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the still water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533520" y="1919160"/>
            <a:ext cx="861048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baseline="30000">
                <a:solidFill>
                  <a:srgbClr val="333399"/>
                </a:solidFill>
                <a:latin typeface="Times New Roman"/>
              </a:rPr>
              <a:t>3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e restoreth my soul: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he leadeth me in the path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of righteousness for hi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name’s sak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33520" y="744480"/>
            <a:ext cx="861048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baseline="30000">
                <a:solidFill>
                  <a:srgbClr val="333399"/>
                </a:solidFill>
                <a:latin typeface="Times New Roman"/>
              </a:rPr>
              <a:t>4</a:t>
            </a: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Yea, though I walk through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valley of the shadow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of death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I will fear no evil: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for thou art with me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thy rod and thy staff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they comfort me.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33520" y="820800"/>
            <a:ext cx="8610480" cy="521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baseline="30000">
                <a:solidFill>
                  <a:srgbClr val="333399"/>
                </a:solidFill>
                <a:latin typeface="Times New Roman"/>
              </a:rPr>
              <a:t>5</a:t>
            </a: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ou preparest a tabl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before m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in the presenc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of mine enemies: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thou anointest my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head with oil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my cup runneth over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533520" y="1476360"/>
            <a:ext cx="86104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baseline="30000">
                <a:solidFill>
                  <a:srgbClr val="333399"/>
                </a:solidFill>
                <a:latin typeface="Times New Roman"/>
              </a:rPr>
              <a:t>6</a:t>
            </a: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urely goodness an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mercy shall follow m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all the days of my life: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and I will dwell in the house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of the Lord for ever.</a:t>
            </a:r>
            <a:r>
              <a:rPr b="1" lang="en-US" sz="48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4:59:12Z</dcterms:modified>
  <cp:revision>34</cp:revision>
  <dc:subject/>
  <dc:title>PowerPoint Presentation</dc:title>
</cp:coreProperties>
</file>