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CF78-FE62-4024-A6F0-8742236C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5A38-25E7-40D6-8168-416995E3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751F-AC40-4D70-A9F6-DEECABB7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7BFA-B553-481A-A32B-E5584762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0EE4-CED6-4F9F-9E92-50161B68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8B0D-F395-411D-9201-E443E2E6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3049-6257-4142-B1D3-9E96687D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717B-F63B-4ED9-8735-2DB066F0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3B9F-4925-4F72-9F25-DD4EE78E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D6D8-A6F6-4F26-B657-6620C93F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8AD1-0114-43C1-93C5-453609C4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73C9-DA6C-431E-9586-B66CBDC0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7424-63DA-4A3D-9734-3CE64B61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FB79-537B-4684-8340-FED5F4AD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A043-5ED6-4375-BA93-ED9503E5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EB87-5486-47CB-93CC-5B3852BE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A426-20CA-46CA-8F97-1E95F606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A746-4C8C-4A8F-9B33-A4287079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2CCB-9D0D-485C-8650-68E4DB87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3585-F129-4BE7-AA1B-B699C8FB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7B23-A957-4F5A-A2C3-F8A3FFC8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159A-5F0B-4C31-99B9-E52B2CC2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3435-DA5E-409C-BD5F-4AA0FE11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5ED2-F5D1-4D0B-BC31-63BD2E29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C7E7-FABD-4EE1-B66B-02A8C0694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FC59-64CE-4560-957E-98B0930E7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ith of Our Fath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238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1. Faith of our father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iving still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 spite of dungeo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ire, and sword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73440" y="83808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rederick W. Faber, 18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ith of Our Fath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ing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pite of dunge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re, and sw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73440" y="114300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rederick W. Faber, 18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t high with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e’er we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lorious w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fait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be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till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str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in all nat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rough the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omes from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ll shall t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ruly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371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fait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be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till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th friend and f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our str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each thee, to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love knows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kindly wo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virtuous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2952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fait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be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till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522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ith of Our Fath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52388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Faith of our fathe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ving still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spite of dungeo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e, and sword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73440" y="83808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rederick W. Faber, 18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15884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O how our heart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beat high with joy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hene’er we hear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at glorious word!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t high with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e’er we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lorious w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522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fait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be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till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str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win all nat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rough the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omes from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ll shall t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ruly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304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fait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be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till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8222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th friend and f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our str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8985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each thee, to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love knows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kindly wo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virtuous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304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of our fa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fait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be tr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till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630360"/>
            <a:ext cx="9144000" cy="48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aith of our father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oly faith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e will be tru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thee till death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31112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2. Faith of our fathers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e will striv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o win all nations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unto thee;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15884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and through the truth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at comes from God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e all shall then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be truly free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630360"/>
            <a:ext cx="9144000" cy="48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aith of our father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oly faith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e will be tru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thee till death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1905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Faith of our father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e will lov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oth friend and fo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 all our strif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8985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preach thee, too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s love knows how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kindly word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virtuous lif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477720"/>
            <a:ext cx="9144000" cy="48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aith of our father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oly faith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e will be tru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thee till death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8-13T23:43:47Z</dcterms:modified>
  <cp:revision>55</cp:revision>
  <dc:subject/>
  <dc:title>PowerPoint Presentation</dc:title>
</cp:coreProperties>
</file>