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659-1C62-4EA6-98B0-E6401C49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2DB6-2155-49F9-A15B-7B1A45CF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894-74B7-4948-B473-21C3DB9A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E06-BBC8-47D8-95DE-B5159C26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759-A75F-4768-8248-DCDA7201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DD9-CB04-4E57-B994-E9CB61BB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968-D643-4355-9F0F-DF938E97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1154-109B-46AA-B93B-7C7C8F24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2F9-0F31-415C-8A12-0812D000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64D-EE91-41B9-8A84-C95BC910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154-5620-4693-B6FF-10C6754C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F76-EB6E-4781-91C0-138D2D63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AEA4-A0C1-4A01-A804-43FF3AE76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e La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La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19th cent. campmeeting song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apt. by Ellen Jane Lorenz,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86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e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ing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 of Calva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0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 that was s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lives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interced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4:49Z</dcterms:modified>
  <cp:revision>56</cp:revision>
  <dc:subject/>
  <dc:title>PowerPoint Presentation</dc:title>
</cp:coreProperties>
</file>