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2680-E052-4690-9E0C-289F3681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0948-1465-4B6F-9805-C7362DFD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76D7-A4A6-4871-BC24-417CE8B8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FF60-AA1B-428B-90AD-F5D3D5D61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01B-7B3C-4D6F-BE33-CD1D2E83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7543-6565-4EAC-A831-562EADE7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1D1A-EB57-4887-BF98-EE9B9F63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E09B-438D-4C5B-B7C5-565724C1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76D5-2497-4927-8FB3-6C8FCF41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4192-5E2E-4753-9091-C78FF498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3049-7C39-49C8-BF70-B68114F1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5606-CDBF-46EE-810C-D399AAEF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32CC-8F47-43B0-B031-C869AA3D7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re He Leads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E. W. Blandy, 1890 (Mk. 8:34; Mt. 8:1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 can hear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an hear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 call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ll go with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the judg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ll go with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m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ll go with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m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He will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 grace and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he will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 grace and glor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 grace and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o wi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e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ll go with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m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an hear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Take thy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l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llow m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ll go with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m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’ll go with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the gard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I’ll go with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the garde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ll go with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the gard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I’ll go with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m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ll go with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m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’ll go with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the judg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ll go with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the judgmen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9:59:48Z</dcterms:modified>
  <cp:revision>95</cp:revision>
  <dc:subject/>
  <dc:title>PowerPoint Presentation</dc:title>
</cp:coreProperties>
</file>