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AC6-AE36-4474-8D87-F9049768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A8B-D7EB-42E1-B4DA-297FBF66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654-B8F8-4E8F-9495-6484455C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217-0F8C-47C6-BB16-F3A51792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4E44-BCBC-43C7-AC61-4D6969A3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28E0-A65D-4C22-8F43-5D80196A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AC4B-3609-4608-962C-98F55C60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E5DA-2B41-4EFF-9A51-1E179B0C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8BE-B392-4DDF-9AE7-6554661B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C136-BD70-4D62-B675-5B651252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17B1-B3B7-4266-8280-5BB6DAA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6DE-456F-41E7-A859-62A315C2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2238-E426-4B97-AB51-AFB23B5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5CD6-0046-48BB-A065-9CD9E625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49BD-D8FC-493D-97E2-BE8BFCA4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5B99-B586-4709-8C50-9D6E6877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A0A1-DFC9-405E-B2A3-A05C5CF8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F62-5476-46BD-89D0-F5EA794A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9E3-DAF6-40AF-96F6-DF8A69F8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AAD-8CF3-41CB-BDF8-ECA8F723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39B-B819-427B-975D-DB14073C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36A-8926-4582-A8D1-5727BE1A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4E6-6673-48B0-A594-CB2E3B5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9B5-70E0-437C-B17E-1C60090C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6A9B-9BC0-4D59-A922-440C5FF00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6A5B-507E-40C5-82EA-E3DA93EB7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ppy the Ho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God Is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appy the h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God is the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love fills every breast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07920" y="1600200"/>
            <a:ext cx="372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enry Ware, Jr., 1846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ne their w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90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weet to every 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ildren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his f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ents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593640"/>
            <a:ext cx="88394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rayer is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t to 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arent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pri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let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mes ag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ne their w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wee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ildren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his f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ents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ppy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rayer is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t to 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arent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pri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let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mes ag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ppy the Ho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God Is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288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Happy the h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God is the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love fills every breas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07920" y="1447920"/>
            <a:ext cx="3727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enry Ware, Jr., 1846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12T01:16:09Z</dcterms:modified>
  <cp:revision>15</cp:revision>
  <dc:subject/>
  <dc:title>PowerPoint Presentation</dc:title>
</cp:coreProperties>
</file>