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FA9-35BF-453F-BBCB-0994FA85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709-6CA1-4788-A6DB-971B164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05E-E43C-4E5D-BF23-4336191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B4D-9B7D-4BBC-8C42-82A5EA7E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A4D-BDA9-48A1-A546-6EAC151D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3AC-B60C-47EF-9C10-170E006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1F2-15E9-4A57-97E8-55E95D9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03D-141A-4BF2-81EB-890A6BB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45C-E37D-4704-BBDC-C7C42CDD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312-841C-4F7C-8EC8-624E62C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D0E-F9E0-4206-A11A-18759AC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04-E9B4-46D6-B290-98F42D7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C1F-EED4-4E9A-AE70-DBF0A5E7E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; 1985 rev.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50:30Z</dcterms:modified>
  <cp:revision>71</cp:revision>
  <dc:subject/>
  <dc:title>PowerPoint Presentation</dc:title>
</cp:coreProperties>
</file>