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B94-2374-4CF7-AD97-2FE0CF41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70B-6709-4747-A8C5-91E2DB2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EFA-E20A-4D6E-A5B2-1047167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B90-F90F-42AA-9E7E-93693777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D23-E754-4AC8-8400-35673CBF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14C9-78D3-4506-A2CA-1D407BD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A3A8-DB44-4DE6-B3DB-B85F58A7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86F7-1407-47C4-9AB9-302B089B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76C1-B2AE-43A2-A884-D741128E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8B51-9D35-45C4-B96A-C8BD0D6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AD4-F3FD-490F-997B-F596B2E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CC0-9DC5-457C-A2BA-EA9F4A7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E44-0B24-469E-B0B5-0EB3047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992-E599-4A4F-937E-C45F1B4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3E6-FE4A-4969-9585-5E1F350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9D8E-0C4D-4DA3-82B6-05D64226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D9CD-7960-4772-B2FE-C11560A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8BE-7185-482D-AEF4-35143743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3EA-0C09-4C82-853B-E5C0BAF4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D1C-73B7-482D-BF5F-444B6A4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E98-6AC5-494C-B455-3CD2FBCE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C20-FD8D-4F13-A70A-963733A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A4F-AFB2-47CB-96AD-4C959BF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669-74A6-4E0B-A188-70AB4B6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FA1C-CBED-4841-8CFD-9C7C50934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208-1AB9-4844-813D-99F4CC33C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ste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 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n trouble move the fas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rou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716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0574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Easter people, raise your voi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2:04:11Z</dcterms:modified>
  <cp:revision>61</cp:revision>
  <dc:subject/>
  <dc:title>PowerPoint Presentation</dc:title>
</cp:coreProperties>
</file>