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1BF-10CD-40B9-9FB7-7B425003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FA6-2148-407D-9FC7-210A177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BA2-B72F-41D0-A8A1-72A5339C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F17-4814-494E-AFC8-685E55AC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C8C-876F-4DA5-AAB7-2341EEC9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6AB5-E8E7-4E5A-8536-E98099B9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112-8CF8-4B90-BC2E-2A01906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AA06-365E-40DB-A622-BBEA1FEF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6727-CDB1-478B-9C90-27F668C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F29-2DC8-4C0C-B8F9-E19AE13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0BBC-E2D4-4CDB-AF7C-AEA29F7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98E-55A3-4833-974C-0F0A2CF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CEE-CD14-4FDB-A69F-EF04B4C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5ED9-4E7D-4420-AC59-D61BD18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8D3-D40E-4F2D-92C7-88AF489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E99B-FC8F-46B7-B42E-333ABBD1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3933-016C-4B64-A194-49595B89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5FD-DA98-4D4F-A41B-744008D3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77E-9198-4E07-BB7B-CE6EA6A1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57C-0618-42E9-A8DC-2E47D0F3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D16-5450-4A88-ABFC-3A3CFCF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C4A-569F-4A0C-B1E0-24A9AF1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650-44B3-4DE2-9334-E2435C6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044-B758-4BA2-94BD-722472C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4BA-778F-4017-AD1E-FBFA2D6A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D4F-6B8C-426B-9482-0D8EB1EB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191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24T00:35:51Z</dcterms:modified>
  <cp:revision>51</cp:revision>
  <dc:subject/>
  <dc:title>PowerPoint Presentation</dc:title>
</cp:coreProperties>
</file>