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4CB-F873-4A7C-8F12-40BB09CE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2DB-FFA6-440D-9304-66A8894F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4FD-7B32-417D-BC39-A16DD82D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F09-53AF-4C5D-8173-E55028DE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D1B-E9BC-4114-B220-33D98078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8BA-B131-452B-8F34-A11ACF7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8653-8840-4C19-9CC9-88FA6528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EB6F-5C58-4B58-86CE-24BEE63C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6955-5F35-4972-8221-400DE04B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E3DD-D1FF-49E4-ACDA-B9C15E35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AE03-BB6D-4CE1-AF56-618770B6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5AF-CD2A-4552-8767-055D7B9E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A2A2-9A71-41F3-A733-B9B9F24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CDC2-A98C-4734-9D73-90C6B7E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C7B6-041D-45B2-972C-92EFE69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947F-6D42-43C5-B0C1-819C9FA8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6A63-2F5D-48D8-ADBE-40FBA23B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97CA-4865-47EE-9281-AE878F26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605A-2464-4CD7-BAAC-426B8395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9BD9-C506-4943-9340-9DEA8BC8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C76D-6410-41C5-AE17-D5F68C49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084F-49E9-475B-A437-6DB83AB0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422-E418-4B58-9098-4735EB91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2EC6-153D-4C38-8D0B-5E625176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7364-5C88-4AC9-8341-0462287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6084-B929-4BC3-AFBC-7B4FA68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8A5D-8941-48E5-BDE4-2D4E47E9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ED06-BAC8-4C5B-BB6B-C8FD87E0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39CC-224B-4137-8A3E-D89A769A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A40B-52A2-4806-A550-C5872473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6A9-9E7E-44BC-B47B-E6E321FB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F48-9822-4EC3-AA09-DC6F97F6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801-0810-4DA5-868C-1F9F932C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42C-4BF6-4C4A-B949-C7C112A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F80-5D18-4F31-8C6D-FC26DF1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A8D-1852-41CB-966A-1DF0019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21E0-668C-47BF-B67A-452D109E5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1593-4AA9-49A6-9574-433C462F5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88AF-777C-4383-A68B-1D8FD7A00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Joy to the worl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ord is come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earth receive her King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every hear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pare him room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417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2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6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808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orns infest the gr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808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517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s the nations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0492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87520" y="1092240"/>
            <a:ext cx="438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8:4-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387440"/>
            <a:ext cx="9144000" cy="417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2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heaven and nature sing,)</a:t>
            </a:r>
            <a:br>
              <a:rPr sz="36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6553080" cy="356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(and heaven and nature sing,)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(and heaven and nature sing,)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heaven, and heaven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nd nature sing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epeat the sounding joy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fest the gr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ar as the curse is found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35576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wonders of his love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33520"/>
            <a:ext cx="67057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Joy to the worl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avior reigns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all their songs employ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le fields and flood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s, hills and pl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89080"/>
            <a:ext cx="66294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repeat the sounding joy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repeat the sounding joy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peat, repea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ounding j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65530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No more let si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sorrows grow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r thor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fest the ground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comes to mak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s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212760"/>
            <a:ext cx="6705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ar as the curse is found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far as the curse is found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r as, far a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urse is fou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920"/>
            <a:ext cx="67057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He rules the worl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th truth and grac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mak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nations prov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is righteousnes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04920"/>
            <a:ext cx="67057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nd wonders of his love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nd wonders of his love,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wonders, wonder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 his l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123840"/>
            <a:ext cx="9144000" cy="6730920"/>
            <a:chOff x="0" y="123840"/>
            <a:chExt cx="9144000" cy="67309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705720" y="123840"/>
              <a:ext cx="23940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4267080"/>
              <a:ext cx="9144000" cy="258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050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520" y="838080"/>
            <a:ext cx="438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8:4-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12T01:41:14Z</dcterms:modified>
  <cp:revision>14</cp:revision>
  <dc:subject/>
  <dc:title>PowerPoint Presentation</dc:title>
</cp:coreProperties>
</file>