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D93-DFE6-4C6C-8A43-6E74A02B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359-6B3F-43A9-BA74-8CD7A9F0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C5E-5876-4F72-81C1-932CB863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219-7F74-44FA-8BF1-60F79E06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D1B-7324-46C5-A278-848CCA61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12F-1D8C-4E21-AD3D-5413C46B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464-42F1-4B6A-ADA7-F42EDEF0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94E-2A41-45E5-AB0B-3BC33DA2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28D-30CD-429E-819C-2407F5AF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1C1-54CE-4C57-8CA8-F934CCAC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737-51C3-4414-8C16-56BEA2E2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B61-5267-44D0-8AEF-32E27D9D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DE9F-2D11-4388-A5BD-BFDA564D5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Jesus, I Have Promi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Jesus, I have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thee to the 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forever nea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Master and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10600" y="1143000"/>
            <a:ext cx="512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E. Bode, ca. 1866 (Lk. 9:5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not fear the b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ou art by my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a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path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ou wilt be my gu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let me feel thee near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is ever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the sights that dazz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mpting sounds I h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es are ever nea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ound me and with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Jesus, draw thou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ield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from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O let me hear thee speak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accents clear and sti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bove the storms of passi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murmurs of self-will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peak to reassur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asten or contro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peak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me list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uardian of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O Jesus, th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ast promis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all who follow the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where thou ar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glor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re shall thy servant b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esus, I have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thee to the 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ive me grace to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Master and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5:57Z</dcterms:modified>
  <cp:revision>18</cp:revision>
  <dc:subject/>
  <dc:title>PowerPoint Presentation</dc:title>
</cp:coreProperties>
</file>