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EF66-4C5F-4631-AB3C-5EC4ADB0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8669-1712-4617-8D0A-9DC69752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392C-4931-4A74-A4A2-EAAB4561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494C-6E1A-4134-87F9-D056FCBD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9D2A-A2CA-474C-8F87-BDC6E10B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17A2-D5E4-4625-AEE7-65C81C6D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CECC-4F17-418A-A1CE-6BF29B17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5DA2-9A9A-4B5D-AE64-448C88F6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DF28-44D4-48B3-99D0-E7DF3007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D022-CFD0-430F-972C-06855BA6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A8BF-3BE1-4C1B-85E1-2A6A6D61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F2C9-5329-4D7C-926E-DD8712DA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8751-308F-4136-8E6B-4996EA3C4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Refuge amid Distr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8288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an ant on a stic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both ends of whi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are burn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 go to and fro withou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knowing what to do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and in great despai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fuge amid Dis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1600" y="1066680"/>
            <a:ext cx="156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Trad. Ind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ke the inescapable shad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that follows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the dead weight of s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haunts m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ciously look upon m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y love is my refuge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3:47Z</dcterms:modified>
  <cp:revision>7</cp:revision>
  <dc:subject/>
  <dc:title>PowerPoint Presentation</dc:title>
</cp:coreProperties>
</file>