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9939-BF0C-4376-AF16-78BF9CEE4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6EAB-C45C-4A7C-AF50-5E01C04A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5436-9E7C-45EA-BF00-226BE2041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07AD-9A13-4CB9-8285-9A14EE101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46D0-93F5-43B7-A2F1-FA6EDD18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8E68-9D59-466F-B71C-EFA05ACD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CD40-070E-465B-B1B0-E89810BD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AEA4-AF74-4568-BF3E-1DCB63C6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CD02-0489-4D2E-ABCC-94EF06F2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7710-8EEF-41B3-8751-97DC45C3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3DD6-B36F-45E4-A7DE-79694B72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9DA3-6487-47C3-8F22-D7702142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2E7C-2706-444F-B7AD-1239EDB75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od Fri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8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60020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mighty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aciously behold this your famil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whom our Lord Jes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hrist was will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be betrayed in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hands of sinner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Fri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37000" y="914400"/>
            <a:ext cx="39448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After </a:t>
            </a:r>
            <a:r>
              <a:rPr b="0" i="1" lang="en-US" sz="2100" spc="-1" strike="noStrike">
                <a:solidFill>
                  <a:srgbClr val="333399"/>
                </a:solidFill>
                <a:latin typeface="Times New Roman"/>
              </a:rPr>
              <a:t>The Book of Common Pray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o suffer dea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upon the cross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o now lives and reig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th you and the Holy Spiri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e God, for ever and ev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student</cp:lastModifiedBy>
  <dcterms:modified xsi:type="dcterms:W3CDTF">2001-11-01T16:16:02Z</dcterms:modified>
  <cp:revision>17</cp:revision>
  <dc:subject/>
  <dc:title>PowerPoint Presentation</dc:title>
</cp:coreProperties>
</file>