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1880-C148-4664-AB3D-C8554D985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706-5FBE-4D90-B30A-7EA44DA9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3C5-265E-4F36-9449-E8782F6C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DA9-F7AF-404A-A66C-711B2C1C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463-97E1-4F85-AB8E-A50AE7C9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1ED9-BB0A-4F82-ACDC-A9DAF05C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CC3C-D756-41E0-8410-10D172BC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9033-25C3-424B-B018-FA9849A1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2B43-6101-42F7-8420-37D8D960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C8B7-B599-40FA-AA43-68C328A0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248C-526F-42CE-A00A-1A547DFC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1EC4-9AE2-495C-AD4C-543C8E17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75C-6736-48F5-9A1C-DFEFDAB2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CD3D-8E12-4E4E-92E6-70064F4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7077-D441-4065-B2A7-A8661D9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E2A1-8146-4446-A537-D0666DA6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0E4B-D2BA-4A36-B527-E36C7AD5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3974-34F4-42B5-AF30-2624AF43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D44-21FD-4B63-A1E5-CEE0CBC8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7B9-4619-40A2-A766-18D6021E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D7B-B676-4667-B513-B86EE79E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2E3-74BB-482E-A701-5E32A5FC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F43-DD16-432F-9BC0-6333910B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632-A2F4-4D17-9BE1-9F958ADF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607-44FC-4289-938C-59A4D02C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9462-D9D6-44F6-ACEE-5558F163B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6D5B-770A-4603-8D2D-8A7A749F4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Our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e Wise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47920"/>
            <a:ext cx="914400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6 Joe Wise,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he 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y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-filled yet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wait your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’ve brought oursel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st we cou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9144000" cy="42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table you s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t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can’t forg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he 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us y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-f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wait your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’ve brought oursel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st we cou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73240"/>
            <a:ext cx="9144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ather, we are you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are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Our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e Wise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2120"/>
            <a:ext cx="91440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our bread, we ask you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our hearts, we love you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ke our live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 Father, we are yours, we are you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6 Joe Wise,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69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table you se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as we eat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can’t forg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05T01:16:12Z</dcterms:modified>
  <cp:revision>138</cp:revision>
  <dc:subject/>
  <dc:title>PowerPoint Presentation</dc:title>
</cp:coreProperties>
</file>