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2AC-7AC4-4129-9E70-1A06EDDF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431-F285-493E-B7B9-0C945619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669-2795-43F4-AE17-16CA17F4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2D8-4BE8-48D3-8405-0085907F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3F2-54E7-4D04-BEC8-996FE637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069F-6F24-4B5B-BD1B-D6011A18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B805-09BA-4BE1-B20A-98723537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5B0C-D10A-4CC7-BBBF-409E7B7B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7EC4-F5D1-4E40-88BF-4037C254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387C-35FF-427B-B45D-0379561F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846D-799B-4CF9-84EC-16FC2AB9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5F7-58C3-4145-8F4D-766F85F4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C118-85B1-47C4-9292-13E310FB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F330-1FE7-40FD-A9AB-6AFEDF4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D2BD-3C43-4E92-8CAE-728E7ADB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B7D9-DAF0-42BF-A6AD-537AB3C4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3B05-2B1F-40CE-8A69-0F67DD29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ED8-7D26-4775-80E6-6A55EA71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1EE-FD2E-4EE0-BE7E-7A8FF822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C78-4718-4A22-A169-AA34C345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9A9-F245-492C-856C-9F71209B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E4E-26FB-45FC-AE6F-778ABBA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3C7-5193-4044-BE20-EDC5A688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DD9-8E1A-4A9A-8A1C-94DD8EF9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82B2-1312-45AC-9792-3417B364B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1EB1-4096-4BBE-8980-50D8B213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 Dear Uniting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lest b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dear uniting lo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will not let us part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ur bodies m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ar off remov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till are one in hear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 (1 Cor. 2:2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5. Partakers of the Savior’s gr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same in mind and he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joy, nor grief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time, nor pl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r life, nor death can p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ined in on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appoints w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in Jesu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tsteps tr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o his work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may we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in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thing know be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este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Jesu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all are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im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ch with each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m the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, we l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t point of un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artak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’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me in mind and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joy, nor gr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time, nor pl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life, nor death can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2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t Be the Dear Uniting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843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Blest be the dear uniting lov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will not let us p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bodies may far off remo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still are one in he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144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 (1 Cor. 2:2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Joined in one spirit to our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he appoints we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still in Jesus’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otsteps tr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do his work bel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may we ever walk in h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nothing know bes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desi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estee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Jesus crucified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We all are one who him recei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each with each ag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him the 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Truth, we liv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t point of unit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5-19T21:55:49Z</dcterms:modified>
  <cp:revision>72</cp:revision>
  <dc:subject/>
  <dc:title>PowerPoint Presentation</dc:title>
</cp:coreProperties>
</file>