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015-A828-4D33-BCF8-C9DF79A1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B369-8E59-49F8-B068-F76AA78A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8D5B-5BDE-487D-A2B1-644DEF0D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907-940B-4BFC-8AB5-9819F6FA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1EF-015C-4B4D-A0C9-5316DC46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18DB-1230-45A7-B304-DAC70ED2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A5E-3F23-4260-BB9C-CD40B50E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5C3-1B07-4391-A10C-1DDC33E0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C16-6342-4C39-B441-69476AC0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0B05-FC4D-44A3-BDE9-A7D21239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402-F368-4AAB-A7C2-712E2F99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252-D7E4-4925-84FD-06873A8B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704E-862D-4346-9E01-636045B83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elu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3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lleluia, allelu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, 1978 Manna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65680" y="106668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rry Sinclair, 1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’s my Savi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He’s my Savi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He’s my Savi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He’s my Savi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Savi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Savi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Savi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Savi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will praise Hi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I will praise Hi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I will praise Hi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I will prais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ise Hi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ise Hi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ise Hi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is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6:57Z</dcterms:modified>
  <cp:revision>39</cp:revision>
  <dc:subject/>
  <dc:title>PowerPoint Presentation</dc:title>
</cp:coreProperties>
</file>