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578-8725-45F9-982B-DFEF75D7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782-3854-45C0-BC35-59ACD667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19E-700B-4CE2-9198-87CC1CEA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D1C-84C5-471E-A7FC-DAD30F4A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236-F287-43E1-BC53-07052B8C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182-4600-4829-983F-59BDE98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6AC-1062-4630-A10F-A650BC56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68A-54A7-4CCF-A582-B4CBDC2B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33A-1AF0-499B-A1BA-EF90A2F3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75A-5DA9-4843-B0CB-B3DB659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212-6FD6-4554-BFAE-0D43025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CA6-25D8-4000-8BA4-7D8D203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FE25-CD67-4F0E-9BE6-7FDF2BB9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 to the Winds Thy F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ive to the winds thy fe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be undismay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ears thy sig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unts thy t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all lift up thy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5840" y="1219320"/>
            <a:ext cx="698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Paul Gerhardt, 1653; trans. by John Wesley, 1739 (Ps. 37: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wav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and sto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ently clears thy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thou God’s ti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thi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end in joyou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ve to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vereign s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nd to comma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t thou, wond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wn that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strong thi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et us in life, in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teadfas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decl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atest br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5:54Z</dcterms:modified>
  <cp:revision>45</cp:revision>
  <dc:subject/>
  <dc:title>PowerPoint Presentation</dc:title>
</cp:coreProperties>
</file>