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54E-1A69-4847-9709-AC88903B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A76-B40D-4988-A1D8-6AB4DF4D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609-BD1F-4AC8-9AE8-D352E199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B18-5B4C-4D15-AD1E-A89C35D6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A62-672B-4766-BE7A-46017582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452-9130-47D0-BCA8-9D09C491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9FB-14F8-430B-AAC1-BACB098B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AE1-F903-4193-97C8-DFEDEE1B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F94-A384-470D-8D56-E189EABA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CD8-D170-4AD8-BD83-EC82394B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34B-AA97-4532-9A9D-E0F5A141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6DA-D235-4A9D-A433-035995C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BC11-839D-426D-8401-E7489077A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Come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, O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we give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Come of Th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 Chronicles 29:14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7:11:24Z</dcterms:modified>
  <cp:revision>94</cp:revision>
  <dc:subject/>
  <dc:title>PowerPoint Presentation</dc:title>
</cp:coreProperties>
</file>