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FF8-693E-4F9D-869B-EDA7907D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15C-C13C-433F-9408-3234B29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DFF-A964-4D15-8B09-296A60AE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DB6-812D-4AA3-9BDE-8A16572D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397-9687-4DB1-A59A-ECDB027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A7D-2ABA-48C2-8BD3-346EA909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34F-F131-4AF2-95FA-7F5CD62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9B3-D398-4797-A3A4-CB5E184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4BB-3DE4-4D73-8E74-70C2611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2E6-8E1F-4E2E-A200-2C05B57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338-B134-4E72-9C85-95266068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CDE-8CCD-4C0D-80E6-167979C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6AE-C502-4BDE-902C-5DB356D8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Protection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 Jesus, as a hen covers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icks with her wings to kee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safe, do thou this n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tect us under your gold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ng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otection at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000" y="106668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, India (Mt. 23:37; Lk. 13:3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17Z</dcterms:modified>
  <cp:revision>18</cp:revision>
  <dc:subject/>
  <dc:title>PowerPoint Presentation</dc:title>
</cp:coreProperties>
</file>