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8D0F-52E4-419C-944E-7FB46E36C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B021-53AA-470F-9512-D3B2E09B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67D0-5E46-4C5A-AB0C-658B6EF64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4DCC-4DD6-45AA-91CD-BD49F50EF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5A6D-860F-488A-AEBC-91518DAD0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9A34-1A3A-418A-AF7B-53034010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8CE9-1776-4227-A9E1-14CA0333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1357-9CF9-461F-8C9B-3856A937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92C0-032C-48CD-99F1-62763E68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2DAD-1B15-4B99-BB05-60EF2736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EF69-3942-40E5-9DC5-1AF5FAEE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9F1B-5EBA-4E55-9417-C4F7047C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109C-5872-4451-B260-851AFAA5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0CD3-B7A3-469C-B152-8C2BBCA4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6911-F7C4-43EE-AD62-3FADE0A2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B2B4-E8C7-4AEA-B45C-54E6AC7DD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1D58-3FCD-483D-8D84-A26EC17EC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ED95-41AC-4B01-80A0-8BA02E75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4B73-218B-4354-9A70-F23D83F2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2E75-F0B1-4343-B9A5-4B833CE3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CF59-7B2F-4D3A-B6FC-6C8183DF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54EA-1637-4E11-9F8D-1DD95C05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5F6E-3C42-47BC-AB51-3F984AB5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A946-CCC7-4D98-88F1-55DEF53D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49E4-7A07-4C71-8AF0-CA7C84DC0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0387-7FF8-481D-A278-6F3BBDE73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mmortal, Invisible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Only W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mmortal, invisi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nly w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ight inaccessib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d from our eye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ortal, Invisible, God Only W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19720" y="1778040"/>
            <a:ext cx="57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Walter Chalmers Smith, 1867 (1 Tim. 1:1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44136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st bles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st glori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ncient of Da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mighty, victori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reat name we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Unresting, unhas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lent as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wanting, nor was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rulest in m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ortal, Invisible, God Only W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763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just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mounta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 soaring ab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clou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are founta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odness and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o all, life thou giv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oth great and sma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ll life thou liv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ue life of 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ortal, Invisible, God Only W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blossom and flouri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leaves on the t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ther and peri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naught change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ou reignest in glo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dwellest in ligh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angels adore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veiling their s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ortal, Invisible, God Only W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laud we would render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elp us to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tis only the splend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light hidest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st bles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st glori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ncient of Da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mighty, victori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reat name we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Unresting, unhas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lent as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wanting, nor was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rulest in m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ortal, Invisible, God Only W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just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mounta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 soaring ab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clou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are founta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odness and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o all, life thou giv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oth great and sma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ll life thou liv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ue life of 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ortal, Invisible, God Only W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blossom and flouri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leaves on the t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ther and peri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naught change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ou reignest in glo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dwellest in ligh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angels adore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veiling their s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ortal, Invisible, God Only W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laud we would render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elp us to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tis only the splend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light hidest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7632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mmortal, Invisible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Only W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90512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Immortal, invisibl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only wis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light inaccessibl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id from our eyes,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ortal, Invisible, God Only W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19720" y="1371600"/>
            <a:ext cx="57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Walter Chalmers Smith, 1867 (1 Tim. 1:1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4-25T00:17:29Z</dcterms:modified>
  <cp:revision>18</cp:revision>
  <dc:subject/>
  <dc:title>PowerPoint Presentation</dc:title>
</cp:coreProperties>
</file>