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21B-7990-4B43-A2ED-1C96A69D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30E-447B-4348-AC8B-5136FCFF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C69-F70F-4C70-AF6F-3404D90F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064-6C6E-4B51-9052-A9492073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4EAF-C50F-4A0F-979B-AC3E7ED3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0D21-9472-40B8-8883-F11F7D43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E148-E643-4AFE-A9F1-D3334C80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0767-D9C3-430E-96A7-4D9F3BBF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98BE-2085-43D6-9994-4D5A6959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8BB9-CD25-41CF-9CA7-39B84A95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3161-C33E-4D1D-A9BF-BC3ED16F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1A8-27BC-402A-A65F-8FD9604F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BC7C-A49A-40D8-9F0C-DE04752E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FE7B-95ED-4E6F-BB91-0500FBB3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2F5E-4307-4738-A4D8-6255BA4B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F1D7-3E30-45F5-B067-D1DDDDA4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970D-8DF7-4B51-8E88-DDC0500B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E2E-84F2-4677-865C-BA02EE83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BDE-D8A5-4C18-A8AA-FBBB6EE5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192-0CD1-40EB-896C-49719055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184-3697-422C-AB85-7A6164E9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0FF-A203-42D1-8407-DB836A3C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6BC-1029-4609-8970-30022924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902-73C4-4BAA-9377-74D2AFB0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521F-F6CE-4DCF-B21F-88B4F8531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ACB4-9C6A-4117-A402-D392C9317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60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I Surrender A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3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09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. W. Van Deventer, 1896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144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to Jesus I surrender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im I freely giv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ev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trust him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presence daily live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152280"/>
            <a:ext cx="9144000" cy="5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urrender A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. W. Van Deventer, 1896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im I freely g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presence daily liv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mbly at his feet I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ly pleas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forsak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ke me, Jesus, take me now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me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lly t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feel the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ly know 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min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self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me wit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po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y blessing fall on 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27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feel the sacred fla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full salvatio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name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0"/>
            <a:ext cx="9144000" cy="58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0" y="716040"/>
            <a:ext cx="9144000" cy="518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2286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to Jesus I surrend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humbly at his feet I bow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orldly pleasur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forsaken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ake me, Jesus, take me now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152280"/>
            <a:ext cx="9144000" cy="5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3. All to Jesus I surrend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make me,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holly thine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feel the Holy Spiri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ruly know  tha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mine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152280"/>
            <a:ext cx="9144000" cy="5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15228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4. All to Jesus I surrend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I give myself to thee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fill me with th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pow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y blessing fall on me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152280"/>
            <a:ext cx="9144000" cy="5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5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 my blessed Savio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0" y="2286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5. All to Jesus I surrender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feel the sacred flame.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 the jo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full salvation!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glory to his name!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17T14:39:56Z</dcterms:modified>
  <cp:revision>114</cp:revision>
  <dc:subject/>
  <dc:title>PowerPoint Presentation</dc:title>
</cp:coreProperties>
</file>