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9A50-FDBF-44B1-9CAF-3184A394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5C5-7E2B-4FD3-872B-DECEAE23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AC5-1D35-4A43-88D2-E6521091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CE8-D2BF-42BF-BB0E-BA8A6086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0FE-445A-44F0-884D-2E93B7A0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AA3-3F5C-4DB4-9D4F-32216B97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2F2-DC1A-4B26-AECB-33F192C4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3DE-83AD-4059-8EC3-0D6B4613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D7A-757D-40CA-BF98-8B7958D3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7E9-C082-411F-BC8E-B355A6DF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F6A-56EE-48A3-B0D9-DB15DF05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495-994C-47AD-B4EA-0145B80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E909-2F91-4CEC-880F-7A926DCF4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Ye Pure in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Rejoice,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i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00600" y="109224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. Plumptre, 1865 (Ps. 20:4; 147:1; Phil. 4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Praise Go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whom we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God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loriou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r clear hosanna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eluias lou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st answering ech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fl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wreath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cense c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o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long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chanting as y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youth to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night and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ladness and in wo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t la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ch shall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ied ones shall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ilgrim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heaven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rusalem th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rejoic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5:43Z</dcterms:modified>
  <cp:revision>23</cp:revision>
  <dc:subject/>
  <dc:title>PowerPoint Presentation</dc:title>
</cp:coreProperties>
</file>