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7AB-0C42-4119-88E7-F7001828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EAF-27A5-4EF0-9FC4-4BFC93D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B93-C756-483A-ACE1-C7CF5FB2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B50-9C4F-4BD2-BD8C-18E601FC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233-FC32-476C-9E83-C294AA4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E16-8B1D-4665-BA9B-35D0BA8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50B-0C93-4063-AA0B-5BE3AC7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5FF-977C-41DD-BE21-5794449B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F72-F523-4FA2-9197-D73F6906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F42-175E-4BAD-9D8A-ABA5BFE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0E0-4B63-49C1-ABBC-DE5BF58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F35-135B-4EBF-960F-6E74A86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93A4-0387-4D71-A539-8435777B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, Lead 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by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ancisca Asuncion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ar Lord, lea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 steadf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se and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up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ympath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mos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y dea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ear Lord, lea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with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ous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ur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37Z</dcterms:modified>
  <cp:revision>136</cp:revision>
  <dc:subject/>
  <dc:title>PowerPoint Presentation</dc:title>
</cp:coreProperties>
</file>