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4835-0142-469A-8153-922B1A55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F540-FCBE-45E2-B27A-BBA1B9BC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49C-1C4B-4BEA-B9C4-A2D9E813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3066-D110-4A42-8339-959E6873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664F-1CA1-489A-ACD4-D478036F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EFBA-FF0C-4819-9741-C711838E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B210-67D9-491B-BDD9-4CA1CE35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72C9-A277-4826-A36E-45D8D282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8D32-491E-4161-BDD3-C50F5E1F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70D8-E3EE-4F4D-87BA-5C316481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52A4-D8F9-44E2-BA48-7091A2D6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FE5-6B4D-489D-81AD-DF581FCD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3FB0-DB03-4FFE-A841-AEB8E7C8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01B2-D090-4906-8C43-6FF7504F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0E02-B180-4D36-8056-943D5B30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0D61-6F3D-4D3D-810F-6D5864B1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3FFB-233D-44F9-93E5-C005325C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DF0-7980-4212-8F84-A15EE9D6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2A38-29F7-477B-BB6B-CECE86BF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71E5-6DDC-4A63-9D79-837FFDE9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F959-BBC9-467C-BD16-4EC4EE3B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EAE-B75E-4927-B186-B36A4662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6F8C-D4A2-4553-BD7C-F89142EB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938-ED65-4CD2-A947-6E059920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48DF-3FE8-4B57-8008-EAE8E19FC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41B9-D383-4AA2-BC0F-26DA38612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, Make of All Dis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458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“Go, make of all disciples.”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ear the call, O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comes from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Fath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y eternal W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4 Abingdon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eon M. Adkins, 1955, alt. (Mt. 28:19-2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spire our ways of lea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arn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rvent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our daily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al thee ever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“Go, make of all disciples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ptizing in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Father, Son, and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ge to age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all each new disci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ollow the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soul and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water and the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“Go, make of all disciples.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t thy feet would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each life’s voc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ents thy holy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ultivate the n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plants in ever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aling in our wi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aster teacher’s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“Go, make of all disciples.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elcome thy comman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o,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 always.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ake thy guiding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522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task loom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rge before u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follow without fear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heaven and earth thy pow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ll bring God’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ingdom he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spire our ways of lea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arn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rvent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our daily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al thee ever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“Go, make of all disciples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ptizing in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Father, Son, and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ge to age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all each new disci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ollow the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soul and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water and the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“Go, make of all disciples.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t thy feet would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each life’s voc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ents thy holy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ultivate the n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plants in ever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aling in our wi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aster teacher’s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“Go, make of all disciples.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elcome thy comman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Lo,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 always.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ake thy guiding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ask loo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rge befor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 without f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eaven and earth thy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ring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dom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, Make of All Dis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1430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“Go, make of all disciples.”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hear the call, O Lor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comes from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Fath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thy eternal Wor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eon M. Adkins, 1955, alt. (Mt. 28:19-20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4 Abingdon Press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5-16T00:15:40Z</dcterms:modified>
  <cp:revision>78</cp:revision>
  <dc:subject/>
  <dc:title>PowerPoint Presentation</dc:title>
</cp:coreProperties>
</file>