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6AD-0971-4127-B3FB-F9CC2F1A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A29-1BC7-41E6-9E3F-58C35291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BA38-354F-4069-B301-3958257E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10F-A452-47A6-8750-04F42285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329-E3D4-4AC8-9E70-1B8BE8C3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279-327F-413F-A307-262516C0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6B6-24EA-4056-A5B8-8C1BFB4B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6CC-A25A-4CA2-B8AF-86724696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5E7-D974-43D7-9DC8-083CB5C4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B43-4A23-48A6-BEC5-1FCD145C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5FFD-232C-43E0-88FB-C5B0FB13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DC8-E024-464C-9EC9-9735C57C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238A-A360-417B-9B53-0BB747C07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l Us, Emmanuel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r Our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eal us, 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our pray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ait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feel thy touc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92960" y="1573200"/>
            <a:ext cx="51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Cowper, 1779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Mk. 9:14-27; Mt. 9:20-22; Mk. 5:25-34; Lk. 8:43-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end u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pairing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n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healed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-wounded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rep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suc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ur faith is fee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aint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thy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ilt thou p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the les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at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e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member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once appl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remb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relief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believe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ears he cri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O hel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unbelief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he, too, who touc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in the pr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rtue st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answe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Daughter, go in peac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aith h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e whol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Like her, with hop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ars we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ouc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we m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2:50Z</dcterms:modified>
  <cp:revision>22</cp:revision>
  <dc:subject/>
  <dc:title>PowerPoint Presentation</dc:title>
</cp:coreProperties>
</file>