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535D-6CB6-4B7B-AA58-DE273834C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4F49-CE25-4D50-AF89-DF9BCDC66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B322-C660-48BD-A1F1-E9E6EA3AF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96A4-5008-4B60-80BE-0DDFAC1D6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72730-B8F5-4CB4-8A8D-028B2E27B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F4C85-8132-4805-A380-06BF7E2B2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50220-4F5D-4FBF-A7C9-226ACA0C8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B6767-E558-4543-B7EF-3A9256571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B31CC-CE0A-4856-B7D1-AF84C86FB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A0F9B-71C8-49C0-9F78-A9F3B674F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2914D-2F7B-4E6D-9BAE-0A7CC7AD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5065-967C-487E-8298-C2EE23D80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37FC8-4E32-467B-83A3-29F44DD0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C3DEB-20CF-4588-B810-FD1411A4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6AD1E-4B64-444C-B35B-9838381C9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5E657-F15B-40C4-83AD-DCAF52A56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3B388-51E6-4A45-AE05-9E34C623F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C23D-1307-44A8-ADD3-E9D3C295A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7FC0-431F-4303-912F-53923F1C9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CF93-AFC8-4F8C-8811-C05A5C2D3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7947-F132-4CB9-889F-FE8B1A962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CA1C-995F-4748-AF7B-4C69F7AB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E1E4-C46D-414F-ACEF-FDF594856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8092-1987-4CBC-9A24-9B261462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E7C00-1BE4-4D1A-9B17-35D028AC7C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5DEF4-6D6A-4DD9-B702-357D962581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22860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th in Thy Name, O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3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h in Thy Name, O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06668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Charles Wesley, 174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239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Forth in thy n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ord, I g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daily lab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pursu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e, only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solved to k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all I thin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speak or do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800600"/>
            <a:ext cx="9144000" cy="2054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h in Thy Name, O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0780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2. The task thy wisdom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hath assigne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 let me cheerfully fulfill;      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 all my work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y presence fin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prove thy good and perfect wil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800600"/>
            <a:ext cx="9144000" cy="2054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h in Thy Name, O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8088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3. Thee may I set at my right han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whose eyes min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inmost substance see,    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labor o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t thy comman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offer all my works to the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800600"/>
            <a:ext cx="9144000" cy="2054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h in Thy Name, O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95400"/>
            <a:ext cx="9144000" cy="47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4. For thee delightfully emplo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whate’er thy bounteou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grace hath given;           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run my cours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ith even joy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closely walk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ith thee to heave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800600"/>
            <a:ext cx="9144000" cy="2054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e, only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solved to k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all I thin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speak or do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h in Thy Name, O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The task thy wisd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th assign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et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eerfully fulfil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all my work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presence fi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rove thy g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erfect wi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h in Thy Name, O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Thee may I s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t my right h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se eyes m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most substance se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abor 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y comm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ffer all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ks to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h in Thy Name, O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For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lightfully empl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ate’er thy bounte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race hath give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run my cour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even jo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losely wal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e to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22860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th in Thy Name, O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3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h in Thy Name, O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06668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Charles Wesley, 174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58436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Forth in thy n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ord, I g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daily lab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pursu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800600"/>
            <a:ext cx="9144000" cy="2054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8-04-19T20:31:13Z</dcterms:modified>
  <cp:revision>149</cp:revision>
  <dc:subject/>
  <dc:title>PowerPoint Presentation</dc:title>
</cp:coreProperties>
</file>