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9BD9-861E-4AEF-AE12-363B80974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B85C-A9EA-430A-BB38-E66F7217D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E359-AA6A-4287-84DF-D40F22CAB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43D3-0CC6-4001-8EFC-14E1DCEFD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C6B5-8712-483F-9DD0-3A249E064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7A5D-D2C4-47A1-A0EF-82883134B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E5DE-2A36-42D0-B140-ED9B04F1D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63E3-BB78-4137-8000-1CE8BAB00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F0DF-6E38-447F-BE0B-B6341E5DE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90C5-128E-4C1E-AA4A-26B3103C2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248F-CEA1-495C-9958-4497DBC1D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F67A-C62D-4044-8C32-04D33B84C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A5F3E-AB81-4C9D-B7AE-4F31CD4FE8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Every Time I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eel the Spir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0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 time I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el the Spir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ving in my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ill pr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ery Time I Feel the Spiri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71600" y="1676520"/>
            <a:ext cx="6324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African American spiritual (Rom. 8:15-17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s, every time I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el the Spir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ving in my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ill pr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s, every time I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el the Spir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ving in my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ill pr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Upon the mount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Lord spok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t his mou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me fire and smok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ery Time I Feel the Spiri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arou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e looks so sh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k my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f all was m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 time I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el the Spir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ving in my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ill pr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ery Time I Feel the Spiri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s, every time I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el the Spir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ving in my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ill pr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Jordan ri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uns right co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ills the bod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 the so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ery Time I Feel the Spiri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in’t but o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ain on this track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uns to heav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right back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 time I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el the Spir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ving in my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ill pr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ery Time I Feel the Spiri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0:58:51Z</dcterms:modified>
  <cp:revision>23</cp:revision>
  <dc:subject/>
  <dc:title>PowerPoint Presentation</dc:title>
</cp:coreProperties>
</file>