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429-2E4C-4110-9649-24BBF372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375-1268-4FFA-9C24-FD381885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5C4-2264-41B4-9AFC-6BD20622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076-141C-4800-B307-B3B775CC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5B3-0033-49B3-B5A1-062C774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D49-6677-40E9-B349-17666216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9EE-BA45-4A90-9050-F70C9203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7FD-CAB3-4034-8C67-CB5F2DB3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59D-27C4-455A-B11D-E5554583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B4C-96EE-4349-8D65-CC46880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B28-ACAE-4293-9A09-3FFB375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F49-FD4B-49AD-9382-9F7350A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D79-0B5C-4DB2-8862-90139994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u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91540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just as we look into a mirr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see any soiled sp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n our f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2 Harper &amp; Row, Publisher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u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066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re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let us look to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order to underst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ings we have done ami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like a reed sha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wi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e are inexpressibly weak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eave us not to oursel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to dwell in out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guide our though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c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6:12Z</dcterms:modified>
  <cp:revision>11</cp:revision>
  <dc:subject/>
  <dc:title>PowerPoint Presentation</dc:title>
</cp:coreProperties>
</file>