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1C8-2789-467B-B77E-9AF8A667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B5B-32FA-411A-96D2-C4C0A1F9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3E8-ACB0-440E-A692-C7FFEB3A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F87-03F3-45BD-883E-F4B8E642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9BDE-906E-4E35-B809-744E1C14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CA37-02E9-40F0-884F-7AA060D3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4B14-B4F5-4E5F-9191-D70F0EEE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1F75-CDC8-42D7-9F59-513A4320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21CD-58CB-44B2-8348-A39B6D52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E9D5-3AB4-426D-BFD0-6039184F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F81E-9BAC-41E2-B0BB-61527FFE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40A-1B84-4889-8544-29D3D1BC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9569-88C0-4F34-A431-6D1BF91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E669-5605-4F1D-9C62-F47BCE0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C931-5FD1-4E2B-BDF2-503665D2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7AA8-1B55-4135-90C8-99D1CDFE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6940-BECE-46F5-BE9A-1E260744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CDF-47BA-4B09-A7BE-66F5EAC8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E1E-D056-46B5-AFC0-7E828FB4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C29-D7EE-4443-BC89-2FEB1CF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8F8-F34E-4C4A-B2B1-234B1156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F23-9166-4654-BAC9-7D363339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1BC-06ED-46B9-A62D-8E11016C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45F-81AE-48E9-8E63-41AE755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50A5-FFDB-4812-B8D5-465CC9DAC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EAA-3E2C-4F4F-9621-5F53D1368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Is Al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orld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, my joy, my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2080" y="1600200"/>
            <a:ext cx="393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Will L. Thompson, 19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could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friend den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’s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I’m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tches o’e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and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ay and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rust him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trust him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flee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uch a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s no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Is All the World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life, my joy, my all;                    he is my strength from day to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out him I would f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5960" y="838080"/>
            <a:ext cx="393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Will L. Thompson, 19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I am sad, to him I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 other one can cheer me so;    when I am sad, he makes me gl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friend in trials sore;                     I go to him for blessings,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gives them o’er and o’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my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y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ends the sunshine and the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ends the harvest’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lden grain;                           sunshine and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rvest of g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rue to him I’ll be;                     O how could I this friend den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he’s so true to me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llowing him I know I’m r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atches o’er me day and night; following him by day and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ant no better friend;                     I trust him 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trust him wh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fe’s fleeting days shall 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life with such a frie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life that has no end; eternal life, eternal jo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cheer me s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kes me gl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ials s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o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lessings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ives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nd o’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ends the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ends the harve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shine and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vest of g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e to him I’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7-11T00:24:14Z</dcterms:modified>
  <cp:revision>9</cp:revision>
  <dc:subject/>
  <dc:title>PowerPoint Presentation</dc:title>
</cp:coreProperties>
</file>