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980-9479-46BD-AF93-2196659E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E9B-F2AB-47A5-A603-89B06138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78A-A70E-4EAD-A94C-8467E3FB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B03-231D-48D2-83CA-B95854A6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CAF-C4B4-4721-AC71-709D00AB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A5C0-23D8-4DA1-ABAD-1C874C0D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DF1C-FA30-479D-9FCE-7458F6C0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13CB-741B-4B59-B186-E57AE4E6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8D85-D079-4479-A832-7F133A1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831E-A0A8-4E5A-8F46-AB3EA21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28F9-ED7C-4F02-B00A-7789F80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BAA-E412-4307-9F6B-9A9AFD96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ED5E-EFD5-4D4C-8EBE-2EFA402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C2E7-33F8-4C41-87F4-717E32E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5705-5C07-47D3-836F-1AB3D5BC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CA2E-A65D-422C-B1DA-7A2E3B6F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ECB8-7443-4457-A1C9-993ABBA5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CE7-E7F0-4BC8-B164-79989D02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5E7-4D27-4F90-911B-07A5AA44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C66-A74C-4C97-9482-19B6BD93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A38-60EA-403E-91FA-DFA4C26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A63-A85D-4C03-9A63-C5376541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4B6-C063-4E72-8766-6433A84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B8F-CD8F-4D9F-BF80-44CE0B6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D9B3-CF4C-45E8-ABA5-B2E59D96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B0FF-8071-434F-B15B-96AC34386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M. C. Crum, 1928, alt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the green blade ris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buried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that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days has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in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lif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98108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7652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M. C. Crum, 1928, alt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Now the green blade rise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buried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at that in the dark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days has lai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65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9144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33520"/>
            <a:ext cx="84582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Forth he came at East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risen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 who for three d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grave had lain;                  quick from the de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risen Lord is seen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861048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our hearts are win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life again,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9144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67652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8288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752480"/>
            <a:ext cx="84582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th he came at E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risen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ho for thre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ave had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438280"/>
            <a:ext cx="8305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sen Lord is 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600200"/>
            <a:ext cx="861048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14T01:35:40Z</dcterms:modified>
  <cp:revision>68</cp:revision>
  <dc:subject/>
  <dc:title>PowerPoint Presentation</dc:title>
</cp:coreProperties>
</file>