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BB52-79E0-4104-B945-F47E81717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9F37-9217-403D-84D4-1BE0D4A8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D4B3-5D4B-44FB-B863-2CCCAA2BA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5B0B-EE76-462C-8C94-98913E6CE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3271-0502-42F2-B833-328F7A15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7CB4-2BBE-4EE7-A37C-80B1E68B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A139-312D-4630-9C97-56787A20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A852-5E26-4115-B69E-4E7A3877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0BB0-6283-4F31-A5C0-6DF09C6C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6BB2-5DAF-4434-9572-A504EBE7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034C-7BAB-452E-919A-626FE3D2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9265-16E8-40A6-949B-CD2913A6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97A6-E53B-4EFA-B9FF-85CC0ADBD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Hath Spoken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y the Proph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God hath spok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e prophe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oke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changing W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53, renewed 1981 The Hymn Society of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Hath Spoken by the Prophe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7440" y="1676520"/>
            <a:ext cx="456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George W. Briggs, 1952, al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agel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expoun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own mess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as th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ris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ll of nati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sure faith y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nding fas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abides,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unchang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the first,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the l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from ag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ge proclaim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the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righteous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d the world’s despa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urmo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firm anch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deth fast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etern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igns fore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the first,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the l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God hath spok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Christ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,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 S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Hath Spoken by the Prophe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ghtness of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ther’s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Fa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 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oken by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incarna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re time was bor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 of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earth descen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, as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uman for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God yet speake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e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aketh to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s ag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Hath Spoken by the Prophe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48:42Z</dcterms:modified>
  <cp:revision>24</cp:revision>
  <dc:subject/>
  <dc:title>PowerPoint Presentation</dc:title>
</cp:coreProperties>
</file>