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209-5875-4337-B641-45594118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E45-3301-44D6-8389-1C14252D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656-D0F5-49FE-BCB5-ADEE2D88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BB7-F670-4B03-92F3-391E259C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150-6FF3-473B-AB49-F9F96A9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A50-04F9-4D24-A1DA-5EAF7694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CEC-0571-4CBA-A7BF-3524D5AB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4EE-1A44-42F6-A6D8-F21DB69E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630-94D2-4744-A787-87C0BA4D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8BA-00C6-4991-924E-EF7C8175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3405-6108-4A43-A3E6-98C5CEB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1E7-DA43-40B3-94C0-117C5798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B8BC-CD81-43EC-A639-3150C7F2F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Loves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love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asu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ear hi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world t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not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go or let u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ooses ear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ssels for his trea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bear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rrupted or confor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bsessed with trifl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 greed and w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ove outwit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nning gold from str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phe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ing and refor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feed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s us with a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e and broken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aring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what they’ve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respe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opposi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rist need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nd tell his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rvel at his tru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bathed in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ned from the d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alk with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ve in grac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4:26Z</dcterms:modified>
  <cp:revision>93</cp:revision>
  <dc:subject/>
  <dc:title>PowerPoint Presentation</dc:title>
</cp:coreProperties>
</file>