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0A0-E7D1-4BD4-8EAD-30743A98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63EA-849D-4853-B521-279823DE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6BF-E940-4C48-A153-0A424D1B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7B5-14B9-43EB-88ED-76398BBC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4913-5B6F-4444-AA21-7A5F54EF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64F-3F27-4F02-8976-6D4EAFC5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8D5-A0EE-4F12-92A5-A7807F5C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364F-EFEA-4733-BEF9-671C7FEE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320F-09E7-4145-A1CE-8CCF89A2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D958-510D-4FF4-89C3-134DC3D9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57DF-DE4E-404E-9BAB-E339B74C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542C-4CC9-4F30-8A72-654F274A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6941-D2C9-48C1-892B-23A15BBFD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ad Me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righteousn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thy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in before my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Me,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60440" y="1066680"/>
            <a:ext cx="2831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Psalm 5:8; 4: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t is thou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, Lord on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kest me dw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afe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4:38Z</dcterms:modified>
  <cp:revision>12</cp:revision>
  <dc:subject/>
  <dc:title>PowerPoint Presentation</dc:title>
</cp:coreProperties>
</file>