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C78-65DC-4D54-83E0-FFF927DE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B4A-4B04-4098-AB93-E19B7BB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140-5CFC-4C9A-AFD1-01C60109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37D-530C-495B-80BB-6D07034C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880-28FC-47A0-81AD-6140F8C2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24B7-504B-445C-A2CF-2DD6EB6C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9AE-D333-46C7-92EC-E6778693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1C6-4ADB-441D-B619-52169DF9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7654-E627-4691-9444-584F1BB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D68E-C42B-47C7-92D2-0C90B30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E9B7-08B8-4482-BC29-8947943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F8B-602A-4F9C-832C-E30F944F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354D-D7B4-47EA-9670-3B349C6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6E89-19F2-4F7F-8090-E8DA877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D9CA-0737-470E-BF89-8F38E3C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F2B8-E48E-4249-A047-A12E8C7F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AF3-9D39-4646-B50C-DA2ADDE5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67C-E51A-4D9A-BE06-4B39F630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197-8E17-444C-B98B-5A5774D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F09-0F4D-48E0-B3F3-CF9FC76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9CD-C8BF-4D4A-B349-67F6425C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95C-101C-41DC-88FC-B450BA5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837-C21D-4E86-BB7D-5252B9F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DE3-E8D3-424B-86C2-3E3C492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283-48C4-4997-B6F7-35AB66672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442-3859-4942-ACDF-C9BBCFB2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fant holy, infant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bed a cattle st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xen lowing, little kn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040" y="118116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are w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els 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bring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ocks are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s k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gil till the morning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w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of a gospel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us rejoi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s voi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et the morr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Infant holy, infant low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bed a cattle st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xen lowing, little kno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 Lord of 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2040" y="68580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are w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els r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bring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locks are sleep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s keep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vigil till the morning ne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w the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of a gospel tru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us rejoic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ree from sorr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s voic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et the morrow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wa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23T00:43:22Z</dcterms:modified>
  <cp:revision>76</cp:revision>
  <dc:subject/>
  <dc:title>PowerPoint Presentation</dc:title>
</cp:coreProperties>
</file>