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BC6-364F-435C-B81F-C25C5867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379-6399-4D6E-B466-2E47E15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847-6BA1-4465-81DF-E16D9129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749-46B1-4083-92B1-B03071E6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FB7-CC0C-4328-85B4-90F05FB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F51-DF44-465F-9656-8373B22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2A6-CCB5-4BF3-91B1-0CA06A1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676-5ED3-4994-8DFC-E03D65F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E8E-9F1C-4D68-A98B-335CC35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227-9126-4A29-B241-4260D60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703-AE62-49E3-9AD9-80CF57D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5B1-0BC8-4018-8AF8-615764B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ABB-CB40-4B65-A040-C1D7AEFFD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ns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moun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 revealed our Messia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ho by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uld fulfill both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5600" y="1143000"/>
            <a:ext cx="82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. 17:1-1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transfigu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nlighten our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dare t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him in the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uma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shar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lory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28Z</dcterms:modified>
  <cp:revision>13</cp:revision>
  <dc:subject/>
  <dc:title>PowerPoint Presentation</dc:title>
</cp:coreProperties>
</file>