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18A-9D0B-4050-B569-10C20B64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C94-A277-46C8-8DE5-4D26EAA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911-9556-44B6-B5DF-C7E1E6F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58D-3D54-44E3-8803-73D6A07A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E9A-A82B-4C45-AC1C-ECC593FA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9CB9-6C4C-4CAB-AF14-FC3A427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96D-73A7-4470-97C9-F647A79F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652-1BCD-4512-93AD-D3FE19C1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07CB-0256-47CC-AACE-DA2B1760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BBE-5497-4D05-875E-CD8A40D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DADC-8D27-4F64-9787-893EE2A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0E8-6B21-4A23-9249-E02E7D6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202D-21C7-4E6C-AA76-C17FF88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3520-2F7F-4AFA-85D2-068341F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A737-246F-472F-A42E-AD901FD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4B63-2A23-4D74-9B46-D1701BA4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C764-83AF-49BE-A2D8-2BBEDE21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69D-4519-4591-97A4-DD4B077C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630-E140-4A8D-9FC4-D991B19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45E-B83D-4D15-87E6-F34FB0B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ADA-ACEF-43B4-9F55-D0164C1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488-5678-41B7-B257-3B670F6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1C8-07AB-4AD5-B274-F87F0BB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B48-A2F8-4181-A384-040667F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7F6-3880-474D-B86A-EEBC72FE2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3E5-0145-4071-B869-60C483D0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9560" y="109224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rn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as t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rew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reco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127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560" y="9144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est child of fairest m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the Lord who came to earth, Word made flesh, our very br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s our nature by his bi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ing of Jesus, so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home at Nazareth.              Toil and labor cannot we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enduring unto dea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stant was the love he gave 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it drove him from her side, forth to preach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on Calvary he di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oyful mother, full of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ine arms thy Lord was borne. Mournful mother, full of s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y heart with pain was tor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ious mother, now rewa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 crown at Jesus hand,          age to age thy name reco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be blest in every l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ea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er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s our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azar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d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he gave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it d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from her s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to preach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oy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n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was bor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39:25Z</dcterms:modified>
  <cp:revision>27</cp:revision>
  <dc:subject/>
  <dc:title>PowerPoint Presentation</dc:title>
</cp:coreProperties>
</file>