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D087-8CB5-4107-91F9-11A9724D6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3A46-417E-4B62-8931-2A533127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FE2B-BD58-4197-9EA2-B1A35CC47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68F8-16A4-402B-BCC9-64965230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5144-7885-49BF-95FC-08CDA78A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78E0-A4CA-4C51-A1E3-6E0DA722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9FF5-B6A9-443B-88C1-2A7E219C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9593-B61E-40BB-B9C1-8582916A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C9D7-C2AF-419C-9F12-1D04175E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4E52-B14A-4A32-9E81-F7709F1D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92CB-6780-43B9-A8DE-E73E2065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EDC0-B8B7-4C69-B95E-F1A2FB57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9EF9-2018-46A3-9C65-55BA0B21D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a Palabra Del Se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ñor Es Rec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412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ñor es recta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y sus obras son maravillosa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a justicia y el derec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ienen tronos a su diest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y permission of Juan Luis Gar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ía; trans.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5400" y="1828800"/>
            <a:ext cx="71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uan Luis Garc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ía; trans. by George Lockwood, 1987 (Ps. 33:4-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90520"/>
            <a:ext cx="788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Righteous and Just Is the Word of Our Lord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lena est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á toda la tierra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lena está toda la tier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28736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ghteous and jus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d of our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ful and marvel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the Lord’s work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eous and Just is the Word of Our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ice and 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what God lo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sit on thro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God’s right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merc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merc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By the div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from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us we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s creat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eous and Just is the Word of Our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from God’s mo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e great breat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ming the star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mor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gathered u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in wineski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wat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ocean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put the deep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ir chamb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de valle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rive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ghteous and jus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d of our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ful and marvel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the Lord’s work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eous and Just is the Word of Our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lena est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á toda la tierra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lena está toda la tier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ice and 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what God lo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sit on thro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God’s right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merc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merc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ear God, all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peopl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w down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you nation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eous and Just is the Word of Our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sterpiece work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d and wondr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God’s comm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ang to be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ose addic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evil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pla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God frustrat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ly God’s judgme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d’s pla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confirm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claimed forever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ghteous and jus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d of our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ful and marvel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the Lord’s work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eous and Just is the Word of Our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ice and 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what God lo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sit on thro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God’s right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merc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on su divina palab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ueron creados los cielo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l aliento de su boc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 formaron los lucer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merc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l como en odre reco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l inquieto mar las agua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l abismo h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 estanqu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 los ríos las cañad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59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palabra del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 es rect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us obras son maravillosa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justicia y el derec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enen tronos a su diestr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lena est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á toda la tierra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lena está toda la tier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male toda la tierra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óstrense tod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s pueblo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bras tan grand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xcels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su mandato surgier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ustra e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 l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signi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 los que en 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l se embriaga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ólo sus planes y juici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 confirman y proclam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906480"/>
            <a:ext cx="9144000" cy="459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palabra del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 es rect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us obras son maravillosa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justicia y el derec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enen tronos a su diestr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48:21Z</dcterms:modified>
  <cp:revision>23</cp:revision>
  <dc:subject/>
  <dc:title>PowerPoint Presentation</dc:title>
</cp:coreProperties>
</file>