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04E-A43F-4EAA-B49F-69BF66A2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168-2A3C-4F92-8BFA-EA40B563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29D0-3E49-4D6E-9A07-FE42506B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CD16-D30E-48E8-A3C8-CFFE1493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4154-6F3A-4008-9E5A-656D043C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D20F-B2C7-43FA-82B0-5584DDC1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99E-2433-4536-82BB-41955BB1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DB92-46D4-46A3-B9E8-26981CA3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7B66-5BF3-4147-8EB5-55D592B5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8846-2CB5-4C28-809D-90F449BB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487A-37D1-441F-98CC-7B1176C9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7EB5-32B7-41E7-9C4E-B8423070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2681-C7EE-479C-88FD-02D9BF45B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as! and Di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Savior Bl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las! and d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avior bl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id my Sovereign die?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20" y="1600200"/>
            <a:ext cx="726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Isaac Watts, 1707; refrain by Ralph E. Hudson, 188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God, the 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r,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is own creature’s s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ross, at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I first saw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as there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ceived m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all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us might I h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blushing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his d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ss appear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solve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ank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lt m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yes to tea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ross, at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I first saw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as there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ceived m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all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But drops of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ne’er rep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ebt of love I ow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, Lord, I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elf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tis all that I can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ross, at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I first saw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uld he devo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acred h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inners such as I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as there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ceived m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all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ross, at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I first saw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as there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ceived m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all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as it for crim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have 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groane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tr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azing pit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unknow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beyond degr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ross, at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I first saw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as there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ceived m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all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ll might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arkness h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ut its glories 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31:59Z</dcterms:modified>
  <cp:revision>8</cp:revision>
  <dc:subject/>
  <dc:title>PowerPoint Presentation</dc:title>
</cp:coreProperties>
</file>