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66F-1753-400F-B864-27897AE1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F97-4B85-4E80-A10B-A722CD4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133-6D1E-44C9-A733-AEB0726B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ECC-DDEA-4AFE-84C1-8A72E4D9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D20B-2F21-4F73-8F9B-25AFF1BA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5A2-7E10-4CED-B8F5-682BACE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7FA7-A7B7-47E9-B5EA-8CD5038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2795-3670-4C50-BD31-1A218C5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A67-6035-4C24-82B5-9ACE1D83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17C8-195A-44E1-82F5-7210606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40EF-D61F-4048-8577-5D4FDEC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4D3-E3BB-49E7-9218-E064797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2405-EFBC-4DFF-9E8C-C599DD66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38E3-7888-4074-9307-630DF5B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E0EB-4FA9-424F-9D1D-E7025E5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71F-5C6A-4F08-87AF-9DAACF5D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D58F-9114-4AB9-A92B-A1F70BDF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D7B-6E3B-4532-8429-EF9DB8DB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1E0-12FD-44A8-8F60-B41544E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8F2-06F2-4F27-8FDB-63E8D21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5C1-9596-4C90-A6C2-DDF82B2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53E-52A4-4FA7-82E5-70129BA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D17-27EA-4ACB-A7A7-4BB2115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E4B-0CF5-4FFF-BD39-A9F4C996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389E-BDE8-41A1-991C-AFD1A1F69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4112-54A5-4E92-9A53-E054380B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760" y="109224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ca. 1529; trans. by Frederick H. Hedge, 1853 (Ps. 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till our ancient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eek to work us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raf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re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med with cruel h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not his equ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 of Go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choo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 the batt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to triump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606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Did we in our ow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rength conf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ur striving would be los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re not the right ma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n our si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an of God’s own choosi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ittl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ell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si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ost ask wh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may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Jesus, it is h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rd Sabaoth, his n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 the sa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 must win the b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And though this wor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devils fill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uld threaten to undo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ill not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God hath wi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truth to triumph through u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Prince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rkness gr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tremble not for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rage we can end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lo, his doom is s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e little word shall fell him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628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at word ab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earthly pow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 thanks to them, abideth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piri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ifts are ou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ru him who with us sideth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goods and kindred g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mortal life also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body they may k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od’s truth abideth st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kingdom is forev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3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666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 mighty fortr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our God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bulwark never fail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helper he amid the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ortal ills prevai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160" y="685800"/>
            <a:ext cx="77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Luther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ca. 1529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trans. by Frederick H. Hedge,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1853 (Ps. 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3:45:12Z</dcterms:modified>
  <cp:revision>30</cp:revision>
  <dc:subject/>
  <dc:title>PowerPoint Presentation</dc:title>
</cp:coreProperties>
</file>