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D19-AA94-4204-81B3-E2A43D9B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BD2-EF4B-479B-8C0E-27E435A6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009-33BA-4D99-A7E6-471FEA1B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95E-A3E6-4F6A-BDEA-58DFBB1C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557-CFD5-4543-840F-A7E257AF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E87-6D16-4771-B91A-B35DA9C4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A79-9897-4EE6-8852-62402030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843-736C-4102-95B2-DBE602FA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013-44D6-4A08-BCBE-44A71A3C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AAE-8481-4829-9F93-B37D5669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0B5-E2B6-4DD5-8B47-3CF214A0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CDE-7124-4222-B570-29FA5454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7489-7629-486D-830A-BF5EAC7C9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k Ye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50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eek ye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s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added unto you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Maranatha!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8680" y="914400"/>
            <a:ext cx="542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Karen Lafferty, 1972 (Mt. 6:33; 7: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k, and i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be given unto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and ye shall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ck, and the door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pened unto you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577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     -        le            -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ye first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lu              –             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 of G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    –        le         –         lu     –     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 with 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77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            -              le        -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se thing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lu                -         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added unto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-    le       -      lu  - 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9:11Z</dcterms:modified>
  <cp:revision>24</cp:revision>
  <dc:subject/>
  <dc:title>PowerPoint Presentation</dc:title>
</cp:coreProperties>
</file>