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AA6-6C64-4A37-A3BF-06F24A09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933A-908D-45C1-BDE5-12415C61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0BB-94F8-4B86-9B62-FBFE5034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B91-D468-41A2-A5A5-825BAEFA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1F2C-5FE8-44EC-98B3-C449895D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0D68-E844-46D0-965C-8ECFAF27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21DE-7962-4402-978A-E8C4AF85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FCC0-55B7-4030-BA18-9CBAE835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736E-B565-4820-93CC-43E9C172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58EA-082F-414D-9D55-268E7244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D0F8-0367-4F42-BF5A-031A8184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2A7E-5C4A-4644-8D8C-C23E464A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8A06-DFFA-44E2-8F01-D26CF4E1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4501-696D-4BBF-80E8-3F4FBD37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BE4A-F598-44FC-99C1-4E569363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B7B4-ACF6-4634-8C83-BFE44C0F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DE15-5A04-42B0-890D-1D572CE2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A90-E5F8-463E-90CB-59642A25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C22-6D8F-4084-B57D-8F039EA6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6B4-FCE8-499A-A993-D5E2145D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8C8-1BAE-4531-8999-A2E83768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7FE-FC7B-4703-B4DD-66F5B040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D3F-3B7B-4391-8363-75DFEAF5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BDE-39DD-4EFF-AFEB-20AFC990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AA83-92C7-48F2-9958-525F48034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9559-EE3E-4306-BCAD-FF5757915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almighty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s forth in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starry ba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4400" y="106668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C. Roberts, 18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6760" y="2286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hining wor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rateful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y throne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led us in the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free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our lot is c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60948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our ru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ian, guide, and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our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ths our chosen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ar’s ala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dly pestil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y strong a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 sure defen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68580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true relig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hearts incr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ounteous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urish us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resh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ir toilsom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us from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ever-ending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76212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all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grac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,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be ever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4479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of the ag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se almighty h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ds forth in beaut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e starry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4400" y="77616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C. Roberts, 18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6760" y="2286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hining wor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rateful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y throne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led us in the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free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our lot is c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hining wor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rateful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y throne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60948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our ru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ian, guide, and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our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ths our chosen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ar’s ala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dly pestil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y strong a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 sure defen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68580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true relig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hearts incr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ounteous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urish us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resh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ir toilsom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us from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ever-ending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76212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all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grac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,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be ever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led us in the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free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our lot is c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our ru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ian, guide, and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our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ths our chosen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ar’s ala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dly pestil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y strong a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 sure defen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true relig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hearts incr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ounteous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urish us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resh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ir toilsom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us from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ever-ending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all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grac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,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be ever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479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of the ag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se almighty h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ds forth in beaut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e starry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4400" y="77616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C. Roberts, 18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1-10T02:41:47Z</dcterms:modified>
  <cp:revision>41</cp:revision>
  <dc:subject/>
  <dc:title>PowerPoint Presentation</dc:title>
</cp:coreProperties>
</file>