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5BD-AC07-4F7C-B26D-2C2C9184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1A2-1818-4692-BFD2-D812B599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C05-7ED0-4CCB-B90B-515DC4A9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C8C-B513-42B2-822D-6F109010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904-3FD7-4EED-8FCA-33A09B9A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3F2-FE8C-45A5-B111-D6D9AD32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EF86-5BF4-420C-9D77-231CA09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B80A-AE2D-4D3D-B02B-1D1C88F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E109-4281-4347-9AD4-76A8A448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303C-0F08-406D-AF88-B4A7E41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8AB1-7A6C-46EE-81C4-16CCBC90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CCA-B590-452E-8D5B-58882145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2E40-1D07-4F5D-8126-0EE30C19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D422-0BED-45C1-A986-8B1A36E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6A8C-4BE1-4363-918A-EC7AC7D0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31D6-2B5C-4E1B-8B21-E8691350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296A-1005-42DE-B7DF-9732551D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D6D-9A2E-4AA9-A17C-7876FE5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4F7-8B99-442C-AE89-D1489A77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806-1545-43A1-91C6-F3AA0821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35E-116D-4CBE-B466-5B2ED3CD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E9A-A4E3-4AB7-9DFB-46EB406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C6D-53D8-45FF-81BB-A73ADE1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E61-CBF8-4753-8565-7B0749B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C00E-EC40-41EE-90C3-6FB143C39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8BAA-0611-497E-818C-F61B8B14B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k Ye What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Ask ye what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delights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240" y="1371600"/>
            <a:ext cx="63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C. Schwedler, 1741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enjamin H. Kennedy, 1863 (1 Cor. 2:2; 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ward I w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lory i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o def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fiercest fo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nso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addest w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vive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idden smar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 to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 will b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on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oun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s of ligh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is is that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deligh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who triump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gra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at the hig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reward I win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se the nam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I glory in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Who defea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fiercest foes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nsol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y saddest woes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revives m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ainting hear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aling 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its hidden smart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 to me?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o the de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 will be?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will plac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e on his righ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ith the countles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osts of light?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is is that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delights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: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aith in him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im who triumph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’er the grave: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crucifi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k Ye What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sk ye what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g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deligh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rs me so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240" y="1778040"/>
            <a:ext cx="63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C. Schwedler, 1741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Benjamin H. Kennedy, 1863 (1 Cor. 2:2; 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2T01:36:16Z</dcterms:modified>
  <cp:revision>25</cp:revision>
  <dc:subject/>
  <dc:title>PowerPoint Presentation</dc:title>
</cp:coreProperties>
</file>