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48B-7E42-4A8F-B8E6-BC2B2BFB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99A-5431-4DBB-B854-A04D059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A31-2E8B-4E5D-8727-566842D1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1D3-93F8-4EB0-B19F-AFDD99B6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448-4616-451E-8346-83E76C9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9E2-0FF6-4B73-A0A4-68BB2530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4C5-41CE-4620-B2E3-07C6546F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66C-A466-4D33-A044-68E73BF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AC0-41F1-4027-8694-D4EA5B81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8D1-0E4F-4123-831E-997F4046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DE3-A501-40EB-92B9-E7A4331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956-C3F7-49F0-A323-048519B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3B58-007C-4332-8034-047C44EAF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raw Us in the Spirit’s T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raw u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t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en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Percy Dearmer, 1931 (Mt. 18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or th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met toge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dst of the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arment’s 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discip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d to g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to sup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ith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 the cup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now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riendship u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ur me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s of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ing,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ay true disciples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faithfu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30Z</dcterms:modified>
  <cp:revision>133</cp:revision>
  <dc:subject/>
  <dc:title>PowerPoint Presentation</dc:title>
</cp:coreProperties>
</file>