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956-1477-4639-AB39-D8B11F17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487-8C1A-4ABF-8B62-CA25BE8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092-9DDB-4B83-9C6E-C558B875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8C4-ABD8-438C-A7F2-FB44305A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D06-91EA-4898-BFC1-377773E1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45D-761E-45AE-80BE-CE77E707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F24-09A4-4CF3-82E2-2C51AA3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A1D-628F-4441-9B1B-9097B460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78D-0F75-4CAF-BD4D-A5A72CA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1F1-6DEB-4011-A30C-BF3C0C9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0FA-85A6-4AA3-B2E2-48AFE8D4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60A-85CA-4DDC-AB4E-54E1400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E9B-0CE5-4857-BD6D-9BA39D15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for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soldiers of the cros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t high his royal bann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not suffer lo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5600" y="1600200"/>
            <a:ext cx="5568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Duffield, Jr., 1858 (Eph. 6:10-1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victory un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rmy shall he 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vanqu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is Lor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umpet call obey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th to the mighty conflic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is his glorious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unnumbered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ourage rise with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opp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in his strength alo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arm of fles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l fail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dare not trust your ow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on the gospel ar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piece p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ith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uty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ver wanting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an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ife will not b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the noise of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xt the victor’s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quish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own of life shall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ign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59Z</dcterms:modified>
  <cp:revision>12</cp:revision>
  <dc:subject/>
  <dc:title>PowerPoint Presentation</dc:title>
</cp:coreProperties>
</file>