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FE4-A88A-478D-9495-71B3DEC9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670-88DF-48DE-B60D-A419C57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5CD-DF20-4688-8A81-F7C3DEA9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8C1-BBD3-4E05-8596-A02E16A1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A0A-6854-407D-8B9E-E8E32FCA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70A-E21A-4379-81A7-B8F8022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1C7B-991B-465D-A8F2-BFD3BAE7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ECB0-2A3B-4354-BF7C-514E2B2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839B-B846-42E9-9226-F91C643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3E7D-6CEA-4D25-952A-46887A3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EF68-5AEE-4F31-B688-CE134E6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DF3-580E-46C9-B1D9-AA8B8B42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89CC-C3C0-4F3B-AE4D-3660C23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0196-B2C7-4703-BA08-4DC2904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F15A-9EC4-4CBF-A956-652F964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572-C8BD-465F-BE0E-E76BC693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50B0-CA56-49D8-AD65-07993B34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899-C199-4899-B293-2E3C712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196-69C2-4632-B1B0-E597837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C33-8C44-4108-98BF-FC65CB1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1D2-0ECF-4AA7-A1D3-F22C5C9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B5E-42E2-4B9A-A5A1-28DF676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40C-3706-4944-B139-262F84A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715-F0A1-4A3D-ABBD-063D6B4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BA8-23E2-4460-B281-611C710C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D08-0379-42AA-B9FC-9A2D30E50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We’ve a story to tell to the natio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’ve a st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ve a song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lift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o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tha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r and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r and s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eth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send us hi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orrow hath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reat peo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36232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e’ve a story to tell to the nation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19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We’ve a song to be                        sung to the nation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at shall lift their hearts to the Lord,  a song that shall conquer evi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shatter the spear and swor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shatter the spear and swor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the Lord who reigneth above      hath send us his Son to save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ow us that God is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ow us that God is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the path of sorrow hath trod, that all of the world’s great peopl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ight come to the tru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ight come to the truth of G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2. We’ve a song to be                        sung to the nations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hat shall lift their hearts to the Lord,  a song that shall conquer evi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hatter the spear and sword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hatter the spear and swor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Lord who reigneth above      hath send us his Son to sav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us that God is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us that God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o the path of sorrow hath trod, that all of the world’s great people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ight come to the truth of God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ight come to the truth of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05T22:58:53Z</dcterms:modified>
  <cp:revision>76</cp:revision>
  <dc:subject/>
  <dc:title>PowerPoint Presentation</dc:title>
</cp:coreProperties>
</file>