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462-5642-49FB-B82B-7515859B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FCF-8DEA-4B8E-83B8-708CE58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AE7-BD53-4293-90F2-5266F5A6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88A-99F1-4CEC-AD3C-6DF4EF10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888-5833-474B-A1A3-D2B41BF2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694-1630-4528-B800-53CD3D18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C79-1992-4161-90B7-789433B1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CA4-0A5A-4641-821A-B77D06FF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AE2-AF1E-41F4-9655-C6FD827E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050-A6EC-4F0C-8966-265E9B88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5A5-F953-46DE-8FAC-CAFC35C4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96F-7029-41A2-BC78-D6B982C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E69B-7745-4C28-8B91-0745528F3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Our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keep our country und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rotection.  Wipe out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land; lift it up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epth of sorrow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shining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0 by Harper &amp; Br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ur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53760" y="990720"/>
            <a:ext cx="427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oyohiko Kagawa, Japan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ve us from deep grief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sfortune, Lord of all nation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 us with your wis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at the poor may not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ppressed and the rich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be oppresso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this a nation having n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r except God, a n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ing no authority but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Love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9:49Z</dcterms:modified>
  <cp:revision>14</cp:revision>
  <dc:subject/>
  <dc:title>PowerPoint Presentation</dc:title>
</cp:coreProperties>
</file>