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16B-75AD-40AD-B5AA-11F28093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4E1-AFF2-4AFD-96A0-A142213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B3A-95B6-40FA-AE16-E5E8E8D8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CEC-193B-4236-BFA5-551FEA5A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1E87-0B2B-4D38-BC86-967F74D6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6F9E-C70E-459C-9C61-2AAF4F3F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5344-EDE6-48FB-B473-08CC6218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2A7B-6067-4EC1-8E15-A7F7EABC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2121-0DFD-48B4-BDFA-C17B25BC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FDF2-0FE9-475A-AD8B-9512F613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922A-3DCC-4956-B7EB-E14B60DD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B6F-1805-431B-812D-C858ABC3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D0C2-D1F1-4113-8277-E6A47893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F006-2955-4A01-9350-99CA012D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6A47-2FDD-443E-98CC-4161ACE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3423-FF36-4DF8-A361-0E66C6A4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99F7-B760-4B97-A081-EF2C4909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2A4-699A-432B-8D90-93DB7126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EA7-D485-4A39-9CFE-E339954F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7A3-C72B-4AFB-9EAA-D6E84D52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CB9-9CAC-434B-9FDD-33BDAED9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C7D-7A6C-48A1-B85A-A2625659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C7B-58BE-4951-9368-8FCD8ABF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14B-1D38-4EBB-B08B-224A3CF1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BFFB-DC4F-4704-84E6-35103F6E9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FCC4-250E-42B2-85A4-342C84810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rious Things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e Are Spok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Glorious thing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e are spok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Zion, city of our God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2480" y="167652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Newton, 1779 (Ps. 87:3; Is. 33:20-21; Ex. 13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a glor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a cover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howing that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rd is near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us deriv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our bann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ght by n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shade by day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fe we fe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pon the manna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ch God gives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we p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Blest inhabitan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Z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ashed in 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edeemer’s bloo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esus, whom 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uls rely 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ake us monarch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iests to Go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Us, by his grea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ve, he rais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ulers ov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lf to reig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as pries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solemn prais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for thankfu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fering bring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rious Things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e Are Spok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75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lorious th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ar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Zion, city of our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82480" y="167652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Newton, 1779 (Ps. 87:3; Is. 33:20-21; Ex. 13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whos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be br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ed the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wn abo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ges f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an sh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ure repo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9056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, whose w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nnot be brok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med thee f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own abod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alvatio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ls surr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ayst sm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all thy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ee, the st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ving wa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ing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suppl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f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n faint wh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a r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wi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 assuag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which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, the g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a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ound 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bitation hov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re app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cov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ing th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is n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der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by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de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we f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God giv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lest inhabit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ed in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r’s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Ages found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at can shak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y sure repose?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whom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rely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monarch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ests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, by his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he 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ulers o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lf to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s prie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olemn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r thank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ing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907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salvation’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ls surround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mayst smi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t all thy foe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1430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See, the stream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living wat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ringing fro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ternal lo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ll supply 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ons and daughter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all fear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t rem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o can faint whil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uch a riv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 will thei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rst assuag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990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race which lik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Lord, the giv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ver fail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rom age to ag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Round eac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abitation hover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e the clou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fire appear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25T02:08:42Z</dcterms:modified>
  <cp:revision>54</cp:revision>
  <dc:subject/>
  <dc:title>PowerPoint Presentation</dc:title>
</cp:coreProperties>
</file>