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49D6-E639-470B-8F80-922F33015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8E18-AE54-4DEA-A0B7-1D8186FA8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0031-1E04-4123-A68D-FD02AE6A9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9545-EE80-449F-BAA2-3B578D161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2978-DF9C-4661-A19A-1319AFD0B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981B-25F9-4306-A0BB-6995C2DD3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2F31-F0C8-4C45-956D-B555B90E6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0D8C-AB88-4388-8062-F8533B3C0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4095-320D-442E-A209-4781F2E77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75AC-C1E3-4ECC-AA13-9BE1D0CB5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3222-41E5-459C-AF2C-999A2182D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1FB7-E639-44F9-8771-3A65A5F7C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F829-F926-4510-9822-E9173608D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BA3B-91D8-49F7-BA82-71C81E035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9063-C842-436F-94F5-7C21A524B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5269-94FA-4824-B8ED-36BC0CAC8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A658-E1F0-45D5-8CEF-1C44121FA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DF41-CE04-41A6-B1A7-C6D7CF7B4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1CEF-31C9-45C6-98B1-B09DCE763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F0B4-7C19-4838-A0EF-D8DAB91CE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4814-9804-4539-AAF8-76797DA26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C73A-66D3-420A-9C5E-37103BAAE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AF98-3238-4A6D-9412-53CC86018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8605-1742-43C9-A5AD-18F6DC582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8CE0-6575-40F5-8CDF-6586E8645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88FC-0088-458C-BC7D-896BEC280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AEC8-5BB6-4D72-9301-B17B0BFB6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C26B-DBF4-41CB-959B-80E4D457D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DE67-8AF2-49CB-9DC3-D44C38CFF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E2D8-DD56-41F4-96C2-80AE209B3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F24A-5B26-4071-BF01-9CA780EA6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2995-ECE7-450D-A618-8AA3EEADA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5F65-6390-4B1C-BBBD-E319DBA80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8BB4-2B47-417B-9634-9C58AD87D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080A-CA73-43F6-934F-96872ECAD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8D1-6838-4478-8CD3-CDADE380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C48-EFEC-4FF2-844D-07F74FDF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E3F-6D97-486D-B02D-64312F4C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6C5-6A3E-4A66-A5FB-DE113CD0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143D-492F-42DC-A28D-32C5BE19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8388-5E97-4606-BEDA-BF5B6691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4C80-D8DB-44D1-BAF0-BBA39FD6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C955-EABA-48F9-B4C3-917E9357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8F32-EC4A-4BDB-8027-73EABC6D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BF50-02BF-448F-A350-BDAB04BC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D1E0-76D1-48D5-9201-FDFADBFA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BB3-1FF1-4BD7-BD88-22805075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A158-00F7-4256-8CFA-A628BFC5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4698-47C7-47C1-A6FC-E84F6AFA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2A2B-BE7A-4C24-BD71-B68EFAC4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9089-5441-4093-9DFF-52C91B4D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0BC2-3923-4AEC-9A80-FB2665BD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73D-6813-4557-9B32-C060295F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3BD-2FA6-43AE-98A3-BBFD57F8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A51-7BC3-402B-B2B0-156895DF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057-06FC-410A-BF6E-0193B814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A34-1D3B-45C6-817B-965C5825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C01-C2FA-4C7F-9179-9B33ACE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DB6-E73D-4506-B59F-F75AAEA9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D99A-AFA4-4E76-BD83-E5CB18524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581A-0A33-4EF0-B124-185870373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Here I Am, Lor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9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13716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1. I, the Lord of sea and sky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my people cry.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dwell in dark and sin 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my hand will save.</a:t>
            </a:r>
            <a:endParaRPr b="1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68580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Dan Schutte, 1981 (Is. 6:8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, 1983, 1989 Daniel L. Schutte and NAL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3. I, the Lord of wind and flame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end the poor and lame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t a feast for them.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My hand will save.</a:t>
            </a:r>
            <a:endParaRPr b="1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763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inest bread I will provid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ir hearts are satisfie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ive my life to them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24912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7632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o,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re I Am, Lor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1676520"/>
            <a:ext cx="9144000" cy="473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, the Lord of sea and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my people cr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dwel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and si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and will sav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1, 1983, 1989 Daniel L. Schutte and NAL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Dan Schutte, 1981 (Is. 6:8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ho mad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s of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mak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brigh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ll bear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to them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 am,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t I, Lor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ing in the nigh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g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ead 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eople in my hear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, the Lor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now and 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or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eople’s pai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wep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of the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turn awa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br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hearts of st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hem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love alo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speak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to the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76320"/>
            <a:ext cx="91440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I who made the stars of night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make their darkness bright.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Who will bear my light to them?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 am,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t I, Lor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ing in the nigh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g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ead 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eople in my hear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,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ind and 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te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or and 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set a feast for the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and will sav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est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ov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i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satisfie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give my life to the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11430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I am,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t I, Lor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ing in the nigh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g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ead 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eople in my hear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Here I Am, Lor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9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167652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I, the Lord of sea and sky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my people cry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dwell in dark and si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my hand will save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68580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Dan Schutte, 1981 (Is. 6:8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1, 1983, 1989 Daniel L. Schutte and NAL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7160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who made the stars of night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make their darkness bright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ho will bear my light to them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76320"/>
            <a:ext cx="9144000" cy="442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       I will go, L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7621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I, the Lord of snow and 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borne my people’s pain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wept for love of them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y turn away.                                         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7632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685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break their hearts of sto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em hearts for love alon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peak my word to them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76320"/>
            <a:ext cx="9144000" cy="442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       I will go, L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9144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I, the Lord of wind and fla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end the poor and la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t a feast for them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My hand will save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10969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inest bread I will provid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ir hearts are satisfied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ive my life to them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76320"/>
            <a:ext cx="9144000" cy="442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       I will go, L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7632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o,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31680"/>
            <a:ext cx="9144000" cy="59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2. I, the Lord of snow and rain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borne my people’s pain.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wept for love of them.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hey turn away.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4809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break their hearts of ston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em hearts for love alon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4906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peak my word to them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all I send?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17316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am, Lor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it I, Lord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heard you calling in the night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76320"/>
            <a:ext cx="9144000" cy="40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go,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lead me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hold your people in my heart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0-08T13:15:30Z</dcterms:modified>
  <cp:revision>101</cp:revision>
  <dc:subject/>
  <dc:title>PowerPoint Presentation</dc:title>
</cp:coreProperties>
</file>