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A6E-444E-496B-8EFB-E1378ADF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7AD-71F0-4076-9681-AB188EFA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C7E-F6FA-4830-9782-E6AFB766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C90-0D02-4436-B3BA-683B1A8B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20F-87FF-4313-AF1A-77B71BAC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846-C9DD-4821-B9C6-5915DD3F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873-BFBA-423F-AC69-21AC2C9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FA9-BBB0-44BB-ABD6-A6AFD96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222-34BA-40AB-86F7-D4D5BE0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836-9932-454E-A9CD-CFC03808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D14-028B-4497-B0B8-60CC906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FFB-62F4-4379-9958-161BD8D7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509-94C5-48BD-B56E-FFE762713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Is Past a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is past and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nks, O Lord, to the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thee that offen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0760" y="1143000"/>
            <a:ext cx="71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, Greek, prob. 6th cent.; trans. by John Mason Neale, 185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joys of day are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hearts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l on thee that sin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darknes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toils of day are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aise our hymn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k that free from per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e thou our souls’ preser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for thou dos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ny are the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which we have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ou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and s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om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4:49Z</dcterms:modified>
  <cp:revision>20</cp:revision>
  <dc:subject/>
  <dc:title>PowerPoint Presentation</dc:title>
</cp:coreProperties>
</file>