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E1C2C-2B13-4CF2-9594-384E256D7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3EA7-07D5-4BAF-ACA5-5B57C928B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BEC8F-818F-4D3C-AF8D-9AB7604BE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52814-2139-41BB-8BAB-6E3E2926F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9B07-1216-47F7-A5E7-8D03DFBCD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0D164-7802-4404-86BE-872DA8369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A3577-B693-4EB6-BD40-8E0E48DB5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002D-E701-4D52-BB55-DEB2D23F4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100F-9EF0-48A5-BE75-16E39BBBE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25BFF-D487-414D-B5C6-94E9E9EB3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77109-F06B-4080-B83C-DB5664A7C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C6735-3198-4F45-AF98-881A01DA6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65731-70FC-40B5-8E95-174520B7B0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When I Survey the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Wondrous Cro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9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I Survey the Wondrous Cros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600200"/>
            <a:ext cx="908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Isaac Watts, 1707 (Gal. 6:1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5909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When I surve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wondrous cro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 which the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ince of Glory die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richest gai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count but lo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pour contemp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 all my prid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I Survey the Wondrous Cros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Forbid it,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I should boa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ave in the dea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Christ, my Go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the vain thing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charm me mo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sacrifice the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his blo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I Survey the Wondrous Cros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See, from his hea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s hands, his fee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rrow and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low mingled dow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id e’er such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orrow mee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r thorns compos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 rich a crown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I Survey the Wondrous Cros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Were the whole real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nature mi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were an offer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ar too small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ve so amaz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 divi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emands my sou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life, my a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6:54:42Z</dcterms:modified>
  <cp:revision>54</cp:revision>
  <dc:subject/>
  <dc:title>PowerPoint Presentation</dc:title>
</cp:coreProperties>
</file>