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9F1-B00B-493D-B1B6-CC2197CE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22E-37AD-411E-9377-F52144B3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02B-D532-42B1-A90D-511018D4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EA-C7FF-469B-BA8F-D7AF11C0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FBC-AE6B-4AAB-B780-A8225184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30C-02AE-431B-A589-9E0B2CD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52D-FC77-486B-A447-48A0ED5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445-F25A-4952-A19B-6EB02B4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E94-18CB-4C08-B831-ED91F78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489-E8A3-41A5-9255-CC2BC864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C99-C9AD-47E0-A74D-76F8DF8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196-6A36-49C5-A84D-1CC915A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2944-DE03-4B09-8127-E7E5DE783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With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 a Mel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uther B. Bridgers, 19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’s with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a mel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hisp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 and 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east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es of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ting neath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ltering w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look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miling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s why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oon he’s coming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elcom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ry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light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s unkn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,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f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my life was wreck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cord fille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wept a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oken st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rred the slumb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ds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lead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ers d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als fall across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somet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h see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gh and st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footpr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6:42Z</dcterms:modified>
  <cp:revision>124</cp:revision>
  <dc:subject/>
  <dc:title>PowerPoint Presentation</dc:title>
</cp:coreProperties>
</file>