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2331-A83A-494D-80B9-06D25F54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333-EEBA-4FCD-AE86-096B34A6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0F72-1695-4686-90E8-84839F3F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2C07-73DA-4A8C-BC8C-39664040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9C65-B2C9-4EFF-8622-7BC4F655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00E7-5D66-4036-A582-757AE9D4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CF80-5322-4B96-BCA8-5BC634BC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F45D-CEF2-4B12-9CE0-08221CCA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4A32-9CFD-4B68-8F9B-A401D913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207A-05F2-4756-8CD7-FB5BE537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B966-8315-4E94-8456-AF9F091C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0949-2568-429F-9A74-16154B7B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D404-A02C-46C9-A400-AA85C95D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C657-4AEA-410D-B3CA-1588CD8E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94A6-7700-418D-964C-6E44E1D5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FDEF-7116-4B88-B3F7-CF1D6696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F367-68B1-4972-B2E1-8D585A61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A4EC-1300-4CBB-A6DB-DC424C7C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5D71-2150-45CB-A38F-F856A1FA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0D9A-640C-4FCA-9DD9-ACFD4652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26F0-D21D-4429-81A6-0E1EE771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2416-C7BF-4825-85B8-E74FE9D6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6235-6839-4144-9BDE-97517925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DB1C-907D-4D4F-819F-1C95EBE1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4DAE-E6A3-40EB-B0F2-A7958469E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241F-78D3-4E22-B366-A97D651C3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I Want to Be a Christ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43000"/>
            <a:ext cx="9144000" cy="414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1. Lord, I want to be a Christian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Lord, I want to be a Christian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in my heart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9907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257800"/>
            <a:ext cx="9144000" cy="1596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838080"/>
            <a:ext cx="9144000" cy="50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a Christi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838080"/>
            <a:ext cx="9144000" cy="477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more lo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more lo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85800"/>
            <a:ext cx="9144000" cy="50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more lo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838080"/>
            <a:ext cx="9144000" cy="477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more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more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914400"/>
            <a:ext cx="9144000" cy="50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more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762120"/>
            <a:ext cx="9144000" cy="477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like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like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838080"/>
            <a:ext cx="9144000" cy="50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like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049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I Want to Be a Christ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628640"/>
            <a:ext cx="9144000" cy="311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Lord, I want to be a Christia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I want to be a Christia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9907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28600"/>
            <a:ext cx="9144000" cy="50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a Christi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2280"/>
            <a:ext cx="9144000" cy="477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more lo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more lo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8600"/>
            <a:ext cx="9144000" cy="476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be a Christia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52280"/>
            <a:ext cx="9144000" cy="50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more lo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12760"/>
            <a:ext cx="9144000" cy="477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more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more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28600"/>
            <a:ext cx="9144000" cy="50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more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212760"/>
            <a:ext cx="9144000" cy="477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like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like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52280"/>
            <a:ext cx="9144000" cy="50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be like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029200"/>
            <a:ext cx="9144000" cy="18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512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. Lord, I wan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o be more lov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to be more lov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my heart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476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be a Christia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76320"/>
            <a:ext cx="9144000" cy="512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. Lord, I wan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o be more hol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to be more hol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my heart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28600"/>
            <a:ext cx="9144000" cy="476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be a Christia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76320"/>
            <a:ext cx="9144000" cy="512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. Lord, I wan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o be like Jesu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to be like Jesu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my heart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28600"/>
            <a:ext cx="9144000" cy="476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rd, I wan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be a Christia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y heart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I Want to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 a Christ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286000"/>
            <a:ext cx="9144000" cy="38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Lord, I want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a Christia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my heart, in my heart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rd, I want to be a Christia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(in my hear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167652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1-22T13:01:56Z</dcterms:modified>
  <cp:revision>25</cp:revision>
  <dc:subject/>
  <dc:title>PowerPoint Presentation</dc:title>
</cp:coreProperties>
</file>