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F53-1E14-4310-A257-444F8CA8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0EF-38D7-4483-A178-2839201F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45C-2B38-49E2-B52D-17B51078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4F0-7756-4F42-A996-0C77EEED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23D-12A0-4039-8BBE-5BFFD33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0CE-71FF-408C-96D1-26D44DC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C1D-63F7-448E-8708-1DF9046E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8BA-C050-400A-B634-95D3B76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90F-96F7-4588-8E94-2312935E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2FF-59E5-4ABE-8D86-09831872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C05-9A40-4786-99A2-42F17AF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E09-73BF-4FF4-8716-ADA1171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60A1-36BF-4F38-9701-422D7422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Whose Glor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, whos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n of Righteousness, a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0320" y="177804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es of n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pring from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, be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tar,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rk and cheer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accompanied by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less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’s re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y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s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y i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im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 my ey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isit the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ierce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and gr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dianc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tter all my unbelief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self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53Z</dcterms:modified>
  <cp:revision>34</cp:revision>
  <dc:subject/>
  <dc:title>PowerPoint Presentation</dc:title>
</cp:coreProperties>
</file>