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428-45C8-4C0A-9A97-4A768117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1CD-A27D-4335-A58F-81A75A9D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0A4-60C2-46C6-8128-57CD528D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244-413D-472B-9C61-BD9EABF9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6FA-F52C-4C27-9939-5E5D62A8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4ACA-E679-4A0F-A50E-CEDD11F9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08D-8611-4DB4-92B3-CF9470BC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A91-DC09-43BD-88BF-7A3AD555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1FE8-6085-4B8F-A92B-49861995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AF7-8DB9-4F9B-9BBC-2F72005D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8C37-6419-47EE-BA6E-E75B75E3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F13-E9D9-4A50-A532-A74685D0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310A-8E7F-400F-B543-2151F7447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Praise to The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ou, O King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prais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u, O King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dst yield th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of right was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40, 1943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51120" y="1600200"/>
            <a:ext cx="543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. Bland Tucker, 1938 (Phil. 2:5-1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by all ador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our dark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might shin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ou cam’st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lowliness of thou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e the outc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poor were sou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y thy death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salvation wrought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Let this mind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us which was in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wast a serv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 might be f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bling thy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eath on Calvar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erefore, by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purpose, th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t high exal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ll creatures n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n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ich all kn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Let every tong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fess with one ac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eaven and earth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is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7:28Z</dcterms:modified>
  <cp:revision>30</cp:revision>
  <dc:subject/>
  <dc:title>PowerPoint Presentation</dc:title>
</cp:coreProperties>
</file>