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0009-2433-49AF-A6CF-A9A24172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A8BC-EA32-4E33-AA6B-E3AA9ABA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22A3-A230-48CC-AD17-8D8AAD74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96B8-DBF4-459E-A8EC-77565320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AE1A-F24D-44CC-8028-C3D7C6CA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F76F-B99F-4DE6-B80D-5EED80A4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29E2-6150-4EA8-930F-A9174CF8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6241-0C39-43C8-BB18-03295831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31F3-8E33-4E14-962B-F1427755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B296-0022-4DA1-9234-912C466E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56D5-B1D9-4559-A35B-FB95CAC3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2621-FD67-4BA7-A9FA-110D3398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BB17-8DE7-4EDC-B066-38F72B21E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ou Hidden Source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Calm Rep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ou hidden sour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calm repo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ll-suffici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 divi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Source of Calm Repo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14480" y="1676520"/>
            <a:ext cx="34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In want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lentiful supp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wea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almighty p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Source of Calm Rep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bo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perfect liber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light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tan’s darkest hou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grief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oy unspeaka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life in d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heaven in he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help and refu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my fo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cure I am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f thou art m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o! from s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rief and sh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hide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in 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y mighty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lvation 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keeps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ppy soul ab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Source of Calm Rep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fort it br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power and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joy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me with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ar name are gi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ardo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iness and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Jesus, my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all thou 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rest in to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ease in p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Source of Calm Rep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ealing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broken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war my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loss my g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mile ben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tyrant’s fr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shame my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my cr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08:30Z</dcterms:modified>
  <cp:revision>14</cp:revision>
  <dc:subject/>
  <dc:title>PowerPoint Presentation</dc:title>
</cp:coreProperties>
</file>