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E0F-5BE1-4A20-9FBB-F93B9542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904-BD2F-466B-8CC7-45A40BF3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C88-3941-46C6-A075-A347B4AD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51B-93EA-4C7E-B788-F9A9354D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DF6-0EA0-4275-9053-874CBC4B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655-942C-4BEC-8EA3-D39116A3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DCE-DA30-4EF5-B8D6-20E6ED39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061-AEAD-43DC-8516-478D042A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496-F534-41AD-A674-5D537E14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762-940B-47FF-BA08-32C5B58C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E3B-29DA-4058-8BAA-9CE0620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FF6-ED63-4D02-8D1D-08C084D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F738-3F06-4EAA-97E6-61D0A07BD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k Forth, 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auteous Heavenly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4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reak forth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eauteous heavenly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usher in the morn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st. 2, 3 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8520" y="171468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ann Rist, 1641; st. 1 trans. by John Troutbeck, ca. 1885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s. 2, 3 by Fred Pratt Green, 1986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e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 life st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all who see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n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you the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, and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all your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time 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conqu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l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us,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rink not with aff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’s wa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child,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k in infan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joy shall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w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tan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ma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is night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ght of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born the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ighty to destr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i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each 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could he qu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ly st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uch a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reed and hat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ili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cur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’s salv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dearest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v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b behind you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7:07Z</dcterms:modified>
  <cp:revision>68</cp:revision>
  <dc:subject/>
  <dc:title>PowerPoint Presentation</dc:title>
</cp:coreProperties>
</file>