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9E2-3F04-4CBD-A4CE-08170C91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399-7B53-410B-8F86-A9A61741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1E3-C27F-4F83-AD0E-2FB72088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AEE-F5F1-4ED0-B452-DA6CA82D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B89-35FF-45E0-A3B8-618E4C8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9BE-00CF-4700-A48F-DE7B45AC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556-312D-4DCC-9236-A600B33F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49C-58C2-4BC0-A101-741F4DDB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F7B-5E93-4404-8FBA-2C8E44C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6BD-623F-4107-8AA6-63FF9AA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95F-0E72-4743-A04E-FD3D232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FFB-A668-4589-A620-B44DC40F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022-DFDE-4EC6-8348-C976C907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 Has Venido a la Orill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ord, You Have Come to the Lakesh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228600"/>
            <a:ext cx="14479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80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Ediciones Paulinas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 lake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ing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wealthy nor wise on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only ask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with y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7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5:11Z</dcterms:modified>
  <cp:revision>103</cp:revision>
  <dc:subject/>
  <dc:title>PowerPoint Presentation</dc:title>
</cp:coreProperties>
</file>