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936-3561-428E-91BF-502A236C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B2F-853E-4A8E-A638-D87C7AFD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613-D5B8-4AA4-8DCE-5E1FE7DD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54D-C6AD-4D13-B225-F8A8F7EB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B07-85F2-40D2-A8B4-E3C7EA82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1C06-B166-4921-B531-1C5C1EDC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2E12-9140-4174-A4B7-9B68AECF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431-554C-431D-9095-7E0AA1FE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462-0EB3-43CC-B595-BE938010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BD6F-347C-432C-90CB-7B21B44A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3D7A-1EE0-4259-9539-8550C35E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7BB3-1A26-4CDA-824B-3DB0EA10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3642-9CFE-45B9-AD2E-F2CB71E00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d of the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of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rcy br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e of the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rcy sh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d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eginald Heber, 1872 (Jn. 6:35-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hom the 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were sp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whose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ins are dea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 on the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sorrow br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 on the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sinners sh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d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thy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 the t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y th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s are f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1:45Z</dcterms:modified>
  <cp:revision>125</cp:revision>
  <dc:subject/>
  <dc:title>PowerPoint Presentation</dc:title>
</cp:coreProperties>
</file>