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65DE-5514-470D-AA8F-4DA416114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4B4D-3510-4D9F-9CCF-07F27A9F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24E3-0183-4C75-8E9F-E8639BC90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ABFA-9CBB-40AA-A542-D24C9815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1250-020D-4C01-B274-FE10AABF7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4D17-1152-42A7-A5A5-86EE5320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C0D6-99D0-4CDE-B37A-618BD196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4BF8-C22B-4D0B-BD38-5A703A96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A337-A772-44ED-99B4-69882DC0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8E9E-59A6-47EB-BCC4-CB15B0FA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B975-BC98-4E3C-89A9-4A4FE328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0C14-1796-4601-BB40-CDD48E40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EFA3-898C-485A-9544-574795F7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0930-5285-45D2-8E31-7AAE1D52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0757-A864-4A85-BB0D-81AB5624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5DC2-C998-48E2-90CE-236476773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636C-45DF-482E-A05D-3BE26BE1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7333-B151-42B2-8761-A643DF71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8048-4F6E-4363-8317-9BBD104A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4C94-215A-4A2E-ABF0-A5BA4212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E515-F0E2-40DF-8FB4-BA2E97D7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152E-B8F8-4C36-A7B5-E17B3ACD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D3E9-6097-4E21-ADE2-4C8BA94B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0750-9E1C-4408-B47A-F85FF4C8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B08D-1CE4-4DAF-959E-B22B4532F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A1C7-554D-428A-846D-F746B2721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0" t="0" r="0" b="6207"/>
          <a:stretch/>
        </p:blipFill>
        <p:spPr>
          <a:xfrm>
            <a:off x="6781680" y="0"/>
            <a:ext cx="2362320" cy="51814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6320" y="76320"/>
            <a:ext cx="7315200" cy="606888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Times New Roman"/>
              </a:rPr>
              <a:t>1. We three kings</a:t>
            </a:r>
            <a:br>
              <a:rPr sz="5600"/>
            </a:br>
            <a:r>
              <a:rPr b="1" lang="en-US" sz="5600" spc="-1" strike="noStrike">
                <a:solidFill>
                  <a:srgbClr val="ffffff"/>
                </a:solidFill>
                <a:latin typeface="Times New Roman"/>
              </a:rPr>
              <a:t>of Orient are;</a:t>
            </a:r>
            <a:br>
              <a:rPr sz="5600"/>
            </a:br>
            <a:r>
              <a:rPr b="1" lang="en-US" sz="5600" spc="-1" strike="noStrike">
                <a:solidFill>
                  <a:srgbClr val="ffffff"/>
                </a:solidFill>
                <a:latin typeface="Times New Roman"/>
              </a:rPr>
              <a:t>bearing gifts we</a:t>
            </a:r>
            <a:br>
              <a:rPr sz="5600"/>
            </a:br>
            <a:r>
              <a:rPr b="1" lang="en-US" sz="5600" spc="-1" strike="noStrike">
                <a:solidFill>
                  <a:srgbClr val="ffffff"/>
                </a:solidFill>
                <a:latin typeface="Times New Roman"/>
              </a:rPr>
              <a:t>traverse afar, field and fountain,</a:t>
            </a:r>
            <a:br>
              <a:rPr sz="5600"/>
            </a:br>
            <a:r>
              <a:rPr b="1" lang="en-US" sz="5600" spc="-1" strike="noStrike">
                <a:solidFill>
                  <a:srgbClr val="ffffff"/>
                </a:solidFill>
                <a:latin typeface="Times New Roman"/>
              </a:rPr>
              <a:t>moor and mountain,</a:t>
            </a:r>
            <a:br>
              <a:rPr sz="5600"/>
            </a:br>
            <a:r>
              <a:rPr b="1" lang="en-US" sz="5600" spc="-1" strike="noStrike">
                <a:solidFill>
                  <a:srgbClr val="ffffff"/>
                </a:solidFill>
                <a:latin typeface="Times New Roman"/>
              </a:rPr>
              <a:t>following yonder star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0" t="0" r="0" b="6207"/>
          <a:stretch/>
        </p:blipFill>
        <p:spPr>
          <a:xfrm>
            <a:off x="6459480" y="0"/>
            <a:ext cx="2662200" cy="51814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76320"/>
            <a:ext cx="8915400" cy="585468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 star of wonder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tar of ligh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tar with royal beauty brigh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estward leadi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till proceedi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guide us to thy perfect ligh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Three K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5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e three k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rient a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ring gifts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averse af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66320" y="1092240"/>
            <a:ext cx="523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hn H. Hopkins, Jr. 1857 (Mt. 2:1-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05520" y="2239920"/>
            <a:ext cx="61333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eld and foun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or and moun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llowing yonder st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525600"/>
            <a:ext cx="9144000" cy="545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tar of wond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 of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 with royal beauty b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stward lea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procee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de us to thy perfect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Born a 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Bethlehem’s pl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ld I b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rown him ag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877040" y="2239920"/>
            <a:ext cx="53899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easing n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ver us all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525600"/>
            <a:ext cx="9144000" cy="545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tar of wond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 of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 with royal beauty b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stward lea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procee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de us to thy perfect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Frankincen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offer have I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cense ow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Deity nig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26080" y="2239920"/>
            <a:ext cx="689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er and prai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oices rai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shiping God on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525600"/>
            <a:ext cx="9144000" cy="545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tar of wond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 of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 with royal beauty b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stward lea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procee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de us to thy perfect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0" r="0" b="6207"/>
          <a:stretch/>
        </p:blipFill>
        <p:spPr>
          <a:xfrm>
            <a:off x="6459480" y="0"/>
            <a:ext cx="2662200" cy="51814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320"/>
            <a:ext cx="8915400" cy="585468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 star of wonder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tar of ligh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tar with royal beauty brigh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estward leadi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till proceedi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guide us to thy perfect ligh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Myrrh is m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bitter perfu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thes a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athering gloo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82760" y="2239920"/>
            <a:ext cx="81788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rrowing, sig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eding, dy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aled in the stone-cold tomb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525600"/>
            <a:ext cx="9144000" cy="545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tar of wond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 of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 with royal beauty b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stward lea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procee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de us to thy perfect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Glorious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hold him ari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 and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acrific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850760" y="2239920"/>
            <a:ext cx="54414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nds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earth and sk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525600"/>
            <a:ext cx="9144000" cy="545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tar of wond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 of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 with royal beauty b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stward lea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procee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de us to thy perfect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477120" cy="47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. We three kings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of Orient are;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aring gifts w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raverse afar, field and fountain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oor and mountain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ollowing yonder st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0" b="6207"/>
          <a:stretch/>
        </p:blipFill>
        <p:spPr>
          <a:xfrm>
            <a:off x="6459480" y="0"/>
            <a:ext cx="2662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rcRect l="0" t="0" r="0" b="6207"/>
          <a:stretch/>
        </p:blipFill>
        <p:spPr>
          <a:xfrm>
            <a:off x="6459480" y="0"/>
            <a:ext cx="2662200" cy="51814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152280"/>
            <a:ext cx="6782040" cy="436032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star of wonder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ar of light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ar with royal beauty bright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estward leading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ill proceeding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uide us to thy perfect l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28600" y="228600"/>
            <a:ext cx="5943600" cy="47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. Glorious now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hold him arise;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King and God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nd sacrifice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lleluia, Alleluia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ounds through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earth and ski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0" t="0" r="0" b="6207"/>
          <a:stretch/>
        </p:blipFill>
        <p:spPr>
          <a:xfrm>
            <a:off x="6459480" y="0"/>
            <a:ext cx="2662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152280"/>
            <a:ext cx="6553080" cy="50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star of wonder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ar of light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ar with royal beauty bright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estward leading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ill proceeding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uide us to thy perfect l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6207"/>
          <a:stretch/>
        </p:blipFill>
        <p:spPr>
          <a:xfrm>
            <a:off x="6459480" y="0"/>
            <a:ext cx="2662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6207"/>
          <a:stretch/>
        </p:blipFill>
        <p:spPr>
          <a:xfrm>
            <a:off x="6781680" y="0"/>
            <a:ext cx="2362320" cy="5181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6320" y="76320"/>
            <a:ext cx="7391160" cy="585468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2. Born a King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n Bethlehem’s plain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gold I bring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o crown him again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King forever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ceasing never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ver us all to reig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0" t="0" r="0" b="6207"/>
          <a:stretch/>
        </p:blipFill>
        <p:spPr>
          <a:xfrm>
            <a:off x="6459480" y="0"/>
            <a:ext cx="2662200" cy="51814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76320"/>
            <a:ext cx="8915400" cy="585468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 star of wonder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tar of ligh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tar with royal beauty brigh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estward leadi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till proceedi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guide us to thy perfect ligh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6207"/>
          <a:stretch/>
        </p:blipFill>
        <p:spPr>
          <a:xfrm>
            <a:off x="6781680" y="0"/>
            <a:ext cx="2362320" cy="5181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6320" y="76320"/>
            <a:ext cx="8076960" cy="503172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3. Frankincens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o offer have I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incense owns a Deity nigh; prayer and praisi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voices raisi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orshiping God on high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0" t="0" r="0" b="6207"/>
          <a:stretch/>
        </p:blipFill>
        <p:spPr>
          <a:xfrm>
            <a:off x="6459480" y="0"/>
            <a:ext cx="2662200" cy="51814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76320"/>
            <a:ext cx="8915400" cy="585468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 star of wonder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tar of ligh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tar with royal beauty brigh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estward leadi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till proceedi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guide us to thy perfect ligh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6207"/>
          <a:stretch/>
        </p:blipFill>
        <p:spPr>
          <a:xfrm>
            <a:off x="6781680" y="0"/>
            <a:ext cx="2362320" cy="5181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6320" y="76320"/>
            <a:ext cx="8915400" cy="585468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4. Myrrh is mine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its bitter perfum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breathes a lif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f gathering gloom; sorrowing, sighi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bleeding, dyi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ealed in the stone-cold tomb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0" b="6207"/>
          <a:stretch/>
        </p:blipFill>
        <p:spPr>
          <a:xfrm>
            <a:off x="6459480" y="0"/>
            <a:ext cx="2662200" cy="51814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76320"/>
            <a:ext cx="8915400" cy="585468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 star of wonder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tar of ligh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tar with royal beauty brigh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estward leadi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till proceedi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guide us to thy perfect ligh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0" r="0" b="6207"/>
          <a:stretch/>
        </p:blipFill>
        <p:spPr>
          <a:xfrm>
            <a:off x="6459480" y="0"/>
            <a:ext cx="2662200" cy="51814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76320"/>
            <a:ext cx="6477120" cy="585468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5. Glorious now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behold him arise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King and Go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nd sacrifice: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leluia, Alleluia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ounds through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he earth and ski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0-12-31T04:11:24Z</dcterms:modified>
  <cp:revision>13</cp:revision>
  <dc:subject/>
  <dc:title>PowerPoint Presentation</dc:title>
</cp:coreProperties>
</file>