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51A-6070-44CB-89C3-C34D2614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E8E-717D-4D74-AFBF-C7252F06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797-8D25-4731-A5B6-364A144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D0C-8FE3-4C71-A0EE-3EE74A42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DFB-7A85-4CAC-8D6E-C573E3A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2DC-EB6D-440F-B5BD-D550764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CEB-615F-45FA-ABF0-3677934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B1D-317F-4E26-9A59-613A1041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C73-DFAB-4429-A3CB-20B9C7EB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4E0-6BBC-4626-9E1A-9371B97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9C7-18D3-4789-BDDA-8AA6319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CA0-7FBB-44B5-AE25-D1A65DF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1A6A-1048-439F-8C38-3C28326A8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to the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cre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2 and 4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7520" y="1600200"/>
            <a:ext cx="7884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achim Neander, 1680; sts. 1, 3, 5 trans. by Catherine Winkworth, 186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2 by S. Paul Schilling, 1986; st. 4 by Rupert E. Davies, 1983 (Ps. 103:1-6; 1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to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all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adore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ha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 with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a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forever 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is thy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wh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 draw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me in glad ador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’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rously reig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thee on eagl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, e’er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mainta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are enf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whos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he uphol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thou no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ustain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pro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fen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hi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her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a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Almighty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befri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nouris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ting thee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tasks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bef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o th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p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ing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o’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36Z</dcterms:modified>
  <cp:revision>58</cp:revision>
  <dc:subject/>
  <dc:title>PowerPoint Presentation</dc:title>
</cp:coreProperties>
</file>