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4A2-8270-4769-A503-17473F79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4B1-7209-424A-92F2-62FAD2B9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9B7-9CE9-4BC9-929C-92A77F6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17B-7A43-4EB6-9DF0-BA1A6F45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A6A-6DFE-4403-B524-EE85B716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DA4-2F81-456B-A437-BDEE13E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8FD-AF08-4566-979E-8F50D9C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F03-E10E-42F0-BE84-6CF1F0B7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E44-F192-45D4-A982-607696A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8BD-B04F-40F6-BF7B-7EF9084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CED-27BC-4585-99B8-471E6E2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14C-C9F4-45C5-A15A-648A0FBF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72DA-C30B-44BF-B76F-CD8C833C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Up for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soldiers of the cros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t high his royal bann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t must not suffer lo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5600" y="1600200"/>
            <a:ext cx="5568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Duffield, Jr., 1858 (Eph. 6:10-17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victory unto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army shall he l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very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vanqui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is Lor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trumpet call obey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th to the mighty conflic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this his glorious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are b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serve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unnumbered fo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ourage rise with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opp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Stand up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in his strength alon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arm of fles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l fail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e dare not trust your ow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on the gospel ar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piece p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ith pray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uty ca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never wanting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tand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up for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ife will not be l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day the noise of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xt the victor’s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ose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anquish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crown of life shall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eign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7:59Z</dcterms:modified>
  <cp:revision>12</cp:revision>
  <dc:subject/>
  <dc:title>PowerPoint Presentation</dc:title>
</cp:coreProperties>
</file>