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610F-DC5E-4011-9414-E8D5B1B9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EA2-E35E-42B4-856F-41B169AD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2D39-EEB8-4522-8AA1-91958105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966-5F83-4FDD-9788-2E8FAAF0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512-AB61-4216-AA1E-84C09C3B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6FDA-EC37-4668-AF70-59F4CCBB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7C05-1D5A-4823-86E2-7BD349E5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8AD-3F32-4CE7-8AD9-BFD74C1B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E06A-DFE6-4A25-AC98-B630DEA7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A97E-31FB-4AB1-ADA7-12528CB2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D8BA-4B5E-4DED-9FB4-203C1C7E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4AE-03C6-4279-9ACE-0DB33CBB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EA26-6C65-4308-A107-664770E0E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Is Born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Il Est N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88360" y="1562040"/>
            <a:ext cx="49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rad. 19th cent. French carol, trans. an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Jesus,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ing as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among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,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nt 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heavenl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 divin Enf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uez hautbo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sonnez musett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 divin Enfan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antons tous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v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nemen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rough long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phets have foret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com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long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the 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come at la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w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p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this perfec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 of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p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acious gi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umanki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48:35Z</dcterms:modified>
  <cp:revision>76</cp:revision>
  <dc:subject/>
  <dc:title>PowerPoint Presentation</dc:title>
</cp:coreProperties>
</file>