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B29-16B7-4EBF-8BC5-5FAD36F1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6A5-F411-451F-ABF3-FABD240E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6B2-8C58-4E23-9764-12F1E2AA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BD1-2188-4FE0-A92D-FDD048E8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558-DF38-4062-8742-718E400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CB0-4838-4C03-A871-E289C17D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B39-7DD0-44FC-A88C-E12DEAF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662-986A-48C2-B147-C32E59A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2BA-35C5-4218-A1AE-AB20DA92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1A1-178C-4E88-BF56-47595C8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EBC-26AB-4798-A2EE-C88F93D1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A98-BA21-48A0-B301-9CB515E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2D41-1D1E-4BA9-A06B-A0340BC78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ile Shepherds Watch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ir F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ile shepherds wat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locks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eated on the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3240" y="154944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Nahum Tate, 1700 (Lk. 2:8-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pra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“All 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be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ll hence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to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and never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 and never cea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ca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shown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shown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!” said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ighty d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seized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d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tid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joy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of hu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To you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town,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or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vid’s 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, who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 s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s shall b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The heavenly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here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ew displ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nly wra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wathing b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a manger l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nd in a manger lai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us spake the sera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th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ear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thro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4:43Z</dcterms:modified>
  <cp:revision>9</cp:revision>
  <dc:subject/>
  <dc:title>PowerPoint Presentation</dc:title>
</cp:coreProperties>
</file>