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F55-02E6-4740-8247-6552226F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1069-24E4-4720-8AEE-1A4069B3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9BCA-8F10-4411-A57C-BCEBD8FF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30B6-215A-47F5-82BC-4CB55346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28D-2AFA-4D78-AF97-5CFBA7DB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2CA1-ACB2-4EFE-81D1-64725E34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A6F-BD3E-4C1D-A3F9-8E7F629C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6599-BD4D-4E47-9974-EBF04A88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909-E3B8-4E91-835E-E4064030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2461-77C0-4C62-9D61-114FDD9C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C0AC-BC64-4728-981B-E9DEE8B8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D57-7FA0-4D7F-84AF-E7F53076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388C-D957-4553-A06B-AD91F1323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Master, See,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Time Has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My Master,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ime has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rvant lea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By permission of A. P. Watt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Master, See, the Time Has 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86520" y="1638360"/>
            <a:ext cx="23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uke 2:29-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o in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ng waited f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fulfil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I have s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lvation,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ay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le world se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Master, See, the Time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light whic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Israel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ast enlight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47:43Z</dcterms:modified>
  <cp:revision>71</cp:revision>
  <dc:subject/>
  <dc:title>PowerPoint Presentation</dc:title>
</cp:coreProperties>
</file>