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EBC-D97C-4EBD-BBBB-B765086F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425-C0FD-49B8-8D5E-77F6122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ED0-1CAC-4DFE-A051-F283C077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9C9-04F7-4A05-879A-3CFF3C2C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9A9-328B-4070-88CF-20681FD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908-47E7-456A-A34C-C358EFD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AF0-D494-44FF-9FD1-FA8A1E0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107-FD63-4576-8CCA-C4FDF7AC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9C1-243C-416A-9A13-D729C97E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DCF-4541-4317-B912-07F1763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2D9-7EC6-4FCA-AD02-25369A0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EA2-E7DB-44A6-A1BE-FD20F9F8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88E-3C0A-4383-8BF4-915FE0416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m Goin’a Sing Wh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pirit Say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m goin’a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pr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goin’a mo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mo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’m goin’a s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m goin’a shou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59Z</dcterms:modified>
  <cp:revision>89</cp:revision>
  <dc:subject/>
  <dc:title>PowerPoint Presentation</dc:title>
</cp:coreProperties>
</file>