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11D-5AFF-43F8-AB24-F04F5260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8C8-7F96-486C-A009-2C655CE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7CD-7A14-4B0A-9D27-E685F151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7F4-BFCF-43B3-A1AC-07286FFD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BA6-BF19-42FB-A5F0-9F06A2E3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1EA2-C057-47AD-919A-B0F1364B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F953-B4FA-4813-8721-29F3F05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420-9C04-4BC6-961C-3B6030FC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3C4-3505-4F54-A452-CFFEAA0D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A0F2-B0B1-4C69-BC56-B4785BF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13BE-09CF-46B0-8AD9-AAC029D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C9B-8CEA-426D-A843-2F04DB7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C38D-2D85-41F3-9109-98E9F40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C070-2A04-457A-8AB0-A07002C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0FBA-88AC-4F85-9414-E6FF053F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1BE3-5703-4BE7-8D13-7AAFB0CC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0E5D-026B-4FAF-8107-45E35350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DB0-3C5E-42B1-9650-66036A1D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D1F-E818-4419-9DDF-CD7849F4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60B-E97F-4EBA-88BC-23E964D3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A2E-7BFC-4EAC-8A10-20F95526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B25-7A68-49CF-BA88-E33C057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84C-18BA-4B1A-B57D-D56C18ED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5C8-3204-4438-8B75-20953CA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3AF3-D3D6-414A-BD3F-FE2745C2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CF74-E316-4112-BEA1-BAFD6AC2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so from the beginning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e fight we were winning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, Lord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wast at our sid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ll glory be thin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19120"/>
            <a:ext cx="9144000" cy="481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3. We all do extol thee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leader triumphant,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and pray that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ou still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ur defender wilt be.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1440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Let thy congregation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escape tribulation;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thy name be ever praised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Lord, make us free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e gather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sk the Lord’s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hastens and has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ill to mak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200" y="1219320"/>
            <a:ext cx="7895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7-24T00:35:51Z</dcterms:modified>
  <cp:revision>51</cp:revision>
  <dc:subject/>
  <dc:title>PowerPoint Presentation</dc:title>
</cp:coreProperties>
</file>