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E40D-8F3C-498F-B02D-F7EAB37B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5073-AA18-4D20-AF65-B1446A1D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F9DF-FE03-4857-BF9F-095A0151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0EC4-FCED-453C-8AE0-96B4E3FC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C341-D243-49AA-89F9-B8DC7CFB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7329-2EA5-4681-B67C-280CCC37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D389-26DE-40DD-B3ED-71E651B5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24D0-A6C7-48D2-A6A2-AFB9BF55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3E11-8355-449E-8F2C-91EC853B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3BEC-B7D1-4776-9994-7B414090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B877-BB7B-412F-AC2D-4A197567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D551-3DE8-4063-94F5-037326F9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5628-B022-44A5-9458-8C4E1B6AE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elu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20:34Z</dcterms:modified>
  <cp:revision>28</cp:revision>
  <dc:subject/>
  <dc:title>PowerPoint Presentation</dc:title>
</cp:coreProperties>
</file>