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240-2BE2-4909-A0C7-35A3DED8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AF0-B3DF-4529-B6F7-0F5E3032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6F7-B0B3-473F-9A47-700CBB31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1DD-8F5E-4641-9633-71F9F54F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BF2-722F-4FBD-97AD-28F96C99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368-07EE-469E-8F16-904D3D29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006-52AB-47DA-A15D-2E5FA5C7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163-D7D6-41E3-AE68-CE08DF93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22F-46EC-41C0-9E95-9625A127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CFD-C8FB-4C9D-99D8-7D2D54E2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DC6-8541-497C-A2CB-7EA65F01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EAB-D76D-4D1D-9CB6-4B4151AA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EF92-736D-42A4-B116-068400DEF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Zechariah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Benedictu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246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(Advent &amp; Christma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il to the Lord’s Anoint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David’s greater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Zechari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2560" y="1600200"/>
            <a:ext cx="77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Luke 1:68-79, ICET, rev. ELLC; Response, James Montgom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tender compassi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our Go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dawn from on hig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all break upon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4619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shine on th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ho dwell in dark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he shadow of death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o guide our fee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to the way of peac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990720"/>
            <a:ext cx="8610480" cy="431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ssed be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God of Israe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ho has come 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et the chosen people fr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Lord has rais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up for 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 mighty Savior fro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use of Davi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the holy prophet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od promised of ol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save us fr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ur enemie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rom the hand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l who hate u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show merc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o our forebe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to rememb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holy coven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was the oath God swor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our father Abraha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set us free from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ands of our enemi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4619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ee to worshi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without fea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holy and righteou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n the Lord’s sigh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ll the days of our lif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you, chil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shall be called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prophet of the Most Hig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or you will g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fore the L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prepare the wa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give God’s people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knowledge of salvatio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by the forgivenes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f their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32:47Z</dcterms:modified>
  <cp:revision>33</cp:revision>
  <dc:subject/>
  <dc:title>PowerPoint Presentation</dc:title>
</cp:coreProperties>
</file>