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AFFB-1406-4388-8FE8-1CC86B65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F330-9539-4D69-94BF-AAD790E1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00AF-DB3D-4DE1-892B-AF28ED24E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8D76-86E2-404F-928C-05A7CD26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4137-5423-4291-9D56-33BF453F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4591-4981-462D-9B9C-8EFBA9F0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1DAB-E965-4620-A06E-2E008FE4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360-D5D8-4257-9B0B-C2BA42AC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C054-2B8F-4709-B740-5451844D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A232-F9E5-4208-B3CE-96E5235F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C910-7FF5-4A35-AD4D-4E1525FE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3C8D-12A4-48BB-B2EA-3ADCE86B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E85D-A453-465A-B12E-3B79B6361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Overcoming Ad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1919160"/>
            <a:ext cx="81532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we pray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tranquilli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nor that our tribulati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y ceas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Overcoming Adver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36920" y="1004760"/>
            <a:ext cx="40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Girolamo Savonarola, Italy, 15th c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pray for th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pirit and thy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thou grant us streng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grace to overcome adversit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rough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3:01Z</dcterms:modified>
  <cp:revision>21</cp:revision>
  <dc:subject/>
  <dc:title>PowerPoint Presentation</dc:title>
</cp:coreProperties>
</file>