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702-5357-4AED-BBA0-ED55EE3E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5F7-2DE3-4982-8123-EB8779DC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934-FC2B-4805-A04E-B2B5DF38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3D7-4B7D-4389-910D-0A9EFE41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D2C2-A848-4B8B-94F7-82D33453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06E5-C149-402A-8EAC-8637CBCD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A386-56E9-4E72-9024-58A3E59C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5887-9AC6-49DF-BC13-0074DCB2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597C-D0FF-46DE-830B-76CB3D09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1561-1136-4AFC-BAF6-86AEC132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A98D-2502-436B-A824-A7126678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390-7C21-4F0A-AB64-D2B685C9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FD9A-54FA-418D-B8DA-33DA05D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214E-8220-4C71-88E1-2C77530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C138-4C00-4606-9988-1AC6F6AD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E8E9-05B3-4047-AAFC-551FCD13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D829-4FB5-4590-8764-73D49A66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9C3-719C-421B-A9FF-7D65A8EF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20C-D930-43A5-A0B6-6C9B19C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90D-4DFD-4CA2-81D9-7A705234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5F4-C477-42D8-A7C7-DB4967E4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36E-3D0C-4B13-9FAD-0A0B9629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D94-C03F-45C4-8BE8-753AEF16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9C8-215C-42DF-A56F-CB7D24BA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7EAD-B8D6-40A2-84F0-170BB291E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0E2E-DF3B-400E-8BCE-B3575089A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 Who Th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steriou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55760"/>
            <a:ext cx="9144000" cy="292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1. O Thou who thi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mysterious brea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didst in Emmaus break,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5 (Lk. 24:13-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nkindl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z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ake thy mercy 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our pard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s to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and love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return, herewi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 souls to fe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o th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llowers speak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15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Unseal the volu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y gra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pply the gospel word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pen our eyes to see thy f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earts to know the Lord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36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Of thee communing stil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 mourn till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the veil remov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alk with us, an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earts shall bur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flames of fervent l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Enkindle n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eavenly zea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make thy mercy know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give our pardon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ouls to fee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God and love are on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 Who Thi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steriou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 Thou who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mysterious brea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idst in Emmaus break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5 (Lk. 24:13-3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turn, here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to f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ers spea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seal the volu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pply the gospel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to know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f thee communing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mourn til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the veil re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lk with us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shall bu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lames of ferven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5-20T01:05:30Z</dcterms:modified>
  <cp:revision>115</cp:revision>
  <dc:subject/>
  <dc:title>PowerPoint Presentation</dc:title>
</cp:coreProperties>
</file>