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645-60C3-4107-9CB5-24AADDE5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098-4D6C-41C3-9E88-4E6C780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A89-5CDB-4BF1-A23D-81E359E1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EA1-23B5-4D89-9F91-30B1D3C7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EF5-A51A-4D63-9EDB-3F8D2849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640-7024-4447-800A-E01D3956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76D-BE6D-4070-BF6A-990CA84F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115-FD0C-4228-A0C4-BB4FCB9A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858-F5F6-4A5C-9AC0-30E814E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950-EF34-4956-A74E-3E9ECB9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28B-2AEF-4E30-A9C2-5C65F51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527-C4E3-4B54-A285-F071AB6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924-2636-409D-A800-63487512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venant Faithfulnes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Quaerite Domin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35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ace, Lord, do I seek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de not your face fro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ovenant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080" y="223344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Isaiah 55:6-11; adapt.; Response, Isaiah 55:6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ut it shall accompl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at which I inten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prosper in the 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which I send it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9528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now is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all upon the Lo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s ne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sake their w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un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ir though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them return, that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have mercy on them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t our God m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bundantly pard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my thoughts ar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your thought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neither are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my ways, says the Lord.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0666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as the heaven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er than the earth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are my ways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and my though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n your though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335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as the rain and the s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down from heave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return not b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at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ing it br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th and sprou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ing seed to the s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read to the ea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 shall my word be that go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th from my mouth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shall not retur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me emp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40Z</dcterms:modified>
  <cp:revision>30</cp:revision>
  <dc:subject/>
  <dc:title>PowerPoint Presentation</dc:title>
</cp:coreProperties>
</file>