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FF4-3DE1-43F7-AE1F-3945581E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06C-338A-44B1-B75D-3591FFBA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769-176E-4726-829E-0DF4D00F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5E7-9BDF-4125-AB3B-0002F1B8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AF56-797F-43E8-8BBA-BDD6C304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0471-D4ED-4355-99EA-82D62C88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92E8-EC22-4DE7-89B4-3435056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6B1C-ECF3-448A-ABAD-14D10B89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F9BF-3788-4B7E-8DC1-8F414F1B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D83-B2E5-467E-8705-6CE66EF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EC35-17D7-4284-A37E-413680DA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AB3-1501-4382-9A56-3B70FBCB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3D4B-8EF1-4585-8D60-19B7DB8D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4C3A-F0DE-4008-8999-F62241A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EEE2-1443-449F-97B5-D91E0451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81BB-FB28-4A13-9DC6-B49EFA2E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2CC-6A75-4477-A988-4D2B06C1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B22-6452-4D81-A42D-EED78782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A0F-FC60-4550-AC68-9AE8BDD9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6FB-A7B8-4981-A76C-F9F597D1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BCE-F032-4283-A848-0D2200A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966-59D6-49F2-8E70-D5895C3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AE7-3774-4880-AB77-AF8A26C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744-998F-4BB1-A922-518A697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9305-52D1-421A-A19E-6A40F7368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875B-5AC3-4413-86F7-E2D34ECAF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Mt. 5: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is little light of m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r>
              <a:rPr b="1" lang="es-MX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Mt. 5:14-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t it s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7T20:34:34Z</dcterms:modified>
  <cp:revision>91</cp:revision>
  <dc:subject/>
  <dc:title>PowerPoint Presentation</dc:title>
</cp:coreProperties>
</file>