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93C-2BBA-4CC4-87C5-23EE3DC7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413-3D68-4CAA-90BA-0D5D18FC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05B-1C2A-4359-809C-B5D6E797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398-03F7-4DE9-9F61-74E91527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585-0292-444C-B361-5FFACA59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4D7-2352-4DC1-B61B-4DA9DDE0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5A8-D7D5-4399-835B-9CC8A9D2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DA5-EA8F-452B-9470-26B1727B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EC6-B0F1-4CEA-A868-A89BC31A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813-D762-444C-83C6-7637071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E92-62E0-4E26-923F-347DDBE1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ACC-55C5-4CAD-ADF2-1DADC0C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41D9-A2CE-4DC6-ACFE-2EC10E092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a Principle With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want a principl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atchful, godl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ensibility of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ain to feel it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3440" y="106668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he firs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roach to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ide or wrong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tch the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ench the kindling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thee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may st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thy goodness gr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me the filial a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ay, the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cience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as the ap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my conscience m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sin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it still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might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uth an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thy power im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rdness fro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e least omission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awakened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ve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ood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mak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01Z</dcterms:modified>
  <cp:revision>24</cp:revision>
  <dc:subject/>
  <dc:title>PowerPoint Presentation</dc:title>
</cp:coreProperties>
</file>