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2D1-6AF2-4B9A-9840-55124BA8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46A-4031-46AE-8833-034B30EB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C93-AD60-460A-87B9-0DFAC97A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BCE-4D8E-4DF8-9259-12F5321D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F269-E237-432A-9BE1-8D861BC5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0CE2-F479-474B-A7F1-29DBB033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9479-78B8-461A-A903-8DBCB382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8262-FEE7-4804-8AD1-63B03D63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A179-0DC4-4CE6-BE91-7EDAC3DB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ED59-0CDE-4771-A103-A03706CB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938C-DDF4-45E5-A77C-3E5D078B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B38-0B44-4A8B-848B-99929FA0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1DE5-922C-4A8E-A56C-009CC7E9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4970-AEDE-4732-8B18-EDCEA4DF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D888-7E76-4F01-A860-85A3E538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2412-530E-45C2-9F9C-7C8B7ACB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9EB4-5C82-4214-9BB1-6C4865A6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455-6189-462F-9E03-C04089BE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686-CD45-442C-9661-0C8B7F79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B7A-C80C-4B02-92E5-9270F5F8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4FE-835D-4548-9BB0-24D433C8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E97-F4C0-475A-BFFE-7D8C0654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65A-3753-42F6-8B5A-6FAA175F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E3E-7636-49DA-A886-5AA2F58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95F5-C26C-415F-9A31-E83484B4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F697-CAB9-4445-B12E-583F67D3B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n this da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rth shall r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the so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ildren s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the Lord,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our King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39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iae Cantiones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58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Jane M. Joseph (Lk. 2:6-14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n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ir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shall 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1932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366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the song children s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he Lor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rist our King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39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Piae Cantiones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58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Jane M. Joseph (Lk. 2:6-14; 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44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1768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His the doom, ours the mirth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he came down to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thlehem saw his birth;                        ox and ass beside hi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om the cold would hide h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God’s bright star, o’er his hea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se Men three to him led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neel they low by his bed,                      lay their gifts before him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 him and adore h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335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On this day angels sing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their song earth shall ring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ing Christ, heaven’s King,          born on earth to save us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ace and love he gave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is the do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 the m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to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w his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id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14300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’s bright s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his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e Men th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eel they 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 their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him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66680"/>
            <a:ext cx="914400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9T03:41:55Z</dcterms:modified>
  <cp:revision>13</cp:revision>
  <dc:subject/>
  <dc:title>PowerPoint Presentation</dc:title>
</cp:coreProperties>
</file>