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5938-0447-473B-B3E4-22A73701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B2EB-7B5D-46D7-A00C-982BFC51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FA08-1894-4EF9-A853-3D71FA5C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3FBA-7BA1-4ECF-8068-9790E711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A806-0B91-4C5E-8BC1-7012AEF2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4C00-17AA-4EBF-946C-14494BC1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F4D6-A4A0-45B9-86A8-17EED019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C2AE-8861-4142-B49C-4D291BF0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9E63-991E-4A52-8957-10377920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C663-E792-4053-93A3-B6352F22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8AF6-61E6-4C59-B564-BE73EA21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D6D5-80B4-47C4-89FE-434267D4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4867-D5FB-4A82-BCA6-A7196967B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the Unit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Christ’s B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819520"/>
            <a:ext cx="88390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lp each of us, gracious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live in such magnanimi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restrai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Unity of Christ’s Bo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32760" y="1828800"/>
            <a:ext cx="187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Chinese Pray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the Head of the chur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y never have cause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ay to any one of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“This is my bod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roken by you.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6:49:44Z</dcterms:modified>
  <cp:revision>12</cp:revision>
  <dc:subject/>
  <dc:title>PowerPoint Presentation</dc:title>
</cp:coreProperties>
</file>