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8E1-C23B-43CA-A8D1-27DC0DDF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387-1A78-441C-B566-29E2D460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34B-4938-4F4B-BFA5-5310B395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55A-DB06-4BF8-9B21-20D81580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7EF-8376-4BFE-AB4C-166512C3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8DA-F667-42F1-9F24-62924C99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78C-3010-4F7F-9C15-01BF0F72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652-6F0B-4CE0-B0F0-74F94FF2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FB7-0435-4EDA-AE8F-47ECF9AA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085-31BA-4F2A-B539-0240AACA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CAA-6A7B-45CB-96CC-4808067F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CFB-160A-4A53-ACE8-6392E3E7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C1E4-6D15-40C0-80BB-701E0919F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piph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made of one blood all natio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, by a star in the Eas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vealed to all people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se name is Emmanu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ph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092240"/>
            <a:ext cx="55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urence Hull Stookey, USA, 20th cent. (Mt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able us who k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your presence with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so to proclaim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unsearchable rich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at all may come to his 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bow before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rightness of his rising,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2284560"/>
            <a:ext cx="853452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lives and reigns wit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w and for ever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9:32Z</dcterms:modified>
  <cp:revision>12</cp:revision>
  <dc:subject/>
  <dc:title>PowerPoint Presentation</dc:title>
</cp:coreProperties>
</file>