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B43-7F1C-48CE-A12A-AFCADCD0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4EA-FF49-41F7-B363-D8F4366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85C-38A4-40D3-BA28-C919184F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892-93CA-48C6-B497-50E5E85F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108-FA63-4B09-898D-CA02D513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409-4ED2-40A1-8EC8-FF820BCF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262-7E0D-4FE5-BE68-BB59A1F4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B11-B0CF-49A2-AACD-F9BCB5F9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72A-46B9-422F-8947-C2B9CC3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F87-05E0-4C79-BD5F-CD002FC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29F-1F80-4EF4-A95E-9F68068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12D-76FC-45B3-879D-8CA42F8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861-7705-432A-9601-A02C7B5B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Ag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y Dear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Ellerton, 1866;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avior,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to thy dear name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rting hymn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thou the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from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s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called upo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our homeward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beg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arm and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thy childr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ark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both alik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th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rr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our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ui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n each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irit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ace in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alm of every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ace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to ri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when thy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i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e eternal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7:00Z</dcterms:modified>
  <cp:revision>154</cp:revision>
  <dc:subject/>
  <dc:title>PowerPoint Presentation</dc:title>
</cp:coreProperties>
</file>