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97C-05BC-44F5-8318-2A1F49BC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540-A3D0-4600-82C0-C377B945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F4A-EA73-44F4-8CEF-A77F89B0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4C1-84C0-44F6-BE8A-21002960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186-AA32-4873-801E-398555A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97B-4CAD-4F0C-AFF8-8122C98C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127-DBF6-437C-A3E7-1FF4C9CC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D5C-1C6E-4A52-AD47-14F4903E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A3B-99CD-4B50-8906-697002E7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E7D-D4D1-46E4-B89A-614C73AF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DAA-2041-4615-96D7-59E33433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49A-0FC1-40CE-9DF7-BBC859E6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6B4F-8F21-4E36-9DF2-5C7CC5D23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ther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 be thy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080" y="1066680"/>
            <a:ext cx="32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Matthew 6:9-13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gdo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ill be d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as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n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aily br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gi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respas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forgive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espass against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 u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temp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deliver us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ne i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lory forever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3:44Z</dcterms:modified>
  <cp:revision>24</cp:revision>
  <dc:subject/>
  <dc:title>PowerPoint Presentation</dc:title>
</cp:coreProperties>
</file>