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D81-75C1-48E9-A5B4-ED04BBD9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04C-0CD1-4007-8CA9-D04A9B12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EE9-8888-49A9-B044-5C1B140B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DC1-1D82-49E8-8A4F-E48C81E5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6F4E-86FD-4A11-A75F-826A3F87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1BE-9CF6-4601-A532-CC20DFB9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10BE-F5C7-4677-9035-A67DEEE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83CC-4073-4EBC-867E-8B9E84FC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24B-C973-464C-B197-29DBC929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063-7651-4EC7-A833-1F7344D0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1EE6-76B6-4F72-8B9D-EFD15CA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C32-855E-43CC-AEBD-9ABE4B17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612D-06F0-4246-872C-EA280C81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3161-4B66-4B22-A0B7-8B5AB686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2497-C9FD-4612-A12D-671AFEBA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5D52-96BC-45DE-AB85-62F73449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CBFF-6F62-480F-B891-5B0DF2B5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4E8-A2FD-42C1-8653-0C8518BE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CB7-3F51-4C63-84FF-A4323F0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D12-3B3A-435F-8C93-92177EE9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545-6FE4-4C79-8F99-BE4E976B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8BC-18CD-4D3E-8701-8C95B56D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FC6-3CF6-4078-86D9-313E6B6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D18-DF35-4ADC-86E4-8A53E5CA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99D1-0EB9-4019-AE49-01857F8D5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09A5-2310-46A7-B31A-078F0B63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ward Throug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ward through the age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t the call div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Lucian Hosmer, 19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ward Through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Forward through the ag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the call divin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Lucian Hosmer, 19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88920" y="762120"/>
            <a:ext cx="7171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 have proclaime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5760" y="746280"/>
            <a:ext cx="7916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by God’s fa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5680" y="1863720"/>
            <a:ext cx="7171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83720" y="1482840"/>
            <a:ext cx="5776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by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6T23:38:05Z</dcterms:modified>
  <cp:revision>64</cp:revision>
  <dc:subject/>
  <dc:title>PowerPoint Presentation</dc:title>
</cp:coreProperties>
</file>