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E87-979B-46DC-8216-E751549D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B54-35E2-4977-95BA-39276175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918-05D5-4DF1-9545-EF519AEF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C571-1E2F-444D-8708-E28A2DF0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B40-94EF-4F50-B87C-CC5A0596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7BB5-10EE-4014-8D46-2E33EC96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5FB-F354-4464-81A5-944AB04F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695-FA7D-449C-8ED6-2ABDBB5B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E776-FCA6-428E-ABA9-557B0BDD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CD2-CC52-41CC-8AD1-9852CA48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5BC-20A3-4F40-B7A3-7FC43415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798-AE3E-4CB6-BE92-9455912A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ADBC-26FD-4E9C-B000-DD6209578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Moses and Miriam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Cantemus Domin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exal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n your streng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your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Moses and Miri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7520" y="1676520"/>
            <a:ext cx="70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Exodus 15:1-6, 11-13, 17-18, 20-21, adapt; Response, Psalm 21:13, ada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774720"/>
            <a:ext cx="86104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have led the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m you have redeemed;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guided them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strength to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oly abod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will bring them 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lant them on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wn mounta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place, O Lord, which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ve made for your abod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1003320"/>
            <a:ext cx="8610480" cy="409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anctuary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ich your ha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ve establish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will reig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 ever and ever.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Miriam, the prophe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sister of Aar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ok a timbrel in her ha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wom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nt out after her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imbrels and danc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912960"/>
            <a:ext cx="8610480" cy="483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iriam sang to the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 who h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riumphed gloriousl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rse and its rid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Lord has thr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to the sea.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600200"/>
            <a:ext cx="8610480" cy="295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Moses and the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Israel sang this so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 Lord, sa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sing to the Lord,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s triumphed gloriousl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rse and its rider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Lord has thrown in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se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00332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my streng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y s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has beco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 salva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my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m I will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28456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exalt my father’s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is a mighty warri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se name is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6905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haraoh’s chariots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host the Lord c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to the sea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his chosen offic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re sunk in the Red Se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409680"/>
            <a:ext cx="861048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loods cover the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y went down into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pths like a ston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right hand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lorious in pow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right hand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hatters the enemy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is like you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mong the gods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is like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jestic in holin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errible in glorious dee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oing wonder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9191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stretched out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right ha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earth swallowed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8:45Z</dcterms:modified>
  <cp:revision>32</cp:revision>
  <dc:subject/>
  <dc:title>PowerPoint Presentation</dc:title>
</cp:coreProperties>
</file>