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001-B626-4CA3-BBE3-82C9A03B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169-6474-453F-93C9-4E2AEA14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FBB-C47D-43E0-96E8-A3F7FB8D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B62-D31A-4B74-BD36-498EC167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BE6-549F-4DE5-84BC-62DFDC24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F09-F39E-4F4B-80DC-7E50C29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BAF-AF26-4593-BFD7-26203B55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3C8-5D79-4817-A788-BED4AAEE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068-276D-42B5-B3D5-E592D54C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677-039E-43F4-A49E-D6A1FF7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A4C-BA29-42D1-8A74-17A040A6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8CF-A82B-4C3E-BD29-07153B07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8947-F15D-4B2B-B6E1-1CDBF7F81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Christma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 Is Daw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5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Christmas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sh that I could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14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Elisabeth Ehrenborg-Posse, 18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Joel W. Lundeen, 1978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Son, newborn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Son, newborn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w kind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us to come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pise your lowly bi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pise your lowl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nee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our deares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ve will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 us to life’s e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Your love will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 us to life’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47Z</dcterms:modified>
  <cp:revision>77</cp:revision>
  <dc:subject/>
  <dc:title>PowerPoint Presentation</dc:title>
</cp:coreProperties>
</file>