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0F10-3DF6-4701-BB0B-DDA9768CE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91B8-0A3C-42A2-88EC-7451F742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4C11-1990-4F82-8CB9-240071A28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0BDB-CDE4-45E1-A107-7572167BF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6733-77F7-4DB5-9403-C6CF8F8A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27EE-5731-42ED-AA38-7EF9DC1A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5C05-F986-4B3F-9C0F-6EE03843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B639-268F-48BD-868B-D48DEAB1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D4A3-B946-4A78-9127-E4C42DBE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6B5D-D0CA-4404-8B35-0325FCF3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5296-F8F0-4352-91C9-96754F8E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02EE-AACF-43C7-BF4D-FFE66E41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C5DA-3320-4A2A-9068-718CEE368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Want Jesus to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alk with M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1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2362320"/>
            <a:ext cx="9144000" cy="353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 want Jesu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with m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alk with me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Jesu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with m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alk with me)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Jesus to Walk with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600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frican American spiritu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028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long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ilgrim journ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want Jesu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with m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alk with me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1668600"/>
            <a:ext cx="9144000" cy="34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n my trials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with m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alk with me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trials, Lord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with m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alk with me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Jesus to Walk with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my hear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most brea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Lord, I want Jesu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with m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alk with me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1752480"/>
            <a:ext cx="9144000" cy="34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en I’m troubled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with m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alk with me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’m troubled, Lord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with m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alk with me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Jesus to Walk with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my h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bowed in sor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Lord, I want Jesu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with m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alk with me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4-02-24T23:04:55Z</dcterms:modified>
  <cp:revision>49</cp:revision>
  <dc:subject/>
  <dc:title>PowerPoint Presentation</dc:title>
</cp:coreProperties>
</file>