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20E6-F32F-4085-A091-A8AABB6E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AA1-CE4F-4CCF-870E-6D948744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38D-B908-46FC-8C55-2FF09CDE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21D-8FD0-42A6-92A1-609E92E7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86C-A2E2-433D-A828-7115EE71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ACD7-4BD1-4499-A121-A16ADB34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C45E-BEB1-4C4F-AFBB-6A9E8A70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F56-453E-4F17-A643-14D2E881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23F-D702-4F5B-A776-BA20646A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E81-A7D9-4FDA-90CC-B5ECF4DE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606F-E3E6-4816-B519-F6A9A0A8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AA2-6AC7-4E22-8341-282B8F34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A0DE-7A63-4884-8ACA-9D4CCB2AD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ther the Word B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eached or Read</a:t>
            </a:r>
            <a:br>
              <a:rPr sz="4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harles Wesley, 1783 (2 Cor. 3:5-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0574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Whether the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be preached or 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no saving benefit I g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from empty sou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or letters dea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unprofitable all and vai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ther the Word Be Preached or 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less by fai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word I h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ee i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avenly charac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Unmixed with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the Scripture gi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no comfort, life, or light to se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but me in dark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darkness lea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mplunged in deeper miser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ther the Word Be Preached or 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verwhelmed with nature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orest ill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pirit sav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letter kill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820800"/>
            <a:ext cx="883944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If God enlighte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hrough his W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 shall my ki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Enlightener bles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but void and nak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of my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hat are all verbal promis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ther the Word Be Preached or 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hing to m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ill faith divi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spire, inspeak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and make them m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 Jesus,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appropriating gr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’tis thine on sinners to bestow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Open my ey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o see thy fac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open my heart thyself to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ther the Word Be Preached or 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n I throug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Word obt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re presen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eternal 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5:45Z</dcterms:modified>
  <cp:revision>12</cp:revision>
  <dc:subject/>
  <dc:title>PowerPoint Presentation</dc:title>
</cp:coreProperties>
</file>