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AF5-0DD8-49E8-A6C4-D2527EBC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862-EA7F-4B9A-859A-1E6572D4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2BE-D190-4741-9ED1-74645448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040-1C29-4279-9301-831CD9FB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5252-9E11-4B06-A985-C6FF199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452C-8469-4C9A-B949-CC899DC6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43F-7F08-435A-9FAB-6EEE713E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23F-D319-48EA-A6C7-2EF409A0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87E6-4F6A-4085-BDB8-AEEFF22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111-2749-40FA-A6EF-BF3C317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94B-BDFB-4A50-94E3-73F8CA7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8D0-9926-4203-8A27-D5E9F7F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7DA-7CF0-4DEC-B7E8-5A63C7E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4D8C-3388-43E7-B624-64576B1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94FD-45DD-48A6-BCB0-1698ECD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63A8-8F69-461C-A622-AC3865A3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9B0-6B41-40C1-8C46-CD0F9248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C27-466E-40A9-BCD3-C30CAAB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EE5-5705-4470-9E9E-53CD25DE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4A9-D934-4AD8-A100-6764658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FAA-4DA7-4C19-A4EE-30BADA2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D43-D0F9-4571-8B1E-E0BB187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C10-9C80-4069-8E95-D055EB5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1C2-5D43-4C4D-B98F-F7F27CF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3743-D557-45FE-AD4D-14BFE7791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955-DF31-4268-83C8-5651DDA1B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ye thank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58080" y="175248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760" y="457200"/>
            <a:ext cx="8610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the song of harvest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 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 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096920"/>
            <a:ext cx="86104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ur Maker doth prov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wants to be suppli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le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orl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fie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uit as praise to God we yiel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t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to joy or sorrow gr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the bl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n the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e full corn shall app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arvest,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some gr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r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ll t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field shall in tha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offenses purg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ge at 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 so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ly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477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ise the song of harvest ho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all is safely gathered i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e the winter storms beg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8080" y="1371600"/>
            <a:ext cx="602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Henry Alford, 1844, alt. (Mk. 4:26-29; Mt. 13:36-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36:52Z</dcterms:modified>
  <cp:revision>31</cp:revision>
  <dc:subject/>
  <dc:title>PowerPoint Presentation</dc:title>
</cp:coreProperties>
</file>