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A0F-A4E7-42FB-8807-87E24259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1AC-1FAB-41F6-9694-E1BB00C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CE8-84E6-4006-BD48-54FAD0F8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56C-39C9-4E22-8E33-6FF03401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CC9-95DA-479E-B32E-B4B78ED2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81F-1A70-4303-9753-B8F138BC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D843-779D-4229-A2EE-7A98C687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948-0FB1-493B-A2E1-A2BF2A83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0AB-7FA7-4FE7-9A37-23CB0C36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425A-DE4F-4893-BE29-2167FCB1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B63-8F2C-417E-AE6A-154575C0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E90-A27C-4530-B0B9-CD8A889F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130C-A6B3-48A1-A493-450F7445D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hing but the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at can wa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way my sin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1066680"/>
            <a:ext cx="2806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Robert Lowry, 1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is is 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and peac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ighteousness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can mak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le again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or my pard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 se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y clean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 plea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thing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in aton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ught for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have don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precious is the fl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as s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fount I kn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but the blood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ut the Blo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56Z</dcterms:modified>
  <cp:revision>11</cp:revision>
  <dc:subject/>
  <dc:title>PowerPoint Presentation</dc:title>
</cp:coreProperties>
</file>