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67F4-AF71-4BB7-A3CE-AAC5CC18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A93-3D42-443B-AE8C-78C06D39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0FB-0FE7-4E01-8C9D-4B5AD9C2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D6D-8C46-433C-AECC-53CA7F2A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947-D79A-4616-B833-EF10D72E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5E3-BD4A-435A-A1CD-7549F320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7C8-B8E0-45B6-B5BB-12A44370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891-89B3-4D9B-A034-5D244175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71B-F181-4554-A03A-DFAEBA59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924-A3A7-4CF2-A7CE-1FD95C0A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9A16-DE87-43EF-A665-EC0BC248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2E2C-71DD-4415-88CD-6AAA966B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C74E-A102-44EE-83BD-D5E885F4F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Us Break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ead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45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break bread together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break bread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 (Acts 2: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45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drink wine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drink wine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me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,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praise God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our knees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on our kne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Break Bread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fall on my kn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rising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have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please.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if you pleas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2:53Z</dcterms:modified>
  <cp:revision>123</cp:revision>
  <dc:subject/>
  <dc:title>PowerPoint Presentation</dc:title>
</cp:coreProperties>
</file>