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CDC9-2B41-494F-B073-59FBA927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DEC-3A85-403E-8377-D8FECED6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A42E-5741-4049-ABDA-DD993F7C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09A1-310D-447D-A154-F7141301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126-32EB-4EE0-9F0E-DABDA5E4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B531-4D26-49B6-B665-2390ACC1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A53-7C5F-49A7-A17F-D76418B6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801-EEE4-4BBF-BEA5-F5D84F7E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528-F354-49C8-AB50-703585F4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343C-F101-49F0-BE1C-BA627664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6790-7139-4C56-9AC4-76C5208F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DE0-F971-4811-934B-BF9C83F4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CDA9-4B32-48B1-9049-E0D59F53B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ward Through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Forward through the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call divi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ederick Lucian Hosmer, 19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85680" y="1863720"/>
            <a:ext cx="71712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fts in differing meas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of one acc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ifold the serv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the sure rewa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ward through the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ider grows the kingdo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ign of love and ligh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it we must lab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our faith is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phets ha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claimed 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rtyrs testifi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ets sung its glory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roes for it di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ward through the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Not alone we conqu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lone we fa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ach loss or triump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se or triumph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83720" y="1482840"/>
            <a:ext cx="577692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und by Go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r purp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ne living who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we on toge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shining go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ff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ward through the age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unbroken l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ve the faithful spiri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call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Through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41:42Z</dcterms:modified>
  <cp:revision>64</cp:revision>
  <dc:subject/>
  <dc:title>PowerPoint Presentation</dc:title>
</cp:coreProperties>
</file>