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31F-2DA2-4AE4-A138-72E5CD18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9B2-AA14-4147-AA41-ED3443FF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2D7-7381-43BE-A637-B73E3110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172-210F-4788-B7EC-1BFEA266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34B-CFE9-43A3-95E1-3E1C3A65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1B4-97A6-45F2-AEC8-DC464A97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0AB-6B2C-4447-989C-AC221EB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CF9-0F6A-4ADC-94E6-71D49C89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107-E608-4FF0-A73A-0A6D47D1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D1F-7C0B-45EA-A0CD-84534090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FFF-086F-4D76-97D0-A4DB48B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CEA-2354-4E8B-BF86-1F05327F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DC1-B2F3-48F2-9A8C-E3F6BEBA1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was in the Moon of Winter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3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’Twas in the moo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wintertim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all the birds had fl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mighty Gitchi Manitou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nt angels choirs inste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by permission of Frederick Harris Music Co. L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9880" y="1066680"/>
            <a:ext cx="7538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ean de Brebeuf, ca. 1643; trans. by Jesse Edgar Middleton, 19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orest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eed of Manit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rth and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orn today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kneel bef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adiant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ring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y, peace,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ir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ars grew d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ters heard the hym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ithin a lo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ken b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nder babe was f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agged ro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abbit sk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wrapped his beauty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s the hu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aves drew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g loud and hig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earliest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inter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t so round and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as the 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lory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lpless infan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efs from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him kne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ifts of fox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ver pel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your King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glor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as in the Moon of Winterti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29Z</dcterms:modified>
  <cp:revision>16</cp:revision>
  <dc:subject/>
  <dc:title>PowerPoint Presentation</dc:title>
</cp:coreProperties>
</file>