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4AD-9CC5-4387-8BEE-311B65A0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DDE-4D85-4123-AAC1-FEDDEB9F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F623-2D2A-474C-B179-843E3A45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83C-7CCD-4B13-BE1D-A4057EBE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16E-1D4F-48DD-9BCA-E3A2B562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494-4927-4882-9991-FC8BE4BD6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CBF7-3D75-4E8B-A171-5F257DDF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BE1-6B09-4C12-9B01-F32D692A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992-8C5A-4D66-92EB-E2E1843A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5B33-E081-4CEF-BFAE-ADE4B5CB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CC4-3D22-4253-9928-7A7C6BF1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47D7-84BE-4B2A-80CF-DFBAB88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23A5-0EBA-4850-9887-8BE94D9CC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Love Divin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Loves Exc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Love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loves exce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oy of heav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earth come d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ddenly retur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vermore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mples le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we would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e thee 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host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 and praise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cea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y in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inish, th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new creati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ure and spot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u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see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eat salvat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ly resto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nged from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in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ake ou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cast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owns before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t in wond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, and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x in us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ble dwell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y faith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ercies crow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, thou 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compass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ure, unbou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e thou ar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isit us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alvatio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ter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embling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Breathe, O brea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loving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to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oubled bre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e inheri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find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cond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a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bent to sinn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pha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mega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 of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ts begin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liber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ve Divine, All Loves Exce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, Almigh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deli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u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y life rece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7:07Z</dcterms:modified>
  <cp:revision>131</cp:revision>
  <dc:subject/>
  <dc:title>PowerPoint Presentation</dc:title>
</cp:coreProperties>
</file>