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5D3C-69DC-4E4B-BA4D-191A912E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D95-34C0-4981-BB98-A3C00522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CD3-A113-4B16-BD6D-F414E538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257-E7A9-4DF0-A386-4E4A92B89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F09-7B70-4303-9A63-3D339CBC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CAB-34C0-4A3B-B084-BC505A19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D5E-53DE-41CE-916C-B1C5E873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A76-124C-4431-9442-609450F8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D70-7B46-4EB2-9570-A41A3EEB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8B8-8516-4DB5-BD91-09D746D9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68C-6096-4D8E-9CDD-0B6C13DD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546-5100-4EE1-BACA-00493E67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1E65-674C-4437-8737-483FB40E8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Sons and Daughters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U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ean Tisserand, 15th cent.; trans. by John Mason Neale, 1851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O sons and daughter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et us sing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King of heav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glorious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8380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thee,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ubilee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6. When Thomas fir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tidings hear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ow they had se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risen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8380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doubted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isciples’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7. “My pierced sid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 Thomas, se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y hands, my feet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 show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t faithless bu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elieving b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8. No longer Thoma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n denie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saw the feet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hands, the 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8380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 art my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God,” he cr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9. How blest are the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o have not se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yet whose fai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th constant be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or they eterna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shall w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8380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’er death and hel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ose triumph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That Easter mor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t break of d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faithful wom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ent their w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666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seek the tomb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ere Jesus lay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An angel cla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n white they s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o sat and spak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unto the th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380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Your Lord doth g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Galil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4. That night the apostl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et in fear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midst them ca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ir Lord most d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said, “My pea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 on all her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ons and Daughters, Let U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5. On this most hol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of day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ur hearts and voice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, we 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6:07Z</dcterms:modified>
  <cp:revision>74</cp:revision>
  <dc:subject/>
  <dc:title>PowerPoint Presentation</dc:title>
</cp:coreProperties>
</file>