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CFE-B745-479C-B461-138DE006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66B-34ED-43B6-97AF-A77C4613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9BC-049B-4695-AD1E-604AF876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9AE-6213-4E6D-9312-FCF4C347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0A74-C888-4D75-BC90-F1B91795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0F82-1C90-43C6-9A2A-D0ACA7B3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908A-AA12-4F82-B17A-0F0F356F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048-5693-4285-A6B2-2BB89FCC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2C2-AE64-4F9E-9580-20D83369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E2C-0C84-4EF3-88D6-4FD406CF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50A-BF0B-4360-8490-D78537F5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2E73-949B-4A77-8D95-635119B2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B8A-1F0E-430D-833F-A75E312E6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76312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ather, We Prais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22860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ather, we praise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ow the night is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ctive and watchfu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and we all before th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160" y="1066680"/>
            <a:ext cx="709200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ttr. to Gregory the Great, 6thncent.; trans. by Percy Dearmer, 1906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inging, we off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rayer and meditatio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us we adore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Monarch of all thi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it us for thy mansions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anish our weaknes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ealth and wholeness send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ring us to heave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thy saints united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 without end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All holy Fath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on, and equal Spiri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rinity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nd us thy salvatio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ther, We Prais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ne is the glory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leaming and resound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all creatio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02T17:54:59Z</dcterms:modified>
  <cp:revision>16</cp:revision>
  <dc:subject/>
  <dc:title>PowerPoint Presentation</dc:title>
</cp:coreProperties>
</file>