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23AE-BFE8-4D2F-915A-CFEA3CBF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E231-E046-4608-B196-4F7F242A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EAF4-BAAF-4899-BF2A-98EAE86E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0F88-7150-4984-8845-276B2D14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921-3248-4BD8-804D-D7FBB5CB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D766-AFC2-4C6B-A691-8F63E7E3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1F7-B90B-40D1-9B84-0AA547EF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F6F-6AF5-4B7D-B67E-A1BDC690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2EEA-4BDC-4477-A7E5-23EE82B6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A8D0-2DB8-457D-A6AC-1389BE95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A0D2-EDD3-4E6C-8379-08BB384D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876F-62B8-410F-9AC9-4F8F1E78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5AAF-7233-40D6-9C61-34F85DC97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312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The Lord’s My Shepherd,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I’ll Not W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13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24080"/>
            <a:ext cx="9144000" cy="16174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1. The Lord’s my shepherd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’ll not want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81120" y="1676520"/>
            <a:ext cx="4207320" cy="38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Times New Roman"/>
              </a:rPr>
              <a:t>WORDS: </a:t>
            </a:r>
            <a:r>
              <a:rPr b="1" i="1" lang="en-US" sz="1900" spc="-1" strike="noStrike">
                <a:solidFill>
                  <a:srgbClr val="333399"/>
                </a:solidFill>
                <a:latin typeface="Times New Roman"/>
              </a:rPr>
              <a:t>Scottish Psalter,</a:t>
            </a:r>
            <a:r>
              <a:rPr b="1" lang="en-US" sz="1900" spc="-1" strike="noStrike">
                <a:solidFill>
                  <a:srgbClr val="333399"/>
                </a:solidFill>
                <a:latin typeface="Times New Roman"/>
              </a:rPr>
              <a:t> 1650 (Ps. 23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9051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makes me down to li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pastures green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he leadeth m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the quiet waters by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2. My soul he doth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restore again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e to walk doth mak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in the paths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righteousness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e’en for his own name’s sak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29528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3. Yea, though I walk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in death’s dark val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yet will I fear no ill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 thou art with me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thy rod and staff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e comfort still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92800" y="191916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2193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4. My table thou ha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urnished in presenc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of my foes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head thou dost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with oil anoint,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my cup overflow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13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1430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5. Goodness and mercy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ll my lif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shall surely follow me;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nd in God’s hous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forevermore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my dwelling place shall b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243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ord’s My Shepherd, I’ll Not Wa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8:54:01Z</dcterms:modified>
  <cp:revision>31</cp:revision>
  <dc:subject/>
  <dc:title>PowerPoint Presentation</dc:title>
</cp:coreProperties>
</file>