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F7C0-F5BB-42EB-A232-AC8B4FAF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0517-84F1-4DD8-8EE2-3A7A54BC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4A6-6B40-47D1-93F4-64D3DD13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694-B015-4C2E-B2A5-359A7C94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F4A-FDA4-4F6E-9B91-59F3CC37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89ED-1B65-434E-84CD-3DBBD694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4D8-C745-4410-9DA7-C4CDF01C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DA0-DA14-4035-9891-519E5F22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1F2-B644-473C-84C0-72466603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6E2-8D06-41AB-903F-A1BD2BD0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D92-29A7-4C63-8513-ED411379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0F8-750E-451C-BDB3-3AF78994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A9FE-905B-4057-9F2B-1BEF47173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380880"/>
            <a:ext cx="93726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d of the Sparrow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d of the Wh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306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God of the sparr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wha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swirling star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83 Jaroslav J. Vaj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57520" y="1752480"/>
            <a:ext cx="390708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Jaroslav J. Vajda, 198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A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Prai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907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God of the earthqua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stor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trumpet bla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y Wo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y Sa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God of the rainb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cr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empty gr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G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Thank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God of the hung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sic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prodig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C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Lif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God of the neighb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fo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pruning hoo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es the cre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Pea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God of the ag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near at h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he loving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 your childr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Jo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do your childr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Hom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Sparrow God of the Wha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6:03:54Z</dcterms:modified>
  <cp:revision>41</cp:revision>
  <dc:subject/>
  <dc:title>PowerPoint Presentation</dc:title>
</cp:coreProperties>
</file>