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9089-78F4-49A7-8A0A-CAB2691E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622-26F1-4848-B37A-C24A62CD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E0A-5CF8-4D46-A66D-8EDF33FC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16A-EC27-4C10-B875-1128B53A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578-318C-4D0B-8720-DCAC7EF6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222-1E31-4CB8-A9B2-A9DFD1AF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601-C5FB-4FEB-BA67-82C667E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6FF-3D21-4D72-B089-A897B09F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A4E-DB40-4045-BB00-6E3C133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AD3-5CB9-43F0-A917-F9483324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52A-EF94-4F5E-A5BD-228D9E0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8956-DE80-495A-AAE9-A927D37F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CC8E-1051-470F-A6CC-DE8C65DC7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ing God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Fingers T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604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reat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fingers t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old design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thest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© 1979 The Hymn Society of Ame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83000" y="1600200"/>
            <a:ext cx="3868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effery Rowthorn,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sun and mo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ars and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at lies hid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your m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ustain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ands up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’s mysteries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yet unt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water’s fragi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nd with ai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abling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 your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Redeem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arms emb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now despi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creed or 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peace, desc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a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known on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l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ndwelling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gospel clai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amily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illion nam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od, Your Fingers T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ever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touched by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we praise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1:17:54Z</dcterms:modified>
  <cp:revision>24</cp:revision>
  <dc:subject/>
  <dc:title>PowerPoint Presentation</dc:title>
</cp:coreProperties>
</file>