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0180-9126-4F72-B174-F4D5B2DDD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E4A0-7136-4F8E-AAD1-D8DA81DD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1939-510D-4C80-A206-309EED933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CAAE-ED62-4875-934E-11468DAC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8167-7A91-455E-BDE6-FF3BA4FB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7D95-7887-4B58-9F4F-DA2CFCEC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B602-D1CB-4EB9-A17A-521C53AF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84CB-84E9-4A52-8287-D3AF5E6C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3621-8F2D-45E8-9650-D0F1EB08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2DCA-714C-4C20-886C-55EA4179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42AC-D86B-4DE2-991C-9D6EB525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6BBC-1A97-44BF-BC48-B880DEA0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6140-6CF4-48B1-9281-B378CE876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10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Little Town of Bethleh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O little town of Bethlehe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w still we see thee li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bove thy dee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dreamless slee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silent stars go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2440" y="1066680"/>
            <a:ext cx="414468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WORDS: Phillips Brooks, ca. 186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t in thy dar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reets shine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everlasting ligh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pes and fea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all the yea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re met in thee to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For Christ is born of Ma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gathered all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ile mortals slee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angels kee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watch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ondering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morning stars toge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oclaim the holy bi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praises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God the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peac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on eart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How silently, how silent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wondrous gift is giv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 God imp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human he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bless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his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 ear m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r his com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ut in this world of s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ere meek souls 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ceive him, st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dear Christ enters in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O holy Chi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Bethlehe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scend to us, we pr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ast out our s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enter 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 born in us to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ittle Town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 hear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mas ange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great glad tidings tel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come to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bide with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ur Lord Emmanu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3:58Z</dcterms:modified>
  <cp:revision>76</cp:revision>
  <dc:subject/>
  <dc:title>PowerPoint Presentation</dc:title>
</cp:coreProperties>
</file>