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537-545D-445C-9900-46C1B8EB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B1BC-0BAC-4AC6-9C60-3D2FEC43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0A56-1E98-41B7-9F31-2C5C1BC4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79D8-6096-4324-A2A6-E68524E99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59E-B5BD-4399-BC0B-0EA33905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ED1-7EF7-4C81-890B-ACE6443B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8312-4FFF-4573-ABA6-933FFDA1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E2E-F166-45E6-BF31-183DFB5E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5B0-885C-425D-AD15-EA597759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DFE-9271-4624-B2D4-C819653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84C4-49AD-4D41-AFC0-0AEEB1EE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FF0-7148-4FB0-BE27-24206E53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45D5-BF11-49DE-A2A5-CD9093765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lfred H. Ackley, 19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1952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I serve a risen Savio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’s in the world today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know that he is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atever foes may s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33, renewed 1961 The Rodeheaver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hope o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who seek h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help of all who fin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ne other 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o lo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o good and 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25600"/>
            <a:ext cx="9144000" cy="564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95360" y="1676520"/>
            <a:ext cx="8153280" cy="487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0440" y="2514600"/>
            <a:ext cx="678132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see his hand of merc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hear his voice of che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just the ti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need h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’s alway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5600"/>
            <a:ext cx="9144000" cy="56437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95360" y="1676520"/>
            <a:ext cx="8153280" cy="487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In all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orld around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see his loving car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hough my hear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rows wea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never will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know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is lead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rough all the stormy blast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 day o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is appear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ill come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25600"/>
            <a:ext cx="9144000" cy="5643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Jesus lives today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w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talks with m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ong life’s narrow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95360" y="1752480"/>
            <a:ext cx="8153280" cy="487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, </a:t>
            </a:r>
            <a:r>
              <a:rPr b="0" lang="en-US" sz="5000" spc="-1" strike="noStrike" baseline="-25000">
                <a:solidFill>
                  <a:srgbClr val="ccecff"/>
                </a:solidFill>
                <a:latin typeface="Times New Roman"/>
              </a:rPr>
              <a:t>(he lives)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alvation to impart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You asked me ho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 know he lives?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lives with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Rejoice, rejoi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Christia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t up your voice and s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ternal hallelujah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Jesus Christ the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5:17:30Z</dcterms:modified>
  <cp:revision>66</cp:revision>
  <dc:subject/>
  <dc:title>PowerPoint Presentation</dc:title>
</cp:coreProperties>
</file>