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5CE4-3A0D-42E3-A9A0-204EFDC02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CFAC-E348-4782-98A5-3692907D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DAE9-DE95-48AA-BFC1-5C8FEAB97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A842-972A-4B05-B11C-F2B51A206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2CA8-21D6-4C2A-BD52-A90FEDB8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1AE4-6B4D-4D4C-9D75-BE42731B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BA6C-245C-45DD-8941-20E4B1B0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4A1B-7B52-4B17-A678-93F859D5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8ED9-AD24-4D1A-A42E-94BAF625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1485-33E3-4934-B5A1-899D2E90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0CBB-F41F-41C7-826B-DB16418C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7104-E108-4B42-89EB-AD61CFD0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DA77-2643-44A2-932D-2C8FB14F2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less Thou the Gif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8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ess thou the gif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hands have brough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ess thou the wor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hearts have plann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 Thou the Gif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Samuel Longfellow, ca. 18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s is the fai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ill, the though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rest, O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in thy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7T15:27:33Z</dcterms:modified>
  <cp:revision>93</cp:revision>
  <dc:subject/>
  <dc:title>PowerPoint Presentation</dc:title>
</cp:coreProperties>
</file>