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9A85-6729-4059-9AC4-9EF2FF6D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FD86-299D-45C8-ACC9-5D16022C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61E2-D500-442F-A681-8DA656F3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56AA-3761-46E9-B7C7-B03CADA6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7F3B-7F2F-4819-AA7C-871230B9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1EAA-DAF4-45F7-9224-72E2EF7C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D782-7947-4141-B4C7-B79282E4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A65D-FBC0-48E4-B52E-EA4FC0A6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1D52-3620-4456-B293-ED3391A1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90F5-5C32-40C9-A5A6-A86C86E6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432F-CB4C-4D25-BC3D-65EE55BB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D87F-B2DC-418B-9680-0926A4CA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19A9-39A9-47A8-B23D-17B556C93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ift High the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645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t high the cro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ve of Christ procla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ll all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ore his sacred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74 Hope Publishing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0400" y="1066680"/>
            <a:ext cx="7421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George William Kitchin and Michael Robert Newbolt, 1916, al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Come, Christians, foll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is triumphant sign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hosts of God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nity comb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860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t high the cro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ve of Christ procla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ll all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ore his sacred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Each newborn serv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Crucifi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ars on the brow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al of him who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860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t high the cro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ve of Christ procla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ll all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ore his sacred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O Lord, once lift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 glorious tr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s thou hast promis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raw the world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860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t high the cro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ve of Christ procla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ll all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ore his sacred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So shall our song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riumph ever b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o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ucified for victo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t high the cro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ve of Christ procla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ll all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ore his sacred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High the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8:50Z</dcterms:modified>
  <cp:revision>22</cp:revision>
  <dc:subject/>
  <dc:title>PowerPoint Presentation</dc:title>
</cp:coreProperties>
</file>