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D18-589C-4C4E-919A-DA12254D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39FA-EAC0-4558-9C63-469EB9E8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A896-1B85-402E-9FE9-B1E32DAC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C98-7DC9-4A81-ABB3-EB7AF36C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F59B-D38F-4873-8C7B-9C4880FC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3791-E48A-4311-8369-AB219787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D35D-8809-4103-9CDD-EB81E45C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34E-3C65-47C6-8682-11AA7394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41E-0643-48E3-BBE7-F9F9AC73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8FAB-322C-444F-81A5-A0DB5CBA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E3C4-57C7-4036-AD36-BA024E3A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8185-01CE-495D-BDF5-633CB21A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399A-92A5-472C-8644-C0ED3140D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Battle Hymn of the Republ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Mine eyes have se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lory of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of the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of the Republi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29040" y="1166760"/>
            <a:ext cx="488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Sts. 1-4, Julia Ward Howe, 1861; st. 5, an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57184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is sifting out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s of m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his judgment sea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be swift,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nswer him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jubilant, my feet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God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67652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of the Republ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n the beau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lilies Christ w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across the se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of the Republ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57184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a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is bosom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ansfigures you and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he died to ma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n holy, let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e to make men f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God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75248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of the Republ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4382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He is com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the glory of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rning on the wa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of the Republ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57184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is wisd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mighty, he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nor to the br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the world shall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footstool, and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l of wrong his slav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God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718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is trampling out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intage where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rapes of wrath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stor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67652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of the Republ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hath loosed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teful lightning of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rrible swift sw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288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of the Republ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 have seen him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tch-fires of 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undred circling camp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of the Republ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7184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have builded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 altar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ning dews and damp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can read his righte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ntence by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m and flaring lamp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day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90512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glory,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truth is marching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of the Republ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4382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He has sounded fo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umpet that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ver call retrea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ttle Hymn of the Republ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2:40Z</dcterms:modified>
  <cp:revision>54</cp:revision>
  <dc:subject/>
  <dc:title>PowerPoint Presentation</dc:title>
</cp:coreProperties>
</file>