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C7B-655F-4EF2-AD3B-26B2A6EC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7EAF-97EE-407A-8DF6-DF52614E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8BC6-C6C2-4E99-887C-C8F4FB50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DBEB-35AB-4F7D-B224-38EE5591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63BA-69BB-45F5-BDFD-730C5399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2FA-7306-4849-A39E-DA6434DC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EA9-C4D4-45EE-A9D5-05408541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3B84-9C39-47D4-930F-E18CCB9C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48D-E938-48E7-9ED1-16ABF482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F4A-8BD4-4EE7-AB09-EDBFCCF3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2826-09F8-448C-9B7F-EBCDC311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27DD-B4C3-4D6A-8FEF-29E0825F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7BBC-D1A2-4493-B168-943AA2165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On Jordan’s Stormy Banks I St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01000" y="228600"/>
            <a:ext cx="114300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n Jordan’s stor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nks I st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ast a wishful ey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Canaan’s fa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appy l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my possessions l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9320" y="990720"/>
            <a:ext cx="298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Samuel Stennett, 17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hen I shall re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appy plac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ll be forever bl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I shall s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Father’s f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n his bosom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29528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who will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 with m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who will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 with m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’er all those w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xtended plai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ines one eternal d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God the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ever reig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catters night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6668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who will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 with m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No chilling wi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poisonous breath c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ach that healthful sho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ckness and sor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in and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felt and feared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6668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 Jordan’s Stormy Banks I St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who will 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o with me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am bound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romised l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8:59Z</dcterms:modified>
  <cp:revision>54</cp:revision>
  <dc:subject/>
  <dc:title>PowerPoint Presentation</dc:title>
</cp:coreProperties>
</file>