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A431-2A98-4F16-8DB8-C470F809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014F-5FA4-45F2-AC0E-504E67D5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5EC2-2869-4704-8B6E-9FC4826E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0110-4AD5-4790-BC20-3B245E72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EEBD-6368-401A-8941-812C81FE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7805-550A-423A-BD36-36B71B28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A7BC-567E-4EDE-A9A2-F2009CE5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3FAF-77C7-4EF6-B301-5726D363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A2A5-F6EF-41A1-B7BB-2F3F4AEE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5F8A-0781-4B89-A66B-C1DE2FF7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E51E-5758-4DCA-ADA7-B7028A10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86D1-BF83-44C7-AB9C-CB11E45E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4A8E-917E-42D0-913C-BB6994D5F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f the Father’s Love Begott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304920"/>
            <a:ext cx="12952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f the Father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begott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re the worlds began to b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is Alpha and Omeg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the source, the ending h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the Father’s Love Begott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7400" y="990720"/>
            <a:ext cx="74822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Aurelius Clemens Prudentius; trans. by John Mason Neale, 1851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and Henry W. Baker, 185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things that a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have be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at futu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ars shall 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more and 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 ye height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ven, adore him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gel hosts, his praises s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wers, dominio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w before h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xtol our God and K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the Father’s Love Begott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no tongu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earth be sile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voice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cert r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more and 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Christ, to th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God the Fa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, O Holy Ghost, to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ymn and ch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igh thanksgiv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unwearied praises b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the Father’s Love Begott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nor,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omin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ternal vict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more and evermore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8:34Z</dcterms:modified>
  <cp:revision>35</cp:revision>
  <dc:subject/>
  <dc:title>PowerPoint Presentation</dc:title>
</cp:coreProperties>
</file>