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011-385F-4136-9851-B6C06740F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F682-259B-4357-8262-11C71D9C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E63-863C-43AA-8F9A-2F21712E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C3E-3DCF-43F9-B16E-0056815D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819A-A769-4C92-81AF-242B2AC7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9DD4-F783-444E-BC63-124F53C4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845-6BCA-429A-9752-B0FD526C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000-C5E2-451D-96F1-F9A9CC66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329D-81BF-4279-A832-592AC6F0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E3E9-5DCF-407B-85BC-AA7519C2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A258-A05C-4384-B04F-A249309A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2E7-40F5-4446-8A95-CF209CD9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ECB7-D2E5-4094-BDAA-650108293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irit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John Wimber, 1979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7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O let the S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God enfold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s Spirit and his love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him fill your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atisfy your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9 Mercy Publis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et him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things that hold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is Spirit like a d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ll descend upon your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ake you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O Jesu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 come and 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song with gla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s y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filled with jo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ft your hands in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rrender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give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your tears and sadn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him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years of p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you’ll en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to life in Jesus’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O Jesu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nd fill your lamb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O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and fill your lamb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54Z</dcterms:modified>
  <cp:revision>102</cp:revision>
  <dc:subject/>
  <dc:title>PowerPoint Presentation</dc:title>
</cp:coreProperties>
</file>