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B260-D8D1-4895-A5A5-8A65B009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9AE6-33A4-4554-8844-9BD17E43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7A3F-DEC3-4B75-8FAB-30CF51E3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DBE-AB3F-4067-9198-5386D00E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A636-EC25-4751-872D-146C0BE7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689B-B21F-4D55-BE8F-D06ACEC6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3B73-C6CA-40FB-A042-A141128F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E4BF-544D-4B77-B0FB-1B87B017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44B7-F92A-4ACA-B166-5D8A80ED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3F6D-0174-4252-A976-28EB52FB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E52B-57A7-4B55-8FF2-1A67EFAA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5183-2BAB-4EAE-945D-5AE823F9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0C50-51E6-44E0-AE99-8D28C0E81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is Is the Feast of Vic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28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ntip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is the feas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victory for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8 Lutheran Book of Wo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Revelation 5:12-13; trans. by John W. Arthur, 19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Lamb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was sl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s begun his reign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935000"/>
            <a:ext cx="9144000" cy="31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Final Antip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is the feas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victory for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thy is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amb who was sl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blood set us f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 peopl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752480"/>
            <a:ext cx="9144000" cy="31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ntip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is the feas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victory for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wer, rich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sdom, and streng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onor, bles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lory are hi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35000"/>
            <a:ext cx="9144000" cy="31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ntip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is the feas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victory for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ing with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eople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join in the hym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all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935000"/>
            <a:ext cx="9144000" cy="31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ntip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is the feas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victory for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ing, hon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and m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o God and the Lamb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ever. 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676520"/>
            <a:ext cx="9144000" cy="316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ntiph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is the feas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victory for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Feast of Vict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8:13Z</dcterms:modified>
  <cp:revision>141</cp:revision>
  <dc:subject/>
  <dc:title>PowerPoint Presentation</dc:title>
</cp:coreProperties>
</file>