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05A-0393-4AD9-AC96-B5A66BC5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9B5-048E-4B36-811F-3FD4367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DA0-AF35-45BB-A048-8042EE34E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BD9-48CF-4A80-BF38-D2D056A6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2403-5520-4923-AF0B-169DCD4B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5E0-27A6-494C-BDA1-F6AE4E99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85B7-78B1-4E01-9D87-D4A35127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1C5-E3EB-4E9B-93B6-66464049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D9D-310D-421C-9082-34A3DDDF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9D2B-6096-4886-A013-95A60D11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D2D1-1416-45E1-86FA-2AB70243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459-AFDC-4AD8-BB7A-794492DA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1DD4-8CB1-408E-B099-5E18A43CE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yer of John Chrysost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John Chrysost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Book of Common Prayers,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Greek, 5th cent. (Mt. 1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91916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you have given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grace at this ti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with one accord to make ou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common supplication to you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you have promis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rough you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ell-beloved S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hen two or three ar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gathered together in his nam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you will be in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midst of th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fill now,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ur desires and petitio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s may be best for u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ranting us in this worl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knowledge of your truth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and in the age to c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life everlasting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38Z</dcterms:modified>
  <cp:revision>136</cp:revision>
  <dc:subject/>
  <dc:title>PowerPoint Presentation</dc:title>
</cp:coreProperties>
</file>