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308-E724-48A3-B7D4-09B95744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B91-872C-46A7-B522-96A6BF12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56C0-A531-435E-962D-3BE973A5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87F7-8BB7-4CD6-BED4-FE52BB15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2B5-E4AC-407B-8346-B27EB73E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E43-1AF9-4095-AC98-36E05AD6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BB0F-DEAE-4098-A7E4-CAD6191D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F2B-3BE7-4BA9-955E-940466D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7C3-0A76-411C-9121-E2C23AD2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B4F-ED4E-4AC2-8133-E28A68B1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9A2-F8C3-4C54-9B5A-A0A49894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224-F99C-47D9-8C5C-7A463A2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A347-F95F-4C19-99BF-E9646EE96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An Invitation t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Dimitri of Rostov, Russia, 17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42004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my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illumine my darknes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my Lif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revive me from death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my Physicia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heal my woun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A. R. Mowbray &amp; Co.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4778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Flame of divine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urn up the thor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my sin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kindling my hear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 the flame of thy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90648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my King, sit up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throne of my hear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reign ther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thou alone art my K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my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05:10Z</dcterms:modified>
  <cp:revision>155</cp:revision>
  <dc:subject/>
  <dc:title>PowerPoint Presentation</dc:title>
</cp:coreProperties>
</file>