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082-587B-4A92-97F1-DC3417AC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720-FD07-4333-81B1-6E37EED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731-F4ED-402F-88D9-BFA075524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6B9-BDB9-4D8B-8494-5856CDE8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A38-FB02-4FF5-A299-08920D0D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56-1D53-4424-9EE5-E8D42FCF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3A2-4F01-4694-AB1A-ABF6B0F7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4D8-3BD7-4451-BF61-26328131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DE49-7E4A-45D6-A5E6-9A95676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7A9-9A9E-41FF-861E-A743A1FB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591E-DEE1-4F67-BF42-0A17BFB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08A-B3D8-458A-9CCA-DD8F002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517A-154C-4E2F-8978-6B8C1AB2D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rd, Speak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Frances R. Havergal, 1872 (Rom. 14: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rd, speak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living ech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y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thy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I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rest, thy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glory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hast s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let me seek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ring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and 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strengthe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hile I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m on the r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trong in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ay stretch 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oving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restler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oubl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 teach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t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precious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os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ng my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idden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any a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 fill me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fullnes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my 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o’er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kindling th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lowing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ove to t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praise to sh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Speak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O use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se eve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as thou wil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hen, and w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52Z</dcterms:modified>
  <cp:revision>158</cp:revision>
  <dc:subject/>
  <dc:title>PowerPoint Presentation</dc:title>
</cp:coreProperties>
</file>