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4494-81EA-4A90-A603-5C693D0F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24FE-779A-4B1B-B7C8-8A4CCB3A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E53A-D86C-4657-AB8F-683D9DC5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6D73-C6E5-4D27-ADE5-E2AA69FE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BEEB-C1BD-4DB2-A30D-5A2F189B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62BA-51FD-4076-B9A5-C9E1A11E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66EA-E9B8-4EC1-AAD3-D23DFFA7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0717-3246-418E-94C9-C14D671D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00F2-2FDB-4928-9F8D-422DFDA5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9D42-184C-4537-892E-2E713EB4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F41-13C0-4623-A578-DE2CD77E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592F-9864-478B-BDF1-1B6821EB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3D00-93B5-4A69-9FA3-E1B1FFE5E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924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esus, Keep Me Near the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Fanny J. Crosby, 186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Jesus, keep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ar the cros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a precious foun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ee to all, a healing strea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lows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lvary’s mount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cross, in the cros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my glory 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my raptu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l shall f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t beyond the ri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Near the cros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trembling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and mercy found 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the br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orning st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eds its beams around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cross, in the cros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my glory 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my raptu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l shall f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t beyond the ri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Near the cros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Lamb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ng its scenes before 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lp me wal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day to d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its shadow o’e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cross, in the cros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my glory 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my raptu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l shall f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t beyond the ri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Near the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ll watch and wa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ping, trusting 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I rea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olden str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ust beyond the ri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Keep Me Near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cross, in the cros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my glory 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my raptu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l shall f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t beyond the ri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4:41:22Z</dcterms:modified>
  <cp:revision>57</cp:revision>
  <dc:subject/>
  <dc:title>PowerPoint Presentation</dc:title>
</cp:coreProperties>
</file>