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135-2132-4EA9-9D90-72EDDC04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13C-EDDD-4865-85F3-36340DB4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84E-E0D5-43D0-B8F2-BBDC956FE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3EC-6993-4F07-9FDD-5C7C1A72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5326-23EF-4BED-A1E0-4E71530A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842-8E19-4365-BCC3-A2401CB2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002-19CE-4A9D-BC84-C99BA98A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92E-AE2A-4311-B0FD-DE289420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D23-0FE0-459A-9740-E05843BE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665-6076-4EAC-9EF6-89849008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6FC-9956-4ADE-828D-6B2CA029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0382-66D9-45D1-A63F-9AD34A17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4044-558A-4AEA-AB77-4E1564821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ant a Principle With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want a principle with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atchful, godly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ensibility of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ain to feel it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2640" y="113976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ant the first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roach to fe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pride or wrong desi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atch the wand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my w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quench the kindling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rom thee that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may st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 thy goodness grie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me the filial aw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pray, the t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cience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ick as the ap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od, my conscience mak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ke m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sin is n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eep it still aw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lmighty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ruth and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e thy power imp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ntai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oul rem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rdness from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a Principle With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ay the least omission p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reawakened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rive 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lood a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make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unde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46:02Z</dcterms:modified>
  <cp:revision>25</cp:revision>
  <dc:subject/>
  <dc:title>PowerPoint Presentation</dc:title>
</cp:coreProperties>
</file>