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BD27-AC21-4245-AD87-2C1F4913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B2B-ED07-4BBC-9A2C-4FE7CC2D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DB3-3292-40CD-A376-0DCD45E4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B482-4020-44D6-896C-4AB49CF0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FA3-B5D2-4FF1-8087-A06DCB51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82F-15B5-4C68-8935-32E0ADCE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6182-B269-4694-80B5-1DB6D841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B3A-AD55-41E7-86FF-624EB139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18A-A9F9-4B67-A3B1-F83EFF78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C2E-72BF-41DE-9691-22F595C4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DC8-5EFD-4147-B22B-87FD8B1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492-4E6E-4DCF-954A-DFF14D35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46A2-FF1B-4EEC-9DB0-BDA4D4189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ll Things Bright and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66688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1000" y="990720"/>
            <a:ext cx="64321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WORDS: Cecil Frances Alexander, 1848 (Gen. 1:3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860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od gave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yes to see t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lips that we might te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reat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7432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Each little fl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ope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little bird that s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made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wing colo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de their tiny wing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he purple-hea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unta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ver running 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uns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mo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brightens up the sk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590920"/>
            <a:ext cx="9144000" cy="310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br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utifu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creatures great and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ings w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fu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de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cold w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i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pleasant summer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ipe frui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garde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made them every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Things Bright and Beautif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58:28Z</dcterms:modified>
  <cp:revision>8</cp:revision>
  <dc:subject/>
  <dc:title>PowerPoint Presentation</dc:title>
</cp:coreProperties>
</file>