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6212-9681-467A-9408-D465A842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AE4-635C-47A9-87EC-38E167C7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711E-ECAA-4792-B10B-89C02795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CDF6-5E8B-4B86-AD01-C545A6BD3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D6C-A029-425C-880A-FD15B9E6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ADA-7FA2-4370-BBCA-6FCD122F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88ED-A614-42EE-A2D2-DFE2AAB5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213-9B28-44A9-97CE-4DF5A240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3BA-A12C-44C2-9971-7B730777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9C7-3040-43F6-857F-2FB449A1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EAA-A11D-41B3-947F-38C789D5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3118-21D5-4D80-89A2-3EB8B779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75F6-D386-40C4-BC2A-6FBF02110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eave It T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If th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you withh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its silver and its go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 have to g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one with meager f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Albert Tindley, ca. 19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make a way for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ll lead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fely throug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46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your youthfu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ys are d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ld age is stealing 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r body be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the weight of car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never leave you th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’ll go with you to the e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219320"/>
            <a:ext cx="9144000" cy="46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remember in his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he feeds the little bi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14400"/>
            <a:ext cx="9144000" cy="46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f your body suffers p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r heal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can’t regai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r soul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most sinking in despai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knows the pain you fee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can save and he can hea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14400"/>
            <a:ext cx="9144000" cy="4651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you trust and never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will surely bring you ou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your burd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ord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 it ther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leave it the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your enemies ass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your hear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gins to f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n’t forget that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eaven answers praye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ve It The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23:02Z</dcterms:modified>
  <cp:revision>49</cp:revision>
  <dc:subject/>
  <dc:title>PowerPoint Presentation</dc:title>
</cp:coreProperties>
</file>