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B717-9FC7-442A-B9D7-45BFB879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71F-A2D0-40A7-8500-21CA1F9C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EAE-8AB7-4456-B298-3E0995AB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F91-540B-41B9-997D-617E6FBB3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98A-ED8C-4818-88C2-71389EDB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E94-F125-4DDE-8845-564731BB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9C8-9FD0-4E8A-9DCC-C39F98CC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021-9203-4316-9242-7065BB9A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2BA-CDC5-4A91-8347-D0548F4F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6E0-D19F-41DB-8886-2F24D143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33BB-1FD0-4B1C-8CCC-C6A7DDC9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EF6-71A4-4759-9211-F178C0F5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4EAA-AC06-4D40-99AA-AFF51B682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Praise to God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Venite Exultemu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come, let u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the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heartily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streng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salv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1600200"/>
            <a:ext cx="3410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Psalm 95:1-7; 96:9, 13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0. Glory be 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Holy Gho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it was in the begin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now, and ever shall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ithout end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t us come bef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presence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giv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w oursel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 in him with psal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or the Lord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great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great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ve all go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his hand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corners of the ea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treng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hills is his al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 sea is h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made i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h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pared the dr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O come let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ship and fall d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kneel bef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our Mak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For he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ur G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the people of his pas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heep of his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8. O worship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beauty of holine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whol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 in awe of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9. For he com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e com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udge the ea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h righteous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udge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peop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is tru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ise t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27:58Z</dcterms:modified>
  <cp:revision>7</cp:revision>
  <dc:subject/>
  <dc:title>PowerPoint Presentation</dc:title>
</cp:coreProperties>
</file>