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B60E-3F7C-4289-8F7A-27659A30D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5A1-E9E6-4125-A65D-F4DE3AE0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497-190A-495D-899F-E093052C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E3DB-F900-41FF-B065-0AF904B2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B574-8141-4362-9D9C-78FC2BB8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B8C-C7C5-4BB0-9058-EF9FB724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641B-DE67-49F3-A1AA-1371630A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C24-AF63-42AB-816A-A7F48F65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F89-DE1B-4F5D-B531-ACFE7C72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765-AC16-427E-9AAF-66C1774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F63-C461-4284-B531-09E7BFEC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A265-4528-4AE7-AE9B-5126C37C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F938-8C3E-4EE9-8EA4-722E76E07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llelujah! What a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an of Sorrow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a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Son of God, who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uined sinners to recla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0200" y="1015920"/>
            <a:ext cx="431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Philip P. Bliss, 1875 (Is. 53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Bearing sh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coffing ru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my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demned he sto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aled by pard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his bloo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Guilty, vi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elpless w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potless Lamb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was h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atonement can it b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Lifted up was he to di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t is finished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s his c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xalted high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When he com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glorious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his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me to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n anew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g we’ll s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llelujah! What a Savi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llelujah! What a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02:39Z</dcterms:modified>
  <cp:revision>28</cp:revision>
  <dc:subject/>
  <dc:title>PowerPoint Presentation</dc:title>
</cp:coreProperties>
</file>