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29B-51E6-4CF1-A62E-11D2225C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BA3-4D86-4D2C-9AC4-43CE4F96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504-616E-4787-9EEA-1A7C3C13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578-65DC-4DFE-8C1C-2DBE41999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FB3-EF15-45F3-9AE1-3035F1E0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8FD-6D98-4C37-B60D-6CED6F0C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1A28-8D0F-4791-AD5F-8D1D0778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D1F-85C9-4EB1-8F17-76219FA6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AB49-6641-46B6-A0DE-0B9B457C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190-E2FB-4FA6-AE96-711196B4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5F17-9E65-41FB-986B-C7E7CFB1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9D0-5574-4A7D-87D0-043574E6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72CA-FDB2-4672-BAF4-78A7299FD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very Time I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eel the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time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7720" y="1749600"/>
            <a:ext cx="47649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frican American spiritual (Rom. 8:15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, every time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, every time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Upon the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 spok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t his mou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me fire and smo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ar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 looks so 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k my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all w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time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, every time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Jordan r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uns right co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ills the bo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the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in’t but 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ain on this trac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uns to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ight bac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time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l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ving in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ry Time I Feel th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11:13Z</dcterms:modified>
  <cp:revision>25</cp:revision>
  <dc:subject/>
  <dc:title>PowerPoint Presentation</dc:title>
</cp:coreProperties>
</file>