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5DD-F4E0-46A2-BC2D-149D2838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108-301A-4A85-B271-31233301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3CC-4020-48DE-AEC7-297A5508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128-29B0-4C99-8C09-A8A39586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49F-D9B8-4C0A-BC0D-A585F240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A17-72A3-49AC-AAD3-9409697B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340-9EC8-46D5-A1E5-60AC4301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2B8-DF5A-4A56-B549-296AE13C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C55-C937-4539-B85A-9221D33C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DD94-0365-4546-A673-1E1D300D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16C-39F9-44BF-AF58-A75E1D64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18D-BD10-42A0-9764-F044B7A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2DC0-9629-45C7-987F-6B43D2130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ive Me the Fait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ich Can Rem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ive me the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can rem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k the moun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 p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20640" y="1600200"/>
            <a:ext cx="4320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9 (Mk. 11:20-25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large, infl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ll m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bound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rity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shall I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trength exe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ve them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zeal like th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ad them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open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heep for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hepherd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me the child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ing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longs to bu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ous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love, let 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eart o’er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y sim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devou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 would the prec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 rede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nger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s al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end an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spent for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have not y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kn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lly on the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mission pr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ly breat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reathe th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talents, gif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aces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thy bl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nds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Me The Faith Which Can Rem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me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preach thy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t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lory l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every sac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ment sp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publis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inner’s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6:12:44Z</dcterms:modified>
  <cp:revision>9</cp:revision>
  <dc:subject/>
  <dc:title>PowerPoint Presentation</dc:title>
</cp:coreProperties>
</file>