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EE61-6438-476A-8ADA-316D052C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46B-60AC-4F33-A262-B3B7F090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042-C152-462D-BBCB-915A4023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8C3-E931-4295-9A42-6D0DA635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70E-5355-4068-9384-D9970220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451-5FE6-460F-BCB5-68516338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F29-A0DA-466E-9D4C-4C9B93DD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2BE-E63C-4523-8EE5-E9B50082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CA1-6E89-443F-B235-3DFA8A29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8CF-256B-4883-8B50-C96B0660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86C-EC18-4C51-AF09-23B24AE1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B72-80E1-4617-8720-A4C6E57C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8283-8981-462E-B4E4-475813949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onely the Bo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Lonely the bo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iling at se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ssed on a c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ormy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7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90720"/>
            <a:ext cx="73299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Helen Kim; trans. by Hae Jong Kim; para. by Linda and Doug Sugano; </a:t>
            </a:r>
            <a:br>
              <a:rPr sz="1600"/>
            </a:b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versed by Hope Omachi-Kawashima, 1987 (Mt. 8:23-27; Mk. 4:35-41; Lk. 8:22-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“Storms in our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uel and c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rely will arise ag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eatening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eatening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life’s wil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ful and gre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hand is th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rmly in control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calm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s from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 comes to my lone soul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uel the se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seemed so w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waves so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single shi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iled the deep se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aight into the gal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 is the per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ngers to all ass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trong winds ar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their r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ssing the tiny lone boa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ves billowing h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ssing the bo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t and afloa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ilor st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ing what to d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helpless was h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ing what to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rembling with f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ep in despai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ing for help all ar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ilor sa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ght from abov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Help can be 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God is 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y small bo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anding by my s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I trust in the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in my lif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“Pleading for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rcy, 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n a sinner like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mand, 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lm to the se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Galil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ely the Bo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ase save my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all dang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nt a peaceful lif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pl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merciful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imes of calm and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56Z</dcterms:modified>
  <cp:revision>18</cp:revision>
  <dc:subject/>
  <dc:title>PowerPoint Presentation</dc:title>
</cp:coreProperties>
</file>