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47C2-4A9A-4D7E-8DBF-A3A7F8BC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1497-BBEF-49E6-B154-3881FA4A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F398-F86E-486E-A726-70FCB113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F4BA-508D-4FCD-8C75-472D6998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0994-3A29-4BA2-90D5-66DEFBA8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060F-EDB9-4C9B-B91C-70EEB614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9CB7-AF74-4D58-9206-66D4C6DB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DA7C-528E-4821-9BDB-808D7F0F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E3C1-7C31-4D5D-87BD-74BF143F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199C-12AC-4D30-950A-6B545423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AA4F-1F9B-4344-9989-EE0AC1AB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84F3-A1A2-44D0-A1E8-8AD99E93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2652-313D-4146-8AA6-93BB9AA13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et All Mortal Flesh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Keep Sil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2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Let all mortal fles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eep silen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ith fear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embling stand;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Mortal Flesh Keep Sil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Liturgy of St. James, 4th cent.; trans. by Gerald Moultrie, 1864 (Jn. 6:35-58; Rev. 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At his fe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ix-winged serap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erubim, wi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leepless ey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Mortal Flesh Keep Sil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eil their fac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presen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with ceasel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oice they cry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 Allelui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Most Hig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nder noth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thly min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with bles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his ha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our God to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scende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full homa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dem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 of kings, y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 of Ma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of old 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th he sto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Mortal Flesh Keep Sil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of lords,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uman vest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bo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e bl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will giv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e faithf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own sel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heavenly f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ank on ran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ost of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reads its vangua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All Mortal Flesh Keep Silenc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the Light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ght descende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realm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dless d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he power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ll may vanis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the dark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ears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32:01Z</dcterms:modified>
  <cp:revision>128</cp:revision>
  <dc:subject/>
  <dc:title>PowerPoint Presentation</dc:title>
</cp:coreProperties>
</file>