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F595-3426-45D5-8B2D-749370E5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41B4-F828-49A3-83A9-D1220CCB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6DC9-D64D-4E21-9A5B-5BD44BE3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C51B-6A35-4C06-8B8F-026E273A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D3CE-C645-424B-B323-162A6CBC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6DF2-74C8-474A-968D-6CC89567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0911-0C56-48CB-9AD5-7A9213ED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B1E2-358E-4470-9E8B-3BD6A44B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ED76-AC71-49DD-B442-EED56429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C49C-E923-422A-978F-D29AC86C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650F-386E-479B-B840-D56AE820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0B62-742C-4534-9059-A5B772F5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9FFD-7C45-4FB7-AB45-28898D06F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 Need Thee Every H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I need thee every hou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st gracious L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tender voice like thi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n peace aff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73000" y="1066680"/>
            <a:ext cx="38246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nnie S. Hawks, 1872 (Jn. 15: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need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I need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hour I need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bless me now, my Savi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com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need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I need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hour I need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bless me now, my Savi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com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I need thee every hou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y thou nearb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mptations l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thou art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need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I need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hour I need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bless me now, my Savi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com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I need thee every hou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joy or pai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quickly and ab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life is v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need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I need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hour I need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bless me now, my Savi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com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I need thee every hou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ach me thy will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y rich promis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e fulf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need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I need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hour I need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bless me now, my Savi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com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I need thee every hou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st Holy On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ke me thine inde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blessed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Need Thee Every Hou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0T19:51:45Z</dcterms:modified>
  <cp:revision>18</cp:revision>
  <dc:subject/>
  <dc:title>PowerPoint Presentation</dc:title>
</cp:coreProperties>
</file>