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A5E-C04F-4656-806A-748CD9A4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E6F-7BBB-4B35-9DB6-60F8145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C59-6650-42CB-ABEB-9FF3EB3A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F4B-7083-44EC-ABD1-C7CB17B6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242-903E-43AD-88D3-CE5F110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5817-6A07-4C58-AABD-27AFAF74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BD5-A856-4082-A781-72FCCB6E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146-C913-42BE-BC8A-A4391BD3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063-17F7-4F72-936D-4FA3832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7B0-C753-4C4E-B217-27F0E80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67A-CB66-4C4F-B1AD-FA3E4F5C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9775-2DBA-4F0F-AC02-3DA170E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FAE7-83F5-4736-B731-80EC1D890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Bleak Midw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 the bleak midwi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sty wind made mo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arth stood hard as ir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er like a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8040" y="990720"/>
            <a:ext cx="5824080" cy="41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Christina G. Rossetti, 1872 (Lk. 2:8-14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had fall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now on s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leak mid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ur God,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not 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earth sust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flee a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he come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bl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d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table place suffic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ngels and arch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y have gath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erubim and serap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nged the ai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his mother on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r maiden bli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ed the bel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 k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at can I giv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or as I am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a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bring a la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Bleak Midwint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I were a Wise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ould do my 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what I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giv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15:30Z</dcterms:modified>
  <cp:revision>67</cp:revision>
  <dc:subject/>
  <dc:title>PowerPoint Presentation</dc:title>
</cp:coreProperties>
</file>