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F71F-82D3-4356-83FF-CBA0627B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111F-4D50-4EFE-A898-42D8DE36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BC10-BC4D-4BDB-9EBF-C84EF739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C141-2E7A-4652-9E26-315A50EF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1B89-853C-49D3-94E0-93A61A94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4E9A-5757-456F-9C69-383DDAC6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9741-D40C-4FF2-AF0C-AF7A89FB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045F-D608-4312-993C-08005535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D3DD-0247-48F5-BDB5-07317AA2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A8CF-FEEF-4DDD-95AB-75FBF9BD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27E6-08BC-42C1-BC89-D07DDA30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2179-4E93-4963-AC0D-0A28FC5E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820C-5106-4B15-8A57-1D2946C44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229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, How a Rose E’er Blo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56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99ff66"/>
                </a:solidFill>
                <a:latin typeface="Times New Roman"/>
                <a:ea typeface="Arial"/>
              </a:rPr>
              <a:t>1. Lo, how a Rose</a:t>
            </a:r>
            <a:br>
              <a:rPr sz="4900"/>
            </a:br>
            <a:r>
              <a:rPr b="1" lang="en-US" sz="4900" spc="-1" strike="noStrike">
                <a:solidFill>
                  <a:srgbClr val="99ff66"/>
                </a:solidFill>
                <a:latin typeface="Times New Roman"/>
                <a:ea typeface="Arial"/>
              </a:rPr>
              <a:t>e’er blooming</a:t>
            </a:r>
            <a:br>
              <a:rPr sz="4900"/>
            </a:br>
            <a:r>
              <a:rPr b="1" lang="en-US" sz="4900" spc="-1" strike="noStrike">
                <a:solidFill>
                  <a:srgbClr val="99ff66"/>
                </a:solidFill>
                <a:latin typeface="Times New Roman"/>
                <a:ea typeface="Arial"/>
              </a:rPr>
              <a:t>from tender stem hath sprung!</a:t>
            </a:r>
            <a:br>
              <a:rPr sz="4900"/>
            </a:br>
            <a:r>
              <a:rPr b="1" lang="en-US" sz="4900" spc="-1" strike="noStrike">
                <a:solidFill>
                  <a:srgbClr val="99ff66"/>
                </a:solidFill>
                <a:latin typeface="Times New Roman"/>
                <a:ea typeface="Arial"/>
              </a:rPr>
              <a:t>Of Jesse’s  lineage coming,</a:t>
            </a:r>
            <a:br>
              <a:rPr sz="4900"/>
            </a:br>
            <a:r>
              <a:rPr b="1" lang="en-US" sz="4900" spc="-1" strike="noStrike">
                <a:solidFill>
                  <a:srgbClr val="99ff66"/>
                </a:solidFill>
                <a:latin typeface="Times New Roman"/>
                <a:ea typeface="Arial"/>
              </a:rPr>
              <a:t>as those of old have sung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66"/>
                </a:solidFill>
                <a:latin typeface="Times New Roman"/>
                <a:ea typeface="Arial"/>
              </a:rPr>
              <a:t>St. 3 © 1940, 1942, renewed 1971 The Church Pension F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ow a Rose E’er Bloom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8160" y="1143000"/>
            <a:ext cx="7189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Sts. 1-2, 15th cent. German; trans.  by Theodore Baker, 1894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t. 3 from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The Hymnal,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1940 (Is. 35:1-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t came a floweret bright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mid the cold of winter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hen half spent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as the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2. Isaiah ’twas foretold it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Rose I have in mind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th Mary we behold it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Virgin Mother 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ow a Rose E’er Bloom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show God’s love aright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he bore to us a Savior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hen half spent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as the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3. O Flower, 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hose fragrance tende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th sweetnes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ills the air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dispel in glorious splendo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darkness everyw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ow a Rose E’er Bloom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rue man yet very God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rom sin and death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now save u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share our every lo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9:48Z</dcterms:modified>
  <cp:revision>61</cp:revision>
  <dc:subject/>
  <dc:title>PowerPoint Presentation</dc:title>
</cp:coreProperties>
</file>