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A03-7E82-465A-B6B4-C39A90F3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1A00-6E5B-454F-AFFA-62788613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FADC-CD1A-4892-ABF6-D920C071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B20-8B56-4919-B5E9-0035DBBF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496-835C-43E2-A880-1EA3FA75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D97-52E5-42E1-BE1B-725FDF50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7699-BAAD-46C0-A1D8-29EB5912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4C3-40E7-45CC-9379-05B4B4F8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007-9049-4117-A4E2-2734079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9E0-4818-4BD0-A3FA-18D31F1F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880-3620-42C2-BDF1-F022A998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8D7-779F-46FA-A842-A86A3EA4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0258-1FDD-4DC3-B7E3-0A1ECD158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God Wh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aped Cre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God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ped cre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earth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otic da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7440" y="1600200"/>
            <a:ext cx="5051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William W. Reid, Jr. 1987 (Gen. 1:1-3; 26-2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never c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earch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evil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some m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hen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ease our run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jo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God, abou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joy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arching wom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reasured co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O God, w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inkets tarn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leasu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e their ch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, wearied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wande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eek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ed 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mother-li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pas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share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rm emb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set for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anqu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al us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In merc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mpas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oo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reveal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ender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touc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roken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hea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claim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your childr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strip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ideful sh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word of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 spok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!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 was g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89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free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rn of merc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bless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framed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your im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br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into bir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blessed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fant footst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hared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lendored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God, with p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ngui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mother se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 chil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mbark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dend path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uring, but defil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too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 is br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hat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ust incr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orlds you birt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urtu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urn ways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to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lthough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 is br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peo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corn your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Who Shaped Cre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53Z</dcterms:modified>
  <cp:revision>17</cp:revision>
  <dc:subject/>
  <dc:title>PowerPoint Presentation</dc:title>
</cp:coreProperties>
</file>