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D34-7C86-4472-8F9E-6313D65D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A40-418C-41C4-BB71-96C06918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D9D-DF4E-4667-B7E3-30BD9199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CCA-E2C5-4A30-9F66-8EEA5228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99B-F13B-446A-A1FC-580804DA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D29-CD4E-4F06-9129-4C2E3F3E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541-ED3D-42AA-BE6A-29E0CC6B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E5C-E680-42A0-A295-AFC7A635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C04-70CC-44FA-8184-64C083D2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60EF-D645-4ED4-8D2A-6AE1E5AA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DAC-10DD-410F-AC9D-4F3A6DB4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C3B-9C8E-4FFC-9469-B00EA412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FA56-C657-49CF-BB46-DC9E78605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nticle of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76520"/>
            <a:ext cx="9144000" cy="458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e do not know how to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pray as we ought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ut the Spirit intercedes for 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ith sighs too deep for words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apt. from The Revised Standard Version of the Bible © 1946, 1952, 19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94720" y="914400"/>
            <a:ext cx="624456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omans 8:26; Luke 11:9-10; adapt. by Alan Luff, 1962, alt.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sk, and i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given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, and you will fi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ck, and i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opened to you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do not know how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 as we ou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ercedes fo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ighs too deep for wor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 all who ask rece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who seek fi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ose who kno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will be opene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do not know how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 as we ou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e Spir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ercedes fo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ighs too deep for wor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44:00Z</dcterms:modified>
  <cp:revision>28</cp:revision>
  <dc:subject/>
  <dc:title>PowerPoint Presentation</dc:title>
</cp:coreProperties>
</file>