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5BB3-2DC4-4213-8F03-C31209DC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067-2B53-4BD2-8729-4BA92C86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C2D-1759-42FC-8E47-4A44E5E0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A9D-8B9F-44B7-8F49-0F8F8777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404-1ABD-47A1-8A1E-60C7C2B5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1C2-6B1F-49CE-9BF8-D18EEA4F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9F9-DE5F-4FEF-ADCE-7A6C94C4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9E9B-CA80-4D6F-BECD-C6C4C624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012-D329-4006-824F-19694158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C8E-C517-4466-991E-D6101643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75E-CCC5-4927-BB1A-52537AB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0C9-BE65-4D5D-B7A9-186EC2C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3CB6-B2C7-422B-9F7E-E93FBEA28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Us Now Depar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y 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Now Depart in Thy Pe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New Mexican folk song, adapt. by Lee Hastings Bristol, Jr.,  1961 (Lk. 2: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95480"/>
            <a:ext cx="9144000" cy="33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now depar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y peac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ed Jesus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Adapt. © 1961 Concordia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0574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nd us t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hom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God’s lov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not the busy worl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laim all our loyalties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us ever mindfu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ear Lord, of thee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3:02Z</dcterms:modified>
  <cp:revision>162</cp:revision>
  <dc:subject/>
  <dc:title>PowerPoint Presentation</dc:title>
</cp:coreProperties>
</file>