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7E2-3A51-4F05-8BC6-31A82F9A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37E-DC07-4EC4-92E3-8419E3E9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D55D-AF49-4DAF-B765-3AEB4489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F4A-A637-47FC-AF30-01D60252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D88B-ECF0-4752-B08C-6F2780E8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085C-D9C8-42B1-801F-A7F63A92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104-6C6B-4139-8343-D652EE19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8904-539C-4560-A197-4258425D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122-4520-42E4-882F-8CFFB17D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6ED-8B35-4915-B299-4D9D88CF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F54-075F-4FC5-B3D6-24C2426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C0C-9738-450D-8375-D6C86DCB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377D-AAB4-43F2-AE5A-9E689AB7E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Precious Lord,</a:t>
            </a:r>
            <a:br>
              <a:rPr sz="4000"/>
            </a:b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Take My H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27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on, let me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tired, I am wea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wo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38 Hill &amp; Range Songs, Inc., renewed Unichappell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1160" y="1662120"/>
            <a:ext cx="3179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Thomas A. Dorsey, 19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stor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o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e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47920"/>
            <a:ext cx="8763120" cy="314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n my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ows dr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 linger n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almost g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my c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 my c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my han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st I fall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600200"/>
            <a:ext cx="89154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appe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night draws n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day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ast and g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ious Lord, Take My H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9810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t the river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de my f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 my han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9144000" cy="314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my h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cious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3:53Z</dcterms:modified>
  <cp:revision>15</cp:revision>
  <dc:subject/>
  <dc:title>PowerPoint Presentation</dc:title>
</cp:coreProperties>
</file>