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5E2-BE0B-455E-9273-97CE884C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0771-1783-436D-9CB6-D2ECA345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4A2C-4CCD-4E6E-8E72-0FC3560F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AD7B-40D6-48DC-B12C-9076AFC5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CA64-0981-4BCF-95D3-B39D7513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C0B-26F7-4493-98B9-AC237062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2F6-A2A1-4ED5-A593-3DC81A95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FC37-4018-4ADC-9523-CC05B88D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E486-187E-47C1-8F3A-A4D8A305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B34-A115-49CD-9E68-63CF4BBF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1ED6-103C-4012-96FF-3B223590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B568-6597-4520-A934-60FACD46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6AD0-EC44-4D69-9FF3-829FCBA4C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en I Survey th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ondrous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Isaac Watts, 1707 (Gal. 6: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hen I surv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ndrous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which th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ince of Glory di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richest g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count but l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our contemp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all my pr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orbid it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I should bo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e in the d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Christ, my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vain th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charm me mo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acrifice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ee, from his h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hands, his fe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rrow and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ow mingled d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d e’er such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orrow me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thorns comp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rich a crow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 Survey the Wondrous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Were the whole real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nature m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ere an offe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r too sm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so amaz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div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mands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ife, my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5:00Z</dcterms:modified>
  <cp:revision>53</cp:revision>
  <dc:subject/>
  <dc:title>PowerPoint Presentation</dc:title>
</cp:coreProperties>
</file>