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9261-B813-4D20-9858-7140C056E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B1E8-23C1-4A99-B594-B52F9877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875C-80BC-443B-9D86-C5B82F58A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F4DB-EA32-49AA-9138-BD5551F1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85E4-2A60-42A6-8F25-E74E0779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1BC4-E6E9-4336-886B-9BCE34B2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6674-31DF-4CC8-9182-ECD5B75F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F077-4311-45C0-A2BA-20354341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69E4-8C7A-40F4-B155-DDC6858B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8432-DA04-4DB5-96BD-52C73D7B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8D56-0308-4294-9182-5C98D17E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4757-0600-4747-9F9C-2C88E89A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EF9F-6551-4715-A2B7-F1D2C3A6F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Mary, Don’t You We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1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ary, don’t you wee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n’t you mou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ary, don’t you wee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n’t you mour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ry Don’t You Wee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78000" y="1066680"/>
            <a:ext cx="6619680" cy="38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Times New Roman"/>
              </a:rPr>
              <a:t>WORDS: African American spiritual (Jn. 20:11-18; Ex. 15:21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1337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haraoh’s ar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t drownd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ary, don’t you weep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When I get to hea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in’a put on my sho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in’a run abou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pread the new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ry Don’t You Wee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3623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haraoh’s ar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t drownd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ary, don’t you weep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3716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ary, don’t you wee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n’t you mou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ary, don’t you wee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n’t you mour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ry Don’t You Wee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9051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haraoh’s ar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t drownd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ary, don’t you weep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4382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haraoh’s ar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t drownd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ary, don’t you weep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ne of these morni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ight and fai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in’a take my wi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leave the ai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ry Don’t You Wee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4382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haraoh’s ar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t drownd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ary, don’t you weep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3716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ary, don’t you wee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n’t you mou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ary, don’t you wee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n’t you mour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ry Don’t You Wee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1337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haraoh’s ar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t drownd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ary, don’t you weep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When I get to hea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in’a sing and shou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in’t nobody the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in’a turn me ou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ry Don’t You Wee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905120"/>
            <a:ext cx="89154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haraoh’s ar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t drownd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ary, don’t you weep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5238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ary, don’t you wee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n’t you mou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ary, don’t you wee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n’t you mour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ry Don’t You Wee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4:52Z</dcterms:modified>
  <cp:revision>54</cp:revision>
  <dc:subject/>
  <dc:title>PowerPoint Presentation</dc:title>
</cp:coreProperties>
</file>