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68F-0FC0-4E30-9421-C343E8E4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CEA-D024-4345-A853-A7A1DCDB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D6E-99CA-42A9-B1C2-F0E2B789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D24-D4EE-4692-844F-CA44F985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92D-8A7F-4F4D-8414-F3928647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E83-D88E-4A17-8158-DC62B3FA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0921-2666-4575-AB08-82A57CF3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FD5-0593-494A-BC94-B1961623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9D0-D07D-45B0-BFDE-7073C5DD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AA8-6390-4964-9C69-80E4B094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681-1764-4C2F-B0CC-4AFF619B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6B6-159C-4427-814F-CF9CA3AA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DDF8-E542-4B15-8FAF-6271D88DE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 Out the Wilder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85800"/>
            <a:ext cx="8686800" cy="543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1. Tell me, how did you fe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85800"/>
            <a:ext cx="9144000" cy="547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Tell me, how did you fe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leaning on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80880"/>
            <a:ext cx="8686800" cy="58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2. Did you love everybod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47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id you love everybod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leaning on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m leaning o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on Calv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Out the Wilder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380880"/>
            <a:ext cx="8686800" cy="58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3. Did your soul feel happ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25600"/>
            <a:ext cx="9144000" cy="547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id your soul feel happ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en you come ou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ff"/>
                </a:solidFill>
                <a:latin typeface="Times New Roman"/>
                <a:ea typeface="Arial"/>
              </a:rPr>
              <a:t>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Come out the wildernes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leaning on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7:14Z</dcterms:modified>
  <cp:revision>142</cp:revision>
  <dc:subject/>
  <dc:title>PowerPoint Presentation</dc:title>
</cp:coreProperties>
</file>