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BD8-6A83-43F1-9330-40AD5678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4C1C-0D6B-4281-B161-A722F7BD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19B-9582-41F6-B955-C3FC98AE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9A0-9141-45B3-99CD-FFC18F54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BA74-40D5-4433-8578-28303CCE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139-41EC-4279-84BE-06E63F9C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839-247C-4B73-A6B0-38F68010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C4B-2B6E-4CE0-8A03-38516B94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586-6791-4406-A31F-69E350BB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249-5BF9-4845-B1CE-501D32AF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F4B-42C1-4F8A-9855-981BD96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6402-647A-4E40-8A5F-D758071C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0413-8CBB-4A4E-8760-A9E53DD12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Come, All Ye Faith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come all ye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and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come ye, to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240" y="1116000"/>
            <a:ext cx="7998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hn F. Wade, ca. 1743; trans. by Frederick Oakeley 1841, and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ee how the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mmoned to his crad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ing their floc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 nigh to gaz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oo will thi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nd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footstep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52388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Child, for us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and in the m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uld embrac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ould no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ing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earl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37160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Yea, Lord, we greet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is happy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to thee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of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in fles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ea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9400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deste, fidel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eti triumphant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nite, veni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thle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este, Fideles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angel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90720"/>
            <a:ext cx="9144000" cy="4676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tum vide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egem angelor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venite adorem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venite adoremus, Dominu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4792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rue God of true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from Light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he shun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rgin’s womb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otte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g, choirs of ange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in exulta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ng, all ye citiz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eaven ab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ll Ye Faith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i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95280"/>
            <a:ext cx="9144000" cy="369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 come, let us adore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rist the Lo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37Z</dcterms:modified>
  <cp:revision>9</cp:revision>
  <dc:subject/>
  <dc:title>PowerPoint Presentation</dc:title>
</cp:coreProperties>
</file>