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354-675A-4A97-9E8B-9E8D1D03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38D-E61D-458F-ABCC-FC33BBF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33B-D028-4D30-B919-F1765E6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564-861F-469E-A4D1-03D73B4A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51C-014E-45CD-8D56-B88F6145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B07-4EC4-4956-B82B-C2C12E17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1E79-C732-4DA0-A022-FD7E8E1C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FEB-D149-4C7D-B4F1-11E3D21B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8DDE-A9B1-4E9F-BBB4-EB07378C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C34-C525-4023-802E-07A4F020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C2E-79B1-4ACA-965B-1826DFB3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416-E0A7-4F59-B20B-6F707BA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70BA-CE59-4170-A146-B451E6BF1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Are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1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2 Hope Publishing 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Richard K. Avery and Donald S. Marsh, 19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nd whe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ople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s sing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re’s pr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s laughi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s crying someti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f it say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At Pentecost some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ceived the 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ld the Good Ne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ll who would hear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The churc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buil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urch is not a stee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urc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resting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urch is a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’re ma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s of peo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many kinds of fac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olors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ges, to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ll times and plac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he church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follow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we’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togeth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ometime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is marc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avely bu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t’s ri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hi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it’s le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50Z</dcterms:modified>
  <cp:revision>64</cp:revision>
  <dc:subject/>
  <dc:title>PowerPoint Presentation</dc:title>
</cp:coreProperties>
</file>