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7737-BF72-4D12-A0FE-093691B83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F726-595F-4E1F-B14A-60514365B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7FDD-1B65-4037-9352-9AAE8F74D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AC1C-2CA0-425F-B193-ED018270D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91ED-4BC0-46CA-AB8C-1256A7641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E9F6-2A8D-4307-85BB-3E21A118E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0563-21DE-43F8-890B-BC14E1136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CEF8-7ABB-4B16-AD32-C7C13EA94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655C-B0C9-4701-929A-22591FF38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31D5-CA90-4CBF-BF9E-0ED15B164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936A-5B30-4B6A-8B8C-1229CA400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BB0F-9561-462D-B8CA-5D190A1F2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4E553-0367-4DB1-BE16-3264AE67EE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reat Is Thy Faithful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14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81080"/>
            <a:ext cx="9144000" cy="40683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Great is thy faithfulne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God my Father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re is no shadow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turning with th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© 1923, renewed 1951 Hope Publishing 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eat Is Thy Faithfuln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06680" y="1066680"/>
            <a:ext cx="59306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WORDS: Thomas O. Chisholm, 1923 (Lam. 3:22-2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6765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rength for toda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bright hop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omorrow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lessings all min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ten thousand besid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066680"/>
            <a:ext cx="9144000" cy="4147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reat is thy faithfulness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reat is thy faithfulness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orning by morn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ew mercies I s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eat Is Thy Faithfulne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2057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I have need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hand hath provide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reat is thy faithfulne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, unto 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6002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 changest no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compassion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y fail not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 thou hast be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 forever wilt b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990720"/>
            <a:ext cx="9144000" cy="4147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reat is thy faithfulness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reat is thy faithfulness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orning by morn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ew mercies I s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eat Is Thy Faithfulne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I have need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hand hath provide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reat is thy faithfulne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, unto 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7524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Summer and wint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pringti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harve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un, moon, and star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eir courses abov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eat Is Thy Faithfulne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981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oin with all nature 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nifold witne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y great faithfulne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ercy, and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371600"/>
            <a:ext cx="9144000" cy="4147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reat is thy faithfulness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reat is thy faithfulness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orning by morn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ew mercies I s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eat Is Thy Faithfulne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2133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I have need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hand hath provide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reat is thy faithfulne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, unto 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523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Pardon for sin and 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eace that endure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ine own dear presen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cheer and to guid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eat Is Thy Faithfulne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1T17:34:14Z</dcterms:modified>
  <cp:revision>35</cp:revision>
  <dc:subject/>
  <dc:title>PowerPoint Presentation</dc:title>
</cp:coreProperties>
</file>