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06FF-B49E-422F-8C5A-E7B28CDD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8BF-80A3-481E-BB93-C024245E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1884-B54E-48AA-AEE2-9469431A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BD13-6F93-469B-8E44-3F20BF0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295F-4766-4AE9-A238-DE49CC7E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A4D-7A8F-42B6-8D81-9BFE0908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E7C0-BF49-44AB-A69A-8630867F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1BA-36B5-442C-9354-2C3E41E2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5A5-5194-4789-8B53-F3C4A478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34-26AC-421D-87FD-65F5BF06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863-0301-4892-90CF-DF8070E6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CAC-4B6B-4172-8A3A-3C69C0DD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02D-113A-4344-83E3-3D107BFD6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, Thou Once Despise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784872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John Bakewell, 1757, and Martin Madan, 1760, alt. (Rev. 4:2-1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Hail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ce despised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, thou Galilean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t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ted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ther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for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rt plead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place prep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for sai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interce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orship,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, and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udest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ght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u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, ye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ic spi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your sweet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blest l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me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 to c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’s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releas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didst fre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versal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hast bor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in and sh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y mer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find fav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is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Pascal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God appoin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r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e were l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al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anoin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hast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onement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be for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the virt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y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pened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te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conciled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, Thou Once Despised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hai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throned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ab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1:03Z</dcterms:modified>
  <cp:revision>84</cp:revision>
  <dc:subject/>
  <dc:title>PowerPoint Presentation</dc:title>
</cp:coreProperties>
</file>