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FAE0-9EDE-49B0-910D-153A4DC13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2E19-0B80-4CBA-BA42-0C3E6DBA6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439D-E318-424E-8597-EA14CCC5E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EA31-A77F-4C5C-807D-A755D7086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A463-D569-41A7-ABD9-7D4895462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2F9A-280E-4934-96E6-AB3EB5B15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032A-FD1F-47DB-B821-31C9844D6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2575-6D9B-4765-B1C0-E44612EEC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8BC1-2F8B-42C2-B7FE-C2CA9F275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8420-5E1C-47DE-A6CB-6683B17CB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03EF-D01F-44A6-987F-2F5D8ACED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433F-4E7C-4549-8F88-00A040DCE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13D03-14EF-460D-90F1-59FE8915F7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Be Present at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Our Table, Lor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62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3623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 present a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ur table, Lord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 here an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verywhere adore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 Present at Our Table, Lo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67652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ORDS: John Cennick, 1741, al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1296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y creatures bles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grant that w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ay feast i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aradise with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2T15:22:05Z</dcterms:modified>
  <cp:revision>122</cp:revision>
  <dc:subject/>
  <dc:title>PowerPoint Presentation</dc:title>
</cp:coreProperties>
</file>