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C99-AF77-4FB9-A54E-046EC142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D32-5299-4B12-8F36-B67565D9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783-E414-43E4-A0B2-6F3B39AC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88C-D31C-4817-A0F3-2E6D6013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A96-A181-4B73-944B-6DF86CEA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74B7-3ABD-40F1-A533-AEBFC05D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4117-3466-44B7-B7B1-FC35FCC3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84D-B3F3-4994-9477-270705AF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2D3-EF0B-402A-B9B9-A965AD12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AE4-C1D4-4A76-A7CB-AC9AACB6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70B3-541C-492D-A7F4-D2FAC5C7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163-BBC0-4C09-B321-37FDC37C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76F8-BED1-41F7-8468-459FC6D54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ster Peopl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aise Your Vo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M. James, 197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Easter people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aise your voice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ounds of heave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n earth should 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brough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s heaven’s choices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eavenly music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et it ring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ster people, let us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Fear of dea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an no more stop u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rom our pressing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r our Lor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mpowered us t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riumph over every foe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n to victory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now w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Every day to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us is Easte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ith it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esurrection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er People, Raise Your Voic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en in troubl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ove the faste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o our Go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o rights the wrong.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ee the powe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f heavenly thro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48:41Z</dcterms:modified>
  <cp:revision>62</cp:revision>
  <dc:subject/>
  <dc:title>PowerPoint Presentation</dc:title>
</cp:coreProperties>
</file>