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A8A4-BE4D-4D89-82FA-C7F18206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870D-B6D6-42D5-8759-A670FD41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569B-4DEA-4C68-A941-6103538B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8CA-2D42-4510-864D-98C101F1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425-3063-44F5-B138-819D3915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ACF9-68C0-499A-BCFF-BB087A1F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65D-CAFA-4776-9AE3-05BEF983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85F-11B6-4BC7-8078-DED52302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A8C-34F8-417A-9382-6A0A1BDE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62D-0733-430F-9693-5059B758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E73-DD2E-42C9-B142-381CD1C3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5A2-0316-4461-9F6A-ED431771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46DE-8D4A-4DE5-B494-C4E70FD03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ust as I Am,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ithout One Pl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144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WORDS: Charlotte Elliott, 1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out one ple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at thy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as shed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thy prom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belie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6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y love unkn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th broken eve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arrier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, to be th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a, thine al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that thou bidst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ome to thee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aiting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id my s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one dark blo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thee whose blo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cleanse each spo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 tossed abou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many a conflic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ny a doub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ghtings and f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in, with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oor, wretched, blind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ight, riches, hea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m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423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ea, all I ne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e to f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Lamb of God, I c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as I Am, Without One Ple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Just as I a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wilt recei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lt welcome, pard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leanse, r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5:11:50Z</dcterms:modified>
  <cp:revision>116</cp:revision>
  <dc:subject/>
  <dc:title>PowerPoint Presentation</dc:title>
</cp:coreProperties>
</file>