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FD1-1BFC-4002-A567-3C2DF24B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1403-C1C4-4890-B93D-98524585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A1C-A768-45F7-B41E-769BD19E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8E4B-F1A8-46CE-80D5-B777F182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2CB6-A86F-4122-B18B-F72C82EB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316-1A47-4E24-8856-46BDF601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2E0-F5F6-4776-AB31-92CC0BD8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D6ED-9A68-42B4-933A-6C660A13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7A2-6144-412D-8119-621B6E4C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016-6454-4330-9992-B83266C2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BBD-0BA3-42F5-8391-DC084DA0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5529-46FA-4328-A96A-3D01EEC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2B77-71F9-4EDC-B501-648CFDAF4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ft Every Voice and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Lift every voice and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earth and heaven 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ng with the harmon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liber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21 Edward B. Marks Music Company, renew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ames Weldon Johnson, 19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t from the gloomy p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now we stand at l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the white gle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bright star is c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od of our weary y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our silent tea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who hast brough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s far on the way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who h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y m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d us into the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eep us for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path,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st our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ay from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ces, our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we met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st our heart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unk with the win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orget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dowed ben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forever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to our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to our native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our rejoicing r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gh as the listening ski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it res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ud as the rolling se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ull of the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 dark pa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taught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g a s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ull of the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 pres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brought u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cing the rising su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new day beg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march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victory is w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tony the road we tr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itter the chastening r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lt in the days w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pe unborn had d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t Every Voice and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with a steady be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ve not our weary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to the pl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which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thers sigh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ver a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ith t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been water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eading our p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slaughte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7:30Z</dcterms:modified>
  <cp:revision>46</cp:revision>
  <dc:subject/>
  <dc:title>PowerPoint Presentation</dc:title>
</cp:coreProperties>
</file>