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44F2-4497-4F96-81B5-42E222F76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E8D9-EB5E-4695-A526-BA2A0BDB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5262-5303-46E2-8310-00BDDF6B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234A-CAD9-444A-9EEE-17D22F9AE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5790-1417-44A6-B93A-E08B3B7C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E26C-99E5-4F9D-ADFB-992DC1B0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F299-E077-4B73-B9A4-1F14C313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5F04-422D-4A24-8A42-A108D551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6CDC-70C7-4DD4-8F58-29708514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B95C-E5DE-4026-BE38-6A8E82E9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AEB1-31A8-4E48-8E38-BBA708E0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CD6B-DDC9-47F1-8C94-AF9FD105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7DD5-5E96-4E84-8322-60A4D6E76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oman in the N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7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439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oman in the n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ent from giving bi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uard our precious ligh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eace is on the eart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© 1983 Hope Publishing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51640" y="1015920"/>
            <a:ext cx="3241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Brian Wren, 19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and join the s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men, children, me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makes us fr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live ag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6. Women on the ro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lcomed and restor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avel far and wid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ness to the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and join the s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men, children, me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makes us fr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live ag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7. Women on the hi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nd when men have fled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needs loving sti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gh your hope is de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and join the s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men, children, me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makes us fr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live ag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8. Women in the daw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re and spices br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rliest to mour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rliest to s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and join the s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men, children, me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makes us fr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live ag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and join the s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men, children, me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makes us fr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live ag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oman in the crow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eeping up behi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uching is allowe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k and you will fin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and join the s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men, children, me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makes us fr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live ag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Woman at the we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estion the Messia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nd your friends and tell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rink your heart’s desi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and join the s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men, children, me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makes us fr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live ag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Woman at the fe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e righteous star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and go in peace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him with your hai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and join the s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omen, children, me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makes us fr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live agai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Woman in the hou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urtured to be meek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ave your second plac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sten, think, and speak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man in the N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30:00Z</dcterms:modified>
  <cp:revision>31</cp:revision>
  <dc:subject/>
  <dc:title>PowerPoint Presentation</dc:title>
</cp:coreProperties>
</file>