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7E0-2C29-4E0F-834D-BFDF1CCA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96F-4B1D-4599-B4DB-6F36CA6D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6CF-E1DD-4426-8129-DBF8DC91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892-8EC3-4918-BA2B-611EE1E8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D14-176B-4141-87A1-EC65530A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AB4-CAE5-49BF-8D8A-4775D9FC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8A8-A613-4292-83A9-4D6DDEDF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E0D8-596F-46AE-A355-B8060577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09A3-4E27-429C-8621-9BE3CF3D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425C-E094-4FE3-B6B4-0132BCEC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908-8492-47C4-8B85-9351B5B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9DD-AC13-4EA1-A18F-0AB68F6E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6B49-BAC6-48EE-82F8-96D5E164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ose to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ou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lasting por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than frie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life to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0640" y="1066680"/>
            <a:ext cx="3010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Fanny J. Crosby, 18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let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along my pilgrim journ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Not for 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worldly pl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for f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prayer shall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ly will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il and su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let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ly will I toil and su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ly let me walk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Lead me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vale of shad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 me o’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’s fitfu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he ga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et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I en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se to thee, close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the gate of life et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y I enter, Lord,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to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4:56Z</dcterms:modified>
  <cp:revision>22</cp:revision>
  <dc:subject/>
  <dc:title>PowerPoint Presentation</dc:title>
</cp:coreProperties>
</file>