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191-5C6E-4CD9-9EB5-8BE23493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32E-C088-428C-9DF2-6050488C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70F-402D-4F3D-A201-6B6C9D64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CC2-87A5-4C7F-8D64-07816628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36E-9732-45EC-B366-1B3EDBF0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AAD-7C64-4B36-B4ED-BEB5952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2FA-3835-4994-A60C-3B06B12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377-D238-45B2-8F27-EF3E2A30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917-4A07-4D93-BF73-A5ABA81B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5971-9381-4A6A-8A75-17ED60B3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983-85B5-4EC9-B1EF-DBC2E8A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485-D63F-4C37-8BAB-C4EC3043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E0A-40A4-44EA-80CC-6461111FE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 Come with Jo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37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come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meet my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given, loved and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Brian Wren, 1968 (1 Cor. 10:16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s his peo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eak his pra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eak hi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we and wo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c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fe laid down for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life laid d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636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 come with Christia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nd near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find, as all are f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 community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bre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rist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munion br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s Christ breaks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ids us sh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prou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vision ends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ve that mad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s us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trangers 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fri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thus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meet our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ways n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in such friend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tter kn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ee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him here</a:t>
            </a: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Together m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b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’ll go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fferent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Come with Jo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0:09Z</dcterms:modified>
  <cp:revision>120</cp:revision>
  <dc:subject/>
  <dc:title>PowerPoint Presentation</dc:title>
</cp:coreProperties>
</file>