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25D-7ED7-4E9D-839B-F2C31A1C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A49F-FC7F-4243-B0F6-5B872C66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4112-AC74-4954-990B-4D11BBE0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ADA6-23EC-4810-B630-EEE2DED0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EA0-3ADB-45BE-8E9C-4918C10B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651-8B9F-4A57-B16C-8F73975D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240-B5D5-417F-BF1D-D53EE52A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990-49B1-4CCF-B45B-CBE7B3C9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B1B-83AC-4D91-9B6B-51F84B51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B4B-05D9-475A-B0A5-9BB415BE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8AA6-C7F2-431C-AD66-61FDD7AE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7F3-AE81-4D88-BE46-9D79D649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2A36-E237-4DBF-9038-3EDBB9045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ld December Flies Aw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 el F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o Invern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129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1. Cold December flies away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rose red splendor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pril’s crowning glory breaks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while the whole world wond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78 Lutheran Book of Worship; Spanish trans. © 1987 Skinner Chávez-M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5840" y="1676520"/>
            <a:ext cx="608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atalonian carol; trans. by Howard Hawhee, 1978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anish by Skinner Ch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vez-Melo, 1987 (Is. 35:1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En el frío invern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l mes de diciemb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n capullo del ros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ota en un peseb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nvernal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l calor primaver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ce al mundo despert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qué fragante olo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 tan bella flor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59040"/>
            <a:ext cx="89154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 esa rosa anhel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l jard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 del ciel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as tinieblas del ay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uyen prontame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 mañana deja 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l resplandecient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nvernal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716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 nocturna oscurid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sca el mundo clarida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qué felicid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ta Navida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a la luz divina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 mundo ilumina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Va el capullo a florec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a blanca y pur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 fragancia va a ofrec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toda criatur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F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Invernal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e aroma sin igua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ueva vida da al mort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de Dios el d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umo galardó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-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que al mundo ha da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 su Hijo ama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t the holy unseen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ich bears the flower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blessed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ooms the reddest flow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the tre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looms the ro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n love’s own gard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ull and strong in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In the hopele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me of s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adows deep had falle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ay undern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yes were clo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sleep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ut, when all seem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st in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me the su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golden l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s unending jo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ngs the endless jo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ghest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hope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right dawn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beloved of hea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December Flies Awa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Now the bud h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ome to bloo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world awaken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lily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urest flower dwel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 wondrous fragran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spread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om the mo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its bir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s beauty liv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lower it liv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the fl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it sprea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its heavenly bright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weet perfume delightf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6:42Z</dcterms:modified>
  <cp:revision>79</cp:revision>
  <dc:subject/>
  <dc:title>PowerPoint Presentation</dc:title>
</cp:coreProperties>
</file>