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9470-DD72-4927-8F6C-24A4231E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724-F737-491D-893E-A7D42AA8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197B-1E60-42A4-9B05-8FFB7CBB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1430-7A41-4586-A35C-D01951D9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488-D275-48ED-B58C-E486226B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1AD-46AD-436A-AE2C-F1F20756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57F4-8585-49C6-B3EA-A93DE9B4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1C1-B6EE-4BE7-82CE-E3ABB36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9CB-E1C1-4640-8506-FF3F1727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3BE-0CD8-438E-8582-0E7BA15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4FB8-FEAD-45EE-93AF-287B6ECE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CC8-828C-4FB2-A485-CC96B92D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B1B3-4ACE-4522-9B7D-2DB28B24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e Utter Our 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Fred Kaan, 198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25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We utter our cry: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peace may prevai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earth will survi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aith must not fai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© 1984 Hope Publishing 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atch all our statemen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fty resol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being, unrest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ction involv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6. Whatever the 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r pressure we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ord, hearten and hea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insight and grac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think and make pea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each heartbea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rea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oose Christ before Caes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ife before death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y with our lif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world in our ca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people diminish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doubt and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We cry from the fr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our daily sce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strength to say “No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o all that is mean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igns bearing chao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xtinction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energy was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weapons of dea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We lift up our hear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or children unborn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give wisdom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we may hand on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plenished and te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good planet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eserving the futu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onder of bir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reato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share out, we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Spirit on eart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revealing the Way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leaders conferr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ound tables for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they may from bia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guile be releas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Utter Our Cry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5. Come with us, Lord;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n protest and march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help us to fi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 passion your church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2:44Z</dcterms:modified>
  <cp:revision>149</cp:revision>
  <dc:subject/>
  <dc:title>PowerPoint Presentation</dc:title>
</cp:coreProperties>
</file>