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9AEE-7B38-46F5-815A-75C35623B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4B75-7B20-4D86-BAAE-ABC9549F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619C-484C-4865-995B-FC04EF34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62B6-D579-439D-AE97-010B9DF5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EDEB-64C9-451F-A3CF-0BCBF28A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2099-0B0F-4DDA-96EB-B768E6EE5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1459-4A01-4BC5-B079-7C71BFD8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0AA2-161F-4AC0-AE11-D98667E0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20EF-2962-4B18-BF7C-BFD8449A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C62F-3EAD-48DC-A3CF-A3690D75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6621-1C93-4856-A14C-8E8FAA88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6606-6FC9-401F-B155-F3843D73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B84E-D667-490E-8883-C5DA315FE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Daw-Kee, Aim Daw-Tsi-Taw</a:t>
            </a:r>
            <a:br>
              <a:rPr sz="36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Great Spirit, Now I Pr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3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w-Kee, Aim Daw-Tsi-T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088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WORDS: Kiowa Prayer, para. by Libby Littlechief, 198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90920"/>
            <a:ext cx="9144000" cy="358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DAW-KEE, AIM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DAW-TSI-TAW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TO-AW-BAY TAW HA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82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84560"/>
            <a:ext cx="914400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DAW-KEE, AIM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DAW-TSI-TAW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TO-AW-BAY TAW HA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552680"/>
            <a:ext cx="914400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PBAY-GYA KEE AAL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AI DAHM GYA DAW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DAW-KEAH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PBAY-GYA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YAH TSAHN-DAY-TOA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Spirit, Now I Pra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reat Spiri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w I pray to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pray now to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reat Spirit, hear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soul is wea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w I pr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your spir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ll dwell in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1:07:00Z</dcterms:modified>
  <cp:revision>91</cp:revision>
  <dc:subject/>
  <dc:title>PowerPoint Presentation</dc:title>
</cp:coreProperties>
</file>