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A0AF-0C15-4BCD-8B10-F52944F3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26C-9AD4-4D68-986F-F5FD4A18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2D5-B3FF-4204-83F9-F745C6DD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AC5-0AF9-47CC-8BFC-C6C38F93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1E9-6314-48D4-AA2F-78753248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275-FF84-45E0-9F85-5C3AB27C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6E0-654B-4476-9EDA-59CC8E01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720-B38B-4AC0-A0E5-3ECD7EEF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ADE5-CB68-437C-9033-77E155E8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663-F01B-47BB-945F-19D90F50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8C9-C63B-4346-A9FA-2ADD0D1E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7FD-9CBB-4228-8474-3F3099B6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DF07-70AF-4435-AE7F-5E5EE3781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 the Sun Doth Daily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s the sun doth daily ris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rightening al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morning skie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o to thee with one accor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ift we up our hearts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76400" y="990720"/>
            <a:ext cx="6787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Latin hymn; trans. by J. Masters; adapt. by Horatio Nelson, 1864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42240" y="22860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Day by da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ovide us fo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from the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ome all things goo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rength unto our souls affor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rom thy liv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read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Be our guar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sin and strif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e the leader of our lif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st from the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stray abroa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y our waywar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eet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Quickened b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Spirit’s gra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thy holy will to tra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ile we dail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arch thy Wor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sdom true impart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5. Praise we, wit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heavenly hos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ather, Son, and Holy Ghost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e would w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one accor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aise and magnify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the Sun Doth Daily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48:39Z</dcterms:modified>
  <cp:revision>15</cp:revision>
  <dc:subject/>
  <dc:title>PowerPoint Presentation</dc:title>
</cp:coreProperties>
</file>