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1F3-6A4B-4D3B-83C5-2BBBED3E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62E-C8BA-4611-A240-6DE263D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D332-64B3-4CCE-AF5E-BFF6EA36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EF30-22AF-4296-A5F1-5470FFB4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C0F-81EF-4433-8434-8E508AEF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F18-B834-4C33-948D-E24E5BEE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CE7-5D16-4497-BD87-A9D7392B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334-1882-47C3-BA58-9BF9D0CD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752-E821-4D85-BB2E-3D930699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8EB-DD78-4E86-BAB8-3AC9412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8D4-FCD6-4178-A285-1432C76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FCC-356C-4EC0-BF6D-9529752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B8C-5708-4E7A-A680-6E8D736FD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e Gather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gather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sk the Lord’s bles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hastens and hast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will to make 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800" y="1143000"/>
            <a:ext cx="825948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1" i="1" lang="en-US" sz="1900" spc="-1" strike="noStrike">
                <a:solidFill>
                  <a:srgbClr val="333399"/>
                </a:solidFill>
                <a:latin typeface="Times New Roman"/>
              </a:rPr>
              <a:t>Nederlandtsch Gedenckclanck,</a:t>
            </a: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 1626; trans. by Theodore Baker, 189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cked oppr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istress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praises to his na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forgets not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eside us to gui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with us joi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daining, maintai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kingdom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from the begin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ight we were winn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t at our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y be th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 all do extol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leader triumph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ay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st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fender wil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Gather Togeth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y congreg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scape tribulatio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 be ever prais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, make us fr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01Z</dcterms:modified>
  <cp:revision>50</cp:revision>
  <dc:subject/>
  <dc:title>PowerPoint Presentation</dc:title>
</cp:coreProperties>
</file>