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D7E-AD78-4CA1-BD28-679B147D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BB07-8A99-442D-BEC7-B167AB8C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EB4-1807-4343-B578-95B8F502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7163-82C5-4FE7-B9F9-3691F2F3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A7EB-E900-4323-8E3E-A2B666BD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D1F9-C723-4DF2-BE2B-A5FD7E2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169E-35EB-49E0-B667-9084E80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40F-6B29-4996-858A-8584A84D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AE0-174D-4719-86EF-F80FB59D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5EE-EF90-4D45-B5C3-01C481F0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CA2-9AC4-43CC-A806-B47C1AB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59B-5C39-484A-8B0E-D88DF99D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822F-BD78-468D-873B-8AD3C66CC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earer, My God,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Nearer, my God, to the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E’en though it be a cros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at raiseth m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arah F. Adams, 1841 (Gen. 28:10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all my song sha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ough like the wander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n gone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be ove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est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in my dreams I’d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re let the way app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eps unto heave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at thou sendest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ercy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gels to beckon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n, with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king thou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 with thy pra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of my stony grief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hel I’ll rais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by my woes to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, my God,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er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r if, on joyful 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ving the sk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n, moon, and stars forg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ward I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er, My God,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25Z</dcterms:modified>
  <cp:revision>54</cp:revision>
  <dc:subject/>
  <dc:title>PowerPoint Presentation</dc:title>
</cp:coreProperties>
</file>