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40A-0D4B-4768-B50C-B2007A79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315-1F05-4E5E-85C9-35F889B2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5B1F-D1A0-417D-85BD-568E74DAA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4BF-B5C7-47E1-8887-023E44BA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BC2-1DB0-4B29-BF3D-2EE75273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540-9AAC-4D14-909A-12B2B120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D7F-4A7D-449D-93A4-DCEE59ED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86A-9AAD-4404-841E-03A73BFF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844C-A860-4614-A0A9-6B59DB44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F43-16CD-42CB-B43A-7649FEF1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570-F8D4-448F-8A72-67415EE9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7DD4-056B-433B-9762-7FABF07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61D5-2383-4B9B-96B3-AAD14D91C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3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2055960"/>
            <a:ext cx="8839080" cy="4500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Eternal Go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by the birth of Jesus Christ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you  gave yourself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to the worl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Alt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6040" y="990720"/>
            <a:ext cx="6633360" cy="414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The Book of Hymns, 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1966; alt. by Laurence Hull Stooke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820800"/>
            <a:ext cx="8839080" cy="5212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Grant that, being bor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in our heart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he may save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from all our sins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and restore within u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the image and likenes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of our Creator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2209680"/>
            <a:ext cx="8839080" cy="2287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to whom be everlasting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praise and glory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   world without end.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Arial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3T20:56:45Z</dcterms:modified>
  <cp:revision>78</cp:revision>
  <dc:subject/>
  <dc:title>PowerPoint Presentation</dc:title>
</cp:coreProperties>
</file>