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71AB-A438-4D11-8B1F-E63E10C4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D6EC-46CB-439F-819C-B9C2006E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F89-F95F-4D81-8DE2-D4EACF67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1D5-E32E-4404-985B-E762953A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FC7-E37F-4431-A1FA-830CFB7B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2EF6-5A26-4872-90E7-DEFE71A1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1C6-18F0-4C4E-86B1-BD7CD021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29A-B16E-4DD0-8873-D2850E89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456-F9FA-468C-9125-DC8511D4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7B84-9774-44DA-89ED-812CFB6D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6DB-20D6-4BB8-888D-329DD55F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50D-B341-4741-A5C6-CEC5F4E1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FD2F-2BC3-41EE-881E-5D9010B3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610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e, O Thou Traveler Unkn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1000" y="228600"/>
            <a:ext cx="114300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WORDS: Charles Wesley, 1742 (Gen. 32:24-3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O th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aveler un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om still I hol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cannot se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 to my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blessing sp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conquered b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instant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me i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, or thou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nce shalt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me if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’Tis Love! ’tis Lov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diedst fo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hear thy whisp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my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orning break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hadows fl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e, Univers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, to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mercies m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tur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name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ompan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is g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am lef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e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eak of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e all n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mean to st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restle 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eak of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I need not t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e who I 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mis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in decl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self hast cal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 by m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ok on thy h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ead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ho, I ask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art thou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ll me th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ll me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O Thou Traveler Unknow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Yield to me 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I am w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t confid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self-desp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0:00Z</dcterms:modified>
  <cp:revision>137</cp:revision>
  <dc:subject/>
  <dc:title>PowerPoint Presentation</dc:title>
</cp:coreProperties>
</file>