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966-7071-4766-9F4B-1F9F5664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62C-C165-45D0-9320-EE056BE5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2EA-2AC8-4FC4-9E3B-9C41469F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C35-9815-4A00-ADAD-621277AA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4C3-F750-412C-AD70-47B88515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C5B-D555-4AD7-B000-3178A720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47F-E7C3-406D-B28A-90955DDF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1FB-FB1D-42E0-9DB7-EA74A156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A67-49B8-4AE8-8966-EBA34A4F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EC9-D93F-44DE-861B-94563236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79EE-1848-4358-AE77-48C16B5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50C-744C-4E63-8197-E6FA1C7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1900-0DE1-4A21-9EEC-7C31D3682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79246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Jesus, My King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y Sovereign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s Es Mi Rey Sober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036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82,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Vicente Mendoza, 1920; trans. by Esther Frances, 1982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George Lockwood, 1988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 gozo es cantar su l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Rey, y me ve cual herman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Rey, 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jando su trono de gl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vino a sacar de la esc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752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858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, ¿qué pudie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dar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 tanta bondad para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¿Me basta servirte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art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¿Es todo entregar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90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ft all his glory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666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alks at my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Jesus, My King and My Sovereign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29718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 only now I surrend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3:47Z</dcterms:modified>
  <cp:revision>10</cp:revision>
  <dc:subject/>
  <dc:title>PowerPoint Presentation</dc:title>
</cp:coreProperties>
</file>