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9C01-E7EA-467F-8CDA-8CCB766A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822-C36D-4042-9109-BED3BE49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673-DD3C-4F74-AA75-ED289EE4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64B-81CF-4274-97F8-D243A1FE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03F-77A0-4740-8229-05DFDE78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B3C-4E03-4B97-A0C2-5F26BB2E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C219-593E-4BE7-A935-8417B0C3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F4A-56BE-460E-A070-8EE097D8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277-5C54-4298-BE0A-2ABD993E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AD3-71F3-4788-A2DC-3A254060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7B1-0CEF-41E6-BDBF-005DDD3C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A3E-E42E-42D8-8462-0328B94D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C4E-1FBD-4C7F-B88C-21102760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se, Shine, You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ise, shine, you peopl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 has ent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uman st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 him is cent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4 Augsburg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5520" y="990720"/>
            <a:ext cx="467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Ronald A. Klug, 1973 (Is. 60: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comes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death and sin surr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ace unbo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ee how he se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owers of evil ree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s us free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and life and hea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n and wo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y guilt are dr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re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celebra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banners high unfur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ongs and pray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st the darkness hur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the world go 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ll the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’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ell how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his Son to save 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of the Son,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nd freedom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se, Shine, You Peopl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how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s from every 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54Z</dcterms:modified>
  <cp:revision>39</cp:revision>
  <dc:subject/>
  <dc:title>PowerPoint Presentation</dc:title>
</cp:coreProperties>
</file>