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FE84-1FDE-4392-A1B7-C1E142222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C0BF-C236-4A6D-A55B-39709962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A3F6-E624-409C-96E8-D2E036166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55CF-7B57-4EF1-916D-FD842A918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41CA-F45A-4B55-AB13-A46CED13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C10F-ACF8-4A4C-84AE-933FD9B4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BDCA-2F1D-4D7F-A316-3D113C79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E136-7C07-4D0D-AD71-8C32936A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B963-596C-422F-8163-E3631C49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5EB4-59DE-4094-AB48-3CB87547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B13C-AF17-4CA8-8364-4A0A0331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AD1C-99BF-4E67-B497-6318AF84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B6A3-E93D-4D2F-AC0E-963B93540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ord, Whose Love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rough Humble Serv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8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Lord, whose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humble servi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re the we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human ne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61 Oxford University 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Whose Love Through Humble Servi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Albert F. Bayly, 1961, al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its he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depth and greatn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awns up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quickened s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king know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needs and burde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compass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ids us be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irring us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reless striv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abunda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e to sh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Called by worshi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your servi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th in y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ar name we g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Whose Love Through Humble Servi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chi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youth, the ag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in liv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eds to sho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pe and heal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od will and comfo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unsel, ai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peace we giv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your servant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in freed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y your merc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now, and l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upon the cro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sak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fered mercy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erfect dee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, your servant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ing the worshi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 of voice alo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hear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nsecrat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your purpo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 gif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you imp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Still your childr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nder homeles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ill the hung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ry for brea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Whose Love Through Humble Servi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ill the captiv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ng for freedom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ill in grie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mourn our d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, O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deep compass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led the sic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freed the sou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se the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Spirit kindl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ill to sa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ake us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As we worshi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nt us vis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ll your love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vealing ligh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Whose Love Through Humble Servi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01:14Z</dcterms:modified>
  <cp:revision>86</cp:revision>
  <dc:subject/>
  <dc:title>PowerPoint Presentation</dc:title>
</cp:coreProperties>
</file>