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E9F-9780-4827-B655-F860B955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161B-F937-4479-978A-5135336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A6B-C5E0-47DE-BF13-32ED6B22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060-12D4-4EAF-B7FE-4B0BA3B7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02A-DA64-4970-A264-937830ED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BAF-3CE9-4F7B-A300-EB2CB029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9DB-9B49-496B-975B-BB7D76EE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45C-9D60-454E-99A1-C8926032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8A2-0ADA-460B-8219-DED535A7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BDA-CA5A-480C-AEA7-28333D1E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462-B01F-42BC-AF5C-4BD021B9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6161-7E14-4ED0-85BC-09D76C6F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3716-4307-4557-AB59-421E2B188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Times New Roman"/>
              </a:rPr>
              <a:t>Jesus Is All</a:t>
            </a:r>
            <a:br>
              <a:rPr sz="4000"/>
            </a:br>
            <a:r>
              <a:rPr b="1" lang="en-US" sz="4000" spc="-1" strike="noStrike">
                <a:solidFill>
                  <a:srgbClr val="6699ff"/>
                </a:solidFill>
                <a:latin typeface="Times New Roman"/>
              </a:rPr>
              <a:t>the World to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99ff"/>
                </a:solidFill>
                <a:latin typeface="Times New Roman"/>
              </a:rPr>
              <a:t>4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Jesu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life, my joy, my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1600" y="1662120"/>
            <a:ext cx="3157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WORDS: Will L. Thompson, 19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could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friend den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he’s s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to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know I’m 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atches o’er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y and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llowing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day and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Jesu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ant n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tter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trust him 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trust him w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flee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ys shall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such a fri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as no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jo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is my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ay to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ould 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im I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ther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cheer me so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am s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makes me gl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esu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fri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rials s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go to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blessings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gives the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’er and o’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ends the suns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ends the harvest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nshine and 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rvest of g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s my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Jesus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ld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rue to him I’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Is All the World to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11:19Z</dcterms:modified>
  <cp:revision>9</cp:revision>
  <dc:subject/>
  <dc:title>PowerPoint Presentation</dc:title>
</cp:coreProperties>
</file>