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449-11D2-4139-929C-D919EB78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25F-874F-417B-8264-FF5F16A3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FD39-909A-4F13-981B-8F5ED6DB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2EC-4939-4D76-80BB-F745DAF0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951-4604-4632-82BB-9DB900CE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B8E-28CA-4005-B84F-1398EA1C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A7D-200C-400C-8BAB-3AF8D55D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AB1-7EFE-4FC3-B079-C011D338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FBA-E99A-499A-A477-A6AB1412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2F5-45B1-4B77-BECA-D10F070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4B2-896B-4EEE-BF3C-429928A2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EFA-BA5B-44D3-B0A2-9904AA8C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12EC-5AED-4D9B-8961-B03A47D7D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, Lord, We Look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Jesus, Lord, w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ook to the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let us in thy name agre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how thyself th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Prince of Peac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bid our strife forever ceas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y thy reconciling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stumbling block rem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to 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ite, end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and spr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banner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Make us of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 and m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entle, courteous, and k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wly, mee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ought and 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together like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et us for each other c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the other’s burdens b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y chur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ttern g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how tru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lievers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Free from 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pr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thus in God ab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epth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love expr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heights of holi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et us then with joy rem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family ab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w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gels f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how true believers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rd, We Look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11:54Z</dcterms:modified>
  <cp:revision>67</cp:revision>
  <dc:subject/>
  <dc:title>PowerPoint Presentation</dc:title>
</cp:coreProperties>
</file>