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41E7-51BB-44E1-B0B2-C6F9BC8C6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B2F1-E923-433C-92AF-2AE6FFF0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3725-E32F-40FF-BE2F-8E454E512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F8C1-E10A-42A2-992F-06680792F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FF5F-C412-4D61-818D-82EA8EBA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F5E7-5AE8-41E6-9AD3-585DC055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0F1D-39D5-4E2D-8C5B-50D869B3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D8A7-E62C-49F4-888B-0F5B73D5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BFF4-2F9A-4CCB-9160-DD7AD3F1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4317-EF9B-46F9-B208-E966EE6C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ED7E-A0E3-474B-BE51-80C4193E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FE4F-C074-4DB6-A6AF-419A5D3E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5FE9-41A7-4580-B8EA-ACDC511C5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ilent Night, Holy N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3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Silent n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ly n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is cal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is brigh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ent Night, Holy N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74240" y="1116000"/>
            <a:ext cx="7043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Joseph Mohr, 1818, alt.; sts. 1, 2, 3 trans. by John F. Young;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st. 4 trans, anon. (Lk. 2:6-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90720"/>
            <a:ext cx="9144000" cy="463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ur das traute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chheilige Pa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lder Knabe m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ckigem Haar,</a:t>
            </a:r>
            <a:br>
              <a:rPr sz="50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schlaf im himmlischer Ruh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 schlaf im himmlischer Ruh!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ound yon virg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ther and chil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ly infa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tender and mi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leep in heavenly pe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leep in heavenly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Silent n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ly n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epherds quak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the s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ent Night, Holy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ies strea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heaven af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ly hosts 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the Savior is bor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the Savior is bor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Silent n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ly n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n of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’s pure l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ent Night, Holy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adiant beams fr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holy f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 daw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redeeming gr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, Lord, at thy bir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, Lord, at thy bi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Silent n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ly n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ndrous st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nd thy l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ent Night, Holy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 ange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us 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 to our K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the Savior is bor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the Savior is bor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Stille Nac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ilige Nac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s schl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äf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insam wach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ille Nacht, Heilige Nac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2:46Z</dcterms:modified>
  <cp:revision>14</cp:revision>
  <dc:subject/>
  <dc:title>PowerPoint Presentation</dc:title>
</cp:coreProperties>
</file>