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C18-8070-4277-8880-B1196692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D96-8C84-4C78-97DB-978D6C65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B4F-A952-4430-8631-CF235340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9E7-9E8F-4885-83BE-0F0FA0DD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70A-5F0F-489B-BAFF-30EC1A6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512-1FE2-4D2D-9CB4-7A8819C0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9C7-865E-4516-ABF6-5B69340B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90B-4D76-43E5-893A-205C8553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330-BDB8-457F-BAA9-CFA871E8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256-B467-492E-9566-DAE7C70B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844-0A02-4249-90C8-41B2FBC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70D-86FE-4000-A68F-C4129A0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EDCF-0419-47D9-967D-B434AA9A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Sought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99072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WORDS: Anon., ca. 18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sought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fterward I kn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moved m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seek him, seeking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not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Savior tr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, I was found of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ou didst reach f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hand and mine enfol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lked and sa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orm-vexed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was not so mu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on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ok h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ou, dear Lord,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ought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 find, I wal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love, but oh, the who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love is b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answer, Lord,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thou wert l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forehand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ways thou loveds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5:01Z</dcterms:modified>
  <cp:revision>98</cp:revision>
  <dc:subject/>
  <dc:title>PowerPoint Presentation</dc:title>
</cp:coreProperties>
</file>