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895-6858-4816-9E1F-CD758DE0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511B-77AE-4FD0-9C0C-D2C7F650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697-0993-42DA-99A1-093685AB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3C3-79F9-4501-96DC-2975D85B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265-F7F1-4FFB-BF91-8B421028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40E-3047-4915-AD42-367DDED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CEAA-6A03-4226-9625-D9FA4750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367-19D8-4849-952E-8A00FD5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5AC-4B98-4B7B-A29A-7DE978EE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2545-6877-4830-870F-7BBC45A9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4537-3D44-492D-95F5-FE15E86D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E6E2-40FD-4A6C-9FF3-9C3C2BD9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E69A-15C9-462D-BA55-E2BF7E2C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or True Singing</a:t>
            </a:r>
            <a:br>
              <a:rPr sz="4000"/>
            </a:b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Fred D. Gealy, USA, 20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cent.; alt. by Laurence Hull Stookey, 1987 (Ja. 1: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00200"/>
            <a:ext cx="8763120" cy="4944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lorious God, source of jo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righteousnes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able us as redeemed and   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given childr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rmore to rejoi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in singing your prais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rue Sin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what we s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our lip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may believe in our heart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what we believ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our heart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we may practice in our live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71604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 that being doer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the Wor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not hearers onl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 may receiv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lasting lif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rough Jesus Chris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ur Lord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0:02Z</dcterms:modified>
  <cp:revision>18</cp:revision>
  <dc:subject/>
  <dc:title>PowerPoint Presentation</dc:title>
</cp:coreProperties>
</file>