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E7E-6940-4C30-96B8-D382CA44B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BBD-254D-49F0-AD23-B7F49396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900-9247-46D0-93F0-B130642D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DC9-8517-4DBB-B931-1D8E0877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393E-A62A-4AE0-B502-3DF291BC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7BEF-0CF4-4275-86A0-65E65D85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BC08-B4B3-4118-BA6E-4C072E6C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096-E211-49AE-8D1C-EC38DF21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36C-DEC9-49A4-A33F-C28726E7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3FE-F4FE-4186-8F77-465B96A0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F78-736B-4904-9B05-7CBAACE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87F-BC4E-4C7D-8735-0D55CE2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B519-DFEC-4A6D-A420-BA53DC755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, Mighty Savi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, mighty Savio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ight of all cre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 make the dayti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adiant with the sunl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82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1680" y="1143000"/>
            <a:ext cx="835704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ozarabic hymn, 10th cent.; trans. by Alan G. McDougall; rev. Anne LeCroy, 1982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light or dark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orshiping our Savi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w and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to the night gi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ittering adornmen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rs in the heave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Now comes the day’s e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s the sun is setting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mirror of daybreak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ledge of resurrec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ile in the heaven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oirs of stars appear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llow the nightf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herefore we come n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ning rites to off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yfully chant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y hymns to prais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all creati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ining hearts and voic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inging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Give heed, we pray you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our supplicati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you may grant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ardon for offens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ength for our weak heart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st for aching bodie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oothing the wea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5. Though bodies slumb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ts shall keep their vigi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ever rest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e peace of Jesu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, Mighty Savi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02:11Z</dcterms:modified>
  <cp:revision>22</cp:revision>
  <dc:subject/>
  <dc:title>PowerPoint Presentation</dc:title>
</cp:coreProperties>
</file>