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0EB5-89C0-42B3-B8CF-2984E269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B41-6CF0-4540-A574-0739EBF6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EDD9-0944-4896-B81F-8C0C87FB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54B5-D7B5-4A29-93BE-8DD4C81F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B303-1597-4B65-A06D-8FC2F68C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CC8-D501-493F-B489-ACB0DF40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CFF5-CA11-4C63-B3E0-EBD2F4C9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432-1542-41DD-9D76-58CF535B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DF6-044A-4ADC-905A-0E25D1A9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4DD-704C-4E28-BCEE-4F641AFE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D9FD-17E0-47FB-8063-C5B0813D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F697-129F-496E-AEF1-4A893A0D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E716-6C32-46FD-AB48-682BAC6D1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Lord, May Church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d Home Comb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6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, may chu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me comb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each thy perfect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3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72600" y="1776240"/>
            <a:ext cx="2997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arlton C. Buck, 19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entle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ove like t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 none shall ever st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unwor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ims dep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mbue us with thy gra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in the h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every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come thy dwelling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ine, Light div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veal thy f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darkness else might b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, Love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pl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ad fellowship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steadfast fa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arnest pray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 sacred vows secu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ild thou a hallow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welling w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e joy and peace end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rd, May Church and Home Comb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4:13Z</dcterms:modified>
  <cp:revision>32</cp:revision>
  <dc:subject/>
  <dc:title>PowerPoint Presentation</dc:title>
</cp:coreProperties>
</file>