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7870-649E-4D8E-A6FC-C02F91C3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51B-BFAB-4261-AD55-8AE984CF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A94-13C0-4CDD-8623-499A3CC5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E39-9864-4B58-8B6D-9E8DA95D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F98-5CF2-4A2D-99A8-9F8874AF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BBE-4C38-4BD3-A265-8B69DA73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43BF-459A-4570-BEFB-63D50203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73D-D267-469B-A14D-4456E5A1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CFD-D75A-4F4D-89F6-87067857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6508-3BE0-4583-94DF-5CDB4A7D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4C8-6573-4DA6-907A-90933936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AB4-3B33-40D7-8672-A79185E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0781-F747-44C4-899E-91A863CB8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Come and Dwell in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come and dwell in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of power with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ing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ious liber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orrow, fear, and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38160" y="990720"/>
            <a:ext cx="5580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62 (2 Cor. 3:17; 5:17; Heb. 11: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asten the joyful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shall my sins consu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old things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done a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things new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 want the witnes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all I do is 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ccording to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nd and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ll-pleasing in th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 ask no higher stat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dulge me but in thi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on or l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transl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ine eternal bli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ome and Dwell in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8:24Z</dcterms:modified>
  <cp:revision>10</cp:revision>
  <dc:subject/>
  <dc:title>PowerPoint Presentation</dc:title>
</cp:coreProperties>
</file>