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9A0-9107-4E08-8DFC-8839E3BC5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C41-E8C9-479B-BA3B-5D257DA2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4950-8F80-4266-BA9E-BF352A84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273-21CA-4AD3-A12D-C0FA7862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E032-D949-41C9-92CE-4E512682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DC9-AB36-4ADA-9C1B-0652BF26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95D8-C196-4A08-BBF1-473AC16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473-58A3-4EB7-8C4A-1EB657C2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E4A-0010-4599-AD3E-42A37AFD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CEB-188B-4A56-9866-E12BF85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29E-ED9D-468C-8E8F-E6F50AF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1175-9BD7-4547-937D-EAAAB05B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FB1F-550C-4822-ACC6-49AB92C11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Love Thy Kingdom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I love thy kingdom,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house of thine abod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church our blest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Redeemer save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his own precious blo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61800" y="1139760"/>
            <a:ext cx="3048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imothy Dwight, 18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love thy church, O Go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wa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e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as the ap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ine ey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ven on thy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or her my tears shall 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er my prayers asc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r my ca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ils be gi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oils and care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Beyond my highest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prize her heavenl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sweet commun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lemn v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hymns of love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Sure as thy truth shall last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Zion shall be gi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ightest glo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can yie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ighter bliss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Love Thy Kingdo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22:50Z</dcterms:modified>
  <cp:revision>12</cp:revision>
  <dc:subject/>
  <dc:title>PowerPoint Presentation</dc:title>
</cp:coreProperties>
</file>