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CA9-986E-4A74-B433-A332A792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34FA-3564-48D6-AE1D-718326A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6EA4-6D90-49CF-8A2F-8BA902E9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3FD-5335-4AE5-A9AC-9E9C26B3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EE7A-AA18-4637-91F8-771BEE06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592-8D57-4D7E-A1FB-FA7AB2D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44E-D553-43C6-825B-3E96D4CC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124-9BF9-464C-A602-5DF68F1C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667-EEA9-4B4B-A4EF-3F1EB4E0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246-7925-4D66-B780-DD44A9E4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BA4-68F4-4A2A-AB95-4BCBFB04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CD9-3EAD-4284-B2C7-B06AFF44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6B07-E80B-447E-B9F8-A7D85578C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appy the Hom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God Is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God is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4160" y="1662120"/>
            <a:ext cx="3052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enry Ware, Jr., 184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ne their w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their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ly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wee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children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his f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ents 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m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ppy the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rayer is he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ais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t to r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arent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sdom pri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let us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omes ag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ppy the Home When God Is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ite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ill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1:23:55Z</dcterms:modified>
  <cp:revision>15</cp:revision>
  <dc:subject/>
  <dc:title>PowerPoint Presentation</dc:title>
</cp:coreProperties>
</file>