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3A39-C845-4F2D-8E91-1802856BA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DFFD-0D50-47CE-A53A-4C35D522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14E9-A693-4CE1-AB2F-CCC87113D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898F-BA8E-413D-B539-51CC786A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02D2-A837-40D8-B4B4-A3732A72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6513-2F24-440B-8ED1-89F07E9C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3ACD-9200-4C46-BBEA-7AE57F2D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7ACB-8F09-44DA-94A8-CD67D08F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DE49-42C0-45B2-889C-7962E1F3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35CC-B5A4-47B1-8CC5-7BC0E273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D847-782C-43A8-8027-9A474117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B6FF-65AD-4891-919D-A9576783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6DF3-DCA0-4500-9885-D7E799A58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rist, Whose Glory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ills the Sk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7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Christ, whose gl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ills the ski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, the tru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only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un of Righteousness, ari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Whose Glory Fills the Sk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6320" y="1676520"/>
            <a:ext cx="3949560" cy="429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WORDS: Charles Wesley, 17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riumph o’er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ades of nigh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ayspring from 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gh, be nea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aystar, in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art app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Dark and cheerl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s the mor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naccompanied by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oyless is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ay’s retur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Whose Glory Fills the Sk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ll thy mercy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eams I s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ll they inwa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ght imp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eer my eyes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arm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Visit then t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ul of min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ierce the glo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sin and grief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ill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adiancy divi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Whose Glory Fills the Sk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catter all my unbelief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ore and m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yself displ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ining to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erfect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2T17:17:05Z</dcterms:modified>
  <cp:revision>35</cp:revision>
  <dc:subject/>
  <dc:title>PowerPoint Presentation</dc:title>
</cp:coreProperties>
</file>