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9452-F989-4374-A774-5182A692D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AAA7-9EAC-4AD7-91C7-3795DBA3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5AA6-98B0-45C1-A2D9-573E10631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4665-58D3-4E23-BAAB-F81E3D96B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FEE6-BE9B-4600-A660-559A7129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306B-750E-4998-BC72-B41D156A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44F9-6DA7-4610-BFC8-82425965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813D-CC7F-49B6-899A-B2E9C772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5F09-85E8-4E64-BC03-876057F4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C4D4-18A7-438F-8077-26FFEE1F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1CCE-5553-493A-84C8-DEC2FB44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5958-3D16-41A0-B216-6A4FB729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2837-80D5-4A9C-89E4-9021331D8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252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Hail Thee, Festival Day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Ascensi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447920"/>
            <a:ext cx="9088560" cy="368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Venantius Honorius Fortunatus; trans. from </a:t>
            </a: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The English Hymnal,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1906, al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819520"/>
            <a:ext cx="9144000" cy="333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isen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ose 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aven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3. God the Almight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 Ruler of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the heaven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uard us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arm without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cleanse us fro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vil withi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124080"/>
            <a:ext cx="9144000" cy="333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isen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ose 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aven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4. Jesus, the heal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the wor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nlighten our mi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reat Redeem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on of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ather supre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ly begott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Go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048120"/>
            <a:ext cx="9144000" cy="333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isen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ose 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aven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5. Spirit of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nd of pow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ow flow in 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ount of our be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isen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ose 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aven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ght tha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enlightens us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ife that i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may abid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819520"/>
            <a:ext cx="9144000" cy="333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2971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isen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ose 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aven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6. Praise to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iver of good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 lover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uthor of concor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pour out your bal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 our day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rder our way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 your peace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048120"/>
            <a:ext cx="9144000" cy="333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isen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ose 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aven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1. He who wa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nailed to the cros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s Ruler and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f all peop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ll things creat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on ea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sing to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lory of God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971800"/>
            <a:ext cx="9144000" cy="333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day when ou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isen Lor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rose in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avens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048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2. Daily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loveliness grow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dorned with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lory of blossom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heaven 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gates unbar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flinging h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ncrease of light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il Thee, Festival Day - Ascens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895480"/>
            <a:ext cx="9144000" cy="3332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il thee, festival day!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blest day to be</a:t>
            </a:r>
            <a:br>
              <a:rPr sz="4900"/>
            </a:br>
            <a:r>
              <a:rPr b="1" lang="en-US" sz="4900" spc="-1" strike="noStrike">
                <a:solidFill>
                  <a:srgbClr val="ffffff"/>
                </a:solidFill>
                <a:latin typeface="Times New Roman"/>
                <a:ea typeface="Arial"/>
              </a:rPr>
              <a:t>hallowed forever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6:45:42Z</dcterms:modified>
  <cp:revision>82</cp:revision>
  <dc:subject/>
  <dc:title>PowerPoint Presentation</dc:title>
</cp:coreProperties>
</file>