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BCC-A461-41F5-B433-A217D6FE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8DE9-20D1-49CA-BF06-CDCC7924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A63C-61AE-4C02-9879-B037434F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1E0-C3A9-4582-9F15-D1702DCE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C85-3DF7-4B05-9B80-962A6E5E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14E-791B-4D94-8402-C16BFF67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A99F-98A0-429D-91E4-764F27D0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8CC-09E2-4732-80C8-E6A5F140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5372-4B0D-4096-AAC9-3F84AFE0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A78-795D-412B-8D09-508754B8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D84B-8B49-4F80-A55C-09889772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F2A7-2887-4796-8E0B-63A3712F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800A-960D-46B8-AAA9-B2EFE005A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61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en in Our Music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Is Glorified</a:t>
            </a:r>
            <a:br>
              <a:rPr sz="4000"/>
            </a:b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Fred Pratt Green, 1971 (Mk. 14:2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When in our music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God is glorifi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doration leave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room for prid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n Our Music God Is Glorifi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3809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t is as thoug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whole creation cri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How often, mak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usic, we have f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new dimensio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the world of soun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orship move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to a more profou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n Our Music God Is Glorifi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So has the chur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liturgy and s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faith and lov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rough centuries of wro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orne witness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truth in every tongu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n Our Music God Is Glorifi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And did not Jesu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ing a psalm that nigh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en utmost evi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trove against the light?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n let us sing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whom he won the fight: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n Our Music God Is Glorifi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Let every instrumen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e tuned for prais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rejoi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ho have a voice to raise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ay God giv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us faith to sing alway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eluia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in Our Music God Is Glorifie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15:16Z</dcterms:modified>
  <cp:revision>17</cp:revision>
  <dc:subject/>
  <dc:title>PowerPoint Presentation</dc:title>
</cp:coreProperties>
</file>