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594-3AB0-47A8-9A37-CA8B1DED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48A-2453-4818-A7E9-AD2D02BD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DB9-EB9C-48FF-BC95-F0A3F993B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D345-5003-4B38-A2CF-B1B82E294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4E3-39F4-42A6-B50B-BF938E87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2783-659B-4482-B0F6-B1907A24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8F94-38E5-4658-81B9-CA0015D3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D2DC-FBC6-4774-91A6-E727AB1F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59A-9999-455E-8FA1-A2CA2A43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AD7-6E60-4E1E-B888-07814C8B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2F4-CFA9-4942-A9E1-B72911F0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4CC-C3BE-4813-B23C-B4795A8E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5A31-A851-4489-B09F-3BD28F921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t Came upon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idnight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1. It came upon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midnight clear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at glorious song of old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22280" y="1638360"/>
            <a:ext cx="4699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Edmund H. Sears, 1849 (Lk. 2: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8912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from angels bending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ear the earth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o touch their harps of gold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eace on the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od will to m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heave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gracious King.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ld in sole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illness l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ear the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Still through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loven skies they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peace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ngs unfur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till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ly music floa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all the weary wor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its s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lowly plai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y bend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vering w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ever o’er 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abel sou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lessed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And ye, ben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’s crushing lo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for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re bending 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toil al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climbing 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painful steps and s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ok now! for gl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lden hou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swiftly on the wi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rest bes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eary ro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ar the angels s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For low! the d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re hastening 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prophet seen of o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n wi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-circling y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come the time foretol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Came upon the Midnight Clear 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n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over all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s ancient splendors f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whol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nd back the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now the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8:29Z</dcterms:modified>
  <cp:revision>65</cp:revision>
  <dc:subject/>
  <dc:title>PowerPoint Presentation</dc:title>
</cp:coreProperties>
</file>