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093E-A8AC-4FAF-9852-715EF4D2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0651-4987-4C7D-A578-D6409005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C647-D6E2-40BF-97CB-5632A07B8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1857-2D2F-4B3E-8471-FF09C405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662-3A94-4EC8-A01B-DE40325D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08E2-B3D7-4B62-8106-5A2ACFB3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A082-91EC-413E-9461-EAA572EF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3BDF-C425-424F-A56E-E4AE630C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5ACF-5ACD-4118-B1C3-1996833C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444C-3069-4C59-9003-C5B89E45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8B56-C905-4004-8E26-F50D33F8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83B4-4BE1-4B04-9069-E3907839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7ACA-9E5F-456C-88AA-EBC8D6BDD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lled with the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pirit’s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19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Filled with th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Spirit’s power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with one accord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e infant church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confessed its risen Lord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85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the Spirit’s 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8960" y="1523880"/>
            <a:ext cx="36662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John R. Peacey, 1969 (Acts 2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Holy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church to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less your pow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fellowship disp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Now with the mi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Chri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t us on fi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uni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be our great desi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the Spirit’s Pow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ive joy and peac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ive faith to hear your c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readi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each to work for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Widen our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od Spirit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embrace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your strong c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ose of every 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lled with the Spirit’s Pow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ke wind and fi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life among us m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we are know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Christ’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hristians pr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33:58Z</dcterms:modified>
  <cp:revision>10</cp:revision>
  <dc:subject/>
  <dc:title>PowerPoint Presentation</dc:title>
</cp:coreProperties>
</file>