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CCD-CF58-4449-9578-46B6B0381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F1FF-B4EB-41F4-BE99-00CA707E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A44-242B-4DE6-8DC4-93CC66D2D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433E-75B8-423E-B4E8-610C8B29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AE1-4967-48A9-B1F9-C7885709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934-EEFA-49E8-BD01-0C598456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81B-CB2D-4419-97DE-905BF41F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BA9C-1149-4D63-A64A-12935D99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2B5B-7B10-442E-A647-69C00CD8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B83-AB53-460A-92A3-0D33123A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0F2-2657-4636-88BF-AD8E4F8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60B-D064-462D-B70A-346B7DE6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98E5-19A4-43CE-BB13-F101A1977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116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rinity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 Book of Common Prayer;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86000"/>
            <a:ext cx="876312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oly God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you have given us grace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by the confession of the faith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of your holy chur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nity Sun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o acknowledge the mystery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of the eternal Trinity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, in the power of your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divine majesty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o worship the U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96920"/>
            <a:ext cx="883908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Keep us steadfast in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this faith and worship,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 bring us at last to see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in your eternal glory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One God, now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nd forever.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1:06Z</dcterms:modified>
  <cp:revision>22</cp:revision>
  <dc:subject/>
  <dc:title>PowerPoint Presentation</dc:title>
</cp:coreProperties>
</file>