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905-6E00-431F-A231-9EB0F091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CA2-3B92-4773-B9B5-C211D0A7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E07-ED94-4F27-874B-7A96B127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DDE-3232-4E7A-A3AC-477EDCAD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94D-6F82-448A-9CF8-7D2214C8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369-2D7F-467C-A851-B8846989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86C-681E-43E0-85D6-3BD4AA1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11D-BADD-4922-BDAC-01C26A3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648-2CF8-435C-8F09-DC57F953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349-98D3-4D67-99C5-3E716F8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A3F7-9480-4FDE-9F51-8894771D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327-D17C-4D6A-81AF-55209A71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9ECE-58B6-41CA-BC44-F349021F3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ptism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828800"/>
            <a:ext cx="83059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her in heave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t the baptism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River Jorda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proclaimed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r beloved 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ptism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360" y="1116000"/>
            <a:ext cx="7343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(Mt. 3:13-17; Mk. 1:9-11; Lk. 3:21-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919160"/>
            <a:ext cx="781056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anointed him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oly Spirit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all who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re baptized into his na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1919160"/>
            <a:ext cx="82296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y keep the covena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they have ma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boldly confess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s Lord and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144792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Holy Spiri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ives and reig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glory everlasting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2:31Z</dcterms:modified>
  <cp:revision>11</cp:revision>
  <dc:subject/>
  <dc:title>PowerPoint Presentation</dc:title>
</cp:coreProperties>
</file>