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D6D0-68A4-427B-9655-7621230E4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CE16-528A-48F6-B4F3-734D52D4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DB94-E512-4691-B063-0753429E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4AB5-DA55-42A5-A607-2693A69E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5EB1-2D92-456E-A4E8-B9D4495D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4F7B-7400-4A18-8AAB-5B6F680B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9895-4847-4030-94D1-0056257B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41DF-3C08-42C2-9CD2-219EF749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F9AC-F97B-4449-9F42-CD8A0AF1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9DB3-B895-4660-8C51-AB906853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5870-D369-40EC-AF9E-B48E28E9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1010-6AFB-4730-8D7F-ADA528A8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157D-4D39-455A-B475-F4607D7BC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r Guid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828800"/>
            <a:ext cx="8686800" cy="431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 Go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just as we look into a mirror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to see any soiled spot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on our fac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42 Harper &amp; Row, Publisher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Guid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38600" y="987480"/>
            <a:ext cx="16668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Korea, 20th c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2284560"/>
            <a:ext cx="86104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o let us look to you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in order to understand th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things we have done ami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820800"/>
            <a:ext cx="86104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e are like a reed shaken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in the wind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we are inexpressibly weak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Leave us not to ourselves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but to dwell in out heart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and guide our thought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and actions.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     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0T18:52:58Z</dcterms:modified>
  <cp:revision>11</cp:revision>
  <dc:subject/>
  <dc:title>PowerPoint Presentation</dc:title>
</cp:coreProperties>
</file>