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093B-E14E-4A8E-BAC7-C57B830E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8DC-60EC-4849-82B6-5CC50D6C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D5E-8CE3-494D-982A-DFDDA9B63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B8A-C609-43EC-B2EE-4CC367D5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F34-DCC4-4D49-A228-D2CAF3E9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1F7-C328-4BC0-8EE7-E1D4563B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078-C9FF-4D58-B6D5-B0336338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DE93-8A37-4424-A680-731BC455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AAB3-EA5A-474D-8BFB-2AC9E51E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B39-7395-4B0F-93F6-87A1C16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0203-4EF0-4CB0-AB01-BF967AB7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AF97-DCAA-413D-8967-3FB36C1B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F460F-03C5-47E1-9A91-FDD32114B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610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et Us Pray to the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85345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pray to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 Us Pray to the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6800" y="1905120"/>
            <a:ext cx="83772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Let us pray to the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Christ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83818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Leader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Let us pray to th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All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5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have merc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6:53:22Z</dcterms:modified>
  <cp:revision>28</cp:revision>
  <dc:subject/>
  <dc:title>PowerPoint Presentation</dc:title>
</cp:coreProperties>
</file>