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D1CF-0232-4BBE-9EC6-CE570088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F5D-50A5-4BB1-8112-5F7564C2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C90-6D6A-486B-AFDD-AE36B2DD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4F8-3B50-4D5F-901F-CE0DF43E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F93-6178-44F6-B88B-83826966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9EA-8B9B-4EE5-829D-96F9811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1B5-2255-4EA1-92F0-F9FA820F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97B-7881-44E4-890C-41A07EFD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F4F-9CC9-43B6-A61E-6F9FBF2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535-2490-42AA-B88C-280C3F6C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492-3E8D-4DB1-B289-6B8B6F0A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A80F-24B7-4CDF-96FD-BD7DD3AF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8059-F95B-467C-A3A6-8037D2246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2, 1978 Manna Music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9720" y="1143000"/>
            <a:ext cx="343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erry Sinclair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’s my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praise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33:19Z</dcterms:modified>
  <cp:revision>38</cp:revision>
  <dc:subject/>
  <dc:title>PowerPoint Presentation</dc:title>
</cp:coreProperties>
</file>