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55E-36A1-475A-A555-0A8763AA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5F3-0BC7-4728-99AA-DC965F8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828-5F2A-4C6F-9F4B-863AF3D4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AED-73EB-474B-932B-6D8A3D3D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5C6-3112-4480-9E49-74A11BA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F19-9AEF-43D2-8B76-F4A8475C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B51-5844-44D2-80C6-D43FDF9B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332-64ED-4E6C-9A8E-CF035D5E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E5E-C2EC-4640-9FBC-0976CFE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829-87EB-47B5-B44E-7F5411BA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EC5B-A874-42D7-93CD-F50721BD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18D-B3E4-43E0-B3A9-22539C15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895-DDF8-4A1A-885A-26C32DC9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Master, Let M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lk with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Master, le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owly pa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ervic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0520" y="1676520"/>
            <a:ext cx="3416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ashington Gladden, 18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ll me thy secre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me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ain of t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ret of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elp me the s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eart to m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some clear, win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the way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et to st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uide them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me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each me thy patien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los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er compan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work that k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sweet and str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rust that triump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ver w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n hope that s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hining 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down the futur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adening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aster, Let Me Walk with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ace that on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canst g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, O Mas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02Z</dcterms:modified>
  <cp:revision>20</cp:revision>
  <dc:subject/>
  <dc:title>PowerPoint Presentation</dc:title>
</cp:coreProperties>
</file>