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278-715A-4BAD-972C-588FA3B9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7D0-55E7-4815-AA7E-2608AAFA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C8E-E9E6-44CD-B0B8-D3CE88EC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69E-1B16-43A2-914E-24B5CE37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79D-6C64-4C5D-9642-B5032F27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EC5-6BC1-4A3C-BD74-F2CAD4B2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685-4097-4D92-91C4-833F74A5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0F6-7E02-47A2-83E3-09B475F8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DDC4-9E57-489E-A0E7-C501C61D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7388-4693-49F3-90CE-66E5A60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455-2E00-418C-B5F0-C29C2075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C8CD-6746-462D-AD7B-C1ABDC6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CAC9-6A75-487D-95DB-46B7727F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Come Down, O 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 down, O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thou this soul of m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visit it with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ardor glow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7194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Bianco of Siena, 15th cent.; trans. by Richard F. Littledale, 1867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omforter, draw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my heart 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indl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oly flame besto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let it freely b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arthly passions t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ust and as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ts heat consu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y glorious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ine ever on my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the me r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ile my path illumi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s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rning str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hich the soul will l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far outpas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of human tel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Down, O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none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ess it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Love create a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in the Ho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makes a dwel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29:57Z</dcterms:modified>
  <cp:revision>16</cp:revision>
  <dc:subject/>
  <dc:title>PowerPoint Presentation</dc:title>
</cp:coreProperties>
</file>