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993A-7BB9-441B-8B0D-D1C0137C4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33F7-5271-44C9-8670-44D6FDB18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0A1D-8755-4B0B-8489-DDDE88E67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74E2-1210-401E-8D29-F386DB074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E5E8-4236-4772-BE94-C22297CB0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A61B-37A7-4A11-B5B7-B2FF435C3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D9AE-714E-4D7F-A9FB-228AE712A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2039-B612-400E-98F3-590DFFE4C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A0CB-7444-4732-A388-CFB006711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851D-CFE0-4917-B559-F9C61600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48F7-C73F-4AF6-860A-7EC6E22F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E33A-6B19-4FF2-B3AB-C2079C11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B9CAB-6B1D-4B91-A679-B1834830CA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305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hat Wondrous Love Is Th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9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Wondrous Love Is Thi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90885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USA folk hym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76520"/>
            <a:ext cx="9144000" cy="457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1. What wondrous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love is this,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O my soul, O my soul,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what wondrous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love is this,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O my soul!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Wondrous Love Is Th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371600"/>
            <a:ext cx="9144000" cy="457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4. And when from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death I’m free,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I’ll sing on, I’ll sing on,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and when from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death I’m free,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I’ll sing on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when fro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eath I’m fr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’ll sing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oyful b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and through eternity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I’ll sing on, I’ll sing on,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and through eternity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I’ll sing on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What wondrous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love is this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that caused the Lord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of blis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bear the dreadful cur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my soul, for my sou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bear the dreadful cur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my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Wondrous Love Is Th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What wondro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 is thi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my soul, O my sou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at wondro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 is thi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my sou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at wondro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 is th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caused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 of lif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lay aside his crow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my soul, for my sou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to lay aside his crown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my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Wondrous Love Is Th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890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3. To God and to the Lamb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I will sing, I will sing,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to God and to the Lamb,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I will sing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God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o the Lamb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is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eat I AM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ile million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oin the the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will sing, I will sing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ile million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oin the the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will 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9T14:31:16Z</dcterms:modified>
  <cp:revision>54</cp:revision>
  <dc:subject/>
  <dc:title>PowerPoint Presentation</dc:title>
</cp:coreProperties>
</file>