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1FEF-5111-4739-B1A0-6D6DE1E8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D80F-99F3-47FC-AF6D-888178D2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4B94-E088-477C-8191-0A0E6204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640F-109C-4DAF-B42A-048A0594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332E-2CB1-45FD-91E0-59606DD1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49B3-427A-4CBF-B335-9E71C014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4FFD-CC1A-4DD7-B214-200E8313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8BB3-DD9F-4DD1-9C42-ECF5E0B1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FD13-426C-4BCF-AAE1-81EB9D57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4873-5CF4-484D-9FE5-239764FB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18F6-48CE-4A2B-BCAC-783BBEF0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F65B-061E-4A54-B592-3C179776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9DEB-89F2-4E3B-B657-54BD27139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nticle of Christ’s Obed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407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is mind be in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was als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Christ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dapt. and Response 1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Christ’s Obedi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51480" y="1116000"/>
            <a:ext cx="7291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Philippians 2:5-11, adapt.; Response 1, Philippians 2:5, adapt.;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Response 2, Caroline M. No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057400"/>
            <a:ext cx="9144000" cy="262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the name of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knee shall b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Christ’s Obedi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447920"/>
            <a:ext cx="8610480" cy="39330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30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hrist Jesus, though he wa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in the form of Go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did not count equality with Go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 thing to be graspe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98108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ut emptied himself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aking the form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of a servant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being born in our likene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44792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being foun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in human form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he humbled himself an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became obedien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unto death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even death on a cro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75248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refore God has highly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exalted him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and bestowed on him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he name which i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above every nam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220968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at at the name of Jesu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every knee shall bow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in heaven and on earth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under the eart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2133720"/>
            <a:ext cx="8610480" cy="3201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every tongue confes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hat Jesus Christ is Lor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o the glory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of God the Father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2T17:09:02Z</dcterms:modified>
  <cp:revision>29</cp:revision>
  <dc:subject/>
  <dc:title>PowerPoint Presentation</dc:title>
</cp:coreProperties>
</file>