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5D1-9A29-42FD-821C-B83A2EA8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BDD-8AD5-4AFF-A6E2-0FC337AE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122-0AB1-4BC0-BDC2-9B625314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ACAD-50C6-4FCF-B4FE-23CC12D5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1D9-9F55-4D13-B4CC-632FE77A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0B24-3F9E-46A2-BF15-FF840761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39A-9A20-4A9C-A08D-A23255FC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FD9-C352-42C1-A62D-0AC622D3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011-35D8-4E6C-9A5E-F0C114F6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22C-2144-4C53-A7D7-79D1A680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B0DF-5250-40BB-A7FF-812FBFA5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2D0-9379-422F-AFD2-8007B828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1D4-09E9-4C4C-B4DC-5C472FF97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ing with All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Saints in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ints in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he resurrection so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5560" y="1500120"/>
            <a:ext cx="476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William J. Irons, 1873 (1 Cor. 15: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thless v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triarchs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tant 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ll lo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ir heav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895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phets, psalmi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rs, and sag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wait the glory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ife eterna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what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d on fai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joy unkn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, amidst earth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ing thund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shall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004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o en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right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that glowing firmam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, with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 Im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Jesus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thou has sen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048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and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’s dark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ormer days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rou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are bre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on the stor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ime shall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od’s like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wa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what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excee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yet perceiv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iest he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ges plea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that fu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 concei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promi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prepares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welcome wai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93640" y="14749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um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shares i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has pa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eternal gat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ife eterna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rejoic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lives,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wa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ith All the Saints in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22Z</dcterms:modified>
  <cp:revision>47</cp:revision>
  <dc:subject/>
  <dc:title>PowerPoint Presentation</dc:title>
</cp:coreProperties>
</file>