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37A-F38B-4047-9094-298DFFD0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7BD-62FE-4179-8CB9-F1ABF08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1A2-F942-4F0C-BE91-D287A619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445-1CAC-41FA-82AE-845DB737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ECF0-CF1E-47C2-88B0-00E24B69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694-B8F4-45D8-8EF2-A66ED7C1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2F3-DF10-4873-B843-D96552F3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E00-8525-40EF-A4F9-54ABB655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975-A902-4506-839A-A23E5624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FF4-8818-45E3-BE1C-B7287CBF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D0E-1963-4EC6-8F81-570E8010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FA5-8E71-4787-B32E-D342DD66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3F51-45D5-4DE8-B62C-E200ABFDD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y Holy Wings, O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2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Thy holy wings, O Savio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pread gently over me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let me rest securel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rough good and ill in the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3 Gracia Grindal and LaRhae Knatter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760" y="1066680"/>
            <a:ext cx="65311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aroline V. Sandell-Berg, 1865; trans. by Gracia Grindal, 1983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(Ps. 91:4; 73:26; 119:114; 51:10; 1 Pet. 3:18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be my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or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rock and hiding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my every mo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lived within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wash me in the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Noah’s cleansing flo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me a willing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heart b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y Holy Wings, O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ake into thy keep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 and sm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ile we sweetly slumb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fold us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9:13Z</dcterms:modified>
  <cp:revision>13</cp:revision>
  <dc:subject/>
  <dc:title>PowerPoint Presentation</dc:title>
</cp:coreProperties>
</file>