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EA50-B47A-4FD1-907D-9C1B42B2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31B-4085-4432-929A-713307B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E96-B7D9-45BF-B505-4E040C8B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444E-6BC7-454D-8E87-E97C0D1F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331-C18A-4B79-9571-CE85C354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A27-C374-433D-B350-FFD9DE4A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DB3-FAF6-494C-B8EB-731E32F2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413-C7DF-424D-8D97-EC145273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13A-66E2-46E2-ACE2-840E41A6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CA79-163C-4558-912E-75AF781F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F1A-E27C-443E-8D63-64FC7D7D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CBE-537F-4A61-956C-0C2BE47F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9292-8482-44B0-B532-B676C888D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ll Me the Storie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Tell me th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stories of Jes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 love to hear;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ings I would ask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him to tell m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f he were here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19480" y="1015920"/>
            <a:ext cx="6350040" cy="73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William H. Parker, 1885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Mt. 19:13-15; 21:8-9; Mk. 10:13-16; 11:8-10; Jn. 12:13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enes by the way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les of the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rie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them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irst let me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he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od round his kn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shall fan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ing on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s full of kin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ds full of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n the love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Jesus’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to the city I’d fol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ren’s b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ving a bran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palm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in my h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Me the Storie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of his hera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, I would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udest hosann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Jesus is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49Z</dcterms:modified>
  <cp:revision>34</cp:revision>
  <dc:subject/>
  <dc:title>PowerPoint Presentation</dc:title>
</cp:coreProperties>
</file>