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E50-BE61-48B4-B675-DD86FB66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749-5E12-4727-8B33-8C082D3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225-7E0A-4B89-9E38-3C1189EB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9C1-820F-4616-A3C7-7992FEDB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D0B-582E-4E12-B191-93CEC8DF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222-FEDA-4C72-9BEC-2376C595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636E-DDF9-4CA5-8DF4-915FD06A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D3D0-BD08-40B6-91F2-20853710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42A-2991-4DBB-94DB-E22EDE8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D0B9-9129-459D-B155-ACF5D9D6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F19-91C7-4163-9492-975269A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8FA-E095-4897-BA17-3367268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2CD-9582-4467-BF91-3490D9182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Hymn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n the bul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a fl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eed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apple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7200" y="1143000"/>
            <a:ext cx="27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Natalie Sleeth, 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doub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s belie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lif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esurrec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last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vict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oco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idden promis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terflies wil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be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now of wi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its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re’s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sil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ing wor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lo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da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dar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ing hop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 and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p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come the fut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it ho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yste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revealed unti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mething Go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e can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the 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our begin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tim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ini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mn of Prom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07:03Z</dcterms:modified>
  <cp:revision>52</cp:revision>
  <dc:subject/>
  <dc:title>PowerPoint Presentation</dc:title>
</cp:coreProperties>
</file>