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C86-CC07-4EEB-95CE-A6667B7F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2D3-D41B-4A34-9D45-7F99D2BE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8CD-33AD-4E66-A508-EC976C7F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BEC-2635-4DA4-9BC0-49962C05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A49-99FB-4D7B-BB8E-3361043D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815-2B40-4151-95C3-4964EB56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60F-A161-43AA-B2D1-18859F7F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AB7-C26B-4F10-AF8C-E7340A02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988-F9C8-4BFD-9DE2-25632DE9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DD4-1C80-4205-ACBF-31F3B3A4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53BE-F542-466D-8C2D-ED8AC9E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2ED0-4846-4A12-B90A-2D451AFE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913D-47DD-4563-BB7D-6C6A84965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rk! the Herald Angel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born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280" y="1116000"/>
            <a:ext cx="8812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; alt. by George Whitefield, 1753, and others (Lk 2: 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ail the heaven-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Pe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il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ighteous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he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n with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ld he l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y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may di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o rais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econd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nd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oncile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, all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ki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’angel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t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 is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k! the hera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, by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ador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k! the Herald Angels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te in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spr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virgin’s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iled in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head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il th’incarnate Diet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d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lesh to d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9:47Z</dcterms:modified>
  <cp:revision>16</cp:revision>
  <dc:subject/>
  <dc:title>PowerPoint Presentation</dc:title>
</cp:coreProperties>
</file>