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F49B-AE92-47E3-8DFE-3BA57B32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1B6-6447-46EC-9EFB-8D8C1C8E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0E5-B71B-498E-8BFB-83E2E866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138-C284-4C2D-B2AC-D821DD81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941-B3D1-423F-A4E7-96EA3ACB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525-5B04-444C-9234-FD9A26F3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2DC-9BC4-44CE-BA8C-07F84F2E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2E88-A467-41CB-826C-2FD7D29B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98C-53CA-4151-8E07-92C66ED8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76D-3944-499B-8904-046D0FBA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5A3-2440-4657-9ED2-8FFBA61A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A9D-35A6-41E5-9750-C1714D29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8343-ECEB-4926-9A79-15A182C3E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Thou Who Thi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sterious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Thou who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sterious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dst in Emmaus break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5 (Lk. 24:13-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turn, here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ouls to f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llowers spea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Unseal the volu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y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pply the gospel w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pen our ey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e thy f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to know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f thee communing st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mourn till thou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eil remo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lk with us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shall bu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flames of ferven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Enkindle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ze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ke thy mercy kn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 our pardo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s to fe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God and love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This Mysterious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7:13Z</dcterms:modified>
  <cp:revision>115</cp:revision>
  <dc:subject/>
  <dc:title>PowerPoint Presentation</dc:title>
</cp:coreProperties>
</file>