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BD3-CC15-455E-972A-76D41C01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14C-6154-4DBE-B7F7-45E84993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62C-75ED-4D6C-89DA-3CD067CE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794-7C25-453D-8CC0-C4D57338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EFA-D445-4570-9104-5F9BCB7C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21F-60EB-4097-AB7A-CE09EE55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352-FB48-4764-9F4E-46EB2157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75CA-A430-4776-8B9A-9C487583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CBC4-FEE7-4E3E-A57B-67488ECB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8CB-3A90-4E56-ABFC-CBEFE28A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CB3-9493-413D-91FC-2C57F5A5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0B9-CCCB-4BD8-8F76-A20B95C1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31E4-0850-4F91-81AC-6E60E3988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 Tierra Lejana Venimo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rom a Distant Ho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De tierra leja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venimos a ver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sirve de gu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estrella de Orien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ans. © 1963, 1980 Walter Ehret and George K. Evans, by permission of Walton Music Cor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6960" y="1573200"/>
            <a:ext cx="75798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Puerto Rican carol; trans. by George K. Evans (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 del ci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bajó a la tier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mir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inspira tristez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rom a distant h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ee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ing as our gui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tar s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ightly beam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Glowing gold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ewborn ba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ho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reign above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rankincense I b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hild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own choo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our pray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heaven ev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itter myrrh have I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infant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ken of the pai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ill b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av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ly eastern st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ells u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mor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’s wondrous 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never cea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shin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istant H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y in the highe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Son of Hea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pon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peace and love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l re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 nacid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s Rey de los rey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o le rega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a ornar sus sien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o es Dios el 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 regalo incien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erfume con al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su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a 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 brilliante estrel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nunci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auro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nos falte nunc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 luz bienhechor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 Tierra Lejana Venimo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Hijo de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oria en las altur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 en la tierra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8:34Z</dcterms:modified>
  <cp:revision>18</cp:revision>
  <dc:subject/>
  <dc:title>PowerPoint Presentation</dc:title>
</cp:coreProperties>
</file>