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149C-10DD-4238-B330-9FE31629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55C2-DE13-48F5-8359-72B648D4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63F4-BE26-4441-9AD6-F9409382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E84D-A840-4E1A-9D3E-65421D8C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0EFE-27E1-495A-8F4B-AB0B3CAE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757B-FF46-4D39-A557-F42CDB3E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F578-21F9-4483-BF13-7E1722C5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2FBE-87F1-4A60-93D2-C67108F1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3AAE-78E0-47C1-A557-7C8278C1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D4D6-7857-46CB-A8AD-C528868D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041B-89C7-461F-B041-F8923DE4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302A-FE2E-48C9-949B-4F851719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09CC-933C-4F61-9890-DD85155A0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lorious Things of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e Are Spok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Glorious thing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e are spok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Zion, city of our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ous Things of Thee Are Sp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8240" y="1523880"/>
            <a:ext cx="6327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John Newton, 1779 (Ps. 87:3; Is. 33:20-21; Ex. 13:2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a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 cove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owing that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is nea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us deri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our bann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ght by n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ade by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fe we fe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on the mann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God gives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Blest inhabita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Z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hed in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deemer’s bl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ous Things of Thee Are Sp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, whom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ls rely 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us monarch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iests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, by his gre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, he rais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ulers o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lf to reig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s pries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solemn prais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for thankf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fering b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, whose w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nnot be brok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med thee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own abo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 Roc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Ages foun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can sha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ure repos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salvation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lls surroun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mayst smi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all thy fo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See, the strea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living wat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ringing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l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ous Things of Thee Are Sp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ll supply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s and daught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 fear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nt rem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can faint whi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ch a ri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 will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rst assuag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ce which li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, the gi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ver fai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age to ag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Round ea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bitation hove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 the clou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ire appea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ious Things of Thee Are Sp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46:47Z</dcterms:modified>
  <cp:revision>54</cp:revision>
  <dc:subject/>
  <dc:title>PowerPoint Presentation</dc:title>
</cp:coreProperties>
</file>