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1D40-2CD6-4111-A59C-4FAB97D1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902-85B0-4B1D-AED1-4F6347A8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E18-5BE0-4693-9829-1C92404E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13A-AC9C-4D0A-92F4-BC739B0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CE2-F6B4-4BC3-9C32-C9BE525D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DAB-5DEA-4B59-AA78-927B78F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0E1-9D58-477D-9F53-9464C83B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7F8-A490-41EB-8BF7-20518875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812-6597-403C-8528-17B376E2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61E-1CF6-497E-8D23-6F572BA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1F3-0FBC-403F-9997-91EDE35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8B1B-B7C3-4443-A8C9-DF5A675E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B910-F896-4DCB-8438-A5F3945E6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 Down, Mo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80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 (Ex. 3:7-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Israel w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Egypt’s 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ppressed so h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could not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14300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As Israel st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water’s 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did div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6668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7. When they had reac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other sh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ang a s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riumph o’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838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8. O Moses, the clou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leave the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et my people go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fire by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hade by d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9907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9. Your foes shall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you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’ll poss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r Canaan’s l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06668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0. This world’s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derness of wo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et us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anaan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9907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6668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1. O 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bondage fl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hrist be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193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“Thus saith the Lord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old Moses s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“if not, I’ll smi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firstborn dead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9907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 more shall th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ondage t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m come 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gypt’s sp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need not al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ep and mo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ear those sla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ins forlo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43000"/>
            <a:ext cx="9144000" cy="463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o down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go dow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ses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(Mos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y down in Egypt’s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ell old Pharao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let my people go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Down Mo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Come, Moses,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not get l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tch out your r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me acro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y people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8:13Z</dcterms:modified>
  <cp:revision>148</cp:revision>
  <dc:subject/>
  <dc:title>PowerPoint Presentation</dc:title>
</cp:coreProperties>
</file>