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633-D4E8-405D-BC62-2123507B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2BA-7BCF-4234-951E-9C85874F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A8A-5D9D-4833-8D56-917EAAA9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14A-F1E9-4EC4-83BE-66C7F182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8972-4717-4A1A-B407-F0330F69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EE2F-C7E0-4B22-8B07-D8B9EC88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CEA-FBBB-4F8F-B8F5-C9F76C6B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9D6-C2DF-45C3-A701-0676E9F8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7BF-1AD6-420D-AC21-C3D14578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A80B-CFB9-4B83-BF87-0528B413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C67-39B1-4139-9822-1FB466B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A6A-E56D-47D3-B3AC-22C9650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EF8D-C3DE-41D5-B25F-FD764690A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ny and Great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ny and great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od, are thy th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r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5920" y="1066680"/>
            <a:ext cx="76636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Joseph R. Renville, ca. 1846; para. by Philip Frazier, 1929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Ps. 104:24-30; Jer. 10:12, 1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ands have s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s with star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fingers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ntains and pl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657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, at thy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ters were form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 seas obey thy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505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rant un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union with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tar abiding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and Great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un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well with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e are f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ifts of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us with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s no 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if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12Z</dcterms:modified>
  <cp:revision>10</cp:revision>
  <dc:subject/>
  <dc:title>PowerPoint Presentation</dc:title>
</cp:coreProperties>
</file>