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6492-8AA2-4B9E-AD08-6019FFF7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C3C-D98F-4025-9746-0E1E33C3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702-25FE-4C5D-BA82-378FE896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AF4-B34C-4438-9BCA-EDD6ED72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5B9-FF33-41A5-9498-B08EC38E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FE4-A3AE-4E83-89B3-926F5296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D66-8921-4610-B247-BD1F3655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01A-0F69-467E-A4EB-57FB4434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644-6D4B-44BA-B0CB-7441D3A6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378-7311-4B4D-A26F-3AEF4320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998-B5B3-452F-80EC-B44774E3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ACC-7291-4857-BF2F-DE398257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9CCB-DD77-4294-9B40-1DCC9B4F0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Food to Pilgrims Gi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food to pilgrims 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read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nna from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Maintzich Gesangbuch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66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by John Athelstan, Laurie Riley, 1906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unger;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pply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y deligh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ny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draw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ream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t tel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urest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ing from ou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’s sid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aint with thir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i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ne abun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we need prov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e bidd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ere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dden in fo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read and w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od to Pilgrims Gi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when the ve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ris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ay beh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ountenan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46Z</dcterms:modified>
  <cp:revision>133</cp:revision>
  <dc:subject/>
  <dc:title>PowerPoint Presentation</dc:title>
</cp:coreProperties>
</file>