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01BC-E8E9-4BFD-A247-36A40634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E30-8202-474F-8A26-29D242DC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00E-12BA-417D-A42E-82F1E5C3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CE12-7CDE-4362-BE19-C755421D2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C98-A482-4DE4-9F89-862C1F88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6ED-181B-4798-9027-8823EE54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C579-E32E-4FDD-8A85-E2AB8FE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578-8E18-4DEA-B08A-D8F43CF1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652-1F42-477E-8D03-83595F53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90B-BAAC-4B98-A0A8-349BC86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197-7129-4333-9D4E-B26D9816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00A-6C83-49C1-980C-C69A4127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46C0-D8EE-4F40-8C0D-9FFF9EF17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ke My Life, and Let I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ake my life, and let it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ecrated, Lord, to th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mome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m f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easeles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9160" y="990720"/>
            <a:ext cx="443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ances R. Havergal, 1873 (Rom. 12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them m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impulse of thy lov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ft and beautifu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ake my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me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, only, for my K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lip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them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ed with messages from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sil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gol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mite would I withhol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intellect, and u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powe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halt cho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ake my w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 it t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shall be no longer min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thine 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shall be thy royal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My Life, and Let I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I p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y feet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asure-st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myself, and I wi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, only, all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18Z</dcterms:modified>
  <cp:revision>20</cp:revision>
  <dc:subject/>
  <dc:title>PowerPoint Presentation</dc:title>
</cp:coreProperties>
</file>