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FE1-B8AE-454F-A0F5-F7A27CF9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A757-A400-4F08-B2A6-B6B1735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387-380C-4AF3-BDEA-F5721EE0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ED4-E5EE-48EA-A9A6-83177CA05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DFB-9389-432D-9D61-647C1100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C3A-D50C-4B14-BD96-A38B245F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344-5295-472B-838E-C0F7E9C1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03FE-F1E7-4F08-A02D-6CBE6DF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D47-AE4D-49EB-B02E-087BD069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472-A758-4A15-BD06-1541A87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3BC-F564-4337-9BAA-CF012B3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185-F65B-4AC1-AA93-4D7875B6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52C7-7E48-4E82-A702-61D309A7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t This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ver be hung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4 Les Presses de Taiz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France; by permission of G.I.A.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t This B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bert Batastini and the Taiz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 Community, 1982 (Jn. 6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29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t this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this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in m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ill not thir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4:53Z</dcterms:modified>
  <cp:revision>123</cp:revision>
  <dc:subject/>
  <dc:title>PowerPoint Presentation</dc:title>
</cp:coreProperties>
</file>