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3220-A1B6-4760-8030-A297BCA3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15F6-9637-42B0-B3CD-F6A1B6E5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D638-AF70-4B18-9829-2AF3846D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4F54-919D-40F4-BB44-92DE2456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DFB1-7A53-4EC4-BEAA-A1D28A32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FF32-2759-466A-A5FF-838531F1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DBE-98A5-40C6-A6F1-8A222556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B751-823F-4F6E-9228-F583CA7C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6049-84B7-4004-90C4-C5A9DB07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53D3-633C-47AA-9CB2-90ABBA59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A577-EDEE-4C9A-A4E0-E4869D03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E37C-4DEB-4B59-B4AA-FDDA1605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17B3-7444-43B3-BB1C-AC53673BC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10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The Prayer of Saint Franc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ayer of Saint Franc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Francis of Assisi, Italy, 13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2438280"/>
            <a:ext cx="81151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Lord, make me an instrumen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of thy peac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ere there is hatre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let me sow lov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1752480"/>
            <a:ext cx="85345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ere there is injury, pardon; where there is doubt, faith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ere there is despair, hope; where there is darkness, light;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where there is sadness, jo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914400"/>
            <a:ext cx="853452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 Divine Master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rant that I may no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o much seek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o be consoled as to console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o be understood, as to understand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o be loved, as to lov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990720"/>
            <a:ext cx="83818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or it is in giving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at we recei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t is in pardoning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at we are pardone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it is in dying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at we are born to eternal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4:37Z</dcterms:modified>
  <cp:revision>156</cp:revision>
  <dc:subject/>
  <dc:title>PowerPoint Presentation</dc:title>
</cp:coreProperties>
</file>