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369-8BA4-4268-BA15-52E23818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EEA-BC7F-4297-8DDC-025BACBF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98E-E63E-4873-A85B-1CEE3DF8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169-1B1A-48A4-9C3A-02A2B690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C93-6B22-4C51-B445-06BEBE10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11D4-49B5-4DFA-9842-D95AF1FA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30D-755E-40E7-8A78-E019756E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1B5-A90F-4B8C-A2DF-57039A94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F5C2-FAE9-409B-BD5A-4D8BD19F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617-7915-45A0-8AE4-E735D73D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4FC-ABF5-4C11-B481-93DD389F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39A-734D-482F-AEC5-1F3493B8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1B4-26D2-4539-8674-F8360DF72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is Is My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ts. 1, 2 Lloyd Stone,  st. 3, Georgia Harkness, ca. 19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is is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lands afar and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Sts. 1, 2 © 1962 Lorenz Publishing Co; st. 3 © 1964 Lorenz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my h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untry 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eart i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e are my hop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dreams, my holy shr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thers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ther lands are bea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opes and drea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rue and high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My country’s sk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re bluer than the ocea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sunlight bea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cloverleaf and p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ther l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sunlight to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lo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kies are every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blue as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ar my so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God of all the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ong of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ir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r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is is my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 Lord of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th’s kingdoms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kingdom co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n earth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Christ be lif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 till all shall serve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rts uni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rn to live a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ar my pray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God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nation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self I give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y will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39Z</dcterms:modified>
  <cp:revision>146</cp:revision>
  <dc:subject/>
  <dc:title>PowerPoint Presentation</dc:title>
</cp:coreProperties>
</file>