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98E-BCE9-4745-A571-1CD62182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D589-3D08-43EB-A630-D5292BE3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E26-1342-42ED-8E9C-E002E0AA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913-BB96-4B6F-B4BC-4E80A0AE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9C6-BB27-4330-A0FA-F049109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AAA-2125-41DB-A0AF-0A7D1516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2E6-2D4E-424E-82B0-15D94807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87A-AC32-4FAC-8A1D-61CC2DEE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D1F-9FCE-48A0-BC3D-40AADE62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286A-EE93-4E62-822C-4596F2E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974-72EA-4CE3-A60A-15083788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A98-7AA6-448A-A155-6C91D56F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31EF-FDC2-4128-A99B-E28AC1033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Parent, by Whose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Our Parent, by whose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parenthood is 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n your love procla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family your ow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40, 1943, renewed 1971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64880" y="1077840"/>
            <a:ext cx="34570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. Bland Tucker, 1939; alt.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rect all paren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ing w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constant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sentin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homes in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eople d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 Jesus, who, a chi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an earthl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eart still undefi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d to adulthood com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children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hold your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ing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grow in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lest Spirit, who can b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arts in u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each us so to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ve from self set fre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arent, by Whose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ch love incr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very h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is relea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welling pla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34Z</dcterms:modified>
  <cp:revision>15</cp:revision>
  <dc:subject/>
  <dc:title>PowerPoint Presentation</dc:title>
</cp:coreProperties>
</file>