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79A-80C5-432B-A336-1527BB42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52D-4DB7-4614-BDD8-8E4503BD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647A-430B-4692-8A13-54AAAFAB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5A92-0424-468F-8DEE-5C5C9CD5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46D5-3E5D-4EEA-B68C-3E2E3951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697-C3DC-4470-8CE4-E2E35ABA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8487-3684-4858-8035-4FAC294D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8787-962F-48EB-A21E-F2E0F66C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A193-1C3C-48B2-BDBA-CDB541A0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823-6F09-488F-8B9B-7AC5F496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ADE-C3AB-4233-AC31-43CEEEFA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F87-431E-4CBA-B653-24C07C19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4FD9-8EB5-4D2E-B960-B5B941D2B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15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 the Cross of Christ I Gl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9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John Bowring, 18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n the cros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I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wering o’e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recks of ti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sacred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hers r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head subl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sacred st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athers r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s head subli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When the wo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life o’ertake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pes decei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ears anno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ver shall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ss forsake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! it glow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peace and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When the su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bliss is beam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 and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on my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radiance stream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dds more lus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Bane and bles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in and pleas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the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sanctifie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ace is th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knows no meas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ys that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ime abid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Cross of Christ I Glo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In the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Christ I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wering o’er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recks of tim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4:34:19Z</dcterms:modified>
  <cp:revision>50</cp:revision>
  <dc:subject/>
  <dc:title>PowerPoint Presentation</dc:title>
</cp:coreProperties>
</file>