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53F-0AEF-48CF-8C6D-7FE9EEC3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D33-BFB8-4498-A38D-98D5356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ABA-0786-4644-B3DC-07A72175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3A95-1FD8-4B00-9048-BADCCF15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67A8-E6C2-49B2-972C-208C2D11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34FA-3B1B-4731-B359-0F9712D7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4D2-3374-41F1-83A5-AE677D79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719-9AB2-4886-BED7-F29617B9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25F-F889-4BBC-A87A-2B07EE7D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543-F6E7-489C-851A-CF11C675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1C5-9660-429E-9E37-438853C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D82-259C-4F1E-8E8D-1D4BAD13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419B-3644-4480-9627-68976D70C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ary of All Trumpe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eary of all trumpe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ry of all ki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ry of all songs that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mise, non-fulfi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 by permission of Inter-Lutheran Commission on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0400" y="1077840"/>
            <a:ext cx="33246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Martin Franzmann, 1971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uld ra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hrist, one so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uld join in sing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great music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 and str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with heaven is r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aptain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wl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ant King, your dy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ade us shea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oolish s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ade us cease deny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mpet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pirit’s br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each he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your self-giving d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 us all to fol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o the triump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mmon all the liv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mmon us to live by l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ining all by giv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ry of All Trumpe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ffering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ay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iumph in surrend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ing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ay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rtners in your splen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3:04Z</dcterms:modified>
  <cp:revision>11</cp:revision>
  <dc:subject/>
  <dc:title>PowerPoint Presentation</dc:title>
</cp:coreProperties>
</file>