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FB13-2E07-43A6-AC79-B849D7368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B6CC-DB4C-440F-9AE7-EAB5373BE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C53C-B7F2-42EE-913F-CA1C01BFC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0ABF-B6A8-4F50-A9F9-CA222131B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3F62-81F6-488B-9A6D-E197EBE0D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B3CD-7C26-477C-9D3C-982A555DF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BF16-F620-42B6-B26E-734354A02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A092-6D81-4CD9-9158-8DB97D925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708C-918B-4356-8151-3FEC6F145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5234-CD7B-4F43-BB29-3505002C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79B8-06E1-450C-A58C-21DCF08C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3BF3-2148-4956-9F1D-2FE9A83F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17274-B61E-4516-91B4-56C5ABDB06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y Hope Is Buil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6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My hope is buil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 nothing l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n Jesus’ bloo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righteousne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Hope Is Buil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79960" y="1066680"/>
            <a:ext cx="27730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Edward Mote, 183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When he shall co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trumpet sou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may I th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him be foun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Hope Is Buil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ressed in hi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ighteousness alon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aultless to st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fore the thron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525600"/>
            <a:ext cx="9144000" cy="543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 Christ the solid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ock I sta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other grou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s sinking sand;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other grou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s sinking s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Hope Is Buil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dare not trus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sweetest fra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ut wholly lea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 Jesus’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525600"/>
            <a:ext cx="9144000" cy="543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 Christ the solid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ock I sta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other grou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s sinking sand;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other grou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s sinking s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Hope Is Buil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When darkness veil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is lovely fa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rest on hi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unchanging 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Hope Is Buil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every hig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stormy gal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anchor hold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in the vei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525600"/>
            <a:ext cx="9144000" cy="543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 Christ the solid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ock I sta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other grou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s sinking sand;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other grou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s sinking s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Hope Is Buil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His oath, his covenan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is bloo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upport me i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whelming flo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Hope Is Buil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all arou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soul gives w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then is a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hope and st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525600"/>
            <a:ext cx="9144000" cy="543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 Christ the solid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ock I sta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other grou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s sinking sand;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other grou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s sinking sa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Hope Is Buil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13:42Z</dcterms:modified>
  <cp:revision>17</cp:revision>
  <dc:subject/>
  <dc:title>PowerPoint Presentation</dc:title>
</cp:coreProperties>
</file>