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12DF-A46E-4FBC-BDC0-C931A1AC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83F-E76A-4FDA-A68C-78D589EC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EF6-E22B-4590-BBC7-AEF0ED96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16A-17B2-45C8-95DF-5F779579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A71A-2178-4F05-9A66-C374C013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8C8-6017-49BD-8EC2-2DDF162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9F3-F75D-4DBD-AB9A-54D4D0A8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249-97F0-48D4-B3E1-CDED39B4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6AD-9400-4FAA-B8F9-9772BBB3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4A0-4533-4047-888F-28548511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4DD-0B5F-4820-8E3D-5ADE1AF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F46B-1EE1-4F68-94EA-34859D6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4573-6AD3-48E5-BB21-BDBCF5303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I Want to Be a Christ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Lord, I want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e a Christia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rd, I want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e a Christia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8840" y="1066680"/>
            <a:ext cx="3417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a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mor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mor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mor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like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in my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I Want to Be a Christ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47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w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be like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heart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in my hear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17Z</dcterms:modified>
  <cp:revision>22</cp:revision>
  <dc:subject/>
  <dc:title>PowerPoint Presentation</dc:title>
</cp:coreProperties>
</file>