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AE4-7FD2-4CC5-8E3C-1FD03585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707-D30E-4ABF-9199-7FE32C47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BBE-570D-4898-A811-1EC2736C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65D-7C28-418F-B819-0EB7C723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7296-B0FE-4CF8-BC41-B8B4B036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9444-EA9F-4372-8A72-DA15D36A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A363-7B88-4FBB-AE2B-B77314A1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161E-03DD-47F9-9387-18FBDA81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D0E3-504C-4D18-8FB3-F7DA7160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948-0290-4FBC-ACAD-99C2EF56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E57-DFD6-4210-840C-DA39D387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38E-7562-45D8-94E9-D8636E3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A6D2-221F-4EBE-B536-57D88CBCE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ou Hidden Love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22860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990720"/>
            <a:ext cx="7696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Gerhard Tersteegen, 1729; trans. by John Wesley, 1749 (Gal. 2: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Thou hidden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God, whose he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depth unfatho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 one know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O Love, thy sovereig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id imp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save me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w-thoughted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ase this self-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ll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ll its hidd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zes t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me thy dute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ild that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easeless m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Abba, Father” c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Each moment dra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earth a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heart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wly waits thy c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ak to my inm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 and s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I am thy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God, thy all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eel thy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ear thy v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aste thy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all my ch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ee from f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beauteou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ly s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y repo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heart is pain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can it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rest, till 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nds rest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’Tis mercy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thou has brou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mind to see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ts peace 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while I see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find thee n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peace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ndering soul shall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when shall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wanderings e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my step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-ward te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Lov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Is there a t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neath the su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strives with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heart to shar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h, tear it th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eign al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of eve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tion t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hall my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earth be f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t hath f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pose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8:39Z</dcterms:modified>
  <cp:revision>139</cp:revision>
  <dc:subject/>
  <dc:title>PowerPoint Presentation</dc:title>
</cp:coreProperties>
</file>