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6347-7BEC-4462-ABC0-F332169A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4BA-961D-4C4E-951F-E4955957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B7E-D2D8-4525-B957-E4A2D3B0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6F7-D73D-4DFE-B8D6-E4CF9655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D91-080A-4FE0-A51F-854016F5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599-2201-4870-B123-4D00FB27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4A3B-B31D-4713-900C-377FA3F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201-0742-4875-8545-01DA78AE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2346-C728-4685-8B9C-A093E402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9052-2324-4BD8-A196-256F39A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5E10-8B03-4A22-9FAB-9B7C59E0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B561-B50C-45EF-9036-51ED1AD6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63EE-36FC-44EB-AF53-F4F086067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305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ust Jesus Bear the Cross Al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228600"/>
            <a:ext cx="12193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4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066680"/>
            <a:ext cx="8610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WORDS: Thomas Shepherd and others, 18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810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Must Jesus bea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cross al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all the world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go free?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162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No, there’s a cros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every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re’s 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ss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How happy ar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e saints ab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ho once wen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orrowing her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now they tast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unmingled lov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joy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without a tea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t Jesus Bear the Cross Alone 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3. The consecrat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ss I’ll b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ill death shall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set me free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0574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then go hom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my crown to wea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 there’s a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crown for m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2:26Z</dcterms:modified>
  <cp:revision>141</cp:revision>
  <dc:subject/>
  <dc:title>PowerPoint Presentation</dc:title>
</cp:coreProperties>
</file>