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672C-DAD7-4231-8AC2-8E9D0C2A1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7404-A73D-4F61-BDDE-CDE8E8B4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E0DF-A881-41F7-AFBD-8CBE1B5AA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AC74-FA78-4D57-A8B8-F9E7BF739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5236-4710-4773-9CB3-8E481BF4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DFA5-D2B6-424B-8C75-D41BC71F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923E-B405-4DD8-93FA-EA92B9A7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4597-10EE-44F9-85AD-F621509D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0FF3-6950-4E00-BA0E-382392F3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F15F-635C-4EF2-8925-1E2CAEA1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ADCE-3829-4929-91AE-4B28A41D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1873-2757-442D-BCC8-672A47FC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059E-8AD8-4247-AA0F-9189657EA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hrist Is Risen</a:t>
            </a:r>
            <a:br>
              <a:rPr sz="36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Cristo Vi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rist Is Risen 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23880"/>
            <a:ext cx="9088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Nicolás Martinez, 1960; trans. by Fred Kaan, 1972 (1 Cor. 1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248520"/>
            <a:ext cx="9144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Times New Roman"/>
              </a:rPr>
              <a:t>© 1962 Metho Press, Ltd.; trans. © 1974 Hope Publishing 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5718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1. Christ is rise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hrist is living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dry your tears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be unafraid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52120" y="3429000"/>
            <a:ext cx="5670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hrist, the firstbor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of the living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gives us lif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nd leads us ou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752120" y="3352680"/>
            <a:ext cx="579528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et us thank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our God, who cause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ope to spring up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from the gr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361240" y="3429000"/>
            <a:ext cx="431388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hrist is rise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hrist is giving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ife eterna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ife profou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4320" y="3276720"/>
            <a:ext cx="823212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1. ¡Cristo vive, fuera el llanto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los lamentos y el pesar!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Ni la muerte ni el sepulcro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lo han podido sujet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sto Vive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34290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98920" y="2571840"/>
            <a:ext cx="734796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No busqu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éi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entre los muerto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al que siempre ha de vivir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¡Cristo vive! estas nueva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por doquier dejad oí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31240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480" y="3124080"/>
            <a:ext cx="755676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2. Que si Cristo no viviera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vana fuera nuestra fe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mas se cumple su promesa: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‘Porque vivo, vivir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éis.’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sto Vive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31240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39440" y="2571840"/>
            <a:ext cx="766512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Si en Ad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án entró la muert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por Jesús la vida entró;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no temáis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el triunfo es vuestro: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¡El Señor resucitó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34290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49040" y="2571840"/>
            <a:ext cx="7047720" cy="39027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3. Si, es verdad qu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de la muert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el pecado es aguij</a:t>
            </a: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ó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no temáis pues Jesucristo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  <a:ea typeface="Arial"/>
              </a:rPr>
              <a:t>nos da vida y salvació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sto Vive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31240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1828800"/>
            <a:ext cx="8458200" cy="46645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Gracias demo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l Dios Padr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que nos da seguridad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que quien cre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en Jesucristo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vive por la eternida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276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Death and darknes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ould not hold him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nor the tomb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in which he la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25146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124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Do not look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mong the dead for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one who live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forevermor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31240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276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ell the worl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hat Christ is rise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make it known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e goes befor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25146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276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2. If the Lor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had never rise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e’d have nothing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to believ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-137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t Is Risen (Verse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514600"/>
            <a:ext cx="9144000" cy="85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200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but his promis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an be trusted: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“You will live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because I live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752480"/>
            <a:ext cx="9144000" cy="85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429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As we share the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death of Adam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so in Christ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we live again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752120" y="3276720"/>
            <a:ext cx="552996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death has lost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its sting and terror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hrist the Lord has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come to reig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055960" y="3276720"/>
            <a:ext cx="50544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3. Death has lost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its old dominion,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let the world</a:t>
            </a:r>
            <a:br>
              <a:rPr sz="5000"/>
            </a:br>
            <a:r>
              <a:rPr b="1" lang="en-US" sz="5000" spc="-1" strike="noStrike">
                <a:solidFill>
                  <a:srgbClr val="ccecff"/>
                </a:solidFill>
                <a:latin typeface="Times New Roman"/>
              </a:rPr>
              <a:t>rejoice and shout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t Is Risen (Verse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0T20:53:02Z</dcterms:modified>
  <cp:revision>71</cp:revision>
  <dc:subject/>
  <dc:title>PowerPoint Presentation</dc:title>
</cp:coreProperties>
</file>