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2A4-2074-44E9-A8EB-200BDE49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710-C85D-4DF1-B0A7-B3F04B33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190-57EE-4081-85E4-F60CB260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F2B-9435-4BD7-BD20-7ECA646A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98DA-2511-42D8-8BF5-319286C6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FF01-A1B5-4AA2-830E-08C256E5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2FA-A01F-4EE0-B988-BDDBB1D6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63B5-79EF-4DAA-9E1E-55DC84F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876-3B8D-4DA4-AE31-3F0B43E1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0C6-9CA9-4B0B-AFAA-70D3B575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B37-ABA9-4413-BA41-9656308F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97C-18FF-4E7D-92DC-4A893366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786-159F-4A90-872D-B1833A882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 of Every 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W. Reid, Jr. 19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O God of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every race and 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deem your whole cre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your almight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58, renewed 1986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ate and f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vid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itter threats are hurl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love and mercy guid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l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ife-torn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From search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alth and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corn of truth and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rus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ombs that sh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truction through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pride of 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lindness to your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iver every n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God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Lord, strengt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who lab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all may find rel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fear of rattling sab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dread of war’s incr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op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rage fal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let your voice be hea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faith that none can al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ervants undergi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f Every N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Keep bright in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vision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ays when war shall c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hatred and divi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way to love and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dawn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ning gl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ruth and justice reig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ule vict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all the world’s do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30Z</dcterms:modified>
  <cp:revision>144</cp:revision>
  <dc:subject/>
  <dc:title>PowerPoint Presentation</dc:title>
</cp:coreProperties>
</file>