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145-7E22-465A-A104-EED4C88F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CCE-C560-468D-9800-C9989950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828A-2A6F-4983-972E-33A209BE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743-B72D-47E8-914E-FE215F37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346-33D0-488D-B05F-CD78368F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65C-6096-4D01-8CFC-085BB474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8C9-4511-4488-83F2-D534A7C4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8BE0-DDBA-4C2E-B853-12BBC3CA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79B8-4401-4294-8119-210D348F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BCA-6BC9-49A9-AF5A-669774DD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101-6DC2-436B-AE12-521D494B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A9D-A71F-48EA-BCC2-BA252046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D7D7-5D4A-4F46-8268-C2021E74F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way in a Mang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1. Away in a manger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 crib for a bed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the little Lord Jesu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aid down his sweet hea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3440" y="990720"/>
            <a:ext cx="3091680" cy="41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Anon. (Lk. 2: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stars in the sk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ok down where he l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ittle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leep on the h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he cattle are low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aby awak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 little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 crying he mak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hee,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ok down from the sk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stay by my crad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ll morning is n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Be near me,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ask thee to st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lose by me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ve me, I pr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y in a Mang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ess all the dear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y tender c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fit us for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live with thee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9:34:44Z</dcterms:modified>
  <cp:revision>61</cp:revision>
  <dc:subject/>
  <dc:title>PowerPoint Presentation</dc:title>
</cp:coreProperties>
</file>