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ACA-4C17-41AC-8FCA-A5CEDFD3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658-4582-4E59-A11B-B0B71B10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34B-75FA-4D7E-A79C-52A6EC79C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869-234B-47F1-823A-40D49B78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B56-38A0-4D08-B852-A973979B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2AD9-CB72-4848-8430-BEBEC10E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CCA-BFDF-43A1-94ED-B338D325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7F0E-4BE9-48DE-B13E-38878D65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B50-9B56-4727-A12F-FC975541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2F4-2DA2-476F-9CDC-A15D69F8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6F6-DED4-425A-8D97-1FC735E2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0311-6275-4756-8818-3DE20DD2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4178-2660-47FC-ADC7-4097F5956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give Our Sin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 We Forg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“Forgive our si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we forgive,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taught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to pr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69, 1983 Rosamond Herklots, by permission of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93200" y="1523880"/>
            <a:ext cx="45273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Rosamond E. Herklots, 1966 (Mt. 6:12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you al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n grant us g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live the words we s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ow can your pard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ach and b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unforgiving he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broods on wro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ill not l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ld bitterness depart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In blazing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cross revea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ruth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mly kne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trivial deb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owed to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great our debt to you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Lord, cleanse the depth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our soul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id resentment c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give Our Sins as We Forg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, bound to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bonds of l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lives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read your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0:59Z</dcterms:modified>
  <cp:revision>14</cp:revision>
  <dc:subject/>
  <dc:title>PowerPoint Presentation</dc:title>
</cp:coreProperties>
</file>