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3BB-3682-4CDD-9023-4E525E75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3E0B-B7E4-4957-8F48-E6201583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0A98-435D-44ED-8502-ACB959AC8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2EC3-3B02-4BCC-B8D5-1399313D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1BB3-54B1-4FE1-9D3F-CAD1ECFD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C7EF-AE5A-4A5F-83FC-BD514B53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4478-2569-453F-8762-E4BCD83B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8216-460D-4701-B9FF-56DC7D56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4EBA-877B-4EA5-9971-E26F2A44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C6CD-A502-4768-9AB1-95330A5A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DE08-9D21-478A-ACE3-A4FF96F0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C1CF-3266-4AA2-A18E-07701692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274E-DC1D-4CB3-9C17-C0075B61C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Sweet Hour of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Sweet hour of prayer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weet hour of prayer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calls me fr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world of care,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Hour of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53880" y="990720"/>
            <a:ext cx="30549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William Walford, 18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him whose tru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aithful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ngage the wait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ul to bl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ince he bid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ek his f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lieve his w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rust his gr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’ll cast on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every ca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ait for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weet hour of pray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ids me 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Father’s thro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ke all my wan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ishes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seasons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istress and grief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oul has oft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und relief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ft escap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tempter’s sn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thy retur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weet hour of pray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Sweet hour of prayer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weet hour of prayer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joys I fee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bliss I shar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Hour of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ose whose anxi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irits bur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strong desir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y retur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such I hast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pl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God my Savi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ws his f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ladly tak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tation the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ait for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weet hour of pray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Sweet hour of prayer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weet hour of prayer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wings shall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tition bea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 Hour of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9:24Z</dcterms:modified>
  <cp:revision>9</cp:revision>
  <dc:subject/>
  <dc:title>PowerPoint Presentation</dc:title>
</cp:coreProperties>
</file>