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762-D489-460A-8D5C-EC19909D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848-01D5-4652-B7CE-025333CF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021-28FA-4F70-9BEE-35779AC8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EED2-F013-4A42-B465-0BB0990CD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3F6-E0C6-403E-AF3F-111E3A9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21C-6E9C-4476-BF61-DBD48A0E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E8A-4D83-4759-B911-76F27EA1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C720-3A39-49CA-9D4A-A6724385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2F0-56A1-47E4-B62C-A1888F62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8D3-D2EB-4F1B-A65E-791BA1A1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A5F4-AA77-43EB-BE8F-3F9EA88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085-84DD-4ACC-A693-880845C0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31A8-5A78-44A0-BC58-C3B7F0B9C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hold a Broken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ehold a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, we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an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r incr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39600" y="1143000"/>
            <a:ext cx="5453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imothy Dudley-Smith, 1985 (Is. 2:1-4; Mic. 4:1-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71200" y="1859040"/>
            <a:ext cx="5601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ose in triump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gra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hold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king d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Bring, Lord, your bet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 to bi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king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’s dom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32280" y="2239920"/>
            <a:ext cx="66776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eace with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ace eterna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41400" y="1859040"/>
            <a:ext cx="54615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is our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anci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am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 dream of swor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ickles b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pears to scy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99800" y="1905120"/>
            <a:ext cx="69760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eapon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warfare sp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of peace re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re every bat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ag is fur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mpet st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19840" y="1859040"/>
            <a:ext cx="6304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ars shall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the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am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o force of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there preva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justice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44080" y="1859040"/>
            <a:ext cx="50558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shall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ftiest visions fa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ream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 Prince of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ost world to red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a Broken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0:05Z</dcterms:modified>
  <cp:revision>19</cp:revision>
  <dc:subject/>
  <dc:title>PowerPoint Presentation</dc:title>
</cp:coreProperties>
</file>