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308-3CC3-45E0-B918-C85CA5A8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CA8-4482-4996-9397-87BBDF21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C0C-F4F8-4E4E-A826-730D3031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AAC-2817-4F3D-A27B-4E44C063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885-5932-4E6D-BA44-D3B16B32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904-A1CD-4D55-A8D0-DB25EF24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729-7B7A-49AB-BC8C-A67BCE9B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284-21E1-478A-9DA7-AAC03B2B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5FC9-23AE-4DDE-BC9B-03AAABEE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37B-F04E-44A4-91C9-751D1C7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E4A-9E27-4510-9926-125894F2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78F-7A82-4107-A969-B18FE6E6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94A4-8A3D-49C4-B6FB-652267A13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alm 24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Advent, All Saint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oly, holy, hol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aven and earth a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3720" y="1547640"/>
            <a:ext cx="707472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salm 24; Response 1, Isaiah 6:3; Response 2, Psalm 24:3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b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4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a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59092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9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895480"/>
            <a:ext cx="8610480" cy="286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99ff66"/>
                </a:solidFill>
                <a:latin typeface="Times New Roman"/>
              </a:rPr>
              <a:t>10 </a:t>
            </a: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Who is this King of glor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Lord of host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 is the King of glory.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8800"/>
            <a:ext cx="8610480" cy="46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99ff66"/>
                </a:solidFill>
                <a:latin typeface="Times New Roman"/>
              </a:rPr>
              <a:t>1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2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514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0574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4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5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644480"/>
            <a:ext cx="8610480" cy="353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7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27Z</dcterms:modified>
  <cp:revision>36</cp:revision>
  <dc:subject/>
  <dc:title>PowerPoint Presentation</dc:title>
</cp:coreProperties>
</file>