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783-0705-421C-88B3-9D3D5498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FAC8-D0BD-4501-82BD-9DAE5A21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2E1-77B8-48AD-B086-B1011E5E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E992-0E74-4CA9-9296-5D5B4B60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D67-4395-40EF-A8C4-62E9732E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282-AE76-499C-8A26-49D8D4DB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DA8-87AA-4067-ADA3-45E18612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288-0ADF-45A9-B6E3-91688B0E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A89-3A00-419F-8E4B-6CFA055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46C1-4842-428A-B5E4-09E36A8E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194-337A-46F5-B1E7-57F6C889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B52-9C3E-4938-A6E9-8FC9639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FE69-9391-4AC6-AF6D-055C025E9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rd, You Giv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Great Commi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rd, you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reat commissio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eal the si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reach the wor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8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effery Rowthorn, 1978 (Lk. 9:2; Mt. 28:19-20; Lk. 23:3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earth’s tru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ily lift life heavenw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ing tha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aroun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ren’s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0020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Lord, you s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love’s true measur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Father, w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do, forg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we ho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private treas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at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freely g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your c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rcy lea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a just soci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ord, you b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ords assur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I am with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en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ord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ith and hop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ove resto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we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you inte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, amid the ca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laim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 in mind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st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glect its mi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gosp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unhe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0020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p us wi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purp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renewed integr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388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ord, you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to your servic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In my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ptize and teach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trust your prom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abund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ant for ea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s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fervor, draw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r in commu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76520"/>
            <a:ext cx="9144000" cy="3208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Spiri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empower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k of minist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, you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ommon holy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This my bod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my bloo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rd, You Give the Great Commission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1:24Z</dcterms:modified>
  <cp:revision>90</cp:revision>
  <dc:subject/>
  <dc:title>PowerPoint Presentation</dc:title>
</cp:coreProperties>
</file>