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BB03-FF13-451E-BB6A-F4C862EC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A21A-2B58-49A4-970E-1013B386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A3FD-6CAB-47DE-A0E7-6B00A07D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B541-AFB9-4097-A56B-61EB94C7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C2BB-4559-462F-B4B7-9C547039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A616-0AAF-4857-9AA5-F41B91C1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8EDD-C449-4241-A1C1-F1AB9BC9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68F8-6529-496E-88D8-7D382528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B847-8AE5-4ECA-89E4-48AA64DB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FB46-B80C-4760-AF29-FE0FA423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521C-C825-45CD-80D8-CAA700D2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CFD1-7406-42AD-AD2E-6413F9AC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AD36-D7B5-41B5-ABC9-0E6C9F31B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67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ly, Holy, Holy!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rd God Almigh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Reginald Heber, 1826 (Rev. 4:8-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Holy, holy, hol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God Almight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ly in the mor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ong shall ris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, Holy, Holy! Lord God Almigh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, holy, hol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rciful and migh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in three perso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ed Trinit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860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Holy, holy, hol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e saints ador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sting down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lden crow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ound the glassy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, Holy, Holy! Lord God Almigh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erubim and serap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lling down befor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wert, and art,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more shalt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Holy, holy, hol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gh the dark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d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gh the ey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sinful m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glory may not s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, Holy, Holy! Lord God Almigh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ly thou art hol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is none besid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rfect in power,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and pur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860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Holy, holy, hol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God Almight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y works sh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y na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arth and sky and s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, Holy, Holy! Lord God Almigh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, holy, hol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rciful and migh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in three perso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ed Tri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16:44:16Z</dcterms:modified>
  <cp:revision>14</cp:revision>
  <dc:subject/>
  <dc:title>PowerPoint Presentation</dc:title>
</cp:coreProperties>
</file>