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AE04-A405-4CA9-8176-A73F41DE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0101-7929-4272-B507-D3CBA4E9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24D0-79E7-4EA0-82CB-D7404062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E4FE-AC7A-4917-8747-B56EAAA2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F2EF-F5EC-441E-B840-164BE9B1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878-106A-4766-85BF-8ACE7EE1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F9DE-5C84-4322-A410-23AC6437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4193-2C5A-4E0D-B3D1-B56DBB6B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F08-292E-458A-8770-5EDCF201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C347-D0A8-4324-A7C1-738A1344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7A46-ECEB-46D3-8B2C-782BC0BF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2F41-2BBB-4261-A275-C56439A2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CC0E-1E62-4F22-AA8F-A97D7B39E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Jesus, Lover of My Sou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810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Jesus, lover of my sou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me to thy bosom fl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le the near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ters ro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le the tempest still is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ver of My Sou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21440" y="990720"/>
            <a:ext cx="408528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Charles Wesley, 1740 (Wis. 11:26)</a:t>
            </a:r>
            <a:r>
              <a:rPr b="1" lang="en-US" sz="2100" spc="-1" strike="noStrike">
                <a:solidFill>
                  <a:srgbClr val="99cc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de me, 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avior, hid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the stor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life is pas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afe into the haven guid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receive my soul at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Other refuge have I n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ngs my helpl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ul on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ve, ah! leave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t al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support and comfort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ver of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my trust 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e is stay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my help from thee I bring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ver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fenseless hea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the shadow of thy w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hou, O Chri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t all I wa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re than all in thee I fin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aise the fallen, cheer the fai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l the sick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ead the bl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ver of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ust and holy is thy n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am all unrighteousnes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alse and full of sin I am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art full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uth and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Plenteous grace wi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e is fou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race to cover all my si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the heal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reams abou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ke and keep me pure with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, Lover of My Sou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 of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fountain ar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eely let me take of the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ring thou up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in my hear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ise to all eterni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7:02:20Z</dcterms:modified>
  <cp:revision>21</cp:revision>
  <dc:subject/>
  <dc:title>PowerPoint Presentation</dc:title>
</cp:coreProperties>
</file>