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AFFA-7087-4806-BA75-566F9B57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CDD-5748-41E9-A9E5-A733D372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0A5-62AF-4C3D-8B2E-4F33D912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CEF3-2C84-43A3-A0FC-FC822977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0FE8-F3D6-442D-9195-C3864F56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DA0E-0D91-4C3D-951B-9A3F89E7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B60-0672-45F0-8F1B-7CAC3F72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75B-49C3-4BBB-991E-B4036F3A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63C-23C3-4A1A-9C62-6483C9D1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F70-1E25-4D39-8E84-3D66934E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FF6-CC8B-40E8-862F-03560F41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9FD-18E0-4F4B-A5B4-4BB88B4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2CD6-BB27-44CB-A71F-56BE910DB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on and Very S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8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oon and very so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King;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Hallelujah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8 Communiqu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 Music, Inc. &amp; Crouch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0000" y="1066680"/>
            <a:ext cx="409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Andra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é Crouch, 1978 (Rev. 21:3-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and very so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King;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Hallelujah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and very so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8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No more dying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King;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Hallelujah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8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dying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King;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Hallelujah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dying there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200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o more crying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King;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Hallelujah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on and Very So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124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we are go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King;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(Hallelujah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crying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go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 the K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going to se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5:35Z</dcterms:modified>
  <cp:revision>50</cp:revision>
  <dc:subject/>
  <dc:title>PowerPoint Presentation</dc:title>
</cp:coreProperties>
</file>