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3A7C-8E8A-4AD8-9CAB-802759346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F0FC-E0F7-4B53-9E60-B2FE082F2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0EB2-3720-4DD3-B8E0-830D99E1D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7AFB-0D03-455F-B742-BB1F0C96F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2AAE-3C2F-42AC-8AB9-BB75663C7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A0E1-C8F8-4ADF-AE66-C2D77EEEB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D1CF-A9AD-4513-B41F-8AC2AB3CE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68EC-53E0-47F0-A1C1-D64BA82D8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A108-421C-4885-82FE-59278155A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036C-2F5F-4370-ACD4-0DA32AABA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C730-1BD6-4214-954F-816ADFF0C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B09C-B776-43D7-BCD7-E0AB79672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CE196-53ED-4E35-8242-42C4D3943D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nd Can It Be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at I Should G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6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And can it b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I should gai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 interest i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Savior’s bloo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Can It Be that I Should Gai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73720" y="1600200"/>
            <a:ext cx="40122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Charles Wesley, 1739 (Acts 16:2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mptied himself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all but lov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bled for Adam’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lpless r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’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is mercy all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mmense and fre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O my Go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t found out 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593640"/>
            <a:ext cx="9144000" cy="507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’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is mercy all,</a:t>
            </a:r>
            <a:br>
              <a:rPr sz="50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(’Tis mercy all,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mmense and free,</a:t>
            </a:r>
            <a:br>
              <a:rPr sz="50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(immense and free,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O my God</a:t>
            </a:r>
            <a:br>
              <a:rPr sz="50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(for O my God,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t found out 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Long my imprison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pirit la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ast bound in si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nature’s n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Can It Be that I Should G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ine eye diffus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 quickening ray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woke, the dungeo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lamed with l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 chains fell off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 heart was fre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rose, went forth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followed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593640"/>
            <a:ext cx="9144000" cy="507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 chains fell off,</a:t>
            </a:r>
            <a:br>
              <a:rPr sz="50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(My chains fell off,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 heart was free,</a:t>
            </a:r>
            <a:br>
              <a:rPr sz="50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(my heart was free,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rose, went forth,</a:t>
            </a:r>
            <a:br>
              <a:rPr sz="50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(I rose, went forth,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followed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5. No condemnatio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ow I dread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esus, and a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him, is mi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Can It Be that I Should G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ive in him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 living Hea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clothed i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ighteousness divin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old I approac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’eternal thron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claim the crow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rough Christ my 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ied he for me?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o caused his pain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me? who him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death pursued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593640"/>
            <a:ext cx="9144000" cy="507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old I approach</a:t>
            </a:r>
            <a:br>
              <a:rPr sz="50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(Bold I approach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’eternal throne,</a:t>
            </a:r>
            <a:br>
              <a:rPr sz="50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(th’eternal throne,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claim the crown,</a:t>
            </a:r>
            <a:br>
              <a:rPr sz="50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(and claim the crown,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rough Christ my 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mazing love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w can it b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thou, my Go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houldst die for m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762120"/>
            <a:ext cx="9144000" cy="494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mazing love!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(Amazing love!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w can it b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(How can it b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thou, my God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(that thou, my God,)</a:t>
            </a:r>
            <a:br>
              <a:rPr sz="36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houldst die for m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’Tis mystery all: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’Immortal dies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o can explor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is strange design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Can It Be that I Should G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vain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irstborn seraph trie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sound the depth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love div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’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is mercy all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earth ador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angel mind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quire no m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593640"/>
            <a:ext cx="9144000" cy="529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’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is mercy all! </a:t>
            </a:r>
            <a:br>
              <a:rPr sz="50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(’Tis mercy all!)</a:t>
            </a: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earth adore;</a:t>
            </a:r>
            <a:br>
              <a:rPr sz="50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(Let earth adore;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angel minds </a:t>
            </a:r>
            <a:br>
              <a:rPr sz="50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(let angel mind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quire no m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He left his Father’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rone abo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(so fre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o infinite his grace!)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Can It Be that I Should G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20:26:08Z</dcterms:modified>
  <cp:revision>13</cp:revision>
  <dc:subject/>
  <dc:title>PowerPoint Presentation</dc:title>
</cp:coreProperties>
</file>