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8156-ABA0-49AF-B1B2-54434339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B34C-46AC-4A27-80EE-05EAAFDE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BEE2-6E56-403A-950D-45453763E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4D50-BA77-4F34-93F1-5731D8C37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9305-D34B-4E77-8CFE-671775DA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087F-39F6-4F02-B8E6-C5E38B66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AEC4-A24B-4867-88F4-457B0CB1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8AA2-8641-4DF2-8901-C17E1259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7B6B-4F74-4B1B-B272-DE4B25CF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A275-F094-42B7-A1C1-18B6E73D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C48F-B0D2-4596-BA06-11317F32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3DEA-EE5E-4ED6-A3F3-461AD2D4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60DC-404E-4729-81B5-89506EC60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hrist Is Made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Sure Foun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Christ is ma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ure foundat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rist the hea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ornerst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Made the Sur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238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7th cent. Latin; trans. by John Mason Neale, 1851  (Eph. 2:20-22; 1 Pet. 2:4-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osen of the Lo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precio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inding all the church in on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ly Zion’s help forev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her confidence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To this templ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we call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e, O Lo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Hosts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Made the Sur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thy faithfu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r thy peopl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they pr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hy fullest benedict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ed within its walls al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Here vouchsafe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y servan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at they as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e to g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Made the Sur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at they ga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thee forev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the blessed to retai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hereafter in thy glo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vermore with thee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Laud and hon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Fath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aud and hon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S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Made the Sure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aud and hon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Spiri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ver three and ever on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in m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ne in glo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le unending ages r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6T16:46:47Z</dcterms:modified>
  <cp:revision>65</cp:revision>
  <dc:subject/>
  <dc:title>PowerPoint Presentation</dc:title>
</cp:coreProperties>
</file>