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D78-95F4-46EF-A4C8-7B5BD99A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740-68DE-4FA5-9D77-D3014A52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847-1AB6-47F4-8DE8-073BF315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319-77B2-4753-8B76-67E4EC58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E70-D0BB-4BBC-9DB5-4FCB1AE1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A34-3611-427B-B5C8-B1CF3F0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C856-6C2D-4891-8DEC-7AC521D9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963C-41F9-43CC-AD50-F12509F2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544-381E-427F-A66E-063B9BB7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876-4215-4DEF-A883-BA90DCC7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47A-B41A-48B3-9E3C-A8B0B688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005-588F-413A-8407-6BE4E6EE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7186-C6EC-49EA-B53A-194E590F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om All That Dwel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low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rom all that d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ow the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Creato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3080" y="1473120"/>
            <a:ext cx="72079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ts. 1-2, Isaac Watts; sts.  3-4, anon., ca. 1781 (Ps. 1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Redeem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be su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every tong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ternal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ercies,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tr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tends 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aise shall s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suns shall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r lofty them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mortals,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ong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nely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ut for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ever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the s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ains be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ll That Dwell Below the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eerful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voice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49:34Z</dcterms:modified>
  <cp:revision>16</cp:revision>
  <dc:subject/>
  <dc:title>PowerPoint Presentation</dc:title>
</cp:coreProperties>
</file>