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A972-A300-44FC-BC02-188B2A605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B75E-5384-4CC6-89C6-49992D30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067C-990B-4473-B5C0-102207F49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5168-272C-439B-9E5A-2DBB7A537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4506-0037-4796-B74D-91371D1DF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6661-C5B3-4DE4-9CFF-AD79B0CA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B515-6161-4544-A8B0-92B81F217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383D-1FB9-438C-A008-F62CAB31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F80B-258E-4DF9-8270-D3072630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5243-2151-422B-8ED0-C229511E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C8B2-CF5B-413D-BE09-C57540CE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D0F2-51DC-455E-A49A-19897951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35F6-409C-46EA-B4C9-3D63B686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6683-FD02-496E-9703-8C8A6B3F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0121-95C4-4586-9E2D-B7959774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9461-134B-44AE-BB93-B03FE03A4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2DCC-3C9E-4BCA-B699-D5A4B90DE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E2BA-0139-4ADA-ACD1-9B446C87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918E-94BD-4E6F-98AC-DF86B193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1928-3755-4614-97B7-3B72D0B3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6F8A-84D5-4102-9574-EE977CD2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BFD5-1A14-4477-A5C1-40838C26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DA5E-A74C-44B2-99C6-80D7B1DF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09EE-B4FF-4D38-B78B-04F1EDF2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0779-9E83-4D15-B265-4C38F09A1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A750-248B-420A-BFB8-AABC0C2EA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7772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me, Thou Long-Expected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72400" y="304920"/>
            <a:ext cx="137160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9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1. Come, thou long-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expected Jesu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born to set thy people free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from our fear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and sins release u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let us find our rest in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Thou Long-Expected Jesus 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78760" y="990720"/>
            <a:ext cx="378648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WORDS: Charles Wesley, 174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Israel’s strength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and consolation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hope of all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the earth thou art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dear desire of every nation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joy of every longing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2. Born thy peopl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to deliver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born a child and yet a King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born to reign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in us forever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now thy graciou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kingdom b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Thou Long-Expected Jesus 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5238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By thine own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eternal spirit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rule in all our hearts alone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by thine all sufficient meri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raise us to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thy glorious thr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36440"/>
            <a:ext cx="7772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me, Thou Long-Expected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96080" y="142920"/>
            <a:ext cx="137160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9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203480"/>
            <a:ext cx="9144000" cy="5287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Times New Roman"/>
                <a:ea typeface="Arial"/>
              </a:rPr>
              <a:t>1. Come, thou long-expected Jesus,</a:t>
            </a:r>
            <a:br>
              <a:rPr sz="4000"/>
            </a:br>
            <a:r>
              <a:rPr b="1" lang="en-US" sz="4000" spc="-1" strike="noStrike">
                <a:solidFill>
                  <a:srgbClr val="66ff66"/>
                </a:solidFill>
                <a:latin typeface="Times New Roman"/>
                <a:ea typeface="Arial"/>
              </a:rPr>
              <a:t>born to set thy people free;</a:t>
            </a:r>
            <a:br>
              <a:rPr sz="4000"/>
            </a:br>
            <a:r>
              <a:rPr b="1" lang="en-US" sz="4000" spc="-1" strike="noStrike">
                <a:solidFill>
                  <a:srgbClr val="66ff66"/>
                </a:solidFill>
                <a:latin typeface="Times New Roman"/>
                <a:ea typeface="Arial"/>
              </a:rPr>
              <a:t>from our fears and sins release us,</a:t>
            </a:r>
            <a:br>
              <a:rPr sz="4000"/>
            </a:br>
            <a:r>
              <a:rPr b="1" lang="en-US" sz="4000" spc="-1" strike="noStrike">
                <a:solidFill>
                  <a:srgbClr val="66ff66"/>
                </a:solidFill>
                <a:latin typeface="Times New Roman"/>
                <a:ea typeface="Arial"/>
              </a:rPr>
              <a:t>let us find our rest in the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Times New Roman"/>
                <a:ea typeface="Arial"/>
              </a:rPr>
              <a:t>Israel’s strength and consolation,</a:t>
            </a:r>
            <a:br>
              <a:rPr sz="4000"/>
            </a:br>
            <a:r>
              <a:rPr b="1" lang="en-US" sz="4000" spc="-1" strike="noStrike">
                <a:solidFill>
                  <a:srgbClr val="66ff66"/>
                </a:solidFill>
                <a:latin typeface="Times New Roman"/>
                <a:ea typeface="Arial"/>
              </a:rPr>
              <a:t>hope of all the earth thou art;</a:t>
            </a:r>
            <a:br>
              <a:rPr sz="4000"/>
            </a:br>
            <a:r>
              <a:rPr b="1" lang="en-US" sz="4000" spc="-1" strike="noStrike">
                <a:solidFill>
                  <a:srgbClr val="66ff66"/>
                </a:solidFill>
                <a:latin typeface="Times New Roman"/>
                <a:ea typeface="Arial"/>
              </a:rPr>
              <a:t>dear desire of every nation,</a:t>
            </a:r>
            <a:br>
              <a:rPr sz="4000"/>
            </a:br>
            <a:r>
              <a:rPr b="1" lang="en-US" sz="4000" spc="-1" strike="noStrike">
                <a:solidFill>
                  <a:srgbClr val="66ff66"/>
                </a:solidFill>
                <a:latin typeface="Times New Roman"/>
                <a:ea typeface="Arial"/>
              </a:rPr>
              <a:t>joy of every longing hear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Thou Long-Expected Jesus 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78760" y="806400"/>
            <a:ext cx="378648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WORDS: Charles Wesley, 174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716040"/>
            <a:ext cx="9144000" cy="5287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Times New Roman"/>
                <a:ea typeface="Arial"/>
              </a:rPr>
              <a:t>2. Born thy people to deliver,</a:t>
            </a:r>
            <a:br>
              <a:rPr sz="4000"/>
            </a:br>
            <a:r>
              <a:rPr b="1" lang="en-US" sz="4000" spc="-1" strike="noStrike">
                <a:solidFill>
                  <a:srgbClr val="66ff66"/>
                </a:solidFill>
                <a:latin typeface="Times New Roman"/>
                <a:ea typeface="Arial"/>
              </a:rPr>
              <a:t>born a child and yet a King,</a:t>
            </a:r>
            <a:br>
              <a:rPr sz="4000"/>
            </a:br>
            <a:r>
              <a:rPr b="1" lang="en-US" sz="4000" spc="-1" strike="noStrike">
                <a:solidFill>
                  <a:srgbClr val="66ff66"/>
                </a:solidFill>
                <a:latin typeface="Times New Roman"/>
                <a:ea typeface="Arial"/>
              </a:rPr>
              <a:t>born to reign in us forever,</a:t>
            </a:r>
            <a:br>
              <a:rPr sz="4000"/>
            </a:br>
            <a:r>
              <a:rPr b="1" lang="en-US" sz="4000" spc="-1" strike="noStrike">
                <a:solidFill>
                  <a:srgbClr val="66ff66"/>
                </a:solidFill>
                <a:latin typeface="Times New Roman"/>
                <a:ea typeface="Arial"/>
              </a:rPr>
              <a:t>now thy gracious kingdom br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66"/>
                </a:solidFill>
                <a:latin typeface="Times New Roman"/>
                <a:ea typeface="Arial"/>
              </a:rPr>
              <a:t>By thine own eternal spirit</a:t>
            </a:r>
            <a:br>
              <a:rPr sz="4000"/>
            </a:br>
            <a:r>
              <a:rPr b="1" lang="en-US" sz="4000" spc="-1" strike="noStrike">
                <a:solidFill>
                  <a:srgbClr val="66ff66"/>
                </a:solidFill>
                <a:latin typeface="Times New Roman"/>
                <a:ea typeface="Arial"/>
              </a:rPr>
              <a:t>rule in all our hearts alone;</a:t>
            </a:r>
            <a:br>
              <a:rPr sz="4000"/>
            </a:br>
            <a:r>
              <a:rPr b="1" lang="en-US" sz="4000" spc="-1" strike="noStrike">
                <a:solidFill>
                  <a:srgbClr val="66ff66"/>
                </a:solidFill>
                <a:latin typeface="Times New Roman"/>
                <a:ea typeface="Arial"/>
              </a:rPr>
              <a:t>by thine all sufficient merit,</a:t>
            </a:r>
            <a:br>
              <a:rPr sz="4000"/>
            </a:br>
            <a:r>
              <a:rPr b="1" lang="en-US" sz="4000" spc="-1" strike="noStrike">
                <a:solidFill>
                  <a:srgbClr val="66ff66"/>
                </a:solidFill>
                <a:latin typeface="Times New Roman"/>
                <a:ea typeface="Arial"/>
              </a:rPr>
              <a:t>raise us to thy glorious thro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Thou Long-Expected Jesus 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7-12-09T00:06:13Z</dcterms:modified>
  <cp:revision>49</cp:revision>
  <dc:subject/>
  <dc:title>PowerPoint Presentation</dc:title>
</cp:coreProperties>
</file>