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F04-1035-4DAA-884F-F837AF93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A38-370E-44F2-AE7F-CE81083F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6B1-C9E5-436A-8316-E251D2E1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AF07-995E-49E1-954C-1E83D943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2D9-3198-4EB1-A11A-0FA4BC52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D6D-4B85-4852-9F2B-E2A26AD8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915D-544D-4DBA-A43E-C2D17E9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9F1-DF8D-4CA6-84FC-56D89A8B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A8C-A3DE-48CA-B820-797CEC95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40F-91F7-4225-8F26-BC9E2DB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D13A-F3D8-4D0D-A6EA-2CCEF1C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F37-7F04-4ED9-B0E9-6A558B54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0FD4-56CF-48ED-A9AD-059E6F8B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Psalm 23</a:t>
            </a:r>
            <a:br>
              <a:rPr sz="4000"/>
            </a:b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11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Lent, Christ the King, Gene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shepherd is 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hing indeed shall I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8640" y="1600200"/>
            <a:ext cx="800028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Response 1, Psalm 23:1, Grail version; Response 2, John 10:10, ada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ponse 1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1963 The Grail, by permission of GIA Publicati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esponse 2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634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br>
              <a:rPr sz="40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(Easter, Funerals and Memorial Servi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od Shephe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hat we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it abundant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25600"/>
            <a:ext cx="8610480" cy="5975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1 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e Lord is my shepherd;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I sha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 maketh me to l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down in green pasture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he leadeth me bes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the still wat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8108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e restoreth my soul: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he leadeth me in the path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of righteousness for his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Yea, though I walk thr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valley of the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hadow of death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I will fear no evil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for thou art with me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thy rod and thy staff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  they comfort me.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990720"/>
            <a:ext cx="861048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ou preparest a tabl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before m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in the presenc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of mine enemies: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thou anointest m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head with oil;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    my cup runneth o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676520"/>
            <a:ext cx="86868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i="1" lang="en-US" sz="5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ely goodnes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mercy shall follow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all the days of my lif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and I will dwell in the hous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of the Lord for ever.</a:t>
            </a:r>
            <a:r>
              <a:rPr b="1" lang="en-US" sz="5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20Z</dcterms:modified>
  <cp:revision>58</cp:revision>
  <dc:subject/>
  <dc:title>PowerPoint Presentation</dc:title>
</cp:coreProperties>
</file>