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EBC-20BE-4E85-AD72-F2AAC2EF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DF26-EF43-4C4D-89E7-AC57B5D7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AEE7-2E67-4A15-BA3B-E81A0745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F11-45AF-4722-897A-231AB635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C62-1127-40A4-8BCE-9D0703B0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22E9-9ED4-4D70-A0D1-EC8C9B2B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C26-AC4A-40ED-A944-7AF46658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632-85D3-4DA6-BD41-FC6249A5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156-ADFC-46BE-81D0-26F25C3D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761-02AD-4C06-9E68-0918FFD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502B-715F-4527-A8E4-3F560336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9404-4C3D-4DEB-8A3F-A23C7D0F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FF21-566C-429B-9A2E-B03B45544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y to the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4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oy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is com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arth receive her K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every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epare him roo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6040" y="1066680"/>
            <a:ext cx="413424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Isaac Watts, 1719 (Ps. 98:4-9)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143000"/>
            <a:ext cx="9144000" cy="54788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4900" spc="-1" strike="noStrike" baseline="-25000">
                <a:solidFill>
                  <a:srgbClr val="ffffff"/>
                </a:solidFill>
                <a:latin typeface="Times New Roman"/>
              </a:rPr>
              <a:t>(and heaven and nature sing,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aven and nature sing,</a:t>
            </a:r>
            <a:br>
              <a:rPr sz="4900"/>
            </a:br>
            <a:r>
              <a:rPr b="0" lang="en-US" sz="4900" spc="-1" strike="noStrike" baseline="-25000">
                <a:solidFill>
                  <a:srgbClr val="ffffff"/>
                </a:solidFill>
                <a:latin typeface="Times New Roman"/>
              </a:rPr>
              <a:t>(and heaven and nature sing,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heaven, and heaven,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</a:rPr>
              <a:t>and nature sing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Joy to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avior reign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their songs employ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fields and floo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ocks, hills and plai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66680"/>
            <a:ext cx="9144000" cy="566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repeat the sounding joy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peat the sounding joy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repeat the sounding joy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peat, rep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unding jo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No more let si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orrows g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r thor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fest the grou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comes to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blessings flow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9144000" cy="566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far as the curse is found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as the curse is found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far as the curse is found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ar as, far 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curse is 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He rules the wor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truth and grac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k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nations pr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glorie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s righteousnes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y to the Wor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5668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and wonders of his lov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s of his love,</a:t>
            </a:r>
            <a:br>
              <a:rPr sz="5000"/>
            </a:br>
            <a:r>
              <a:rPr b="0" lang="en-US" sz="5000" spc="-1" strike="noStrike" baseline="-25000">
                <a:solidFill>
                  <a:srgbClr val="ffffff"/>
                </a:solidFill>
                <a:latin typeface="Times New Roman"/>
              </a:rPr>
              <a:t>(and wonders of his love,)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onders, wonder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 his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4T15:00:22Z</dcterms:modified>
  <cp:revision>11</cp:revision>
  <dc:subject/>
  <dc:title>PowerPoint Presentation</dc:title>
</cp:coreProperties>
</file>