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5AA-DE6E-4481-BF67-5178AECF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9EBF-E3A0-409F-8E80-FF25E0D1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7B91-6445-450E-B7B8-A7688631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2EB3-4525-4187-A9A3-0C693731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78F7-A95F-44A8-8CE5-50D5BD1D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77E5-5347-4B46-8350-5BABC35C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EE32-28DA-4992-810B-CE810C08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5B83-DCA2-4379-B5B0-4261EC17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AF7-D929-4473-B533-9B502812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9BAA-7AB0-484C-88AE-EC6DEECA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94B-268E-4053-A21D-EA0EEABF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70AD-77EA-47C3-8E3E-3F22A7E0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B354-9C1F-425C-9808-B09B227DA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Friendly Be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Jesus, our bro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rong and g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as humbly bor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a stable ru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3480" y="1143000"/>
            <a:ext cx="655884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WORDS: 12th cent. French carol; trans. anon. (Lk. 2:7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 cooed him to sleep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mate and I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,” said the d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e rafters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6. Thus all the beast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y some good spe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stable dar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re glad to tell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gifts they g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mmanu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gifts they g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mmanue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friendly beas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round him st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, our bro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rong and g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“I,” said the donke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ggy and br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I carried his mo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p hill and dow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carried his mot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Bethlehem tow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,” said the donke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ggy and b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“I,” said the c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white and r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I gave him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nger for his b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gave him h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pillow his hea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,” said the c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white and r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“I,” said the shee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curly hor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I gave him m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ool for his blanket war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 wore my co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Christmas mor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,” said the shee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curly hor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“I,” said the d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e rafters hig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I cooed him to slee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t he should not cr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riendly Beas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3:04Z</dcterms:modified>
  <cp:revision>72</cp:revision>
  <dc:subject/>
  <dc:title>PowerPoint Presentation</dc:title>
</cp:coreProperties>
</file>