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B410-5787-4A02-942A-D0DFE3EC3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A810-3905-4652-8062-74985A40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4866-B3A3-4967-8F0F-5597477F9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39A0-3DD8-4712-A729-A5DC803C8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C5CE-ECBF-4044-825B-2FE1F6F4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AB04-CE9A-4909-B786-0E513A8F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22A8-4FC2-48DE-9BD8-04E77BD3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59EC-02E3-4630-81E3-45A15E88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59BD-AADC-48A0-94AC-C7399FF6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8B6C-6AA8-447F-A345-5E1B8FD0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ACF9-2AA8-4A49-8CB4-C37F27D7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D178-0860-45F2-8B98-D0BB1D71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057E-091A-42C4-ABF4-1D1C03476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O Thou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raveler Unkn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38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Charles Wesley, 174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286000"/>
            <a:ext cx="830592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1. Come, O thou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Traveler unknown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whom still I hold, 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but cannot se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ough every sinew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be unstrung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ut of my arm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ou shalt not fly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restling I will not let thee go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ill I thy name, thy nature kn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1859040"/>
            <a:ext cx="86104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6. What though my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shrinking flesh complain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   and murmur to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contend so long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62120" y="820800"/>
            <a:ext cx="83818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 rise superior to my pain: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hen I am weak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en I am strong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nd when my all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of strength shall fail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 shall with th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God-man preva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859040"/>
            <a:ext cx="84582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7. My strength is gone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my nature dies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   I sink beneath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thy weighty ha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faint to revive, and fall to rise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 fall, and yet by faith I stand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 stand and will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not let thee go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ill I thy nam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y nature kn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919160"/>
            <a:ext cx="853452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8. Yield to me now—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for I am weak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but confiden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in self-despair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820800"/>
            <a:ext cx="845820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peak to my heart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in blessing speak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be conquered by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my instant prayer: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peak, or thou never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hence shalt mov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nd tell me if thy name is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919160"/>
            <a:ext cx="853452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9. ’Tis Love! ’tis Love!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  thou diedst for m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I hear thy whisper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   in my hear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09480" y="1187280"/>
            <a:ext cx="853452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e morning breaks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e shadows fle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ure, Universal Love thou art: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o me, to all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y mercies move—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y nature, and thy name is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919160"/>
            <a:ext cx="84582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10. My prayer hath power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  with God; the grac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unspeakabl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  I now receiv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187280"/>
            <a:ext cx="84582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y company before is gon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nd I am left alone with thee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ith thee all night 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I mean to stay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nd wrestle till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e break of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09480" y="1187280"/>
            <a:ext cx="853452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rough faith I se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ee face to fac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 see thee face to face and live!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 vain I have no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wept and strove – 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y nature, and thy name is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11. I know thee, Savior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   who thou art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Jesus, the feebl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   sinner’s frien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09480" y="1187280"/>
            <a:ext cx="853452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nor wilt thou with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e night depart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but stay and love me to the end: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y mercies never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shall remov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y nature, and thy name is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12. The Sun of Righteousnes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   on m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hath risen with healing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   in his wing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ithered my nature’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strength; from the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y soul its lif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nd succor brings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y help is all laid up above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y nature, and thy name is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1919160"/>
            <a:ext cx="876312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905120"/>
            <a:ext cx="86104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3. Contented now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  upon my thigh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I halt, till life’s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  short journey e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1219320"/>
            <a:ext cx="876312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ll helplessness, all weakness I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n thee alone for strength depend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nor have I power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from thee to move: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y nature, an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y name is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1905120"/>
            <a:ext cx="853452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14. Lame as I am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   I take the prey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hell, earth, and sin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   with ease overcom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e, O Thou Traveler Unknown (1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1219320"/>
            <a:ext cx="84582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 leap for joy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pursue my way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nd as a bounding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hart fly hom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rough all eternity to prov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y nature, and thy name is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1859040"/>
            <a:ext cx="82296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I need not tell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thee who I am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   my misery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and sin decl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14400" y="457200"/>
            <a:ext cx="822960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yself hast called m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by my nam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ook on thy hands an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read it there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But who, I ask thee, who ar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ou?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ell me thy name, an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ell me n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859040"/>
            <a:ext cx="84582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In vain thou strugglest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to get free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   I never will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unloose my hol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1187280"/>
            <a:ext cx="84582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rt thou the man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at died for me?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e secret of thy love unfold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restling, I will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not let thee go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ill I thy name, thy nature kn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859040"/>
            <a:ext cx="84582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Wilt thou not yet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to me reveal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    thy new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unutterable na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ell me, I still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beseech thee, tell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o know it now resolved I am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restling, I will no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let thee go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ill I thy name, thy nature kno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59040"/>
            <a:ext cx="86868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5. ’Tis all in vain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 to hold thy tongue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   or touch the hollow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 of my thig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1:01:59Z</dcterms:modified>
  <cp:revision>141</cp:revision>
  <dc:subject/>
  <dc:title>PowerPoint Presentation</dc:title>
</cp:coreProperties>
</file>