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F9C-AADD-4A66-BC2B-6C6959F1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A27-0593-401A-B3F2-998F568B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A98-84B8-457D-B187-25385821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4BF-CCDF-46BB-A95E-1E25F4BE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A6F-BFC2-4D9A-A8FD-527CA5C0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EA4-B048-4799-A282-376E7397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0ED-6645-4071-9FD0-D34C7DD9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CBF-1536-4B16-A162-70603BA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C97-A1DA-4EAB-A18D-E381BD64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8E8F-E607-490A-A4CE-7F28172B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6A4-C311-49DC-BA7B-B897051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9F6-C79F-41CB-BB33-6F4F832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5A11-B5C9-4616-B191-D071D6D1B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58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, My Soul,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ing of Heaven</a:t>
            </a:r>
            <a:br>
              <a:rPr sz="40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Henry F. Lyte, 1834 (Ps. 1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,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tribute b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somed, h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ored, for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aises s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everlasting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race and fav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istr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same as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ow to ch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wift to bles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ous now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faithful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atherlike,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s and spares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 our fee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ame God know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herlike,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y bear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s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fo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dely yet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y flo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gel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ights, ad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behol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ce to f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, My Soul, the King of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d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ed i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rac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wit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04Z</dcterms:modified>
  <cp:revision>13</cp:revision>
  <dc:subject/>
  <dc:title>PowerPoint Presentation</dc:title>
</cp:coreProperties>
</file>