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ED0B-45E6-473C-AE45-2973B0D2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42A-54D6-4B69-8395-39FB3FDA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65E-8C4A-44D6-92C5-823DD0CD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6B5D-D214-49FC-8997-D3EAC7D4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A78-73AD-4430-A3D1-F20CBF30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832B-FB2A-426A-A040-32B4ACA5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345-3758-459E-A2FA-7880DF36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41C-0584-4141-9280-AA659DC7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0155-2FE5-40AA-8D0B-1405E025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F58F-AAC8-4A43-917C-2BC83C4C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88B-8330-4CD2-BA8B-B22CF7C5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AB3-2144-4319-A1C6-6AAD8777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E89D-EC4D-4A4B-85CE-A970F5815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 Want Jesus to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alk with 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5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I want Jes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want Jes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African American spiri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along m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ilgrim journe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, I want Jes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n my trial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y trials, Lor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my heart i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most break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Lord, I want Jes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68600"/>
            <a:ext cx="9144000" cy="349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When I’m troubled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I’m troubled, Lor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Want Jesus to Walk with 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my hea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owed in sorr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Lord, I want Jesus t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lk with me.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walk with m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5T16:18:18Z</dcterms:modified>
  <cp:revision>48</cp:revision>
  <dc:subject/>
  <dc:title>PowerPoint Presentation</dc:title>
</cp:coreProperties>
</file>