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B9C-5F77-433D-847A-8881086F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D1E1-DF29-478E-919C-D449970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3EB-0ED6-437A-AC85-55598AEF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49B0-D247-4364-B698-1779F62C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69A-D620-411C-A509-21859062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A9A-5754-45E9-92E5-2AE5DA42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757-B14A-460C-ABFB-BEC0C26C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38C-933E-4FB9-969B-8D62EDC9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A03-AB49-4333-A3C0-EB6829E1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479-D9D9-4B2C-88B7-09E20A76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0FAF-F03A-445E-AD7C-8E4A3616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DFE-2CAF-457D-80AC-0E9B029A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77C6-FC14-4C88-B843-71CBB828B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Young an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earless Proph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you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less Proph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cient Galil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6880" y="1600200"/>
            <a:ext cx="3087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. Ralph Harlow, 1931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ate and l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alseh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back Chris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s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bid false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ount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lind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lifts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nity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tir up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a prot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ed for weal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others sta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u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ea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 and heal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ome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ttle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 ou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ck of bre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live their y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e burde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omy dread</a:t>
            </a: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 you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less Proph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need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sence 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id our pr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e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ce app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ce more to h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challen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our nois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life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a summ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rve huma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77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 to 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for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g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ke our thou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c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s pron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ase the crow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tand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ble cour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ruth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unc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marv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purp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ld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y cour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hillto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med the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teadfast f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for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lov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uty sh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we bet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quick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av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help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 unswer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war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Young and Fearless Proph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11Z</dcterms:modified>
  <cp:revision>14</cp:revision>
  <dc:subject/>
  <dc:title>PowerPoint Presentation</dc:title>
</cp:coreProperties>
</file>