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8875-0D3D-4D42-A50F-6B5BF63B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EFC7-911F-4AA4-A4CC-5F99C87C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E3EC-AEC2-4B3F-B795-D03C193A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5CA7-DE58-4DEB-B5F8-A8D0D9DE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251E-764B-4F2B-B70D-8059399A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E010-DF95-45CA-87AD-46012DF4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19E1-AA0D-4036-A598-4B77014A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33CF-D975-4F5A-9E9B-A64FA8F2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03BA-D101-48F8-BBE9-184DC83A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419B-85CD-4DB9-BDCA-045CB7B8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56BA-8C00-4EA2-B4D5-1EB48125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7D91-E27B-46F1-8718-3957A89B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12A8-4B75-4505-82E3-5900ED899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e, My Way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y Truth, My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Come, my W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Truth, my Lif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uch a w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s gives us brea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My Way, My Truth, My Lif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3880" y="1625760"/>
            <a:ext cx="48319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George Herbert, 1633 (Jn. 14:6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ch a tru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ends all strif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ch a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killeth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Come, my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Feast, my Strength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uch a 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s shows a fea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My Way, My Truth, My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ch a fe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mends in leng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ch a streng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makes his gu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Come, my Jo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Love, my Heart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uch a joy 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ne can m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My Way, My Truth, My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ch a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none can p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ch a he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joys in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2T17:00:59Z</dcterms:modified>
  <cp:revision>26</cp:revision>
  <dc:subject/>
  <dc:title>PowerPoint Presentation</dc:title>
</cp:coreProperties>
</file>