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99D-784F-4647-B21C-AA25DC52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2F0A-FBDD-4888-B0CA-283D4018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56E-4367-4804-968D-15952DC0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6EB2-9159-4B32-A31E-40F2C6B9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DAC-B097-4D05-9D42-6464F9EB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409-0FBB-4D18-836B-5F939522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FDC-6190-45B7-88CC-D966693F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AC9-78D3-454A-BD1C-4B924FEB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C469-BB99-4691-9092-AF1D1A83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DDD-837E-4804-8E20-BBEA79C7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F6E-B126-4849-B910-289747A2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33A-E725-4411-B8BF-6A117541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9F76-860D-4FBE-A9EA-BA75D0972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re I Am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, the Lord of sea and sk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heard my people cry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who dwell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rk and si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hand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1, 1983, 1989 Daniel L. Schutte and NA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Dan Schutte, 1981 (Is. 6: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nest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ov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their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satisfie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give my life to the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m shall I se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I am,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it I, Lord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heard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ling in the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go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you lead m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h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people 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ho mad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s of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make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rkness brigh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will bear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 to them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m shall I se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I am,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it I, Lord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heard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ling in the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go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you lead m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h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people 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, the Lord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now and r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bor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people’s pai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wept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of the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turn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brea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hearts of st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them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love alon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speak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to the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m shall I se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I am,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it I, Lord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heard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ling in the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go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you lead m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h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people 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,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wind and fl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ten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or and l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set a feast for the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hand will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 I Am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5:38:48Z</dcterms:modified>
  <cp:revision>97</cp:revision>
  <dc:subject/>
  <dc:title>PowerPoint Presentation</dc:title>
</cp:coreProperties>
</file>