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33D6-BEFA-415C-A8D4-54D24E0F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456-5B8A-47FB-A170-C6F3A450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025-222B-4237-8680-11D1AB4F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B88-DCA2-4770-9377-8DC99FD2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4B0E-D480-4F6F-942E-5CD780B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B45-DA30-4948-9868-A985A62F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204-DB1D-49F6-B556-8F0695F6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3CFC-0E86-4246-BAF8-1CAC2CDA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4237-C3B8-427C-9F17-6E11AD6E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AAA-3617-48A3-B408-9DAEE0B1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5FE-58D5-4322-A6DB-91A46343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5EE-8926-4B89-A8B6-22C39FE7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B48F-7FC6-4DE8-861C-38D203EB1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gels from the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alms of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ngels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alms of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ng your f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5720" y="1523880"/>
            <a:ext cx="7005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mes Montgomery, 1816 (Lk. 2:8-20; Mt. 2:1-12; Mal. 3: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Saints, before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tar b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ing l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ope and f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ddenl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descen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is temp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ll appe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who sa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eation’s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procla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ssiah’s bir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Shepherds,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eld abi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tching o’er y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ocks by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 with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now resid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nder shi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infant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Sages, le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contemplat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ghter visio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am af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ek the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ire of nation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 have s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s natal star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rship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newborn K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gels from the Realms of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6:27Z</dcterms:modified>
  <cp:revision>67</cp:revision>
  <dc:subject/>
  <dc:title>PowerPoint Presentation</dc:title>
</cp:coreProperties>
</file>