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541A-8E4A-42C9-A0B3-94FBBED9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C91-DF5F-4181-8A83-C4B86CF2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B0E-9D69-4A85-9FBE-814A54FE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A600-1FE7-4724-AFD4-E1B0C791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204-4A96-4A9D-B1F7-D77CE946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771F-76E1-40B5-A72E-71CFA64F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4973-E27E-4C57-BCE3-120EB762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3592-879C-4BC6-8AB5-FA2EBD94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B8F-2304-4947-BA50-A2044B14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C28-452C-46A3-9991-E809EFC9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08D-5706-443E-849D-39775C77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FD6E-0C2E-4DD1-99D1-4D8E7F50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03E6-2A91-40E5-ABD3-DA28BC6A4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rust and Ob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When we wal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light of his w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a glory 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eds on our 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19360" y="1139760"/>
            <a:ext cx="3922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John H. Sammis, 1887 (1 Jn. 1: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hen in fellowship sw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will sit at his fe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we’ll walk by his s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6560" y="1863720"/>
            <a:ext cx="732816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he says we will d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he sends we will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ver fear, on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we do his good wi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abides with us sti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o all who w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Not a burden we b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a sorrow we sha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our toil he do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chly rep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4320" y="1863720"/>
            <a:ext cx="625392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a grief or a lo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a frown or a cro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is blest if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But we never can pr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delights of his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il all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tar we l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05800" y="1863720"/>
            <a:ext cx="634212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favor he show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joy he bestow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for them who w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and obe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re’s no other 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e happy i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o trust and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st and Obe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1:18Z</dcterms:modified>
  <cp:revision>9</cp:revision>
  <dc:subject/>
  <dc:title>PowerPoint Presentation</dc:title>
</cp:coreProperties>
</file>