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988-8CA4-476C-8853-78DA6621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C3B-9353-4E3D-AEBE-4DD3186F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14E-74D1-452F-AC2E-5B74586B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6EC-EAA3-479C-9C0B-704F7EE2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B3B-BED5-4013-A6EC-78711D47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D4ED-6B37-41EA-B1FD-7CFB87D7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085-5B8C-4138-AE03-F87BFB81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F7A-C083-4830-8F7E-3212E181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11C-A101-4F65-B1EE-BA7EF402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F2C-2836-4488-95EE-473A47E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4877-E6D3-4605-8DA9-D43D654B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F3E4-22F6-441D-9B54-06655E95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9AEE-838C-4D40-8E7B-1C26233FE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ly Thur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9810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r Anointed One, on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night before he suffere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stituted the sacramen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his body and blo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Thur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6960" y="990720"/>
            <a:ext cx="57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Book of Common Pr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Mt. 26:26-29; Mk. 14:22-25; Lk. 17-20; 1 Cor. 11:23-2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rcifully grant that w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ay receive it thankfull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remembrance o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 in these holy mysteri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gives us a pledg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eternal life.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1:03:49Z</dcterms:modified>
  <cp:revision>18</cp:revision>
  <dc:subject/>
  <dc:title>PowerPoint Presentation</dc:title>
</cp:coreProperties>
</file>