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8063-1570-4E48-8F07-68BD2BE2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AA6-296E-4068-978F-47FA3C35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31F-4C7B-40DD-87A0-A2818732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40A-AA86-4FC3-87A5-48CF2327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6E32-F93E-4D3B-A57A-C77A3AD2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0AC-DF14-4ADA-94D0-99CF9B8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CD8-5D64-4508-80D3-CD08B346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CAC-2DB5-470C-9899-68B02600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B98-1B1D-4D1B-9597-FE81EBC9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0BC-39DE-40A7-AF58-3AA7115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A2E-BAAF-42A9-A916-1CA011E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496-56D4-4019-9C94-E37E6A9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FC4-1D9F-4676-9CEA-DDA6606F9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ke the Murmur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Dove’s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Like the murmur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the dove’s song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ike the challeng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her fligh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9200" y="1676520"/>
            <a:ext cx="3768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arl P. Daw, Jr., 1981 (Acts 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 vig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wind’s ru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 new flam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er might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the me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’s bod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branc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faith assemb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r m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ift and sig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ith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i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cease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ke the Murmur of the Dove’s So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power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and wi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compar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Holy Spirit,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11Z</dcterms:modified>
  <cp:revision>15</cp:revision>
  <dc:subject/>
  <dc:title>PowerPoint Presentation</dc:title>
</cp:coreProperties>
</file>