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3910-2AD8-45A1-A24A-E061BD660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02C8-4593-4A95-BF1D-A2AE1420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33C2-DED2-44E8-8719-E4EB8CEC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D34D-95A2-4958-BFA1-9C89BE06A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F07B-6F40-4E9F-8E03-7475C63C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2289-39F0-4203-8368-759E94A6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2D2B-63AA-47B0-8AAA-E29B13B6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A502-4648-4B16-8EE1-D3D9EB9D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BC93-1F2B-4E36-9EEB-C38274C3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1764-805A-4757-AA23-867503A0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CAE6-3CAE-42AE-8078-05FA0F5F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A461-851F-4469-A7EC-EBA218EA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A342-7B21-49A8-A86B-7486CB2B9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946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e, Divine Interpreter</a:t>
            </a:r>
            <a:br>
              <a:rPr sz="40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harles Wesley, 17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7524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ome, divine Interpreter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bring me eye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y book to rea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ars the mystic words to hear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ords which di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from thee procee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Divine Interpre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919160"/>
            <a:ext cx="84582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ords that endles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bliss impart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kept in an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obedient hear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ll who rea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or hear, are blesse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f thy plain commands we do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f thy kingdom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here possesse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ee we shall in glory vi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919160"/>
            <a:ext cx="84582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hen thou comes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on earth to abid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reign triumphan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t thy sid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7T15:40:10Z</dcterms:modified>
  <cp:revision>12</cp:revision>
  <dc:subject/>
  <dc:title>PowerPoint Presentation</dc:title>
</cp:coreProperties>
</file>