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D7C-8902-4184-9EE9-8F23D96D3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394-862F-4A75-918F-3F83FE7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1A3B-BE84-43C6-9178-7F5C70B3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63F-1112-4A73-BAF5-002CC60B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254-27D5-4411-AAE2-82163DB5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839-33D7-46CF-A8AE-0B5B3F24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AF4-A077-49A7-8DC7-23F3058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DCA-18BA-411E-9EE7-6282771C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621F-C0A3-4B11-A5E9-05B3E44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93DF-BEC3-4497-8CF8-8F2D1343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5D87-0F72-4303-AA4D-EABFE771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6DD-A1CE-4DCB-8AC5-B4E14C62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9A9-2DAA-4D18-84CB-C9FBF1AB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Courage to Do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Courage to Do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Alan Paton, South Africa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185840"/>
            <a:ext cx="8839440" cy="558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eyes that I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ee the needs of other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ears that I ma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hear their crie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my heart so that the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need not be without succor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8, 1982 Seabury Pres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let me not be afraid to def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weak because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ger of the stro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nor afraid to defend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poor because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ger of the ric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how me where love and hop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faith are need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use me to bring the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those plac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o open my eye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and my ear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that I may this coming da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be able to do some work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f peac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48:36Z</dcterms:modified>
  <cp:revision>151</cp:revision>
  <dc:subject/>
  <dc:title>PowerPoint Presentation</dc:title>
</cp:coreProperties>
</file>