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1F3A-6065-4693-B989-43859B38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0F6C-0FE3-4DB1-BBF8-168F63BC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871-52F1-435A-9D8B-4DBC3302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E42-9394-4925-9C02-71E931D2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BAA2-BCF4-4633-9D91-4D3ECB36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0A4-51C8-4A88-9BC0-02FB3D9C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A38-2CC8-4E7A-ABCF-B821DD6E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C5D0-9320-4396-BC96-7B7D5F4F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2E26-9FE2-47F8-B314-EE8E0497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3384-429E-4C3F-8588-94ED0402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214-902E-4DBF-A572-867AC219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3B37-DB0B-4844-98FE-10BB4306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5397-033A-4043-B019-72411A902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y Jesus, I Lov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My Jesus, I lov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know thou art min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thee all the folli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sin I res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Jesus, I Love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70880" y="1015920"/>
            <a:ext cx="4600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William R. Featherstone, 18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gracious Redeem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Savior art th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f ever I loved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Jesus, ’tis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I love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ecause thou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st first loved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purcha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pard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Calvary’s t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Jesus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love thee for wea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thorns on thy bro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f ever I loved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Jesus, ’tis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In mansions of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endless de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ever adore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heaven so br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Jesus, I Lov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’ll sing wi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ittering cr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my brow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f ever I loved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Jesus ’tis n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3:51Z</dcterms:modified>
  <cp:revision>35</cp:revision>
  <dc:subject/>
  <dc:title>PowerPoint Presentation</dc:title>
</cp:coreProperties>
</file>