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ACB7-68C5-4152-9A82-483A77B1B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1FE8-63BB-45D9-A2C5-EA28EED6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6FA4-F4C3-4A92-A6C3-4E8A3CE1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3CB4-41EC-4BEF-BA7B-5E0C9A0F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12C0-7B2C-42C3-BDF4-FF0348F8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9074-7148-415A-82BD-953074EE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8AF2-7965-4D6B-9369-7B1F12B7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7E92-C166-403B-B818-A9F39B15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959D-0A42-472B-A775-BF96C6FB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DC45-84BA-48D3-82F3-E1EBC13F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3F73-7719-43AA-B1A6-97B5A6A4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AFBA-8035-4D57-B0EA-BFA2D8EC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0220-AA8E-406B-9BF6-A18E4B306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Day of Peac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at Dimly Sh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day of pe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dimly shin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all our hop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rayers and dream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Peace That Dimly Shi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7400" y="1828800"/>
            <a:ext cx="39646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Carl P. Daw, Jr., 1982 (Is. 11:6-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uide us to just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uth, and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livered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elfish schem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swords of hat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ll from our ha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earts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vy find rel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by God’s gr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warring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see Christ’s promi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ign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en shall the wol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well with the lamb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shall the fier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vour the sm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Peace That Dimly Shi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beasts and catt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lmly graz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little chi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lead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enemies sh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rn to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creatures f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true acc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ope of pe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be fulfill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all th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know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9:38Z</dcterms:modified>
  <cp:revision>59</cp:revision>
  <dc:subject/>
  <dc:title>PowerPoint Presentation</dc:title>
</cp:coreProperties>
</file>