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BC7-9419-4EB4-8F6F-70159334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A31E-68A4-4D45-8A76-B20BE5CA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0D3-B5D7-46EE-A27B-951D8C15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C35-C035-45A2-B7F9-3B369E03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CEE-62D8-40E8-978B-B80D0092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E1B-1023-4DD4-8DBE-9A02AE38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990-6B5D-42FF-8AFB-2B237819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EFB9-EBE5-43A8-AE15-12A6393F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1314-A0EE-406E-AEDE-319715FC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82C-CAB3-4DDE-952A-A74B7310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7D8-65B2-43D1-ADCA-A2637F6F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3EB-2272-446E-9562-122788B3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29CB-487F-43E4-8A1E-D9DDABB5C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 the Da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Resur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Michael Peterson, 1984 (Lk. 24:13-3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52680"/>
            <a:ext cx="9144000" cy="321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On the day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resurrecti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Emmaus we retu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87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aking brea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blessing, break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is himsel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d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6. Opened eye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enewed conviction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ourney bac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scene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elling al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Christ is rise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is through 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d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97360" y="3429000"/>
            <a:ext cx="67492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ile confus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mazed, and frightene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comes to u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Then this strange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ks a questi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“What is t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ich troubles you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3429000"/>
            <a:ext cx="81532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eets us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ur pain and suffering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walks with u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In our troubl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ords come from him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rning fi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thin our heart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ells to 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scripture’s meaning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speaks to u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4. Then we nea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ur destinatio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n we as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stranger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he yield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to our urging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stays with u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5. Day of sorro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s forgott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en the gue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comes the h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9:07Z</dcterms:modified>
  <cp:revision>65</cp:revision>
  <dc:subject/>
  <dc:title>PowerPoint Presentation</dc:title>
</cp:coreProperties>
</file>