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CC8-F009-4617-AF32-B48F40E7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B32-F5E8-4F4A-A50F-1EF562BD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8C1-DFA5-44AA-A837-145014D6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AD7-3D9B-4027-9E7C-72D2093A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C41-FA44-4A8D-81B9-907DE964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C88-C151-41FD-9FA3-28EBF0A9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727-1B60-46B0-A287-DE25649D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171-3D51-4BC0-98D0-4E34C14F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9E2-77C4-4962-9E45-D118FD7A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F0D-C87A-42D7-BC89-F651475C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A1D-393C-419A-AA63-FBB0976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5F98-E6BB-4772-A1C4-9B51B86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CE52-0697-489A-8C99-E23338E94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ion/Palm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44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sent your Son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ur Savior Jesus Chri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suffer death on the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8, 1989 Augsburg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on/Palm Su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1520" y="1066680"/>
            <a:ext cx="7535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 Lutheran Book of Worship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; alt. by Laurence Hull Stookey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we may shar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his obedience to your wil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in the glorious victor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his resurrec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lives and reig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 now and ever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15Z</dcterms:modified>
  <cp:revision>16</cp:revision>
  <dc:subject/>
  <dc:title>PowerPoint Presentation</dc:title>
</cp:coreProperties>
</file>