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1B3-9DD5-4AB9-B01F-0BA72518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404-7A68-41D0-9559-B5DEFCEB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A95-ADE5-464C-B0AE-E15F3176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232-9DAA-4676-8766-629D96F7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E11-4501-4728-B5BD-6B9ED3D5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88B2-D029-499D-8B89-ACB98DA2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7C2-6B45-45F0-AEDD-0A62B560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598-C079-4361-9DE9-2AA21DAF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D7EF-73E4-48DA-829F-F093CF50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51A-1003-409E-A9BD-13E10AF0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5E6-17DE-430E-A8B2-E76C2E6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09B-83A9-492C-91BE-3AE915E2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5227-EF62-4591-A9DF-8C0244934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Hail the Pow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Jesus’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ll hail the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us’ na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t angels prostrate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let angels prostrate f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82240" y="1701720"/>
            <a:ext cx="6782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dward Perronet, 1779; alt. by John Rippon, 17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Let every kind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 tri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rrestrial b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rrestrial b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9810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jesty ascri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Crown him, ye marty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your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ro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tar c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who from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tar c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8108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xtol the St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Jesse’s R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O that with yo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cred th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at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eet may fal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we at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eet may fa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2880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’ll jo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743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 for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yal diad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Ye chosen s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Israel’s 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f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il him who s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by hi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Sinners, whos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 ne’er forg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g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mw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g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Hail the Power of Jesus’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28800"/>
            <a:ext cx="9144000" cy="423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 spread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rophies at his f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</a:t>
            </a:r>
            <a:br>
              <a:rPr sz="50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 crown him,</a:t>
            </a:r>
            <a:br>
              <a:rPr sz="36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m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ow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9:52:57Z</dcterms:modified>
  <cp:revision>17</cp:revision>
  <dc:subject/>
  <dc:title>PowerPoint Presentation</dc:title>
</cp:coreProperties>
</file>