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8C3F-838C-4663-99DC-C59812D9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B3F-71B6-4BD6-AC16-9C886EF5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8CF-45BE-4E87-BA56-A1B043843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4A7-0298-4378-8F62-F26C5F40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C8AA-B768-4AD9-83ED-887E8AAA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3797-885F-4D2A-9A38-433F33D5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15C-60FC-4ED2-B052-CE41CCF8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8F1-1060-4668-9DE5-7E1A2D05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947-2680-41A0-B390-342457B2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C80-4503-4718-86AC-8573DF6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A882-EE55-4073-B3E4-1D69C98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88B-1BC9-4C5C-9CD4-568540C1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1400-68F8-4A3D-87E9-63090FD4B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wake, O Sleep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5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37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Awake, O sleeper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rise from death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and Christ shall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give you light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Augsburg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. Bland Tucker, 1980 (Rom. 13:11-14; Eph. 4:4-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wake, a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forth in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hrist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you l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 learn his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length and bread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ts full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pth, and he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o us on ear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came to b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in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releas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iv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’s uni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very bo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re is one bo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hop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Spiri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c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90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fai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ne baptis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Fa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u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n walk in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Christ has lo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died th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might sa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kind and gentl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arts forg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God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forga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For us Christ liv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us he di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nqu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strif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wake, O Sleep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9:50:43Z</dcterms:modified>
  <cp:revision>22</cp:revision>
  <dc:subject/>
  <dc:title>PowerPoint Presentation</dc:title>
</cp:coreProperties>
</file>