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7960-6E7C-4F3F-9367-30AC483B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FD63-FB53-4EE1-A4D8-B715B1F8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F43-F42D-4A97-A57E-F352659F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4675-B6E5-4D28-8B3D-B30DA53F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C3B-4AA5-4956-90D5-47487F47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F45-790A-4C6F-BD55-6659DCFC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DEF-E05C-4BDA-85F3-9DD19EA3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110-B500-4B8F-9C16-D9F70FA4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A9C-FFCA-4B76-85E2-3A3F49BC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1B6-554B-4C1D-AA6C-E69E645E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6CCA-3EBE-482A-838A-D81240A7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193E-E4F9-4F2D-AB28-ED73EC6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9007-8E11-4366-9D6A-A8C60743E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e Old Rugged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On a hill far away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tood an old rugged cros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emblem of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uffering and sham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36320" y="1143000"/>
            <a:ext cx="4429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George Bennard, 1913 (1 Cor. 1:22-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’twas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old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suffered and di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nctify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the    old  rugged cross,)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last I lay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15880"/>
            <a:ext cx="9144000" cy="44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(cross,               the old rugged cross,)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 day for a crown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o the old rugged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ever be tru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sham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proach gladly b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he’ll c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some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y home far a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is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I’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the     old  rugged cross,)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last I lay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15880"/>
            <a:ext cx="9144000" cy="44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(cross,               the old rugged cross,)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 day for a crown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love that old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the dear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 world of lo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 was sl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 the  old  rugged cross,)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last I lay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158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  the  old  rugged  cross,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 day for a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that old rugged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despised by the wor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 a wondr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traction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d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mb of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ft his glory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ar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ark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844560"/>
            <a:ext cx="9144000" cy="499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’ll cher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the   old rugged cross,)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my troph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last I lay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15880"/>
            <a:ext cx="9144000" cy="420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cling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ld rugged cross,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cross,               the old rugged cross,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xchang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 day for a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n that old rugged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ained with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ondr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y I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ld Rugged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29Z</dcterms:modified>
  <cp:revision>17</cp:revision>
  <dc:subject/>
  <dc:title>PowerPoint Presentation</dc:title>
</cp:coreProperties>
</file>