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5BAD-4896-4E89-B26C-4BCEDB86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EC8C-110C-4634-B3AE-93D8E966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A56-2B09-421B-934F-33CEAB71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CE3-0587-42B2-B182-B500C4C0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C52-3AEF-4E81-9FDA-6DD69661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C7A-DA59-4F80-BE82-AF5D9673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61F-CEB2-4349-9317-A4C73120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6C3-733C-4A3E-A071-03E48BD2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DCF-5B62-4F72-8743-5BBB3538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84-516A-4B87-83FA-112BB684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171-0EAA-4717-BA09-CBB6A719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C93-32F8-4AC1-8B5D-379B846D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1FDF-5F55-48DB-8207-9FB5FE5C6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rough It 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4944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’ve learned to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rust in Jesu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’ve learned to trust in God;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 It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dra</a:t>
            </a:r>
            <a:r>
              <a:rPr b="1" lang="en-US" sz="16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é Crouch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it all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’ve learned to dep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upon God’s w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02Z</dcterms:modified>
  <cp:revision>40</cp:revision>
  <dc:subject/>
  <dc:title>PowerPoint Presentation</dc:title>
</cp:coreProperties>
</file>