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1082-4871-4CFA-BD79-C84F83F4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29A-F4CB-4450-8FB3-094C4FFF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DA5-CB33-4056-AE5F-A5A336D3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0F4-6410-422D-8940-48B063EC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165-5E9F-4A80-8862-CB040D2B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09C3-63BC-416C-AF46-31253B6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498-1C96-4981-9BBB-BCC0F1B5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E42C-6F99-494D-82E3-04ECBA55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D920-4C07-4116-913E-56625227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607-80CC-426C-96AA-C62E75FD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83DF-29F9-4484-9728-3031591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7C9-CCD8-4FBC-9792-6FD855E9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000-9A34-4CC8-9C00-55E35D1AC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My Hope Is Firmly Groun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3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All my hope i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irmly grounde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the great and living Lord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o, whenever I most need him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ever fails to keep his w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4480" y="914400"/>
            <a:ext cx="716220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Joachim Neander, 1680; trans. by Fred Pratt Green, 198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 m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ly tr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od and ju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ell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an trust our na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an, weak, and insecur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of all the airy cast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the hurricane endu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 on s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ught can st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our earth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dom plan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But in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and sea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 of love’s abundant st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ust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unt of lif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ho sh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and 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 on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failing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ank, O than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reat Creat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u God’s only Son this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pot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us out of earth and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My Hope Is Firmly Ground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 to h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ng in d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hall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eople f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04:15Z</dcterms:modified>
  <cp:revision>53</cp:revision>
  <dc:subject/>
  <dc:title>PowerPoint Presentation</dc:title>
</cp:coreProperties>
</file>