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EE7-0B76-48F0-95BF-F5360EB9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2C5D-EB62-4D04-93D7-5B73CC9F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05A-60E7-4CAC-99B7-8E0DA308D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D7E-7F42-461A-968E-6F0A6568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EA8-A482-422B-ADD2-16A33D4F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129-DA3C-48AD-8454-4AD1B82B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F55B-F7C9-4225-A797-08D02002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500-37E1-4AEC-BA17-952ED016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25C-D09B-4E7C-8C5F-5854FEB1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27FE-A53E-42AA-9AE1-A503A5EE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416-22F1-49EB-9B22-54ED9D8A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F0A-0697-4066-8140-93294C51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5110-7556-41F6-B142-1CA31F73B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ur Soul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uls insp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ght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celestial fi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4560" y="1623960"/>
            <a:ext cx="78372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ttr. to Rhabanus Maurus, 8th-9th cent. trans. by John Cosin, 1627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e anoin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ost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venfold gifts im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y blessed unc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comfort,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re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abl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rpetual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ullnes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blinded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oint and che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iled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abun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far our fo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peace at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ou art gu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ill can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us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e, of bo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but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Soul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rough the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, this may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endless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me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ly Spirit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04:21Z</dcterms:modified>
  <cp:revision>10</cp:revision>
  <dc:subject/>
  <dc:title>PowerPoint Presentation</dc:title>
</cp:coreProperties>
</file>