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62F4-5FCB-4651-BDC5-03AC89D99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2D96-1C37-40E6-BA0F-27DB99F1C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9D0B-9BEE-4F11-B2B4-2695CFC89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582E-AEE9-416B-8A67-23AC9C911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C4CE-ABFF-4066-99BB-77631ADA0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B4A6-E967-417F-9A04-B244724EF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5914-7A51-482E-BA8F-0FF19EEF1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920E-0F79-4105-8215-B48BA7C2E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24E5-0714-43C0-B62A-0A22B911E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05AE-C768-41B6-AF55-C0FD9F80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6768-A1A2-41F0-9006-597BB906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4F6A-FA41-444C-B336-25E055B2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E496F-9D83-40D7-B2DB-9CAFF521DE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89154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, Let Us Join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ur Friends Abo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70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8195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Come, let us jo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friends ab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have obtained the priz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Let Us Join Our Friends Ab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52800" y="1600200"/>
            <a:ext cx="29192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WORDS: Charles Wesley, 175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6668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we are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margin co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we expect to di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26668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’en now by fai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join our hand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those that went befor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7432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greet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lood-besprinkled band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the eternal sh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26668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Our spirits to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all quickly joi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ke theirs with glory crown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Let Us Join Our Friends Ab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28195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hout to s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Captain’s sig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hear his trumpet sou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28195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that we no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ight grasp our Guid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that the word were give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29718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, Lord of Host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waves divid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land us all in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7432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on the eagl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ngs of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joys celestial r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7432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saints on ear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ite to s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those to glory go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57184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all the servan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our K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earth and heaven are 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6668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One family w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well in h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e church above, beneath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Let Us Join Our Friends Ab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6668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gh now divid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the strea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narrow stream of death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6668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e army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living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his command we bow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6668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art of his ho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ve crossed the flo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part are crossing n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2590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Ten thousand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ir endless ho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is solemn moment fl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Let Us Join Our Friends Ab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20:11:07Z</dcterms:modified>
  <cp:revision>52</cp:revision>
  <dc:subject/>
  <dc:title>PowerPoint Presentation</dc:title>
</cp:coreProperties>
</file>