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770-89A1-44CA-908B-4A5219655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7D8-67E4-47B8-A3CF-1A202FF9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F5B-4C78-4846-ADA8-BBE74F7C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EAF1-A9D2-40F7-8264-C1BAEE29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020B-B62D-4146-A197-A7028738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66C-7E8F-49C8-B7E9-A8AE1630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DB3E-BD1A-422E-A395-58558655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483-28BC-48FF-8FDD-6250A2A4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A5A-F077-455D-8A1D-B1705E43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E8B-9F55-4DBB-BEB2-15F312BE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786-7E58-46BD-90C1-5F87DE9C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ED1-CE93-4B3B-9BCD-EA330E73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15D4-703C-48AF-A233-CFBBCC248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ng of Mary, Pure and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ng of M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e and low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iden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e and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4160" y="1116000"/>
            <a:ext cx="377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Roland Ford Palmer, 19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rnful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 of s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y heart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in was t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ous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rewar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 cr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Jesu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e to 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 recor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e bl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of God’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most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came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rest chil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rest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Lord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to ea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very br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s our na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ing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M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Nazar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il and lab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not we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endu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tant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e he gave 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it dr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from her s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th to preach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, and su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on Calv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oyful m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 of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ne a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rd was bor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of Mary, Pure and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2:56Z</dcterms:modified>
  <cp:revision>28</cp:revision>
  <dc:subject/>
  <dc:title>PowerPoint Presentation</dc:title>
</cp:coreProperties>
</file>