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17F3-6709-40F4-A326-414027A0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CFF9-577B-4A58-A4FB-3E52C338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6823-02D4-4D1B-9814-B6FFDC65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D2B5-A28E-4E2E-A269-99AAF165F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C911-26E7-4CA5-880F-29566475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A7AA-B3C3-4BB9-B85C-D736451C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1457-03C4-484F-90BC-1CEB814F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4744-6E58-4BCE-BB9D-1B816FF9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D78-CBBE-4231-9E5F-684DC625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D499-A522-4057-9821-0B6EE87B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D5E9-A180-4A04-B693-EDA6CA73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D164-F71B-4AAF-9409-A77C8F21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0664-047F-4A4E-9735-DF7813740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re Shall My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ondering Soul Beg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81080"/>
            <a:ext cx="8915400" cy="429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Times New Roman"/>
              </a:rPr>
              <a:t>1. Where shall my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Times New Roman"/>
              </a:rPr>
              <a:t>       wondering soul begin?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Times New Roman"/>
              </a:rPr>
              <a:t>    How shall I all to heaven aspire?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Times New Roman"/>
              </a:rPr>
              <a:t>    A slave redeemed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Times New Roman"/>
              </a:rPr>
              <a:t>       from death and sin,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Times New Roman"/>
              </a:rPr>
              <a:t>    a brand plucked from eternal fire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69160" y="1447920"/>
            <a:ext cx="262512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Charles Wesley, 173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e calls you now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invites you home: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me, O my guilt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brethren, c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9270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6. For you the purpl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current flowe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in pardon from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his wounded sid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languished for you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the eternal Go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for you the Prince of Glory d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elieve, and all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your guilt’s forgiven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nly believe–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yours is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97964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ow shall I equal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riumphs rais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sing my great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deliverer’s prais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2. O how shall I the goodness tell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Father, which thou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to me hast showed?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That I, a child of wrath and hell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I should be calle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a child of Go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hould know, should feel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my sins forgiven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lest with thi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tepast of heave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3. And shall I slight m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Father’s lo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or basely fear his gifts to own?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Unmindful of his favors pro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shall I, the hallowe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cross to shu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refuse his righteousnes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o impar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y hiding i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ithin my hear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1278000"/>
            <a:ext cx="883944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4. Outcast of men, to you I call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harlots and publican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and thieves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he spreads his arm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to embrace you all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sinners alone his grace recei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o need of him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e righteous have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e came the los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o seek and sa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9270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5. Come, O my guilt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brethren, com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groaning beneath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your load of sin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his bleeding hear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shall make you room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his open side shall take you 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Shall My Wondering Soul Beg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28:22Z</dcterms:modified>
  <cp:revision>26</cp:revision>
  <dc:subject/>
  <dc:title>PowerPoint Presentation</dc:title>
</cp:coreProperties>
</file>