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8102-6EF4-401C-AD29-108FC96A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1AF-E090-425B-9E63-D6C9AB75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FA8-9B96-4619-95F4-F46AF672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0A5-584A-4443-A4D1-B6199BBA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ADB-8D80-4E60-BDA0-81DBD01B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F78-7EEA-4273-B456-B92B4DBD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0A21-D5C2-4A28-A0BD-3F3592B3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F4F-D191-4E44-B933-64166E5F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356E-4514-42AD-93FB-6F1DA8A0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E6E-662E-41FE-9384-2991816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98E-F1F1-4598-91A2-BA12D11A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DAE-125A-498F-8DD0-8D4F3F89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3087-3811-44B2-B8E2-70B55EDDB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eople, Look 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6309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People, look east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time is near of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rowning of the y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Times New Roman"/>
                <a:ea typeface="Arial"/>
              </a:rPr>
              <a:t>Words by permission of David Higham Assoc. Lt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8560" y="990720"/>
            <a:ext cx="3791160" cy="41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Eleanor Farjeon, 1928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Angels announc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shouts of mir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m who bring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ew lif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et every pea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valley humm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the wor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Lord is co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9364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Lor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ke your house fai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s you are abl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rim the hear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et the t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Gues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Furrows, be glad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ough earth is bar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more see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planted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ive up your streng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seed to nouris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at in cours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flower may flouri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9364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Ros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Stars, keep the watch.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en night is dim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e more l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bowl shall bri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ople, Look E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ing beyon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frosty weathe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right as su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moon togeth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93640"/>
            <a:ext cx="9144000" cy="5637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eople, look east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    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sing today:</a:t>
            </a:r>
            <a:br>
              <a:rPr sz="5000"/>
            </a:br>
            <a:r>
              <a:rPr b="1" lang="en-US" sz="5000" spc="-1" strike="noStrike" baseline="-25000">
                <a:solidFill>
                  <a:srgbClr val="99ff66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(People, look east:)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the Star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on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2:21Z</dcterms:modified>
  <cp:revision>52</cp:revision>
  <dc:subject/>
  <dc:title>PowerPoint Presentation</dc:title>
</cp:coreProperties>
</file>