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331-DE5B-4A05-A49C-768A5FED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1055-4744-404D-AEE3-C50D0C15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3872-6A83-4CC5-9F44-105A6895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8E6-C28E-4F75-A2E7-967977BF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EACE-DB96-44F8-B7C8-C30E9F0F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77DA-E5CF-42A0-A4BE-22AEC507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3E8-41BE-4E02-99C3-6BA6BA39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12E1-D13B-4533-98BA-23A980F5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82AC-3483-4B27-97A9-CBD7DAE9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CBA4-253E-4626-8BAE-FDE5783F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F526-D0B0-4D0A-957B-DD23379E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365-12F3-4FBE-924B-DC2F5C04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E1CC-1509-4D42-A90D-E5C540016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 Praise to Thee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Thou, O King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3558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All praise to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u, O King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idst yield the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of right was th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© 1940, 1943, renewed 1971 The Church Pension F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74240" y="1625760"/>
            <a:ext cx="520524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F. Bland Tucker, 1938 (Phil. 2:5-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4191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by all adore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in our darken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s thy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ce might shin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Thou cam’st to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lowliness of though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thee the outc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poor were sou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4038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y thy death w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salvation wrought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Let this mind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us which was in th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wast a serv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we might be f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962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mbling thysel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death on Calvary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Wherefore, by God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purpose, th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rt high exal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all creatures n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iven the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hich all kne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bow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Let every tong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nfess with one acc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heaven and earth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Christ is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Thee, for Thou, O King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7:04:14Z</dcterms:modified>
  <cp:revision>29</cp:revision>
  <dc:subject/>
  <dc:title>PowerPoint Presentation</dc:title>
</cp:coreProperties>
</file>