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ADDC-F21B-4934-B28A-65E479912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40BE-D669-4F97-9753-0A1CFED2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671A-88F5-4A13-AD50-516024260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3FB1-012D-4917-8215-F67BCC08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08A2-5AD7-423A-B132-8853CC6B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0903-6FBE-4EF9-A630-3D0D2423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9161-967B-4D44-A2B2-44CCF5E5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5941-EC78-45C8-8147-104A59B2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6C46-D611-4FBE-AD26-9D17BA97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A904-5808-434B-943B-6D1CC2CA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1231-2E79-4F1A-83E1-0ACFC0DF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83E2-C766-4BF9-8F89-DC175938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2391-10B1-411E-9593-CE1A419EE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ues Si Vivimos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When We Are Liv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5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91440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St. 1, anon., trans. by Elise S. Eslinger, 1983; sts. 2, 3, 4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Roberto Escamilla, 1983, trans. by George Lockwood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1987 (Rom. 14: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41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Pues si vivimo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para Él vivimos y si morimo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para Él morimo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Sea que vivamos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o que muramo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97180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2057400"/>
            <a:ext cx="221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rough all our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our fruits must giv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od works of serv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for offer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e are g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when receiv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66688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752480"/>
            <a:ext cx="221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’Mid times of sorr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n times of p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sensing beau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in love’s emb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ther we suff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sing rejoic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51460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1600200"/>
            <a:ext cx="221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Across this wid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shall always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se who are cry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no peace of m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when we help th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when we feed the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44792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11480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685800"/>
            <a:ext cx="2209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3352680"/>
            <a:ext cx="1904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Co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1952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057400"/>
            <a:ext cx="2209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En esta vid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utos hemos deda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 obras buen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n para ofrenda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a sea que dem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que recibamo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81952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2057400"/>
            <a:ext cx="2209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En la tristez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en el dol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bellez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en el am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a que sufram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que gocemo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74320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2057400"/>
            <a:ext cx="2209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En este mu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mos de encontr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nte que llo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sin consola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a que ayudem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que alimentemo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s Si Viv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60020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3581280"/>
            <a:ext cx="2209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Co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34340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85800"/>
            <a:ext cx="2209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When we are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in Christ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en we’re dy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in the Lord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th in our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n our dy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4:48Z</dcterms:modified>
  <cp:revision>115</cp:revision>
  <dc:subject/>
  <dc:title>PowerPoint Presentation</dc:title>
</cp:coreProperties>
</file>