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0FA-B614-42EB-8B5B-124BA81C9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91B2-C1F9-4357-BFD3-918024D7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0B6-986E-4051-9F0F-343B7245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C6A-3E0F-4AA3-B0BD-8A0366D4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CD04-D42B-4212-A7EA-1F8C1D82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A50-A509-4BF8-8370-41160AFF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2BD-8D90-48CA-930E-189E1CDA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E9E-C818-40C1-AF63-AA6F0377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A05-3BF7-41C2-AA87-7C901515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9C7-8C68-4010-92CC-C6CB4E62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EEB-40B8-4E56-90B9-2E4CD4F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33B-1CCD-4993-B49C-CB2A059B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19F9-C5DB-4871-81F5-50CF12559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Christ, the Hea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Christ, the heal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ave co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 for heal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lead for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8080" y="1066680"/>
            <a:ext cx="3457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ed Pratt Green, 19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ness th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riching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reach the who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can we fa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resto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reached by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never end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rom every ail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esh end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bodies clam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fr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in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uld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holeness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eepest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w strong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our desir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weak our knowle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selv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lease in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healing trut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conscious pr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ists or shel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conflict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troy our h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cogniz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’s dis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clares our ill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there no c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hrist, for the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Grant that we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one in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unity may f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rist, the Hea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8:02Z</dcterms:modified>
  <cp:revision>22</cp:revision>
  <dc:subject/>
  <dc:title>PowerPoint Presentation</dc:title>
</cp:coreProperties>
</file>