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D39-E9AF-40A0-AC64-CDEB7B77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3E2-C701-457D-A680-C5807673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44A3-E283-4B74-937F-87326D76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B1B8-2EF2-4DF6-8146-6A0B874C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5D9-F90C-4153-9567-BF3B8E35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22E-7C88-4342-BE9F-6013106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135-46E2-41F8-AD99-226C5495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0D0-4E4B-46ED-898D-4ABFBA8D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917-A974-4799-9197-23F6A630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458-5774-47CC-B2ED-6D1FB3E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8C6-030C-4C58-BF40-66D18A6D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AD1-0E1E-42EA-BA8C-FECC8783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32E0-B36D-4395-BC0C-5551A5019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reedom in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1903320"/>
            <a:ext cx="647712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racious God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make me sensit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o all the evidenc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of your goodnes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dom in Chr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11120" y="965160"/>
            <a:ext cx="2911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ubem Alves, Brazil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715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I Believe in the Resurrection of the Body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trans.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©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1986 Fortress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90720" y="2209680"/>
            <a:ext cx="815328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may I, trusting in you,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free myself of th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terror of death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3880" y="1600200"/>
            <a:ext cx="76201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feel free to li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intensely and happily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the life you hav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5:19:09Z</dcterms:modified>
  <cp:revision>10</cp:revision>
  <dc:subject/>
  <dc:title>PowerPoint Presentation</dc:title>
</cp:coreProperties>
</file>