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983-E4E9-4131-94F0-91632E50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5EF1-32CC-4DCA-841F-D51DDF65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47FA-F775-48EB-8822-31CC9164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D28-5D0E-4B36-85E8-91E792F2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10A-243F-4E86-994F-D3CBF418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D6C-2EC4-439B-8430-3AEB961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E6B5-BC3C-4007-B213-75EB31BA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CFCB-1EEB-4D17-844E-16F4D2B3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4DB3-AC08-4F7C-AE7D-F9E36A64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F086-4FFA-4674-A1EB-0881F4F4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7C5-78BF-4042-ADD0-F6DDB5A6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85A-672E-43F6-9996-4729F9F1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320-638A-4CE7-83BF-21BD37B39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God’s Gif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od’s Gi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Howard Thurman, USA, 20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873080"/>
            <a:ext cx="842004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O Holy God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open unto me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light for my darkness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courage for my fear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Arial"/>
              </a:rPr>
              <a:t>      hope for my despa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477800"/>
            <a:ext cx="86868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loving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wisdom for my confusion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forgiveness for my sin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love for my hat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477800"/>
            <a:ext cx="876312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God of peac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unto m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peace for my turmoil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joy for my sorro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strength for my weak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1668600"/>
            <a:ext cx="8381880" cy="35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generous Go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open my heart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      to receive all your gif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14:57Z</dcterms:modified>
  <cp:revision>157</cp:revision>
  <dc:subject/>
  <dc:title>PowerPoint Presentation</dc:title>
</cp:coreProperties>
</file>