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23B-DD4C-4B7F-9757-2F66EF65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A29-78F8-42ED-86E8-45A90E97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2149-4A07-4BDF-B4A2-F06E727B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6F4B-253D-477A-BC68-85894AD4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907E-665B-4618-9B09-72EAEAB9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CA8C-9484-43A0-BC05-8F58E92F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9A76-C5F0-4174-BEE0-6F81E0ED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B5F-BB7C-4555-BC4B-64CB1074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994A-DD5B-409F-B75B-9B784F4F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AFA8-B1F2-4898-8FBF-122B644A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689A-2217-47BA-A7ED-46111FB5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EFD8-D178-495D-83DF-A2B147C9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844F-172F-4525-A5A4-1636D86FD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, He Come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ith Clouds Descen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Lo, he comes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uds descen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ce for favo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ners sl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e Comes with Clouds Descend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23440" y="1752480"/>
            <a:ext cx="2696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Charles Wes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Yea, Amen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ador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gh on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thr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e Comes with Clouds De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ior, take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wer and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aim the kingd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ine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elujah!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God, come dow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sand, thous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ints attend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ell the triump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his train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elujah! 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llelujah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appears 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Every eye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behold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obed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eadful majest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e Comes with Clouds De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se who set 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ught and sold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ierced and nailed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t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eply wail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eply wail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eply wail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the true Messiah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 dear toke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his pass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his dazz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dy bear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, He Comes with Clouds Descend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use of end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xult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is ransom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shiper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what rapt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what rapt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what rapt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ze we on th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ous scar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9:36Z</dcterms:modified>
  <cp:revision>55</cp:revision>
  <dc:subject/>
  <dc:title>PowerPoint Presentation</dc:title>
</cp:coreProperties>
</file>