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AE93-416F-4B34-B5DF-B60D72A81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B745-8223-4530-96F4-9C5DA2CC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32A7-9D96-476F-B3DC-0F8F1BBA9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985D-0757-4BA6-A7EF-22B5ADAC5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0960-ADA0-46EB-BC01-379C7DF7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BBA0-5C38-4EE7-BA36-06CA2B6D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017D-F844-4007-8C45-CC1F5E29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285A-74DE-4493-B683-40FF22A4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B7C6-552C-4A5D-9F2F-55DF7D5B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61DA-0EC7-4857-B9A6-A404DD92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B11E-C166-4EFB-A24A-0B95724C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F4B2-0ABC-47AC-A097-585B28FD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D599-BEDA-4355-9D8C-C883EF26B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elp Us Accept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ach 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Help us accept each oth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Christ accepted u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each us as sister, broth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ch person to emb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75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 Us Accept Each O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524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Fred Kaan, 1974 (Jn. 15: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 present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mong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bring us to belie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are ourselves accept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eant to love and l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Teach us, O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lesson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in our daily lif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struggle to be huma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earch f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pe and fai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 Us Accept Each O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each us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are for peopl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all, not just for so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love them a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find the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r as they may be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Let your acceptan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ange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 that we may be mov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living situation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do the truth in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 Us Accept Each O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practi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acceptan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ntil we know by hear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table of forgive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aughter’s healing 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7160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Lord, f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day’s encounte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all who are in ne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 hung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acceptan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righteousness and br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p Us Accept Each O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need ne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yes for see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w hands for holding on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new us with your Spirit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rd, free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ke us o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6T20:07:55Z</dcterms:modified>
  <cp:revision>66</cp:revision>
  <dc:subject/>
  <dc:title>PowerPoint Presentation</dc:title>
</cp:coreProperties>
</file>