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6AF0-380F-4740-996F-ADEB7B99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200B-AD5C-48DD-A1F5-D39D6213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0F25-DCAD-47F8-BA7B-7B7E20C0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B213-3845-4E48-9E67-749B68F1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A82D-8036-4058-A930-E7550C57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F67-1645-421C-B004-D606FC25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B171-BD80-499F-9DE7-EBDE8D68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BDAE-B1EA-43B6-992D-037C95FF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3E35-A314-486D-8242-F9E0FBF8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EBB5-9234-407A-9C37-437CB0DE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D4D2-28E5-4DF7-A9F4-D65D392A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9F3F-568C-4123-B4FF-21B00D70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9FAA-8A97-4804-B9EA-3D7C7DCAE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 Spirit of the Living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0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O Spirit of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e living God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hou light and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fire divine,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30160" y="1066680"/>
            <a:ext cx="389772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Henry H. Tweedy, 1935 (Acts 2)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anguage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y underst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love speak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ud and clear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every age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ace and cli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blend thei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eeds in o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earth shall for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famil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whom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ll is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So shall we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power of Chri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came t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ld to s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shall we rai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him to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ch soa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yond the gr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earth shall w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e holin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ch makes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ildren whol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, perfect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thee, we rea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eation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lorious goa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scend upon th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urch once mo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ake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ly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ill it with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joy and pow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righteous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e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Christ shall dwe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human heart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in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rrow c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Blow, wind of God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wisdom bl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til our min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fre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mists of err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louds of doub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ch blind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yes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rn, winged fire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spire our lips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laming love and zea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preach to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great good new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glor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monwe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each us to utt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ving wor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ruth whi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may h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Spirit of the Living Go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6:22Z</dcterms:modified>
  <cp:revision>11</cp:revision>
  <dc:subject/>
  <dc:title>PowerPoint Presentation</dc:title>
</cp:coreProperties>
</file>