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18A0-7C68-4015-BCF8-613E709A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5DC4-7658-4679-8082-CCCB1D19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164-54A6-4B1E-9CB2-CDFB68D2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93EE-74C0-47FE-B11A-5598E376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32D-3CD5-475B-9E97-AE360C26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60AD-6C5A-41CA-9ABE-B7D79D6E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14B-3EAA-4F1D-9026-C772A380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F347-706F-46F7-AE75-A08893A6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19A-94E5-44FC-BFD5-1B60ED05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3F3-73DF-4139-B4B4-B43B466F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0D7-9D86-415C-8FE4-B00F9764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F47-9B9C-4B91-8DC6-60A35EC0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8072-62F3-4750-AA86-D09D16CAC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merica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My Country ’Tis of The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6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county, ’tis of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land of liber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e I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7920" y="1700280"/>
            <a:ext cx="3007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Samuel F. Smith, 18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312408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nd where my fathers d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nd of the pilgrims’ prid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every mountainsi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freedom r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My native country,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nd of the noble fr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name I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243828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love thy rocks and ri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ods and templed hills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y heart wi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apture thri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at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usic swell the breez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ring from all the tre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weet freedom’s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3200400"/>
            <a:ext cx="887724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mortal tongues aw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all that breathe partak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rocks their silence brea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ound pro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athers’ God,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uthor of liber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hee we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eric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3200400"/>
            <a:ext cx="887724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ng may our land be br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freedom’s holy ligh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otect us by thy m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reat God, 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23:02Z</dcterms:modified>
  <cp:revision>39</cp:revision>
  <dc:subject/>
  <dc:title>PowerPoint Presentation</dc:title>
</cp:coreProperties>
</file>