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369-4377-44BC-B747-EB1B9999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CFD-BFE3-4C83-9ED1-4FA6DB07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37BD-266D-4E30-B0A4-D0A24424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6C9-7105-4798-8672-E9A8C23D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9D77-C65F-4C9F-82C1-181B50DC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69D-8BA1-4BF9-9DFC-4CF70BC2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8ADA-9194-4A63-81FB-ED53483C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093-C91A-4F8E-9C63-F35A22ED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8B1-9D6C-4A91-AA90-90A29BF0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85A-9C4A-4FA2-9A54-800BAFBD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CB7-651D-472E-BADF-8A740B59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4AD-3087-481C-94CD-23F84FF6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9FA0-E045-4366-BE4E-CFE598CAE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ift Up Your Heads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e Mighty G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1. Lift up your heads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ye mighty gates;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behold the King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f glory wait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0360" y="1562040"/>
            <a:ext cx="773532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Georg Weissel, 1642; trans. by Catherine Winkworth, 1855 (Ps. 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drawing near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Savior of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world is he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Fling wide the portal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your heart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ake it a templ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et apar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rom earthly us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heaven’s employ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dorned with pray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lov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Redeemer, com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us abid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ur hearts to the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e open w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et us thy inn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resence feel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y grace and lov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n us rev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Thy Holy Spiri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ead us o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until our gloriou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al is w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Up Your Heads, Ye Mighty Gat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ternal prais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ternal fam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 offered, Savio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thy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01Z</dcterms:modified>
  <cp:revision>57</cp:revision>
  <dc:subject/>
  <dc:title>PowerPoint Presentation</dc:title>
</cp:coreProperties>
</file>