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57D-D171-436A-A7BF-8557F466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C76-6125-4A69-B56C-C929BC57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880-612C-4848-9C96-01AF4D3A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7A0-92DF-4CA4-B598-3FFBC17E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E9C5-3CC0-4E75-A1E0-96E739F0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83E-A6D0-4AAE-85D8-B1C3D77B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BBAE-6C32-4DC3-8F49-F12774B3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367-58C5-4A4C-A022-78BCA86D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8F91-B83F-47ED-B274-D350AC97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959-B618-4626-9313-D806C7E7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E97-D07F-4733-B275-F036CA58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CDC3-FE69-4623-980A-468C0B06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1BEF-6AB7-4343-8B19-E65B19757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83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Day of Resurr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John of Damascus; trans. by John Mason Neale, 186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1. The day of resurrection!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Earth, tell it out abroad;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 passover of gladnes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 passover of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rom death to life eternal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rom earth unto the sky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ur Christ hath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brought us over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with hymns of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352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2. Our hearts be pure from evil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at we may see aright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 Lord in rays eternal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f resurrection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nd listening to his accents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may hear, so calm and plai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his own “All hail!”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and, hearing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may raise the victor str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74320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3. Now let the heavens be joyful!</a:t>
            </a:r>
            <a:br>
              <a:rPr sz="4800"/>
            </a:b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Let earth the song begin!</a:t>
            </a:r>
            <a:br>
              <a:rPr sz="4800"/>
            </a:b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Let the round world keep triumph,</a:t>
            </a:r>
            <a:br>
              <a:rPr sz="4800"/>
            </a:br>
            <a:r>
              <a:rPr b="1" lang="en-US" sz="4800" spc="-1" strike="noStrike">
                <a:solidFill>
                  <a:srgbClr val="99ccff"/>
                </a:solidFill>
                <a:latin typeface="Times New Roman"/>
              </a:rPr>
              <a:t>and all that is therei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of Resurrec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Let all things seen and unseen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their notes in gladness blend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for Christ the Lord hath risen,</a:t>
            </a:r>
            <a:br>
              <a:rPr sz="5000"/>
            </a:br>
            <a:r>
              <a:rPr b="1" lang="en-US" sz="5000" spc="-1" strike="noStrike">
                <a:solidFill>
                  <a:srgbClr val="99ccff"/>
                </a:solidFill>
                <a:latin typeface="Times New Roman"/>
              </a:rPr>
              <a:t>our joy that hath no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2:20Z</dcterms:modified>
  <cp:revision>60</cp:revision>
  <dc:subject/>
  <dc:title>PowerPoint Presentation</dc:title>
</cp:coreProperties>
</file>