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372-FE3B-456B-BC1C-5FDD8D24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9F42-2A58-4FA0-8C15-83DA6A04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841-73EA-40F6-B353-62E10F00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E67-4792-44F2-AA79-BC010210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9A3-6410-4C5F-A870-DB9DB1D1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7CE-F2B3-49DF-AE9D-91BA115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704-88C8-4BF6-B1CD-BEB37D2C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B58A-56AA-4D0E-8DEC-47F95EC0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5C81-78C0-469C-8114-E8CA8859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513-149D-40FC-A11B-43513482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BB7-D091-4A52-8DBB-5E73F7C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030-AFEF-42DB-85D8-128EDF0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724C-E33F-4AF0-A51E-0E25884B0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Savior, Pilot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o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estuou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839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dward Hopper, 1871 (Mt. 8:23-27; Mk. 4:35-41; Lk. 8:22-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505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known w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me ro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ing roc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cherous sh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rt and compa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from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s a m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s her chi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canst h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cean w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isterous w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bey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ou say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m, “Be sti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rous sovere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e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Savior, pilo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at 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near the sh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fea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ers ro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Savior, Pilot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wixt 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eaceful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while lea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y br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I hear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Fear not,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pilot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5:51:32Z</dcterms:modified>
  <cp:revision>42</cp:revision>
  <dc:subject/>
  <dc:title>PowerPoint Presentation</dc:title>
</cp:coreProperties>
</file>