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917-D415-48EB-BF8A-208B4BCA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32D-F512-4B3D-9CF8-D0B1A2CC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D882-AD56-4E47-B004-AD9FFEAE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286-BD4A-4734-9532-8D96EBFA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63D-70DA-4513-9FBC-79476609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769-F9B1-491B-A682-AA852DBF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5B2-585A-4A17-80FD-99435175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1CD5-8B01-41F8-8229-26F7C78C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78B-F233-409E-A854-D8041C56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5A8-547B-4EF2-B153-1E674543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91E-8916-4A8B-A36E-C939FFCC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D94-15A2-45F5-9DF8-6D4EF9E1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3092-CA16-44E6-BA5F-3232F7162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lory to God, 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aise and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Glory to Go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praise and lov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e ever, ever given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y saints below and saints abov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church in earth and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15960" y="1600200"/>
            <a:ext cx="251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harles Wesley, 17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47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0. He breaks the powe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f canceled sin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 sets the prisoner free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blood ca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ake the foulest clean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blood availed for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5238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1. He speak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listening to his voic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ew life the dead receive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mournful, broke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arts rejoic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humble poor belie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447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2. Hear him, ye deaf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praise, ye dumb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r loosened tongues employ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e blind, behol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r Savior com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leap, ye lame, for jo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95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3. Look unto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e nations, ow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r God, ye fallen race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Look, and be save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rough faith alon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e justified by grac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37160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4. See all your sin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n Jesus laid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Lamb of God was slain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soul was onc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 offering mad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every soul of ma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295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5. Harlots and publican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thieve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 holy triumph join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aved is the sinne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at believe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rom crimes as great as m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14300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6. Murderers and al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e hellish crew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e sons of lust and prid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elieve the Savio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ed for you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me the Savior di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295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7. With me, your chief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ou then shall know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hall feel your sins forgiven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ticipate you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aven below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own that love is heav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47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2. On this glad da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the glorious Sun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f Righteousness arose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n my benighte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soul he shon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filled it with repo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udden expire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gal str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was then I ceased to grie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econd, re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ing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then began to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37160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4. Then with my heart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 first believe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elieved with faith divin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 with th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ly Ghost receive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call the Savior min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9528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5. I felt my Lord’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toning bloo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lose to my soul applied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e, me he love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on of Go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or me, for me he die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37160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6. I found and owne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is promise true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scertained of my part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y pardon passe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 heaven I knew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en written on my hea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47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7. O for a thousa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ngues to s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y dear Redeemer’s praise!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glories of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y God and King,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triumphs of his gr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47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8. My gracious Master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my Go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ssist me to procla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o spread through all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earth abroa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honors of thy nam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37160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9. Jesus! the nam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at charms our fear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at bids our sorrows cease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’tis music in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sinner’s ear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’tis life, and health, and peac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ry to God, and Praise and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7:41Z</dcterms:modified>
  <cp:revision>9</cp:revision>
  <dc:subject/>
  <dc:title>PowerPoint Presentation</dc:title>
</cp:coreProperties>
</file>