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2CF7-2545-4712-8333-A6E58C5A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0BEF-8842-4AE7-A019-07EF9634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0B5-E1F1-4C75-8511-DB4FD634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1F2A-50DD-4514-ADCD-41DFB9AD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57F-88C5-4ABC-BDB5-5EB649F7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D02-93BD-4C5E-AAD5-C29E3B1A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81C-072F-410A-A726-F4DB2FF5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CD89-C8AC-49EE-8CD1-27C9CDE0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9C6-322A-450C-825D-2AA03E33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5A2-74D0-4FB1-8AF6-8C5FA79C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3CEA-3CCD-4A8E-AD15-8BF0DFDB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0AF7-AFE2-48D8-824A-C556655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F8D7-5FB6-40BA-977B-260D7328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Jaya Ho</a:t>
            </a:r>
            <a:br>
              <a:rPr sz="4000"/>
            </a:br>
            <a:r>
              <a:rPr b="1" lang="en-US" sz="3200" spc="-1" strike="noStrike">
                <a:solidFill>
                  <a:srgbClr val="99ccff"/>
                </a:solidFill>
                <a:latin typeface="Times New Roman"/>
              </a:rPr>
              <a:t>(Victory Hym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276720"/>
            <a:ext cx="8305920" cy="303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honetic transcription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40160" y="1509840"/>
            <a:ext cx="586224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Anon. Hindi; trans. by Katherine R. Rohrbough, 1958; </a:t>
            </a:r>
            <a:br>
              <a:rPr sz="1600"/>
            </a:b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phonetic transcription from the Hindi by I-to Loh, 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13372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21932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14400" y="1600200"/>
            <a:ext cx="82296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2057400"/>
            <a:ext cx="8381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990720"/>
            <a:ext cx="8686800" cy="3780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 come befo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e, O Great 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Ho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 Great and Ho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371600"/>
            <a:ext cx="8610480" cy="3537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bow our head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thee, Great 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Great and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06668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ow at thy feet 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we bow i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quiet reverenc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then sing thy praise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evermore repeating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914400"/>
            <a:ext cx="853452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2438280"/>
            <a:ext cx="822960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066680"/>
            <a:ext cx="861048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81080"/>
            <a:ext cx="84582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2133720"/>
            <a:ext cx="8458200" cy="33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1828800"/>
            <a:ext cx="830592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 </a:t>
            </a: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1828800"/>
            <a:ext cx="853452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06668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ord, let us se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e, grant us 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Grant us 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is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80880" y="114300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Sins and denials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ar Lor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ear Lord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forgive u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06668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ake us and keep us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in thy stro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rotection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safe in thy refug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we will sing th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rais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1143000"/>
            <a:ext cx="8534520" cy="413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251460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990720"/>
            <a:ext cx="8610480" cy="82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33520" y="182880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209680"/>
            <a:ext cx="8686800" cy="339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676520"/>
            <a:ext cx="8610480" cy="2287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752480"/>
            <a:ext cx="8458200" cy="3749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a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981080"/>
            <a:ext cx="8763120" cy="301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Unison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2057400"/>
            <a:ext cx="8458200" cy="2729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1. Tere sana mukh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ham hain 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1. Ham hain ate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ya H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05120"/>
            <a:ext cx="8610480" cy="277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Cha ra no may hain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shisha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Shisha  nav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1523880"/>
            <a:ext cx="86868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Leader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ham hain gate.</a:t>
            </a:r>
            <a:br>
              <a:rPr sz="5000"/>
            </a:b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Jaya jaya teri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ham hain g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38080" y="838080"/>
            <a:ext cx="830592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All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jaya jay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.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1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aya h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2666880"/>
            <a:ext cx="8305920" cy="155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Part 2</a:t>
            </a: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jaya ho jaya h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Hym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219320"/>
            <a:ext cx="8534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20:14Z</dcterms:modified>
  <cp:revision>24</cp:revision>
  <dc:subject/>
  <dc:title>PowerPoint Presentation</dc:title>
</cp:coreProperties>
</file>