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DC4-77EF-439C-86A7-01377A0E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E79-4906-4B3B-9B70-EA0CB5FA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532-BB97-463E-B574-3F1616A8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F32-B1DC-4D39-AADC-7B5F00CB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105-EFB4-47FE-BAB5-B58BC57E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294-F041-499B-A46C-610173AB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0B13-AD83-45CE-8CAE-90C0F76A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EF0-468C-43DF-88A5-CA2F240E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503E-632D-4E08-8454-67C705B5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9534-E0F3-443C-8B3E-CA76969F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4F9-B41B-44A2-8A2D-A1EFCAB0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2C6-6AD6-4815-8D02-A65AE7C2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14B-9BD4-41DD-B2F8-5BAA97F82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o Mock Your Reign,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Dearest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8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40219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o mock your reig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dearest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made a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crown of thorns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© 1973 Hope Publishing 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440" y="1600200"/>
            <a:ext cx="908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Fred Pratt Green, 1972 (Mt. 27:27-31; Mk. 15:16-20; Jn. 19:1-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et you with taunt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ong that roa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rom whic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 one return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ow glorious is that crow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orns woul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lower upon your br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sorrows heal our own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In mock acclaim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gracious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snatched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 purple cloak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passion turn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all they car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a soldier’s jo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716040"/>
            <a:ext cx="9144000" cy="54262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at though we 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rit bla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 will your rob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ercy th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ound our naked sha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A sceptered ree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 patient Lo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thru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to your hand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Mock Your Reign, O Dearest Lor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acted ou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ir grim charad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its appointed e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y could not k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s we do now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ough empires rise and f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our kingdom shall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not cease to grow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love embraces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9:00:39Z</dcterms:modified>
  <cp:revision>46</cp:revision>
  <dc:subject/>
  <dc:title>PowerPoint Presentation</dc:title>
</cp:coreProperties>
</file>