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AF6-0F60-4935-8888-B20563BD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296-3EC5-42DF-AD24-2885295C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E36-FB66-4917-A6C0-B4017B48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9B35-14E2-42A7-A09F-740DC06F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CDB-D86A-4B23-9AE3-DB435F18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F76-DADE-40A3-A735-FEDB4726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A93-DF90-469D-8039-EBDF5F1D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6C43-C765-4D9A-9EBB-FF34227E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C66-7D0C-427F-BB95-02F2D090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C7E-7DF5-458F-ACCB-BF3454C8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B23-0008-4275-B4EF-5FB0420E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66D-A23B-41CB-959D-5E1934C0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8F96-DB3A-4470-8207-3845922D2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Morning Gilds the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lds the sk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eart awaking crie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5840" y="1066680"/>
            <a:ext cx="7547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Katholisches Gesangbuch,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ca. 1744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ts. 1, 2, 4, trans. by Edward Caswall, 1854; st. 3 by Robert S. Bridges, 18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733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ike at work and pray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esus I repai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86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night becomes as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from the heart we sa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ow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kness f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is sw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nt they hea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962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et all the earth a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ng joyous with the soun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eave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bli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 loveli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ain is thi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But th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life is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canticle divin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orning Gilds the Sk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’eternal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ges lo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Jesus Christ be prais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5:58Z</dcterms:modified>
  <cp:revision>37</cp:revision>
  <dc:subject/>
  <dc:title>PowerPoint Presentation</dc:title>
</cp:coreProperties>
</file>