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118E-7F99-4869-BE56-495F4A20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A223-1D56-45FA-9518-25791CA8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A68-5339-414F-BC1C-86C3E13F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FB0-3088-46BF-A005-477B8529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47B-EA55-4D85-9DDE-11C0B6F9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6F21-82FD-4679-B06F-52EB35E6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06F-F569-4263-B489-A5C8B562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A90-1B6A-4420-8CAD-3A92DE90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E330-08C4-4983-8634-34E8D067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319-A2DC-4EF3-9AB0-1921B2B9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A788-B5B9-46A4-BD76-86BAD59F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4AD-86A7-40B6-965D-AD7EFF11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C7C0-0BF3-4CFE-8077-EC2530722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Thou Fount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Every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, thou Fou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very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ne m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ing thy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5480" y="1673280"/>
            <a:ext cx="4249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obert Robinson, 1758 (1 Sam. 7: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y goo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fet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ind my wande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ne to wa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I feel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ne to leav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e’s m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ake and seal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l it for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rt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ams of merc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cea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ll for song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udest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ch me s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lodious sonn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g by fla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ngues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the moun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fixed upon 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 of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ere I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ne Ebenez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ther by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I’m co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 hope, 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good pl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fel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rive a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sought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a stra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dering fr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ld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, to resc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from da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erposed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cious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to gr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a debt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ily I’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trained to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Fount of Every Bles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32:04Z</dcterms:modified>
  <cp:revision>21</cp:revision>
  <dc:subject/>
  <dc:title>PowerPoint Presentation</dc:title>
</cp:coreProperties>
</file>