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F07-523E-4E86-A260-CE8B36D6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97FC-F6FD-4E5E-A7E1-3AB03678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B0C-EEDE-4466-BF5F-4D7BFB2B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7599-11BB-479F-9DE2-348FC8DB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1E8-C7AA-4295-924C-0F1F75C6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BF1-37FC-4CEF-912A-974322FD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E94-1288-4C0C-9103-ABE940E3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AF4-7F1D-4140-854F-5B65E210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364-B20E-4E76-AAF4-3FCDBE1D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AF3-6C8E-4E23-A66D-E83D5907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445-36D5-4BC4-BF6D-5510DFAB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64D7-6E97-4B30-A6BF-1527D30F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87BA-79A5-4FA4-B1F7-CF8114A5D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God Be with You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ill We Meet Ag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by his counsels guide, 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phol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88280" y="1676520"/>
            <a:ext cx="3378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Jeremiah E. Rankin, 1880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ith his shee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curely fold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neath his wing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ecurely hide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daily manna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till provide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hen life’s peril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ick confound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put his arm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unfailing round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4. 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keep love’s banner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floating o’er you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d Be with You till We Meet Aga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smite death’s threatening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ave before you;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God be with you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ill we meet agai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4:50:36Z</dcterms:modified>
  <cp:revision>12</cp:revision>
  <dc:subject/>
  <dc:title>PowerPoint Presentation</dc:title>
</cp:coreProperties>
</file>