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DB2-E693-490F-A26B-AC7B38972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0E6-826D-482B-A9AF-497E0E5D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D5D-4E23-42E3-B432-40F69456E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F95-BCE4-44D9-960E-B48F5BB9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C4E-0589-4935-B5B3-8F864929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1905-C947-4DF7-B9E9-AF58F82D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067-18E5-46E2-A243-D2E15291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73D-08BB-4B4E-8DBE-2FAE7A4A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DA5-0728-447D-BD3A-9703C5C5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5BA-7056-406F-94CB-F9A5440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7E3-CFC8-4A60-9FEF-8BB46FF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F1A-3EB6-42DE-8018-49977D79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EF84-C691-4B75-B480-5EBF64DF6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O Thou Who Camest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rom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 Thou who cam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ure celesti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re to impar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676520"/>
            <a:ext cx="5313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Charles Wesley, 1762 (Lev. 6: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dle a fl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acred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on the mean alt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ere let it f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lory bur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inextinguishable blaz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rembling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source retur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umble pray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rven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Jesus, confir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’s des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ork and sp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ink for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let me gu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oly f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ill stir u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ift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Ready for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perfect w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acts of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ve repea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ou Who Camest from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death thy end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rcies sea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ke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crifice comple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04Z</dcterms:modified>
  <cp:revision>12</cp:revision>
  <dc:subject/>
  <dc:title>PowerPoint Presentation</dc:title>
</cp:coreProperties>
</file>