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319-279C-410B-B17F-46734DE1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133-C3BC-4311-B2A5-F8630838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4682-30BC-416C-AAA8-15598E0A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DC0-E4EE-4243-8997-6AC6915C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6F5-C35D-4180-A2AE-37CDD96B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83D-EE67-4848-BE7B-A0836A6E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598-BF2C-4B4D-BA0D-606F0405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E31-4474-4AD3-A7CC-9E6AD5F8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BE3-8879-42BC-B1B0-35BF6134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941-9FDC-44A4-A1DA-B2ADAF23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77F5-3119-4880-9AEF-B920918B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1E7-38F4-4354-9544-E2BFE728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3725-1656-4C57-9679-1687A02E2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Bread of Lif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All Is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bread of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is broke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drank the c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Golgoth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Timothy Tingfang Lew, 1936; trans. by Walter Reginald Oxenham Taylor, 1943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honetic transcription from the Chinese by I-to Loh, 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grace we tru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read with rever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holy f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us rememb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odly f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eek thy pres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distr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people’s grief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oly face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ined with bitter tear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uman pain st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est thou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we pr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thou among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en our ey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ly appe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joy unen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ife with t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 bl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Jiu shi zhi shen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wei zhong-sheng bo-kai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Zai Gu-lou di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tong in ku-bei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read of Life for All Is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inese Phonetic Transcript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Meng en xin-zhong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feng ming chang ji-nian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Jing she sheng-yan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zhui-i dang nian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2:55Z</dcterms:modified>
  <cp:revision>135</cp:revision>
  <dc:subject/>
  <dc:title>PowerPoint Presentation</dc:title>
</cp:coreProperties>
</file>