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780-4512-45E9-9F0F-A445E68C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ADE-7456-4F13-8BF3-6A8C062F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0D7-EAB8-4603-A4E6-6DB347D7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C7E-BD0D-43D9-AB21-50C1CA7B9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4FC-A522-49FC-86EB-25D8A59A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BC8-3533-403D-88D7-747693CC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D36-59DA-4055-AB6D-3B3F8F8B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2F0-EE6E-4318-9698-7BB201B3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0F7-A1C9-4793-A860-BF5D8FC1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68D-C6E2-48B8-9E3E-066BBE40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A4E2-48FE-46BD-8468-1E9E7243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1D0-595F-4F98-B8BA-B241029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3A2C-8CE9-4261-BF71-0AA7D0B72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Three K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three k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rient 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ing gifts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verse af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4480" y="1092240"/>
            <a:ext cx="5523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n H. Hopkins, Jr. 1857 (Mt.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er and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s 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4300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yrrh is m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bitter perfu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es a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athering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rowing, sig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eding,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led in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ne-cold t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lorious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him ar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an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crifi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nds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eld and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or and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ing yonder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19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orn a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ethlehem’s p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ld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rown him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asing n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907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tar of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of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with roya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 bright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stward 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procee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erfect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ankincen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ffer have I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cense ow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Deity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Three K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36Z</dcterms:modified>
  <cp:revision>12</cp:revision>
  <dc:subject/>
  <dc:title>PowerPoint Presentation</dc:title>
</cp:coreProperties>
</file>