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E94-36C3-4E00-A7E0-780B4EE1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51B-572F-4F17-8F4B-0D1D75C0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4EF-D1AA-4E1D-BFDB-F774D068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AB45-A824-480A-A494-7B4269FF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6A3-3FC0-47A3-A4D2-389AF533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7B5-583D-4D62-B736-D6E61A38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986-54B8-4CA3-A1C1-7BBDFC3A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942-AE06-4D44-ADE9-DDD1885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3E0F-1121-4C95-A627-F85C127D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39E-F646-495A-B610-DF68464C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176-C89B-4B6C-BFD6-D0C286B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074-5E89-4EEC-9828-D8926ED1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00A2-64B2-434F-9DE2-E974E3F5C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Refuge amid Distra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ike an ant on a stic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both ends of whic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re burning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 go to and fro withou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knowing what to do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and in great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fuge amid Di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4320" y="990720"/>
            <a:ext cx="1185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d. In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1872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ike the inescapable shadow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at follows 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the dead weight of s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haunts m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raciously look upon m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y love is my refuge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8:51Z</dcterms:modified>
  <cp:revision>8</cp:revision>
  <dc:subject/>
  <dc:title>PowerPoint Presentation</dc:title>
</cp:coreProperties>
</file>