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445-9B0C-4A5F-824A-9325D430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3C9-E859-49E6-8292-BCA82D82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2C84-F8FF-479C-8D3F-F1234178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2EE-0110-4B06-8617-50995ABE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7CE-4D6C-4CF9-8D34-A26A21BF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3C3-56AD-4AFE-8A3D-E63D43B9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94CB-567C-46C8-9C23-35C8C81D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7F50-7EB0-4F92-A56D-882C3455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B67C-0855-4D7A-A32F-6E8CD584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E058-4845-4043-9424-74794DD9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228-90B6-4338-9838-D0106398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646-30AB-46D0-9220-107BCD14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FA97-4891-477A-BFD4-0BDE887CC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the Lam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La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088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19th cent. campmeeting song;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dapt. by Ellen Jane Lorenz,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77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he Lamb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ving Lamb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amb of Calva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80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amb that was sl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lives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intercede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6:53Z</dcterms:modified>
  <cp:revision>57</cp:revision>
  <dc:subject/>
  <dc:title>PowerPoint Presentation</dc:title>
</cp:coreProperties>
</file>