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014A-88F7-4DD3-A680-3D4BE8F3F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4930-A802-483F-BC71-9D9BEBE4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2BE7-E760-4690-B47D-AF155B984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FC52-3B4A-40E7-A4D3-7D7D6D6D0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A36F-0E23-42FB-B98B-B343E5EC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CBDC-0987-482F-908D-9AF5996F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5C76-90CB-4568-B79C-341034DE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B007-E5A1-4EE4-B099-F7B078F6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92FE-7E72-4DF5-850C-2C1827B1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5B39-5EC3-47DC-886C-FD65BC88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1166-DCAE-4F56-B10E-09C74A87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9CA7-00A0-4EA7-99F3-FFE4EDA0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8806-E2D2-425A-A95F-B8887AEA7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Word of God Incarn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O Word of God incarnat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Wisdom from on hig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Truth unchang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nchang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Light of our dark sky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ord of God Incarna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William W. How, 186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praise you f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radiance tha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the hallowed pag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lantern to our footstep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ines on from age to ag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The church from yo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Savi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ceived the gift divi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till that l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lift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’er all the earth to sh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ord of God Incarna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t is the sacr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vessel whe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ems of truth are stored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t is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aven-drawn pictu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Christ, the living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The Scripture is a bann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fore God’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st unfurled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t is a shining beac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bove the darkling wor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ord of God Incarna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t is the char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compass tha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’er life’s surging tid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id mists and rock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quicksand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you, O Christ, will gu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O make your churc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ear Savi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lamp of purest gol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bear befo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nation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true light as of o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ord of God Incarna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teach your wander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ilgrims b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their path to tr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, clouds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arkness end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y see you face to f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7:50Z</dcterms:modified>
  <cp:revision>99</cp:revision>
  <dc:subject/>
  <dc:title>PowerPoint Presentation</dc:title>
</cp:coreProperties>
</file>