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5FF-AFD8-427E-8729-B4A13850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5BE6-06E7-4320-AA09-46C5CEC6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8F2-3CF2-4BF1-ADAC-9B3A7825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2647-9A0A-4808-BB8F-8C66ECBC6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CE5-C085-42F4-BA02-9F77785C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DDA0-7E74-414D-93AE-1C843839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8CB-99FF-462F-9247-EAA062B9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B609-72DB-43B9-904C-2C548005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DF0-5F52-43FE-A86C-AB1BEB63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974-E3CB-448A-A5BC-746E170F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D305-3C92-4836-BC78-FD190510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A35-E5BE-4469-A980-3EB0106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E72F-753E-4E68-BF48-3C4E1C139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of Grace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of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od of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y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ur thy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 by permission of Elinor Fosdick D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 Harry Emerson Fosdick, 1930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ave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ak resign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evils we depl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sea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salv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our glory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ing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we adore,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 adore)</a:t>
            </a:r>
            <a:br>
              <a:rPr sz="48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ing thee whom we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n thine anci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urch’s sto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 her b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lorious fl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fac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is hour,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of this hour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facing of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o! the hos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evil roun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corn thy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sail his way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r and doub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o long have bound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e our heart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k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873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se days,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of these day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iving of these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ure thy childre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rring m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d our pr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contro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Grace and God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me our want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lfish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ch in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oor in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wis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cour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st we miss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dom’s goal,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kingdom’s goal)</a:t>
            </a:r>
            <a:br>
              <a:rPr sz="48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st we miss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dom’s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4:54:40Z</dcterms:modified>
  <cp:revision>84</cp:revision>
  <dc:subject/>
  <dc:title>PowerPoint Presentation</dc:title>
</cp:coreProperties>
</file>