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9B9-A807-42C0-BABA-A2516D6CE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F323-3BA8-437D-851C-91E6A2AD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98B-7953-4B5D-B8DA-C0A7A98C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C66-CDD4-4133-8FBD-D6F476AA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801-19DF-49D0-9913-5EDC4A9D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EA7-BAF8-4E01-91FA-C71FF4B8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B56-953A-45DB-BF19-6C6FDD9F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0C5-9AAA-4015-96F8-2FF67EC7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EE1-DB9F-41B7-B364-9A79ED18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E37-1472-4C56-A934-DB7C0D6D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C7D-31E8-4E78-A5F8-2F9423AA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0BB-D3A7-4A8F-B5AB-28CEC759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9E5F-D3FA-4A16-8588-ADE782974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sh Wednes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438280"/>
            <a:ext cx="8839080" cy="358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ker of every thing and judg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all that you have mad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h Wednes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8720" y="952560"/>
            <a:ext cx="4073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Laurence Hull Stookey, USA, 20th cent.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(Gen. 3:19; Ps. 51:10; 1 Th. 2: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rom the dust of the ear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have formed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from the dust of death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you would raise us u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 the redemptive powe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the cros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create in us clean heart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put within u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 new spiri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003320"/>
            <a:ext cx="868680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we may repent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our sins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and lead liv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worthy of your calling;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rough Jesus Christ our Lor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21:13:40Z</dcterms:modified>
  <cp:revision>16</cp:revision>
  <dc:subject/>
  <dc:title>PowerPoint Presentation</dc:title>
</cp:coreProperties>
</file>