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CC8-A90F-487B-B351-0F0D3246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772-2244-4A7B-98F5-0FA46FD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0C1-1F3A-4DE4-BA1C-971A86DC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9B8-91F4-4915-B207-A023F527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F6C3-4A1F-4041-85BD-538D3271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1344-8CA1-4B26-A975-E10BB4CB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6403-23DF-48F1-BD5E-EB8739FA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838-845C-46E9-B76D-C9B41BA8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182-5DE5-4E99-9545-3BF619CE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A60-12AE-4CA6-B446-0FEFBE6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9BA-E98F-44A4-AE73-1E03AF6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C71-4F94-47CF-A0EF-423CD1A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7218-CCA4-4E2C-A6FD-14BADFBE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the Healin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the N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or the hea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nati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we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8 Hope Publishing C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6320" y="1600200"/>
            <a:ext cx="39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 Kaan, 1965 (Rev. 21:1–22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ide of stat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ce, or schoo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gma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bscure your pl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4778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ur comm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quest for just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brief span,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fe’s brief sp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hal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brief s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You, Creator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, have writt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reat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humank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our gro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your like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ng the lif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to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by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sponse and serv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find,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may fin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its destin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 jus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qual sha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earth affor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a life of love in ac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dge our word,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ledge our wor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us 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dge our wor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ead us for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freedo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espa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world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, redee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war and hatr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ay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o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re and goo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will di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pe increase,</a:t>
            </a:r>
            <a:br>
              <a:rPr sz="5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hope increas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208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will di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pe incr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ll that k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undant liv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it from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be bann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Healing of the Natio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40:16Z</dcterms:modified>
  <cp:revision>19</cp:revision>
  <dc:subject/>
  <dc:title>PowerPoint Presentation</dc:title>
</cp:coreProperties>
</file>