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6946-CB86-40CD-9F14-4A0537DD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CB53-3046-4650-8588-401CBA60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7C9B-60A6-4DBE-A83B-682BE747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3199-FECF-4A26-A0A3-6092E1CD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9274-E104-4010-A6F2-34D43B18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3C60-EDD4-4B48-B8CB-53E6C16C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ECD7-D19C-4862-8A97-B94AA5DA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A792-C847-4DD2-989B-4324D631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C4C0-AA63-4E69-8492-9CC7084A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3F57-5D5E-4316-ABB3-1E029D0A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59BF-CA9A-4A89-89E4-2120B284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B583-6751-4323-AD29-CB4ED8F5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3BA8-9091-4092-8DF2-4A3958E5E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2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r the Spirit of Tru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ayer from Keny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438280"/>
            <a:ext cx="84582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rom the cowardice tha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dares not face new truth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rom the laziness tha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is contented with half-trut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Spirit of Tru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9320" y="2600280"/>
            <a:ext cx="84646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rom the arrogance tha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inks it knows all truth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ood Lord, deliver me.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7T15:44:18Z</dcterms:modified>
  <cp:revision>13</cp:revision>
  <dc:subject/>
  <dc:title>PowerPoint Presentation</dc:title>
</cp:coreProperties>
</file>