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838-AA02-4B2B-B550-AC6448B5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8EEC-9B45-47BA-AC15-D9FC1CF8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EDA-FF8E-4B85-9E1C-27AF6E29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506-5115-414F-B0E7-724B4142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11FC-02B0-4782-85BF-0693577A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743-6D0B-4ACA-AE2C-612013CB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7584-648C-43B8-86E6-0E170D58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60F-71E3-41C5-821E-B7446D10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3EB2-B284-45C9-B24B-1AC98614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C7AC-F9D4-43C7-82E0-83A06BE1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697B-0C37-4E23-B8AA-57128554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B077-C5A7-4736-873F-8EA2451E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26D6-C6DD-4EDD-96AB-F5C6DEA0F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urn Your Eyes upon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228600"/>
            <a:ext cx="12952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rn Your Eyes upon Jes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Helen H. Lemmel, 192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28800"/>
            <a:ext cx="9144000" cy="449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urn your ey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upo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ok full in 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onderful face,</a:t>
            </a:r>
            <a:r>
              <a:rPr b="1" lang="en-US" sz="5000" spc="-1" strike="noStrike" baseline="-25000">
                <a:solidFill>
                  <a:srgbClr val="ffff00"/>
                </a:solidFill>
                <a:latin typeface="Times New Roman"/>
                <a:ea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(wonderful face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Arial"/>
              </a:rPr>
              <a:t>© 1922, renewed 1950 Singspiration Mu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the things of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ll grow strangely d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the light of 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lory and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1:54Z</dcterms:modified>
  <cp:revision>105</cp:revision>
  <dc:subject/>
  <dc:title>PowerPoint Presentation</dc:title>
</cp:coreProperties>
</file>