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D190-0C3D-45E6-B0FF-14F5EE42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1E2-D1FD-4628-8574-48DFFB3F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124-675A-4313-B472-41BB1AE4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070-A7FF-4415-8D28-05F72062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A0D1-EE60-44F7-AE6D-19F3CF37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6B91-F813-4B9D-B4CA-6CD24609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EADA-B78B-42C1-8EE9-DAC3EFC5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8139-B22C-4958-A873-7D5C11FC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BEC5-DA7B-4447-AB07-20740891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7122-02E6-4A62-8F82-909DC2D3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B175-45E2-41EA-BDA7-2B69E64E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0E40-670E-44CF-8872-C136F3DB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6460-862C-49AE-BCC7-742D32894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esus Our Friend and Br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22860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esus our frien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broth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esus our frien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bro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Trans. © 1982 by Mennonite Leaders’ Counc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Our Friend and Br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8400" y="990720"/>
            <a:ext cx="7521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ttr. to Ova’hehe; trans. by David Graber and others, 1982 (Jn. 15:14-15)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 invites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 invites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ome togeth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ome together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esus calls us togeth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ome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18:41Z</dcterms:modified>
  <cp:revision>16</cp:revision>
  <dc:subject/>
  <dc:title>PowerPoint Presentation</dc:title>
</cp:coreProperties>
</file>