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C3A-8B1F-4386-A7C5-73EC5842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F9E-FD8E-440B-B7A7-18DE2152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83F-6AD3-49B8-B122-CD11B458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E08-ACA0-4DED-8041-83BEE88D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1E97-6C1A-4380-8B71-47B89200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2F6-136E-471E-BB08-9B4B44FF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BA95-6168-40B4-8DA7-96FB594B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7F0-5292-42D8-B5A1-E03CB543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7D1-1771-4504-8D15-DBB2E939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A63D-5881-4364-8EB7-5501F730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4A03-5E55-47C2-93EA-0929DFAD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44C-9BCA-4A70-A379-1DA88C85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5503-CB1D-40CE-9D52-37F6491DA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 What Their Joy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d Their Glory Must B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what their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ir glory must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se endless sabbath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lessed ones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81320" y="1600200"/>
            <a:ext cx="6275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Peter Abelard, 12th cent.; trans. by John Mason Neale, 18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whom, the Fath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 whom, the S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whom, the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m ever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wn for the vali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weary ones re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shall be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 all ever bl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ruly, “Jerusalem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we that sh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ity of peace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ngs joy 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sh and fulfillm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not severed t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do things praye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short of the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re, where no troubl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straction can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the sweet anthe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Zion shall s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for thy grace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voices of p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blessed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ly 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Now, in the meanwhi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hearts raised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or that count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ust yearn and must sig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king Jerusal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r native l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our long exi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Babylon’s str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Low before him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praises we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whom, and in wh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rough whom are 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hat Their Joy and Their Glory Must B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7:32Z</dcterms:modified>
  <cp:revision>57</cp:revision>
  <dc:subject/>
  <dc:title>PowerPoint Presentation</dc:title>
</cp:coreProperties>
</file>