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E5B-E577-4ED4-B836-36E5A7F0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108D-C0E2-4372-9526-1263E03B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66D-810E-4AC3-8BA3-613E3106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E2EC-44C4-4458-B07C-60B97214E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48C-D925-4A24-B1B3-BA1AC62D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069A-F8A4-4401-BCDA-761FF344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68F-A06D-4EDA-A967-C6C6F57A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0EDA-EBE9-4B9B-93DA-5C90170D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665-FA81-4D87-ABE0-BA7FD649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A34-962B-487A-863E-F3435EE5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978-F149-45B5-A4F5-FC805810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CCB5-5B5F-4AA7-B2CD-1B320066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DDEF-A6C2-4346-BF1A-ED305AEE4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53452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the Holy Trinity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Te Deum Laudamu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praise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reigns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d of 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the Holy Trin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8840" y="1776240"/>
            <a:ext cx="5973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4th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th cent. hymn; Response, Johann J. Sch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ütz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rans. by Frances E. C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47780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overc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ing of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pened the king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eaven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believ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You are seated at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God’s right hand in glory.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e believe that you will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come to be our jud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716040"/>
            <a:ext cx="8763120" cy="536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 then, Lor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help your peopl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ought with the pric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f your own bloo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bring us with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r saint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glory everlasting.</a:t>
            </a:r>
            <a:r>
              <a:rPr b="1" lang="en-US" sz="5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668600"/>
            <a:ext cx="861048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Save your people, Lord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nd bless your inheritan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vern and uphold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and alw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049480"/>
            <a:ext cx="8686800" cy="277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Day by day we bless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praise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for 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1668600"/>
            <a:ext cx="86868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Keep us today, Lord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from all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ve mercy on u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have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68600"/>
            <a:ext cx="868680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Lord, show us your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love and merc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we put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st in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606680"/>
            <a:ext cx="8763120" cy="372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In you, Lord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is our hop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 shall n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pe in vain.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109520"/>
            <a:ext cx="8686800" cy="481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e praise you, 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cclaim you as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ion worships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ther everlast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859040"/>
            <a:ext cx="86868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o you all angels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ll the powers of heaven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cherubim and seraphim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sing in endless prais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8874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ly, holy, holy Lor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od of power and might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aven and earth ar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ull of your glor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685800"/>
            <a:ext cx="8839080" cy="524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glorious compan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f the apostles praise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noble fellowship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f prophets praise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white-robed arm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f martyrs praise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85904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out the world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holy church acclaims you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ther, of majesty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unbound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859040"/>
            <a:ext cx="8534520" cy="317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r gloriou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rue and only Son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the Holy Spirit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dvocate and guide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1859040"/>
            <a:ext cx="81532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You, Christ, are th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King of glory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e eternal Son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of the F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859040"/>
            <a:ext cx="85345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hen you became incarnat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o set us fre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you humbly accepted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e Virgin’s wo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44:56Z</dcterms:modified>
  <cp:revision>29</cp:revision>
  <dc:subject/>
  <dc:title>PowerPoint Presentation</dc:title>
</cp:coreProperties>
</file>