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D9D-4EE6-4CC9-9BAE-7A55385B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E8D-0D41-4919-A232-A3F9795F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413-444A-416F-9A9C-001BB89A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395-BE36-4D40-88CA-7238905D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8B6A-B1BF-454D-BFF6-D6DF8BE3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339-A0D5-4DA9-8D16-40187BED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F85-C7F1-44FB-B9B8-AB016394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5C6-E3DB-4627-AEBE-B356BDE9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7B6-7413-466F-AF77-1E8FA994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9FD-B2FC-439C-B873-29693E6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3DA-4E49-4A6C-ABCB-2A0A5D0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2F09-19FD-469C-8657-C0988B50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B265-6162-49FD-95DF-C9ADD7D79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ow Blest Are The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Trust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ow blest a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ust in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e and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love must p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 The Hymn Society of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07800" y="1647720"/>
            <a:ext cx="3128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7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yield them u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go they m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do not l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m from our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 ripened 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harvest reap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gone from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th or pri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 they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leased from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onds of t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, who tas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for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ise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natural grief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Blest Are They Who Trust in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nes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ricken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ength and splend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l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11:26Z</dcterms:modified>
  <cp:revision>11</cp:revision>
  <dc:subject/>
  <dc:title>PowerPoint Presentation</dc:title>
</cp:coreProperties>
</file>