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FC9-B255-415D-A628-C49B9EA3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EE2-363A-49E4-B97D-E65FED54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FEAF-393C-461E-990E-B0F8F35F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FBF0-79E2-486A-90EB-676E8FF7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2263-2E6C-402C-BAB1-227FAD1E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57E-3820-4E93-9FE8-4270ABFF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5CB-712A-4D13-B0F3-0CC6E06C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284E-1553-4E70-8C3A-053BCEFF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F3C6-BC38-44A5-8069-D9BE6E4A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7183-2E36-42C9-9479-49658E59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0D1-3F9E-4E05-A6D5-C42EBC6C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E74B-AD71-4A40-8100-D1E131F8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AE1D-B58D-45FD-971B-C1651D542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228600"/>
            <a:ext cx="93726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’s a Widenes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God’s Mer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 There’s a widenes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 God’s mercy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ike the wideness of the sea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re’s a kindnes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 God’s justic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ich is more than liberty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0640" y="1523880"/>
            <a:ext cx="370584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Frederick W. Faber, 18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here is welc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sinn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ore grac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goo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 is mercy with the Savio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 is healing in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47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For the love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is broad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n the meas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our min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 heart of the Etern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most wonderfully 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If our love w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more simp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ould r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pon God’s wor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ur liv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uld be illumin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the presence of 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Wideness in God’s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6:29Z</dcterms:modified>
  <cp:revision>38</cp:revision>
  <dc:subject/>
  <dc:title>PowerPoint Presentation</dc:title>
</cp:coreProperties>
</file>