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CF2E-EDF1-46A6-B621-DADD242E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D389-47EF-4749-8889-9C65866E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FC80-C2E4-412D-BA4E-2002C32C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8A86-7F04-4F23-929B-CEA0ABB5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BDF5-B79D-4887-9454-3368A0A7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0422-F5C4-478E-B717-90E57F6B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A769-1571-4812-B57E-984C691F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9A5A-DA6C-4FC6-9223-94A2D9B4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BFC0-EFE6-4402-B2FB-22E63767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F1E8-3245-4985-8BD4-9F563AE6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CE6D-0955-4131-8480-2019189F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380-E70B-4088-9D09-236C85F1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010C-8613-4866-B4FD-1E54A3B33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8077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e Watchers and Ye Holy 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Ye watchers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 holy on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ght seraphs, cherub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ron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aise the glad str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Watchers and Ye Holy On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John Athelstan Laurie Riley, 19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y out, dominio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incedoms, pow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irtues, archangel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gels’ choirs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 higher th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herub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re glorious th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erap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d their prais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Watchers and Ye Holy O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bearer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’eternal W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st gracio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gnify the Lord: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Respond, ye sou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ndless r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 patriarch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rophets bl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Watchers and Ye Holy O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 holy twel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 martyrs str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saints triumph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aise the song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O friends, in glad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pern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thems echo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Watchers and Ye Holy On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od the Fa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the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d the Spi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ee in On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31:22Z</dcterms:modified>
  <cp:revision>30</cp:revision>
  <dc:subject/>
  <dc:title>PowerPoint Presentation</dc:title>
</cp:coreProperties>
</file>