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616-229F-4295-88E0-C4FD959E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4F1-E445-4953-B9E0-658595CE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AB4-A538-48D9-8BE9-B0EE77B1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D78-7CBD-465B-948B-389E9140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ED6-843A-4C01-B83E-0395FE9C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EC5-DFEC-4096-AA80-A26380EC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3615-2E78-4B77-B9E1-C21A5E7E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7B5-E6FF-474A-AF2D-9AE18F93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C89-3B5D-4292-83D5-C6929C36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C2CB-BD86-400D-A6EA-626EF9CC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3FC3-DCA8-4010-AED5-AEAFE790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8828-F5EE-4811-86C1-DFFF4C52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2A56-F931-4C61-A2C4-6C6C23E81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Thee Is Gla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In thee is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mid all s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suns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e Is Glad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4520" y="1092240"/>
            <a:ext cx="8297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ohann Lindemann, 1598; trans. by Catherine Winkworth, 1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e are 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ifts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the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er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uls thou mak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bonds thou break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rusts thee sure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built secur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ands forev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are pi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y shi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ying or l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are cleav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ught can us sev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f God be ou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fear no pow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t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 sin or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e Is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sees and bles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worst distres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an chan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m in a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fore the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of God’s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eart and voic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heaven rejoic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ing forev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hout for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umph o’er s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ing and pra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ices still rai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 hymns forev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11:26Z</dcterms:modified>
  <cp:revision>32</cp:revision>
  <dc:subject/>
  <dc:title>PowerPoint Presentation</dc:title>
</cp:coreProperties>
</file>