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541-A339-47B7-80CB-B61F11EB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5C5-01B7-40AF-9BE2-DCBFA157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6590-4372-4A63-9E42-6AE0B623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C7F1-136C-4BE0-8E5B-B78D5E4B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F21-62E3-463D-B04B-5EA3552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6BC-372A-4CA1-B41D-9C98B738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7C0-1920-4516-BEDB-F21EF59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D07-3CB9-49FE-B23D-958671E1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93E-C0E7-42E1-89B0-75A89F6C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8B1-261E-4778-9CBC-3C577DC7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B5FB-0E8E-4EAF-91DB-17D6D5B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E9C-B84D-4B6F-8E25-7440A61E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8D4A-BEE1-466C-BBEC-0E0FB22D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pirit of Faith, Come D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Charles Wesley, 174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pirit of faith, com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eal the thing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make to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Godhead 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itness with the b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s thine the blood to app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 us eyes to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d for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ner di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th surely died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No one can truly s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Jesus is the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less thou 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eil a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breath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v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, only then, we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interest in his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ry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Thou art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God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O th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ld migh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all-atoning Lamb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pirit of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cend and sh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virtue of his na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f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ng power, im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stify to humank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eak in ever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it of Faith, Come D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Inspire the living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(which whosoe’er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witness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mselves they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consciously believ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aith that conquers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o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ain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aves whoe’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Jesus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rfects them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6:16Z</dcterms:modified>
  <cp:revision>87</cp:revision>
  <dc:subject/>
  <dc:title>PowerPoint Presentation</dc:title>
</cp:coreProperties>
</file>