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4DA-83C7-426E-B870-D64D4A9C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E4F-01FC-46E8-B4FD-9E13A13B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B03-2EE9-43C6-8FF5-A8DBDCE6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700-AACB-4B24-9CA7-831AA00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E55-C4C4-4EE6-82EE-338C76BA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DDC-D77C-46CD-9651-6F329CCF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049-562C-4B8C-A6FC-96D89E1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A80-A1D1-4841-AB96-49FF8DA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D19-A56E-44AB-ACB2-14DFA8FE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E51-44F4-457C-B19F-A75CE7E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CAA-A577-444D-9BCA-2B83EE4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36E-6E60-4F74-9E9F-B7C2AC61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B13B-B8E6-4703-B5C4-27100880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Child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at child is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, laid to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ary’s lap is sleep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26960" y="1143000"/>
            <a:ext cx="64886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William C. Dix, 1865 (Lk. 2:6-20; Mt. 2:1-12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angels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nthems sw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 are keeping?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hy lies h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mean est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x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s are feed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Christians,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inners 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d is plea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o bring him incen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ld, and myrr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peas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, to own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enthron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908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, this is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m shepherds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e, haste to bring him lau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e, the Son of M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hild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08Z</dcterms:modified>
  <cp:revision>66</cp:revision>
  <dc:subject/>
  <dc:title>PowerPoint Presentation</dc:title>
</cp:coreProperties>
</file>