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DC89-4DC0-4352-A0E6-A9E565C59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DB94-E4B9-42DA-8081-CF0BEF78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93FA-23AF-4D08-B8C7-62665FA5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0815-0A75-41B8-9211-C885CC3A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3B91-5C35-417D-A17A-44827CAB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F5C9-54F0-490E-B691-E5640C14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8C86-E966-405E-87FF-DFE40EB6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A1DB-DA8E-4B7C-92EB-585511BE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3004-7792-4852-BB3B-97131157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3B31-7504-4CA9-9371-A336C31C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45D3-78DC-4211-B066-F308FCE6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DAB8-3BFB-4770-A05E-E2D768DE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67A4-B42A-43F8-8DDF-A6E2437F7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ind Who Make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l Winds That B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82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Wind who makes all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winds that blow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gusts that bend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he sapling low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83 Thomas H. Troeger, by permission of Oxford University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d Who Makes All Winds That B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47000" y="1749600"/>
            <a:ext cx="4050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Thomas H. Troeger, 1983 (Acts 2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ke our hear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 altar pyr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indle them w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own fi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eathe and bl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pon that blaz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our liv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deeds, and way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eak that tongu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ch every l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your gr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underst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ales that hea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ea in wav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rrings in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ind’s deep caves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im your brea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steady pow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your churc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day, this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aise, renew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fe we’ve lo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irit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Penteco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Fire who fuel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fires that bur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uns around whi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lanets tur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d Who Makes All Winds That B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acons mark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efs and shoal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ining truth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uide our souls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e to us a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ce you cam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rst in tongu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sacred fla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ght and Pow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ight and Streng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 your churc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s breadth and leng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Holy Spir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nd and fla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ve within 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rtal fr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666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nd Who Makes All Winds That Blow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29:35Z</dcterms:modified>
  <cp:revision>11</cp:revision>
  <dc:subject/>
  <dc:title>PowerPoint Presentation</dc:title>
</cp:coreProperties>
</file>