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541-F743-4C1D-9D24-3690B15E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626-7D54-4CAF-A3B5-7F332676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0A74-E33C-4857-8919-2A587E3F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118D-D3AD-4A69-BEED-09925DB4F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D14-B379-40A7-8F4E-547D4549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EB95-7C15-49CF-A7B0-5FF18A48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B96F-CC2E-496F-A9F1-391E2FDF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836-4D20-4A5F-8D46-1B75038C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A30-9A47-4D3D-B867-EA6276E7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18DA-0EA0-4FE8-9AA2-D70DB88E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2F86-58E1-4260-894B-86865C6E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3DA-9880-41C9-8485-A9576BF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1357-9A17-478C-A827-D458DA698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d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85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Merciful God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you sent your messenger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the prophet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to preach repentance and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prepare the way for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our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6600" y="1028880"/>
            <a:ext cx="602064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Book of Common Prayer;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alt. by Laurence Hull Stoo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67652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Give us grace to heed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their warning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and forsake our sin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that we may celebrate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aright the commemoration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of the nativit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09692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and may await with joy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 the coming in glory of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 Jesus Christ our Redeemer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who lives and reigns with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 One God, forever and ever.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  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4:59:56Z</dcterms:modified>
  <cp:revision>52</cp:revision>
  <dc:subject/>
  <dc:title>PowerPoint Presentation</dc:title>
</cp:coreProperties>
</file>