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AEF-6D73-4CE2-AD73-E9940C03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11E9-D4C4-4895-A1F2-3A0597CE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F66-262B-4C57-BEBE-099131A4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1139-A4D1-4694-AF90-520061CA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F5D-E5C6-4929-BC70-881B89A0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F05-28EB-41B9-877A-1DE1F587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85B-B1EC-4F08-B035-822234EF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5DB-136A-4515-A697-4FB81DA2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CD0-8934-4010-ACE2-531A2C90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601F-DBCF-4F00-B16E-4B36DC12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DE7-1AF7-4101-A812-5A3F0FC5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019-611E-4207-B87C-F5288B84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1A4F-A76F-47F0-9D44-C2B410B85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y God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My God, I love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because I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heaven thereb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yet because, if I love no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must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11960" y="990720"/>
            <a:ext cx="5313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Latin 17th cent.; trans. by Edward Caswall, 18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ou, O my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dids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pon the cross embr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e didst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ails and sp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nifold dis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n why, O bl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 I not love thee well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for the s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winning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of escaping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Not with the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aining au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seeking a re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as thy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t lov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everlasting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So would I love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arest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thy praise will s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thou 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loving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y eternal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God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2:58Z</dcterms:modified>
  <cp:revision>11</cp:revision>
  <dc:subject/>
  <dc:title>PowerPoint Presentation</dc:title>
</cp:coreProperties>
</file>