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427-3023-46CA-9876-943328D5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318-0995-4E39-9E96-274E1A5B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926D-8AC8-4C83-9633-16DCC2B3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F6E-F034-45B7-A5AC-D23F1226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8BFE-FE36-4FDE-B316-DF232846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4DF-21B3-401D-8D0B-E383834E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E7D7-8D6F-4F09-A393-092F6BD6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C198-E9C0-4B02-8741-188C8658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8B7-5E99-4054-B743-69D1DEBA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BDB-4843-4122-90F0-CF21B97C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5F9-7117-4011-A690-9654E93C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3EB-39C2-47EF-A021-D955D6C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0DA5-EB86-4821-A071-64313AEB2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pare the Way 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Lord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epar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the Way of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2880" y="1066680"/>
            <a:ext cx="33782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Isaiah 40:3; 52: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2860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90920"/>
            <a:ext cx="9144000" cy="353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all peopl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see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alvati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5909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457200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09Z</dcterms:modified>
  <cp:revision>55</cp:revision>
  <dc:subject/>
  <dc:title>PowerPoint Presentation</dc:title>
</cp:coreProperties>
</file>