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8DE-F5C1-4E29-94FC-1DC9E90C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0AB3-3E51-42ED-A8F3-45BC496C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F0E-09F4-48F5-9516-D0701B2E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C49-F76A-4250-8BEC-15BE43F9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7EB-9843-4AB2-8439-54AFCAEE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84D-098C-42D0-B6C1-9F5D1B56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7781-A5B9-4F70-9748-31BC16CC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06E-6698-4423-A270-1E725BE0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F824-3D7F-4D48-901E-205E66B5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B8D8-AE34-4B9C-895C-39045F3B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5EE1-1FAD-476F-BE15-DBB2FB27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75EB-58C0-4C07-89D7-58D7CA6B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3CF5-D60B-4A9D-8581-2A83A9D22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He Touched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6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hackled by a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vy bu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ath a loa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uilt and sham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3  William J. Gai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2440" y="1066680"/>
            <a:ext cx="5751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William J. Gaither, 1963 (Mt. 8:3; Mk. 1:41; Lk. 5:1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the hand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longer the s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ince I m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blessed Savi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ince he clean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ill never cea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prais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hout 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eternity roll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he touched 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 the jo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floods my sou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Touched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mething happen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ow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touch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ade me who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0T18:53:59Z</dcterms:modified>
  <cp:revision>15</cp:revision>
  <dc:subject/>
  <dc:title>PowerPoint Presentation</dc:title>
</cp:coreProperties>
</file>