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676-B432-464E-B733-585AB7E5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121-8AEC-48F9-9E69-B0F09359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BEC-B32B-495F-8C38-F5D683DE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28ED-886A-42C8-B92A-2E29AB6F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0B30-05DD-4ABD-9168-295980F5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0B7-D106-48B2-864A-9328F994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451-7346-4D3E-AC1E-2DDE2FFF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0D56-603D-4AAC-BC2A-0C93B595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5B0-C1C4-46CB-88FD-A6755578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AC59-5F03-4E96-A5C1-7998290D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9464-40C5-49E4-918F-EE7EB220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42A-E29A-4355-8680-FCAD64A1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2DAA-CC65-47D9-AAF7-071B55198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 Are Climbing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acob’s Lad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4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e are climb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acob’s ladder;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climb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acob’s ladder;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20480" y="1600200"/>
            <a:ext cx="4809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frican American spiritual (Gen. 28:10-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climb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gher, higher;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climb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acob’s ladd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68600"/>
            <a:ext cx="9144000" cy="34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Every round go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gher, higher;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round go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gher, higher;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round go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gher, high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68600"/>
            <a:ext cx="9144000" cy="34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inner, do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my Jesus?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ner, do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my Jesus?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ner, do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my Jesus?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668600"/>
            <a:ext cx="9144000" cy="34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f you love him, w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serve him?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you love him, w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serve him?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you love him, w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serve him?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ldiers of the cros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668600"/>
            <a:ext cx="9144000" cy="342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We are climb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gher, higher;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climb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gher, higher;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yes,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Are Climbing Jacob’s Ladd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1:36Z</dcterms:modified>
  <cp:revision>9</cp:revision>
  <dc:subject/>
  <dc:title>PowerPoint Presentation</dc:title>
</cp:coreProperties>
</file>