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753-C46E-4B40-BEC1-6A28FCF0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9F0-F3D1-45F3-96BC-B2837D78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110-2F94-4F8D-AF12-D0DD2288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867-7B29-4F69-995A-C8E4554D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7E8-A56D-4F98-B584-8B501394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489A-091B-4E83-9036-75D08AF2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F6A-3B82-442B-B7FC-8CFAB532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92E-0EC1-4201-A3FB-56807D5B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4E6-9A92-4D2C-9D5B-9148F2A8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C38B-5710-4E47-987F-AB7A8E9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595-819C-41BA-9D08-7292652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4D0-D6D7-4D68-8F38-11B6BEAA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954B-D652-48F2-87CF-D626B16FA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S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286000"/>
            <a:ext cx="8610480" cy="43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lmighty Go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you have knit together your elect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one communion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and fellowship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the mystical body of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your Son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S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5720" y="111456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590920"/>
            <a:ext cx="891540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Grant us grace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so to follow your holy saints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all virtuous and godly living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that we may come to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those unspeakable joys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2743200"/>
            <a:ext cx="891540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which you have prepared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for those who sincerely love you;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9:52Z</dcterms:modified>
  <cp:revision>21</cp:revision>
  <dc:subject/>
  <dc:title>PowerPoint Presentation</dc:title>
</cp:coreProperties>
</file>