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CA3A-3793-4BC3-A1E1-E4F0BECCB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D4E8-5824-495D-8392-D5B50CBB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A24E-6FDB-4B83-8032-3CA29FC26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EB22-BE75-49BC-9E08-CE79339DA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B6DC-15D6-4DE3-87ED-29DFD5ED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2287-FA34-4446-BDF8-39ED1FFC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6DED-4DE8-444D-90E8-7994E539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A13E-38B1-46D9-B885-8DE1A326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DBC7-A548-488D-B385-35E00B89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206D-EBB5-449F-82A5-90C7DB44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011D-8FDF-4BE0-9F97-86AAD16E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180D-FA97-4034-865F-1891AF91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5105-E7EE-47D2-AF46-A0ED078AE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19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en We Are Living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Pues Si Vivim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5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914400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WORDS: St. 1, anon., trans. by Elise S. Eslinger, 1983; sts. 2, 3, 4</a:t>
            </a:r>
            <a:br>
              <a:rPr sz="1400"/>
            </a:b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Roberto Escamilla, 1983, trans. by George Lockwood</a:t>
            </a:r>
            <a:r>
              <a:rPr b="1" lang="en-US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1987 (Rom. 14: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133720"/>
            <a:ext cx="9144000" cy="413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1. When we are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in Christ Jesus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when we’re dy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it is in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Trans. © 1989 The United Methodist Publishing H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3560" y="1600200"/>
            <a:ext cx="7750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1. Pues si vivimos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para Él vivimos y si morimo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para Él morimos.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Sea que vivamos,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o que muramo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236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es Si Vivimos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es Si Vivimos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752480"/>
            <a:ext cx="8763120" cy="238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es Si Vivimo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04948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120" y="1219320"/>
            <a:ext cx="560016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En esta vida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frutos hemos deda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La obras buena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n para ofrenda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a sea que de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que recibamo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es Si Vivimos (Estribil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828800"/>
            <a:ext cx="8763120" cy="238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es Si Vivimos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04948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1066680"/>
            <a:ext cx="48412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En la tristez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n el dol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bellez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en el am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a que sufra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que gocemo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es Si Vivimos (Estribill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1676520"/>
            <a:ext cx="8839080" cy="238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es Si Vivimos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04948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1143000"/>
            <a:ext cx="55468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En este mundo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hemos de encontrar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ente que llora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y sin consolar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ea que ayudemos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 que alimentemo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es Si Vivimos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Estribill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914400"/>
            <a:ext cx="8686800" cy="472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Estribi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Co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somos del Señ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576520"/>
            <a:ext cx="9144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oth in our liv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n our dy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752480"/>
            <a:ext cx="8610480" cy="238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We Are Living (Refr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(2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04948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2360" y="1295280"/>
            <a:ext cx="700056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2. Through all our l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our fruits must give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Good works of service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re for offering.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we are giving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when receiv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752480"/>
            <a:ext cx="8610480" cy="238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04948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4920" y="1219320"/>
            <a:ext cx="65174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3. ’Mid times of sorrow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and in times of pain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n sensing beauty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in love’s embrace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hether we suffer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sing rejoic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828800"/>
            <a:ext cx="8153280" cy="238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049480"/>
            <a:ext cx="914400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1080" y="1066680"/>
            <a:ext cx="713484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4. Across this wide worl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shall always find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those who are crying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ith no peace of min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but when we help them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or when we feed them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We Are Living 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09692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838080"/>
            <a:ext cx="8305920" cy="480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Co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,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Times New Roman"/>
                <a:ea typeface="Arial"/>
              </a:rPr>
              <a:t>we belong to G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27:30Z</dcterms:modified>
  <cp:revision>118</cp:revision>
  <dc:subject/>
  <dc:title>PowerPoint Presentation</dc:title>
</cp:coreProperties>
</file>