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C51-9E8F-4AAC-846C-79DF3760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9BA7-5A9D-48E4-A826-00636456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BAC-1A96-4841-B45B-1FB177F0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798-19F4-428A-9B41-47A5AE306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58A-BD56-4187-8AF3-67C03D3D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34B2-4B70-4105-9AF3-3D9E7EC0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05D7-F1D0-481C-B4A2-57E07AAB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9EF-52F6-4CC1-BE0A-55B29339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154-BE35-4259-9074-04FEC2F6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CB5-411B-4B70-9454-9D5E95B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D47B-A040-4229-A75D-5FC4BA9E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3F1-8EC1-46B1-A586-7E6F534C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FF15-5E74-43A6-AE22-79123E252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, upon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untain Pe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, up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 p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s al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glory blaz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7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1573200"/>
            <a:ext cx="6496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Brian Wren, 1962 (Mt. 17:1-8; Mk. 9:2-8; Lk. 9:28-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, if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e to spea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aint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praise him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rembling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t we sa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e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ijah spea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proph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la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ut through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ful greet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wift the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lory c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proclai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thu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a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by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ions, cry a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wond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is is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oved So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w and proph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de before h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upon the Mountain Pea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st and l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ly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dore him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59:31Z</dcterms:modified>
  <cp:revision>22</cp:revision>
  <dc:subject/>
  <dc:title>PowerPoint Presentation</dc:title>
</cp:coreProperties>
</file>