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44E-82C2-48C2-89D2-9E64ECFD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232-41BB-43B1-98B8-65A4AE65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292-5CAA-4F36-BEDB-61269D2D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6DE-9346-4E98-A4EB-6D9A2A62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1E0-5EAA-4948-9D89-63CD3AFE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74D-DFAC-4AC8-A8A1-4F99B543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E3E3-31BD-4DCD-AF8D-D1BAA899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5E0-0684-4240-B6CF-F0F82520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6661-A401-4B32-8B71-84EB4096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9DB-A03E-4AF9-9DAB-F6B1DC88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9E09-3875-4272-83A9-00CB4A1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8CA-0A6B-4F16-BA7A-6B83858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3A3D-9BA4-44A7-83CB-B285EE122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ans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523880"/>
            <a:ext cx="8839080" cy="522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ol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pon the mounta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ou revealed our Messia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who by his death and resurrec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ould fulfill both the la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the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1166760"/>
            <a:ext cx="7756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aurence Hull Stookey, USA, 20th cent. (Mt. 17:1-18; Mk. 9:2-8; Lk. 9:28-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y his transfigur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nlighten our pa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we may dare to suff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him in the servi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human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o share in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rlasting glory of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 for ever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58Z</dcterms:modified>
  <cp:revision>14</cp:revision>
  <dc:subject/>
  <dc:title>PowerPoint Presentation</dc:title>
</cp:coreProperties>
</file>