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807F-80DB-442B-ADDE-82C80F426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C4BA-68E7-4F68-A460-22B6960D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9531-53D4-4AA3-AFA1-53739BFF0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875A-BBFA-4360-96EE-5938B329E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16D9-02B0-4822-808F-9150749C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75DE-5B5E-433B-A10E-0971F872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6609-A570-4707-9F96-DBBECCD9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DB38-C4DF-45D5-B276-235DE4A4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DB1E-CE03-4DEE-A34E-0EA7A069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D679-BF41-4EA2-864A-A2583AFA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1A8A-6498-41E3-A230-3AFFDD10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0939-A64F-406D-B68D-50A7A49E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1F20-04D3-4D23-8EFD-7755A15FE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10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Sing a Song of Bethleh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17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 sing a s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Bethlehe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shepherds watching the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of the news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me to th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angels in the ai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ing a Song of Bethlehe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39440" y="1066680"/>
            <a:ext cx="408528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WORDS: Louis F. Benson, 1889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ight that sho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Bethleh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lls all the world toda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Jesus’ bi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eace on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angels sing al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O sing a song of Nazare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sunny days of jo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sing of fragr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lowers’ brea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of the sinless B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ing a Song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now the flowe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Nazare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every heart may grow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spreads the f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his dear n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all the winds that b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O sing a song of Galil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lake and woo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i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him who walk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pon the se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ade the waves be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ing a Song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ough like wav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Galil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ark seas of trouble ro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faith has hea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Master’s w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lls peace upon the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O sing a song of Calva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s glory and dism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him who hu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pon the tr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ook our sins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ing a Song of Bethleh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he who di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Calva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risen from the gra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Christ, our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heaven ador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mighty now to s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5:45Z</dcterms:modified>
  <cp:revision>8</cp:revision>
  <dc:subject/>
  <dc:title>PowerPoint Presentation</dc:title>
</cp:coreProperties>
</file>