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C5DE-77AE-4514-A1DF-58BC216A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885F-423D-44FA-B86E-F4EB044B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7078-AF66-4666-A313-664CE9FE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3771-B90D-496A-AA2F-8A8257F0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E791-59DE-486E-8CFD-04D6BD12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3890-8AC5-445B-8969-7A385D5F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6E2B-E5E4-4F6F-852B-AE922FCC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8B7D-7A12-495A-B259-E7E719AF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8BDB-8ACE-4C2C-9582-7669BD4C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9B8F-A1E6-4717-9ED1-753C3EDA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E202-6B3A-431D-92A8-7C9EF5C0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0CD4-BF36-4334-ACCB-204D05E9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EA07-9D09-46BF-810D-67C8EBBEA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58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 Creatures of Our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d and King</a:t>
            </a:r>
            <a:br>
              <a:rPr sz="40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Francis of Assisi, ca. 1225; trans. by William H. Draper, 1925, adapt. 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348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All creature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God and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p your voi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ith us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dapt.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Creatures of Our God and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438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Dear mother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day by d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foldest bless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our w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Creatures of Our God and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flowers and frui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in thee gr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m God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also show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0574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Creatures if Our God and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All ye who 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ender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giving oth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your p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Creatures of Our God and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 who long p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orrow b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God and 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m cast your ca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2096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Creatures if Our God and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6. And thou, our sist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entle d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iting to hus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latest br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Creatures of Our God and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leadest h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hild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hrist our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ay has tr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0574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Creatures if Our God and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7. Let all th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Creator bl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orship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umble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Creatures of Our God and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brother su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golden bea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sister mo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silver gleam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, praise the Fa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raise the Spi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ee in 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21337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Creatures if Our God and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4382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Creatures if Our God and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810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 brother wi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ir, clouds, and r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which all creatur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 sus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Creatures of Our God and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rising m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praise rejoi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 lights of eve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nd a v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1337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Creatures if Our God and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09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O sister wat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lowing cl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music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Lord to h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Creatures of Our God and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brother fi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lights the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oviding warm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hancing s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1337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raise y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Creatures if Our God and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18:41Z</dcterms:modified>
  <cp:revision>12</cp:revision>
  <dc:subject/>
  <dc:title>PowerPoint Presentation</dc:title>
</cp:coreProperties>
</file>