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EC6C-EA17-490B-BD11-553D872F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9DE-C6BE-472D-8555-9E45558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2C8-BEC7-4E66-AAF3-5A28DB33E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932F-1C68-47FC-AE0B-04B4523C6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769-A196-479F-80BA-FA661826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AC1-E031-43E9-84A3-873E383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C658-FC87-4CEA-9709-47820F5F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0E0-8160-4CDB-8C2C-FB1CBA96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5DF2-A10F-4D09-AAE5-F93E0E2C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249-EF71-4727-9558-0E5234C4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C06-D376-465D-AE5B-92F489D0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285-E3DD-41A0-A597-DB6A4A9B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14E2-3DC0-405C-BADA-2302566D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Holy Ghost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Our Hearts Insp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Come, Holy Ghos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earts insp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us thi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fluence pr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urce of the 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ophetic fi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untain of life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Come, Holy Gho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(for moved by th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rophe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ote and spoke)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lock the tru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self the k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seal the sacred book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Expand thy w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lestial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rood o’er 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ature’s n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ur disorder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irits m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et there now be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God, through the Spiri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ha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f thou within us shin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Holy Ghost, Our Hearts Inspir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und, with 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saints bel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depths of love div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4:48:09Z</dcterms:modified>
  <cp:revision>104</cp:revision>
  <dc:subject/>
  <dc:title>PowerPoint Presentation</dc:title>
</cp:coreProperties>
</file>