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2BF-E73C-4C05-BF05-4AFBF580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E117-63EA-443E-A844-EAD77317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075-BF22-46FD-900D-6648146C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AD1-BD67-417F-BDE6-165D2C008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4FC-D064-4180-932D-B55B5ADF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5BB-B142-4EE9-B5CF-0BE158E1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A97-DCB8-4A2D-9D10-F8D024CE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363-8A39-407F-9959-34A0C712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1190-A10F-46C5-B6CD-3635B789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740E-242E-46A0-AFF4-48EA02F1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272-1FD6-45A6-A6A9-6E9AADE8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0AE-AB62-425E-8560-80BB5EFD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340B-3B6F-4BB5-BA8F-9EC731C5E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f Thou But Suffer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God to Guide Th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If thou but suff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to guid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hope in G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all thy way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720" y="1600200"/>
            <a:ext cx="8228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Georg Neumark, 1657; trans. by Catherine Winkworth, 1863 (Ps. 55:2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will give strength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ate’er betide the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bear thee thr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evil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461240" y="3433680"/>
            <a:ext cx="622188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trust in God’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nchanging lo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ilds on the roc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naught can m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Only be sti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wait God’s leis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cheerful hop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eart conten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ake whate’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y Maker’s pleasu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ll-discern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ve hath sen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35200" y="3433680"/>
            <a:ext cx="56718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e know our inm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nts are know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e are ca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 God’s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ing, pray, and keep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’s ways unswerving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do thine ow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part faithfully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Thou But Suffer God to Guide Th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rust God’s word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undeserv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 yet shalt find i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rue for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2120" y="3433680"/>
            <a:ext cx="563652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never ye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sook at ne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soul that trust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nde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7:38:09Z</dcterms:modified>
  <cp:revision>36</cp:revision>
  <dc:subject/>
  <dc:title>PowerPoint Presentation</dc:title>
</cp:coreProperties>
</file>