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D87-EF6E-4B7E-848C-431D2A0B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3EC-764C-46E7-A438-89556218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08E-CC32-41C7-B94D-3E85CDB5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AB3-D098-48C5-B93C-467D77A97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8F9-2BD7-4387-A29D-4F02A7B3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9BAF-1193-4B0E-A224-027FA9D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BFF9-4DEB-4270-836E-B36F551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DB1-8BAE-4B21-B977-5F69352F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C41-0B40-45C0-A5DC-4721909E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8C0-8998-4266-B964-D803811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F531-BAF4-4CE3-9F5E-962257E5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CF7-D8C8-4101-A731-BDCE7590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14D6-5B4A-40F3-9029-27661A20E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nce in Royal David’s 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nce in royal David’s c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ood a lowly cattle 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a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id her ba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manger for his b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16720" y="1116000"/>
            <a:ext cx="5123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ecil Frances Alexander, 1848 (Lk. 2:7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ry, lo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ther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little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 came d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earth from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is God and 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shel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 a st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s cradle was a st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corned, the low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d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avior ho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 is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ildhood’s patte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 by day, like us he gre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as lit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ak, and help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ars and smile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us he kne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feel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sad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sha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glad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our ey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last shall se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hi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eming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at chi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ear and gentle is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in heaven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e in Royal David’s Cit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 l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children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pla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he is g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9:30Z</dcterms:modified>
  <cp:revision>10</cp:revision>
  <dc:subject/>
  <dc:title>PowerPoint Presentation</dc:title>
</cp:coreProperties>
</file>