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955-06D0-4F30-AD48-036A5757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6A9-6F72-4436-B053-96C5D3677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A09-CF0A-4B35-B4DE-340883A5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B93-813C-45C1-A4B2-8D69439D7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288-33A2-4CDC-A8C8-4765C0C1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F3A-84F4-4BE4-BFA3-81315E57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8F8-42E1-4930-8F70-943B61ED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120-38A1-4D5C-ABF8-0DB8D964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36D-8C20-4143-9963-BF852375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70F-EE6B-467C-B2B5-C3EBC85F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2A1-5A34-44A7-AC32-BE159677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4025-23AB-4045-B78B-15C025CD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3CAC-72C3-4670-A282-5184651F7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Asc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666880"/>
            <a:ext cx="8839080" cy="375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Everlasting God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your eternal Christ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nce dwelt on earth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confined by time and sp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ecff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sc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990720"/>
            <a:ext cx="7543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Laurence Hull Stookey, USA, 20th cent. (Lk. 24:51; Acts 1:9-11; Eph. 1:16-2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29528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Give us faith to discern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in every time and place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the presence among us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f him who is head over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all things and fills all,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even Jesus Christ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Times New Roman"/>
              </a:rPr>
              <a:t>   our ascended Lord. </a:t>
            </a: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22Z</dcterms:modified>
  <cp:revision>23</cp:revision>
  <dc:subject/>
  <dc:title>PowerPoint Presentation</dc:title>
</cp:coreProperties>
</file>