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74A-C993-4E67-947C-D8B078EB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1A0-DF19-4E64-B386-480EC7B2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B5B-5460-44BE-8396-F5C5C56A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AC6-7E19-4C32-B2E1-1FDE344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B28-9384-48F1-9D6F-80B0C6A2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F14-3EAA-4427-82F0-B2EA5495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A5A-D1C4-4E46-95A5-1AEB0D88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019-14BC-4016-A905-1B177B28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122-6A08-4117-99D8-50E997A7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6E80-06DC-47D3-A437-15FD4C44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569-892C-4495-9330-0081FD6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D34-F4C1-4241-B284-F331B1DF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92E6-5748-4C12-AB20-0A3175E46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ock-a-Bye, My Dear Little B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5014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ock-a-b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ear little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little b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 of wond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blessing and jo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87 Jaroslav J. Vaj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48880" y="1116000"/>
            <a:ext cx="566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zech carol; trans. by Jaroslav J. Vajda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umber as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ntly hol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y t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enfold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 of God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 in my arm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s so peacefully curl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ittle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an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born to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-a-Bye, My Dear Little B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I rock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mly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guards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 are keep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cious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day we shall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love has destin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ou an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27Z</dcterms:modified>
  <cp:revision>10</cp:revision>
  <dc:subject/>
  <dc:title>PowerPoint Presentation</dc:title>
</cp:coreProperties>
</file>