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62B-97A0-4835-86FB-15E26389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19AA-F084-49DC-8C9F-71B36EDB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28F-AB45-4FE1-90C5-00F7C4A7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2C32-EC6B-4497-AB1F-A570E531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F9A-C603-4307-88CF-5F3049B6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DE73-11A4-4F3C-A9A4-3D1D77F0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0CF-26C4-41DC-91FC-BEF05921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94D-D433-4498-BC26-639FFE71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D06C-93CA-4CEA-854D-441AAC56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C11-4EF7-4BC9-BEEF-B581D123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3417-EB79-4663-8FC7-0D35052F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7496-EACE-4FB1-A17D-F8295C0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7761-5FB5-4365-B06B-517F60BC6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Be Thou My 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cient Irish; trans. by Mary E. Byrne, 1905;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versed by Eleanor H. Hull, 1912,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Be thou my vi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 of my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aught be all else to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e that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my best tho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day or by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king or sleep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presence my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Be thou my wis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ou my true w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ever with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ou with me,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and thou on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rst in my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God of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treasure thou 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 Thou My Vi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Great God of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victory w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y I reach heaven’s jo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bright heaven’s S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of my own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atever bef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ill be my vi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Ruler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40:51Z</dcterms:modified>
  <cp:revision>150</cp:revision>
  <dc:subject/>
  <dc:title>PowerPoint Presentation</dc:title>
</cp:coreProperties>
</file>