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2D1-193B-4B22-B511-E558E83D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97E-4982-4CB8-9672-8402B2FB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96E-62B6-4A25-BE28-FF974241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081-C198-4A64-9AB2-F72E4253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5A5-73AC-4C9C-9DB4-49B8FAA3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7D02-F4FF-42BD-AA9D-F3026CA1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5B28-706C-4051-B4C0-3166068A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A64-C472-4EE4-AB42-E6120254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303-930E-44C6-9009-15A2AFBB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6A9-7ACA-42D3-BAAC-915186EA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CA8-115C-4AFF-9CFE-1E88D7A0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E1E-4D7C-4B7A-9FB3-261A39CB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623C-DF3B-4B8B-9738-369E7EB99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 Has Venido a la Orilla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ord, You Have Come to the Lakesh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esareo Gabara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n; trans. by Gertrude C. Suppe, George Lockwood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Raquel Gutiérrez-Achon, 1987 (Mt. 4:18-22; Mk. 1:16-20; Lk. 5:1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1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. Tú has venido a la orilla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o has buscad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i a sabios ni a rico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an sólo quieres que yo te sig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79 Ediciones Paulinas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87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4. Tú, pescador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e otros mare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nsia eterna de alma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que espera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migo bueno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que así me llama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Lord, you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 the lakesho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oking nei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wealthy nor wise one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only aske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follow humb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You know so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ll my possession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boat carr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gold and no weapon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ill find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nets and lab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You need my ha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ull of ca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my la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give others r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constant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keeps on lo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You, who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shed other ocea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r longed for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uls who are wai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loving fri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thus you call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You Have Come to the Lakesho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with your eye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have sear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ile smi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spoken my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my boat’s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the shore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hind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your 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eek other se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87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Tú sabes bi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 que tengo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mi barc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hay oro ni espada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an sólo red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mi trabaj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552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ú necesitas mis mano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 cansanci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que a otros descan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mor que quie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guir aman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ñor, me h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rado a los oj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onrien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s dicho mi nom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 Has Venido a la Or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n la aren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dejado mi barca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nto a t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scaré otro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1:42Z</dcterms:modified>
  <cp:revision>102</cp:revision>
  <dc:subject/>
  <dc:title>PowerPoint Presentation</dc:title>
</cp:coreProperties>
</file>