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6CD-97A9-458F-B406-7FA1E54F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E2F-FC52-4A10-81BC-9C3FC9DA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8E5-DD98-4F49-BBFB-FC64F264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02A-0698-4ECC-A32F-27AD0EAE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610-514C-4A97-B926-B4854B2C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4DB-91E3-4D89-8F31-2DBF4F7B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33C-8CB1-4B51-A685-531FC4C2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9C1-90D8-46F1-8CC0-C13BC17D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E51-8C50-422E-B617-5F47AF37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9C6-38D6-4F51-9A2B-7102CAB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306-0E98-4DD9-B0BA-41362712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6C5-3421-4211-903F-5ADAA77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D938-AD6C-42DF-A849-0E00220F1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Charit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Love Preva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496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re charity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prev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God is ever found;</a:t>
            </a:r>
            <a:br>
              <a:rPr sz="49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© 1961 World Library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9th cent. Latin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by Omer Westendorf, 1961 (1 Jn. 4: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ught here toge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Christ’s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love are we thus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ith grateful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ly f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charity we lear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with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ind and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love Christ in retu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orgive we 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’s faul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we our faults conf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u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w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hristian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et strife among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un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contention ceas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Christ the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see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ours his ho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Let us re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 our mid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s God’s begotten S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member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body joi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in him mad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ove can exclu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race or cr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honored be God’s na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ommon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mbrace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se Maker i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harity and Love Prevai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7:41Z</dcterms:modified>
  <cp:revision>21</cp:revision>
  <dc:subject/>
  <dc:title>PowerPoint Presentation</dc:title>
</cp:coreProperties>
</file>