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B55-57AD-4A36-909F-BC5F801E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31D1-A8B6-495F-9ADF-A235B26C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7FE-7A1C-4BC5-9C73-D5C69BE9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F7B-F50B-4060-B674-EE757828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B00-82F2-4C04-B210-D53B2710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116-8C2B-46C7-AC22-F63B44F5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D66-01C9-4220-A87F-F0C31CD3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EA7-F7AC-48C5-9AA6-64FD140B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35C-4697-4167-AD2B-F37200EA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20C-B0F4-43BF-BAAC-FD437EFD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4CD-50F9-409B-9B79-4F64848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D1C-FEEC-4ABE-A53E-F3BF2940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BC2E-0512-4105-8C5F-166559B7C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is Is Our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1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our prayer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our pray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Our Pr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48Z</dcterms:modified>
  <cp:revision>31</cp:revision>
  <dc:subject/>
  <dc:title>PowerPoint Presentation</dc:title>
</cp:coreProperties>
</file>