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D96E-2BDC-490D-9A26-563E3293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1F7D-E8EF-4B54-AF21-14C547E2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F315-8BA8-4C1C-8844-DA07CD75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C66C-8E4C-432B-9ED9-4AB6F369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206B-8F01-4462-A2E4-F8969B4C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853F-915F-44EC-844A-ACBBDCD1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62B4-BB4D-49E9-9312-5AB353CB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513A-7837-4F24-8611-50493054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A17A-4E39-4DD7-8024-9BF80698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41B-E336-4644-9876-FECC4CA6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3725-B9A0-4E79-9CB3-9162A4D6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0DD5-41CA-4031-91F9-7ABDB858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8DFC-E913-42E8-AA12-CFD98E9CF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Lord’s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Father wh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t in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 be thy n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27240" y="1066680"/>
            <a:ext cx="30884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Matthew 6:9-13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kingdom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will be d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earth as 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in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us this 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daily brea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orgive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trespass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e forgive th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trespass against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ead us no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to tempt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deliver us from evi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ine is the kingd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glory forever.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4:08Z</dcterms:modified>
  <cp:revision>26</cp:revision>
  <dc:subject/>
  <dc:title>PowerPoint Presentation</dc:title>
</cp:coreProperties>
</file>