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A739-6F1D-47B5-A0AC-3CA27A79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9683-18B8-46CF-A10B-30801FAE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FFC-5FD6-49BB-99F7-3C2819C3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537-9230-4F46-8F72-1FA493F6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3B6-3BB8-4B28-86D3-AD10B9C9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9C4D-EC0A-4FAF-977C-DFA9E0CB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ABFF-BB0E-4727-BB90-F8B645A4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CBEB-E0A1-4A5F-B7DF-2B1017DA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F575-2C8D-4252-8C76-314DED07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6B0-1FB6-4AC3-835E-206672BE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F221-5423-4FB6-8ADF-0E775382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0506-0141-4FDE-A687-4369F303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C8CB-A8C1-4B0D-99D9-E5E991CE8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he Serenity Pr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5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renity Pr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Anonym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14600"/>
            <a:ext cx="8191440" cy="228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God, grant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serenity to accep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things I cannot chang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919160"/>
            <a:ext cx="868680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courage to chang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things I can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e wisdom to distinguish    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e one from the other.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44Z</dcterms:modified>
  <cp:revision>154</cp:revision>
  <dc:subject/>
  <dc:title>PowerPoint Presentation</dc:title>
</cp:coreProperties>
</file>