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117-6DE4-4F81-8255-BE0D7875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5C6-F28D-4208-BAB3-752A9E21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5D9-9DF0-48BD-977C-F7659A56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B53-9A4F-4E7E-A0B1-3E373154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3A1-6F5B-489B-8A6D-1CB84422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B88-532D-4DD6-8157-9ADC2627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24F-BD45-419C-8A4C-AB9E9E76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21BF-3F18-4FD5-A4B6-F8694B31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33D-CDB9-4FED-8317-CD9A58C8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02F-E6E0-4205-A6F2-CDB3FBD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4A0A-2BCC-428B-8F32-42714352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9B3-EC6C-45BA-BE65-0E007B9D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85DE-C8DE-48C2-81E0-0CD087761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e Bread, One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55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, 1989 John B. Foley and North American Liturgy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B. Foley, 1978 (1 Cor. 10:16-17; Gal. 3:28; 1 Cor. 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860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ile or Je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ant or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an or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860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Many the gif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ny the wor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in the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8608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read, one bod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 of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up of bless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e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, though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on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on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Grain for the fie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attered and gr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ed to one,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Bread, One B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39Z</dcterms:modified>
  <cp:revision>122</cp:revision>
  <dc:subject/>
  <dc:title>PowerPoint Presentation</dc:title>
</cp:coreProperties>
</file>