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3759-1736-4494-8AA1-BB40D705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953-0770-4828-AEDA-3A682D79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142-07EA-4ABE-8456-87364B72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198-DD54-4D6A-9851-0E396BA1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779-CCC7-4451-9AE9-564A516E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AFC-C6D9-4342-B9F2-473CFF9B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9C7-28CC-441C-A617-65F9BD6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CB9-CE5A-4EE9-808F-4C455057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41A-38D3-462A-822B-DD885F0C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BD5E-7CCA-4924-AB50-82406161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E60-8B5F-4940-AE10-43B53238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7CD6-3D28-430D-B590-CEE1D2C1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87F1-7175-41E9-8076-42F7E4583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We That Love the Lor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, we that lov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our joys be kn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in a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weet acc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us surround 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0" y="114300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Isaac Watts, 17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speak their joys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walk the golden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n let our songs ab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airer worlds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We That Love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55:08Z</dcterms:modified>
  <cp:revision>54</cp:revision>
  <dc:subject/>
  <dc:title>PowerPoint Presentation</dc:title>
</cp:coreProperties>
</file>