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25B-05A8-401A-AD31-859D2C19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6A6C-8069-47A2-9D7C-21528226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C285-E02C-46C9-B312-CCBEAC6D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92FD-B723-4C14-9961-328D09C5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0CA-7F66-43A2-964C-8802C283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8AE5-6A5A-4F8E-8C68-CE483FAA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5C70-4B5B-430D-BC22-D7BB3201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1C7-2D6F-4A27-BB60-E27E2A5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B3D6-748B-49A1-B9FA-F0DF0419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F4B-753C-4F31-A353-E1E89E7B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6A9-BF00-42AA-96B4-2B6DD545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7DF-5BE4-45F1-B3F2-33F86B34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43F9-51A6-46AE-A5B8-BA4021AF8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Your Love, O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1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919160"/>
            <a:ext cx="9144000" cy="4584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1. Your love, O Go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is broad like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beach and meadow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4800"/>
            </a:b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rans. © 1974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01600" y="1143000"/>
            <a:ext cx="6994440" cy="398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ORDS: Anders Frostenson, 1968; trans. by Fred Kaan, 19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479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4. O judge us, Lo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in your judgm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ree us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set our fee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freedom’s open spac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3716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ake us as f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s your compassio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ander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mong the children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f the human rac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0666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676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leave us fr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eek you or reject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 give us ro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answer “yes” or “no.”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3808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479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We long for free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our truest be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given h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courage to unfol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238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seek in freedo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pace and scop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dreaming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look for grou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ere tree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plants can grow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9072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But there are wall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at keep us all divided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e fence each oth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with hate and w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3716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ear is the brick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ortar of our priso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ur pride of self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prison coat we w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14400"/>
            <a:ext cx="9144000" cy="4591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fr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Your love, O Go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s broad like beach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meadow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de as the win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our eternal ho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r Love, O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frai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36:13Z</dcterms:modified>
  <cp:revision>39</cp:revision>
  <dc:subject/>
  <dc:title>PowerPoint Presentation</dc:title>
</cp:coreProperties>
</file>