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8FA-0E85-42B1-8727-11BB2848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122-9BE5-49F8-94B0-BFB77332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281-B804-4424-95EC-E5C6667F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AECE-2FF0-4639-8BAB-EA1BAFC9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221-8255-48ED-9305-C0F40F8E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4DB-71F1-4390-8F10-9D87C60D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E71-8BE1-4832-AB04-307C9B99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735-10C7-4A30-956B-9AFB4251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369-59D8-4008-8942-572BA419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FA3-B4AB-4622-A974-93D56E4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403-04B6-47BD-BAC5-7D0392A5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AF3-39F5-45DC-9F8A-7A87198E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5C0D-BC71-4BAF-BC28-5A84C8057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I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ed Pratt Green, 19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93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is here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s we your peop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eet to off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ise and pray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7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church and kingdom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an ag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change and doub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eep us faithfu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the gospel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lp us work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our purpose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, in thi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ay’s dedic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we have to give, receiv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, who canno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ve without you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adore you! We belie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we fi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fuller measur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at it is i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rist we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, as i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world around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our varied skills and art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ait the com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the Spiri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to open minds and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are symbol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remind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our lifelo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eed 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are tabl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nt, and pulpit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the cro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as central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in honest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preach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in silence, as in speec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, in newn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renewa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the Spirit comes to eac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our childre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ind a welco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e Shepherd’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lock and f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as brea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wine are take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rist sustains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s of 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e the servant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the Servan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ek in worship to explor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at it mean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daily liv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believe and to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20:50Z</dcterms:modified>
  <cp:revision>152</cp:revision>
  <dc:subject/>
  <dc:title>PowerPoint Presentation</dc:title>
</cp:coreProperties>
</file>