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1B2F-F920-4B4F-90CC-482AA9A7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5839-3AA7-4B34-A2F8-ABBCEA76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15B-4D17-43D5-B2E1-8F187AC41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048A-DC98-43FB-B954-138C1B3A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BF81-1B1C-4619-86C9-E58A2F2B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5EA-D052-4BA3-981E-245E603B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E348-5034-4AE9-A9EB-E9E40689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C6E-221F-4EAC-9D9D-091C5295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E048-A2D2-4A7B-8935-F4301F3F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F70C-0C58-4DBC-8E70-E6CE0CA0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72E-A751-4B82-A710-9E94A4A5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3D25-2146-4AD2-8AAD-00BB531B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9685-D236-4892-B7B8-EA89CB5A6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20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Worship the 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Robert Grant, 1833 (Ps. 1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worship the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glorious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gratefully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d’s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ship the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mercies, how te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firm to the e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Maker, Defe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emer, and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hield and Defend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ncient of Day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vilioned in splend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irded with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tell of God’s m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ing of God’s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robe is the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canopy sp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ship the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chariots of wr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ee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underclouds for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ark is God’s p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wings of the stor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 earth with its st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wonders unto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mighty, thy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th founded of o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ship the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th stablished it f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a changeless dec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round it hath c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a mantle, the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y bountiful ca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tongue can recit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breathes in the ai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shines in the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ship the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streams from the hill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descends to the pl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weetly distills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w and the r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Frail children of du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eeble as frai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e do we tru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find thee to fai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Worship the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7:57Z</dcterms:modified>
  <cp:revision>21</cp:revision>
  <dc:subject/>
  <dc:title>PowerPoint Presentation</dc:title>
</cp:coreProperties>
</file>