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518-DAAA-4637-B05C-AD5478A7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53E-9A5A-43C1-BBCE-CEE86242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42A-F635-4BD7-97ED-72E5E17C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1EA-9549-46A7-8594-9DA67616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F6C-08EE-4AB9-95C0-F79E4B6A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761F-7439-4522-BEA9-D84C78E9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883-B344-48B5-914A-017EDCB7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6AC9-A0E8-48FD-94B9-105499A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D26A-0059-4161-80F6-90264C30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4DFE-2CC6-4DDD-B381-935518F1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5BD6-7B97-4FDB-80B1-4B8FCA2D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CC3-37E1-4B70-BAF1-B297393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E539-623C-4767-8A4A-F947EE6BA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Love, How Dee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love, how d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broad, how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fills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ecstas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4520" y="1066680"/>
            <a:ext cx="646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15th cent. Latin; trans. by Benjamin Webb, 1854; al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s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pirit 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uide, to streng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 che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All glory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 an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love so d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igh, so broa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ini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m we ad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the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, should t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mortal for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mortals’ sak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us baptiz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b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holy f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ungered s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tempt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p he kne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the temp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thr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us he pray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tau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is dai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ks he wrou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words and sig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ctions th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seeking no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mself, but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us to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 betray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courged, mock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urple robe array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bore the shame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and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gave u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dying br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or us 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death agai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he w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gh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Love, How Dee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4:39Z</dcterms:modified>
  <cp:revision>24</cp:revision>
  <dc:subject/>
  <dc:title>PowerPoint Presentation</dc:title>
</cp:coreProperties>
</file>