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570-8C78-48F6-A410-EDCF832C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ED0-AF83-447F-94AA-906396B6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97A-913E-45E5-B4CC-A092091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0CB-49F1-4D3D-B8F6-88E91C7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358E-FC3C-4F74-A318-19FD1EF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447-A4B0-4157-B8DB-A90DB0CC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386-BEB4-495C-A883-F00DD93D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C2B-3CF1-45FF-B71A-75690C34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610B-649C-4F79-A5CC-A8A566D2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623-7EAD-4762-BE13-15CB6D53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37B-76E6-40AB-AC9B-7875B87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10B5-E394-4E82-A8AB-14EAFBA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FC5A-192F-470E-A311-0B1C1765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Apostolic Bless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postolic Bl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 Corinthians 13: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82296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he grace of the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Lord Jesus Christ,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the love of God,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the communion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of the Holy Spirit</a:t>
            </a:r>
            <a:br>
              <a:rPr sz="5000"/>
            </a:b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e with you all.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18Z</dcterms:modified>
  <cp:revision>163</cp:revision>
  <dc:subject/>
  <dc:title>PowerPoint Presentation</dc:title>
</cp:coreProperties>
</file>