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59A-8761-44B7-8D28-5D2370B52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3BF-8A66-40D6-9FD8-A12D377A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9A1F-73CF-4F3D-BE8D-800C003E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425-3893-4002-8548-2BD81E3A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E9AD-20D9-4C5E-AF72-DA3CE3C5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D3F-4AF6-4D22-8008-6092A091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3987-744F-485F-9394-04DD8B26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DF3-1A2B-4FE3-99FE-C585F538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F39-9934-4379-8121-8ED52829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70E-0CC3-4E0F-AA85-96C6E815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24E-35C7-4262-A890-A9059A5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489-06FB-4BFD-8490-82C6351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4505-AE59-46C5-9909-3864A39F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om a Distant Home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De Tierra Lejana Ven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55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1. From a distant home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the Savior we come seeking,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using as our guide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the star so brightly beaming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63, 1980 Walter Ehret and George K. Evans, 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4440" y="1600200"/>
            <a:ext cx="757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Puerto Rican carol; trans. by George K. Evans (Mt. 2:1-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3352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sirve de guí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14400"/>
            <a:ext cx="9144000" cy="4731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352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09480"/>
            <a:ext cx="9144000" cy="5493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5:39Z</dcterms:modified>
  <cp:revision>19</cp:revision>
  <dc:subject/>
  <dc:title>PowerPoint Presentation</dc:title>
</cp:coreProperties>
</file>