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E5C3-0ACB-4E67-9573-4A629BFF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266-5F25-4A55-85BE-7B97038E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1D67-C28E-453E-ABE3-DF9445B1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652-14AA-46A4-B0DF-BE94F431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2E5B-4E71-4820-B556-F71E1EC3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0A23-BE80-4D42-8EB3-5E89C3BE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A0E-0305-42A3-8AB1-1B59033D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D8D-158F-4885-A73F-6F9B5621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4E0-F8D3-42E2-B69C-AD96383F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ADE-D705-41EC-9806-41E64381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ADB4-3A4E-4635-A7F5-8566A689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B7D-873D-43EE-BD1B-4036DBF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ED3D-5CA1-4D46-BE2E-4175369EE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the on Me, Breath of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Breathe on m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fill me with life anew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72640" y="990720"/>
            <a:ext cx="3690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Edwin Hatch, 1878 (Jn. 20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37960" y="2263680"/>
            <a:ext cx="686952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at I may lov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hat thou dost love, an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do what thou wouldst do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2. Breathe on m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until my heart is pur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12240" y="2263680"/>
            <a:ext cx="551916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until with the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 will one will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o do and to endur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68054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3. Breathe on m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ill I am wholly thin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54080" y="2263680"/>
            <a:ext cx="703728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ill all this earthly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part of m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glows with thy fire divin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63680"/>
            <a:ext cx="91440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4. Breathe on m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reath of Go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so shall I never di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the on Me, Breath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193840" y="2263680"/>
            <a:ext cx="4757400" cy="233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ut live with the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perfect lif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f thine eternit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32:22Z</dcterms:modified>
  <cp:revision>11</cp:revision>
  <dc:subject/>
  <dc:title>PowerPoint Presentation</dc:title>
</cp:coreProperties>
</file>