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9745-C766-4DB4-8909-D4200830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7E3-B375-4DBC-AF94-FF100FC9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D5A-C87B-4147-B5B5-99068728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EBF-D2AC-4AB7-9337-97AF89E3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51B2-8F49-46F6-B0F4-40551C81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777-CE1D-4401-932D-B3C4362E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CAE-4470-4EF7-ABDD-E6EC7EAC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8A3-54E6-4055-94B0-6891CA0C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BA2-B4B0-4C53-89CE-8B40375C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4CC-7D0A-4BC5-A28D-9F2CB2BB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6A8-B748-4987-901B-2171B98C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E542-0967-41B9-9621-B9C12E7D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8B6A-88E4-49E1-BFE4-5704441B4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od Fri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600200"/>
            <a:ext cx="8839080" cy="448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lmighty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raciously behold this your family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or whom our Lord Jes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Christ was will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o be betrayed into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e hands of sinner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od Fri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57080" y="914400"/>
            <a:ext cx="410652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After 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The Book of Common Pray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to suffer death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upon the cross;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o now lives and reign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with you and the Holy Spirit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One God, for ever and ev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21:04:20Z</dcterms:modified>
  <cp:revision>18</cp:revision>
  <dc:subject/>
  <dc:title>PowerPoint Presentation</dc:title>
</cp:coreProperties>
</file>