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24FD-D7FF-4589-A271-6CFBA7B1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D213-151D-4D6A-B7EF-089D10F4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25D8-8064-4C6C-8394-E2F4E5A74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73CD-FB0D-4F51-B4C1-9613E873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0694-353A-40F6-B187-190CD5BA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D1DD-E591-4C98-A470-410FE222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1BA0-0EF6-4E7B-A5FC-72E07CA3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3F11-1CA3-442A-A981-4FA096CB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F7DF-0403-4929-BA4A-2ED67724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5609-0D9D-4892-9CC4-BA8E4E85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179E-3079-42C1-ABE5-AC840CE0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AEC8-9111-48C3-95BB-A9C7F235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7AA8-6A47-402C-9043-EFD23FC61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Love Divine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Hast Thou D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8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 Love div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hast thou don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immortal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th died for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Divine, What Hast Thou Do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440" y="160020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Charles Wesley, 17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Father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eternal S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re all my si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pon the t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’immortal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me hath died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ord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ove, is crucifi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Is crucified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 and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bring us rebe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ack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Divine, What Hast Thou D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lieve, belie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record tru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 all are bou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Jesus’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rdon for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lows from his side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ove, is crucifi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Behold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ye that pass b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leeding Pri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life and pea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 Divine, What Hast Thou Don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, sinn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 your Savior di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ay, “Was e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ief like his?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, feel with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blood applied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Love, is crucifi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4:22Z</dcterms:modified>
  <cp:revision>48</cp:revision>
  <dc:subject/>
  <dc:title>PowerPoint Presentation</dc:title>
</cp:coreProperties>
</file>