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B74-B8B7-4032-9BF0-E16A5B3B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A5F-CFD3-4D28-AA24-63D691F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E08-C71D-431A-A824-946026BA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ED9-9ECF-4688-9434-26E0A48A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3FC-E8D7-44DF-92DD-E194E2DF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1DA-8ADB-412B-BB52-EC50CEF1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13C-4F34-4D16-B498-C6C70F90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229-09D1-4F7F-B2CF-47C1A77B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6EC-4429-4398-8F17-BDC66650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7A5-DE11-4335-A927-B1225F77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741-D951-42FF-B356-F6900653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E97-AA23-4CC1-8E5F-ECFF6FE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EDAB-B6B9-40AD-A600-6770B951A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Is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Lord, he is Lor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risen from the d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i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9280" y="1066680"/>
            <a:ext cx="3565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Philippians 2:9-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knee shall b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ongue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Jesus Christ is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20:33Z</dcterms:modified>
  <cp:revision>40</cp:revision>
  <dc:subject/>
  <dc:title>PowerPoint Presentation</dc:title>
</cp:coreProperties>
</file>