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F2F3-32B9-4AF3-B05F-5F5F9C44B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400-8A20-480E-A40B-88270A4C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F466-1852-49C8-B0F6-057223BB5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CB7-862C-408E-B4FE-2FBC630E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828-3432-40C1-9E80-D20F2F62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AB1-5B6A-4581-ABCF-7C1010C9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CF76-FB5D-4CF7-8FE4-35689AAC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735-8980-4F81-A0AF-935AC58F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71A5-396F-4241-9FAF-958D4969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7D4-772C-4822-B5CB-18E4617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A6C-25B7-47E4-A396-A37AC9C1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B328-1A54-465F-A14D-09C2F32B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BE36-813A-429D-889D-D3EAC65A7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How I Lov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ere is a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h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o sing its wo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 sounds like music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my 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weetest nam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1080" y="1092240"/>
            <a:ext cx="4101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rederick Whitfield, 18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t tells m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Savior’s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died to set me fr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 tells m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precious bl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inner’s perfect pl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09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It tells of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loving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 feel my deepest wo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in each sorr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ars a p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none can bear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09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I lov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he first loved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ow I Lov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1:31Z</dcterms:modified>
  <cp:revision>34</cp:revision>
  <dc:subject/>
  <dc:title>PowerPoint Presentation</dc:title>
</cp:coreProperties>
</file>