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6D74-D23C-47E4-97CC-C6E70CCD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F17F-5A16-4551-9516-FB65F312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59E2-294E-4E5D-BCAF-A0CF6E47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C6C-09F4-40F4-A1E6-1410DDBB2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8333-2359-4029-A96B-45A0F52D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2581-DEAB-421A-9B25-52679909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2024-B60F-4C87-84B8-A630BEBD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306-16D4-4DED-9FE2-BFBD583C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D77A-2912-4DEB-9223-CE2CEE23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8A32-1242-4AB6-95A2-1E3A7A6D9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5B9F-C6E7-45D1-9EE3-743563E6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C87-FE3B-4B03-8944-594A4E41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EEE3-1FE4-4B4D-B092-84558076D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ather, We 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Father, we thank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you plant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holy n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in our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Trans. © 1940, 1943, renewed 1971; 1985 rev. The Church Pension F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Greek, 2nd cent.; trans. by F. Bland Tucker and others, 1939, 198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nowledge and fa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fe immort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 your S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us imp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you have made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your pleas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iven us f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all our day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ving in Chri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bread eternal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s is the pow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 yours the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atch o’er your churc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Lord, in merc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ve it from ev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uard it sti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Thank You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rfect it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love, unite 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eansed and conform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o your w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grain, once scatte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the hillsid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s in the brok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ead made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from all la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church be gathe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to your kingd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your S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20:50:57Z</dcterms:modified>
  <cp:revision>71</cp:revision>
  <dc:subject/>
  <dc:title>PowerPoint Presentation</dc:title>
</cp:coreProperties>
</file>