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EBC-55CE-488F-A074-E4170E85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62D-DDD0-4ACF-B0A6-BBF4DA3D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B06-7DAB-4005-85CD-1E2C7B01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9C1-8748-4692-B32B-441E3210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F12-0E9E-499A-B605-7A472FE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52D-A553-4616-80D3-93CDD65E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02E-47A4-40EA-B8A4-64A52DBD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CF9-84C9-4596-BD00-863CDD7D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A69-5598-40D5-9A80-70511731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9AC-DCA5-44B1-BBFD-15586F1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F3CC-7F43-408F-B125-B7877B7F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AA9-4C61-4181-95EC-AE6A8AA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BD89-FD28-4B27-9185-862E5082C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t Is Well with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oratio G. Spafford, 18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peace, like a ri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tendeth my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sorr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ke sea billows 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And, Lord, haste th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my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be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cloud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olled back as a scro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rump shall res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Lord shall desc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ever my l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hast t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to s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ough Sat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ould buff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rials should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this bl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surance contro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Christ has regar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lpless est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ath 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own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My sin, oh, the bli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is glorious thought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in, not in 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th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nailed to the 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bear it no m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ise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Is Well with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It is well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y soul,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ith my soul,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 is well with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8:57Z</dcterms:modified>
  <cp:revision>119</cp:revision>
  <dc:subject/>
  <dc:title>PowerPoint Presentation</dc:title>
</cp:coreProperties>
</file>