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3E7-DAD6-425E-B7C7-0A71F0EE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45B3-34BB-4C29-9E3B-FF43AE3F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721-D909-464F-80E3-BA22FE0D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D21-79A4-42A7-A92A-4569BE29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02B-3A45-4E88-A9F1-AB6B4C5E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655-3051-4DE9-A694-1E0805B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9E3-2DEE-4DC7-B5A5-3383E297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F8C-EB46-469B-B0C3-31AE3C5B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441-8618-456B-A5F7-66F3869F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379-E8B3-41CC-9B4D-F516954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853-10DF-4BC0-82AF-9B507062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8071-D501-4F60-82AA-DFDB8634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6CC8-F308-469A-8D49-502506E4A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African American spirit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nailed him to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ister Ma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28800"/>
            <a:ext cx="9144000" cy="472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124080"/>
            <a:ext cx="9144000" cy="324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4. An ange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an ange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rolled the ston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 ange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e from heav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28800"/>
            <a:ext cx="9144000" cy="472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124080"/>
            <a:ext cx="9144000" cy="324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y crucified my Savi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nailed him to the tr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ll b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472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24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Then Jose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then Jose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aid it in the to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n Jose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gged his bod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aid it in the tomb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72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 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246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rose from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bear my spiri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Sister Ma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-looking for my Lo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Sister Ma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he came runn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-looking for my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28:12Z</dcterms:modified>
  <cp:revision>73</cp:revision>
  <dc:subject/>
  <dc:title>PowerPoint Presentation</dc:title>
</cp:coreProperties>
</file>