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507-E9D2-4612-9CDE-375CBD54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B88-CFBA-40D3-B080-A308AD84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210-E099-44CF-A3FF-3573087D5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E15-F3FF-4F0E-872F-91E2E455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223-4279-4773-AA3C-478D9DF5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CA9-0B3B-4B47-8340-3D745A5E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486-3A14-40BC-9790-6A64316B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034-5713-4EC1-A175-E5D8779B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44A-BA8F-4F03-B530-32C4EEE0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47F-C983-4B51-A050-11A94ED5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0AC-1442-4A03-9D6E-26C993FF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67A-3EEA-409F-81C8-DD608D4B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62EE-1181-44EF-8F48-78FA5D0C5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risto Viv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Christ Is Rise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Nicolás Martinez, 1960; trans. by Fred Kaan, 1972 (1 Cor.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¡Cristo vive, fuera el llanto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s lamentos y el pesar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i la muerte ni el sepulcr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 han podido suje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imes New Roman"/>
              </a:rPr>
              <a:t>© 1962 Metho Press, Ltd.; 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Christ is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ke it know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goes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If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d never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e’d have noth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ut his promis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n be trusted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“You will liv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ecause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s we share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of Ada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o in Chri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e liv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has lo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ts sting and terro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the Lord ha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om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Death has lo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ts old domini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et the worl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ejoice and shou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, the firstbor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the li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ives us lif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leads us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et us than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ur God, who caus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ope to spring up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rom the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giv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e etern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e pro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 busqu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é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tre los muerto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 que siempre ha de vivi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¡Cristo vive! estas nueva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por doquier dejad oí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Que si Cristo no viviera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vana fuera nuestra fe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s se cumple su promesa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‘Porque vivo, vivir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éis.’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i en Ad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án entró la muert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por Jesús la vida entró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temái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l triunfo es vuestro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¡El Señor resucitó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Si, es verdad qu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 la muert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l pecado es aguij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temáis pues Jesucris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s da vida y salv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sto V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racias demo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 Dios Pad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que nos da segurid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que quien cre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Jesucris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vive por la eter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Christ is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li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ry your tear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e unafrai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and darknes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ould not hold hi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r the tomb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n which he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o not loo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mong the dead f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ne who liv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6:25Z</dcterms:modified>
  <cp:revision>69</cp:revision>
  <dc:subject/>
  <dc:title>PowerPoint Presentation</dc:title>
</cp:coreProperties>
</file>