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65FA-F565-4BC4-9E39-BC81B163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0DB-5EC1-45A2-9098-6AF7F06A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20E9-7FE9-4D8F-B3D6-5BD390AE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EB00-31DB-42A0-B84E-E931B375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D41-9AD9-4131-AD51-C6A50819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E6FD-6354-4573-B02B-FB2607A5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DD9F-6F79-402D-A58F-C3FFE038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AFFF-0017-4308-9A4B-7987E2BF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AF6-786F-4F2A-838B-FE8EBE07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002-CD3B-4F6B-819F-6B3EEE61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E4A-6C27-4B92-AC88-2A085F45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727A-8D1C-4288-93E4-FA1D1EED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3B9F-8826-45B5-AE60-289D4EA70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Dear Lord, for All in P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for All in P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Amy W. Carmichael, 19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Dear Lord, for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pain we pray to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come and smit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gain thine enem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© 1933 Dohnavur Fellow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for All in P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Give to thy serva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kill to soothe and bl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to the ti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ill give quiet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for All in P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And, Lord, to those w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now pain may not cea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near, that ev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o they may have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5:51:34Z</dcterms:modified>
  <cp:revision>156</cp:revision>
  <dc:subject/>
  <dc:title>PowerPoint Presentation</dc:title>
</cp:coreProperties>
</file>