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764-BF7D-4F9A-B1B0-C83A74AB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246-D7F2-4999-B7D9-88022841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E52-D664-4F43-8EAF-1E37CC86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A3D-E9DF-403A-A0FC-1246AA5F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DD1D-048F-47F4-82D8-222DE81F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000-D4DA-49BF-955F-1FD2987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C87-5524-43D6-8BE2-9EC18DF7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3D3-DC1F-42CA-BDE6-210F750B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D50-A580-4B72-A059-22EE8608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342-392F-4B1C-918E-0650EEBF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9E6-02FC-421A-9393-2260C14F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D9E-0B08-4E0C-A116-6246B967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2CDF-D3FA-4D11-86D3-B96188F4F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371600"/>
            <a:ext cx="8305920" cy="522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 God our deliverer, you l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r people of old through th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lderness and brought the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 the promised land. Guid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w the people of your churc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at, following our Savi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, 1989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9560" y="914400"/>
            <a:ext cx="43261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Lutheran Book of Worship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820800"/>
            <a:ext cx="86868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may walk through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lderness of this world, towar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glory of the world to com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rough Jesus Christ our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he Holy Spirit, One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w and forever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23:49Z</dcterms:modified>
  <cp:revision>15</cp:revision>
  <dc:subject/>
  <dc:title>PowerPoint Presentation</dc:title>
</cp:coreProperties>
</file>