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60EF-2C8A-46D4-8C4E-F7AEEDF77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8A87-E605-444B-9947-949FBED4A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DFC9-17F2-4AE0-930D-8D13BA3F8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48C1-4CFC-4C91-92E9-D20999845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960F-2778-4150-BAE8-2BCEDE2D9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95E1-243D-4773-85ED-D3AC020AA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E11E-0162-4243-81FD-DF9F88E24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F8EE-A178-4FFE-8C42-C421630D7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AA0D-8D75-4765-BC64-0BDF13E4C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31E2-03B0-4098-8DF9-48D59531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C6FC-03DC-43DB-85B8-A472907AA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6DD7-816A-42F0-BB88-5446E66A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4D5AF-DBE7-4FAD-819A-E575C4EABE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 Know Whom I Have Believ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96080" y="304920"/>
            <a:ext cx="144792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7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4290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I know not wh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’s wondrous gra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me he hath made know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Whom I Have Believ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66400" y="1143000"/>
            <a:ext cx="431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WORDS: Daniel W. Whittle, 1883 (2 Tim. 1:1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32767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vealing Jes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ugh the w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reating faith in hi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2743200"/>
            <a:ext cx="9144000" cy="389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t I know who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have believ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am persuad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he is abl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Whom I Have Believ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32004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keep th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ch I’ve committ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to him against that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33526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I know not wh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Lord may co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t night or noonday fai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Whom I Have Believ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33526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r if I walk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vale with h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r meet him in the ai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2743200"/>
            <a:ext cx="9144000" cy="389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t I know who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have believ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am persuad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he is abl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Whom I Have Believ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32767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keep th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ch I’ve committ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to him against that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2004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r why, unworth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rist in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deemed me for his 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514600"/>
            <a:ext cx="9144000" cy="389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t I know who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have believ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am persuad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he is abl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Whom I Have Believ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3526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keep th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ch I’ve committ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to him against that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2004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I know not ho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is saving fai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me he did impar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Whom I Have Believ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971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r how believ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his wo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rought pea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in my he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666880"/>
            <a:ext cx="9144000" cy="389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t I know who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have believ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am persuad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he is abl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Whom I Have Believ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32767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keep th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ch I’ve committ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to him against that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32004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I  know not ho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Spirit mov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nvincing us of si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Know Whom I Have Believ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5:10:26Z</dcterms:modified>
  <cp:revision>56</cp:revision>
  <dc:subject/>
  <dc:title>PowerPoint Presentation</dc:title>
</cp:coreProperties>
</file>