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C5CB-A48A-4BD2-80D6-51855ADF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3792-183C-4C85-8A2F-3B4D86A1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BFA4-4B94-4FD9-B3CF-71EA4E90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DB67-A663-49D1-8319-7E473C28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3C3E-53F9-4D3A-A155-A95600CF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61B8-5492-4023-9076-3E891B3B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B07B-9EDC-48E5-A724-0C3B9165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5016-5A59-4C07-988E-20C0C560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42A2-7D6C-4D4C-8362-7F4C60AD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3316-068D-445F-8DEE-D5CE2769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55AC-44E4-4940-A7D2-7D3A18CF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4A03-82DB-4199-87E1-73CF0511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F097-0A6B-4DD6-9245-C520F13AC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68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ether the Word B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ached or 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harles Wesley, 1783 (2 Cor. 3:5-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05740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ether the Wor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be preached or rea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no saving benefit I gai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rom empty sound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or letters dead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unprofitable all and vai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ther the Word Be Preached or 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unless by faith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y word I hea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see it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heavenly charac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Unmixed with faith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e Scripture give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no comfort, life, or light to se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but me in darke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darkness leave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mplunged in deeper miser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ther the Word Be Preached or 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verwhelmed with nature’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sorest ills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e Spirit save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e letter kill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820800"/>
            <a:ext cx="830592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f God enlighte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rough his Wor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 shall my kin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Enlightener bless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but void and nake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of my Lor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at are all verbal promis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ther the Word Be Preached or 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1919160"/>
            <a:ext cx="85345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Nothing to m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ill faith divin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spire, inspeak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and make them m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187280"/>
            <a:ext cx="84582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Jesus, th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ppropriating grac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’tis thine on sinners to bestow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pen my eye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o see thy fac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pen my heart thyself to k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ther the Word Be Preached or 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2120" y="1919160"/>
            <a:ext cx="83818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then I through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y Word obtai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ure presen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eternal g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28:33Z</dcterms:modified>
  <cp:revision>12</cp:revision>
  <dc:subject/>
  <dc:title>PowerPoint Presentation</dc:title>
</cp:coreProperties>
</file>