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53B-7E75-472E-A0F4-DE1CBA0D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650-D080-490C-B60E-A6AF5DC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247-5905-4094-9C54-A92E7693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B9F-2576-4071-B15A-CE3EE874F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5BA-C7DD-4505-A7F9-BECAA63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AA8-264F-4561-849D-DCA688EC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43D-09A5-4770-A0D1-B952F33C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A6-FDAB-4B7D-AF25-9721DD0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717-1C5F-4FDF-859C-CBA60198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E82-AA71-48EB-9C49-38EF719B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45DA-889D-4A36-BC3B-ABE5AC46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A5AB-1E50-4776-B842-4FAC2E4B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E800-CBC9-4959-BAA3-D5C292860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’ve a Story t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to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’ve a st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turn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o the 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. Ernest Nichol, 18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send us hi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u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’ve a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ow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e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orrow hath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great peo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truth and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peace and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ory of peac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’ve a song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g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lift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o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ong tha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r and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tt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r and s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rknes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urn to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oonday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’s great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’ve a mess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 to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Lor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eth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ve a Story to Tell to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52Z</dcterms:modified>
  <cp:revision>74</cp:revision>
  <dc:subject/>
  <dc:title>PowerPoint Presentation</dc:title>
</cp:coreProperties>
</file>