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8559-D9A9-4DF5-BF94-3918A3449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B112-4123-4B89-B26A-34CA78B6D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4AED-D741-44B2-B2F3-75529C7E9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915E-C472-4B35-9393-2141E2B16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E55A-C96D-460E-A30E-1C971EDDF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F83B-789D-4940-9FB7-C336D9B34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1DB5-D9A1-42CD-920A-33C8BE878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A813-CD54-4D26-8D42-2167C0A25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175B-8583-44C5-9722-C9C176098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1C7A-C893-44FE-AC5D-FF680742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8782-7083-48ED-802A-041D1A9A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8252-3A2A-46CE-BAF8-B98DEC75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373BF-F1CD-4055-82E1-A034C79FDB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For Holiness of He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40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2438280"/>
            <a:ext cx="8610480" cy="363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ord, I want to b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more holy in my heart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By permission of Anne Thur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Holiness of He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27360" y="1066680"/>
            <a:ext cx="368892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Howard Thurman, USA, 20th cent.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1552680"/>
            <a:ext cx="876312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ere is the citadel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of all my desiring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where my hopes are born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and the deep resolution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of my spirit take wing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n this center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my fears are nourished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and all my hate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are nurtur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552680"/>
            <a:ext cx="88390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ere my loves are cherished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and all the deep hunger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of my spirit are honored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 without quivering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 and without shoc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880920"/>
            <a:ext cx="883908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n my heart, above all else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let love and integrity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 envelope m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 until my love is perfected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 and the last vestig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 of my desiring is no longer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 in conflict with thy Spir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2101680"/>
            <a:ext cx="8686800" cy="266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ord, I want to b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more holy in my hear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1T19:33:30Z</dcterms:modified>
  <cp:revision>23</cp:revision>
  <dc:subject/>
  <dc:title>PowerPoint Presentation</dc:title>
</cp:coreProperties>
</file>