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B29-D423-4F9D-B798-147102FF2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E9E-2008-4409-A6D5-BE3C0714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1C15-F99B-4F2E-993B-34218254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466-1565-48C3-87FD-DFA37F48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BF68-EC6E-4B45-938C-27313C8B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0B1-C2FD-46F1-AC4A-E41AE0C6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84F-F2F5-4452-985F-35B81B14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7CB-5AC5-4F36-9E02-17A7D3C8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823-5CA1-418B-8F78-1583CD78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79D-15E5-40A6-8151-F43EBADB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9354-7974-403F-B3D9-64C94E0F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701-BB3D-4129-A14B-B403F4B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7A5-E6D8-468C-8BC9-B9D33F7DC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k Ye Wha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eat Thing I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sk ye what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ng I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delight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rs me so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9240" y="1700280"/>
            <a:ext cx="61822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hann C. Schwedler, 1741; 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ns.  by Benjamin H. Kennedy, 1863  (1 Cor. 2:2; Gal. 6: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he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ward I win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glory in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Who defea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fiercest foes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conso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saddest w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revives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nting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ing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hidden smart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o is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life to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the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death will b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ll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on his r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ount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ts of light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This is that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ng I kn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delight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rs me so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k Ye What Great Thing I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i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ied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who triump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he grav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6:59:24Z</dcterms:modified>
  <cp:revision>26</cp:revision>
  <dc:subject/>
  <dc:title>PowerPoint Presentation</dc:title>
</cp:coreProperties>
</file>