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46E7-B1CF-4FBD-99B8-305A53C6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6AC7-D76B-488F-9A64-A2589B24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F8E6-9D1F-45C7-BE05-9D06283D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B940-C76E-43F3-8176-0F69AADD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417B-1CC7-4898-9530-2D16B19D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8DCF-2F47-496B-AA66-72B75F3D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5D72-B09A-4728-9E5D-6D637320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6C6F-B3AC-40E5-90A7-5C35ECE3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475-6C04-44D4-97AA-E1005165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809B-F425-44CC-8698-2B0A978C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656-D409-4E97-9640-3A1EB89D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0C1-B2CB-4CCD-8AEF-37487247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461C-1E0A-4708-9E0D-1684DBEE6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hal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22860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o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Trad. Hebrew blessing; trans. by Roger N. Deschner, 19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1905120"/>
            <a:ext cx="8001000" cy="515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alom chaverim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alom chaverim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alom, shalom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Trans. © 1982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828800"/>
            <a:ext cx="106668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276720"/>
            <a:ext cx="106668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800600"/>
            <a:ext cx="106668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2057400"/>
            <a:ext cx="86868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hitraot, lehitrao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alom, shal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05120" y="1981080"/>
            <a:ext cx="7238880" cy="372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arewell, dear friend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ay safe, dear friend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ave peace, have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752480"/>
            <a:ext cx="106668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3124080"/>
            <a:ext cx="106668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4572000"/>
            <a:ext cx="106668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’ll see you agai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’ll see you agai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ave peace, have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0:05Z</dcterms:modified>
  <cp:revision>161</cp:revision>
  <dc:subject/>
  <dc:title>PowerPoint Presentation</dc:title>
</cp:coreProperties>
</file>