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CA1-0AC2-454E-88DE-5F4B154B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DF8-9041-411F-9766-C8C3682D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39D-30A8-4F8D-A142-AE38EA55F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A2B-5674-4D84-8608-150F26E0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556-A945-488B-B2E5-DAC97A6E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5F9-29AF-41B6-BB87-EBBF1CA4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D0BD-744A-43FA-AA66-271A13FB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374-D7F0-4091-888D-750FC8D1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0E04-746A-4F4A-B45C-DEC87637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C2B-6A17-4E8D-B3A4-27C867B1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6993-C37F-43D0-8DE0-8CE6AC1B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A85-4D00-4F91-A38C-8802C537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7AC0-6A6B-4190-BAC5-C7EAF3197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hild So Lovely</a:t>
            </a:r>
            <a:br>
              <a:rPr sz="40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N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ño Lind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4491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562040"/>
            <a:ext cx="6334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Venezuelan; trans. by George Lockwood, 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tender bab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child, 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sweet belov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sweet belove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, child, adi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430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95280"/>
            <a:ext cx="9144000" cy="3750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477800"/>
            <a:ext cx="883908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Esa tu hermosura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se tu cando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l alma me roba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e roba el am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193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La vida, bien m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 el alma tambié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e ofrezco, gustos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endido a tus pie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-1600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09692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1430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Adiós, tierno inf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niño, adiós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iós, dulce am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diós, dulce, amant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 adiós, niño, adió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47780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Lindo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2193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te ti me r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iño lind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res tú mi Dio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You ha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’s beau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God’s puri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my devo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my affectio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tealing all my sou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21932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85904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7780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All my lif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my darl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my soul, as we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is is what I off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fer joyous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lling at your fee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97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ld So Lovely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06668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re I kneel before you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hild so lovel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you are Christ my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0:30Z</dcterms:modified>
  <cp:revision>69</cp:revision>
  <dc:subject/>
  <dc:title>PowerPoint Presentation</dc:title>
</cp:coreProperties>
</file>