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E90-19C0-4C4E-B376-CEBFC3F8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53C-2710-4654-BC21-A30A800D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E54-2508-43E6-BCA9-BFC7B94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BFD-5351-48B0-AE1A-5A83C546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F6F-6BC0-4A5E-A06B-6D07951D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1EF-F941-41F2-9445-A2E0F3F6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CC75-6891-41EE-B3D7-B30C977D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211-AB42-4667-BE8A-F068DBE0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7023-CA83-48D1-912E-EC2A427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8B5-3D72-4647-BABC-17C77A9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3BA-15F2-438C-AC87-8C4D215C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2DF-BCEE-485D-90A2-1E7F661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095-342F-48CB-BD9B-03C0667BA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All the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all the sai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their labors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ee by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world confess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7640" y="1219320"/>
            <a:ext cx="40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William W. How, 1864 (Heb. 12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ts are b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, and arms are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From earth’s wide bou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cean’s farthest c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gates of pear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ing to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G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Harm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37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, 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for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 wast their roc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ortr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m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Lord, their cap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ell-fought f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in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r, their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may thy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, true, and b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ght as the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obly fought of ol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n with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’s crown of g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blest commu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eebly strugg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in glory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55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ll are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, for all ar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nd when the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fier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rfare l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s on the 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istant triumph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ll the Sai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7:26Z</dcterms:modified>
  <cp:revision>55</cp:revision>
  <dc:subject/>
  <dc:title>PowerPoint Presentation</dc:title>
</cp:coreProperties>
</file>