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70D-6E9D-4682-9B73-76134D0E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494B-E8EE-47B3-94BC-66EF62D1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88E4-9B9B-43D2-AA83-8FCC0C07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465-D289-40BE-93CD-124FA393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8DDD-8D43-4AA1-B228-A52E5DA6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AF8C-2B0F-4DEC-BF42-FE1C1EE8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E683-542D-4AE4-91A6-18F65315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AC9A-9E01-4F85-A8E0-9406E83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474-D16F-490C-B77F-E10A140F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B37-225C-4E82-9E0F-0E54328C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3C1-3450-4420-8141-DB9198F8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4F6-2D20-4790-9B79-2C0E003C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D4A8-E45C-4AEE-8C81-C043E4C4C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Care the Eagl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ives Her You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 care the eagl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ives her young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afe in her lofty ne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like the tender love of Go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us made manif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03280" y="1623960"/>
            <a:ext cx="453492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R. Deane Postlethwaite (Dt. 32: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As when the t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venture com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e stirs the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to f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we are pr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oldly t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rive for daring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if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utter helpless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fledgling eagles 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us li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mighty w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ar us, one and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are the Eagle Gives Her You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02Z</dcterms:modified>
  <cp:revision>34</cp:revision>
  <dc:subject/>
  <dc:title>PowerPoint Presentation</dc:title>
</cp:coreProperties>
</file>