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674-83E5-4D77-AD6F-A7F54D24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80C4-EF20-47AA-9FDF-EAD2B821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7E6-2C2C-4833-8F9B-1CFAB048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4A99-E826-4597-9EA5-3D4E43BD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13E3-E347-4EAD-B91D-533122FB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2C32-4054-4F6E-A171-520FE2E1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536-E250-488D-9E0F-277B4C5A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452-F82F-4002-BC56-0C050807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F52-5384-4BB2-8332-C49BB0ED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4CC-5899-49F1-B6A5-9A1EBAAA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818-1F21-46C4-948F-BFECDB79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D94-49F4-4AE6-B3AF-E7C32960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E16-AFD1-4834-A42B-4BEE6BE16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is Name Is Wonder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© 1959, renewed 1987 Manna Mus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 Name Is Wonder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58400" y="1092240"/>
            <a:ext cx="342540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udrey Mieir, 1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the mighty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ster of everyth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’s the great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ock of all ag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mighty God is h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w down 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and ad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me is wonder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m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7:54Z</dcterms:modified>
  <cp:revision>37</cp:revision>
  <dc:subject/>
  <dc:title>PowerPoint Presentation</dc:title>
</cp:coreProperties>
</file>