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FB9-9846-4367-9F3B-C0990BA2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696-39E7-49CE-87CA-9B486BFC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C09-AC88-49F4-AA7C-FA59E043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EB7-F648-41AC-A991-DF6C235B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1F7-CDFB-49FF-8251-FBA1E1D4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9B1-D1DF-4240-B6F1-8347B35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7F9-F6B5-479D-821A-C97FC6A5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F931-BB0C-45A6-BBA5-AFFC52B2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425-98D5-4259-B983-E4639E10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C96-DA6A-4A2B-86F9-E76701E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385-4E65-44E8-BDCA-185B3795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406C-2DA3-42EF-AF84-462576FF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A6A3-67F6-4580-BE06-12A2C89A2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For Di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7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590920"/>
            <a:ext cx="861048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Direct us, O Lor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in all our doings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with your most gracious favor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further us with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continual help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Di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7560" y="99072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After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</a:rPr>
              <a:t>The Book of Common Pr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2438280"/>
            <a:ext cx="8534520" cy="367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at in all our works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begun, continued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and ended in you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we may glorify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your holy name,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895480"/>
            <a:ext cx="8381880" cy="333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and finally, by your mercy,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   obtain everlasting life;</a:t>
            </a:r>
            <a:br>
              <a:rPr sz="4700"/>
            </a:b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through Jesus Christ our Lord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20:04:30Z</dcterms:modified>
  <cp:revision>20</cp:revision>
  <dc:subject/>
  <dc:title>PowerPoint Presentation</dc:title>
</cp:coreProperties>
</file>