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3EA-9528-4504-9178-6A0350D3D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DAC-405E-420B-A412-CF91777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B29-80B7-45F0-BDE1-BA2A928B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6D4-39B6-4F55-AAF5-CD252448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CDC-52B7-42E8-ABB3-EABB215A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465-0663-4292-B080-4E0334A0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581-63A3-4110-A9E8-380628E0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B39-8669-4F41-8DA1-15306847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C50E-5D56-4054-9102-65442936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CBA-1A5E-4A57-BAA1-5A770B01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88D2-EB54-41F6-B7E6-3843A2C9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240-F7EB-4C72-87E8-ACA074B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39D-03B3-44A8-B6F0-0595A1C7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Gift Can We B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gift can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present, what toke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rds can convey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 of this d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2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ne Marshall, 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rateful we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embering,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song can we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nor and prai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ive thanks for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se who had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lanted and wa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reams could come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anks for the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tudy, for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ission that bi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urn prayer into 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ive thanks for tom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surpr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knowing what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morrow may b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d is our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,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st in God’s keep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 in God’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gift we now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present, this t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words can convey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 of this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Gift Can We B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rateful we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embering,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ong we now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nor and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35Z</dcterms:modified>
  <cp:revision>28</cp:revision>
  <dc:subject/>
  <dc:title>PowerPoint Presentation</dc:title>
</cp:coreProperties>
</file>