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687-E887-4E68-BC98-F05D6163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FE2-E0FC-4D24-8457-77369CF8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86C7-7E15-49FE-9562-1F433727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8C8-4239-452B-A582-910655C9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FF3-B6F8-4C34-9BC9-388D44A5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8A4F-0E45-45DB-A481-17C3D313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9AA-57D3-4000-BAB7-B3D6E413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1AAE-DC92-438E-A83F-6BB2EB34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B244-5031-4581-AF81-4AFD494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4CEF-66D2-4F95-838F-CB39A0A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8FEB-67C8-46AB-BADA-A72F293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BAD2-C180-4787-8241-503B528A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D85D-94C5-4964-9E29-B116A4AC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omething Beautif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beautif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goo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confu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underst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71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thing Beautifu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05360" y="990720"/>
            <a:ext cx="29314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Gloria Gaither, 1971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I had to offer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broken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he made someth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autiful of my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27Z</dcterms:modified>
  <cp:revision>16</cp:revision>
  <dc:subject/>
  <dc:title>PowerPoint Presentation</dc:title>
</cp:coreProperties>
</file>