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8E58-41A7-4CC0-944E-4F69572B7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FD24-F6D6-41F4-8216-7E91B302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631A-1A2C-4CAA-96A5-CD1EEABA8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B3DB-46DD-45C3-90CA-D26FB4934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4586-8734-479C-95AC-15CDB072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A8FA-F276-4E5E-8936-DE238BCE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C797-B9A5-4B9D-AB89-F4FBF16F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604C-D400-4F92-BFCA-38024D14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94C5-71E7-499E-9318-7F8DB3F1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ABBD-CEC5-4D0D-A502-AC604039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EB4A-B7C1-4264-8328-5CFE1A8D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B96B-F93E-4C68-8DA1-1FD2AEE2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928E-EF6D-4626-B474-AD8EF327B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od Be with You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ill We Meet Ag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7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by his counsels guide, 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uphold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47160" y="1600200"/>
            <a:ext cx="337824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Jeremiah E. Rankin, 1880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put his arm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unfailing round you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173240"/>
            <a:ext cx="9144000" cy="4260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, </a:t>
            </a: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(till we meet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, </a:t>
            </a: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(agai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(till we mee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77800"/>
            <a:ext cx="9144000" cy="3737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, </a:t>
            </a: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(till we meet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, </a:t>
            </a: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(agai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 be with you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4. God be with you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keep love’s banner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loating o’er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mite death’s threatening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ave before you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173240"/>
            <a:ext cx="9144000" cy="4260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, </a:t>
            </a: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(till we meet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, </a:t>
            </a: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(agai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(till we mee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477800"/>
            <a:ext cx="9144000" cy="3737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, </a:t>
            </a: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(till we meet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, </a:t>
            </a: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(agai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 be with you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ith his sheep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ecurely fold you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173240"/>
            <a:ext cx="9144000" cy="4260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, </a:t>
            </a: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(till we meet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, </a:t>
            </a: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(agai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(till we mee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737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, </a:t>
            </a: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(till we meet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, </a:t>
            </a: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(agai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 be with you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2. God be with you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neath his wing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ecurely hide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daily manna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till provide you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173240"/>
            <a:ext cx="9144000" cy="4260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, </a:t>
            </a: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(till we meet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, </a:t>
            </a: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(agai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t Jesus’ feet;</a:t>
            </a:r>
            <a:r>
              <a:rPr b="1" lang="en-US" sz="5000" spc="-1" strike="noStrike" baseline="-25000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(till we mee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737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, </a:t>
            </a: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(till we meet,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, </a:t>
            </a:r>
            <a:r>
              <a:rPr b="1" lang="en-US" sz="3600" spc="-1" strike="noStrike">
                <a:solidFill>
                  <a:srgbClr val="66ff66"/>
                </a:solidFill>
                <a:latin typeface="Times New Roman"/>
              </a:rPr>
              <a:t>(agai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 be with you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3. God be with you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hen life’s peril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ick confound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4:50:20Z</dcterms:modified>
  <cp:revision>12</cp:revision>
  <dc:subject/>
  <dc:title>PowerPoint Presentation</dc:title>
</cp:coreProperties>
</file>