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5BB4-AE61-4EE5-BE7A-2F66A6FA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1E4-6CE0-4C35-B347-ACA4CAFA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517-2B4A-4021-8F87-33FA854F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715-E37F-496F-BCF5-5814A7A4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3AB-0621-48D7-827A-6BECB9DF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C116-A12A-4962-B57B-9EE6A96A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111-A6B3-476F-8396-98FBE60A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56C3-0206-4394-B1C7-90654836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C50C-1B0B-4FBE-BC06-83990C71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B483-D3F2-44AD-94E6-D021F0B6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F86-80E3-4E30-8680-6F68AA89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2A33-5880-4444-B710-1C4668AB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F48F-D735-4D84-9DE4-5397E91A2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scue the Peris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Rescue the perish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e for the dy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natch them in pi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sin and the gr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Fanny J. Crosby, 18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Rescue the perish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uty demands i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ength for thy lab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will prov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ck to the narrow 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tiently win them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the poor wander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Savior has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ep o’er the erring 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the fall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them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ighty to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ough they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lighting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he is wait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iting the penit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ild to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lead with them earnest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lead with them gentl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ill for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they only belie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Down in the human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ushed by the temp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lings lie buri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grace can rest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uched by a loving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kened by kin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ords that were brok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ll vibrate once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cue the perish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e for the dy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is merc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cue the Perish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5:49Z</dcterms:modified>
  <cp:revision>95</cp:revision>
  <dc:subject/>
  <dc:title>PowerPoint Presentation</dc:title>
</cp:coreProperties>
</file>