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3D68-0C31-4B87-AA0C-1070880D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C5F-A526-4FD8-8070-EDE14942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E04-6FD8-4264-810C-5A12F973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B50-7744-4DA2-9537-4C308712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D073-95E0-4E7C-8D9B-6B2AF6DD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52C-0F9F-4C46-9883-C2A493F8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E02-6579-4E61-8479-6D81B4AF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710-DBA9-44A9-BCDA-20D12C08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8280-BFE2-4BE2-BD62-8D4289437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B4C-75DF-4602-B704-996D98EA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9FE-DE79-49A5-982C-45F395E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846-EBCE-4151-9C59-3A1DF518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B182-0928-412E-A8B8-4360BC119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mazing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hn Newton, 1779; st. 6 anon. (1 Chr. 17:16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Amazing grac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sweet the s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saved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retch like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62680" y="2239920"/>
            <a:ext cx="622044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poss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the ve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ife of joy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6. When we’ve been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n thousand yea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ight shin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the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88120" y="1859040"/>
            <a:ext cx="55666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ve no less d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ing God’s pra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n w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d first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542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HEROK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OOH NAY THLA NAH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HEE OO WAY GEE.’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E GAH GWO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AH HAY 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herokee phonetic transcription, as sung in Oklahoma Indian Missionary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58040" y="1859040"/>
            <a:ext cx="7026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W GWOO JOE SA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YOU LOW S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 GAH GWO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AH HO NA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Navaj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43000"/>
            <a:ext cx="9144000" cy="50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NAVAJ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IZH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ÓNÍGO JOOBA´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TTS´ A´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ISDÁSHÍÍTÍNÍGÍÍ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Navajo phonetic transcription by Albert Ts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48600" y="2239920"/>
            <a:ext cx="7245720" cy="234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H YÓÓÍÍYÁ, K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HÉNÁHOOSDZI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OO EESH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ÍÍ DA Ń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´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ÉÉ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Kiow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609480"/>
            <a:ext cx="9144000" cy="552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KIO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 K’EE DA HA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TSAHY H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SOW’HAW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 K’EE DA HA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TSAHY 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Kiowa phonetic transcription as sung in Oklahoma Indian Missionary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AY DAWTSAHY TA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AW AYM 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H T’A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W K’EE DA H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WTSAHY H’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reek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066680"/>
            <a:ext cx="9144000" cy="50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R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O YA FEK CHA H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ALT AH TE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H NON AH CHA PA K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reek  phonetic transcription as sung in Oklahoma Indian Missionary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54880" y="2239920"/>
            <a:ext cx="683604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once was lo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now am foun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s blind, but now I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 FEE K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FUNN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K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M E HA TA LA Y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octa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066680"/>
            <a:ext cx="9144000" cy="533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HOCT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SHILOMBIS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HOLITOPA MA!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ISHMMINTI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ULLA CH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Choctaw phonetic transcription as sung in Oklahoma Indian Missionary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AK ILBUSH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IA H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PI YUKPALASH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’Twas grace that ta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heart to f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grace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ears reliev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07440" y="2239920"/>
            <a:ext cx="67294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precious di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grace app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our I first belie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rough many dang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ils, and snar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have already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63680" y="1859040"/>
            <a:ext cx="6415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grace hath br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safe thus f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race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The Lord has promi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od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word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pe secur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36040" y="2239920"/>
            <a:ext cx="62722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my shie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ortion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long as life endu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azing G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Yea, when this fle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eart shall f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ort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fe shall c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14:51Z</dcterms:modified>
  <cp:revision>124</cp:revision>
  <dc:subject/>
  <dc:title>PowerPoint Presentation</dc:title>
</cp:coreProperties>
</file>