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435-7D87-4D62-9586-265E7ABE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086-F982-4FDD-8D07-7A6B5D47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6038-AFEF-4B85-9861-AB277B9E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E23-D197-4686-830E-D39F5F123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AEAC-393E-4B51-91FF-8917D6B7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F844-5F29-468B-B671-DE24DD48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1C8-F5C6-4714-A2EB-06355E4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1D28-DC61-49ED-9DD9-9431C72A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8FB-5CBF-4571-A6D5-F8B43E6E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458-560F-4F0F-86AC-AF31CEB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AB18-332C-4BF3-84D2-6D778DA7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7EB3-4117-4775-B6BD-4CCFF937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FB70-0FD9-417F-B69F-3229588B3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the Beauty of the Ea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For the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glory of the sk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ich from our bi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ver and around us li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0160" y="1066680"/>
            <a:ext cx="406260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olliot S. Pierpoint, 1864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6. For thyself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st Gift Div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world so freely give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at great, gre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of th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ace on ear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joy in heave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Communion 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Christ, our God,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this our</a:t>
            </a:r>
            <a:br>
              <a:rPr sz="5000"/>
            </a:br>
            <a:r>
              <a:rPr b="1" i="1" lang="en-US" sz="5000" spc="-1" strike="noStrike">
                <a:solidFill>
                  <a:srgbClr val="ffffff"/>
                </a:solidFill>
                <a:latin typeface="Times New Roman"/>
              </a:rPr>
              <a:t>sacrifice of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Communion 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For the beaut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each h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day and of the n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ill and vale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ee and fl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un and moon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ars of l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For the joy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r and ey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hear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ind’s deligh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mystic harmon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nking sen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ound and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or the joy of human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other, sist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ent, ch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s on earth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iends ab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gentle though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il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of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e we rai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is our hym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grateful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For thy church,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fteth holy hands ab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fering up 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very sh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r pure sacrifice of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the Beauty of the Eart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36:34Z</dcterms:modified>
  <cp:revision>9</cp:revision>
  <dc:subject/>
  <dc:title>PowerPoint Presentation</dc:title>
</cp:coreProperties>
</file>