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F19-B7A1-4ACD-9631-81F809E4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D427-6F73-4E6F-ABC6-73760157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79D-F58F-4875-B85D-7A8EB84B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E7A-E4C5-4E26-98A3-102DB2E4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B5A8-7928-4496-A8F6-9A28BB6B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EC9B-29C7-4621-8924-2B514C45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83C3-B395-4B3E-8366-9778DE1F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018-813D-4DA7-82E0-534D8FD2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026-3E7A-4507-9619-1C39191E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CC4-B88C-4E80-B8F5-633B2F5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EC0E-7B71-458C-9EC6-452EE29F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52A9-8692-41CF-9929-8235FECB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A198-9D75-4A3E-B03D-1A67DAE5B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458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ng We Now of Christ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3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14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el, sing we her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r our grateful prais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the babe so d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75240" y="1116000"/>
            <a:ext cx="5409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Trad. French carol (Lk. 2:8-20; Mt. 2:1-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Angels call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shepher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“Leave your flocks at res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urney for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ind the child so blest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In Bethlehem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found him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oseph and Mary mil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ated by the mange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tching the holy chi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From th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astern count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ame the kings afar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aring gif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Bethlehe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uided by a s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287360"/>
            <a:ext cx="9144000" cy="3829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e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King is born, Noel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of Christma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we now Noel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Gold and myrr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took ther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ifts of greatest pric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re was nev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stabl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o like parad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 We Now of Christma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43:13Z</dcterms:modified>
  <cp:revision>12</cp:revision>
  <dc:subject/>
  <dc:title>PowerPoint Presentation</dc:title>
</cp:coreProperties>
</file>