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9CE-0391-45B9-847E-35B864C5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838-7484-40D7-A460-12CB6AE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795-255D-409C-86D4-BBBAB54E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A7B-C607-49A0-8918-9E775002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74B5-424C-480A-B5F2-4539FB49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F8F-A4B1-4DE8-BBBF-683B40F9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592-6794-4B50-9358-BA30450E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3D0-680D-4133-9AB0-D9B8940B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458E-D584-4D52-B59F-01D13966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87A9-44E0-4C9D-B792-DDADE695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FE0-F895-44DA-BA3E-504A708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9DF-C476-466E-98A0-6C0727B8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2C53-0B44-4537-BBEE-C9C50ACE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We Know That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hrist Is Ra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We know that Christ 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raised and dies no more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Embraced by death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e broke its fearful hol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permission of John Brownlow Ge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John Brownlow Geyer, 1969 (Rom. 6:3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our despair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e turned to blazing joy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2. We share by water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n his saving death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Reborn, we shar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ith him an Easter lif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s living member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f a living Christ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71480"/>
            <a:ext cx="9144000" cy="53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3. A new creatio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omes to life and grow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s Christ’s new bod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akes on flesh and blood.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universe restore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whole will sing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Know That Christ Is Ra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08Z</dcterms:modified>
  <cp:revision>110</cp:revision>
  <dc:subject/>
  <dc:title>PowerPoint Presentation</dc:title>
</cp:coreProperties>
</file>