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1873-AB2D-43DB-A39F-67D8363D5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FE28-9C92-40E3-996F-D6E9DB4A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27D1-50CF-4F3E-A879-1EB55B24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052F-D3A3-4E75-94F7-D1A8785E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5D78-1ED7-465A-8D51-860A3933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D169-53AE-4489-8F61-7E2D27E0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A40C-B0A5-4132-A853-73B3E1D0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0B94-B0C8-46A0-A750-EB6E4227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FC8F-1D47-4A97-B5E7-584B25B4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8C99-20FE-49B9-9D5E-59430689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227A-7B11-4E7F-9317-D97CB84A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A5E7-B8EB-4353-BD77-91073C3F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109F-92B5-4993-BEA0-0FADFB22D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ake Up Thy Cro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924680" y="228600"/>
            <a:ext cx="121932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Up Thy Cro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85345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harles W. Everest, 1833 (Mt. 16:24-25; Mk. 8:34-35; Lk. 9:23-2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“Take up thy cross,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Savior sai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“if thou wouldst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isciple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ny thyself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orld forsak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umbly foll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fter m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Up Thy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Take up thy cro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t not its we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ill thy wea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pirit with alar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strength shall b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spirit u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race thy he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nerve thine ar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Up Thy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Take up thy cro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r heed the sha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r let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olish pride rebe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Lord for th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ross endur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ave thy sou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death and he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ke Up Thy Cro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Take up thy cro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follow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r think till dea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lay it d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only tho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bear the cro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hope to w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lorious cr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51:42Z</dcterms:modified>
  <cp:revision>139</cp:revision>
  <dc:subject/>
  <dc:title>PowerPoint Presentation</dc:title>
</cp:coreProperties>
</file>