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43E8-F334-429D-8248-EC1BD40C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292-7EDC-47D7-B13B-F4F09C10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13A9-70BD-4BDD-89C9-C917B1E3F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3ED-ABE9-40B9-8C35-4E2D3EA2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C40-488D-41CB-9E0F-8F8187CB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E3A-772E-41BD-AB32-3F53523B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32E-960F-4ADE-8099-8204536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073-6C10-4A22-BB6B-4BBB8389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F81-2F36-4B55-9582-B33DCB8E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755-5794-4020-A3CC-F37D71C0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094-88D6-41FB-B279-79B15366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5B8-EEE6-4D8D-BFA9-7CCB0383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6F72-3F71-42EC-8DE8-66A4CB8F9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and Let Us Sweetly J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and let us sweetly jo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o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ymns div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we all with one acc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to our common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6480" y="990720"/>
            <a:ext cx="291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nds and hea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voices 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as in the ancient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tedate the joy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elebrate the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dear expected Gu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art bidde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fea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yself our hearts prepa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and sit, and banque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nctify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and b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the thy Spiri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thy pe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thyself within us m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our feast a feast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nd Let Us Sweetly Jo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26:44Z</dcterms:modified>
  <cp:revision>42</cp:revision>
  <dc:subject/>
  <dc:title>PowerPoint Presentation</dc:title>
</cp:coreProperties>
</file>