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B68-0A67-42BF-AE9D-14E241E3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FCE1-5000-4DDB-9F6F-8B4023BA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BF9F-DAC4-4867-BB33-45D08B26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8815-A210-47A0-BA34-C85B0FD0B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FE89-C9A3-416C-B770-54424AFC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2B35-4F1F-45A1-AC74-948883D3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723-8E29-484A-83AB-5AEBD0DA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230-1B06-4C7F-8FA9-F74E8E5E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32AD-886D-4E37-BB6A-61995997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D39-CB32-4158-9A5B-91481494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65AA-DA17-4F52-9EC8-1909E76C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7A72-AF44-4624-B47E-E9A9ACB5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1E4E-DB1B-4752-BC59-994EA8C54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ntos y Palmas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Filled with Excitem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2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Mantos y palm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sparciendo, v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l pueblo aleg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© 1972, 1979,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1760" y="1521000"/>
            <a:ext cx="67158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Rub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n Ruiz Avila, 1972; trans. by Gertrude C. Suppe, 1979, 1987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Mt. 21:8-9; Mk. 11:8-10; Lk. 19:36-38; Jn. 12:12-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in the dist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begin to s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iding on a donke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s the Son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comes in th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Hos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Hos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s in that entr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Jerusal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ing hosann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Christ, our K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living Savi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still calls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king us to follow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love and fai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every corn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thousand voices s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s to hi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comes in th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me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one great shout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clamation loud triumpha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ng breaks forth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Hos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to the King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Hosann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to the King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á a lo lej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e empieza a mir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un pollino 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jo de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Como en la entrad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e Jerusal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dos cantamo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Jesús el Re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 Cristo viv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e nos llama h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ra seguirle c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mor y 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ientras mil voc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uenan por doquier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sanna al que vie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n el nombre del Se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tos y Pal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 un aliento d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an exclamac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ón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orrumpen con voz triunfal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Hosanna al Rey!”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“¡Hosann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Hosanna al Rey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illed with exciteme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the happy thr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pread cloaks and branch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city stree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ed with Excite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9:07Z</dcterms:modified>
  <cp:revision>43</cp:revision>
  <dc:subject/>
  <dc:title>PowerPoint Presentation</dc:title>
</cp:coreProperties>
</file>