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735-78BE-4847-A2BE-FE162124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0F72-7B59-43B1-983D-BD4D8156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875-1A6C-4253-B5A9-72987324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AE0-F99B-42B1-B7D3-2C1C911E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369E-01D2-4EDF-A48D-5A34FF05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2FEE-3750-4358-9F38-F3B59CC9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ADF0-3B39-42E4-B949-78AE7145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2E6-2BC6-4F8A-9CDC-7CBA62B0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7F3-BB49-49BF-AA2B-E5A3B2A7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E8A2-739C-4E6D-8585-B5CD3941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7292-99B6-4CB6-BE42-63F96C88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3458-1958-47B6-A099-E926FA49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FAF0-1EF9-45B8-AF3E-11CBAE814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 Jesus Lay i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ath’s Strong B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Jesus Lay in Death’s Strong Ban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Martin Luther, 1524; trans. by Richard Massie, 185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11480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1. Christ Jesus lay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in death’s strong bands,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  <a:ea typeface="Arial"/>
              </a:rPr>
              <a:t>for our offenses give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Jesus Lay in Death’s Strong Ban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4. Then let us feas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is Easter da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n the tru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read of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Word of grac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ath purged awa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old an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cked l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hrist alon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ur souls will fee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is our mea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drink indee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faith lives upo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 other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ut now at God’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right hand he stand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brings u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ife from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herefore let us joyful b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sing to Go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right thankfull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ud songs of Allelui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Jesus Lay in Death’s Strong Ban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2. It was a strang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dreadful strif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hen life an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death contend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victor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remained with life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reign of deat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as en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Stripped of powe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 more it reign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 empty form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one remains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death’s sting is lost forever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Jesus Lay in Death’s Strong Ban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3. So let us keep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festival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hereto the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invites u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hrist himself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joy of all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Sun that warm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lights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y his grac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doth impar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ternal sunshin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o the heart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night of si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is ended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53:33Z</dcterms:modified>
  <cp:revision>80</cp:revision>
  <dc:subject/>
  <dc:title>PowerPoint Presentation</dc:title>
</cp:coreProperties>
</file>