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6B6-4BCB-4D3A-888C-A2B990EC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48C-1F4D-497C-B5C8-8999407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8CD-F186-46A9-B88A-D3683CAE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EBE-D984-4F43-AC32-C9484273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F0E-0590-4543-BC0C-4A823CD0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BDE-A051-48CA-B51E-D8926E61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5E1-08D9-4413-81A9-42E362D3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748-0381-40E9-B695-335FE987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7F8-ABD2-4A65-AB57-B00C2BAB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D5F-6887-4866-AFB3-468DFAF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1E7-D038-43F2-8456-89B7BB4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6BA7-A654-46BB-AF3E-D91184D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5FCC-3FD9-4534-B4A4-2AB86707D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East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enantius Honorius Fortunatus; trans.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English Hymnal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,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004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All the fai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eauty of eart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ea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winter ari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ery goo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ift of the y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w with i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aster returns: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rd was rai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king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ingdom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Rise from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rave now, O Lor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author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fe and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reading the pathwa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f deat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ew life you giv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us 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Ea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42:39Z</dcterms:modified>
  <cp:revision>81</cp:revision>
  <dc:subject/>
  <dc:title>PowerPoint Presentation</dc:title>
</cp:coreProperties>
</file>