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81C-F9EF-49DF-A56D-A65CCCF3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92F-2F99-4CCD-84E1-EE8D3430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B6C-B141-4235-B84D-DAF6203E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8BE-795E-42F8-9FDA-670A282C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A30-B9B5-438C-BB05-5A52D03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3723-350C-4077-B890-681727A7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1EB-9A47-4DCC-B386-68A6A44A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9FF-40CD-4853-8096-0BEC383F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314-9604-4CEE-84EA-6990EEFE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B98-8081-40AF-B64E-8284338E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060-B23B-42BD-8FBD-27483773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CC2-C204-4B6B-9D57-339FA40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6333-DCA0-435B-A876-81FE10A37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On Eagle’s W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89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will lift you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gle’s w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 you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th of da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9, 1989 North American Liturgy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Eagle’s W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1760" y="990720"/>
            <a:ext cx="4740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Michael Joncas, 1979 (Ex. 19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you to s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ld you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lm of God’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41Z</dcterms:modified>
  <cp:revision>37</cp:revision>
  <dc:subject/>
  <dc:title>PowerPoint Presentation</dc:title>
</cp:coreProperties>
</file>