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675-122D-48CF-8266-3E7A27F4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00BE-C845-40D9-A550-9B430856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7A91-B129-40B4-8B0F-1FCCBC69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578-DD84-4D8B-B959-FC343F01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78F-EBDF-416B-A174-2ABBBD54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8CA-7CCE-4847-BF1E-6BC5C676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FBF5-0E05-49C1-A35F-3884EF00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0AC5-A8A6-431B-B53F-65F70F88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6F91-AE7B-42EE-84E8-E2E8FD26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0B85-6B9E-401F-A6E8-AF6F384A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F7C-7687-4A86-879A-CB28BA8F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3DD0-9338-4B10-847F-3519BD65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F5E1-62D6-4212-B9EA-2E2D9B6DC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re’s a Song in the 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ere’s a song in the air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’s a star in the sky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’s a mother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ep pray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 baby’s low cr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160" y="1116000"/>
            <a:ext cx="3512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osiah G. Holland, 18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star rains 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re while th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utiful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mang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ethle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adles a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re’s a tumult of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the wonderful bi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virgin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eet b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the Lord of th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y! the star rains 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re while th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utiful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mang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ethle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adles a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n the light of that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e the ages impearl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at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f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 swept over the wor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hearth is afl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beautiful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home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ations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is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We rejoice in the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e echo the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comes d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the n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heavenly th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a Song in the Ai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y! we shout to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ly evangel they b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e gr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is cradle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ior and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6:09Z</dcterms:modified>
  <cp:revision>8</cp:revision>
  <dc:subject/>
  <dc:title>PowerPoint Presentation</dc:title>
</cp:coreProperties>
</file>