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0D13-207E-48D1-B764-8CF06A3C7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40C2-827D-4DC4-A3DA-D5533EAC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AE48-C404-460F-AC88-5F87F2EE7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70D4-67A7-4E34-B30F-9B6AC5187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83D0-4B07-4CA6-A298-E25222E6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E9D3-3620-4C35-9A72-D275B667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E413-745E-491D-A06A-2666FC43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EA83-0293-43F9-BD88-E2518C2E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113E-A591-453E-9F48-F16CD741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0257-648F-41AA-A3B5-3CC3C327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7D10-B1D3-48B3-9587-947C83CE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82E9-BEC1-492C-9895-11A38834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6337-41F6-4F37-BDA9-BE8133F4E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od Whose Love Is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igning o’er 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4068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God, whose love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igning o’er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urce of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ending tru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© 1980 William Boyd Gr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, Whose Love Is Reigning o’er 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80040" y="1625760"/>
            <a:ext cx="4182840" cy="39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William Boyd Grove, 19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ve we th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human choic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ves tha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ke our music, sing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, Allelui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ined in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praises r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r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iversal chor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aised in joyfu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o you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, Allelui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ship ancie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ship ne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Word of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nature bring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ringtime gre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utumn gol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, Whose Love Is Reigning o’er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untain stream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ke children sing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cean waves lik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under bold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, Allelui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creation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le is to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Holy God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cient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oosing m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oman, too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, Whose Love Is Reigning o’er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br’am’s fa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arah’s st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med a peop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und to you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, Allelui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your covena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eep us tru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Covenant, ne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gain in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r-child bor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et us fr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, Whose Love Is Reigning o’er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nt to heal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nt to teach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love’s childr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might b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, Allelui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isen Chri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Savior h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Lift we th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human voic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so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faith would br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, Whose Love Is Reigning o’er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08T20:46:39Z</dcterms:modified>
  <cp:revision>17</cp:revision>
  <dc:subject/>
  <dc:title>PowerPoint Presentation</dc:title>
</cp:coreProperties>
</file>