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FDA2-F8B9-4044-AE78-C22C3EB3E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A4B7-53FB-453C-A99A-39270400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4891-C3AB-47E4-8D94-090BB6E9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A6E5-4E2E-40D5-A0E1-6D8EE79D9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96E1-3B71-48E7-A7E5-0F5BAA66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2059-99CE-4B29-83D4-E76C6422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1EAC-ECCA-4176-A348-746DEAE3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91C0-8445-47D2-8E24-900C1342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4657-04BE-41E1-A6DD-08FACF5E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BEA5-3621-43EE-B59C-8AE83607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F493-C331-42BF-B5A5-D4885A5D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5B25-612A-4A8E-992E-94F6AA07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23E3-AFC9-4E31-8701-137179C43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86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esus, United by Thy Gr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382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Jesus, united by thy grace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and each to each endeared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with confidence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we seek thy face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and know our prayer is hear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United By Thy G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Charles Wesley, 17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Help us to help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ch other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ch other’s cross to bear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all their friend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id aff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eel each other’s c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United By Thy G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Up unto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living Hea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us in all things grow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thou hast ma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s free inde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potless here be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United By Thy G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9907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Touched by the lodesto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y l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all our hearts agr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ever towa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ch other m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ever move toward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United By Thy G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To thee, inseparably join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all our spirits cleav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may we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loving mi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was in thee rece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United By Thy G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6. This is the bo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perfectne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spotless charity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let us, sti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pray, poss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mind that was in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United By Thy Gra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20:09:41Z</dcterms:modified>
  <cp:revision>68</cp:revision>
  <dc:subject/>
  <dc:title>PowerPoint Presentation</dc:title>
</cp:coreProperties>
</file>