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D63-53B2-4CB0-B697-5F31EC83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22B6-0154-47F7-9063-18988B257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CE6-633E-4CC6-B5E6-17A35DCA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D15-51DE-479F-BC85-282566A0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7BE-75BC-467F-A76C-C1D64EF6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664-0A21-439B-B902-8BAADA7C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68C-E7CC-40B7-8041-A375E9DF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76F-1216-49D1-946C-D684B229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1D9E-BF0D-4EB2-81DB-80153A7B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447-EEC2-4F15-9C2B-153A40B3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913F-0773-4FD9-9493-621B8C23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8015-48A1-416D-BF52-07CEC8EF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77D4-E906-4168-8D91-A78B3BB49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a Frien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 Have i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What a frien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e have in Jesus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ll our sins and griefs to bear!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hat a privilege to carry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everything to God in prayer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oseph M. Scriven, ca. 18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what pe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often forfe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what need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in we b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because we do not car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thing to God in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ave we tria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mptations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there trouble anywhere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ould n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discourage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it to the Lord in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n we f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friend so faith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will all our sorrows share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kn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every weaknes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it to the Lord in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34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 Friend We Have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re we wea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avy lad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mbered with a load of care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our refug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it to the Lord in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 thy friends despise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sake thee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it to the Lord in pray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is arms he’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and shield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wilt find a solace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4:00Z</dcterms:modified>
  <cp:revision>52</cp:revision>
  <dc:subject/>
  <dc:title>PowerPoint Presentation</dc:title>
</cp:coreProperties>
</file>