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A3B8-25C4-42CA-9B7F-C7408C86A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A5CB-C596-4D24-B88A-B2C091618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E825-CD3B-4359-9F46-03D02E037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77B7-B74D-40C6-8D89-BB5DE099D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2B3E-F8AA-4FD1-B90D-C1EFDECCB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69C2-0F20-4B62-AF2B-89131368C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2C87-5CD6-4B1C-8525-12D33AFB0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086D-355F-4BBF-B4CE-9E6CB9382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EF0B-D248-4236-8579-0051576F3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12BA-34C0-4F99-9C67-4EDC1D5A4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6188-A6FB-4214-ADDE-3FEC0F6B5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4895-904D-47FC-A92C-FFE5EFE17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1BFE9-FE95-49D1-B259-F1B9E98B61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I Want to Walk as a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Child of the Ligh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20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048120"/>
            <a:ext cx="9144000" cy="33066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1. I want to walk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as a child of the light.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I want to follow Jesu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ff66"/>
                </a:solidFill>
                <a:latin typeface="Times New Roman"/>
                <a:ea typeface="Arial"/>
              </a:rPr>
              <a:t>© 1970, 1975 Celeb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Want to Walk as a Child of the Ligh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466000" y="1614600"/>
            <a:ext cx="42328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WORDS: Kathleen Thomerson, 196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28195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When we have run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with patience the race,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we shall know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the joy of Jesu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In him there is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no darkness at all.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The night and the day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are both alik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Want to Walk as a Child of the Ligh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25146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The Lamb is the light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of the city of God.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Shine in my heart,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Lord Jesu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3623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God set the stars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to give light to the world.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The star of my life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is Jesu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In him there is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no darkness at all.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The night and the day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are both alik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Want to Walk as a Child of the Ligh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5146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The Lamb is the light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of the city of God.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Shine in my heart,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Lord Jesu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28195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2. I want to see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the brightness of God.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I want to look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at Jesu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Want to Walk as a Child of the Ligh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20574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Clear Sun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of Righteousness,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shine on my path,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and show me the way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to the Fath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In him there is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no darkness at all.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The night and the day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are both alik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Want to Walk as a Child of the Ligh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25146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The Lamb is the light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of the city of God.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Shine in my heart,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Lord Jesu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24382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3. I’m looking for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the coming of Christ.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I want to be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with Jesu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Want to Walk as a Child of the Ligh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13T15:08:34Z</dcterms:modified>
  <cp:revision>53</cp:revision>
  <dc:subject/>
  <dc:title>PowerPoint Presentation</dc:title>
</cp:coreProperties>
</file>