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062-DA96-4AFE-8771-5F485427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DA3-B6F7-489F-9386-BD9EDD01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20A2-1193-4C74-9748-5B071264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7F9-83FC-4C84-A4B0-ED172614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1D8-8648-406E-B1B2-A3990730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FC7-A80A-48C5-9619-D09F71AD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E580-374E-4773-9470-BD73CCA4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673-8CAB-4E12-BE38-A1B10E22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298-49BC-4AC6-9A57-A8BB2DA8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D61-CD5F-4426-A85B-69852FC6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B56-4F9B-45A8-ADB0-D0911EC5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0F7-6D60-4D8E-8820-CBA7523F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7EEA-9336-4233-B760-17D5B032C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ay Is Dying in the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Day is dying in the west;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is touching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earth with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3680" y="1066680"/>
            <a:ext cx="39052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ary A. Lathbury, 1878 (Is. 6: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hrough the glory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nd the grac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f the stars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hat veil thy fac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ur hearts asc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4. When forever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from our sight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pass the stars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he day, the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ord of angels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n our eyes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et eternal morning ris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nd shadow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4778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wait and worship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while the night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sets the evening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amps alight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hrough all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2. Lord of lif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beneath the dom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f the univers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hy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gather us who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seek thy fac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to the fold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f thy embrac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for thou art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oly, holy, holy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full of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ven and earth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are praising thee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O 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3. While the deepening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shadows fall,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heart of love</a:t>
            </a:r>
            <a:br>
              <a:rPr sz="5000"/>
            </a:br>
            <a:r>
              <a:rPr b="1" lang="en-US" sz="5000" spc="-1" strike="noStrike">
                <a:solidFill>
                  <a:srgbClr val="99ff99"/>
                </a:solidFill>
                <a:latin typeface="Times New Roman"/>
              </a:rPr>
              <a:t>enfolding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Is Dying in the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7:14Z</dcterms:modified>
  <cp:revision>25</cp:revision>
  <dc:subject/>
  <dc:title>PowerPoint Presentation</dc:title>
</cp:coreProperties>
</file>