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10C5-52CD-4851-911E-C5CEBD7C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C81-2569-40DB-89BA-84B6F6A8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E4AF-0E42-4D30-AD30-454F96D3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E66-053E-483E-9E7B-43593227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0B1-C2FD-4A1F-B022-B3C4CD6B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C152-862C-48C6-B5B1-F4096DA9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281-D08F-45C7-9427-00EC7E46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AE58-D6EE-4F3E-95F4-9CF52729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3E0A-3E47-4501-8E60-F3F0DD1D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882A-CECE-4997-8A48-2ECC1FD8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412-543F-40B1-986A-F8FA9A32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1895-FBC7-475C-97B1-241C2958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B6CA-0E93-4B10-946C-4033EA488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77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is Finished! The Messiah 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’Tis finishe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essiah d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ut off for si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not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Finished! The Messiah D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40" y="1066680"/>
            <a:ext cx="9088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ORDS: Charles Wesley, 1762 (Jn. 19:3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ccomplished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crif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reat redeem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k is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 veil is ren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hrist al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iving 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eaven is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Finished! The Messiah D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iddle w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broken d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enter 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’Tis finishe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my guilt and p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n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crifice bes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Finished! The Messiah D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me, for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amb is slai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tis finishe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just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e reign of s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eath is o’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may l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sin set f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Finished! The Messiah D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tan hath l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mortal pow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tis swallowed u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9:35Z</dcterms:modified>
  <cp:revision>45</cp:revision>
  <dc:subject/>
  <dc:title>PowerPoint Presentation</dc:title>
</cp:coreProperties>
</file>