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C53-FC7F-4231-A5F4-3445917E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D49-3474-4689-BA35-470B681D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712-EFCF-49C7-9268-296A3CE7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30C-77DD-485E-BC1A-BE6A8B34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7AD9-63DE-4C04-9C8C-B9A8E06E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F68-3F45-47CB-82C2-8903CF4F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6DC-A352-45FF-A6E7-EB7D2340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0B4-6EA3-480A-8C14-CFD93F64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BE7-0FA7-4C61-87C0-99086578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F294-2612-45C1-BF75-434BCA9C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6AED-BC9B-462A-BF59-39C7F508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048-0245-4B54-849B-06349AF0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1FCC-9FFB-4CBC-BF50-781FFD6B7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e Who Claim the Faith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1. Ye who clai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faith of Jes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ing the wonder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at were d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66"/>
                </a:solidFill>
                <a:latin typeface="Times New Roman"/>
                <a:ea typeface="Arial"/>
              </a:rPr>
              <a:t>St. 4 © 1982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06480" y="1004760"/>
            <a:ext cx="55328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ts. 1-3 Vincent Stucky Stratton Coles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. 4 F.  Bland Tucker, 1982 (Lk. 1:26-55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4. “Magnify, my sou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God’s greatnes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my Savi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 rej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ll the ag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call me bless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his prai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 lift my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e has cast dow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ll the might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nd the lowl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re his choic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when the lo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of God the Fath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over sin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victory w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when he mad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Virgin Mar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mother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is only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2. Blessed we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chosen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out of wh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Lord did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lessed wa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land of promi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ashioned f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is earthly h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but more blesse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ar the mo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he who bor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him in her womb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3. Therefore l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ll faithful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ing the hon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of her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e Who Claim the Faith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et the churc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her foreshadow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part in h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anksgiving clai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what Christ’s moth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ang in glad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et Christ’s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ing the sa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1:30Z</dcterms:modified>
  <cp:revision>51</cp:revision>
  <dc:subject/>
  <dc:title>PowerPoint Presentation</dc:title>
</cp:coreProperties>
</file>