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ACF-F594-4940-A115-3E280457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E09-88B7-4DA0-B111-A12A914D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407-A2A4-41F8-BD83-0C45071D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039-2762-4FFE-A36A-F080B400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50A-82F0-43F9-B21E-ECCD844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C085-BC61-4114-8EB8-ABE8905F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10F-1EC3-423D-8B23-D4F40259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762-6B3D-48AD-8907-4317BCA5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C75-E388-4EBE-B2C4-47AE46B2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3C0A-6697-46D0-A776-FC708821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760-AE3D-4D6E-94B0-63AC04F7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E6B-F798-464F-8A2C-E10A0CB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9218-A9D8-47D7-B7B6-A6F71627A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Is 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9144000" cy="542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someone here moving toward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twilight of life and fearful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which we call dea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be afraid? God is 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3 Martin Luther King, J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Is 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8000" y="914400"/>
            <a:ext cx="5147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artin Luther King, Jr., USA, 20th c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someone here on the brink of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pair because of the death of 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oved one, the breaking of a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riage, or the waywardnes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f a child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76520"/>
            <a:ext cx="9144000" cy="280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despair? God is able to give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 the power to endure that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ich cannot be chang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920"/>
            <a:ext cx="9144000" cy="59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Leader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s someone here anxiou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cause of bad heal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People: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y be anxious? Come what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y, God is 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All: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urely God is 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1:03:30Z</dcterms:modified>
  <cp:revision>24</cp:revision>
  <dc:subject/>
  <dc:title>PowerPoint Presentation</dc:title>
</cp:coreProperties>
</file>