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4357-AE67-42EC-B153-C3F47CB4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C0DC-BCAD-4E56-A606-8589A2C4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F930-61C9-4296-825D-864ECE85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508A-BE9B-4A2B-94C9-6077F820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7C0-7564-4C6C-9C99-3F4BE3FE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FFE-2705-40BE-BFBA-FB075F31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6CE-B1C3-49A5-AA71-938B098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314-ABEE-45A7-A823-3A49E44D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9665-A427-4E79-AC33-67D6C0B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1E1-3858-481C-AC37-DD7231E6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5E2-470D-4BF2-9C30-BF8ECDD5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D86-27E4-4BBD-B482-764ED625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B9E4-54B5-464D-AE4D-62BD8236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50200" y="1701720"/>
            <a:ext cx="6846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Perronet, 1779; alt.  by John Rippon, 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 troph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 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0:15Z</dcterms:modified>
  <cp:revision>16</cp:revision>
  <dc:subject/>
  <dc:title>PowerPoint Presentation</dc:title>
</cp:coreProperties>
</file>