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18B9-B592-4DF6-94CB-D04EAAE2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985-B490-4004-A55E-F9638CCB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BB6-3B71-4DE0-B78B-E8D651EC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1B7-8B83-4897-A237-7CFA68D9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674-D2BC-4B0E-9725-6ECECB4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360-A9CD-4986-8628-FE6E075C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0F2-541A-472F-B724-336C3ABD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B0D-E70E-48A5-807B-9599D412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71AB-A807-4B26-B671-F481DEF9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87D6-C1DA-41AB-B23B-0CD6AC78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C3A-EDD1-4836-AC45-BB1F9D0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69D-5444-4376-BA40-8D25FA31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FEF1-6792-497D-B6E1-F9189374A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Praise to Go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Reign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Sing praise to G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 reigns ab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all creatio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powe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l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od of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760" y="1536840"/>
            <a:ext cx="79304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Johann J. Sch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tz, 1675; trans. by Frances E. Cox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, 1864 (Dt. 32: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ling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is 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faith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rmur still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Lord is never far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distr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ever pre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and st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eac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and bles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a mo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er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gently l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osen ban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us, a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some way al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ing aloud thy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earth may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tefu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wearied rais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joyful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,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soul and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your par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t all who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hol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God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glo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who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ower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ud the wondrous s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Praise to God Who Reign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st each false ido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its thr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is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 alo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praise and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05Z</dcterms:modified>
  <cp:revision>42</cp:revision>
  <dc:subject/>
  <dc:title>PowerPoint Presentation</dc:title>
</cp:coreProperties>
</file>