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D152-EFA8-445D-8ECC-149A3742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9D39-C8B7-4E2A-8723-1E5DFCC7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4123-33AE-4DBD-9AF7-AC0EAEBF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CF22-E8F8-4863-B5A6-4B9DF6514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EE3F-686C-4189-8E25-20172F5E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BF2C-F5DA-4770-86F9-FD7A6381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3126-9361-4F33-AF0D-A2A3A25C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10C7-167E-4896-8346-1E5FD660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BF23-EC6F-4DEC-8612-3F31AACF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F460-92CD-43E5-8492-9EBE1898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49B9-75A2-450F-87B2-6F8BE44D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68C0-26BD-4869-B67F-38A1D132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2EB8-36CD-4FB6-B5B6-9023CFFD5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ecause Thou Hast Sa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Because thou hast said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Do this for my sake,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ystical br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gladly partak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Thou Hast Sai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harles Wesley, 17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thirst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pir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flows from ab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ong to inher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fullness of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’Tis here we look u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rasp at thy mi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’tis here that we hop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ne image to fi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Thou Hast Sai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eans of bestow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gifts we embrac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all things are ow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Jesus’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5:44:58Z</dcterms:modified>
  <cp:revision>136</cp:revision>
  <dc:subject/>
  <dc:title>PowerPoint Presentation</dc:title>
</cp:coreProperties>
</file>