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7FB-0799-4945-A970-9569D3B2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CCE-6D95-442E-9ADE-A203A7F8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1D0-0A58-45CB-AA0C-23ACE8DD4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6FD7-90A9-45D4-8F3A-5FD8A4C5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069-4A03-4CC1-B156-4A6F296D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30AD-5420-4E26-AA3E-703A659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C2B9-0BA4-4D4E-BA02-92C624DE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DDD-FA92-49A6-B82D-F1089C00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F36-EA8A-4394-ABA6-3C96755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097-E9FD-49BE-AF99-5B183474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88D-77EA-49E6-BD41-60D9BD83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025-8988-474D-956E-55EB01A6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9D29-9811-4235-93F3-BA79ABFE1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nd Up and Bless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mes Montgomery (Neh. 9: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Stand up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the L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e people of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is ch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Lord your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heart and sou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ough hi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bove all prai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bove all blessing hig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o would not fea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is holy na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aud and magnif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for the living fla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his own altar brou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ouch our lip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minds inspi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wing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ven our thou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Up and Bless the Lord 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is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 and so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his salvation our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n be his lo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Christ proclaime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all our ransomed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up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the Lor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Lord your God ador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up and b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is glorious na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nceforth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 Up and Bless the Lord 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7:58Z</dcterms:modified>
  <cp:revision>156</cp:revision>
  <dc:subject/>
  <dc:title>PowerPoint Presentation</dc:title>
</cp:coreProperties>
</file>