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D8C0-7441-4E19-A52D-16AEC05D2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102C-B452-4B49-95AF-7135420C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1F8B-53FB-4EDA-BE4F-E38530008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AE37-73D8-49E0-9060-06EF4068D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949C-5393-4654-8F52-D8558AFB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F8C6-C435-4589-99A4-8734FF0CF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0963-11B6-49E2-91E5-4E353D22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10D1-BB9D-4210-BA1A-A9866291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17A5-3CCC-4BB1-97F1-36CBC84C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DAB3-5789-40F9-84CF-BB8C53D1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586B-F4B3-4225-95AB-8C2EE08C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B041-FBB8-4F07-A39D-04DA5928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3F28-CFFD-4163-BBEB-519BA9954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229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lessed Be the God of Isra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0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320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1. Blessed be th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God of Israel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ho comes to set us free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ho visits and redeems us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d grants us liber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Times New Roman"/>
                <a:ea typeface="Arial"/>
              </a:rPr>
              <a:t>© 1973 Hope Publishing 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Be the God of Israe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39480" y="1090440"/>
            <a:ext cx="44874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Michael Perry, 1973 (Lk. 1:68-7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6002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prophet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spoke of mercy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f freedom and release;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God shall fulfill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promis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o bring our people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2. Now from th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house of David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 child of grace is given;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 Savior comes among u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o raise us up to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Be the God of Isra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96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Before him goe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herald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forerunner in the way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prophet of salvation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harbinger of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6765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3. On prisoner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f darknes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sun begins to rise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dawning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f forgivenes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upon the sinner’s eye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Be the God of Isra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5238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o guide the feet of pilgrim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long the paths of peace;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 bless our God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d Savior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ith songs that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never ceas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3T15:12:51Z</dcterms:modified>
  <cp:revision>53</cp:revision>
  <dc:subject/>
  <dc:title>PowerPoint Presentation</dc:title>
</cp:coreProperties>
</file>