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577-4AE6-4C3E-8BA0-1401A0E4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A0B-0704-4772-B678-8C26E5DF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70F-68A8-41CF-A894-EBF0552A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5A6-A916-4AD3-A168-EFD1FA35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E2E-5505-4CD2-A0EA-F4F3FD33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0E6-C396-4FA0-8E90-3F3FAD48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6A1-3179-45BC-A6B1-E5B1ECD9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4E2-1D35-410E-BBEC-22120075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C46-B7B7-413C-A242-4D2B751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F22-FC2C-428A-A2EF-2E366682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86E-A9D9-4EDB-9158-3F6C20A2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114-D2A0-44A0-BB61-E8AA863C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323C-1ED2-4127-AE8F-8F55AA9B9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Are We Yet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And are we yet aliv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see each other’s face?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Glory and thank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o Jesus giv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or his almighty grace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Preserved by power div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full salvation 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 in Jesus’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we jo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his sigh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at troubl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we s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mighty conflicts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ghtings withou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ars with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ce we assembled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et out of all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bro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is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he d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help aff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ides our lif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en le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our bo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redeeming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ave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utterm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can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us take up the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the crown obt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ladly reck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ings l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we may Jesu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Are We Yet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9:53:21Z</dcterms:modified>
  <cp:revision>58</cp:revision>
  <dc:subject/>
  <dc:title>PowerPoint Presentation</dc:title>
</cp:coreProperties>
</file>