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3510-3AD0-4956-AE99-AF897559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A8C-788E-488F-98E8-4B79B53D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A2D-6B40-4416-A490-5AAAE2A3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6F5-181C-435A-BFA1-A180D30A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F98-569F-4BBC-BAEC-DCBB0A8B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FDBA-97C1-4800-882C-B8F3AC8B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C21-69D2-4D09-8F2C-F0B6ABAD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BB2-0D24-4FD2-809F-BD40F0D2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DF9-B62B-4A6A-9BF6-BC3D5841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6F1-E2C7-41EC-9F80-E98336B2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24A-EB97-4A34-8B9B-B39B36A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20E-31AE-4D83-BC05-7F742CB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E1A6-0B66-4716-AA4B-4692F890F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cious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ake the nam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f Jesus with you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hild of sorrow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of wo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8120" y="1066680"/>
            <a:ext cx="3965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ydia Baxter, 1870 (Phil. 2:9-11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his lo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s recei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is so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tongues emplo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t th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b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ing prostra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his fee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g of k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eaven we’ll crow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our journ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will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fort give you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it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11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ake th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shie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y sn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temptat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nd you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the that ho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n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12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99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412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name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Precious name,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w sweet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O how sweet, how sweet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the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of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it thr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ouls with j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cious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01Z</dcterms:modified>
  <cp:revision>8</cp:revision>
  <dc:subject/>
  <dc:title>PowerPoint Presentation</dc:title>
</cp:coreProperties>
</file>