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F89D-E0D7-4E2F-B2E6-29911CF2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9917-F2A1-4612-B401-3371E430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699-2539-4FB1-BE89-BF642FC81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529-B3BA-4E01-BA29-F5BAAD48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255-AA92-4136-81A6-A7D16E4F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E8E-031D-4810-A793-BA9DEDB1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82D-D7C9-4F93-9141-BF524336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2ADF-3A16-4324-92DB-049560AF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5B68-B092-492C-9C03-527E22ED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380-8AC7-42EE-9464-8613B682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19F7-1371-4816-9AE3-5E848C97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BC3-2194-4C18-B7F6-AD8DF559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812E-0E34-4352-98EB-2E21F905A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First One 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75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The first one ever, 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h, ever to know of th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irth of Jes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as the Maid Mary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as Mary the Maid of Galile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0, 1983 Linda Wilberger E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3160" y="1039680"/>
            <a:ext cx="8475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Linda Wilberger Egan, 1980, alt. (Lk. 1:26-38, 45; Jn. 4:7-26; Lk. 24:1-1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she who believ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lieves in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 was M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aid of Galil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she who belie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first one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ever to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Messiah,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he sai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I am he,” wa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maritan wo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rew from the we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she who perceiv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perceive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blessed is s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perce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was the Samaritan wom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rew from the we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ed is s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she who perce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first ones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ever to know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sing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glory to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re Mary, Jo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gdale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rst One E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ed are th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they who s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blessed are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ee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blessed are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were Mary, Jo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gdale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essed are th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they wh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2:48Z</dcterms:modified>
  <cp:revision>33</cp:revision>
  <dc:subject/>
  <dc:title>PowerPoint Presentation</dc:title>
</cp:coreProperties>
</file>