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8EE3-D7CB-4B65-9C2F-001133C1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CD5-9EFA-43E3-A0EB-A1978F50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6ED-D958-4836-B671-CFF1A73C4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F680-1633-469C-ADCE-DCCF6A9D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B6F-D493-4C52-8C8B-BCA61D8F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CC32-2C33-41E5-B828-E72702D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6EDB-B92C-41CE-8D8E-D89A426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F23C-21AE-488E-981D-A3E22B11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EFB-5F0E-48B4-8118-96BDDE7A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5C3-E34F-4CAC-A8F8-07B5FAAD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DCB4-705A-4ACE-808A-79083F14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6C2A-0A53-402C-9879-1410C9D9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4C94-79ED-4230-8856-F6AB11CD3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God of Abraham Pra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The God of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braham prais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reigns enthroned above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cient of Everlasting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ays, and God of lo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4480" y="1166760"/>
            <a:ext cx="5880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From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The Yigdal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of Daniel ben Judah, ca. 1400;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para. by Thomas Olivers, 1760; al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1219320"/>
            <a:ext cx="861048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hovah, great I AM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earth and heaven confess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bow and b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cred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bles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e great I 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s swo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on this oath depend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, on eag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gs upborne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heaven asc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hold God’s f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od’s power ad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g the wond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od’s grace 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heavenly land I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peac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enty bl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land of sacred liber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ndless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mil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ney f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il and wine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rees of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gr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mercy crown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 God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s on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eat archangels 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“Holy, holy, holy!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y, “Almighty K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d of Abraham Pra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was, and is,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more shall be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hovah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eat I 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orship the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18Z</dcterms:modified>
  <cp:revision>32</cp:revision>
  <dc:subject/>
  <dc:title>PowerPoint Presentation</dc:title>
</cp:coreProperties>
</file>