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88C-6B2E-45B7-82EE-9F16FF23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2B15-427B-45D9-A037-FC4592C9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0F0-C924-4762-9D34-290FDF1A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29D2-E98D-47A2-869D-7F81942B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E8F-69A2-463F-99F9-A83D4EB6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BAA-97C8-4820-87A3-50683466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EC9-F715-4B20-9662-09B9BD34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84E-E816-4F28-AD94-023B15F3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B44-637A-4C8D-B7AF-E3E3210E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F2A-9BF8-4FF0-B16C-E00840F0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D8D-D986-464B-95F2-D1E4506F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990-3E18-49BA-9D61-5341894D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DB0C-B03C-4F22-8EE2-A84311067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, Thin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-Victorious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Jesus, thin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-victoriou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ed in m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 abro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2800" y="1600200"/>
            <a:ext cx="2919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hall my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longer r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ooted and fixed in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that in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cred fi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ght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gin to g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rn up the d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ase desi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k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untains flow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that it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heaven might f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s consu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Holy Gh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e I c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 of burning, c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Refining fi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 through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lluminate my sou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ine All-Victorious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catter thy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every p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anctify th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20:14:59Z</dcterms:modified>
  <cp:revision>13</cp:revision>
  <dc:subject/>
  <dc:title>PowerPoint Presentation</dc:title>
</cp:coreProperties>
</file>