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43AF-6CA0-4716-A5D9-347581D99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FB33-7668-4270-BB13-02D2E499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66CD-3F79-4F3A-9DCD-707BBA9D9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75EA-4258-4C77-B312-FD4571548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76FB-0E0F-4AF9-8112-9B471C93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7B0B-6D36-478F-A578-B45AA25C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2E40-771A-4BE4-92BB-39D68F36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C7D4-E74A-4D1B-9198-54834F43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F66A-B897-430C-A20F-EA643077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A203-B28E-4927-9CE2-500F2F2D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E28D-8BBA-46AE-A073-B11B670C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4EFA-7E09-496A-94BC-10320892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E56E-6EC6-4F61-A63A-498CA6FD4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rise, Shine Out,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Your Light Has 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Arise, shine ou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light has co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folding cit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our dreams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89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se, Shine Out, Your Light Has Co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49320" y="1600200"/>
            <a:ext cx="36007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Brian Wren, 1986 (Is. 60:1-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love shines ou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every f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good, our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de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distant hill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glory gleams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new creat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s begu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Above earth’s valley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ck with n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gh on your wall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dawn appear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se, Shine Out, Your Light Has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ist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dry its tea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nations mar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ward your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From walls surpas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me and sp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numbered gat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ke open hand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se, Shine Out, Your Light Has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gather gif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all the lan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elcome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uman 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The sound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violence shall cea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dwelling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lvation ris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se, Shine Out, Your Light Has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parkle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ternal ski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avenue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and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The dancing ai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glow with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un and mo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 up their pl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ise, Shine Out, Your Light Has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0:27:22Z</dcterms:modified>
  <cp:revision>56</cp:revision>
  <dc:subject/>
  <dc:title>PowerPoint Presentation</dc:title>
</cp:coreProperties>
</file>