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5AB-25CD-4175-A981-7402FA2D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653-4766-4AA0-A805-9ABD608B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ABE-5DC2-4C0E-9059-74C9B08B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3A8-DDCF-4B4E-B557-386B809A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57F-FCBE-4DA8-AD06-2D32B98B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800-70BB-4A29-9052-F48DC49C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CA6-8783-48B5-9806-EF4D405E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C54-B631-4E6E-8A6D-D283BFE0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2A39-8084-41D6-9DDF-AD440361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3DB-667B-43D6-9C89-E1663D3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8DA-6CD3-4433-B5C8-7552A7E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02D-EB92-4936-B82A-7186A2F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EFEA-8B50-4AAC-BD33-67DE86F57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t Be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ie That Bi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Blest be the tie that bind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ur hearts in Christian lov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fellowship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kindred mind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s like to that abov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Fawcett, 17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efore our Father’s thr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our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dent prayer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fears, our hop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aims ar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omforts and our ca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e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’s wo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mutual burdens b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ften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fl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ympathizing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we asunder p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gives us inward pa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e shall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joined in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pe to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Tie That Bi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00:03Z</dcterms:modified>
  <cp:revision>65</cp:revision>
  <dc:subject/>
  <dc:title>PowerPoint Presentation</dc:title>
</cp:coreProperties>
</file>