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32D-BF31-4249-A94B-3A638777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8B7-85F1-4B02-BCED-8AE0222D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A9E-918F-4029-B1F2-3671CDE58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D58-13AD-4AD3-83AE-9E274A11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A40-4F1C-4A83-B301-A642710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6B2-CCDD-4311-9A50-8EFB6BE5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4C7-19FB-44D6-A075-4BF4DD5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F83-590B-424A-9717-301EAE4F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9DF-5638-4381-9FC6-186CA0DF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E0A-B9CB-4A55-9F2E-DD7E7E12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DB4-8A40-4A27-BE41-E4F32851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C2F-B8CC-47C1-878C-682F983C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9601-40BC-488A-A24C-270DED273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Not So in Haste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Bradford Torrey, ca. 18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Not so in haste, my heart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faith in God, and wai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though he linger l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never comes too l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e never cometh lat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knoweth what is b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ex not thyself in va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til he cometh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Until he cometh,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r grudg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urs that ro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feet that wait for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soonest at the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So in Haste, M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Are soonest at the go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s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ained with spe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n hold thee st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I shall wait his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29Z</dcterms:modified>
  <cp:revision>154</cp:revision>
  <dc:subject/>
  <dc:title>PowerPoint Presentation</dc:title>
</cp:coreProperties>
</file>