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D7C-B7C5-4FC3-89F2-4C4529441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5DF-A4F6-440C-A965-EF1EA736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228F-D2DF-4CD4-9D5C-E199B7D0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FD2-3DC5-42E0-815F-07985F2B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1CB-2756-4776-907A-9EDE537E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71B-9E06-4926-819F-D86A1C15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678-A68B-4536-ABA3-D73BD3AB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2AB-4379-4EB0-B36D-EFACB996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9D1-542C-40A1-8C9D-30363ED1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B50-7FDA-48FF-A7F8-F6B0ADD2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6DEA-840F-46F4-B51C-276EFE9E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924C-3D01-4A02-8B08-DF6A32D0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2FBB-5FE8-4F1E-BD04-763590A6C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d Hath Spoke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y the Proph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God hath spo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e prophe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oke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changing W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53, renewed 1981 The Hymn Society of Ame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92920" y="1778040"/>
            <a:ext cx="4354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George W. Briggs, 1952, a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agelo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expound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own messag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w as th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the ris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ll of natio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sure faith y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anding fas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abides,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uncha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the first,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the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743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ach from age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ge proclaim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the 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righteous Lor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’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id the world’s despa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urmo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firm ancho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ldeth fas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etern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igns forev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the first,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the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God hath spok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Christ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,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lasting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ightness of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ther’s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Fa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ver on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oken by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d incarna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re time was bor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ght of L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earth descend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, as G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uman for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God yet speake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eaketh to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s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Hath Spoken by the Prophe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1:12Z</dcterms:modified>
  <cp:revision>25</cp:revision>
  <dc:subject/>
  <dc:title>PowerPoint Presentation</dc:title>
</cp:coreProperties>
</file>