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042-2010-4676-A66D-CB5A72CF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A135-0A1F-43B8-8D32-738D3BAC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CBF-AD7C-42F9-B153-BCD7DA92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9AA-3E07-4497-9E67-58B7FFD8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FFB-B789-42FD-B641-F23A454E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D9C-DBC5-49E1-B056-A5211CA5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A32-D775-42F3-9579-7B25FC13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8D4-F476-4E8F-8C25-AED6E9B9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DEA-C3A4-41C1-8CD0-E4E26597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E59-13ED-4C87-AA79-8EA6537A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800-789E-438B-8C83-8BBBC45D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345-0CB0-4D8D-A8B5-D0094829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3653-9BDA-4C44-A9F3-DF25081B4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aster Vigil or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81952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through Jesus Christ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you overcame death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and opened to us the gate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f everlasting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Vigil or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79800" y="914400"/>
            <a:ext cx="307044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The Book of Hymns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, 19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666880"/>
            <a:ext cx="883944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Grant that we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who celebrate the day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f our Lord’s resurrection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may, by the renew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f your Spir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0968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arise from the death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f sin to the life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f righteousness;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35:19Z</dcterms:modified>
  <cp:revision>20</cp:revision>
  <dc:subject/>
  <dc:title>PowerPoint Presentation</dc:title>
</cp:coreProperties>
</file>