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14F-BE98-402F-B1CA-C4B40324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CF47-901F-48E2-BE7B-CC27B7D9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E92-5CC1-45C3-B259-0C8E805A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DB3-D77B-480F-A784-150F7447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5CA1-F429-4CAC-AB5B-EC455F37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45E-2E7A-481F-B6E5-197082B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11A-DF0A-4AAA-8C63-58E8F69C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2AC-8FC1-4783-980C-E441FC5E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AC88-628F-4BC6-AD7C-C71DA78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C0F-EB8B-4A85-9759-948259E8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974-23EF-45CB-A8C8-FAEB23B4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42E-0B9F-46FD-90E2-F123FDA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A960-662C-4FFE-869D-8456EE5A4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urce and Sovereign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and Clou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urce and Sovereig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and Clou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tress, Foun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lter,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7 Oxford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2480" y="1676520"/>
            <a:ext cx="3678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Thomas H. Troeger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dge, Defe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y, M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whos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life endow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ord and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ot and 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pherd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ant, Lamb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 and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y who lead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I A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torm and Still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 and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nder, Temp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rlwind, Fi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fort, Counsel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nce,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ergie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ti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353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the churc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prayer rec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no single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truth beh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m all is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we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urce and Sovereign, Rock and Clou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08Z</dcterms:modified>
  <cp:revision>32</cp:revision>
  <dc:subject/>
  <dc:title>PowerPoint Presentation</dc:title>
</cp:coreProperties>
</file>