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BF66-1B1A-46CD-8AE1-445C5090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6F8-13E0-4A65-9922-50E02D1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1A75-B289-42C6-A410-04B81421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E569-DBF2-4C8A-BED0-B9FEE9BD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AAA-5639-4A0D-808E-B2901E71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49C-AB9A-4D38-8C96-AFDF4C6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EF2-F181-450A-96CF-D546A650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CB3-A703-4769-896F-9B36950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C862-C1F5-45CE-B536-E672924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8617-2C8C-4934-B853-81224183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FB41-2893-4A2B-917F-ED5A726B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B89E-B7BF-4C17-9275-8D3E5635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5A7-F403-4DA0-9A40-C47BA3D13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 Gladsome L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8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590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1.</a:t>
            </a:r>
            <a:r>
              <a:rPr b="0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ladsome light, O gra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f our Creator’s fac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eternal splendor weari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20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7640" y="990720"/>
            <a:ext cx="5914080" cy="368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WORDS: Ancient Greek hymn; trans. by Robert S. Bridges, 1899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" y="2239920"/>
            <a:ext cx="861048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celestial, holy ble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Savior Jesus Chris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joyful in your appearing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2. As fades the day’s last ligh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we see the lamps of night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ur common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hymn outpouring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23992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God of might unknow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, the incarnate Son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pirit blest adoring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70160"/>
            <a:ext cx="9144000" cy="2379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3.</a:t>
            </a:r>
            <a:r>
              <a:rPr b="1" i="1" lang="en-US" sz="50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o you of right belong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ll praise of holy song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Son of God, lifegi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Gladsome Ligh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You, therefo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O Most High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the world does glorif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</a:rPr>
              <a:t>and shall exalt foreve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20:12Z</dcterms:modified>
  <cp:revision>24</cp:revision>
  <dc:subject/>
  <dc:title>PowerPoint Presentation</dc:title>
</cp:coreProperties>
</file>