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B863-6971-4642-AEE7-71CD0051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065-3A6C-45CA-A148-EFAEAC67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D909-4EE0-4AF1-B8AE-CF73CE48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38B-EC02-4910-B43B-7D282F33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9CB-B5C6-4C56-B769-334E6924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F8F-C539-486D-BEE5-A63E3B29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BC9-4F6B-4123-A7B6-7803DC903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745-CCB4-4698-8693-42787D3F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ECF5-D786-4049-951D-AD595149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94A4-91D7-4D1F-A744-12322CC2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1201-E327-4151-8246-127D373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4CF-A84A-4CC6-ABA2-3091C45F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099E-D757-4A26-9926-AD15AC198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Renewal of the Chu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676520"/>
            <a:ext cx="8534520" cy="44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enew your church,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your people in this land.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ve us from cheap word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self-decepti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in your serv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6 John de Gru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Renewal of the Chu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61400" y="1063800"/>
            <a:ext cx="2235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 Africa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1371600"/>
            <a:ext cx="845820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the power of your Spiri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ransform u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shape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y your cros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1:21:03Z</dcterms:modified>
  <cp:revision>15</cp:revision>
  <dc:subject/>
  <dc:title>PowerPoint Presentation</dc:title>
</cp:coreProperties>
</file>