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CF3-E854-4D58-AD24-E8C1D831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22B-1405-4839-BB93-8179F992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AF8-75B5-4CDC-B067-8307CEC9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720-F129-4493-8478-42715BF5A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117-D109-43E6-9A81-D82BEE2A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484-ABAD-4BF1-8331-10881320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162-C885-4002-9B9F-C7F6A4EE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A671-46A7-45C6-A02B-9F26D917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C47-7D2C-4421-A5D2-9F1D1B4F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AB5-9883-4692-8BAE-41403AF9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7A1-34E5-4A73-B836-4D18E5EF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667-45C2-4459-9D0E-935B146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1665-FF2F-4697-B583-FA2AE1A5E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antemos al Se</a:t>
            </a:r>
            <a:r>
              <a:rPr b="1" lang="en-US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ñor</a:t>
            </a: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Let’s Sing unto the Lor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49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himno de aleg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cántico de am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 nacer el nuevo 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6 Resource Publications, Inc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38600" y="1496880"/>
            <a:ext cx="707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Carlos Rosas; trans. by Roberto Escamilla, Elise S. Eslinger,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and George Lockwood, 1983, 1987 (Ps. 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hymn of ador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shows our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hope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193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all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been ma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is prai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grea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o we sing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bestows su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ly bless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4792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l hizo el cielo, el m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sol y las estrell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vio en ellos bond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es sus obras eran bell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Aleluya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himno de alabanz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xprese nuestro am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stra fe 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stra esperan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toda la creació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egona su grandez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í nuestro can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va anunciando su bell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5238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Aleluya! ¡Aleluy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Aleluy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temos a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Aleluya!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emos a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et’s sing unto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hymn of glad rejoici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’s sing a hymn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new day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sh begin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made the sky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s, the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ocea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 saw it was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works w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ed with beau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590920"/>
            <a:ext cx="9144000" cy="344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’s sing unto the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Sing Unto the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40:57Z</dcterms:modified>
  <cp:revision>12</cp:revision>
  <dc:subject/>
  <dc:title>PowerPoint Presentation</dc:title>
</cp:coreProperties>
</file>