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2CBF-DE66-45A4-B989-2B906BBD8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62FD-8449-4C0C-AB30-37534271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1197-BF22-4E78-81BA-F508EAAF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D448-20F7-4341-96BD-167A84561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25BD-0BD5-4718-BE4B-E3682B20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1D95-E4BF-41C9-91DA-A5141867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1442-2A66-4484-9F21-CBB2DA7D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CC39-7B42-4EA5-BF6D-409CAFE2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DBE5-BE1A-43F0-BB1A-AF792366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4DF1-DE1C-44F8-8365-881BA645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47AA-E51D-4C9B-9051-2F5EC5A8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0381-2CC1-4CB5-8EBF-4D2C6DB3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BE22-1B64-4790-8B56-D319DA0F6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illed with Excitement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Mantos y Pal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7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36680"/>
            <a:ext cx="9144000" cy="3928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Filled with exciteme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e happy thr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read cloaks and branch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the city stree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2, 1979,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ed with Excite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1760" y="1521000"/>
            <a:ext cx="67158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Rub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én Ruiz Avila, 1972; trans. by Gertrude C. Suppe, 1979, 1987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Mt. 21:8-9; Mk. 11:8-10; Lk. 19:36-38; Jn. 12:12-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á a lo lejo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e empieza a mir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n un pollino 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j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4479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ientras mil voc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uenan por doquie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sanna al que vie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n el nombre del S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tos y Palmas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0648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83808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n un aliento de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n exclamac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ón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orrumpen con voz triunfal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“¡Hosann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Hosanna al Rey!”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“¡Hosann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Hosanna al Rey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716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Como en la entrad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 Jerusal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é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dos cantamo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 Jesús el Re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tos y Palmas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 Cristo viv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e nos llama ho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ra seguirle c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mor y 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4479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ientras mil voc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uenan por doquie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sanna al que vie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n el nombre del S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tos y Palmas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90648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91440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n un aliento de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n exclamac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ón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orrumpen con voz triunfal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“¡Hosann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Hosanna al Rey!”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“¡Hosann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Hosanna al Rey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in the dista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begin to s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iding on a donke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s the Son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952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every corn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thousand voices 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s to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comes 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ame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led with Excitement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83808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one great shout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cclamation loud triumph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ng breaks forth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Hosann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sanna to the King!”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Hosann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sanna to the King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716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As in that entra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Jerusale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sing hosann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Christ, our K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75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led with Excitement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living Savi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still calls tod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king us to follow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love and fai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952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every corn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thousand voices 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s to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comes 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ame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led with Excitement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76212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one great shout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cclamation loud triumph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ng breaks forth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Hosann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sanna to the King!”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Hosann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sanna to the King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Mantos y palm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sparciendo, v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l pueblo aleg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 Jerusal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é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tos y Palmas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4:33:49Z</dcterms:modified>
  <cp:revision>45</cp:revision>
  <dc:subject/>
  <dc:title>PowerPoint Presentation</dc:title>
</cp:coreProperties>
</file>