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43B4-3472-4BDA-8FFB-615CBC999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DE8-BBD1-44DD-8DC1-2AEF8BE8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731-9A10-4BEA-99BC-EABA71EF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0D60-D365-4F2C-9F2B-C5B4522C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FB39-1C2C-4C71-98EC-30C299F3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DAB2-E380-4F73-8E4F-972C21CA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8DF0-3DF3-429C-A309-011EA17A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CBE4-079C-430F-B198-6019DE2D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87D8-3F17-45E0-B760-C90971AB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B6C9-6ED1-4BB7-93C8-B73E8670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0A54-235E-4D42-8B08-3DD6D779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53E-4290-443E-9439-D59F26D2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629C-A223-4BFB-AEEA-7E3CCDAF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F263-9B88-4D87-A123-137AE9D9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650E-ECAD-4E7D-91F4-BC8D0C94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11CE-A6ED-406D-821D-B043B73E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3F18-DC13-42ED-8E51-4D4CC40F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1A75-A1A1-4DC1-BABC-D721BEDA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4E0-8980-4B63-9B8C-CED2C7EF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568-1AF5-4EC0-A7F6-AF011352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14F4-388E-43F2-8523-3D0EB6D4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C18-79E5-4F69-AAA9-7565E728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D39-9F95-487F-9946-1D1823E0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C5C-C0D9-4EC3-90D2-B661FB90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2EBB-7E5D-414A-94DF-8538AFBF4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A3AE-BD60-4104-BDEA-C2EBA6982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t There B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ace on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13372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it begin with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eace that w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ant to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55. Assigned to Jan-Lee Music, © renewed 1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Peace in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01240" y="1600200"/>
            <a:ext cx="33202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Sy Miller and Jill Jack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God our creat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ildren all are w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wal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each o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perfect harmon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peace begin with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is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oment now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every step I tak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is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olemn vow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ake each mom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ve each mom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peace eternall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ere be peace on ear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it begin with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763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There Be Peace on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81240"/>
            <a:ext cx="9144000" cy="314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there be peace on earth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let it begin with me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t there be peace on earth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eace that was meant to b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55  Assigned to Jan Lee Music © renewed 1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685800"/>
            <a:ext cx="761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</a:rPr>
              <a:t>WORDS: Sy Miller and Jill Jack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God our creato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children all our 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 walk with each oth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rfect harmon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685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peace begin wi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is be the moment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every step I tak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is be my solemn v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52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take each moment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ive each momen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eace eterna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there be peace on eart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it begin with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0-22T02:16:59Z</dcterms:modified>
  <cp:revision>22</cp:revision>
  <dc:subject/>
  <dc:title>PowerPoint Presentation</dc:title>
</cp:coreProperties>
</file>