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2383-D78F-43F6-952B-BB0D65627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0F0A-934E-4441-A2D9-EF968F1A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C1FE-2CEC-4BA3-950A-203724D6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B959-A795-4F4D-B75F-34367716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A73A-0AD9-4140-BD9F-C082A4F6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3ECF-893B-4C67-BEFA-081E3E43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6CA0-89AE-44C0-9FB2-0EBF9F6A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5E44-7318-4A1D-AF80-A0620843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F8EF-9219-4F92-8FE0-3768DDBA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2FFE-102A-4D3C-9F31-CC69BCE5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C13A-D47F-47F1-B45F-449A3123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D633-61F5-4C38-974A-C93050B0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331E-F009-488D-8636-4FB058C20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e Meet You, O Chr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5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532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e meet you, O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many a guis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image we s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simple and w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© 1968 Hope Publishing 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Meet You, O Chri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79880" y="111600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Fred Kaan, 19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live in a pal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xist in a shack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see you, the garden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tree on your bac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In millions ali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way and abroa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volved in our lif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live down the ro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Meet You, O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mprisoned in system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long to be fre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see you, Lord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bearing your t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We hear you, O ma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agony cr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freedom you marc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riots you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Meet You, O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face in the pape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read and we se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tree must be plant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human dec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You choose to be ma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one with the earth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dark of the gra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epares for your bi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Meet You, O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death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ri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eative your wor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tree springs to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our hope is restor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2:15Z</dcterms:modified>
  <cp:revision>14</cp:revision>
  <dc:subject/>
  <dc:title>PowerPoint Presentation</dc:title>
</cp:coreProperties>
</file>