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117-E1E9-4B02-B2B3-218B6A6E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6B8-1E26-4E12-8FF9-28031A0A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5D62-61B4-4749-AF72-B665A015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3B0-79DD-4493-BCC4-35C98662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2854-F0BB-48DD-99B8-F346B97D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441-52C2-4BAF-8072-D682586E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1CAE-AF04-400F-AD3F-1AE061A7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9F9-AFFB-4C9A-857D-6086067F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4B13-EB8E-4BA3-BCFB-AB666277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3BA6-58B4-4CDA-B27A-B4869D14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B4B-5462-4F7D-B1B5-541E4FAA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403-B632-47B1-A631-78692745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9F1A-3FA9-4094-909A-BE789DD19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Holy Spirit, Truth Div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6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Samuel Longfellow, 18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Holy Spirit, Truth div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awn upon this soul of min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ord of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inward 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ke my spirit, clear my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Holy Spirit, Love div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low with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s heart of min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indle every high desi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erish sel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thy pure fi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Holy Spirit, Power div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ll and ner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is will of min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rant that 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ay strongly li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ravely bear, and nobly stri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Spirit, Truth Divin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Holy Spirit, Right div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ing with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y conscience reig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e my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I shall b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rmly bound, forever fr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6:04:01Z</dcterms:modified>
  <cp:revision>162</cp:revision>
  <dc:subject/>
  <dc:title>PowerPoint Presentation</dc:title>
</cp:coreProperties>
</file>