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BD22-7CE0-405E-A8E2-56B213C2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D143-9F00-4394-8E86-5F98854A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D1F-5312-4182-8280-B8D8E239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A8E-27A0-419A-BECC-3F3B8167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4687-3E3A-43DE-98CF-65F84D1C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F4D1-990A-430A-B358-FB0B990A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8AFC-1E5C-4840-8861-15F0C009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C345-C26C-45EE-B297-0449157E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920F-C7DC-4D6A-9016-F13B9891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D2DB-9BF8-42D9-93F6-28EB0359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75A9-01B5-41E7-AE2B-1DC957F9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C8F-911E-4434-B402-3EFBB382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B9B5-CB23-4BBD-9F0E-D65959E69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of the Living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of the living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ll afresh on m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of the living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ll afresh o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38, renewal © 1963 Birdwing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the Living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6680" y="990720"/>
            <a:ext cx="4004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Daniel Iverson, 1926 (Acts 11:15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lt me, mol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me, use m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of the living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ll afresh o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6:45Z</dcterms:modified>
  <cp:revision>15</cp:revision>
  <dc:subject/>
  <dc:title>PowerPoint Presentation</dc:title>
</cp:coreProperties>
</file>