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DFF-A32A-4516-BCAB-B718D784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3370-390E-4986-A72C-6AB23657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5FF-D6C5-4C4D-B72D-000FECC0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FB4-DEC9-4C50-87CA-3D9FCC8E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F15-07DE-4DEE-9189-353A7831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3026-B189-4FEC-ADB6-28F58982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69B-3534-47D1-B12C-EDAC2920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053-A229-4138-AB3A-134D40A25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935-78C9-448B-9ACB-6DE7D39E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1D4-5ABC-4898-8C22-30CD37A7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EA1-E705-4B50-B2AD-9FC01E8E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B1C-8AA5-44C9-9420-90698753A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16AA-8354-48BD-8305-D3C101CEC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, Priceless Trea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Jesus, priceless tr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rce of purest pl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st friend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ann Franck, 1653; trans. by Catherine Winkworth, 18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ng my heart hath pant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it well-nigh faint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rsting afte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ne I am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spotless Lamb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suff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ught to hide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k for na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sid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thine arms I rest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es who would moles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not reach me 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the earth be sha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y heart be qua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calms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 and h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conflict f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ir heavi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orms assail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will not fail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ence, all thou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adnes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Lord of glad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enters 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Priceless Treasu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se who love the F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the stor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g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have peace with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a, whate’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ere must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in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es purest pl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priceless treasu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5:37Z</dcterms:modified>
  <cp:revision>59</cp:revision>
  <dc:subject/>
  <dc:title>PowerPoint Presentation</dc:title>
</cp:coreProperties>
</file>