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F7B-D591-4B50-AFC0-D2DB1B85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8C8-205F-401A-81D6-A52167AB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F7E-B720-4F0D-8059-280DE080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E21-79C4-401F-8897-8A8F3250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D65-87A7-4382-84A7-4EB39904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9A8-5F3A-43A3-B03D-380D21E5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BB3-E96D-413B-ADBE-3FF4BFE9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01F-4AD7-4467-9ACD-01BAACE9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303-CD19-467A-9E7E-5FB84583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2A8-8544-433B-82F8-3F4A436E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445-487B-479C-ACCB-620A3AE3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F17-E958-4716-9341-654D4BF3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1411-FC55-4E8B-BAFA-2D0860058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Kingdom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690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kingdom of God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grain of mustard see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t is s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the smallest s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84200" y="1090440"/>
            <a:ext cx="6032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Gracia Grindal, 1985 (Mt. 13:31-32; Mk. 4:30-3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when it is s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grows in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argest pl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er than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herb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ows into a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t grows so birds ca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 inside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of lea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 in its shad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y from 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il pr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so we can li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to seeds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a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rger than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tr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just the smallest s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6860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li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ingdom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50Z</dcterms:modified>
  <cp:revision>32</cp:revision>
  <dc:subject/>
  <dc:title>PowerPoint Presentation</dc:title>
</cp:coreProperties>
</file>