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ED1-141E-49D6-B576-160954146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09CB-EBE9-4AC2-85B6-24EE2A44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C6C-7FEB-48BD-BDE1-5D2B3CD2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2AB-D0D7-46AC-9C09-CBF36730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F18E-0A30-4027-8673-26A9049E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DD0-5937-4954-87F4-8AC6058C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16FC-BB0D-4938-81E4-6A1E2684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B5BC-949F-4113-A0BA-1CB29F3B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0DC-8E8A-4085-9568-23E0793C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0B90-4CD0-4665-BF16-6CAC49D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231-7263-4DEB-80EA-6D077CBE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744-2E32-486B-ADA5-A2152846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EF39-6FED-41F2-B6EE-D6A552BD4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ams of Heaven as I 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Beams of heav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I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derness be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Albert Tindley, ca. 19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its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treets of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behold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arder y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be the figh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 may oft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ield to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cked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while may reig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tan’s cau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seem to 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is a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rules ab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and of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art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I am r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’ll fight my batt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have peac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Burdens 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crush me d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sappointme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rou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ide my feet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aceful 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urn my midnigh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oubles spea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ournful si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row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tear-stained ey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 is a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pleasure reig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mourning so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roam its plai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o that l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eace and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ant to go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n the dark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ould grop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ith always se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star of hop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on from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’s grief and dang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be fre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o not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long ’twill b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r what the fu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s for 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his I know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Jesus leads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g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me some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ftentimes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ky is cl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oy abou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out a t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ms of Heaven as I G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gh a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bright begu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ouds may h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morrow’s su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re’ll be a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’s always br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day that n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ields to n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6:29:41Z</dcterms:modified>
  <cp:revision>51</cp:revision>
  <dc:subject/>
  <dc:title>PowerPoint Presentation</dc:title>
</cp:coreProperties>
</file>