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E97-7587-4375-9A2B-3D6F38BC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EA2-500F-454E-ABEE-C00D1768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6A2-11E5-4793-86DC-66E931D0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5B54-9170-4009-B89D-2D751CBB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036-122F-42C9-B0F3-90B4FF03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E06-CCB5-4734-B90A-5E1D46DD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798-EB79-4A77-BE62-467DA51D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797-EC35-4732-ACBA-B038AC98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A8C-8779-4318-95BA-4840F24C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169-6C8B-4EB6-8104-1BB37E75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B0C-DD40-4774-A907-515ED50C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C6C-009A-4361-96E5-CD66193B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B76-F77D-44F4-9D2C-D5C6C30EE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Simeon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Nunc Dimitt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562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Christma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every n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shall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Sime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3680" y="1623960"/>
            <a:ext cx="7165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uke 2:29-2, ICET, rev. ELLC; Response, Psalm 72:11 I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295280"/>
            <a:ext cx="8381880" cy="393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rd, now let y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servant go in peac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your word ha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een fulfill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own eyes hav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seen the salvati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which you have prepar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in the presenc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f all peop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736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 light to reveal you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o the natio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 glory o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your people Israel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44:59Z</dcterms:modified>
  <cp:revision>32</cp:revision>
  <dc:subject/>
  <dc:title>PowerPoint Presentation</dc:title>
</cp:coreProperties>
</file>