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A58-34CA-4F52-84F0-6B1C20E4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07BE-3168-4314-900C-159AA4DA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939F-D0BB-4F78-B51A-27E2CC37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E714-8D27-4D81-BDFC-11C8D65D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1204-5DEE-4871-9E38-7A2469B6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B86B-29D7-4B50-838E-136D5437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DD0-7698-4DB6-8CE0-D8D0D9D4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D75-8E86-476B-A56D-C6EA8060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3899-B8F6-435A-9808-79F7DAE9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43C8-1351-4516-9ECD-A5BB71C3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5704-56D6-43CD-9F63-F6BE17A6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3BB1-25E6-4CA4-A4E4-EF5FADF4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52E9-A9F6-4B7E-9D64-1651DB325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joice, Ye Pure in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Rejoice, y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re in hear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6080" y="1219320"/>
            <a:ext cx="6407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Edward H. Plumptre, 1865 (Ps. 20:4; 147:1; Phil. 4: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Praise God wh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igns on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whom we ado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Father,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Holy Gho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e God 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743200"/>
            <a:ext cx="9144000" cy="318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glorious bann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ve on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ross of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66880"/>
            <a:ext cx="9144000" cy="318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Your clear hosannas ra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eluias lou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ilst answering echo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pward flo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ke wreath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cense clo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743200"/>
            <a:ext cx="9144000" cy="318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810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Yes, on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e’s long p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ill chanting as ye go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youth to a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y night and 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gladness and in wo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819520"/>
            <a:ext cx="9144000" cy="318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At last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rch shall e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wearied ones shall re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pilgrims f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ir heavenly h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rusalem the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666880"/>
            <a:ext cx="9144000" cy="318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sanna! 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joice, give thanks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Ye Pure in Hea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5:33Z</dcterms:modified>
  <cp:revision>24</cp:revision>
  <dc:subject/>
  <dc:title>PowerPoint Presentation</dc:title>
</cp:coreProperties>
</file>