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5FFF-22E9-4F9F-8B79-00990971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385-7C4C-49EB-A7ED-F43998AD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C6A6-6D39-43B0-B011-580BFD72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BC8-9CE9-40AD-ACA1-CCFD65A0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B71-1C82-47AC-B0BD-21476424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273-9EC5-4298-ADEB-56A08EF5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51D-DBFC-406B-9227-7CC60339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34D-5F85-4B1E-8AFE-2D8EE849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CDB-9D34-4638-B145-A15AFFF0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FB3D-28AF-4841-B8B5-7FC6C8EC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4A7-4580-448A-8E58-D1AF922F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F3A-865B-40F3-8FD6-CA50DEF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9EBA-6FAA-4410-BCAC-BB65ED775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 in God’s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ejoice in God’s sai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day and all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world without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ets how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3, 1980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3000" y="1166760"/>
            <a:ext cx="30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Fred Pratt Green, 19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faith in acqui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bit of pray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depth of ado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help 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ome march with eve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urn them God’s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 need to withdra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tter to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 carry the gosp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fi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rough flo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world is their paris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urpose is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ejoice in those sai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praised and unkn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ar someone’s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shoulder their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shame our complai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comforts, our car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patience in ca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courage, is thei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ejoice in God’s sai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day and all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world without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ets how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 in God’s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oving, in l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prove it is tru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y of self-g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leads us to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56Z</dcterms:modified>
  <cp:revision>51</cp:revision>
  <dc:subject/>
  <dc:title>PowerPoint Presentation</dc:title>
</cp:coreProperties>
</file>