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C76E-4A45-44F1-A5DC-3D991519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6C1-6CC3-41B1-938A-7140E8D7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676-D13C-4A02-91F2-5EE0F428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2EA3-8351-45ED-8BA4-E6ED5C66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5991-D3B7-41D6-98AA-87EA9C2C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C99-EC0C-4C15-9B00-65809643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E69-8B8B-4840-AFCD-287FC45B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5ED1-8037-43C9-BD0E-EF885DE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B89-19BF-481D-B857-CAD01349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63E-A0A1-4A36-A12E-DD6A3A5E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50D-6459-4A03-B829-BDF96796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F67-EFE2-45A2-8E3E-1B371CF3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0F58-FB50-4E75-93C7-A03F5A8AF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Glory, Laud, and Ho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066680"/>
            <a:ext cx="90885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heodulph of Orleans, 8-9th cent.; trans. by John Mason Neale, 18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ou didst accep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rais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ept the prayers we br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in all good delight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goo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ious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ou art the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Isra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David’s royal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in the Lor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com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and Blessed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company of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pra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with all cre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orus make rep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people of the Hebre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pal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e wen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yer and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nthe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e we prese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o thee, before thy 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sang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ymns of pra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now high exal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elody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, laud,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, Redeemer,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the lips of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sweet hosannas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Glory, Laud, and Hon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59:53Z</dcterms:modified>
  <cp:revision>44</cp:revision>
  <dc:subject/>
  <dc:title>PowerPoint Presentation</dc:title>
</cp:coreProperties>
</file>