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7D0-D3C4-440D-B0BB-44C0BC37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58A-6D4F-44D8-B0E7-0EFE2D1B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9D4-ABCA-44A1-837C-49FC8A3F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860-65BA-4B87-AB95-452EAE3C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6F8-4EEB-40E6-8829-42EAA2E6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DBB-4D51-49E0-A32A-8C3F59BE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12D-A683-4790-B33D-DBDEB80C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380-E946-4081-A72E-1348D4C8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5BF-28B2-44E3-84C8-EF9E895D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2F8-434B-4B69-A511-0C3804C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EBD-9D75-48E6-A1D0-2AF82A55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714-9CA4-495D-A9F4-B918B3E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63BC-C352-4A37-8D75-F8F8BD143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or of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rth and S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Donald Hughes, 1964, 1969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reator of the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whom all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power bel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Words by permission of The Methodist Publishing House, Eng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us your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w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us your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u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have not known you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monu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folly so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ll our self-w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se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made us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selves th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have not loved you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r and w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wreckag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hatred sprea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evils w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human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coil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repentant hea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or of the Earth and Ski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e long to 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worldwide strif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shall we fo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your 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eak to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word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our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1:32:17Z</dcterms:modified>
  <cp:revision>149</cp:revision>
  <dc:subject/>
  <dc:title>PowerPoint Presentation</dc:title>
</cp:coreProperties>
</file>