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FA27-B788-419F-945E-02A63A57C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445A-2A8E-4847-85A5-0FFFFDF20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3F00-8CA0-44BF-9E80-AC50E2C5B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CFD5-BE20-4A5B-B497-2607D6EE6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9EDA-C4CA-41FB-8668-88CECA5FB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5A1C-CAC1-40EF-88B4-8EEA9D7F5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3D81-7DBD-4C08-AE9D-2D8A96B4C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AD88-00D9-45A7-9061-50F40477E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C9C7-82A9-45FB-8377-113C2975F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8349-6451-4AF1-AB61-61357F90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C2E0-EA5F-4C61-A287-A65EBE5A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0773-5EC5-4E60-B4E8-8194B367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76A40-6579-4683-AEA9-61DDDB60D4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534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avior of the Nations, Co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1. Savior of the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nations, come;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Virgin’s Son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here make thy ho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vior of the Nations, Co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5200" y="1181160"/>
            <a:ext cx="7495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Sts. 1, 2  Martin Luther, 1523, trans. by William Reynolds, 1851;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st. 3-5 Martin L. Seltz, 196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2819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let no night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is light subdue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let our faith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shine ever ne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971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Marvel now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O heaven and earth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that the Lord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chose such a bi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895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2. Not by human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flesh and blood;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by the Spirit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of our God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vior of the Nations, 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971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was the Word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of God made flesh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woman’s offspring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pure and fres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895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3. Wondrous birth!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O wondrous Child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of the Virgin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undefile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vior of the Nations, 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895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Human and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divine in one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eager now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his race to run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971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4. God the Father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is his source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back to God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he runs his cours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vior of the Nations, 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895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down to death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and hell descends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God’s high throne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he reascend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5. Now thy manger’s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halo bright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hallows night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with newborn l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vior of the Nations, Co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8:02Z</dcterms:modified>
  <cp:revision>59</cp:revision>
  <dc:subject/>
  <dc:title>PowerPoint Presentation</dc:title>
</cp:coreProperties>
</file>