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446C-9F0B-4CA5-A4FE-1887AD1D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8400-ADFC-4EE5-8952-B4F5F856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A25F-8AA4-4863-9C40-BF39B08F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8F33-4801-45A8-AAB9-1DF351DA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65D5-55FF-4862-A9A7-1AF14FD6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5CED-A5C8-481F-9503-611BDDE5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3533-3213-4F79-8961-7954D40D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3C4C-CEB5-4BB3-BEF2-0AD4BA27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B8F6-12BA-48F5-A999-137DE662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1BC0-5DEF-4569-AFDC-9CB88F3D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D11F-255A-4414-BFF5-67E9FB9E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21A7-0B13-41FE-9950-D7231375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9C81-4241-4EF1-8013-379D69347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 Protection at N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951200"/>
            <a:ext cx="8305920" cy="367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Dear Jesus, as a hen covers her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chicks with her wings to keep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them safe, do thou this nigh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protect us under your golden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wings. </a:t>
            </a:r>
            <a:r>
              <a:rPr b="1" lang="en-US" sz="4700" spc="-1" strike="noStrike">
                <a:solidFill>
                  <a:srgbClr val="66ff66"/>
                </a:solidFill>
                <a:latin typeface="Times New Roman"/>
              </a:rPr>
              <a:t>Ame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Protection at 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48040" y="1066680"/>
            <a:ext cx="3260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Trad., India (Mt. 23:37; Lk. 13:34)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8:14:41Z</dcterms:modified>
  <cp:revision>19</cp:revision>
  <dc:subject/>
  <dc:title>PowerPoint Presentation</dc:title>
</cp:coreProperties>
</file>