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4D3-E050-4606-9161-557B23113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288-4DD5-4858-B4B7-37B3388C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C37A-95FA-4631-A32F-C43D25F3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CA0-1F60-4A6F-BBCB-D028E231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AE6-EFDC-4251-BA8B-B2B28061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B05-6C09-40F2-9FAB-00B5FA81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88E-5B48-4B94-AE92-49B11DEE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2A7-9087-4369-B1E6-F6C09615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5ED8-90C4-40DA-8BC0-6C2CEF28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3F1-4B83-4CF7-9958-DDABB2C9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2FE-E74E-46E4-AF01-EE1CA87D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C43-2CFD-4E4E-9341-F0233B2B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C870-435B-4418-B5EF-95B77BADB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at Boy-Child of 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293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5320" y="1116000"/>
            <a:ext cx="3823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om Colvin, 1969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ne with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-sent hel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Gladly we prais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urselv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shall we call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of the manger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name is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is name is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ever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iven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ow can he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he help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here among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ft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uman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s him our br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oy-child of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in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his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Boy-Child of Ma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07Z</dcterms:modified>
  <cp:revision>16</cp:revision>
  <dc:subject/>
  <dc:title>PowerPoint Presentation</dc:title>
</cp:coreProperties>
</file>