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4782-429D-4419-A402-81C719E48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F8A6-96DF-4D48-9E3C-A00F3DF9E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63CC-2A90-41CD-9C55-6EE815149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3DB1-E498-4EE0-8661-F2CB3847E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0842-C887-43C8-B961-D77BC9889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221A-0D2E-4619-BA1A-151365BEF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C773-D5CD-4500-9602-2ECFF7633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7D02-50E6-49D4-A431-9DD4CA362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D086-806B-4BF3-B165-4BBA572FD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B79F-0047-4382-97F2-A2AC04226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A62D-DB1D-434E-8B84-9959FD6E9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E1E5-ED9B-420A-B806-B6B30332F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95B54-9378-4EE7-B981-AD68E2EF23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ccff"/>
                </a:solidFill>
                <a:latin typeface="Times New Roman"/>
              </a:rPr>
              <a:t>For Those Who Mour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noFill/>
          <a:ln w="9360">
            <a:solidFill>
              <a:srgbClr val="99cc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ff"/>
                </a:solidFill>
                <a:latin typeface="Times New Roman"/>
              </a:rPr>
              <a:t>46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Those Who Mou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14300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ccff"/>
                </a:solidFill>
                <a:latin typeface="Times New Roman"/>
              </a:rPr>
              <a:t>Laurence Hull Stookey, USA, 20th cent. (Jn. 11:35; Mt. 5: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1905120"/>
            <a:ext cx="8191440" cy="4686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Gracious God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as your Son wept with Mary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   and Martha at the tomb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   of Lazarus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© 1989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33520" y="820800"/>
            <a:ext cx="8610480" cy="521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look with compassion on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   those who grieve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   [especially </a:t>
            </a:r>
            <a:r>
              <a:rPr b="0" i="1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Name(s)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].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Grant them the assurance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   of your presence now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   and faith in your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   eternal goodness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1003320"/>
            <a:ext cx="8686800" cy="4861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that in them may be 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   fulfilled the promise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   that those who mourn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   shall be comforted;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through Jesus Christ our Lor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22T15:55:10Z</dcterms:modified>
  <cp:revision>154</cp:revision>
  <dc:subject/>
  <dc:title>PowerPoint Presentation</dc:title>
</cp:coreProperties>
</file>