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6BE-C72E-472D-9ED6-CE0FEC49E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E80-9FB4-4449-AB5F-827463E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A08-DFFF-4B46-BBF3-0F6599CB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276-C39D-4C4F-8C99-28369952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1A7-71B1-4299-90C3-47650C71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F35-DD7B-4D1A-8809-33C5E3A7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B387-091A-4436-B9CC-5B974E7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2EBA-4ADA-4EBB-ACD3-46246B1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96E-EA5E-4BAB-B784-98B6D33D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D31-1F55-4154-872B-784BF6DC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4F95-6DD5-4C79-A106-6BF8E059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DEA-53B5-4B57-81A3-CA29E41F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65C-DA3A-42D3-A0C6-5481BD9DF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gospel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sou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7 (Lk. 14:16-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the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 wa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you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Do not beg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ke excu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! do not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race refu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worldly c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leasures le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what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 and par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spel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from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Jesus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aste th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t his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rink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im set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your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 sacrif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ffere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haste to emb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eely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aved b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Ye who belie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ecord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up with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with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1:29Z</dcterms:modified>
  <cp:revision>118</cp:revision>
  <dc:subject/>
  <dc:title>PowerPoint Presentation</dc:title>
</cp:coreProperties>
</file>