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39C-E372-44E2-945D-BD8C4095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247B-9E35-487A-AC25-CC2D52B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38A-C96F-4D58-BBCF-13E956FB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22B1-B741-42AC-B17F-DFE9B007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930-DA16-48E4-A437-82A0D55C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A6F-F820-4E40-9DD9-BB0D02CD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AB54-25F6-4C35-9129-BC8D87C2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C44-CC53-44CC-A4D0-8248E4CD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082-7176-4AAA-A6CA-7AB583C1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401-2198-4340-B677-9EC9DCE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B07-430C-4058-9373-D5D77E4C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B552-068E-4F7F-A3F1-CB5F112E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2357-2BC4-48B8-AD68-433967937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isten, Lord (A Pray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981080"/>
            <a:ext cx="876312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 Lord, we come this morn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knee-bowed and body-b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before thy throne of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Lord (A Praye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7880" y="1066680"/>
            <a:ext cx="372564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James Weldon Johnson, USA, 20th c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842240" y="22860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5715000"/>
            <a:ext cx="8229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66"/>
                </a:solidFill>
                <a:latin typeface="Times New Roman"/>
              </a:rPr>
              <a:t>© 1927 The Viking Press, Inc., renewed 1955 Grace Nail John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98108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 Lord–this morning–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bow our hearts beneath our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knees, and our knee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in some lonesome valle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0512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We come this morning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like empty pitchers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o a full fountai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with no merits of our own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1371600"/>
            <a:ext cx="84582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O Lord, open up 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window of heave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lean out far ove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the battlements of glory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 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and listen this morning.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9:18Z</dcterms:modified>
  <cp:revision>16</cp:revision>
  <dc:subject/>
  <dc:title>PowerPoint Presentation</dc:title>
</cp:coreProperties>
</file>