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4CA7-12DE-4700-845D-3D6F4CFD7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64FA-7232-47E3-A3DD-EBF63391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5E15-EC32-4980-8A1F-7330B8F6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BD0D-157F-4606-A1A0-CE02BC8B4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75BB-D1A8-46CA-8E96-2E99D5DE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6DC6-26A5-44F8-AD13-FAF9E6A1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E206-8FDD-4789-9F10-432E4155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7462-123F-4EB9-A7E4-6BA55227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C925-17B5-4A29-B855-CB1BAA2A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6851-95E8-4C16-A147-D9AD7D3D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CBA1-FEA3-4659-94E2-C9A0B14A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D5C6-6F4E-40BB-B14F-EED99559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E713-D7DD-4C89-B92C-73AF6BA6D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458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w Can We Name a L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737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How can we name a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wakens heart and mi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dwelling all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know or thin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r do or seek or fin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© 1975 Hope Publishing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Name a L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9120" y="1116000"/>
            <a:ext cx="2926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ORDS: Brian Wren, 197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in our daily worl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every human f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e’s echoes sou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God is fou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d in the commonpl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362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If we awoke to lif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ilt on a rock of c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asked no gre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ward but fir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sured, was simply the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Name a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438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can, with parents’ nam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scribe, and thus ado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e unconfin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father ki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mother strong and s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When people share a task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treng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kills unit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projects ol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r new, to mak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r do with shared del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Name a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Frie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Partner’s wi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better understo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all should sha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reate, and ca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know that life is g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So in a hundred nam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ch day w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can me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presence, sens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hown at work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home, or in the stre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Name a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t every name we s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ines in a brighter sun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Christ alo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Love full grow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ife and hope beg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5:41:02Z</dcterms:modified>
  <cp:revision>27</cp:revision>
  <dc:subject/>
  <dc:title>PowerPoint Presentation</dc:title>
</cp:coreProperties>
</file>