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9AF5-3715-4B4C-A46E-DA32C935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B0A-C78B-46FD-A75F-882CE33B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2F37-A620-4250-962C-89CD4BDD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A531-92A0-47DC-97AF-73F5C385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4167-2369-4FDF-ADA3-B70B1CB9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B2E-705C-45A0-9397-6FF65E86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73B6-090A-4A68-8C57-2CB47A4B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DC67-FEF1-4112-8DD6-B94D1C30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1895-1DBE-4D07-98B6-8743CC63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C228-FFF0-4B86-AC1A-328D5A18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0F5F-DCB6-4A9C-BED9-4EA5C2DD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8F36-E6B2-4082-984C-3F4773D8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EABA-A914-4DF7-808B-874CE4C4A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ll My Cup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2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 my cup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lift it up,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quen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thirsting of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59 Sacred So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 My Cup,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Richard Blanchard, 1959 (Jn. 4:5-15; 6:3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d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d me till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nt no mo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 my cu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 it u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ke m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57:16Z</dcterms:modified>
  <cp:revision>124</cp:revision>
  <dc:subject/>
  <dc:title>PowerPoint Presentation</dc:title>
</cp:coreProperties>
</file>