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E994-5495-4A0C-8B0B-3AD7C553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A7B2-0D3A-4511-BED2-7E81A0A0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6242-C872-4B82-92FA-ACAEFE85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0625-FE5C-41E7-A89C-A13BE23E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355E-DC26-4457-95A0-FFAA575E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AC26-A4D5-43C4-9B61-6825FFA6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D6E0-C845-4327-9A6D-FA2C5CA7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9D2F-A52A-49C3-8A29-5FF7ED2F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7044-5374-44F8-8DCE-2D4F9469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BFF7-B950-4B12-ADBE-A4349F20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578F-D448-410B-8B48-11934449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5C7E-86DB-4E87-8A5F-D7074C18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2E7E-6168-448D-9EF1-15B3D9030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9154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mmortal, Invisible,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od Only Wi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1. Immortal, invisible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God only wise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in light inaccessible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hid from our eyes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ortal, Invisible, God Only Wi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63560" y="1600200"/>
            <a:ext cx="5947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RDS: Walter Chalmers Smith, 1867 (1 Tim 1:1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75248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most blessed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most glorious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the Ancient of Days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almighty, victorious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thy great name we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22096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73964" dir="18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2. Unresting, unhasting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and silent as light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nor wanting, nor wasting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thou rulest in m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ortal, Invisible, God Only W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64600" dir="67483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thy justice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like mountains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high soaring above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thy clouds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which are fountains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of goodness and lov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64600" dir="67483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3. To all, life thou givest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to both great and small;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in all life thou livest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the true life of all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ortal, Invisible, God Only W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77353" dir="56247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we blossom and flourish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as leaves on the tree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and wither and perish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but naught changeth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4. Thou reignest in glory;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thou dwellest in light;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thine angels adore thee,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all veiling their sight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ortal, Invisible, God Only Wis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all laud we would render: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O help us to see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’tis only the splendor</a:t>
            </a:r>
            <a:br>
              <a:rPr sz="5000"/>
            </a:br>
            <a:r>
              <a:rPr b="0" lang="en-US" sz="5000" spc="-1" strike="noStrike">
                <a:solidFill>
                  <a:srgbClr val="ffff00"/>
                </a:solidFill>
                <a:latin typeface="Times New Roman"/>
              </a:rPr>
              <a:t>of light hidest the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08T20:54:07Z</dcterms:modified>
  <cp:revision>19</cp:revision>
  <dc:subject/>
  <dc:title>PowerPoint Presentation</dc:title>
</cp:coreProperties>
</file>