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F8E-3FF5-4296-9144-79777193E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A566-9D17-436E-B6AC-2B827108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5C4-EBBF-4423-A384-7261584B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114-83E2-4F4E-84CB-8FBA9DF1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04C-4708-4E1A-8376-DD4A9B99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DB4-5CD6-4C5A-836C-91FFAF0F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DC8-C2FC-4171-B0E9-022607DA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302C-FB4F-4AAE-84BB-27BC6738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2AD-889E-41DC-AA58-C36C9192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FAD-E796-4E33-ACA4-D01AFD5B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173-F185-4079-9D4F-5E605A08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1EBD-D13B-4468-9FA0-B0E79E8F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8D29-31A1-4AF0-9C08-63DC19D93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Dismiss U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ith Th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, dismiss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y blessing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ill our hear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joy 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25640" y="1676520"/>
            <a:ext cx="349236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John Fawcett, 1773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us eac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love possess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iumph in redeeming grac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refresh us, O refresh u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aveling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wilder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nks we gi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dora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thy gospel’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ful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Dismiss Us with Th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ay the frui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thy salva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lives aboun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 faithful, ever faithfu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e truth may we be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0:34Z</dcterms:modified>
  <cp:revision>10</cp:revision>
  <dc:subject/>
  <dc:title>PowerPoint Presentation</dc:title>
</cp:coreProperties>
</file>