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4F23-BF7B-4E9B-8295-752DFE1C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F35-9D93-4193-AED6-5778D3F8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C00-868A-4FDA-94C1-F1D1ECAF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2933-871E-48C2-AFA7-CB119A21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973-A51C-4A68-8826-9D7268A8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0F15-165E-4B60-971C-92C3BF95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368-DA13-4DB1-ADDD-9FD6B5C7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408-FC63-4B74-925D-476ABB7A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493-1143-4DA7-BD4E-082CAEBF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FDB-024E-4A9E-97E4-55CFE264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9AC-2D89-4269-88B5-92FF3D48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4D59-74AA-405A-87D9-B539936B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0CF7-E91D-4A12-AAAA-E6A58D0D5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ecause He L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3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sent his S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y called him Jesu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came to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l, and forgi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7280" y="1066680"/>
            <a:ext cx="4191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Gloria and William J. Gaither, 19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n as dea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s way to vic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see the ligh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gl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’ll know he reig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lived and di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buy my pard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 empty grave is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ove my Savior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ow sweet to h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newborn bab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eel the pr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he giv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greater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alm assuran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child can f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certain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30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can face tomorrow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he li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ear is g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cause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olds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s wo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iv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because he liv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then one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cross the river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fight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nal war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cause He Liv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29:39Z</dcterms:modified>
  <cp:revision>15</cp:revision>
  <dc:subject/>
  <dc:title>PowerPoint Presentation</dc:title>
</cp:coreProperties>
</file>