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2440-F93F-4C60-AEA9-3E13B222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7F03-C08E-453C-9C2A-0F33FFBC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F0A4-36EF-4062-85D7-59F8A01F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95DB-BE74-450C-ACCE-ECB30E4D5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BCB0-7C10-4731-AC25-D24AF625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520-706E-43CD-B3EF-3EFCD255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9F9A-C895-4C11-80F1-4A040605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629C-EB73-4810-9006-0C0275F8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A51B-EAC2-42E3-8025-9C030ABB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55DC-5831-48B5-885B-D60CEB2C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7DF0-2EB6-4EA6-8560-1F5AAC97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2104-A265-4FA1-8293-01DD8C4B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BAFC-B58B-43DE-A943-F9301DB7D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y Master, See,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Time Has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97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My Master,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time has 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give y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rvant leav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Words by permission of A. P. Watt Lt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Master, See, the Time Has C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36840" y="1638360"/>
            <a:ext cx="246672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Luke 2:29-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go in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ng waited f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r prom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fulfil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For I have se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lvation,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may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le world se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Master, See, the Time Has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light which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r Israel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oast enlighte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y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4:12Z</dcterms:modified>
  <cp:revision>72</cp:revision>
  <dc:subject/>
  <dc:title>PowerPoint Presentation</dc:title>
</cp:coreProperties>
</file>