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BAF-0361-45F5-8B2C-A7146200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915-7348-4E5B-B844-D4EF5F19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92C-870E-42EB-9205-EDA9F1E0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B449-DD79-4084-89C6-CD46778F5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7DD2-4A1E-4BE5-B9BC-EF9DC9E6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E6A6-3BF0-4A2E-A51F-60E4CBE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702-9868-40CA-A84E-0F48595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BA65-F6CB-4012-8BFD-5895AA48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C2AD-B864-4C36-B724-894659E6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A44A-DA5E-4782-8C04-0EC336D8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53A0-D48B-4084-B2FD-D9FFBF20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212-D696-4815-8DCE-11D6292C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2E11-3B0D-4E0B-B17B-23AAFD77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E167-8954-4C8B-9E2A-7641B47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4534-B0A9-4667-A640-3C0E0CC3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C12F-C668-41FA-AB4F-104BBF14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5CA7-D3E1-4146-8A89-8BEDDE37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7A5-0B73-48CE-B85D-8E67756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A7A-BC3B-4189-8E9E-27B09405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B2D-A1C8-4093-A59F-CC4BC548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BD2-6451-48DD-8314-02F978E0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F11-7A4B-4F19-9B46-8A463E9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5C71-4D20-4FA2-A538-81FF2DAB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8E4-6BC0-4FAC-AF28-0C66FCBB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01E4-833F-4FB8-9727-0AFEAEC12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0C61-DF3B-46AA-A757-2AA639E4A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of the 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28800"/>
            <a:ext cx="9144000" cy="453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danced in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the world was beg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danced in the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ars and the su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3 Stainer &amp; Bell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37080" y="990720"/>
            <a:ext cx="3527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yndey Carter, 1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whipp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stripp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hung me hig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left me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 cross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 danced on a Fri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ky turned black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’s hard to 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d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your bac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buried my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thought I’d g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I am the da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still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y cut me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leapt up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ll never, never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live in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f you live in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28736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from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danced on the eart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ad m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763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 of the 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76320"/>
            <a:ext cx="1523880" cy="7642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66840"/>
            <a:ext cx="9144000" cy="323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 I danced in the morn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n the world was begun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I danced in the mo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the stars and the sun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© 1963 Stainer &amp; Bell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37080" y="685800"/>
            <a:ext cx="3527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Syndey Carter, 19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ca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own from heav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danced on the earth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t Bethlehe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had m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049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57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 danced for the scri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Pharis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they would not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would no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llow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danced f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fisherm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James and Joh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came to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dance wen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I danced on the sabbat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I cured the l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hol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aid it was a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17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wh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stripp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hung me high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left me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a cross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4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80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I danced on a Frida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 sky turned black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t’s hard to dan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 devi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your bac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y buried my bod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ey thought I’d go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I am the da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still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066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They cut me dow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 leapt up hig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’ll never, never di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1050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’ll live in you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f you live in m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 of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648320"/>
            <a:ext cx="914400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danced for the scri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Phari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y would not d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y would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 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danc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isher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James and Joh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ame to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dance went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nce,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ver you may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’ll lead you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nce, said h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danced on the sabb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I cured the 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ly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d it was a sh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 of the Da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nnifer McCay</cp:lastModifiedBy>
  <dcterms:modified xsi:type="dcterms:W3CDTF">2006-10-14T22:42:07Z</dcterms:modified>
  <cp:revision>26</cp:revision>
  <dc:subject/>
  <dc:title>PowerPoint Presentation</dc:title>
</cp:coreProperties>
</file>