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006-5421-4CA9-9A3E-1A130826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4A73-A3FE-4641-9A36-3B9FA002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C87-BAAE-4A89-9FCA-2506BD02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D68-0736-4593-8E0B-766079F5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E2C-8C6A-43A5-A3A3-BDC5BA08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23F-FE28-4D79-BA77-03F08B79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2BC-0081-4231-90BA-518A41D1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3F29-C158-4ADE-B109-DBD359C5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8A8-81E6-4A74-B1D9-748C9336A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998-15EC-4391-923B-65925002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EA2-87A8-48E6-AB49-ABC4BB7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936-FF38-4E81-9764-7738796A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A785-9BDF-42FD-830D-C11EE46E0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ticle of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4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(Advent &amp; 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grant to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wis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new us with its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dapt. and Response 1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080" y="1092240"/>
            <a:ext cx="66531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Wisdom of Solomon 7:15, 24-30, adapt.;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sponse 1, Harrell Beck; Response 2, Henry Sloane Coff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827360"/>
            <a:ext cx="8610480" cy="320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light is succeed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by the nigh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but against wisdo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evil does not prevail.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3716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come, thou Wis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on h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rder all th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 and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Wisd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838080"/>
            <a:ext cx="8610480" cy="405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y God grant</a:t>
            </a: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that I speak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with judgment 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and have thoughts worth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f what I have receiv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5760"/>
            <a:ext cx="86104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God is the Go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even of wisd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the corrector of the wise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sdom is more mobil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n any motio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ecause of her purit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isdom pervades a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enetrates all thing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838080"/>
            <a:ext cx="8610480" cy="5395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 she is a breat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of the power of Go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and a pure emanation of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he glory of the Almighty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therefore nothing defiled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gains entrance into wisdom.</a:t>
            </a:r>
            <a:br>
              <a:rPr sz="3000"/>
            </a:b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6676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she is a reflecti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eternal ligh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 spotless mirror of t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working of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 image of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God’s goodne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ough wisdom is but on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she can do all things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while remaining in herself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wisdom renews all things;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409680"/>
            <a:ext cx="8610480" cy="58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 every generation wisd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asses into holy soul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makes them friend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f God and prophe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ruly God loves noth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so much as those w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live with wisdom.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1872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or she is more beautiful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n the su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excels ever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nstellation of the star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pared with the ligh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he is found to be superi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5:48:00Z</dcterms:modified>
  <cp:revision>28</cp:revision>
  <dc:subject/>
  <dc:title>PowerPoint Presentation</dc:title>
</cp:coreProperties>
</file>