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166-BAE3-43F3-8855-3AE4B93E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3C4C-8CA4-42C3-B583-14036929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0258-D126-4116-A0AB-A190F0DA3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2E78-2659-4362-AEED-C7369AA83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666D-BD4C-48B9-8C08-961E0A2E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BE6E-E6F2-41B1-9632-BA1ACD73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DD37-920A-4835-9DA0-C5B04737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7D22-E9BD-4399-AA85-EE4AF2A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9CF-DC73-4002-8D2E-55425FC1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0F7-FA54-4E00-A336-4FC92490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EF5-B239-414F-BD74-176175CD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0A8-CB68-4F70-B815-FB18A893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959A-6635-4D49-B9B3-965B6FF67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Now in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Now in Pea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Natalie Sleeth, 1976 (Lk. 2: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057400"/>
            <a:ext cx="83818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now in pea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now in pe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209680"/>
            <a:ext cx="1066680" cy="106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76 Hinshaw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1981080"/>
            <a:ext cx="792468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the love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surr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057400"/>
            <a:ext cx="106704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28800" y="2133720"/>
            <a:ext cx="73152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ywhere, everywhe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 may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133720"/>
            <a:ext cx="1066680" cy="10666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30:09Z</dcterms:modified>
  <cp:revision>157</cp:revision>
  <dc:subject/>
  <dc:title>PowerPoint Presentation</dc:title>
</cp:coreProperties>
</file>