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6F6-A7CD-4225-BC3D-ABDB0545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3EB-666D-4D68-9CBD-1210B6ED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9B5-58A4-49FD-84E5-08E34CF8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C24-D452-4298-8D34-DDEE3744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84A6-3534-49B8-9D30-07A4338F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E72-5927-479F-BAE6-E6A6CCF2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AEE-ABB3-4825-9AC3-3D534F09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597B-D2B3-412B-BD2C-6EF92320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6255-3125-40AF-9828-58AFC22D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ECE-C137-497A-8AC2-FD84E339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D7C-277C-4212-9BC2-FAE7AF08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08D-99FB-4688-9E2D-9234287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0BC5-020D-4D65-B64F-CEFB2152D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Who Love a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e Your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rik Routley, 1966 (Lk. 19:41; Ezk. 48: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All who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erve your c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who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s daily str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69 by Galliard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Judge, our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its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“The Lord is the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cry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peace and just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who cur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who bles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n your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loss and sorr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your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helpless str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nor,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retrea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is your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n your day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alth and plen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sted wor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asted p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l to mind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of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Work ye y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it is day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or all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days of judg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waiting sti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rawing near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who spurn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fering peace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alvary’s h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Who Love and Serve Your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Risen Lord,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t the c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the c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despai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48:44Z</dcterms:modified>
  <cp:revision>142</cp:revision>
  <dc:subject/>
  <dc:title>PowerPoint Presentation</dc:title>
</cp:coreProperties>
</file>