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069-FE39-454A-870A-7DAF9C067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CAD-0484-4FA8-9F63-ADD3CFB8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A23-0F36-42FD-B6AE-77D48BD0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EE1F-51F7-4769-A3AA-26C4F46B4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5A9-7F98-4E8C-8D4C-A873557E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F0B-2AE0-4B3A-A16B-785181DB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1F4-591E-4401-8C35-695DB4C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70C5-A782-4B43-83A1-58D88A50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B93-1426-4B9A-81D8-0EF0C5E9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A6A7-55D8-47DA-BB43-BD7B591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1C7-4B12-42DD-874F-BBD2D0F7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176-631C-440D-B2D4-0433E857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24C9-6A0C-4DA6-9CD0-25CC90473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ar Lord and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ther of Mank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 Dear Lord and Fath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mank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rgive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oolish way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9360" y="1523880"/>
            <a:ext cx="33508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John Greenleaf Whittier, 1872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sense be dumb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flesh retir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peak through th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earthquake, wind, and fir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still, small voice of cal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clothe us i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rightful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pure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service f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deepe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verence,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 In simple tru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ke theirs who hea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side the Syrian sea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gracious call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the L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t us, like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out a wor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ise up and follow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 O sabbath res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y Galile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 calm of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ills abov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ere Jesus knel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share with the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ilence of eternit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terpreted by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 Drop thy still dew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quietn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ill all ou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strivings cea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ake from our soul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strain and stres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let our ordere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ives conf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e beauty of thy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5. Breathe through the heat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our desir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cool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thy bal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Lord and Father of Manki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1:08:58Z</dcterms:modified>
  <cp:revision>9</cp:revision>
  <dc:subject/>
  <dc:title>PowerPoint Presentation</dc:title>
</cp:coreProperties>
</file>