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8E5-A63F-4CD1-B737-C0243788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F4A-D110-485E-A8BC-78DFB286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CFF-784A-4BF7-9E39-2654976DF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1A66-107B-45E5-A2FB-258BCF57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703-F18E-465E-A61D-692E2DB9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8C4-D2CD-456A-939E-638E49E9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0E8-9413-4BD3-AB2B-20B08D61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5A6-203B-4FF4-9DCF-B5FA380E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3D1-25AA-4FCE-B747-3639D714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531-239A-40CE-A48C-64F953F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02A-9A53-4CD0-8A87-6F60438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4F9-7FC1-4E9F-9862-CDA7FC60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A0B8-08C1-47DF-B8BE-92ABA0AC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Breath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Breath of Lif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ome sweeping through 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evive your churc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life and powe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3440" y="1066680"/>
            <a:ext cx="4905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Bessie Porter Head, 1920 (Acts 2; Jn. 20:2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reath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cleanse, renew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it your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et this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Wind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bend us, break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humbly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fess our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in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nderness remak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vive, rest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is we p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Breath of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breathe within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ing th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and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Breath of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love of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fresh to win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vive your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47Z</dcterms:modified>
  <cp:revision>14</cp:revision>
  <dc:subject/>
  <dc:title>PowerPoint Presentation</dc:title>
</cp:coreProperties>
</file>