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5B66-7C81-4845-9E9D-9791BACA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19D9-72A0-443B-B443-C302AE1D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157E-CAE2-48A9-99A8-DF486760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B0F1-54B1-46B7-A504-8925CDFB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6C5F-4665-40F5-8AF0-CC10FE42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722D-B292-4EAC-96E6-A052DBC3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C81C-DD6B-4393-98C4-08EC2DAF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46D4-2611-47AE-A004-F64A57F2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C651-6B45-44E0-A301-D0DD8F0A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C763-9013-487F-8CD3-8763ECC8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038-3418-45C4-BBBE-1180560C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8085-F9FC-4034-805A-A22BB389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EAD5-FC1C-4DFA-AE3D-EB1ED9C0B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ile Shepherds Watche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ir Floc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hile shepherds watch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flocks by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seated on the grou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Shepherds Watched Their Flo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6440" y="1676520"/>
            <a:ext cx="4248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Nahum Tate, 1700 (Lk. 2: 8-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angels prai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on hi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thus addres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thus addres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song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6. “All glory b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on h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th be pe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Shepherds Watched Their Flo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od will hencefo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heaven to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gin and never cea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gin and never ceas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angel of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came dow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lory shown arou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lory shown ar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“Fear not!” said h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mighty d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d seized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oubled mi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Shepherds Watched Their Flo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ad tiding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joy I b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all of humanki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all of human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“To you,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vid’s town, this d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born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vid’s lin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Shepherds Watched Their Flo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Savior, who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is sh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he sig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is shall be the s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“The heavenly ba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there shall f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um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iew display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Shepherds Watched Their Flo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meanly wrapp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swathing ba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n a manger lai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and in a manger lai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Thus spake the serap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orth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ppeared 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ining thro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Shepherds Watched Their Floc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28:50Z</dcterms:modified>
  <cp:revision>10</cp:revision>
  <dc:subject/>
  <dc:title>PowerPoint Presentation</dc:title>
</cp:coreProperties>
</file>