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24D0-6597-4EFA-8489-1B6E565C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B07-644F-46EB-91D5-A6A724D3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7F7-A49E-4DD2-B0B1-5C68E238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EED-25E7-4199-AA4B-A5107591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B75-0A8A-4352-BE3F-8775938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F2CA-9068-40E9-86F3-BF3D7EC0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948-A030-46A3-A8E8-D4B4537D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FCD-75D8-49CD-BCE3-9CC1F558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68C-9E43-4B98-A382-3E33FC09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220-E175-4D8D-9034-6D710090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0F8-651E-4031-A724-ACD3C18C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CAD-B31F-41EA-91D1-1815F6E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548-116B-4641-A0E5-09C7974F2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Who Throughou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se Forty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, who through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se forty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st and pr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1040" y="1573200"/>
            <a:ext cx="7634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laudia F. Hernaman, 1873 (Mt. 4:1-11; Mk. 1:12-13; Lk. 4:1-13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 Easter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ending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ay att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us with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ourn our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ose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e to st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thou with Sat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cont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ory w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ive us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 to f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quer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s thou did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nger bear, and thir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eac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ious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ie to 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iefly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st holy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through these d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enit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assiontide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,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 and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Abide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lif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ffering over p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Who Throughout These Forty Day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1:04Z</dcterms:modified>
  <cp:revision>25</cp:revision>
  <dc:subject/>
  <dc:title>PowerPoint Presentation</dc:title>
</cp:coreProperties>
</file>