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828E-58EA-4C52-9327-F0C2656F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312-C887-45F2-94E7-8F489108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7F06-9D4B-486A-82AA-8674884F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A19-1911-4D5D-B988-ECE10C19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043-D6D3-4EEE-82B7-D1EED559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3E2-0E20-477B-B7E4-15734F30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DFF-4831-43A9-9B0F-E282E131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2D0-5CB5-4E3A-A9F2-8C79BF4D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7E1-0412-4F32-B5ED-1A41D5E0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5E2-4E98-4BB2-BD56-C7CB195F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9601-20C3-4E10-9040-7C1B01CB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077-FFBF-4376-B18C-4B97224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779D-82C6-4C58-8C69-E5659DC04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da la Tierra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All Earth Is Wa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oda la tierr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pera al Salvad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el surco abierto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a obra del Señ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2 Alberto Taulè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73560" y="1585800"/>
            <a:ext cx="60253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talonian text by Alberto Taul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è, 1972; English trans. by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ertrude C. Suppe, 1987 (Is. 40:3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l the worl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ound and struggl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eks true liberty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cries out for justi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earches for the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Thus says the prophe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ose of Isra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A virgin moth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bear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is nam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God with us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r brother shall b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him hope will blosso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ce mo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untains and valle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have t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made plain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pen new highway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w highways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is now coming clos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o come all and se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open the doorway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wide as wide can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In lowly stab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appear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et, feel his presen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arth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e lives in all Christian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is with us now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gain, with his com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bring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 el mundo que luch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or la liberta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clama justici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busca la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Dice el profet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pueblo de Israel: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De madre virge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a viene Emmanuel,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rá “Dios con nosotros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 será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on él la esperanz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 mundo volve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Montes y vall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brá que prepara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uevos camin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nemos que traz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Él está ya muy cerca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enidlo a encontra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todas las puerta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brid de par en p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En una cueva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Jesús apareció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ro en el mund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stá presente h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 la Tierr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ive en nuestro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manos, con ellos está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 vuelva de nuev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darnos libert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All earth is wait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ee the Promised On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the open furrow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owing 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Earth is Wai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53Z</dcterms:modified>
  <cp:revision>58</cp:revision>
  <dc:subject/>
  <dc:title>PowerPoint Presentation</dc:title>
</cp:coreProperties>
</file>