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AF51-5696-4ED7-9858-DBD54EAF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6E8-39C1-4578-829D-93BE5565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CF7-EF25-42FE-8AAE-734D3CBB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784-AA55-41E5-BDF3-4B82986F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D1AF-6408-47E1-924C-3C0B5B64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D67-AB94-45A4-AB24-9547158C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29C-0084-45A0-BF7A-C9219877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678-23ED-4A41-AC8A-C95375C6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19A-7314-4F1A-BDCB-B0745F18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14D2-A02A-4FE8-A05C-79993353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41C-ED14-4EB2-A905-4728630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E2F-D262-4A59-915B-B90FCA77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CF1-6E5C-49D6-8DFF-11348B1CB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is Is My Father’s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my listening 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nature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round me r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usic of the sphe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94440" y="1066680"/>
            <a:ext cx="41630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WORDS: Maltbie D. Babcock, 190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rest me in the thou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ocks and tre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kies and sea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an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ers wrou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is is my Father’s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irds their carol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orning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ly whi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clare their maker’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hines in all that’s fai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rustling gra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hear him pa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speak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everyw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is is my Father’s world.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let me ne’er forg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ugh the w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ms oft so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the ruler y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My Father’s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is my Father’s worl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y should my heart be sad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is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heavens r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reig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earth be gl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29Z</dcterms:modified>
  <cp:revision>7</cp:revision>
  <dc:subject/>
  <dc:title>PowerPoint Presentation</dc:title>
</cp:coreProperties>
</file>