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FC4-E429-4D3D-BDEC-C7B989B4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7C6-FBDA-468E-80B0-40469D23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968-74EF-4332-B344-9BF34088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F93-2D9C-435D-9000-F009C440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5238-52B9-4CED-A056-2A52785A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5A0-6DDB-4795-AE15-6CF01E8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FBC-B60A-405A-BB9F-D352D207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65D-C7B7-4E40-871D-989114D6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EC0-897B-4433-BC19-8453D9A1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8DE-CDBF-4986-B58D-F5B9312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A54-9D7F-4490-8A6A-1348B646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0AD-91C0-4C11-828D-BD544245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ED2-8F71-40ED-810D-27783B7DC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ecome to U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iving Br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hich the Christi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is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e Westminster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iriam Drury, 1970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newed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ly comfort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-failing w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pring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shall inclin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rts to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venant sig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Christian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e a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cred boar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ome to Us the Living Brea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praise the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, O Lor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7:46Z</dcterms:modified>
  <cp:revision>131</cp:revision>
  <dc:subject/>
  <dc:title>PowerPoint Presentation</dc:title>
</cp:coreProperties>
</file>