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31E-4A18-4718-89E2-8318C220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EDD6-CF68-4B70-A601-BE737E02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A8B-0061-41C5-B517-AB770831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B29-FA15-4022-874C-A986C855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519-7833-4B41-8C51-43E6AF0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6911-9C73-4142-8D58-9DE597E7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E82-7101-47C8-BD7B-DBB6B2C6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E0C-A4CC-4294-AD14-0250BD4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6DD-E9C2-418E-A25B-5070D76B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4CB7-B9FB-4B10-B770-CAC7034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A58-6D5E-4836-9F38-5A8472E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2790-2FDF-4A20-B01D-EFDDCBF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348F-CFA6-49FB-A16A-098E84400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Earth Is Waiting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Toda la Tier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2 Alberto Taulè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3560" y="1585800"/>
            <a:ext cx="60253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talonian text by Alberto Tau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743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438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590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rá “Dios con nosotros.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752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2004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6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19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9718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95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819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la Tierr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0:53Z</dcterms:modified>
  <cp:revision>58</cp:revision>
  <dc:subject/>
  <dc:title>PowerPoint Presentation</dc:title>
</cp:coreProperties>
</file>