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F78F-EFC8-41FD-8646-E10D2FC0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115-3FD8-432C-AD53-3F8757A7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8A4-4444-40A3-AC9B-D39B7119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17C-02FD-4845-B07F-D1FE87D2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D96A-8C29-4096-8CA2-0531FA6A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163-CBA8-4B33-BFEF-C308AD56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F004-65FC-4928-B74D-078B32BB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6A7-CBD0-414C-B289-522F3F47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304-F5F7-40E4-A6F1-9647806B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B2AD-C4D2-461F-8F6F-E91BB13F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1D1-83CF-4CBA-8D46-53B9C41A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E86-E1DB-40D7-95CD-0531BDA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55FD-D48D-44AD-BB75-727FC75CB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nding Rest in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828800"/>
            <a:ext cx="8686800" cy="348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ou hast made us for thyself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 Lord, and our hearts ar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stless until they fi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st in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ugustine of Hippo, North Africa, 4th cent. (Mt. 11: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ing Rest in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295280"/>
            <a:ext cx="83818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comparison with this bi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orld, the human heart is onl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small thing. Though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orld is so large, it is utterl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able to satisfy this tin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5257800"/>
            <a:ext cx="5029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ndar Singh, India, 20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ever-growing soul and it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pacity can be satisfied onl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e infinite God. As wate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s restless until it reaches it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vel, so the soul has no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eace until it rests in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16:34Z</dcterms:modified>
  <cp:revision>14</cp:revision>
  <dc:subject/>
  <dc:title>PowerPoint Presentation</dc:title>
</cp:coreProperties>
</file>