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98D-7447-4399-8283-699568E5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50A-DA34-47A2-9B38-FE6D66D8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6447-B3D7-48AD-ADE0-E44F0EAEC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01F-D65C-4733-9D63-CDAFD862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1A6-EADC-4E73-951A-6F3774B3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573-FE67-4123-87B1-BE93F436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AC6-2343-4469-875A-64EF379D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E888-B483-4E5D-855D-498579FA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229-2845-4481-AF1F-2DFA7A6D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15E-4959-4FEB-9C49-783638BD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EC3-506A-436C-A738-4142D853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5E7-E5C5-4A93-9964-25FE9321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14C0-C38C-4107-9067-4F36365A6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re He Leads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E. W.  Blandy, 1890 (Mk. 8:34; Mt. 8: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I can hear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avior ca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can hear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avior ca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go with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the judgm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He will gi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e grace and gl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he will gi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e grace and glor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will gi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e grace and gl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go with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me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1776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can hear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avior ca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“Take thy 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l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llow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I’ll go with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the gard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’ll go with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the garde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go with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the gard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I’ll go with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he leads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foll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go with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him 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He Lead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I’ll go with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the judgm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’ll go with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the judgmen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7:57Z</dcterms:modified>
  <cp:revision>95</cp:revision>
  <dc:subject/>
  <dc:title>PowerPoint Presentation</dc:title>
</cp:coreProperties>
</file>