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B420-B859-4FAA-BA69-A4F5B5C07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87BE-D32D-4672-BC2B-1DF48DFF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B49-2998-4441-AA2C-0E7C57C0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FF2-CB16-4154-9553-9483B0E4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210F-F0DF-44C0-A67E-FEF9E280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70E2-B4EB-4557-92F6-80630773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FF1E-7438-4C05-A7C0-5CE3D283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1595-E5DC-4399-A4E0-C97F7C06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425-CDD0-42B2-9863-C3CCE758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60D-2D43-429F-9302-9D77CC01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22A1-9B2D-4F0F-ADC4-4A60F04B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20F6-2094-4B49-B502-33ED2604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B12B-BFA1-4938-AF79-115B15CB2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 Would See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e would see Jes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! his star is shi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ove the stab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the angels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ould See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5040" y="1116000"/>
            <a:ext cx="3219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. Edgar Parks, 19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ar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mean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rvice scor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we are t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give ourselves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in a mang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hay recli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te, let us lay our gifts 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e would se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y’s son most ho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 of the villa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from day to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ould Se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ining revealed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task most low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rist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ife, the truth,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e would se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mountain teach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all the liste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ople gathered r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ould Se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birds and flow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k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ove are preac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lessedness whi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mple trust has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We would se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is work of heal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event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the sun was se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ould Se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vine and hum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is deep revea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od made fles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loving service m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We would se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early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as of 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calleth, “Follow m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Would See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2:50Z</dcterms:modified>
  <cp:revision>15</cp:revision>
  <dc:subject/>
  <dc:title>PowerPoint Presentation</dc:title>
</cp:coreProperties>
</file>