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88F-68A5-42A9-B69C-AD371C7E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4D03-2F3F-41EE-BAF9-7C005DD0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013-337C-4A2A-B6F1-66E5A675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C3C-06B5-4B5A-8F0C-352D18EE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11C-A52E-4BAB-8E9B-696E505D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8DD-2FA5-45FD-9069-FF988597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219-0ACD-43CD-B594-EC5F626D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9DE-7E5D-47F3-8EA5-5948E3B3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B80-2957-4590-9E56-2ECC8222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3D4D-A78A-42A7-85B2-D35AEB1C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4DB-A9E2-45D4-B090-6F33F7F6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75C-FD09-4215-9571-2550ECB1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F2A9-58D3-48C6-833C-DB5D5E827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74680"/>
            <a:ext cx="9144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loria, Gloria</a:t>
            </a:r>
            <a:br>
              <a:rPr sz="4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Luke 2: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74680"/>
            <a:ext cx="152388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, glor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, glor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a, Gl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7:02:36Z</dcterms:modified>
  <cp:revision>18</cp:revision>
  <dc:subject/>
  <dc:title>PowerPoint Presentation</dc:title>
</cp:coreProperties>
</file>