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385A-491C-4C02-BD12-C472448E5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67C5-34D7-4039-8998-CE0DC611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C971-2BE3-4188-8858-BA4FFB0A7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DDF8-E96E-48B8-972B-3706FAEB4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3D9A-6D5B-4456-BBA0-156D6D16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57C7-D0D7-4EAA-B847-382BD750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DB18-E7F0-4C0F-A1EF-407E46CF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E0E2-D412-4D1F-99D3-EFD79091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710B-B369-41FD-BF34-6EFD9266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7FA4-ED82-4D59-AB17-43B4EB59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17CB-BFF5-42B0-A302-22A5EEC4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124D-13B3-4293-9345-2DB21F2D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9802-A3DB-405D-882D-686BA546E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More Love to</a:t>
            </a:r>
            <a:br>
              <a:rPr sz="4000"/>
            </a:b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Thee, O Chr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5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Love to Thee, O Chri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Elizabeth P. Prentiss, 186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096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More love to thee, O Chri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ore love to thee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ar thou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rayer I mak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n bended kn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is m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rnest plea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ore love, O Chri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ore love to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ore love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Love to Thee, O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Once earthly joy I crav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ought peace and rest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w thee alone I seek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ive what is b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is all m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rayer shall be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ore love, O Chri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the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ore love to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ore love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Love to Thee, O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Let sorrow do its work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grief and pain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weet are thy messenger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weet their refra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they ca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ng with me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ore love, O Chri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ore love to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ore love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Love to Thee, O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Then shall m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atest brea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isper thy prais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is b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arting c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y heart shall rai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still i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ayer shall be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ore love, O Chri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ore love to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ore love to th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09:58Z</dcterms:modified>
  <cp:revision>152</cp:revision>
  <dc:subject/>
  <dc:title>PowerPoint Presentation</dc:title>
</cp:coreProperties>
</file>