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888C-31F2-4249-98FF-7EC67000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408-69C0-43F0-88B5-65F57E4B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3C9-CD0F-4AB7-91AB-9779F61F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C8D-D499-46D7-B472-B1FAC3EC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A4DE-54DC-4223-AA9D-2BA55366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ABB-6173-4846-9C6D-EFD563A7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F9ED-E017-4E0A-9E45-ED35FFB6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0D9-75A2-4F23-AEBD-D7695C23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CC2-AB4F-4B92-91C4-236702B0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AB7-8EAD-4FA1-AFD8-C4F6E5C2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541A-BC83-47F1-8A4E-6D713CF3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FD8-6880-4765-A283-B7741215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14F9-55F8-40DC-883A-11C89C962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the Victorio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rist the Vict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o your serv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with your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regions of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2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69080" y="1066680"/>
            <a:ext cx="2992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arl P. Daw, Jr. 198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ief and pain e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ghing no lo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may they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nly Immortal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y Creator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our creatu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ildren of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arth you forme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th glorious and m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we all retu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-spoken prophec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at creatio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You came from d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dust shall return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at the grave shall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up our glad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Alleluia, alleluia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Vict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o your serv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with your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regions of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Victorio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ief and pain e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ghing no lo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may they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10:25Z</dcterms:modified>
  <cp:revision>10</cp:revision>
  <dc:subject/>
  <dc:title>PowerPoint Presentation</dc:title>
</cp:coreProperties>
</file>