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4E6-F56B-4838-89CF-F11EF459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CCC-C2EA-4F57-B6BF-0455C3B5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6291-0E6D-498C-AD52-BB7F2FB9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EF8A-7577-43D3-AA5E-D6784EA7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5924-C433-4E7E-BBED-09E1489A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FC8-2E78-44CC-AC41-49CCCA6F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C4A-90E8-4B8B-B6FA-EEC2CA5A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7C24-9A90-427D-902B-333F9B64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F9C-31D9-4AA1-8594-B69C6783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C95-087C-4E9A-8C0F-0B3D15C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693-CE87-4924-9C14-C3CCA12C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D86-4F52-44D3-8E40-45146B27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58C8-E07A-4C7F-A10C-0758694F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Perfect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orothy B. Gurney, 18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O perfect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hu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t transc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wly we kneel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er before thy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heirs may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knows no en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m thou forevermo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st join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perfect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thei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ull assur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ender chari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teadfast fai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patient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quie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rave endur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childlike trust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ears nor pain n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ch brighten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ly sorrow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nt them the peace whic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lms all earthly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erfect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o life’s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loriou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known m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dawns up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ternal love and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21Z</dcterms:modified>
  <cp:revision>148</cp:revision>
  <dc:subject/>
  <dc:title>PowerPoint Presentation</dc:title>
</cp:coreProperties>
</file>