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EA14-6D09-4EBD-B71C-A9AFE7D5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79B-8382-4549-95ED-C73E842E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78D-87AB-49DD-B2B9-604A19D4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C21-6A90-4292-84E8-0B23B0FC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B2F-FCA8-42FE-969B-01833269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64A7-BA7A-48BE-A4C5-C7F25FC7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D591-72A8-4016-9964-55D6D614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055-28E2-42FC-B908-7D36B3ED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DA6-B4FE-464F-AD7D-3129574C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EDC-47F4-4E75-8548-84AEBE39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029-4294-4810-8E22-A9B875E2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A6C4-E529-40C5-8F4B-20767B1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C8CA-5139-4188-9149-9DD82DD5E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Help for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thcoming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1460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lmighty and everlasting G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you have safely brought u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o the beginning of this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Help for the Forthcoming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86080" y="1600200"/>
            <a:ext cx="617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The Book of Common Prayer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; alt. Laurence Hull Stookey, 198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095880"/>
            <a:ext cx="8001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981080"/>
            <a:ext cx="83059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Defend us with y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mighty pow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grant that this da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we fall into no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81080"/>
            <a:ext cx="80769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neither run into any kind of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danger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but that all our doing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rdered by your governance,</a:t>
            </a: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1905120"/>
            <a:ext cx="81532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may be always righteou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in your sight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hrough Jesus Christ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ur Lord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56:14Z</dcterms:modified>
  <cp:revision>17</cp:revision>
  <dc:subject/>
  <dc:title>PowerPoint Presentation</dc:title>
</cp:coreProperties>
</file>