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1540-1ED9-41B6-B176-A30CD4AF4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B851-31E5-4141-A7F6-6E9EAFF0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88D0-500F-4E85-8A35-69F3FB645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9A99-4B32-4B78-AC69-491019D69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241E-FBD9-4D35-81F0-274EBE08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E9F6-326D-4764-98D0-90DC3191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3BA4-DDD0-46B3-827C-A93DC97B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BE06-9228-494C-BA5B-5B8C3558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14F7-3EEC-4103-B4B1-7A84FE9E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4AD5-58AB-4ECA-A313-D6C2A9CC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6122-471D-47B3-A85E-A2FD7990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0C6E-AFB3-41CF-88EA-6CD37C3B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4F0C-E135-40E0-8468-DB8194074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od Christia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riends, Rejo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Good Christi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iends, rejoi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th heart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ul and voi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Christian Friends, Rejoi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6480" y="1676520"/>
            <a:ext cx="6156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14th cent. Latin; trans. by John Mason Neale, 18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ive ye he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what we say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ews, news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sus Christ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orn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x and a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efore him b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he is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manger now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is born tod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is born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Good Christi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iends, rejoi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th heart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ul and voi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Christian Friends, Rejoi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w ye he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endless bliss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ews, news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sus Christ w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orn for thi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 hath open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aven’s do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ye are ble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revermor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was born for thi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was born for thi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Good Christi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iends, rejoi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th heart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ul and voi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Christian Friends, Rejoi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w ye ne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t fear the grave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ews, news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sus Christ w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orn to sa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alls you o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alls you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gain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verlasting hall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was born to sa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was born to sa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3T20:42:53Z</dcterms:modified>
  <cp:revision>69</cp:revision>
  <dc:subject/>
  <dc:title>PowerPoint Presentation</dc:title>
</cp:coreProperties>
</file>