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B3A-35DA-4D1F-A308-14455617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886A-3F35-4226-82C2-6AF10969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474-35E0-44CF-8C42-BB677F29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CE6-6BAC-4C99-AA38-92B250CF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931-3AD1-4A71-B96C-79EEBFA8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9047-BE51-438E-854F-B7E8B97A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E1B7-65FA-43F0-A2B0-3B9A1AAD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9E3-0598-4307-879E-1BE4A928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E1B5-0FB7-4007-822D-7EA8C62E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A306-CF17-423B-9E52-10B82569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DC4-AD2C-44FB-9454-83D13122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EF17-DCAF-4AA4-8BEF-64E16545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EBD7-9813-4360-98C2-01BC2FE30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784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uide Me, O Thou Great Jehova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Guide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thou great Jehova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ilgrim through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rren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8160" y="1143000"/>
            <a:ext cx="6104520" cy="67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WORDS: William Williams, 1745; trans. from the Welsh </a:t>
            </a:r>
            <a:br>
              <a:rPr sz="1900"/>
            </a:b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by Peter Williams and the author, 177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weak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hou art might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d me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owerful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d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d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d me till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nt no more;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want no more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d me till I want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pen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rystal f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ce the hea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eam doth f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fi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loudy pill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d me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journey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16040"/>
            <a:ext cx="9144000" cy="533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ong deliver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ong deliver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ou still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ength and shield; </a:t>
            </a:r>
            <a:br>
              <a:rPr sz="50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strength and shield)</a:t>
            </a:r>
            <a:br>
              <a:rPr sz="44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ou still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ength and shie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hen I t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erge of Jord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id my anx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ars subs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uide Me, O Thou Great Jehova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th of d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ll’s destruc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nd me sa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Canaan’s s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43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gs of prais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gs of prais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to thee;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give to thee)</a:t>
            </a:r>
            <a:br>
              <a:rPr sz="44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ever giv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6:22:35Z</dcterms:modified>
  <cp:revision>44</cp:revision>
  <dc:subject/>
  <dc:title>PowerPoint Presentation</dc:title>
</cp:coreProperties>
</file>