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CED-D3E9-4496-AC7F-0E88EA3A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232A-CA3F-42A8-9E03-3C9AD1BC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8CF6-9D28-4010-A632-A4EBB82F9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821-2CAE-4813-9C41-A472225C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FFCB-797B-4EA9-9035-96A7EC88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51C-83C8-4E04-ABDA-02262447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B30-15DC-427C-B761-37EADA74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E9A3-077D-4EF1-A880-41A456DB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DDE4-0AF6-482C-BB84-06DF8DCD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AFD-30C4-434F-A6F0-9B76FF4D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AAE-B7C9-43FE-9C20-A01541B2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DE5-6F7F-4AE3-BFF8-E7ED2A3A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719D-60E2-4FE3-8E09-089456E03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ise to the Lor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Almigh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1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335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Praise to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l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 of cre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ns. sts. 2 and 4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4240" y="1839960"/>
            <a:ext cx="826848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oachim Neander, 1680; sts. 1, 3, 5 trans. by Catherine Winkworth, 1863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t. 2 by S. Paul Schilling, 1986; st. 4 by Rupert E. Davies, 1983 (Ps. 103:1-6; 1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Praise to the Lor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et all that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e adore him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at hath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r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now with prai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him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am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nd from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ople aga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adly forever ador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809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y soul, praise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he is thy heal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alv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ye who h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o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mple draw nea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in me in glad ador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Praise to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o’er all th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wondrously reig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rs thee on eagle’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ngs, e’er in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ing maintai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care enfol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, whose tr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od he uphold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t thou not kn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sustaini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Praise to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doth prosp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work and defen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rely his good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ercy here dai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ten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nder ane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the Almighty can 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with hi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th befrien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Praise to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doth nourish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and rest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tting thee we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tasks that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 before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to the Lord, the Almigh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to thy ne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as a mo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th spe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reading the w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race o’e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2:55Z</dcterms:modified>
  <cp:revision>32</cp:revision>
  <dc:subject/>
  <dc:title>PowerPoint Presentation</dc:title>
</cp:coreProperties>
</file>