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0C7-9E86-4FAC-AEC9-9463D95A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5E9-0735-4D7E-9E97-2D7A6059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CB8-B61D-4E41-92C0-C3C1CD92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249-C6CD-495A-9FC3-CB56A739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28E4-BCAD-447A-ABFD-F3D31A10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0A9-4236-4BD4-92F5-E9756EB4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021-DBBB-4685-AA6F-6643B382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938-0A87-4C2F-8190-C094BF72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CB7-6A2E-4F93-8CAF-3394DDB3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126-EFD8-4485-B769-CA806F69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630-F8EC-4795-8594-88EF7033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37F-B25A-4001-AE31-2B45D3D3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ACA7-8E5C-4956-A358-2956AC7D7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m I a Soldier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the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Am I a soldi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oll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9400" y="1600200"/>
            <a:ext cx="5069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Isaac  Watts,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rmons,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1721-24 (1 Cor. 16:13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e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iumph from af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faith th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ng i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When that illust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y shall r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mies sh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robes of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lory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hall I f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wn his cau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blu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peak his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Must I be carri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flow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d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others f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in the priz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ailed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y sea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re there no fo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e to fac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ust I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em the flo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this vil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riend to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elp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o G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ure I must f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I would reig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crease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rag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bear the t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ure the p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pported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hy saints in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glorious w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conqu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they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 I a Soldier of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5:55:56Z</dcterms:modified>
  <cp:revision>9</cp:revision>
  <dc:subject/>
  <dc:title>PowerPoint Presentation</dc:title>
</cp:coreProperties>
</file>