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033-3DC0-4708-A2EB-F25619B3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0E7-A103-4A6A-902D-A153E68A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DC6-6708-41F2-9EFC-A6953925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EC2-7E10-45C3-866B-A5A44089B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7FB-3957-4955-B6CB-BF373E72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D024-E75B-41D8-964D-9E00001F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877-A948-4C75-B423-B6E9E850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8AD-333D-49B8-9F3B-A95FA83D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579B-7648-43C6-B73A-14A20B1E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79BA-D445-476B-B9A5-0D2764F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3D8-56D2-4AFF-997C-EC9F42B5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BDDA-19F0-4CAA-9467-B9744E1D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4A1A-791C-442D-BE24-1F50F957B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Satisfy the Hungr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4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7 Archdiocese of Philadelph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Omer Westendorf, 1977 (Jn. 6:34; 10:1-5; 1 Cor. 10:16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You give your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us, O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selfless let us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rve each 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ruth and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173240"/>
            <a:ext cx="9144000" cy="38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hen the shephe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s his sh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know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ed his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when you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amily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 and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73240"/>
            <a:ext cx="9144000" cy="384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oyful lip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ing to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ise and gratitu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hat you should cou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worthy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are this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73240"/>
            <a:ext cx="9144000" cy="38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t the c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bless and sh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oo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outpoure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 not one c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loaf, decl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oneness in the Lor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73240"/>
            <a:ext cx="9144000" cy="38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yster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resenc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tal tongue can t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not con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in our hearts to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173240"/>
            <a:ext cx="9144000" cy="380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atisfy the hungry he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ith gift of finest wh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, give to us, O saving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bread of life to ea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Satisfy the Hungr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6:00Z</dcterms:modified>
  <cp:revision>130</cp:revision>
  <dc:subject/>
  <dc:title>PowerPoint Presentation</dc:title>
</cp:coreProperties>
</file>