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9D71-6DB8-4C82-AD55-F3D4ABFA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B0B7-97EA-4763-962F-A728CF6E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2852-3BE2-4E18-B8D0-02C50608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360-5142-41A9-94B2-4CB5826F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191-AB50-4FE6-BF3B-6059B2DF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69DF-A0EC-44BA-BD9E-FE84FB4A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75D-27C3-40BC-9598-D80E43C6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B7C8-EFBE-4DFD-A654-7A2148BC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CE9B-FC2D-4EFC-AD31-4E144BC4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0C2-B94A-4B62-86B8-04A8C0A1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C0DE-2732-4474-9FAF-7AFB13DB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7022-71E2-4F79-A415-C368E71C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0202-0F81-4F42-B9D2-3AE26477A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n Invitation to the Holy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3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00200"/>
            <a:ext cx="883908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 God, the Holy Spiri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come to us, and among us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come as the win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cleanse us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come as the fire, and burn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700" spc="-1" strike="noStrike">
                <a:solidFill>
                  <a:srgbClr val="ffff00"/>
                </a:solidFill>
                <a:latin typeface="Times New Roman"/>
              </a:rPr>
              <a:t>come as the dew, and refresh;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By permission of SP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vitation to the Holy Spir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3080" y="1028880"/>
            <a:ext cx="4018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Eric Milner-White, England, 20th c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271440"/>
            <a:ext cx="8839080" cy="632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onvict, convert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consecrat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many hearts and live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o our great goo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to thy greater glory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and this we ask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for Jesus Christ’s sak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7:05:30Z</dcterms:modified>
  <cp:revision>25</cp:revision>
  <dc:subject/>
  <dc:title>PowerPoint Presentation</dc:title>
</cp:coreProperties>
</file>