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DA2B-1448-454D-AEA5-4F15CD45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D65B-D6FD-4BE2-8F85-4C8FA6B3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06B-D707-4F13-8E36-06452CAF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54A-0E7B-44E6-BF35-01DD8F58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FAD-45EA-4C13-92D5-50F2D0F0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B44-1E3B-42C8-B3F2-0EE4CD48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2BD0-8603-4E40-87FD-9C70C970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2C38-89F4-481B-A046-A6836B36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7D2-4092-4494-88C1-7E530959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916-F65F-4B99-939D-1087BD76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6F0-493D-4E45-AD0C-D3D4CC87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159-E64F-44E7-989E-17EB9C83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63A3-BBD2-4089-984C-5660A3CAD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Church’s On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The church’s one foundation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s Jesus Christ our Lord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e are his new creation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by water and the W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dapt. 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Samuel J. Stone, 1866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. by Laurence Hull Stookey, 1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happy ones, and holy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give us grace that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the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eek and low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high m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well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heaven 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me and sought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e might ever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living servant peop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his own de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t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Called fo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every n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one o’er all the earth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charter of salvation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holy name profes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t one table f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one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ways pres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Christ’s own Spirit 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ough with 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cornful wond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ld se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 oppress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schisms rent asund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heresies distress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saints the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tch are keep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ir cry goes up, “How long?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so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ight of weep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be the morn of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Mid toil and tribul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umult of our w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ait the consumm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peace 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with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ision glor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longing eyes are bl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gre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victor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be the church at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We now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have un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God the Three in 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hare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commun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ose whose rest 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3:27Z</dcterms:modified>
  <cp:revision>18</cp:revision>
  <dc:subject/>
  <dc:title>PowerPoint Presentation</dc:title>
</cp:coreProperties>
</file>