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08B-896A-438F-A42C-6AA1FD58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1FA6-6CD5-4F19-BC4A-62C23FAF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52A-E587-42E0-B091-D3E3CCD2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F3C-E2C4-4BCB-ABBF-550743E4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911-8983-4346-8AB1-82B4E6A0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E88-B9EE-4B8A-B2BC-3BB6D576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D6C3-680C-429B-8A99-A1D514B2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DDC-069B-4C31-9095-DA010EDB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419-F341-44CA-A784-20CB3D90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3C2-81AE-4A36-90A4-74AAE99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16C-31B2-49BB-AD71-A89DA43A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E9B-1ABC-41AE-BF0D-68348D27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14D7-2263-4D3B-B431-4EACF9980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God, Our Help in Ages P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O God, our help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n ages past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ur hope for years to come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our shelter from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the stormy blast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our eternal hom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3760" y="1143000"/>
            <a:ext cx="408996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Isaac Watts, 1719 (Ps. 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Under the shad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y thr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may we dwell sec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fficient is th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m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defense is s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efore the hi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rder st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earth received her fr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everlas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art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ndless years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A thousand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like an evening go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rt as the wat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ends the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the rising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Time, like 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 rolling strea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rs all who breathe awa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fly forgott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a dre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es at the opening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47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O God, our hel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ges pa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hope for years to co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thou our gu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life shall last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od Our Help in Ages Pa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40Z</dcterms:modified>
  <cp:revision>34</cp:revision>
  <dc:subject/>
  <dc:title>PowerPoint Presentation</dc:title>
</cp:coreProperties>
</file>