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900D-DE3E-4A69-A0D7-FC9A5C03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CBD-7BAC-418E-A5CC-065CF8C3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220-E2BE-440C-8050-0041836C0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AA4-1EA9-46C8-998F-E0268A817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4F-6F9C-48B6-82E2-BE1D23C9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766B-3226-4A3A-900D-1E3E7EF8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AD3-2D59-43A2-A16E-0C954C96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C50-A7DA-48F5-95FF-2AB024C8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67EF-C23D-46A3-BD86-148A548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403-C18E-4F9D-811E-52A3CD19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66E-0A82-4E9F-8650-9A043ACD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D2E-8D72-4D7E-843F-8D3824D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D1FA-F168-4E29-A74F-FAAE096A7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Our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 keep our country und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r protection. Wipe out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rom this land; lift it up fr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depth of sorrow, O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shining ligh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0  by  Harper and Br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ur C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7080" y="1063800"/>
            <a:ext cx="3346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oyohiko Kagawa, Japan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4200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ave us from deep grief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sfortune, Lord of all nation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s us with your wisdo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that the poor may not b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pressed and the rich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t be oppresso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this a nation having n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uler except God, a nati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aving no authority but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Love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1:17Z</dcterms:modified>
  <cp:revision>14</cp:revision>
  <dc:subject/>
  <dc:title>PowerPoint Presentation</dc:title>
</cp:coreProperties>
</file>