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A0BC-44A8-44BD-BC81-684F5268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2212-5C92-4821-B966-F5646913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8E4F-01F4-4F36-B89D-2DFF7650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387-C75D-41E0-8702-1BEDB355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B0EF-C4D7-452F-901C-B529EBC3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2E59-3DA0-4173-990F-30751BE1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AA5A-48F8-4B30-BAF8-72556D8A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603-F1CD-4993-8160-76163485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B55-DCEB-4631-B283-81A4DFE5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C7D-9BE0-4AB4-A991-7484CB80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55F-901D-495C-B740-A372EFD5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0D7C-8136-4298-A90A-2E783C38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3A6E-AC92-484B-A3CB-B7FB25951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yer to the Holy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05596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 Great Spiri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hose breath gives lif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o the worl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whose voice i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heard in the soft breez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to the Holy Spir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8960" y="990720"/>
            <a:ext cx="367056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Trad. Native American pray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e need your strength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wisdom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ause us to walk in beauty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Give us eyes ever to behol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 red and purple sunse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ake us wise so tha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e may understa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hat you have taught us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elp us learn the lesson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you have hidde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in every leaf and roc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ake us always read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o come to you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ith clean hand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steady ey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370160"/>
            <a:ext cx="88390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o when life fade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like the fading sunse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ur spirits may com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o you without sh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3:44Z</dcterms:modified>
  <cp:revision>23</cp:revision>
  <dc:subject/>
  <dc:title>PowerPoint Presentation</dc:title>
</cp:coreProperties>
</file>