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F72-794C-47DD-AD0F-10E5309D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D74-7A4C-4ADF-8204-F87993D7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E817-E92A-44D6-9581-9A09202D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1323-F087-4D80-894E-42A20FE0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49F-4D62-4201-9709-D496FF49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4D65-7FBB-4154-852E-7787B996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E78-BE5F-43C8-80E9-B5063A81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F484-8F5E-4DBB-8E1E-CBD8A269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73B-90C3-4C02-BB1D-AB889574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A07-0FA8-4D9B-9721-D33DEC60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9E98-989E-440A-A0F0-8FCF548E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F484-5401-4CA2-8C3C-7046C58A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DB65-529F-4C31-8FBF-387CDF78C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 Palabra Del Se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r Es 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6800"/>
            <a:ext cx="9144000" cy="412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y permission of Juan Luis Gar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ía; trans. 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1523880"/>
            <a:ext cx="7575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Juan Luis Garc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; trans. by George Lockwood, 1987 (Ps. 33:4-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914400"/>
            <a:ext cx="8670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Righteous and Just Is the Word of Our Lo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193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y the div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from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us wer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ens creat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from God’s mou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great breath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ming the star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morn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gathered u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n wineski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wat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ocea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put the deep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ir chamb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valle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e riv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37160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Fear God, all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peopl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w down t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you nations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sterpiece work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nd and wondro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comm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ang to be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ose addic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vil f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pla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God frustrat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ly God’s judg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od’s pla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confirm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ed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447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 and jus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ord of our Lor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ful and marvel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the Lord’s work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ghteous and Just is the Word of Our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ice and 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what God lo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sit on thr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God’s right h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n su divina palabr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ueron creados los cielo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l aliento de su boc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 formaron los lucer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rom the Lor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vingkin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earth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ed with mercy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523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l como en odre recog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 inquieto mar las agu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l abismo h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n estanqu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 los ríos las cañada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37160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lena es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á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de su misericordi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lena está toda la tier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émale toda la tierra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óstrense tod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s pueblo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bras tan grand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excelsa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 su mandato surgier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ustra 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l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signi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e los que en e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l se embriagan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ólo sus planes y juicio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e confirman y procla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1932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palabra del Se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ñor es rect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 sus obras son maravillosa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a justicia y el derec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enen tronos a su diestr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Palabra Del S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or Es Rec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49:11Z</dcterms:modified>
  <cp:revision>24</cp:revision>
  <dc:subject/>
  <dc:title>PowerPoint Presentation</dc:title>
</cp:coreProperties>
</file>