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B2392-835B-4C9C-851A-327392490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13851-A8AB-4085-8E03-161954090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F1B8E-1FA7-464F-A4A2-EA5FD4121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CEBEF-3788-4853-8121-A1EBE4B8B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FA306-1041-44A7-9A72-98CB5C550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0CE71-6163-4BAE-8249-A6FABB02E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8E56A-8A44-4E3A-8896-101EADC3E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75034-6EF1-4528-90D9-8370845C7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7E2BF-7059-480E-9516-C3CE2C6A8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2CE75-AC3C-4746-9FBF-60A7525A0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657A9-828F-4EC4-93C6-185857DAC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7D2C6-A3C2-49A3-907A-D03096627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079E8-8FD2-4AFC-9597-7E1E3B7229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80773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Majesty, Worship His Majest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17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438280"/>
            <a:ext cx="9144000" cy="40683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Majesty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worship his majesty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unto Jesus be all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glory, honor, and prais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© 1981 Rocksmith Music c/o Trust Music Manag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jesty, Worship His Majes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364120" y="1066680"/>
            <a:ext cx="3736080" cy="42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Times New Roman"/>
              </a:rPr>
              <a:t>WORDS: Jack Hayford, 198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25146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Majesty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kingdom authority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flow from his thron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unto his own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his anthem rais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266688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So exal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lift up on high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he name of Jesus.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Magnify, come glorif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Christ Jesus, the Ki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266688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Majesty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worship his majesty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Jesus who die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now glorifie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King of all king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7:08:39Z</dcterms:modified>
  <cp:revision>40</cp:revision>
  <dc:subject/>
  <dc:title>PowerPoint Presentation</dc:title>
</cp:coreProperties>
</file>