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C7772-D52D-47D7-A1DD-C2917ACA2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3B285-37D5-4646-84CD-22858D24F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93328-7C81-42A8-B573-5B83BECFC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2FA05-782F-4C0B-A09F-C126F267B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94529-135E-473C-B678-D6B4A7B26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A35B8-71FC-40C8-B9E4-039D8E8EB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E5E34-7DE2-4ECF-B749-8E8CA9C49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D7A9B-3658-4586-9F5E-1D7662C10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96490-FBA8-4063-801D-61A908F1D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5074F-9ABF-4B6F-8E7B-8B3A78313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7BC9D-CFE2-4815-9419-E428F58F6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EB3A6-69C2-4399-9B6A-1E82B97F5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1D610-7B6E-4E59-A8AE-84F7FFE858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At the Birth of a Chil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14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80880" y="2362320"/>
            <a:ext cx="8763120" cy="4095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Times New Roman"/>
              </a:rPr>
              <a:t>Hail the day on which a child,</a:t>
            </a:r>
            <a:br>
              <a:rPr sz="5000"/>
            </a:b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               </a:t>
            </a:r>
            <a:r>
              <a:rPr b="0" i="1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(name)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                 ,</a:t>
            </a:r>
            <a:r>
              <a:rPr b="0" lang="en-US" sz="5000" spc="-1" strike="noStrike">
                <a:solidFill>
                  <a:srgbClr val="ffffff"/>
                </a:solidFill>
                <a:latin typeface="Times New Roman"/>
              </a:rPr>
              <a:t> was born. Rejoice! </a:t>
            </a:r>
            <a:br>
              <a:rPr sz="2000"/>
            </a:b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1)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From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he Masai, Herders of East Africa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by Sonia Bleeker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   © 1963 Sonia Bleeker. Reprinted by permission of  Morrow Junior Book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(2) © 1975 John S.  Mbiti,  by permission of SP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t the Birth of a Chil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33520" y="1523880"/>
            <a:ext cx="8305560" cy="47476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Times New Roman"/>
              </a:rPr>
              <a:t>Let us all sing and praise her that gave birth to a </a:t>
            </a:r>
            <a:r>
              <a:rPr b="0" i="1" lang="en-US" sz="5000" spc="-1" strike="noStrike">
                <a:solidFill>
                  <a:srgbClr val="ffffff"/>
                </a:solidFill>
                <a:latin typeface="Times New Roman"/>
              </a:rPr>
              <a:t>(son/daughter) </a:t>
            </a:r>
            <a:r>
              <a:rPr b="0" lang="en-US" sz="5000" spc="-1" strike="noStrike">
                <a:solidFill>
                  <a:srgbClr val="ffffff"/>
                </a:solidFill>
                <a:latin typeface="Times New Roman"/>
              </a:rPr>
              <a:t>for whom she longed. Greet this day with joy. Our hearts are glad.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The Masai people</a:t>
            </a:r>
            <a:br>
              <a:rPr sz="2200"/>
            </a:b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Kenya and Tanzania (1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04920" y="2514600"/>
            <a:ext cx="8839080" cy="33289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Let us pray: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O Creator, who dost all human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   beings create,  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he Akamba People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Kenya (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t the Birth of a Chil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78080" y="2589120"/>
            <a:ext cx="8189280" cy="3018600"/>
          </a:xfrm>
          <a:prstGeom prst="rect">
            <a:avLst/>
          </a:prstGeom>
          <a:noFill/>
          <a:ln w="0">
            <a:noFill/>
          </a:ln>
          <a:effectLst>
            <a:outerShdw dist="52300" dir="8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thou hast a great worth on u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conferred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by bringing us this little child!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Am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1-11T17:45:04Z</dcterms:modified>
  <cp:revision>9</cp:revision>
  <dc:subject/>
  <dc:title>PowerPoint Presentation</dc:title>
</cp:coreProperties>
</file>