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7054-1E1D-40A3-AF29-3717CE9C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008B-3549-44F9-9299-62A70BA6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C983-B628-4B32-ADCE-B968406A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0008-6D24-4D9F-8700-8A3A2624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C055-5555-4981-86E0-45FF4143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87C8-EF79-4280-B728-46D8432D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715C-0053-42D1-9D64-E4BC45FB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57DB-ECCB-43C7-A7A7-A2FC5BC6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D87F-9D00-42DA-AD97-1C9390A7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898E-A28F-4F05-842E-D6F60222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E1A2-72C3-4EC6-B545-FD2F5955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CC5D-DA21-4585-A0BE-CCC0485E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046A-3499-4426-8686-1051E7873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o God Be the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o God be the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things he hath don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loved he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he gave us his S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God Be the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28880" y="1168560"/>
            <a:ext cx="3486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Fanny Crosby, 18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1337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purer and hig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reater will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wond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transpo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Jesus we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525600"/>
            <a:ext cx="9144000" cy="5353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 earth hear his voic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 people rejoi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God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come to the F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Jesus the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ive him the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things he hath d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yielded his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 atonement for s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pened the lifegat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all may go 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25600"/>
            <a:ext cx="9144000" cy="5353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 earth hear his voic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 people rejoi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God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come to the F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Jesus the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ive him the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things he hath d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 perfect redemp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urchase of bl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every beli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omise of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God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vilest offend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truly believ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moment from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pardon rece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25600"/>
            <a:ext cx="9144000" cy="5353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 earth hear his voic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 people rejoi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God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come to the F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Jesus the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ive him the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things he hath d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Great th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hath taught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things he hath d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reat our rejoic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Jesus the S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God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00:29Z</dcterms:modified>
  <cp:revision>16</cp:revision>
  <dc:subject/>
  <dc:title>PowerPoint Presentation</dc:title>
</cp:coreProperties>
</file>