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5FA-3BC2-4D40-9890-7EC426FA4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565C-8B35-4570-A6DA-114C6BA8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147-0A35-4486-8750-47BE9149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7F6-AD39-4D47-9E59-F361C472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6AC-666D-4EA7-AE69-7243AAA4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E812-300D-48FB-9B09-F1CF0C0C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6EC-A146-4226-82A0-66B7B025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D09-E9E5-4C3D-9ED1-8822328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BEA-DE81-4650-B559-4FE1BCEB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4DA-86C3-4229-80DB-3923726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3D5-7A7E-4EED-8EAD-63C2233D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590F-0299-4384-AC36-75113D3F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A43F-995B-4FE7-A4D0-DDB3D2F42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Jesu, Je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95280"/>
            <a:ext cx="9144000" cy="519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9, 1989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7880" y="990720"/>
            <a:ext cx="37497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om Colvin, 1969 (Jn. 13:1-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Kneel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of our frie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lently was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Kneels a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et of his friend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lently wash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ster who ac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a slave to the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ch and po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ack and whi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ighbors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r and far a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se are the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ser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are the on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ov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se ar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and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Loving puts 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kne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rving as th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are slav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is the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ould live with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06480"/>
            <a:ext cx="9144000" cy="463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, Jes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us with your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w us how to s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neigh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ave from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, Jes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20:47:13Z</dcterms:modified>
  <cp:revision>21</cp:revision>
  <dc:subject/>
  <dc:title>PowerPoint Presentation</dc:title>
</cp:coreProperties>
</file>