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4F9-D08F-42AE-A1D8-C205080F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F23-66BE-4BA9-BCFB-A1181C8F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8AE-BB1A-499F-A2A6-91E5B130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F94-5A67-4383-A44A-EB274D0A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A5F-C403-45BE-9C0F-A1AE8BFC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ECA-57B2-4A06-A35E-6C34B176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2F2-4C47-4AE5-B695-DA31DDC8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C0F6-01DA-4B7A-AD95-D7B05E1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21AF-188A-4634-BE8B-A6490E8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7D7-22EE-440F-BBB1-D5AB8DE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6F7F-E846-40DA-9577-C2C5EB6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00A-2EB9-4530-A530-F302085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6A73-6794-4226-A769-05E65C5A6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6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Lindo</a:t>
            </a:r>
            <a:br>
              <a:rPr sz="4000"/>
            </a:b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hild So Lovel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17880"/>
            <a:ext cx="9144000" cy="3935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9440" y="1447920"/>
            <a:ext cx="6392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Venezuelan; trans. 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ender ba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child, adió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sweet belo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sweet belov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child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 vida, bien mí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8736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 Lind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55Z</dcterms:modified>
  <cp:revision>70</cp:revision>
  <dc:subject/>
  <dc:title>PowerPoint Presentation</dc:title>
</cp:coreProperties>
</file>