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6A4-FA69-487E-8727-6AA326E1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3C1C-AC00-4CC5-86E5-A8D86CEB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DDA-1B43-4DE9-AAAF-F8BEE626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D67-6816-454E-8C4E-830857E9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9FA-119B-4648-AB99-77CD31E8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E10-5BE1-4592-BA9D-81915A82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88B-0BB5-4481-899A-E90E77F2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8AD5-3A9C-4A39-9446-54F397B4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4CD-E428-4232-B624-55BF8515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972-EAEB-4129-BDCC-790DD25F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72E-89E7-426C-9F3A-0BC7E1EE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E5B-1F73-423E-AC9A-FBE997DC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D2B7-A321-4C15-9ED6-E2683DB32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For a Thous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ngues to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for a thous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ngues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reat Redeemer’s prai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9520" y="1752480"/>
            <a:ext cx="3144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WORDS: Charles Wesley, 17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88920" y="3048120"/>
            <a:ext cx="71712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 and King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iumphs of his gr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racious Mas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sist me to pro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read throug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abro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nors of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esus! the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harms our f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ids our sorrows cea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music in the sinner’s 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life, and health,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e breaks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anceled s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sets the prisoner fr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ood c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the foulest cle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ood availe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He speaks, and liste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v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life the dead recei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urnful, bro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rej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umble poor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Hear him, ye deaf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aise, ye dumb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ose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ngues emplo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blind, beh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Savior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eap, ye lame, for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In Christ, your 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then shall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feel your sins forgi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ticipate your heaven be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wn that love is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For a Thousand Tongues to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06Z</dcterms:modified>
  <cp:revision>11</cp:revision>
  <dc:subject/>
  <dc:title>PowerPoint Presentation</dc:title>
</cp:coreProperties>
</file>