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8B22-D811-4481-9739-6F8AF012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0068-C591-487C-9055-6A9FC3FE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3AD2-2DD6-42F8-9EDD-7734D61BB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2675-D786-45DF-A7C6-13FB58A0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4382-D617-4DED-8849-B615CA40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6370-7311-4979-A993-44C321A8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4888-A719-4590-ACBE-898049F8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6D38-BB50-4086-B51F-6B99E89F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0FBB-7157-43FD-857F-94EA2BE5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FC27-E2B9-4FFE-BE02-2B1E1B1D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3FDB-D433-4231-9ABF-65F43FDA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DAE5-07D9-4010-A339-7C329CBD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394E-8FF1-48A4-AF88-250AEAAA6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ing, My Tongue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Glorious Bat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My Tongue, the Glorious Batt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Venantius Honorius Fortunatus, 6th cent.;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. by Percy Dearmer, 19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Sing, my tongu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lorious batt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the end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fr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My Tongue, the Glorious Batt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Faithful cr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sign of triump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for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oblest t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ne in foliag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ne in bloss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ne in fru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eer may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ymbol of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ld’s redemp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we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hung on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My Tongue, the Glorious Batt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Unto God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and glory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F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S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’eternal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nor 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verm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d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and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high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unend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ges r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above the cr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oph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nd the lou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iumphant lay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ll how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ld’s Redeem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a vict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n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My Tongue, the Glorious Batt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ell how, wh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length the full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’appoint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me was c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, the W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born of wom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ft for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heavenly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owed us hum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 made perfec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one as 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id the glo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My Tongue, the Glorious Battl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us, with thir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ars accomplish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nt he fo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Nazare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stined, dedicat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lling, wrou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work,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t his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a lamb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humbly yiel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dying br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3:31Z</dcterms:modified>
  <cp:revision>51</cp:revision>
  <dc:subject/>
  <dc:title>PowerPoint Presentation</dc:title>
</cp:coreProperties>
</file>