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CDB5-F78F-450C-B7F6-C6E5BDC68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CF81-1FD5-4684-BBE8-BA9AC346D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1D8B-99E7-4D7D-9817-537BA491D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67FC-D2DC-46BA-B0D2-BDFA9396F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D67A-35C5-483E-B6EC-4122E29CB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1BFE-369C-40CB-9D71-103522C61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1333-86B5-4D9E-8940-ADF68313E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04B6-DBC3-45BF-9844-A8B5F74DC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1DDC-FEAC-4034-A126-D76B7DF28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F4A0-2999-4AD0-8E80-EE654B559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B5D9-CE6A-451C-A0CD-F16ACE7A0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1040-6A33-45BE-96CC-73F0091DC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407E9-4227-465D-BC4A-BAFAAFC9CE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Heralds of Chri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56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810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Heralds of Chri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bear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King’s command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mmortal tiding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your mortal hand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alds of Chri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6668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Laura S. Copenhaver, 1915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ass on and carr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wift the news you bring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ke straigh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ke straigh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highway of the K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Through desert way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ark fen, and deep mora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rough jungles, sluggis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eas, and mountain pas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alds of Chri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uild now the roa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falter not, nor stay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epare acros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earth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King’s high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Lord, give us fai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treng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road to buil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see the promis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the day fulfill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alds of Chri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n war shall b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 more,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trife shall ceas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pon the highwa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the Prince of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6T20:54:46Z</dcterms:modified>
  <cp:revision>72</cp:revision>
  <dc:subject/>
  <dc:title>PowerPoint Presentation</dc:title>
</cp:coreProperties>
</file>