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DBE5-2D52-43B5-9289-EC128538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22CC-5947-49F1-ADEC-5D421E88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D661-D173-47D8-AD55-B5C4A449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D196-75A0-4D85-8AC0-0B58F909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7BC2-9320-4343-B1AC-CAE2DB85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C0E-D072-4BCE-B12B-A09957DA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4987-C78B-4E0F-9F2B-9E1C5580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7049-FE4F-4BD3-93D9-FE895915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8847-C63A-4F7C-9E26-706B7E70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F891-B084-423D-A55D-3268D9F4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2F23-8A52-43D4-8A60-65480A27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0688-100D-4219-8D30-68B55383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458F-205A-4B19-93ED-B292C0804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inners, Turn: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y Will You D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209680"/>
            <a:ext cx="88390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1. Sinners, turn: why will you die?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God, your Maker, asks you why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God, who did your being gi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made you himself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that you might li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5640" y="1523880"/>
            <a:ext cx="262512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Charles Wesley, 174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520" y="162864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you, on whom he still doth wai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om he would again create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ade by him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purchased, why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y will you forever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6. You, who own his record tru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you, his chosen people, you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you, who call the Savior Lor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you, who read his written W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1628640"/>
            <a:ext cx="876312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you, who see the gospel ligh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laim a crown in Jesu’s right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y will you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ye Christians, wh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ill the house of Israel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7. Turn, he cries, ye sinners, turn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by his lif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your God hath sworn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he would have you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turn and li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he would all the world receiv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127800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e hath brough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o all the rac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full salvation by his grace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e hath no on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soul passed by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y will you resolve to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4920" y="197964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8. Can ye doubt, if God is lo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if to all his mercies move?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Will ye not his word receive?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Will ye not his oath believ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2120" y="1628640"/>
            <a:ext cx="83818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ee, the suffering God appears!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Jesus weeps! Believe his tears!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ingled with hi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blood they cry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y will you resolve to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628640"/>
            <a:ext cx="86868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he the fatal cause demand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sks the work of his own hands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y, you thankles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creatures, wh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ill you cross his love, and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2. Sinners, turn: why will you die?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God, your Savior, asks you why.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God who di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your souls retrie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died himself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that you might li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27800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ill you let him die in vain?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rucify your Lord again?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y, you ransome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sinners, wh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ill you sligh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his grace, and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3. Sinners, turn: why will you die?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God, the Spirit, asks you why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he, who all you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lives hath stro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wooed you to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embrace his lo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1278000"/>
            <a:ext cx="87631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ill you not his grace receive?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ill you still refuse to live?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y, you long-sough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sinners, wh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ill you griev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your God, and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609480"/>
            <a:ext cx="883908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4. You, on whom h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favors shower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you, possesse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of nobler power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you of reason’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powers possesse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you, with will and mem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ble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628640"/>
            <a:ext cx="861048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you, with finer sense endue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reatures capable of God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noblest of hi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creatures, why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hy will you forever di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2780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5. You, whom he ordained to b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transcripts of the Trinity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you, whom h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in life doth hol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you, for whom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himself was sol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ners, Turn: Why Will You D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4:12Z</dcterms:modified>
  <cp:revision>28</cp:revision>
  <dc:subject/>
  <dc:title>PowerPoint Presentation</dc:title>
</cp:coreProperties>
</file>