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AA04-0BB6-4BF7-BBB3-C00193ED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9025-6B09-4F53-A804-2212F5DC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11FE-DB38-4DA1-86B8-6695DE05F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D3B3-853C-4139-AE6D-82D9662F3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A7F-6F2B-4397-8770-D536956D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FE02-48FA-4D94-9F4C-93F9589D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9585-8141-42A2-BAA6-264C679A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6B73-FF97-45C8-BD9D-B1475F99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F6DC-6E82-4F78-968D-D806D4F1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0E8D-5F5D-4F1A-B4DC-F3A31577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6BCC-6FDB-4FFD-BC07-95DBE5C0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075-995E-4F45-8B2D-E6C17933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55D9-75CD-485A-941A-825BAB769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815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esus’ Hands Were Kind Ha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828800"/>
            <a:ext cx="9144000" cy="4783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Jesus’ hands w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d ha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ing good to all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aling pain and sick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blessing children small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 by permission of A. S. Hopkin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’ Hands Were Kind Hand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7760" y="1116000"/>
            <a:ext cx="3588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WORDS: Margaret Cropper, 19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ashing tired feet, and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aving those who fa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Jesus’ hands we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d ha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doing good to a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Take my ha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ord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them work for you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ake them strong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gent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kind in all I do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sus’ Hands Were Kind Hand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Let me watch you, Jesu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I’m gentle too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ill my hand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re kind hand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quick to work for you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5T20:34:47Z</dcterms:modified>
  <cp:revision>30</cp:revision>
  <dc:subject/>
  <dc:title>PowerPoint Presentation</dc:title>
</cp:coreProperties>
</file>