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540-973F-4662-B3AE-2CD18176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1072-BD09-443D-8E17-1E2E3961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172-4121-452D-9BB7-A90DEEF0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B34-819F-4DC5-BAF0-6D372CFF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F06-5B1F-4CB5-A22F-F10A6AF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80D-F808-4111-9AFD-94E0A741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919-80CF-4CF0-A624-E6200F8F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FB8-E4CA-47E7-8CF9-DF942ACB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6E2-0B9E-4DA8-A149-B5B618A8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E4B-ACB4-4BC0-863A-79B6C298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337-6564-4A04-B63C-F3D294F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E863-E7F6-4D06-A5F0-CF2896DA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0CFB-C956-43F5-AD81-37B21CC7F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Ye Disconso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me, ye disconsol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’er ye languis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the mercy s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rvently kne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28000" y="1066680"/>
            <a:ext cx="56944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homas Moore, 1816; alt. by Thomas Hastings, 183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bring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unded hear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tell your anguis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aven cannot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oy of the desol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of the str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the penit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deless and p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speaks the Comfor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nderly s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Earth has no so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aven cannot cur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re see the bread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waters fl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th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e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Disconsol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st of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ever kn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s no so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heaven can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4:28Z</dcterms:modified>
  <cp:revision>9</cp:revision>
  <dc:subject/>
  <dc:title>PowerPoint Presentation</dc:title>
</cp:coreProperties>
</file>