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33A-FB82-401F-B934-17802FB0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B1C-B908-438B-97A2-3C00F9E9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F2B2-8D45-4ECD-ADE1-00BB6483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CBE-C8BC-45A3-B2D4-9D13FAF1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443-7724-4A97-8D74-465485E0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0EBA-82AC-4CC2-9790-B9CE60EB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D79-6F35-458E-96C3-361B58C7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55F-431F-476F-98AE-81F841EA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D5D-4EEC-4011-9391-33D8F0B1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48E-42CD-46BA-AA09-4D9F5F80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E80-ED23-40AC-9DF8-A1977B2D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8CD3-14A3-4EA9-AB77-B8311A7A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6392-8482-48F0-9F7F-5981DACBF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e How Great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Flame Aspi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See how great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 flame aspires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kindled by a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park of grac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1520" y="1676520"/>
            <a:ext cx="53744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9 (Lk. 12:49; 1 Kg. 18:44-45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ath gi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’ w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glorif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migh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redee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alon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k hath wrou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thy i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k of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m who sp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orld from na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aw ye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loud ar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ttle as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uman han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it sprea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ong the sk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ngs o’er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hirsty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! the prom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 sh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ops alrea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shortly p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’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ations fir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ts the kingdo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a blaz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ring fire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th he c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indled in s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s it i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that all m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tch the fl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partak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rious blis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hen he fir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k begu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mall and feeb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 his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the Word do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wiftly ru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it win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widening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and mo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spreads and gr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 migh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evai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’s stronghol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 now o’erthr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kes the tremb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ates of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Saints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Savior pra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the do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h opened wid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e How Great a Flame Aspir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8:32Z</dcterms:modified>
  <cp:revision>13</cp:revision>
  <dc:subject/>
  <dc:title>PowerPoint Presentation</dc:title>
</cp:coreProperties>
</file>