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BB3A-45E2-44CA-BDEA-527ACD47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ACE6-5CA6-4C97-8655-FBF8156B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C79D-E8BE-4DDD-A0DF-74548BED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1AF-DBAA-440D-9269-71283CCA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7014-15C6-4A80-A137-AD272C57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0A3-87AA-438C-A08F-FDE3263B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E813-C709-4571-825C-B81A6402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E93-EB2B-408F-8CF2-0D3FD2A4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BF94-9401-4B1E-A0FD-ED9A5871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E70-1429-48E1-8BA3-FA2FA35F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DAC0-EC5A-46D9-9518-65AD7FD7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172-3415-41CB-B086-B3CAAEEB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B223-317A-4AA0-815D-B1426915C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My Prayer Rises to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447920"/>
            <a:ext cx="9144000" cy="49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prayer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ses to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myst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od’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By  permission of Vietnamese Min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6520" y="1066680"/>
            <a:ext cx="2809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Dao Kim (Ps. 141: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e night bird s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e dawning of the day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my offering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 Lord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I wish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ould live with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rest of my l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welling in your hou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ould feel assu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my prayers wou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always in your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prayer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ses to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myst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od’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e smoke asce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prec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cense b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ve mercy on us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rant us your grac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voice glorifies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majes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e night bird s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e dawning of the day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my offering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O Lord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are lov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ice and truth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your judgments are ju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are tru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yond compar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in you do I tru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prayer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ses to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myst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od’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e smoke asce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prec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cense b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e smoke asce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prec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cense b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ve mercy on us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rant us your grac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voice glorifies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majes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e night bird s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e dawning of the day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my offering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ve mercy on us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rant us your grac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voice glorifies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majes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e night bird s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e dawning of the day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my offering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As the thirsty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oks to hea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life-giving ra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ave flower and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I raise my ha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gh in prayer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fend me from all peop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try to harm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prayer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ses to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myst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od’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Prayer Rises to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e smoke asce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prec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cense b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ve mercy on us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rant us your grac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voice glorifies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majes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4:32Z</dcterms:modified>
  <cp:revision>9</cp:revision>
  <dc:subject/>
  <dc:title>PowerPoint Presentation</dc:title>
</cp:coreProperties>
</file>