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497A2-BC30-41F3-AF3B-BAB063FCA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1EDB7-6CBB-465E-AD98-AA4615D4C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70FDE-41D8-45A4-9260-78E84ECA2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5573D-E387-48BB-BC0C-EC69EB891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24E80-209E-4DBE-8391-29C8CF6D0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87678-4E01-4709-8B98-D3D6E6779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EAB0E-10CA-4DEA-B61B-0460105E8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B1588-0922-44DA-8406-21CD2E6E7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0EBD5-4919-488E-9D87-5BDB2F79C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A7A4E-60F7-42E2-8995-1B6B9F450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7E4ED-B666-4AA8-AFDF-20D444530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DA97C-99C6-4FF8-852E-CA7BAB4AA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34BD1-4C42-491C-84AC-36EA7F38D8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10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2209680"/>
            <a:ext cx="9144000" cy="4326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Righteous and just i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e word of our Lord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faithful and marvelou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re the Lord’s work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By permission of Juan Luis Garc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Arial"/>
              </a:rPr>
              <a:t>ía; trans. © 1989 The United Methodist Publishing Hou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ighteous and Just Is the Word of Our Lord 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2920" y="1676520"/>
            <a:ext cx="757512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WORDS: Juan Luis Garc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ía; trans. by George Lockwood, 1987 (Ps. 33:4-1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289880" y="1066680"/>
            <a:ext cx="585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(La Palabra Del Se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ñor Es Recta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0"/>
            <a:ext cx="7086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Righteous and Just Is the Word of Our Lor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16002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2300" dir="8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Justice and right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re what God loves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ey sit on throne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t God’s right han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8288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2300" dir="8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from the Lord’s 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lovingkindnes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ll the earth i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filled with mercy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17524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2300" dir="8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from the Lord’s 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lovingkindnes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ll the earth i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filled with mercy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609480" y="1600200"/>
            <a:ext cx="8534520" cy="3141000"/>
          </a:xfrm>
          <a:prstGeom prst="rect">
            <a:avLst/>
          </a:prstGeom>
          <a:noFill/>
          <a:ln w="0">
            <a:noFill/>
          </a:ln>
          <a:effectLst>
            <a:outerShdw dist="52300" dir="8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2. Fear God, all earth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all people!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Bow down to Go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ll you nations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16765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2300" dir="8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Masterpiece works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grand and wondrous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t God’s comman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prang to bei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19810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2300" dir="8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But those addicte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o evil fin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eir plan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by God frustrate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17524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2300" dir="8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nly God’s judgment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God’s plan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re confirme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proclaimed forever.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121932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52300" dir="8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Righteous and just i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e word of our Lord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faithful and marvelou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re the Lord’s work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19810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2300" dir="8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Justice and right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re what God loves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ey sit on throne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t God’s right han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0" y="20574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2300" dir="8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from the Lord’s 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lovingkindnes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ll the earth i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filled with mercy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478400" y="2590920"/>
            <a:ext cx="18396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23623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2300" dir="8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Justice and right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re what God loves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ey sit on throne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t God’s right han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20574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2300" dir="8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from the Lord’s 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lovingkindnes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ll the earth i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filled with mercy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0" y="1676520"/>
            <a:ext cx="9144000" cy="3704400"/>
          </a:xfrm>
          <a:prstGeom prst="rect">
            <a:avLst/>
          </a:prstGeom>
          <a:noFill/>
          <a:ln w="0">
            <a:noFill/>
          </a:ln>
          <a:effectLst>
            <a:outerShdw dist="52300" dir="8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Estribill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La palabra del Se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  <a:ea typeface="Arial"/>
              </a:rPr>
              <a:t>ñor es recta</a:t>
            </a:r>
            <a:br>
              <a:rPr sz="4800"/>
            </a:br>
            <a:r>
              <a:rPr b="1" lang="en-US" sz="4800" spc="-1" strike="noStrike">
                <a:solidFill>
                  <a:srgbClr val="ffff00"/>
                </a:solidFill>
                <a:latin typeface="Times New Roman"/>
                <a:ea typeface="Arial"/>
              </a:rPr>
              <a:t>y sus obras son maravillosas.</a:t>
            </a:r>
            <a:br>
              <a:rPr sz="4800"/>
            </a:b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La justicia y el derecho</a:t>
            </a:r>
            <a:br>
              <a:rPr sz="4800"/>
            </a:b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tienen tronos a su diestr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0" y="2590920"/>
            <a:ext cx="914400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17524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2300" dir="8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y de su misericordia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llena est</a:t>
            </a: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á toda la tierra.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Y de su misericordia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llena está toda la tierra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0" y="18288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2300" dir="8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1. Con su divina palabra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fueron creados los cielos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Del aliento de su boca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e formaron los lucero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 Palabra Del S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ñor Es Recta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0" y="1828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52300" dir="8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Él como en odre recog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del inquieto mar las aguas.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Del abismo hac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un estanque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de los ríos las cañada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0" y="1066680"/>
            <a:ext cx="9144000" cy="3829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Estribill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La palabra del Se</a:t>
            </a: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ñor es recta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y sus obras son maravillosas.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La justicia y el derecho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ienen tronos a su diestra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 Palabra Del S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ñor Es Recta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Estribillo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19810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y de su misericordia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llena est</a:t>
            </a: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á toda la tierra.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Y de su misericordia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llena está toda la tierra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129528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2. T</a:t>
            </a: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émale toda la tierra.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Póstrense todo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los pueblos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obras tan grande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y excelsas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a su mandato surgiero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 Palabra Del S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ñor Es Recta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1447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Frustra el Se</a:t>
            </a: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ñor lo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designio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de los que en el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mal se embriagan.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Sólo sus planes y juicio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se confirman y proclama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1523880"/>
            <a:ext cx="9144000" cy="38296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Estribill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La palabra del Se</a:t>
            </a: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ñor es recta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y sus obras son maravillosas.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La justicia y el derecho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ienen tronos a su diestra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 Palabra Del S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ñor Es Recta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Estribillo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6765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2300" dir="8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from the Lord’s 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lovingkindnes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ll the earth i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filled with mercy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19810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y de su misericordia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llena est</a:t>
            </a: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á toda la tierra.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Y de su misericordia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llena está toda la tierra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6002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2300" dir="8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from the Lord’s 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lovingkindnes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ll the earth i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filled with mercy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6002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2300" dir="8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1. By the divin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ord from heaven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us were th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eavens created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429000"/>
            <a:ext cx="9144000" cy="8539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18288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2300" dir="8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en from God’s mouth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came great breathing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forming the stars 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f the morni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17524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2300" dir="8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God gathered up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s in wineskins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ll the water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f the oceans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752480"/>
            <a:ext cx="8915400" cy="3141000"/>
          </a:xfrm>
          <a:prstGeom prst="rect">
            <a:avLst/>
          </a:prstGeom>
          <a:noFill/>
          <a:ln w="0">
            <a:noFill/>
          </a:ln>
          <a:effectLst>
            <a:outerShdw dist="52300" dir="8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God put the deep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n their chamber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made valley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from the river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52388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52300" dir="8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Righteous and just i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e word of our Lord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faithful and marvelou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re the Lord’s work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7:36:27Z</dcterms:modified>
  <cp:revision>24</cp:revision>
  <dc:subject/>
  <dc:title>PowerPoint Presentation</dc:title>
</cp:coreProperties>
</file>