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E2C-07B8-4B75-8B4D-B284BF6B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A6D-52A9-4894-B61C-9D241624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F55-D53A-4233-BA5D-88FCA6C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9B85-06B9-406C-9B92-8034D1D1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708C-A5C7-478A-A67E-51E6A08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F07-B3D5-4339-ABDA-CDACCB68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A89B-C810-41F5-884C-3F09A626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14A-B347-4A26-B757-8B48374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B7A-3891-4AC9-A0CD-5E004203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EBA-A32A-4881-8A76-A0CDE9F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96C7-93CD-4F05-A9DF-4E3FC26C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68F-22CC-4162-9AEB-719E779B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2893-CCC2-4B1E-A357-D3D3142F7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 Charge to Keep I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harles Wesley, 1762 (Lev. 8:3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A charge to keep I h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God to glorif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never-d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ul to s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fit it for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o serve the present a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calling to fulfi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may it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powers eng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do my Master’s wil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rm me with jealous c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in thy sight to l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h, thy serva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, prep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strict account to gi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harge to Keep I H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Help me to watch and p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n thyself r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sured, if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trust betr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shall forever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50:12Z</dcterms:modified>
  <cp:revision>137</cp:revision>
  <dc:subject/>
  <dc:title>PowerPoint Presentation</dc:title>
</cp:coreProperties>
</file>