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FC52-D900-4B37-9B14-8C308965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FC4-C613-426B-B169-438BCB97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F28F-FCD7-411E-9356-95B679BD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718-D0B4-4168-B0D5-2B1F12E4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56F-7759-4EDE-BD98-2C7049F9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0FE-528B-4BA1-A2F2-3C85F12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8EB-AFDC-49F4-8174-D7FE4644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EE0-D6E6-4251-A33C-5AAF083D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EE19-BD93-4843-BFB8-933FE87B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AB3-9002-4A08-AD23-5402ABD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DCC-8B1F-4191-932C-DFEB1F22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F62-DDCF-4627-A09C-7CB2ECD1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959B-95C8-43C7-B65C-60B96970C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, on L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Sea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Now, on l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ea descend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rings the nigh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ts peace pro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23200" y="1676520"/>
            <a:ext cx="32943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amuel Longfellow, 1859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As the dark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eepens o’er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! eternal stars a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ining 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pe and fai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ove rise glorio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ining in the Spirit’s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 hol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our vesp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ymn be blend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 holy calm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oon as di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unset glor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rs of heave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ine ou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elling still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cient stor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ir Creator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ange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w, our wan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urdens lea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God’s ca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o cares for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, on Land and Sea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Jubilat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ubilate! Amen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e we fea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e we grieving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uched by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burdens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40Z</dcterms:modified>
  <cp:revision>24</cp:revision>
  <dc:subject/>
  <dc:title>PowerPoint Presentation</dc:title>
</cp:coreProperties>
</file>