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D99-B4A4-4583-AB25-96D24553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BF4-AB4F-4540-9C3B-6A0D023D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6ED-F893-4C38-A8A5-34B32570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D90-AA81-4AAA-A1B4-80C3E967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711-345E-4974-B5BB-4970EC14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009-4D74-4770-839E-BC4EDB08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E56-223E-417F-829D-DEF774D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CB6-FC12-4D49-A7EC-EC75631A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947F-53CC-48DD-85D8-3488942C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5F5-DAFB-4693-B1CB-6E1CB7CA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49B4-CF36-4E10-8C4D-E0D59E33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8D44-D653-468A-8E32-BB581ABE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5239-9D3A-405F-95CD-F8B3578C4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ker, in Whom We 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ker, in whom we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hom we are and 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y,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ise r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creat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ang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g give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earth repea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oyfu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choes to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carnate De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ransomed 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nder in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lives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redeeming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c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s sho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heavenly choirs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Salvation to 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lvation to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pirit of Holi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y saints ad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acred energ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-renewing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ngel tongues can t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’s ecstatic he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tific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ternal, Triun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host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on earth be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ord and d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r, in Whom We 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ave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are f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y glorious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ll the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hath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everlasting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8:53Z</dcterms:modified>
  <cp:revision>28</cp:revision>
  <dc:subject/>
  <dc:title>PowerPoint Presentation</dc:title>
</cp:coreProperties>
</file>