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5BE4-C8D2-48AE-A813-85F46DA1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E92-0EF0-4DFE-8FAC-C4013D09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1B7A-B80B-4D77-9103-FF8F0A55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AD7-D6A2-4421-9F11-5360CB44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1EF-8A83-49CA-909F-88568EEC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CAD7-E0FF-436C-A9C2-301D0D4D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F7D-FC64-4525-BCC1-A125054E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B27E-6594-495A-A72B-8D839178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90CA-7E05-4F6F-AA42-545B5365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878-0EAB-4652-92A1-801066E5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82F-D1C7-4A1F-B3CD-82D8ED6F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EEE-63EC-48CB-9C05-D3A5378F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078E-4A76-4074-AD06-F6A09B359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al Us, Emmanuel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ar Our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eal us, Emmanu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 our pray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a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eel thy touc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2400" y="1596960"/>
            <a:ext cx="7643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William Cowper, 1779 (Mk. 9:14-27; Mt. 9:20-22; Mk. 5:25-34; Lk. 8:43-4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end us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spairing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d n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healed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-wounded sou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repai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suc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ur faith is fee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conf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aint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st thy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wilt thou p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the less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at f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e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Remember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once appl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remb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relief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believe,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ears he cri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O hel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unbelief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She, too, who touch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e in the pr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a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irtue st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answe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Daughter, go in peac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faith h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thee whol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Like her, with hop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ears we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ouch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we m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Us, Emmanuel, Hear Our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20:19:21Z</dcterms:modified>
  <cp:revision>23</cp:revision>
  <dc:subject/>
  <dc:title>PowerPoint Presentation</dc:title>
</cp:coreProperties>
</file>