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FE2A-F570-442C-814E-44CB7889F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D968-BD58-438C-A48F-7811569F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5787-4188-4443-8941-2C560266B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3A30-5137-4DCE-B56F-0F148F323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DAEB-7957-4B19-8C47-986CE6BA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2CD7-706F-4AC3-87FA-3F4801AE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3AE5-5422-46DB-9787-7B9F9694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E730-0960-4094-8DD4-40EFBBF0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4506-D5B3-4A9B-B235-6D88CDA9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EB49-B10C-4CA1-B0B3-BCE6944C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7669-C368-47FE-AEFC-0C0D0D54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36C2-9765-461B-ACBF-15D65427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6876-5C06-4593-85CB-E72E9E53F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erving the Po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09680"/>
            <a:ext cx="86868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ake us worthy, Lord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o serve those throughout th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world who live and die in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poverty or hung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ng the Po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50440" y="1063800"/>
            <a:ext cx="44920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other Teresa of Calcutta, Yugoslavia, 20th c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905120"/>
            <a:ext cx="84582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Give then, through our hands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his day their daily bread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nd by our understanding lov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give peace and joy.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9:46Z</dcterms:modified>
  <cp:revision>15</cp:revision>
  <dc:subject/>
  <dc:title>PowerPoint Presentation</dc:title>
</cp:coreProperties>
</file>