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5297-FAE6-4B2A-AFDA-20F4ADD3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F54-397D-4855-9217-398FBC65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30E-0AB1-4B7B-A09F-8C61B64D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816D-198F-4231-9467-4F7C5CEE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BDC8-1C39-46A8-85BD-434967B1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DF8D-A5AC-4D9F-A7A1-C218F1A7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A60-74C8-4DAE-854A-D3595AFC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AA7-1F36-4576-8831-4E889307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C33-4B6E-49D7-B917-47C0E09F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46F-8AC2-4F4A-8160-D8461BB1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4D53-2BA3-443B-93C5-02BA4FFD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298-ACCC-454F-96B9-1A58AB2E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81F7-1E2D-4CBF-80FE-A4DF68B11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pth of Mer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9072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Charles Wesley, 1740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Depth of mercy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there b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ercy stil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served for m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now my foul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revolt deplo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ep, believ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in no 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Can my Go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wrath forbea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 me, the chie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 sinners, spar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I have lo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stood his g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ng provoked hi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s fac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ould not hearke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his call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rieved him b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 thousand fal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I my Mast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denie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afresh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ave crucifie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ft profan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is hallowed nam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put him to a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pen sh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There for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e Savior stand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hows his woun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spread his ha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85904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d is love!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 know, I feel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Jesus weeps 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oves me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pth of Merc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5. Now incline m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o repent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et me n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my sins lamen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4:56:33Z</dcterms:modified>
  <cp:revision>112</cp:revision>
  <dc:subject/>
  <dc:title>PowerPoint Presentation</dc:title>
</cp:coreProperties>
</file>