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917C-1FE7-4E76-970D-49A0E067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75C6-93EE-4090-8687-92F178E5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253C-20E0-4C1B-AC15-9B70F62E1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48C6-73AB-4CDA-9911-E1EF82C5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E62B-AAFD-4073-8C5B-51AAF5F9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C26E-E2EC-4925-9F85-2BEFC94F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E0DD-DD97-4EBB-A3BA-6540A651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3C3F-D1BF-4DE0-8A52-FFF1F390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FB69-3FA2-4F10-97C5-C0628747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1C9D-4790-4428-BEBF-E7ADB9E0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F481-51C2-4A44-BBAA-E170A401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86D5-A89B-4A0A-91DC-732879B3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EB19-4E61-4EC7-B08F-AB6E90263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a Da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New Beginn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Brian Wren, 1978; alt. 1987 (Rev. 21: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This is a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new beginning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ime to rememb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move 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© 1983, 1987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a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new beginning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God is mak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ings 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me to belie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at love is bring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aying to r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pain that’s g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For by the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death of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d’s mighty Spir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w as the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n make for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world of differen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faith and hop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born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Then let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the Spirit dar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ep from the pa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leave behi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disappointment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uilt, and griev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eking new path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ure to f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Christ is ali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goes before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show and sh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at love can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a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new beginning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God is mak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ings 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 Day of New Beginning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5. In faith we’ll gath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round the tab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taste and sh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at love can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7:19Z</dcterms:modified>
  <cp:revision>131</cp:revision>
  <dc:subject/>
  <dc:title>PowerPoint Presentation</dc:title>
</cp:coreProperties>
</file>