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D559-45C7-49BC-9FF7-757961DD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00DA-1815-474E-A8AA-EBFC0A78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74B-8DB0-4695-9790-2883E4A9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ACF2-4A04-48FC-AC5F-F3D53811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E5E-620C-4719-9CB4-3303E6AD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1F2-D00F-4696-BB77-3C142438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307-E582-446B-9389-8C4FA631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CC1F-C23B-47FB-8D92-9D4347FF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8CD-E08D-49FF-800E-723EFC26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6E0-4AE1-4B7B-8A09-E69797A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760-9D81-4224-9CA6-8090C25F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30C-7B81-4021-8830-CF97416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5DC8-39CA-447F-8777-D3B4B618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aith, While Trees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Are Still in Bloss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aith, while tr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still in bloss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ns the pic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frui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Ansgar Film &amp; Bokproduktion; trans. © 1976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ders Frostenson, 1960; trans. by Fred Haan, 1972 (Heb. 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ccept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ll, respo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I am wil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send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can fe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hrill of harv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bu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gin to spr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Long befo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wn is bre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nticipat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is ea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day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wor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ust be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Long befo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ins were co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ah wen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ild an 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raham,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nely migr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w the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Faith, uplift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med the w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undivided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peop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Hebre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nd the p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de them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Faith believes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faithful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will be w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will b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ith, While Trees Are Still in Blosso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14:57Z</dcterms:modified>
  <cp:revision>42</cp:revision>
  <dc:subject/>
  <dc:title>PowerPoint Presentation</dc:title>
</cp:coreProperties>
</file>