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118-5B21-4639-AA2E-A592EC62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88C8-6770-484A-8479-47749FC2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D49-758F-423F-ADA1-832D85DD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F7E-A93B-44B8-B1A6-4408ECE5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359-7971-4186-8650-C47ECD1A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9D53-93AE-4E6F-9AAC-87507AC6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64D-09A0-45C4-90E8-C0F58795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615-8795-4639-A035-6D759891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38F-EF15-4CAB-81F7-655FB3A7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CFC-C327-43AA-9110-43B1A18B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7DB-F22A-4680-94F9-FFA6C683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D174-D879-49BF-A02B-70DD0FB0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78B9-CBE6-4FF7-BFD9-5BF15DDF8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t of the Depth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Cry to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25600"/>
            <a:ext cx="9144000" cy="414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Out of the depth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 cry to you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 Lord, now hear me calling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cline your ear to my distres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spite of my rebell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© 1978 Lutheran Book of Wo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31560" y="1600200"/>
            <a:ext cx="6675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Martin Luther, 1524; trans. by Gracia Grindal (Ps. 130; 120:1-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 not reg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ful deed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d me the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pirit need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it I am noth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2. All things you se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re full of grac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you crown our lives with favor.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ll our good work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re done in vain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out our Lord and Savior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the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gives us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aves us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ip of dea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live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God’s k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3. It is in God that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hall hop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not in our own merit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rest our fear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 God’s good Wor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trust the Holy Spirit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se promise ke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strong and s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rus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signa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scribed up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templ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My soul is wai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one who longs for morn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watcher wa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greater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I for Christ’s retu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 of the Depths I Cry to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hope as Isra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sends redemp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Word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 God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less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0:45Z</dcterms:modified>
  <cp:revision>12</cp:revision>
  <dc:subject/>
  <dc:title>PowerPoint Presentation</dc:title>
</cp:coreProperties>
</file>