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AEA3-BD04-4B16-B013-49EC2682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59D3-625C-4E96-A96F-717A5D1B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40C-8F41-49DF-A912-A481ADA5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039F-FE4D-4BF4-BFB1-3F8DB4157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F0D-BA92-41C5-B0FD-ABAE7D02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2C29-8818-45D0-861F-FBBE24A5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65CB-D106-4E23-8E0F-45AA9F05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B176-4A5D-421E-93FA-A8D29A4D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56C4-B014-4059-9C4E-403CAE2B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1C7D-3931-4167-80AB-5B47C5AC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E7D-6D64-4C78-BAFF-726A6532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789E-6635-470A-AC7A-476A9D34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545D-B794-463E-AABA-A78DA1C98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e, Ye Thankful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eople,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ye thank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ople,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ise the song of harvest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all is safely gathered 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re the winter storms beg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2920" y="1752480"/>
            <a:ext cx="5583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Henry Alford, 1844, alt. (Mk. 4:26-29; Mt. 13:36-4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1096920"/>
            <a:ext cx="861048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ur Maker doth prov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our wants to be suppli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to God’s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mple,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ise the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arves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world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own fie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uit as praise to God we yiel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at and ta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gether s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to joy or sorrow gr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rst the bla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n the e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the full corn shall appea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harvest, grant that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lesome gr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ure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God shall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hall t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arvest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field shall in that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offenses purge a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ing 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arge at l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fire the tares to cas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he fruit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s to st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garner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n so,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ickly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ng thy final harvest ho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her thou thy people 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ee from s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ee from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Ye Thankful People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, forever purifi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y presence to abid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with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angels,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ise the glorio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arvest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18:34Z</dcterms:modified>
  <cp:revision>30</cp:revision>
  <dc:subject/>
  <dc:title>PowerPoint Presentation</dc:title>
</cp:coreProperties>
</file>