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7C32F-A01F-496C-9DB1-99C7A8F68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42FD2-29BB-4BA6-8FA1-5C821B47D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3D270-31D8-4BCD-9AB2-1D67D1BE2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23C73-7786-457E-9658-BB077BCE6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BA137-3D86-4CDE-B70C-1620200B7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5D979-1B72-41A5-9FB2-D8CB8234A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ADFC6-0596-480D-BEAE-C3A883DE4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133DA-FE21-4A16-BBE7-8702472E8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D64D5-50B9-4DF1-9BF2-4E9C4A56D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E4AB8-4A23-4768-8CAA-DD0DA18DB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6DF05-ECF8-468A-92A1-3F052CE04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532AA-3D1D-46C5-BD33-75271AFAE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CFFF8-BE44-4EB2-B1FA-946B8B9983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Christ Is Ris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33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30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rist is Rise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066680"/>
            <a:ext cx="9088560" cy="42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WORDS: Brian Wren, 1984</a:t>
            </a:r>
            <a:r>
              <a:rPr b="1" lang="en-US" sz="2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2514600"/>
            <a:ext cx="9144000" cy="39754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1. Christ is risen!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Shout Hosanna!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Celebrate this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day of day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ecff"/>
                </a:solidFill>
                <a:latin typeface="Times New Roman"/>
              </a:rPr>
              <a:t>© 1986 Hope Publishing C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31240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Break the bread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of new creation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where the world 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is still in pai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28954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Tell its grim,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demonic chorus: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“Christ is risen!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Get you gone!”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380988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God the First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and Last is with us.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Sing Hosanna everyon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388620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Christ is risen!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Hush in wonder;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all creation is amaze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In the desert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all surrounding,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see, a spreading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tree has grow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Healing leaves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of grace abounding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bring a taste of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love unknow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2. Christ is risen!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Raise your spirits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from the caverns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of despai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rist is Rise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Walk with gladness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in the morning.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See what love can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do and dar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1240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Drink the wine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of resurrection,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not a servant,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but a friend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Jesus is our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strong companion.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Joy and peace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shall never en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3429000"/>
            <a:ext cx="9144000" cy="31107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3. Christ is risen!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Earth and heaven</a:t>
            </a:r>
            <a:br>
              <a:rPr sz="5000"/>
            </a:br>
            <a:r>
              <a:rPr b="1" lang="en-US" sz="4900" spc="-1" strike="noStrike">
                <a:solidFill>
                  <a:srgbClr val="ccecff"/>
                </a:solidFill>
                <a:latin typeface="Times New Roman"/>
              </a:rPr>
              <a:t>nevermore shall</a:t>
            </a:r>
            <a:br>
              <a:rPr sz="4900"/>
            </a:br>
            <a:r>
              <a:rPr b="1" lang="en-US" sz="4900" spc="-1" strike="noStrike">
                <a:solidFill>
                  <a:srgbClr val="ccecff"/>
                </a:solidFill>
                <a:latin typeface="Times New Roman"/>
              </a:rPr>
              <a:t>be the same.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rist is Rise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1-19T15:09:03Z</dcterms:modified>
  <cp:revision>63</cp:revision>
  <dc:subject/>
  <dc:title>PowerPoint Presentation</dc:title>
</cp:coreProperties>
</file>