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F17-EBEB-48F0-9E45-831D6EFC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026-BE65-410A-B657-6F3227F7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57C-57D4-4351-93C6-FBDE1A1C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577-4430-4A95-BB1F-8941E3FC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CFA-493A-48FF-A653-F3450EB0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776-19C0-42FD-874F-DA17A79E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3DD-579C-419D-ACA7-5E6957C5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9AC5-C24F-4D43-83DB-E93BAAE3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651-8EF2-4976-9423-E70E5CA7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AF4-FEA4-48FF-B085-335367F5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1CD-A620-4BC8-8FD6-4673B80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AA5-0919-43E7-B461-CBA061D9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9418-FFF1-477A-A700-33CFD8E51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! the Name High over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!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gh over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ell or earth or sk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gels and morta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strate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vils fear and f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1040" y="1116000"/>
            <a:ext cx="4600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49 (Phil. 2:9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Jesus!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sinners d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me to sinners g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scatters all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uilty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turns their hell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O that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ight taste and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riches of his gra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arms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ompass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uld all the world emb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Thee I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stantly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ll opp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bold to conf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glorious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a world of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His only righteous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h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saving truth procla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all my busi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be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cry, “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Happy, if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latest br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may but gasp his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each him to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y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Behold, behold the Lamb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! the Name High ov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46:32Z</dcterms:modified>
  <cp:revision>45</cp:revision>
  <dc:subject/>
  <dc:title>PowerPoint Presentation</dc:title>
</cp:coreProperties>
</file>