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4A9-D923-4D20-A85D-277DAE910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7D9-6A74-4DA8-9D98-461B3301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82C-8CBD-4FB2-8C8D-E6D9D1F7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C72-0D2D-4663-B722-7264702E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5F4-F35E-4F30-8FE2-EE283264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A64-5472-4F5C-BB71-B803766E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784B-D58D-48D7-AD08-E483E6A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447-65E4-4F04-824D-733FA651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A72-051C-4EA8-95FA-30A0C89B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DB3-18B8-4F58-A974-03F76C2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F88-B1CB-4443-B7F2-75ADD441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079-5ACC-4A6C-AC37-5C676026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E014-A613-4E10-A721-6D1E2F71B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For a Heart to Praise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2 (Ps. 51: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O for a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praise 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heart from sin set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heart that al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ls thy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freely sh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A heart resig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bmissive, mee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great Redeemer’s thr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only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heard to sp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Jesus reign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 humble,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lieving, true, and cle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neither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death can 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Christ who dwells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 heart in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t rene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ull of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ect and 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ure and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copy, Lord, of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Heart to Praise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Thy na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Lord, imp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quickly from ab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rite thy new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o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new, best name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54Z</dcterms:modified>
  <cp:revision>142</cp:revision>
  <dc:subject/>
  <dc:title>PowerPoint Presentation</dc:title>
</cp:coreProperties>
</file>