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150D-B086-4DD6-AAFF-4801DDCA6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2926-3068-4E54-8EC8-5013B3C67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CF95-2AC4-4DCA-AFAF-7289D401B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51EC-4D39-4399-A130-4FF1F5F85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F190-D2E9-4CC0-B4A3-C6EC321DF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77A9-30CD-423E-BCF0-5895C80ED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694E-5A24-4A1A-816B-6F5041F96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0BAA-99BD-4AF2-BF85-BBB3C3B28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AD7B-31B2-49AA-BBEB-B7F7F505C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097C-320A-4981-8789-0D91D97C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B67E-5944-42DB-AC3B-80497C02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AD9A-7D8F-4EBD-A8A8-BA9F851F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1AB69-CE3F-41BC-89C1-20DD91BD79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915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ome, Let Us E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2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859040"/>
            <a:ext cx="9144000" cy="439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Lea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, let us ea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now the feast is spre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t. 4 © 1972 Contemporary Worship 4: Hymns for Baptism and Communion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rans. sts. 1-3 by permission of Lutheran World Fed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Let Us Ea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143000"/>
            <a:ext cx="914400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Sts. 1-3.  Billema Kwillia, 1970; trans. by Margaret D. Miller;</a:t>
            </a:r>
            <a:br>
              <a:rPr sz="1600"/>
            </a:b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st. 4, Gilbert E. Doan, 1972; alt. (1 Cor. 5:7-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905120"/>
            <a:ext cx="9144000" cy="23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, let us ea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now the feast is spre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990720"/>
            <a:ext cx="9144000" cy="483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Lea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Lord’s bod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us take togeth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Lord’s bod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us take togeth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762120"/>
            <a:ext cx="9144000" cy="483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Lea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Come, let us drink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now the wine is pour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, let us drink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now the wine is pour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Let Us Ea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66680"/>
            <a:ext cx="9144000" cy="483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Lea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s’ blood pour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us drink togeth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s’ blood pour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us drink togeth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762120"/>
            <a:ext cx="9144000" cy="483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Lea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In his presen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w we meet and res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his presen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w we meet and r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Let Us Ea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838080"/>
            <a:ext cx="9144000" cy="483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Lea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presen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our Lord we gath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presen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our Lord we gath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838080"/>
            <a:ext cx="9144000" cy="483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Lea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Rise, then, to sprea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broad God’s mighty W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ise, then, to sprea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broad God’s mighty W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Let Us Ea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838080"/>
            <a:ext cx="9144000" cy="483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Lea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s ris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ll bring in the kingdo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s ris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ll bring in the kingdo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15:29:24Z</dcterms:modified>
  <cp:revision>128</cp:revision>
  <dc:subject/>
  <dc:title>PowerPoint Presentation</dc:title>
</cp:coreProperties>
</file>