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6C20-7036-43B6-8C19-3348A2CF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027-BF21-4861-BF3A-D845E7F7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FBC-4C39-4AF6-BE52-3B161400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6D26-CE57-406B-A989-C58A967D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A3A-446E-4B79-877F-3ADF1CD0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979-486C-46B2-AD2E-D92DF221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E59-6C79-45AF-BB63-9EC65D0F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891-4E3E-4CD9-8806-059BE028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F92E-A5C7-4A56-B770-25CA5572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2EB0-938F-407B-AB8C-A8CEE512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95C-0600-496C-A6D3-7A202127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4E7-115A-4BD6-BE80-024FBC5C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B4BF-F657-4793-A146-414954A89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71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leluyan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Allelui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Trad. Muskogee (Creek) In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eluyan, heleluya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e, heleluya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heleluyan, heleluya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e, heleluy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nscription © 1989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leluy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llelui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9:04:06Z</dcterms:modified>
  <cp:revision>26</cp:revision>
  <dc:subject/>
  <dc:title>PowerPoint Presentation</dc:title>
</cp:coreProperties>
</file>