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39B3-F962-4A19-8D28-A0690AC9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F2B-7972-404E-AEC6-B5938398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E0F-34D7-4167-AFEC-11515A80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AA6-B290-4D3C-91AA-16B3C1A0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D2F-140A-4ED7-80BC-7D3BE6B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2D5-B2A2-4B75-86CD-9AE2970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A3A-44C8-44F9-9F0A-9741FEE9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072-734A-4EEF-8898-B0928B5C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101-D57B-4396-8B82-ADE3B635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005-EB40-47E2-B194-AB251C94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C8F-0651-40FB-94E4-A79B6999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3ED6-4A88-4FB2-8BA6-70C5ADC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2B8D-690A-4FE4-B0CE-737F37C7C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neath the Cros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lizabeth C. Clephane, 18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Benea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ain would take my st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adow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ighty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a weary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om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lder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est upon the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burn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oontide h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urden of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Upon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eye at times can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ry d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 of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uffered there for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my stric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with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o wonders I confes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unworth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ath the Cros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take, O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ad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abiding pl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sk no other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 the sunsh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f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tent to l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go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now no gain nor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inful 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only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lory all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6:42Z</dcterms:modified>
  <cp:revision>52</cp:revision>
  <dc:subject/>
  <dc:title>PowerPoint Presentation</dc:title>
</cp:coreProperties>
</file>