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DD3-66FB-4966-B6DD-D9A0BAE6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58A-9262-43AF-B57B-C9FAAF48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CCE-F472-4773-86DE-4F3FA50A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163-2C23-4DC9-A433-44AEAB4F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5E7-D9AF-4D07-BBA3-2F889902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75A-BD12-4B84-B075-4057168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A7D-C38F-4874-8815-D49F91FE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4CFE-0A0A-4593-B47D-56AEDF4C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181-E412-4892-8BD8-F09FA18D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3534-59FA-4EED-94DB-9A56475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E1F-9350-4ED5-9D96-6122BB7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10F4-1E5F-4763-A917-F2A1CFD3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C513-CE95-4B5E-8926-DF37A35BF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ayer of Ignatius of Loyo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7652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each us, good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serve you as you deserv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give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count the cost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fight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heed the wounds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of Ignatius of Loy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24280" y="1063800"/>
            <a:ext cx="3304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Ignatius of Loyola, Spain, 16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638280"/>
            <a:ext cx="8839080" cy="559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o toil and not to seek for rest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o labor and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o ask for any reward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except that of know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that we do your will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33Z</dcterms:modified>
  <cp:revision>13</cp:revision>
  <dc:subject/>
  <dc:title>PowerPoint Presentation</dc:title>
</cp:coreProperties>
</file>