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EADC-EB41-4288-A5AA-D986AE0B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68A3-2338-4CB8-937E-787415B9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4936-87F3-4E45-AAFE-CF243D02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8069-7FF9-402E-A5F3-9ED11F8F8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EB16-1B0C-4254-AF4C-B4F456D6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D7A6-09C6-4E15-A395-074066ED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ABDC-C6BB-4ACF-A0A4-6D0A263A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E931-F105-4B2E-8D71-CDDAC967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F90D-9CE1-4532-898B-4F9465B8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92E1-654A-4A49-9CAC-7DF12898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3E8F-6959-44A2-B847-0C84931B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61FF-4081-4ED2-A8F8-EED363CC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67DC-0979-468C-8C4F-A8DC1068E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Thou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Whose Pres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O Th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whose presen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oul takes del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whom in affliction I c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, in Whose Prese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Joseph Swain, 1791 (Ps. 2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speaks! and eternit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ed with his voi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-echoes the prai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comfort by d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y song in the n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hop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alvation, my a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00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Where dost th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ar Shephe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sort with thy sheep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feed them 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astures of lov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, in Whose Pres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y, why in the valle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death should I weep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r alone in th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lderness rov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O why should I wand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 alien from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r cry in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sert for brea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, in Whose Pres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foes will rejoi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my sorrows they s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mile at the tea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have sh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Restore, my dear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light of thy f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soul-cheer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fort impar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, in Whose Pres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et the sweet token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pardoning gr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ing joy to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solate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He looks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en thousan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angels rejoi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yriads wa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his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, in Whose Pres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7:23Z</dcterms:modified>
  <cp:revision>44</cp:revision>
  <dc:subject/>
  <dc:title>PowerPoint Presentation</dc:title>
</cp:coreProperties>
</file>