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2B3-87C6-43AE-B90F-A9618C07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92B-AA21-4B8A-B38F-BD5063B7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C3D6-2493-4A25-B533-F962EE5B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5D9-BE02-4821-BA9F-F55C4BC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43A-C73F-48C4-ABA6-9FB985F7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72C-50E4-4866-96CE-A88DA43B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C0F-1C77-4AB3-8795-F7BC2486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DD4-71B1-4A02-B524-A1249145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725-3066-442C-A9C8-3347889F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1C0-007D-44E6-9119-AB15D4BE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C62-4A41-4EC9-9B0B-857CF4D5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3B4-A1C6-4E43-A2C6-5717F2CA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0C8D-4A77-4E13-9232-1FF0AFE43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H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7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lory will be our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ight shall be no more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© 1988 S T Kimbrough, Jr.; response 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Hop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400" y="1066680"/>
            <a:ext cx="704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evelation 21:1-6, 23-24; 22:5, 12, 20, adapt. by S T Kimbrough, Jr.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response Revelation 21:23; 22:5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hear On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peak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I mak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ll things ne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7432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am Alpha and Omega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begi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 en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666880"/>
            <a:ext cx="8610480" cy="26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ur Lord testifi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ese thing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I am coming soon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grace of the Lor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s with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 Come, Lord Jesus!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!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7432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i="1" lang="en-US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56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see a ne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eaven and ear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the old will pass aw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9548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e shall see a new Jerusal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ly city descend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rom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ity shall ne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 sun or moo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for God’s glor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ll be its light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God’s Lamb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 its lamp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by its light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nations shall walk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e shall hear a lou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voice from the thron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hold, God’s dwell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s with mortal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8195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deed, God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dwell with the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they wi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 God’s people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74320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d shall wipe awa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ll our tear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re shall b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 more de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6668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ourning, cry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pain shall ceas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or all former thing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ill pass away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1:01:38Z</dcterms:modified>
  <cp:revision>31</cp:revision>
  <dc:subject/>
  <dc:title>PowerPoint Presentation</dc:title>
</cp:coreProperties>
</file>