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143-4756-400D-A75B-E1D105E8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3506-8569-463F-8149-E184AE7F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E8A-37C3-4577-BBE8-030AB2C4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3AB7-83E0-4CD0-AF0B-595F4977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57F1-D632-494D-BF08-CEC712F1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5DB-95CF-4C3A-BB4F-888F924E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B78C-7C8B-4674-85A1-4B615971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4C3-1E20-4612-8C90-75D30E3F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32E9-77E4-408D-B7A8-94202B1E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C4E-0EF0-4AD5-99B5-04288FD2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2F4-48F0-4B30-A3ED-164DAEB0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0C3-5F9D-471F-9F42-0A9AD510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ABAE-777D-47E7-8AF8-43CD2C86C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76312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t’s Me, It’s Me, O Lord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Standing in the Need of Pray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792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African American spiritual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606680"/>
            <a:ext cx="9144000" cy="415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fa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m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1430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06680"/>
            <a:ext cx="9144000" cy="415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6680"/>
            <a:ext cx="9144000" cy="40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brot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my sist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380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06680"/>
            <a:ext cx="9144000" cy="415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Lord, it’s me!)</a:t>
            </a:r>
            <a:r>
              <a:rPr b="1" lang="en-US" sz="5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preach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t the deaco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’s Me, It’s 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t’s me)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’s me, O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tanding in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eed of prayer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Hallelujah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380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9:26Z</dcterms:modified>
  <cp:revision>111</cp:revision>
  <dc:subject/>
  <dc:title>PowerPoint Presentation</dc:title>
</cp:coreProperties>
</file>