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90EF-2717-4931-80A1-95DB5379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C6B-DD85-4D02-B812-2955E80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D2C-81F6-4E9A-820D-81DC6497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FCC-8999-4607-98E8-C38C76A7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BDC-DDBF-4E9B-9A83-DA4398DD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BAA-FAF9-42DD-90B5-DB4CE25E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846-7C24-455A-977B-E07E76CE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31A-C926-4AD5-9E15-610A9248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3EA-4F62-48D8-8326-4594DCF1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3B6-F791-4DEB-875F-FBAC3F3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728-5E9B-4CED-BBEA-9B6890E8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977-603D-4902-B8FB-0E9E2DDD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8DFC-AF07-4999-8A3C-AD08764DA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w Thank We All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Now thank we all our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heart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nds and voic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 wondrous things has d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whom this world rejoic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760" y="1092240"/>
            <a:ext cx="7872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Martin Rinkart, 1636; trans. by Catherine Winkworth, 1858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Sir. 50:22-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 from our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ther’s arm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s blessed u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n our wa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countless gifts of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till is our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O may this bounteous Go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rough all our lif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e near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ever joyful heart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blessed peac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o cheer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keep us still in gra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guide u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en perplexed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free us from all ill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this world and the nex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All praise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anks to Go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Father now be give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S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him who reig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ith them in highest 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ank We All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one eternal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om earth an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eaven adore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for thus it was, is no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hall b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14Z</dcterms:modified>
  <cp:revision>18</cp:revision>
  <dc:subject/>
  <dc:title>PowerPoint Presentation</dc:title>
</cp:coreProperties>
</file>