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184-CBA4-46F8-8A64-17D001C9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DFC-F4A7-4AAD-AF01-ADE612DB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F53-AFAF-482A-8679-06FA8824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FA0-EE56-4C10-A11A-CB52A21B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EBF-EB47-446A-8A00-4AE4A7BF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3C4-BB32-47DC-B785-86AB7680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C4D-3AE1-4566-84A6-345F9E05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6B4C-7364-4CCB-AE59-27D7536F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0DC-0236-4189-80D5-5756857B5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B6C-7115-458F-B890-5FC46BD7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97A5-06CB-4D07-ABCD-98CCF40B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915-67A5-4E4E-8878-028DD586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35FA-B045-45A7-817E-F6E2CB1AF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Gift of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ough I may sp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bravest fi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ve the gi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inspi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7400" y="1066680"/>
            <a:ext cx="3922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Hal Hopson, 1972 (1 Cor. 13:1-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ve not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words are v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sounding bra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peless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ough I may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 poss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iving s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ve prof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not be 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love with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fit s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s strangely 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, Spirit,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contro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pirits 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mad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ift of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nwar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every de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is we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re fr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10Z</dcterms:modified>
  <cp:revision>23</cp:revision>
  <dc:subject/>
  <dc:title>PowerPoint Presentation</dc:title>
</cp:coreProperties>
</file>