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305-BF3B-4B60-9AB2-560AA34F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C432-D01F-4A63-A919-CD8F583E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82F-2B60-4B70-A642-135319EA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22D-61BB-4C2B-A31E-A7A14AB3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F910-05F4-4026-95BB-CDBCF563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0EED-1999-4FE7-94B9-6ADA1FBD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2DB-40F5-4139-A4DC-6CA49316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FAA-E034-413C-B09F-0EADDC1A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0B2-6B40-43CF-8CA3-1FCC2848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453F-AB98-4B4B-86E5-89DA2872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8DF-04B8-4F8A-962B-3166E71F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A54B-C9D8-4F68-88F9-4570B710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D190-3475-46F2-8792-633DF46B7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weet, Sweet Spir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3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WORDS: Doris Akers, 1962</a:t>
            </a:r>
            <a:r>
              <a:rPr b="1" lang="en-US" sz="2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5960"/>
            <a:ext cx="9144000" cy="3975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’s a swee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 Spirit in this pl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 know that it’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Spirit of the Lor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© 1962 Manna Music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5526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re are sw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expressions on each f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I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y feel the presenc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the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eet, Sweet Spiri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 Holy Spirit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weet heavenly D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stay right here with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illing us with your lo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447920"/>
            <a:ext cx="2133720" cy="70344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Times New Roman"/>
                <a:ea typeface="Arial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nd for these blessing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e lift our hearts in praise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thout a doubt we’ll know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at we have been reviv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hen we sha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leave this pl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9:34Z</dcterms:modified>
  <cp:revision>92</cp:revision>
  <dc:subject/>
  <dc:title>PowerPoint Presentation</dc:title>
</cp:coreProperties>
</file>