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40C-082E-46F7-8D70-51E66446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1D8-E03E-4C13-BB8D-69C3C23A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135-D135-4CA9-BFAB-9A5703D6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55A-8D40-4BAE-90AC-82B22580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F5C-01FF-47D3-B4B1-2846A4B2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E52C-A02A-4497-B45E-9A7AA1C3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F25-70C3-4DFD-98BC-D4DA7A0A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CB1-9008-477B-A2C2-AE12D65B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6CA-FB95-4DA5-A18E-788D8A53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5BE-B7EF-4CA5-B48B-1AFD7628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4B1-C530-47D1-94B2-81A76032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D2D-0F95-4C20-BE10-2AA63FC1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0C14-5DB3-4C31-AE04-E799A09E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We Want to M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4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esus, we want to mee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Trans. and versification © 1964 Abingdon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. T. Olajide Olude, 1949; trans. by Biodun Adebesin;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versed by Austin C. Lovelace, 19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joy of thy victo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grace alo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e we sav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flock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 be f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04948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the mind of Chri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bide in 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Our minds we dedic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90720"/>
            <a:ext cx="9144000" cy="400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and soul consecra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Spi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ke us whol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less the serm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is pl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90512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s we go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ad us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hall be thine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389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gather round thy thro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371600"/>
            <a:ext cx="9144000" cy="3811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ou art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venly Frien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 our prayer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y asc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ok into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and minds to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43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e kneel i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we and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We Want to Me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19320"/>
            <a:ext cx="9144000" cy="44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y God to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each us he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ave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cleanse our he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ad and guid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acts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370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our faith fr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ed to flower ra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371600"/>
            <a:ext cx="9144000" cy="437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Le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y bless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we s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n this thy holy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esus, We Want to Mee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23:52Z</dcterms:modified>
  <cp:revision>129</cp:revision>
  <dc:subject/>
  <dc:title>PowerPoint Presentation</dc:title>
</cp:coreProperties>
</file>