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7CB7-7B07-4FCF-923A-0C0D0B16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09D-4EF9-486A-8CF5-7FBD756C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47C-0040-4A6F-98E5-5956232A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EEA-A9F8-40E1-8105-B589EEF41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D6D-783D-4E4A-8611-DF4E81FB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24C9-05FD-40B7-92C1-9947384B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14D-CB33-44A4-BA04-2D13D324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8BD-ED1A-4261-A865-66327C95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266-D3D1-4698-B010-2F1421CF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5AE-D812-4268-B7D3-05487598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C49-9F00-4653-8235-5753D564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D859-7759-479C-8B54-415A42F4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5AB2-8248-48F8-BF8A-BCB173802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0773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, the Very Thought of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6080" y="304920"/>
            <a:ext cx="144792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, the 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ught of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sweetn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ills the bre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82640" y="1092240"/>
            <a:ext cx="5795280" cy="703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ttr. to Bernard of Clairvaux, 12th cent.;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. by Edward Caswall, 18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 sweeter f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y face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n th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esence re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 hope of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ntrite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joy of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meek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those who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w kind thou art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ow goo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ose who seek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But what to th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find? Ah, th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r tongue nor pe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 sh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10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ve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at it is,</a:t>
            </a:r>
            <a:br>
              <a:rPr sz="50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none but his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loved ones know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Jesus, our on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oy be th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s thou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ize wilt b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the Very Thought of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41911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be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ur glory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rough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2T17:19:11Z</dcterms:modified>
  <cp:revision>37</cp:revision>
  <dc:subject/>
  <dc:title>PowerPoint Presentation</dc:title>
</cp:coreProperties>
</file>