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39DC-DDF0-4126-9DAC-69A7C9E3F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2525-584E-4373-A692-0A9F627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915-0E3D-4B9E-9ED3-75E592170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B3A-2DEA-4A90-A05B-81099D1D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53CA-291B-420E-8F78-408031B0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785-B941-4A93-9CDD-7964578A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CB4-AE3C-416A-8B0B-50F77945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C65C-3EC4-4E9F-90A9-D4144B14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8D70-3480-47F6-B00C-EB4928E7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BD6-357F-43EF-96CA-40EEAC6D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808-50B7-4587-903A-39781DAC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C981-7518-43BE-9CD1-AEA72B0E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A9CB-D873-438A-A2DE-69651EE59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 Things Come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e, O L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ine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we give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Come of Th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1 Chronicles 29:1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7T15:28:27Z</dcterms:modified>
  <cp:revision>95</cp:revision>
  <dc:subject/>
  <dc:title>PowerPoint Presentation</dc:title>
</cp:coreProperties>
</file>