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988-EF46-4BC5-B653-B75DCBBD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82E-B281-49C4-A478-4794F136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426-0D34-48BA-93E3-3400C0B4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4B1-4FFB-4E2E-AC9F-2E53969A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079-5695-4A3F-9034-683DD90E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542-9D38-421E-BF5A-670A839A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720-571F-4D5B-B312-4E5E0465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D885-1AAC-41F1-A947-224C8F2B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06F-4F85-4C3E-B15F-FBDBCCB9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A4D-053A-4200-B687-3576D872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3867-83F0-4BF5-9202-9307E81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47E-DC99-4CB3-A187-1F847552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5B9B-EBF4-43FF-8971-F67BD54F6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 God, from Who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98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 from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 all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below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God, from Whom All Blessings F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40400" y="1701720"/>
            <a:ext cx="7063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homas Ken, 1674; adapt. by Gilbert H. Vieira, 1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 the sou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ll our gift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power uplift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Spiri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36Z</dcterms:modified>
  <cp:revision>10</cp:revision>
  <dc:subject/>
  <dc:title>PowerPoint Presentation</dc:title>
</cp:coreProperties>
</file>