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20E4-5267-400B-B082-1D7CD4A28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9EE2-CAEB-4B0F-B5E1-F29B37EBC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BBA0-F134-424D-803E-9379DDBFE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3FC5-22E7-4CB8-86CB-F7DAED92B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FA79-0350-4599-8741-D2F8B5FAD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5470-AE3B-4E60-8144-7F984AFF8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2D1E-3B41-4442-8745-5A98C6018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FD6B-3D32-475C-8D24-BCEE685B6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B1A8-F9CF-447B-B0A8-7850BE89A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1D11-820C-420E-9030-32838263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F994-873C-42CD-A0F0-5776263D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A93D-CA10-4014-979A-DF2CDC22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A0E6-D3EE-4039-A030-68318519B2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Lord God, Your Love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Has Called Us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57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Lord God, your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s called us he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we, by l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love were mad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© 1977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God, Your Love Has Called Us H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Brian Wren, 197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Then take the towe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break the brea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umble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call us friend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God, Your Love Has Called Us H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uffer and ser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ill all are f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how how grandl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 intend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work till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reation sing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fill all world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crown all thing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Lord God, in Chri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 set us fr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r life to li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r joy to sha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God, Your Love Has Called Us H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ive us you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pirit’s libert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urn from guil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dull despai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offer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faith can 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le love is mak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things ne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r living likene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ill we bea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gh marred, dishonor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isobeye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come, with all ou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rt and min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r call to hea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r love to fi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We come wi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lf-inflicted pain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broken tru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chosen wro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God, Your Love Has Called Us H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lf-free, half-bou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inner chain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social forces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wept alo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powers and system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lose confin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et seeking hop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humanki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Lord God, in Chri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 call our na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n receive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your ow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God, Your Love Has Called Us H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t through some meri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ight, or cla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t by your gracio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 al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strain to glimp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r mercy sea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find you kneel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t our fee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00:08Z</dcterms:modified>
  <cp:revision>84</cp:revision>
  <dc:subject/>
  <dc:title>PowerPoint Presentation</dc:title>
</cp:coreProperties>
</file>