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6E-13F4-4449-988F-841683D6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022-5A43-4D4A-8E16-A6FA6FF1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BB08-D6B8-4B13-99D7-B4784248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0FBE-DF82-4C68-BEFE-5626436B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E0E-A375-488D-91DB-D09D813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037-5DE7-4D37-A0B7-C2A95F0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1E36-1AD8-493D-8C36-34D6861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827-DE47-479D-9B02-AE7F86D9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837-155E-4EA6-B752-F23C35FF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622-E682-46BD-AC8C-69815AF9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34BD-AAC0-4F3D-A8BC-9D26F5A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93A-EFE8-4A11-B4C2-2EDD54D1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E248-579A-4C84-8061-2A6A69BC2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ncerning the Scrip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Book of Common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981080"/>
            <a:ext cx="83055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Blessed Lord, you have caused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ll holy Scriptures to be written for our learning. Grant us so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to hear them, read, mark, learn,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and inwardly digest them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rning the Scrip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4792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may embrace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ver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hold fast the blessed hop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of everlasting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life,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ich you have given us in ou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avior Jesus Chris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6120" y="1752480"/>
            <a:ext cx="8327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o lives and reigns with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Holy Spirit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e God, forever and ever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45:40Z</dcterms:modified>
  <cp:revision>14</cp:revision>
  <dc:subject/>
  <dc:title>PowerPoint Presentation</dc:title>
</cp:coreProperties>
</file>