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42B-1303-44DC-83A9-8939F7B0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6C5-6EEE-4625-904F-662C4D17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F71-CCD5-4B18-9A84-2A514C17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E02-9697-4F5B-A249-1EB78AE8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C98-0790-47C3-A46F-F427CAF4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1AF-D7FD-47B7-BCEF-A08BE494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2B90-0606-448A-9F2A-8876C7FD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E92-6462-46C2-93FA-6076A008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DEF5-6DDF-41D9-A78D-DA46D559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100-DBAD-479B-89C3-8A11A4C4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362-69E9-47B1-A70D-A9BD972F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3407-5E20-44DE-82F6-F3E8F1E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8E40-249B-44FB-B94E-B54462BE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pe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Chris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com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our fear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by conflict r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54, renewed 1982 The Hymn Society of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0920" y="1066680"/>
            <a:ext cx="4330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Georgia Harkness, 1954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be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gospel gl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our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us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consuming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our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se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ims are sp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if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st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ing to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he bread of l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let thy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us be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l earth’s w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nd all bitte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oot on dusty high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ing to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he path of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thou besid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tempting by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ure us away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to endless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sa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ea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desp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and gu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nder back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hy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thou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se them as thou w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ope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 o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this sign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grief and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pe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05:23Z</dcterms:modified>
  <cp:revision>9</cp:revision>
  <dc:subject/>
  <dc:title>PowerPoint Presentation</dc:title>
</cp:coreProperties>
</file>