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BE8F-8609-4B86-A4E2-4F33FBAD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960-5874-4428-8B10-228084CC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A23-A2D9-413C-9518-1BD678CF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DF2-BB93-4A23-899D-E5B92178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4CFD-BAE2-4EC6-8793-BB784F7F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5D6-0B38-4BA9-8CA2-70BF112F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B49-91D2-4C56-BEAC-CD466B2E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DBD7-DF9B-40ED-A65F-03AA213C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DA8-02F3-4AD6-AE5B-BD5B3706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7A6-07E0-401E-BEDF-547505C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06BB-26AB-45ED-8084-ECEB7E1D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DBB-31A1-4C58-BEC9-0C1CAD03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29C0-7E2A-453A-9BC3-71BAD8E37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t the Close of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09680"/>
            <a:ext cx="8534520" cy="2272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O Lord my God, I thank thee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that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thou hast brought this da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to its clo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 the Close of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50320" y="1066680"/>
            <a:ext cx="384156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Dietrich Bonhoeffer, Germany, 20th cent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Reprinted with permission of Macmillan Publishing Compa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66ff66"/>
                </a:solidFill>
                <a:latin typeface="Times New Roman"/>
              </a:rPr>
              <a:t>Letters and Papers from Prison,</a:t>
            </a: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 rev. ed. by Dietrich Bonhoeff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53, 1967, 1971 SCM Press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98108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I thank thee that thou dost </a:t>
            </a: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give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rest to body and soul. Thy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hand has been over me, guarding me and preserving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Forgive my feeble faith and a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the wrong I have done this d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and help me to forgive a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who have wronged 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2209680"/>
            <a:ext cx="8763120" cy="2287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Grant that I may sleep in pea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beneath thy care, and defend m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from the temptations of darkness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106668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Into thy hands I commen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my loved on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I commend this househol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I commend my body and soul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O God, thy holy name be praised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2:27Z</dcterms:modified>
  <cp:revision>18</cp:revision>
  <dc:subject/>
  <dc:title>PowerPoint Presentation</dc:title>
</cp:coreProperties>
</file>