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45E-E0DB-4D80-809A-7B7C65C7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91F1-C20B-47AB-92EC-392CA7B6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2F8-D284-4DB8-9801-17C44A27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1FA-DB5D-4A8C-B1BC-A101D88A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4AF-9162-46BE-8244-0B2371C4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18D-4F09-4651-AC77-4F15D9F7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76B3-B9FB-4CE1-953E-94DB7E2E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211-BA6F-4DDD-AA13-13D824C9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265-CD98-4913-87F1-A798AA47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436-F9B6-426F-85FF-B7862895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561D-D3B3-4FC6-A669-C4042592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B9E-1FE9-4DCE-A9EF-E815C138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8376-D626-4205-B085-049DD3D71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 Shall Over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We shall overcom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e shall overcom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e shall overcom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frican American spiri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the Lord will see us throug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overc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e’ll walk hand in h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ll walk hand in h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ll walk hand in h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’ll walk hand in h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e shall all be f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all be f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all be fr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all be fre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e shall live in pe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live in pe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live in pe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h, deep in my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o belie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live in peac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5. The Lord will see us through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Lord will see us through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Lord will see us through 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omeday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Shall Over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2:23Z</dcterms:modified>
  <cp:revision>55</cp:revision>
  <dc:subject/>
  <dc:title>PowerPoint Presentation</dc:title>
</cp:coreProperties>
</file>