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6C2-63F3-42AA-960A-B7E87D6A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3D13-5E5A-4E1F-BE7A-D26F632E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7DD6-B2FA-493D-8A15-00E044C0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095-6AEC-4613-8CB6-DB34277A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7BF-6A4B-41C2-A9EC-562B9654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245-AA29-46BE-B54C-A988BB9D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EE0-3CCC-4B88-895B-8D85E55D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E6B-B821-42CF-96D2-A4C497CE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A30-2460-4A6E-B81A-A9355207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2D6D-0E91-40F6-8CAF-0BEEB961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C7E-C5F6-4A02-80A0-F701987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B26-D63E-4FFD-B77B-6987CECF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3BA4-879B-4268-8F4D-BBC1FAB66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of Love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of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burning hou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Gerald H. Kennedy, ca. 193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us wor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s hou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ering l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it’s thy w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ing fre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to ask the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of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ing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irits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are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irst to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nished by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s from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trump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nging cl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ll our l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long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our final loyal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Love and God of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aves ar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e’er we sh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devotion an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t calle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4:56:04Z</dcterms:modified>
  <cp:revision>83</cp:revision>
  <dc:subject/>
  <dc:title>PowerPoint Presentation</dc:title>
</cp:coreProperties>
</file>