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5519-9A17-4B5F-BD9A-D8439F94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223-3B04-45F8-8E1C-310DFF63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6F11-FC05-43EF-BEB2-3B5872C3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F23F-0CC8-456B-A01E-BA8EF7C0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35F-7159-4AF4-A739-D73C402C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B31-E5AC-4D61-B7E0-30B33A99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09B9-A828-4CF1-A171-17EF207B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201-62BC-49BA-8C0F-81ED932C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8C3-BD77-47DC-8F09-0CD618C5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9A2-7350-4B84-89C0-021E09C8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AE0-732D-4C8D-915A-CF337711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BC9-8D9F-423F-9369-74E8EC2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81A4-AEC9-42C3-B85D-02B0EA915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Remembe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membe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ember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81040" y="990720"/>
            <a:ext cx="2562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Trad. (Lk. 23: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41Z</dcterms:modified>
  <cp:revision>36</cp:revision>
  <dc:subject/>
  <dc:title>PowerPoint Presentation</dc:title>
</cp:coreProperties>
</file>