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723-E6F9-4A36-9DE3-68F9D49A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8008-6F10-4EFF-8236-BE0307B3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324A-0788-4A3C-ABBE-A95FF1D6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C17-9BBA-4C5F-8092-949E8829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62C7-D49E-4C72-9612-A84D92B1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31C6-CD33-4409-888F-E8C3A2E9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B44-2057-481C-8AB3-F346F1D1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529-622F-460C-A6AD-D2E1767B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705-9558-487F-A58B-3D49C640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6684-CC57-4077-B5C5-A31CF9A0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A7A3-9C59-462F-A565-4E5CD8ED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3F87-793C-4D40-AA12-E7E7F0F2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184F-3EEF-49C8-8CFD-C1C41D886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First No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e first No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ngel did s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to cert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or shephe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fields as they l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18480" y="1066680"/>
            <a:ext cx="61214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Trad. English carol (Lk. 2:8-14; Mt. 2:1-12)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is star drew ni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northw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Bethle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took its r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re it d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th stop and st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ght over the pl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Jesus 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of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hen entered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se Wise Men th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ull reverent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the kn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ffered t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is presen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gold and myrr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rankincen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of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fields where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y keeping their sh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a cold winter’s n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as so dee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of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y looked u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aw a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ining in the e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yond them f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gave great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o it continu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th day and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of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nd by the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at same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ee Wise Men c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country f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eek for a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their inte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follow the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ver it we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el,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i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of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No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2:41Z</dcterms:modified>
  <cp:revision>8</cp:revision>
  <dc:subject/>
  <dc:title>PowerPoint Presentation</dc:title>
</cp:coreProperties>
</file>