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2A7-B304-4144-81FB-340A3597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38B-1A94-492B-A16E-ADA8B4D3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217F-1D82-47CC-BD26-C9BF83AF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2DD-537F-4B47-ADA1-72E4B40B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0450-7D83-4A75-9529-AA4444F7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83D-892F-4DF5-9D46-4359A659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9FD-DA1C-4C56-A27C-377A8CE7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564-9B22-4E8A-8741-21A2F9FC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D9DC-EFC2-4CF2-8A8F-3F468DD6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1754-8D95-484A-8C65-C96C823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BE4-2EA9-4A94-B067-025CEF47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3EB1-FFFD-40DA-A3FF-8665256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416-6A26-46D7-B3A2-0678BAF34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Morning Star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Fair and B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38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1. O Morning Star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how fair and bright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thou beamest forth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in truth and light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O Sovereign meek and lowly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st. 3 ©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25960" y="1521000"/>
            <a:ext cx="62935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hilipp Nicolai, 1599; trans. by Catherine Winkworth, 1863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st. 3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Lutheran Book of Worship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9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Root of Jes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vid’s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 and Ma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as w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to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sole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 and gl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-vict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ch in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le and m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all poss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ou heavenly Brightnes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divi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deep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now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an alt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me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ength to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emb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joined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e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falt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ing doth possess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 and bless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n sa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ye and heart 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 gladne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at joy to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life is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w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first and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n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g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Morning Star, How Fair and Br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one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loriou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nsport u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ppy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yond all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!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ord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of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yea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10Z</dcterms:modified>
  <cp:revision>12</cp:revision>
  <dc:subject/>
  <dc:title>PowerPoint Presentation</dc:title>
</cp:coreProperties>
</file>