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8651-A73F-455E-B23F-83CC3B6A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F81-C14E-424F-9098-1635A40F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DA34-E72C-4314-A1B1-98C46310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0B71-14AC-4892-AE03-3E5F4CCA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EA40-BF7F-456C-B7EF-AC57CBE4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B7E1-5957-4105-AD10-6667B785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CA46-0234-4C6D-B316-2DE441CB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C23C-E59E-406B-BF0E-05380A8C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208-4CA6-4052-B0F4-C2AEFD0A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B6E5-9F8E-4EAA-9BA3-95E5F92B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373A-2CBA-4325-A39A-D8BEE146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AE36-F9EF-4485-9C25-66E73E14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5B97-DAFB-4674-80F8-BF835935B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Zion, Has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O Zion, has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mission high fulfill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ell to all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God is light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Mary A. Thomson, 189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Give of thine own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r the message glorio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ve of thy weal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peed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ir w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ur out thy sou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m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yer victorio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Zion, hast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ring the brighter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ublish glad tid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dings of pea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dings of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mption and rel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he who ma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nations is not will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e soul should peris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st in shades of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ublish glad tid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dings of pea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dings of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mption and rel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Behold how man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sands still are ly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und in the darks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ison-house of s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none to tell t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Savior’s dy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of the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died for them to w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ublish glad tid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dings of pea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dings of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mption and rel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Proclaim to eve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ople, tongue, and nat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God, in wh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live and move, is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ell how he stooped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e his lost cre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died on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we might live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287360"/>
            <a:ext cx="9144000" cy="397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ublish glad tiding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dings of pea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dings of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demption and rel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Zion, Hast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8:18Z</dcterms:modified>
  <cp:revision>79</cp:revision>
  <dc:subject/>
  <dc:title>PowerPoint Presentation</dc:title>
</cp:coreProperties>
</file>