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9EF-9C62-402D-AB12-9B47C69B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B99-D87F-4CAB-BBB2-8DB4551E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F59-38F5-4AA7-9399-FB607F71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D6A-AE28-49AA-990B-78FAB044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E1-14EB-4434-94D0-91F4DD5B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395D-6D01-4FD3-AEBF-E20FC14F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5BC-243A-4E70-95D0-599C2B4D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75F-26DA-43E0-B414-704407F9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A81-1867-4890-B088-077DAC60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0235-D34E-48F2-B2D4-9A1A1302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E3A-1638-4FC9-8AAE-1C980FAF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09DD-705A-4E4E-8C21-DD329609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DA32-DC28-4642-83E2-FAF8C1EB1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reely, Fre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45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forgave my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ve been born a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2 Communiqu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7600" y="1139760"/>
            <a:ext cx="4536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arol Owens, 1972 (Mt. 10:8; 28:18-2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re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ll power is gi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arth and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’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Jesus’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ome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re his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he told me t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aid, “Freely, fre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have recei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,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ly, Free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in m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cause you belie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thers wi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2:02Z</dcterms:modified>
  <cp:revision>13</cp:revision>
  <dc:subject/>
  <dc:title>PowerPoint Presentation</dc:title>
</cp:coreProperties>
</file>