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00B4-5923-486E-B91D-949F7CD9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2FB-9687-435B-AFBA-9B34F6A7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42F-5F4C-40AF-A14A-12D5EA0C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612B-866A-4609-8114-2ABBAFFD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BAC-1F89-44B0-AF36-928A102F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E4D9-D437-4430-86FB-A459BEDD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28E-B77C-41A4-A06A-CDEC7421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A3D-98C8-4687-8C51-0404836B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3339-9055-43B5-B58D-8F1E809C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F77-3148-4C53-9F7D-2FB9F957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C5DF-6A69-413B-B4F5-38ACEFBD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261-54D9-41C2-8CA2-E89D7AC3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D2CA-4F3A-4F31-BBDC-B27F15BCE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th of Our Fath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ving st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spite of dunge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re, and s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25640" y="1143000"/>
            <a:ext cx="329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Frederick W. Faber, 18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how our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t high with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e’er we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glorious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362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str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in all natio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rough the tru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comes from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ll shall t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ruly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146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aith of our fath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th friend and fo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ll our str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each thee, to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love knows h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kindly wo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virtuous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43828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 of our fath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fait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be tr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till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 of Our Fath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12:44Z</dcterms:modified>
  <cp:revision>53</cp:revision>
  <dc:subject/>
  <dc:title>PowerPoint Presentation</dc:title>
</cp:coreProperties>
</file>