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711-D7AC-4A6F-86DD-952458B1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09D-86DE-4293-91A6-2CE972F4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30C-2964-4BA2-9AC8-9F8CBD8E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C79-1C9E-4FE8-A5A6-B1658C00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A8D-10F6-4D4A-951B-D0477288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6B3-65D7-42E6-B7BC-4A2A4296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E35-4485-44D1-8289-DCC10627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6EB-D81A-43A8-ABB3-3D8162F6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EB7-B950-4474-8A58-E5313BE5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7BC-9E1E-4ABB-9670-09DE1587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082-EF14-49FD-A3B6-0A5A7075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2DD0-0EE1-4AE6-ADFA-91BAE845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2693-A902-49A7-AA8A-950D5EEE4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the Depth of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ve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depth of love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unfathomable grac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shall s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bread and w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nto us conveys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5 (Jn. 6:35-5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the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flesh impar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the w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ansmits his bl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s his faith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ople’s hearts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lif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wisest morta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ow how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ace recei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eble elements best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power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s to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explain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ndrous 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through the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rtue cam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se the virt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d convey, y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remain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can spir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ward r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earthly matter f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ink here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vine suppli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at immortal brea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k the Fath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sdom how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who d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eans ord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s round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tars bow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arch it out, in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re and re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the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anner be unknow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ly meet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y w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erfect us in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the Depth of Love Divi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tas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pow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we as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othing mor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to bl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’tis only our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nder and ad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6:43Z</dcterms:modified>
  <cp:revision>128</cp:revision>
  <dc:subject/>
  <dc:title>PowerPoint Presentation</dc:title>
</cp:coreProperties>
</file>