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F21C-4CA1-42F1-A09B-4D5E797C8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1606-11EE-48E5-AD1F-C558C9A0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E833-7928-4D40-97EF-A84E19E4E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3569-7D6B-4B5F-B0FB-CA1AA7A5A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C58D-7960-4E19-A0CA-97AED0E7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6985-16F1-46E0-83D3-8D21FE54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E2EC-01EF-484F-B7E1-B8AE1610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A5F3-A705-4E0E-9C8C-A90D353E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2501-88BC-49AF-8AF6-C954A499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34AF-8A52-4995-AA7A-666EAB5A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6570-C338-4BAF-8F8D-5E83F724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5E9C-D692-4395-A425-3C801F94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4D72-0F9C-4CE7-844D-F73E50F95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Come Sun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2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29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o  Oo 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Sund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h, come Sund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’s the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66, renewed G. Schirmer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Sun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Intr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28040" y="1143000"/>
            <a:ext cx="288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Duke Ellington, 196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219320"/>
            <a:ext cx="9144000" cy="496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dear Lord ab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Almight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of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lease look down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e my people throu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Sun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6765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I believe that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ut sun and mo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p in the sky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don’t mind the gray ski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use they’re ju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louds passing b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Sun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143000"/>
            <a:ext cx="9144000" cy="496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dear Lord ab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Almight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of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lease look down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e my people throu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Sun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Heaven is a goodness ti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brighter light on high.</a:t>
            </a:r>
            <a:br>
              <a:rPr sz="5000"/>
            </a:b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Do unto others as you</a:t>
            </a:r>
            <a:br>
              <a:rPr sz="5000"/>
            </a:b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would have them do unto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ave a bright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y and b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Sun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66680"/>
            <a:ext cx="9144000" cy="496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dear Lord ab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Almight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of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lease look down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e my people throu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Sun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I believe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now, was th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lways will b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God’s bles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can make i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etern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Sun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90720"/>
            <a:ext cx="9144000" cy="496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, dear Lord ab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Almight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of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lease look down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e my people throu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 Sund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20:48:21Z</dcterms:modified>
  <cp:revision>59</cp:revision>
  <dc:subject/>
  <dc:title>PowerPoint Presentation</dc:title>
</cp:coreProperties>
</file>