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C54-9430-4058-BE9A-2ED5C305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C9D-F70A-4CE7-8007-641A3773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ABF3-62F1-4E9D-BE18-53805649E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2D88-AC29-4375-A320-201469BC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44E-25F9-45C2-8AC7-6BDA34F4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8DEC-4CA7-4EE3-89C9-89DA9346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EAC1-B8C9-4E6C-A0EE-584DF15E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75B-0279-4FC5-A437-3AB0A1A7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E1A-D62C-40C5-9EAA-D15D5112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D6E-B0F2-4DE5-929E-F5D3DB1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DD6-497D-4952-BCFD-2342065D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7140-63E9-44C7-ACEF-5234EB3B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EC9-52EC-45A4-86F3-8FEEC880E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Hear Us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8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us, 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hear our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 Us, O G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5:29Z</dcterms:modified>
  <cp:revision>34</cp:revision>
  <dc:subject/>
  <dc:title>PowerPoint Presentation</dc:title>
</cp:coreProperties>
</file>