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C5B4-DCEF-454A-8761-5DB307C9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8AC-405A-4146-9A9E-1796FCFD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4AC0-F1EE-41A4-8AB8-31B526DB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964B-B2D6-4182-A287-48C47712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07F-3E4E-4C9D-AFEC-3B8D0D47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0FA-75B5-4A80-9EF0-8A6CEEF8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548E-0414-461C-B948-5A123371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DD5-D2DA-40A9-BEC2-C2A14BFD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F065-E6C5-40BD-9CA3-678B2062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1A2-278C-4A59-87FC-D2FF4583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6D11-4D65-419A-A15E-0ABFAFFF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910-13E7-4F71-9297-D1DE29EA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36C6-2FF4-47CA-B509-9A7AADD74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hen Love Is Fou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6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Brian Wren, 1978 (Gen. 1:27; Jn. 2:1-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20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When love is fou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hope comes ho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ing and be gla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two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© 1983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ft up your heart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love be f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death and lif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broken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explod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fills the sk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 and sha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Maker’s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has flow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rust and ca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ild both each d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at love may dar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reach beyo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me’s warmth and ligh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erve and stri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 truth and r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n love is tri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s loved ones chang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old still to hop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ough all seems strang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ease return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ove grows wis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listening ear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opened ey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When love is tor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rust betray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y strength to lov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torments fa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lovers keep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 score of wro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ut hear through pa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ove’s Easter s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 for lo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praise God for lif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age or youth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husband, wif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Love Is Fou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6:00:39Z</dcterms:modified>
  <cp:revision>146</cp:revision>
  <dc:subject/>
  <dc:title>PowerPoint Presentation</dc:title>
</cp:coreProperties>
</file>