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96C9-DB8A-4007-9EF2-DC55EE5F5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7261-E870-4F3D-B58D-C9B94DDF4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7439-AA14-46B6-B150-205003087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47C7-D796-4E40-972D-C3436E85F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C2A7-9EE6-4A4C-B1E2-70839B743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02B9-831E-411D-B13B-D5204B810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E48E-EA03-46EC-8D04-6AB6E6CC1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14F7-4C9B-4960-96BB-A4714C912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5924-86FD-4F14-B013-45308B7AD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E5C9-1CE5-494C-9C1E-909537442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A3A9-9A55-4A6C-B247-C5798068D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CBFF-E3AD-4CA7-95CD-82AD8E0BA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E13E2-618B-4E04-BCEA-6174C232AA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8534520" cy="7034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reator of the Stars of Nigh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9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4252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1.</a:t>
            </a:r>
            <a:r>
              <a:rPr b="1" i="1" lang="en-US" sz="40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Creator of the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stars of night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y people’s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everlasting ligh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66"/>
                </a:solidFill>
                <a:latin typeface="Times New Roman"/>
              </a:rPr>
              <a:t>Trans. © 1940, 1943, renewed 1971 The Church Pension F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or of the Stars of Ni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99080" y="1166760"/>
            <a:ext cx="6941160" cy="337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Anon. Latin, 9th cent.; trans. from </a:t>
            </a:r>
            <a:r>
              <a:rPr b="1" i="1" lang="en-US" sz="1600" spc="-1" strike="noStrike">
                <a:solidFill>
                  <a:srgbClr val="ffff00"/>
                </a:solidFill>
                <a:latin typeface="Times New Roman"/>
              </a:rPr>
              <a:t>The Hymnal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, 1940 (Phil. 2:10-1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6760" y="1859040"/>
            <a:ext cx="861048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O Christ, 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ou Savior of us all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we pray thee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hear us when we c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2. At the great name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of Jesus now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ll knees must bend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ll hearts must bow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or of the Stars of N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nd things celestial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ee shall own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nd things terrestrial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Lord alone.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m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2T18:15:37Z</dcterms:modified>
  <cp:revision>30</cp:revision>
  <dc:subject/>
  <dc:title>PowerPoint Presentation</dc:title>
</cp:coreProperties>
</file>