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F84-D3BB-492E-804F-9B7A2330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7F0-29C6-4F56-A30A-E0959657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7CD-2BCC-4420-862B-237AE37E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CCF-373F-429B-8C46-2825C3B8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D68-AA70-45E6-A252-8F050A80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AF0-2D7B-4165-90D6-8BC2B543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F7A-D941-4DA6-8B9D-DAF401C5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19DE-D573-4F69-8C1A-8CDAC9C0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808-368C-4C81-AEFC-0ECFC074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EC2-0BB2-4310-91F7-B4F9D498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797-74C3-4647-98A1-9A10E4DD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2C3-339A-4F3E-85C6-CDDC1D4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27C6-DE8D-4A55-AF3E-08049FF1D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ois la Semilla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You Are the Se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256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Sois la Semill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5:03Z</dcterms:modified>
  <cp:revision>90</cp:revision>
  <dc:subject/>
  <dc:title>PowerPoint Presentation</dc:title>
</cp:coreProperties>
</file>