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9B50-53A7-45A5-8928-54922E9DE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AEE1-9A85-47FB-AAE5-172DC7CF0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8CDC-DE66-482E-B43F-9735D2F99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AD54-8857-4C74-B318-CC6D485D2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054C-F13E-4CAA-BA91-DC62C8CFF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1D22-27CD-4D1E-AF64-F56A6CA08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9DB7-BD93-4685-A70F-689B1B3E4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2C4C-C8B9-4B31-B5E0-5984BD5DB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07BA-891E-4E17-8780-C555C20A2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3E61-F013-4795-ABFC-DB983127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50F2-D21C-4571-9C28-7D7ED40C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B1A5-9658-4062-AD96-A7F2ED20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BE29B-32EA-4186-BC08-525CBCD0C3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’</a:t>
            </a: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Tis So Sweet to</a:t>
            </a:r>
            <a:br>
              <a:rPr sz="4000"/>
            </a:b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Trust in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46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So Sweet to Trust in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002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WORDS: Louisa M. R. Stead, 188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1. ’Tis so swee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trust in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to take hi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t his wor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ust from Jes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imply tak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ife and res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joy and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So Sweet to Trust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cc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Jesus,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ow I trust him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ow I’ve proved hi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’er and o’e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esus,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ecious Jesus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for grace t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rust him mor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So Sweet to Trust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4. I’m so gla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 learned to trust th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precious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avior, frie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I know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thou art with 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lt be with 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the 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So Sweet to Trust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cc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Jesus,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ow I trust him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ow I’ve proved hi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’er and o’e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esus,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ecious Jesus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for grace t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rust him mor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just to res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upon his promis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to know,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“Thus saith the Lord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So Sweet to Trust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21932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cc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Jesus,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ow I trust him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ow I’ve proved hi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’er and o’e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esus,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ecious Jesus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for grace t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rust him mor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So Sweet to Trust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2. O how sweet t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rust in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just to trus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is cleansing bloo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in simple fai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plunge 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eath the heal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leansing floo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So Sweet to Trust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cc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Jesus,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ow I trust him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ow I’ve proved hi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’er and o’e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esus,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ecious Jesus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for grace t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rust him mor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s So Sweet to Trust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3. Yes, ’tis swee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trust in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just from si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self to ceas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8:59:45Z</dcterms:modified>
  <cp:revision>157</cp:revision>
  <dc:subject/>
  <dc:title>PowerPoint Presentation</dc:title>
</cp:coreProperties>
</file>