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1DFF-874D-4657-846C-919EDE0EE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D86B-3384-4B48-826F-8F8B3F7C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DC58-0CC8-49EF-8431-9A385689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262F-3244-4C11-9174-CECDB832E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2350-501E-46F3-92D3-DE2A459C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0F2F-6126-40B9-9EFB-6CE34D8B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14C0-E88F-4149-885C-1AA14CDE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A039-ED55-4710-B793-17F0C675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AB1F-A7C5-4C12-B8D9-7E5D9EC2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4A81-3B9F-4431-9E28-E5911D85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ADB3-9048-4D76-9F66-1638966E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2C12-DBE9-4747-B119-373012E8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0726-8F77-4FFD-A7B8-01B3A6649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las! and Di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y Savior Bl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9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000" y="167652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Isaac Watts, 17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Alas! and di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Savior ble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did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vereign di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e, Lord, I g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self awa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’tis all that I can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uld he devot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sacred h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sinners such as I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as it for crim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I have do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groan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on the tre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mazing pity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ce unknown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ove beyond degr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Well might the su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darkness hi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hut its glories 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God, the migh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r, di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his 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eature’s s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Thus might I hi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blushing f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his d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oss appear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ssolve my he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ankful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elt mi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yes to tea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as! and Did My Savior Bl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But drops of tea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n ne’er rep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debt of love I ow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4:33:19Z</dcterms:modified>
  <cp:revision>49</cp:revision>
  <dc:subject/>
  <dc:title>PowerPoint Presentation</dc:title>
</cp:coreProperties>
</file>