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714B-4904-434A-B6CA-EB69AEF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CC06-4387-44C1-8084-D0698836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E103-1973-471A-B365-19B12528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1BE6-7F83-4540-A9E1-2D77EC03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1DF-D9DC-4207-99C3-8B02318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FB6-823A-43E3-B581-1B4AB90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0F9-6009-48F5-8A7B-97BC0E1F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D71-8A77-406D-84CE-9FA04F73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046-3760-4F35-9852-4AFEB628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2BF-1863-4843-ABF7-16C6BB4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A3C-FB96-486C-84F7-B5D138A1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55D-5F0C-48B8-8543-37BCED59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088B-4976-45B6-A619-65F08AB04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Like a Gentl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like a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deep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reins our ferv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sions day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38520" y="1066680"/>
            <a:ext cx="360828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C. Eric Lincoln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God 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yle and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e id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tions we purs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s us streng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llenge and to w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pite the per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t God b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ver life may b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very tongu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ness to the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humankind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y God’s decr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d be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d be Go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like a m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le hovers n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mighty wing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manif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like a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pherd stills our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fort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a peaceful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in our v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tensions we consp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pe God’s ima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see our 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k to the v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our base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the sculpt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he broken st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rough all our fret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aims of sex and 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ivers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of God shines throug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Like a Gentl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55:00Z</dcterms:modified>
  <cp:revision>33</cp:revision>
  <dc:subject/>
  <dc:title>PowerPoint Presentation</dc:title>
</cp:coreProperties>
</file>