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26A6-EAD2-46A7-A6F4-51C797052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D702-EA70-4FED-AF6F-8FABDC9C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CCE1-5CDB-4ED1-B6B4-231D2CC1B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C892-3FD3-4DE2-9908-1F3798718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0EE4-9E87-4FB9-A688-F7CC7F6D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B6F7-E025-40DB-9550-913EE20D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BDFB-6C09-479C-98F4-11A4CF28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DCBD-ECF3-4CC3-8F98-7E38B698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BF55-118B-4880-83C9-F0554F11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4F88-18F0-41C2-97AB-2CCF136E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5512-C456-44D8-8532-B7CE7DF2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0A49-E222-4882-ABEA-80D08966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2ADD-3599-4EEB-9F3B-8D1EAF01D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tand By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1. When the storms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of life are raging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tand by me;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(stand by me)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when the storms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of life are raging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tand by me;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(stand by m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By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36640" y="900000"/>
            <a:ext cx="387036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Charles Albert Tindley, ca. 1906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(Mt. 8:23-27; Mk. 4:35-41; Lk. 8:22-25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When my life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becomes a burden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d I’m nearing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chilly Jordan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O thou Lily of the Valley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tand by me.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(stand by m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When the world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is tossing me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like a ship upon the sea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hou who rulest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wind and water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tand by me.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(stand by m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14444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2. In the midst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of tribulation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tand by me;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(stand by me)</a:t>
            </a:r>
            <a:br>
              <a:rPr sz="4800"/>
            </a:b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in the midst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of tribulation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tand by me;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(stand by m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By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When the host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of hell assail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d my strength begins to fail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hou who never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lost a battle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tand by me.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(stand by m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3. In the midst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of faults and failures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tand by me;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(stand by me)</a:t>
            </a:r>
            <a:br>
              <a:rPr sz="4800"/>
            </a:b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in the midst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of faults and failures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tand by me;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(stand by m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By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When I’ve done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he best I can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d my friends misunderstand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hou who knowest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ll about me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tand by me.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(stand by m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4. In the midst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of persecution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tand by me;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(stand by me)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in the midst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of persecution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tand by me;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(stand by m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By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When my foes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in war array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undertake to stop my way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hou who saved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Paul and Silas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tand by me.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(stand by m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14444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5. When I’m growing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old and feeble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tand by me;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(stand by me)</a:t>
            </a:r>
            <a:br>
              <a:rPr sz="4800"/>
            </a:br>
            <a:r>
              <a:rPr b="0" i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when I’m growing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old and feeble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tand by me;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(stand by m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 By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7:03Z</dcterms:modified>
  <cp:revision>10</cp:revision>
  <dc:subject/>
  <dc:title>PowerPoint Presentation</dc:title>
</cp:coreProperties>
</file>