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6B29-A4C2-4228-8811-1BF58ED4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868-B7C2-4ABA-9D8D-CEB36412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57C-D0CC-4495-AC95-07712570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9CA-4DF4-4E09-8290-ECDC8DAF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3FE-A72F-4018-8FAC-48F681D3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870-C691-485D-9E10-2EB1044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D23-FD63-4C07-BA51-1468663A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BAAC-BA16-49E0-AD01-1AB1F26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E9FB-7C68-4CB2-AB42-5FAF5205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D0A-4A89-456F-9858-3816CD26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895-4DC1-4953-A839-F2306BE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B7A-9D82-4A2D-BB38-D301E6E8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B51D-A76C-4C04-8618-5130D9C0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Church of God, Uni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 church of God, unite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o serve one common Lor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proclaim to all one messag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hearts in glad acc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4, renewed 198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erick B. Morley, 1953 (Acts 2:5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ever goes before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ollow day by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trong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ger footst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g the upward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rom every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rdered ranks app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rve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aliant lead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come from far and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chant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confe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praise one living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ace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 depend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his sa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gh cree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ngues may diff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p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hrist, of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thy loving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one people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may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serv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gleness of a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 to all the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y redeeming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ay thy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er be answ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ay all b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se 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love uni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e, God’s blessed So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hurch of God, Uni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ring a single wit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k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thway b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ouls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ope in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find the one tru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09Z</dcterms:modified>
  <cp:revision>19</cp:revision>
  <dc:subject/>
  <dc:title>PowerPoint Presentation</dc:title>
</cp:coreProperties>
</file>