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BC7A-DC89-4E2D-AD46-DF32E35AC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40F2-E9AC-4F24-BCB3-1BF76447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492C-612C-40E5-80C3-A1BFFFC32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AD02-578F-4520-B9EA-9A5756EE2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EF20-D124-4635-8D57-2C0B4A6C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F8DF-BA53-45DD-844C-D798D93A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4C7E-DD43-43D3-AA5A-2AAE4CFB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CDF1-5007-4468-B26F-9779DBEB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42AA-FFC0-489E-92DD-32C18556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49B7-B6FA-4E7E-B758-A761D5EC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87CE-0E79-4C62-9AE4-19E39C20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8474-96CF-4BE8-93C0-A6D0218A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A828-91AB-4339-99C1-9A391620C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Jesus Loves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9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Jesus loves m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is I kn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 Bib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ells me s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58880" y="1066680"/>
            <a:ext cx="7486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St. 1 Anna B. Warner, 1860; Sts. 2-3 David Rutherford McGu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838080"/>
            <a:ext cx="9144000" cy="519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CHEROK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sisa a ki ke yu h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Koh wel a khi no hih 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su nah sti ka Tsu tse li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u hli ni ki tih ye hn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Trans. Robert Bushyhead, 1962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heroke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sis a ki ke y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Tsis a ki ke y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Tsis a ki ke y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 khi no hih se h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herokee 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838080"/>
            <a:ext cx="9144000" cy="510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GERM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sus liebt mi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anz gewi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nn die Bibe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agt mir die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Arial"/>
              </a:rPr>
              <a:t>Trans. </a:t>
            </a:r>
            <a:r>
              <a:rPr b="1" i="1" lang="en-US" sz="2200" spc="-1" strike="noStrike">
                <a:solidFill>
                  <a:srgbClr val="ffffff"/>
                </a:solidFill>
                <a:latin typeface="Times New Roman"/>
                <a:ea typeface="Arial"/>
              </a:rPr>
              <a:t>Psalter und Harfe,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Arial"/>
              </a:rPr>
              <a:t> 187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erma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e Kinder schwa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und kle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äd’t Er herzli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zu sich e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a, Jesus liebt mic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a, Jesus liebt mic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a, Jesus liebt mic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ie Bibel sagt mir d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German 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838080"/>
            <a:ext cx="9144000" cy="5287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JAPANE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u ware o ais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u wa tsuyo kere b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are yowaku-tom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sore wa araji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Japanese phonetic transcription, Mas Kawashima, 1988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© 1989 The United Methodist Publishing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Japane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aga Shu Es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Waga Shu Es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Waga Shu Es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are o ais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Japanese 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838080"/>
            <a:ext cx="9144000" cy="510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SPAN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isto me am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ien lo sé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u palabr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e hace v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Arial"/>
              </a:rPr>
              <a:t>Trans. </a:t>
            </a:r>
            <a:r>
              <a:rPr b="1" i="1" lang="en-US" sz="2200" spc="-1" strike="noStrike">
                <a:solidFill>
                  <a:srgbClr val="ffffff"/>
                </a:solidFill>
                <a:latin typeface="Times New Roman"/>
                <a:ea typeface="Arial"/>
              </a:rPr>
              <a:t>Hinnario Metodista,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Arial"/>
              </a:rPr>
              <a:t> 196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Spanish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los niños s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 Aqué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ien 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uestro Amigo fi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isto me am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isto me am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risto me am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a Biblia dice así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Spanish 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ttle on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him belo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y are weak, bu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 is stro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Bible tells me s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Jesus loves m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is I kn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s he lov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 long ago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aking childr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 his kn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aying, “Let th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me to m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Bible tells me s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Jesus loves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till tod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alking with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 my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anting as 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iend to g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ght and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all who l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es, Jesus loves m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Bible tells me s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Loves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5:22:16Z</dcterms:modified>
  <cp:revision>44</cp:revision>
  <dc:subject/>
  <dc:title>PowerPoint Presentation</dc:title>
</cp:coreProperties>
</file>