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928-EE0A-4B99-AF0E-15823C67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BF69-9281-47D0-A8D2-28585B62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07E-CAE6-4DC5-90C6-61D89AD0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F6D7-9290-400F-8580-231B91B4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291-7B5D-4FA8-B10C-CABFC9C4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3C0-F87C-4CA6-95E3-688D44BB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266-3270-449C-9408-B1F6E1EB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9E4-AFBD-4F40-B2A7-D9C7EAAB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B58-D0A2-433D-96CF-F08A62D2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A56F-CD78-487E-A95F-744B7640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AFA8-537E-44F3-8DF5-6EB279A0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9768-8630-41E3-B7F7-68899A49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DD07-3705-4492-A2F6-A896EE6B2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, Make of All Disci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hear the call, O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omes from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y eternal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4 Abingdon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Leon M. Adkins, 1955, alt. (Mt. 28:19-20)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spire our ways of lea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earn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rvent pray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t our daily l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veal the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“Go, make of all disciples,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ptizing in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Father, Son, and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ge to age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call each new disci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ollow thee, O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ing soul and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water and the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t thy feet would st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il each life’s voc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cents thy holy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cultivate the nat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plants in ever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vealing in our wit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aster teacher’s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“Go, make of all disciples.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elcome thy comman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Lo, I a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you always.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take thy guiding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Make of All Discip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ask loo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rge before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ollow without fea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eaven and earth thy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bring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dom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1:16:49Z</dcterms:modified>
  <cp:revision>76</cp:revision>
  <dc:subject/>
  <dc:title>PowerPoint Presentation</dc:title>
</cp:coreProperties>
</file>