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CDAD-4D46-45C9-A76F-ED59FE7F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9491-385A-46D5-AC94-552116A0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36A1-A57A-4BFF-86EB-219694C3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7A4B-92DE-484D-BCD3-2BBAB13C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D7B0-A787-41A2-875E-EBFF3801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88B-BC79-4BDC-BBCC-245DD86F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3B8A-568B-47C2-A577-525EE99D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1CD6-7327-4F42-A539-E1CF4A5A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3803-68E3-4112-B530-E0BF5BB9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079D-DAEF-4E5C-8E76-3F41B5DB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454A-AE1F-4B56-9171-184E0E01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D745-2248-49A0-A986-50582D4B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F993-BF46-4874-907E-3D53F86E1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t the Name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At the name of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ery knee shall b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ery tongue confess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King of glory n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Name of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93120" y="1039680"/>
            <a:ext cx="476784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Caroline M. Noel, 1870 (Phil. 2:5-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s the Father’s pleasu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should call him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from the begin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 the mighty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Humbled for a sea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receive a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e lips of sinn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nto whom he c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Name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thfully he bore 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otless to the l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ought it back victori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from de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pass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Bore it up triumph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its human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rough all rank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creatur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the central he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Name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throne of Godhe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Father’s breas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lled it with the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at perfect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In your hear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throne him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let him subd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at is not ho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at is not tru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Name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own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your capt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emptation’s hou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his will enfold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its light and pow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2T17:10:23Z</dcterms:modified>
  <cp:revision>31</cp:revision>
  <dc:subject/>
  <dc:title>PowerPoint Presentation</dc:title>
</cp:coreProperties>
</file>