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ACD-BDD6-4D47-95BB-D8019B79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CA2-E247-4904-B7E0-E8C25261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B84-871E-4682-B4F4-38223B0C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4DF-1232-4237-B725-9ACB9C0E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4C6-A34D-495A-854E-579B3188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770-9944-41B6-920E-DA8BA7A9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81A-5AAD-4492-B623-FEDD5858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0F8-7679-44A2-BC9F-18B101E1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B2D-5843-4A77-827B-C4392AD4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9ED-0CEF-4602-8099-80C1A6C6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EF2-552C-4606-8013-3FC89123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6E7-4B4E-4C96-8BF0-96B532D6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016E-4ED9-4EB8-AA8E-02F5B6E69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mina, Pueblo de Dio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Walk On, O People of G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9144000" cy="318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2900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brough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s salvati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ith his dea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rising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verything come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new birth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Christ take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nto his body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our si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slavement, and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s he destroys them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e brings u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fe’s abund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fe’s new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3886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9051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99cc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mina, Pueblo de D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8098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7:45Z</dcterms:modified>
  <cp:revision>64</cp:revision>
  <dc:subject/>
  <dc:title>PowerPoint Presentation</dc:title>
</cp:coreProperties>
</file>