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BD31-9D9F-49D3-A0CE-70990E96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15D7-A988-402D-880B-96878161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CDD-3CFD-414C-87F4-698C8A94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5818-1B01-49DF-B5A9-F30FAFD4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FC4-38CD-408D-9F32-C81777BB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9502-A7D5-4B13-B7FB-56A0B8F2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C20-29AE-417A-8D45-073F3FCC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17C-0268-4332-890F-102C2919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7834-5CE4-4A04-AC5D-DEB35432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0E5-B8EC-4CD9-B559-EE61939D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D23-32D2-435C-B825-679CB884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55A-775A-403B-9B05-452FDA10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2107-5B4B-4DE9-B789-6B51AFF3B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n el Fr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o Invernal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ld December Flies A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75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En el frío invern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l mes de diciemb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 capullo del ros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ota en un pese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© 1978 Lutheran Book of Worship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Spanish trans. © 1987 Skinner Chávez-M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o Inver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7480" y="1486080"/>
            <a:ext cx="608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atalonian carol; trans. by Howard Hawhee, 1978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panish by Skinner Ch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ávez-Melo, 1987 (Is. 35:1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Cold December flies a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the rose red splend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pril’s crow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brea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the who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ld wonder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the holy unseen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t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bears the flowe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blessed t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looms the reddest fl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t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looms the r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n love’s own gard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and strong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In the hope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me of s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dows deep had falle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ay undern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yes were clo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sleep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t, when all see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st in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me the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golden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s unending j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s the endless jo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ghest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hope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ght daw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n beloved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Now the bud h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to blo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world awaken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lily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rest flower dwel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wondrous fragran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it spread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mom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its bi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its beauty liv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flower it liv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fl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it sprea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its heavenly brigh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weet perfume delightf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el calor primaver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ce al mundo despert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qué fragante ol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 tan bella fl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esa rosa anhe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l ja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 d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Las tinieblas del ay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uyen prontame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a mañana deja 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l resplandecient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o Inver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nocturna oscurid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sca el mundo clarid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qué felicid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ta Navid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a la luz divin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 mundo ilumin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Va el capullo a florec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a blanca y pur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 fragancia va a ofrec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toda criatur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o Invern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e aroma sin igu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ueva vida da al mort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 de Dios el d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mo galardó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al mundo ha da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 su Hijo ama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10:44Z</dcterms:modified>
  <cp:revision>78</cp:revision>
  <dc:subject/>
  <dc:title>PowerPoint Presentation</dc:title>
</cp:coreProperties>
</file>