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5D2-5BA9-49DC-9DB5-6E55D50E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F12-ADD4-47CD-BC5C-2925401F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EA8-D3CF-47DF-ADBD-B1E7E8FE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E8C7-29EB-47F9-95D2-41DD0A59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870-F8FB-4C4A-896A-221BC48C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8A2-AAB0-4DF1-BA05-1E7AC53B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62EA-7D8D-4884-92FA-E49C88FF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6E2-129E-4203-84A9-80934250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10E-AA47-482A-98E4-852F9C6C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4BB1-23A6-434C-A55C-9DDC3B91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D19-EC5A-4763-AB71-9E15EDEF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65E-BE2A-401E-ADFB-C497425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A009-5010-44BC-8847-D635C3F37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Allelu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6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2:41Z</dcterms:modified>
  <cp:revision>31</cp:revision>
  <dc:subject/>
  <dc:title>PowerPoint Presentation</dc:title>
</cp:coreProperties>
</file>