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555C-2EC2-4EA9-BB04-06DFD657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D485-84D2-4EB6-8CE6-60FD6BD3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916E-36C0-4DAB-87F6-60605801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DE25-4AF7-40F2-8B9E-508EE442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D55-61B0-4886-BE4E-BC58FE49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873-46A0-458F-996D-BC1730FB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C574-9515-4D33-9CA4-BDE2DA6B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D0B4-E356-4DFD-A3B6-9B829B10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FF5-C95A-44F6-B2E6-26AA70B2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202-EF6A-4630-B9FC-608073ED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D5DB-77FF-4508-9754-129A252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46D-1272-485F-A773-A19E6681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B85A-1AB3-4182-9E4E-7C4D20AF0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 Back Quickl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Young Taik Chun, 1943;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by Sang E. Chun and Ivy G. Chun, 1988 (Lk. 15:11-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 back quick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how gr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sins may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r how burdens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y see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no sin he cannot b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r sinner not accep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the bos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our loving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much grea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n all the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Come back quick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Lord waits every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s do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pt open wid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is anxious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iting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ry day and every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Lord is wai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a child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gone a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Back Quickly 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ome back quick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come bac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you thin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you have sinn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aren’t fit to be his chi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d will celebra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a big fea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repent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ings you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, come back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is open arm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back quick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to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7:18:47Z</dcterms:modified>
  <cp:revision>99</cp:revision>
  <dc:subject/>
  <dc:title>PowerPoint Presentation</dc:title>
</cp:coreProperties>
</file>