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DC5-6025-4D9B-B691-1716B31B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D503-7A58-488C-BFCC-F5F71E27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AA01-92B2-4DAB-A464-B82FCB00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2EDC-5865-440E-9B18-7599887E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A37-8705-4135-8963-28C7974F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2F5-1156-4AD5-8C0E-65118E0E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D19-614D-43C0-A973-E847EB2E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962-8612-4D82-A28B-B944F4A6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A2CD-7FCF-4A6E-BA2A-891A3633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895-D3AD-435A-AE27-50C0819F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8EBF-D2B5-409E-8CE0-C05A3750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8F5-7F6B-4FDC-AC41-48B03631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1B9E-FF57-4EC8-B904-6A1313C49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 Praise to Thee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y God, This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 praise to the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y God, this nigh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or all the blessing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f the ligh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7120" y="1700280"/>
            <a:ext cx="302616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Thomas Ken, ca. 167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raise him abov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ye heavenly host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raise Father, So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Holy Gh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Keep me, O keep m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King of king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eneath thine ow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mighty w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Forgive me, Lor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or thy dear So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ill that I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is day have d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at with the worl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yself, and the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, ere I sleep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t peace may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 Teach me to liv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at I may drea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grave as littl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s my b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each me to di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at so I ma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rise glorious a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judgmen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 O may my soul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thee repos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with sweet sleep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ine eyelids clo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leep that may m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ore vigorous mak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serve my Go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en I aw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5. Praise God, from whom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 blessings flow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raise him, all creature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e be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My God, This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57:56Z</dcterms:modified>
  <cp:revision>18</cp:revision>
  <dc:subject/>
  <dc:title>PowerPoint Presentation</dc:title>
</cp:coreProperties>
</file>