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13C3-6066-44B3-8A8A-71A469A81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5669-79A5-4897-B8BB-52DCBD9CF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E62A-7C74-49F5-AEF2-58F0FA301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437B-ADE6-464A-9C90-10A48122C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C06C-254E-4435-87F4-D758A3017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66B5-FE70-462D-917F-251DA9B68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F1B1-733A-4B8F-A7F2-EA0C52EE7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BFF3-A3C6-479D-BF26-8CE5F5AF1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0C5B-B1A5-474B-A18F-9485AF2F6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524A-F881-49C3-94E0-FFD9B1815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3B5C-E788-4A9B-A8EA-6305AF732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DFB5-DDFF-4FCD-A97D-AD63C4F84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16004-3F92-44DA-8156-3396F4A817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ccff"/>
                </a:solidFill>
                <a:latin typeface="Times New Roman"/>
              </a:rPr>
              <a:t>Prayer Is the</a:t>
            </a:r>
            <a:br>
              <a:rPr sz="4000"/>
            </a:br>
            <a:r>
              <a:rPr b="1" lang="en-US" sz="4000" spc="-1" strike="noStrike">
                <a:solidFill>
                  <a:srgbClr val="99ccff"/>
                </a:solidFill>
                <a:latin typeface="Times New Roman"/>
              </a:rPr>
              <a:t>Soul’s Sincere Desi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99cc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ff"/>
                </a:solidFill>
                <a:latin typeface="Times New Roman"/>
              </a:rPr>
              <a:t>49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9810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1. Prayer is the 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oul’s sincere desir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unuttered or expresse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motion of a hidden fir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at trembles in the breas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ayer Is the Soul’s Sincere Desir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99440" y="1523880"/>
            <a:ext cx="329436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ccff"/>
                </a:solidFill>
                <a:latin typeface="Times New Roman"/>
              </a:rPr>
              <a:t>WORDS: James Montgomery, 18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2. Prayer is the 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urden of a sigh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falling of a tea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upward glancing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f an ey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en none but God is ne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ayer Is the Soul’s Sincere Desir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3. Prayer is the 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implest form of speech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at infants lips can try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prayer the sublimes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trains that reach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Majesty on hig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ayer Is the Soul’s Sincere Desir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4. Prayer is the 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ontrite sinners’ voic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returning from their way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ile angels in thei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ongs rejoice and cry, 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“Behold, they pray!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ayer Is the Soul’s Sincere Desir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5. Prayer is the 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hristians’ vital breath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Christians’ native air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ir watchword at th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ates of death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y enter heaven with pray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ayer Is the Soul’s Sincere Desir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6. O Thou, by whom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e come to Go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Life, the Truth, the Way: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path of praye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yself hast trod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ord, teach us how to pray!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ayer Is the Soul’s Sincere Desir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33:26Z</dcterms:modified>
  <cp:revision>36</cp:revision>
  <dc:subject/>
  <dc:title>PowerPoint Presentation</dc:title>
</cp:coreProperties>
</file>