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05B-BF39-4FAF-A487-07B56B34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32C-6C7E-486C-890B-8BFE66B4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571-85CE-4200-A667-118D5E3E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46AC-5117-4806-8B3D-24BC562C2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42C-BBB3-4D05-8955-9EE980BA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A58-8F12-4746-8C37-93429A93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5EE6-F83B-4EF8-A601-FB655569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DED-6556-43BA-958D-0D55BE72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FFF-E8D9-452A-9C73-42E8F130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ED2-3421-465A-91B5-A8654BA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FF7A-8EA4-45EC-A5F4-4AE8200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8E8F-3FE0-4D79-8EC9-45E8E55C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A5DB-288C-4EE6-933B-0EBF95CC4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26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86880" y="1052640"/>
            <a:ext cx="2378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cient Gree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0:43Z</dcterms:modified>
  <cp:revision>24</cp:revision>
  <dc:subject/>
  <dc:title>PowerPoint Presentation</dc:title>
</cp:coreProperties>
</file>