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10C-ABE8-4F3B-84AE-9BC7ED33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77E-18B3-4A53-A67C-BE232AD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64E-CEAB-4C6A-8FB4-8C364EC2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B9-C9AF-4CF7-B3A5-828BFEB7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5AD-45B9-4237-B253-5AB1E6B2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DEB-11F3-4683-AC3D-D599DA38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4E73-072C-426D-872F-AF6C81AF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54E-A993-4BCC-A80A-AC5757A1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C6F-BE7B-4486-B2CD-16E2B40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434-BA58-4B17-AF2C-C6EF1DE8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208-2645-4B13-B7AD-7D2D3C39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02F-9CCF-46C7-8508-294A903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5904-E03D-4CAE-9B0E-5AD9C2AA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 i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9080" y="1244520"/>
            <a:ext cx="712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H. Plumptre, 1865 (Ps. 20:4; 147:1; Phil. 4: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ward flo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4120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</a:t>
            </a: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  <a:ea typeface="Arial"/>
              </a:rPr>
              <a:t>(rejoice,)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22Z</dcterms:modified>
  <cp:revision>23</cp:revision>
  <dc:subject/>
  <dc:title>PowerPoint Presentation</dc:title>
</cp:coreProperties>
</file>