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803-CDED-4B31-8A44-8C434EFD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2139-165D-4395-974F-7407F011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F57-D0E0-492D-BEDB-0509A861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3DB-E20D-405D-8744-A2915F0D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5F3-3056-4B9F-805E-B80D2E3F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B87-BD78-4B15-9E1D-11752356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9D57-8652-4450-B26F-223A4FA6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157C-5CFA-4D72-8E3D-8FCDF248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7CE-F7B2-4D1D-9373-5F7DA879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171-761D-4459-B1F8-9451C6D4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B4CB-4604-48DE-8818-7676C9CA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4D0-AFE6-40C6-A08A-011D9D2C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711E-E180-4BA0-B956-E8201EE68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l Est 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He Is Bor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3240" y="1523880"/>
            <a:ext cx="536076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19th cent. French carol; trans. anon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051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Jesus,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ing as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among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to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19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ay the obo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bagpipes merril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Is Born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oly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w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Savior m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rough long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phets have foret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ugh long ag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the ti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 come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antons tou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v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nemen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O how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p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this perfec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ofheave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how p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cious gi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umank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l est né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divin E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uez hautbo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sonnez musette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Est 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5:27Z</dcterms:modified>
  <cp:revision>75</cp:revision>
  <dc:subject/>
  <dc:title>PowerPoint Presentation</dc:title>
</cp:coreProperties>
</file>