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E650-792E-4CA4-AAAC-712DC4A66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5072-CAA6-4CB6-AB3E-46DA2EA3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C939-0394-4A66-AD4D-3B01F0C25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6703-81E9-4142-B6CD-37194812F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ACC6-9FD3-4A37-9673-2238D8F5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3C1C-2354-425B-A48F-2FDFECD2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E52B-A421-43BA-AECA-3C4C134C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F3C9-9795-44A1-849A-4B7BDDF9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425A-E090-413C-8BD1-92061070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32CC-0EBC-4092-A9B7-9F5AB7DF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A81C-E45A-4AAB-AFB4-00C2D5E0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3149-A421-41F4-9A2F-3936FE63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4B1A-EAD0-4DE8-B162-224397298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et My Peopl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eek Their Freed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8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49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“Let my peop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ek their freed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wilderness awhil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71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My People Seek Their Freed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T. Herbert O’Driscoll, 1971 (Dt. 8:14-1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we mi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ancient bondag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hop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promise, wane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n the roc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yield its wat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mann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ll by n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ith visio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a futu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we mar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ward the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In the maelstr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natio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journey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to sp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My People Seek Their Freedo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clas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generatio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hunge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gr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our agon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call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newer way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the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our tomorrow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earth’s today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the slave pe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Delt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the ghetto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the Nile”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God spok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out of Sinai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God spok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t was d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 peop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rossed the wate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ward the ri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su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“Let my peop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ek their freed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wilderness awhil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My People Seek Their Freedo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the ag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rines and structur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the cloist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aisle”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the S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God has spok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storm clou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e unfurl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God’s peop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ust be scatter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be servants in the wor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When we murm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the mountai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o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gyptian plain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My People Seek Their Freedo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6:52:14Z</dcterms:modified>
  <cp:revision>94</cp:revision>
  <dc:subject/>
  <dc:title>PowerPoint Presentation</dc:title>
</cp:coreProperties>
</file>