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A3D1-5CFB-45BC-9360-0245A14F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637-0DEC-4F44-9C9B-303168A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C23-AC16-47E8-8232-EF8400DB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425-E7AF-45DB-A8F7-91BB494F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D404-F90F-4002-AA22-DB1B355D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CD6-0230-46C1-A0EE-3EA28BD1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2D2-DF41-4086-B113-2CFCD267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588-52D1-4828-A6A7-0091AF60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5EA-D88E-4B04-A615-8634855B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90B-E3E9-4F08-B9AF-1E4D159F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E86-62BB-4BED-89F8-BA3C624B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B5FC-A6EB-4A99-953B-5E1982F6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697B-022B-4F09-858A-4D512BD14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orning Ha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orning has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ackbird has sp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b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 by permission of David Higham Associates,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2000" y="1092240"/>
            <a:ext cx="5406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Eleanor Farjeon, 1931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sing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morn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m, spr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from the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weet the rain’s new 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lit 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irst dew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first gr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swee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wet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ung in complet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his feet pa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ine is the sunli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is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f the on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den saw pl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Ha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el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ever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e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ew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0:11Z</dcterms:modified>
  <cp:revision>9</cp:revision>
  <dc:subject/>
  <dc:title>PowerPoint Presentation</dc:title>
</cp:coreProperties>
</file>