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ED2-0846-42BA-B22A-2B182641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803-C4A3-4B89-A472-836B5BDB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1157-4C25-4957-BBCE-9B66A2AB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8949-9D38-4287-9295-724F807C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B85-BB5A-437A-8F6A-9DBF84C5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61E3-1280-4510-B48A-DF58B9DB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AE3-4C1A-4D24-9674-EE706D23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EB9-74F6-49A6-932A-4FC15B64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815-57F1-4803-A3FF-8A14EB81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900-5F82-4BF5-842D-C9D960BA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F976-1BF1-4538-AF5A-545C479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4CF-7204-4116-B235-AB6E38A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78D2-31F5-4292-A1DF-892DD9375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Gracious Pow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gracious pow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onderfully shelte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nfidently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what m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7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458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Dietrich Bonhoeffer, 1944; trans. by Fred Pratt Green, 19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know that God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us night and mo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 fa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reet us each new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Yet is this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its old foe torme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evil days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s hard to b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ive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ightened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re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ich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a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when this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give is filled to brimm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bitter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d to underst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ake it thankful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thout tremb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of so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 beloved a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et when again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me world you giv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 we h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ightness of your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 Gracious Pow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lived throu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whol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then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09:43Z</dcterms:modified>
  <cp:revision>43</cp:revision>
  <dc:subject/>
  <dc:title>PowerPoint Presentation</dc:title>
</cp:coreProperties>
</file>