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7F4-A126-459A-A62D-777DEE25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EC5-E26A-4ABF-8FA6-FE067F4D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7B1-87AA-4C61-BE46-8267C2EC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19C-D573-4DE1-89E6-760AD70B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158-8E82-41D6-A5A5-9612AFFC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32B3-259C-40C0-8FE8-A4FD6530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196D-7743-4F0C-88EE-94746510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E93-E460-4471-8939-EC78E97B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706-9E97-4E00-AA39-754FE1B5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A098-C7E7-4D6F-A7DF-601C1ED2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7D6-7B21-458B-90AC-845B260D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FA0-6991-4127-AE8A-3999502C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0F8B-134A-42F5-832B-A86E1C8F1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the Churc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the church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uts its outer d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the roar of traff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own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ice of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68 (Jas. 2:14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our prayers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 times more aw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e world we ban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our Christ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f our hearts are lif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devotion so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above this hung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ffering world of ou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our hymns shou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ug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orget its nee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ian wor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Christian dee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st the gifts we o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ney, talents, ti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to sal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onsci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ur secret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Churc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reprove, inspir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way you gi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us, dying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rue Christian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6:15Z</dcterms:modified>
  <cp:revision>96</cp:revision>
  <dc:subject/>
  <dc:title>PowerPoint Presentation</dc:title>
</cp:coreProperties>
</file>