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EEF-4DDB-4720-87DE-6A8E4977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257-01EE-4E11-BC7E-D2D68570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FDA-6049-4D12-B89C-6B789D34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BA1E-025F-48A2-B3E8-CCB421B0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6B3-5EB5-4761-AA74-F84D6966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BA3-09E8-4B71-B311-D341DB90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E7C6-6CB2-42A4-AB2B-97B9B37D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D9C-55D5-43A0-9281-DD3284E9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B70-7532-4543-9B75-C9C05106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B3E-87B1-4650-ABEC-573B885D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597-9991-4998-A3FE-6DFD61EA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B4F-D025-40ED-A2E0-DEFF76A8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C374-5205-4072-94D8-0A035A8C2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All the Spirit’s Gifts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Fred Pratt Green, 1979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428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1. Of all the Spirit’s 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gifts to m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I pray that I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may never ceas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learest purp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to sh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ake and treas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st these thre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, joy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he Spirit show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’s the ro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every gi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nt from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every fl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every fru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God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e Spirit sh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f I poss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love no ev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n destr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ever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y distr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this i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Though what’s ah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myste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life it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ours on 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2239920"/>
            <a:ext cx="82296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da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s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Go forth in peac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All the Spirit’s Gifts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We go in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made aw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, in a nee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ld like thi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27Z</dcterms:modified>
  <cp:revision>93</cp:revision>
  <dc:subject/>
  <dc:title>PowerPoint Presentation</dc:title>
</cp:coreProperties>
</file>