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ABD-4D14-4970-A3C6-AA921BAA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0D13-EF0D-4C54-809D-3E057678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58C-70F2-4C7D-8437-87685224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0B27-87C9-4986-8B33-A26E59AE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320E-B933-48E2-ADC0-4C4050B7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0A09-5838-4700-A5E0-BF207E45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B39-A0A8-40C8-A188-3CCE747E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41C-6A74-4B55-AE86-982793BF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738-F40F-40FE-A3ED-7238A4BF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B700-0750-4BA2-9C48-F67A2B8C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649-3DFF-4AB4-8FB5-FB73A3F0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2E0-A285-4FF0-BA3D-521D194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CB4F-A6E1-4158-978C-C84148BB2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essed Jesu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t Thy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y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gath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o hea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obias Clausnitzer, 1663; trans. by Catherine Winkworth, 18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uls be stir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to seek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and fear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y teac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and ho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awn from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 thee sole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ll our knowled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se, and s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e in deep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shroud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th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ks our n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beam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th unclou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alon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canst win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must work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od within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lor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self impart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God proceed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Jesus, at Thy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th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ears and he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by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’s plea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the c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people raise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, and b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prayers and p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43:20Z</dcterms:modified>
  <cp:revision>97</cp:revision>
  <dc:subject/>
  <dc:title>PowerPoint Presentation</dc:title>
</cp:coreProperties>
</file>