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2C1-442A-475B-AC51-82CCD4230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5CAD-873F-44E7-A172-D4963023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678-C59F-4A6C-9317-63629090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A8ED-65B4-44FC-A2CA-8B336634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D3A4-2CC4-40F1-8AF6-095CE7E8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FD3-D37E-4ECD-811A-691C41BF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D06D-0850-4D7E-AFF5-FD3DD991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863-D7B4-47DC-A40B-EB1F6544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F5C4-82F1-451C-A867-6248E609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4446-56B5-4010-BFCF-E4551375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C03-146B-404E-A060-8FD1370A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4A1-B0C6-42DB-B0B8-28AA581D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A4AA-179D-415A-81F8-DBE06D318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re’s a Spirit in the 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200400"/>
            <a:ext cx="9144000" cy="3213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There’s a Spirit in the ai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lling Christian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ywher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© 1979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92200" y="1092240"/>
            <a:ext cx="2601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Brian W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Christ reveal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ving, wor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our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6. May 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ll our pra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uide our though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hange our ways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 in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 come to stay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ve tomorrow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e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7. There’s a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ai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lling Christian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ywher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Christ reveal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ving, wor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our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Christ reveal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ving, wor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our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Lose your shy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nd your tongu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at God has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 in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 come to stay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ve tomorrow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e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When believ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eak the br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n a hung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is f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he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Christ reveal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ving, wor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our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Still 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ads the f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eing wr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etting righ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 in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 come to stay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ve tomorrow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e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When a stranger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t al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en the home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nd a ho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pirit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6:20Z</dcterms:modified>
  <cp:revision>44</cp:revision>
  <dc:subject/>
  <dc:title>PowerPoint Presentation</dc:title>
</cp:coreProperties>
</file>