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F55-A0C7-4F66-BA8E-86E2C5EC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443-F072-44E0-948B-12E71C6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5FE4-95F5-4FA4-88A1-14A3EFE1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6D3-C8D4-4E51-906E-429C638B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F9B-FC40-42F7-9FF4-6F98561F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9CA-1D95-4FD2-AEDA-7C83CB22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4EB2-EC5D-4E60-8739-ECFCC74F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443-A483-460C-86D6-62F6127C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430-661B-4733-AD1C-45D602D8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D42-EC58-40B7-8196-1138099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C54-AA6B-4530-A2DB-745166F0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01B-9240-45A6-B177-3858121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922B-0707-419B-857D-AF1D09221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1160" y="1166760"/>
            <a:ext cx="44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46 (1 Cor. 15:51-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rules o’er earth and hea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archangel’s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05Z</dcterms:modified>
  <cp:revision>52</cp:revision>
  <dc:subject/>
  <dc:title>PowerPoint Presentation</dc:title>
</cp:coreProperties>
</file>