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CE77-015E-4B63-B7D9-22E224D8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8810-07E6-4217-8765-5A87B4C8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67EC-5B21-4449-9BED-205C154B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CBA-AE79-4213-958A-1C0ADEDC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4DC5-E019-4BFD-8C2F-C74CE160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70CB-A1EF-4197-92F9-43FF787C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5859-E404-4048-9D07-2BE0CBA5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7DB3-431D-4910-9B51-1BDE2B8D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F4CB-17FD-4C4E-8CC9-866420F4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E843-1C82-4668-BE00-E1EC8B85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8E33-D5F1-4474-970B-5AC98003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415D-9184-4CDC-8BB8-36746CAF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47E1-4E03-48AB-8F17-0ED91AA5B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na Nobis Pac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na Nobis Pac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Trad. Lat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2362320"/>
            <a:ext cx="7162920" cy="19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ona nobis pacem, pa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ona nobis pa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438280"/>
            <a:ext cx="83808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2286000"/>
            <a:ext cx="7010280" cy="19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ona nobis pa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ona nobis pa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438280"/>
            <a:ext cx="83844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133720" y="2286000"/>
            <a:ext cx="7010280" cy="19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ona nobis pa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ona nobis pacem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2438280"/>
            <a:ext cx="83844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1:09:52Z</dcterms:modified>
  <cp:revision>119</cp:revision>
  <dc:subject/>
  <dc:title>PowerPoint Presentation</dc:title>
</cp:coreProperties>
</file>