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DAA9-CBA2-4D08-AE87-6258A73C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C2A-5E95-46EB-AF6F-E8EF16E9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B1A2-B96D-4C11-A994-00BFB2FA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67F-3258-4933-99E5-F4A232A2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AB1-0AFB-42D9-938A-6EA007B5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523-CEA2-45C3-8AC9-FCE90E7A1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BE3B-4BD5-4D6D-B180-55501828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4608-BCFF-4BE9-9DB0-3CD50F1A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0D60-DBD6-466B-BA4B-45748524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1F3D-FA31-4AEB-9B87-92AD7AAD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E83-E76C-4D60-9CAF-C84458C4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531F-EC5F-4F5F-AEC4-A01B9A3A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4986-BFCA-44BE-914B-650C5C247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is Is the Da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Lord Hath M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5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s is the da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Lord hath mad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 calls the hours hi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the Day the Lord Hath M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14040" y="1600200"/>
            <a:ext cx="3722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Isaac Watts, 1719 (Ps. 118:24)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heaven rejoic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et earth be gla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praise surroun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thr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8:04Z</dcterms:modified>
  <cp:revision>14</cp:revision>
  <dc:subject/>
  <dc:title>PowerPoint Presentation</dc:title>
</cp:coreProperties>
</file>