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107-6630-4B17-88C9-0D68D816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DE2E-12DC-4B6B-AD40-C41F7B55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3FF1-C8DA-494A-AA9B-583D35AE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249-327A-4422-8603-1A78DB575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150-93AA-4686-9542-40C5CC33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133-9F8B-4A81-98C6-FC8116AB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300-48F9-466D-9248-C054C15A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BE2-8ECE-4C67-B66E-E8201240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021-CE20-4296-8338-DF12FDE4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288-EE45-46F3-AB80-19BCFA3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672-CE2D-4B2C-97DA-32C2B68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E01-A1E2-4F79-9216-01D3258C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9F09-16C0-4047-A8AE-EA5B3BC79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Praise and Thanksgiving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Be t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Praise and thanksg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o God our mak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rce of all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digal creat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2 H. Francis Yard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H. Francis Yardley, 1982 (Lk. 3:21-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e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your 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come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 adore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Not our own holi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at we have str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s us the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hrist, have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ed and set a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en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race and fav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Holy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in visitati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tru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ope, and our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and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, O Dove desc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never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Praise to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, and Holy Spir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source of every mer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e and Thanksgiving B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now rene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is water g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peace from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31Z</dcterms:modified>
  <cp:revision>105</cp:revision>
  <dc:subject/>
  <dc:title>PowerPoint Presentation</dc:title>
</cp:coreProperties>
</file>