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FC7B-E5DA-4742-94E7-D2F10C82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ED47-974A-4C49-B038-AA46E150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0AF9-DB2B-4EBC-A02B-D2FA111A4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CC19-FF5B-4658-B874-9D300F6B1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3D5B-F531-4981-B093-B68EEE49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2CEC-4DE7-4A64-ABCE-E24372E9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B6C9-2939-4E74-A37E-16652A4D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670E-F506-4AEF-9476-DA88AED5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234E-8764-4EA6-8CBE-B4BA5994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4127-F944-4750-8C24-D1C4E54E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8E3C-0708-4EA0-8846-B5901CFB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7706-19BE-41F1-AEC3-37BF0F5E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2DF3-EA0B-478B-887D-961664B05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ere Cross the Crowded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ys of Lif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Where cross the crowd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ys of lif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sound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ries of race and cla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ross the Crowded Ways of Lif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44400" y="1600200"/>
            <a:ext cx="42375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Frank Mason North, 1903 (Mt. 22: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mong these restl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ngs abid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tread the city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reets agai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6. Till all the worl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learn your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follow whe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feet have tro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ross the Crowded Ways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, glorious fro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heaven ab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come the cit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our Go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bove the noi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selfish strif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hear your voi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Son of ma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In haunts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retchedness and ne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shadowed threshol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ark with fea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ross the Crowded Ways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paths where hi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lures of gre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catch the vis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your tear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From tender childhood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lplessne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woman’s grief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n’s burdened toi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05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ross the Crowded Ways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famished soul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sorrow’s stres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heart has nev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known recoi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The cup of wat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iven for you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holds the freshn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your gr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ross the Crowded Ways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et long the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ultitudes to vie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weet compass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your f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5. O Master, from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ountainsi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ke haste to hea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se hearts of p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Cross the Crowded Ways of Lif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27:49Z</dcterms:modified>
  <cp:revision>17</cp:revision>
  <dc:subject/>
  <dc:title>PowerPoint Presentation</dc:title>
</cp:coreProperties>
</file>