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0EB1-7871-462C-A6B2-869F693DC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4211-FE17-4314-BAD1-AB8D5DE3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8A88-6319-4E00-B8DB-A50475BA6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E84D-941D-4A89-84D0-A4881D76F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74D3-A30A-48A6-94A4-BCDE70B5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C466-FB8D-40C1-A90F-E25DE4B1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A9D4-79B9-47D2-A8F7-A825BA44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13CE-6CE4-4A84-8B54-18775D44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5F7D-1423-4EF3-B748-DA2F6C18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BF58-8D8B-499D-8284-6521D6AE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9B62-7950-4A36-8905-1F001F81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B36F-500B-4C08-8517-EE592DB2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00CB-271D-4F86-90D8-86230945C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low Ye the Trumpet, B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228600"/>
            <a:ext cx="12952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w Ye the Trumpet, Bl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Charles Wesley, 1750 (Lev. 25:8-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Blow ye the trumpet, blow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gladly solemn sou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et all nations kn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earth’s remotest boun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turn, ye ransom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nners,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w Ye the Trumpet, B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6. The gospel trumpet he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news of heavenly grac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saved fro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arth, appea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efore your Savior’s fac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turn, to y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ternal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turn, ye ransom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nners,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w Ye the Trumpet, B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Jesus, our great high prie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th full atonement mad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e weary spirits, res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e mournful souls, be gla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turn, ye ransom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nners,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w Ye the Trumpet, B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Extol the Lamb of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all-atoning Lamb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redemption in his bl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roughout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orld proclaim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turn, ye ransom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nners,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w Ye the Trumpet, B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Ye slaves of sin and he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r liberty recei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safe in Jesus dwe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blest in Jesus liv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year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bilee is com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turn, ye ransom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nners,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w Ye the Trumpet, B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5. Ye who have sol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or nou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r heritage ab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hall have 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ack unbou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gift of Jesus’ lov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0T19:17:02Z</dcterms:modified>
  <cp:revision>123</cp:revision>
  <dc:subject/>
  <dc:title>PowerPoint Presentation</dc:title>
</cp:coreProperties>
</file>