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B32-CABC-42AF-89CF-AE8B1E35C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94F-50D2-468F-B735-FAC1C1AC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DE0-B7A9-4D78-9B31-38E559D9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D6E-68BE-4CF9-8BA0-08187F8C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ADA-009C-4FFE-AD28-E7E7D913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8E3-6ABF-4C39-B885-7B551F5C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408-DD04-4FDC-845F-972A68EE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165-BF48-4F06-B3A3-F3550D69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FA5-AA33-4B5A-B62B-503D18B7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8DB-C63B-484D-A899-5E55A77F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D93-1E2F-46B2-BA4E-BA463D8C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766-AAFB-4113-A01A-E45DDE0D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4B07-B960-479D-9067-F363AE551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Am Thin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am thine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heard thy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t told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to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0800" y="1063800"/>
            <a:ext cx="4080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anny J. Crosby 1875 (Heb. 10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kneel in pray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thee, my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mune a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iend with frie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 -  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earer,     nearer,)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re are depths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cannot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I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arrow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are heights of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may not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I res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 -  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earer,     nearer,)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long to r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arms of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 clos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 -  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earer,     nearer,)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onsecrate me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service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powe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y soul look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 steadfast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wi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t in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 -  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earer,     nearer,)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,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ross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me nearer, nea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 blessed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pre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the pure de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 single h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efore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 I sp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Thin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09:22Z</dcterms:modified>
  <cp:revision>11</cp:revision>
  <dc:subject/>
  <dc:title>PowerPoint Presentation</dc:title>
</cp:coreProperties>
</file>