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6F4-B79F-4728-8B63-7385D83B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3D5-6B50-4730-ACD8-45CED750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ED14-EB1C-402C-951E-922A5F25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4F4D-B09D-4870-B29B-9C4006E8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7A6-1CD9-4411-82AE-4F6FDE5D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07E0-CB65-42E2-AD86-4D9207F0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7AE9-F6E8-4B12-8C1D-0271453F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BDF-EDFF-414B-91B6-9C2E4690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61B1-82CD-493A-B0D7-5F597FEB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F8DF-2C08-447C-BAB8-93F569C2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525-BBEF-4596-9DD3-D2E34A08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7CE-D649-4E1C-A547-34B96F26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CCFA-CDDA-44AC-99FB-1EA07B0AB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tany for Christian 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736640"/>
            <a:ext cx="8458200" cy="464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t us ask the Lord to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trengthen in all Christian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aith in Christ, the Savio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f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isten to us, O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By permission of The Crossroad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any for Christian 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2720" y="1066680"/>
            <a:ext cx="4839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Karol Wojtyla (Pope John Paul II), Poland, 20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735200"/>
            <a:ext cx="845820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t us ask the Lord to sustai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guide Christians with hi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ifts along the way to full un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isten to us, O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735200"/>
            <a:ext cx="845820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t us ask the Lord for th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ift of unity and peac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or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isten to us, O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455760"/>
            <a:ext cx="845820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t us pray. We ask you, O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ord, for the gifts of your Spirit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Enable us to penetrat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the depth of the whol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truth, and grant tha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we may share with others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the goods you have pu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at our dispos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820800"/>
            <a:ext cx="84582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ach us to overcome divisions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Send us your Spiri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to lead to full unity your son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and daughters in full charit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in obedience to your will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through Christ our Lord.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9:28Z</dcterms:modified>
  <cp:revision>34</cp:revision>
  <dc:subject/>
  <dc:title>PowerPoint Presentation</dc:title>
</cp:coreProperties>
</file>