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AF28-38CF-451B-BD2D-23A3FAC0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0BE-808A-4FE8-83A2-429379F9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11D-C4CF-49B1-89BF-A338E6D6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833-E121-4343-A48A-8FA5E8EE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C4F-1CF8-4259-97E6-EFE50FB8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EBB-A0BA-4285-8807-18DF272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4E4-814D-4F1E-B0E0-906A39E2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BC6-4AD1-42FE-9C7A-751EDBD5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7CD-AB88-4DCE-84FA-E52A67D9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E21-94F3-4F0F-A66C-D5329C96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2C78-DDE0-4079-A480-B717E9DD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3F3-9FB0-4D99-A004-90FFCA28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DDE4-CA39-4F9E-9CAC-E3E33F458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Jesus the Heal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ssed Through Galil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Jesus the heal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sed through Gali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9 Stainer &amp; Bell, L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3200" y="1623960"/>
            <a:ext cx="3195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eter D. Smith, 19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ent woman straight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augh and to shou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The twelve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issio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nt out in tw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ake the sick who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sp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od new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There’s still s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ch sic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uffering tod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ather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aling and pra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af came to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blind came to s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 paralyzed man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down through a roof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ins were for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walking the proof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death of his daugh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used Jairus to weep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took her h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raised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sleep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hen blind Bartimae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ied out to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aith made him who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sight was restore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 lepers were hea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emons cast ou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u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the Healer Passed Through Galil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37Z</dcterms:modified>
  <cp:revision>19</cp:revision>
  <dc:subject/>
  <dc:title>PowerPoint Presentation</dc:title>
</cp:coreProperties>
</file>