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4F6C-0B90-4E0E-AADA-095CAAE5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8E0E-DAED-4C12-84FA-FD43B3B7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652-5E72-4772-8B11-F38457A9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C6A5-8846-49C6-9195-E02F86A9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D69D-5201-454F-8937-16829E22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150-8FAD-4812-9CF9-B40C4372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CF4-BDA9-4909-AF7B-54E27B73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381D-BCE0-4D86-933B-00130C07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44B-5932-4CDC-99A2-B07E804B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3A1-83DE-4876-9F16-9F2DB01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539-B0DD-48A1-AF35-88DD2E9B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DC8-46B7-4514-808C-0C076404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B9B8-68A8-4646-9898-72612AB74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a Song of the Sai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sing a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saints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tient and brav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3840" y="1143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Lesbia Scott, 19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i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joyous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lov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 Jesus’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can meet them in schoo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street, in the st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urch, by the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ouse next d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are saints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ther rich or p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mea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oiled and f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ved and d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ord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d and k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a doct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a que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a shepherd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gr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were all of them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of God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mean, God hel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y loved their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ear, so d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followed the 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Jesus’ s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hole of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lives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a soldi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a pri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e was sl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a fierce wild b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re’s not any r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, not the l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y I shouldn’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one to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y lived not o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ges pa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are hundre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ousand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a Song of the Sai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19:13Z</dcterms:modified>
  <cp:revision>56</cp:revision>
  <dc:subject/>
  <dc:title>PowerPoint Presentation</dc:title>
</cp:coreProperties>
</file>