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0C1-319A-4F93-AD19-1AFE6AC5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1880-7F40-4A92-9CBA-738BF1F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6C8-F34D-4093-8156-B084F618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254-C887-4E73-BA2F-AD1011B5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ACF-58CE-4E7D-AEDF-AE658884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037-0C48-4F85-A72C-7B9B8BA8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1FF-37C8-4998-98AD-F83145A0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7D4-FFA6-477E-A3B6-A8103919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71D-7201-407F-AE6A-CE4213E6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954E-AAFD-41EB-8E34-6829A538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5DEA-57A8-4547-A7EB-5667F6F8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ABD-89DC-41C2-887B-2969E158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AEA-D860-4B5A-80C7-CFC8E476F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, Lord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Do, Lord, do,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do Lord, remember me;</a:t>
            </a:r>
            <a:br>
              <a:rPr sz="49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do, Lord, do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do Lord, remember me;</a:t>
            </a:r>
            <a:br>
              <a:rPr sz="49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 (Lk. 23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ot a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glory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ook Jesus as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ook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’m in trou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I am d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d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, Lord, remember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ing do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h glo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65320"/>
            <a:ext cx="9144000" cy="467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ave merc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ot a home in glory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utshines the sun;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sing the song, childr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, Lord, Remembe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4:58:20Z</dcterms:modified>
  <cp:revision>54</cp:revision>
  <dc:subject/>
  <dc:title>PowerPoint Presentation</dc:title>
</cp:coreProperties>
</file>