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1AB-29FC-470D-BC64-7491400B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6EC-FE4A-4FF0-94A5-CAFC1437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07C-FB72-4A4D-9305-3FC4EEBD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696-D296-4B01-9C21-EBDC1905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E3FD-8CF8-46E0-9C94-F0A44F1E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699F-5DFF-4973-81D8-A06A13CB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824D-9E06-439B-A69D-633DDDE5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82FE-415C-4C7D-A867-DFEEA17A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947-073F-4221-9CE1-DFA0F544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A354-CC73-4D70-B273-956D699C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89F8-0D8F-4E1C-940D-1FB0FE87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96B-A233-4717-A9D9-92CF22B1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7A32-78C4-4FC6-9764-D5C08A715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When Our Confidence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Is Shak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5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n our confid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ha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beliefs w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t secu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5320" y="1600200"/>
            <a:ext cx="3078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Fred Pratt Green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5240" y="1096920"/>
            <a:ext cx="791352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ts sic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ks but cannot find a c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is act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tensi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 faith not yet mat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olar system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oid of mea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ze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s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68040" y="1096920"/>
            <a:ext cx="720792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our researc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ultimate unknow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must die, 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full circ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its source in God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the discipl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ray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t’s hard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3960" y="1101600"/>
            <a:ext cx="71560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drudgery of ca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t’s no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ough to grie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, matu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rns accepta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insights w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od i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us redeem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rucif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Our Confidence is Shak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53920" y="1096920"/>
            <a:ext cx="743652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ternal ans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world’s eternal wh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we in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matu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content to live and di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6:08Z</dcterms:modified>
  <cp:revision>37</cp:revision>
  <dc:subject/>
  <dc:title>PowerPoint Presentation</dc:title>
</cp:coreProperties>
</file>