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1227-BB0D-4270-9BA4-79CED7A0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8257-1713-42FD-837F-6398CA2A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7765-6EB5-436F-824C-2644D37C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73BC-4DED-4A37-9923-8D75B8EB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3277-3C74-43C1-B2C2-9C345BE4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A88A-A263-4933-A88F-3866612C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6F2C-0604-4C16-9003-AE9B986A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14FD-9C49-4D10-AF0D-C244F961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B878-DE4A-4E1F-97FA-B3AF4F70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81A4-65B8-4FA2-B795-8A4CBF8B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B01-33E1-4D06-A0BB-9B2A2010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570C-78FB-46A4-8D63-27661926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5540-3A73-4263-8CA9-9E8BDBE41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re Ye 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“Are ye able,”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id the Mas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“to be crucified with me?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Earl Marlatt, 1926 (Mk. 10:35-4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elieve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 triumph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commend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ul to Go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we are abl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spirits are thin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mold them, mak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ke thee,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guiding radia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bove us shall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beacon t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love, and loyal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Are ye able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the Mast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spers down eternit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eroic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s answ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w as then in Galil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we are abl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spirits are thin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mold them, mak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ke thee,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guiding radia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bove us shall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beacon t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love, and loyal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a,” the sturd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reamers answer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“to the dea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follow the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we are abl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spirits are thin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mold them, mak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ke thee,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guiding radia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bove us shall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beacon t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love, and loyal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Are ye ab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rememb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a thie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ts up his ey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his pardon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ul is wor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a place in paradis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we are abl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spirits are thin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mold them, mak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ke thee,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guiding radia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bove us shall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beacon t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love, and loyal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Are ye ab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shadow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ose around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 s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Ye Ab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15:02:59Z</dcterms:modified>
  <cp:revision>57</cp:revision>
  <dc:subject/>
  <dc:title>PowerPoint Presentation</dc:title>
</cp:coreProperties>
</file>