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F5CC-1DCF-4381-99CC-11F10D13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21E4-0B7B-4844-8D2E-1B9A22B6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B26E-1BB2-404B-8822-20D350E63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CF00-B0CB-4EC4-8682-EA22F857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2FC-B4CF-4081-98D6-2872CF1F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7A8-462D-434B-8C4F-4460FF21E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0CA-6A88-4B95-B78B-959BC291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7A3C-28F4-4492-91F6-69A39A09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8DDD-DC94-4FFA-9C78-0F4DE7B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E3B-E7BC-4DA9-A884-07FDDF86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DF41-EBFB-4A4E-A292-5907B43C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655-2466-4DC0-841F-71FB4232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AA35-D6DE-40F3-849B-31044ADF8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924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Mighty Fortress Is Our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A mighty fortre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our God,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 bulwark never failing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helper he amid the floo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mortal ills prevail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7920" y="1066680"/>
            <a:ext cx="7881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Martin Luther, ca. 1529; trans. by Frederick H. Hedge, 1853 (Ps. 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still our ancient fo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th seek to work us wo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craf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ower are grea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rmed with cruel hat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earth is not his equa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2193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Did we in our ow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trength conf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striving would be los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re not the right ma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 our sid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man of God’s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wn choos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14300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ost ask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y be?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hrist Jesus, it is h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ord Sabaoth, his n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om age to age the sa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he mu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n the battl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9072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And though this wor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devils fill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ould threaten to undo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will not f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God hath will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truth to triumph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u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ince of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Darkness grim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tremble not for him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rage we can endur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lo, his doom is sur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ne little wor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hall fell h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06668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That word abo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earthly powe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 thanks to them, abideth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pirit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gifts are our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rough him wh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 us sideth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Mighty Fortress Is Our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6668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goods and kindred go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mortal life also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body they may k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d’s truth abideth still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is kingdom is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1T15:39:12Z</dcterms:modified>
  <cp:revision>27</cp:revision>
  <dc:subject/>
  <dc:title>PowerPoint Presentation</dc:title>
</cp:coreProperties>
</file>