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C204-8DFF-470F-BCDE-C914552F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0AEF-2B6D-4B87-972F-DE29329F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7E73-A784-4C49-85FE-3A0D3A58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D8B8-8A30-4415-BD87-9FA8F9E82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638E-8B56-4C9F-AB18-2F8375DA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616C-1A0B-4E81-ACC7-49DF37C0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5AA7-7D52-40D6-B63E-42366DC1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1346-8D68-4712-BF61-E6EE39D4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991B-7549-4FEC-B676-1F036A51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4804-BD0B-402F-90EB-4770218A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53E5-41CF-4A93-AEFC-4B868BAD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A622-415B-4F11-B9C7-4A5B6644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ABCE-FC9A-4719-9436-BB01C629D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rist Loves the Chu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Christ loves the churc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grace beyo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measur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bear his na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all the world to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86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Loves the Churc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Brian Wren,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will not l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 go or let us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chooses earth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essels for his treas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Christ bears the churc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rrupted or conform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bsessed with trifl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ing greed and w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Loves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love outwits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inning gold from stra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sai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rophe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ying and reform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Christ feeds the churc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ills us with a vis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p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reach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ne and broken brea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Loves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sharing peop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ing what they’ve sai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w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ld’s respec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opposi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Christ needs the churc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live and tell his st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praise his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arvel at his tru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Loves the Churc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, bathed in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wakened from the du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alk with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ive in grace and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7T15:33:07Z</dcterms:modified>
  <cp:revision>94</cp:revision>
  <dc:subject/>
  <dc:title>PowerPoint Presentation</dc:title>
</cp:coreProperties>
</file>