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F8FA-4F13-48A2-8FCB-5FCC053C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630-4987-4EB8-A825-BCAA84B6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7FB-8F7E-43D0-AF25-C4B32815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DDA-6FF6-4E4F-AE6A-776AFC25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D94-B169-47AC-B5F2-853778E3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A59-4C87-43FC-875E-E6BC2DD5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29FD-DE91-483B-9160-BF49BB29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B16-79C1-4CD9-829C-68B1865A5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B2D-AF30-4376-B73B-E703AD8E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CB89-AC0C-4384-AB11-993DA618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875-878E-42D7-BC5E-F077D717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F94A-5FB7-499B-B0E6-DE5C51BF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3DC-473D-418C-981B-1135AF1AD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or Grace to Lab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828800"/>
            <a:ext cx="8381880" cy="413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things, good Lord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hat we pray for,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give us the grace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to labor fo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me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Grace to Lab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7960" y="1116000"/>
            <a:ext cx="36280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homas More, England, 16th c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1T19:43:28Z</dcterms:modified>
  <cp:revision>24</cp:revision>
  <dc:subject/>
  <dc:title>PowerPoint Presentation</dc:title>
</cp:coreProperties>
</file>