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88D-6C7F-4520-8FAB-E84E84E7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1FF-5061-466B-987A-AD989C9D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BC7-CF8D-4561-ADE5-A3EAD052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533-C9A2-4062-B629-D4BDC0A5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3E75-108C-4797-A5ED-29DBFAA8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9AF-197F-4C81-BEDB-00D6C8FA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16E-39DC-4B47-B0A3-8FC56880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F5A2-684F-4609-909C-3B0224C0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AA9-7019-4F60-9C1C-7A879BA6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F45-28B6-4B5E-AEED-5D0E0E4B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138-FC71-4450-B58E-9533E6E7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0FB-CEEE-42C1-8EDE-855EDD13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9109-442C-402A-96EE-363C12BD2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n the Poor Ones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Cuando El Pobr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. A. Olivar and Miguel Manzano; trans. by George Lockwood (Mt. 25:31-4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943600"/>
            <a:ext cx="914400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71 Ediciones Paulinas; trans. © 1980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When the poor 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o have noth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re with strang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thirs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ter give unto us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7000" y="1295280"/>
            <a:ext cx="750672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When our homes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ed with goo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abund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we learn how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ke peace instead of w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438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7360" y="2057400"/>
            <a:ext cx="558468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each str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m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called a neighb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0666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2193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4160" y="1600200"/>
            <a:ext cx="69793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uando el pob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ada tiene y aun repar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el homb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asa sed y agua nos d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0520" y="2057400"/>
            <a:ext cx="42786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el d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éb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su herman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tale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4479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9000" y="1447920"/>
            <a:ext cx="637596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Cuando sufre u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mbre y log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u consuel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espera 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se cansa de esper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11120" y="2057400"/>
            <a:ext cx="47376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amamo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unque el odi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s rod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175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295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69800" y="1371600"/>
            <a:ext cx="622044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uando cre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a alegría 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s inunda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dicen nuestr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abios la verd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1337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86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cripp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ir wea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ngthen othe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920" y="2209680"/>
            <a:ext cx="600552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amamos 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tir de los sencillos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4479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4040" y="990720"/>
            <a:ext cx="53028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Cuando abund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l bie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llena los hogar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un homb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onde hay guer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one paz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69440" y="2362320"/>
            <a:ext cx="646704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“hermano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 llamamos al extra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981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Pobre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193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38680" y="1143000"/>
            <a:ext cx="64872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When at last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se who suff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nd their comfo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y hope th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n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ems hopeles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3623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98040" y="2057400"/>
            <a:ext cx="5850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love th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e at tim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ms all around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952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193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88560" y="1371600"/>
            <a:ext cx="711936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When our joy fi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cu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overflow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our lips can sp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words other than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0574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6800" y="2057400"/>
            <a:ext cx="667908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know that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simple t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et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193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952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Poor Ones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0:18Z</dcterms:modified>
  <cp:revision>147</cp:revision>
  <dc:subject/>
  <dc:title>PowerPoint Presentation</dc:title>
</cp:coreProperties>
</file>