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94D6-1952-4E83-8FAA-AAFCC0AD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FA9-1334-47B6-A4DB-F0FE9C6D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D99-553C-42B7-85F2-72266307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E7D-06EB-40AA-A9D3-B167245F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899-72A4-4798-B777-67F20BAA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F00-5E56-441A-9064-360D3A5F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D7F-BFC6-4620-BEF6-A6EFB6E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0FE-4D46-4B1E-B845-556AE603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D978-5CDA-43B0-B367-9F8B6C1F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143-414A-4811-8F5E-DF1B8AD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F9B-82BD-4855-AB3B-2AD254A3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170A-1E5C-4585-8886-7119C68B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E647-24F6-4C37-857B-A6A3876E5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al Me, Hands of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al me, hand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arch out all my p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 my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move my f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2 Jubilate Hymns, Lt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9440" y="1192320"/>
            <a:ext cx="3158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ichael Perry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leans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ood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ake bitterness aw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one for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to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Know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d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w me all my s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pel the memories of gui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me peac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ill me, joy of Jes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xiety shall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ave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enity be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esus brings me pea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l Me, Hands of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06:50Z</dcterms:modified>
  <cp:revision>25</cp:revision>
  <dc:subject/>
  <dc:title>PowerPoint Presentation</dc:title>
</cp:coreProperties>
</file>