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952-EB39-48EF-99D3-6291AAAF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C3B-000D-461D-91B9-AF2E0D51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820-BE11-42C0-922C-73E3DC78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EE4-77A7-43C4-A4D5-A914D02A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24D-B0EC-48B9-8EBF-27BB18F8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B712-5646-47EA-AB11-3003F24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29C-9258-4D7B-B667-D19D60D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AB2-C5A2-41AB-BF3A-8982D10E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499-8F33-4664-B3AC-55AC61D0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2CA-B65A-4B24-99C9-4377121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2C5-B7EE-454E-94A4-F477FF83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BE0-D3A1-488B-ABBA-49E386B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04B9-48AC-41E1-AFFC-1BE417394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the Si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Si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ccff"/>
                </a:solidFill>
                <a:latin typeface="Times New Roman"/>
              </a:rPr>
              <a:t>The Book of Common Prayer; </a:t>
            </a: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alt. by Laurence Hull Stoo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676520"/>
            <a:ext cx="8267760" cy="458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 of compassio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source of life and health: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strengthen and relie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ervant(s),</a:t>
            </a:r>
            <a:br>
              <a:rPr sz="4800"/>
            </a:b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Name(s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455760"/>
            <a:ext cx="853452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give your power of healing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those who minist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o </a:t>
            </a:r>
            <a:r>
              <a:rPr b="0" i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ir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nee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at those for whom our prayer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re offer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may find help in weakn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have confiden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in your loving car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003320"/>
            <a:ext cx="853452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rough him wh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healed the sic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and is the physicia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our soul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ven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5:50:27Z</dcterms:modified>
  <cp:revision>152</cp:revision>
  <dc:subject/>
  <dc:title>PowerPoint Presentation</dc:title>
</cp:coreProperties>
</file>