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40E9-7204-4980-B746-66B5FD622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48AC-BE22-496A-80D2-85866C16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5B8F-9A57-4531-BF34-8C035B69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FC45-974D-4B0A-9FC0-A426495F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1214-3BC3-4A6C-B98F-C6904035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05B9-4546-477C-A7FE-D9D04130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6ADE-0C16-4131-99EF-808129E0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AB69-B39B-42F3-B84A-2E683CFB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5FA4-6760-4B76-8450-1A0D7A47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13BB-2FBE-4B84-A7BE-2B085DE2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682D-ECCA-4BD8-9972-81EA9ADB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2E15-D30D-4DE6-AF23-7766D1A0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9A96-11CC-4FD3-9BF6-BB2FCF5CE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ank You, Lo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0120" y="304920"/>
            <a:ext cx="15238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8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133720"/>
            <a:ext cx="9144000" cy="3902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nk you,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nk you,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nk you, Lord.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I just want to</a:t>
            </a:r>
            <a:br>
              <a:rPr sz="5000"/>
            </a:br>
            <a:r>
              <a:rPr b="1" lang="en-US" sz="5000" spc="-1" strike="noStrike">
                <a:solidFill>
                  <a:srgbClr val="ffffff"/>
                </a:solidFill>
                <a:latin typeface="Times New Roman"/>
                <a:ea typeface="Arial"/>
              </a:rPr>
              <a:t>thank you, Lord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 You, L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43000"/>
            <a:ext cx="914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ORDS: Tr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52:00Z</dcterms:modified>
  <cp:revision>30</cp:revision>
  <dc:subject/>
  <dc:title>PowerPoint Presentation</dc:title>
</cp:coreProperties>
</file>