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995-494F-4032-B2F8-7B2C10DC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BA4-DC8C-44F2-8F58-57C85EFE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EB4-E57D-4F45-A6BA-965EE33E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5782-AFF9-4D94-A55B-DAF542D6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7E1-68AC-431A-A609-21E73A2E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346-3509-4994-9A00-141D216A9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431-9154-46E6-A378-E7463435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2C8-5A9A-484D-917F-38AB699D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5FF-F963-48F3-A9D2-386929E2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A60-46C9-4681-860A-126F1956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4447-065E-4FD1-93EB-AC632AA6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6F1-83F8-46B9-BB95-6D4E85E8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055E-FEE0-4246-BC1F-96CA12120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ad On, O King Eter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a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 has c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nceforth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elds of conqu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tents shall be our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Ernest W. Shurtleff, 18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d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prepar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race h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us stro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ow, O King etern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lift our battle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sin’s fier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r shall cea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liness shall whisp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weet amen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t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ords loud cla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roll of stirring drum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deed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kingdom com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ead on, O King etern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llow, not with fe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ladness brea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’er thy face app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On, O King Etern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cross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ed o’er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journey in its l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own awa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onque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d on, O God of m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00:19Z</dcterms:modified>
  <cp:revision>85</cp:revision>
  <dc:subject/>
  <dc:title>PowerPoint Presentation</dc:title>
</cp:coreProperties>
</file>