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3948-5728-4D5C-97FB-92A2F0411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340F-C0E9-4F72-A024-727A98CCA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1E2F-A3D3-4D21-BCF9-0D67F08C4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8597-394B-4E16-8414-13F5F3289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CFF4-52A5-4EA7-BC92-5D5E9C221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9409-E201-43F0-A859-748B87F9C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F95A-0D62-461A-83B5-085B789D2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A6B8-FD09-43C9-A44B-4089BA7EE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38E0-0694-4CEA-9913-5CBA1475A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D9E3-4245-4F2C-A3C9-5F5B8A36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0E69-A3AD-4F97-80E0-CD57FE7F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2F48-C0D9-4088-951F-859EDD58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894CB-3750-445F-9EFE-5E9A6D3B00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hom Shall I Sen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58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8108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Whom shall I send?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Maker crie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many, wh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y hear God’s voic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© 1971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m Shall I Se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Fred Pratt Green, 1970 (Is. 6: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re sure where thei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vocation lie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t many shrink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such a choi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For who can ser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God so pu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r claim to speak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such a na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m Shall I Se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ile doubt mak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y step unsu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elf confus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y aim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6230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And yet, believ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who call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knows what we a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till may b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m Shall I Se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past defeat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future fall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dare to answer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, send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Those who are call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purifi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daily giv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s strength to bend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m Shall I Se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thoughts, our skill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energi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life itsel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is one 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29:22Z</dcterms:modified>
  <cp:revision>87</cp:revision>
  <dc:subject/>
  <dc:title>PowerPoint Presentation</dc:title>
</cp:coreProperties>
</file>