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B44-6025-492D-8373-E7F431F3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C51-AA6B-4AAA-9B40-4602EE281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D9A-E0C2-4330-A587-D88973A0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395-FC59-4729-9289-9FB0379E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504-D119-4FE0-B3A4-3345043C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405-DDF4-4ED1-A3E7-F319D5B3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9FD-67AC-4AD4-BD18-BCAE2BF8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987B-18FF-48B1-B712-CEA20655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C4CA-AF4F-4224-B472-38746957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6E9-A452-4D1C-AA58-2D773404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7F4-E92B-4478-A3AC-4DDDAD1C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1FC-AADB-4904-A6A3-C4889AF5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F625-37FC-47F3-BA32-1CADA7E69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o the Lord’s Anoin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Hail to the Lord’s Anoint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reat David’s greater Son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il in the time appointed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reign on earth beg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0960" y="1028880"/>
            <a:ext cx="4472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James Montgomery, 1821 (Ps. 7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comes to break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ppression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set the captive fre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ake away transgression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rule in equ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He comes wi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uccor speed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those who suffer wrong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help the poo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needy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bid the weak be str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o give them song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or sigh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ir darkness turn to light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hose soul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ondemned and dy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re precious in his s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He shall come dow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ike shower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pon the fruitful earth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ove, joy, and hop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ike flower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pring in his path to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efore him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n the mountain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all peace, the herald, go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righteousnes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n fountain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rom hill to valley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To him sha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rayer unceasing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daily vows ascen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kingdom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till increas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 kingdom without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o the Lord’s Anoint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e tide of tim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all nev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covenant remov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name shall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tand forever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at name to us 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15:02:44Z</dcterms:modified>
  <cp:revision>52</cp:revision>
  <dc:subject/>
  <dc:title>PowerPoint Presentation</dc:title>
</cp:coreProperties>
</file>