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13E-09AC-4AD4-8B69-C2A726E6D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6EB1-57BE-40E7-AEB9-900DD18E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B612-E169-4DCE-BD6F-1F814312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BF3-9131-4293-AE05-03E5850F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3BD-C86F-4F60-A8BA-6295BDA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C9B-B4C4-4CC4-B510-E5F37EAD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5B7C-3B3B-43DB-84D4-E1805B7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ECE-A729-4D7F-8DFA-5072DB10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70A-FB3E-4DCE-A121-20B50A45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3E5-7A86-47F3-B20E-FCE23C6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3DA-E042-43C7-89E7-DF142ED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24D-4C31-40BE-B3F8-43354316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3C09-D9BB-4822-BCDB-73B3AB9A2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 the Morning Sun A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 the mo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un ascend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adiant in the eastern sk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the ange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voices ble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ir praise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0200" y="1066680"/>
            <a:ext cx="4990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Parkin, 1953 (Rev. 5:11-14; 7:11-12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So may w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owly st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in the choristers ab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 wi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ising thee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grea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For th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vingkindness ev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ed upon our earthly wa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merc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blessing day by d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al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“Wisdom, hono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ower, and blessing!”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 angelic host we cr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ound thy thron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name conf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we wou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the Morning Sun A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ory be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45Z</dcterms:modified>
  <cp:revision>12</cp:revision>
  <dc:subject/>
  <dc:title>PowerPoint Presentation</dc:title>
</cp:coreProperties>
</file>