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1458-FD85-40C9-8EDC-0E744C56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958-242B-4C6D-AA1A-177CD1F3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1D7-40F0-44F5-88EC-76FA0AFE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6D1B-6C67-4EA8-A8DF-66AB77C11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F9B-067A-46B1-890C-222DE1C8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8710-0829-4804-B94D-E155E76D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5AE8-B4CC-4910-A23C-7907C7C3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362-223E-43BF-803E-9A739A10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30E8-9039-4F81-921D-FC71DECE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D8B-8A53-43D6-AC87-A2897F7A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9EA-4C54-4F6A-97FA-6792B00B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DFC2-8821-4857-B7EF-410D4D78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71E3-4DF5-434C-8DAF-AAE0A27BC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gels We Hav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ard on Hi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ngels we h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d on hi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eetly sing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the plai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4480" y="1676520"/>
            <a:ext cx="7418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French carol; trans.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Crown of Jesus,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1862, alt. (Lk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ee him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anger l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the choi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ngels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y, Josep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nd your 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ove we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mounta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rep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choing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ous stra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hepher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y this jubile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y your joy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ains prol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the glads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inspire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song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thlehem and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whose bi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gels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ad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bended kn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 - - - - - ri – a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xcelsis De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We Have Heard on Hig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1:25:18Z</dcterms:modified>
  <cp:revision>13</cp:revision>
  <dc:subject/>
  <dc:title>PowerPoint Presentation</dc:title>
</cp:coreProperties>
</file>