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73C-73B3-4C0A-A012-56B7E276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24B-DBF5-46AF-9DEA-77BA1B8B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15C-B299-43B0-BF96-8A1E214F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A647-A1B8-4FE9-B31C-FFAE2D01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2AF-8C06-48FF-B935-CF2E9AFB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048-8E49-4E8D-B062-F9790296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7D1-FFEB-4ADC-8861-21ED7691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9B24-414E-44D4-B833-D60D2724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ECDC-67D7-4BD2-AF9D-79A94F55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AB0-C0ED-4B62-B9E2-F2A8EF4B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55C-B5CC-4A91-8F73-D06801CA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E2D-4D77-4F7B-B1D5-56366861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4BA-6675-4D4A-B8C2-8070E1D5D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Christians, Join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Christians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join to sing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oud praise to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our King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9520" y="863640"/>
            <a:ext cx="4764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ristian Henry Bateman, 18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rt and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his throne rej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is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choic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Come, lift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ts on hig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 the sk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our gu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ri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us he’ll condesc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love shall never en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Praise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agai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shall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d the strai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Christians, Join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issful sh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goodness we’ll ad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ing forevermor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9:20Z</dcterms:modified>
  <cp:revision>20</cp:revision>
  <dc:subject/>
  <dc:title>PowerPoint Presentation</dc:title>
</cp:coreProperties>
</file>