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2D0-EC22-462A-8FB5-235E4846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EF3C-9EE4-415E-ADAE-1CA90D4B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C3A-36AF-4752-9982-E7F15630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5469-9508-40E9-A1D3-85214903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C17-BEF5-467A-8C92-7EB28500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77F-C882-47C7-BFE5-769A43C2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9E3-D76F-46A4-90E6-849D60F0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85DC-C03E-4185-8D73-0A2F60FD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C07-CC28-40A8-818F-DE992741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81F7-91E3-4E88-8E4F-7A7152E6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A65-CF54-4A1C-9C8D-4DF9A37B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3A1E-16CA-42CA-95B7-22CCC268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826E-566A-4014-9536-67FF10F27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Is He in Yonder 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nder st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whose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hepherds fall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2600" y="1092240"/>
            <a:ext cx="4107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enjamin R. Hanby, 18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rom the g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s to h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p and sa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from yon thr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les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light alo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o, at mid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ys in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ethseman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o is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Calvary’s thr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ks for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foes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860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wondrous stor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’T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King of glor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He in Yonder Sta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umbly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9:15Z</dcterms:modified>
  <cp:revision>44</cp:revision>
  <dc:subject/>
  <dc:title>PowerPoint Presentation</dc:title>
</cp:coreProperties>
</file>