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311-3923-4F14-AB76-D07A3D59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C0A-0523-44B2-92D6-9F59D8CE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F31-E8D6-4DC0-AA8E-D4FC777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B00-3260-4253-8C2E-57062F52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B97-469F-4133-8D40-5D0E4441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B86-88CF-415E-B415-CF5420B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352-8B12-4D60-9135-D36D2BED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321-1775-4E38-8244-5C276D42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82B-0306-481D-86EA-79B56EBD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DA36-FD1E-4B61-B279-AE3E41EC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F1F-C738-4882-B8E4-E7D146C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F73-560D-4672-A127-FE28596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16A-ACB6-45D2-B555-C741E6617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Little Light of M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frican American spiritual (Mt. 5:14-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little light of m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where I g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ittle Light of Mine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m goin’a let it sh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, let it s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it shine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(let it shine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30Z</dcterms:modified>
  <cp:revision>91</cp:revision>
  <dc:subject/>
  <dc:title>PowerPoint Presentation</dc:title>
</cp:coreProperties>
</file>