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A41-DADF-4F5A-A54D-8CE070FA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8DB-4C2B-4533-94B5-CAC3CF8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A1B-C65E-46BD-9B5D-DC79A72D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033-99EA-4A90-9A5F-911FDAF2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7F5-BF23-402B-B6F4-D3A762FA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370-84DF-49CC-9752-87E50ADE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876-742D-4F6F-9ABB-9547F9C9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9D0-39A2-4707-BA6C-AFDA505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86B-CA5C-4E0C-8449-494485E1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A86-F9A5-40E4-98B7-22320F7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461-C640-4F1A-9F4A-2A568108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4DD-5ADA-48C3-B66A-1161A8CA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D548-B7A0-4665-B4E8-BB08105CE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Ye Faithful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aise the St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n of Damascus; trans. by John Mason Neale, 1859 (Ex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 ye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aise the st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riumphant gladness;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God hath brought forth Isra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to joy from sadn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” with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Father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Alleluia!” yet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pirit ra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sed from Pharaoh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tter yo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acob’s sons and daugh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d the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moistened fo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Red Seas wa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’Tis the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ouls to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hath burst his pri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om three days’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 in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a sun hath ris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winter of our s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 and dark, is fl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i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we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ud and praise und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w the que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sons,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day of sple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roy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 of fea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its joy to rend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o glad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th true affe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come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wearied str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either migh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es of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e tomb’s dark p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e watc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e s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thee as a m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oday am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wel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didst stand, best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y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eth human kn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“Alleluia!” now we c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King im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,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rst the b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tomb’s dark port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Faithful, Raise The Str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25:49Z</dcterms:modified>
  <cp:revision>72</cp:revision>
  <dc:subject/>
  <dc:title>PowerPoint Presentation</dc:title>
</cp:coreProperties>
</file>