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19B0-D4FD-4901-854E-232A53849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D14A-34BE-4C16-A4BE-5273FC38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37DB-7449-4408-BD92-BBE63AB2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680-91B3-4D7F-9F11-D11B6E9E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4BE-964E-40D2-A193-F41F64773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D0FD-EFE5-4933-9B3A-E37EA524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356-A5F4-4C05-97F4-6C19C457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E76-1E3C-4CA7-AEBB-8123921E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EF4-89CB-4ABE-846E-DABD21E7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0B71-A1C2-40B9-B21B-51002659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F61-FCB6-4404-B8BC-98F86531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2E14-A87F-4609-A39E-C53647C3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CE6D-F537-4EBC-B3DD-EA1A89213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Thou Almighty King</a:t>
            </a:r>
            <a:br>
              <a:rPr sz="4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n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95280"/>
            <a:ext cx="9144000" cy="5212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1. Come, thou almighty King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lp us thy name to sing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elp us to prais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Father all glorio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o’er all victorio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ome and reign over us,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cient of Day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Almighty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ome, thou incarnate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rd on thy mighty s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prayer atten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and thy people b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ive thy word succes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 of holi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us desce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Almighty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, holy Comfor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acred witness b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is glad hou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who almighty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rule in every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e’er from us dep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 of powe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Almighty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o thee, great One in Th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praises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nce, evermor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overeign majes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we in glory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etern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and ado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Thou Almighty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3:45Z</dcterms:modified>
  <cp:revision>9</cp:revision>
  <dc:subject/>
  <dc:title>PowerPoint Presentation</dc:title>
</cp:coreProperties>
</file>