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B047-1436-4F94-9877-58166738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668-4726-4A68-89A6-7E6FB6D5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809-7D92-4758-90F7-774F61B5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1E3C-64AE-4148-8E45-DDF584DC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3D7-935C-4C51-B1A3-593B7E0A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F8B-1909-40B6-A67E-CB088B23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920-E768-4206-A2B9-C7230C9F9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3B76-AD1B-42C1-AF88-4BE6C1A6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EAC-4CF7-4718-A279-1C40D99D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85F-7E10-4E33-89A8-F4704910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8BB-9CB3-4EF1-8834-A67CF5C7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B82-46CF-4FBE-A45F-C4002FB3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60A2-26C2-4EA0-BA92-77486EC79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 Is the World’s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97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Christ is the world’s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and none oth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orn in our dark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became our bro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© 1969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71560" y="1092240"/>
            <a:ext cx="3829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Fred Pratt Green, 19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038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f we have see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have seen the Father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Christ is the world’s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and none oth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 one can serve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despise ano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4038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else unites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e in God the Father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Christ is the world’s l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and none oth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ld once for sil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urdered 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ur bro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, who redeems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igns with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Father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Give God the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 and none oth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God the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pirit, Son, and Fath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the World’s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God the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 with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brother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to God on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4:36:29Z</dcterms:modified>
  <cp:revision>42</cp:revision>
  <dc:subject/>
  <dc:title>PowerPoint Presentation</dc:title>
</cp:coreProperties>
</file>