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947-A8AA-4203-AEDC-3BE72C33F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2D7F-8F73-4DC1-802C-5AB6CCE87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E50-C07C-47CE-8A2B-5537517D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E6E-F8F1-4033-9B18-19C5294B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319-250D-40FB-A351-8E2427E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716A-ACF2-4370-B2EE-14868B3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D00-DF98-48A9-87C2-42A6432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BB15-5059-46F2-BC45-4F031081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151-11ED-4077-9FFB-93C1EB01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52F-FD89-429B-88BE-BA2788B4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EE0-4374-43EC-9C95-55A7E6E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9E5-2FCA-4AA6-9467-D17B1BB6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A564-A5DD-4CB6-B1A9-B1B83D701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bread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ine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pou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ouis F. Benson, 192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y this p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 do l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gif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resto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ith our sai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s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ted 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aiting for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your serv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fe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watch and wa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07:43Z</dcterms:modified>
  <cp:revision>119</cp:revision>
  <dc:subject/>
  <dc:title>PowerPoint Presentation</dc:title>
</cp:coreProperties>
</file>