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AE65-3FB9-45C2-8CA6-F4D5B4BC7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4771-9F22-4059-BC40-5D8806C6C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5C82-F586-4F7E-9F57-110B8C067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32DA-78AC-4CED-9466-BAA38B797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19A0-1912-4D3C-BF86-9FBBADD5B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0A29-C53F-4AB3-A0BC-E1CDCE561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F897-6833-4266-926A-DA3FD4D66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C769-8E53-473E-B0B5-A75B19D6F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6E9C-4672-434C-81CA-0A9B12CBA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45BA-8707-4BAD-8E33-9525E415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E209-691E-455A-ACC6-45310E04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49BD-D59B-42C7-8680-7A38DE35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2AC4C-645F-4E45-8D4E-F31348D5E4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ise to Greet the Su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13372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1.</a:t>
            </a:r>
            <a:r>
              <a:rPr b="0" i="1" lang="en-US" sz="40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Rise to greet the sun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reddening in the sky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arrior-like and strong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comely as a groom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66"/>
                </a:solidFill>
                <a:latin typeface="Times New Roman"/>
              </a:rPr>
              <a:t>Trans. 1965 © Bliss Wi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se to Greet the Su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4480" y="1066680"/>
            <a:ext cx="7489800" cy="368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Tzu-ch’en, Chao, 1931; trans. by Mildred A. Wiant and Bliss Wiant, 1946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842240" y="228600"/>
            <a:ext cx="12952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7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birds pass high in flight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fragrant flowers now bloom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ith gracious light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I my toil resu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2. Father, I implore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afely keep this child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make my conduct good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ctions calm and mild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se to Greet the Su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venerating age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humbly teaching youth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lways serving thee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haring thy rich tru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3. May this day be blest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rusting Jesus’ love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my heart’s freed from ill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fair blue sky’s ab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se to Greet the Su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lad for cotton coat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plain food satisfies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ll my countless need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y kind hand suppli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6:38Z</dcterms:modified>
  <cp:revision>14</cp:revision>
  <dc:subject/>
  <dc:title>PowerPoint Presentation</dc:title>
</cp:coreProperties>
</file>