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99C-0BCD-4CD6-A4A6-F9EA9E41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7B46-072A-4931-A466-79458126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7E7-8728-4FF5-B982-0B4FDDD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918-E6DC-4A54-9027-DB117CC0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462-4168-4188-908D-F543EAD8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721-6D0F-435F-B38B-1C398578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583-826D-4BBB-AC45-068AB8CF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2C4-1994-48B4-AD2F-032C0302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256-56DC-4C5A-ACDC-1B26161E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E87-197D-4A54-B117-AACA103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3D0-D0B0-4AD0-898B-D573B03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E2B-1E38-4433-BEFD-E625FBE6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0732-DEEA-4C38-B484-C620E8762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, Who Stretched th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angled Heav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2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d, who stret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pangled heave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finite in time and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7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0960" y="1776240"/>
            <a:ext cx="3701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therine Cameron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nown the ecstas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w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untrave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alms of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bed the secr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at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iel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magined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cin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life’s destru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our 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a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s each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rizon beck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it challen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s ane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ve purpo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rving o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noring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our d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ve rich with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ch endeav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ll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us gui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our go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yours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ung the sun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rning radia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sil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elds of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your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like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re invent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s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Creator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reat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w us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yet may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Proudly ris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dern cit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tely buil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w on r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their win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ank, unfee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e on cany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ee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 lon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ft unnotic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it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bb and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to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o mea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arcely c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the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have vent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s undreame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ce the childh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 Stretched the Spangled Heave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8:10:06Z</dcterms:modified>
  <cp:revision>13</cp:revision>
  <dc:subject/>
  <dc:title>PowerPoint Presentation</dc:title>
</cp:coreProperties>
</file>