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4B7-0F9B-4818-94A1-8B702B5F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515-34C6-4D7A-9C5D-3A40C96D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557-73FA-4540-B07A-C80D99C8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60D-73F5-4B3D-843D-03E331AC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247-2324-4F7F-BE88-70BC7583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0D6-98B7-4865-BD6B-7BDC58AD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0ED-0FBC-4965-9ED7-40654729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C12-3427-4E3F-94AC-C3C7335B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15B5-1E22-4E0C-BD16-CD060D48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61B-88B9-4FA7-8C8C-8CDBD674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D990-21A7-4F43-8FA7-A3A8AD08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43D-BC9E-42EE-A160-687DDEF2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57A6-7552-4515-BBB0-949CCA72C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ace Greater than Our S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Marvelous grac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loving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excee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in and our guil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0720" y="1066680"/>
            <a:ext cx="4176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ulia H. Johnston, 1911 (Rom. 5: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! There is flo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crimson t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er than s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can b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Marvelous, infini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tchles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ly bestow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all who belie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that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nging to see his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you this mo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grace recei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nder on Calvary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unt outpour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whe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 of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mb was spi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in and despair, lik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a waves c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eaten the so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infinite l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is grea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s, grace unt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int to the refu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ighty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,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ha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er th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ur s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Dark is the st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cannot hid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can ava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sh it a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e Greater than Our S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4:59Z</dcterms:modified>
  <cp:revision>15</cp:revision>
  <dc:subject/>
  <dc:title>PowerPoint Presentation</dc:title>
</cp:coreProperties>
</file>