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F05-7DC2-44B5-A628-585EDAEA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FA4D-AC07-4124-815B-FE3F3D92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06E-7285-4C52-BD95-B64297AA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0A5-96DB-448E-8A82-E773F433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2C09-930D-4103-811E-081B2B47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96D-A788-409E-B5BB-BCF3DE1F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4EB-16A3-40E9-8E6D-E3654428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757-4436-4B6B-97B7-C8921A99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876-B131-41A7-933E-2310869D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6C1-A0D4-49F9-B0A1-0AA39FF2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528F-E0E7-4261-9086-12C0C0D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209-22AA-4100-B5D5-6F448CFE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4464-513F-4861-8F15-83A9DBAE4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ne Be the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Edmond L. Budry, 1904; trans. by R. Birch Hoyle, 192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95480"/>
            <a:ext cx="9144000" cy="351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Thine be the glo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Trans. by permission of The World Student Christian Fed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gels in bright raimen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olled the stone awa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kept the folded grave-cloth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ere thy body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0574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Lo! Jesus meets th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isen from the tomb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ingly he greets th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catters fear and glo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the church with gladnes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ymns of triumph s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or our Lord now liveth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hath lost its st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No more we doubt the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lorious Prince of life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is naugh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thout the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id us in our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ke us mo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n conqueror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rough thy deathless lo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ring us safe through Jorda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thy hom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9051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ine be the glo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isen, conquering Son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dless is the victor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ou o’er death hast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ne Be The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09Z</dcterms:modified>
  <cp:revision>64</cp:revision>
  <dc:subject/>
  <dc:title>PowerPoint Presentation</dc:title>
</cp:coreProperties>
</file>