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DCC9-D10E-45B5-A58E-EFEF232A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5F4-2991-4382-8234-4E54A97E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3F02-C3C8-4236-A3B7-381D3DAB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FBF-9E15-4564-978C-9BE27F7B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17A-C4DC-47D2-AD4F-AE7030B1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EEE-6F64-467E-B2F2-D0E0F3BD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B53-60DD-4515-84BE-1D842055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90D-1069-4A56-9369-4A246C59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479-DC82-4782-8F18-CDF3A999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863-4BB6-4035-92D3-4B497EDB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4621-B841-4D34-B06B-CA8E35D5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7135-5695-44A1-99EB-124F259D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2F7C-301E-4992-81B0-EEF299002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Marching to Zion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Come, we that love the Lor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 let our joys be known;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join in a song with sweet accord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join in a song with sweet accor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9680" y="1066680"/>
            <a:ext cx="53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Isaac Watts, 1707; refrain by Robert Lowry; 18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28800"/>
            <a:ext cx="9144000" cy="528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walk     the   gold - en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walk  the  golden  streets, t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eets,     or </a:t>
            </a:r>
            <a:br>
              <a:rPr sz="5000"/>
            </a:br>
            <a:r>
              <a:rPr b="0" lang="en-US" sz="5000" spc="-1" strike="noStrike" baseline="30000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walk            th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 the  golden street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gold        -       en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stree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36232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iful, beautiful Z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971800"/>
            <a:ext cx="9144000" cy="320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Zion,  Zion,</a:t>
            </a:r>
            <a:br>
              <a:rPr sz="48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city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n let our songs ab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very tear be d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mmanuel’s gr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mmanuel’s grou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28800"/>
            <a:ext cx="9144000" cy="526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air  -  er    worlds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fair - er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worlds   on high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high, to fairer</a:t>
            </a:r>
            <a:br>
              <a:rPr sz="5000"/>
            </a:br>
            <a:r>
              <a:rPr b="0" lang="en-US" sz="5400" spc="-1" strike="noStrike" baseline="16000">
                <a:solidFill>
                  <a:srgbClr val="ffffff"/>
                </a:solidFill>
                <a:latin typeface="Times New Roman"/>
              </a:rPr>
              <a:t>to      fair    -  er   worlds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s   on  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baseline="18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 baseline="18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000" spc="-1" strike="noStrike" baseline="18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ffffff"/>
                </a:solidFill>
                <a:latin typeface="Times New Roman"/>
              </a:rPr>
              <a:t>on  </a:t>
            </a:r>
            <a:r>
              <a:rPr b="0" lang="en-US" sz="5400" spc="-1" strike="noStrike" baseline="18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18000">
                <a:solidFill>
                  <a:srgbClr val="ffffff"/>
                </a:solidFill>
                <a:latin typeface="Times New Roman"/>
              </a:rPr>
              <a:t>high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25146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iful, beautiful Z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2971800"/>
            <a:ext cx="9144000" cy="320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Zion,  Zion,</a:t>
            </a:r>
            <a:br>
              <a:rPr sz="48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city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527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us   sur - round</a:t>
            </a:r>
            <a:br>
              <a:rPr sz="5000"/>
            </a:b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thus surround the thron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hrone, and thus</a:t>
            </a:r>
            <a:br>
              <a:rPr sz="5000"/>
            </a:b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and      thus           sur - roun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rround the thron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the                 thron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36232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iful, beautiful Z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971800"/>
            <a:ext cx="9144000" cy="320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Zion,  Zion,</a:t>
            </a:r>
            <a:br>
              <a:rPr sz="48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city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10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Let those refuse to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never knew our Go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childre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King m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981080"/>
            <a:ext cx="9144000" cy="53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ak their joy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 baseline="18000">
                <a:solidFill>
                  <a:srgbClr val="ffffff"/>
                </a:solidFill>
                <a:latin typeface="Times New Roman"/>
              </a:rPr>
              <a:t>speak  their  joys abroad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road may speak</a:t>
            </a:r>
            <a:br>
              <a:rPr sz="5000"/>
            </a:br>
            <a:r>
              <a:rPr b="0" lang="en-US" sz="5400" spc="-1" strike="noStrike" baseline="20000">
                <a:solidFill>
                  <a:srgbClr val="ffffff"/>
                </a:solidFill>
                <a:latin typeface="Times New Roman"/>
              </a:rPr>
              <a:t>may  speak   their       joys</a:t>
            </a:r>
            <a:r>
              <a:rPr b="0" lang="en-US" sz="5000" spc="-1" strike="noStrike" baseline="20000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joys abroa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5400" spc="-1" strike="noStrike" baseline="4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5400" spc="-1" strike="noStrike" baseline="4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 baseline="40000">
                <a:solidFill>
                  <a:srgbClr val="ffffff"/>
                </a:solidFill>
                <a:latin typeface="Times New Roman"/>
              </a:rPr>
              <a:t>broa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 to Z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utiful, beautiful Z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971800"/>
            <a:ext cx="9144000" cy="320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re marc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ward to Zi - 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Zion,  Zion,</a:t>
            </a:r>
            <a:br>
              <a:rPr sz="48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eautiful city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hill of Zion yiel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housand sacred swee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fiel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fore we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ly fiel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ching to Z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9:28Z</dcterms:modified>
  <cp:revision>56</cp:revision>
  <dc:subject/>
  <dc:title>PowerPoint Presentation</dc:title>
</cp:coreProperties>
</file>