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8959-7790-49D8-8F2E-24A6F157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F4F-02CC-4912-A040-1F85DA49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9427-2E19-4558-BD28-3EE7D9BD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4C7-A8C7-4C90-92E7-9E7D2FEA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184-D1FB-4B7D-8237-8FFA7686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085C-C545-4F24-BFD4-37EDBAA0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D35-26C4-4118-83EF-F497EC2F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23FA-72AF-4600-9D82-F21CF591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D7DB-7F69-4A1B-B0ED-2A5EA7AA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A64-53AA-4B6A-BAAF-70E68691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199-72D8-4235-ADD8-71634AEB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62F-EDBA-41EF-BCFA-2DB0E940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7EEF-D836-45C7-9768-7A3FB3E54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Child of Blessing,</a:t>
            </a:r>
            <a:br>
              <a:rPr sz="4000"/>
            </a:br>
            <a:r>
              <a:rPr b="1" lang="en-US" sz="4000" spc="-1" strike="noStrike">
                <a:solidFill>
                  <a:srgbClr val="ccccff"/>
                </a:solidFill>
                <a:latin typeface="Times New Roman"/>
              </a:rPr>
              <a:t>Child of Prom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6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1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1. Child of blessing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child of promise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baptized with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the Spirit’s sign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81 Ronald S. Cole-Tu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Times New Roman"/>
              </a:rPr>
              <a:t>WORDS: Ronald S. Cole-Turner, 19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is wa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as sealed y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o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c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hild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ve’s express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’s cre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d inde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esh from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fresh our spiri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joy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ughter l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hild of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dearest tr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you 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God you c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ack to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umbly give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e as 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bears Christ’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Child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ving Par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rn to kn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child you 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of Blessing, Child of Prom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90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ow to la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g and worshi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st and love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e than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46:23Z</dcterms:modified>
  <cp:revision>112</cp:revision>
  <dc:subject/>
  <dc:title>PowerPoint Presentation</dc:title>
</cp:coreProperties>
</file>