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BCB-991E-4E65-AF55-A69C672C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4154-4167-453F-9582-098B71AD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2CF6-571F-4728-82BF-0C84F468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2C4-FE56-4AB9-ACDD-88700598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18A-F885-47CB-AB5B-C05A55B3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1058-7042-41C8-8194-9F324C090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D86-FE88-4080-932B-5681773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27B5-F435-4566-B906-F3BDBC3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92EF-E8E0-4350-93A1-DA1012A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17F-8E75-4639-BC75-CFD68B68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EEB8-E001-4A32-86F8-72B118F6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E79-F81B-415C-9483-1620B2B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E273-B58A-40E5-B7C9-C8AB44802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Head Tha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Was Crow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homas Kelly, 1820 (Heb. 2:9-1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14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 head that o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crowned with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crowned with glory n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65840" y="4038480"/>
            <a:ext cx="641232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profit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ystery 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The cross he b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life and h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 sham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th to 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79080" y="3962520"/>
            <a:ext cx="658764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’s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people’s weal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everlasting the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60960" y="3048120"/>
            <a:ext cx="42253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roy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adem ad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ctor’s b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 highest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aven aff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long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009880" y="3124080"/>
            <a:ext cx="51260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of k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rd of lo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The joy of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dwell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joy of all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018880" y="3429000"/>
            <a:ext cx="5106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om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nifests hi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s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to k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To them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its sh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all it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98080" y="3429000"/>
            <a:ext cx="49478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name 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n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ead That Once Was Crown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y suffer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Lord bel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reign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30Z</dcterms:modified>
  <cp:revision>85</cp:revision>
  <dc:subject/>
  <dc:title>PowerPoint Presentation</dc:title>
</cp:coreProperties>
</file>