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E54-CF12-43B0-9BB9-65FFF198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CCE-B13F-4E98-9797-8BF1F9BF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CC4-D1A5-48D3-929D-67C5E610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6A3-9BAE-4BEA-A4FE-486D8479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3B6-D9EE-467A-B449-C6BD85C7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3E1-DC31-4102-9B26-37731BA0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6063-3CC7-445C-986A-F2D5A00B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EFF-5C45-4595-B0D8-B0AC2586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F14-B20A-4D46-8C4E-213D801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476-3F35-4AAA-B356-3CF5670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360-D093-49C7-A673-C4A40B2F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801-ED55-4DF1-A02B-07192FD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1E80-2DD2-4DA1-88CD-1061448A4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Day of God, Draw N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beauty and in pow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with thy tim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udgment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atch our present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00760" y="116676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R. B. Y. Scott, 19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ring to our troubled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ertain and afr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quiet of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dfast fai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 of a call obey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ring justice to our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all may dwell se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inely bu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days to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dations that end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ring to our world of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overeign word of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r may ha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no 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solation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O day of God, draw n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at creation’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re b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gain, and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judgments on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Day of God, Draw N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9:31Z</dcterms:modified>
  <cp:revision>53</cp:revision>
  <dc:subject/>
  <dc:title>PowerPoint Presentation</dc:title>
</cp:coreProperties>
</file>