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333-6A8F-47B7-B09C-D3753A93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DA0-33FC-40FE-AD8F-6F977621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9B1-6866-427F-9A60-917F0BBC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7B7-2E6F-44AE-A0DC-68DACE63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665-4208-415D-BA09-69B93FBD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10F-7F17-48D5-84F1-51805482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8CF-8B30-45E9-AAA7-46BB4F39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895-8CE8-4A56-8F4A-7EB9C94A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9D7-27AD-47BD-B3D5-7E47A0EF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A0B-DF9F-4DFB-890D-1F072D62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D55-25C4-4100-93FB-3E16284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AA3-2222-4184-9748-F62D22D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FD04-03A1-4F72-B9F4-D8AC31D0D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teal Away to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90440" y="1066680"/>
            <a:ext cx="49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African American spiritual (1 Cor. 15:51-5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y Lord he calls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all me by the thund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88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reen trees a-b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or sinn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 a-trembl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My Lord he calls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alls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light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et sou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-a my sou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0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;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 to Jes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eal away, steal away hom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in’t got long to stay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al Away to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8:56Z</dcterms:modified>
  <cp:revision>49</cp:revision>
  <dc:subject/>
  <dc:title>PowerPoint Presentation</dc:title>
</cp:coreProperties>
</file>