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7A5-5B11-49CD-9EBA-28E0982A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23C-BD74-4FC3-AEC4-01546680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23E-8C92-45ED-9C0B-51203844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B633-0083-4A24-B170-FCCD77FB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6B6-389D-428B-A897-3842EFBE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FC1-F821-4E3C-AC85-411564F4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8C0-DB4A-4522-93C5-FCAE8E5B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396-9823-4216-BA18-C8B1EA1D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16BE-1EBE-478F-909D-AA1EF7792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651-B035-404F-BCCC-D6156631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3F82-29BE-4237-8F3F-83FD1659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B5F6-2E85-40A2-8391-669D5DF0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AA15-A386-44D1-A63C-B801FB672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he Day Is Past and O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22860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The day is past and ov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thanks, O Lord, to thee!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pray thee that offensel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47760" y="1066680"/>
            <a:ext cx="664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non. Greek, prob. 6th cent.; trans. by John Mason Neale, 1853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The joys of day are ov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lift our hearts to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call on thee that sinl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ours of dark may be.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Jesus, mak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ir darkness l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The toils of day are over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raise our hymn to the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ask that free from peri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hours of dark may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Jesus, keep u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in thy s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uard us through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coming nigh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Be thou our souls’ preserve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God, for thou dost know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ow many are the peri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rough which we have to g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ay Is Past and Ov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Lord Jesus Chri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hear our call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guard and sav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s from them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2:15Z</dcterms:modified>
  <cp:revision>20</cp:revision>
  <dc:subject/>
  <dc:title>PowerPoint Presentation</dc:title>
</cp:coreProperties>
</file>