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A3C3-70E9-4DD6-BF26-AF513748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2EAB-74BC-4D8C-8D73-B34DA4C2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6D0-F51E-4913-8422-FA0FF1BE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2E5-BA35-4036-AEB6-F18399BF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261-BE79-46FC-85BB-1056C283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592-408B-41FB-A464-386BD368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6280-1A34-49EF-8E09-FBDBEF8E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579-CFD5-4095-A3C1-80F77FF3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728-D594-4618-BF27-665A7E09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2F6-D435-473D-85B5-A1F6F0D3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9F3-5C67-4386-B359-A0DBC314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47A-55C0-4DA7-AFF3-25B5561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CE44-8A09-48F1-A413-5CB35B8BC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Lord’s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ur Father,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t in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apt. © 1981 Abingdon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7680" y="914400"/>
            <a:ext cx="56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Matthew 6:9-13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dapt. by J. Jefferson Cleveland and Verolga Nix, 198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Amen, a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, a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, a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kingdom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will be d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Done on earth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in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s this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daily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nd for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ur deb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for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debto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ead us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tempt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deli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from evi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ine is the kingd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, and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ed-a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Pray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18Z</dcterms:modified>
  <cp:revision>27</cp:revision>
  <dc:subject/>
  <dc:title>PowerPoint Presentation</dc:title>
</cp:coreProperties>
</file>