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698-4170-41FB-9C7E-F7A7D811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C65C-434A-4433-9164-2F2A77EA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0A1-8F84-4539-95AD-699675AF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EE4-615B-45E2-A555-81FF837C2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948-1487-4E2E-8AA0-D2AA4052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166-7DB5-415B-B9BD-32BDC3E4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BC8-BA08-447E-B3E5-BF0DA20D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24A-3860-454B-9542-627D8F8E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858-A83E-4760-82F2-83CADC3B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8C69-455C-45D5-B6A5-0C5E998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0AE-9438-4950-B721-39B95534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2045-8696-4EBE-AEA3-71E2CA06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1026-83DF-40E3-9758-CB5FF9981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uando El Pobre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When the Poor 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. A. Olivar and Miguel Manzano; trans. by George Lockwood (Mt. 25:31-4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uando el po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da tiene y aun repar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l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sa sed y agua nos d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71 Ediciones Paulinas; trans. © 1980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uando abund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l bien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llena los hogar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un homb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de hay guer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ne paz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4382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“herma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 llamamos al extra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hen the poor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 have no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are with stra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 thirs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 give unto us 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cripp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en othe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hen at last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se who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nd their comfo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they hop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ms hopeles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love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e at 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ms all around 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hen our joy f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ur c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overflow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our lips can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words other than tru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el d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bi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herman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tale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know tha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imple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ett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47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Poor On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When our home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ed with goo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abund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learn how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ke peace instead of w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each str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e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called a neighb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2952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we know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goes that road wit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uando sufre 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mbre y log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 consuel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esper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se cansa de esper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3623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unque el odi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s rod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2952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ando El Pob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uando cre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 alegría 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s inunda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uando dicen nuestr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bios la verda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05740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uando amamos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ntir de los sencillos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va Dios mismo 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uestro mismo cami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59:57Z</dcterms:modified>
  <cp:revision>145</cp:revision>
  <dc:subject/>
  <dc:title>PowerPoint Presentation</dc:title>
</cp:coreProperties>
</file>