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782-C93E-4EB5-86D3-C37F3683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E07-5355-4A54-822D-C22A87BD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7B4-8C54-4270-9C31-55848526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1B2-1887-4920-8D98-E2443AD1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605-9462-49F1-A10C-67593282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D85-4E53-48B6-B163-358A84B1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CB6-2606-4318-8526-8BB16A0B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A25-4359-4DDC-9277-E6FE1BB8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FE5-4CF4-462E-AE5C-20402BB8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7DF-1988-49F9-985D-AC4C875F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FEF-3542-4E68-9B21-D7BF51D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1F6-D9D4-41BC-BF43-9518FD8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986B-4D5E-4782-980C-223B16EB6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 the Lor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ign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s his court be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holy 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his greatness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he Lor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6640" y="1600200"/>
            <a:ext cx="462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43 (Ps. 1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noble dee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for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tchless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from whom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procee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art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elebrate th’eternal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arp and psalte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brels so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ymbals 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high praise ag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he Lor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with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neful st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reach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p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ic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od, in whom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e and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creatur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r g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mage to thei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he Lor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 be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beneath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ado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ing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49Z</dcterms:modified>
  <cp:revision>14</cp:revision>
  <dc:subject/>
  <dc:title>PowerPoint Presentation</dc:title>
</cp:coreProperties>
</file>