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1A2D-EF4B-4F95-A39B-C535FA408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9B54-B6E1-4131-9A6D-7C39389B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1F29-0351-4249-9F40-1ED751028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B6D0-272E-4626-86AF-3A84E2BD2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97C1-E98D-4C39-872D-4433C013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F488-62B1-4B5F-8026-91000864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347F-03BD-4EB3-A3DD-DA12404B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0EA7-A6A5-4BD2-A9D8-08586FD0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30FF-4ECD-4207-A791-8115D9CB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0F2F-1459-42BC-867F-A1BD4890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B89B-1A96-42C8-BDE9-BECDB3CB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C262-E489-44E3-82A4-ABEF329E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E5E7-DA10-4A1E-BF1E-6E73B43A2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et Us Plead for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aith Al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772400" y="228600"/>
            <a:ext cx="137160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38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Plead for Faith Alo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Charles Wesley, 1740 (Eph. 2:8-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Let us plea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or faith alo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aith which b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ur works is sh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it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 justifi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ly faith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ace appli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Plead for Faith Al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Active fai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at lives withi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nquers he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death and s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llows whom 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rst made whol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ms the Savi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he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Plead for Faith Al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Let us f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is faith conte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ure salvat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s the e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aven alread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begu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verlasting lif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w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Plead for Faith Al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Only l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us perseve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ill we s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ur Lord appe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ver fro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Rock rem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ved by fai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ich works by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6:53:10Z</dcterms:modified>
  <cp:revision>132</cp:revision>
  <dc:subject/>
  <dc:title>PowerPoint Presentation</dc:title>
</cp:coreProperties>
</file>