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28B-BB48-4840-89EB-226B2335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700-581D-45C1-9C6F-61E8D6DB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D36-2F54-42E3-B6C8-FE2AADDA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313A-B42A-4747-B0E3-DD3C47F0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4BAD-A644-4D54-B864-7921E54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D7C-0822-4495-AA8D-28965DA0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6D15-F821-4F89-9CEC-04B52AFC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8519-4B6D-4971-B7C9-14DB662A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637-A051-4913-BC60-F55AE6FB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A62-4FE3-4174-BDCE-DB6ACF8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4CD6-A54B-4A71-B220-222EAA0F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861-0C2E-440A-928D-F3D7D01B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CA0-6947-4EDD-953A-4BF0F115A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85345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ff"/>
                </a:solidFill>
                <a:latin typeface="Times New Roman"/>
              </a:rPr>
              <a:t>Dear Jesus, inWhose Life I S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24680" y="304920"/>
            <a:ext cx="1219320" cy="7642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Times New Roman"/>
              </a:rPr>
              <a:t>46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28600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1. Dear Jesus, in whos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ife I se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ll that I would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ut fail to be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 in Whose Life I S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28760" y="1066680"/>
            <a:ext cx="26816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ccff"/>
                </a:solidFill>
                <a:latin typeface="Times New Roman"/>
              </a:rPr>
              <a:t>WORDS: John Hunter, 18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let thy clear light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forever shi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o shame and guide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this life of min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2. Though what I dream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what I do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in my weak day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re always two,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44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r Jesus in Whose Life I S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85904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help me, oppressed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by things undone,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O thou whose deeds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Times New Roman"/>
              </a:rPr>
              <a:t>and dreams were one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1-22T16:09:15Z</dcterms:modified>
  <cp:revision>8</cp:revision>
  <dc:subject/>
  <dc:title>PowerPoint Presentation</dc:title>
</cp:coreProperties>
</file>