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62F-4D21-4120-A444-43F7ABE9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0FC-E460-4A60-BD93-6A92B2FE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59B-ED27-4E7A-A50C-0DADB5DE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5BE-F60A-4919-A75A-5E103B94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A1DC-2C98-4557-9CA7-91E3FC05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CBF-168E-4696-AEFE-8CE53C12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A82-E4B7-49F3-A6C2-7832AE27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811-76BE-4114-9005-2F6F3263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590E-3359-4016-8169-6CE10AB0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7B10-7BB4-4015-8E1A-82DDD2F7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323-892E-4A50-BD65-FBAB8252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26A-B28B-4005-A79F-AFDAE36B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DA04-3540-4939-B9FB-FC668C0F9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airest Lord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Fairest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uler of all na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thou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man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9520" y="1168560"/>
            <a:ext cx="8206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ünster Gesangbuch,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677; trans. by Joseph August Seiss, 1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cher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e will I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, my soul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, joy, and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air are the mead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irer still the woodl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bed in the bloo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arb of spri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is fai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is pu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makes the woe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t to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Fair is the sun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irer still the moon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the twink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rry ho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shines brigh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shines pur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 all the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can bo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Beautiful Savio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 the nation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of Go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of Ma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rest Lord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and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, ador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and for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37:28Z</dcterms:modified>
  <cp:revision>41</cp:revision>
  <dc:subject/>
  <dc:title>PowerPoint Presentation</dc:title>
</cp:coreProperties>
</file>