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422-9157-4F0A-9DB4-192D5CD3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86A-EB6D-4E8A-9A8D-49D1B806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C7A-68E0-4D7D-BF2B-E81076E3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92C-DC2D-415B-A384-7536F77D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5F4-8A52-4C6C-815D-E7B3E769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E4C1-5572-4D65-A3C3-C66891D2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884-7A46-441A-B64F-3E6FAFE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9BF-A6AC-4660-A085-1EBC148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016-C4E7-464B-A6E5-A52ED71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784D-7777-4A50-AC36-C6F60D4B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459-D945-42A6-A48E-992C423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986-B244-4924-97FF-A5B9C9BC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996-9A94-4D44-A329-ADD813F1C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, from Whom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Blessings F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hrist, from wh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blessings f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ing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nt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0 (1 Cor. 12:4-31; Gal. 3:27-2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nd nor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le nor fema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ove, like d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all destro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dered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tinctions vo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and sec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ties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t all in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us,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hy myst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dy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in us,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pirit jo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ceive of t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for mor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we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fill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Move and actu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verse gif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ach di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d accor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ork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ever from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ice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edful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e the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ach bestow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er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Many are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, and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ho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put 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from Whom All Blessings F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40:29Z</dcterms:modified>
  <cp:revision>22</cp:revision>
  <dc:subject/>
  <dc:title>PowerPoint Presentation</dc:title>
</cp:coreProperties>
</file>