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FFF-AFD8-4F13-89EC-62EFBC73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E9D-9A51-4E2E-B953-BC186EF2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1FE-A3B4-4730-82E0-CA7B3948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21B-31EB-41DA-A820-EA36FCEE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1E6-E850-4D43-8025-29A910E6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583-691A-4330-9817-F67BDE03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6D6-788A-4D3B-8F00-EA356831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2EE-CBDC-41D5-8019-002C5B7B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FA9-70EA-4B00-8A7D-6B75C46A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AE5-80CD-4248-8839-23E0D02D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F88-069C-4F96-BDBB-0E47498B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F91-598B-45A8-9B86-40F7D283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C1E3-A25B-431A-B980-49825ADD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s is my commandm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you love one ano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I have love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dapt. © 1988 S T Kimbrough, J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95960" y="1190520"/>
            <a:ext cx="755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omans 12:9, 16; Song of Solomon 8:6-7; 1 Corinthians 13:4-8;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olossians 3:12-14; 1 John 3:18; Tobit 8:7; Psalm  127:1, 34:8, adapt. by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S T Kimbrough, Jr.; Response 1, John 15:12, Response 2, Ephesians 5:30, 31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b,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927000"/>
            <a:ext cx="86104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the Lord builds the house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abor is never in v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appy are those who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ake refuge in God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ose who ser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the Lord are redeemed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two sh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come one in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e are memb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Christ’s bod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492200"/>
            <a:ext cx="853452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 love be genuin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ive in harmon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ate what is evil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hold fast to what is g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utdo one an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howing honor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be humbl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never conceit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stronger than death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jealousy is crue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s the gra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loods cannot drown love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wealth cannot buy it.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 love above all else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et Christ’s peac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ule your hearts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lways be forgiving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s Christ has forgiven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47636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is not jealous or boas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rrogant, rude, or stubborn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rritable, resentful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or possessive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Love is patient and kind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8380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 not love in wor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r speech only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love also in deed and truth.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Receive each oth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 sincerity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find mercy and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grow old togeth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52388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ove rejoices in the right;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it bears, believes, hope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ures all thing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for love is faithfu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and endless.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05:53Z</dcterms:modified>
  <cp:revision>31</cp:revision>
  <dc:subject/>
  <dc:title>PowerPoint Presentation</dc:title>
</cp:coreProperties>
</file>