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2E3-50D3-40DA-8821-08218D6A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30A-71F3-48E9-9604-C4C26591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835-F377-448B-879E-6C88C049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B6F-46A7-4F1D-A573-EA60469F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EAC-C941-46F6-8370-8CC0B856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D67-FAD7-48DB-AE21-4A060E8C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82E-0C93-47BB-B08E-FC933D1E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9C5-DC78-4B2B-9A10-025647A4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19D-3203-4ECA-BA5E-E39BC9C7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1B90-EDA9-42AE-B99D-426802B3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7CCA-A86F-4AA2-BDCA-D604B845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AC3-1C89-4082-82CE-0CC0CB35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7331-E1FD-4EC6-A7D4-2D865568E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Firm a Foun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How firm a foundat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 saints of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laid for your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is excellent w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“K” in Rippon’s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lection of Hymn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1787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2 Tim. 2:19; Heb. 13:5; Is. 43:1-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soul, though all he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uld endeavor to shak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never, no, nev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, never forsak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more can he s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n to you he hath sai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you who for refug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Jesus have fl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“Fear not, I am with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be not dismay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I am thy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ill still give thee ai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strength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lp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ause thee to 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pheld by my righteo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mnipoten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“When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deep wat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all thee to g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rivers of wo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no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e overf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I will be with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troubles to bl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anctify to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deepest distr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“When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ery tria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pathways shall li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-suffici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be thy suppl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flame sh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hurt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only desig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dross to consu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y gold to ref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“The soul that on Jes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leans for repo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ill not, I will no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sert to its fo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Firm a Found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5:01:18Z</dcterms:modified>
  <cp:revision>55</cp:revision>
  <dc:subject/>
  <dc:title>PowerPoint Presentation</dc:title>
</cp:coreProperties>
</file>