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7D0-A399-40A9-BFA5-88E87DB3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171-3268-4780-8063-EF990D59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FDC-A9A2-4836-AC5A-D58FDD03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96C-17DC-4441-80E0-4CEA280B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0F2-A22E-4AC3-AE59-E2995E6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40B0-7C74-4909-AB74-98FC85A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7FB-EC5F-4757-9B9E-D16B6119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E8B-B5AB-4B6C-8F97-DB9F063D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987-1A81-4DA8-AEE9-FA7D59B2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F49-2F71-4B70-B324-4FA8DEB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2D6-5B8A-4D6E-9C4B-9CA91DD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E4D-F39A-4CF0-AB2F-C7C4D1D7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7167-D22C-492C-B66E-BB3D1F37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rucified Redee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crucified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life-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spil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 by permission of Community of Resurrection, Mirfield, 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040" y="990720"/>
            <a:ext cx="2773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Rees, 19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anguish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illion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reak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mb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rucified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ar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i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they br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elfish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com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 we 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uilty ha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umb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our gu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day we se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assio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ead op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wded str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untry ro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Calvary displ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hear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of anguis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outpour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battlefie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un red with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neighbors’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igh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ily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might is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lf is 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rn-crowned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groa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ung out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in and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ucified Redee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23Z</dcterms:modified>
  <cp:revision>16</cp:revision>
  <dc:subject/>
  <dc:title>PowerPoint Presentation</dc:title>
</cp:coreProperties>
</file>