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0B05-96FC-49A5-BCE3-B4620DE2E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DADB-9C73-430E-A9B2-06152D1E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187-EBA8-4CF5-813F-503BF9DB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3C5-EC19-420A-83A6-EFA537C3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AE8E-FCEC-4D7D-8250-700035E9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48F-05B7-4AD3-969E-DCDAD4C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79F-577A-40F6-B957-31E3CE8E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23F-499F-4E78-B4BA-597F0E5A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E0B-CFCF-4574-8C63-A32D1748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9694-71AD-4377-8847-6243F613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18B-F8DE-4209-A444-64782827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1BD-F147-423B-A060-BDD33170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C795-35AB-4701-8B6C-CE2A150D8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icle of Moses and Miriam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(Cantemus Domin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exalt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n your strengt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ise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Moses and Miria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4200" y="1600200"/>
            <a:ext cx="764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Exodus 15:1-6, 11-13, 17-18, 20-21; Response, Psalm 21: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426708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stretched out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right han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earth swallowed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371600"/>
            <a:ext cx="8610480" cy="500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your steadfast lov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you have led the peop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m you have redeemed;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have guided them b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strength to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holy abod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281952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will bring them 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plant them on you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wn mounta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place, O Lord, whic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ave made for your abod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1981080"/>
            <a:ext cx="8610480" cy="4270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anctuary,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ich your hand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have establish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ord will reig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for ever and ever.”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9810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 Miriam, the prophe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sister of Aaro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ok a timbrel in her hand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all the wom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nt out after her wi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imbrels and danc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447920"/>
            <a:ext cx="8610480" cy="5001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Miriam sang to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ing to the Lord, who ha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rse and its rid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Lord has throw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nto the sea.”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124080"/>
            <a:ext cx="8610480" cy="3201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0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 Moses and the peop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f Israel sang this so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the Lord, say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81952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will sing to the Lord, who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has triumphed gloriously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horse and its rider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Lord has thrown into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75248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Lord is my streng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my so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has beco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y salvatio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is is my Go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whom I will prai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19112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will exalt my father’s Go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is a mighty warrio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se name is the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7432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haraoh’s chariots a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his host the Lord cas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into the sea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nd his chosen officer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are sunk in the Red Se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88620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floods cover the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y went down into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epths like a ston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3429000"/>
            <a:ext cx="8610480" cy="3110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glorious in power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your right hand, O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hatters the enemy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is like you,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mong the gods?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 is like you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ajestic in holines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errible in glorious deed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doing wonder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15:36Z</dcterms:modified>
  <cp:revision>56</cp:revision>
  <dc:subject/>
  <dc:title>PowerPoint Presentation</dc:title>
</cp:coreProperties>
</file>