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D6C2-469C-4F0D-BF7C-7FEDD5A3F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8F9-253E-4483-BCD9-DBDC6DB5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CEE-ABC9-495A-A621-7083929E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D2FB-1FCA-4663-A342-1A6F8285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FAF-B44F-46EA-A000-EB1B8CDD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B53-ABC9-4DB9-8C3D-1032E81D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F32-C634-473E-917C-8540A43B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66F-26C2-4083-8241-6A42C4D2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244-943C-4609-9FEC-DAD151F9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CDE-AF57-4B5D-85C5-EAF6D8FF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6C0-1AC1-4183-9CCA-3682D9D7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69D1-0056-459A-B8FE-A712F90F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428A-2D0C-4DD9-89BB-EC9397B46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King of Lov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y Shepherd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King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hepherd i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leth n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9400" y="1676520"/>
            <a:ext cx="376524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Henry W. Baker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othing la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I am 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is min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ere streams of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 f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ransomed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re the verd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tures g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food celestial fee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Perverse and fool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t I stray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yet in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sought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 his shoul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ly laid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me, rejoicing, brough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death’s dark va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fear no 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e, dear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ide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rod and staf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comfort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cross before to guid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193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ou spreadst a 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y s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unction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towe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h, what transpo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delight from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re chalice flowe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And so throug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ength of d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ood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leth nev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Shepherd, may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hy praise with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ous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 of Love My Shepherd 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40Z</dcterms:modified>
  <cp:revision>32</cp:revision>
  <dc:subject/>
  <dc:title>PowerPoint Presentation</dc:title>
</cp:coreProperties>
</file>