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439-41A7-40B7-B63B-C5723546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D7A-DCD1-47B3-9AAA-1309CF2F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E55-0390-4F42-BBD8-7EC21254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7B6-9145-41FC-8DAA-0A102A8A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D2C-9300-44E8-A67D-EE5890EA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37B-A11D-4AF8-AD58-1ED1AAD5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CA01-DDAE-4FE6-A418-76324897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6E4-14A4-49CD-8960-310E2752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03E-171B-4FE5-AC95-CEEF6569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767-169E-4051-B75A-FEEE7510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A6A-B912-498D-ADAF-A75F48C4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054-76F4-4B8F-8704-579070EE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CDA-CAD8-4494-A5DE-D21377C46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id my Sovereign die?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2640" y="1622520"/>
            <a:ext cx="4984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WORDS: Isaac Watts, 1707; refrain by Ralph E. Hudson, 18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is own 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groaned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the cross, at the cro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I first saw the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burd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lled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 was there by fa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received my s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ppy all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5:15:00Z</dcterms:modified>
  <cp:revision>9</cp:revision>
  <dc:subject/>
  <dc:title>PowerPoint Presentation</dc:title>
</cp:coreProperties>
</file>