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2E1D-0079-4B22-B594-88484439D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5D2-B363-4816-9792-1E4248AD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A165-AB0E-49FE-AA67-24328A4D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E82-8F41-4ADF-A53C-AC0A9E2A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B6A-2589-4C1A-92B5-F5DDDD81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6B9-8402-4470-AC69-FD5BF565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2C2-A684-490A-A245-D72C5732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2D1-ABF6-497F-9DB7-90F7AF89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DF3B-344E-4FC2-AC3C-321AE132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918-EBF5-41F6-AD0B-25937F26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AA20-58E1-454F-80D9-2C332932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15AB-0A5C-4799-907A-88315E86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4A64-E305-48B1-9DA5-893383C0D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a Peaceful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209680"/>
            <a:ext cx="8305920" cy="2958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O God, you have let me pass</a:t>
            </a:r>
            <a:br>
              <a:rPr sz="4700"/>
            </a:b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   the day in peace;</a:t>
            </a:r>
            <a:br>
              <a:rPr sz="4700"/>
            </a:b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let me pass the night in peace,</a:t>
            </a:r>
            <a:br>
              <a:rPr sz="4700"/>
            </a:b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   O Lord who has no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 Peaceful N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35160" y="1114560"/>
            <a:ext cx="3105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d. prayer of the Boran peop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1143000"/>
            <a:ext cx="8305920" cy="476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There is no strength but in you.</a:t>
            </a:r>
            <a:br>
              <a:rPr sz="4700"/>
            </a:b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   You alone have no obligation.</a:t>
            </a:r>
            <a:br>
              <a:rPr sz="4700"/>
            </a:b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Under your hand I pass the night.</a:t>
            </a:r>
            <a:br>
              <a:rPr sz="4700"/>
            </a:b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   You are my Mother</a:t>
            </a:r>
            <a:br>
              <a:rPr sz="4700"/>
            </a:br>
            <a:r>
              <a:rPr b="0" lang="en-US" sz="4700" spc="-1" strike="noStrike">
                <a:solidFill>
                  <a:srgbClr val="66ff66"/>
                </a:solidFill>
                <a:latin typeface="Times New Roman"/>
              </a:rPr>
              <a:t>   and my Father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66ff66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16:25Z</dcterms:modified>
  <cp:revision>19</cp:revision>
  <dc:subject/>
  <dc:title>PowerPoint Presentation</dc:title>
</cp:coreProperties>
</file>