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E1E-81C2-4C54-8B73-4637B559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0765-B862-4A57-A261-1148641FC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24E-533C-4016-BF85-33311B11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404-F530-4946-8492-B60775BC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BCA-95D1-4F2D-BD35-9811E144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539B-E908-4BFE-8909-9FA63D3D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4422-6F1B-48CF-B483-85913741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E72-04FA-47C0-86BB-D1B8454A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F87-BBED-4767-A659-8396B0C7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5B8-3985-43F2-AD25-ECD1DE5C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184-04DA-43F1-A1F8-68DF42AD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E97-A3CB-499C-830B-28A93A29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75F6-15E6-48B5-9500-323820AA9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ass Me Not, O Gentle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838080"/>
            <a:ext cx="91440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anny J. Crosby, 1868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Pass me not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gentle Savi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28496" dir="9225519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Let me at th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rone of merc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ind a sweet relief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kneeling the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deep contrition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lp my unbelief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Trusting onl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n thy me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I seek thy fac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l my wound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roken spiri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e me by thy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7621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ou the spr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all my comfor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than life to 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have I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n earth beside thee?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om in heaven but th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 Me Not, O Gentle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6765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avior, Savior, 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ar my humble cr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ile on othe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u art call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do not pass me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11Z</dcterms:modified>
  <cp:revision>109</cp:revision>
  <dc:subject/>
  <dc:title>PowerPoint Presentation</dc:title>
</cp:coreProperties>
</file>