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2CF-768E-417D-BBFC-9CC196B7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79A-67B3-4A3A-B5C2-5083444B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A31-AAF4-45A5-9E02-DBFF0DBF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F134-296C-434F-9F33-9EDA12BA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87A-9ACB-4E88-93CD-3E73ACC0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6E6-A759-41C1-99A5-9992C976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A83-D2D2-4E30-9B28-C0016AC0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96D-35BF-4326-9219-9A96E769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30FB-174E-464D-BB05-4BF8BDE2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EA95-7910-4007-8F9D-2DD1A6A2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E1D-C991-4085-A29C-62B45D12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5AB-1786-4D21-85F1-A2C05F54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5DC8-2523-4612-B2E1-E546AB5B2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Will Take Care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Be not dismay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e’er bet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eath his w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ove abid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66240" y="1066680"/>
            <a:ext cx="3611160" cy="38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Civilla D. Martin, 190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rough days of to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art doth fa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dangers fie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ath assa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ll you may n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prov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you as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be den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No matter w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be the t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, weary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his br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14300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the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take care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take care of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Will Take Care of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57:19Z</dcterms:modified>
  <cp:revision>47</cp:revision>
  <dc:subject/>
  <dc:title>PowerPoint Presentation</dc:title>
</cp:coreProperties>
</file>