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90FB-5982-42EF-BED9-F0FEC646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5095-1CCE-42FD-9724-3A958BE1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B84C-DC11-447A-BE1C-521265D4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28E2-5ACA-4C44-9406-C829C16E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38E6-1966-49A7-85E3-F80962EA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46D1-E57C-4810-90BA-8466B219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597F-B6CB-488B-8FC3-19FB1D38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FAD1-0D0C-48CF-B614-978570FF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FDF2-B28B-4CAA-ACA7-0CCE6D7F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DCDB-AB4A-4224-BB54-5CDA715F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44AD-FB91-4F25-88C5-678C1ECE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DAD1-506F-4C9D-A54F-56723307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D9E3-13BA-4787-88E0-94CC67DD3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ave Thine Own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Way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38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e Thine Own Way,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7652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WORDS: Adelaide A. Pollard, 1902 (Jer. 18: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Have thine own way, Lor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ve thine own way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ou art the potter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am the cl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ld me and make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fter thy wi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le I am wait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ielded and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e Thine Own Way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Have thine own way, Lor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ve thine own way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arch me and try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avior tod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sh me just now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sh me just n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in thy prese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umbly I b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e Thine Own Way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Have thine own way, Lor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ve thine own way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ounded and wea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lp me I pra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ower, all pow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urely is thin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uch me and heal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vior divi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e Thine Own Way,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Have thine own way, Lor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ave thine own way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old o’er my be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bsolute s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 with thy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all shall s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rist only, alway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ving in 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0T19:22:17Z</dcterms:modified>
  <cp:revision>130</cp:revision>
  <dc:subject/>
  <dc:title>PowerPoint Presentation</dc:title>
</cp:coreProperties>
</file>