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D22E-9B63-40B2-8553-9FA496F60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6A20-ACD8-49B6-8E28-1318FE25C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C8F0-2788-4C67-860E-B9ED17E9B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8D87-9C3C-4EF6-8E93-049FCB959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8925-1587-4794-9A23-F2351D0AA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6ABA-F8A4-4DAC-A281-1FC37467D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1F77-A0F4-41E5-9D79-14C92B390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76F0-C9A3-45BE-9153-9554CFC0C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0D2B-4371-4F66-8AAC-42263799D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5E8B-04D9-4AE0-9588-3E01D874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DAC6-5763-4F6F-B973-303AFE363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D027-D704-47F2-A8CA-A33B03B96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EDE51-0D00-4103-8B52-EC732BE501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halom to Yo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6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alom to You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06668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Elsie S. Eslinger, 19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905120"/>
            <a:ext cx="9144000" cy="448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Shalom to you now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shalom, my friends.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May God’s full mercies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bless you, my friend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66"/>
                </a:solidFill>
                <a:latin typeface="Times New Roman"/>
              </a:rPr>
              <a:t>© 1983 The United Methodist Publishing 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In all your living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nd through your loving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Christ be your shalom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Christ be your shalo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40:12Z</dcterms:modified>
  <cp:revision>159</cp:revision>
  <dc:subject/>
  <dc:title>PowerPoint Presentation</dc:title>
</cp:coreProperties>
</file>