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426-E2DF-438B-9FAA-B33DBE30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74F8-AA6A-4585-A274-8A6D24AF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4F7-95F7-4E0B-A2CE-C4BCCF8A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D66-08CD-4146-9C1F-1B9A8BBE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C374-E126-49D9-8A6F-50348B8E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1E40-4D2D-4EF6-830C-6E93279D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8A5-8E7D-4E85-89D0-13C8AB43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916-2449-4A80-93ED-9CD90851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859-464A-49BF-9D43-A5FEACE2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A883-8AB5-48FD-B390-82C6EA8A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D5F-C862-4B8E-9971-84D7196F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DB1F-FEDB-43D4-B618-0440FADB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7F50-6AB2-4319-B8C5-E95A019EF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re Is a Fountai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lled with Bl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is a fount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ed with bl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awn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mmanuel’s vei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William Cowper, ca. 1771 (Zech. 13: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Then in a nobl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eeter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ll sing thy power to sa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is poor lisp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mmering tong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es silent in the gr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es silent in the gra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es silent in the gra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is poor lisp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mmering tong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es silent in the gr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inners plung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neath that fl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se all their guilty st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se all their guilty stai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se all their guilty stain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inners plung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neath that fl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se all their guilty st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ying thie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ed to s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fountain in his d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re may I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 vile as h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h all my sin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h all my sins aw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h all my sins aw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re may I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 vile as h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h all my sin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Dear dying Lamb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recious bl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never lose its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all the ransom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urch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saved, to sin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saved, to sin no mo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saved, to sin no mo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all the ransom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urch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saved, to sin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E’er since, by fai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aw the strea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flowing wounds supp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eming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 been my the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all be till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Fountain Filled with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all be till I di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all be till I di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eming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 been my the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all be till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6:01Z</dcterms:modified>
  <cp:revision>124</cp:revision>
  <dc:subject/>
  <dc:title>PowerPoint Presentation</dc:title>
</cp:coreProperties>
</file>