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A514-AD06-4F35-A325-B7B5B4311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C176-9211-46C3-AD22-8CD33BDA8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5431-E3A3-4B10-95B9-C0926E310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257A-5FCE-426C-B214-18338407F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01F0-B753-4CDB-9A1B-735B6644D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E4A7-CC3E-488C-B9F2-CB1A2A7B3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C9B9-00BC-4AC6-BD3B-13D4942BD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26CA-25AD-407E-AAA3-5B5FB7624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3512-E592-43D4-98F6-C62631C70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324D-E0EB-4E36-8973-FC99786F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86F8-7F70-4F48-8E07-0A63996F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59F9-06A4-4003-8AD6-4FED9F4B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BB0F4-3798-492E-9E6D-F9CD741D69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thing Betwe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7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hing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144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Charles Albert Tindley, ca. 19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1. Nothing between my sou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my Savio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aught of this world’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delusive dream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ough it may cos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e much tribulatio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am resolv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re’s nothing betwe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hing Betwe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othing between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y soul and my Savio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o that his bless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ace may be see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othing prevent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 least of his favor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keep the way clear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let nothing betwe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hing Betwe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4. Nothing betwee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e’en many hard trial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ough the whole worl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gainst me conve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atching with pray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much self-denia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’ll triumph at la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re’s nothing betwe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hing Betwe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othing between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y soul and my Savio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o that his bless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ace may be see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othing prevent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 least of his favor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keep the way clear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let nothing betwe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have renounc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ll sinful pleasur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Jesus is min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re’s nothing betwe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hing Betwe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othing between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y soul and my Savio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o that his bless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ace may be see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othing prevent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 least of his favor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keep the way clear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let nothing betwe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hing Betwe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Nothing betwee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like worldly pleasur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abits of lif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ough harml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y seem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ust not my hear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rom him ever sev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e is my al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re’s nothing betwe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hing Betwe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othing between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y soul and my Savio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o that his bless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ace may be see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othing prevent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 least of his favor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keep the way clear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let nothing betwe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hing Betwe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3. Nothing betwee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like pride or station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elf or friend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hall not interve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16:39Z</dcterms:modified>
  <cp:revision>114</cp:revision>
  <dc:subject/>
  <dc:title>PowerPoint Presentation</dc:title>
</cp:coreProperties>
</file>