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BB0-F282-4CDC-B4F0-BA96BD4F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87F-16DB-41E9-938D-8C9B1CD4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746-3BD3-4ECC-B68D-D16116F46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09E-6AAC-4BEE-B2D9-F672E4F6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D38-AFB5-4CD8-92D6-1FC18606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5F4-C932-493C-83C1-4050ECE8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8DE-03CD-41C9-8FAC-8721011D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D21-007B-4111-B725-1C08BCE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D136-6EE1-49EA-AB75-08EB2378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782-E9B6-4564-88BC-DBAA433D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9BA-2473-4ED3-A611-540C5E6C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206-C529-486D-A1AC-35F018BA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1330-4A76-4789-BD0D-257F3BA65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nt Forth b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’s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Omer Westendorf, 19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442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t forth b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bl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true faith conf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eople of Go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this dwelling take le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64 World Library Publicati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ervice is end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now be extende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fruits of our worshi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all who belie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seed of the teach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ceptive souls reach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l blossom in ac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God an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grace did invite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ove shall unite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work f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kingd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nswer the c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praise a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nksg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God ever liv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tasks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every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fe we will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t Forth  by God’s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faith ever sh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love ever car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mbracing God’s childre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each tribe and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your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 feed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your light now lead u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ite us as one in thi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fe that we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n may all the l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pra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anksgiv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ve honor to Chri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hat na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ch we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30Z</dcterms:modified>
  <cp:revision>155</cp:revision>
  <dc:subject/>
  <dc:title>PowerPoint Presentation</dc:title>
</cp:coreProperties>
</file>