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32142-E35F-4EDD-B56A-BAD4E0EEC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7B33C-9708-4C41-ABAE-E08B61012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5E23D-5BB5-414F-9787-A95DE4303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99D80-7C05-46A2-B1A4-081BEFEEF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E0249-9568-4817-A3E7-CFA14B14E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8947E-75CC-49F3-AA21-1F02BD89E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55E78-A115-419C-B250-8C3476BE3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F53EC-CCBC-45BF-84C0-96F135B87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0BEF8-4AE6-4C61-B616-1A396B7EE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28567-83BB-40DE-892A-82DA29BC9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5FF24-60F1-42F9-953A-CA5AF1CC2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031BF-3BF6-453F-98B4-70D2BC15A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75680-F05D-4D02-9FC5-56C1ADEF90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Emmanuel, Emmanu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20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286000"/>
            <a:ext cx="9144000" cy="36046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Emmanuel,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Emmanuel,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his name is called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Emmanue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ff66"/>
                </a:solidFill>
                <a:latin typeface="Times New Roman"/>
                <a:ea typeface="Arial"/>
              </a:rPr>
              <a:t>© 1976 C. A. Music (div. of Christian Artists Corp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mmanuel, Emmanu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289240" y="914400"/>
            <a:ext cx="4563720" cy="414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00"/>
                </a:solidFill>
                <a:latin typeface="Times New Roman"/>
              </a:rPr>
              <a:t>WORDS: Bob McGee, 1976 (Mt. 1:23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25146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God with us,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revealed in us,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his name is called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Emmanue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1-13T15:03:27Z</dcterms:modified>
  <cp:revision>53</cp:revision>
  <dc:subject/>
  <dc:title>PowerPoint Presentation</dc:title>
</cp:coreProperties>
</file>