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D5AF-5D60-42B3-94EC-2ECB53809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11FE-C513-4080-BB34-D5F1070D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4F24-6828-4694-920C-7883C799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83EE-769B-44F0-B761-F909CCFC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EEC1-C144-4A7C-B014-C05D13FB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5D5D-8D4B-4330-9978-A733DE97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FBED-A0BE-487E-878A-872685A8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299E-8DD6-41A7-B422-BFAE909B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5571-B9AC-4A45-A2DE-A308858F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D7F1-F127-42E3-BCB0-DCBBB3B3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7330-1379-49BE-8780-323B538A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55CD-9804-44C9-92C3-0282CA4C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137B-87FA-4177-ADE3-2F4268728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nticle of Rememb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23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righteous live forev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reward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Rememb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75320" y="990720"/>
            <a:ext cx="69184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Wisdom of Solomon 3:1-9, adapt.;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esponse 1, Wisdom of Solomon 3:1-9, adapt.; Response 2, Psalm 28:7, adap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04812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y will govern nation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and rule over people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and the Lord will reign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over them for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304812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ose who trust in Go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ill understand truth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the faithful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ill abide in lov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2971800"/>
            <a:ext cx="8610480" cy="311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ecause grace and mercy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are upon the elect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and God watched ove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he holy ones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0512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2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my s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give thanks and pra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Lord is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ength and shie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Rememb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2438280"/>
            <a:ext cx="8610480" cy="387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56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56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souls of the righteous ar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in the hand of Go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no torment will ever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ouch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297180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n the eyes of the foolish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hey seem to have die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and their departure wa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hought to be an afflicti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3733920"/>
            <a:ext cx="86104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their going from u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o be their destruction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but they are at pe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819520"/>
            <a:ext cx="8610480" cy="3110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though in our sight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hey were punishe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heir hope is full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of immortality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304812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aving been disciplined a little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ey will receive great goo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because God tested them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found them worthy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243828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ike gold in the furnac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God tried the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and like a sacrificial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burnt offering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God accepted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04812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 the time of their visitatio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ey will shine forth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will run like spark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rough the stubb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7:08:32Z</dcterms:modified>
  <cp:revision>34</cp:revision>
  <dc:subject/>
  <dc:title>PowerPoint Presentation</dc:title>
</cp:coreProperties>
</file>