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BBB-C2BE-4313-A47E-6FFBAB44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493-A612-4D3A-B1ED-51D0763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C9B-88FF-40F7-AF62-8A6A5646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998-3CBA-4DA7-A0DD-CEE18572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49FC-8EFD-4892-9C43-21C21916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61DE-E7D9-433E-81E7-236115F7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227-F19D-4BD2-A2A4-16D2519D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D577-3AF6-4AD2-837C-EFE39E869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82F4-052C-4428-A006-93EFAA4C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0219-0B89-401B-AB02-4EF31718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CA72-BE7B-4F64-8759-8F144B67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D34-EF0D-4BB9-A2D3-EC63C809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284F-FFC4-4F15-941A-29F0C03F0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rue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828800"/>
            <a:ext cx="868680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6676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vern all by thy wisdom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so that my soul may alway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be serving the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s thou dost will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and not as I may choos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rue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5360" y="990720"/>
            <a:ext cx="31129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eresa of Avila, Spain, 16th cent.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Do not punish m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I beseech the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by granting that whic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I wish or ask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if it offends thy love,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which would alway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live in 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370160"/>
            <a:ext cx="876312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Let me die to myself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that I may serve the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let me live to thee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who in thyself art the true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35:33Z</dcterms:modified>
  <cp:revision>24</cp:revision>
  <dc:subject/>
  <dc:title>PowerPoint Presentation</dc:title>
</cp:coreProperties>
</file>