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0D2-706B-47D4-B74F-5547276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AC2-ECFF-4502-AC2D-2FF70A9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2BDD-5D8E-4427-958D-C659DCE8F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D02-0FD2-400F-B60C-DCF591CA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659C-5BA3-4AC0-823C-B0DA1DCB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4A8-7A40-4D1C-8463-A9286AD3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CD4-7BEC-417E-A55E-3DF03CCB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655D-271F-4F9D-9AB7-28A0704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3FB-393F-4B65-B54C-C321BCBF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AA2-DCFF-4CEF-8BD7-58AEA697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A1B-EACA-46B0-9412-7FF62C3C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8B5-71F9-45D6-9095-CC8F056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6F0-D9FE-4B30-90D4-75458A05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hildren of the Heavenly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1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ildre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ly in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som g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25, renewed 1953 Augsburg/Fort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6720" y="1066680"/>
            <a:ext cx="8181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Caroline V. Sandell-Berg, 1855; trans. by Ernst W. Olson, 19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stling bird no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refu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r wa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od his own d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 and nouris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rts they flouris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gs he spares t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ms he bears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either life n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shall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Lor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 sev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he show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s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e know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ough he giv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he tak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is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’er forsak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ren of the Heavenly Fa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he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pose sol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eserv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6:32Z</dcterms:modified>
  <cp:revision>34</cp:revision>
  <dc:subject/>
  <dc:title>PowerPoint Presentation</dc:title>
</cp:coreProperties>
</file>