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9C0C-1139-4A0E-83F2-DC18A3C30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8AD9-F451-4396-B5CE-2B124C1B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EE02-AF5B-441E-98CF-C9CC08E4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CBDD-0A34-459D-980D-B5B66A944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82BE-3879-42E6-B373-A377DE73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4791-7AB0-4B67-865C-0BD6B57C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1D79-8742-465D-A7C5-73DCE013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038D-B619-4D4E-9ADC-FC33440D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3C43-7026-4E71-8833-416147C3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9E44-89B2-42D5-BBCB-20481BFE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34DF-1041-4BD7-8DBF-55A7A35C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2829-9192-43BA-8649-5ED7FEBE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B64C-F784-4CC4-86B6-78D30F2FE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or a New 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7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981080"/>
            <a:ext cx="8763120" cy="3749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We give you hearty thanks</a:t>
            </a:r>
            <a:br>
              <a:rPr sz="4800"/>
            </a:b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   for the rest of the past night</a:t>
            </a:r>
            <a:br>
              <a:rPr sz="4800"/>
            </a:b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   and for the gift of a new day,</a:t>
            </a:r>
            <a:br>
              <a:rPr sz="4800"/>
            </a:b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   with its opportunities of</a:t>
            </a:r>
            <a:br>
              <a:rPr sz="4800"/>
            </a:b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   pleasing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 New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00040" y="1143000"/>
            <a:ext cx="2750400" cy="39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Eastern Orthodox Prayer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143000"/>
            <a:ext cx="8763120" cy="4861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Grant that we may so pass its</a:t>
            </a:r>
            <a:br>
              <a:rPr sz="4800"/>
            </a:b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   hours in the perfect freedom</a:t>
            </a:r>
            <a:br>
              <a:rPr sz="4800"/>
            </a:b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   of your service,</a:t>
            </a:r>
            <a:br>
              <a:rPr sz="4800"/>
            </a:b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   that at eventide we may</a:t>
            </a:r>
            <a:br>
              <a:rPr sz="4800"/>
            </a:b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   again give thanks unto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66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7:49:24Z</dcterms:modified>
  <cp:revision>14</cp:revision>
  <dc:subject/>
  <dc:title>PowerPoint Presentation</dc:title>
</cp:coreProperties>
</file>