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76A2-42D2-44E7-BF28-E5021ABE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7160-6929-421D-A740-16E53832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E6ED-A029-4037-959F-F4681D04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319-4BFB-4E83-AA16-DADE3986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C1CF-BCEF-466D-9020-36BFDEA5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AB7F-0B48-45E6-821A-77F87864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EFE1-D1EB-4CC1-86CF-D97B3464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BAA6-279D-4F05-8139-F2E7A1DF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C003-072D-4C48-A2C2-5128DBD3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A903-DE04-47CC-B61D-24C0D047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81ED-E51F-48DB-8BDC-C515B0EE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387F-707A-440F-A604-22FB2668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5551-3A4C-4D64-9B58-D3F910F74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A Covenant Prayer in</a:t>
            </a:r>
            <a:br>
              <a:rPr sz="4000"/>
            </a:b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the Wesleyan Tra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6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981080"/>
            <a:ext cx="8305560" cy="43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I am no longer my own,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but thine.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Put me to what thou wilt,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rank me with whom thou wilt.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Put me to doing,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put me to suffering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venant Prayer in the Wesleyan Trad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2120" y="820800"/>
            <a:ext cx="811512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et me be employed by the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r laid aside for thee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xalted for the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r brought low for thee.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et me be full, let me be empty.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et me have all things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let me have noth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455760"/>
            <a:ext cx="803916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 freely and heartily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yield all thing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o thy pleasure and disposal.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now, O gloriou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blessed Go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ather, Son, and Holy Spirit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ou art mine, and I am thine.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So be 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735200"/>
            <a:ext cx="834372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the covenan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hich I have made on earth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let it be ratified in heav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4:56:04Z</dcterms:modified>
  <cp:revision>15</cp:revision>
  <dc:subject/>
  <dc:title>PowerPoint Presentation</dc:title>
</cp:coreProperties>
</file>