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60B-A0FF-4BA7-B658-36A6008E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002-ADB9-4BAA-8D10-48F607AC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40C-6795-4257-8546-66DC8F11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A8F-7F67-4B88-9D0F-20B1303C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3A6B-FB08-496D-8D6E-5A6BA56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35D-23DC-4B2E-93A5-853D80D5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107-FDD9-4DBD-8E61-D52599B3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009-4158-4503-A229-B4C65509E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65C-6850-4784-83E4-EDC6D005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759-C72A-4A09-8DCE-98EA21CD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6D6F-6788-4DB5-9441-C542E36D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96F7-F282-4969-A803-B25457E5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1CBC-AE74-442C-8CA1-8958FCC02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y Word Is a La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7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word is a lam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4 Meadowgreen Music Co. / Bug and Bear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my Grant, 1984 (Ps. 119:1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en I feel afrai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nk I’ve lost my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you’re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 beside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othing will I f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long as you are near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ase be near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word is a lam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Now I will not forg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 for me and y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for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wande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be my gu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old me to your s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 will love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word is a lam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my f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my p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Word Is a Lam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9:22Z</dcterms:modified>
  <cp:revision>102</cp:revision>
  <dc:subject/>
  <dc:title>PowerPoint Presentation</dc:title>
</cp:coreProperties>
</file>