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EA0-F51C-4A82-AE8F-01A0482D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0D6-C310-43CA-ACAA-F2E9431B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CEF-D67A-43D9-93FA-0B6BCEF2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F13-9E31-4427-8351-AD1886D8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A98-9733-4902-81FC-574AD994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E78-7C62-4F54-BA8B-4A11D37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A2E-BCF6-46D7-85AF-CE378DCA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94C3-F9E9-42CC-86C6-A365736D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7094-0F1C-45B6-810F-BFD8B1C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0BF8-8F81-4182-B224-A0E9E945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743-0FB8-4624-A9DB-E7C6B41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074-B47F-4701-B0C2-DE0E3AD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96A1-01B3-4AD6-A9D5-CA3601571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, Thy Boundles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, thy bou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hought can rea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ongue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51480" y="1549440"/>
            <a:ext cx="5444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Paul Gerhardt; trans. by John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suffering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m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eakness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m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the st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, in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ortan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eath a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my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ve m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or me has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knit my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ign wit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ival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whol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alone I a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onstan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grant that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dwell, bu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love al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ssess me who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, my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nge flames a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my soul re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every act,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t, b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ve, how che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y ra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ain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esence fli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Thy Boundless Love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, anguish,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thy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ms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Jesu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may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hear, fe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ink, but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28:35Z</dcterms:modified>
  <cp:revision>13</cp:revision>
  <dc:subject/>
  <dc:title>PowerPoint Presentation</dc:title>
</cp:coreProperties>
</file>