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4B3-6143-4B31-B266-7853BB24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504-8288-4752-96CA-C7FE7EFB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69F-C031-4D43-B6EB-21376B11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92E-C683-4E6C-9133-5C3F1EC2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B14-5766-442A-8D76-694A0FCB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045-1670-401E-A948-F0ABA205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261-289B-470E-B168-780831D7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207-9415-4F1A-9F45-5DD690CD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B64-02AF-47F4-8496-7B1654DD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64F-B3A9-4059-BAD3-2768B870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73F-4721-417E-8904-00E86A1C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104F-C3DE-4466-9953-DDA9FA4D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3428-F18D-4A48-B77F-DD838C83E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Send M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828800"/>
            <a:ext cx="8610480" cy="4669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  1. Send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send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send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sen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4 Utry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09080" y="1139760"/>
            <a:ext cx="3541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Trad. South African (Is. 6: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287360"/>
            <a:ext cx="8686800" cy="4299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Lead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lead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lead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lead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287360"/>
            <a:ext cx="8610480" cy="4299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Fill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fill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fill me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fill me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Me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9:14Z</dcterms:modified>
  <cp:revision>9</cp:revision>
  <dc:subject/>
  <dc:title>PowerPoint Presentation</dc:title>
</cp:coreProperties>
</file>