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7BB6-673F-43F1-BEF5-74A8562C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C5B6-EDF2-49CE-8141-62A2DB80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1EAD-EB1F-41AB-A570-754AE2FE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404-124E-461A-9E5E-43C8E7A2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C37D-CB7A-4B39-8723-D516344B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1E5C-5F72-4098-8DDD-6D252631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0C1-8BD2-476A-BE6E-126EB68E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F66-DB25-47A5-9D1E-522B9A6A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8B4-0EFE-49DA-A211-79E9A969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E26-FD2F-494A-825B-D4087F58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2685-8A2E-4DF8-8267-20CDFD3F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9B74-EAC1-4301-B071-9B9142D8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2D65-7300-47D5-A0B0-2B2B48782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y Trib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36232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 be the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 be the glory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 be the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things he has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© 1971 Communiqu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Arial"/>
              </a:rPr>
              <a:t>é Music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Trib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50400" y="1168560"/>
            <a:ext cx="36403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Andraé Crouch, 197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his bloo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has saved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his power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has raised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o God be the glor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e things he has do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5:02Z</dcterms:modified>
  <cp:revision>15</cp:revision>
  <dc:subject/>
  <dc:title>PowerPoint Presentation</dc:title>
</cp:coreProperties>
</file>