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7E2-A7BD-4DD8-BED8-022EA6E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132-D170-402A-9072-8983A928D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C2FA-4A6F-437D-90B4-A415C883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8C7-F886-4F88-92FD-749C42C3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7EF4-F20C-402C-A234-374DD098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1192-96AB-49A8-8A07-10D16D86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648-4F93-479F-A679-05312D62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69A0-9ADE-4AF5-BC4A-CC89FB50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70F-A37E-4A81-94F0-A6FADD2B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CE7F-29E4-4C3B-B1A5-49C112DF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BCD-7FB2-454D-BBDD-216F072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B67-51E4-427E-B411-EDED21A3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0331-B973-4FB8-A11B-6805391E8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reat Spirit, Now I Pr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(Daw-Kee, Aim Daw-Tsi-Ta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Spirit, Now I P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Kiowa Prayer, para. by Libby Littlechief, 198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pray now to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eat Spirit, hear me;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© 1982 The United Methodist Publishing 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84560"/>
            <a:ext cx="9144000" cy="82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1981080"/>
            <a:ext cx="48412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soul is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w I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your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dwell in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057400"/>
            <a:ext cx="73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w-Kee, Aim Daw-Tsi-Taw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133720"/>
            <a:ext cx="732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E, AI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TSI-TAW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O-AW-BAY TAW HA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480" y="1676520"/>
            <a:ext cx="759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 KEE AAL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I DAHM GYA DAW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DAW-KEA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PBAY-GY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AH TSAHN-DAY-TOAW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5:42Z</dcterms:modified>
  <cp:revision>91</cp:revision>
  <dc:subject/>
  <dc:title>PowerPoint Presentation</dc:title>
</cp:coreProperties>
</file>