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15C-CF4D-4339-962B-3DE696A7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4DA-13E2-4999-9880-9029417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4B1-0715-476D-A374-71528892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F7D-5AAE-4DCC-B0A9-252ECFDE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E0F-375A-48B5-8D14-A46D2B88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569-FFB7-4525-BE22-2149738C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1EA-9FBE-4F7C-860F-36EC2870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073-BFEF-4398-98D3-C1FA5A87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EE3-0A21-4AAA-BEBC-DCE65F2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4DE4-F514-4082-B91F-C6D1D423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261-3D0E-43B8-97BE-317B46D0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996-B163-496C-BF1F-FFB016F7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481-ADC6-48C0-8CBC-40C209CAF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nto! </a:t>
            </a:r>
            <a:br>
              <a:rPr sz="40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eginald Heber, 1826; trans. by Juan Bautista Cabrera (Rev. 4:8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ñor omnipot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empre el labio mí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res te dar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 adoro rever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en tres perso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ita Tri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inmensa muchedu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ngeles que cumpl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santa volunt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e ti se post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da de tu lu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que has si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res y será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s que estés vel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 imposible s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gloria contempl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nto t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 eres sól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nada hay a tu la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poder perfect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za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¡ Santo! ¡ Santo! ¡Santo!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gloria de tu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mos en tus ob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cielo, tierra y m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¡Santo! ¡Santo! ¡Santo!!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Santo! ¡Santo! ¡Sant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 ador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todo ho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os en tres perso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ndita Tri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40Z</dcterms:modified>
  <cp:revision>13</cp:revision>
  <dc:subject/>
  <dc:title>PowerPoint Presentation</dc:title>
</cp:coreProperties>
</file>