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75BE-E10F-4587-8D4A-64D0D4BDE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381-A046-4F56-9710-4254B6A8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C682-D43E-478D-857B-98B26D05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497-02A9-4EC4-9806-0F3F4615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7D70-836A-4278-BCEF-F1CD408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8A4-F73C-43C1-AF08-6D3A4EBA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213-DD06-47A3-AD4E-713C6C43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11E-B5E4-4DFD-A7D0-2A8CA85D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444-537D-42A0-9444-1A014404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D49-FA19-45E0-9A9E-C9801435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275-3AEA-4EA4-8E1C-50616E6E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045-B8D7-4F0D-A6CA-B8533D85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5B0D-D462-4312-A393-0D3C59FDA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 Calls 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 call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’er the tumul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lif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d, restless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42000" y="990720"/>
            <a:ext cx="4889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cil Frances Alexander, 1863 (Mt. 4:18-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our heart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ne obedi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rve and lov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t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 by d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weet voice sound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llow m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of o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postles heard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Galilean lak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ed from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il and kind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ing all f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Jesus call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worshi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v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rld’s golden sto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ach ido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ould keep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ying, “Christi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me mor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n our jo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our sorr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ys of to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urs of 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ill he calls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s and pleasur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Christian, love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e than thes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Jesus calls 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y merc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or, m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hear thy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 Calls 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53:13Z</dcterms:modified>
  <cp:revision>19</cp:revision>
  <dc:subject/>
  <dc:title>PowerPoint Presentation</dc:title>
</cp:coreProperties>
</file>