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00E-AFAE-4A4C-B35A-2ACA37ED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A73-BEF0-4E25-AF18-AA119AF6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743-4F8C-4B3B-8E13-5BAABF09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EA54-E4CB-4A06-97FF-8BAA85FC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F59-A80B-42D9-A33C-67C0251E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494-D5D8-4B77-96D7-866089BC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ACA3-FD15-4F5E-B236-E9DB0B31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819-9243-4E6B-9989-5A86C6CC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B2B-D204-4A31-AC33-64E305C2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4EC-250F-4F6B-B880-2A09E879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544-48E9-49AE-865D-720338D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D9B6-D6F0-476B-9EBF-7ACE4349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31C4-1B20-4DCD-BCED-F4641FAF5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 Still,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is on your sid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r patient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ss of grief and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5520" y="1066680"/>
            <a:ext cx="74365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Katharine von Schlegel, 1752; trans. by Jane Borthwick, 1855 (Ps. 46:10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to your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rder and prov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chan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faithful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b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venly fri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orny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s to a joyfu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od will under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uide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ages p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onfid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nothing shak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now myste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bright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aves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ds sti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rist who ru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while he dwelt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ur is hastening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with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Still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disappoint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ief, and fear are g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 forg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’s purest joys rest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still, my so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chang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rs are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safe and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meet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9:03Z</dcterms:modified>
  <cp:revision>9</cp:revision>
  <dc:subject/>
  <dc:title>PowerPoint Presentation</dc:title>
</cp:coreProperties>
</file>