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CC8C-681D-4C00-A80E-E10D730E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B27-2151-4BE3-87D3-F531DA90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A58-2597-456E-A100-E1D040AD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33E-977D-429B-AA73-4566BBC1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5E7-CC9B-4C52-8094-A7A861E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C0A-20E3-42CA-9A49-EB5DD2BB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6781-46EB-4AB1-8B65-1D6867BC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3FF-243A-4D64-BDE6-D3E79C5A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68E4-AFAF-427D-AADF-50A173A9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E6D-98C1-4C5F-8200-F37544E7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C6DC-F952-46B4-892A-3015770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F81-155C-45CC-9400-F0554F5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D7B-7397-40BB-84B6-F20A8A555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776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People That o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rth Do D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ttr. to William Kethe, 1561 (Ps. 1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 peopl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do d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heerful v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serve with m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aise forth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ye befor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Know that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God inde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our 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d us mak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his fol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oth us f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his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oth us t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enter t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ates with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roach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courts unt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, laud, an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his name al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it is seem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o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wh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our God is g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ercy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su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eople That on Earth Do Dw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truth a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s firmly st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e to age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8:58:47Z</dcterms:modified>
  <cp:revision>24</cp:revision>
  <dc:subject/>
  <dc:title>PowerPoint Presentation</dc:title>
</cp:coreProperties>
</file>