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87E-DDBF-4EFE-8F01-A18675F4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249-DBF4-496A-8864-BFADFA8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2C78-C178-42B6-AB9D-2BB6E7D4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790-0050-4F88-BCEB-511B736A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A846-92F0-4906-9360-E9AF8F1E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E9D-41DD-4A70-B063-F9AC97E5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381-BCF7-47F7-97D2-2C514729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0286-64EB-4317-A6EC-5EA4A1B2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67C4-E4FB-4AC9-A299-5DF4DD1AA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364-5B2A-49B7-BDF4-2251D31D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E53-3540-4BF3-A6F6-0308CBE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1E1-C043-4567-976C-0F165D91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1D8D-4595-4271-BFC7-50D2DF4EE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sed Assur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sed assur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is mi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what a foretas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lory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4320" y="1066680"/>
            <a:ext cx="3010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anny J. Crosby, 18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ching and wai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ing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his good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in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ir of salv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chase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rn of his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ed in hi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erfect submi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de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ons of rap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burst on my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gels desc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ng from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choes of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sper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ing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day 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erfect submi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s at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in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 happy and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sed Assur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0:46Z</dcterms:modified>
  <cp:revision>18</cp:revision>
  <dc:subject/>
  <dc:title>PowerPoint Presentation</dc:title>
</cp:coreProperties>
</file>