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A5E-F3A4-4782-B4E9-BC542876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B04-F76B-43F2-BB72-21C82E16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A18-130E-428A-9D5B-D166CFA8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660-2170-4DF7-B225-4FC5ED61A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FD-D4D2-412E-8A9B-B49FA96E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F43-4A02-43BA-8C15-CDB28B46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C4D-B928-46D3-B046-73D8CC32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7F8-ED2B-452C-9B3C-D787462E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D95A-4393-46C1-BCA9-5EAD2DB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1B1-68CA-484D-ADC1-A5EB0473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ACD0-E54D-456B-ADBE-75D5209C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257-7429-4787-96EC-C99E699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77D1-B43D-4939-8383-33840312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a Maid Engaged to Jose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00200"/>
            <a:ext cx="9144000" cy="5081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o a mai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ngaged to Josep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 Gabriel came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 “Fear not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 told h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I come to bring good new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© 198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9080" y="990720"/>
            <a:ext cx="53244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Gracia Grindal, 1983 (Lk. 1:26-28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 come upo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shortl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child wi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God’s chi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6. As Mar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ard the ange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wondered at his words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Behold, I a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handmaid,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e said unto he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o be it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am read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ccording to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r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od news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come to tell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od new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 say, good ne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or you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ghly favor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y God the Lord of al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 even 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with you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on ea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ble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most bles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bless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 chose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you are blest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But Mary wa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ost troubled to hea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’s wor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at was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gel saying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troubled her to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hear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gel’s messag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t troubl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 to h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“Fear no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God is with you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you shall bear a chil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 called Jesu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offspr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h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reign forev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ever reign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 hig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5. “How shall this be?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aid Mar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I am not yet a wife.”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ange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swered quickly, 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“The power of the Most Hig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a Maid Engaged to Josep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21Z</dcterms:modified>
  <cp:revision>60</cp:revision>
  <dc:subject/>
  <dc:title>PowerPoint Presentation</dc:title>
</cp:coreProperties>
</file>