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698-9BF5-4341-ACB9-18456130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111-EC10-40B3-8617-283C91D5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79E-4056-4268-98C0-2EFEA4A3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F7B-706C-4EDD-819F-C1AEE24B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6CD-4AC2-4E0A-B02A-F47BF1A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214-E5FE-4853-8E28-38E0BC4B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F9D-EB6B-48AC-9683-616887A1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3D0-B510-4D40-AE1E-F8DCC1F8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193-BF9D-493E-B153-B6E0F2F8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1741-CDA0-4C89-9D80-48D5600C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FD25-3672-440B-A624-B84D74C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571-AB76-4C25-8A53-C3FC093F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FF7-BEF8-418A-AA6D-3D18EFBB9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’ll Praise My Maker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ile I’ve Brea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’ll praise my Mak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I’ve brea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my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lost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shall empl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nobler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66600" y="1623960"/>
            <a:ext cx="7315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Isaac Watts, 1719; alt. by John Wesley, 1737; alt 1989 (Ps. 1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ays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e’er b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ife, and th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ing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immortality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appy are the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hopes rel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Israel’s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makes the sk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th and se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all their tr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se truth for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nds sec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saves th’ oppress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feeds the po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none shall f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promise v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The Lord pours eyes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n the blin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Lord suppor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inting mi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sends the labo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nscience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3716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helps the strang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istr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idow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fatherl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rants the prison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weet relea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I’ll praise my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lends me breath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hen my v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s lost in dea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raise shall empl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nobler powe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’ll Praise My Maker While I’ve Brea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09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ays of p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ne’er be p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le life, and thou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ing la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r immortality endur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5:15:46Z</dcterms:modified>
  <cp:revision>14</cp:revision>
  <dc:subject/>
  <dc:title>PowerPoint Presentation</dc:title>
</cp:coreProperties>
</file>