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929-4F6D-465C-BFEA-25D2D9AA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E332-F4AC-4AFF-AC37-473AF39D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8B93-8388-4EFC-9445-CC2B150D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CB84-B979-429D-AA8A-F004E86D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5E90-5CA1-4D5D-A6DF-A565233C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F9E-9362-4AEA-8D12-FA6F8008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5EA-2EC9-45CD-9921-6EE0242C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40A-C832-41BC-A3CD-89B3B006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17A-1BD7-41CA-A140-E015A694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D795-A0F2-4AAA-B8DD-D0D4148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AEBA-4FA3-4468-9504-FEF451C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74B6-88D0-4BFB-ABAC-AB0A6CF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137D-76C0-40C6-8792-4B881DB4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For Illumin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752480"/>
            <a:ext cx="8381880" cy="44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00"/>
                </a:solidFill>
                <a:latin typeface="Times New Roman"/>
              </a:rPr>
              <a:t>Open wide the window of our spirits, O Lord, and fill us full of light; open wide the door of our hearts, that we may receive and entertain thee with all our powers of adoration and love.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Illu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3080" y="1052640"/>
            <a:ext cx="3778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Christina G. Rossetti, England, 19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35:47Z</dcterms:modified>
  <cp:revision>20</cp:revision>
  <dc:subject/>
  <dc:title>PowerPoint Presentation</dc:title>
</cp:coreProperties>
</file>