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3EC-1A74-472B-8E88-0CE7C03F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E98-09D8-4FFF-A90D-ECC4A5E0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3F3-AC58-4E40-852F-4A93F6D6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0D2-1943-49A5-B7DC-EAC3993E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CA2-57CE-483E-97BD-B78A3DB5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A98A-F0D5-43D2-8C51-24155BED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47B-F853-4609-9DEC-9F33C45F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F82-66B6-476D-8A22-3AD8C1BA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4E70-2E73-4ACA-876E-FD7E75B4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1E03-23DC-4A71-A47C-3B7C39D0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049-53F7-42D0-A43A-1E120C82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4B5-C48F-496F-B2B4-28A86155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6585-890F-4407-8734-C38BE903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 Up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 Up for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Stand up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e soldiers of the cross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ift high his royal bann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t must not suffer los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5000" y="1523880"/>
            <a:ext cx="4646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eorge Duffield, Jr., 1858 (Eph. 6:10-17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victory un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army shall he l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very f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vanquish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 is Lor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51776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2. Stand up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trumpet call obey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orth to the mighty conflic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 this his glorious da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 that are br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serve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ainst unnumbered fo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ourage rise with da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rength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 oppo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3. Stand up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tand in his strength alon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arm of fles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ll fail you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e dare not trust your ow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t on the gospel arm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piece p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with pray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duty ca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da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never wanting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tand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 up for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ife will not be l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day the noise of batt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xt the victor’s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, Stand Up for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ose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anquish ev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crown of life shall b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w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g of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reign 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8:17Z</dcterms:modified>
  <cp:revision>12</cp:revision>
  <dc:subject/>
  <dc:title>PowerPoint Presentation</dc:title>
</cp:coreProperties>
</file>