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640-E14A-42FC-BF64-86ADDFCF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18D-06E7-4581-9FA9-2E4021E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69C7-6BD4-4C45-8556-A92993F8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2CC-740D-4E1B-8530-80157B91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B352-00FC-47C3-9702-370FB563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7FA-1F2F-477C-991C-56271013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459-AA00-497F-9936-14C3D74F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C3A1-6B98-4BBC-87F9-ECAB4DD8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311-8A56-491C-8EB4-24F65198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9E2-3D17-41F8-8025-C18F1882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D49-5CEE-4A9B-A1E1-9011BC11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20F-5AED-4D06-8F7D-70B2CB3B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0E6C-8A64-4423-AE7A-43105C2B9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s Es Mi Rey Soberano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 Jesus, My King and My Sovereig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54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 Rey sober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gozo es cantar su lo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.  © 1982,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Vicente Mendoza, 1920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. by Esther Frances, 1982, and George Lockwood, 198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ft all his glory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ome lift m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ash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Jesus, my fri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yea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arkness and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 n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alks at my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, hum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s me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 and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hy I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fol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ause he’s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mpanio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ord, tell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ould I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your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ness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ld this be enoug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and lov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itting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ife to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accept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 only now I surrend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happy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joy cam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e ve cual herman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R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e impart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jando su tron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gl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vino a sac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la escor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 es m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igo anhe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n sombras 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luz siempre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ciente y humil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mi 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yuda y consuelo me d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eso constan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 s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que él es mi R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mi ami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yo soy feliz por é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, ¿qué pudie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dar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r tanta bondad para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Me basta servirt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mart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¿Es todo entregar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a t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 Es Mi Rey Soberan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onces acept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 v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 ti so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da rendid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yo soy feliz por t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esus, my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Sovere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y is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my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My King and My Sove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ts me like fami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king, yet 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s all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21:19Z</dcterms:modified>
  <cp:revision>9</cp:revision>
  <dc:subject/>
  <dc:title>PowerPoint Presentation</dc:title>
</cp:coreProperties>
</file>