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62BF-313C-4A07-9D26-48184569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88CC-64FB-458A-8087-853783C5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724-AF59-43BF-BFA3-03EECC1AC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5A3F-0D56-4B65-9173-AD4F67FC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119-B4B0-4996-8D12-6F412619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FCC-62B0-4FEF-A26D-82AE4A16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674-B798-46B5-984B-EC38B4E1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144-14F0-4ADE-A7FE-02617204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45E-FBB5-40FC-92F3-469EC68F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60F-DA5B-4B29-9D78-076FA222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7CB-10B3-4BDA-9509-743943B9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335-A419-4B4A-BF47-6F81C7D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5B22-4E0A-428C-A08F-E0E14D86C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Isaac Watts, 1707 (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08Z</dcterms:modified>
  <cp:revision>55</cp:revision>
  <dc:subject/>
  <dc:title>PowerPoint Presentation</dc:title>
</cp:coreProperties>
</file>