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FE1-BE7B-402F-9AC3-EA86F569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490-E3C8-4997-B4FD-5D144395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99B-DF5A-4434-83A5-E51F03C8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4DE-96C2-4A2D-B25D-4BEA1DA2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C47-AA35-43B3-BFA6-7CDDDCAC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9DD-91F2-4AD4-AB43-1AF89F7F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FA14-54B5-41E7-8049-E40872DA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604-15C1-4B93-87F9-B54D37CB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563-7803-4D22-8469-2FA32AA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E9A-D4F7-4D92-BC76-575BCCA5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49D-6C71-48B9-83B6-02B085A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A984-62F2-4BC1-94B2-5CA6E560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066D-8D85-471B-B046-EDF9FFBB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We All Get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e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of Jes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his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30560" y="116676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Eliza E. Hewitt, 18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one glimps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the toi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rep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3623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71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nward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ze before 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his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be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the pear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es will op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hall t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eets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3623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mans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nd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ll prep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a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ilgrim path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will over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hen trave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are o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shad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s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get to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da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ing that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ll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e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t us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rue and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ing, ser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ll Get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3:58Z</dcterms:modified>
  <cp:revision>44</cp:revision>
  <dc:subject/>
  <dc:title>PowerPoint Presentation</dc:title>
</cp:coreProperties>
</file>