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DB6-03DE-4680-BF78-8F7FC665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88C-C54A-4E89-958D-1A91DE13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EC8-2419-4906-B209-6F928B50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908-E05F-493C-90F6-52E35B95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151-2FCF-4CFC-83E1-4E3AE96D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31E-E12B-43BB-ADD4-4FEFA48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7D1-A6EF-4779-A9EE-7D41BEA1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A57-D090-4F7E-8184-DDC3FB49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DF4A-35CE-4A60-B5DD-24C3765B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DC7-B481-4737-9534-AF61B8D4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426-ABA3-4F5D-B694-E75B05DF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17A-2B48-4AFE-80A2-D89A7AA9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F5EB-6D92-4B21-8149-F563E3A3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the Spirit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uide and Guard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rl P. Daw, Jr. 19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20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d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and guardi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d-sped fl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vering d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unt of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b of mer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iving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you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trength and weak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may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urch exal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see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steadfast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not overlook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faul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un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sterious be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divided and diver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er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inds can fath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reeds rehears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u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varied call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ull im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ocla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our ministrie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giv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voice of prophe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gn of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 of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o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lead your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sh anoin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 them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bold apost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our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vereign, shephe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er, heal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ffering serv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iend of sinn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e of pr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 ten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all pasto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and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hepherd’s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them cour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n through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ed an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reat Creat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best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th beyond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t’s re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e Spirit, Guide and Guardi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3:18Z</dcterms:modified>
  <cp:revision>149</cp:revision>
  <dc:subject/>
  <dc:title>PowerPoint Presentation</dc:title>
</cp:coreProperties>
</file>