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365-5273-412B-84B5-F03EF0BB1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7D9D-1A0E-4BED-B43A-C9E0E686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EA2A-F594-435A-B047-33A1FF3E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2D5-6484-42EB-8A10-A8B37C82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6FA-28D9-499C-B978-709564B6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3C7D-B959-4E6E-A151-3E49E76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58A-6C9B-4870-BB83-67DE440C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161-779B-47A8-B31E-355BEEF8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06E-2E2E-4634-B39F-20C8BD13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A7E1-B03C-435C-8214-D3550AB6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7A43-E02E-49BE-9057-5BF664FC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776-C316-4258-A981-3185E798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13C-1923-4E62-AFBE-1D5EBE28E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ian People, Ra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our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304920"/>
            <a:ext cx="12952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88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Christian peop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aise your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ase away all grieving.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y permission of Saint Andrew 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Colin P. Thompson, 1975 (1 Cor. 15: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your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 made st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Lord’s life receiv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ature’s gifts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at and vin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w are set before u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o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read and win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comes to restore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ome to welco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hrist tod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great revela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s pioneer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a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the new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ian People, Raise Your So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reet the Chri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r risen K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ladly recogniz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ith jo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greet the spr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ut of winter ri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5:46:45Z</dcterms:modified>
  <cp:revision>139</cp:revision>
  <dc:subject/>
  <dc:title>PowerPoint Presentation</dc:title>
</cp:coreProperties>
</file>