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BB8-9755-473D-B710-A4C264A7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E6D-181C-42AC-BE65-FBB0052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D72A-07FF-4733-A149-A089891C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4E7B-DCE9-4CA4-8542-2335FC39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D448-4753-416E-B2E3-BDD5EAB8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8E06-9655-44D7-B1D1-9A9F171A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F8F-A51C-4FB7-8BB5-52A54308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7BE-B3D2-470A-8A63-C00A445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DC1-BE13-4AE4-86F7-FCBFE9C4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FF7-B38A-4816-AACB-52DBBD84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C2F5-5930-4B79-9CCA-9FCD9EC1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10E-2E42-41E9-9A38-5D91D250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68D1-8664-430C-80AA-8438DF90C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Happy Day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at Fixed My Cho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fixed my cho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e, my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600" y="1523880"/>
            <a:ext cx="8078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Philip Doddridge, 1755; refrain from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Wesleyan Sacred Harp,</a:t>
            </a: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 1854 (2 Chr. 15:15)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t’s done: the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ansaction’s don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he Lor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 is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drew m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followed 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rmed to conf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voi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Now rest,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ng-divided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xed on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issful center,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have I f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nobler p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heavenly pleasur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my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ll may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wing heart rej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ptures all ab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High heaven, that he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olemn v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vow renew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dail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in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test hour I b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less in d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ond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happy bo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seals my v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im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its all m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cheer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thems fill his hou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to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cred shrine I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pp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Jesus wa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ins aw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Happy Day, That Fixed My Choi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aught me 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ve rejoi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1:14Z</dcterms:modified>
  <cp:revision>15</cp:revision>
  <dc:subject/>
  <dc:title>PowerPoint Presentation</dc:title>
</cp:coreProperties>
</file>