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03D1-F9B9-4959-9F47-E2C6E60C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641-9E25-4948-8123-5AE9EB28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A673-8129-4FCA-9B17-8E5AADBD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5FDF-20C2-491B-A4AF-07CF9886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27D4-FB3E-41CD-A6E8-E8CCDEC9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63B-2C08-4909-AF4A-BE245C3F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752F-2D61-41C4-8D91-B5EF69FA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956B-A364-4E3A-8759-E1B9BE9C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D4C6-D0A5-4347-A2AD-1C2CEF78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4779-706B-4C67-B5FD-697CBA20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18F-D12E-402D-A36D-29ECF8A5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1617-F518-4E43-BB4A-B28A0310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EBE3-EB7D-46A0-8974-28EB1240D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Jesus, Joy of Our Desi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6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Joy of Our Desi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Martin Janus, 1661; trans. an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Jesus, joy of our desir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y wisdo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 most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awn by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souls aspi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ar to uncreate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ord of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flesh that fashion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f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life impassion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iving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ruths unknow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oaring, d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ound thy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Through the w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hope is gui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rk, what peacef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usic ring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Joy of Our Desi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the flock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e confid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rink of joy fro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eathless spr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s is beauty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airest pleasu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s is wisdom’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iest trea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 dost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thine 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joys 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6:02:53Z</dcterms:modified>
  <cp:revision>147</cp:revision>
  <dc:subject/>
  <dc:title>PowerPoint Presentation</dc:title>
</cp:coreProperties>
</file>