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428-E8DE-41BE-8CEE-378BE959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4B9-6806-4BE4-B5AD-14E94673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234-B38A-4067-8C39-AA2FF4BE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378-B6D6-49A3-8619-38F8EAA8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323-21EA-4EAA-9CB4-44CF8FFD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CA4-7CDB-4BEB-9818-05D5F1CD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B47-BEEB-485B-B538-C9E590D4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E574-BE9C-431D-A0A5-0DB3057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0B9-2524-4673-8EC9-300246CF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0C1-30EA-4905-8BBF-E5A0AC1E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8D6-6EA7-44C8-9DA5-E1AD018C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657-CBEC-4E96-8C3E-996D42C0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8166-BA30-4F6B-94A0-17E1CDB6A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ll Praise to Our Redeeming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554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600200"/>
            <a:ext cx="89154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All praise to our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edeeming Lor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ho joins us by his grac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bids us, each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o each restore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ogether seek his fac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8686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e bids us bui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other up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and, gathered into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our high calling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nd in hand go 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gift which 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ne besto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ll delight to pr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ace through eve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vessel flow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urest streams of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E’en now we th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peak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rdially ag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centered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Jesus’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perfect harmon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We all partak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joy of 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ommon peace we fe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peace to sensu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nds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joy unspeaka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And if our fellowship be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Jesus be so sw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at height of rap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we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round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e we mee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Praise to Our Redeeming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2:05Z</dcterms:modified>
  <cp:revision>62</cp:revision>
  <dc:subject/>
  <dc:title>PowerPoint Presentation</dc:title>
</cp:coreProperties>
</file>