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AFC-61FB-45DE-B16A-7169782B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402-2CE5-46BA-BA5F-9A46B6BBC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2FD-53F1-4CA4-9FBC-B48F9B16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C27-D24F-4CEF-89BD-2A10BEB3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FF2-B96B-44DA-9AA0-25AA3DF0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F14-EFC5-4B74-9175-70A5A5F2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52F-486E-41D9-B7F0-842697BC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5EBA-C8A8-42C6-9E79-8410E378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543-DDD3-4BB2-8512-23EDC674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0221-FA17-403F-9DAE-38D05FBA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344F-64E6-4FB2-9848-B362C9C4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0F0-6935-4831-B3D8-442D3F0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CBBC-6B70-49D7-B5CE-C228A7C5D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 Christ There I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 East or W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4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69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In Christ there is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no east or west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in him no south or north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t. 3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Sts. 1, 2, 4, John Oxenham, 1913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t. 3, Laurence Hull Stookey, 1987 (Gal. 3:2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one gr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llowship of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out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le 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Christ shall tru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every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ir hi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union f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service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olden c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se binding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n Christ is nei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w nor Gree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either slave nor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th male and fema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irs are ma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are kin to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In Christ now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oth east and we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m m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th and north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rist There Is No East or Wes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Christly sou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one in hi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out the who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ea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35:34Z</dcterms:modified>
  <cp:revision>19</cp:revision>
  <dc:subject/>
  <dc:title>PowerPoint Presentation</dc:title>
</cp:coreProperties>
</file>