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125-7124-4562-B611-D59AAE9B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9C58-0FF6-4CED-ADA1-FED8A63C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48F2-5AE7-4906-9CC4-D8B775E3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BC0-38DF-4D94-A237-F39EC67D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402-8B4C-484D-A7C5-4E2B824F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8EE2-6C71-42E0-A4CF-9447BEEC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F2C-2985-44A2-9027-E163E5C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585B-8532-40E3-B76B-E48CA56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515-2B72-4A4E-B61E-831437ED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A00-C1F9-49EA-9A62-A3B5108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3CB-8F6D-46DF-9730-5C14D05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BE3C-9BC1-4BC8-9340-9D046AC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F5C-5660-48FC-AFAD-03E6C4850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the Unity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f Christ’s B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743200"/>
            <a:ext cx="845820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lp each of us, gracious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live in such magnanimit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restrai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Unity of Christ’s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9440" y="1676520"/>
            <a:ext cx="1515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inese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003320"/>
            <a:ext cx="86104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at the Head of the churc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never have cause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ay to any one of u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“This is my bod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roken by you.”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7:48Z</dcterms:modified>
  <cp:revision>13</cp:revision>
  <dc:subject/>
  <dc:title>PowerPoint Presentation</dc:title>
</cp:coreProperties>
</file>