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A86-6ED4-4067-A50A-7A3EACED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688-A664-49CB-889B-54196600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2945-33C9-4B8B-AAE7-F7BA0BE0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0F7-00B4-43DC-B9E7-DB2A563E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3E0F-C32E-4D93-A1DC-2F1EE783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B71C-D62A-4DE8-AB27-1B28E3B6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F9E-B322-434A-B1D8-5B2C236C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8D2-C183-429F-B095-6F0B0A6C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634-9C54-466D-AE6A-18D060CF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9A2-8BC1-414F-9D5D-A414348D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77B2-CEA0-462A-AE52-83C0101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2DF-603F-4162-AE39-CA42DCC9F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49E-B85A-4206-9A41-53E4D26C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vior, Like a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hepherd Lead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ttr. to Dorothy A. Thrupp, 1836 (Jn. 10:1-2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Savior, like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epherd lea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uch we n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tender ca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hast merc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reliev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o clean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ower to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 will ea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We will ear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Early le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ek thy fav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arly let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 thy w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sed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ly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osoms f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love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Thou hast love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ve u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y pleasa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tures fee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our u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folds prep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hast bought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ne we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e are th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dost befrien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the guardi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ou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eep thy flo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in defend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 us when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ast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, O hea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lessed Jesus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 Hear, O hear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Like a Shepherd Lead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ou hast promi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receiv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oor and sin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gh we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22Z</dcterms:modified>
  <cp:revision>126</cp:revision>
  <dc:subject/>
  <dc:title>PowerPoint Presentation</dc:title>
</cp:coreProperties>
</file>