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2B8F-9DCF-4F26-9BBF-B5E874465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BD51-5D63-4BEC-9D9F-D94D89FE3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F28F-9B4D-4F24-B243-84875DD6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A1DF-055B-4A6E-8B45-F74AEC072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3901-19D5-410C-9F9A-9034B797D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A57B-A2CF-4DD9-B6C9-1F32FAB9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D764-383F-417C-AAFD-8B7EDE77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FBA8-ECB1-441A-882C-A8F010B0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884A-6180-4956-8931-59A4D764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F6D6-925C-41E8-9C5F-424125AE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3C61-B6E9-49E0-B63A-724AC8A5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7E7C-3E34-4D9F-8385-0E5B63B5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C98C-4420-4067-9753-F5A8FE6D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A91B-FBDA-40F7-9E06-6374C349E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ake Our Br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Our B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430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Joe Wise, 196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676520"/>
            <a:ext cx="9144000" cy="466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 our bread, we ask you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 our hearts, we love you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 our lives, O Fath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yours, we are you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66 Joe Wise, by permission of G.I.A. Publication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s as we st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the table you se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s as w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t the br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hearts can’t forg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Our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the sig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your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us ye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you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you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Our B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17324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 our bread, we ask you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 our hearts, we love you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 our lives, O Fath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yours, we are you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holy peop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nding wash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your blo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irit-fill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t hung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wait your f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Our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po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we’ve brought ourselv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est we coul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you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you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Our B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17324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 our bread, we ask you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 our hearts, we love you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 our lives, O Fath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yours, we are you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51:27Z</dcterms:modified>
  <cp:revision>137</cp:revision>
  <dc:subject/>
  <dc:title>PowerPoint Presentation</dc:title>
</cp:coreProperties>
</file>