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6C0-4614-4885-A8AC-F78B4372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3584-9B3A-45C7-87D8-268678E3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0D4-9BDD-43C4-A311-CF26F2D7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FF9-5333-49A4-9F6F-26F07414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D38-32BD-4566-905E-CCCEC1F6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C69-3E07-4ED5-81E1-24B64F8F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FA06-B719-40D2-B7B3-0412FE29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6B3-A2E7-4C48-960D-0BA52C0B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937-FA5E-4BDE-9996-DA0D5C69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72AA-500D-4C70-9F0C-B35D03AD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5B5-8153-4E42-8B69-4ADDE6F8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C36-2576-4BA4-AC34-CC6477A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06D4-BC4A-4D0C-806A-E9B088453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Is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05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67, 1980 Scripture in S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77280" y="1066680"/>
            <a:ext cx="4792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salm 118:24; adapt. by Les Garrett, 196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369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6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rej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rejoi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19320"/>
            <a:ext cx="9144000" cy="361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e glad in 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rejoi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e glad in 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446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the Lord hath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55Z</dcterms:modified>
  <cp:revision>16</cp:revision>
  <dc:subject/>
  <dc:title>PowerPoint Presentation</dc:title>
</cp:coreProperties>
</file>