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3E1-7C80-45CA-BA88-DAD4E07C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CF0-584B-40E4-9F5B-C68DDA67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A8E-FAF1-4E06-B658-8ACE3FBB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7FA-F49E-4B10-BF0D-0DEC903C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7C2-D965-4282-8A76-A47D90FA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FF91-225F-4641-A7D8-C6D4DD4A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BB6-EF4E-4682-A228-8EC7458E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A68B-754C-4450-BA85-2E929FD5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EBD-4CE2-4156-9AC3-3E3A2724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BEA-AD43-4A3F-A20A-CDF71FB6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A38-EDEB-4812-B1B4-971CF3C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769-7623-465F-8AB2-286C14B0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54A3-2467-4CA6-B8EF-255DC67DE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Zechariah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Benedict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2623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Advent &amp; Christm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</a:rPr>
              <a:t>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</a:rPr>
              <a:t>great David’s greate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Zecharia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0120" y="1623960"/>
            <a:ext cx="7413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uke 1:68-79, ICET, rev. ELLC; Response, James Montgom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6668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In the tender compassion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of our God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the dawn from on high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shall break upo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28600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to shine on thos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who dwell in darknes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and the shadow of death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and to guide our feet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into the way of peace.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362320"/>
            <a:ext cx="8610480" cy="384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000" spc="-1" strike="noStrike">
                <a:solidFill>
                  <a:srgbClr val="66ff33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Blessed be the Lord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the God of Israel,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who has come to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set the chosen people fr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3623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The Lord has raised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up for u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a mighty Savior from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the house of Davi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6765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Through the holy prophets,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God promised of old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to save us from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our enemies,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from the hands of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all who hate u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6668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to show mercy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to our forebear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and to remembe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the holy coven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7352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This was the oath God swore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to our father Abraha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to set us free from th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hands of our enemie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28800"/>
            <a:ext cx="8610480" cy="384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free to worship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without fear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holy and righteou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in the Lord’s sight,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all the days of our life.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60020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And you, child,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shall be called the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prophet of the Most High,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for you will go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before the Lord</a:t>
            </a:r>
            <a:br>
              <a:rPr sz="4800"/>
            </a:br>
            <a:r>
              <a:rPr b="0" lang="en-US" sz="4800" spc="-1" strike="noStrike">
                <a:solidFill>
                  <a:srgbClr val="66ff33"/>
                </a:solidFill>
                <a:latin typeface="Times New Roman"/>
              </a:rPr>
              <a:t>   to prepare the wa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28195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to give God’s people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knowledge of salvation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by the forgiveness</a:t>
            </a:r>
            <a:br>
              <a:rPr sz="4800"/>
            </a:br>
            <a:r>
              <a:rPr b="1" lang="en-US" sz="4800" spc="-1" strike="noStrike">
                <a:solidFill>
                  <a:srgbClr val="66ff33"/>
                </a:solidFill>
                <a:latin typeface="Times New Roman"/>
              </a:rPr>
              <a:t>   of their si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11:42Z</dcterms:modified>
  <cp:revision>33</cp:revision>
  <dc:subject/>
  <dc:title>PowerPoint Presentation</dc:title>
</cp:coreProperties>
</file>