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BE9-EAAC-4CC4-908C-B32B6D38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0DD-2AF7-4BDB-90F5-24757CC6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707-1443-45C7-89F4-EB84418DC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34E-9A94-49FF-B456-2122F883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4467-FEB0-4B81-8405-973E1AFB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BA5-92D7-4E08-8B91-DB16B18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02B3-FB5C-4D01-AA29-2C53286A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D9F-2F5F-4C88-87B3-1D11664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554-7C35-445F-AD2E-43A1355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36D-669D-4BEF-93CF-6C613D6B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864-860A-406D-AA7B-09DD44BC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BBB-E4C9-4536-9D14-1DD9F724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8CA9-9B7B-47FB-9A57-20F5BA068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Great Thou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uart K. Hine, 19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rd my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in awesome w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id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s thy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m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53, renewed 1981 Manna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n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urden gladly be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bled and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away my s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Christ sha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hout of acclam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me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joy shall fill my heart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I shall b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umble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re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 st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ear the rolling thu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ower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iverse displa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through the woo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est glades I wa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 the bi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sweetly in the tre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look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lofty m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de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r the broo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l the gentle bree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ing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God to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thou ar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when I thi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hi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sp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t him to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carce can take it 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Great Thou 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3:13Z</dcterms:modified>
  <cp:revision>25</cp:revision>
  <dc:subject/>
  <dc:title>PowerPoint Presentation</dc:title>
</cp:coreProperties>
</file>