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044-EBDA-4B8C-8B3B-54E2DB92F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3063-47A3-41DC-B423-D93821C7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8EF-7FD5-42B3-834A-77F21ACE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16BB-0FC3-468B-9D37-9F933B06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9CB-B1BA-4DAF-A9B6-95651B45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48E-2497-4B78-B938-A2CE9E64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61D-0537-4DA9-9C7A-3901BA23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38C-AA12-419B-BCCA-87C05F28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F03-BF69-4094-B689-117043B0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584-1873-41BB-AE09-DE5BBA51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097C-8D57-4E40-A977-E474D16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A89B-E416-436E-9547-E2AA41B6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5AEB-B363-42E3-9D12-32B67B68A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heaves of Summer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Una Espig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12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pes in bunches cut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3 Ediciones Musical PAX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1447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spig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752480"/>
            <a:ext cx="86868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spig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828800"/>
            <a:ext cx="93726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spiga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295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body and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Espig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2:16Z</dcterms:modified>
  <cp:revision>143</cp:revision>
  <dc:subject/>
  <dc:title>PowerPoint Presentation</dc:title>
</cp:coreProperties>
</file>