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D46D8-1E40-4F5B-B8E0-138CE0ED3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BFC79-8970-43B0-B328-BF0D811F8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375F7-6099-4B54-84CF-1EDAE4088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0817C-82DC-4ADA-94DA-6D9463E8F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010AE-A61E-4327-8E8F-0365EE563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B50A2-B1A2-46AD-B972-2ACA17BF3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EA429-407C-45CD-81DA-F0021F978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7106C-BD79-40F8-A240-7150D1A38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4E218-EFF8-4CB1-ADFB-D22EEF389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7C05A-8B18-47F8-9D56-9D5F72518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FB00D-ADC9-49F0-B4BD-845ABBE0A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A8E70-293B-406F-92BF-28EB732A0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F6D69-F2B4-4159-8D5F-ABB665AEE7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80880"/>
            <a:ext cx="9144000" cy="13129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Mil Voces Para Celebra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5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905120"/>
            <a:ext cx="9144000" cy="43664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1.Mil voces para celebra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 mi Libertador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as glorias de su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ajesta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os triunfos de su amo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Trans. © 1989 The United Methodist Publishing Hou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il Voces Para Celebra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194480" y="1139760"/>
            <a:ext cx="6752160" cy="3682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WORDS: Charles Wesley, 1739; trans. by Federico J. Pagura, 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14300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2. Mi buen Se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ñor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Maestro y Dios: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que pueda divulga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u grato nombr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y su honor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encielo, tierra y ma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il Voces Para Celebra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14300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3. El dulce nombr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de Jes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ú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nos libra del temor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en las tristeza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rae luz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perdón al pecado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il Voces Para Celebra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1430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4. Destruye el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poder del mal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y brinda libertad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l m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ás impuro puede da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pureza y santida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il Voces Para Celebra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44792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5. Él habla y al oír su voz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el muerto vivirá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se alegra el trist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corazó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los pobres hallan paz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il Voces Para Celebra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9907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6. Escuchen, sordo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l Se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ñor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labe el muldo a Dio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los cojos salte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vean hoy lo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ciegos al Seño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il Voces Para Celebra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6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9907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7. En Cristo, pue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onocer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á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la gracia del perdó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y aquí del cielo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gozará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pues cielo es su amo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il Voces Para Celebra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7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7:09:52Z</dcterms:modified>
  <cp:revision>16</cp:revision>
  <dc:subject/>
  <dc:title>PowerPoint Presentation</dc:title>
</cp:coreProperties>
</file>