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D21-A12F-4FE4-A092-B3CFF230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062-4F0D-4A14-A0BD-1AA87FBA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6F8-9EDB-4505-903A-EA7F0FF1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158-77D4-45B8-9CA1-971538F4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57C-7B1D-4D53-8372-7F29BDC5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11D-1DAE-4F0E-994E-7A9ED2BE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AF4-FF8C-4F2D-94EE-66B9B872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FEB-B0EC-425D-9E77-E8DA9DE7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DF2-3A63-47D2-918A-CE5CFA6B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ACC-D947-4072-9D4C-80E8F2F4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FCE-0BAD-4477-B66A-421DB8C0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869-AC51-476E-AD47-76E7E462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40C1-031B-43AF-BE5E-FC3D67295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ree Things We Pr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Things We P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Richard of Chichester, England, 13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873080"/>
            <a:ext cx="8039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anks be to thee, O Lord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Christ, for all the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benefits which thou hast given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us; for all the pains and insul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which thou hast borne for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003320"/>
            <a:ext cx="853452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most merciful Redeemer, friend, and brother, may we know thee more clearly, love thee mor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dearly, and follow thee mor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early, for thine own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56Z</dcterms:modified>
  <cp:revision>158</cp:revision>
  <dc:subject/>
  <dc:title>PowerPoint Presentation</dc:title>
</cp:coreProperties>
</file>