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25E-EEB2-4807-B4F8-085EBF1C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0B99-172B-4FB4-B3A3-E3261B5A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DE9-8BE4-4EEF-BAD3-F046ED20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D4F-EE17-4E57-AF7C-B5419BC6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C13-2190-41A5-9607-56087B4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755-BF4E-4213-B750-662D2FA4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D52-2BCB-4082-A705-493BF641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67D-E53F-4EEB-A2B0-0DCD87AF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2EA-AB15-41DC-A947-5415DC50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CF0-CA3D-4552-9E5F-4D543302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10A-1AA1-414D-B001-6D9510BE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7A2-1EDF-4722-955E-DCBB128A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EAAF-3D39-4FD6-9379-1EE1119EC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Jesus, I Have Promi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ou forever near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5240" y="1066680"/>
            <a:ext cx="3928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E. Bode, ca. 1866 (Lk. 9:5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hall not fear the batt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thou art by my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wa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path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thou wilt be my gu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let me feel thee near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is ever n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ee the sights that dazz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empting sounds I h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es are ever near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ound me and with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Jesus, draw thou near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ield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ul from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let me hear thee spe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ccents clear and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the storms of pa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urmurs of self-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peak to reassur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asten or contro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peak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me list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guardian of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Jesus,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t prom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who follow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here thou 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shall thy servant b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Jesus, I Have Promis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Jesus, I have prom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rve thee to the 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ive me grace to fol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Master and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1:37Z</dcterms:modified>
  <cp:revision>18</cp:revision>
  <dc:subject/>
  <dc:title>PowerPoint Presentation</dc:title>
</cp:coreProperties>
</file>