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0BE-DA45-4058-A20C-63724D2D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4A0-0289-4891-AEDB-87B353DE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D63-965E-4133-9D3E-E037D478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2D9-C1EB-4011-915C-4120EB07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762-F517-4198-BC84-6E6C92FC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D26-F4F5-4439-B081-35E76A17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D972-42E5-4007-A017-1E98BA34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21B-38EE-443D-B08D-3C6708FA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CBA-370F-49C0-8501-F5417946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E968-ABCB-4BF0-B487-91543EC8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AA9-1454-473B-843F-C94AD3F7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978F-72A9-45A8-99F4-A2C23826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34F7-8311-4F17-9C93-4657B510A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Is Born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Il Est 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94920" y="1585800"/>
            <a:ext cx="4757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rad. 19th cent. French carol; trans. an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Jesus,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ing as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among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rough long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phets have foret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long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the 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come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O how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p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this perfec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p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cious gi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umank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49:52Z</dcterms:modified>
  <cp:revision>74</cp:revision>
  <dc:subject/>
  <dc:title>PowerPoint Presentation</dc:title>
</cp:coreProperties>
</file>