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349-7435-45FA-9C09-AD2F3A62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0EF-FD57-4210-8E74-417E0D95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272-9664-432D-9171-FF66C7F5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D44-DDE7-46BF-A5C5-D143B25A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B60-A691-48EE-AC9C-5D432693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9326-963A-4B97-8CEA-C22A8AAC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A79-41FB-4A1D-A3F5-A4F2B9E3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69E-136F-4F57-8E72-52726FF7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3BC-4EDF-48CD-A454-F3181080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E717-AA42-4168-8AF0-232BDD2E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746-9C1A-4CE5-A9E7-79C21126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B97-14A9-4A28-B6CB-A69A656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E863-37ED-4272-B9BD-A21020FE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ticle of God’s Glor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Gloria in Excel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Arial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ESPONS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in the highest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eace to God’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opl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God’s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10800" y="1676520"/>
            <a:ext cx="5665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2:14; John 1:29, ICET, rev. E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27000"/>
            <a:ext cx="8763120" cy="5014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lory to God in the highe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peace to God’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people on earth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 God, heavenly Ki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lmighty God and Fathe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859040"/>
            <a:ext cx="8763120" cy="317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worship you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 give you thank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praise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 your glory.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4778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 Jesus Chri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ly Son of the Fathe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ord God, Lamb of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take away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in of the worl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859040"/>
            <a:ext cx="8763120" cy="317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e mercy on u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are seated at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ight hand of the Father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receive our prayer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47780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you alone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Holy On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lone are the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alone are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ost Hig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71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glory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od the Father.  Amen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49:19Z</dcterms:modified>
  <cp:revision>30</cp:revision>
  <dc:subject/>
  <dc:title>PowerPoint Presentation</dc:title>
</cp:coreProperties>
</file>