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224-DF38-48A9-AEA5-7EF8135C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708F-B8A2-477B-AAFC-0316A5EE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D19-3BD8-43F7-BAEA-28103E95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8F6-B255-40B6-9EBC-8747F63F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DEB-84B2-40BB-8A6F-4C86F0F4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CFC-F223-414D-A3FA-F5ED8ECF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1F5-7D5C-4395-A824-53AD5383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95F-3AE0-4A13-B0C2-09EDC4C7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4DA-0143-4150-89ED-F4FE405F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4F6-C002-451D-AE85-336E53BD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536-4842-49AF-99DD-4A9B9A2F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7B5-1EDD-48B0-95E0-4EC118E3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9108-2A40-4672-B553-1BE08492B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Created Heaven and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God created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 and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perfec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ought to bi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© 1983  Boris and Clare And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84360" y="1014480"/>
            <a:ext cx="5464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Trad. Taiwanese hymn;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trans. by Boris and Clare Anderson, 1983 (Gen. 1:1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great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de dark and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revol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and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et us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mercy grea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our nee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love awai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who fash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at li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each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blessing g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God is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ll ever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ols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re vani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ndmade god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od and cl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not help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But God’s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yond comp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ves us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death’s desp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Created Heaven and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 earth’s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mall and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for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essed st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45:47Z</dcterms:modified>
  <cp:revision>13</cp:revision>
  <dc:subject/>
  <dc:title>PowerPoint Presentation</dc:title>
</cp:coreProperties>
</file>