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806-5D08-41F2-9D74-F1E2DFD7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5845-CB33-4F4D-A701-981507BD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2106-736D-4631-825A-427E3632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443C-7B7B-45AC-97D3-D9130FBF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9B1-9D99-4A8B-B617-1F2F7BD9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EC4-CD2C-4BFA-A4B8-03714634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579-F8A6-4DBA-9850-F1F728A2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881-A155-4883-A04C-862929AE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3A2-DB0A-461A-8D39-3E624BCF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3C8-B479-45DF-A396-BA6A2D0A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C672-21E3-4282-8065-43AAA438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4A4-841F-4E1C-91E1-A56AABF8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2314-2FE0-442F-895A-DE2BD1E86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x Me,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Jesus)</a:t>
            </a:r>
            <a:br>
              <a:rPr sz="44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fix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02680" y="1066680"/>
            <a:ext cx="5138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frican American spiritual (Rev. 6:11; 7:9-14)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9144000" cy="48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ng white ro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tarry cr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fix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90720"/>
            <a:ext cx="9144000" cy="48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journey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43000"/>
            <a:ext cx="9144000" cy="446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dying b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95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Jesus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fix me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Jesus)</a:t>
            </a:r>
            <a:br>
              <a:rPr sz="44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fix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x me, Jesus, fix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 Me,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14:19Z</dcterms:modified>
  <cp:revision>13</cp:revision>
  <dc:subject/>
  <dc:title>PowerPoint Presentation</dc:title>
</cp:coreProperties>
</file>