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041B-CC7A-40E2-9667-2992A450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F604-D11E-4228-A98F-2B5B3AF9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D9E-8AC0-4E38-93F0-6AD73FEF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C5C7-8F9C-4C68-8BB4-196042C9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A06-B534-4190-AD0B-090D7AEB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741-40A2-480C-8D30-58E0DC4B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4C23-6F07-4FC1-A837-374B95F8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BDB-A0B6-4B94-86D0-A385F330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361-8592-4AD8-9EBE-E1E2984D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76E-B4A8-4FC4-8B23-AFD20784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602-541B-414B-9455-9FCB1551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27C0-43ED-476F-9E3A-C9869A4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D875-6BD0-412C-A94D-3FD6861D1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4920"/>
            <a:ext cx="7848720" cy="703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y Soul Gives Glory to My G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772400" y="304920"/>
            <a:ext cx="1371600" cy="76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438280"/>
            <a:ext cx="9144000" cy="40683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1. My soul gives glor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o my God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My heart pours</a:t>
            </a:r>
            <a:br>
              <a:rPr sz="5000"/>
            </a:br>
            <a:r>
              <a:rPr b="1" lang="en-US" sz="5000" spc="-1" strike="noStrike">
                <a:solidFill>
                  <a:srgbClr val="99ff66"/>
                </a:solidFill>
                <a:latin typeface="Times New Roman"/>
                <a:ea typeface="Arial"/>
              </a:rPr>
              <a:t>out</a:t>
            </a: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 its praise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66"/>
                </a:solidFill>
                <a:latin typeface="Times New Roman"/>
                <a:ea typeface="Arial"/>
              </a:rPr>
              <a:t>© 1978, 1987 Medical Mission S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4120" y="990720"/>
            <a:ext cx="6429240" cy="414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ORDS: Miriam Therese Winter, 1987 (Lk. 1:46</a:t>
            </a:r>
            <a:r>
              <a:rPr b="1" i="1" lang="en-US" sz="2100" spc="-1" strike="noStrike">
                <a:solidFill>
                  <a:srgbClr val="ffff00"/>
                </a:solidFill>
                <a:latin typeface="Times New Roman"/>
              </a:rPr>
              <a:t>b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-55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819520"/>
            <a:ext cx="9144000" cy="3141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God lifted up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my lowlines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in man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marvelous way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18288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2. My God has don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great things for me: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yes, holy is this name.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ll people will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declare me bless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and blessing they shall claim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3. From age to ag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o all who fea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uch mercy love impart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dispensing justic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far and near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dismissing selfish heart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67652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4. Love casts the might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from their throne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promotes the insecure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leaves hungry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pirits satisfied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the rich seems suddenly poor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600200"/>
            <a:ext cx="9144000" cy="46645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5. Praise God, whose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loving covenan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supports those in distress,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remembering past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promises</a:t>
            </a:r>
            <a:br>
              <a:rPr sz="5000"/>
            </a:br>
            <a:r>
              <a:rPr b="1" lang="en-US" sz="5000" spc="-1" strike="noStrike">
                <a:solidFill>
                  <a:srgbClr val="66ff66"/>
                </a:solidFill>
                <a:latin typeface="Times New Roman"/>
                <a:ea typeface="Arial"/>
              </a:rPr>
              <a:t>with present faithfulness.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Soul Gives Glory to My Go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Verse 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1:01:34Z</dcterms:created>
  <dc:creator>Steve</dc:creator>
  <dc:description/>
  <dc:language>en-US</dc:language>
  <cp:lastModifiedBy>jeriksen</cp:lastModifiedBy>
  <dcterms:modified xsi:type="dcterms:W3CDTF">2002-12-11T17:14:53Z</dcterms:modified>
  <cp:revision>50</cp:revision>
  <dc:subject/>
  <dc:title>PowerPoint Presentation</dc:title>
</cp:coreProperties>
</file>