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B993-769D-4FA5-981C-61E7DE5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B1B8-5814-41F4-A747-46552720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06A-D0B6-492F-9135-83791AD2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9AD-C8C9-4AFB-9447-8AF54858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044-0A24-4235-AE89-68DE3D04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FA7-0291-4503-9E06-5C7B442E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266-3698-4570-9CD8-3B50D9F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C969-476F-437C-990B-FA300908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034-2467-44F3-A12C-D56E7A85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998-2656-4464-92F8-6D895EA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F886-1998-4006-A3F5-53C977B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0FD-BBE0-451E-8926-D156117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AB4E-22BD-42AE-B42B-0337CEA4F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ing Low, Sweet Chari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49480" y="1143000"/>
            <a:ext cx="50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African American spiritual (2 Kg. 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brightest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can s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in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looked over Jord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at did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and of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afte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f you get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I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all my frie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coming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ng low, sweet chari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 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’m sometimes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sometimes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ng Low, Sweet Chario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still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s heavenly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ing for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ry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42Z</dcterms:modified>
  <cp:revision>48</cp:revision>
  <dc:subject/>
  <dc:title>PowerPoint Presentation</dc:title>
</cp:coreProperties>
</file>