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C255-075F-4AAC-A99E-627C2F4C9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AE7B-F296-4C70-A501-24E693F6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DE72-D8A7-4C71-A35F-C41436759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BA07-5C04-431E-A354-34400A19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248F-F53E-451C-90F0-B8C519FF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DA8C-8CA0-4328-9A91-25A16FBC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9552-0399-40C4-B217-CF9FA335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71F-6DBE-407B-B500-1DB993D3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213-B5DE-4E03-A777-2E871642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0FE3-4F61-4A05-9EB6-D37286AF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2D18-5D6F-495A-BAA7-37C75E33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D06D-5357-44D0-ACE1-657891BB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59A2-5746-4C9D-A55E-04E0A9470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ny Gifts, One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God of change and gl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time and sp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n we fear the fut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ve to us your g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74 Al Carm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15640" y="1143000"/>
            <a:ext cx="3312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Al Carmines, 197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we s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shadows par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ny gifts fr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great hear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0666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ny gifts, one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love known in many way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our difference is bles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diversi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praise one Giv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Lord, one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Word know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many way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llowing our day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Giver for the gift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e, praise,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00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the midst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anging way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ive us sti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grace to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666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ny gifts, one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love known in many way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our difference is bles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diversi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praise one Giv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Lord, one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Word know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many way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llowing our day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Giver for the gift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e, praise,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God of many colo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 of many sign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have ma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s differen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essing many kind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the old way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isapp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your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st out our f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9072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ny gifts, one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love known in many way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our difference is bles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diversit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praise one Giver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666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Lord, one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Word know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many way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allowing our days.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 Giver for the gift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raise, praise, prais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Freshness of the morn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ewness of each nigh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are still creat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ndless love and l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y Gifts, One Spiri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09:19Z</dcterms:modified>
  <cp:revision>32</cp:revision>
  <dc:subject/>
  <dc:title>PowerPoint Presentation</dc:title>
</cp:coreProperties>
</file>