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E22-594F-45F6-91A4-B651E8F8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5FA-BE52-434F-A46E-86DA699E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C7A-5645-4A17-A9FF-64E9D33C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BEE-2BD3-4277-823F-39068724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0D4-45BC-4289-AFDC-FF05EC8B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BC94-5A88-4D07-BE95-B8C8CF9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7129-268E-4F6B-91EB-488BE6CF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C081-FA16-4886-B092-CC2C7D0A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83B-0C05-4DD0-B425-AFD9C1BA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EEA5-9C39-481F-9131-79B0B7A5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A9C-F77E-483A-9947-7467D24F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F15-41F5-4B59-89F2-EA3828D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80C-6221-4BCB-85DB-BCD8F9CE0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aning on the Everlasting A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at a fellow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joy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18960" y="1066680"/>
            <a:ext cx="49204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Elisha A. Hoffman, 1887 (Dt. 33:27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ve blessed pe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my Lord so n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03200"/>
            <a:ext cx="9144000" cy="564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al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99072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blesse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a peace is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3200"/>
            <a:ext cx="9144000" cy="564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al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6668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how sweet to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pilgrim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how bright the p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s from day to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03200"/>
            <a:ext cx="9144000" cy="5644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 and sec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alarm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492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ng, 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ning on Jesu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at have I to d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have I to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ning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arm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ning on the Everlasting Arm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49:45Z</dcterms:modified>
  <cp:revision>54</cp:revision>
  <dc:subject/>
  <dc:title>PowerPoint Presentation</dc:title>
</cp:coreProperties>
</file>