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B45-D0A5-4268-A062-B94124CA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1C4-E649-4FF8-8251-F48DEA3C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C07-CD87-46E3-B3E1-22DB8094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BE6-2060-4141-90B7-3BEBBED3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8A5-D14A-4B11-B801-2B78A517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5DA-4B5D-47A1-A7C8-188197A5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C35-2CB9-4785-8B05-E0B77A14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7F50-38FC-448B-A0B9-8EFCAE15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875-8665-4CB3-8E28-574F96D7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3C5-B2A3-4A42-85A5-4E44BF2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0F23-7140-49C8-8D04-2F45415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82D-757C-4A1E-8278-C02C9CD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8D53-748D-483A-82A0-E1A9862C9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ranam, Saranam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Refug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7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by permission of Christian Conference of As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rad. Pakistani; trans. by D. T. Niles, 1963 (Ps. 61; Heb. 13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fuge that’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er than I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that I my v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 may p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at by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ness to me each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live, and on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my burdens la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fuge that’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er than I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Yesterday, to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’er the s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he heritag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bear th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ransom the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in the Savior cam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fuge that’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er than I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In the midst of fo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ry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ends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ver I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trength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lessness, O answer m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fuge that’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er than I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thy tent giv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dwelling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neath thy w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I find sheltering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ift on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nshine of thy fac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, to thee I fl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ranam, Saran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ranam, Saran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7:55Z</dcterms:modified>
  <cp:revision>49</cp:revision>
  <dc:subject/>
  <dc:title>PowerPoint Presentation</dc:title>
</cp:coreProperties>
</file>