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907-2E51-4FDF-ACD2-EDB7E043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6962-198F-4E7D-BF05-EC0D7D30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5B8-BFE3-4A43-A44A-5E5B2AB9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DFD-66C6-450A-A202-21E7CAEB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5312-FC2E-483B-955C-3D220681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D4C-0286-4F30-BB60-6859E4CC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F00B-BC17-43E2-B51C-B42BD0D8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D2D-A3FC-452C-8D2B-86ED74AA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0DAC-D5B6-4D3D-BCFC-5D107F1C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9AE-2B0B-486B-A5F1-5B394571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37F-CF95-4093-8271-688EC58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035-330A-46EE-81AF-6D4C2200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842A-21A1-4C3E-A490-18396B65A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O Love That Wilt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Not Let Me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Love that wilt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let me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rest my wea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2440" y="1523880"/>
            <a:ext cx="31784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George Matheson, 1882</a:t>
            </a:r>
            <a:r>
              <a:rPr b="1" lang="en-US" sz="21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82840"/>
            <a:ext cx="89154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give thee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fe I ow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 thine oce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pths its f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richer, full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Light that follow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y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yield my flicke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rch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resto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borrowed 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 thy sunshine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aze its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brighter, fairer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Joy that seek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through p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not cl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0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trace the rainb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el the prom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not v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o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tear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O Cross that lift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 my h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are not as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fly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That Wilt Not Let Me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0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lay in d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glory d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blossoms 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endles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30Z</dcterms:modified>
  <cp:revision>23</cp:revision>
  <dc:subject/>
  <dc:title>PowerPoint Presentation</dc:title>
</cp:coreProperties>
</file>