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A46-F7BF-4907-867D-97F528E5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698-5FE1-4757-9CBD-20369CA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911-2C08-466D-92CB-3A2A499E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348-0656-4566-A335-FD605D5B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B3C-241C-4795-A6F1-0141FA69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819-7317-49A6-8009-F79E8117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17D3-5E3D-4D4A-A64A-938FD644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B73-BE35-4AA6-ABAB-C453AAC8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5564-BEE9-43E7-9EBA-439DCADF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DB1-F2A2-4261-873B-A277A60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A8A-A94D-4B3C-8F7E-005318C0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690-C108-4053-925E-619CF27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1DBF-2075-4848-A3BB-279BFF8EF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Faith Looks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Up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Ray Palmer, 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My faith loo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Lamb of Calv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hear me while I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ke all my guilt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me from this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wholly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May thy r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ce im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rength to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zeal insp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ou hast died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may my love to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e, warm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angeless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living f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ile life’s da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ze I t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rief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ound me sp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ou my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id darkness turn to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pe sorrow’s tears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let me ever st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e a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aith Looks Up to Thee 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ends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ansient d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death’s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llen st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o’er me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t Savior, then in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ar and distrust re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bear me safe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ransomed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51Z</dcterms:modified>
  <cp:revision>153</cp:revision>
  <dc:subject/>
  <dc:title>PowerPoint Presentation</dc:title>
</cp:coreProperties>
</file>