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529-0572-4FE7-A43C-2343D7B6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B79-70A3-466A-8AFF-ECA32549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074-1873-4FC5-9F9D-3EAB25CD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CEC-4A2B-4C39-B942-9FEBF09C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B57-B693-4E1A-ADE4-E3302898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8FC-D5DB-47DB-9662-8D6BD914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9069-AC2D-4D3A-82A1-BFA7DE35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2D0-ADA6-4B88-AB1E-8D8EE9A3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070-5DC1-426E-B505-7624324F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6B57-2A95-4397-AF78-8DF7EED9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856-F4A8-4BB7-BB1C-3E1A9145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3104-96BC-4FE2-BE14-B4DB77EF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4FC6-431E-413B-9945-25721B05A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ar Lord, Lead M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ay by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ancisca Asuncion,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Dear Lord, lead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ke me steadf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se and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up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I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nder c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ympath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ppy mos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my dear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Dear Lord, lead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by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ke me fol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be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fully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s of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r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t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 from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the set of su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t h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in churc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on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, Lead Me Day by 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Now with confid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ous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our G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48:17Z</dcterms:modified>
  <cp:revision>136</cp:revision>
  <dc:subject/>
  <dc:title>PowerPoint Presentation</dc:title>
</cp:coreProperties>
</file>