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3E2-04E8-4BE0-9861-F4C72A70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B53-B011-466E-9537-FBE38DED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180-7073-4D02-9344-CE15A615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D8D-B1A8-49CF-9A5C-094F716C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2F5-16CD-4D79-8915-7DEF1D0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747-DAB5-4896-989C-A5C2D07D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0659-DA7A-4122-A959-BE9254AE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278-0439-42ED-B8B8-C31A71D0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9B1-D32E-4406-AF3B-FD3AE6B9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5C9B-53CF-4507-A080-913C23AF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6E1-96FF-417A-A9B8-E5B57DA2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9962-AC97-453B-9E57-C7B9301B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453C-04AC-4EA9-8437-707D5C10C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Church of Christ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Every 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church of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et by chang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Spirit-l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1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765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red Pratt Green, 19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care for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out reser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pread 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berating w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t claim and t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herit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keep on ri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cross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ross the stree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ictim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justice cr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shelte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bread to ea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never l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til they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n let the serv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urch a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caring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ongs to b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artner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sacrifi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lothed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huma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he al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blood was sh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n cure the f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our bl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each us h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are our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d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ving multitu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e have no mis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o ser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ull obedi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our L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hurch of Christ, in Every Ag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3:09Z</dcterms:modified>
  <cp:revision>93</cp:revision>
  <dc:subject/>
  <dc:title>PowerPoint Presentation</dc:title>
</cp:coreProperties>
</file>