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653-E95F-4793-840A-DE0DBCF3B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92B5-9595-4712-AE31-30C8F8BC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2269-4187-4471-87A7-B26EFC75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01A-A6BB-4EE9-85C2-CB99676F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735-280F-429B-8534-885CF98D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9D79-CB13-4BB0-9F7D-9B10E6A1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9A5-59B9-4235-A5CA-156914CA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020B-56F9-4AC4-9E2F-1A117D74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C49-31B4-4BF1-B8B5-D8F1D146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3FAA-1B8C-485E-866D-F79C429A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D54-8014-4190-851A-64892694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241-E33A-4CA4-AF29-5D88B1D6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2AEC-25B0-4BD6-880A-47409DD20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ldiers of Christ, Ar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Soldiers of Christ, aris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ut your armor 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ong in the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ich God suppli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his eternal S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33240" y="990720"/>
            <a:ext cx="4277160" cy="41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Charles Wesley, 1749 (Eph. 6:13-18)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ong in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 of Hos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his mighty powe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in the strengt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Jesus trust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more than conquer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14444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Stand then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great m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all his strength endu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take to arm you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f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anoply of G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having all things d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you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flicts pass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e may o’erc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Christ alon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tand entire at las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Pray with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easing,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(your Captain gives the word)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summo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eerfully obe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ll upon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God your every wa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instant prayer displ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 always, pr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never fai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y, without ceasing pr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From strength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trength go on,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restle and fight and pra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read all the pow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darkness d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in the well-fought d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diers of Christ, Ar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ill let the Spirit c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all his soldiers, “Come!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Christ the L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escends from hig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akes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nquerors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5:18Z</dcterms:modified>
  <cp:revision>12</cp:revision>
  <dc:subject/>
  <dc:title>PowerPoint Presentation</dc:title>
</cp:coreProperties>
</file>