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712-F857-4AEC-BFDA-DACE24C8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B116-9362-4EE3-831E-B779BBEB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ABA0-C13D-436C-AEC3-234EE9A2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AA6-1399-4F4A-B11F-FE6F711A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43ED-8CCD-4E81-81F9-DCE2E475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B73-3C54-496A-86CA-A0879095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142-E9C8-4142-8ACA-A2B49F35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688-3FFD-41EF-8022-BDA232DD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367A-FF46-464A-8B11-09AB176B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FE9-E3A7-44B1-AC58-A66AED7C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6C2-210F-4CC3-8891-8BF43AD0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4C1C-67AF-4B10-A27B-EF51D10F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1F47-221D-495F-A605-9B226410D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aising God of Many Na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09680"/>
            <a:ext cx="84582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burning Mountain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chosen Sun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perfect Moon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fathomless We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ising God of Many 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0680" y="1066680"/>
            <a:ext cx="58226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Mechthild of Magdeburg, Germany, 13th cen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859040"/>
            <a:ext cx="84582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unattainable Height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Clearness beyond measur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Wisdom without end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Mercy without limi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859040"/>
            <a:ext cx="85345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Strength beyond resistanc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Crown beyond all majesty: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e humblest thing you created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sings your praise.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3:11Z</dcterms:modified>
  <cp:revision>20</cp:revision>
  <dc:subject/>
  <dc:title>PowerPoint Presentation</dc:title>
</cp:coreProperties>
</file>