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3A08-2B3F-440C-AAF3-31D812CD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F670-98A7-4682-9B39-6995E77B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CDCC-1F91-4AE0-9A76-4ED34D7C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456B-F765-4478-B3B1-3CC087D2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7897-EBC0-4804-B422-84DAA421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BF53-DA63-45A1-9590-D7338048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5B43-CC49-4BC8-A850-1E8ADCB2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D77A-28C5-44DF-962D-8357D3EC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6B6D-8610-4BED-B0A4-0F880FFE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3533-2F5F-46E1-88B6-CC076E17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A877-EDEC-4D2E-A6E6-1E98B423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B117-03DC-4825-A465-B721F1DD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E880-2ACC-4135-B4F8-B5B73305C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God in Hea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853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1. O God in heaven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grant to thy children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mercy and blessing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ongs never ceasing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ans. by permission of Christian Conference of A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in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85720" y="1166760"/>
            <a:ext cx="6172920" cy="36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: Elena G. Maquiso 1961; trans. by D. T.  Niles, 19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523880"/>
            <a:ext cx="89154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 to unite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 to redeem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God in heav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ar Lord,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Jesus, Redeem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we rememb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gracious pass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resurrec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in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1600200"/>
            <a:ext cx="89154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ship we bring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ise we shall sing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Redeem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Spirit descend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se is the bless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rength for the wea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lp for the need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in Heav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676520"/>
            <a:ext cx="89154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aled in our kinship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ne be our worship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irit descend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irit ado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0:19Z</dcterms:modified>
  <cp:revision>38</cp:revision>
  <dc:subject/>
  <dc:title>PowerPoint Presentation</dc:title>
</cp:coreProperties>
</file>