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2314-6F5D-4EE9-BA63-B0C2B121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D2C4-CC8A-4FB1-BEB5-6BFA559C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5313-5E88-43A1-813D-6C9A57871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A47E-17C0-428F-9889-9BF252310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F3D0-49DE-4EF5-9816-4C8F3728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8ED2-748C-49E4-BF02-6C5A116F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8527-F19C-410A-ADBF-2EB1D8E7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725B-E5D3-4AB8-8D60-F392038D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82DF-667A-4C84-9362-65AC8672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C389-427F-40C0-9465-07DA88F4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B029-E482-4ADB-92AA-DFBAE0B8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99CD-00AB-4841-8F50-F8EE15C3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B378-9228-42C2-A44B-31ABA196C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Lord, What a Mor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ord, what a morn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ord, what a morn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my Lord, what a mor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the stars begin to f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Lord, What a Mo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200" y="1090440"/>
            <a:ext cx="614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African American spiritual (1 Cor. 15:51-52; Rev. 6:12-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5146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ord, what a morn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ord, what a morn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my Lord, what a mor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the stars begin to f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Lord, What a Mo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You’ll hear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umpet sou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wake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tions undergrou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Lord, What a Morn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1240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oking to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right ha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the stars begin to f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5909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ord, what a morn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ord, what a morn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my Lord, what a mor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the stars begin to f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Lord, What a Mo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You’ll h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inners moa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wake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tions undergrou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Lord, What a Morn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9718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oking to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right ha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the stars begin to f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5909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ord, what a morn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ord, what a morn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my Lord, what a mor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the stars begin to f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Lord, What a Mo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You’ll hear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ian shou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wake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tions undergrou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Lord, What a Morn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2767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oking to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right ha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the stars begin to f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4:04Z</dcterms:modified>
  <cp:revision>57</cp:revision>
  <dc:subject/>
  <dc:title>PowerPoint Presentation</dc:title>
</cp:coreProperties>
</file>