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559D-DD7B-4349-8377-EB79C595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217D-4ABE-40CB-B9C3-06F6FE92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555B-E8AC-4A3C-B397-3F1B77D6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AF50-0D08-4F54-A015-091875A0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62E6-84DA-49E2-994A-EB41A8B6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CC6E-33F9-4B2E-9B17-2808EE57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BC5B-9B05-4AF1-B958-8B80C4A9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6E6F-DD4C-4F44-A941-8DE208F3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89F2-8C18-4600-92DB-5CD32C1A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303C-88C9-4AF2-A482-CCF8A985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0C6B-F8AB-40C0-8E5E-E48C99CF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596B-DAB3-429D-B039-CD333ABD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EB43-2CF3-4A97-B004-155FB0A0D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 Forth for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6080" y="304920"/>
            <a:ext cx="144792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0" i="1" lang="en-US" sz="4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to the world in peace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e of good courag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rmed with heavenly gr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By permission of Mildred Peac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Forth fo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98880" y="1092240"/>
            <a:ext cx="296064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John R. Peacey, 1975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God’s good Spiri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daily to increas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in the kingdom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e see face to face.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to the world in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to the world in love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trengthen the fain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ive courage to the weak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Forth fo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lp the afflicted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richly from abov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’s love supplies th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race and power we seek.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to the world in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to the world in strength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old fast the goo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e urgent for the 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Forth fo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render to no one evil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hrist at length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hall overcom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 darkness with his light.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to the world in streng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to the world in joy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serve God’s peopl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every day and hou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 Forth fo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serving Chris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ur every gift employ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rejoicing in th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oly Spirit’s power.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forth for Go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 to the world in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48:45Z</dcterms:modified>
  <cp:revision>11</cp:revision>
  <dc:subject/>
  <dc:title>PowerPoint Presentation</dc:title>
</cp:coreProperties>
</file>