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1F10-FEB3-4D04-81FD-725E099F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B2D1-2534-4326-8A9B-EB4C402A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CE94-EA6E-4700-AB59-B1827537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ED06-408B-4BAB-A456-B0D7EBC1B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CCE5-F658-490E-BEDB-984B968A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7078-CD74-43AB-9E57-EEC14B59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03FA-FD5A-46D0-A39E-286858E5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ADBD-1892-4EB1-BA3E-145DA1A5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09C2-9140-44BF-9F79-BEDBBE6B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5879-8179-435E-8F93-29C76FD3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A767-D464-4809-9B75-71442CE5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A041-3B8B-40BC-822B-71B4859A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D74C-08B7-4864-BAD5-C54517BBB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en Jesus Came to Jord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5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830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hen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me to Jord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 baptized by Joh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did not come for pard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as the sinless 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80 Hope Publishing 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Came to Jord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59040" y="1116000"/>
            <a:ext cx="7255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Fred Pratt Green, 1973 (Mt. 3:13-17; Mk. 1:9-11; Lk. 3:21-2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cam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re repenta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all who mourn their si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peak the vital sent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which good news begi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He cam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re tempta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utmost woe and lo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us and our salv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die upon the cro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Came to Jorda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whe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ve descend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him, the Son of M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hidden years had end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age of grace beg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Come, Ho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irit, aid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keep the vows we mak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very day invade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very bondage brea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Jesus Came to Jorda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, give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ves direc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ift we covet most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hare the resurrec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leads to Penteco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5T19:41:46Z</dcterms:modified>
  <cp:revision>11</cp:revision>
  <dc:subject/>
  <dc:title>PowerPoint Presentation</dc:title>
</cp:coreProperties>
</file>