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91DD-CBE9-4CE2-AE5E-158070443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197C-2F87-49A6-B645-2CE1832D5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F4AD-A993-4206-A5B7-65C9CC582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C96B-1735-46F5-BBDB-2D5BBC560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4CA2-0BD7-4D1D-AC88-C8A758D26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5531-314F-4CD2-9409-F720D6CE2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5120-E45B-4C79-BBE6-1201942A5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EE1D-630C-4902-AA1D-B70EEF5DC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2F25-CDCD-4DD9-A107-DE2D718A3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A3DD-EC27-4262-8ADD-5228E1BA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DA73-3AE9-4203-AFF3-ED766F3B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5258-34D4-4020-BD18-2CC5335B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56812-C504-466C-9C61-40CB188733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nly Trust Hi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3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y Trust Hi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66680"/>
            <a:ext cx="90885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ORDS: John H. Stockton, 187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0968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00"/>
                </a:solidFill>
                <a:latin typeface="Times New Roman"/>
                <a:ea typeface="Arial"/>
              </a:rPr>
              <a:t>1. Come, every soul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  <a:ea typeface="Arial"/>
              </a:rPr>
              <a:t>by sin oppressed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  <a:ea typeface="Arial"/>
              </a:rPr>
              <a:t>there’s mercy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  <a:ea typeface="Arial"/>
              </a:rPr>
              <a:t>with the Lord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y Trust Hi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4. Come then and joi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is holy ba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on to glory go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2263680"/>
            <a:ext cx="853416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dwell in tha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elestial l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re joys immortal fl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y Trust Hi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525600"/>
            <a:ext cx="9144000" cy="543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nly trust him,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nly trust hi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nly trust him now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e will save you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e will save you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e will save you n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2263680"/>
            <a:ext cx="853416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he will surel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ive you re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y trusting in his W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y Trust Hi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525600"/>
            <a:ext cx="9144000" cy="543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nly trust him,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nly trust hi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nly trust him now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e will save you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e will save you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e will save you n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y Trust Hi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For Jesus sh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is precious bloo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rich blessing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bestow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2263680"/>
            <a:ext cx="853416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lunge now int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crimson floo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washes bright as sn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y Trust Hi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525600"/>
            <a:ext cx="9144000" cy="543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nly trust him,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nly trust hi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nly trust him now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e will save you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e will save you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e will save you n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y Trust Hi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3. Yes, Jesus i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 truth, the wa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at leads you into res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2263680"/>
            <a:ext cx="853416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lieve in hi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out del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you are fully bl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ly Trust Hi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525600"/>
            <a:ext cx="9144000" cy="543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nly trust him,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nly trust hi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nly trust him now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e will save you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e will save you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e will save you n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29:48Z</dcterms:modified>
  <cp:revision>94</cp:revision>
  <dc:subject/>
  <dc:title>PowerPoint Presentation</dc:title>
</cp:coreProperties>
</file>