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B82-777E-4D36-8248-335D0220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91C9-54D2-44EC-9311-ED1A5199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9CD-8EA8-4FBB-86E1-E4154097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6CE3-047D-4845-A33B-CEDAD5C8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673-7098-48A9-A6BA-AECB0E11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B7DE-C68E-44C1-BF6E-CD2089F6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FAA-9286-491C-B4A9-D1C8A84D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E187-B21B-485D-8E37-B4967CE0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CED-1021-4489-B119-490BFFAD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CCA6-F5D0-4015-8C95-2A1B7B62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291-F331-407B-BEA0-D4043244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748-A7D6-47F5-8E0B-30642B13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0051-7631-40DF-9C0E-FAC6B0316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In Time of Ill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ime of Ill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Georgia Harkness, USA, 20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905120"/>
            <a:ext cx="8420040" cy="436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O God, who dost forgiv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ur iniquities and heal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ur diseases, we cr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unto the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© 1943 Whitmore &amp; Stone, renewed 1970 Georgia Hark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Our strength has been brought low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d we know not wha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he future holds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In our bodies, there is pain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in our soul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xiety and unr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609480"/>
            <a:ext cx="861048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If it may b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restore us to health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We ask no miracl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of deliveranc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and if in the order of natur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our suffering must continu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help us to accept i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without rebell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1552680"/>
            <a:ext cx="85345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If it must lead us towar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the valley of the shadow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help us to fear no evil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but to go bravely into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thy nearer presen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370160"/>
            <a:ext cx="86104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In thy good keeping, all is well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Into thy hand, we comme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our bodies and our spirits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Do with us as thou wil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7:45Z</dcterms:modified>
  <cp:revision>155</cp:revision>
  <dc:subject/>
  <dc:title>PowerPoint Presentation</dc:title>
</cp:coreProperties>
</file>