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34AA-C990-47FD-B940-9002402C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C94-6B8D-4C60-BF78-12E6D382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443-6048-4CA8-B52C-F7275D91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DAB4-8256-4C02-B1ED-FAA4B11D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B19-EFE8-4567-90CA-E8071225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D2C-F6F8-4A34-B78B-E0389130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4B0-2645-47D0-A83F-B26B9848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6DA-807B-4509-AB14-79B79AB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CD3-F5EB-4796-A28B-505DE795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3B3-6784-4D9F-808B-89CADC8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724-A073-4B9C-B8DB-2F6263C1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2C5-5486-44D2-BC42-2674BCED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12EF-F180-45B3-AE85-43B876118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Let Us from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Table 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Now let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table r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newed in bo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d, and sou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Kaan, 19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Christ we d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elfles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made us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ith minds ale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held by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read the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peech and de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eps of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one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ope and n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ill each hu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use with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ament of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k that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gan to 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umbly p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selves to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grant us cour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the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oose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ilgrim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Let Us from This Table 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p u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ept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alleng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morrow’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07Z</dcterms:modified>
  <cp:revision>135</cp:revision>
  <dc:subject/>
  <dc:title>PowerPoint Presentation</dc:title>
</cp:coreProperties>
</file>