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3F23-1B62-49B8-996A-1E075AE15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2D5C-0570-421D-8A23-5F2C9DD4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9DFC-CFF1-43A7-AD7C-50293D1A6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83C7-492C-4BBD-9847-BE4A30C8D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C13A-F3B3-4DF3-AB75-F4B9E1AC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0C1B-C4C9-48B7-9DF2-ADF4668B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FBD1-A1C4-49B8-9F98-90135F11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8D1A-6B20-4FEE-B67F-21098B76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C210-CC84-467C-AAF7-481EEC67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434C-4CE1-474C-8EA9-887B387F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0A3C-6C06-48BA-B392-7EF90A5A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B8E1-ADC6-4A0A-9729-46CFF5D1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CFD8-B722-488E-8186-6851D1A6D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229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ff"/>
                </a:solidFill>
                <a:latin typeface="Times New Roman"/>
              </a:rPr>
              <a:t>This Is the Spirit’s Entry N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6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56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1. This is the Spirit’s entry now: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the water and the word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the cross of Jesus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on your brow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the seal both felt and hear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72 Thomas E. Herbran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Spirit’s Entry N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Times New Roman"/>
              </a:rPr>
              <a:t>WORDS: Thomas E. Herbranson, 1972 (Rom. 6:3-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Let water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acred sig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we must die each d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rise ag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his desig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followers of his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Spirit’s Entry N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Renewing Spir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r our pra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your baptismal pow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washes us throug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our day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cleanse again this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Spirit’s Entry N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8:22Z</dcterms:modified>
  <cp:revision>109</cp:revision>
  <dc:subject/>
  <dc:title>PowerPoint Presentation</dc:title>
</cp:coreProperties>
</file>