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E6F-F965-406E-B921-EF1A8624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B0CD-B088-41D5-B060-39297751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E311-7D73-4C67-8E2D-395E7107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46C-7D32-4BA2-A4C2-C7A010BB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9B3-5723-4253-A63C-71CEE5B6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5FCD-ADA6-4EAF-BF34-6B4AFB51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A8A1-6CD4-4244-8E5D-B6B491D2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D5A-69F4-42F5-95EF-8B1288B9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D84-DC86-4237-B4DE-B7F8B6C2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533-F486-46BB-A562-78C18FD1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1F07-6771-45A2-8725-D9058385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77F-5626-460E-A29F-99A556A6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D05E-D92A-4B6B-92FE-D5FAD50C7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 to Dark Gethsem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ames Montgomery, 1820, 1825, a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Go to dar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ethsema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that fe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empter’s pow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Early hast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tomb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they la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breathless cl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s solitu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loo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has tak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 awa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is risen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meets our ey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or, t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so to 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Redeeme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flict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tch with him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bitter hou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rn not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griefs a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rn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o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ee him 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judgment h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ten, b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viled, arraign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he wormw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gal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he pa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oul sustain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un not suffe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me, or los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rn of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ar the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to Dark Gethsema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alvary’s mourn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untain climb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, ado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his fee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k that mirac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i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crifice comple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finished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 him c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rn of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o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26:12Z</dcterms:modified>
  <cp:revision>50</cp:revision>
  <dc:subject/>
  <dc:title>PowerPoint Presentation</dc:title>
</cp:coreProperties>
</file>