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248-18DE-4BED-B814-F6D755F1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B7A-19A6-4B82-ACE7-75EA477B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91B-1F1E-4F7A-91FA-4D381605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32C-BF5A-4E34-A3C3-39C16E3D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20A6-CCFC-4109-BE5A-3B0095BE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308-F88D-472F-8CED-72FFBB5A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15B-A439-49D5-8F9B-90459BCC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A984-B263-40A0-B27D-FC2AD706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A1E8-4128-4CE0-B654-95DEBFFC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177-F3E1-4679-8B7E-BAF53752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AC5-77A7-49DC-9869-F9369B9E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BF78-82E5-4D67-A5AA-7A9E89B7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D076-4170-43DD-92D6-09549DB0B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ou Hidden Sourc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Calm Rep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5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Thou hidden sour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calm repo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 all-suffici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 div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5440" y="1573200"/>
            <a:ext cx="326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harles Wesley, 17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In want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lentiful supp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weak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almighty p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bo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perfect liber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ligh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tan’s darkest hou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grief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y unspeakab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life in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heaven in he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help and refug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my fo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cure I am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thou art m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lo! from s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rief and sh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hid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in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hy mighty n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lvation i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keeps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ppy soul ab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fort it br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power and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joy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lasting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me with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ar name are gi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ardo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liness and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Jesus, my 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all thou 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rest in toi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ease in p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59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ou Hidden Source of Calm Repo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healing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broken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war my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loss my 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smile benea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tyrant’s fr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shame my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c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50Z</dcterms:modified>
  <cp:revision>15</cp:revision>
  <dc:subject/>
  <dc:title>PowerPoint Presentation</dc:title>
</cp:coreProperties>
</file>