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BDBE-85A9-4F37-9C70-091768ECA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B02C-B333-4277-958D-DA0F5071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F349-E50E-4D2F-B18E-D93548EAA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4D77-D768-499D-B720-CB5909958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B577-0919-475A-B44F-608DB695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962A-0C54-4E4A-8CC6-C8794C9D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39B9-E191-4C53-9EAA-6A961BAF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24D2-E361-49B2-A15A-852376F7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F845-6100-490A-AA9E-47EB9DCF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13A6-01F7-4CB1-895B-DA0AEC30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AC35-D0AD-4075-9035-BEAAF142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8E86-1783-4137-A38D-0A02DF2A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CF30-62F2-4969-BB50-30495C4C2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Voice of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od Is Ca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Voice of God is Call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John Haynes Holmes, 1913 (Is. 6: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The voice of God is call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ts summons in our day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saiah heard in Zi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we now hear God say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m shall I send to succ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people in their need?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m shall I send to loos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bonds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me and greed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Voice of God is Ca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“I hear my people cry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slum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ine and mill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 field or mart is silen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no city street is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see my people fall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darkness and despair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m shall I se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shatt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fette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ch they bear?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Voice of God is Ca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We heed, O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r summon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answer: Here are w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end us upon your err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et us your servants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strength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ust and ash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years a passing hour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you ca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se our weak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magnify your pow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Voice of God is Call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From ease and plent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ave u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rom pride of place absolv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urge us of low desir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ift us to high resol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us,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ke us holy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each us your will and way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eak, and behold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answer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mand, and we obe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5:25Z</dcterms:modified>
  <cp:revision>145</cp:revision>
  <dc:subject/>
  <dc:title>PowerPoint Presentation</dc:title>
</cp:coreProperties>
</file>