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49E-7204-4873-91F8-71511F52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8D7A-208E-42BF-A1FB-448EFC2B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BFE-BF7D-49B8-932A-C9403E3B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8C8-DA35-45A0-851C-AE6306D6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3F2-D4BF-4D86-9D12-696CBCCC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8C67-A3B3-477D-A246-C139F74C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5EBE-0633-47C4-8A8E-0FE880C5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283-5A49-4A4D-99F7-06AA4B3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A79-555D-4BD6-AFCF-9DDBA712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B7E-6D5D-44BD-8B84-F38A57FF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42F-22BD-4F8B-BA76-8C42427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F01-6DAB-4553-9577-9C066C9D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D915-DD30-484F-9E8B-39D236F95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ow Can We Sinners K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How can we sinners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ins on earth forgiven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can my gra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ior show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me inscribed in heaven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760" y="1143000"/>
            <a:ext cx="2919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at we have felt and se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confidence we te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ublish to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igns infalli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e who in Christ belie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e for us hath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ll his un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 rece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his blood appl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e by his Spirit pr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know the things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things which free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th on us bestow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he meek and lowly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n our Savior wa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that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th imp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gns us with his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ur nature’s tur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ansformed in all its pow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th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nesses are joi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pirit of God with ou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We Sinners Know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9:00:59Z</dcterms:modified>
  <cp:revision>22</cp:revision>
  <dc:subject/>
  <dc:title>PowerPoint Presentation</dc:title>
</cp:coreProperties>
</file>