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9A2F-A779-4805-9A18-67E3515B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DBD-9045-477A-A9AA-94E50B6C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049-DC17-4E4A-ADA7-7480998A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E7F-FA54-41F0-959C-6E9B13FF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169-051C-4F23-8594-D851BCB2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5F1-6B2F-4E16-8A0B-9FD4C052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CAB-153D-4FB4-9BD3-51696E27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886-1D8F-4AE1-A29D-FAA18D91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3775-4784-4BCB-9D36-F6164491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12E-9CB9-4DCF-9B14-56E11926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D6D-2D56-45C8-ADB1-8B04AFC4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4E1-3F90-4125-8D34-244FFAB4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B54C-A040-477E-AF45-265B4B1F8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oly City, Seen of Joh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holy ci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n of Joh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mb, doth reig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0920" y="1143000"/>
            <a:ext cx="490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Walter Russell Bowie, 1909 (Rev. 21:1–22: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, how 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lendor challen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ouls that greatly da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a, bids us seiz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hole of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uild its glory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 whose foursqu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ls shall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ight, nor need, nor p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re the t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wiped from ey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hall not weep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ark, how from m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lives are he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e chea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 merchand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women strugg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re for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little children’s cr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swells the sob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an plai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ids thy walls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shame to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rest cont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lust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ed for gai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treet and sho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enem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ring gold from human p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itter lip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lind despair c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Christ hath died in vain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Give us, 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rength to bu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ity that hath sto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o long a drea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laws are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crown is servanth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re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hineth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grace for human goo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Already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d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ity riseth fai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ly City, Seen of Joh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1:24Z</dcterms:modified>
  <cp:revision>57</cp:revision>
  <dc:subject/>
  <dc:title>PowerPoint Presentation</dc:title>
</cp:coreProperties>
</file>