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D7AF-373D-48EB-99F3-4E32F4875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9802-AF96-4C56-A4ED-4E6104415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C413-B628-4BC8-868C-9B990E6A4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C252-992D-443C-94F6-91A36D7C8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0D01-C588-44A1-89B2-BF644A51B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9BF7-D0A8-4CCF-B3C0-2BD1EBEB4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994B-7DA1-4AF6-A313-8D2CB510F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993E-86E4-4912-B218-2C4BD2F43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6B08-B876-4051-ABF9-974BF3D63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6FE2-7A02-425D-B4FD-9F72A2A20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4E3D-9C36-4D06-87D7-551E08805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0F1E-CA45-4DC0-93F1-707A643BE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EC7CC-2662-4008-A1C1-C8AEA5C963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33520"/>
            <a:ext cx="9144000" cy="1252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anticle of Thanksgiving</a:t>
            </a:r>
            <a:br>
              <a:rPr sz="4000"/>
            </a:b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Psalm 100, Response 1, Charles Wesley, adapt.;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Response 2, Edward H. Plumpt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048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ke a joyful nois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ft up your voice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e nations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earth rejoic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Thanksgiv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2133720"/>
            <a:ext cx="8181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1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(Thanksgiving &amp; Genera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3623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joice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joice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joic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ive thanks, and s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Thanksgiv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177280" y="1066680"/>
            <a:ext cx="4792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(Genera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380880"/>
            <a:ext cx="8686800" cy="582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Make a joyful noise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unto the Lord,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all ye land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erve the Lord with gladness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e before his presen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sing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Thanksgiv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ad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906480"/>
            <a:ext cx="8686800" cy="5061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Know ye that the Lord,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he is Go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t is he that hath made 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not we ourselves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are his people, and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eep of his pastu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06480"/>
            <a:ext cx="8686800" cy="5061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Enter into his gates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with thanksgiving,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and into his courts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with prais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 thankful unto hi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bless his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80880" y="1676520"/>
            <a:ext cx="8763120" cy="3537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For the Lord is goo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mercy is everlasting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his truth endure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all generations.  </a:t>
            </a:r>
            <a:r>
              <a:rPr b="0" lang="en-US" sz="50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08T18:56:23Z</dcterms:modified>
  <cp:revision>21</cp:revision>
  <dc:subject/>
  <dc:title>PowerPoint Presentation</dc:title>
</cp:coreProperties>
</file>