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448-D07B-4112-BF36-56896DB6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96C-64CF-434C-A966-D29A5970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0E6-CC74-40DB-B0C7-175B310C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5BFA-DE0B-499A-8834-0A14AEAE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C04A-AB0F-409F-8642-A8FBA374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CF50-5DED-4F90-B9DD-6766517C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CB39-A576-488D-9995-424FBE3A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D6AD-58BD-4D5E-A972-5E2C4A55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777B-66B2-49A6-BD19-AA8E8E0B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4BE7-B35E-4EB0-8EA3-E575A626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8A3E-24BF-4A77-8541-6BFD13FF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11E-0E64-4479-9369-4FAAB5C1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354E-C1B5-4CD3-82D4-16A597C9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00DC-F5D5-47E6-8782-41BC258F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382A-E863-4F85-B321-35060411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5C97-650D-45C0-8633-9CEAF8D3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D23A-5D6A-4081-B53B-B1EA549C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BB7-02B8-48AF-9C1D-264F9AB9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4AC-83AA-443A-9F33-1D51C9ED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E5F3-B019-4CE5-A7B0-C39D542C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D6A-B80D-468F-91EF-B3253101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E18-98EF-4BDB-BCE7-C5636869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76B-9949-45BA-9E5D-90EC197B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94C-793A-4979-AA84-2F17D17F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9B12-D9CF-4E07-818F-79F2EFE8D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5599-C5EF-49B4-AB6C-1020B837F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Open My Eyes,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479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lara H. Scott, 18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Open my ey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may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754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S: Clara H. Scott, 18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Open my ey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s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imps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hast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114800"/>
            <a:ext cx="914400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8760"/>
            <a:ext cx="9144000" cy="41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yes, illumine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Open my ear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at I may h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voices of tr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sendest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while the wave-not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ll on my 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thing fal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ll dis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35080"/>
            <a:ext cx="9144000" cy="41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ears, illumine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Open my mou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let me be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adly the w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th everyw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pen my hear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me prep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with thy childr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28600"/>
            <a:ext cx="9144000" cy="419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ilently now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I wait for the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ready, my God, thy will to see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Open my heart, illumine m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divine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ce in my h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nderful k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shall unclas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et me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44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ilently n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pen my eyes, illumine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divin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pen my 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 may h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oices of tr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sendest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ile the wave-not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on my 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thing fal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dis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144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ilently n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pen my ears, illumine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Open my mo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let me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adly the wa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uth everyw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me prep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with thy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My Eyes, That I May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144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ilently now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ait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ady, my God, thy will to se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pen my heart, illumine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divin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14T22:18:26Z</dcterms:modified>
  <cp:revision>155</cp:revision>
  <dc:subject/>
  <dc:title>PowerPoint Presentation</dc:title>
</cp:coreProperties>
</file>