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6A04-6271-4D38-916F-8CB5F718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A97-3106-4546-8061-51F1F258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9376-DD0D-453B-A30D-04D6B697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5EE-F9FA-44DC-811C-2BCDACFDB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072-B601-413D-BC10-70FFB412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F00-E3A8-4D60-8CF1-07AAD7F3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873-8F46-47FF-815E-67DAF600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694-CBAD-4E37-8A14-BC31B06E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FC7-BB90-4967-943F-8D12390F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67E5-6B82-4BC9-B9B0-2FEE8AAF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ACA-FC94-430E-B932-E03D0E39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0113-0689-4110-9A30-C1354A80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3ED1-75B7-4751-A48D-536645246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Lead Me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051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ad me i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y righteousness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ake thy way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plain before my f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d Me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5040" y="1128600"/>
            <a:ext cx="2303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Psalm 5:8; 4: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it is thou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ou, Lord onl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makest me dwell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safet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15:44Z</dcterms:modified>
  <cp:revision>15</cp:revision>
  <dc:subject/>
  <dc:title>PowerPoint Presentation</dc:title>
</cp:coreProperties>
</file>