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5A0-C3F6-4789-81C2-0F59A2D4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1367-A62C-48CF-BD5B-D321DDB9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C13-2DBC-472C-83D7-98710726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67A-68FA-4FA9-9641-868F288D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E871-3211-4152-8E36-D73B80CE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38F-C36D-4377-9C98-1856D65E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4EA-1BB4-4DF9-9A0E-82EBCECA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46A-1B1D-48F3-A255-B6CC0143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3F8-D499-4DEB-9A89-4BACC49B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379-8CFA-4A4E-BFCC-3277CDF3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C83-DA9B-4839-8095-7DF6414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BD2-DE28-494A-A873-CBD24CE4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4A23-724F-43D2-9212-C2CA5FCFF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ly God, We Praise Thy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oly God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praise thy na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bow before thee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ts. 5-7 © 1985 The Church Pension F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4600" y="1166760"/>
            <a:ext cx="789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Sts. 1-4, Ignaz Franz, 18th cent.; trans. by Clarence Walworth, 1853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ts. 5-7, F. Bland Tucker, 19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deliverance to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all hono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dst surre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ast of a virgin b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bly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lessed m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Thou didst t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ing from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Savior gi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dying br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pened w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ealm of heave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glory of that l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art s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As our jud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wilt app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, who h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ed to win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thy servan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awing n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renew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s within 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t that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aints we m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well in everlasting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cepter clai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n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ve adore th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finite thy vast dom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is thy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ark, the gl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lestial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 choi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ve are rai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erubim and serap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uncea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orus pra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 the heav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sweet accor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, holy, holy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!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postolic tr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s thy sac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to hal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phets sw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ad refr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white-rob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tyrs follow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rom morn to set of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the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ong goes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Holy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Spirit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ee we name th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in es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ly o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divide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claim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doring bend the kn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we own the myste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God, We Praise Thy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Christ, thou 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lorious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throned in splendo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19:07:17Z</dcterms:modified>
  <cp:revision>27</cp:revision>
  <dc:subject/>
  <dc:title>PowerPoint Presentation</dc:title>
</cp:coreProperties>
</file>