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0C2B-9D8C-453E-836B-A4EF751B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C7F1-E17C-442B-B884-BFC6FDDC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675A-4436-472E-91C1-15B61B6BC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EED9-7944-4593-A4D3-A2ED593D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2094-F569-4405-982C-351BD7A6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95B5-3F65-437C-9B92-07D3DA59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A545-A2B6-4F30-91F8-A2EFE0B7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6F19-D462-45BD-BB48-986F6D63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C529-DE05-4FCE-89E0-0AE1F907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4B16-622D-4E54-A159-A75664DA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FC1A-813C-465D-9BDA-C21C5719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5D7F-9418-496B-B256-FCD70753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CE9E-34BF-4F2C-B39D-3CC4E644C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839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Let It Breathe on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5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82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Let it breathe on me;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let it breathe on me;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let the breath of the Lord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now breathe on m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42, renewed 1969, Martin &amp; Morris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It Breathe on 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55480" y="1292400"/>
            <a:ext cx="44600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Magnolia Lewis-Butts, 1942 (Jn. 20:2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Let it breathe on me;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let it breathe on me;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let the breath of the Lord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now breathe on m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6:51:48Z</dcterms:modified>
  <cp:revision>14</cp:revision>
  <dc:subject/>
  <dc:title>PowerPoint Presentation</dc:title>
</cp:coreProperties>
</file>