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74BF-F91F-4F14-9DC7-A6B7C44B9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4003-F317-4DF7-851E-121E6266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0949-4455-44B4-8235-65CA9BC8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3D10-3B11-488C-9A25-AF94B6EEE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3D44-79C5-41DC-AD8C-16D91530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620A-F6D6-4442-96D3-37421A5F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5B38-B113-4E00-B198-30E89939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B4AD-F25E-44E6-963B-C278F728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ADCD-5DC1-47C1-A702-7A609508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6560-095E-4513-8CD5-39397690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92B1-14BA-4C79-B79E-E86051A0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E523-F292-4F60-B064-07878FA4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204A-2935-4110-B5A3-64ED2435D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153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Times New Roman"/>
              </a:rPr>
              <a:t>Canticle of Light and Dark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2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112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(Adv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The people who walked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in darknes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have seen a great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66"/>
                </a:solidFill>
                <a:latin typeface="Times New Roman"/>
              </a:rPr>
              <a:t>Adapt., Responses 1 and 2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Light and Dark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27600" y="990720"/>
            <a:ext cx="670644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ff33"/>
                </a:solidFill>
                <a:latin typeface="Times New Roman"/>
              </a:rPr>
              <a:t>WORDS: Isaiah 9:2; 59:9-10; Psalm 139:11-12; Daniel 2:20, 22; 1 John 1:5,</a:t>
            </a:r>
            <a:br>
              <a:rPr sz="1600"/>
            </a:br>
            <a:r>
              <a:rPr b="1" lang="en-US" sz="1600" spc="-1" strike="noStrike">
                <a:solidFill>
                  <a:srgbClr val="ccff33"/>
                </a:solidFill>
                <a:latin typeface="Times New Roman"/>
              </a:rPr>
              <a:t>adapt. by Alan Luff; Response 1, Isaiah 9:2, adapt.; Response 2, Alan Luff;</a:t>
            </a:r>
            <a:br>
              <a:rPr sz="1600"/>
            </a:br>
            <a:r>
              <a:rPr b="1" lang="en-US" sz="1600" spc="-1" strike="noStrike">
                <a:solidFill>
                  <a:srgbClr val="ccff33"/>
                </a:solidFill>
                <a:latin typeface="Times New Roman"/>
              </a:rPr>
              <a:t>Response 3, trans. by Frederick Oakley and ot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8600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 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(Advent, Christmas &amp; General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You are the light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of the world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be light in our darkness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O Chri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Light and Dark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590920"/>
            <a:ext cx="9144000" cy="3324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 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(Christ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O come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let us adore him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Christ,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Light and Dark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981080"/>
            <a:ext cx="8610480" cy="393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60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We look for light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but find darkness,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for brightness,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but walk in gloo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2743200"/>
            <a:ext cx="8610480" cy="3110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We grope like those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who have no eyes;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we stumble at noon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as in the twilight.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51460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If I say, “Let only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darkness cover me,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and the light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about me be night,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1295280"/>
            <a:ext cx="8610480" cy="457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even the darkness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is not dark to you,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the night is bright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as the day,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for darkness is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as light with you.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243828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Blessed be your name,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O God, for ever.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You reveal deep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and mysterious thing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1600200"/>
            <a:ext cx="8610480" cy="457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you are light and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in you is no darkness.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Our darkness is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passing away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and already the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true light is shining.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3T15:07:23Z</dcterms:modified>
  <cp:revision>32</cp:revision>
  <dc:subject/>
  <dc:title>PowerPoint Presentation</dc:title>
</cp:coreProperties>
</file>