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9D5C-8999-454F-8C71-59F6854B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F9CC-A962-40A9-9EFE-2EDB6F51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3BBD-3510-4F32-A973-0C3CB42A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D44E-80E5-4DC1-A971-0C4C3834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EE50-3A60-4415-9DF5-57BD7096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036E-7057-4838-B927-92ACFA86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A3DD-8A97-4B23-B4B5-A67B1FAF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AB0C-6B29-4CEA-9EC1-AA6F627B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FD26-DCB6-4A74-A21C-C09576F1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C27F-7C27-4A3D-964A-25F83F4E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F909-4E23-4853-A26F-2B615515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A8F2-7473-40E8-A3BF-1CE83B67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80F5-8DC6-4A83-8FCB-34600376A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45820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ow the Green Blade Rise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e Green Blade Rise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0885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WORDS: J. M. C. Crum, 1928, al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1. Now the green blade riseth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from the buried grai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heat that in th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dark earth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many days has l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590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4. When our heart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re wintry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grieving, or in pai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Jesus’ touch can call u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back to life ag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e Green Blade Rise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4114800"/>
            <a:ext cx="830592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fields of our heart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at dead an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bare have bee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3276720"/>
            <a:ext cx="9144000" cy="2988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ove is come agai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ike wheat tha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pringeth gr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4038480"/>
            <a:ext cx="830592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ove lives agai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at with th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dead has bee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276720"/>
            <a:ext cx="9144000" cy="298872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ove is come agai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ike wheat tha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pringeth gr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2. In the grave they laid him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ove who had been slai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inking that he neve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ould awake ag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e Green Blade Rise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3886200"/>
            <a:ext cx="830556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aid in the earth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ike grain tha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leeps unsee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200400"/>
            <a:ext cx="9144000" cy="2988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ove is come agai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ike wheat tha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pringeth gr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3. Forth he came at Easter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ike the risen grai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Jesus who for three day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n the grave had l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the Green Blade Rise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4191120"/>
            <a:ext cx="830592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quick from the dea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my risen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ord is see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276720"/>
            <a:ext cx="9144000" cy="2988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ove is come agai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ike wheat tha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pringeth gree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7:23Z</dcterms:modified>
  <cp:revision>67</cp:revision>
  <dc:subject/>
  <dc:title>PowerPoint Presentation</dc:title>
</cp:coreProperties>
</file>