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92EF-DA48-4345-90C3-094A085A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762-9E47-4317-8DCE-521802C2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19D8-D46D-4B2E-96A9-BFB2EE29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CE68-B08F-4674-9150-DFB3C7B7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475-834A-4F73-8322-7C1238CC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576-C3D9-4D07-AEDD-6866865A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BC82-6B62-4208-8146-DC3AEE47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52D0-3C8C-4119-808E-38FB057B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18C3-BB76-44D9-8414-AC1B3EC8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24D6-82F8-4C67-A2D6-B05853C8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C30B-5921-4109-BEA3-20725783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852E-5961-45B5-9965-3EAE1F36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9552-5A39-45B5-A81B-DCBB807CC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077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n This Day Earth Shall 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2388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1. On this day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earth shall ring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with the song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children sing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o the Lord,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Christ our King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3600" y="914400"/>
            <a:ext cx="7220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Piae Cantiones,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1582; trans. by Jane M. Joseph (Lk. 2:6-14; Mt. 2:1-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On this 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gels s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ir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 shall 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ing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’s K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on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av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ace and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g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6668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on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ave 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m the F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37160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His the do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s the mir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he c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wn to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thle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w his bi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x and a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side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co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uld hid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1932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God’s bright st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’er his h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se Men th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im l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neel they l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his b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is Day Earth Shall R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y their gif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him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dor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4300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d-e-o-o-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deo glori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9:18Z</dcterms:modified>
  <cp:revision>11</cp:revision>
  <dc:subject/>
  <dc:title>PowerPoint Presentation</dc:title>
</cp:coreProperties>
</file>