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18DD-9A1D-43F2-9D69-D45AA5A80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91B8-CA99-407B-A8EC-AD8A883EA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4A5D-5064-4282-BB04-FBD7FFE40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6904-C57E-420F-BAF0-3F2BFD4A8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3C5E-6DDB-404F-BDC6-141286F18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1C4F-2E24-40F5-AFED-188B356F1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B0CA-5647-4AC5-AC0F-0DE7FCBBD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CB33-AE45-4573-A980-F4F159B9A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FBCE-8AE2-4B2D-8D3A-34645ABF5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1EDF-993A-4422-928A-2C7CF3839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C835-7B00-4638-964D-9A23040BE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F435-2B9C-4D1D-8141-54943AFE2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582DB-657C-428F-89F3-905D88A2B6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Does the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ord Requi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4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388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What does the Lord requir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praise and offering?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at sacrifice, desir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r tribute bid you bring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© 1949 Albert F. Bay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the Lord Requi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64120" y="1738440"/>
            <a:ext cx="44143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Albert F. Bayly, 1949; alt. (Mic. 6:6-8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o justly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ve mercy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alk humbl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 your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Rulers of earth, give ear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hould you no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ustice know?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ll God your pleading hea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ile cri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cruelty grow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the Lord Requi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o justly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ve mercy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alk humbl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 your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All who gai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alth by trad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whom the worker toil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ink not to win God’s ai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f greed you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ommerce soil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the Lord Requi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o justly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ve mercy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alk humbl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 your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How shall our life fulfi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od’s law so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ard and high?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Christ endue our wi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 grace to fortif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the Lord Requi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n justl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merc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’ll humbl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alk with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9:14:28Z</dcterms:modified>
  <cp:revision>11</cp:revision>
  <dc:subject/>
  <dc:title>PowerPoint Presentation</dc:title>
</cp:coreProperties>
</file>