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C7AE-F050-43BB-89BE-22BB5022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811D-D1BB-4990-942C-69F9788D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65B1-DBFB-46D6-9C85-3DBA2D01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48F1-0E82-4C88-8EA7-54D1E342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CBC2-909A-48C6-BFC1-A5979265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DF1-0F2D-4BC7-B3D9-D82D51DA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E2C0-90B9-4FCD-9D0F-E592158A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85B-964A-475E-8CEA-E5BCFB90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BACB-8A8D-413A-A7B9-4D33CDB4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78A1-4BF6-44AD-9E93-AD20D6E3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D28E-9CC3-4C75-B0FC-27E130D4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A7CD-02B1-478C-9B33-32B140E3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899C-5BA8-4361-9133-4B68A15B3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re’s Something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bout That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7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3260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Jesus, Jesus, Jesu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ere’s just someth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about that n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© 1970 William J. Gai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’s Something About That N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05760" y="1496880"/>
            <a:ext cx="5532840" cy="368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Gloria Gaither and William J. Gaither, 19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1828800"/>
            <a:ext cx="792504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ster, Savior, Jesu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ike the fragra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fter the rain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, Jesus, Jesus!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all heaven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earth proclaim: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3429000"/>
            <a:ext cx="792504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gs and kingdom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all pass awa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ut there’s somethi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bout that nam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6:45Z</dcterms:modified>
  <cp:revision>36</cp:revision>
  <dc:subject/>
  <dc:title>PowerPoint Presentation</dc:title>
</cp:coreProperties>
</file>