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4F0E-396A-4515-B0F0-7A1C63E0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743C-4E6A-4B3D-89F2-64261BEA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4F83-0C6A-48A0-8914-A41C4F34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7F5F-A771-47CD-9033-99CD3FE4E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A93-6860-4C1D-9A3E-C8B4A34E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7413-37D1-4C26-8F0C-D3248AF8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58C7-D2E3-4531-B898-BC2FDB82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C46B-CA8B-461F-BC23-2745F10D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B194-777D-4A20-A067-C5F80E42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5D5-F9A4-461A-9D1D-2FA3A01C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87A-B84F-4281-A1AD-629922A1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2A4E-2B37-4DE8-B787-74FD98BF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E1CD-2B09-4466-84D0-C7817493B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ve Came Down at 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6080" y="304920"/>
            <a:ext cx="144792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Love came d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Christm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ll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16200" y="1116000"/>
            <a:ext cx="3803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hristina G. Rossetti, 18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was b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Christma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 and ang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ve the 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orship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odh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incarna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ship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where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sacred sig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ove sha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tok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be yours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be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Came Down at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m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for ple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ft and 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6:58Z</dcterms:modified>
  <cp:revision>17</cp:revision>
  <dc:subject/>
  <dc:title>PowerPoint Presentation</dc:title>
</cp:coreProperties>
</file>