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3AB-45B4-4620-8AE9-793C77E0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8E81-1672-443F-A7B1-D2DD131C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D67-B5C5-47B3-940E-E047EE02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31D5-BE2B-4118-B1F1-15DC7BFC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95E-0A58-4994-8C27-4C43BA4D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DBF9-FBA8-40E4-85AD-080BF37C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2AA-B1B0-40EA-9F3F-9B0FD136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74A-8880-4836-80A4-DA8BFDCE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A66-644C-4845-AD16-524DD593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0E1-176F-4CF3-990C-50A3F5F8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9FD-2110-402D-A882-55D9896A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A09-0406-4A58-9476-6BAD9F42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9200-0904-4316-B2B2-4C5205FF1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ord of God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 Down on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ord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down on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ing rain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 descend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69 James Qui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on Ea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6120" y="1549440"/>
            <a:ext cx="3370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ames Quinn, 19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ord that spea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Father’s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with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yond all te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on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that send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b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the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us dwell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of tru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ll truth lead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of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ne Bread feed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uch our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ring to bi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 and hope an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revere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made fle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long to hea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ord etern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ned on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that brou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fe creati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on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d that c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heaven to di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ucifie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alvati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ng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resto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k to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ove outpou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ord that cau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ind eyes to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k and he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mortal blindne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f God, Come Down on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f we ar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ealer b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ose our tongue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your kind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our Word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ity spok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our sin brok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0:57Z</dcterms:modified>
  <cp:revision>14</cp:revision>
  <dc:subject/>
  <dc:title>PowerPoint Presentation</dc:title>
</cp:coreProperties>
</file>