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EDCC-4255-4D21-97E6-E343C126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992-1961-404B-82E1-642137B6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A7D-2386-4884-8D84-03E1CA56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301-E085-48EB-A21B-8C9C35FD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7FE7-DF36-4310-B9DD-46804020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2B7-77B7-4D94-990F-3431BC4C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AAE-0979-40AA-85D4-9C1CD713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D7A-A9DC-4C13-A5D3-E8B4122E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679-62D0-4CEB-9845-10087BA0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F9F-9DB2-4131-A16C-D239A768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9A6-923E-41CE-A361-CEF7B6CF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60C8-F487-4C4E-B5FB-CC8AA6B4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3B0F-8405-4641-8BED-CD63F4832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untains Are All Ag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4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ountains are all ag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utumn colors so bri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vers are filled with wa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ing life to our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67 The United Methodist Publishing Hous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s Are All Agl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Ok In Lim, 1967; trans. by Hae Jong Kim, 1988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versification by Hope Omachi-Kawashima (Ps. 65:9-13; Acts 14: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606680"/>
            <a:ext cx="9144000" cy="447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to our God.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Times New Roman"/>
              </a:rPr>
              <a:t>(give thank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praise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Early spring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me to s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od’s rich seeds of lif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king ha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ing God’s ea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ing preparation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s Are All Agl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king forw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reward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rvest so plentifu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mised blessings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be ou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ach revel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ing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ly eyes can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ing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ble hands can to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s Are All Ag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arves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blessing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606680"/>
            <a:ext cx="9144000" cy="447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to our God.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Times New Roman"/>
              </a:rPr>
              <a:t>(give thank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praise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Praise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’re plant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w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 in each hear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has s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shine and the r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the seedlings may gr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s Are All Agl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sert la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seem barr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ers still might bloo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sting in God’s promis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thanks 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show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ing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ly eyes can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ing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ble hands can to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s Are All Ag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arves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blessing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lden fields w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praise to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untiful harve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tefully, skyward ari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 our joy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s of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606680"/>
            <a:ext cx="9144000" cy="447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to our God.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Times New Roman"/>
              </a:rPr>
              <a:t>(give thank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praise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ing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ly eyes can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ing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ble hands can to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s Are All Ag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arves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blessing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371600"/>
            <a:ext cx="9144000" cy="4593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 to our God.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Times New Roman"/>
              </a:rPr>
              <a:t>(give thanks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for the harv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praise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Every land so abundant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ch the harvest bear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orchard is fil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luscious, ripe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 frui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s Are All Agl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 and rain b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’s desig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come at proper tim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king ha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has given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sons for deep gratitu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666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ing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ly eyes can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ing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ble hands can to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untains Are All Agl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arves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blessing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1:20Z</dcterms:modified>
  <cp:revision>27</cp:revision>
  <dc:subject/>
  <dc:title>PowerPoint Presentation</dc:title>
</cp:coreProperties>
</file>