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040-76EB-49E4-8FB8-E472169A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016-A911-483F-A379-BA18CB20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A615-A449-4335-8736-D55892A4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DFF-0072-4E07-A012-60773486D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1D1-57F8-4CEC-9416-81CA7032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B6C-0A24-4123-932A-4E0EC14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025-BB2B-4985-95AB-CF4125AE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C480-6A09-4CFA-B365-6B88471C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1BC-2FA7-4470-B888-5B4FD1CA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5D6-552E-4239-BCDD-CFDDE1FE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66C-3863-4C55-853E-02BF4BAF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74C-7C45-4398-8C43-12CE01C2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7270-AB4D-435E-B64C-678EC2CC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raw Us i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pirit’s T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raw u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’s t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en humb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ercy Dearmer, 1931 (Mt. 18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or th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met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dst of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arment’s 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disci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ed to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 to sup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with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the cup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now b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riendship up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me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our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aments of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Us in the Spirit’s T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y c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ing, 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true disciples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faithfu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0:16Z</dcterms:modified>
  <cp:revision>135</cp:revision>
  <dc:subject/>
  <dc:title>PowerPoint Presentation</dc:title>
</cp:coreProperties>
</file>