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E59-5FF3-4981-AA43-B95F4F6F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1AE-3816-4999-9099-684A50D5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92D-ED8F-4A05-B2CD-4C61D5DB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564-D13B-4CCC-B3A0-C2C8D917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808-9D90-4FEA-ACCC-6FA78365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B58-9E22-4AEE-A59C-19E077EA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3E9-7727-4A21-825E-024E1BAB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9CD-9386-451D-824B-026F3C5B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6911-809F-4E75-9B4B-AC859656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F78B-3F71-4E13-8AA2-D92A8676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87C-CB15-44E7-BF1F-098D936D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4C9-6FCF-43BD-8FA0-5CD0C1B0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DE91-2600-4255-BC89-42718F7EA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Kum Ba Yah</a:t>
            </a:r>
            <a:br>
              <a:rPr sz="4000"/>
            </a:br>
            <a:r>
              <a:rPr b="1" lang="en-US" sz="3200" spc="-1" strike="noStrike">
                <a:solidFill>
                  <a:srgbClr val="99ccff"/>
                </a:solidFill>
                <a:latin typeface="Times New Roman"/>
              </a:rPr>
              <a:t>(Come By He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Kum ba yah,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3400" y="1523880"/>
            <a:ext cx="3417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et us praise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praise the Lor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,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pra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cry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 needs you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kum ba y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one’s singing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um ba y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um Ba Y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47:57Z</dcterms:modified>
  <cp:revision>38</cp:revision>
  <dc:subject/>
  <dc:title>PowerPoint Presentation</dc:title>
</cp:coreProperties>
</file>