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E32-427B-4A3E-BD5D-893A002C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B88-4398-437D-94E6-DC6339A2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847F-8D13-4159-AB31-2BD307E3A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7DD-B016-4846-ABA6-F03B018C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7DA-0EF1-42D8-9116-A3777F54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31A-DCAF-4520-B3AF-C6353BCD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B40-27D8-436A-8959-21392F1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281-2B80-4478-8B21-200CD9F3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983F-CEFB-46DB-B9C4-E126E068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8A97-7A78-483F-A626-6F2113D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F49-677D-47D9-B1A0-11CB75BF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AF8-43FA-4C62-AF49-FCE60BB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15AA-CCCE-46FA-8FDF-B86B4CECC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th in Th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, O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39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Forth in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daily la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pursu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, only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olved to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I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speak or do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The task thy wis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th assig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heerfully fulf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my wor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resence f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ove thy g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rfect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e may I s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my right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se eyes m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most substance s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abor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y comm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ffer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h in Thy Name, O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or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ightfully empl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e’er thy bounte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ce hath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un my cour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n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sely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1:18Z</dcterms:modified>
  <cp:revision>148</cp:revision>
  <dc:subject/>
  <dc:title>PowerPoint Presentation</dc:title>
</cp:coreProperties>
</file>