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5C4-8090-4881-B47D-68FE6856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628-751A-44FF-8C34-32AAF8DE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E49-AD61-487E-97CE-EAC52E09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4E8-3298-4B98-97E3-B8C28756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22E-7E13-4EFB-BA36-0EB63A82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2B4-0412-47B8-B27A-3100F84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85B-E60F-49D2-91C4-E0A0722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ABF-4F7E-40C1-9527-90A65E81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4E5-0B5A-4282-AC78-346CE0BD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2E6-6D13-428D-ACE6-E606E8F5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737-3970-4714-A166-2260F152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450C-B8E4-4D36-B653-1DF53E61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48FA-F8D2-4B9D-8119-4B1DCFC9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the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il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emp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uplifte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Si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aroslav J. Vajda, 19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knee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l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ms in welcom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he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vess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mmed for pour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joyful celebr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wed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en leap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pirit’s visi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Son’s epiph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the Father’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Now N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29Z</dcterms:modified>
  <cp:revision>121</cp:revision>
  <dc:subject/>
  <dc:title>PowerPoint Presentation</dc:title>
</cp:coreProperties>
</file>