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25C9-279E-4E58-B5EA-DF2289DF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76C-79AF-4562-A921-4A79F3B3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91EF-353C-4551-8F0F-CDA65CB7C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2CD-BAE8-40E8-82DD-04F8938A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BAF-D2B6-4322-AD35-2FD5131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379-316B-46C5-A007-F75F2AB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472-C46A-422C-85FA-F96CFF6E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6FC9-51C9-47E6-8D7D-DFE666E5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6364-5CEC-4A4F-8F38-3FFBD2F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E123-7A35-4555-A20F-F522CC72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566-3067-467C-B94B-B8E9BFB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32A-973E-4518-8D12-3B09F523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E35-1907-4C01-ADE6-ED409BC17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me, All of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848720" y="228600"/>
            <a:ext cx="1295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35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91440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ORDS: Laotian hymn; trans. by Cher Lue Vang, 198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Rev. 22:17; Mt. 11:28; Jn. 14:27; Is. 55:1-2)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9144000" cy="469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1. Come, all of you, com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men and wom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rink of the water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vided for you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Arial"/>
              </a:rPr>
              <a:t>Trans. © 1989 The United Methodist Publishing Ho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of you who are thirst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me to drink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from the water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2. Come, all of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bearers of burden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give you rest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don’t wait for long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of you who are wea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me, the Chris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Jesus the Lord of all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Savior, King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of humankin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3. Come, all of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trouble-minde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I will give you peac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the peaceful mind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all of you who are hungry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me, receiv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, All of You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47780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4. Come, all of you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, hungry and poor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war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uy your milk an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wine without money;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0969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for fre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ing no penny;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come to me, receive th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bread and the water of lif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provided by Jesu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  <a:ea typeface="Arial"/>
              </a:rPr>
              <a:t>your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19T21:04:00Z</dcterms:modified>
  <cp:revision>109</cp:revision>
  <dc:subject/>
  <dc:title>PowerPoint Presentation</dc:title>
</cp:coreProperties>
</file>