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F90-4483-411F-8AB6-710BF326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0E3-4BBF-4E7A-A75C-275E4DFB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88F-8C64-4970-9EC2-1C8173A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966-E5E7-47E0-8B70-0698EA4E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12B-65D4-4EC9-B740-BD9F108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C89-F6AA-4032-BBFD-FDA1A454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CB7-950B-424F-B4AD-7E957A63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CD81-23F6-477A-841E-B8CB7410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771-BB19-4D27-82FD-01E40576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8F95-AC55-4129-BD5F-D6C16C39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F326-EF2D-4DAC-B20F-93D41477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7DE-FB22-4EA3-8DD2-3B1D46A1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A2DE-690E-4D29-81C9-51F9FE8C2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ay of Pente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od of grac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 sent the promised gif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the Holy Spiri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upon the apostles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wome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y of Pente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360" y="1139760"/>
            <a:ext cx="4458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Laurence Hull Stookey, USA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18728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upon Mary the moth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Jesus and up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is brother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ill your church with powe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kindle flaming hear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thin u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cause us to proclai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r mighty work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every tongu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all may call on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be save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25:47Z</dcterms:modified>
  <cp:revision>11</cp:revision>
  <dc:subject/>
  <dc:title>PowerPoint Presentation</dc:title>
</cp:coreProperties>
</file>