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76E-5081-4033-893D-51ACCE41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E87C-773C-450B-BFB8-E8C5995B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962-1CFD-4CE3-AA6B-49E59842D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79C-B167-4E21-AD8C-78923757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5848-C63F-4406-8990-57A2F93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8CB-FE2F-4CC5-BBDB-E539630E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4A4-1C01-4313-95BB-83711024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866-7412-4376-8649-4F0DEC56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C5A8-AB64-424C-A1E7-BDB33E03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A890-959C-4111-8F52-22133B6D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11D-4A50-4C24-A835-0C587BD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6DD-B233-4E15-A90B-0A92CEDC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8A2-768B-4DB3-9D97-CF35F9065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f Many Nam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737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1. God of many nam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ving, endlessly becom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4880" y="1092240"/>
            <a:ext cx="3241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Brian Wren, 198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f many nam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athered into On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fully we sing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your prais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ving, endlessly becom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f hovering wing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omb and birth of tim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reath of lif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every peopl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2. God of Jewish fait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exodus and law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 of Miriam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Mose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f Jesus Chris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rabbi of the poor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joyfully w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your praise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rucifie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ive fore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ush, hu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hout, shou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, s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allelujah, hallelujah!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Sing God is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is lov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002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3. God of wounded hand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eb and loom of lov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your glory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ome and meet 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carpenter of new cre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Many Nam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59:23Z</dcterms:modified>
  <cp:revision>23</cp:revision>
  <dc:subject/>
  <dc:title>PowerPoint Presentation</dc:title>
</cp:coreProperties>
</file>