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63E-5A25-49FD-87B7-1ACCC729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A49-652D-44D2-91E4-17E292C0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1DE-2511-45D4-8969-C2874AF8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C4A-B276-4A71-95CE-49942235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954-B331-496D-9507-BCBD4C5C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5FB-83EE-455D-A678-D9C917AA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0D35-BADF-4BC3-8A74-B10D3723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3EF-F70E-4003-9780-ACA66804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33C-99D2-46C6-981F-D22C368D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CAF1-FCA2-4A26-9EB4-011FF764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C102-26E2-42A7-8058-7C261020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553-CA8A-4FDE-AA77-65B5D582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84C1-5149-4B78-981B-1771C8D26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rayer for a New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90720"/>
            <a:ext cx="883908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ou who art over u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ou who art one of u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ou who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art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Give me a pure hear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hat I may see the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From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Markings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© 1962 Alfred A. Knopf, Inc. and Faber &amp; Faber,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for a New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72040" y="990720"/>
            <a:ext cx="4414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Dag Hammerskj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öld, Sweden, 20th cent. (Mt. 5: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38280"/>
            <a:ext cx="845820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 humble hear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hat I may hear the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 heart of l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hat I may serve the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 heart of faith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hat I may abide in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3:18Z</dcterms:modified>
  <cp:revision>15</cp:revision>
  <dc:subject/>
  <dc:title>PowerPoint Presentation</dc:title>
</cp:coreProperties>
</file>