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4B67-DD60-49EE-8A1B-CD2CBE41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6B8-24B0-4F91-BD68-CCF810A1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0A5B-C91B-4184-B8B9-73832843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B3B-4CDE-4709-A638-F0212CB6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77A9-D729-4BCB-B66E-EC8A85AB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D5C-B1F7-468C-9BFA-2648FD22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048B-E8B0-4DB5-B98C-EBA2EA7D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849-9213-4552-B614-7E786172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584D-B663-47F5-8D2D-BE779A60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2A4-56E7-4C87-BB94-21DA7B92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5AAE-AB8B-4DE8-931F-AB00E081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5B5B-7CF4-44B6-A3D4-4AA0B19D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092E-9ECD-4DB0-8567-E287E6A2B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 the Lor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s Risen To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Charles Wesley, 173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352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1. Christ the Lord i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risen today,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arth and heaven in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horus say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ee we greet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riumphant now,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Hail the Resurrectio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ou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6. King of glory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soul of bliss,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verlasting 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life is this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ee to know, thy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power to prove,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us to sing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nd thus to love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Raise your joys and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riumphs high,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Sing, ye heavens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nd earth reply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2. Love’s redeeming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ork is done,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Fought the fight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e battle won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Death in vain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forbids him rise,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hrist has opened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paradise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3. Lives again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ur glorious King,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here, O death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is now thy sting?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nce he died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ur souls to save,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here’s the victory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boasting grave?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4. Soar we now where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Christ has led,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Following our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xalted Head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Made like him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like him we rise,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urs the cros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e grave, the skies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5. Hail the Lord of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arth and heaven, Alleluia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Praise to thee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by both be given, 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the Lord Is Risen To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4:44:14Z</dcterms:modified>
  <cp:revision>60</cp:revision>
  <dc:subject/>
  <dc:title>PowerPoint Presentation</dc:title>
</cp:coreProperties>
</file>