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493-5759-4B0D-B1D6-81C5833A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1867-68AB-4FA9-890A-2134880F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24B-12CC-475B-84DB-A0840E21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15C-81C0-46E7-950D-449351D6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080E-0CDA-48F0-A216-345480FF0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303-6ECD-48FA-AF01-7AFBE76D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33C-B414-42B5-A985-FBCA6860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6180-2BD1-4EFA-A7A7-1773F111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728-12C8-4FB5-89BE-4A678C53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D4D-8808-43C7-8D87-97A454DE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0FF-A6C9-4900-9F9A-17FD12E9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051-9E72-4ECD-B7C4-D65FF0FC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0E67-4285-47E8-A816-D6408A9FA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a Espiga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Sheaves of Summ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Una espiga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rada por el so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 racimo q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rta el v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3 Ediciones Musical PAX; 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esareo Gabara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n, 1973; trans. by George Lockw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converted in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and w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od’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our dea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sh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me communion m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are wheat b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me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wer sow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a millsto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e grind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wn with sorrow and p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God makes 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ew people bound by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grains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come one sa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le loa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notes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woven into so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droplet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er that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nded in the se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, as Christia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body shall bec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t God’s 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gether we shall sit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God’s childr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’s bod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will sh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same hope w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ll sing toge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walk along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s, siste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fe, in love, we’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 convierten ahora 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n y vino de am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cuerpo 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sang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partim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a misma comun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os trigo de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smo sembrado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 molino a la vid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s tritura con dol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hace pueb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uevo en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granos que ha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cho el mismo p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notas q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jen un cant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o gotas de agu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se funden en el m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 cristian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 cuerpo for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la mesa 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ios se sentar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o hijos s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n compartirá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Espig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a misma esperanz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inando cantará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la vida como herman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 amará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eaves of summ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urned golden by the su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pes in bunch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ut down wh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pe and r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aves of Summ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3:40Z</dcterms:modified>
  <cp:revision>140</cp:revision>
  <dc:subject/>
  <dc:title>PowerPoint Presentation</dc:title>
</cp:coreProperties>
</file>