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89DF7-F9A2-47A9-9308-E8920A11E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8C8A0-6F99-44AA-AB2E-531751641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4FA3B-A40B-40DA-830A-83A5210FF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7C416-F65A-4B48-906C-BC0478901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5EFEC-B5B2-4C2A-B011-35488196C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11D1F-5881-41D7-B90C-941A118E2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85AED-923D-41AE-A3EB-31FA18EAF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448C8-9223-4E8E-AECE-DFC3FF642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BEFC0-14B3-4813-839A-8140D81C0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856ED-06C9-4FF5-A4A2-7FE01D41C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B8C78-9327-4142-AC31-36196334F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458DB-86B7-4D07-AE2E-EE00CFBE3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F51D9-0444-4318-9387-A50AD1DB0A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The Day Thou Gavest,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Lord, Is End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69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3623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1.</a:t>
            </a:r>
            <a:r>
              <a:rPr b="0" lang="en-US" sz="5000" spc="-1" strike="noStrike">
                <a:solidFill>
                  <a:srgbClr val="66ff66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The day thou gavest,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Lord, is ended;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the darkness falls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at thy behest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Day Thou Gavest, Lord, Is Ende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623680" y="1623960"/>
            <a:ext cx="3894840" cy="3373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WORDS: John Ellerton, 1879 (Ps. 113:2-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66760" y="1859040"/>
            <a:ext cx="861048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to thee our morning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hymns ascended;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thy praise shall hallow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now our res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2. We thank thee that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thy church, unsleeping 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while earth rolls onward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into light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Day Thou Gavest, Lord, Is Ende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through all the world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her watch is keeping,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and rests not now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by day or nigh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3. As o’er each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continent and island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the dawn leads on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another day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Day Thou Gavest, Lord, Is Ende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the voice of prayer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is never silent,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nor die the strains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of praise aw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4. So be it, Lord;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thy throne shall never,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like earth’s proud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empires, pass aw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Day Thou Gavest, Lord, Is Ende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Thy kingdom stands,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and grows forever,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till all thy creatures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own thy sw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2T18:14:05Z</dcterms:modified>
  <cp:revision>28</cp:revision>
  <dc:subject/>
  <dc:title>PowerPoint Presentation</dc:title>
</cp:coreProperties>
</file>