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CF8-2014-4516-9749-2D33EA7D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0DBA-2807-47F2-A61D-18E8C7F3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ABEB-3654-4E15-ADC9-EC111B920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BE26-DA55-4D2D-B3E0-BAF2DD50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1F1-4841-4734-8B3B-9DFCDD38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344-2F20-4556-9DB5-4FBE33B4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599-F0F7-4BE6-9127-DA28FE32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8D26-4B13-4534-AA32-45A937B3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8171-133B-407C-90BE-755A993B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B520-52BE-49ED-B0CF-1A30A14D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A173-49C7-4DB7-B023-DAD066C5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425-1976-49D9-8901-ABB6DA1B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CAC3-177E-415F-8149-4AC758210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urely the Presenc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f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ely the Presence of the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088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Lanny Wolfe, 197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urely the prese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the Lord is in this plac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can fee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is mighty po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his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77 Lanny Wolfe Mus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can hear the brus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angel’s wing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I see glory on each fac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rely the prese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Lord is in this place.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9:14Z</dcterms:modified>
  <cp:revision>88</cp:revision>
  <dc:subject/>
  <dc:title>PowerPoint Presentation</dc:title>
</cp:coreProperties>
</file>