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2389-F630-466D-AD38-E348C301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C11-8CA5-40CE-AFBD-C86BB303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901-9E06-46BE-8134-BD34C353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411-B63C-4593-A0E3-82A8724B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B0F-2B29-48AB-95F4-9A15A984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CCED-683B-45E9-9156-A33E634B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A83-5FE7-4235-B129-D68BF3DD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CD3-0303-4296-9B3E-18EECB41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4CD5-B956-4F6D-850A-A2663CC9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216-78B3-4D51-9838-7D9423A3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C980-590C-48BE-863B-323FEF6D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C233-16D6-40B0-BC42-36F95E19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3C07-CE05-4391-A417-D37C80D47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Come, Let Us Use</a:t>
            </a:r>
            <a:br>
              <a:rPr sz="4000"/>
            </a:b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the Grac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6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ome, let us u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ace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with one ac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WORDS: Charles Wesley, 1762 (Jer. 50: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 perpetu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venant jo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selve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up ourselv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Jesus’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name to glorif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om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s sacred hou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God to live and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covenant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moment m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ever kept in mi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no 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od forsak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cast these words beh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never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w off the f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od who hears our v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f thou 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ll pleased to h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down and meet u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e, Father,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ly Gh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our hearts rece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esent with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elestial 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eaceful answer g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Use the Grac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each coven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lood app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takes our sins a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egis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names on h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keep us to that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4:54:56Z</dcterms:modified>
  <cp:revision>108</cp:revision>
  <dc:subject/>
  <dc:title>PowerPoint Presentation</dc:title>
</cp:coreProperties>
</file>