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826-B429-412A-AF4A-5A51F235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B6DD-F534-41CB-854B-A9740213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DCEF-E6C9-4BAB-A72A-BF3D1489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7838-7BE1-4D6F-8B9F-51DDD5FF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B73-3B32-46E3-923D-181DD002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737-3CA4-43F6-B352-09868062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3EC0-F78B-422F-88B5-63C375C7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295-09FB-4BCF-854A-EE3A423F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A3B-6C9D-4987-80B0-C0B4DB6B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9EE2-EF48-4A8E-9522-EA4E0886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48DA-6D11-465C-AE4E-602A1BCD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AA3-2883-49BF-AE96-D71412AB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B786-6FD6-42E2-AEC0-57D7D8127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fant Holy, Infant Low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Infant holy, infant low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r his bed a cattle sta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xen lowing, little know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9840" y="1042920"/>
            <a:ext cx="6898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Polish carol; trans. by Edith M. G. Reed, 1925 (Lk. 2:6-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wift are w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gels s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els ring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dings bringing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the babe i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rd of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Flocks are sleep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hepherds keep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vigil till the morning ne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aw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rd the st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idings of a gospel tru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ant Holy, Infant Lowl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us rejoic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ree from sor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raises voic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et the morrow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rist the babe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born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53:55Z</dcterms:modified>
  <cp:revision>76</cp:revision>
  <dc:subject/>
  <dc:title>PowerPoint Presentation</dc:title>
</cp:coreProperties>
</file>