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834D-D0B2-4871-877D-A1C7072B2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F02F-6829-4EDF-A3C6-473B5016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5DE1-2AC2-4092-834E-D10F0FDEE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22BB-7E9A-413A-AD78-0D7BB9F68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63A7-5D6F-4C2B-A862-7D61F7D2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C244-689C-42A8-AF7D-14B7A26F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19D6-07F4-48CC-AE45-9E0A331F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680F-53CE-4213-A059-7A0DEA7E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5F28-9B09-4152-831C-0E2A9853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D36D-5D5B-4448-AB1D-5F4EFDD1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9A3C-4699-4ACD-992B-067C2A42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4E84-96C6-4701-9962-69E3055A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C204-1CC5-4988-9172-9DC19F453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lleluia, Allelu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6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752480"/>
            <a:ext cx="9144000" cy="4757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ive thanks to the risen Lor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ive praise to his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© 1973 The Word of G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, Allelu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58040" y="1092240"/>
            <a:ext cx="3440520" cy="39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Donald Fishel, 19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Jesus is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all the earth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the K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cre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, Allelu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29528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ive thanks to the risen Lor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ive praise to his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, Allelu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 Spread the good new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’er all the earth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sus has di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has ris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, Allelu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9528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ive thanks to the risen Lor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ive praise to his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, Allelu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We have be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ucified with Christ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w we sh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ve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, Allelu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29528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ive thanks to the risen Lor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ive praise to his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, Allelu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Come, let us pra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living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oyfully sing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ur Savi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, Allelui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29528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ive thanks to the risen Lor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luia, allelui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ive praise to his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eluia, Allelui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2T16:58:11Z</dcterms:modified>
  <cp:revision>25</cp:revision>
  <dc:subject/>
  <dc:title>PowerPoint Presentation</dc:title>
</cp:coreProperties>
</file>