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12FB-8A08-4411-96E4-24D80C21B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BC7C-1116-4790-807D-04244701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796E-4F9B-4C77-8DD3-D5A20908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15A3-100D-4C4D-81A1-F354BE40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9044-863E-4FF9-B0C8-D4835188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F83A-072A-4A69-A8E6-50E4AF5D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7046-0EDC-4E22-BF19-1824B9E9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C526-2E0B-46BC-922C-24AEFC8A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B7C4-0F57-4BC9-8FD0-62FD949B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97F7-43E4-4CC1-B92C-E3933EB3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E395-C126-4095-8C56-C09FC8A1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F9C2-C885-45CC-AB08-25CB87D3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59E1-1A6F-4253-9298-91B9AD7D4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001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¡Canta, Débora, Canta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8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09680"/>
            <a:ext cx="9144000" cy="403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Unisono (Unis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Canta, Débora, cant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¡Canta, Débora, canta!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© 1975, 1987 The United Methodist Publishing Hou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a, Debora, Can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Unis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02600" y="1166760"/>
            <a:ext cx="7148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Luiza Cruz, 1973; English trans. by Gertrude C. Suppe, 1987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Spanish trans. by Raquel Guti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érrez-Achon, 1987 (Judges 5)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6668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our God is goo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is go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ill strengthe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ople with migh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228600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Unisono (Unis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Canta, Débora, cant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¡Canta, Débora, cant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a, Debora, Can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Unis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We lift up our voic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eryone togeth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inging the triumph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nglish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85904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our God is goo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is go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as chos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se who are humb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a, Debora, Can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our God is goo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is go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ill strengthe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eople with migh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256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a, Debora, Cant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Madre de Isra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er de ejércit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anta un himno a tu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80880"/>
            <a:ext cx="9144000" cy="5731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Estribillo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rque bueno es Di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eno es Di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él escoge a los humilde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rque bueno es Di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eno es Di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 los fortalece con su pod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a, Debora, Cant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05740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Unisono (Unis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Canta, Débora, cant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¡Canta, Débora, cant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a, Debora, Can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Unis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666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Todos los que canta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cen hoy sus voc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anten un himno de lo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ta, Debora, Canta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525600"/>
            <a:ext cx="9144000" cy="57315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Estribillo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rque bueno es Di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eno es Di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él escoge a los humilde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orque bueno es Di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eno es Dio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 los fortalece con su pod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a, Debora, Cant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133720"/>
            <a:ext cx="9144000" cy="268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Arial"/>
              </a:rPr>
              <a:t>Unisono (Unis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¡Canta, Débora, canta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¡Canta, Débora, cant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a, Debora, Can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Unis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Mother of Isra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eader of her armie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ing a hymn o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victory to our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nglish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676520"/>
            <a:ext cx="9144000" cy="42080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our God is goo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is goo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as chos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se who are humb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ta, Debora, Can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40:28Z</dcterms:modified>
  <cp:revision>29</cp:revision>
  <dc:subject/>
  <dc:title>PowerPoint Presentation</dc:title>
</cp:coreProperties>
</file>