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5D70-8ED1-4235-B46A-C4865D1D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C4DC-C594-474B-826D-9EBA2371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8CD5-A2A3-45E3-883D-372B9658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F83B-7D8A-44BA-8325-16095B98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392A-4CCA-4A51-8784-FE766C18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7846-698C-46BF-9BF9-D2586DB8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B36D-31A2-4A9F-96D0-C39D18D3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420E-642A-42B7-A397-DA1EEBC5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9FFD-9715-4819-942B-5C301A48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52D1-927C-4C71-BFAB-61861FFC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4785-A420-459B-9A7B-05EB10B7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7A31-4C3A-40A3-970C-A95DC898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5F8E-7419-4EBE-99C3-A14F5AC92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e Believe in One True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8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e believe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true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ther, Son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y Gho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Believe in One True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219320"/>
            <a:ext cx="914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Tobias Clausnitzer, 1668; trans. by Catherine Winkworth, 186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-prese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lp in ne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d by all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ly ho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352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whose migh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ower alo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is made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rought and d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We believe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 of God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ry’s S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Believe in One True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descend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his thro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or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lvation w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whose cro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death are w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cued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’s mise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 We conf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oly Gho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from bo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e’er proceed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Believe in One True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upholds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forts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all trial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ars, and nee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st and Ho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ini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fore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1:56Z</dcterms:modified>
  <cp:revision>26</cp:revision>
  <dc:subject/>
  <dc:title>PowerPoint Presentation</dc:title>
</cp:coreProperties>
</file>