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6197-1A31-4580-9041-07E762751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4A3-E234-489E-AB8D-55FD98DE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6953-0526-429B-B343-8E802C5BB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A665-19F9-41F4-A462-38A6F821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7D8B-A531-499B-B190-5659626F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7F40-CAF9-41AA-B126-88FEC44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A43B-BACD-49CB-8F1C-659F39C9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E278-ECD3-4998-B816-B9314267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0C9-9DC4-4E1D-BD98-FAAF34CA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3A2-4513-4449-B519-7600BC36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CF3-FA82-4893-A632-115DE1D9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B975-E4BE-4665-98A2-6639508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A5BC-07EB-458D-81AA-B81A5C4D9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avior, Again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Thy Dear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6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44792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ohn Ellerton, 1866; al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 Savior, agai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  to thy dear name we rai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one accord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parting hymn of prai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uard thou the lip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sin, th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rts from sham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at in this hou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ave called upon thy n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rant us thy pe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pon our homeward way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ee bega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ee shal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nd the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harm and dang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thy children fr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or dark and ligh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re both alike to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rant us thy pe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roughout ou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earthly lif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eace to thy churc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rom erro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from strif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eace to our lan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fruit of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ruth and love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eace in each hear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Spirit from ab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Thy peace in lif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balm of every p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y peace in deat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hope to ris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avior, Again to Thy Dear Nam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4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n, when thy voi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hall bid ou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onflict ceas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all us, O Lor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thine eternal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8:12Z</dcterms:modified>
  <cp:revision>154</cp:revision>
  <dc:subject/>
  <dc:title>PowerPoint Presentation</dc:title>
</cp:coreProperties>
</file>