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EB6-D538-46A3-A8EA-B3C44B94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DFA7-2AD0-4408-BA73-51F5F828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0D1-2644-4140-AF2C-99EEF97C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01A-925D-4CA8-AC52-6DC984E3D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C97F-9161-4323-97E4-FF6F8602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485-4898-431D-B96C-F2D2A64E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E74-151D-4AE4-A2FE-4F1C6D24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5CF2-C50F-4557-999B-361DD1AE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9F6F-E315-4BCA-953E-605BD62C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756-F29A-4A84-988D-9994C0FC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D42-CCE9-4B1B-A8D7-6D1D1893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4B8-81D0-4B57-AC1F-FA958077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F7AA-9E0F-40FF-814F-45C883AE5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 for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orld We 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hrist fo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loving zea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Samuel Wolcott, 1869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oor, and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mou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aint and overbor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-sick and sorrow-w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Christ doth h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hrist fo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fervent pray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yward and the l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rest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ssions toss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ed 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untless co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dark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hrist fo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ne acc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us the work to sh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us reproach to d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us the cross to b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Christ 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Christ fo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 we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orld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we b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joyful s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for the World We S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born soul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d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claimed from error’s way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spired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pe and p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hrist bel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56:28Z</dcterms:modified>
  <cp:revision>74</cp:revision>
  <dc:subject/>
  <dc:title>PowerPoint Presentation</dc:title>
</cp:coreProperties>
</file>