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B31-6D4A-4FEA-9B3C-AB8360A8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5C39-0B62-408E-AA30-F22EBF9B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CEB-5351-4C95-8C20-5F669736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93B-5374-4992-B994-B880B1E76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D060-9CF7-4C10-9344-C6AB4B01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2E2-FDF3-43E2-AE2F-608D4E17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9AC-4002-4497-975B-4CE667BC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E3C-2AA4-4414-9E99-AF2B3D71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D37E-D86C-48DE-991B-838FE172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3738-947D-4796-9A51-0FADF347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A23-9AB1-41EF-A6C4-82093B9A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95E-4AB8-4E5C-B66D-A2398F53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69EE-395A-462A-874A-941557626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et’s Sing unto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Cantemos al S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Let’s sing unto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hymn of glad rejoic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’s sing a hymn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new day’s fresh begin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38600" y="1496880"/>
            <a:ext cx="7079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Carlos Rosas; trans. by Roberto Escamilla, Elise S. Eslinger,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and George Lockwood, 1983, 1987 (Ps. 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485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6 Resource Publications, Inc.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9051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576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antemos 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 himno de alabanz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exprese nuestro am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uestra fe 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uestra esperan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2193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5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 toda la creació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egona su grandez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í nuestro can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va anunciando su belle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4479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722600"/>
            <a:ext cx="9144000" cy="4512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Aleluya! ¡Aleluy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¡Aleluya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¡Aleluya!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9840" y="257652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 made the sky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ars, the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ocea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God saw it was g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se works w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lled with beau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69892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77353" dir="56247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Sing unto the Lor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9718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et’s sing unto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hymn of ador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shows our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a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hope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6668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2193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all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 been ma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is prai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great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 we sing 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bestows su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vely bless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60020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Sing unto the Lord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6668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antemos 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 himno de alegrí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 cántico de am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 nacer el nuevo dí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9051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Él hizo el cielo, el m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l sol y las estrell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vio en ellos bond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es sus obras eran bell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8954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576520"/>
            <a:ext cx="9144000" cy="30679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Aleluya! ¡Aleluy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Aleluy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7:10Z</dcterms:modified>
  <cp:revision>13</cp:revision>
  <dc:subject/>
  <dc:title>PowerPoint Presentation</dc:title>
</cp:coreProperties>
</file>