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AD87-404E-4E8F-9430-86EAD368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D292-4E2C-462A-9BD7-58D4A367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166B-B803-4D38-B6F0-7C5EE640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A902-A67E-46DA-B7CA-979DB3E5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8F9-CB1F-41F8-8DC4-B6D1B8CE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912C-328F-4426-B5F6-C3C398D5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487B-D6F9-40E5-8AC1-DB435EA3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A169-A024-4CAF-9319-86CD166B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B40D-72F3-4869-9CBE-E349F6EA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13CF-2F94-4779-A10D-D474CAE0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B640-7A95-49F2-96FA-97E55F3E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D385-852D-490E-BFC8-B57AC341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01F5-85FE-4089-8080-A381923E1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ell Out, My So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830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1. Tell out, my soul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greatness of the Lord!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Unnumbere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blessings giv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my spirit voi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  <a:ea typeface="Arial"/>
              </a:rPr>
              <a:t>© 1962 Hope Publishing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Out, My So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57000" y="1004760"/>
            <a:ext cx="6058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Timothy Dudley-Smith, 1961 (Lk. 1:46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5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ender to m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promise of God’s word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n God my Savior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hall my heart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2. Tell out, my soul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greatness of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God’s name!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Make known God’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might, who wondrou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deeds has d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Out,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1337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God’s mercy sur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rom age to age the same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God’s holy nam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Lord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mighty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860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3. Tell out, my soul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greatness of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God’s might!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Powers and dominion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ay their glory b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Out,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1337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proud hearts an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tubborn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lls are put to flight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hungry fed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humble lifted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1337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4. Tell out, my soul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glorie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f God’s word!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irm is the promis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God’s mercy s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ll Out,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ell out, my soul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greatness of the Lor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children’s children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forevermo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51:54Z</dcterms:modified>
  <cp:revision>51</cp:revision>
  <dc:subject/>
  <dc:title>PowerPoint Presentation</dc:title>
</cp:coreProperties>
</file>