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D8E-27D9-46E5-AD74-A1BCD7A5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2807-F029-4E4C-A3AB-F28E159D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09FB-07C8-433A-B0BC-76A30658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88FC-BE8A-4825-B5ED-E6AFE1A8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9F96-B1FE-4399-8D73-8ACD4108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B32-9804-47D9-8FDC-13FE1091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47EE-D57F-4FD5-9484-C6AFEB14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E30F-5B6D-4257-A9DA-E06CE48C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6EC-62F0-454B-A335-B3A756DB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A1F-D6A7-4D8D-845E-2197F1E6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942-33F3-4969-B80C-D5124733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6CC4-C62D-4EC4-8CFD-7942DD53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3259-0073-4B9A-99DF-6E4037CAE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nticle of Redemption</a:t>
            </a:r>
            <a:br>
              <a:rPr sz="40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De Profundi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38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y distr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ry to the Lord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liver me, O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icle of Redem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72600" y="1647720"/>
            <a:ext cx="4797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Psalm 130; response, Psalm 120:1-2,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380880"/>
            <a:ext cx="8610480" cy="583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60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t of the deep have I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alled to thee, O Lor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Lord, hear my voi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 let thine ears consider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well the voic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of my complaint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979560"/>
            <a:ext cx="8839080" cy="4916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f thou, Lord, wilt be extrem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mark what is done amis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O Lord, who may abide i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For there is mercy with thee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therefore shalt thou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be feare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606600"/>
            <a:ext cx="8839080" cy="566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 look for the Lor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y soul doth wait for him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in his word is my tru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My soul fleeth unto the Lord   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before the morning watch;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I say before th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morning watch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901800"/>
            <a:ext cx="8839080" cy="506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Israel, trust in the L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for with the Lord there is merc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with him i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plenteous redemp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he shall redeem Israel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   from all their sins.</a:t>
            </a:r>
            <a:r>
              <a:rPr b="1" lang="en-US" sz="49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6:07:58Z</dcterms:modified>
  <cp:revision>30</cp:revision>
  <dc:subject/>
  <dc:title>PowerPoint Presentation</dc:title>
</cp:coreProperties>
</file>