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7D5-3FDC-477C-B72A-5731B95F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F464-61BB-4241-BF78-6EEA09CD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AA63-40AF-4DBA-9A1E-D0E4599E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8CD-1CBD-4310-987F-3751232F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4917-B647-4E1B-99D8-D96CB04D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B9FE-DE20-4DC6-BE9B-8260BC89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2B6-0884-47F2-A499-71F352D4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C1B-A69E-4FB5-B5CA-5F010346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FCB-904F-488A-8AC8-6157C0F8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6C5-1DD4-433D-B8C5-85CFF38F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25B5-B133-43FF-8F13-97075813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C004-4A71-4C11-8154-6BF8B72A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BE86-31E7-4272-B893-FF2F2F710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f Death My Frien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d Me Div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057400"/>
            <a:ext cx="89154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. If death my frien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and me divid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thou dost not, Lor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my sorrow chid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or frown my tears to se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Death My Friend and Me Divid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25480" y="1600200"/>
            <a:ext cx="2100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Charles Wesley, 1762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526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estrained from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passionate exces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ou bidst me mour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n calm distres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or them that rest in th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. I feel a stro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immortal hop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which bears my mournful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spirit up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beneath its mountain load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52680"/>
            <a:ext cx="86868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edeemed from death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grief, and pain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 soon shall fin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my friend agai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ithin the arms of Go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52680"/>
            <a:ext cx="86868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. Pass a few fleet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moments mor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and death the bless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shall restor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which death has snatched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way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1552680"/>
            <a:ext cx="85345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or me thou wil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e summons sen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give me back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my parted frien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that eternal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15:25Z</dcterms:modified>
  <cp:revision>13</cp:revision>
  <dc:subject/>
  <dc:title>PowerPoint Presentation</dc:title>
</cp:coreProperties>
</file>