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8C2B-F714-4463-A22B-6E073C7EA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1637-C3EB-4ED4-B5A6-EA3C3036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48C7-EBEC-4C34-9D72-A099540D8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C997-6EA0-4C48-95F5-71B9E1A4C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1BF2-0D5E-4984-878A-2495A3E7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16FB-CD7A-4082-A8BB-E9BBDE07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26A3-2F83-464F-BA9D-B9103A4B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28C6-6455-4CBE-A3AF-4782CFC72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368B-4630-4013-B0DE-D140F851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5413-3EB3-40E5-951C-8D9A9CC8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D136-56E8-4BD5-AD9E-A124B80E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8A29-FF1E-4E2F-99F2-860196DC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6672-89DD-418C-9487-5B7459E9D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osanna, Loud Hosan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7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Hosanna, loud hosann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ittle children sa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pillared cour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emp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ovely anthem ra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sanna, Loud Hosann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37040" y="1219320"/>
            <a:ext cx="827028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Jeanette Threlfall, 1873 (Mt. 21:8-9; Mk. 11:8-10; Jn. 12:12-13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Jesus, who h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essed th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lose folded to his brea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children sa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 prais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implest and the b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From Olivet they follow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id an exultant crow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victor pal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anch wav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chanting clear and lou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sanna, Loud Hosann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ord of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eav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ode on in lowly stat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r scorned t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ttle childr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ould on his bidding wai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“Hosanna in the highest!”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ancient song we 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Christ is our Redeem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ord of heav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sanna, Loud Hosann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may we ever praise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heart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e and voi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n his blissful prese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ternally rejoic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5T20:50:10Z</dcterms:modified>
  <cp:revision>37</cp:revision>
  <dc:subject/>
  <dc:title>PowerPoint Presentation</dc:title>
</cp:coreProperties>
</file>