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4DA8-EB8D-4551-874D-B5ED19968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AF3C-DBAE-403A-9B33-2C6B2CE3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9865-31C9-49F1-8D03-FCC22B4E6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E769-B14C-4F03-8B8C-A1276988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9FFF-17E5-43B2-9AFD-C2F308D4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83D4-1734-4F94-937C-C02C6E52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A7F2-B847-4B95-9153-589E5E1D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01C5-1F5E-4C8B-A417-92177564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79FC-C9C4-4EFC-AD0E-F3EA2F8E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615A-5D89-4B92-933A-2579DDE0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8239-97C1-4B2D-A52A-2298E2DF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3418-6E4D-450D-A818-0F817F0F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C7CD-46B5-498F-B1F1-EED941681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ail the Day That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ees Him R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 Day that Sees Him R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Charles Welsey, 173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1. Hail the day tha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ees him rise, Alleluia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o his thron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bove the skies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19040" y="3429000"/>
            <a:ext cx="830592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hrist, awhile to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mortals given, Alleluia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Reascends hi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native heaven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2. There the gloriou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riumph waits, Alleluia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ift your head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eternal gates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 Day that Sees Him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19040" y="3429000"/>
            <a:ext cx="830592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hrist hath conquere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death and sin, Alleluia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ake the King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f glory in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3. See! the heave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ts Lord receives, Alleluia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Yet he loves th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earth he leaves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 Day that Sees Him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19040" y="3429000"/>
            <a:ext cx="830592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ough returning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o his throne, Alleluia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till he calls th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orld his own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4. See! he lifts hi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ands above, Alleluia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ee! he shows th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prints of love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 Day that Sees Him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19040" y="3048120"/>
            <a:ext cx="830592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ark! his graciou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ips bestow, Alleluia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Blessings on hi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hurch below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5:23:50Z</dcterms:modified>
  <cp:revision>68</cp:revision>
  <dc:subject/>
  <dc:title>PowerPoint Presentation</dc:title>
</cp:coreProperties>
</file>