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9EA-CE50-44ED-BA29-1DADF94D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5A3C-E10F-4A6E-AA08-63F61A99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5AC-CA1F-4490-8A6F-D038BD06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2BBA-CB0F-4BF0-87F6-2C366E75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EA14-1B03-437E-8C07-D6E6E106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2388-1445-4346-A520-A1DC3E39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FA9-AEF2-4EFB-9D68-AB795966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80D-EA62-4FDE-A71E-44217E13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111-CA0E-44E1-A013-F3579906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A754-2E7C-40C9-85C2-B8C1B93F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CA09-ED5D-409A-A343-33F7EAF9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1A0B-685E-423B-8560-777C670F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6B27-0CAB-4F37-A2DF-03B3BEB90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he Sufficiency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fficiency of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Juliana of Norwich, England, 15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873080"/>
            <a:ext cx="803916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God, of your goodness give me yourself; for you are sufficient for me. I cannot properly ask anything less, to be worthy of you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752480"/>
            <a:ext cx="8534520" cy="33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f I were to ask less, I should always be in want. In you alone do I have al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5:17Z</dcterms:modified>
  <cp:revision>160</cp:revision>
  <dc:subject/>
  <dc:title>PowerPoint Presentation</dc:title>
</cp:coreProperties>
</file>