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E0F8-A750-4A09-BC3F-E962496B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6D14-0829-4524-A6BA-719DA4B4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F024-3D84-4F2D-8620-F4ADF960F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4E9F-5B25-424D-9FE7-0716D46C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74A0-E6A5-4CBB-AA2B-DB7DA5C4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089D-B00C-4AED-B63C-AA70BC79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7D68-D41B-409C-A6D3-AD5D1FDD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B806-9F08-4518-B459-509168F6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8CE1-4F72-4403-9164-92B8470C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EA65-88B2-488D-ABEB-D837F198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A851-8486-4FD6-97EE-E00CE644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A214-F104-4192-BEE5-AAF8E89E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18EA-90F8-45DE-9491-ECDF69F57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 Love to Tell the S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5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I love to tell the st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unseen things ab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Jesus and his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Jesus and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12000" y="1092240"/>
            <a:ext cx="4320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Katherine Hankey, ca. 18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ose who know it be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eem hunge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irst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hear it like the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when,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cenes of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sing the new, new s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’twill be the old, old st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I have loved so 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5238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’twill be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me in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tell the old, old st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Jesus and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ecause I know ’tis tru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t satisfies my longi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s nothing else can 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5238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’twill be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me in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tell the old, old st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Jesus and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I love to tell the stor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ore wonderful it seem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n all the golden fanci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all our golden dream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t did so much for 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at is just the reas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tell it now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5238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’twill be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me in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tell the old, old st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Jesus and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I love to tell the stor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’tis pleasant to repe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at seem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ach time I tell 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ore wonderfully swe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r some ha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ever hea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message of salva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om God’s 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ly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5238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love to tell the st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’twill be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me in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tell the old, old st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Jesus and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o Tell the S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9:54:30Z</dcterms:modified>
  <cp:revision>19</cp:revision>
  <dc:subject/>
  <dc:title>PowerPoint Presentation</dc:title>
</cp:coreProperties>
</file>