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44D9-9F6B-41A7-B925-683719D9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8F19-CA44-4FBE-AFE7-83B29098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CCD-D582-4BBB-9AE8-1335E0C09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AEF3-F8E0-48FB-9FF6-01A91A7A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99D-6346-49E2-8469-EF9FEC12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52BD-F900-42BF-9473-2FC571CE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154-714B-4C40-BE1D-B0B04225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D557-9B36-40C7-9EAB-5A37FBF6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D62-63E8-4BD2-B86C-7E93050E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9B4-D1EA-437F-839B-2DDB0567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A037-0F20-4CEA-95AC-41097FF7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46E-7C2E-4BF6-8824-22C7FB85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5CEE-3B03-4E46-B237-2AD5D4D25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01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lest Be the Dear Uniting L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lest b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ar uniting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ill not let us par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bodies m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r off rem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till are one in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2 (1 Cor. 2:2)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Joined in on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our He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he appoints we g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ill in Jesus’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otsteps tre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do his work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O may we 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in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othing know bes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desi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hing estee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Jesus crucifi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e all are 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him recei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ach with each ag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im the 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Truth, we li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est point of unit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Partaker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vior’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me in mind and he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joy, nor grief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time, nor pl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life, nor death can 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est Be the Dear Uniting Lo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0:53:18Z</dcterms:modified>
  <cp:revision>72</cp:revision>
  <dc:subject/>
  <dc:title>PowerPoint Presentation</dc:title>
</cp:coreProperties>
</file>