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A27-1239-4F6B-BD56-EE297F38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14E-6612-4EF3-BB57-1BEC9C48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D9E-AB64-4DB0-A80B-7B05DBEB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B3E-5577-4D01-B558-CD526464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C09A-DBA0-4962-BFD5-8D45201A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A1B8-35C1-447C-A622-044896B5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BFE-20A0-4859-B85C-B64680F1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9C0F-F82A-440A-A486-A2749983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D7A-210C-45C6-9226-EBD9387D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36B-43FE-4B67-96EC-C8BD0898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15F-63FC-4712-BA69-D21CCDC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40A-6E54-40EE-B4FD-390CF4EF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7597-761E-4C4B-8AA0-AE35C08B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ek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48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Seek the Lor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now is presen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ay to One who is at hand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et the wick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ease from sinn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ildoers change their mi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040" y="938160"/>
            <a:ext cx="4741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ed Pratt Green, 1986 (Is. 55:6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sinful God has pit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se return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forgive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w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rd is sa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 world that dis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 “Judge me no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y human standards!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s the vault of heaven soar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igh above th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arth, so high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re my thoughts and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ays than you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how ra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now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earth bloss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ear fru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you, before retu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d for s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to ea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3. “So my wor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turns not fruitles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oes not from it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bors cea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ll it ha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chieved my purpo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a world of joy and peac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k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lose the proph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at vi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spel w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saiah’s inspir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is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hea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54Z</dcterms:modified>
  <cp:revision>41</cp:revision>
  <dc:subject/>
  <dc:title>PowerPoint Presentation</dc:title>
</cp:coreProperties>
</file>