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CAB9-DD8D-4800-808D-6EEB3805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2F52-1B5B-4975-B084-FDE40325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8361-B515-4824-831F-4CE88F33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C7B7-1A97-4AD6-8925-1859E069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796A-F7A2-4DF3-A587-2CD031C2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E0E1-23E2-47A9-B962-31C54F9B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D9EB-E6D5-4305-8A00-BB9E9314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CA96-8BC6-4B5D-8A01-458C8A49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30EA-0B7C-418F-AC9A-C5A59D9E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5D28-49B1-4D45-BF0C-091FBF30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D5AA-F226-4DDA-9EAF-FA004066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56F8-147C-4BFE-A43F-EF5DB8E5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8BDB-664D-482A-AE08-E9FD9450D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Come, O Come, Emmanu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924680" y="228600"/>
            <a:ext cx="121932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8915400" cy="462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Antiph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0" lang="en-US" sz="4200" spc="-1" strike="noStrike">
                <a:solidFill>
                  <a:srgbClr val="66ff33"/>
                </a:solidFill>
                <a:latin typeface="Times New Roman"/>
                <a:ea typeface="Arial"/>
              </a:rPr>
              <a:t>O EMMANUEL, our King and</a:t>
            </a:r>
            <a:br>
              <a:rPr sz="4200"/>
            </a:br>
            <a:r>
              <a:rPr b="0" lang="en-US" sz="4200" spc="-1" strike="noStrike">
                <a:solidFill>
                  <a:srgbClr val="66ff33"/>
                </a:solidFill>
                <a:latin typeface="Times New Roman"/>
                <a:ea typeface="Arial"/>
              </a:rPr>
              <a:t>   Lawgiver, the Expected of the   </a:t>
            </a:r>
            <a:br>
              <a:rPr sz="4200"/>
            </a:br>
            <a:r>
              <a:rPr b="0" lang="en-US" sz="4200" spc="-1" strike="noStrike">
                <a:solidFill>
                  <a:srgbClr val="66ff33"/>
                </a:solidFill>
                <a:latin typeface="Times New Roman"/>
                <a:ea typeface="Arial"/>
              </a:rPr>
              <a:t>   nations and their Savior: </a:t>
            </a:r>
            <a:r>
              <a:rPr b="1" lang="en-US" sz="4200" spc="-1" strike="noStrike">
                <a:solidFill>
                  <a:srgbClr val="66ff33"/>
                </a:solidFill>
                <a:latin typeface="Times New Roman"/>
                <a:ea typeface="Arial"/>
              </a:rPr>
              <a:t>Come </a:t>
            </a:r>
            <a:br>
              <a:rPr sz="4200"/>
            </a:br>
            <a:r>
              <a:rPr b="1" lang="en-US" sz="4200" spc="-1" strike="noStrike">
                <a:solidFill>
                  <a:srgbClr val="66ff33"/>
                </a:solidFill>
                <a:latin typeface="Times New Roman"/>
                <a:ea typeface="Arial"/>
              </a:rPr>
              <a:t>   and save us, O Lord, our God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Sts. 1, 3, 5ab, 6cd, 7ab © 1940, 1943, renewed 1981 The Church Pension Fund;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trans. sts. 4, 5cd, 6ab, 7cd © 1989 The United Methodist Publishing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House; antiphons © 1962 Sisters of St. Bened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83059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9th cent. Latin; trans. st. 1, 3, 5ab, 6cd, 7ab, </a:t>
            </a: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The Hymnal,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1940; st. 2, 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Henry Sloane Coffin, 1916; st. 4, 5cd, 6ab, 7cd, Laurence Hull Stookey, 19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3. O come, O come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great Lord of might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who to thy tribes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on Sinai’s heigh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in ancient times once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gave the law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in cloud and majesty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and aw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288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Rejoice! Rejoice!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1371600"/>
            <a:ext cx="8915400" cy="51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Antiphon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</a:t>
            </a:r>
            <a:r>
              <a:rPr b="0" lang="en-US" sz="4200" spc="-1" strike="noStrike">
                <a:solidFill>
                  <a:srgbClr val="66ff33"/>
                </a:solidFill>
                <a:latin typeface="Times New Roman"/>
                <a:ea typeface="Arial"/>
              </a:rPr>
              <a:t>O ROOT OF JESSE,</a:t>
            </a: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who stands for  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an ensign of the people, before 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whom kings shall keep silence and 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to whom the Gentiles shall make 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their supplication: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Come, and 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deliver us and tarry no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4. O come, thou Root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of Jesse’s tree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an ensign of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thy people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before thee rulers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silent fall;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all peoples on thy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mercy c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8288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Rejoice! Rejoice!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534960"/>
            <a:ext cx="8915400" cy="58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Antiphon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</a:t>
            </a:r>
            <a:r>
              <a:rPr b="0" lang="en-US" sz="4200" spc="-1" strike="noStrike">
                <a:solidFill>
                  <a:srgbClr val="66ff33"/>
                </a:solidFill>
                <a:latin typeface="Times New Roman"/>
                <a:ea typeface="Arial"/>
              </a:rPr>
              <a:t>O KEY OF DAVID</a:t>
            </a: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and Scepter of 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the house of Israel, who opens and 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no one shuts, who shuts and no one 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opens: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Come, and bring forth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from prison the captive who sits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in darkness and in the shadow of 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dea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5. O come, thou Key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of David, come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and open wide our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heavenly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The captives from their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prison free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and conquer death’s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deep mise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1. O come, O come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Emmanuel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and ransom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captive Israe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8288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Rejoice! Rejoice!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" y="1981080"/>
            <a:ext cx="8915400" cy="446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Antiphon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</a:t>
            </a:r>
            <a:r>
              <a:rPr b="0" lang="en-US" sz="4200" spc="-1" strike="noStrike">
                <a:solidFill>
                  <a:srgbClr val="66ff33"/>
                </a:solidFill>
                <a:latin typeface="Times New Roman"/>
                <a:ea typeface="Arial"/>
              </a:rPr>
              <a:t>O DAYSPRING</a:t>
            </a: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, Brightness of the 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light eternal and Sun of justice: 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Come, and enlighten those who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sit in darkness and in the shadow 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of dea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6. O come, thou Dayspring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come and cheer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our spirits by thy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justice he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disperse the gloomy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clouds of night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and death’s dark shadows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put to f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9810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Rejoice! Rejoice!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" y="1447920"/>
            <a:ext cx="891540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Antiphon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</a:t>
            </a:r>
            <a:r>
              <a:rPr b="0" lang="en-US" sz="4300" spc="-1" strike="noStrike">
                <a:solidFill>
                  <a:srgbClr val="66ff33"/>
                </a:solidFill>
                <a:latin typeface="Times New Roman"/>
                <a:ea typeface="Arial"/>
              </a:rPr>
              <a:t>O KING OF THE GENTILES</a:t>
            </a: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,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and their Desired One, Cornerstone 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that makes both one: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Come,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deliver us whom you formed ou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of the dust of the earth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7. O come, Desire of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nations bind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all peoples in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one heart and m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From dust thou brought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us forth to life;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deliver us from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earthly str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1337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Rejoice! Rejoice!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that mourns in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lowly exile here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until the Son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of God app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0574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Rejoice! Rejoice!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1295280"/>
            <a:ext cx="8915400" cy="51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Antiphon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</a:t>
            </a:r>
            <a:r>
              <a:rPr b="0" lang="en-US" sz="4200" spc="-1" strike="noStrike">
                <a:solidFill>
                  <a:srgbClr val="66ff33"/>
                </a:solidFill>
                <a:latin typeface="Times New Roman"/>
                <a:ea typeface="Arial"/>
              </a:rPr>
              <a:t>O WISDOM,</a:t>
            </a: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who came forth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from the mouth of the Most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High, reaching from end to end,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and ordering all things mightily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and sweetly: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Come and teach us 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the way of pruden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2. O come, thou wisdom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from on high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and order all things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far and nig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to us the path of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knowledge show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and cause us in her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ways to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1337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Rejoice! Rejoice!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Emmanuel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shall come to thee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O Isra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1219320"/>
            <a:ext cx="8915400" cy="58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Antiphon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</a:t>
            </a:r>
            <a:r>
              <a:rPr b="0" lang="en-US" sz="4200" spc="-1" strike="noStrike">
                <a:solidFill>
                  <a:srgbClr val="66ff33"/>
                </a:solidFill>
                <a:latin typeface="Times New Roman"/>
                <a:ea typeface="Arial"/>
              </a:rPr>
              <a:t>O ADONAI</a:t>
            </a: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and Leader of the   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house of Israel, who appeared to 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Moses in the flames of the bush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and gave him the law on Sinai: 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</a:t>
            </a: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Come, and with your outstretched   </a:t>
            </a:r>
            <a:br>
              <a:rPr sz="4400"/>
            </a:br>
            <a:r>
              <a:rPr b="1" lang="en-US" sz="4400" spc="-1" strike="noStrike">
                <a:solidFill>
                  <a:srgbClr val="66ff33"/>
                </a:solidFill>
                <a:latin typeface="Times New Roman"/>
                <a:ea typeface="Arial"/>
              </a:rPr>
              <a:t>   arm redeem u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, O Come Emmanu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9:13Z</dcterms:modified>
  <cp:revision>61</cp:revision>
  <dc:subject/>
  <dc:title>PowerPoint Presentation</dc:title>
</cp:coreProperties>
</file>