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F81B-069A-4E97-BDF4-D2842361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2B7E-35FE-4D36-9688-3110E3E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D9D-2375-4ADF-9E30-9D0A4DEE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FD5-36EF-42BC-A295-48812395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D0F-2C59-422A-8534-9D31AE0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432-B8E9-494A-91F8-99FBA5A1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3BC-DE09-416D-AA8F-17C6C156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077-1E40-45FD-86D0-28F60792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C77E-7DCA-497C-90E6-637AC116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547-B88D-4490-83D5-2E9D079E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DF68-B3EC-4B3E-82C0-1D5B7956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ADF-B379-46AB-BCAC-B808BAE6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E72F-B9D9-46EF-8F52-C1C8C5FB7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hold the Savio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hold the Savior of Mank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muel Wes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146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 Behold the Savior of mank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nailed to the shameful tre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ow vast the lov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him inclin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o bleed and die for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144440"/>
            <a:ext cx="89154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 Hark how he groans! whi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nature shake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earth’s strong pillars ben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temple’s veil 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under break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solid marbles re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. ’Tis done! the precio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ransom’s pai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“Receive my soul!” he crie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see where he bows h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sacred head!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e bows his head and d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14444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. But soon he’ll brea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death’s envious ch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in full glory shin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O Lamb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was ever p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as ever love like thin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2:18Z</dcterms:modified>
  <cp:revision>54</cp:revision>
  <dc:subject/>
  <dc:title>PowerPoint Presentation</dc:title>
</cp:coreProperties>
</file>