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13B-53E0-4649-8F95-1008DD7C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FAA-4592-4F01-BCBC-CDBFF5B5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314C-D3EA-497A-839D-2A83089C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7967-F77F-4908-A4D3-9E49737A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A4C-9613-422A-AE7F-47583DB2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3CF-F8CF-47AE-A419-2AE05C18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91BC-5597-4E3B-95B9-1BDF638B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F6CE-8B91-4F36-AE5F-5B4DF3ED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16B-1FD3-4B0D-B74E-F16C5B86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EA36-A4B4-4BA0-8491-F701A44A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E3EF-37AC-47C4-B4D5-180AF0E9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5F8F-1368-4E75-9302-9A1C3890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301B-8EBF-4D7E-AF09-552D9AF51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Kyrie Ele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yrie, Kyrie, elei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yrie Ele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9160" y="1143000"/>
            <a:ext cx="239508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Ancient Greek</a:t>
            </a:r>
            <a:r>
              <a:rPr b="1" lang="en-US" sz="2100" spc="-1" strike="noStrike">
                <a:solidFill>
                  <a:srgbClr val="99cc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7:11:05Z</dcterms:modified>
  <cp:revision>25</cp:revision>
  <dc:subject/>
  <dc:title>PowerPoint Presentation</dc:title>
</cp:coreProperties>
</file>