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8911-65BA-4598-9414-106DD719B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9586-7F1F-4ED3-AFAD-E1F3E847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64E6-AA0D-43DC-8E8D-494D0D939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648D-C8FC-4086-B5CB-CBDD97BAD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51A3-E1EC-496E-AA45-00625D81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4E8B-B115-4270-A7F2-712D3C61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5567-C7E2-438D-885A-2D5CCDF4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F4AF-A1C2-44D7-A3CD-4368982A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2908-62A1-4AD4-AA6C-754E9B83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C13B-3314-4884-B51E-67E4128F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E55B-E69C-43D1-B544-4F8302E3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6FF4-092F-4DD1-BFD5-E04539E9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F646-29E5-4B24-B146-AA24B7F99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Church’s One Foun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The church’s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one foundation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is Jesus Christ her Lord;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she is his new creation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by water and the Wor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990720"/>
            <a:ext cx="48765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Samuel J. Stone, 1866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happy ones and holy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rd, give us grace that w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ke the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meek and lowl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high m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well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heaven 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ame and sought h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be his holy brid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his own blo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bought h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or her life he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Elect from every nat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et one o’er all the earth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r charter of salvat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Lord, one fait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birt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holy na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e bless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artakes one holy fo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o one hop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e press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every grace endu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Though with 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cornful wond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see h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re oppress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schisms rent asund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heresies distress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et saints thei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tch are keeping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ir cry goes up, “How long?”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oon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ight of weep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ll be the morn of s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Mid toil and tribulat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umult of her w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e wai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consummat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peace foreverm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, with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vision glorio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r longing eyes are ble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he gre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urch victorio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ll be the church at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Yet she 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rth hath un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God the Three in O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ystic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weet commun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those whose rest is w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’s On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53:19Z</dcterms:modified>
  <cp:revision>16</cp:revision>
  <dc:subject/>
  <dc:title>PowerPoint Presentation</dc:title>
</cp:coreProperties>
</file>