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9A6-5E81-4E9E-8C4B-8CA3836C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3DD-FD34-4A4A-9EBA-41C2C9E9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B43-04BE-4785-92CF-B2A6B813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133-B155-4864-9A0A-4289DF338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93C-1E6D-4764-B3DE-E01553AF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5ED-B7ED-4C4C-927D-4666195C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FEFB-1666-4454-8A96-CB304BA5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CA0-6B23-49FA-939C-D44D5F62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7440-38B2-4B68-9097-E1A7EFAE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9EE-FC17-4DC4-8533-184B2E9C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1E0B-63DC-4858-B676-9F41F112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B36-3270-4809-9DAD-7ABDC5CF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2609-C55B-4E25-ADB0-C01252F25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Stand Amaze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the Pres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I stand amaz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pres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Jesus the Nazare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94280" y="1600200"/>
            <a:ext cx="4501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H. Gabriel, 1905 (Lk. 22:41-4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comfort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sorr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bore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oul that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84080"/>
            <a:ext cx="9144000" cy="520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He took my si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sorrow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made the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very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bo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rden to Calv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uff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died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784080"/>
            <a:ext cx="9144000" cy="520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When with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ansomed in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f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t last shall s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will be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oy through the ag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his love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784080"/>
            <a:ext cx="9144000" cy="520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onder h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could love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sinner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ndemned, uncle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84080"/>
            <a:ext cx="9144000" cy="520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For me it w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ga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prayed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Not my will, but thin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had no tea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his own grief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sweat-drop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blood for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84080"/>
            <a:ext cx="9144000" cy="520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r>
              <a:rPr b="0" lang="en-US" sz="50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!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song shall ever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355760"/>
            <a:ext cx="9144000" cy="41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marvelous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marvelous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onderful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O how wonderfu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my Savior’s lov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In p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gels beheld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ame fr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ld of l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tand Amazed in the Pres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1:58Z</dcterms:modified>
  <cp:revision>21</cp:revision>
  <dc:subject/>
  <dc:title>PowerPoint Presentation</dc:title>
</cp:coreProperties>
</file>