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CD9F-75C1-4185-9563-A9E022C48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F82D-4C4F-4CD6-80B2-65EDF94F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53A4-3633-4058-8CAF-ED2FEDC3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8D20-4F71-4C53-8A3F-49D35AD17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FB31-FFC2-49D1-B427-7516B12A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152A-CE2A-4165-80D4-D013B18D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5FF4-886B-430B-8454-CF890711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575B-B7F2-428A-817C-5157E3E5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2F93-322B-4A14-963E-7DE3A3A8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03C2-FBC9-4B58-8989-B8AE83BF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5181-54A9-4A5A-9A58-BC8CC7F3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B893-33B4-43DB-A4A8-717990DF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D29C-C571-4060-BD05-766FBA33D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end Your W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516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1. Send your Word, O Lord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like the rain,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falling down upon the earth.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Send your Word.</a:t>
            </a:r>
            <a:br>
              <a:rPr sz="5000"/>
            </a:br>
            <a:r>
              <a:rPr b="1" lang="en-US" sz="5000" spc="-1" strike="noStrike">
                <a:solidFill>
                  <a:srgbClr val="66ff33"/>
                </a:solidFill>
                <a:latin typeface="Times New Roman"/>
                <a:ea typeface="Arial"/>
              </a:rPr>
              <a:t>We seek your endless gr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Times New Roman"/>
                <a:ea typeface="Arial"/>
              </a:rPr>
              <a:t>© 1967 The Hymnal Committee of the United Church of Christ in Japan</a:t>
            </a:r>
            <a:br>
              <a:rPr sz="1600"/>
            </a:br>
            <a:r>
              <a:rPr b="1" lang="en-US" sz="1600" spc="-1" strike="noStrike">
                <a:solidFill>
                  <a:srgbClr val="66ff33"/>
                </a:solidFill>
                <a:latin typeface="Times New Roman"/>
                <a:ea typeface="Arial"/>
              </a:rPr>
              <a:t>trans. © 1983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d Your W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6360" y="1116000"/>
            <a:ext cx="7148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Yasushige Imakoma, 1965; trans. by Nobuaki Hanaoka, 198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096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with souls that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hunger and thirst,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sorrow and agonize.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We would all be lost in dark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without your guiding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2. Send your Word, O Lord,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like the wind,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blowing down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upon the earth.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Send your Word.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We seek your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wondrous p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d Your W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6002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pureness that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rejects all sins,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though they persist and cling.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Bring us to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complete victory;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set us all free ind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6002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3. Send your Word, O Lord,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like the dew,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coming gently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upon the hills.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Send your Word.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We seek your endles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nd Your W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6002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For life that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suffers in strife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with adversities and hurts,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send your healing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power of love;</a:t>
            </a:r>
            <a:br>
              <a:rPr sz="5000"/>
            </a:br>
            <a:r>
              <a:rPr b="1" lang="en-US" sz="5000" spc="-1" strike="noStrike">
                <a:solidFill>
                  <a:srgbClr val="99ff33"/>
                </a:solidFill>
                <a:latin typeface="Times New Roman"/>
                <a:ea typeface="Arial"/>
              </a:rPr>
              <a:t>we long for your new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9:22Z</dcterms:modified>
  <cp:revision>47</cp:revision>
  <dc:subject/>
  <dc:title>PowerPoint Presentation</dc:title>
</cp:coreProperties>
</file>