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075-B5C5-4D0F-A98A-9D6AB8FC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6C0-5D77-481D-8B10-6FA525AA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7908-7C8F-4D8F-8A70-6C8D9F93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053-0380-4796-977A-F26D589E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46C-E155-4C9D-A522-9FEA974F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5C4-263C-421F-B440-6B45F7C1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0B0-6C59-4882-8B12-5E4D97B5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722-CEA8-41CC-A600-0C0BDF35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35D-5B00-4EE1-8542-4D967DAF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3D5-57F4-406E-B99A-D623CA27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2549-19CD-4EC7-93D5-E22B0800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066E-6375-4B85-B708-989B9778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8D59-1BAA-44CC-AD4E-E3B63AACA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Spirit of God,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Descend upon My He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Spirit of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cend upon my hear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an it from earth;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its pulses m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9000" y="1596960"/>
            <a:ext cx="3724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George Croly, 1867 (Gal. 5: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kindling of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ven-descended D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eart an alt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y love a fl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oop to my weak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ighty as thou 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ke me love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 ought to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 ask no dre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prophet ecstasi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sudden rend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veil of cl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angel visita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opening skie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ake the dim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my soul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94000"/>
            <a:ext cx="9144000" cy="387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ast thou not bid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thee, God and King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, all thine own, soul,</a:t>
            </a:r>
            <a:br>
              <a:rPr sz="50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heart and strength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min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ee thy cross; t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ch my heart to cling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et me seek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 let me f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each me to feel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art always nigh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ch me the struggl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soul to b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check the ri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ubt, the rebel sig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ch me the pati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unanswered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Teach me to love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ine angels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holy pas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ing all my fr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God, Descend upon My Hear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6:39Z</dcterms:modified>
  <cp:revision>12</cp:revision>
  <dc:subject/>
  <dc:title>PowerPoint Presentation</dc:title>
</cp:coreProperties>
</file>