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BFE-D4F1-414B-A887-8CF4E6EE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49C-4FBE-4574-B515-D9C0E9CA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24BC-5FBE-4F13-B5CE-674FF121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398-50C2-4217-B62E-361EC066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5F0-61D1-490E-B712-3BB89A37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2CC-102B-4A35-9F7F-F5D45F4C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F7CE-1F4B-4186-A56E-805B0472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E9B-E62E-4542-ABCC-2C6EF335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3F2-FA3A-428C-B10C-0A59F711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DA3-AFBB-4A11-B63D-B38C87DD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5F1-E1C8-4B17-A0CB-FA035A25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57A0-A487-4D09-A656-10214181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AE5E-959F-47DA-8F0D-337DD43BF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body Know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Troubl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76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Nobody knows the trouble I see,</a:t>
            </a:r>
            <a:br>
              <a:rPr sz="4600"/>
            </a:b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nobody knows but Jesus;</a:t>
            </a:r>
            <a:br>
              <a:rPr sz="4600"/>
            </a:b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oh, nobody knows the trouble I see,</a:t>
            </a:r>
            <a:br>
              <a:rPr sz="4600"/>
            </a:br>
            <a:r>
              <a:rPr b="1" lang="en-US" sz="4600" spc="-1" strike="noStrike">
                <a:solidFill>
                  <a:srgbClr val="ffff00"/>
                </a:solidFill>
                <a:latin typeface="Times New Roman"/>
              </a:rPr>
              <a:t>glory hallelujah!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frican American spir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Sometimes I’m u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imes I’m d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imes I’m almo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gr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66680"/>
            <a:ext cx="9144000" cy="462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obody knows the trouble I se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obody knows but Jesus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h, nobody know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trouble I se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lory halleluja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Although you s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 going long s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have my troubl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e be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43000"/>
            <a:ext cx="9144000" cy="462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obody knows the trouble I se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obody knows but Jesus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h, nobody know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trouble I se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lory halleluja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at makes old Sat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e me s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yes, L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use he got me o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me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yes,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43000"/>
            <a:ext cx="9144000" cy="462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obody knows the trouble I se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obody knows but Jesus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h, nobody know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trouble I se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lory halleluja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body Knows the Troubl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6:20Z</dcterms:modified>
  <cp:revision>47</cp:revision>
  <dc:subject/>
  <dc:title>PowerPoint Presentation</dc:title>
</cp:coreProperties>
</file>