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A85-149F-44C8-9BB2-45F6B022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C217-686D-466E-9F58-CB3D04CB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C9E-F621-4D98-A61C-F328922D4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646-881C-4DBA-916A-745FA2EA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2768-8AF0-4FED-997D-5F2B8EA1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1B31-2CF5-4C35-9B79-59238C6B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4A83-639F-4D4F-9486-160F08C5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61E9-369F-4164-8868-54B76820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2374-A1F7-4CBF-A466-9D5371B5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AA32-571D-43A8-BCAC-0E05ECED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BFF-88FD-4F60-8EC4-38C12680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3768-31F0-490B-AFA7-FDFBA2A3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64B7-E071-4544-8644-996BDA97F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ar, O Lord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r Servants G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68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Here, O Lord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your servants gather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hand we link with han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58 The United Methodist Publishing House;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phonetic  transcription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.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Tokuo Yamaguchi, 1958; trans. by Everett M. Stowe, 1958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honetic transcription from the Japanese by I-to Loh, 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ff00"/>
                </a:solidFill>
                <a:latin typeface="Times New Roman"/>
              </a:rPr>
              <a:t>1. Sekai no tomo to</a:t>
            </a:r>
            <a:br>
              <a:rPr sz="4900"/>
            </a:br>
            <a:r>
              <a:rPr b="1" i="1" lang="en-US" sz="4900" spc="-1" strike="noStrike">
                <a:solidFill>
                  <a:srgbClr val="ffff00"/>
                </a:solidFill>
                <a:latin typeface="Times New Roman"/>
              </a:rPr>
              <a:t>te o tsunagi,</a:t>
            </a:r>
            <a:br>
              <a:rPr sz="4900"/>
            </a:br>
            <a:r>
              <a:rPr b="1" i="1" lang="en-US" sz="4900" spc="-1" strike="noStrike">
                <a:solidFill>
                  <a:srgbClr val="ffff00"/>
                </a:solidFill>
                <a:latin typeface="Times New Roman"/>
              </a:rPr>
              <a:t>Jyujika no moto ni</a:t>
            </a:r>
            <a:br>
              <a:rPr sz="4900"/>
            </a:br>
            <a:r>
              <a:rPr b="1" i="1" lang="en-US" sz="4900" spc="-1" strike="noStrike">
                <a:solidFill>
                  <a:srgbClr val="ffff00"/>
                </a:solidFill>
                <a:latin typeface="Times New Roman"/>
              </a:rPr>
              <a:t>tatsu warera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.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apanese Phonetic Trans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Kami no mikuni o</a:t>
            </a:r>
            <a:br>
              <a:rPr sz="5000"/>
            </a:b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me a te to shi,</a:t>
            </a:r>
            <a:br>
              <a:rPr sz="5000"/>
            </a:b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Shu Yesuno michi o</a:t>
            </a:r>
            <a:br>
              <a:rPr sz="5000"/>
            </a:b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susumi yuk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oking towa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avior’s cro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oined in love we st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we see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realm of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unite to pray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uide our step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you are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Many a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ngues we spea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cattered are the lan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t our hear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one in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in love’s dema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.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’en in dark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appea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lling age and youth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teac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well with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you are the Tru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Nature’s secre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pen w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anges never ceas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, oh whe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n weary sou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nd the source of peac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.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o all tho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re distress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rn by endless strif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heal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ing your bal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you are the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Grant, 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 age renew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deathless lo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lp us 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work and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nd us from abo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. O Lord, Your Servants G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th and courag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 and pow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eded in our strif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Mas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our 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our Truth, our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9:51:49Z</dcterms:modified>
  <cp:revision>57</cp:revision>
  <dc:subject/>
  <dc:title>PowerPoint Presentation</dc:title>
</cp:coreProperties>
</file>