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21D0A-E85C-42B7-BF88-6A19FF9F9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822C1-C4FE-4484-98B3-A8D322043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7F7BF-BB56-4C84-99CE-38A725917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22F0A-82CF-46E9-BBDA-CD4DA142C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6DD56-8E32-4EB0-A756-F04DBA191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E83DF-7802-42C7-A09B-B0845EADB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3EAFA-4942-4980-8504-02B673D8B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DAAE5-490F-4AD5-AAD8-CB1A0260A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72984-4DA7-4F28-880E-AB59AE7DF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E6486-1D35-4447-A5D4-536B4A60B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1E05E-BDEE-4C9F-84E4-5D81C9B42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0C106-B6CF-420D-9A82-D3188D65E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74592-8513-4DDF-865C-A09DFB2F67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here Is a Balm in Gilea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7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re Is a Balm in Gilea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914400"/>
            <a:ext cx="91440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WORDS: African American spiritual (Jer. 8:2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82880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There is a balm in Gilead 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to make the wounded whol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there is a balm in Gilea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to heal the sin-sick sou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re Is a Balm in Gilea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1. Sometimes I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feel discourage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and think my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work’s in vain.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But then the Holy Spiri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revives my soul agai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re Is a Balm in Gilea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66760" y="1477800"/>
            <a:ext cx="8610480" cy="390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There is a balm in Gilead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to make the wounded whol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there is a balm in Gilea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to heal the sin-sick sou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re Is a Balm in Gilea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2. Don’t ever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feel discourage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for Jesus is your frien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and if you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look for knowledg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he’ll ne’er refuse to len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re Is a Balm in Gilea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6760" y="1477800"/>
            <a:ext cx="8610480" cy="390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There is a balm in Gilead 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to make the wounded whol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there is a balm in Gilea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to heal the sin-sick sou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re Is a Balm in Gilea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3. If you can’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preach like Peter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if you can’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pray like Paul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just tell the love of Jesu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and say he died for a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re Is a Balm in Gilea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66760" y="1477800"/>
            <a:ext cx="8610480" cy="390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There is a balm in Gilead 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to make the wounded whol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there is a balm in Gilea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to heal the sin-sick sou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8:55:35Z</dcterms:modified>
  <cp:revision>117</cp:revision>
  <dc:subject/>
  <dc:title>PowerPoint Presentation</dc:title>
</cp:coreProperties>
</file>