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B94-8DEE-49A1-A843-C4268293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F1E-5678-4A72-BE2E-00C53E81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EE9-EF90-4B1D-B27C-368D7C33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CB96-DA52-4F77-BA5E-9E0755EC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DD5-ACC2-49CC-887E-8792B6B6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514-F250-4B39-A8FA-38B63854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C1E-F62D-47B5-BED5-607DE9AC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E64-8B28-494D-9417-B6D5538B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54F6-35F6-437B-A5A1-42E915C5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C5AA-FFF6-4207-93FF-78295C34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879-AB69-483A-A98A-F92130A2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E88-104B-48FF-A0B2-E9FC95DD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ECDA-5D43-43CC-8609-062106226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ise God, from Whom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Blessings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987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God, from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blessings fl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him, all creat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be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God, from Whom All Blessings F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ld 100t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8680" y="1600200"/>
            <a:ext cx="36248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Thomas Ken, 167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him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heavenly ho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, and Holy Ghos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42Z</dcterms:modified>
  <cp:revision>11</cp:revision>
  <dc:subject/>
  <dc:title>PowerPoint Presentation</dc:title>
</cp:coreProperties>
</file>