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F34-EBD2-4E1C-AB30-195BF1D6F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9E6-5C26-4DCE-B8C6-E4BA5AD0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4AF-FE44-4E6B-AB7B-CE156000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C87-475C-435A-8C5C-97E2A39A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53F-D621-4A78-9652-F1CBEC35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49B-C0C9-41FE-B647-39074BFF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A9AA-DECF-48AC-8649-615AF2DD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ABE-5737-476F-9735-ABE5B776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ABA-5C39-49D4-B382-23BFE54F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768-9920-453B-BEAA-B8AA5238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EFA-7710-42F9-B964-A09B29CD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16D-1270-4537-AF06-36F9FA87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7557-C2DA-4379-98BD-3BB2DFD9E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d of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of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ercy br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ne of the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ercy sh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eginald Heber, 1872 (Jn. 6:35-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hom the w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were sp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whose d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ins are de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 on the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sorrow br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k on the t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sinners sh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of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 thy f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us the to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y thy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uls are f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27:07Z</dcterms:modified>
  <cp:revision>125</cp:revision>
  <dc:subject/>
  <dc:title>PowerPoint Presentation</dc:title>
</cp:coreProperties>
</file>