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70A-60F5-4CAB-B759-042BF684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49E-0FC4-4D96-A2A4-B9F001CB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17D-E882-4383-8594-5A59AB42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E87-8DF2-4BED-94E2-925159A7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244-B911-4FF3-9F49-D93CDB80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BD9-4FEE-4639-943C-EFB0CF39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C34-11EB-4C84-BC71-F1F0F07F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C62-172B-4620-ACEF-CE078C0C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FE2D-9CA2-4FB1-B54E-6F41D12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F36-2239-45AB-8F37-F39ADB5E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0E6-492E-4D71-A505-F0596D8D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D6F-79F9-44F2-95D6-8F610A4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E061-8080-4533-9D08-4871920C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bide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with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st falls the event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rkness deepe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ith 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0480" y="1166760"/>
            <a:ext cx="380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Henry F. Lyte, 1847 (Lk. 24: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morning brea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th’s v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dows fl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, in death, O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other help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l and comforts f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of the help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ft to its cl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bbs out life’s little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’s joys grow d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glories pass a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nge and dec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ll around I s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ou who changest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need thy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passing hou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but th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foil the tempter’s power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, like thy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uide and stay can b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un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fear no fo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 at hand to bl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lls have no we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ars no bitt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is death’s sting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, grave, thy victory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triumph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ou abide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thou thy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my closing ey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 through the glo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oint me to the sk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ide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9:55:49Z</dcterms:modified>
  <cp:revision>44</cp:revision>
  <dc:subject/>
  <dc:title>PowerPoint Presentation</dc:title>
</cp:coreProperties>
</file>