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365-BFEB-412D-A98E-51800758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526-580B-4CF1-9212-884FA8C8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B21-7393-45AD-8A84-1447CC7D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3E1-F87E-4D26-8382-96758529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D93-CC10-47AF-B055-58B9B81B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4B4-A406-4CA2-AFFB-779BAE3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3CC-FB05-4E68-A9E0-6019CCA8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EF7-E8F7-49AC-A725-D87E1D60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36C-39A0-4F3B-AEDE-0F3FD531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12E-C9D5-42DB-A400-8DCC597C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800-2952-4C37-87E3-DFCB1749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4CE5-3EBA-4C0D-87D8-CEEE0F4B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207C-BE79-42A6-8E7A-82DB5E48C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ek Ye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0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eek ye fir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righteous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these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e added unto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Maranatha!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2840" y="987480"/>
            <a:ext cx="4201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Karen Lafferty, 1972 (Mt. 6:33; 7: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k, and it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be given unto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and ye shall f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ck, and the door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pened unto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513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        -        le            -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ye first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u              –             ia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 of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       –      le         –      lu     –    ia</a:t>
            </a:r>
            <a:r>
              <a:rPr b="1" i="1" lang="en-US" sz="3600" spc="-1" strike="noStrike" baseline="-25000">
                <a:solidFill>
                  <a:srgbClr val="ffffff"/>
                </a:solidFill>
                <a:latin typeface="Times New Roman"/>
              </a:rPr>
              <a:t>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Ye Fir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 with 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77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               -              le        -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these thing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lu                -         ia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e added un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Al    -   le      -    lu  - ia!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04Z</dcterms:modified>
  <cp:revision>26</cp:revision>
  <dc:subject/>
  <dc:title>PowerPoint Presentation</dc:title>
</cp:coreProperties>
</file>