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1095-3145-4837-BA37-3EF3F87D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232B-7A48-43C6-8F9E-3A960789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A6A3-69BC-4369-A160-7A46002D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8BDB-70A3-4F0E-BED0-8CC6E797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F841-874F-45B3-86E5-80F6BC69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D6E5-49A8-4F18-ABE3-CB0D5F2D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3C75-5B84-4659-B057-13930029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9A7F-DC92-42F9-847E-54B77908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577-A1AE-4559-B11D-585788F8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964E-B55E-4466-A9E4-63DAC350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59F-F0A5-4760-9C14-E47A97E3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FA05-1CC1-4F08-98AF-A3F38D6F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4BF3-A250-4F49-A767-E0DD975F8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nding on the Promi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R. Kelso Carter, 1886 (Eph. 6:14-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Christ my K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rough eternal ag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his praises r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vercoming dai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the Spirit’s sw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03200"/>
            <a:ext cx="7772400" cy="564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God my Savi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716040"/>
            <a:ext cx="8610480" cy="492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m standing 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cannot f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istening every mome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he Spirit’s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esting in my Savi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s my all in 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403200"/>
            <a:ext cx="7772400" cy="564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God my Savi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716040"/>
            <a:ext cx="8610480" cy="492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m standing 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shout and 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03200"/>
            <a:ext cx="7772400" cy="564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God my Savi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716040"/>
            <a:ext cx="8610480" cy="492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m standing 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cannot fa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howling storm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doubt and fear assai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the living Word of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shall preva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ing 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03200"/>
            <a:ext cx="7772400" cy="564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God my Savi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716040"/>
            <a:ext cx="8610480" cy="492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nd - - - ing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standing on the promises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m standing 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mises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ing on the Promi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Standing on the promis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Christ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ound to him eternal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love’s strong 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8:48Z</dcterms:modified>
  <cp:revision>126</cp:revision>
  <dc:subject/>
  <dc:title>PowerPoint Presentation</dc:title>
</cp:coreProperties>
</file>