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1390-A92E-4C60-B608-B0DBD8AF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992-0F04-4A78-A280-EECAC33E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61D0-15F6-410E-BBBA-9ED2A774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8F40-D7CE-4EE3-8699-539F7399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698D-B126-4623-B367-348CB5CD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BBA-8FE0-4B11-8E6B-B1B80229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7AD-B20E-4F3D-8D12-6B18AD06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7F5D-F268-4C2D-82D3-75057ACA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49BD-A573-4C5F-A413-803824E9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656-0FEA-4259-BDCD-42A309DE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1FA-06EC-437B-9789-41F3564D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AF0-614F-4880-A61F-B654465C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2876-3845-4A5F-9155-049BB2FA9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You Have Put On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6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19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You have put on Christ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n Christ you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have been baptized.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69 IC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Have Put On Chris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Times New Roman"/>
              </a:rPr>
              <a:t>WORDS: From the Rite of Baptism for Children, ICEL (Gal. 3:2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35:37Z</dcterms:modified>
  <cp:revision>110</cp:revision>
  <dc:subject/>
  <dc:title>PowerPoint Presentation</dc:title>
</cp:coreProperties>
</file>