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F78E-F3B9-4083-81DC-058863CA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B8B1-20A5-444F-AA0B-C27CD88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0E51-3CE2-4475-ABC6-567A998E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836-DFE9-4494-B8E1-D893D6B9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FB2-9C96-4F8D-925C-EE1EE512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DD8-76D4-4569-BEF2-89BC84FC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92B-CB3B-41FA-8C52-BD2152A4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C42-56D3-4A38-A7C2-3526E021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689-C689-4FEF-BF94-01746631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426-8D22-444C-AE3F-01EB0F31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B44-CCF8-4BF2-9F05-AEB2EFFB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DDE-A360-4F20-B343-7C7D424C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013-E154-498E-85E6-B3FEC99C3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Sacred Head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 W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sacred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ou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rief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me weighe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523880"/>
            <a:ext cx="9088560" cy="642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non. Latin; trans. by Paul Gerhardt, 1656,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nd James W. Alexander, 1830 (Mt. 27:27-31; Mk. 15:16-20; Jn. 19:1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ying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out 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ke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forev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uld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nting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let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, n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tlive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scornful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roun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or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only cr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pale thou 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ngu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use and sc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doe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sage langu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once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as m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at thou, 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t suff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all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inners’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e, mine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ansgre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adly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, here I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I de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 on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y fav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uchsaf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at language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borr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ank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rest frie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acred Head, Now W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35Z</dcterms:modified>
  <cp:revision>47</cp:revision>
  <dc:subject/>
  <dc:title>PowerPoint Presentation</dc:title>
</cp:coreProperties>
</file>