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C9B-7312-4CCB-9B7B-AEE1F26A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4C97-CD21-4EF2-B02F-7F4560AF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F3B-B427-42AB-9A52-2B1B8289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866-9B8B-484E-BC0F-420865B7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D27-0E40-47A7-BF91-1E4C6B54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D66-36E2-48A4-89FB-9F52975C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DD1-035C-4604-9B24-A40D8A45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6C9-B17D-4B41-B2A1-2DDCA201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35B-8A7C-4015-9455-F5BAF485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124-0564-45D1-B8D7-E1912D6E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0B2-2A8A-495C-906B-5BB8FADF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1D6-AB7D-425B-93DD-734A4715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B3FC-330E-430F-A2CB-D04E643DE4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Wash, O God,</a:t>
            </a:r>
            <a:br>
              <a:rPr sz="4000"/>
            </a:b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Our Sons and Daugh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6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ash, O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ons and daught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your clean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ers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WORDS: Ruth Duck, 1987 (Jn. 3:3-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your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glory, honor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ur li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orship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your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nd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er-wash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pirit-b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your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ives we offe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create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, transform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umber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ong your peopl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 as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ed long a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ave them garme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ght and sparkl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pass them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, anoint the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d your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dov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t’s de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e who bring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ng for nurtu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your mil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we be f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jo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feast, parta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up of bles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ing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, renew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 our footstep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e from s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its snar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with Chri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iving, dy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your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dren, hei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how d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holy wisdom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imagined, all your way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sh, O God, Our Sons and Daughter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1:27Z</dcterms:modified>
  <cp:revision>106</cp:revision>
  <dc:subject/>
  <dc:title>PowerPoint Presentation</dc:title>
</cp:coreProperties>
</file>