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81BA-7647-47B2-BB80-41EB5701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F153-79FD-461D-8CB5-8E0CDBDE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602B-61FB-4D84-A1CD-B0AC2F63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FC2A-961C-4FD1-80EA-1FA2B6C3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B0E8-D15C-4A36-9EE9-D8FBDD4E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040A-2912-4010-B65B-4CB32C31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60A9-CC88-4C25-9FF3-E1C012E9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8DC1-6645-42A4-9DA2-BD9C5F3F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7DD9-067A-4DC2-B3AA-477095AC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FA52-F1D3-4C92-8DD4-72FD3C7C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0003-13F8-4A70-81A2-EE26AE2A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E8BF-00FB-4F75-BE49-25A1189A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C6DC-0BCB-4B6E-8174-91B52616A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190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salm 24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King James Ver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057400"/>
            <a:ext cx="9144000" cy="4517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1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(Advent, All Saints &amp; Gener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Holy, holy, holy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Lord God of Hosts!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Heaven and earth are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full of your glor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ff66"/>
                </a:solidFill>
                <a:latin typeface="Times New Roman"/>
              </a:rPr>
              <a:t>Response 2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53720" y="1547640"/>
            <a:ext cx="707472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Psalm 24; Response 1, Isaiah 6:3; Response 2, Psalm 24:3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b,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4</a:t>
            </a:r>
            <a:r>
              <a:rPr b="1" i="1" lang="en-US" sz="1600" spc="-1" strike="noStrike">
                <a:solidFill>
                  <a:srgbClr val="ffff00"/>
                </a:solidFill>
                <a:latin typeface="Times New Roman"/>
              </a:rPr>
              <a:t>a,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 adap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259092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99ff66"/>
                </a:solidFill>
                <a:latin typeface="Times New Roman"/>
              </a:rPr>
              <a:t>8 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Who is this King of glor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The Lord,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strong and mighty,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the Lord, mighty in battl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190512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99ff66"/>
                </a:solidFill>
                <a:latin typeface="Times New Roman"/>
              </a:rPr>
              <a:t>9  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Lift up your heads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O ye gates;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even lift them up,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ye everlasting doors;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and the King of glory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shall come 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3520" y="2895480"/>
            <a:ext cx="8610480" cy="28692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30000">
                <a:solidFill>
                  <a:srgbClr val="99ff66"/>
                </a:solidFill>
                <a:latin typeface="Times New Roman"/>
              </a:rPr>
              <a:t>10 </a:t>
            </a:r>
            <a:r>
              <a:rPr b="0" lang="en-US" sz="5000" spc="-1" strike="noStrike">
                <a:solidFill>
                  <a:srgbClr val="99ff66"/>
                </a:solidFill>
                <a:latin typeface="Times New Roman"/>
              </a:rPr>
              <a:t>Who is this King of glory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The Lord of hosts,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he is the King of glory.  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057400"/>
            <a:ext cx="9144000" cy="41472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SPONS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2 </a:t>
            </a: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(Gener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Who shall stand in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God’s holy place?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Those with clean hand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</a:rPr>
              <a:t>and with pure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salm 2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spon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828800"/>
            <a:ext cx="8610480" cy="4603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30000">
                <a:solidFill>
                  <a:srgbClr val="99ff66"/>
                </a:solidFill>
                <a:latin typeface="Times New Roman"/>
              </a:rPr>
              <a:t>1  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The earth is the Lord’s,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     and the fullness thereof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the world, and they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    that dwell there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266688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99ff66"/>
                </a:solidFill>
                <a:latin typeface="Times New Roman"/>
              </a:rPr>
              <a:t>2  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For he hath founded it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upon the sea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and established it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upon the flood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2514600"/>
            <a:ext cx="8610480" cy="3399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99ff66"/>
                </a:solidFill>
                <a:latin typeface="Times New Roman"/>
              </a:rPr>
              <a:t>3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Who shall ascend into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the hill of the Lor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or who shall stand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in his holy plac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2057400"/>
            <a:ext cx="8610480" cy="4130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99ff66"/>
                </a:solidFill>
                <a:latin typeface="Times New Roman"/>
              </a:rPr>
              <a:t>4  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He that hath clean hands,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and a pure heart;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who hath not lifted up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his soul unto vanity,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nor sworn deceitful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8610480" cy="4130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99ff66"/>
                </a:solidFill>
                <a:latin typeface="Times New Roman"/>
              </a:rPr>
              <a:t>5  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He shall receive the blessing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from the Lord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and righteousness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from the God of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his salva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1644480"/>
            <a:ext cx="8610480" cy="35391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99ff66"/>
                </a:solidFill>
                <a:latin typeface="Times New Roman"/>
              </a:rPr>
              <a:t>6 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This is the generation of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them that seek him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that seek thy face,</a:t>
            </a:r>
            <a:br>
              <a:rPr sz="4800"/>
            </a:b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O Jacob.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905120"/>
            <a:ext cx="8610480" cy="4480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30000">
                <a:solidFill>
                  <a:srgbClr val="99ff66"/>
                </a:solidFill>
                <a:latin typeface="Times New Roman"/>
              </a:rPr>
              <a:t>7  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Lift up your heads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O ye gates;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and be ye lifted up,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ye everlasting doors;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and the King of glory</a:t>
            </a:r>
            <a:br>
              <a:rPr sz="4800"/>
            </a:b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99ff66"/>
                </a:solidFill>
                <a:latin typeface="Times New Roman"/>
              </a:rPr>
              <a:t>shall come 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34:27Z</dcterms:modified>
  <cp:revision>36</cp:revision>
  <dc:subject/>
  <dc:title>PowerPoint Presentation</dc:title>
</cp:coreProperties>
</file>