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2DD6-0859-4397-8C43-D7E07211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572-9F4C-4EE2-8462-78F3BCA1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853-AAFE-40E3-ADC5-840CB7A9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FF4-B16C-430A-B160-A4F5E587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E88-2B88-4B34-A662-037CCC6C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CC1-26EF-42D4-A81E-A8D607AF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7F0-06B1-45A8-B0D8-2EE0A294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235-B05D-4EE7-B2FB-42AF45BF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29E-04DD-460E-990F-F940E9E8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54F-F17F-4D81-9056-278DBB89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50D-758E-4A66-8107-BFD7EFA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A35-B168-4560-B41C-B44030AF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AB96-1157-407F-833F-5F4E8C8C5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Sing the Almight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ower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 sing the al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wer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mad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ountains r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64600" y="1523880"/>
            <a:ext cx="3216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Isaac Watts, 17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louds a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empests b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or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y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all that borro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from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ery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can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t prese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pread the flow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as abr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uil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fty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 the wis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ordai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un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ule the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moon shines fu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God’s comm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rs ob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 sing the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ill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with f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ormed the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e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nounced them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how thy wond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e display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’er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urn my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surv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ground I t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 gaze upon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There’s not a pl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 flower be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makes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ies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ing the Almighty Power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47:06Z</dcterms:modified>
  <cp:revision>14</cp:revision>
  <dc:subject/>
  <dc:title>PowerPoint Presentation</dc:title>
</cp:coreProperties>
</file>