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F84-8D8A-4703-BA57-65B3FE54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DA8-E766-4403-941D-9DC2E159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04E-B84E-45FA-BCA6-097E7B64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D574-4378-4B94-BFD2-521E5113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FA7-3292-4F13-ADBB-1D3C7E76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21E2-A700-45FC-B087-F94F1C2C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1C17-7885-4697-85C3-0B3D7201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7AD-B6C3-48B1-A3E5-97198151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2AF-6179-4BAD-BE5E-91DC4EB6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8A2-B293-4DB6-9704-547DB265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C50E-980C-4F55-9D7D-01C1B182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4931-593A-4CFA-83D5-E60B76C5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0025-453B-401C-B39D-50398991D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153280" cy="173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Canticle of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Covenant Faithfulness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Quaerite Domin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364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face, Lord, do I seek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de not your face from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apt. and words response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Covenant Faithful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0040" y="2057400"/>
            <a:ext cx="627228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Isaiah 55:6-11; adapt.; Response, Isaiah 55:6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143000"/>
            <a:ext cx="8610480" cy="384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but it shall accomplish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that which I intend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and prosper in the thing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for which I send it.</a:t>
            </a:r>
            <a:br>
              <a:rPr sz="3000"/>
            </a:br>
            <a:r>
              <a:rPr b="1" lang="en-US" sz="30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295280"/>
            <a:ext cx="8610480" cy="384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3000" spc="-1" strike="noStrike">
                <a:solidFill>
                  <a:srgbClr val="66ffff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eek the Lor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ho now is presen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call upon the Lord,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ho is nea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9810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et the wicke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forsake their way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and the unrighteou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their thought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7524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t them return, that the Lor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may have mercy on them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at our God ma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bundantly pard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7524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For my thoughts are no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your thoughts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neither are your way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my ways, says the Lord.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219320"/>
            <a:ext cx="8610480" cy="457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For as the heavens are hig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an the earth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o are my ways higher th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your ways and my though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an your thoughts.</a:t>
            </a:r>
            <a:br>
              <a:rPr sz="3000"/>
            </a:b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44792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or as the rain and the snow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come down from heaven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return not bu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ater the ear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37160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aking it bring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forth and sprou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giving seed to the sow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bread to the eat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7524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o shall my word be that goe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forth from my mouth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it shall not return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to me empt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6:18:12Z</dcterms:modified>
  <cp:revision>29</cp:revision>
  <dc:subject/>
  <dc:title>PowerPoint Presentation</dc:title>
</cp:coreProperties>
</file>