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C5B-CB1D-40BC-BD2B-387BBC98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FD0-C36A-4E51-A75C-83204D38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258-953E-4F1F-9F3F-CFEC224C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DFB-9BA6-4AB9-A933-8791E622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E297-1A7A-4860-82E5-DE817D98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4E8E-49E7-4FC1-A6A1-F9D2DC14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3CF-F384-4E20-9DF4-CA4528DF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CCF-7F90-4910-8290-0EC4F94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2A2-365F-454F-9627-0C8BFFB4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15C-B803-4887-A4A3-C71763F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199-D8EC-4386-9D07-7454B5CC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D3B-C7DE-4406-B164-51D888E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DC5-8D4A-409C-BE00-540E0891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76312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, Thy People,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e Stearns Page, 1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every n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, Thy People, Prais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733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osts etern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ays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rap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goo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merc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y glorious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every natio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, Thy People, Prais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581280"/>
            <a:ext cx="838224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 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osts eternal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thy bles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boun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so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God and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thy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e 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55Z</dcterms:modified>
  <cp:revision>15</cp:revision>
  <dc:subject/>
  <dc:title>PowerPoint Presentation</dc:title>
</cp:coreProperties>
</file>