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030B-2F0D-4759-AC15-A41E1BD7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B674-8712-4AFB-B97D-02859261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7FB5-221E-428E-BB85-DE46AB23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FAEB-9B9A-4268-8C34-022600D5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DB26-E938-49DF-8BE7-AADAB634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FA54-0F79-443E-8563-4FEE8B68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3756-543C-4451-9663-3638733F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7B7E-7805-4F25-829C-0C079235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92F1-D11D-41F7-BE75-60AFE62D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12FC-59AC-4DFC-BC99-01FBB4EA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E6F8-C18D-4520-92A3-DD82914A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A53C-3BD9-474C-A1FB-13F1F4C1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D3A0-D323-425D-B8FD-A7DF24CD6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I Will Trust in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ill Trust in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African American spiritual (Ps. 37: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ill I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trust in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ill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ill Trust in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you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st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you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ill Trust in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you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oth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you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ill Trust in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you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acher, will you tru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you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3:19Z</dcterms:modified>
  <cp:revision>161</cp:revision>
  <dc:subject/>
  <dc:title>PowerPoint Presentation</dc:title>
</cp:coreProperties>
</file>