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2A0C-99E0-4763-9191-4099FAA38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9906-10E3-414D-9186-EFCA59CDD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E7A7-F55F-42AA-84DD-D09F6E315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8AB3-92C6-4F94-A0BF-4E7931E75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C2E5-35E3-4F86-9BAA-09BFED0E6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5B42-4E08-40CD-9848-4994F901F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CC9E-65B5-4DCC-9771-C8D781D8E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D78B-4535-4CEB-9876-614F98FB4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714D-FD18-4448-AA32-A3A3AEFC4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D03D-BEF1-40CA-BE3E-0AC2A247C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7B9B-23FF-46B2-AD50-108529563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9BBF-2001-4F21-BFD3-83B976EEC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09D2A-87AC-46E0-8B9E-208F4A51B0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3818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onderful Words of Lif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60020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1. Sing them ove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gain to m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onderful words of life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et me mor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f their beauty se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onderful words of lif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nderful Words of Lif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06668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ORDS: Philip P. Bliss, 187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620800"/>
            <a:ext cx="9144000" cy="1617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ords of life and beaut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each me faith and dut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533520"/>
            <a:ext cx="9144000" cy="5454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eautiful words, 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onderful word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onderful words of life.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eautiful word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onderful word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onderful words of lif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2. Christ, the blessed on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ives to all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onderful words of life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inner, list to th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oving call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onderful words of lif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nderful Words of Lif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2620800"/>
            <a:ext cx="9144000" cy="1617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ll so freely given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ooing us to heav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685800"/>
            <a:ext cx="9144000" cy="5454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eautiful words, 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onderful word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onderful words of life.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eautiful word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onderful word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onderful words of lif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3. Sweetly echo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gospel call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onderful words of life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ffer pardon an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peace to all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onderful words of lif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nderful Words of Lif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2620800"/>
            <a:ext cx="9144000" cy="1617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Jesus, only Savio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anctify forev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609480"/>
            <a:ext cx="9144000" cy="5454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eautiful words, 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onderful word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onderful words of life.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eautiful word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onderful word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onderful words of lif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9:30:10Z</dcterms:modified>
  <cp:revision>101</cp:revision>
  <dc:subject/>
  <dc:title>PowerPoint Presentation</dc:title>
</cp:coreProperties>
</file>