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1116-CB0B-4539-A4A4-1139FD02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D1A5-1EFD-4D2C-9EB4-DE10ACFC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3187-B0C0-48FA-8B62-0C34DFB7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C52E-AB57-426F-B180-0C29C058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06CA-341D-4796-B185-C18A9C33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A437-4904-44CC-904B-6BCCF8E1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E02B-EA18-48D8-AD63-DAB52418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940F-1585-4216-B5AC-C29EF7F8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4DE-2A99-4A77-822C-BD386585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E19D-734E-43E3-B5E3-B1D7FBCA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F48-37B0-4C62-AF21-287CF75F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E474-BC14-4A49-8B0F-AB810483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DC7C-A9D9-46FD-8661-670EC2200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w Shall They Hear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Word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Shall They Hear the Word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Michael Perry, 1982 (Rom. 10:14-1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438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shall they h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rd of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less the truth is told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shall the sinful be set fr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orrowful consol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82 Jubilate Hymns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all who spea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ruth to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mpart your Spi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shall they c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od for hel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less they have believed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shall the po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given hop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isoner repriev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Shall They Hear the Word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ose who hel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lind to 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light and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lar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shall the gosp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proclaim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sinners may repent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shall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nd peace at l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heralds are not sent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Shall They Hear the Word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send us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we rejoi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peak of Chri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life and v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6:10:55Z</dcterms:modified>
  <cp:revision>152</cp:revision>
  <dc:subject/>
  <dc:title>PowerPoint Presentation</dc:title>
</cp:coreProperties>
</file>