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7F9-82EC-43DE-8A24-2B722907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C9C-9840-4613-A205-58D13537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882-3908-4C09-92A6-B92B7333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DAE1-81E9-4D50-A17A-67C3D44D2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9EE-5BC2-42D9-81A9-CB689E56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EF0-9A59-4CC7-B78C-A56C942A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895-1859-43A6-AB75-DFE2491B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3F1-B033-4C6A-8A90-2BFC5CB6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0AF-43EB-4FFB-B3AC-D822E80A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3B2-8599-427D-94D3-26932F79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83B0-B5EB-4940-A8E2-888F2C3A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4EB5-E49C-4A87-AA3B-D5BBA971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219F-8742-453E-8889-34FAEC40A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se Up, O Men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Rise up, O men of God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ave done with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esser things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ive heart and mi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soul and strength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serve the King of k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 William P. Merrill, 191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dom tarries lo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in the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rotherh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nd the night of w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Rise up, O men of G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urch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doth wa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strength unequ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r task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 up, and make her grea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ift hig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 of Chris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ad where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t have tro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brother of the Son of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e up, O men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e Up, O Men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6:46Z</dcterms:modified>
  <cp:revision>81</cp:revision>
  <dc:subject/>
  <dc:title>PowerPoint Presentation</dc:title>
</cp:coreProperties>
</file>