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780E-89B5-495B-8736-5E02BBD1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CE57-3EF4-4E90-81B0-F5F8584E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2792-78E3-4AEB-B4A3-E3166155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4E79-5C66-4CDA-8AC2-55CED6EE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BDD5-B591-476A-B969-FB2AB4B8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58E8-70D2-48E5-9E59-35358DE4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1990-C642-400D-9FAD-D4C43FD4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C7B4-4A45-4AE4-BD97-196DCCE3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4F6E-FF81-430C-B276-C2F9B428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55BC-624D-4E77-A602-5E74F999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1F83-9464-4916-8313-B44A7EDB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7E95-2BFD-4BCF-8352-52BAF1E6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13EC-C018-408F-A042-74D3CE563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 the Bread Which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ou Have Bro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88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For the bread whi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have brok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wine whi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have poured,</a:t>
            </a:r>
            <a:br>
              <a:rPr sz="50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honetic transcription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Louis F. Benson, 1924; phonetic transcription from the Taiwanese by I-to Loh, 1988 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(Mt. 26:26-29; Mk. 14:22-25; Lk. 22:15-20; 1 Cor. 11:23-2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Ūi Lí só kóng</a:t>
            </a:r>
            <a:br>
              <a:rPr sz="5000"/>
            </a:b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oáh-miā ê oē,</a:t>
            </a:r>
            <a:br>
              <a:rPr sz="5000"/>
            </a:b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Chú goán kám-siā,</a:t>
            </a:r>
            <a:br>
              <a:rPr sz="5000"/>
            </a:b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sim lâi gî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wor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you have spok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we give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nks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By this pled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you do love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your gif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peace restor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your c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eaven above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ow all our liv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ith our saint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s in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ated at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ly boa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the chur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’s waiting for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eep love’s ti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broken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In your servi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defend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our hea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eep watch and ward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world wh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have sent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your kingd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ffffff"/>
                </a:solidFill>
                <a:latin typeface="Times New Roman"/>
              </a:rPr>
              <a:t>1. M</a:t>
            </a:r>
            <a:r>
              <a:rPr b="1" i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í</a:t>
            </a:r>
            <a:r>
              <a:rPr b="1" i="1" lang="en-US" sz="4900" spc="-1" strike="noStrike">
                <a:solidFill>
                  <a:srgbClr val="ffffff"/>
                </a:solidFill>
                <a:latin typeface="Times New Roman"/>
              </a:rPr>
              <a:t>pau Ch</a:t>
            </a:r>
            <a:r>
              <a:rPr b="1" i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ú Lí</a:t>
            </a:r>
            <a:br>
              <a:rPr sz="4900"/>
            </a:br>
            <a:r>
              <a:rPr b="1" i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ūi goán lâi peh,</a:t>
            </a:r>
            <a:br>
              <a:rPr sz="4900"/>
            </a:br>
            <a:r>
              <a:rPr b="1" i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Phû-tô-chiú</a:t>
            </a:r>
            <a:br>
              <a:rPr sz="4900"/>
            </a:br>
            <a:r>
              <a:rPr b="1" i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ūi goán lâi thî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read Which You Have Bro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Taiwanese Phonetic Transcription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10:20Z</dcterms:modified>
  <cp:revision>119</cp:revision>
  <dc:subject/>
  <dc:title>PowerPoint Presentation</dc:title>
</cp:coreProperties>
</file>