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CD6-8942-4400-A671-F2FFFF69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EF7-4F73-49E5-A390-FD0752DB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61D-68C6-4D08-8C1C-75A9B811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0F61-8666-45E9-ADAD-626B6563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41D2-8543-4884-AF59-A783643E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D62-5120-4F81-8F50-048C5FEE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830-C8DD-41DD-9A7A-E983D23A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500-44EA-4B84-ADDD-5DBD6A64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7FF-2EA5-4412-8CE2-F2783DC0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9C7-452D-481B-A719-66A5E60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710-C6AB-4BFD-8618-FBCE5C7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660-E44B-4D2D-8F80-44FE8FBB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44E-4855-4C15-BE9D-E697DB1A0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d and Jus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d and Jus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ubem Alves, Brazil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523880"/>
            <a:ext cx="8610480" cy="485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O God, just as the discipl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heard Christ’s words of promis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nd began to eat the bread an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drink the wine in the suffering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 long remembrance and in the joy of hop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I Believe in the Resurrection of the Body,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6 Fortress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nt that we may hear your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ords, spoken in each thing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day affairs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Coffee, on our tabl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in the morning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he simple gesture of open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a door to go out, fre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houts of childre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in the park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a familiar song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sung by an unfamiliar fac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a friendly tree that ha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not yet been cut dow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y simple things speak to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of your mercy, and tell us tha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life can be good. And may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these sacramental gifts make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remember those who do no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receive them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820800"/>
            <a:ext cx="8763120" cy="521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have their liv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cut every da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in the bread absen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from the tabl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in the door of the hospital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 prison, the welfare hom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at does not open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 sad children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feet without shoe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eyes without hope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in war hymns that glorify death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in deserts where on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there was lif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187280"/>
            <a:ext cx="876312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hrist was also sacrificed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may we learn that w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rticipate in the sav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acrifice of Christ when w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articipate in the suffering o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his little ones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56:16Z</dcterms:modified>
  <cp:revision>139</cp:revision>
  <dc:subject/>
  <dc:title>PowerPoint Presentation</dc:title>
</cp:coreProperties>
</file>