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C3C-9334-47DF-91E2-B8F2CE4F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1F2-7655-4061-BE32-F916F412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516-A809-499B-BCE7-B5A849C6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69A-AB09-4DF3-ADD7-A51A7C05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6DC-F7AC-4D2B-A213-94BB8EA6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183F-7F22-4117-851C-7E30E712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43F-168F-4C2C-84B9-9FE5D188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FD1-8864-49BF-957D-86665D40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45FB-F891-4396-BCF1-2093FF53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867-BD6F-4265-A52B-46560B2F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37A-8BFB-4408-904D-D316598E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2D72-6E48-495C-9AAF-52EAC20D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BBE5-329F-4A95-84FF-06B16C55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, That Mades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arth and Heav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, that mades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arth and heave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arkness and l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o the day for toil hast give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rest the n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at Madest Earth and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9360" y="1523880"/>
            <a:ext cx="814212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t. 1, J. Reginald Heber, 1827; st. 2, Frederick Lucian Hosmer, 1912 (Gen. 1:1-1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716040"/>
            <a:ext cx="861048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thine ange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uards defend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lumber sweet th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ercy send u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ly dreams 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pes attend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live-lo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When the constan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un return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nseals our eye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we, bor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ew like morn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labor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That Madest Earth and Heav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ird us f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task that calls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not ea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self enthrall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rong through the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ate’er befall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God most w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1:07Z</dcterms:modified>
  <cp:revision>26</cp:revision>
  <dc:subject/>
  <dc:title>PowerPoint Presentation</dc:title>
</cp:coreProperties>
</file>