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BC7-D35D-4FC4-A428-A741AEB1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DAB2-6903-4539-A661-99E67EDE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217D-E184-4845-834E-B4CEF575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203-8DE3-4671-9C9E-F9288816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5492-DC7E-4509-B23B-B89B5E7C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2163-5E12-4A8D-B058-BB5A9DDC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221A-3F97-447F-BD00-684F7FBA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8C1F-8F2E-48A1-8B8B-7E8EF6B1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6CC3-CA4E-4376-A50E-9DEB613D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65A6-2B7E-41F2-BC8C-3620419F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2409-2603-445A-AD0E-B5CDC6E7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6C51-4F07-4136-8927-16C7EA53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E2B5-2D7D-4BF2-86EE-03374BDA9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Strife Is O’er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Battle D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0020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Anon. Latin, trans. by Francis Pott, 186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90920"/>
            <a:ext cx="9144000" cy="3107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1. The strife is o’e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battle done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victory of life is won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song of triump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as begun: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The powers of deat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ave done their worst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ut Christ their legion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ath disperse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et shouts of hol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joy outburst: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The three sad day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re quickly spe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ises gloriou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rom the dea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 the glory t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ur risen Head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4. Lord, by the stripe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hich wounded the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rom death’s dread st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y servants fre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at we may liv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sing to thee: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666880"/>
            <a:ext cx="9144000" cy="3107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rife Is O’er, the Battle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4:59Z</dcterms:modified>
  <cp:revision>62</cp:revision>
  <dc:subject/>
  <dc:title>PowerPoint Presentation</dc:title>
</cp:coreProperties>
</file>