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7E9-7F32-457A-8E0C-86FA47F8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6824-92EE-47EE-8190-06287542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208-9FBD-4EA3-AC55-8A590472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EEA-4359-499C-AF0C-BF5E579C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D97-94E9-49F8-8255-033908FF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72A-2D8F-4B6E-B2CB-D26AD91A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604-6D94-442D-A2B0-3E33AB2B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5644-02F4-4695-84A8-18E72F91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50C-D2D6-42C1-B999-F9180D8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1B5-9675-4AF2-983C-1E4F8E8D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189-EB63-4E86-A1D5-92F1B514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C31-BED3-417B-A5B5-D6C33B0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39E1-4A82-4DB2-9C96-22014BE7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lence, Frenzied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clean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“Silence, frenz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lean spirit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ied God’s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4 Oxford University P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33520" y="1725480"/>
            <a:ext cx="6273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homas H. Troeger, 1984 (Mt. 1:21-28; Lk. 4:31-3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your w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hen we hear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dem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de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ear our th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lm our feel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the fractu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rring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your hea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us faith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e, and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ase your rant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esh can’t bear i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ee as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the sun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Christ’s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mon trembl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its vict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ly rush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the crow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as assemb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od in wo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unned and hu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rd, the dem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are thr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ray ce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mi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yrant v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rill and dr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isted thou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rip and bi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ubts that st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rt to panic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r distor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son’s s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lt that mak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ving frantic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eams that cl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l with f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len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unclean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m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our he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ce, Frenzied, Unclean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24Z</dcterms:modified>
  <cp:revision>21</cp:revision>
  <dc:subject/>
  <dc:title>PowerPoint Presentation</dc:title>
</cp:coreProperties>
</file>