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0F73-8E28-4036-80B6-EE48AED20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DCFA-D9EE-4DF9-BA47-77707DC36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3D57-33DB-4A54-90AB-A7CDEF37A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38B2-4C16-4430-B885-60799515C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7C73-DF58-4972-878E-D66271038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C1AD-8625-4B26-9069-7A35DC0AD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8C72-B15D-48F4-8FE7-E3396D592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ED8F-0820-4580-842D-245B6F80D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99B4-E152-46F6-BDFE-8FA4D5C43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1905-8A38-4235-B3A1-22777357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D248-B055-4A21-88BC-E8D48318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1BF7-4DD9-48FC-8B4D-2A027C13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EDEAF-0302-42A7-9232-D26A31131E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 Want to Be Read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72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295280"/>
            <a:ext cx="9144000" cy="496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want to be read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want to be read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want to be read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walk in Jerusale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ust like Joh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to Be Read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19400" y="990720"/>
            <a:ext cx="471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WORDS: African American spiritual (Rev. 21:2, 1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21932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want to be read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want to be read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want to be read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walk in Jerusale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ust like Joh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to Be Read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143000"/>
            <a:ext cx="9144000" cy="470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Lea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O John, O Joh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at did you say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alk in Jerusale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ust like Joh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to Be Read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143000"/>
            <a:ext cx="9144000" cy="523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Leader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you’d be the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 judgment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alk in Jerusale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ust like Joh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14300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want to be read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want to be read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want to be read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walk in Jerusale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ust like Joh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to Be Read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143000"/>
            <a:ext cx="9144000" cy="514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Lea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John said the cit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as just four-squa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alk in Jerusale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ust like Joh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to Be Read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066680"/>
            <a:ext cx="9144000" cy="514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Lea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he declar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’d meet me t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alk in Jerusale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ust like Joh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99072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want to be read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want to be read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want to be read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walk in Jerusale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ust like Joh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to Be Read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914400"/>
            <a:ext cx="9144000" cy="514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Lea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Now sinners, mi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w you step on the cro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alk in Jerusale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ust like Joh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to Be Read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914400"/>
            <a:ext cx="9144000" cy="493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Lea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r foot might slip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your soul get lo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alk in Jerusale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ust like Joh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20:37:45Z</dcterms:modified>
  <cp:revision>60</cp:revision>
  <dc:subject/>
  <dc:title>PowerPoint Presentation</dc:title>
</cp:coreProperties>
</file>