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7176-6323-4429-AA6E-007DDE6F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9E53-9D6A-4DF1-8B27-508B9845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013-CF90-4A83-8EEE-5C2E4BC0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6B01-FCB8-4E2A-9157-08535901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F193-26FC-474C-B115-BFE7D9EB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5FF3-29E9-434D-90A2-5D7ECF05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035D-4D1F-43D4-BC86-F2CC5856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6A5-518E-4461-A1A6-4C9A2097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A3E-BE9C-4829-9B38-1E433DCB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AFF-3330-4EA7-AC66-C01C75A9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0F2B-789D-4783-8426-207FB2AF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46C4-D428-41A9-97BF-FBE1F4A6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27B5-1422-4DD2-A5F5-459A85C62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2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’ll Understand It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tter By and B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We are tossed and driven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on the restless sea of tim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omber skies an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howling tempests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oft succeed a bright sunshin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Albert Tindley, ca. 1906 (1 Cor. 13: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he guides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his ey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e’ll foll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we di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we’ll underst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better 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and by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morning com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sai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od are gathered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’ll tell the st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e’ve over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we’ll understand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tter by and by.</a:t>
            </a:r>
            <a:r>
              <a:rPr b="0" i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by and b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emptations, hidden snar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ten take us unawar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ur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made to ble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a thought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d or de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e wond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y the t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we t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do our b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we’ll underst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better 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and by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morning com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sai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od are gathered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’ll tell the st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e’ve over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we’ll understand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tter by and by.</a:t>
            </a:r>
            <a:r>
              <a:rPr b="0" i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by and b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at land of perfect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mists h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lled a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will underst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better 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and by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morning com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sai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od are gathered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’ll tell the st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e’ve over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we’ll understand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tter by and by.</a:t>
            </a:r>
            <a:r>
              <a:rPr b="0" i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by and b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e are often destitu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th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life deman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nt of f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ant of shel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rsty hills and barren la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trus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ccord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God’s w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will underst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better 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and by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morning com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sai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od are gathered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’ll tell the st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we’ve over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we’ll understand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tter by and by.</a:t>
            </a:r>
            <a:r>
              <a:rPr b="0" i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by and b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rials dar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every h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e cannot underst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wa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God would lead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at blessed promised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’ll Understand It Better By and B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3:16Z</dcterms:modified>
  <cp:revision>52</cp:revision>
  <dc:subject/>
  <dc:title>PowerPoint Presentation</dc:title>
</cp:coreProperties>
</file>