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EE0-DB52-46C7-8B5F-0699D2E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E29-385E-4A91-ACCF-1F4177A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464-CD51-4A22-9094-318DC9AF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396-3B83-42DA-972A-EB5F2A1A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A6BC-5C4C-4A96-8FEA-C47C3C72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7EF-B34E-43EB-928B-FFCEEFDB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A51-F4C8-4A24-A1A3-188B7E38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4D5-CF21-451F-8AD2-E3962A8B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36E-4639-4659-8B12-4241078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8C1-8572-4310-924B-5963FA1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EA7-E757-4E97-815C-8EA959C6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A2A-374B-445E-A6F6-6FEC01DB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D4D-5F47-4B3F-B596-959325FE7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 It 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4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t only takes a sp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et a fire go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on all those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warm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its gl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9 Communiqu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é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Kurt Kaiser, 196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spread h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very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at a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is sp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all the trees are bud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irds begin to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low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t their blo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how i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you’ve experienced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ant to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’s fresh like sp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wish for you, my fri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ppi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’ve fou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can depend o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matter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you’re b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It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shout it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top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my world to kn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come to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o pass i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03Z</dcterms:modified>
  <cp:revision>78</cp:revision>
  <dc:subject/>
  <dc:title>PowerPoint Presentation</dc:title>
</cp:coreProperties>
</file>