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29E-3B14-4462-ADA6-C2BD40CC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53DF-3B6F-48CF-AD65-EF9CDE30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FA4-A49E-41B2-A695-51F7D0E9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194-6326-415F-A8A6-B53B5E30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E36-3C30-4D3C-A0A7-6B8C3994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31D-C6B8-4838-8E01-D0876652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E3F5-7984-445A-A6C4-E01AEE9E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102-8343-40A3-81F1-9CC860C6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B6E-E786-4246-823F-FC7545AA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7F7C-392D-48E6-A3B7-3606886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700-3415-414A-813C-F40AC282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DF38-55B3-4DC7-95F4-282F4411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D7D3-898C-4345-A950-F79E8DF26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ord, Have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Have Mer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73560" y="990720"/>
            <a:ext cx="23950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743200"/>
            <a:ext cx="86868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rist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668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yrie eleis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45Z</dcterms:modified>
  <cp:revision>25</cp:revision>
  <dc:subject/>
  <dc:title>PowerPoint Presentation</dc:title>
</cp:coreProperties>
</file>