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F24-A626-425A-A8A4-315B365D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102-9216-49DB-8117-896446D4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893F-8CB1-478D-A1E1-68123F18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DBE7-317F-4821-9892-1B8A675D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A7D-5AA2-4401-865E-E1A46555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1B62-1BC2-4A22-90AA-7A25DA4B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F39C-35FE-4077-B144-007D34DE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8E5-62EF-4575-8BAA-197862A7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C8B-23F1-4F2E-A891-FE2E9E8C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DEC2-2E5C-4AD9-9034-B8608E03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D32-17D9-4A70-9492-9A455E66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BA6-8C4F-489A-A502-CA534C68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B0CA-A453-4484-A976-4EC779B59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ck Thyself, My Soul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ith Glad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Deck thyself,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l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ve the gloo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unts of sad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k Thyself, My Soul, with Gladn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ohann Franck, 1649; trans. by Catherine Winkworth, 1863 (Jn. 6:35-5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ver to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rt invit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hy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love requit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is banqu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me meas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how v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eep its treasu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the gif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here dost give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thy guest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 receive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in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ylight’s splendo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with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raises rend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grace unboun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th this wondr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nquet found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 o’er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s he reigne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to dwe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e he deign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un, who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ife dost bright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, who d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oul enlight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k Thyself, My Soul, with Glad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, the b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any knowe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unt, whence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being flowe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y f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cry, my Mak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me be 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t partak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is bles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od from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our g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glory,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Jesus, bread of l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pray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me glad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obey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k Thyself, My Soul, with Gladne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04:05Z</dcterms:modified>
  <cp:revision>114</cp:revision>
  <dc:subject/>
  <dc:title>PowerPoint Presentation</dc:title>
</cp:coreProperties>
</file>