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2BCF-AA98-4A27-ABD3-877065418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F0A7-9DC2-4126-A0C4-733B1D70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E295-E913-4F77-8532-6485FDB14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CC18-C338-47F7-83AC-3AD08893C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8966-C7D5-46A2-9A81-F70B68DF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A758-B621-495E-A25A-D15B0ABD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F76C-D5D2-493B-AA73-F3D0F810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4476-7F08-41E8-A899-A6CAF647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8FD0-512C-46FC-9BC6-741310BE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1344-2702-4BF3-A2FF-5619990E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B35B-CA58-4AF0-B1E1-C16AA97C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DAB5-BD8B-4B49-8D6C-00A19D38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977A-A3CF-414E-940D-B3FACC97F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is the Old Ship of Z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the Old Ship of Z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ORDS: African American spiritual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524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et on board, get on bo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the Old Ship of Z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et on board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et on bo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It was go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or my dear fath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it was go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or my dear fath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the Old Ship of Z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t was good f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y dear fath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et on boa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et on bo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the Old Ship of Z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0666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et on board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et on bo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5. It will take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ll to heav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it will take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ll to heave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the Old Ship of Z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t will take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ll to heav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et on boa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et on bo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the Old Ship of Z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et on board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et on bo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It has land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any a thous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t has land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any a thousa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the Old Ship of Z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t has land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any a thous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et on boa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et on bo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the Old Ship of Z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et on boa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et on bo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Ain’t no dang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n the wat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ain’t no dang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n the wat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the Old Ship of Z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in’t no dang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n the wat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et on boa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et on bo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the Old Ship of Z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90648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’tis the old ship of Z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et on boa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et on bo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It was go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or my dear moth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it was go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or my dear moth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the Old Ship of Z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t was good f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y dear moth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et on boa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et on bo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00:12Z</dcterms:modified>
  <cp:revision>102</cp:revision>
  <dc:subject/>
  <dc:title>PowerPoint Presentation</dc:title>
</cp:coreProperties>
</file>