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E2B5-A689-4C29-90C8-6ED7B60AD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1F0B-0869-4696-A0A1-B2AF754FD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8750-9E2C-47E4-BB79-0C6BCC8F7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5641-C113-4237-B9F7-BECDA186B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BB17-6182-40C7-8F75-210B3CACE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3F31-BC7E-4FF4-9074-8319420D7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2B93-CE3F-4D50-92BE-7C5DCA1FF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95F7-6F67-4A20-B525-A34CF79B6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DD84-6E2B-4F3B-80E0-3DFF59A9E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107B-8D1A-4891-8141-C1C37317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EC58-CD37-45D0-AEB2-B75B3CAC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CEE0-8A71-415E-B5AE-20F8CC5B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F5C16-39F7-4FDA-8DB8-2137504AE2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merica the Beautif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69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beautif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spacious ski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amber waves of grai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purple mountain majesti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bove the fruited plai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erica the Beauti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01240" y="1143000"/>
            <a:ext cx="33523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WORDS: Katharine Lee Bates, 19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2438280"/>
            <a:ext cx="861048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merica! Americ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shed his grace on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rown thy g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brotherh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sea to shining se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7524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beautif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heroes prov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liberating str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more than sel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country lov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mercy more than lif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erica the Beautif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200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merica! Americ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y God thy gold ref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all success be noble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every gain div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beautif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patriot drea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sees beyond the yea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ine alabas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ities gle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undimmed by human tear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erica the Beautif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66760" y="2590920"/>
            <a:ext cx="861048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merica! America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mend thine every fla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onfirm thy so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self-contro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liberty in la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18:21:15Z</dcterms:modified>
  <cp:revision>34</cp:revision>
  <dc:subject/>
  <dc:title>PowerPoint Presentation</dc:title>
</cp:coreProperties>
</file>