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41E-6899-4321-B9DA-5383F000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D3F-4D21-4B9C-B68A-3536C6F9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C0A-813B-45A9-AEA5-15D2CAB1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88A-720A-4D12-88EA-5DE0EF2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05B-77C4-4BFD-A2E5-D92F5E2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4C5-8B2C-4DC4-9A0F-177FC5AC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8E4-8F95-42DB-B274-3AD2F566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049F-37DD-42C9-B429-5186F70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73A-D456-47F1-909F-EA68C4FD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014-CE00-406A-9935-1BFF0C52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D28-144F-4FC1-B563-F6C0F44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73B-9D14-46C8-B5A5-72BD2F7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5E4-FEC3-43CF-BF33-B8429CECB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, Tell It on the Moun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129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080" y="1039680"/>
            <a:ext cx="8663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frican American spiritual; adapt. by John W. Works, Jr., 1907 (Lk. 2:8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ile shepherds kep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wat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silent flocks b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hold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shown a hol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ed and tremb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o! above the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g out the angel chor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i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’s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Down in a lowly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ble Christ wa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 sent us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mas m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the hills and everywhe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tell it on the mount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Jesus Christ is 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, Tell It on the Mount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9:21Z</dcterms:modified>
  <cp:revision>11</cp:revision>
  <dc:subject/>
  <dc:title>PowerPoint Presentation</dc:title>
</cp:coreProperties>
</file>