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BD61-539A-4F39-B14C-C5B65B92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28B8-0A98-4A6C-A445-B07BDDF1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280-B61F-4D95-B1C7-47C26E3F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274-068A-47FE-A447-F8547585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A50-89BF-427C-AD5D-814CD3E6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8BA8-6795-49AA-84DD-AB1FCE06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9F99-9D15-458C-AA9E-10B1358E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588-2DBA-440C-9719-9E29889F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EC5-6D95-4009-990D-BEDD19F4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278-4BB2-4B0D-8F6C-9AACF9DC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DE7F-7C73-47D7-B3E4-93A314AD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47C-2B91-44D5-B993-B0126C9E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7BA0-E4A9-4FB8-BFE1-6CE839E59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Surrender 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. W. Van Deventer, 1896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him I freely giv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will ev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trust hi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his presence daily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4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2120"/>
            <a:ext cx="198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1440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4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umbly at his feet I bo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rldly pleasur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forsake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ake me, Jesus, take me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1604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4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ake me,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lly thin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me feel the Holy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ruly know tha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4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066680"/>
            <a:ext cx="1981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rd, I g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self to the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ll me with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 and pow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thy blessing fall o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(I surrender all,)</a:t>
            </a:r>
            <a:br>
              <a:rPr sz="4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ll to th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blessed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surrende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762120"/>
            <a:ext cx="1905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Surrender 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All to Jesus I surrender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I feel the sacred flam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the jo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full salvation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lory, glor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s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2:24Z</dcterms:modified>
  <cp:revision>112</cp:revision>
  <dc:subject/>
  <dc:title>PowerPoint Presentation</dc:title>
</cp:coreProperties>
</file>