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5DA-D087-4A46-99D2-AAA975E6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2C2-8F36-4E5A-8A76-E0EC5792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781-EFE2-46CD-8FAA-C646316A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5F9-D611-43FA-9D3E-AAF10AA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57C-9614-4DF4-BFEB-95EC308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2F5-16A4-4F59-8EB6-8F956EBA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06C0-FB42-4BD2-90BF-09211E03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C7E-6939-4B1B-AE1F-34241299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AB0-015A-4059-ACBE-1FB1092A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E956-2999-4D8C-83EF-8B7EFBE0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7FC-2EFC-4A78-A845-1D9921E7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BD5-38D4-4487-BED5-8B744BC5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9B13-59A0-4368-83AE-145269038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ther, we thank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plan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reek, 2nd cent.; trans. by F. Bland Tucker and others, 1939, 1982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48:29Z</dcterms:modified>
  <cp:revision>70</cp:revision>
  <dc:subject/>
  <dc:title>PowerPoint Presentation</dc:title>
</cp:coreProperties>
</file>