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617-FE36-49A0-953D-8C079694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FDF-85C3-4BAD-8FEE-056351B0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493-7C44-407D-AA67-CC3499EF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B97-3A5D-4B98-915A-514D62BC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826C-E3AA-4BBC-8175-E2C96C9E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CEC1-C326-458A-875D-FAB0904A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162-D651-41BA-946D-EB2A2D3E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62C-745E-4795-A22C-FC87854C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89E-8873-419D-889F-6012C671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953-8322-4977-8690-017BFF40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8FF6-226E-4914-99D0-68A4B2E0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CD4-CFDF-4459-B33D-80540952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7606-9945-4B8E-9E47-729522FD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re’s Within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y Heart a Melod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Luther B. Bridgers, 19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There’s within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a melod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whisp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and low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Feasting o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iches of his gr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sting neath h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heltering w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ways looking 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miling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is why I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t and 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Soon he’s coming bac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welcome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ar beyo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starry sk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w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flight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orlds unknow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shall reig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m on hig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not, I am with th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eace, be sti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of life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bb and fl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All my life was wreck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y sin and str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iscord filled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art with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Jesus swept a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roken string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rred the slumbe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ords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Though some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he leads throu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aters d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rials fall across the wa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gh sometim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th seem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ugh and steep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e his footpri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e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Within My Heart a Melod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287360"/>
            <a:ext cx="9144000" cy="390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, Jesus,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est name I kn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s my every long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keeps me singing as I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7:00Z</dcterms:modified>
  <cp:revision>124</cp:revision>
  <dc:subject/>
  <dc:title>PowerPoint Presentation</dc:title>
</cp:coreProperties>
</file>