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35E-D976-4C4A-9C3F-20D43F116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89B-5104-41E0-907F-98C220DF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450-6ED7-4614-8E06-5F666B15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62F-9DBE-4961-A119-98A43002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17C-A607-4311-8C39-66B51F2B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548-2E42-469B-9232-3784E14A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96F-FFB0-413B-B246-B33BCD90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D99-8FC5-461E-8380-B43F242A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24C4-2B80-41C3-90FD-79A1DAC1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1C0-89BB-4576-9EE0-4577282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B25-24AD-4E1C-8A79-C506A1BF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86C-4EDB-494C-BBE3-04152666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388C-538A-4BFB-9744-70F5C62E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ticle of God’s Glo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Gloria in Excels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be to 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earth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will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God’s Gl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1600200"/>
            <a:ext cx="5105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2:14; John 1: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less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rship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lorif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thanks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great glo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only begotten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mb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the Fath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akes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s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upon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at takest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s 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eive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at sitt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ght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ercy upon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858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only art ho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nly art the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nly, 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most high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of God the Fath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44:32Z</dcterms:modified>
  <cp:revision>29</cp:revision>
  <dc:subject/>
  <dc:title>PowerPoint Presentation</dc:title>
</cp:coreProperties>
</file>