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47EA-3365-4F09-B08F-E525BF99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D21-339C-4E0C-9D2D-1504A536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1A93-180B-4998-BB8C-1BA70881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181-B6FE-44F4-B6B4-EFDBCBB9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E4B-A7A9-45A2-8E20-3BB6D276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857-60FA-4802-A277-5BB26CF2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53D-AEB9-40BA-9C9D-AA03E904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264-F694-4418-8C81-06DFC2DA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8B84-378F-4981-B8C3-CD483285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593F-40CE-41AB-AA2A-981AC4E8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A1A-9D90-47F6-9032-97E4DE66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8DB5-C218-40C4-8522-26A1B220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A61E-5507-465E-95BF-B6E4D44BF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yful, Joyful, We Ador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oyful, joyful, we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glory, Lord of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unfold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s bef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pening to the sun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ful, Joyful, We Ador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Henry Van Dyke, 1907; st. 4 alt.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lt the clou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 and sadn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ve the dark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ubt aw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r of immortal gl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us with the light of 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ll thy works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surroun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and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flect thy r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s and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aroun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nter of unbroken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ful, Joyful, We Ador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eld and fo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ale and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y mead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ashing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nting bird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ing f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 us to rejoice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ou art g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g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blessing, ever bl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lspring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of l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cean depth of happy re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ful, Joyful, We Ador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our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our br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who liv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re t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us how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each 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s to the joy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Mortals, jo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y chor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s beg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divin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igning o’er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nding all within its s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ful, Joyful, We Ador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s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 we onwa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ctor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dst of strif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mus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s us sunwa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triumph song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22:16Z</dcterms:modified>
  <cp:revision>29</cp:revision>
  <dc:subject/>
  <dc:title>PowerPoint Presentation</dc:title>
</cp:coreProperties>
</file>