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276C-419A-46CF-8CBF-4D28FBAEC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2B5B-6DC7-470F-8F0E-ED5E119CB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C7D1-AB8F-47EA-ACD8-065620EFB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7375-FD3B-4098-9C60-396E3058A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981F-C319-4B53-B4B7-FE72641EC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2862-8ED0-47D3-9A8B-C7A4BCED0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8F88-D65D-4E38-86CB-9894ED1ED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6F6C-BCCA-4383-9786-DE3E44BA1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4CC4-45D2-496D-A576-23721D6C1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CD12-9DA3-4E05-AE85-2EF9FA6D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6007-D709-46DB-8429-1BAEEB03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AC6F-9622-4639-82D6-90939731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E0D59-6376-4F35-92B8-E6F620F360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000" y="304920"/>
            <a:ext cx="9117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Up from the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rave He Aro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2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 from the Grave He Aro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5440" y="1600200"/>
            <a:ext cx="90885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Robert Lowry, 1874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1. Low in the grave he lay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Jesus my Savior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waiting the coming day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Jesus my Lor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 from the Grave He Aro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209680"/>
            <a:ext cx="9144000" cy="41202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Up from the grave 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he arose, </a:t>
            </a:r>
            <a:r>
              <a:rPr b="0" lang="en-US" sz="5000" spc="-1" strike="noStrike" baseline="-25000">
                <a:solidFill>
                  <a:srgbClr val="ccecff"/>
                </a:solidFill>
                <a:latin typeface="Times New Roman"/>
                <a:ea typeface="Arial"/>
              </a:rPr>
              <a:t>(he arose)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with a mighty triumph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o’er his foes;</a:t>
            </a:r>
            <a:r>
              <a:rPr b="0" i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 </a:t>
            </a:r>
            <a:r>
              <a:rPr b="0" lang="en-US" sz="5000" spc="-1" strike="noStrike" baseline="-25000">
                <a:solidFill>
                  <a:srgbClr val="ccecff"/>
                </a:solidFill>
                <a:latin typeface="Times New Roman"/>
                <a:ea typeface="Arial"/>
              </a:rPr>
              <a:t>(o’er his foes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he arose a victor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from the dark domain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nd he lives forever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with his saints to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3886200"/>
            <a:ext cx="9144000" cy="25902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He arose!</a:t>
            </a:r>
            <a:r>
              <a:rPr b="0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 </a:t>
            </a:r>
            <a:r>
              <a:rPr b="0" lang="en-US" sz="5000" spc="-1" strike="noStrike" baseline="-25000">
                <a:solidFill>
                  <a:srgbClr val="ccecff"/>
                </a:solidFill>
                <a:latin typeface="Times New Roman"/>
                <a:ea typeface="Arial"/>
              </a:rPr>
              <a:t>(he arose)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He arose!</a:t>
            </a:r>
            <a:r>
              <a:rPr b="0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 </a:t>
            </a:r>
            <a:r>
              <a:rPr b="0" lang="en-US" sz="5000" spc="-1" strike="noStrike" baseline="-25000">
                <a:solidFill>
                  <a:srgbClr val="ccecff"/>
                </a:solidFill>
                <a:latin typeface="Times New Roman"/>
                <a:ea typeface="Arial"/>
              </a:rPr>
              <a:t>(he arose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Hallelujah! Christ aros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 from the Grave He Aro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209680"/>
            <a:ext cx="9144000" cy="41202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Up from the grave 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he arose, </a:t>
            </a:r>
            <a:r>
              <a:rPr b="0" lang="en-US" sz="5000" spc="-1" strike="noStrike" baseline="-25000">
                <a:solidFill>
                  <a:srgbClr val="ccecff"/>
                </a:solidFill>
                <a:latin typeface="Times New Roman"/>
                <a:ea typeface="Arial"/>
              </a:rPr>
              <a:t>(he arose)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with a mighty triumph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o’er his foes;</a:t>
            </a:r>
            <a:r>
              <a:rPr b="0" i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 </a:t>
            </a:r>
            <a:r>
              <a:rPr b="0" lang="en-US" sz="5000" spc="-1" strike="noStrike" baseline="-25000">
                <a:solidFill>
                  <a:srgbClr val="ccecff"/>
                </a:solidFill>
                <a:latin typeface="Times New Roman"/>
                <a:ea typeface="Arial"/>
              </a:rPr>
              <a:t>(o’er his foes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he arose a victor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from the dark domain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nd he lives forever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with his saints to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886200"/>
            <a:ext cx="9144000" cy="25902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He arose!</a:t>
            </a:r>
            <a:r>
              <a:rPr b="0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 </a:t>
            </a:r>
            <a:r>
              <a:rPr b="0" lang="en-US" sz="5000" spc="-1" strike="noStrike" baseline="-25000">
                <a:solidFill>
                  <a:srgbClr val="ccecff"/>
                </a:solidFill>
                <a:latin typeface="Times New Roman"/>
                <a:ea typeface="Arial"/>
              </a:rPr>
              <a:t>(he arose)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He arose!</a:t>
            </a:r>
            <a:r>
              <a:rPr b="0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 </a:t>
            </a:r>
            <a:r>
              <a:rPr b="0" lang="en-US" sz="5000" spc="-1" strike="noStrike" baseline="-25000">
                <a:solidFill>
                  <a:srgbClr val="ccecff"/>
                </a:solidFill>
                <a:latin typeface="Times New Roman"/>
                <a:ea typeface="Arial"/>
              </a:rPr>
              <a:t>(he arose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Hallelujah! Christ aros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 from the Grave He Aro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666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2. Vainly they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watch his bed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Jesus my Savior;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vainly they seal the dead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Jesus my Lor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 from the Grave He Aro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209680"/>
            <a:ext cx="9144000" cy="41202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Up from the grave 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he arose, </a:t>
            </a:r>
            <a:r>
              <a:rPr b="0" lang="en-US" sz="5000" spc="-1" strike="noStrike" baseline="-25000">
                <a:solidFill>
                  <a:srgbClr val="ccecff"/>
                </a:solidFill>
                <a:latin typeface="Times New Roman"/>
                <a:ea typeface="Arial"/>
              </a:rPr>
              <a:t>(he arose)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with a mighty triumph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o’er his foes;</a:t>
            </a:r>
            <a:r>
              <a:rPr b="0" i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 </a:t>
            </a:r>
            <a:r>
              <a:rPr b="0" lang="en-US" sz="5000" spc="-1" strike="noStrike" baseline="-25000">
                <a:solidFill>
                  <a:srgbClr val="ccecff"/>
                </a:solidFill>
                <a:latin typeface="Times New Roman"/>
                <a:ea typeface="Arial"/>
              </a:rPr>
              <a:t>(o’er his foes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he arose a victor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from the dark domain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nd he lives forever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with his saints to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3886200"/>
            <a:ext cx="9144000" cy="25902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He arose!</a:t>
            </a:r>
            <a:r>
              <a:rPr b="0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 </a:t>
            </a:r>
            <a:r>
              <a:rPr b="0" lang="en-US" sz="5000" spc="-1" strike="noStrike" baseline="-25000">
                <a:solidFill>
                  <a:srgbClr val="ccecff"/>
                </a:solidFill>
                <a:latin typeface="Times New Roman"/>
                <a:ea typeface="Arial"/>
              </a:rPr>
              <a:t>(he arose)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He arose!</a:t>
            </a:r>
            <a:r>
              <a:rPr b="0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 </a:t>
            </a:r>
            <a:r>
              <a:rPr b="0" lang="en-US" sz="5000" spc="-1" strike="noStrike" baseline="-25000">
                <a:solidFill>
                  <a:srgbClr val="ccecff"/>
                </a:solidFill>
                <a:latin typeface="Times New Roman"/>
                <a:ea typeface="Arial"/>
              </a:rPr>
              <a:t>(he arose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Hallelujah! Christ aros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 from the Grave He Aro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514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3. Death cannot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keep its prey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Jesus my Savior;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he tore the bars away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Jesus my Lor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03:53Z</dcterms:modified>
  <cp:revision>79</cp:revision>
  <dc:subject/>
  <dc:title>PowerPoint Presentation</dc:title>
</cp:coreProperties>
</file>