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7AC-B7F2-4726-B212-C17DDC2C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6C6-1A7F-4F0C-989A-D9CC432B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B85E-7857-4D5A-9357-5C60BB45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73B6-99E0-42BF-BA8C-FF6B5881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DF7-2028-4152-AECE-B0756040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A680-3057-4731-B44B-7A0787C3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FFFF-51BA-4E54-BB2C-9521A357E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9BF-F8E1-43F5-AC30-48168F1C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DA9-DEE0-4FF3-967D-A1B91843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DEF-A493-475E-86F7-368D1FB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F71-F157-419F-81C6-709BED97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C93F-4FAB-4429-948B-DC819913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6791-F9C5-449D-824E-61426777C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Is Al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rian Wren, 1968, al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954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Christ is alive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et Christians sing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is cross stands empty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75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ill earth and all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reation r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joy, with justi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et streets and hom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ith praises ring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is love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death shall n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2. Christ is alive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longer bou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 distant year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in Palest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comes to claim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here and now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dwell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very place and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3. Not throned afa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emotely high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untouched, unmove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y human p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but daily,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midst of lif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ur Savior i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he Godhead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4. In every insul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rift, and wa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where color, scor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or wealth div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e suffers still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yet loves the mor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lives, thoug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ver cruc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Ali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5. Christ is a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comes to br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good news to t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nd every a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32:11Z</dcterms:modified>
  <cp:revision>76</cp:revision>
  <dc:subject/>
  <dc:title>PowerPoint Presentation</dc:title>
</cp:coreProperties>
</file>