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523-9D9A-4284-9907-52AFA3B2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0E3-A1AD-48FB-AD00-5DA0D19F2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572-67FB-4C1E-B5ED-67C4E2B6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CE38-0BED-4912-9F57-0F470BD1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AAE-6D8C-4B2B-9807-F64B4C3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232-681F-4CDE-B24A-4C5D4A71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4BC-437C-4AC0-8202-69492AAE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B27E-6A8C-45F3-AB01-86C3F08E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FDD-6306-47F5-8DCD-9742C005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19B-205C-41E5-B47F-F2BAA8A9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5CCF-7A36-4E9D-8BEC-1350A674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0D30-BF1D-4AD5-ADAE-1B8CFC61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0586-58DD-477B-93E9-14EF430DE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Wake, Awake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Night Is Fl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ake, awak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ight is fly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chmen o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ights are cry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wake, Jerusalem, at las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8720" y="1852560"/>
            <a:ext cx="62265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Philipp Nicolai, 1599; trans. by Catherine Winkworth, 1858</a:t>
            </a:r>
            <a:br>
              <a:rPr sz="1600"/>
            </a:b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(Rom. 13: 11-12; Mt. 25:1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ne pear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ch shining p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we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he choir immort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angel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dazzling thr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ye hath se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ear hath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tained to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 there is our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we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hymn of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l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dnight h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elcome voi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t the thril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y rejoic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forth, ye virg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ight is p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Bridegro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, aw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amps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ness t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or his marri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ast prep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ye must g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et him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Zion hea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tchmen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 her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joy is spring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 wakes, she r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her glo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r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down all-glorio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rong in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ruth victoriou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Star is ris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Light is 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h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blessed O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beloved Son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follow till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alls we s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re thou hast bi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sup wi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w let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eavens ad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aints and ange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befor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arp and cymbal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est t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ke, Awake, for Night Is Fly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6:00Z</dcterms:modified>
  <cp:revision>58</cp:revision>
  <dc:subject/>
  <dc:title>PowerPoint Presentation</dc:title>
</cp:coreProperties>
</file>