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C47C-9F8C-4367-A9CB-E1C04DA3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307-0BFE-411F-A58D-115D0C35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D5C-ABC0-467C-A708-F367366D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ECC-C37B-45B7-B5A3-C94E9746C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6E74-2C5A-4E44-811D-F4F523A8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DEC9-F6F3-46DD-8962-3F35A1A4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996-48C4-42D6-9DEC-6E90BF98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E8FE-4E55-4E25-800A-A6CD9AB0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8D4-AD9E-4E1A-A510-93B5057D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DC2A-572E-41B4-B817-75BE1A2A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97E7-1DDE-40E9-9489-A31F9ACB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1DD-E669-461F-AD13-90EF3FE1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20CA-113B-4FBE-A8CB-2A012FFF8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alk On, O People of God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Camina, Pueblo de D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esareo Gabara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n; trans. by George Lockwood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427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people of God!</a:t>
            </a: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© 1987 Ediciones Paulinas; 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8098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3840" y="3352680"/>
            <a:ext cx="5380560" cy="3080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as he destroys them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he brings us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life’s abundance,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life’s new joy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12408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1000" y="3352680"/>
            <a:ext cx="59734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bring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econciliatio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all thing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people with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160" y="4114800"/>
            <a:ext cx="600696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ature bursts int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ew flower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creation is re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5909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04812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1040" y="3276720"/>
            <a:ext cx="56548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Heaven and ear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re embrac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our soul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ind pardon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981440" y="3276720"/>
            <a:ext cx="526464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w heaven’s 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ates are reopene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the sinn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u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70880" y="4114800"/>
            <a:ext cx="641376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srael walks a journey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w we liv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alvation’s our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5680" y="3352680"/>
            <a:ext cx="60922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’s resurrectio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s freed us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re are new world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expl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5909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96252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9051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2286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Mira all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á en el Calvari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n la roca hay una cruz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muerte que egendra la vida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uevos hombres, nueva lu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352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risto nos ha salvad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on su muerte y resurrecci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Todas las cosas renace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88620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34290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52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40384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Cristo toma en su cuerp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l pecado, la esclavitud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 destruirlos, nos tra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una nueva plenitu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9051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Pone en paz a los hombre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 las cosas y al Creador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do renace a la vida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3623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03848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8680" y="3048120"/>
            <a:ext cx="57736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Look o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lvary’s summit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n the rock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ere towers a cros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34290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42900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Cielo y tierra se abraza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uestra alma halla el perd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Vuelven a abrirse los cielo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para el hombre pecad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srael peregrino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vive y canta tu redenci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Hay nuevos mundos abierto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n la nueva cre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39625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962520"/>
            <a:ext cx="9144000" cy="2346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ina, Pueblo de Dio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90512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ueva ley, nueva alianza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 la nueva creaci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ina, pueblo de Dio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camina, puebl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2240" y="3200400"/>
            <a:ext cx="53380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that giv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irth to new liv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 new peopl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 new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5400" y="3276720"/>
            <a:ext cx="5226840" cy="3080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Christ has brought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us salvation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with his death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and rising again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6320" y="4038480"/>
            <a:ext cx="5877360" cy="2333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Everything comes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to new birthing,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all creation is reborn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12408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362320"/>
            <a:ext cx="9144000" cy="386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people of Go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lk On, O People of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 new law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od’s new allianc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creation is rebor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 Walk on, O people of God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on, O people of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7000" y="3352680"/>
            <a:ext cx="6313320" cy="3080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2. Christ takes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into his body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all our sin,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enslavement, and pai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lk On, O People of God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1:19Z</dcterms:modified>
  <cp:revision>65</cp:revision>
  <dc:subject/>
  <dc:title>PowerPoint Presentation</dc:title>
</cp:coreProperties>
</file>