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70C-C8B5-4F31-8571-583E5890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AA0-27F7-4B6B-9A36-BFBC5D79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5FC-8407-4F40-8587-D590DBD9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2F1-85F5-4251-97ED-8F160DC6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27B-5DA3-4482-BD8E-28885ED7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A5B-1BD2-453C-A5BE-DBFE50E5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667-9769-4FB8-AB59-ADBE888D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00BA-8D02-4515-8144-E825B508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EA4-445D-440C-9F67-2304D0B1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EE6-5A26-44EC-BB82-3AB375FA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01E-BE8B-44ED-9BE1-45B65318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6DE-2DCD-4A1C-82E3-DCB908FD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5A4A-7AD4-4F82-A3C2-DC835ADD7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eak Thou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read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9384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reak thou the bread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 Lord,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ou did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k the loav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side the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ou the Bread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Mary A. Lathbury, 18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yond the sacred pa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eek thee,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pirit pants for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iving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Bless thou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th, dear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e,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ou did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ess the br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Galil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ou the Bread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shall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ndage ceas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fetters fa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nd my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all i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47:18Z</dcterms:modified>
  <cp:revision>101</cp:revision>
  <dc:subject/>
  <dc:title>PowerPoint Presentation</dc:title>
</cp:coreProperties>
</file>