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E4BC-9DF6-4F13-A000-9E9AA3F5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9888-C92A-4C05-8D71-5330270E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CFCA-CB76-4927-9C03-F3AEB515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2727-FCD1-4DA3-A160-8137C2F8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B9AD-F142-4EA1-9D4F-E23B4D55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7AEF-AB44-4F41-A340-467B4080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41E2-365A-4261-AE5D-0345F0C6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EA5B-9E49-4F9D-8074-6435A6A8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C52D-0CF4-44B4-995D-A992D1E0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A089-FF47-485C-B45E-B3690A07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88C7-E02D-46C1-A12A-E3AEA6E4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67D7-ECD6-4C65-A2FD-D3B08527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657E-CD89-413B-9E28-A169D4C9B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of the A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6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od of the ag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hose almighty h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s forth in beau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ll the starry band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00520" y="1143000"/>
            <a:ext cx="3120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WORDS: Daniel C. Roberts, 18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6760" y="2514600"/>
            <a:ext cx="861048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f shining world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splendo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rough the skie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grateful song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fore thy throne ar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love divin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hath led us in the past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this free la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thee our lot is cas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66760" y="3124080"/>
            <a:ext cx="887724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ou our rul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guardian, guide, and stay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Word our law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paths our chosen w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war’s alarm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rom deadly pestilen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be thy strong arm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ur ever sure defens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6760" y="297180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true religion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in our hearts increase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hy bounteous goodnes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nourish us in pe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i="1" lang="en-US" sz="5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Refresh thy peopl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on their toilsome way;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lead us from night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to never-ending da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of the Ag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760" y="2971800"/>
            <a:ext cx="861048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fill all our live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with love and grace divin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glory, lau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</a:rPr>
              <a:t>and praise be ever th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8:24:47Z</dcterms:modified>
  <cp:revision>40</cp:revision>
  <dc:subject/>
  <dc:title>PowerPoint Presentation</dc:title>
</cp:coreProperties>
</file>