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21E-A94F-4269-A506-8B9CEAD1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0E3-8DB2-41CD-B35E-A0D0A71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1F5-87E6-433A-92E7-EED1F385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E5E-C964-49FF-A663-61CBA3F8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CC0-53A3-4409-8242-6535E39C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AD1-DC35-47E3-8E24-1C297B5C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ED4-BAF7-4D17-9A65-9DE0B5CE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F708-25D6-430F-91DC-4C5D71CF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BDB-78FB-4156-8329-D2D4D63E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062-C3CA-4673-A975-7E587D56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897-F872-4B61-8342-49FF0EC6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5AA6-2730-4FE6-A4C4-C45779AB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D55E-4B81-4094-AD3E-094D02E0F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k Forth, 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auteous Heavenly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2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Break forth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beauteous heavenly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usher in the morn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st. 2, 3 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5480" y="1600200"/>
            <a:ext cx="62110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ann Rist, 1641; st. 1 trans. by John Troutbeck, ca. 1885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ts. 2, 3 by Fred Pratt Green, 1986 (Lk. 2:8-1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this be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 life st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who see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i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you the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s, and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all your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time of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, conqu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l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us,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shephe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rink not with affr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angel’s wa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child,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ak in infan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confid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joy shal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powe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tan brea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m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is night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ght of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s born the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com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t mighty to destr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bi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 each 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w could he qu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ly st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such a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reed and hat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d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umili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cur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ld’s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Come, dearest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to our hear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eav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b behind you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Forth, O Beauteous Heavenly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41:46Z</dcterms:modified>
  <cp:revision>69</cp:revision>
  <dc:subject/>
  <dc:title>PowerPoint Presentation</dc:title>
</cp:coreProperties>
</file>