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EA45-3BDC-4604-8BDE-9FF26891E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CC07-6974-4849-A713-B54E3B9D2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4117-497D-42F4-BC2E-212BDACC5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CD8A-6224-4C76-88B5-F46AECD4E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9C13-6CB6-4617-BD52-C55248D66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D4C1-84E6-4B62-8F86-7FF5F3CDC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E76D-AE72-4A5B-A0C3-7EFBB5FFF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829B-A552-4794-8B16-FBFF3DFC5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5FDC-1C45-4B64-B56C-B0376124A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BD32-2C18-415C-BBEC-F3F238DC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D47C-0866-424F-9562-279417812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DFBE-D7BE-448F-BDAD-9352EFBCD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7BCD3-EA67-4A32-B0D6-B5BA48E9D7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rown Him with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Many Crow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2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own Him with Many Crow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5440" y="1523880"/>
            <a:ext cx="9088560" cy="337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Matthew Bridges, 1851, and Godfrey Thring, 1874 (Rev. 19:12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9051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1. Crown him wi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any crown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Lamb upon his throne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ark! how the heavenl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them drown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l music but its 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514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wake, my soul, and s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him who died for th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hail him a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matchless K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rough all eternity. 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own Him with Many Crown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6765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Crown hi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Lord of lif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o triumphed o’er the gra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rose victorio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n the strif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ose he came to sa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288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glories now we s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died, and rose on hig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died, eterna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fe to br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lives tha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eath may di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own Him with Many Crown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9051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3. Crown hi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Lord of pea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ose power a scepter sway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rom pole to pol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at wars may ceas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all be prayer and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6002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reign sh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know no en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round his pierced fee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air flowers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aradise exte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ir fragrance ever swee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own Him with Many Crown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6765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4. Crown hi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Lord of lov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ehold his hands and sid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ose wound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et visible abo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n beauty glorifi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288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hail, Redeemer, hail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ou ha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ied for m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praise and glor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all not fai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roughout eterni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9T16:54:01Z</dcterms:modified>
  <cp:revision>87</cp:revision>
  <dc:subject/>
  <dc:title>PowerPoint Presentation</dc:title>
</cp:coreProperties>
</file>