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702-22E4-4D6A-90D5-DFD9C4C2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3A8-4AE0-4522-9081-12339FB4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481-05D0-4005-8CC3-E65A6537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E7C-4526-4882-89D7-A8A476B7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821C-409D-493C-AD39-EAE04D4B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233-9DFD-4B20-B738-CAB70BDE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FB7-0D58-418E-9626-3ECF8C09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F30-51ED-4A00-B1F2-7C0276DB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1BCC-7002-467A-AAC4-5A884C9D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F94-71E5-4D7A-A0D2-144359EC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39E-BECC-4EB8-A8EE-3B28D982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E88-0DC3-43B0-B123-2FD8ACCD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276D-0EA4-42DB-860A-1823FD3F7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 Shall Re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 shall re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’er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oes its success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rneys r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6480" y="1092240"/>
            <a:ext cx="408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Isaac Watts, 1719 (Ps. 7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gels desc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ongs a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arth rep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ud am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kingdom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shore to sh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moons shall wax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wan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o Jesus end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yer be ma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ndless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s hea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like sw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ume shall r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every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crif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People and real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every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well on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weetest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fant v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early bless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Blessings ab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’er he reig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prisoners lea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ose their chai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y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who su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nt ar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Let every crea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 and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nor peculi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our K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Shall Reig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5:38Z</dcterms:modified>
  <cp:revision>18</cp:revision>
  <dc:subject/>
  <dc:title>PowerPoint Presentation</dc:title>
</cp:coreProperties>
</file>