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809-8189-4172-89D1-6A8FD163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D7C9-627D-41F7-9FC0-F1C11DD1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38D-4C33-41DA-B421-D112D7D5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BAB-B396-4F5B-BE93-6875B4D7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266-3174-4685-A5F9-7F833F97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592-8D1D-47D4-87B2-FD2595EA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F8B5-74D6-43F2-A92F-18107DE7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34B4-484E-4E31-9F53-88EBAD8B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AAC-391D-446B-BC2B-0BA1455D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4D58-1134-4D0F-967A-89147696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BF3-59C2-4795-B57F-5108C646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49A-5AE8-45C6-B2B9-4B000F8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04D5-C16F-499D-B0AD-BE7B5767E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ive to the Winds Thy F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ive to the winds thy fe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and be undismay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ears thy sig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ounts thy t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hall lift up thy h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3160" y="1219320"/>
            <a:ext cx="73922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Paul Gerhardt, 1653; trans. by John Wesley, 1739 (Ps. 37: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rough wav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and stor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gently clears thy 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it thou God’s ti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hall this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end in joyou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ave to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vereign s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oose and to comma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halt thou, wond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wn that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w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strong t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et us in life,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teadfas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th decl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ublish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atest br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ardian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o the Winds Thy Fea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27:02Z</dcterms:modified>
  <cp:revision>45</cp:revision>
  <dc:subject/>
  <dc:title>PowerPoint Presentation</dc:title>
</cp:coreProperties>
</file>