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5906-59AE-48DD-91B1-2F348A93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FE50-EECB-424B-BAFD-20CE01D0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7DFD-C870-44F4-8EF3-4952E9D9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5C09-CDC7-4127-8359-B2CF8A52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AECA-1938-4FE1-849B-AC43FDB9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A13F-CB8F-4724-BAD6-0DCE6331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876E-8704-4F4A-AF3F-8D111F4E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35E-5547-4160-BF1F-D993217D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BA4D-02FD-409F-99D3-F2A0AC9B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D783-FC93-489F-8F3A-FD1BB62A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1E28-928A-4012-97C6-1AE8E838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2CEC-DB7F-4E44-BFF2-3F08D911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2183-D555-42F2-A59C-93230977E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et There Be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Let there be l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there be understand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all nations gath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them be face to f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L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51160" y="1077840"/>
            <a:ext cx="265716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Frances W. Davis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Open our lip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pen our minds to pond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pen the door of conc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pening into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Perish the sw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rish the angry judgme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rish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ombs and hung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rish the fight for 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Hallow our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llow the deaths of marty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llow their holy freedo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llowed be your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Your kingdom c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Spirit turn to languag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people speak togeth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Spirit never f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6. Let there be l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pen our hearts to wond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rish the way of terr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llow the wor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ma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There B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2:26Z</dcterms:modified>
  <cp:revision>10</cp:revision>
  <dc:subject/>
  <dc:title>PowerPoint Presentation</dc:title>
</cp:coreProperties>
</file>