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D651-D1DE-46C7-962E-A5297048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1C0-AA90-43F4-BCF4-B4E54A3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8EA-D63B-4BD5-A97C-2AAFB0E0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A71-B4B2-4B42-9A9C-C9B561C0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0630-071D-4E5C-8970-C1A6C58A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8BFD-3EDD-4779-BFD2-A140899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DA7-B8C7-4B29-8B7C-37D2B8E2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9EB0-1C55-4C10-BC3F-EB17405E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F28-6D61-4596-9402-031031B3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2BCC-DEC8-498A-9959-971656A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26E-A6D7-4000-A644-DC57CCF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B7EE-351F-4132-8BFE-9949A0FF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5C4-5C66-4D09-9EB5-F4CCEF725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re You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914400"/>
            <a:ext cx="90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my Lord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iled him to the tre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48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him in the sid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48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5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! sometimes it causes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e, tremble, trembl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refused to shine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re You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you there when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laid him in the tomb?</a:t>
            </a:r>
            <a:br>
              <a:rPr sz="5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were you ther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41Z</dcterms:modified>
  <cp:revision>49</cp:revision>
  <dc:subject/>
  <dc:title>PowerPoint Presentation</dc:title>
</cp:coreProperties>
</file>