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311-8A56-4A08-B080-3D88E97C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E70-90D7-4A29-84AC-A75B1CB1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51C-2A66-4F33-B4E3-2F50D61F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740-C6E3-4D91-9985-05F1BDF1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39E-0B70-4DE7-BC85-83C59074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E64-502C-4302-80A3-911BB828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E0C-BCE6-443F-8608-DF5507FE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760D-9A3E-4A76-B206-F65F3ABF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A52-DA39-4CB7-AB81-5C060143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597-5866-435B-99A1-909FEE12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65A-CDA0-4531-AB8D-38B5E0A3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FE4-EB5D-42AF-B965-1281C725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2E89-A6B3-46DF-960A-5F11A22AF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67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lory Be to the Fa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Lesser Doxology, 3rd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4th c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be to the Fa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Holy Gho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Be to the Fa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it was in the begin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now, and ever shall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without en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.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7:01:25Z</dcterms:modified>
  <cp:revision>19</cp:revision>
  <dc:subject/>
  <dc:title>PowerPoint Presentation</dc:title>
</cp:coreProperties>
</file>