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164-05E5-4C49-8D93-D3A309BD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2C77-7DFB-42EA-A68A-468155F8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E2B-139F-46B2-AF5F-C565192F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5CC8-2452-4829-8F84-F105B841D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3BB-FE99-4DE6-A810-6F2257FC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D376-EF22-4283-A933-0E5D9DFB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AFB-6D89-4007-B39A-95788F3A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650-D2C3-4F10-A2D4-586C603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4DDE-864F-4E73-835B-7589C202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B21-D7F6-4646-8FD8-988CE139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0F6A-20B1-4D0C-9CDF-33C19D50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222-6B1B-4937-A625-45C2D7F2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C533-F45B-42E3-A070-5A8F008B5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r Earth We Now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ament to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Earth We Now Lament to S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harles Wesley, 17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981080"/>
            <a:ext cx="8686800" cy="432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1. Our earth we now lament to see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with floods of wickedness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	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overflowed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with violence, wrong, and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cruelty,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Times New Roman"/>
              </a:rPr>
              <a:t>   one wide-extended field of blood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here men like fiend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each other tea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in all the hellis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rage of w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21932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2. As listed on Abaddon’s sid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ey mangle their own flesh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and sla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ophet is moved, and ope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id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its mouth for its enormous prey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919160"/>
            <a:ext cx="83818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myriads sink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beneath the gra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plunge into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the flaming wav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919160"/>
            <a:ext cx="88390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3. O might the  universal Friend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this havoc of his creatures see!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Bid our unnatural discord en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declare us reconciled in th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190512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Write kindness o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ur inward part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and chase the murderer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from our heart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914400"/>
            <a:ext cx="868680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4. Who now against each oth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ris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e nations of the ear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constrain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o follow after peace, and priz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the blessings of thy righteo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reig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1919160"/>
            <a:ext cx="86104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e joys of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unity to pr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the paradis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f perfect lov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0:27Z</dcterms:modified>
  <cp:revision>150</cp:revision>
  <dc:subject/>
  <dc:title>PowerPoint Presentation</dc:title>
</cp:coreProperties>
</file>