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663-EC2C-4C5F-AE34-2EB7D3AA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DDB-8AC9-4C27-835E-986C3A42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0254-99F8-456B-8838-608A95066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AAD-250E-4FB3-A9BA-AB5C165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E96-166C-4F91-9977-AFC0CCE8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9A49-0856-4C42-B653-3516E74B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80C-17FA-4A84-B59A-82455FAA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7A8F-C3CD-41D4-8E6F-1B43DB73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BB04-61D0-459A-9201-A80D83A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51B-A87B-418D-B4BB-906CC5AB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4EC-124B-49F1-8409-E0214E6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D5B-EAD5-4F6F-A045-D115E32B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8578-0D40-4366-800D-DBB731B39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Christma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rn Is Daw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When Christmas m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wish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could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78 Lutheran Book of Worshi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0200" y="1662120"/>
            <a:ext cx="6095880" cy="642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ttr. to Elisabeth Ehrenborg-Posse, 1856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rans. by Joel W. Lundeen, 1978 (Lk. 2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, newborn to se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There by the manger crad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Son, newborn to s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How kind of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vi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us to come to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pise your lowly birt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O may we not by sin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spise your lowly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e need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b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arest fri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Christmas Morn is Daw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r love will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 us to life’s en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Your love will 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ui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 us to life’s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4:50Z</dcterms:modified>
  <cp:revision>78</cp:revision>
  <dc:subject/>
  <dc:title>PowerPoint Presentation</dc:title>
</cp:coreProperties>
</file>