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23F-039B-42F9-BABB-A6EA086F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3FB-EC33-4EC7-9857-CB73CD8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9D6-8BC5-4AF8-9873-910B6046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36F-79A7-4614-98E1-04DC588D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867-46A3-46BE-BC70-8B3A261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E2E1-8DBA-49AF-8999-8CB0F31E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448-2D92-497A-9851-B9CDDC10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CD2-138F-406D-AF3B-82D4167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67C-80E0-4B6A-ADEA-9E3BC920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300-FE0D-4E79-98B4-ADAE26C2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63A-1F9D-4C95-A82F-9C6226C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C4B7-FE58-4C5A-8D43-BE18052B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550E-CA5E-4E16-8170-09F616E86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hall We Gather at the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hall we gather 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bright ang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have t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its crystal tid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by the throne of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5960" y="1066680"/>
            <a:ext cx="39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obert Lowry, 1864 (Rev. 22:1-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oon we’ll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our pilgrimage will cea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our happ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will qu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melody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 the margin of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ing up its silver s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rship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golden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ining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y we every burden d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our spirits will del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vide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be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193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we’ll g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r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ri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l We Gather at the Ri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 the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flows b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58Z</dcterms:modified>
  <cp:revision>52</cp:revision>
  <dc:subject/>
  <dc:title>PowerPoint Presentation</dc:title>
</cp:coreProperties>
</file>