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93CF-0BDD-4BD6-869D-C35BAA07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6D2B-53B6-4F11-8796-67A2FE13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831F-F842-4673-A72C-D1DAEE5C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6788-B256-4F38-A157-4FAA3478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2E00-9988-4927-8D3C-B2BDF486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38FE-5750-47B1-ABF1-E40F8BAD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A4E2-C7F0-4C2D-83EB-5EC1DEB1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BB21-43BC-467B-AD70-5C8EE253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8780-CB57-45AD-A9F0-004B05EF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5804-62CA-4DC1-9A34-5190A83F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BFEC-7DDF-47F1-86BF-34EE171C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34A2-BF1D-41E4-8C71-4DA7C95D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D434-2CA3-4CFF-ACE4-819573B63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534520" cy="121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lory Be to the F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Lesser Doxology, 3rd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4th cent.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5812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be to the F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the S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the Holy Gho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Be to the Fa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87480" y="2743200"/>
            <a:ext cx="717444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it was in the begin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now and ever shall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ld without en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en. 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17:02:02Z</dcterms:modified>
  <cp:revision>12</cp:revision>
  <dc:subject/>
  <dc:title>PowerPoint Presentation</dc:title>
</cp:coreProperties>
</file>