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407-7B64-471B-93EF-0401BC05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EAE1-844F-4EBF-AA7B-07E8E9F1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F4A-FC42-4DEC-9AFD-09668EF5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849F-67D6-4EAD-BCD8-07E9C979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823-42CE-4D22-A548-D164911B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E81-5D55-4E41-9827-BB0A8F09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70E-7B54-4955-A8C0-91AB7C61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4D9-7613-460E-B0CD-1CA31497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E64-0E13-4EDB-8277-B7382EC2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C24-9A18-4CBD-8823-75FC448C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882-D219-45E6-958A-B7186122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1D2-9D6B-497F-9443-70AEF7A6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D2E2-0156-466E-ADD3-B15D4C263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’m Goin’a Sing Whe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pirit Says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African American spiritu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9876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I’m goin’a 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’m goin’a 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s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goin’a 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I’m goin’a p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’m goin’a pray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pr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goin’a pray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’m goin’a mo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moa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’m goin’a moa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moa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goin’a moa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moa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m Goin’a Sing When the Spirit Says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I’m goin’a sho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shou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’m goin’a shout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shou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m goin’a shout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Spirit says shou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obey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6:10Z</dcterms:modified>
  <cp:revision>89</cp:revision>
  <dc:subject/>
  <dc:title>PowerPoint Presentation</dc:title>
</cp:coreProperties>
</file>