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317-D35E-4E77-B8E7-C30FD427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7C4-55A4-4A4B-B3F5-9ED04778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399-37B3-4415-8299-51806CF4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5A1-1B0B-4373-95AA-97C5D42E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BA7-5E97-4401-90C7-165FDAE8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162-8A2A-4EDB-BCCC-ED7789B7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C13-112B-409E-8842-602CCC73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FDF3-9F7D-47A2-952E-FF8E278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F7D-E731-4615-BA31-0C8E44A9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145-5198-41D4-A3CB-A01725C7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DC3-322C-436B-864E-FDCBDBCE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2877-229C-43ED-89E4-FD19E60C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A10F-690F-4D73-8EA3-62ED0DA23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lessed Be th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USA campmeeting chorus (Ps. 72: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be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6:39:05Z</dcterms:modified>
  <cp:revision>11</cp:revision>
  <dc:subject/>
  <dc:title>PowerPoint Presentation</dc:title>
</cp:coreProperties>
</file>