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1F1-66CD-4D05-BA5F-E5E348A8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CD8-7E56-44D4-B397-91957D29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B55-3686-42A5-8E10-3E15E471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B73-54F4-4950-9AA9-5486B229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E9F-0ABA-405D-827B-279A1AB5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2A1-B94A-4872-8E69-0F790D9A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4AC-FEF0-4963-A24F-2825B22E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841-FCB3-4AAA-B8CA-A0C0CF60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A6B-7420-4084-9BFC-8BC0E8D4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AF33-BFFC-48A5-B10D-00DA07C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5FA-9B68-4EE9-924B-0919BCD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62E7-8B7C-4AFC-8889-591B433C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EE2-40F6-4573-9E68-FC6804A55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ke Me a Captiv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ke me a captiv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n I shall be fr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ce me to r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my s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shall conquero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1063800"/>
            <a:ext cx="4028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George Matheson, 1890 (Eph. 3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ink in life’s ala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by myself I sta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rison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thine ar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ong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m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y heart is weak and po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it master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has no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ction 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varies with the w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cannot freely m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ou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ought its ch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slave it wit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tchles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athless it sha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My power is faint and 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 have learned to ser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lacks th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 to g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lacks the breeze to ner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cannot drive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itself be dr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flag can only be unfur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ou sha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y will is not my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ou hast made it t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it would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onarch’s thr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must its crown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e a Captive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only stands unb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id the clashing str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on thy bos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has le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und in thee it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8:46Z</dcterms:modified>
  <cp:revision>12</cp:revision>
  <dc:subject/>
  <dc:title>PowerPoint Presentation</dc:title>
</cp:coreProperties>
</file>