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82C-76C8-457F-B400-19A5D7CE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A4D8-CC65-43F8-AD69-85789C70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44D-FE5B-4A18-8CD5-DB4645B6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ED2-3B24-45B2-B369-265DBA40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F3C-8282-4C06-ADB3-5D9B5F52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0AC-41B0-49F6-ADB9-7F526647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44CA-6264-491F-B3FC-2A1804AE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FB8-D182-46A1-897D-5BB417C1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8A01-A9E4-4DF2-8F51-B3082160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5396-E1D7-4EB5-985F-5A973710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85E1-321D-43D7-9032-B9FE7246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937-273D-4D73-9E1B-7DEFD9A4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05F1-BE55-4003-8145-FBCEE05ED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rd, You Have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the Lakeshore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 Has Venido a la Ori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228600"/>
            <a:ext cx="12952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Have Come to the Lakeshore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imes New Roman"/>
              </a:rPr>
              <a:t>WORDS: Cesareo Gabara</a:t>
            </a: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n; trans. by Gertrude C. Suppe, George Lockwood,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Raquel Gutiérrez-Achon, 1987 (Mt. 4:18-22; Mk. 1:16-20; Lk. 5:1-11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741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1. Lord, you hav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come to the lakesho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looking neither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for wealthy nor wise one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  <a:ea typeface="Arial"/>
              </a:rPr>
              <a:t>© 1979 Ediciones Paulinas; trans. © 1989 The United Methodist Publishing Hou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You, who h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shed other ocea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ver longed for b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ouls who are wait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loving frie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s thus you call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87280"/>
            <a:ext cx="9144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, with your eye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90512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1. Tú has venido a la orilla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no has buscad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ni a sabios ni a ricos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an sólo quieres que yo te sig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4444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Tú sabes bi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 que tengo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n mi barc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hay oro ni espada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an sólo red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mi trabaj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444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57652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only asked m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follow humb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Tú necesitas mis mano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e cansanci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que a otros descan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mor que quier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guir aman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444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193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4. Tú, pescador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e otros mares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nsia eterna de alma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que espera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migo bueno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que así me llam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444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, with your eye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You know so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ell my possession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boat carr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gold and no weapon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will find t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nets and lab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1872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, with your eye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You need my han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ull of ca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 my lab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give others r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constant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keeps on lov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d, You Have Come to the Lakeshore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5526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, with your eye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6:48Z</dcterms:modified>
  <cp:revision>105</cp:revision>
  <dc:subject/>
  <dc:title>PowerPoint Presentation</dc:title>
</cp:coreProperties>
</file>