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7A3-9F49-4E40-BD10-65F62D135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4D9-39CA-4B78-9273-170253D6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B8E-7504-4CB1-AEE7-0F08D5DB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4B5-3EAC-42EC-AA33-61BA5D1A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951-C131-4514-9BA3-E0B9C60F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2AF-F581-4162-9056-D5DB8947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D551-67FC-49CB-AF52-C31D77BC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D03-4E90-46C9-B8B2-D13FCFDF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F18-EFC6-472F-8DD9-4D54E7EC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E876-B5CF-49C1-91B7-84FCC74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2EB-1905-455A-96CA-3CBD96F3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713-2279-4FFE-9783-74C7C7D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36C-4FDE-47C0-866C-C54BB36DF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Jesus, 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11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to your kingdom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Jesus, remember 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hen you co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to your kingdom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4160" y="990720"/>
            <a:ext cx="2040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Luke 23: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3:59Z</dcterms:modified>
  <cp:revision>31</cp:revision>
  <dc:subject/>
  <dc:title>PowerPoint Presentation</dc:title>
</cp:coreProperties>
</file>