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A39-34B5-437C-82FF-DCD628E1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12F-11D0-47A5-A146-F500DE06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036-0DFB-463E-80BC-13C85900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997F-20B6-4D8A-80D1-36A2BA9A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4728-BA36-423C-9CF3-3A1158B8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1FB-601E-4DD0-A7CD-731E660B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249-048C-4900-AEE3-7774D948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28F-BB72-49A8-812C-D971C5D5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260-C37D-4E47-B0FD-E6FFEE14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A23-3516-46F0-9DE8-BFFA52A4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54B-E446-4ABA-944A-72FAE33D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EBE4-89EB-4AC6-9829-97EEB353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6997-890E-48DD-9EE6-23D34D257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h, Holy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228600"/>
            <a:ext cx="137160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8763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ohann Heermann, 1630; trans. by Robert S. Bridges, 18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Ah, holy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hast thou offe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e to judge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ve in hate pretend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k on thy pi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y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swer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my deser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foes deri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ine own reject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ost afflict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ho was the guilty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rought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as, my trea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, hath undone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was I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it was denied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rucifie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o, the Good Shephe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sheep is offer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lave hath sinn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Son hath suffe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our atoneme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hing hee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nterce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For me, kin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thy incarn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mortal s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y life’s obla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d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ngui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y bitter pas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y salv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h, Holy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erefore, kin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ce I can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y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do ad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ll ever pray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25:10Z</dcterms:modified>
  <cp:revision>49</cp:revision>
  <dc:subject/>
  <dc:title>PowerPoint Presentation</dc:title>
</cp:coreProperties>
</file>