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A81-BD0F-4131-9FD6-556CC002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F844-D50E-42BF-8E3D-C387529A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2D5B-4CD7-4EA9-AF36-4FC99D16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B51-421C-4439-83E4-C9F932E6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344-7123-4963-81E2-BCB7D95F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4064-6BBF-43F3-882F-56FD3323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436-15F6-48C0-8124-976E6BA4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DFD5-59B8-4A10-8ACD-8F7F01D4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5D0-5B02-4DCB-AD19-6490C5F1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B2B-E63C-4EAE-ACB8-DC47F123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515-01F5-4924-ABB1-4C8EDC20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9A2-0745-4F76-BF2A-B19E5200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A070-AA15-4FA9-AF66-4390A0D40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re, O My Lord, I Se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ere, O my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ee thee face to f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would I touch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ndle things un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Horatius Bonar, 1857 (Rev. 19:6-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ing sweet foretas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festal j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amb’s great brid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st of bliss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grasp with firm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nd eternal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my weari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e le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the hour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nquet and of so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the heaven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ble spread fo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let me feast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sting, still prol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allowed hour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llowship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ere would I f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 bread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drink with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oyal wine of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would I l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ide each earthly lo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taste afre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alm of sin for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oo soon we ri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ymbols disappea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east, though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ve, is past and g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read and w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move; but thou art 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arer than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my shield and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Feast after fe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us comes and passes b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, passing, po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glad feast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, O My Lord, I Se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26:11Z</dcterms:modified>
  <cp:revision>124</cp:revision>
  <dc:subject/>
  <dc:title>PowerPoint Presentation</dc:title>
</cp:coreProperties>
</file>