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83E-C5EE-4BAD-AE0C-6D7E617B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E26D-46DE-46E9-9723-DA390AF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448-CD4F-48DA-9B94-7AE9BDCC2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948-39B1-4911-8660-8A1B0E1C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8B3-A230-4286-A413-E5B92D85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57E-6B31-47A0-AEB5-15F20351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D5F-4B86-4435-9D3E-F40DC632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901-CC99-45A9-80AC-276A8F7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1B3-10D6-439B-991E-82C8D53D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54C-13FD-49B2-955F-B0C685FA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8CBD-F041-4AC5-BAAD-C0491554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B450-5062-43BC-988C-2512E3DA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63D9-CCD0-4229-A552-B189B8470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Leadeth Me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Blessed Thou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 leadeth m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blessed though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ords with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fort fra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11840" y="1752480"/>
            <a:ext cx="46584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ORDS: Joseph H. Gilmore, 1862 (Ps. 23)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tent, what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t I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’tis m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2096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89548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when my t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is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by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y’s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death’s cold w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not f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ce God through Jord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62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89548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I 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’er I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’tis God’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288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74320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metimes mid sce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deepest g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imes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den’s bowers bl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aters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roubled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’tis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62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own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812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ful fol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ould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y his h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I would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and in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ver murm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re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eadeth me: O Blessed Thou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24:10Z</dcterms:modified>
  <cp:revision>45</cp:revision>
  <dc:subject/>
  <dc:title>PowerPoint Presentation</dc:title>
</cp:coreProperties>
</file>