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ABE-D0C0-48E5-992E-B808527D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9E6-B095-4B55-840D-A68F4234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5F5-EE3A-4CA5-B20F-0D430D27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1E32-56FC-4098-9520-E8D7A0D4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984-603D-4059-8F58-1283D504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287D-4C1B-4196-A5EA-15053104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B0F-6F2A-4F35-8286-7EAB544E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EB6E-0FA8-4800-8902-B06D0D17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85D-38D3-4018-B523-70949A79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17C-D988-41AE-AD2E-796ACD46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C87-CAFE-4E35-88F9-C6541F82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71C-F246-463F-9D20-EC86A3BB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EFD4-7CAB-4942-9224-2233B870A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Move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4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me, move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me to do thy will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me, move m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me to do thy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8 Richard Alan Hend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 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97840" y="1128600"/>
            <a:ext cx="3746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Richard Alan Henderson, 19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1:39Z</dcterms:modified>
  <cp:revision>12</cp:revision>
  <dc:subject/>
  <dc:title>PowerPoint Presentation</dc:title>
</cp:coreProperties>
</file>