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4E1-5B42-4BAE-92BC-AF5BF344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C89-F848-4995-BF9A-D66A2160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913-7A3C-4620-B4F2-53262256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792-EE78-457E-BD69-C3DC5948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A20-2A1C-468F-A899-EB432A00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B68-456F-406A-BFC8-0ED05F04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D0C-6583-434E-BB26-BDC3D385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0114-4B55-44AD-843B-AB726909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F34-C5B4-445E-9DD7-41A21961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C8C-7994-4C13-A294-B8CAC7CB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BDB-E9B7-43A3-8A86-18DD1324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A02-C0E3-4E01-8443-45AF803D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CE5E-AB79-48B2-9BD0-32D59B721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Near to the Heart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There is a place of quiet rest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near to the heart of God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 place where sin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cannot molest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near to the heart of Go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65680" y="1128600"/>
            <a:ext cx="3210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Cleland B. McAfee, 19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Jesus, blest Redeemer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t from the heart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 us who wait before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here is a pl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comfort sw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 to the heart of Go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place where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avior m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Jesus, blest Redeemer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t from the heart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 us who wait before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re is a pl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full relea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 to the heart of Go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place where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joy and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Jesus, blest Redeemer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t from the heart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 us who wait before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 to the heart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ar to the Heart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5:17Z</dcterms:modified>
  <cp:revision>11</cp:revision>
  <dc:subject/>
  <dc:title>PowerPoint Presentation</dc:title>
</cp:coreProperties>
</file>