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903F-F791-43C6-8977-7D03EBDE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ED9-40F8-4B3A-8480-A5588CBD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4F2B-747F-471E-979F-E62FFA59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E9F-385B-4C7F-85FE-BBFA5CD47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42C-E8CC-48A4-9DCD-D721BF00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641B-C00B-40F5-8992-1993A10A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592-E0EF-4008-A6F5-330EE1E0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F67F-10D3-47C7-9594-0AE97CD2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C9F8-D9C5-4A18-AEBB-5ED0CE29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D03-C33D-49E8-BFBA-39A6658C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A2F8-F528-41F6-84C9-B29D6EBD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B1F8-82C1-4A57-818E-9B9A6F2D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CB68-FCB6-4F1D-835A-2EABA3219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e, Ye Sinners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or and Nee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Joseph Hart, 17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Come, ye sinne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oor and need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eak and wound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ick and s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f you tar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ll you’re bet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 will n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at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aris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to Jes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embrace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s arm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the ar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my dear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there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n thousand char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Let not consci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ke you ling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r of fit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ndly dre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the fit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require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s to feel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eed of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aris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to Jes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embrace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s arm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the ar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my dear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there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n thousand char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 read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s to save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ull of pit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ve, and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aris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to Jes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embrace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s arm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the ar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my dear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there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n thousand char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63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Come, ye thirst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, and wel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d’s free bounty glorif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rue belief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rue repentan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very grace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rings you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aris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to Jes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embrace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s arm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the ar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my dear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there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n thousand char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Sinners, Poor and Nee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Come ye we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avy lad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st and ruin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the f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5:09Z</dcterms:modified>
  <cp:revision>97</cp:revision>
  <dc:subject/>
  <dc:title>PowerPoint Presentation</dc:title>
</cp:coreProperties>
</file>