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090B-BFBE-423C-A932-1D1934BE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5359-44B1-4182-8CE4-AFA23D42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182-6728-42AA-9467-AD3DE64EC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735-3453-4795-ADDE-7F7FE083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3842-2518-4BF6-9D28-1C4CED9B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FE4-6D9D-48E5-AAC9-50061D20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A92-D5FD-4AE5-B837-ECE1D705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5C29-F1E2-4354-B483-D54BFD5C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CC3-F175-4FA1-87AC-2B08BCE9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341A-B109-4A0B-A695-E84A55C9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36E-69EF-4F91-984D-3C59F953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DA01-649D-4172-B1C6-85D9204A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C14B-86EE-4BC6-9B3B-F6FCB97AE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t All the World in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very Corner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067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corner s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od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the World in Every Corner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0040" y="1600200"/>
            <a:ext cx="3729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George Herbert, 163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e heavens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too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praise m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ther fl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arth is not too l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pra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may gr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the World in Every Corner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905120"/>
            <a:ext cx="9144000" cy="3067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corner s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od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the World in Every Corner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church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salms must shou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door c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them ou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, more than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ust bear the longest p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the World in Every Corner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09680"/>
            <a:ext cx="9144000" cy="3067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Antiph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corner s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God and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the World in Every Corner S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Antiph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1:33Z</dcterms:modified>
  <cp:revision>11</cp:revision>
  <dc:subject/>
  <dc:title>PowerPoint Presentation</dc:title>
</cp:coreProperties>
</file>