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C52-42EB-4673-8837-CE89C551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9123-5FBD-4609-A204-E45998B7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FCC-6737-466A-B9E7-58B179A56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BC4-DFD1-47F5-9089-F4FFD1119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2505-F9E9-440A-A03A-9CB71F53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6905-B623-4B76-9A59-05372B7C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F60-8FC6-4408-8ADE-9D98EB70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3DA-C169-43CA-9338-6B446C78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0104-41C0-4793-A452-23660384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8DC-7607-4E84-8F4E-9654D0D0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4279-FAE7-4DBF-A266-11AA1B6F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59F-BC47-41FE-A5C8-ED09980C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E5F6-9CC2-4583-8723-967699CCE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piph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828800"/>
            <a:ext cx="8839080" cy="463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O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 made of one blood all nation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, by a star in the Eas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revealed to all people him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hose name is Emmanue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iph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0400" y="1092240"/>
            <a:ext cx="5824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aurence Hull Stookey, USA, 20th cent. (Mt 2:1-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nable us who know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your presence with 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so to proclaim hi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unsearchable rich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that all may come to his ligh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and bow before th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brightness of his rising,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2284560"/>
            <a:ext cx="8534520" cy="2287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o lives and reigns with you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and the Holy Spiri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now and for ever.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5T19:48:24Z</dcterms:modified>
  <cp:revision>13</cp:revision>
  <dc:subject/>
  <dc:title>PowerPoint Presentation</dc:title>
</cp:coreProperties>
</file>