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8CCC-C473-4634-A81E-71D4F557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BE3B-D4C1-436A-AF9D-85B20004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5D8-D965-4B1C-A9A1-F1612CB6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8BBE-9E5A-4B0C-A4F3-14F5AC3B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803-2E8C-4A64-82A9-4CA5197A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95C-D83B-4323-B98A-DBF3C711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B10-4738-424F-B282-550825E6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6752-938A-4C86-8384-8C893FC9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3C5-3EEB-4F9C-8F67-935C3BD9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928F-858E-453B-888A-EFCDE60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5EE4-2E4A-4A66-B2FD-B463047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97A-D176-404D-A546-6C849E10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4702-E952-4993-BD5A-F3725B10E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orning Glory, Starlit S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558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orning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rlit sk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aring music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cholars’ trut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Words by permission of J. W. Shore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97160" y="1116000"/>
            <a:ext cx="460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W. H. Vanstone, 1980 (1 Cor. 13: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nail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crown of thorn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ll of w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od’s love must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Here is God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 monarch h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roned in eas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ate to reig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s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se arms of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ching, spe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world sust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ight of swall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umn lea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mory’s treasu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ace of youth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Open a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gifts of G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fts of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o mind and s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idden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agon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endeav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’s expen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Love that giv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s evermo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s with zea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ith eager hand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pares not, keeps no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outpou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enture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ts all expe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Drained is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making fu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und in sett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thers f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or in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any ric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eak in giv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wer to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Therefore 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who shows us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lpless hang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upon the tre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ning Glory, Starlit Sk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0:04Z</dcterms:modified>
  <cp:revision>45</cp:revision>
  <dc:subject/>
  <dc:title>PowerPoint Presentation</dc:title>
</cp:coreProperties>
</file>