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273-24D4-4A98-8A90-DBD77043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DD84-B521-4A2C-8F36-B179FFCE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F46-09BE-43DC-BF7A-E20CDC28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579-1658-4E5A-BEC1-41DE37DB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0DC-A46A-4510-8CB1-7006C96D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CCC-FF72-4E16-98F4-4EC7ABC8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C3D-58E8-4663-A66F-DEC45B75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DF5-807D-4D66-A757-CD243F03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2C80-BE6A-4FD9-B669-E1C358B7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EB9-7D98-40BF-A9B4-7CF39916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FA3-7B3A-458E-AECC-8C848C07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5555-8FDC-41CD-B697-81F297D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6C49-D922-4C0D-97E1-F1934DAA5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 Servants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e servants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Master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ublish abro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wonderful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6160" y="1066680"/>
            <a:ext cx="56275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Charles Wesley, 1744 (Rev. 7:9-12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me all-vict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Jesus ext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kingdom is gl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ules ov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od ruleth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mighty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ill he is n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esence we h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eat congreg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iumph shall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cribing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sus, 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“Salvation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its on the throne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cry a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nor the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aise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s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 down on their fa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rship the La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n let us ad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him his r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and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wisdom and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Servants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onor and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ngel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anks never cea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finite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1:13Z</dcterms:modified>
  <cp:revision>11</cp:revision>
  <dc:subject/>
  <dc:title>PowerPoint Presentation</dc:title>
</cp:coreProperties>
</file>