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914-E920-475E-B2A8-9DB407CB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428D-54B8-48ED-8EFB-3C70190C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AF1-C23A-4206-A05D-BACE2752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FA2-E0E2-44D9-AB13-91C3156F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D373-495A-4451-BDCA-75E6B981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217-CC53-474A-890F-CA1ED87A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83BB-C862-40C8-80F0-2641BCD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8E45-71DF-4743-8EA2-3625879B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F48-8458-4FCA-AC0E-75EBDE69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4C6-9ABF-4143-8F23-7896F7D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5DA-058B-4B98-B584-7C7A5CC5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9EB-1BCA-47C5-8DCB-7FD8AAC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F64-406A-44DD-A331-771411C3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plendor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’s Glory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splendor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glory br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thou that bringe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 from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0440" y="1600200"/>
            <a:ext cx="733608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mbrose of Milan, 4th cent.; trans. by Robert S. Bridges, 189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Light of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’s living sp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da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days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O thou true Su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us thy glan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fall in royal radian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pirit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nctifying bea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on our earth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ses strea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 Father, to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prayers impl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 of glor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ather of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ce and m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banish s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our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To guide whate’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nobly d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love all env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ubd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lendor of God’s Glory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make ill fortu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urn to fai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ive us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wrongs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32Z</dcterms:modified>
  <cp:revision>15</cp:revision>
  <dc:subject/>
  <dc:title>PowerPoint Presentation</dc:title>
</cp:coreProperties>
</file>