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3DA0-9C01-4577-8656-3ABC373B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8ABF-FD82-419D-BA0A-32045ED3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F99-1646-45C7-838A-B1643844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2A22-63ED-4542-AA66-5F7D9D2F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0E1-2378-473B-87FB-2DD499B7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218-2739-4C48-AD84-F6052F40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3A6-DE00-4A71-9FDD-6B11EA6A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E3F-12E9-491F-BAEC-7089D541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968-6890-42BC-93A5-6F2285B0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6DD8-67E5-4099-B856-631AF0B0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CA4-2813-4FF0-AFA8-EAB23979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DC6-954A-4547-A566-E4884299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1EF8-D0B2-478B-ABD0-AEAEB3085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 Never Said a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umbalin’ 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African American spiri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They crucified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my Lord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he never said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 mumbalin’ w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His blood c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ickling d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never s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umbalin’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blood c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ickling d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5. He hung hi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head and died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he never said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 mumbalin’ w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hung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d and di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crucif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y nailed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t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never s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umbalin’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nailed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t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2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ever Said a Mumbalin’ W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y pierced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s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never s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umbalin’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pierced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s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and he never s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umbalin’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84280"/>
            <a:ext cx="9144000" cy="402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word)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a word.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not a mumbalin’ w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29:56Z</dcterms:modified>
  <cp:revision>53</cp:revision>
  <dc:subject/>
  <dc:title>PowerPoint Presentation</dc:title>
</cp:coreProperties>
</file>