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418-D125-4159-8FFF-4D31C6A5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07DE-39A8-4E9F-98D2-841C1BA6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1F1-11D7-4FA7-83BF-EC60C128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D73-4783-4DCD-99D3-C0514D27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05D0-51B7-475D-A621-60E6D190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42B-018C-4B93-BBB1-D0672E0C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926-A809-417C-AE0D-16816E24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6DE-BD18-41C1-B433-0BE97132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9F2F-D69F-406A-AC21-15AB3757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8DD9-CCDB-48DD-BBF5-B24767E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537-9A99-4C13-8743-5E25D159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B0B0-2056-4100-91BA-55C922A9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5146-3E62-4C8D-8436-F9B50901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or Overcoming Ad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5360" y="1919160"/>
            <a:ext cx="8153280" cy="301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ord, we pray not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for tranquillity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nor that our tribulations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may cease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Overcoming Adver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34640" y="1052640"/>
            <a:ext cx="3503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irolamo Savonarola, Italy, 15th c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003320"/>
            <a:ext cx="8839080" cy="48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we pray for thy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spirit and thy love,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that thou grant us strength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and grace to overcome adversity;</a:t>
            </a:r>
            <a:br>
              <a:rPr sz="4800"/>
            </a:b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     through Jesus Chri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6T15:03:52Z</dcterms:modified>
  <cp:revision>21</cp:revision>
  <dc:subject/>
  <dc:title>PowerPoint Presentation</dc:title>
</cp:coreProperties>
</file>