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D67-D1E6-44A2-B94C-5069447C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4982-B604-4A6F-A31F-0D0F5F21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289-9B0A-44F7-A313-46075025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3CB-5949-4A63-8F02-B7E620B5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781B-8B5C-4F2A-8A48-32475F5D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245-BD09-4858-9DCA-6326EA79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4F98-4313-471A-829B-21A8F34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D43-4AE6-4A8A-88CF-AB5E274F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C933-2009-4755-9340-A8062D61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534-8AD8-4F49-A005-ED5B53FB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506-BD9C-4405-8989-CAEA83CE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7FAF-3B7C-4D84-903D-8D901267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25F-5A2A-426B-B228-6CD84E0B7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ove, O Go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as Called Us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ussell Schultz-Widmar, 19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87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Your love, 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s called us he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all love fi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s source in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2 Russell Schulz-Widm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perfect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casts out f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love that Chri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makes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O gracious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 consecrat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at is lovel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od, and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less those who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your presence wai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every 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ir love re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God of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spire ou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al your w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ll we d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, Has Called Us He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join every husba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very w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mutual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25Z</dcterms:modified>
  <cp:revision>150</cp:revision>
  <dc:subject/>
  <dc:title>PowerPoint Presentation</dc:title>
</cp:coreProperties>
</file>