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354F-188C-4456-A7C8-1765160A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4BE2-FD03-4576-B822-F4D82D15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396-21E7-439D-8778-23A18FB5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438-7BF9-4596-BF32-4CF54C6D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C001-C2EE-4EE7-AC8F-83C76244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BAD-535A-422F-881A-B7FE0D3F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1323-9DAC-44F7-ABC0-E36F2DF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6E6B-CDC2-43E7-B0C2-B2754757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A4B-DFC0-42DE-BCA7-3C1F2DB8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D31-F107-48E7-8EC9-A4418BD9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FC9-E52E-4AA9-B421-B8CD3F2D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1E8-DAB9-4855-840D-5B9ED185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827F-9CA9-4202-A2A1-369805F7D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s Man and Woma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Were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Brian Wren, 1973 (Gen. 1:27; Jn. 2:1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41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As man and wom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were mad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be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fe beg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Then spread the tabl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lear the hall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day i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go d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tween us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oy be sha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every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augh and make mer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your frie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never end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 made us tw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two are on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for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omes to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child or par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usband, w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w Jesus liv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ave his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make our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ing 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celeb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him to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drink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e offers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makes the sim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oment sh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hanges wa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o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Jesus d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live ag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 praise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, 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 Man and Woman We Were Mad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an bring the da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clear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aits to wi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ears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us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what shall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lieving w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e cannot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59:06Z</dcterms:modified>
  <cp:revision>143</cp:revision>
  <dc:subject/>
  <dc:title>PowerPoint Presentation</dc:title>
</cp:coreProperties>
</file>