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FF1-F92B-4441-B1A7-AACA6865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455-2B3E-49E1-8A09-8C26C485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2FB-38B9-478F-95EB-297BBE96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7466-4404-4A98-808B-AAF53B0A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BFD-14BE-4217-A9BB-4BCA9A83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A29-CF0C-485C-8BBB-05981662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298-93B5-4FC5-B670-EBFB2478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CAB-163C-49DB-B517-D9C3962B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A9F-574B-4205-94B1-F7F521C3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32E9-5F37-4B3E-A1EC-47006ADB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D6E-9DDF-4445-AAB2-AE6F2F24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AC6-4597-4E5B-9470-86CBF759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8001-220B-487E-B99C-333320E30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undays of Eas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429000"/>
            <a:ext cx="8839080" cy="3121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you give us the joy of celebrating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our Lord’s resurre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© 1978 Lutheran Book of Wo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days of E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62400" y="914400"/>
            <a:ext cx="432612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The Lutheran Book of Worship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, 19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60020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Give us also the joys of life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in your service,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and bring us at last to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the full joy of life eternal;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9:02Z</dcterms:modified>
  <cp:revision>22</cp:revision>
  <dc:subject/>
  <dc:title>PowerPoint Presentation</dc:title>
</cp:coreProperties>
</file>