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2E7-D2DB-4EF2-BB50-84823DC9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C98-7A53-4A45-83FA-E61D8EFD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D62-0B1C-4B89-846A-9AC754E2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D44-774C-43E9-925E-BAD9D857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ECE-C558-4F46-BA36-CE6A183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2F1-3D26-41C4-BAB8-DFE85EC6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5B7-A8CF-4925-9EC2-8A276E83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9AF-A580-4275-816B-EE5B8066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8F16-4FDA-4A65-A688-FAABB992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E23-D9A4-42B6-BD91-1F76A68B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76D-1718-43EE-A0F8-B8027592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8A9-A0C5-4FCD-968F-2D291DF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962-BC06-471C-B446-3A676587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rist the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895480"/>
            <a:ext cx="8229600" cy="22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lmighty and everlasting Go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it is your will to restor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all things to Christ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5720" y="111456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2602080"/>
            <a:ext cx="8534520" cy="224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whom you have anointed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priest forever and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ruler of creatio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666880"/>
            <a:ext cx="8458200" cy="295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Grant that all the peopl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of the earth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now divided by th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power of sin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2514600"/>
            <a:ext cx="853452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may be united under th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glorious and gentl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rule of Jesus Christ, who lives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nd reigns for ever and ev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36:16Z</dcterms:modified>
  <cp:revision>22</cp:revision>
  <dc:subject/>
  <dc:title>PowerPoint Presentation</dc:title>
</cp:coreProperties>
</file>