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9BBD-1ED7-4C65-8D96-1F9C1CB2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24E9-5759-44BB-86AC-91E1B4E3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334A-0A1B-48E9-8AE5-AEA0A6FF3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D6B8-E67F-4BF6-B9E2-CB3C51B76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EDEC-41DF-47AF-B3B5-93F2A904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61E8-F0D5-4598-BA92-F091E66E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F390-0FDF-4958-BF21-33144BE3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6B43-ED11-4CC7-A513-F9C5F7CA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0BEF-581B-47A6-92F1-71F7CAE9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DAD2-CB78-4BA8-A025-388F221D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831A-F01D-45C2-94B6-51FD9263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3C80-DA73-4C7F-BF68-6E0DBEB5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8F84-74F1-4C3B-88F7-F2B604725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Wondrous Sight!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Vision Fa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5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 wondrous sight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vision fai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glory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hurch shall sha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ndrous Sight! O Vision Fai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28680" y="1573200"/>
            <a:ext cx="6689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Sarum Breviary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, 1495; trans. by John Mason Neale, 1851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(Mt. 17:1-8; Mk. 9:2-8; Lk. 9:28-3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which in joyfu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rains we ra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voice of pray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ymn of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Christ up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ountain show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 brighter th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un he glow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From age to ag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tale declar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with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ee disciples ther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ndrous Sight! O Vision F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 Moses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lijah mee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rd holds conver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gh and swe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The law and prophe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have pl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wo chosen witness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ndrous Sight! O Vision F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Father’s voi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out the clou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oclaims his on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n alou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With shining f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right arr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deigns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nifest that da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ndrous Sight! O Vision F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glory sh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theirs ab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joy in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perfect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And faithful hear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e raised on hi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this gre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vision’s myster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ndrous Sight! O Vision F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7:41Z</dcterms:modified>
  <cp:revision>17</cp:revision>
  <dc:subject/>
  <dc:title>PowerPoint Presentation</dc:title>
</cp:coreProperties>
</file>