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2DC-386B-4F72-B42F-F9CA0FFD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52E-5685-4DBB-B73E-2E113FFD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2F49-4E32-4728-9981-B3DDBCDBC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52EC-61DD-4355-9862-862137EE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1E5-8778-4CE5-98E5-8D1BC55A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FA7-238C-45C4-BF54-3C141372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E48-DD1A-4000-9A40-FF184D35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EE0-A63C-499C-9389-F9F08AA7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E57-E6BF-4B92-BA0C-26F72216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145-8B57-4643-8593-E05FC383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F0B-FB3C-4826-BAF5-4B34399E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39F1-96E9-4951-AB36-1A8E2C62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3D8E-6EBA-437B-B86E-74ABF6091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2296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he Fruits of This Cre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447920"/>
            <a:ext cx="9144000" cy="508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or the fru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is cre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ood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very n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0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Fruits of This Cre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57520" y="939960"/>
            <a:ext cx="382932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red Pratt Green, 19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plow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wing, rea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lent grow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we are slee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ture needs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’s safe-kee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n the j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ward of lab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ill is do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el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ive our neighb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ill i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Fruits of This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worldw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sk of c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hung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spai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arves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sha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ill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or the harves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g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ll inhe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Fruits of This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nd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stoun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trut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till confoun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t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ove has foun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b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40:21Z</dcterms:modified>
  <cp:revision>13</cp:revision>
  <dc:subject/>
  <dc:title>PowerPoint Presentation</dc:title>
</cp:coreProperties>
</file>