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FC7E-35CF-43C9-99BA-734E7A83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4724-F658-4C94-A01C-AE48ED98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2009-760E-4F3A-93FF-F87D42A5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6D48-E780-4A82-8DE7-531AF05E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C28E-1055-487C-B588-2F2D645D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4FD7-1F72-4076-B85E-EA3480D7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3946-E0E2-4FF6-87EA-24BFD440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949-8D81-4DC9-A1C2-8CDE2099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2C64-AAA5-435C-A68A-A3AF376F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6800-B2EB-46BD-BA95-63CC8064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5868-C894-4D60-8798-5D0E2530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80E5-1D40-4450-8694-F941DF6F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6975-3206-4216-B403-CB719D014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ake Time to Be Ho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ake time to be ho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eak oft with thy L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ide in him alway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eed on his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43080" y="990720"/>
            <a:ext cx="48578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William D. Longstaff, ca. 1882 (1 Pet. 1:16)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friend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childr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lp those who are wea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getting in noth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blessing to see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ake time to be ho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ld rushes o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end much ti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secr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Jesus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looking to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him thou shalt b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friends in thy conduc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likeness shall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ake time to be ho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him be thy gu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run not before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ever bet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joy or in sorr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follow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, looking to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trust in his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ake time to be ho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calm in th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ch thou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ach mot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neath his contro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Time to Be Ho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us led by his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fountains of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soon shall be fitt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service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1:34Z</dcterms:modified>
  <cp:revision>18</cp:revision>
  <dc:subject/>
  <dc:title>PowerPoint Presentation</dc:title>
</cp:coreProperties>
</file>