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8BA2-05AB-437F-92CD-C7AE71B5E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AE9C-824C-4A33-95AE-1EC0B5D1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FB2C-DD21-4017-B436-E6D028E3E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71FB-DB51-49E0-8D55-FCEFB45D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FE73-CE75-4565-B6BE-539CBE3A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A4AF-3776-4FDF-B3F8-7F5E9CC3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B4BC-EAF9-4CDC-9556-AE5B5500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C030-7D55-453F-B64B-F87229A7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1749-68AC-48B1-92FA-AC761F65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BE2D-EFE5-4618-984B-DA041479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9600-4CEE-48BD-81DB-B8DE65D5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D11E-045D-4FAB-A87F-A8F7C253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D5C2-6E54-4B7E-819E-230BB9244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86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nward, Christian Soldi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7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nward, Christian soldi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Sabine Baring-Gould, 186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Crowns and thron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peris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gdoms rise and wa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the church of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nstant will rem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ates of hell can ne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ainst that church prevail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have Christ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wn prom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at cannot fai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ward, Christian soldiers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Onward then, ye peop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in our happy thr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nd with ou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voic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triumph s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, laud, and hon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to Christ the 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throu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untless ag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n and angels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ward, Christian soldiers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, the royal Mast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ds against the fo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ward into batt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 his banners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ward, Christian soldiers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At the sign of triump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tan’s host doth fl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then, Christian soldi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to victor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ll’s foundations qui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the shout of prais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others, lift your voic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ud your anthems 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ward, Christian soldiers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Like a mighty ar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ves the church of Go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others, we are tread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 the saints have tr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not divid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one body w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in hope and doctr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in char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ward, Christian soldiers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rching as to w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cross of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ing on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ward, Christian Soldi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0:06Z</dcterms:modified>
  <cp:revision>80</cp:revision>
  <dc:subject/>
  <dc:title>PowerPoint Presentation</dc:title>
</cp:coreProperties>
</file>