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96A-C010-45CE-9F75-037C7F9F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1DB-C333-4502-AA10-A85A74EB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7A0-FA68-42E8-BC2C-D630FDAD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50D-681B-4225-9D35-1B4FB23A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F5E-6BFD-4974-A5B5-C7AF62B4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26B-8AE3-43F4-9FDD-7A4EB465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B5D-7D9D-4E55-9367-38C3E0FA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18A-1781-4B4D-ACAA-EEA4BF35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499-B165-4CE9-9E7C-2412E0F3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938-A13F-4180-9280-3B45BD32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A07-ABDC-43C8-9761-A6FCB30B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290C-AE8A-47AD-AE5F-7FE7952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E71C-BB28-472F-AB65-7678C73A1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Wellspring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ellspring of Wisdom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ear our cry.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way ahead i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parched and dry.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eek a source to satisf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Medical Mission S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Miriam Therese Winter, 19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29000" y="1863720"/>
            <a:ext cx="76863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thirst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nctifying wat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sdom for your faith-fil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ns and daugh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Dawn of a New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t to f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error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nuclear night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bearer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43120" y="1863720"/>
            <a:ext cx="56548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uddle clos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r f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t the lamp of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ittle hig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arden of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ifts ab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cred sig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all ar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hol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holy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79000" y="1863720"/>
            <a:ext cx="6784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learn, from all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expr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to grow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wing seeds of bl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Call to Compa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b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burning n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nurtu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empti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everyth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lspring of Wis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929600" y="1863720"/>
            <a:ext cx="5283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r emb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endeav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oclaim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nam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23Z</dcterms:modified>
  <cp:revision>39</cp:revision>
  <dc:subject/>
  <dc:title>PowerPoint Presentation</dc:title>
</cp:coreProperties>
</file>