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52D-89A7-4C19-B799-2F51221E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6D3-E9F9-41CA-85F0-768058B2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C1B-5541-43C0-B288-81850F87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485-D2BD-405C-9959-8C42DE32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F67-19D5-4B7E-B9AB-6EA27522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E5FA-FDE5-438E-B167-404F07AD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0CC-CFAA-46E9-BE96-9BF7343F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F9F7-F2A1-40D4-9344-642257D6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5BF-5039-4711-91C7-82B3CCB9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8E35-B19F-4371-9B7A-2FD34C8E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20A-D1BC-4176-A9F4-ACE16F19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92B-FC86-457B-A95D-E5F49FF1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1671-3938-4825-807B-3DE9685E2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e Garden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I Come to the Garden Alon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. Austin Miles, 1913 (Jn. 20:11-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I come to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arden alo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ile the de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s still on the ro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he bids me go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rough the voice of wo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is voi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me is ca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voice I h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alling on my ea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Son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 disclo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He speaks, and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und of his voi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 so sweet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irds hush their s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melod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he gave to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thin m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art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w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alks with m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tells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am his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e joy we sha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tarry the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ne oth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ever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I’d stay in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arden with hi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gh the nigh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round me be f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Gard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7:25Z</dcterms:modified>
  <cp:revision>72</cp:revision>
  <dc:subject/>
  <dc:title>PowerPoint Presentation</dc:title>
</cp:coreProperties>
</file>