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914-E4F5-482A-9034-045FF0D3A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04F-2241-4CCF-8FFD-95D0AFAE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156-DF03-4841-B2F6-949EE8E8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40F-B856-4FD2-BE7E-8C43C9E6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9C9-3F33-4A2F-A79E-7D28D2C9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D2CB-68AD-4CB4-B850-F1F7899B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208-CB04-4E03-81EF-5056FCA7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8B4-5902-4E13-84A9-57A3E02A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B4D-6E3E-4FB8-8A53-6F93DE05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E58-120D-4E56-B5C1-58D47343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327-4883-49AD-B8D3-707A22FF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2E1-38FE-4D87-B00C-0925B95C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91DD-6CD4-46FC-AB80-E3F109A97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oly Spirit, Com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nfirm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7652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Brian Fole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Holy Spirit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nfirm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truth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hrist makes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Faber Music,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 have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understa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your help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ft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Holy Spirit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nsol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s advoc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pl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ing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the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in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help we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Holy Spirit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new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your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us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oving prese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y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gifts you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Come, Confirm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Holy Spirit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ssess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the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ree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58:47Z</dcterms:modified>
  <cp:revision>91</cp:revision>
  <dc:subject/>
  <dc:title>PowerPoint Presentation</dc:title>
</cp:coreProperties>
</file>