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2A0-16B8-40BA-959E-11F5CB7B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463-7AB2-4DD8-AA83-7F722745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438-2239-4F73-ADD9-80D4E50D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73C8-4392-4FD4-9A11-A6BE2C17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688-AB55-4261-AE56-C90B21F9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EF3-BBA2-4323-9555-17FBA576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35E4-5531-4A2B-9A39-74FFDC2E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601-904F-4A86-BE1A-92084AD0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3661-5AFB-40EA-B85B-CEA87484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6D3-2968-4AD8-9A49-9AF3CF27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AFD-2023-40A6-93C1-07DDC24A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CB1-BE8A-4E4E-98DA-D79ED58D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9985-B399-47AB-87E0-4EE09583C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Sere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sabbath res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alile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calm of hills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e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7200" y="990720"/>
            <a:ext cx="415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Times New Roman"/>
              </a:rPr>
              <a:t>WORDS: John Greenleaf Whittier, 18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Jesus knel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hare with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ilence of etern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erpreted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op thy still de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quiet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all ou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ivings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from our sou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train and str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our ord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ves conf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eauty of th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37Z</dcterms:modified>
  <cp:revision>11</cp:revision>
  <dc:subject/>
  <dc:title>PowerPoint Presentation</dc:title>
</cp:coreProperties>
</file>