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6F0-0CBD-434E-AEFF-3789CACC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179-1AA0-4D47-8A3C-744CBF7C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03D-88F0-43D5-BDE4-8BE450F1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73FD-3552-462A-99CE-CC968F26B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B04-A716-4A3B-954C-A34F0740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97A5-7872-4A9C-A917-8928BD4B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2CD-2FF3-435B-8255-17ADCC80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570-6B03-418C-94F0-EDEF93EC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583-03BE-4FB6-8A3E-058972E3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20E-147F-4BD5-92E5-AAC332CE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B36-F436-4280-BE93-2FEFDAAD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8CE-D05E-43F6-86E4-0DC37735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4DF7-46A5-4569-8D80-78169104E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Rejoice, the Lord Is 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Rejoice, the Lord is King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Lord and King ador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ortals, give thank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ing, and triump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m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51160" y="1166760"/>
            <a:ext cx="444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Charles Wesley, 1746 (1 Cor. 15:51-5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esus the Savior reign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od of truth and lov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he had purg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stains, he too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seat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4382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His kingdom cannot fai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rules o’er earth and heav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eys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ell are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Jesus giv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hear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 up your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joice; aga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 say, rejoi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Rejoice in glorious hop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 the Judge shall co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ake his serva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p to thei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joice, the Lord Is K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soon shall hea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archangel’s vo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mp of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ound, rejoic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5:13Z</dcterms:modified>
  <cp:revision>55</cp:revision>
  <dc:subject/>
  <dc:title>PowerPoint Presentation</dc:title>
</cp:coreProperties>
</file>