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5863-99AD-4034-866C-470EB126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CFF8-E2AA-4FC2-A8E6-5CA6AD72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8734-7E02-44CF-90D4-992B8B24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682-934D-4480-8C53-A0F5A216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BB3D-2672-4740-B519-D0839AD6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F73C-2844-4FBF-BED1-52134F0E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1C2F-9919-4B92-A697-2339DE43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A6E7-F02B-4EC8-9B0B-7FE26997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E5B4-A7C6-48A7-AD81-A8E07941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5FE0-78EB-405D-B0FB-24698DCA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CA4E-66F6-4410-94B3-87728B30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D2F5-7C3A-44C1-A5D3-DF6A15B3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1B5B-F01C-45AE-834A-51BAC1D55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e, Sinners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o the Gospel Fe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: Charles Wesley, 1747 (Lk. 14:16-2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Come, sinne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the gospel feas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t every sou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 Jesus’ gu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thou, this mome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t his c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live for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o died fo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e need not o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 left behi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God hath bi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l human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Sent by my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 you I call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invitat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s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, all the worl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, sinner, thou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l things in Chri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re ready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Come, all ye sou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sin oppress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e restless wandere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fter re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e poor, and maim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halt, and bli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Christ a hear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elcome f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My message 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rom God receiv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e all may co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Christ and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let his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r heart constra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t suffer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die in v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Sinners, to the Gospel Fe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5. This is the ti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 more delay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is is the Lord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ccepted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7:12:17Z</dcterms:modified>
  <cp:revision>96</cp:revision>
  <dc:subject/>
  <dc:title>PowerPoint Presentation</dc:title>
</cp:coreProperties>
</file>