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28A9-2D9A-4321-A206-0C6222D5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995-39C8-4BAD-A7D3-6913295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56AF-34C3-487C-8C85-84975D445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AD1A-D8E7-4BF8-9268-4E8A5A14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9834-5360-496D-8FD5-9C7CA2C0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214-FBE5-4A67-892A-712A827A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207-BF83-4161-BDF9-EDAA1B9E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42E-A1CB-4667-A77D-FDE7B01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0AD5-CBEB-41E1-92AC-086ACA84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9AD-2EC3-4AE5-A508-C5253603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012-9C45-4153-A8C2-A1C5FFE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2377-8A3D-4004-8AF7-2650CEE0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A15-ED5D-432E-BCE3-E77875B6C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Pentecos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enantius Honorius Fortunatus; trans.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English Hymnal, 1906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0481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767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Bright an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keness of f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ose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wait your appea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wh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had foret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dden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iftly descend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y G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one in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orth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you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evenf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stical offe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uring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human sou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finite ri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Penteco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7:54Z</dcterms:modified>
  <cp:revision>83</cp:revision>
  <dc:subject/>
  <dc:title>PowerPoint Presentation</dc:title>
</cp:coreProperties>
</file>