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670A-DE26-448A-B205-5E1F2DB6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D63-7F82-4F64-944E-64ACDEE1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8BBD-710B-4B75-B0BF-042825AA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5DC-C95A-4E6C-BA6D-749B994D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E7A6-3C8E-499E-ACDF-2FD0DF06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EA26-57BA-4068-B3D7-417208A4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DA5-F32E-4DF8-B45B-67F9208B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DE02-07BD-4497-B761-17752AC4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32AC-DDF1-4354-84BE-0CE57687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42D5-D526-46CC-A3B4-614E53FF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0D92-DB74-4D1C-80B5-73EA90A2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D1E1-B492-4504-8ABD-CC31B58C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1E58-33E7-476D-97F0-E06912CFA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nticle of Mary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Magnifica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19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(Advent &amp; Gene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The glory of the Lor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shall be revealed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all flesh shall see it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Times New Roman"/>
              </a:rPr>
              <a:t>Response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Ma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6560" y="1600200"/>
            <a:ext cx="8210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Luke 1:46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55, ICET, rev. ELLE; Response, Isaiah 40:5, ada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774720"/>
            <a:ext cx="8610480" cy="5776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My soul proclaims the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   greatness of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my spirit rejoices in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God my Savior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who has looked with favor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on me, a lowly serva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003320"/>
            <a:ext cx="8610480" cy="486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From this day all generations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   shall call me blessed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the Almighty has done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great things for me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and holy is the name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of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28954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whose mercy is on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those who fear God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from generation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to gener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447920"/>
            <a:ext cx="8610480" cy="486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e arm of the Lord is strong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   and has scattered the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   proud in their conce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God has cast down the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mighty from their thrones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and lifted up the low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638280"/>
            <a:ext cx="8610480" cy="5592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God has filled the hungry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   with good things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   and sent the rich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   empty aw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God has come to the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aid of Israel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the chosen servan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828800"/>
            <a:ext cx="8610480" cy="457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remembering the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promise of mercy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the promise made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to our forebears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to Abraham and his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children for ever.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4:57:13Z</dcterms:modified>
  <cp:revision>30</cp:revision>
  <dc:subject/>
  <dc:title>PowerPoint Presentation</dc:title>
</cp:coreProperties>
</file>