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DA2-3BF7-4686-B096-A0096F5D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045-DA54-4810-B9FE-83BF450D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5A2-90E7-44A3-8E24-A00C626D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9807-5C42-45F6-B370-FDEA465A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DF6-7A3A-4E72-9B5A-3D40F4D96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EAA-40F9-4DA2-B378-CBCAB012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67B8-D3D6-4C13-9C62-66F58506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044-FACD-4D76-91AF-49B7231D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CA9E-EBAE-4A19-9B73-8EBBFD6B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A85F-A3B3-4337-932A-A486BEEB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15A5-FF9A-41C4-BDE5-C31C844F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2B49-A50B-43C9-86C5-95DC6D75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910B-434C-4D26-8F2D-45230F5D2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28600" y="228600"/>
            <a:ext cx="9372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l Shadda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167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 Elyon na Adonai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ge to ag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you’re still the sam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y the power of the na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Whole Armor Pub. Co.; administered by LITA 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Shadda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0040" y="1066680"/>
            <a:ext cx="58089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Michael Card and John Thompson, 198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374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 Shaddai, El Shaddai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rkahmka na Adonai;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e will prais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lift you high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 Shaddai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6:06:17Z</dcterms:modified>
  <cp:revision>40</cp:revision>
  <dc:subject/>
  <dc:title>PowerPoint Presentation</dc:title>
</cp:coreProperties>
</file>