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34D8-10CF-4085-BCF4-DC3CFA9C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46D2-5786-4C83-AD21-EF453424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DCD4-243E-4ECD-8B9F-73BF417D4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8705-2111-4469-91BF-6D2311E9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C893-2D0E-42AD-8A44-6C1522D9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198C-A1F5-4D4B-9FF0-197DAB51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DBD1-5CAC-45A8-9DF8-BC6CABF9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709-E4A1-4FDA-8B28-0D67EA7E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DF37-5FE5-4836-BCB9-2392BE71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F2C9-42C5-4276-AC97-93570D24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684A-144D-404B-95B7-7751DF9C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DD1D-BD6B-4EC9-B3CF-ADD7C59C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08E1-1F20-4BA6-9F9C-19A800E50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Victory in Jes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7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523880"/>
            <a:ext cx="9144000" cy="518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1. I heard an old, old story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how a Savior came from glory,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how he gave his life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on Calvary</a:t>
            </a:r>
            <a:br>
              <a:rPr sz="4900"/>
            </a:br>
            <a:r>
              <a:rPr b="1" lang="en-US" sz="4900" spc="-1" strike="noStrike">
                <a:solidFill>
                  <a:srgbClr val="ffff00"/>
                </a:solidFill>
                <a:latin typeface="Times New Roman"/>
              </a:rPr>
              <a:t>to save a wretch like me;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39 Eugene M. Bartlett, renewed 1967 Mrs. Eugene M. Bartlett,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by permission of Albert E. Brumley &amp; Sons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55240" y="1052640"/>
            <a:ext cx="32331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Eugene M. Bartlett, 19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bout the angels sing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e o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redemption sto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ome sweet d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’ll sing up the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ong of vict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victory in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avior forever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sought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ought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his redeeming bl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loved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re I knew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ll my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due him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plunged me to vict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neath the cleansing f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 heard about his groan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his precio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lood’s aton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n I repented of my sin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on the vict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victory in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avior forever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sought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ought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his redeeming bl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loved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re I knew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ll my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due him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plunged me to vict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neath the cleansing f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I heard about his heal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his cleans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ower reveal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ow he made the la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walk aga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aused the blind to s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en I cried, “Dear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ome and hea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broken spirit,”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omehow Jes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ame and brou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me the vict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906480"/>
            <a:ext cx="9144000" cy="467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victory in Jes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Savior forever!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sought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bought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his redeeming bloo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loved 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ere I knew h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ll my l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due him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plunged me to victor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neath the cleansing floo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I heard about a mans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 has buil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me in glo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 heard abou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treets of gol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eyond the crystal sea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ctory in Jesu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04:04Z</dcterms:modified>
  <cp:revision>20</cp:revision>
  <dc:subject/>
  <dc:title>PowerPoint Presentation</dc:title>
</cp:coreProperties>
</file>