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353E-29E0-4B2B-A2B5-87A3932A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2071-5103-4241-B965-84644585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2FE7-4520-4977-B742-5AB2D4B7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FB3-D744-468F-AA6D-1A964C98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240-CF08-4EEB-9427-D66668A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8025-8829-44B8-A797-D34A8360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8A5-110E-422C-B43D-2A5D74F6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C364-DFEB-4826-8A7E-0D90A52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FB8-C01E-40D5-951B-4CCCFEB6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6F9-F7A6-4D15-B486-B694000F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8B1-122F-4969-AA2E-31ED8615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263-C480-4001-B328-3AD4401D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B434-76D4-4CD0-A0DF-C004859A5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ock of Ages, Cleft for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Rock of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self in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6160" y="1139760"/>
            <a:ext cx="3451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ugustus M. Toplady, 17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ile I draw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eeting br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ine ey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lose in dea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 so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orlds unknow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thee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judgment thr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of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ft for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self in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 wat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blo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thy woun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de which flow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of s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uble c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 from wr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me pu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Not the labo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y h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n fulf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law’s dem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ld my ze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respite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ld my t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flow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for s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uld not ato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must sa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ou al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thing in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nd I br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mply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ss I cl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ck of Ages, Cleft for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ked,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 for dr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, loo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e fo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l, I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ountain fl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h me,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r I di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7:10Z</dcterms:modified>
  <cp:revision>10</cp:revision>
  <dc:subject/>
  <dc:title>PowerPoint Presentation</dc:title>
</cp:coreProperties>
</file>