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6BFD-4B9B-498A-873C-6357E4F7C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0FE5-43A3-4928-AD0B-951D83D6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401A-A562-4230-88E7-525F0A7F0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62EC-73FA-41E6-B278-CED99849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57CA-0EEB-473D-9A65-965C7AC9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7193-4A1F-4EAF-AFD2-E1C33510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699D-3A61-479A-AD54-B24EF059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7FA6-1A3B-4FB8-B100-9E0F29FA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E0EB-B807-4A77-B030-7EB0131F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7007-3561-4109-9015-85089D6D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5F44-83DC-4199-B996-D5D92F61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B3B3-6DAD-4782-A610-916D4C88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8A36-AAE4-447D-BD7B-A1C92B5D7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ftly and Tenderly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esus Is Ca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ly and Tenderly, Jesus Is Call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144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ORDS: Will L. Thompson, 1880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Softly and tender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esus is call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alling for you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for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hadows are gather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eathbeds are com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ing for you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fo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ly and Tenderly, Jesus Is Ca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home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Come home,)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home;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come home;)</a:t>
            </a:r>
            <a:br>
              <a:rPr sz="4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 who are wea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arnestly, tenderl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esus is call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alling, O sinn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ho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ly and Tenderly, Jesus Is Ca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O for the wonderfu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ove he has promis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romised for you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for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ugh we have sinn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has mercy and pard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ardon for you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fo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ly and Tenderly, Jesus Is Ca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home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Come home,)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home;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come home;)</a:t>
            </a:r>
            <a:br>
              <a:rPr sz="36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 who are wea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arnestly, tenderl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esus is call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alling, O sinn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ho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ee, on the portals he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aiting and watch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atching for you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fo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ly and Tenderly, Jesus Is Ca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home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Come home,)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home;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come home;)</a:t>
            </a:r>
            <a:br>
              <a:rPr sz="36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 who are wea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arnestly, tenderl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esus is call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alling, O sinn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ho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ly and Tenderly, Jesus Is Ca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Why should we tar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Jesus is plead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leading for you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for 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y should we ling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heed not his merci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ercies for you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for 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ly and Tenderly, Jesus Is Ca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home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Come home,)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home;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come home;)</a:t>
            </a:r>
            <a:br>
              <a:rPr sz="36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 who are wea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arnestly, tenderl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esus is call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alling, O sinn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ho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ly and Tenderly, Jesus Is Ca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Time is now fleet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moments are pass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assing from you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from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4:43Z</dcterms:modified>
  <cp:revision>105</cp:revision>
  <dc:subject/>
  <dc:title>PowerPoint Presentation</dc:title>
</cp:coreProperties>
</file>