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E467-96A0-45D6-9B0E-BB907A9E5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6CFE-9E92-4024-9EEF-C7B21FE8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7C15-62F2-434E-97E1-5EE45AF43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5C0D-282F-4EBE-8A36-8F9BE25D0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E218-F760-4CB9-9912-6B3E7F57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F397-7779-4345-81A0-34622FD5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C4CE-43DF-4818-90F0-C5C8D569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DB63-AEFE-45AE-AB8F-45926DB2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872B-4FBB-4B58-A1CE-39A9B663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EDAF-B69B-4B4C-8C38-2D766DED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99AA-B072-462E-8F97-1337FCA4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74C1-4FAB-4AA1-B1CD-B8D81E92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0C27-2175-4FB5-AC9F-FE6855E9B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SERVICE OF CHRISTIA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ARRI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9040" y="17524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ENT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81952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iends, we are gathered toge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sight of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witness and bless the joining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gether o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Christian marriag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Christian Marri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reet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9040" y="22096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GR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762120"/>
            <a:ext cx="853416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love her, comfort 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nor and keep 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sickness and in heal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orsaking all othe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faithful to 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long as you both shall liv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228600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marriage of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ites their famili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creates a new on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ask for your bless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Christian Marri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of the Families and Peop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9040" y="7621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SPONSE OF THE FAMILIES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AND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2284560"/>
            <a:ext cx="853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rejoice in your unio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pray God’s bless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pon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1003320"/>
            <a:ext cx="853416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all of you, by God’s gra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everything in your pow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uphold and care f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se two perso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ir marriag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wil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1828800"/>
            <a:ext cx="853416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be with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pra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Christian Marri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040" y="990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of all peopl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are the true ligh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llumining everyon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show us the wa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truth, and the lif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love us even wh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are disobedient.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sustain us w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Holy Spirit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rejoice in your lif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midst of our liv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1003320"/>
            <a:ext cx="853416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praise you f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presence with 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especially in this ac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solemn covenan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828800"/>
            <a:ext cx="853416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pra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ternal God, creator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eserver of all lif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uthor of salvati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r of all grac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Christian Marri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tercessory Pr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990720"/>
            <a:ext cx="84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TERCESSORY PR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ess and sanctif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your Holy Spirit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come now 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oin in marriag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ovenant of marriag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s established by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created us male and fema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each oth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ant that they may gi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ir vows to each o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strength of you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eadfast lov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nable them to gro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love and pea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you and with one ano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their days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1370160"/>
            <a:ext cx="853416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they may reach ou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concern and servi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worl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7621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THE MARRI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590920"/>
            <a:ext cx="853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name of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,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,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ake you,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be my wife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Christian Marri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xchange of Vows [husband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9040" y="17524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EXCHANGE OF V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have and to hol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is day forwa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better, for wors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richer, for poor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sickness and in health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2284560"/>
            <a:ext cx="853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love and to cheris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til we are parted by death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s is my solemn vow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2284560"/>
            <a:ext cx="853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name of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,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,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ake you,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be my husband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Christian Marri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xchange of Vows [wife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have and to hol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is day forwa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better, for wors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richer, for poor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sickness and in health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2284560"/>
            <a:ext cx="853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love and to cheris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til we are parted by death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s is my solemn vow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rings (symbols)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the outward and visible sig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an inward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piritual grace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Christian Marri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lessing and Exchange of Ring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9040" y="990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LESSING AND EXCHANGE OF 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his presence and pow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esus graced a wedd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t Cana of Galile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n his sacrificial lo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ave us the example f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ve of husband and wif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2284560"/>
            <a:ext cx="853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gnifying to us the un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tween Jesus Chri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his churc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ess, O Lord, the giv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se rings (symbols)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they who wear the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y live in your pe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4920" y="1735200"/>
            <a:ext cx="853416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continue in your fav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the days of their lif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,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 give you this r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a sign of my vow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ith all that I a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ll that I ha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honor you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2284560"/>
            <a:ext cx="853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name of the Fa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of the S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of the Holy Spir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1720" y="914400"/>
            <a:ext cx="596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DECLARATION OF MARRI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828800"/>
            <a:ext cx="8458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have declared your cons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vows before God and thi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ngregation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y God confirm your covena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ill you both with grac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1066680"/>
            <a:ext cx="8534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w tha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ve given themselv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each other by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lemn vows, with the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oining of hands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[and the giving and receiv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rings,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Christian Marri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eclaration of Marriag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9040" y="990720"/>
            <a:ext cx="8305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announce to you that the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husband and wif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name of the Fa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of the S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of the Holy Spir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1735200"/>
            <a:ext cx="853416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se whom God ha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oined toge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no one put asund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228600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have so consecrat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ovenant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ian marri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Christian Marri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lessing of the Marriag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9040" y="990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LESSING OF THE MARRI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e to give themselv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one ano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is holy covena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in it is represent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ovenant between Chri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his church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nd therefore your bless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pon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Nam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Name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they may sure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eep their marriage covenan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 grow in lo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godliness toge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1735200"/>
            <a:ext cx="853416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their home may b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haven of blessing and peac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6094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ENDING FO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281952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the Eternal keep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love with each o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that the peace of Chri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y abide in your ho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Christian Marri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ismissal with Bless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040" y="18288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DISMISSAL WITH BL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4920" y="2284560"/>
            <a:ext cx="853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 to serve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your neighb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all that you d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ar witness to the lo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God in this worl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that those to wh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ve is a strang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find in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enerous friend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638280"/>
            <a:ext cx="853416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grace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love of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commun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with you al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2101680"/>
            <a:ext cx="853416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peace of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with you alway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also with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Christian Marri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he Peac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040" y="990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PE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6094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DECLARATION OF INT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6668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ask you now, in the prese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God and these peopl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declare your intention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enter into un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one ano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rvice of Christian Marri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eclaration of Inten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DECLARATION BY THE MA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AND THE WO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the grace of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calls you into un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himsel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acknowledg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your baptis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9480" y="1219320"/>
            <a:ext cx="8534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have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be your husban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live together in holy marriag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762120"/>
            <a:ext cx="853416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love him, comfort hi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nor and keep hi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sickness and in heal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orsaking all othe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faithful to hi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long as you both shall liv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have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Na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be your wif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live together in holy marriag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4:00:19Z</dcterms:created>
  <dc:creator>First Baptist Church </dc:creator>
  <dc:description/>
  <dc:language>en-US</dc:language>
  <cp:lastModifiedBy>student</cp:lastModifiedBy>
  <dcterms:modified xsi:type="dcterms:W3CDTF">2001-10-26T17:53:07Z</dcterms:modified>
  <cp:revision>79</cp:revision>
  <dc:subject/>
  <dc:title>Psalm</dc:title>
</cp:coreProperties>
</file>