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E56-99B3-476B-8C5C-B0622055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C49-5EA1-41A6-B814-6C3A735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D23-3205-473F-8730-B363259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69B-618C-4791-862B-7D925D18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792-706F-40E5-9D60-8284FCF6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F41-608E-4845-A63C-5949BE1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429-30A3-4E52-BC72-40F0758F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AD1-6D71-4172-ADD4-0BEEB69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361-C515-493F-94BF-C17D4EA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910-4074-4045-ABC6-EBD413B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2F7-7E78-407B-B73B-6E60CB5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9D8-0F8B-4D62-B81A-8E2E5451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9D9C-B0A1-4AE9-91B4-3459FFE63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TIMOTHY 2:5-6; 1:15; 3: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8288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on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re is one mediat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me as a ransom for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hom we testif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Timothy 2:5-6; 1:15; 3: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722600"/>
            <a:ext cx="86104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 saying is su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worthy of full acceptance: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Jesus Christ came into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orld to save sinner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manifested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ndicated in the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n by ange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claimed among the natio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d in throug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n up in glor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eat indeed is the myst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gospel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03Z</dcterms:modified>
  <cp:revision>54</cp:revision>
  <dc:subject/>
  <dc:title>PowerPoint Presentation</dc:title>
</cp:coreProperties>
</file>