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D37-9D94-4308-AF77-86219B40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E2E-DD93-4947-92D6-31044A1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EF5-5F2C-41BA-89E8-3B853488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54A-0470-4FB4-B3EB-C2A15EBB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1A6-54FA-4541-9D57-ECDA1D88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D12-DBAB-44A5-A777-209AA44C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0F5-0368-4CB2-A148-4E905F6A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A8F-9423-4D24-BBF7-E5AE6D0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916-6C03-4DB8-A3E3-46A132B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6D4-1265-4CC6-B243-9073D4C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461-1288-4224-B876-07130BA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3A6-9CE3-420B-84C5-6C2AA75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D5D-6A1B-4255-99E8-F71ED46C0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MODERN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3880"/>
            <a:ext cx="8458200" cy="42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 Spirit of the Lord 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the one tru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and univers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hol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now decl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rn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 and People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inite in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mercy is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is wor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se will is ever dir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children’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f God and Son of m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ift of the Father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failing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ound of our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promise of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ance from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liv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5268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by we are kept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rpetual rememb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truth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d strength and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ime of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that this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nifest it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rvice of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set forth in the exam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ur blessed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kingdom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4:14Z</dcterms:modified>
  <cp:revision>40</cp:revision>
  <dc:subject/>
  <dc:title>PowerPoint Presentation</dc:title>
</cp:coreProperties>
</file>