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B22-862A-4F4D-B6F4-E4CFE0BA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622-49ED-4882-A9B2-38862EB3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091-1989-4931-A071-0A33192B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7DC-4160-4BB4-8CB5-36092075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B06-4163-425A-96E0-07AD4F47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F90-5C74-4215-A4BE-74806969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0F0-EB2A-4A93-8A1C-62CBC5E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85B-7591-4790-A2AA-DCB1F0E8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1AE-5BF7-4856-BBC5-47E5943C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D6C-B6E7-4B1D-BC09-6893BF32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C47-DC88-4E72-AD02-5DE1596C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679-6AC3-4B9E-B5B5-D27C028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82FC-E8A8-4D34-9B65-4367E3DE2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91916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eavenly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by thy love hast made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rough thy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st kept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thy love would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e us perfec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umbly confess tha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not loved th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all our heart and so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ind and streng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at we have not lov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anot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Christ hath loved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44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life is within our sou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our selfishness h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ndered the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ived by fai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resisted thy Spirit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eglect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ne inspira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give what we have bee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us to amend what we ar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in thy Spir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rect what we shall b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ou mayest come in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full glory of thy cre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us and in all peopl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ord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4320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ying is sur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thy of full accept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hrist Jesus cam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orld to save sinn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yone sins, we have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vocate with the Fath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the righteo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 is the expi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our sin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658880"/>
            <a:ext cx="853416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t for ours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also for the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whol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s be to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0:47Z</dcterms:modified>
  <cp:revision>60</cp:revision>
  <dc:subject/>
  <dc:title>PowerPoint Presentation</dc:title>
</cp:coreProperties>
</file>