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FB57-41C9-47B5-B985-A1DE51411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7D17-5E27-48DA-9815-153AB2165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E1BA-4A12-416F-BA97-7759D57B9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7DC6-FF1D-45B4-B125-1393CAAF0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5EF9-C901-46D5-964F-042F2EA78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8719-1929-4C20-94B9-391310B18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E07D-A02B-412B-ABB0-91AB558BE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3EC1-7034-4113-B174-A2F422081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7D6A-CEB9-4AAF-B5A8-4D2A5259A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9343-0F3D-4454-A5AB-39104CE5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C2CE-99AF-473B-AAF1-3811DBA6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5218-133D-4054-A299-89D41856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973DD-BCC3-4668-A05F-6245A97B11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A STATEMENT OF FAITH OF THE KOREAN METHODIST CHU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1676520"/>
            <a:ext cx="8763120" cy="4898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83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believe in one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reator and sustainer of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thing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ather of all nation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ource of all goodness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auty, all truth and lo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683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apt. © 1989 The United Methodist Publishing 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tatement of Faith of th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orean Methodist Chu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543800" y="380880"/>
            <a:ext cx="1295280" cy="7034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8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believe in Jesus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d manifest in the fles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ur teacher, exampl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Redeem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avior of the worl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919160"/>
            <a:ext cx="853416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believe in the Holy Spiri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d present with us fo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uidance, for comfor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for streng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believe in the forgivenes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sin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life of love and pray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in grace equal t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very ne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believe in the Word of G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ntained in the Ol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New Testamen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the sufficient rul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oth of faith and of practi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believe in the churc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ose who are united in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ving L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the purpose of worship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ervi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187280"/>
            <a:ext cx="853416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believe in the reign of G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the divine will realiz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human societ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in the family of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re we are al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rothers and siste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919160"/>
            <a:ext cx="853416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believe in the final triump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righteousnes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in the life everlasting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8:23:09Z</dcterms:modified>
  <cp:revision>31</cp:revision>
  <dc:subject/>
  <dc:title>PowerPoint Presentation</dc:title>
</cp:coreProperties>
</file>