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E98E-C550-4412-9467-E0CE53A3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BA67-6878-4C0E-9663-E97DDA0D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1307-6325-495A-8A87-7C6D7484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AA5E-55A2-49CE-8F52-9851BB49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A293-3B01-424A-9D00-643E7F18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C613-A7C0-43BC-8A15-5F0F6E32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6B4-06AC-43CD-8FB9-8865C151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4935-EC52-46C9-A2D6-7DA66B7E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EE2-83F5-40C3-90EE-7BCE40CA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63EF-B0BF-4695-B9BF-49C23775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024-954D-4E84-B400-8F41F0DB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F4D-C9CC-4685-8F0C-ABC0D0A0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783F-E2D8-49B7-BE78-36B69BEB9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CHRISTIA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RRI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9040" y="1752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NT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81952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iends, we are gathered toge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sight of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witness and bless the joining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gether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Christian marria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et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9040" y="22096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762120"/>
            <a:ext cx="853416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love her, comfort 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nor and keep 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ickness and in heal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saking all oth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faithful to 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long as you both shall l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228600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arriage of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ites their famil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creates a new on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sk for your bless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of the Families and Peop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040" y="7621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SPONSE OF THE FAMILIES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AND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rejoice in your un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pray God’s bless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003320"/>
            <a:ext cx="853416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all of you, by God’s gr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everything in your p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uphold and care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se two pers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ir marriag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1828800"/>
            <a:ext cx="85341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040" y="990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of all peopl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the true l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llumining everyon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how us the w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ruth, and the lif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love us even wh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disobedient.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ustain us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Holy Spirit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rejoice in your lif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midst of our liv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003320"/>
            <a:ext cx="853416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raise you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presence with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especially in this ac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solemn covenan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828800"/>
            <a:ext cx="853416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ternal God, creator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eserver of all lif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uthor of salv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r of all grac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ercessory Pr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990720"/>
            <a:ext cx="84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ERCESSORY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 and sanctif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your Holy Spirit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come now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oin in marria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venant of marria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 established b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created us male and fema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each o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that they may gi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ir vows to each 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strength of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eadfast lo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able them to gr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love and pe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you and with one an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eir day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370160"/>
            <a:ext cx="853416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ey may reach ou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concern and servi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worl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762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MARRI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59092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 you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be my wif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xchange of Vows [husband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9040" y="17524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XCHANGE OF V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have and to ho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is day forwa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better, for wor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richer, for poor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ickness and in health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love and to cheris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til we are parted by dea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is my solemn vo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ake you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be my husban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xchange of Vows [wife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have and to ho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is day forwa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better, for wor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richer, for poor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ickness and in health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love and to cheris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til we are parted by dea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is my solemn vo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ings (symbols)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 outward and visible sig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an inward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piritual grac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lessing and Exchange of Ring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040" y="990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LESSING AND EXCHANGE OF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his presence and p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graced a wedd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 Cana of Galil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his sacrificial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ave us the example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ve of husband and wif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gnifying to us the 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tween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is churc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, O Lord, the giv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se rings (symbols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ey who wear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live in your pe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1735200"/>
            <a:ext cx="85341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continue in your fav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e days of their lif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 give you this r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a sign of my vow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ith all that I a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that I ha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honor you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f the S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f the Holy Spir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1720" y="914400"/>
            <a:ext cx="596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ECLARATION OF MARR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828800"/>
            <a:ext cx="8458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declared your cons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vows before God and thi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gregation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God confirm your coven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ill you both with gra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106668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th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given themsel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each other b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lemn vows, with the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oining of hands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[and the giving and receiv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rings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eclaration of Marriag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9040" y="990720"/>
            <a:ext cx="8305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nnounce to you that the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husband and wif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f the S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f the Holy Spir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1735200"/>
            <a:ext cx="85341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m God ha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oined toge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no one put asund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228600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so consecra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venant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ian marri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lessing of the Marriag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040" y="990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LESSING OF THE MARR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 to give themsel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one an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is holy covena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in it is represen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venant between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is churc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d therefore your bless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Nam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ey may sure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eep their marriage coven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 grow in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odliness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1735200"/>
            <a:ext cx="85341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eir home may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haven of blessing and peac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609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ENDING F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81952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the Eternal keep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love with each o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at the peace of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abide in your ho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ismissal with Bless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040" y="1828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ISMISSAL WITH 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 to serve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your neighb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ll that you 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ar witness to the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God in this wor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at those to wh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ve is a strang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find in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enerous frien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638280"/>
            <a:ext cx="853416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ov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omm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with you a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2101680"/>
            <a:ext cx="85341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eac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with you alway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Pea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040" y="990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609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ECLARATION OF IN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6668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sk you now, in the pres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God and these 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declare your intentio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enter into 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one ano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eclaration of Inten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ECLARATION BY THE MA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AND THE 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grace of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calls you into 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himsel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acknowledg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baptis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1219320"/>
            <a:ext cx="8534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hav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be your husba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live together in holy marriag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762120"/>
            <a:ext cx="853416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love him, comfort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nor and keep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ickness and in heal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saking all oth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faithful to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long as you both shall l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hav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be your wif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live together in holy marriag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26T17:53:07Z</dcterms:modified>
  <cp:revision>79</cp:revision>
  <dc:subject/>
  <dc:title>Psalm</dc:title>
</cp:coreProperties>
</file>