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113-5ECB-4ECE-8734-29E8E583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8DE-88DB-4B22-B985-DB808664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E60-9B3D-4DF5-ADD8-06547100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481-FD15-45D1-8329-3707C929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B65-9B5A-4E7B-BF47-01A254BC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FF6-943B-42F2-97F9-715522D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10E-8C5E-4892-8597-2A5B09B7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AA7-F7DF-4782-A00A-61FE9A50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79C-15E0-4EAC-86DE-8E841322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F80-5DDB-4535-B5BC-5A24EB24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30F-AEF5-4269-A2B8-A9EB9BCC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847-52DF-4884-92A9-F3D65172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5DEA-CB81-485C-A06F-3572A7C68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FFIRMATION FRO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OMANS 8:35, 37-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600200"/>
            <a:ext cx="8458200" cy="470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separat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ve of Christ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tribulation or distr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persecution or fami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nakedness or peril or sw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rmation from Romans 8:35, 37-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690560"/>
            <a:ext cx="853416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things we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than conquero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One who loved u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82080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sure that nei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th nor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angels, nor principaliti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things pres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things to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powers, nor he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dep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53416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anything el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all cre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be able to separat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ve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hrist Jesus our Lor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nks be to Go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6:46Z</dcterms:modified>
  <cp:revision>46</cp:revision>
  <dc:subject/>
  <dc:title>PowerPoint Presentation</dc:title>
</cp:coreProperties>
</file>