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61D-CE03-45DD-966A-5AEAC7B3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34B-49C6-4BBC-A097-3CCE4C99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282-717C-4134-A9D9-B99724F5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1BB-4814-4D19-B790-E40B1BEC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60E4-6F45-4E54-8F22-51E14B72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90CE-BD7A-4694-864C-8C585172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5ED5-E3AD-4DC9-B9B1-53E869D5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8F82-3EE0-40FF-9DF4-DE5DA784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38C1-CBF5-4DBD-AD75-41C0979C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8655-7EBA-4777-A7C9-6C9E70E0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CEA8-6D1A-4B33-AA1F-3F430E64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774-DB7B-45D2-80A1-993EAA22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3EB8-E914-4F31-848E-BD3F1CC9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360A-E0F1-4DA5-B380-5770FD5A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6B39-6970-4F67-9C0E-2BEBCBBA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573C-721D-4A3D-BBC1-3126A49A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F7D4-D68F-4D47-A310-1E3342D8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94A-F6D1-44A7-9439-43583EC8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979-DD34-49D0-BB6D-D15B8C7D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8BC6-6C5C-47A7-B0D4-3299541F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9D7-66A6-44C1-915C-934F32C1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B76-4E14-4615-A011-E19716E2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BC7-9E19-4D8B-9B27-396028AE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0B6-E534-43D7-9A0E-83026340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C107-1CA9-4F66-B375-FC1D9AD7F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5735-8895-44CC-83BD-6FE1A4B76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380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THE APOSTLES’ CREED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TRADITIONAL VERS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0" y="2284560"/>
            <a:ext cx="876312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 believe in God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ther Almighty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maker of heaven and earth;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ostles’ Creed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tional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881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101520"/>
            <a:ext cx="9144000" cy="51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Jesus Christ his only Son our Lord: who was conceived by the Holy Spirit, born of the Virgin Mary, suffered under Pontius Pilate,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was crucified, dead, and buried;</a:t>
            </a:r>
            <a:endParaRPr b="1" lang="en-US" sz="5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22860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ird day he rose from the dead; he ascended into heaven, and sitteth at the right hand of God the Father Almighty; from thence he shall come to judge the quick and the dead.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30492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believe in the Holy Spirit, the holy catholic church, the communion of saints, the forgiveness of sins, the resurrection of the body, and the life everlasting. Amen.</a:t>
            </a:r>
            <a:endParaRPr b="1" lang="en-US" sz="5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380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 APOSTLES’ CREED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RADITIONAL VERS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80880" y="2284560"/>
            <a:ext cx="838224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elieve in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r of heaven and earth;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ostles’ Creed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tional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1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04920" y="455760"/>
            <a:ext cx="853416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only Son our Lord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as conceived by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rn of the Virgin Ma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ffered under Pontius Pilat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crucified, d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uried;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hird day he r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d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ascended into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itteth at the right h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God the Father Almight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nce he shall come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dge the quick and the dead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elieve in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mmunion of sain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orgiveness of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esurrection of the bod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ife everlasting. Amen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2-05-20T12:26:17Z</dcterms:modified>
  <cp:revision>25</cp:revision>
  <dc:subject/>
  <dc:title>PowerPoint Presentation</dc:title>
</cp:coreProperties>
</file>