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3DF-2B84-4B33-926D-23F57C93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CE8-46F3-4633-942C-A1205E8E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ACA-9770-45D0-9827-A9015422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50E-A24A-4571-8345-79621789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416-C283-49C8-99CE-E11BA695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040-1D69-4AA9-97F4-887D4BA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BC2-3B81-48F4-82D8-96B7ACBF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2E4-2F14-46E0-BDE7-7402206B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076-82FD-4E6F-A715-72BD121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D6E-7689-4064-9CB0-D629C56C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0DD-3B99-4449-AEAF-DA6AB21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B76-80F5-4752-BFB2-68A2B53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0348-BB27-418D-B86D-12B3C653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91916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avenly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by thy love hast made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rough thy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t kept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thy love would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us perfec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umbly confess tha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not loved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all our heart and so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ind and streng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ano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Christ hath love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life is within our sou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our selfishness h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ndered the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ived by fai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sisted thy Spiri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eglec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ne inspir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what we have be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to amend what we ar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th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rect what we shall b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ou mayest come in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ull glory of thy cre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us and in all peop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ord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4320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ying is sur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thy of full accept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hrist Jesus cam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 to save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yone sins, we have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vocate with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the righteo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 is the exp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our si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t for ours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also for the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whol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0:47Z</dcterms:modified>
  <cp:revision>60</cp:revision>
  <dc:subject/>
  <dc:title>PowerPoint Presentation</dc:title>
</cp:coreProperties>
</file>