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FF4-DDC5-4AC2-BE2B-A8971142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439-7F7D-4703-8D31-738C3A1D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A4F-3CE5-43E8-9357-82D82F6B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8ED-F13E-48E1-9184-59D081CD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038-A959-4C61-969B-B3CDCE4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29F-317D-4523-BD3B-606B8E82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0B7-67E9-407E-BCC9-F587C290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0C3-994B-45DA-A466-763CEBA7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433-1E6E-4094-AB97-1430BD51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F4C-B2AE-49F2-BF5D-D7CBD2A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85D-084A-4380-AC21-C2C20A2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FF9-5A79-4D33-A72A-0B5BA5D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324-EFD8-456A-9DE2-B10BC92F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mighty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erred and straye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y ways like lost sh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ollowed too mu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evices and desir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our own heart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offended again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holy law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left un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 ou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ave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things which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ght not to have 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ou 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upon u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are thou thos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confess their faul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47636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store thou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are penit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ording to thy prom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clared in Christ Jes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grant, O 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his sak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hereafter live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ly, righteo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ber lif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 of th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ly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927000"/>
            <a:ext cx="853416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confess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is faithful and ju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ill forgive our si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leanse us from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righteous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30:01Z</dcterms:modified>
  <cp:revision>58</cp:revision>
  <dc:subject/>
  <dc:title>PowerPoint Presentation</dc:title>
</cp:coreProperties>
</file>