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281B-FCE4-4502-9D3F-0B8587ADF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F6B1-E623-44FB-9269-9C48AEE2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CB06-9D72-4A51-B184-36FD8654E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3734-D2A8-472C-89B0-20D9415EC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F9F6-A8E7-4928-B3D7-CD808864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9B0C-1C3E-4FA5-BA6E-A0A89992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330D-ABB4-4D48-A424-211A8E93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B5D0-B288-4630-9E3E-9A6A3D70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9484-332B-4F31-8E0F-AD5F9D1C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3964-A707-4C22-BBB4-ABCFC24A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39F4-4B08-4DF2-AA35-6CBB12AE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C2DE-D71B-43E1-AF97-08021960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AACC-6E00-4DB1-A1F8-1B56A9100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HE WORLD METHODIST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SOCIAL AFFI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1600200"/>
            <a:ext cx="8458200" cy="494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eator of the worl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of all peopl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n Jesus Chri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carnate among 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died and rose agai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© 1986 World Methodist Counc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World Methodist Social Affi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38880" y="380880"/>
            <a:ext cx="16002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8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ommit ourselves individual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s a communit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way of Chri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1552680"/>
            <a:ext cx="861084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ake up the cros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seek abundant lif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all humanit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struggle for peace w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ustice and freedom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1003320"/>
            <a:ext cx="861048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risk ourselves 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aith, hope, and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aying that God’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ingdom may co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y kingdom come on ear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it is in heaven.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370160"/>
            <a:ext cx="8534160" cy="413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n the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esent with us to guid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rengthen, and comfor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believ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, help our unbelief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rejoice in every sig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God’s kingdom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upholding of huma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ignity and communit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every expression of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ustice, and reconciliatio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each act of self-giv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 behalf of other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abundance of God’s gif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ntrusted to us that all m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ve enough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1735200"/>
            <a:ext cx="8458200" cy="33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all responsible use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arth’s resourc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lory be to God on high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on earth, pea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8208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onfess our si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dividual and collectiv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silence or action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the violation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uman dignit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ased on race, class, ag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x, nation, or faith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the exploita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peop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cause of greed and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differenc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the misuse of pow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personal, communa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ational, and international lif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the searc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securit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those military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conomic forc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threaten huma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xistenc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638280"/>
            <a:ext cx="8534160" cy="559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the abu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echnolog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ch endangers the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ll life upon 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, have merc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, have merc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, have merc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8:26:06Z</dcterms:modified>
  <cp:revision>44</cp:revision>
  <dc:subject/>
  <dc:title>PowerPoint Presentation</dc:title>
</cp:coreProperties>
</file>