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4F5-BC49-4F0C-9752-88F38F6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C73-DEDC-418B-B88A-8BB2728F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451-54CE-4976-8DB6-04E04B2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F71-5025-47E5-8385-7DF50AB9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427-17F3-4983-8A05-AC1F581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BC0-8004-4DA9-BAD1-0F5947B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B84-1B34-4FF3-AA6C-7C5E93D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8EC-D72B-4C1D-8F5C-C2670C01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A9E-CA16-43A8-8BF2-AEA7E39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B03-8F47-4342-9A73-40D9F3D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310-FB3B-484D-A689-38A63DCB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745-C15C-48AA-B12D-985BA13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656-7AF4-43AB-8BF1-339795F1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9051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cumenical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5240" y="914400"/>
            <a:ext cx="39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CUMENICAL 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1916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us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the time of tri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3:00Z</dcterms:modified>
  <cp:revision>19</cp:revision>
  <dc:subject/>
  <dc:title>PowerPoint Presentation</dc:title>
</cp:coreProperties>
</file>