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376-736D-4670-B0CD-7AA9198A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76E-56E2-49D9-8B99-57391E3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D35-4B98-439A-9D77-65EC69D3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AC0-378C-4B4F-A039-ED9A798E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361-BD0F-4390-A7FE-B9C8FCAA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F01-FDB6-402A-98D9-95E94A20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EE6-102A-4DE4-B260-737F2C44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BDA-1FB5-4F59-8B97-13004E37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9AF-6FEB-4D48-94B2-0EFB776E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DEA-9CE3-4EDE-B70F-0AFF996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E6B-D2C9-4B7B-9BD8-0B3D3F44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EDD-862F-4F79-BBA8-0A66B9DB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2975-7335-4931-9216-2F9E98754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DEATH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SUR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447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NT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9718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ying, Christ destroy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sing, Christ restored our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ill come again in glo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ather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1337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e together in grie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knowledging our human los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d grant us gr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n p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may find comfo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orrow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eath resurre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1772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od, who gave us bi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ever m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y to h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 we are to pra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know our nee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we ask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ignorance in ask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to us now your gr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as we shrink bef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ystery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may s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ight of eterni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ak to us once mo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solemn messa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life and dea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us to live a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prepared to di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hen our days here a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mplished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able us to die as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go forth to li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that living or dy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life may be in you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at nothing in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in death will be abl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arate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your great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Christ Jesus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terna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praise you for the gre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pany of all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have finished thei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urse in fa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now rest from their lab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praise you for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to u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we name in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ts before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pecially we praise you f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m you have gracious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ceived into your presenc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o all of the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your pe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in baptism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on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in Christ may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clothed with glo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perpetual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ine upon them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lp us so to belie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re we have not se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your presence may le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 through our year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ring us at l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the joy of your ho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 made with han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eternal in the heaven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God, before you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ts are op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rom you no secre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hidden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bring to you 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hame and sorr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our si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nfess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orgott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our life is from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unto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either sou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done your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been tru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our hear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our speech, in our live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we ought to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us and heal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ising us from our si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a better lif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end our d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pe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usting in your kin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o the en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unity of the Holy Spiri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God, now and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in a position to condem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ho died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ose fo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reigns at God’s right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rays for u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be to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gives us the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our Lord Jesus Chri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167652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of the depths I c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o thee, O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hear my cr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ine ears be attenti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voi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upplic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salm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SAL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and now, dear frie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God’s children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 shall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not yet been revealed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thou, Lord, shoul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rk iniquiti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ho could stand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re is forgiv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ou may be fear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ait for the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wai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his word do I hop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oul waits for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re than those who wat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mo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Israel, hope in the Lor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with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great mercy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him is plente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mp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 will redeem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ll their si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9810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is my shephe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shall not wan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maketh me to lie d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reen pasture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leadeth me bes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ill wat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salm 2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2193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ROCLAMATION AND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restoreth my sou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leadeth me in the path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his name’s sa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a, though I wal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the valley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dow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fear no evi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u art with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rod and thy staf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comfort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 preparest a tab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presenc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ne enemi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 anointest my head with oi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cup runneth o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goodness and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follow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of the days of my lif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 will dwell in the hou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Lor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0968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us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love never end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all else fai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till are G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END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40" y="1219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04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y to you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another in our ne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all, anywhe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mourn with us this d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e know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he appea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be like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e shall see him as he i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ose who doubt, give ligh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ose who are weak, streng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who have sinned, merc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all who sorrow, your pe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true 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ve with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hold one another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our ways we trust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r church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offer honor and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 ev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60020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all that you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us is your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first you ga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w we g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ck to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ms of your merc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up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your peo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us also, and rais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a new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us so to love and ser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in this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enter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joy in the world to c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your h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erciful Sav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mend your serv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cknowledge, we humb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seech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heep of your own f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amb of your own floc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inner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wn redeem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eiv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nto the ar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merc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the blessed re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everlasting pe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to the glorious compan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saints of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love, we thank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ll with whic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blessed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to this da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 of Thanksgiv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1219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 OF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have this hop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rify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Christ is pu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gift of joy in d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alth and streng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the gifts of your abi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nce and prom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days of pain and grief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ise you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me and frie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our baptis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place in your chu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all who have faith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ed and di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bove all else we thank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Jes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knew our grief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died our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ose for our sak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 lives and pr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u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he taught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w we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ank – The Lord’s Prayer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missal With Ble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3716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said, I am the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am lif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believe in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though they di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t shall they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oever live and belie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e shall never di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Word of Gr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04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WORD OF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Alpha and Omeg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beginning and the 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 and the las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died, and beh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m alive for evermor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hold the ke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ll and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I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all live also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iends, we have gathered he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prais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witness to our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celebrate the lif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Death and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e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858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8:03:23Z</dcterms:modified>
  <cp:revision>95</cp:revision>
  <dc:subject/>
  <dc:title>Psalm</dc:title>
</cp:coreProperties>
</file>