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C8D9-3C7F-489E-B124-5D732A603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1345-CDAB-4459-AD05-5EB9A3C3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B77D-E0B5-4AF9-9909-E9B442A1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71F0-CD95-452B-9F76-F8A23F92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1277-3313-4607-B5F6-5CC1D668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71C8-901D-4608-BF38-255481FD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9FC1-3A04-4822-B0BA-AEA3A665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232E-1489-4338-AAD6-F791C0D5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C16D-A8A2-4A16-92A1-49865AF2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2378-93AC-439B-911B-4B56247A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81B2-3616-40F6-8C05-017F5ED9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EDD5-1389-4E6F-94A0-932B181B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5073-A4C2-409E-ABD4-AC91DA45A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HE APOSTLES’ CREED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ECUMENICAL VER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284560"/>
            <a:ext cx="838224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believe in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ather Almigh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eator of heaven and ear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postles’ Creed –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umenical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38880" y="380880"/>
            <a:ext cx="16002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8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believe in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is only Son, our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was conceived by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orn of the Virgin Mar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ffered under Pontius Pilat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s crucified, di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as burie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descended to the de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 the third day he rose again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ascended into heav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seated at the right h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Fa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ill come again to judg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iving and the dead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believe in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holy catholic churc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mmunion of saint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orgiveness of si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resurrection of the bod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life everlasting.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19:54Z</dcterms:modified>
  <cp:revision>25</cp:revision>
  <dc:subject/>
  <dc:title>PowerPoint Presentation</dc:title>
</cp:coreProperties>
</file>