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E891-E2FB-4DCF-B695-B3F2BDDC2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ervice is for groups as they end their day in pray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lamation of the Light – A candle may be lit in the midst of the community.  The following may be sung or spok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these prayers, all may sing: “Hear Us, O God”, “Jesus, Remember Me”, “Let Us Pray to the Lord”, “Remember Me”, or “This Is Our Pray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E199-CC6B-4365-8786-B851C41A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F99B-632B-474A-A605-B0231036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61A2-4059-4894-84C3-AB65467B3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83AF-12E5-4B55-8E8C-BC5A38FD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C3AE-A9CF-4735-99BB-66064CFF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1E87-5736-40B5-88CE-4465862C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A929-F726-493A-9DD4-68DEECD1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375D-2C12-40D4-878D-BDEE6D75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299A-C5CC-4044-AA5A-733B35E9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F842-29EB-4B9A-8CDB-B23F287B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B9B0-68C3-441D-8BE0-DFC095D0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A055-4CE7-4A7D-A779-301771B7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8450-3F93-4FF4-BE33-4AF626FEC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 ORDER FOR EVENING PRAIS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PR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971800"/>
            <a:ext cx="85341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ght and peace in Jesus Chris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be to Go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rder for Evening Praise and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oclamation of the Ligh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0574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CLAMATION OF THE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447920"/>
            <a:ext cx="853416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hurch universal–i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aders, its members, it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ission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1447920"/>
            <a:ext cx="85345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mmun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saints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454480" y="276876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2133720"/>
            <a:ext cx="87631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race of Jesus Chris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nfold you this night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 in peac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be to Go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19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L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838080"/>
            <a:ext cx="85345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praise and thank you, O God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you are without beginni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ithout e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Christ, you creat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hole worl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preserve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made the day for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rks of ligh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night for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freshment of our min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ur bodi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eep us now in Chris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nt us a peaceful even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night free from si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ring us at la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eternal lif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003320"/>
            <a:ext cx="853416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Christ and in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offer you all glo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nor, and worship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and for ev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990720"/>
            <a:ext cx="883908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gether, let us pray f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eople of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congregation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447920"/>
            <a:ext cx="853416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 suff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ose in trouble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676520"/>
            <a:ext cx="853416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ncerns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local community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523880"/>
            <a:ext cx="853416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orld, its peop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ts leaders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n your mercy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our pray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26T18:16:51Z</dcterms:modified>
  <cp:revision>100</cp:revision>
  <dc:subject/>
  <dc:title>Psalm</dc:title>
</cp:coreProperties>
</file>