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641-6F21-4F9B-B558-0A27F391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C57-5A6D-469F-B0F1-4A5BEE2C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109-1BAB-4EF1-8970-8E544B47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DBA-5178-4271-95F7-3B4216DE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CC7-83CB-4B0B-8532-219792FC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3DA-09CE-423A-82D2-B496E0E2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F09-C9D2-4DCE-BD33-9620156C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5D6-8D92-4CBB-9CC5-647B3D0E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4FA-25C8-4729-9F6C-1B1969CC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5FA-2908-42A7-9D44-8DF3E7C3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FF9-3021-47C3-96E4-CED49DB9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772-D129-4737-BDBD-9BF54A64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35B7-3021-41DF-8E10-198E0DD06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1371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Father, who art in heaven, hallowed be thy name. Thy kingdom come, thy will be done on earth as it is in heaven.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115000" y="68580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287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ive us this day our daily bread.  And forgive us our trespasses, as we forgive those who trespass against us.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3808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lead us not into temptation, and deliver us from evil.  For thine is the kingdom, and the power, and the glory, forever.  Amen.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2280" y="2209680"/>
            <a:ext cx="88394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Father, who art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llowed be thy nam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kingdom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ill be d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as it is in heav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518480" y="990720"/>
            <a:ext cx="6112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trespass against us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ever.  Am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2280" y="1676520"/>
            <a:ext cx="89917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Father, who art in heaven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hallowed be thy na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y kingdom come, thy will b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n earth as it is in heaven.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2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trespass against us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04920" y="3808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ever.  Am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1-06T02:43:35Z</dcterms:modified>
  <cp:revision>22</cp:revision>
  <dc:subject/>
  <dc:title>PowerPoint Presentation</dc:title>
</cp:coreProperties>
</file>