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786-0647-4A15-9291-137FF384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3CA-41AC-41CF-95EA-917FF1E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A5B-7802-4F60-A1D9-30838760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3D8-E90D-43F3-8869-C88112BF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76C-D0E7-4833-9F71-3DA96A6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E30-DF57-41D3-A061-41B2570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143-8FCD-46E9-B85E-0565143D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131-FA71-4040-B33C-C37EA28F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CA2-B06C-4014-BC20-7D2657D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687-E5C7-4E7B-B965-6A09CFEE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DCD-423D-48C8-9EB3-8EC7B4FC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AB6-E3C9-4515-BD31-4CFF410A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ABAF-226D-4813-B05D-096BD9466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STATEMENT OF FAITH OF THE KOREAN METHODIST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76520"/>
            <a:ext cx="8763120" cy="489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and sustainer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th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 of all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urce of all goodnes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auty, all truth and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atement of Faith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rean Methodist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380880"/>
            <a:ext cx="129528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manifest in the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teacher, examp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Redeem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vior 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present with us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idance, for comfo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or streng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forgive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life of love and pray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grace equal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y ne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Word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ained in the 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ew Testamen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sufficient ru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th of faith and of pract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are united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ing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purpose of worshi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reign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he divine will realiz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human socie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family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we are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thers and sis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in the final triump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the life everlasting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3:09Z</dcterms:modified>
  <cp:revision>31</cp:revision>
  <dc:subject/>
  <dc:title>PowerPoint Presentation</dc:title>
</cp:coreProperties>
</file>