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EF9-972F-499D-94C0-811F8E63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04D-07ED-4359-B040-3A60C607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7F4-CAC2-44A3-9F9B-6BCC30FF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BAE-5D37-4476-AE6B-A97463F1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0AC-83C7-43F1-B0CF-20B2D808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071-654A-4168-BC7A-397EF5F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98E-185A-4A48-BCAE-D7BCA0A0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8D7-0AF5-418A-9CC1-EB2C588B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238-47AB-4FDA-88B9-FB2CE4AA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6EF-049E-4442-9045-66B67E9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91D-ACBE-4318-A31C-1A317BC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B04-7477-4E7B-AAB9-A9906FC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9B61-539F-4CF8-A542-1A2E7D4F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STATEMENT OF FAITH OF TH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NITED CHURCH OF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444760"/>
            <a:ext cx="8763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not al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ive in God’s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atement of Faith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ed Church of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5638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permission of The United Church of 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created and is creat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come in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d mad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econcile and make ne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orks in us and oth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trust in Go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called to be the church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celebrate God’s prese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serve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k justice and resist ev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proclaim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fied and ris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judge and our ho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ife, in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ife beyo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with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not al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2:11Z</dcterms:modified>
  <cp:revision>37</cp:revision>
  <dc:subject/>
  <dc:title>PowerPoint Presentation</dc:title>
</cp:coreProperties>
</file>