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4D3-0463-4CA9-90A5-52566BD4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DB0-8970-41EA-9FC9-237929F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394-8470-4B6A-B248-A02BF452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449-7F40-4322-B9A9-246167F9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D05-F49D-49E3-91F9-D3120B01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3D9-F9DA-45A7-A813-1078C930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280-4DD7-475E-BC07-5FCD9D3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942-6DDE-437D-80DE-6072DDB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1A9-0F97-4D24-AE25-CDE31CC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944-E684-4BD9-AFB4-93B4EAF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E42-0FA4-4977-9956-0E9B29E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8C6-C01D-4468-A01F-D5EDE9B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B21-55CB-41C2-8F58-39D481D9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OMANS 8:35, 37-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Chris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tribulation or distr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persecution or fam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nakedness or peril or s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Romans 8:35, 37-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90560"/>
            <a:ext cx="85341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ings w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han conquer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One who loved u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sure that nei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th nor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gels, nor principal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to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owers, nor he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dep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ything el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be able to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46Z</dcterms:modified>
  <cp:revision>46</cp:revision>
  <dc:subject/>
  <dc:title>PowerPoint Presentation</dc:title>
</cp:coreProperties>
</file>