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4712-D8C8-4B2D-8D09-DFB59EB8C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rvice is for groups as they begin their day in pr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o Praise and Prayer – Sung or spok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or other prayer of thanksgiving may be sa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or other prayer of thanksgiving may be sa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or other prayer of thanksgiving may be sa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ese prayers, all may sing: “Hear Us, O God”, “Jesus, Remember Me”, “Let Us Pray to the Lord”, “Remember Me”, or “This Is Our Pray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FB4-12F7-4A60-A7A6-A91B0958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01E-49B5-47F8-88B5-16BB7CA8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0E6-37D0-4026-A360-020D8D51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E0E-6740-4CB9-A42C-976F5F43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189-614A-4E54-8D92-83946D2B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CBB-02E9-4287-B6C3-5EB2FFE9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E3A-1836-425F-A955-3B3EA001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D77-6323-427C-A38D-72DED4F9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7B6-C4C6-491E-8995-78D29F9F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1DC-E5E3-45F2-8529-4B2AFEFD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C5A-2648-44FA-8511-EA07A15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052-F77D-4981-B663-2A3A0089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FBD4-1371-42CE-8C77-A852BD732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ORDER FOR MORNING PRAI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971800"/>
            <a:ext cx="8534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pen our lip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shall decl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prai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all to Praise and 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04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ALL TO PRAISE AND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ank [The Lord’s Prayer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54480" y="27687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2762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ess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every morning is your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God of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day long you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king for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of Thanksgiv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OF THANKS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71440"/>
            <a:ext cx="853416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r up in us desire to serve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ive peacefully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neighbo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devote each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your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Savior,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23880"/>
            <a:ext cx="85341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gether, let us pray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opl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ongregation . .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Morning Praise and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s of the Peo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S OF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52388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suff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ose in troubl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37160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ncern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local community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37160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, its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s leader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143000"/>
            <a:ext cx="8534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hurch universal–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ers, its members, i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ssion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52388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aint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8:05:38Z</dcterms:modified>
  <cp:revision>97</cp:revision>
  <dc:subject/>
  <dc:title>Psalm</dc:title>
</cp:coreProperties>
</file>