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569-B0E4-43C4-819A-C0CD200B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442-2E92-4F68-8CD0-20C22ABD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B1D-1FF0-40ED-875F-9547F019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DAB-FCBC-4EEB-A788-DC0F4AB9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192-2DD6-44DF-9D77-763B6623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954-82D5-46A0-8193-8811C8A3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420-0EC1-4306-A377-9293B946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933-6B53-4E8F-9706-2B84913F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9D6-AEE1-4654-B733-40515D03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04D-8749-4DCB-9FC8-756A58F1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47F-7B56-4EEF-9AC6-E535ED52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B9D-48B3-4D7D-9B86-025CD445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5735-54D0-46CE-B7D3-CF05547D3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90512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Father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llowed be your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kingdom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will be d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as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cumenical Tex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5240" y="914400"/>
            <a:ext cx="39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CUMENICAL TEX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80880"/>
            <a:ext cx="13716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19160"/>
            <a:ext cx="8229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today our daily brea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 us our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we forgive th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sin against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 from the time of tri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deliver us from evi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kingdom, the pow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glory are you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  A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3:00Z</dcterms:modified>
  <cp:revision>19</cp:revision>
  <dc:subject/>
  <dc:title>PowerPoint Presentation</dc:title>
</cp:coreProperties>
</file>