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0D0-0DA7-4F4F-8D94-7964A6AC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FD5-D73C-47EE-8985-750FAB4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B31-CA17-449F-9643-8F4CB2C4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C03-2810-4049-A044-2E80FCB4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980-D262-4133-99AB-1CBD7C46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32B-5B9E-48E9-8468-9890F166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395-9E48-4CBC-81C0-32C4D09F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A27-B579-4CEE-86A9-DF5365CF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161-C230-471D-B845-C92AC799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E88-EA80-4FAB-A1FB-2D10BF18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4A9-D638-47C8-BA34-DFA75BC8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EAC-0689-496B-B944-9C1B42B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1A25-D1FE-4948-9356-6B20823D8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Father, who art in heaven, hallowed be thy name. Thy kingdom come, thy will be done on earth as it is in heaven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115000" y="68580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287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ive us this day our daily bread.  And forgive us our trespasses, as we forgive those who trespass against us.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3808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lead us not into temptation, and deliver us from evil.  For thine is the kingdom, and the power, and the glory, forever.  Amen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2280" y="220968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thy na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ill be d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518480" y="990720"/>
            <a:ext cx="6112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trespass against us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280" y="1676520"/>
            <a:ext cx="89917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Father, who art in heav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hallowed be thy nam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Thy kingdom come, thy will b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on earth as it is in heaven.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Former Methodist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115000" y="83808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THE RITUAL OF THE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ORMER METHODIST CHU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5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2872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his da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give us our trespass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trespass against us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04920" y="3808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d us not into tempt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power, and the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ever. 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1-06T02:43:35Z</dcterms:modified>
  <cp:revision>22</cp:revision>
  <dc:subject/>
  <dc:title>PowerPoint Presentation</dc:title>
</cp:coreProperties>
</file>