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2E3-4672-4697-94E4-7B0478D4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E60-AC8B-4EC6-A942-D4F26747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A04-C085-4D0B-9112-12384228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B6B-2875-4C43-B6DA-CEEBAAE2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781-6695-4C8E-9F0C-EAE48A56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567-0A39-4EB1-900C-5389C89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9A2-B722-4882-91D6-09142272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E17-AAAE-44B9-9FD3-DFFE3340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AE3-5C43-41BD-BE4C-2A751F37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308-361D-4904-A129-0C85C3D5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C30-E363-4563-A58F-AC9F25D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D3F-6D62-443D-BC7D-25E54988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F00F-04FC-439A-A624-C38F3CDF8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2133720"/>
            <a:ext cx="8458200" cy="42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our day to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lure to be truly hu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47636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fail to love wit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e have and a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because we do not 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 what loving mea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because we are afra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sking oursel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ut ourselves of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each other and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rect barriers of divi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by sil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ll-considered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uild up wall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27000"/>
            <a:ext cx="853416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b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lfishness and la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ympat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stifled generos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ft litt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me for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 speak to us. 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 to listen to your word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ness, for we are 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f. Come, fill this mo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ree us from s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2:03Z</dcterms:modified>
  <cp:revision>63</cp:revision>
  <dc:subject/>
  <dc:title>PowerPoint Presentation</dc:title>
</cp:coreProperties>
</file>