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6ED5-7DAB-4770-9FF8-8F748B5F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67FB-BF82-41A5-A5A1-EB7FCFB8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7F9-0046-49F8-A6F8-108410E9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90A8-C1CE-4EC0-AA80-7B6F6DEC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4013-BC9C-4AD3-B2D2-820CF3BF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B7EB-B30B-47B3-B74D-044C9764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BB44-0FE0-4D09-9585-6650144C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30D6-7097-4D45-BE94-63E08143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0257-0DFD-492A-91A9-7D9AE857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7DF4-F1B7-4213-B0DF-B5863CFC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1433-1D7E-4D84-BD4E-AFCFF573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87DE-EBC6-492B-BC59-3FB7A2AF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1D79-B7FE-45FF-972B-9614E352D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RAYER OF CONFESSION,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SSURANCE, AND PAR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2133720"/>
            <a:ext cx="8458200" cy="424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we confess our day to d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ailure to be truly hum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we confess to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apt. © 1989 The United Methodist Publishing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of Confession, Assurance, and Par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147636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we confess that w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ten fail to love with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we have and ar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ten because we do not ful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derstand what loving mean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2025720"/>
            <a:ext cx="8610480" cy="26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ten because we are afrai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risking ourselv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we confess to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658880"/>
            <a:ext cx="853416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we cut ourselves of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each other and w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rect barriers of divis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we confess to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658880"/>
            <a:ext cx="853416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we confess that by sile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ll-considered wor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build up wall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prejud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927000"/>
            <a:ext cx="853416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we confess that b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lfishness and lac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sympath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stifled generosit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left littl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ime for oth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47636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Spirit, speak to us.  Hel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s to listen to your word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giveness, for we are ve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af. Come, fill this mom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ree us from s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32:03Z</dcterms:modified>
  <cp:revision>63</cp:revision>
  <dc:subject/>
  <dc:title>PowerPoint Presentation</dc:title>
</cp:coreProperties>
</file>