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297-1B04-465B-AF2C-AEB32946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5B7-5AB6-49DD-BF10-38E7604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9E1-D7DE-41D3-BDC8-0ADB378B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01D-102E-4CAB-ACBA-6D5FE1E5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D2D-7801-4FD3-B6ED-79C23589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9A9-8BC2-4BEE-8FC2-8B4DB626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850-5CC1-4CCF-BE2A-03EBEF65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258-317E-48BF-A146-94083E0D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1B7-A527-49AF-B4C0-B7C3CACB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79D-1006-4825-AB3E-5ACA215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F85-00CE-4B1B-A45A-E95D47D5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AC9-2EFD-47C4-9B52-74C5F90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9601-CA28-4DFD-B405-C8039519E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DEATH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SUR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447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NT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9718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ying, Christ destroy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sing, Christ restored our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ill come again in glo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ather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1337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e together in grie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knowledging our human los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d grant us gr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n p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may find comfo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orrow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eath resurre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772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od, who gave us bi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ever m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y to h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 we are to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ow our nee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we ask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ignorance in ask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to us now your gr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as we shrink bef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ystery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may s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ight of eterni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ak to us once m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solemn messa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life and dea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us to live a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prepared to di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en our days here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mplishe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able us to die a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o forth to li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that living or dy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life may be in you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at nothing in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in death will be abl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arate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your grea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Christ Jesus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praise you for the gre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any of all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have finished thei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urse in fa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ow rest from their lab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praise you for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to u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we name in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ts before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pecially we praise you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you have gracious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ceived into your presenc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o all of the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your pe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in baptis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on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in Christ may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clothed with glo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perpetual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ne upon th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lp us so to belie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re we have not se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your presence may le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 through our year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ring us at l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the joy of your h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made with ha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eternal in the heaven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God, before you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ts are op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om you no secre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hidden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bring to you 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hame and sorr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our si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ess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orgott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our life is from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unto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either sou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done your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been tru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our hear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our speech, in our live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we ought to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us and heal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ising us from our s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a better lif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end our d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pe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usting in your kin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o the en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unity of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God, now and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in a position to condem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ho died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ose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eigns at God’s right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rays for 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be to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gives us the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our Lord Jesus Chri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167652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of the depths I c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o thee, O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hear my c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ine ears be attent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voi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upplic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salm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SAL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and now, dear frie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God’s children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 shall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not yet been reveale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thou, Lord, shou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rk iniquit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ho could stand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re is forgiv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ou may be fear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ait fo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wai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his word do I hop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waits for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e than those who wat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mo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Israel, hope in the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with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great merc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him is plente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mp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 will redeem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ll their si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9810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my shephe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hall not wan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maketh me to lie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reen pasture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leadeth me bes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ill wat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salm 2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2193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CLAMATION AND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restoreth my sou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leadeth me in the path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his name’s sa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a, though I wal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the valley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dow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fear no evi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u art with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rod and thy staf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omfort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 preparest a tab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presen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ne enemi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 anointest my head with o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cup runneth o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goodness and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follow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of the days of my lif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dwell in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0968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us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love never end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all else fai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till are G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40" y="1219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04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y to you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another in our ne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all, anyw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ourn with us this d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e know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he appea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be lik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shall see him as he i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ose who doubt, give ligh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ose who are weak, streng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who have sinned, merc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who sorrow, your pe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true 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ve with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hold one another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our ways we trust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r church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offer honor and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60020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all that you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us is your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irst you ga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w we g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ck to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ms of your merc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up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r peo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us also, and rais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a new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us so to love and ser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in this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enter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joy in the world to c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your h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erciful Sav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mend your serv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knowledge, we humb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seech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heep of your own f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amb of your own floc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inner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wn redeem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 the ar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merc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the blessed re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everlasting pe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to the glorious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saints of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love, we thank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ll with whic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blessed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to this da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of Thanksgiv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1219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OF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have this hop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rify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Christ is p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gift of joy in d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alth and streng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the gifts of your abi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ce and prom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ays of pain and grief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ise you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me and frie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our baptis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lace in your chu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ll who have faith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ed and di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all else we thank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knew our grief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ied our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ose for our sak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 lives and pr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u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he taught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w we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ank – The Lord’s Prayer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missal With Ble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16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said, I am the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am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believe in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though they di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shall they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ever live and belie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e shall never di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Word of Gr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WORD OF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Alpha and Omeg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eginning and the 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 and the las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died, and beh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alive for evermor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hold the ke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ll and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I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all live also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iends, we have gathered 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prais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witness to our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celebrate the lif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e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858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8:03:23Z</dcterms:modified>
  <cp:revision>95</cp:revision>
  <dc:subject/>
  <dc:title>Psalm</dc:title>
</cp:coreProperties>
</file>