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E95-A265-4FA2-A8C2-3ECFB68D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789-9D45-4B94-BF49-23EE1C6C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D42-1649-4052-9598-5B4CD36B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B7A-51B3-4894-82FD-7A018B28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DDF-090C-4F58-9514-689C41C5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933-397F-4BD4-ABF1-C641FB27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1AE-AF60-4DB0-AC93-A9805386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A14-2F87-4990-BB94-D6E7B597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E3C-8565-488B-B39A-AADCDF1A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5DE-8CAD-41B4-9AD2-D6E8A5E7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457-A608-47EC-9F1D-180F2257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922A-EBC9-431C-839A-29BC09F9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863F-C57F-4E3C-9CD2-8207AB21F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FFIRMATION FROM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 TIMOTHY 2:5-6; 1:15; 3: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828800"/>
            <a:ext cx="8458200" cy="470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on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re is one mediat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Jes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ame as a ransom for 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whom we testif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rmation from 1 Timothy 2:5-6; 1:15; 3: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722600"/>
            <a:ext cx="861048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e saying is sur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nd worthy of full acceptance: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at Jesus Christ came into th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orld to save sinners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as manifested in the fle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ndicated in the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en by ange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claimed among the nation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ieved in througho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n up in glor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indeed is the myst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gospel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8:03Z</dcterms:modified>
  <cp:revision>54</cp:revision>
  <dc:subject/>
  <dc:title>PowerPoint Presentation</dc:title>
</cp:coreProperties>
</file>