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DF4-4480-4A52-9442-EE4C04EC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C28-B3A4-48CD-9276-37D07C2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551-1ED2-48EE-A4F0-27CA2AC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B00-79AF-4A2D-BA57-AAEEAB0B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A2B-337D-41D3-8F9D-EB6FBB67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90A-2A69-468C-9FE9-BC0E29B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232-BDCB-4201-91D1-456A4B3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C06-AF98-439F-ADA2-CF72A987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423-B7B8-4326-96EC-878B9C6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68B-FBF2-4171-BD3D-9924B52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542-4FF6-4A76-AB0D-C88820C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1FC-EFBC-4ABA-B446-14C2A3C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351F-1295-40AF-B8FC-C87FF133C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NICENE CR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19160"/>
            <a:ext cx="838224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, the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at is, seen and unse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icene Cr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catholic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cknowledge one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ook for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to co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ly Son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ly begotten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from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from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God from tru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gotten, not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ne Being with the Fath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hi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ma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 and for our salv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incarnat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cam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ake he was crucifi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 Pontius Pil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uffered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ccordan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criptur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seated at the r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of the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will come again in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judge the l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kingdom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no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the giver of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proceeds from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worshiped and glorif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spo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8:14Z</dcterms:modified>
  <cp:revision>21</cp:revision>
  <dc:subject/>
  <dc:title>PowerPoint Presentation</dc:title>
</cp:coreProperties>
</file>