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0D3-223B-4B3B-8411-BF92E377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184-1D0C-4226-B3B5-22A8ED07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DE4-230E-4A55-B272-6A2813AB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0B3-7120-472D-9299-21B1D301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C72-C717-4251-9729-236C8D57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B8A-A653-48B3-B55F-6BC0331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063-B59C-46B2-8C4B-11FE489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739-0E0E-467B-9820-A8F7AEF1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BEA-117D-40EA-840A-B2C94201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C68-DA2F-48DF-A76C-C6ED986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9A8-B07E-4020-A355-4CA31AC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6A9-1B67-4586-A3CE-94F4E3F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EBB4-8C39-476A-8C4A-09CED71DC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STATEMENT OF FAITH OF TH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UNITED CHURCH OF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444760"/>
            <a:ext cx="8763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not al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ive in God’s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ement of Faith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ed Church of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permission of The United Church of Ca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reated and is creat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come in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d mad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concile and make ne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orks in us and oth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trust in Go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called to be the church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celebrate God’s prese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serve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k justice and resist evi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roclaim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fied and ris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judge and our h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ife, in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ife beyond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with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not al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2:11Z</dcterms:modified>
  <cp:revision>37</cp:revision>
  <dc:subject/>
  <dc:title>PowerPoint Presentation</dc:title>
</cp:coreProperties>
</file>