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89C-A7EB-441E-8D98-1FEA1418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D90-9CEF-475E-9229-44BE31ED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7B4-2BF4-4717-A1AC-C50F8778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851-89A9-45CC-A6CD-17DF7536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6DD-BFE7-4938-AAC7-626BB27F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8CA-4031-4B94-BD32-C048504B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718-C0B9-4CE1-B850-20AA4AD5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377-BA52-45A5-9895-3F42B3DA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B70-4688-4D04-B223-490349FC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25A-8BF5-4CEB-9F30-E65E342A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227-7725-4F4C-A6CD-05BE516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833-49C7-4001-94B6-2D29D30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9D75-D37D-49D4-80E8-90F4E97B1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FFIRMATION FRO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 CORINTHIANS 15:1-6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ND COLOSSIANS 1:15-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2133720"/>
            <a:ext cx="8458200" cy="39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32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the good new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we have receiv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ich we sta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y which we are sav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rmation from 1 Corinthians 15:1-6 and Colossians 1:15-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647640"/>
            <a:ext cx="8610480" cy="559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hrist died for our sins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as burie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as raised on the third day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appeared first to the women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en to Peter and the Twelve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then to many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aithful witnesses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Jesus is the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nointed On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born of all cre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born from the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m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d togeth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m the fullness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pleased to dwe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power of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is the head of th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y the blood of the cro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onciles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God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7:22Z</dcterms:modified>
  <cp:revision>50</cp:revision>
  <dc:subject/>
  <dc:title>PowerPoint Presentation</dc:title>
</cp:coreProperties>
</file>