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9950-597C-462D-96CC-5A58AE5FE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BC9F-945B-4DFC-BF9A-885E0E5B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43A8-E7AD-4DBA-A51C-DAAA8273B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0FAB-65BB-43ED-8224-42E28F08E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ABDE-5528-4C9F-A892-8F46F4D4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8994-5DC2-4CFD-9F51-4CE69D66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AC94-0958-41DE-ADC5-64EC37DA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7390-DDD7-4E20-BF04-BAA48F13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309C-E8E9-4427-BE6C-FCED02B5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321F-4499-4E76-BBE4-98408793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23C3-D6D5-4360-BCFC-B907ABD0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8210-E7B1-45B5-A285-3079E143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0828-9151-4937-B2E5-2CE1B56A4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THE APOSTLES’ CREED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ECUMENICAL VER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284560"/>
            <a:ext cx="838224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believe in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ather Almigh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eator of heaven and ear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postles’ Creed –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umenical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38880" y="380880"/>
            <a:ext cx="16002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8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believe in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is only Son, our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was conceived by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orn of the Virgin Mar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ffered under Pontius Pilat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s crucified, di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as burie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descended to the de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 the third day he rose again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ascended into heav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seated at the right h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Fa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ill come again to judg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iving and the dead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believe in the 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holy catholic churc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ommunion of saint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orgiveness of si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resurrection of the bod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life everlasting.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8:19:54Z</dcterms:modified>
  <cp:revision>25</cp:revision>
  <dc:subject/>
  <dc:title>PowerPoint Presentation</dc:title>
</cp:coreProperties>
</file>