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334-15E5-466A-AE0A-11BF9743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E4E-3887-4125-99B4-0BB037D8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BC0-29BA-4492-BFF7-3004C99C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408-4C9D-4866-80B2-D33C4549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E3D-FFC8-4E34-AC18-340FD0CE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FDC-C848-4F20-8CC1-327EF19A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817-53E4-4B6B-B8B1-08090CDD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3E1-F521-4642-AE85-4BA373FD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A3F-F08D-41C9-9EF9-4ED15948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C89-DDEC-424E-8D67-EEC7B16B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1BA-5CE3-4710-994E-B488F8A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947-22A0-45DB-9ADE-927D6BF8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AF1A-B5E2-461F-ACE2-631DE35FA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NICENE CR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19160"/>
            <a:ext cx="838224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, the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ll that is, seen and unse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icene Cr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catholic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postolic churc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cknowledge one baptis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forgiveness of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ook for the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 to co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nly Son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ly begotten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from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 from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 God from tru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gotten, not ma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one Being with the Fath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him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ma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us and for our salv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me down 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incarnat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Virgin Ma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came truly hu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our sake he was crucifi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 Pontius Pilat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suffered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bur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ccordan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criptur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s seated at the r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 of the Fa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will come again in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judge the l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kingdom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no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the giver of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proceeds from the Fa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ith the Fa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worshiped and glorifi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s spo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18:14Z</dcterms:modified>
  <cp:revision>21</cp:revision>
  <dc:subject/>
  <dc:title>PowerPoint Presentation</dc:title>
</cp:coreProperties>
</file>