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BC7-90ED-4298-956D-599726B9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EB9-91F0-4DFB-8CCE-58E1625F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A1F-9B79-4BA9-B5AA-A34EC3CF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1C3-CC32-4928-8D2A-C926BF2C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E26-4F91-4FD1-9BBF-2D169692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26B-6071-4AE7-9AFF-1AE3F902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D28-F9DF-4048-BAED-1A94480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C758-522F-4CBA-BA70-5378892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8F4F-93AF-4374-8D30-63BF19E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D92-FB0E-4C63-A1AE-00D51A36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524E-D76E-452C-8495-55F6350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580-C97C-4675-9BEF-76811BF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BF4-F1FA-41E7-9D89-7D03909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879C-4015-4E15-9FD8-5BA99E37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BCF-8C23-4E97-B902-2395D48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567-BCFE-4CBE-870E-D856A0F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CF6-883C-488A-A402-576D58F1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E47-842E-4C9B-AEFE-ABB5850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627-8DD2-4121-AAF2-6DA5DDD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8EB-4D4C-461E-89B9-E5BFB31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EF3-9B95-425B-9F65-2E8B5B0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1B4-8122-4E1B-BF48-FF3F132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B29-626A-4047-896A-5673F74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94C-2183-475D-9FDD-07D7A8E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B3EF-91A0-492F-9180-50710CCFA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8FF-159B-41C4-82CA-79495DD4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2284560"/>
            <a:ext cx="876312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God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 Almighty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aker of heaven and earth;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0152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Jesus Christ his only Son our Lord: who was conceived by the Holy Spirit, born of the Virgin Mary, suffered under Pontius Pilate,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ucified, dead, and buried;</a:t>
            </a:r>
            <a:endParaRPr b="1" lang="en-US" sz="5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rd day he rose from the dead; he ascended into heaven, and sitteth at the right hand of God the Father Almighty; from thence he shall come to judge the quick and the dead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Holy Spirit, the holy catholic church, the communion of saints, the forgiveness of sins, the resurrection of the body, and the life everlasting. Amen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80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APOSTLES’ CREE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RADITIONAL VERS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0880" y="2284560"/>
            <a:ext cx="83822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ather Al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heaven and earth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les’ Creed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tional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04920" y="45576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only Son our Lor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as conceived by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rn of the Virgin Ma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ffered under Pontius Pilat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crucified,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uried;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rd day he ro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ascended into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tteth at the right h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God the Father Almigh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nce he shall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dge the quick and the dead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1187280"/>
            <a:ext cx="853416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believe in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catholic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mmunion of sain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orgiveness of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esurrection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life everlasting. Amen.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5-20T12:26:17Z</dcterms:modified>
  <cp:revision>25</cp:revision>
  <dc:subject/>
  <dc:title>PowerPoint Presentation</dc:title>
</cp:coreProperties>
</file>