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0CA-CE2A-4520-A288-B44789A5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F2C-001C-4D12-B171-674E4C2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BED-1C16-4118-BCC4-CCA66BBC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2AB-3714-4EBA-92A4-0251380E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692-83D0-4782-BF5F-8FB1E50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EDD-C893-45D9-8532-10D8C05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6EC-606F-42B9-BAA9-9FDB47D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BE6-62CB-42BF-8922-0D90C386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510-E1DB-4E80-B0F7-1447BAD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262-E249-45E1-839E-880BA9C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C82-F00B-49C5-A64E-97C8117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95E-2106-4C38-B804-BF7C29F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70A-4F55-41EA-9948-BA5F40C95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WORLD METHODIST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CIAL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9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all peop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arnate among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and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© 1986 World Methodist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Methodist Social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it ourselves individua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commu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ay of Chr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52680"/>
            <a:ext cx="86108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ake up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abundant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huma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truggle for pea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 and freedo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isk ourselv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, hope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ying that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dom may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kingdom com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t is in heaven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t with us to gu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, and com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elie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help our unbelie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every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’s kingdom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upholding of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gnity and commu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expression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, and reconcili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ach act of self-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behalf of oth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abundance of God’s gif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trusted to us that all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enoug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responsible 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’s resour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God on hig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earth,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8208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nfess our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vidual and collectiv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silence or actio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viol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dig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d on race, class, a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x, nation, or fai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explo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greed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fferen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misuse of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ersonal, commun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tional, and international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ea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ecu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ose militar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conomic for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reaten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isten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ab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echnolog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endangers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life upo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06Z</dcterms:modified>
  <cp:revision>44</cp:revision>
  <dc:subject/>
  <dc:title>PowerPoint Presentation</dc:title>
</cp:coreProperties>
</file>