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EDA-D0F5-4401-8631-F7C16C55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B3A-183D-4492-AB35-0FF6BEB0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95D-4B1F-4A64-9637-177056CA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7C3-713A-4519-9467-8B8B340E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E65-A048-45E4-9A3D-797CECED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155-6B22-485E-8798-E243E66B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62F1-BB50-496B-A45E-03F5E67E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BB7-E2A4-400F-8F43-87CF1B2A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D115-A54B-4B47-B3EF-031576DD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317-C586-464F-90CA-4EE28C4C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E39D-B712-4AB8-85CD-EDFB0B2A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931C-D516-4B6F-8DAE-EEEACE32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FF67-52D1-4601-85AA-3F992D75C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2133720"/>
            <a:ext cx="883944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Father, who art in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llowed be thy nam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kingdom co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will be do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earth as it is in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E.U.B.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0160" y="1014480"/>
            <a:ext cx="80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ROM THE RITUAL OF THE FORMER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VANGELICAL UNITED BRETHREN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43800" y="380880"/>
            <a:ext cx="129528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us this da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daily brea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give us our deb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we forgive our debtor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8208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ad us not into tempt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deliver us from evi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ine is the kingd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power and the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ever. Am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37:47Z</dcterms:modified>
  <cp:revision>20</cp:revision>
  <dc:subject/>
  <dc:title>PowerPoint Presentation</dc:title>
</cp:coreProperties>
</file>