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7263-382F-40BD-9AD3-34A7E2989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rvice is for groups as they begin their day in pr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o Praise and Prayer – Sung or spok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or other prayer of thanksgiving may be sa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or other prayer of thanksgiving may be sa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or other prayer of thanksgiving may be sa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these prayers, all may sing: “Hear Us, O God”, “Jesus, Remember Me”, “Let Us Pray to the Lord”, “Remember Me”, or “This Is Our Pray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153-5639-44E6-A812-17F3272A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8A0-99AD-4283-BBC1-2A01C14D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5E4-3DAF-4D5E-A767-56BC4CB4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0D0-6E04-42CB-9B54-4B9BBAF2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040-1355-4343-A7FB-234F37FA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054-7B76-4AA0-9FF5-1FC4977E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65D-4994-41C8-9D34-03853C18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753-E6DA-476F-AF36-6121885C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F10-C616-431B-8940-B8F11703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DDF7-91CD-4754-90F7-0BE5A88C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3C76-05A1-4240-AA1F-7E2CB495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449A-1423-4C2B-9D89-6F3AE553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949B-3DB5-4925-A787-0492049EB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ORDER FOR MORNING PRAIS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971800"/>
            <a:ext cx="85341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open our lip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e shall decl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prai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Morning Praise and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all to Praise and Pr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040" y="1905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ALL TO PRAISE AND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Morning Praise and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lank [The Lord’s Prayer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54480" y="276876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2762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ov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ommunion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l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Morning Praise and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less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w every morning is your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eat God of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day long you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king for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worl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Morning Praise and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of Thanksgiv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 OF THANKSG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271440"/>
            <a:ext cx="853416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ir up in us desire to serve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ive peacefully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neighbo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evote each d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r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Savior,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523880"/>
            <a:ext cx="853416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gether, let us pray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eople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congregation . .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Morning Praise and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s of the Peo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S OF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1523880"/>
            <a:ext cx="85345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suff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ose in troubl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371600"/>
            <a:ext cx="85345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ncern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local community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371600"/>
            <a:ext cx="8534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ld, its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s leaders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143000"/>
            <a:ext cx="85345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hurch universal–i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ers, its members, it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ssion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523880"/>
            <a:ext cx="8534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saints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26T18:05:38Z</dcterms:modified>
  <cp:revision>97</cp:revision>
  <dc:subject/>
  <dc:title>Psalm</dc:title>
</cp:coreProperties>
</file>