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AD4-BD3A-4F4C-A8F3-1541C34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D15-D548-420B-A142-18E8F79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275-D5F3-49D7-81FB-D6EB3344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3B7-DE78-41CD-92CD-78A15E1A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47E-4DC0-40C7-89C9-A70F065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CF8-6480-4EF0-93CF-1952C8F7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C9AF-90EE-4D46-A1BE-0117C201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676-C2C2-4C18-91AD-004D3F9C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D81-0ECA-4FFC-93C1-D2136104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5E9-9746-4A1C-87E9-52726B2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84B-E0E6-4E29-998D-50178DC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7EF-9277-49B7-AC45-460049E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7283-0BC9-493F-ADF4-623CEF559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MODERN AF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3880"/>
            <a:ext cx="8458200" cy="42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asto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 Spirit of the Lord i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the one tru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ostolic and univers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holy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now decl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dern Af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576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astor and People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finite in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wer, and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se mercy is o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is wor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se will is ever dire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is children’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f God and Son of m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ift of the Father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failing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ound of our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promise of 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iverance from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divin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liv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5268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by we are kept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rpetual rememb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truth of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nd strength and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ime of ne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that this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manifest it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ervice of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set forth in the exam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ur blessed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kingdom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come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4:14Z</dcterms:modified>
  <cp:revision>40</cp:revision>
  <dc:subject/>
  <dc:title>PowerPoint Presentation</dc:title>
</cp:coreProperties>
</file>