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0A1-54CF-4705-8466-6A5A8537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85B-3564-460E-AAC7-20ED091E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792-112F-41DD-AF82-C3F94D5D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1D0-1493-4A92-9A1D-D7517B76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1D4-6942-4913-B8D7-91695387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A74-6C37-4BA5-8F43-52CE54D8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E77-8DC4-4F22-9624-C895597F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9D1-9F09-41DB-927A-20E9BF8A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A62-AED5-4D9B-988B-54ED5F80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30D-8B94-4846-96B3-C1EA091D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FD6-55D7-432C-97DD-08CE510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6BC-8016-4664-8C42-649A173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D480-C824-49CF-B3D6-EE6847C0B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13372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thy nam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ill be d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E.U.B.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0160" y="1014480"/>
            <a:ext cx="80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ROM THE RITUAL OF THE FORM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VANGELICAL UNITED BRETHREN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deb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our debto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A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7:47Z</dcterms:modified>
  <cp:revision>20</cp:revision>
  <dc:subject/>
  <dc:title>PowerPoint Presentation</dc:title>
</cp:coreProperties>
</file>