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D40-B2A8-4C5D-BF93-947C7823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969-B470-4824-AA2C-055CD521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870-0207-4F6A-9032-BEDC16CC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876-4718-48D1-AC3B-DC000648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F1C-FAD6-4D70-8F5E-B3754241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B8D-9342-41A9-A162-7C1A4470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DDC-3D61-4ADC-93C9-108449BC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74F-92DC-4CA8-AF22-A1293EE5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613-AD97-45A7-8BE3-C69C4EBE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AB4-4E5D-4BDC-B55F-5FEAA255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D65-93AA-41E6-AD29-0D1FB3DC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CAB-950E-4DE2-AAAD-2AE71F8C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A547-6607-44A4-88E0-97829B4B1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FFIRMATION FROM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 CORINTHIANS 15:1-6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ND COLOSSIANS 1:15-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2133720"/>
            <a:ext cx="8458200" cy="396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32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the good new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we have receiv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ich we sta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y which we are sav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rmation from 1 Corinthians 15:1-6 and Colossians 1:15-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8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647640"/>
            <a:ext cx="8610480" cy="559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hrist died for our sins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as burie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as raised on the third day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appeared first to the women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en to Peter and the Twelve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then to many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aithful witnesses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believe Jesus is the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nointed One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born of all crea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irstborn from the d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om all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d togeth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4560"/>
            <a:ext cx="853416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whom the fullness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 pleased to dwe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power of the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is the head of the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y the blood of the cro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onciles all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God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7:22Z</dcterms:modified>
  <cp:revision>50</cp:revision>
  <dc:subject/>
  <dc:title>PowerPoint Presentation</dc:title>
</cp:coreProperties>
</file>