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1C0-2DFA-4551-9E06-99E79F79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66D-F418-41CA-9784-91445B98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272-768D-4C8C-B9A1-24090410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7AC-4B8F-4327-9497-728D49DB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40E-0FEF-4418-A4A6-6A20F47D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5CC-CB15-4D99-8B54-B7457CD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C78-9D2F-4DD5-8219-AFC39F6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F68-DEDB-4F93-A5BD-4A3A951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F9E-A739-4DCA-9190-CA3724F0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59D-213F-4666-9D8A-FE91FAF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634-44A5-4402-953C-C66E963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25A-ABA1-4DBF-846F-C82CEDA2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184-B2FA-4170-8F8F-FE287CA24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3716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ned against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ought, word, and de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what we hav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y what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ft und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our whole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ighbors as oursel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truly sor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umbly rep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on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give us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de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alk in your way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na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y o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all your sin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Lord Jesus Chri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 you in all good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the power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you in eternal lif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8:48Z</dcterms:modified>
  <cp:revision>56</cp:revision>
  <dc:subject/>
  <dc:title>PowerPoint Presentation</dc:title>
</cp:coreProperties>
</file>