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692-85E4-4140-8CF4-F4A67E2E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6E0C-D5CA-4CDA-A069-68A8B945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FD95-D53E-40FB-9F2F-DFD09DD1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89E-7686-4D71-B66F-2015446C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31EF-658A-4F7C-B4ED-D2E7C616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685-57EB-43CF-B005-8AE13D72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E84-E635-4EE3-82D0-D394424A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8279-26A3-4BCC-A184-B2090241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2E26-E62B-4ED5-987C-ADED5780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45DE-8B1A-4104-A93F-C7F2F963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7CAE-7A05-42EA-A892-BD27F2CE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6BB7-4530-4C60-A313-FDF4711F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3D4F-03FF-4CCF-B95C-F688FDB82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RAYER OF CONFESSION,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SSURANCE, AND PAR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371600"/>
            <a:ext cx="84582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683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st merciful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confess that we ha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ned against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ought, word, and de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what we have don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y what we ha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ft undo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of Confession, Assurance, and Par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380880"/>
            <a:ext cx="1600200" cy="7034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loved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our whole hear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not loved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ighbors as ourselve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truly sor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e humbly rep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e sake of your S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mercy on 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forgive us;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we may del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your wil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walk in your way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glo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your name.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God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rcy on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give all your sins throug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Lord Jesus Chris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fe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5341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509760"/>
                <a:tab algn="l" pos="914400"/>
                <a:tab algn="l" pos="1382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rengthen you in all goodn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y the power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eep you in eternal life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0-26T18:28:48Z</dcterms:modified>
  <cp:revision>56</cp:revision>
  <dc:subject/>
  <dc:title>PowerPoint Presentation</dc:title>
</cp:coreProperties>
</file>