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5F5-F5D5-40B8-AED8-04F1C894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for groups as they end their day in pr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of the Light – A candle may be lit in the midst of the community.  The following may be sung or spo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se prayers, all may sing: “Hear Us, O God”, “Jesus, Remember Me”, “Let Us Pray to the Lord”, “Remember Me”, or “This Is Our Pray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1FB-FC6F-4A57-B709-EDA8C3CC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7EA-2C16-45C0-9954-7E7145B6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816-F83A-4D26-BE61-B3B15A31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B87-758A-4214-A95D-58F9904D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E10-666A-4990-98E5-0977A1C2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796-13FA-44E3-8D48-F39CE34A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72D-F859-48E3-BC4C-619E2340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144-BF88-41E4-841C-80FF48DA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C84-3D66-477D-8E90-0F6C235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F2C-9E71-439A-914F-C3C0CA5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2A3-7DAE-4C20-B0D6-78CAA48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626-539D-4305-BBAA-24A3B7A0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08C3-BBD4-4008-A986-00E49674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ORDER FOR EVENING PRAI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and peace in Jesus Chri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Evening Praise and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clamation of the Lig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057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CLAMATION OF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447920"/>
            <a:ext cx="8534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 universal–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ers, its members,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s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44792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aint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54480" y="27687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133720"/>
            <a:ext cx="8763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Jesus Chr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fold you this nigh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in pe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and thank you, O Go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without beginn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thout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, you crea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hole wor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de the day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s of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night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reshment of our mi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bod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us now in Chri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us a peaceful eve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night free from s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ing us at l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ternal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 an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you all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, and worshi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9072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, let us pray 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ople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ongregat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44792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ose in troubl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7652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ncern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local community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52388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 it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leader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16:51Z</dcterms:modified>
  <cp:revision>100</cp:revision>
  <dc:subject/>
  <dc:title>Psalm</dc:title>
</cp:coreProperties>
</file>