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AFE3-D373-4360-9C72-BEFD354B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E69-621D-43A9-97F8-97FF50CB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EDB2-20D1-4819-8C09-13CB20A1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DC7A-9F42-433A-9995-506CC25F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1A8-2837-40D7-A907-8F26065B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4E4-9086-4B44-B2A1-4E8C1149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236-AE37-4CE8-AE37-58B4F124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655-C579-4DB7-994B-22B03E70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B9B5-7020-4E03-A5BF-717DDDD3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BAE-BBA4-40AE-9F2D-B5673BA9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DFD-A18A-4E1D-91B5-74D1786F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A04B-EA3E-4AA1-B16D-63E30471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84D7-4956-4C8B-9357-429971752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RAYER OF CONFESSION,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SSURANCE,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919160"/>
            <a:ext cx="84582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mighty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st merciful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erred and straye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y ways like lost shee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of Confession, Assurance, and Par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ollowed too mu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devices and desir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our own heart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offended again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y holy law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left und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things which we ou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have do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e have d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things which w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ght not to have do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ou 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mercy upon u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pare thou those, O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confess their faul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47636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store thou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are peniten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ccording to thy promis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d in Christ Jes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80880"/>
            <a:ext cx="853416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rant, O mos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rciful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his sak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we may hereafter live 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ly, righteo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ober lif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glory of th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 name.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927000"/>
            <a:ext cx="853416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we confess 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is faithful and ju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ill forgive our si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cleanse us from 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righteousn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30:01Z</dcterms:modified>
  <cp:revision>58</cp:revision>
  <dc:subject/>
  <dc:title>PowerPoint Presentation</dc:title>
</cp:coreProperties>
</file>